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1CD-AB28-4D1F-938F-EE120739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599-0E49-4777-A397-C3B16F8D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EBD-C1FD-4064-90F6-3DA6F23D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FC0-5C4C-4091-9967-17A10CE3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8B6-0311-4CC9-AEAA-48CC10F2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CE9-3662-44EE-A9AC-ACC27622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4E5A-CD4E-4331-AFF4-35052B08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B78-B819-498D-B055-8F8A361A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A6BF-D857-49CC-8C81-44505266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B17-5B72-4096-97A1-BC97D3DA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60F-5DE3-41D8-BE96-64A39C0F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F34C-1C4F-4C19-A667-BD134EE1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FDE7-F987-442C-9D2D-BF327211D9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Садик\Desktop\резать фото Новая папка\archive_Mr23991-1024x6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273600" y="500040"/>
            <a:ext cx="469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Гд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растёт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каша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:\Сделать презентацию!\Гречка\Греч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F:\Сделать презентацию!\Гречка\Гречневая крупа.jpg"/>
          <p:cNvPicPr/>
          <p:nvPr/>
        </p:nvPicPr>
        <p:blipFill>
          <a:blip r:embed="rId2"/>
          <a:stretch/>
        </p:blipFill>
        <p:spPr>
          <a:xfrm>
            <a:off x="3857760" y="3286080"/>
            <a:ext cx="5286240" cy="35719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4572000" y="4857840"/>
            <a:ext cx="38577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  <a:ea typeface="Arial"/>
              </a:rPr>
              <a:t>Гречневая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  <a:ea typeface="Arial"/>
              </a:rPr>
              <a:t>кру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276480" y="285840"/>
            <a:ext cx="197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  <a:ea typeface="Arial"/>
              </a:rPr>
              <a:t>Греч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Сделать презентацию!\Кукуруза\Кукуруз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F:\Сделать презентацию!\Кукуруза\Кукурузная крупа.jpg"/>
          <p:cNvPicPr/>
          <p:nvPr/>
        </p:nvPicPr>
        <p:blipFill>
          <a:blip r:embed="rId2"/>
          <a:stretch/>
        </p:blipFill>
        <p:spPr>
          <a:xfrm>
            <a:off x="3929040" y="3143160"/>
            <a:ext cx="5214960" cy="37148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4214880" y="3286080"/>
            <a:ext cx="42148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libri"/>
                <a:ea typeface="Arial"/>
              </a:rPr>
              <a:t>Кукурузная</a:t>
            </a:r>
            <a:r>
              <a:rPr b="0" lang="ru-RU" sz="6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  <a:ea typeface="Arial"/>
              </a:rPr>
              <a:t>кру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218880" y="142920"/>
            <a:ext cx="24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libri"/>
                <a:ea typeface="Arial"/>
              </a:rPr>
              <a:t>Кукуру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F:\Сделать презентацию!\овёс\Овёс.jpg"/>
          <p:cNvPicPr/>
          <p:nvPr/>
        </p:nvPicPr>
        <p:blipFill>
          <a:blip r:embed="rId1"/>
          <a:stretch/>
        </p:blipFill>
        <p:spPr>
          <a:xfrm>
            <a:off x="0" y="0"/>
            <a:ext cx="923616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F:\Сделать презентацию!\овёс\Крупа овсяная.jpg"/>
          <p:cNvPicPr/>
          <p:nvPr/>
        </p:nvPicPr>
        <p:blipFill>
          <a:blip r:embed="rId2"/>
          <a:stretch/>
        </p:blipFill>
        <p:spPr>
          <a:xfrm>
            <a:off x="4000680" y="3357720"/>
            <a:ext cx="5143320" cy="35002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8"/>
          <p:cNvSpPr/>
          <p:nvPr/>
        </p:nvSpPr>
        <p:spPr>
          <a:xfrm>
            <a:off x="4500720" y="5572080"/>
            <a:ext cx="414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libri"/>
                <a:ea typeface="Arial"/>
              </a:rPr>
              <a:t>Крупа овся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651240" y="571680"/>
            <a:ext cx="145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  <a:ea typeface="Arial"/>
              </a:rPr>
              <a:t>Овё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Сделать презентацию!\Перловка\Ячмень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F:\Сделать презентацию!\Перловка\Крупа перловая.jpg"/>
          <p:cNvPicPr/>
          <p:nvPr/>
        </p:nvPicPr>
        <p:blipFill>
          <a:blip r:embed="rId2"/>
          <a:stretch/>
        </p:blipFill>
        <p:spPr>
          <a:xfrm>
            <a:off x="4071960" y="3143160"/>
            <a:ext cx="5286240" cy="37148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223920" y="214200"/>
            <a:ext cx="213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libri"/>
                <a:ea typeface="Arial"/>
              </a:rPr>
              <a:t>Ячм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3929040" y="5011560"/>
            <a:ext cx="41432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libri"/>
                <a:ea typeface="Arial"/>
              </a:rPr>
              <a:t>Крупа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  <a:ea typeface="Arial"/>
              </a:rPr>
              <a:t>перлов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:\Сделать презентацию!\Пшеница\Пшеница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F:\Сделать презентацию!\Пшеница\Манная крупа.jpg"/>
          <p:cNvPicPr/>
          <p:nvPr/>
        </p:nvPicPr>
        <p:blipFill>
          <a:blip r:embed="rId2"/>
          <a:stretch/>
        </p:blipFill>
        <p:spPr>
          <a:xfrm>
            <a:off x="3929040" y="3571920"/>
            <a:ext cx="5162400" cy="32860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3929040" y="5749920"/>
            <a:ext cx="4000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Манная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кру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299520" y="285840"/>
            <a:ext cx="258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libri"/>
                <a:ea typeface="Arial"/>
              </a:rPr>
              <a:t>Пшени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:\Сделать презентацию!\пшено\просо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F:\Сделать презентацию!\пшено\Пшено.jpg"/>
          <p:cNvPicPr/>
          <p:nvPr/>
        </p:nvPicPr>
        <p:blipFill>
          <a:blip r:embed="rId2"/>
          <a:stretch/>
        </p:blipFill>
        <p:spPr>
          <a:xfrm>
            <a:off x="3763800" y="3286080"/>
            <a:ext cx="5380200" cy="35719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296280" y="0"/>
            <a:ext cx="178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  <a:ea typeface="Arial"/>
              </a:rPr>
              <a:t>Прос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4117320" y="6027840"/>
            <a:ext cx="366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Крупа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пше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:\Сделать презентацию!\Рис\Рис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F:\Сделать презентацию!\Рис\Крупа рис.jpg"/>
          <p:cNvPicPr/>
          <p:nvPr/>
        </p:nvPicPr>
        <p:blipFill>
          <a:blip r:embed="rId2"/>
          <a:stretch/>
        </p:blipFill>
        <p:spPr>
          <a:xfrm>
            <a:off x="4214880" y="3703680"/>
            <a:ext cx="4929120" cy="31543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363600" y="214200"/>
            <a:ext cx="109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  <a:ea typeface="Arial"/>
              </a:rPr>
              <a:t>Ри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4357800" y="385776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  <a:ea typeface="Arial"/>
              </a:rPr>
              <a:t>Крупа ри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5T14:50:27Z</dcterms:created>
  <dc:creator>User</dc:creator>
  <dc:description/>
  <dc:language>en-US</dc:language>
  <cp:lastModifiedBy>Sasha</cp:lastModifiedBy>
  <dcterms:modified xsi:type="dcterms:W3CDTF">2019-04-07T18:57:19Z</dcterms:modified>
  <cp:revision>18</cp:revision>
  <dc:subject/>
  <dc:title>Слайд 1</dc:title>
</cp:coreProperties>
</file>