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69E-BFF3-4147-BEBD-D097E912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CBB-F849-4179-9DEA-05ADD35C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3F7-E462-4BE0-A22B-A9834BA5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A03-7648-4B0F-BD07-572BB3AD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184-C0AD-44B3-82E9-7D939FEB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43E-901C-4944-A052-F36F581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5E3-C595-4623-9001-A4E6A958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5AC-1CCD-4B1B-9FFF-7ADCD2ED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B65-9E9C-4B68-A4B1-9B08E77D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C2B-237E-4DCF-8D12-A70D564B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FEC-0DD9-43E9-A087-3D5F3732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FD0-44DF-4347-A4F8-1E149F25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2E8C-274C-4771-BA1D-A29070E47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Садик\Desktop\резать фото Новая папка\archive_Mr23991-1024x68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273600" y="500040"/>
            <a:ext cx="469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Гд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растё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аш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Сделать презентацию!\Гречка\Греч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Сделать презентацию!\Гречка\Гречневая крупа.jpg"/>
          <p:cNvPicPr/>
          <p:nvPr/>
        </p:nvPicPr>
        <p:blipFill>
          <a:blip r:embed="rId2"/>
          <a:stretch/>
        </p:blipFill>
        <p:spPr>
          <a:xfrm>
            <a:off x="3857760" y="3286080"/>
            <a:ext cx="5286240" cy="3571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4572000" y="4857840"/>
            <a:ext cx="38577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Гречневая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кру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276480" y="285840"/>
            <a:ext cx="197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Гре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Сделать презентацию!\Кукуруза\Кукуруз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:\Сделать презентацию!\Кукуруза\Кукурузная крупа.jpg"/>
          <p:cNvPicPr/>
          <p:nvPr/>
        </p:nvPicPr>
        <p:blipFill>
          <a:blip r:embed="rId2"/>
          <a:stretch/>
        </p:blipFill>
        <p:spPr>
          <a:xfrm>
            <a:off x="3929040" y="3143160"/>
            <a:ext cx="5214960" cy="3714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214880" y="3286080"/>
            <a:ext cx="42148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укурузная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ру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18880" y="142920"/>
            <a:ext cx="24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укуру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F:\Сделать презентацию!\овёс\Овёс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:\Сделать презентацию!\овёс\Крупа овсяная.jpg"/>
          <p:cNvPicPr/>
          <p:nvPr/>
        </p:nvPicPr>
        <p:blipFill>
          <a:blip r:embed="rId2"/>
          <a:stretch/>
        </p:blipFill>
        <p:spPr>
          <a:xfrm>
            <a:off x="4000680" y="3357720"/>
            <a:ext cx="514332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4500720" y="5572080"/>
            <a:ext cx="41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рупа овся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651240" y="571680"/>
            <a:ext cx="145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Овё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Сделать презентацию!\Перловка\Ячмень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F:\Сделать презентацию!\Перловка\Крупа перловая.jpg"/>
          <p:cNvPicPr/>
          <p:nvPr/>
        </p:nvPicPr>
        <p:blipFill>
          <a:blip r:embed="rId2"/>
          <a:stretch/>
        </p:blipFill>
        <p:spPr>
          <a:xfrm>
            <a:off x="4071960" y="3143160"/>
            <a:ext cx="5286240" cy="37148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223920" y="214200"/>
            <a:ext cx="213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Ячм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929040" y="5011560"/>
            <a:ext cx="41432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Крупа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перло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Сделать презентацию!\Пшеница\Пшеница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F:\Сделать презентацию!\Пшеница\Манная крупа.jpg"/>
          <p:cNvPicPr/>
          <p:nvPr/>
        </p:nvPicPr>
        <p:blipFill>
          <a:blip r:embed="rId2"/>
          <a:stretch/>
        </p:blipFill>
        <p:spPr>
          <a:xfrm>
            <a:off x="3929040" y="357192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3929040" y="5749920"/>
            <a:ext cx="400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Манная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кру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99520" y="28584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  <a:ea typeface="Arial"/>
              </a:rPr>
              <a:t>Пшен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Сделать презентацию!\пшено\просо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F:\Сделать презентацию!\пшено\Пшено.jpg"/>
          <p:cNvPicPr/>
          <p:nvPr/>
        </p:nvPicPr>
        <p:blipFill>
          <a:blip r:embed="rId2"/>
          <a:stretch/>
        </p:blipFill>
        <p:spPr>
          <a:xfrm>
            <a:off x="3763800" y="3286080"/>
            <a:ext cx="5380200" cy="3571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96280" y="0"/>
            <a:ext cx="178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Arial"/>
              </a:rPr>
              <a:t>Прос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117320" y="6027840"/>
            <a:ext cx="366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Круп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984807"/>
                </a:solidFill>
                <a:latin typeface="Calibri"/>
              </a:rPr>
              <a:t>пше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Сделать презентацию!\Рис\Рис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Сделать презентацию!\Рис\Крупа рис.jpg"/>
          <p:cNvPicPr/>
          <p:nvPr/>
        </p:nvPicPr>
        <p:blipFill>
          <a:blip r:embed="rId2"/>
          <a:stretch/>
        </p:blipFill>
        <p:spPr>
          <a:xfrm>
            <a:off x="4214880" y="3703680"/>
            <a:ext cx="4929120" cy="31543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363600" y="214200"/>
            <a:ext cx="109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Arial"/>
              </a:rPr>
              <a:t>Р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357800" y="385776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Arial"/>
              </a:rPr>
              <a:t>Крупа р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5T14:50:27Z</dcterms:created>
  <dc:creator>User</dc:creator>
  <dc:description/>
  <dc:language>en-US</dc:language>
  <cp:lastModifiedBy>Sasha</cp:lastModifiedBy>
  <dcterms:modified xsi:type="dcterms:W3CDTF">2019-04-07T18:57:19Z</dcterms:modified>
  <cp:revision>18</cp:revision>
  <dc:subject/>
  <dc:title>Слайд 1</dc:title>
</cp:coreProperties>
</file>