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1F1-C913-4CF1-8B37-9410B05B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FB2-433B-43C2-B1D0-07C3B2DF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11B-2D65-46C8-84AA-EB5AADAD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E70-D7AC-4D90-9CF0-93F34D0A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BCB-49E7-4957-8E1C-75EC9A25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BCD-B9A0-46FB-BE38-73C47DB6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702-57A9-4F60-839A-B0088E0B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F12-66B6-4681-8317-FB6A2F14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F27-5909-4959-859D-3A4E8707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896-D073-4BE6-9C03-88CEF8CF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374-32B2-41B7-BCE5-8F56DCB9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D69-7C0B-4E42-B407-73AFE72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E755-EF8E-47E2-BCCE-0FF624710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 rot="21297600">
            <a:off x="2572920" y="569880"/>
            <a:ext cx="380052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0" y="1285920"/>
            <a:ext cx="91440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SimSun"/>
              </a:rPr>
              <a:t>КАК НА ГОРК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SimSun"/>
              </a:rPr>
              <a:t>НА ПРИГОРК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SimSun"/>
              </a:rPr>
              <a:t>СТОЯТ 33 ЕГОР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 rot="21331800">
            <a:off x="899640" y="833760"/>
            <a:ext cx="71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    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</a:rPr>
              <a:t> 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</a:rPr>
              <a:t>В </a:t>
            </a: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1960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</a:rPr>
              <a:t> году, Винни-Пух был блистательно переведен на русский язык </a:t>
            </a: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Борисом Заходером. </a:t>
            </a:r>
            <a:r>
              <a:rPr b="1" lang="ru-RU" sz="2800" spc="-1" strike="noStrike">
                <a:solidFill>
                  <a:srgbClr val="222268"/>
                </a:solidFill>
                <a:latin typeface="Bookman Old Style"/>
              </a:rPr>
              <a:t>Перевод был сделан с изощренной точностью и гениальной изобретатель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zahoder1"/>
          <p:cNvPicPr/>
          <p:nvPr/>
        </p:nvPicPr>
        <p:blipFill>
          <a:blip r:embed="rId1">
            <a:alphaModFix amt="60000"/>
          </a:blip>
          <a:stretch/>
        </p:blipFill>
        <p:spPr>
          <a:xfrm rot="21282600">
            <a:off x="5576760" y="3003480"/>
            <a:ext cx="3021120" cy="3195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SimSun"/>
              </a:rPr>
              <a:t>откос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–небольшой склон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SimSun"/>
              </a:rPr>
              <a:t>возн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– беспорядочные шумные дви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SimSun"/>
              </a:rPr>
              <a:t>протискивался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- пробирался, пытался пролез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SimSun"/>
              </a:rPr>
              <a:t>подкрепитьс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закусить, по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1042920" y="1197000"/>
            <a:ext cx="7345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. Мне сказка понравилась,  и я хотел(а) бы прочитать ее пол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Сказка показалась мне неинтересной, читать ее дальше не хочет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https://im1-tub-ru.yandex.net/i?id=59b2237169b338949ff53ce9a66c6be5&amp;n=33&amp;h=215&amp;w=221"/>
          <p:cNvPicPr/>
          <p:nvPr/>
        </p:nvPicPr>
        <p:blipFill>
          <a:blip r:embed="rId1"/>
          <a:stretch/>
        </p:blipFill>
        <p:spPr>
          <a:xfrm>
            <a:off x="4149720" y="2552760"/>
            <a:ext cx="1654200" cy="1307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https://im1-tub-ru.yandex.net/i?id=a9df6739708a0a4af637ce1cb08843bf&amp;n=33&amp;h=215&amp;w=219"/>
          <p:cNvPicPr/>
          <p:nvPr/>
        </p:nvPicPr>
        <p:blipFill>
          <a:blip r:embed="rId2"/>
          <a:stretch/>
        </p:blipFill>
        <p:spPr>
          <a:xfrm>
            <a:off x="6084720" y="4932360"/>
            <a:ext cx="14432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Administrator\Рабочий стол\Алан Милн\winnie_pooh_4.jpg"/>
          <p:cNvPicPr/>
          <p:nvPr/>
        </p:nvPicPr>
        <p:blipFill>
          <a:blip r:embed="rId2"/>
          <a:stretch/>
        </p:blipFill>
        <p:spPr>
          <a:xfrm>
            <a:off x="4932360" y="620640"/>
            <a:ext cx="3816360" cy="583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Administrator\Рабочий стол\Алан Милн\20061112205842_5-vinni.jpg"/>
          <p:cNvPicPr/>
          <p:nvPr/>
        </p:nvPicPr>
        <p:blipFill>
          <a:blip r:embed="rId3"/>
          <a:stretch/>
        </p:blipFill>
        <p:spPr>
          <a:xfrm>
            <a:off x="468360" y="620640"/>
            <a:ext cx="40323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Administrator\Рабочий стол\Алан Милн\Winniethepooh.jpg"/>
          <p:cNvPicPr/>
          <p:nvPr/>
        </p:nvPicPr>
        <p:blipFill>
          <a:blip r:embed="rId2"/>
          <a:stretch/>
        </p:blipFill>
        <p:spPr>
          <a:xfrm>
            <a:off x="5610240" y="2763720"/>
            <a:ext cx="2114640" cy="2200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istrator\Рабочий стол\Алан Милн\vinni.jpg"/>
          <p:cNvPicPr/>
          <p:nvPr/>
        </p:nvPicPr>
        <p:blipFill>
          <a:blip r:embed="rId3"/>
          <a:stretch/>
        </p:blipFill>
        <p:spPr>
          <a:xfrm>
            <a:off x="468360" y="26028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Мульти-пульти"/>
          <p:cNvPicPr/>
          <p:nvPr/>
        </p:nvPicPr>
        <p:blipFill>
          <a:blip r:embed="rId3"/>
          <a:srcRect l="0" t="0" r="33336" b="0"/>
          <a:stretch/>
        </p:blipFill>
        <p:spPr>
          <a:xfrm>
            <a:off x="4643280" y="260280"/>
            <a:ext cx="4105440" cy="589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istrator\Рабочий стол\Алан Милн\untitled1.bmp"/>
          <p:cNvPicPr/>
          <p:nvPr/>
        </p:nvPicPr>
        <p:blipFill>
          <a:blip r:embed="rId4"/>
          <a:srcRect l="0" t="0" r="0" b="31203"/>
          <a:stretch/>
        </p:blipFill>
        <p:spPr>
          <a:xfrm>
            <a:off x="252360" y="260280"/>
            <a:ext cx="432108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 Black"/>
                <a:ea typeface="Times New Roman"/>
              </a:rPr>
              <a:t>Песенки из мультфильмов  исполняет  </a:t>
            </a:r>
            <a:r>
              <a:rPr b="0" lang="ru-RU" sz="2400" spc="-1" strike="noStrike">
                <a:solidFill>
                  <a:srgbClr val="222268"/>
                </a:solidFill>
                <a:latin typeface="Arial Black"/>
                <a:ea typeface="SimSun"/>
              </a:rPr>
              <a:t>советский и российский актёр театра и кино. Народный артист СССР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Евгений Павлович Ле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Administrator\Рабочий стол\Алан Милн\250px-Ob_chudo2.jpg"/>
          <p:cNvPicPr/>
          <p:nvPr/>
        </p:nvPicPr>
        <p:blipFill>
          <a:blip r:embed="rId1"/>
          <a:stretch/>
        </p:blipFill>
        <p:spPr>
          <a:xfrm>
            <a:off x="2143080" y="1916280"/>
            <a:ext cx="5429160" cy="37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istrator\Рабочий стол\Алан Милн\biografiya-aktera-evgeniya-leonova.jpg"/>
          <p:cNvPicPr/>
          <p:nvPr/>
        </p:nvPicPr>
        <p:blipFill>
          <a:blip r:embed="rId2"/>
          <a:stretch/>
        </p:blipFill>
        <p:spPr>
          <a:xfrm>
            <a:off x="395280" y="1916280"/>
            <a:ext cx="3214800" cy="446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Administrator\Рабочий стол\Алан Милн\200px-EvgeniLeonov.jpg"/>
          <p:cNvPicPr/>
          <p:nvPr/>
        </p:nvPicPr>
        <p:blipFill>
          <a:blip r:embed="rId3"/>
          <a:stretch/>
        </p:blipFill>
        <p:spPr>
          <a:xfrm>
            <a:off x="5724360" y="1916280"/>
            <a:ext cx="3138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Песенка Винни-П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Если я чешу в затылке — не беда,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 голове моей опилки, да-да-да,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о хотя там и опилки,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о кричалки и вопилки,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а также шумелки, вопелки, сопелки)</a:t>
            </a:r>
            <a:br>
              <a:rPr sz="3600"/>
            </a:br>
            <a:r>
              <a:rPr b="1" lang="ru-RU" sz="3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чиняю я неплохо иногда, 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2" descr=""/>
          <p:cNvPicPr/>
          <p:nvPr/>
        </p:nvPicPr>
        <p:blipFill>
          <a:blip r:embed="rId1"/>
          <a:stretch/>
        </p:blipFill>
        <p:spPr>
          <a:xfrm>
            <a:off x="450720" y="1414440"/>
            <a:ext cx="8302680" cy="2097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" descr=""/>
          <p:cNvPicPr/>
          <p:nvPr/>
        </p:nvPicPr>
        <p:blipFill>
          <a:blip r:embed="rId2"/>
          <a:stretch/>
        </p:blipFill>
        <p:spPr>
          <a:xfrm>
            <a:off x="1689120" y="146160"/>
            <a:ext cx="555300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3214800" y="3571920"/>
            <a:ext cx="280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7"/>
          <p:cNvPicPr/>
          <p:nvPr/>
        </p:nvPicPr>
        <p:blipFill>
          <a:blip r:embed="rId1"/>
          <a:stretch/>
        </p:blipFill>
        <p:spPr>
          <a:xfrm>
            <a:off x="539640" y="404640"/>
            <a:ext cx="3279960" cy="3961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 rot="21327000">
            <a:off x="1115640" y="20098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 rot="21186000">
            <a:off x="595800" y="4525920"/>
            <a:ext cx="27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(1882 – 19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4149720" y="692280"/>
            <a:ext cx="4681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Times New Roman"/>
                <a:ea typeface="SimSun"/>
              </a:rPr>
              <a:t>Алан Александр Милн родился и жил в Англии. Его отец руководил частной школой, а сам он окончил математический факультет Кембриджского университета, однако увлечение литературным творчеством оказалось силь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Administrator\Рабочий стол\Алан Милн\news_1295300045.jpg"/>
          <p:cNvPicPr/>
          <p:nvPr/>
        </p:nvPicPr>
        <p:blipFill>
          <a:blip r:embed="rId1"/>
          <a:stretch/>
        </p:blipFill>
        <p:spPr>
          <a:xfrm>
            <a:off x="214200" y="333360"/>
            <a:ext cx="4016520" cy="3714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Documents and Settings\Administrator\Рабочий стол\Алан Милн\3fcb1b5619b0.jpg"/>
          <p:cNvPicPr/>
          <p:nvPr/>
        </p:nvPicPr>
        <p:blipFill>
          <a:blip r:embed="rId2"/>
          <a:srcRect l="0" t="0" r="0" b="8609"/>
          <a:stretch/>
        </p:blipFill>
        <p:spPr>
          <a:xfrm>
            <a:off x="5867280" y="2190600"/>
            <a:ext cx="3068640" cy="39672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214200" y="4340160"/>
            <a:ext cx="54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чинять истории о Винни-Пухе Алан Милн начал для своего сына Кристофера Роб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8:12:58Z</dcterms:created>
  <dc:creator>user</dc:creator>
  <dc:description/>
  <dc:language>en-US</dc:language>
  <cp:lastModifiedBy>Пользователь Windows</cp:lastModifiedBy>
  <dcterms:modified xsi:type="dcterms:W3CDTF">2016-04-07T14:32:20Z</dcterms:modified>
  <cp:revision>39</cp:revision>
  <dc:subject/>
  <dc:title>Слайд 1</dc:title>
</cp:coreProperties>
</file>