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0A4-EAC3-46C2-B4D4-8AF52C4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16C-8805-46F3-B4B4-C35F27FF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EAF-7AAA-4E94-8C3B-4A4AD408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15B-E625-46AF-8D17-A0A2A30B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B806-4CCC-44DF-B154-5D2A411A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7E2-CDA3-45DD-85C2-B4C9168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6428-5B3B-4C14-BDF5-078E97F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B56-5F46-43B8-9130-1D65D82D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C06-0FAE-4F59-8412-D974EE83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B842-34B9-4BF4-AF43-1D6B6C3F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8D6-B880-4E22-9F03-C9853A7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C34-703F-45F4-8F9E-61AE718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B437-AC55-4458-A97D-8AB4985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7D6-7D73-4D6E-B9C6-D156B47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A418-29BA-4302-9F97-43D5B6D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7E58-7664-4A27-BF53-2B5588DE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168D-B920-4129-9DB1-045150E9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398F-D844-4648-99D2-88B3EFF0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B294-BBA7-4739-A72B-71B0D290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7FD6-2422-4434-869C-298AA28C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5927-310C-42F4-80A2-210239E6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0FF3-9B9D-43DE-BC1E-6AFCFB1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554-7F17-4E11-9D63-304DF189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4E66-6F13-4417-80C8-4276BB9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ECC1-EF2F-4C33-B4E8-48153F6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9453-6093-4D6F-92A5-BEE2919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57CC-A014-49FA-BB15-A183B6A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096B-761B-44C6-9D05-63C2C771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130A-C36B-41AB-BB4A-5B385797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8CA1-E7E0-4025-8712-9E33D419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4081-E646-4A3F-8FEC-CB0C6C33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2CF0-7FA9-46F0-9EDA-D12EC5A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9C49-34F3-4CBC-9E41-D79FC5A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102-6CDE-4E51-B36A-30F52CAF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38B8-5D50-45BA-B9E7-5463C4F6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E1F9-6CC2-4746-9D22-4034E54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4DB8-DA7D-4090-8E19-DE77CF39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03A5-B393-4C2E-B691-4D07B09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FF3C-E903-4004-94DE-A321783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D8AE-E9BA-4333-9039-5DBE7A3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EA02-F349-424D-A7F6-BABF3C3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E657-E3C4-4307-B546-2C9FAC91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67DF-248E-4C88-AF1C-1634481A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0D6A-DE96-44C6-A9B0-34F140A3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04E-9BDC-4DA2-8033-9F4B92A5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9B2A-1E3E-4D02-8FC0-8F5ADB3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9229C-AE96-474E-82D0-C4CCBDA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930F-1F4D-4143-84F7-95B9F4B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81261-FFE0-4D26-8A8D-8B87DEAC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F052-451B-479F-B85B-EF8D5F60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549C-40E2-46F6-9BD0-2508BEE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AAEB-7147-4486-923E-DB34329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DB7C6-10FE-42C0-82E3-933F0A9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4A1E0-537D-4B32-8783-89F6F8EA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E811-D1B8-43C2-A642-6B7A2B3C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E4E-0250-474B-8B16-17FD7D24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C8F9B-288A-410F-904C-3FEF6519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07689-6E62-4EA5-88F3-1B8DF7BC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51E00-3176-4C44-9995-C72A0C27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13F8B-E989-4380-9222-43DE429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ED47D-FC27-4DE0-A07E-ED3B355D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112D3-D714-4B73-8075-EC6784A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5E040-9161-4D6A-AF70-C947F45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C4427-DE46-4253-ACE3-E8AF73C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1CFE3-FB84-408C-BF8A-3B92DCD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B4207-3760-44E4-AB6F-0DB4DE2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B11-F688-4A4D-B2E5-D8C04D2A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D65E5-D447-42A6-A41C-D8A9A53C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3948A-6611-43D3-87FC-47637313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1E74D-E272-43C0-B381-9AFB73D8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2403F-DC79-45A0-8FF9-101ACD7C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87EC4-4784-4A2C-89CE-DFE1854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8EEE-D08C-4AD7-B6D6-8EB4B5E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3F18-4C5B-471D-BD98-3B2A27F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5E311-4B0E-4D99-83D5-180E1EC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2D11-98FF-4C58-9E43-3B0BE0B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BBF6-8F6F-453F-A381-D13AE9C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9D2-D6A8-42AE-B7FE-49B5641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A463-83B2-43E6-826A-BFD3DAA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5D90-A5BA-491F-8E89-E06B5CD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25720-4019-4176-B533-3726C60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E30D1-A388-433C-8762-FA901A46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2E14-4565-48B3-8F81-35E4CC36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482-56C4-4BA2-B3BF-77B97F5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0B1-9015-4104-BCD9-FC7E042201DF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62F-B82D-46D4-9D13-C6502CA6CC58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6EE-BEEB-4519-8675-1271ADDB7D3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40CE-546F-4786-8873-A8B8824B0AEB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47F-2436-4C64-939D-020AE94E27B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64B-F4F3-41E4-8056-A11DE05E3BF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F39F-58B1-4E7B-B4F7-11B368AAE5A4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88-4"/>
          <p:cNvPicPr/>
          <p:nvPr/>
        </p:nvPicPr>
        <p:blipFill>
          <a:blip r:embed="rId2"/>
          <a:srcRect l="0" t="24801" r="0" b="6298"/>
          <a:stretch/>
        </p:blipFill>
        <p:spPr>
          <a:xfrm>
            <a:off x="0" y="2131920"/>
            <a:ext cx="9144000" cy="4726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88-4"/>
          <p:cNvPicPr/>
          <p:nvPr/>
        </p:nvPicPr>
        <p:blipFill>
          <a:blip r:embed="rId3"/>
          <a:srcRect l="0" t="29002" r="0" b="8398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7"/>
          <p:cNvSpPr/>
          <p:nvPr/>
        </p:nvSpPr>
        <p:spPr>
          <a:xfrm>
            <a:off x="421164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Times New Roman"/>
                <a:ea typeface="Times New Roman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Times New Roman"/>
                <a:ea typeface="Times New Roman"/>
              </a:rPr>
              <a:t>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Times New Roman"/>
                <a:ea typeface="Times New Roman"/>
              </a:rPr>
              <a:t>Уша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324000" y="333360"/>
            <a:ext cx="8496000" cy="1295280"/>
          </a:xfrm>
          <a:prstGeom prst="rect">
            <a:avLst/>
          </a:prstGeom>
          <a:noFill/>
          <a:ln w="25560">
            <a:solidFill>
              <a:srgbClr val="5a5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3"/>
          <p:cNvSpPr txBox="1"/>
          <p:nvPr/>
        </p:nvSpPr>
        <p:spPr>
          <a:xfrm>
            <a:off x="900000" y="2278080"/>
            <a:ext cx="755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подчинённые предложения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несколькими придаточными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Прямоугольник 12"/>
          <p:cNvSpPr/>
          <p:nvPr/>
        </p:nvSpPr>
        <p:spPr>
          <a:xfrm>
            <a:off x="324000" y="1628640"/>
            <a:ext cx="8496000" cy="4753080"/>
          </a:xfrm>
          <a:prstGeom prst="rect">
            <a:avLst/>
          </a:prstGeom>
          <a:noFill/>
          <a:ln w="25560">
            <a:solidFill>
              <a:srgbClr val="5a5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0"/>
          <p:cNvSpPr/>
          <p:nvPr/>
        </p:nvSpPr>
        <p:spPr>
          <a:xfrm>
            <a:off x="611280" y="15508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 тот предночной час когда стираются очертания линии краски когда дневной свет путается сцепившись с но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2174760" y="189000"/>
            <a:ext cx="67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Расставьте знаки препинания, начертите схему предложения, определите вид под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684360" y="34956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Был тот предночной час, когда стираются очертания, линии, краски, когда дневной свет путается, сцепившись с но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261360" y="40464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ние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1042920" y="33336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"/>
          <p:cNvSpPr/>
          <p:nvPr/>
        </p:nvSpPr>
        <p:spPr>
          <a:xfrm>
            <a:off x="509040" y="2205000"/>
            <a:ext cx="81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ажнение 201 в соответствии с зад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ажнение 202 по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875a2d"/>
            </a:solidFill>
            <a:miter/>
          </a:ln>
        </p:spPr>
      </p:pic>
      <p:sp>
        <p:nvSpPr>
          <p:cNvPr id="340" name="TextBox 9"/>
          <p:cNvSpPr/>
          <p:nvPr/>
        </p:nvSpPr>
        <p:spPr>
          <a:xfrm>
            <a:off x="474840" y="333360"/>
            <a:ext cx="32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е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250920" y="1341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кажите что слышно на свете и поют ли ещё соловьи 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 Светло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1"/>
          <p:cNvSpPr/>
          <p:nvPr/>
        </p:nvSpPr>
        <p:spPr>
          <a:xfrm>
            <a:off x="250920" y="191628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слышно на свете и поют ли ещё соловьи 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олилиния 54"/>
          <p:cNvSpPr/>
          <p:nvPr/>
        </p:nvSpPr>
        <p:spPr>
          <a:xfrm>
            <a:off x="1332000" y="1916280"/>
            <a:ext cx="143964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олилиния 55"/>
          <p:cNvSpPr/>
          <p:nvPr/>
        </p:nvSpPr>
        <p:spPr>
          <a:xfrm>
            <a:off x="3492360" y="1916280"/>
            <a:ext cx="266400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6"/>
          <p:cNvSpPr/>
          <p:nvPr/>
        </p:nvSpPr>
        <p:spPr>
          <a:xfrm>
            <a:off x="4859280" y="3141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7"/>
          <p:cNvSpPr/>
          <p:nvPr/>
        </p:nvSpPr>
        <p:spPr>
          <a:xfrm>
            <a:off x="4582800" y="2349360"/>
            <a:ext cx="43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   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( что … ) и ( ли …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лилиния 58"/>
          <p:cNvSpPr/>
          <p:nvPr/>
        </p:nvSpPr>
        <p:spPr>
          <a:xfrm>
            <a:off x="4932360" y="2349360"/>
            <a:ext cx="107964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59"/>
          <p:cNvSpPr/>
          <p:nvPr/>
        </p:nvSpPr>
        <p:spPr>
          <a:xfrm>
            <a:off x="6588000" y="2349360"/>
            <a:ext cx="122400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0"/>
          <p:cNvSpPr/>
          <p:nvPr/>
        </p:nvSpPr>
        <p:spPr>
          <a:xfrm>
            <a:off x="266400" y="285264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Я знал что я существую пока ты была со мной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 Бродск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1"/>
          <p:cNvSpPr/>
          <p:nvPr/>
        </p:nvSpPr>
        <p:spPr>
          <a:xfrm>
            <a:off x="321840" y="3429000"/>
            <a:ext cx="72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л, что я существую, пока ты была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62"/>
          <p:cNvSpPr/>
          <p:nvPr/>
        </p:nvSpPr>
        <p:spPr>
          <a:xfrm>
            <a:off x="1258920" y="3429000"/>
            <a:ext cx="64908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олилиния 64"/>
          <p:cNvSpPr/>
          <p:nvPr/>
        </p:nvSpPr>
        <p:spPr>
          <a:xfrm>
            <a:off x="2987640" y="3429000"/>
            <a:ext cx="144000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5"/>
          <p:cNvSpPr/>
          <p:nvPr/>
        </p:nvSpPr>
        <p:spPr>
          <a:xfrm>
            <a:off x="4339440" y="386064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   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( что … ) , ( пока …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олилиния 66"/>
          <p:cNvSpPr/>
          <p:nvPr/>
        </p:nvSpPr>
        <p:spPr>
          <a:xfrm>
            <a:off x="4716360" y="3860640"/>
            <a:ext cx="1079640" cy="1447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лилиния 67"/>
          <p:cNvSpPr/>
          <p:nvPr/>
        </p:nvSpPr>
        <p:spPr>
          <a:xfrm>
            <a:off x="6443640" y="3860640"/>
            <a:ext cx="1224000" cy="1447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8"/>
          <p:cNvSpPr/>
          <p:nvPr/>
        </p:nvSpPr>
        <p:spPr>
          <a:xfrm>
            <a:off x="250920" y="4408560"/>
            <a:ext cx="882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гда поднялись на холм стало видно где дорога делает поворо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йце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9"/>
          <p:cNvSpPr/>
          <p:nvPr/>
        </p:nvSpPr>
        <p:spPr>
          <a:xfrm>
            <a:off x="250920" y="51894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поднялись на холм, стало видно, где дорога делает пово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олилиния 72"/>
          <p:cNvSpPr/>
          <p:nvPr/>
        </p:nvSpPr>
        <p:spPr>
          <a:xfrm>
            <a:off x="1908000" y="5157720"/>
            <a:ext cx="345600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73"/>
          <p:cNvSpPr/>
          <p:nvPr/>
        </p:nvSpPr>
        <p:spPr>
          <a:xfrm>
            <a:off x="5580000" y="5157720"/>
            <a:ext cx="93672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4"/>
          <p:cNvSpPr/>
          <p:nvPr/>
        </p:nvSpPr>
        <p:spPr>
          <a:xfrm>
            <a:off x="4359960" y="5786280"/>
            <a:ext cx="45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когда … ) 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   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( где …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лилиния 75"/>
          <p:cNvSpPr/>
          <p:nvPr/>
        </p:nvSpPr>
        <p:spPr>
          <a:xfrm>
            <a:off x="5003640" y="5732640"/>
            <a:ext cx="1584360" cy="21744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олилиния 76"/>
          <p:cNvSpPr/>
          <p:nvPr/>
        </p:nvSpPr>
        <p:spPr>
          <a:xfrm>
            <a:off x="6732720" y="5732640"/>
            <a:ext cx="1008000" cy="21744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77"/>
          <p:cNvSpPr/>
          <p:nvPr/>
        </p:nvSpPr>
        <p:spPr>
          <a:xfrm>
            <a:off x="179280" y="1844640"/>
            <a:ext cx="8785440" cy="100800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легко расставим знаки препинания в любом по сложности за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78"/>
          <p:cNvSpPr/>
          <p:nvPr/>
        </p:nvSpPr>
        <p:spPr>
          <a:xfrm>
            <a:off x="179280" y="3357720"/>
            <a:ext cx="8785440" cy="100800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легко расставим знаки препинания в любом по сложности за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79"/>
          <p:cNvSpPr/>
          <p:nvPr/>
        </p:nvSpPr>
        <p:spPr>
          <a:xfrm>
            <a:off x="179280" y="5157720"/>
            <a:ext cx="8785440" cy="1150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легко расставим знаки препинания в любом по сложности за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"/>
          <p:cNvSpPr/>
          <p:nvPr/>
        </p:nvSpPr>
        <p:spPr>
          <a:xfrm>
            <a:off x="611280" y="11592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ложноподчиненные пред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 несколькими придаточ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79280" y="25988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последоват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3419640" y="389412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паралл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443640" y="267012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однород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 flipH="1">
            <a:off x="2124000" y="1125360"/>
            <a:ext cx="2664000" cy="1295640"/>
          </a:xfrm>
          <a:prstGeom prst="line">
            <a:avLst/>
          </a:prstGeom>
          <a:ln w="28440">
            <a:solidFill>
              <a:srgbClr val="875a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4788000" y="1125360"/>
            <a:ext cx="2736720" cy="1440000"/>
          </a:xfrm>
          <a:prstGeom prst="line">
            <a:avLst/>
          </a:prstGeom>
          <a:ln w="28440">
            <a:solidFill>
              <a:srgbClr val="875a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788000" y="1125360"/>
            <a:ext cx="0" cy="2519640"/>
          </a:xfrm>
          <a:prstGeom prst="line">
            <a:avLst/>
          </a:prstGeom>
          <a:ln w="28440">
            <a:solidFill>
              <a:srgbClr val="875a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539640" y="1700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ктор попросился в забойщики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му что он слышал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это самая почётная профессия на шахте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468360" y="4221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ому что…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…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"/>
          <p:cNvSpPr/>
          <p:nvPr/>
        </p:nvSpPr>
        <p:spPr>
          <a:xfrm flipV="1">
            <a:off x="1476360" y="407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1476360" y="407664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385128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"/>
          <p:cNvSpPr/>
          <p:nvPr/>
        </p:nvSpPr>
        <p:spPr>
          <a:xfrm flipV="1">
            <a:off x="5219640" y="4076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5219640" y="4076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7380360" y="4076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2050920" y="3645000"/>
            <a:ext cx="12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5940360" y="3645000"/>
            <a:ext cx="10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564000" y="501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6496200" y="4960800"/>
            <a:ext cx="20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ъясн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1332000" y="260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ПП с последовательным 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468360" y="1628640"/>
            <a:ext cx="806436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мы пришли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ец показал мне окуней и плотиц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он выудил без меня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539640" y="4292640"/>
            <a:ext cx="83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гда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торых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 flipV="1">
            <a:off x="3995640" y="407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"/>
          <p:cNvSpPr/>
          <p:nvPr/>
        </p:nvSpPr>
        <p:spPr>
          <a:xfrm flipH="1">
            <a:off x="1907640" y="407664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"/>
          <p:cNvSpPr/>
          <p:nvPr/>
        </p:nvSpPr>
        <p:spPr>
          <a:xfrm>
            <a:off x="190800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"/>
          <p:cNvSpPr/>
          <p:nvPr/>
        </p:nvSpPr>
        <p:spPr>
          <a:xfrm flipV="1">
            <a:off x="4356000" y="407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4356000" y="4076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0"/>
          <p:cNvSpPr/>
          <p:nvPr/>
        </p:nvSpPr>
        <p:spPr>
          <a:xfrm>
            <a:off x="6588000" y="4076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2411280" y="36450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5219640" y="36450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102384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1403280" y="501336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5559480" y="496080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1692360" y="33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ПП с параллельным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1476360" y="33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ПП с однородным 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24000" y="1557360"/>
            <a:ext cx="842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отправились в путь солнечным утром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ещё пели птицы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ещё не обсохла роса на траве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84360" y="3716280"/>
            <a:ext cx="801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гда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гда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"/>
          <p:cNvSpPr/>
          <p:nvPr/>
        </p:nvSpPr>
        <p:spPr>
          <a:xfrm flipV="1">
            <a:off x="1547640" y="3573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1547640" y="3573360"/>
            <a:ext cx="54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3851280" y="3573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6948360" y="3573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2050920" y="3213000"/>
            <a:ext cx="11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767120" y="316080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824200" y="438480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6228000" y="43434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395280" y="1484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устно думать что напрасно была молодость дана что изменяли ей всечасно, что обманула нас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395280" y="31114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огда говоришь без всякого плана сам не отгадаешь куда приведет тебя тво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95280" y="46944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Будь жесток к себе если не хочешь чтобы другие были к тебе жест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987640" y="18900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Расставьте знаки  препи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ачертите  схемы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407880" y="38592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ние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419640" y="2535120"/>
            <a:ext cx="5473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(что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 однород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64000" y="4076640"/>
            <a:ext cx="547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гда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да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 параллель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635280" y="5559480"/>
            <a:ext cx="5473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бы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 последователь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"/>
          <p:cNvSpPr/>
          <p:nvPr/>
        </p:nvSpPr>
        <p:spPr>
          <a:xfrm>
            <a:off x="3924360" y="242100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 flipV="1">
            <a:off x="392436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601200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478800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>
            <a:off x="7308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4427640" y="400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5580000" y="400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4427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658800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 flipV="1">
            <a:off x="5580000" y="400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6"/>
          <p:cNvSpPr/>
          <p:nvPr/>
        </p:nvSpPr>
        <p:spPr>
          <a:xfrm flipV="1">
            <a:off x="5435640" y="400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067280" y="5516640"/>
            <a:ext cx="10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 flipV="1">
            <a:off x="406728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507672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658800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V="1">
            <a:off x="558000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32"/>
          <p:cNvSpPr/>
          <p:nvPr/>
        </p:nvSpPr>
        <p:spPr>
          <a:xfrm>
            <a:off x="3492360" y="2421000"/>
            <a:ext cx="4680000" cy="7207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33"/>
          <p:cNvSpPr/>
          <p:nvPr/>
        </p:nvSpPr>
        <p:spPr>
          <a:xfrm>
            <a:off x="3492360" y="5445000"/>
            <a:ext cx="4680000" cy="7207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34"/>
          <p:cNvSpPr/>
          <p:nvPr/>
        </p:nvSpPr>
        <p:spPr>
          <a:xfrm>
            <a:off x="3492360" y="4005360"/>
            <a:ext cx="4680000" cy="718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539640" y="198900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) Люди слушали внимательно, и в скрипичном футляре лежало уже немало мятых бумажек. (2) У Кинтеля в кармане были лишь деньги, которые дал дед и которые можно было тратить только на картошку. (3) А будь у него свои деньги – хоть сто рублей! – он тут же выложил бы их в футляр, к ногам девочки. (4) Хотя… посмел бы он? (5) Все сразу начали бы на него 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755640" y="1341360"/>
            <a:ext cx="77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Укажите предложение с однородными придаточ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6012000" y="278136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539640" y="3141360"/>
            <a:ext cx="7777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"/>
          <p:cNvSpPr/>
          <p:nvPr/>
        </p:nvSpPr>
        <p:spPr>
          <a:xfrm>
            <a:off x="611280" y="3500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8"/>
          <p:cNvSpPr txBox="1"/>
          <p:nvPr/>
        </p:nvSpPr>
        <p:spPr>
          <a:xfrm>
            <a:off x="3778200" y="333360"/>
            <a:ext cx="367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14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410840" y="11592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395280" y="13413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оздухе,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да ни взглянеш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ружатся облака снежино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к что не разберёш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дет ли снег с неба или с земли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парал. и послед. подчин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24000" y="436572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уда…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к что…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ли…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V="1">
            <a:off x="826920" y="422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826920" y="422100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1835280" y="42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971640" y="378936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V="1">
            <a:off x="3419640" y="422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3419640" y="422100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5148360" y="42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3851280" y="3789360"/>
            <a:ext cx="8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 flipV="1">
            <a:off x="5867280" y="422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5867280" y="422100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7667640" y="42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6443640" y="378936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8"/>
          <p:cNvSpPr/>
          <p:nvPr/>
        </p:nvSpPr>
        <p:spPr>
          <a:xfrm>
            <a:off x="1619280" y="50133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9"/>
          <p:cNvSpPr/>
          <p:nvPr/>
        </p:nvSpPr>
        <p:spPr>
          <a:xfrm>
            <a:off x="4192560" y="496080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7216920" y="49608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ъяс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2050920" y="5516640"/>
            <a:ext cx="57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аллельное и последовательное под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900000" y="26028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СПП с комбинированным подчи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8:09:58Z</dcterms:created>
  <dc:creator>Евгения</dc:creator>
  <dc:description/>
  <dc:language>en-US</dc:language>
  <cp:lastModifiedBy>хсши</cp:lastModifiedBy>
  <dcterms:modified xsi:type="dcterms:W3CDTF">2019-04-24T09:30:33Z</dcterms:modified>
  <cp:revision>70</cp:revision>
  <dc:subject/>
  <dc:title>Слайд 1</dc:title>
</cp:coreProperties>
</file>