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661-2E29-4A1F-B52E-A6C85759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80C-0C25-4BF8-9C6C-23B0CDF1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AFF-DCFE-420D-B75C-20B1E59D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FB2-CAC0-4F35-AB79-33FD4561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92F2-D0FF-45F5-AD68-6FBC3B30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11FA-540D-4917-93BE-CF48CADD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C7A1-3B6D-496A-976C-918BBCF5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31CA-2647-4EE6-8275-FA14A2FB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40BE-EBDA-4C3F-83E8-F2D2BA47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210E-2718-4685-B255-79D0057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8D77-0CFE-4CE9-AE18-AB68C656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FAD-93D2-4746-94A8-DDF921FB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A73C-19AB-4040-B6EB-6013A38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5B87-5E5E-45E1-B8EE-22491398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46A1-E41B-42F1-A082-3C0A68DA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047B-9256-4E51-B2A7-0D084A65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A9B8-364B-49D6-99F9-F04A0793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FD75-D9A5-4023-90A0-DF801240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5653-B7B9-406E-A6C8-D7029D09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2417-FBCB-4C0A-91E0-D66392ED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04787-39ED-41AF-9015-22C66AB5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AAFB-280E-476A-A76E-F298A9B3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C9A-00AC-46E9-9DCC-D08F2D27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C74F-153A-4FAE-A6F9-2AE82C46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4A6B5-6B88-444B-B2FA-F600C64F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DB17-4C83-4502-8B46-BE4FA7D4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4C5E-6172-49F7-84DA-303AE38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A05D-8FF9-4186-BED4-F223AFE8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DC7C-E1D7-44C2-918D-53F92BB0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499E6-41DD-4606-BD4B-90CDB716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B4B9-C395-451E-8B18-D09DBB4C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7953-849F-41D1-8CB3-F0DA2890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FE6F-9A58-4887-9F8C-2AA201DE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08F-9FC0-48D0-9915-1A8CE227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B17C-C754-49A5-9DA5-C65CD85A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18CF-E8F4-4151-A7E9-662080A9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BF2C-88E1-4916-BD9A-9AA10969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1230B-48E8-4267-B9D1-3A9B6D8B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36F9-2910-4D0C-8BA2-1F4D8E19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2E61-7E9B-417B-86F0-F202373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DA82-10FA-44C7-A4A5-74AA6928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B766-AACC-428E-B78A-ED7FCAF1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9ECD5-8921-4CC2-8D5F-69BA9FC7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A32F4-7EF0-4BBA-A876-936A4E05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801-9218-4E12-BF4B-2B92526D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A9253-49E3-452E-8108-444C3337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A5900-D79A-4F9B-8F17-8A7B8A5B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3BAF-6A8E-4CED-8905-1AF232C7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1DF89-F0A5-4AEE-9054-11B66E6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B47A9-2EB6-4E73-B23B-698C109A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18B51-BFB0-4EAB-964B-C42DCD99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AB3BC-891B-49CA-9574-6C3B2918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9BFF-7E79-4C50-A238-E096184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61498-72F0-4939-BB9D-EFCEDCDF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6C57-D53E-4458-97C4-A5663F0E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CAE-8040-4F21-A149-E8906787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BD143-A529-4292-90FC-230636BC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AF0D5-E1F5-4E72-98C7-1321B547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F8DC5-756E-45E5-A1F9-D0278C44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6BEF1-3E23-40E3-A262-ECF04DFA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FDA65-FD54-4E37-A540-E3E3A7AE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7DC67-3D9C-464E-B404-83F00F0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0510B-0ADB-48BF-AAF4-39BE7B1F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F46C8-4055-419C-8390-36621222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54974-3978-4E6F-8DA0-4330BE6B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6DFF8-9A5B-4B4A-B85B-44106C5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B11-13C5-4DE6-AAD4-F974E8B2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EA17C-108A-482C-AFC9-FE7C6401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D27C3-5F19-453A-81A6-2EB19333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84487-22AD-4443-B054-BD1F62D6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248AF-9989-4D0E-8F2F-D4AAC8FA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A8472-69C8-49CC-B968-A7D6FECE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F3790-1994-4F4A-BE3F-DBDDFF9C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6AF50-1414-4812-AAC1-FA643B55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09BCA-36D5-4150-9031-0090360C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FF5A4-E625-4279-9C27-8F83D7F8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40093-5685-431E-ABA1-F0BCD1F7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A9C-9BF3-4A74-B5C5-38AD0E6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E4C89-A3E8-4BD9-8603-6A06F255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EE393-62D9-4374-AE5D-1EB99337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1665F-2124-49F7-9E84-17DCF8B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56A8D-F7A0-414C-B4FC-BED281A5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535F7-6951-4800-BF61-C8E0B054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EBE-CA89-41AB-AA22-B0560F3B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FF49-8FC0-4303-9827-0569C9D6A7D8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3CA9-C0CA-4EB3-BDA8-443D6B605AB1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CBDA-EF77-4CF7-B42D-01E1FAF64C16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CC57-FFCE-4B6B-8EAE-697F015E9EAF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7885-7AD6-4CAD-83FF-57A3406457DD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1A00-0A17-44C8-8C88-E363970894D3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7D7B-863E-4E7A-A2B2-F0CF70727115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88-4"/>
          <p:cNvPicPr/>
          <p:nvPr/>
        </p:nvPicPr>
        <p:blipFill>
          <a:blip r:embed="rId2"/>
          <a:srcRect l="0" t="24801" r="0" b="6298"/>
          <a:stretch/>
        </p:blipFill>
        <p:spPr>
          <a:xfrm>
            <a:off x="0" y="2131920"/>
            <a:ext cx="9144000" cy="4726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88-4"/>
          <p:cNvPicPr/>
          <p:nvPr/>
        </p:nvPicPr>
        <p:blipFill>
          <a:blip r:embed="rId3"/>
          <a:srcRect l="0" t="29002" r="0" b="8398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7"/>
          <p:cNvSpPr/>
          <p:nvPr/>
        </p:nvSpPr>
        <p:spPr>
          <a:xfrm>
            <a:off x="4211640" y="508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5155"/>
                </a:solidFill>
                <a:latin typeface="Times New Roman"/>
                <a:ea typeface="Times New Roman"/>
              </a:rPr>
              <a:t>Уч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5155"/>
                </a:solidFill>
                <a:latin typeface="Times New Roman"/>
                <a:ea typeface="Times New Roman"/>
              </a:rPr>
              <a:t>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5155"/>
                </a:solidFill>
                <a:latin typeface="Times New Roman"/>
                <a:ea typeface="Times New Roman"/>
              </a:rPr>
              <a:t>Ушакова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324000" y="333360"/>
            <a:ext cx="8496000" cy="1295280"/>
          </a:xfrm>
          <a:prstGeom prst="rect">
            <a:avLst/>
          </a:prstGeom>
          <a:noFill/>
          <a:ln w="25560">
            <a:solidFill>
              <a:srgbClr val="5a5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WordArt 3"/>
          <p:cNvSpPr txBox="1"/>
          <p:nvPr/>
        </p:nvSpPr>
        <p:spPr>
          <a:xfrm>
            <a:off x="900000" y="2278080"/>
            <a:ext cx="755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жноподчинённые предложения</a:t>
            </a:r>
            <a:endParaRPr b="0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несколькими придаточными</a:t>
            </a:r>
            <a:endParaRPr b="0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Прямоугольник 12"/>
          <p:cNvSpPr/>
          <p:nvPr/>
        </p:nvSpPr>
        <p:spPr>
          <a:xfrm>
            <a:off x="324000" y="1628640"/>
            <a:ext cx="8496000" cy="4753080"/>
          </a:xfrm>
          <a:prstGeom prst="rect">
            <a:avLst/>
          </a:prstGeom>
          <a:noFill/>
          <a:ln w="25560">
            <a:solidFill>
              <a:srgbClr val="5a51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0"/>
          <p:cNvSpPr/>
          <p:nvPr/>
        </p:nvSpPr>
        <p:spPr>
          <a:xfrm>
            <a:off x="611280" y="15508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 тот предночной час когда стираются очертания линии краски когда дневной свет путается сцепившись с но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2174760" y="189000"/>
            <a:ext cx="67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Расставьте знаки препинания, начертите схему предложения, определите вид под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2"/>
          <p:cNvSpPr/>
          <p:nvPr/>
        </p:nvSpPr>
        <p:spPr>
          <a:xfrm>
            <a:off x="684360" y="349560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Был тот предночной час, когда стираются очертания, линии, краски, когда дневной свет путается, сцепившись с ноч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261360" y="40464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дание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1042920" y="33336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"/>
          <p:cNvSpPr/>
          <p:nvPr/>
        </p:nvSpPr>
        <p:spPr>
          <a:xfrm>
            <a:off x="509040" y="2205000"/>
            <a:ext cx="819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ажнение 201 в соответствии с зад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упражнение 202 по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875a2d"/>
            </a:solidFill>
            <a:miter/>
          </a:ln>
        </p:spPr>
      </p:pic>
      <p:sp>
        <p:nvSpPr>
          <p:cNvPr id="340" name="TextBox 9"/>
          <p:cNvSpPr/>
          <p:nvPr/>
        </p:nvSpPr>
        <p:spPr>
          <a:xfrm>
            <a:off x="474840" y="333360"/>
            <a:ext cx="32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пражнение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0"/>
          <p:cNvSpPr/>
          <p:nvPr/>
        </p:nvSpPr>
        <p:spPr>
          <a:xfrm>
            <a:off x="250920" y="1341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сскажите что слышно на свете и поют ли ещё соловьи 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 Светло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1"/>
          <p:cNvSpPr/>
          <p:nvPr/>
        </p:nvSpPr>
        <p:spPr>
          <a:xfrm>
            <a:off x="250920" y="191628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то слышно на свете и поют ли ещё соловьи 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олилиния 54"/>
          <p:cNvSpPr/>
          <p:nvPr/>
        </p:nvSpPr>
        <p:spPr>
          <a:xfrm>
            <a:off x="1332000" y="1916280"/>
            <a:ext cx="1439640" cy="14436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олилиния 55"/>
          <p:cNvSpPr/>
          <p:nvPr/>
        </p:nvSpPr>
        <p:spPr>
          <a:xfrm>
            <a:off x="3492360" y="1916280"/>
            <a:ext cx="2664000" cy="14436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6"/>
          <p:cNvSpPr/>
          <p:nvPr/>
        </p:nvSpPr>
        <p:spPr>
          <a:xfrm>
            <a:off x="4859280" y="3141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7"/>
          <p:cNvSpPr/>
          <p:nvPr/>
        </p:nvSpPr>
        <p:spPr>
          <a:xfrm>
            <a:off x="4582800" y="2349360"/>
            <a:ext cx="43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   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 ( что … ) и ( ли …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олилиния 58"/>
          <p:cNvSpPr/>
          <p:nvPr/>
        </p:nvSpPr>
        <p:spPr>
          <a:xfrm>
            <a:off x="4932360" y="2349360"/>
            <a:ext cx="1079640" cy="1429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олилиния 59"/>
          <p:cNvSpPr/>
          <p:nvPr/>
        </p:nvSpPr>
        <p:spPr>
          <a:xfrm>
            <a:off x="6588000" y="2349360"/>
            <a:ext cx="1224000" cy="1429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0"/>
          <p:cNvSpPr/>
          <p:nvPr/>
        </p:nvSpPr>
        <p:spPr>
          <a:xfrm>
            <a:off x="266400" y="2852640"/>
            <a:ext cx="73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Я знал что я существую пока ты была со мной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. Бродск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61"/>
          <p:cNvSpPr/>
          <p:nvPr/>
        </p:nvSpPr>
        <p:spPr>
          <a:xfrm>
            <a:off x="321840" y="3429000"/>
            <a:ext cx="72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нал, что я существую, пока ты была со м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62"/>
          <p:cNvSpPr/>
          <p:nvPr/>
        </p:nvSpPr>
        <p:spPr>
          <a:xfrm>
            <a:off x="1258920" y="3429000"/>
            <a:ext cx="649080" cy="14436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олилиния 64"/>
          <p:cNvSpPr/>
          <p:nvPr/>
        </p:nvSpPr>
        <p:spPr>
          <a:xfrm>
            <a:off x="2987640" y="3429000"/>
            <a:ext cx="1440000" cy="14436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5"/>
          <p:cNvSpPr/>
          <p:nvPr/>
        </p:nvSpPr>
        <p:spPr>
          <a:xfrm>
            <a:off x="4339440" y="386064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   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 ( что … ) , ( пока …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олилиния 66"/>
          <p:cNvSpPr/>
          <p:nvPr/>
        </p:nvSpPr>
        <p:spPr>
          <a:xfrm>
            <a:off x="4716360" y="3860640"/>
            <a:ext cx="1079640" cy="1447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олилиния 67"/>
          <p:cNvSpPr/>
          <p:nvPr/>
        </p:nvSpPr>
        <p:spPr>
          <a:xfrm>
            <a:off x="6443640" y="3860640"/>
            <a:ext cx="1224000" cy="1447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68"/>
          <p:cNvSpPr/>
          <p:nvPr/>
        </p:nvSpPr>
        <p:spPr>
          <a:xfrm>
            <a:off x="250920" y="4408560"/>
            <a:ext cx="882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огда поднялись на холм стало видно где дорога делает поворо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йце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69"/>
          <p:cNvSpPr/>
          <p:nvPr/>
        </p:nvSpPr>
        <p:spPr>
          <a:xfrm>
            <a:off x="250920" y="51894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гда поднялись на холм, стало видно, где дорога делает повор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олилиния 72"/>
          <p:cNvSpPr/>
          <p:nvPr/>
        </p:nvSpPr>
        <p:spPr>
          <a:xfrm>
            <a:off x="1908000" y="5157720"/>
            <a:ext cx="3456000" cy="1429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олилиния 73"/>
          <p:cNvSpPr/>
          <p:nvPr/>
        </p:nvSpPr>
        <p:spPr>
          <a:xfrm>
            <a:off x="5580000" y="5157720"/>
            <a:ext cx="936720" cy="14292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4"/>
          <p:cNvSpPr/>
          <p:nvPr/>
        </p:nvSpPr>
        <p:spPr>
          <a:xfrm>
            <a:off x="4359960" y="5786280"/>
            <a:ext cx="45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когда … ) 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   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( где …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олилиния 75"/>
          <p:cNvSpPr/>
          <p:nvPr/>
        </p:nvSpPr>
        <p:spPr>
          <a:xfrm>
            <a:off x="5003640" y="5732640"/>
            <a:ext cx="1584360" cy="21744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олилиния 76"/>
          <p:cNvSpPr/>
          <p:nvPr/>
        </p:nvSpPr>
        <p:spPr>
          <a:xfrm>
            <a:off x="6732720" y="5732640"/>
            <a:ext cx="1008000" cy="217440"/>
          </a:xfrm>
          <a:custGeom>
            <a:avLst/>
            <a:gdLst/>
            <a:ahLst/>
            <a:rect l="l" t="t" r="r" b="b"/>
            <a:pathLst>
              <a:path w="2159876" h="331076">
                <a:moveTo>
                  <a:pt x="0" y="331076"/>
                </a:moveTo>
                <a:lnTo>
                  <a:pt x="0" y="0"/>
                </a:lnTo>
                <a:lnTo>
                  <a:pt x="2159876" y="0"/>
                </a:lnTo>
                <a:lnTo>
                  <a:pt x="2159876" y="315310"/>
                </a:lnTo>
              </a:path>
            </a:pathLst>
          </a:custGeom>
          <a:noFill/>
          <a:ln w="9360">
            <a:solidFill>
              <a:srgbClr val="564b3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77"/>
          <p:cNvSpPr/>
          <p:nvPr/>
        </p:nvSpPr>
        <p:spPr>
          <a:xfrm>
            <a:off x="179280" y="1844640"/>
            <a:ext cx="8785440" cy="100800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 легко расставим знаки препинания в любом по сложности за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78"/>
          <p:cNvSpPr/>
          <p:nvPr/>
        </p:nvSpPr>
        <p:spPr>
          <a:xfrm>
            <a:off x="179280" y="3357720"/>
            <a:ext cx="8785440" cy="100800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 легко расставим знаки препинания в любом по сложности за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79"/>
          <p:cNvSpPr/>
          <p:nvPr/>
        </p:nvSpPr>
        <p:spPr>
          <a:xfrm>
            <a:off x="179280" y="5157720"/>
            <a:ext cx="8785440" cy="11509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 легко расставим знаки препинания в любом по сложности за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3"/>
          <p:cNvSpPr/>
          <p:nvPr/>
        </p:nvSpPr>
        <p:spPr>
          <a:xfrm>
            <a:off x="611280" y="11592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ложноподчиненные пред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 несколькими придаточ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79280" y="25988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с последовате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3419640" y="389412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с паралле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443640" y="267012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с однород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дчи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 flipH="1">
            <a:off x="2124000" y="1125360"/>
            <a:ext cx="2664000" cy="1295640"/>
          </a:xfrm>
          <a:prstGeom prst="line">
            <a:avLst/>
          </a:prstGeom>
          <a:ln w="28440">
            <a:solidFill>
              <a:srgbClr val="875a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4788000" y="1125360"/>
            <a:ext cx="2736720" cy="1440000"/>
          </a:xfrm>
          <a:prstGeom prst="line">
            <a:avLst/>
          </a:prstGeom>
          <a:ln w="28440">
            <a:solidFill>
              <a:srgbClr val="875a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4788000" y="1125360"/>
            <a:ext cx="0" cy="2519640"/>
          </a:xfrm>
          <a:prstGeom prst="line">
            <a:avLst/>
          </a:prstGeom>
          <a:ln w="28440">
            <a:solidFill>
              <a:srgbClr val="875a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539640" y="17002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ктор попросился в забойщики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ому что он слышал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это самая почётная профессия на шахте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468360" y="42210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отому что…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…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5"/>
          <p:cNvSpPr/>
          <p:nvPr/>
        </p:nvSpPr>
        <p:spPr>
          <a:xfrm flipV="1">
            <a:off x="1476360" y="4076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1476360" y="407664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"/>
          <p:cNvSpPr/>
          <p:nvPr/>
        </p:nvSpPr>
        <p:spPr>
          <a:xfrm>
            <a:off x="3851280" y="407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8"/>
          <p:cNvSpPr/>
          <p:nvPr/>
        </p:nvSpPr>
        <p:spPr>
          <a:xfrm flipV="1">
            <a:off x="5219640" y="4076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5219640" y="407664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7380360" y="4076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2050920" y="3645000"/>
            <a:ext cx="12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5940360" y="3645000"/>
            <a:ext cx="10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3564000" y="501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6496200" y="4960800"/>
            <a:ext cx="20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ъясн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1332000" y="26028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ПП с последовательным  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468360" y="1628640"/>
            <a:ext cx="806436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мы пришли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ец показал мне окуней и плотиц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торых он выудил без меня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539640" y="4292640"/>
            <a:ext cx="83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сл.когда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сл.которых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 flipV="1">
            <a:off x="3995640" y="4076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6"/>
          <p:cNvSpPr/>
          <p:nvPr/>
        </p:nvSpPr>
        <p:spPr>
          <a:xfrm flipH="1">
            <a:off x="1907640" y="407664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"/>
          <p:cNvSpPr/>
          <p:nvPr/>
        </p:nvSpPr>
        <p:spPr>
          <a:xfrm>
            <a:off x="1908000" y="407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8"/>
          <p:cNvSpPr/>
          <p:nvPr/>
        </p:nvSpPr>
        <p:spPr>
          <a:xfrm flipV="1">
            <a:off x="4356000" y="4076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"/>
          <p:cNvSpPr/>
          <p:nvPr/>
        </p:nvSpPr>
        <p:spPr>
          <a:xfrm>
            <a:off x="4356000" y="4076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0"/>
          <p:cNvSpPr/>
          <p:nvPr/>
        </p:nvSpPr>
        <p:spPr>
          <a:xfrm>
            <a:off x="6588000" y="4076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2411280" y="36450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5219640" y="3645000"/>
            <a:ext cx="11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и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3"/>
          <p:cNvSpPr/>
          <p:nvPr/>
        </p:nvSpPr>
        <p:spPr>
          <a:xfrm>
            <a:off x="102384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1403280" y="501336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5559480" y="496080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1692360" y="33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ПП с параллельным 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"/>
          <p:cNvSpPr/>
          <p:nvPr/>
        </p:nvSpPr>
        <p:spPr>
          <a:xfrm>
            <a:off x="1476360" y="33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СПП с однородным  под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324000" y="1557360"/>
            <a:ext cx="8424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отправились в путь солнечным утром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ещё пели птицы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ещё не обсохла роса на траве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84360" y="3716280"/>
            <a:ext cx="801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сл.когда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.сл.когда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"/>
          <p:cNvSpPr/>
          <p:nvPr/>
        </p:nvSpPr>
        <p:spPr>
          <a:xfrm flipV="1">
            <a:off x="1547640" y="3573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1547640" y="3573360"/>
            <a:ext cx="540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9"/>
          <p:cNvSpPr/>
          <p:nvPr/>
        </p:nvSpPr>
        <p:spPr>
          <a:xfrm>
            <a:off x="3851280" y="3573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0"/>
          <p:cNvSpPr/>
          <p:nvPr/>
        </p:nvSpPr>
        <p:spPr>
          <a:xfrm>
            <a:off x="6948360" y="3573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1"/>
          <p:cNvSpPr/>
          <p:nvPr/>
        </p:nvSpPr>
        <p:spPr>
          <a:xfrm>
            <a:off x="2050920" y="3213000"/>
            <a:ext cx="11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2"/>
          <p:cNvSpPr/>
          <p:nvPr/>
        </p:nvSpPr>
        <p:spPr>
          <a:xfrm>
            <a:off x="4767120" y="3160800"/>
            <a:ext cx="16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2824200" y="438480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6228000" y="43434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395280" y="1484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устно думать что напрасно была молодость дана что изменяли ей всечасно, что обманула нас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395280" y="311148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огда говоришь без всякого плана сам не отгадаешь куда приведет тебя твоя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95280" y="46944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Будь жесток к себе если не хочешь чтобы другие были к тебе жест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987640" y="18900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Расставьте знаки  препин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начертите  схемы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407880" y="38592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Задание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3419640" y="2535120"/>
            <a:ext cx="5473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(что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 однородным подчи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64000" y="4076640"/>
            <a:ext cx="5472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огда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уда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 параллельным подчи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635280" y="5559480"/>
            <a:ext cx="5473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бы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 последовательным подчи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7"/>
          <p:cNvSpPr/>
          <p:nvPr/>
        </p:nvSpPr>
        <p:spPr>
          <a:xfrm>
            <a:off x="3924360" y="242100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6"/>
          <p:cNvSpPr/>
          <p:nvPr/>
        </p:nvSpPr>
        <p:spPr>
          <a:xfrm flipV="1">
            <a:off x="392436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9"/>
          <p:cNvSpPr/>
          <p:nvPr/>
        </p:nvSpPr>
        <p:spPr>
          <a:xfrm>
            <a:off x="601200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478800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>
            <a:off x="7308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4427640" y="4005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5580000" y="400536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442764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658800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6"/>
          <p:cNvSpPr/>
          <p:nvPr/>
        </p:nvSpPr>
        <p:spPr>
          <a:xfrm flipV="1">
            <a:off x="5580000" y="400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6"/>
          <p:cNvSpPr/>
          <p:nvPr/>
        </p:nvSpPr>
        <p:spPr>
          <a:xfrm flipV="1">
            <a:off x="5435640" y="4005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4067280" y="5516640"/>
            <a:ext cx="10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"/>
          <p:cNvSpPr/>
          <p:nvPr/>
        </p:nvSpPr>
        <p:spPr>
          <a:xfrm flipV="1">
            <a:off x="406728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507672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9"/>
          <p:cNvSpPr/>
          <p:nvPr/>
        </p:nvSpPr>
        <p:spPr>
          <a:xfrm>
            <a:off x="658800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7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 flipV="1">
            <a:off x="558000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Скругленный прямоугольник 32"/>
          <p:cNvSpPr/>
          <p:nvPr/>
        </p:nvSpPr>
        <p:spPr>
          <a:xfrm>
            <a:off x="3492360" y="2421000"/>
            <a:ext cx="4680000" cy="7207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33"/>
          <p:cNvSpPr/>
          <p:nvPr/>
        </p:nvSpPr>
        <p:spPr>
          <a:xfrm>
            <a:off x="3492360" y="5445000"/>
            <a:ext cx="4680000" cy="7207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34"/>
          <p:cNvSpPr/>
          <p:nvPr/>
        </p:nvSpPr>
        <p:spPr>
          <a:xfrm>
            <a:off x="3492360" y="4005360"/>
            <a:ext cx="4680000" cy="718920"/>
          </a:xfrm>
          <a:prstGeom prst="roundRect">
            <a:avLst>
              <a:gd name="adj" fmla="val 16667"/>
            </a:avLst>
          </a:prstGeom>
          <a:solidFill>
            <a:srgbClr val="f1be93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Gothic"/>
              </a:rPr>
              <a:t>ПОДЧИНЕНИ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539640" y="198900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) Люди слушали внимательно, и в скрипичном футляре лежало уже немало мятых бумажек. (2) У Кинтеля в кармане были лишь деньги, которые дал дед и которые можно было тратить только на картошку. (3) А будь у него свои деньги – хоть сто рублей! – он тут же выложил бы их в футляр, к ногам девочки. (4) Хотя… посмел бы он? (5) Все сразу начали бы на него 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755640" y="1341360"/>
            <a:ext cx="77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Укажите предложение с однородными придаточ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"/>
          <p:cNvSpPr/>
          <p:nvPr/>
        </p:nvSpPr>
        <p:spPr>
          <a:xfrm>
            <a:off x="6012000" y="2781360"/>
            <a:ext cx="19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539640" y="3141360"/>
            <a:ext cx="777744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7"/>
          <p:cNvSpPr/>
          <p:nvPr/>
        </p:nvSpPr>
        <p:spPr>
          <a:xfrm>
            <a:off x="611280" y="3500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WordArt 8"/>
          <p:cNvSpPr txBox="1"/>
          <p:nvPr/>
        </p:nvSpPr>
        <p:spPr>
          <a:xfrm>
            <a:off x="3778200" y="333360"/>
            <a:ext cx="367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7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14</a:t>
            </a:r>
            <a:endParaRPr b="0" lang="en-US" sz="1800" spc="1" strike="noStrike">
              <a:ln w="0">
                <a:noFill/>
              </a:ln>
              <a:solidFill>
                <a:srgbClr val="007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410840" y="11592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88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"/>
          <p:cNvSpPr/>
          <p:nvPr/>
        </p:nvSpPr>
        <p:spPr>
          <a:xfrm>
            <a:off x="395280" y="134136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воздухе,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да ни взглянеш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ружатся облака снежино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к что не разберёшь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дет ли снег с неба или с земли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парал. и послед. подчин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24000" y="436572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  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куда…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к что…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ли…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 flipV="1">
            <a:off x="826920" y="4220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826920" y="4221000"/>
            <a:ext cx="10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1835280" y="42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971640" y="3789360"/>
            <a:ext cx="6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9"/>
          <p:cNvSpPr/>
          <p:nvPr/>
        </p:nvSpPr>
        <p:spPr>
          <a:xfrm flipV="1">
            <a:off x="3419640" y="4220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0"/>
          <p:cNvSpPr/>
          <p:nvPr/>
        </p:nvSpPr>
        <p:spPr>
          <a:xfrm>
            <a:off x="3419640" y="422100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"/>
          <p:cNvSpPr/>
          <p:nvPr/>
        </p:nvSpPr>
        <p:spPr>
          <a:xfrm>
            <a:off x="5148360" y="42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3851280" y="3789360"/>
            <a:ext cx="8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 flipV="1">
            <a:off x="5867280" y="4220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5867280" y="422100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>
            <a:off x="7667640" y="42210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7"/>
          <p:cNvSpPr/>
          <p:nvPr/>
        </p:nvSpPr>
        <p:spPr>
          <a:xfrm>
            <a:off x="6443640" y="3789360"/>
            <a:ext cx="8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8"/>
          <p:cNvSpPr/>
          <p:nvPr/>
        </p:nvSpPr>
        <p:spPr>
          <a:xfrm>
            <a:off x="1619280" y="50133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9"/>
          <p:cNvSpPr/>
          <p:nvPr/>
        </p:nvSpPr>
        <p:spPr>
          <a:xfrm>
            <a:off x="4192560" y="496080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а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0"/>
          <p:cNvSpPr/>
          <p:nvPr/>
        </p:nvSpPr>
        <p:spPr>
          <a:xfrm>
            <a:off x="7216920" y="49608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ъяс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1"/>
          <p:cNvSpPr/>
          <p:nvPr/>
        </p:nvSpPr>
        <p:spPr>
          <a:xfrm>
            <a:off x="2050920" y="5516640"/>
            <a:ext cx="57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раллельное и последовательное подч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2"/>
          <p:cNvSpPr/>
          <p:nvPr/>
        </p:nvSpPr>
        <p:spPr>
          <a:xfrm>
            <a:off x="900000" y="26028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СПП с комбинированным подчи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8:09:58Z</dcterms:created>
  <dc:creator>Евгения</dc:creator>
  <dc:description/>
  <dc:language>en-US</dc:language>
  <cp:lastModifiedBy>хсши</cp:lastModifiedBy>
  <dcterms:modified xsi:type="dcterms:W3CDTF">2019-04-24T09:30:33Z</dcterms:modified>
  <cp:revision>70</cp:revision>
  <dc:subject/>
  <dc:title>Слайд 1</dc:title>
</cp:coreProperties>
</file>