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835-10D8-44AB-8500-813D75A5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EE1-9055-479D-A5C2-C2E0B286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777-1ECA-4022-AB8C-41FEB290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A51-182D-43DA-8500-312B7026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54E-92BC-4023-A867-A2419D02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B33-77DA-47AE-BE33-D47981A7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22D-41AF-4E2C-AB6D-14BA84D8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32C-C933-4801-B70F-04EF177D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A93-C6C6-43BE-B01F-46FBBEF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717-A301-4363-A056-46CD81A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82B-C22F-4424-8673-C94F5BB7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DAE-5D39-4DFF-974B-2D29CED3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ED42-5FD8-406F-AC74-D8B9268CD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т Вздохов (16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s://avatars.mds.yandex.net/get-pdb/38069/d474d908-057f-4e8f-b616-6ae438f73e86/s1200"/>
          <p:cNvPicPr/>
          <p:nvPr/>
        </p:nvPicPr>
        <p:blipFill>
          <a:blip r:embed="rId1"/>
          <a:stretch/>
        </p:blipFill>
        <p:spPr>
          <a:xfrm>
            <a:off x="395280" y="1052640"/>
            <a:ext cx="4354560" cy="244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you-toy.ru/upload/iblock/0b6/0b6275f955d040f761993b46250e5ac2.jpg"/>
          <p:cNvPicPr/>
          <p:nvPr/>
        </p:nvPicPr>
        <p:blipFill>
          <a:blip r:embed="rId2"/>
          <a:stretch/>
        </p:blipFill>
        <p:spPr>
          <a:xfrm>
            <a:off x="4788000" y="3716280"/>
            <a:ext cx="4092480" cy="2730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5295960" y="328464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т Риальто (15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ая башня – Стиль Возрождения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екту Мауро Кодуччи (1496-14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3" descr="часовая башня.jpg"/>
          <p:cNvPicPr/>
          <p:nvPr/>
        </p:nvPicPr>
        <p:blipFill>
          <a:blip r:embed="rId1"/>
          <a:stretch/>
        </p:blipFill>
        <p:spPr>
          <a:xfrm>
            <a:off x="395280" y="1197000"/>
            <a:ext cx="3816360" cy="253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s://guruturizma.ru/wp-content/uploads/2017/05/Columns-of-Saints-Mark-and-Theodore.jpg"/>
          <p:cNvPicPr/>
          <p:nvPr/>
        </p:nvPicPr>
        <p:blipFill>
          <a:blip r:embed="rId2"/>
          <a:stretch/>
        </p:blipFill>
        <p:spPr>
          <a:xfrm>
            <a:off x="5076720" y="1125360"/>
            <a:ext cx="3781440" cy="252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oslavl-dhsh.ru/images/exam/vozrozhdenie/005_b.jpg"/>
          <p:cNvPicPr/>
          <p:nvPr/>
        </p:nvPicPr>
        <p:blipFill>
          <a:blip r:embed="rId3"/>
          <a:stretch/>
        </p:blipFill>
        <p:spPr>
          <a:xfrm>
            <a:off x="1258920" y="3860640"/>
            <a:ext cx="318600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716360" y="5445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я Кондотьера Бартолом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они Верроккь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4859280" y="3716280"/>
            <a:ext cx="403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нны Святых Марка и Теодора (установлены в 1172, вывезены из Сирии  в 112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нтиле Беллине «Чудо Святого Креста» (1500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рея Академии, Вен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s://ic.pics.livejournal.com/lenarudenko/8358342/2460906/2460906_original.jpg"/>
          <p:cNvPicPr/>
          <p:nvPr/>
        </p:nvPicPr>
        <p:blipFill>
          <a:blip r:embed="rId1"/>
          <a:stretch/>
        </p:blipFill>
        <p:spPr>
          <a:xfrm>
            <a:off x="468360" y="1413000"/>
            <a:ext cx="350028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dariozausa.com/immagini/copie_d%27autore/bucintoro_canaletto_g.jpg"/>
          <p:cNvPicPr/>
          <p:nvPr/>
        </p:nvPicPr>
        <p:blipFill>
          <a:blip r:embed="rId2"/>
          <a:stretch/>
        </p:blipFill>
        <p:spPr>
          <a:xfrm>
            <a:off x="4427640" y="3933720"/>
            <a:ext cx="3525840" cy="2640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7956720" y="5373720"/>
            <a:ext cx="7300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4067280" y="2708280"/>
            <a:ext cx="43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етто «Праздник обручения Венецианского дожа с Адриатическим морем» 1729-1730 Гос. музей им. А.С. Пушкина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ÐÐ· ÐºÐ¾Ð»Ð»ÐµÐºÑÐ¸Ð¸ Â«ÐÐ°ÑÑÐ¸Ð½Ñ Ð²ÐµÐ»Ð¸ÐºÐ¸Ñ ÑÑÐ´Ð¾Ð¶Ð½Ð¸ÐºÐ¾Ð² ÑÐ¿Ð¾ÑÐ¸ Ð ÐµÐ½ÐµÑÑÐ°Ð½ÑÐ°Â» ."/>
          <p:cNvPicPr/>
          <p:nvPr/>
        </p:nvPicPr>
        <p:blipFill>
          <a:blip r:embed="rId2"/>
          <a:stretch/>
        </p:blipFill>
        <p:spPr>
          <a:xfrm>
            <a:off x="2916360" y="1515960"/>
            <a:ext cx="3671640" cy="4538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енико Каприоло - Мужской портрет эпохи Воз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ецианский карна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ÐÐ°ÑÐ½Ð°Ð²Ð°Ð» Ð² ÐÐµÐ½ÐµÑÐ¸Ð¸ â ÑÑÐ¾ Ð¿ÑÐ°Ð·Ð´Ð½Ð¸Ðº, ÐºÐ¾ÑÐ¾ÑÑÐ¹ Ð¾ÑÑÐ°Ð½ÐµÑÑÑ Ñ Ð²Ð°Ð¼Ð¸ Ð½Ð° Ð²ÑÑ Ð¶Ð¸Ð·Ð½Ñ!"/>
          <p:cNvPicPr/>
          <p:nvPr/>
        </p:nvPicPr>
        <p:blipFill>
          <a:blip r:embed="rId2"/>
          <a:stretch/>
        </p:blipFill>
        <p:spPr>
          <a:xfrm>
            <a:off x="1835280" y="1700280"/>
            <a:ext cx="47415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ида (греч.) - выступ в восточной части храма, чаще всего полукруглый или многогранный в плане, перекрытый полукуполом или  сомкнутым сводом. Внутреннее пространство апсиды составляет часть алт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вольт (итал.) - деталь, повторяющая очертание арки и составляющая оформление арочного проема, благодаря чему дуга арки рельефно выделяется из плоскости сте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лика (греч.) - протяженное здание, разделенное рядами столбов или колонн на продольные неф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птистерий (греч.) - у древних христиан - крещельня,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баптистерием называли церковь в честь Иоанна Крестителя. Баптистерии возводились в странах Западной Евро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нет (франц.) - участок поверхности стены (иногда проем) под сводом перекрытия, над окном или дверью,  ограниченный горизонтальной тягой снизу и криволинейной или дугообразной линией сверх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текс (греч.) - притвор, пристройка к западной стороне христианского храма. Нартекс предназначался для лиц, которые не допускались внутрь главного помещения для молящих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 (франц.) - вытянутое в плане помещение, ограниченное с одной стороны или с двух сторон продольным рядом колонн или столбов, выделенная таким образом часть базилики, церкв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ястры (итал.) - вертикальный, плоский, прямоугольный в плане выступ стены или столба, обработка которого соответствует ордерной системе колон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ал (лат.) - архитектурно оформленный проем, являющийся обычно входом в зд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епт (лат.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речный неф в греческих, римских храмах, имеющих крестообразный план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пан (греч.) - внутреннее треугольное поле фронтона или ниша треугольного, стрельчатого или циркулярного очертания над дверью или окном. В тимпане часто размещают скульптурные компози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Третья стадия - рефлекс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воё понимание "толерантность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ерантность- ла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erant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рпение, 1) терпимость, снисходительность к кому или чему либо. Словарь иностранных слов, М., изд."Русский язык", 198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оявление людьми терпимости по отношению к представителям другой культуры и традиций. Современная глобализа-ция упрощает задачу толерантности, так как стирает границы между культурами различных народов. (студенты биологического факульт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готовность лояльно относиться и принимать чужой образ мыслей, чувства, вероисповедание, поведение и тому подобное, которые не совпадают с собственными, а также не разде-ляются и не поддерживаются человеком. Другими словами, признание за другими людьми права на собственное мировоззрение. (студенты философского факульт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. интерн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mnik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компьютерную презентацию по теме: «История создания города на Не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считаете, является ли Санкт- Петербург толерантным городом? Ответ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1674720" cy="254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2447640" cy="16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1768320" cy="2141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6804000" y="4005360"/>
            <a:ext cx="1979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1:40:20Z</dcterms:created>
  <dc:creator>Дернов</dc:creator>
  <dc:description/>
  <dc:language>en-US</dc:language>
  <cp:lastModifiedBy>школа</cp:lastModifiedBy>
  <dcterms:modified xsi:type="dcterms:W3CDTF">2019-04-24T15:02:38Z</dcterms:modified>
  <cp:revision>68</cp:revision>
  <dc:subject/>
  <dc:title>Государственный общеобразовательный центр №195 Адмиралтейского района Санкт-Петербурга                                  Бородинская 11 литера А</dc:title>
</cp:coreProperties>
</file>