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9C6-EACF-4FCF-B9D9-8981714D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8FC-4A2D-4FA2-99F1-EA191361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104-5830-4495-ABA8-908AC289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B61-C26A-4FEE-9430-541EBB15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3EF-8485-411E-B35D-1D696F3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A55-A852-42D4-9BE1-4274E7A6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BE0-63C4-4036-B1BD-5C7DD3D3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3E7-8594-4637-9D9C-B19CD9AB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0EC-9BF9-43B3-982F-EE2A894E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EBD-29D2-47FF-8582-987C1B5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424-45EC-4FB2-A78C-7D4DB78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D45-93BE-4618-81E0-4C02027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64D-9D13-49E7-B5B0-AE68FF593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т Вздохов (16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s://avatars.mds.yandex.net/get-pdb/38069/d474d908-057f-4e8f-b616-6ae438f73e86/s1200"/>
          <p:cNvPicPr/>
          <p:nvPr/>
        </p:nvPicPr>
        <p:blipFill>
          <a:blip r:embed="rId1"/>
          <a:stretch/>
        </p:blipFill>
        <p:spPr>
          <a:xfrm>
            <a:off x="395280" y="1052640"/>
            <a:ext cx="4354560" cy="244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you-toy.ru/upload/iblock/0b6/0b6275f955d040f761993b46250e5ac2.jpg"/>
          <p:cNvPicPr/>
          <p:nvPr/>
        </p:nvPicPr>
        <p:blipFill>
          <a:blip r:embed="rId2"/>
          <a:stretch/>
        </p:blipFill>
        <p:spPr>
          <a:xfrm>
            <a:off x="4788000" y="3716280"/>
            <a:ext cx="4092480" cy="27306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5295960" y="328464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т Риальто (15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вая башня – Стиль Возрождени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екту Мауро Кодуччи (1496-14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3" descr="часовая башня.jpg"/>
          <p:cNvPicPr/>
          <p:nvPr/>
        </p:nvPicPr>
        <p:blipFill>
          <a:blip r:embed="rId1"/>
          <a:stretch/>
        </p:blipFill>
        <p:spPr>
          <a:xfrm>
            <a:off x="395280" y="1197000"/>
            <a:ext cx="3816360" cy="253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s://guruturizma.ru/wp-content/uploads/2017/05/Columns-of-Saints-Mark-and-Theodore.jpg"/>
          <p:cNvPicPr/>
          <p:nvPr/>
        </p:nvPicPr>
        <p:blipFill>
          <a:blip r:embed="rId2"/>
          <a:stretch/>
        </p:blipFill>
        <p:spPr>
          <a:xfrm>
            <a:off x="5076720" y="1125360"/>
            <a:ext cx="3781440" cy="252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oslavl-dhsh.ru/images/exam/vozrozhdenie/005_b.jpg"/>
          <p:cNvPicPr/>
          <p:nvPr/>
        </p:nvPicPr>
        <p:blipFill>
          <a:blip r:embed="rId3"/>
          <a:stretch/>
        </p:blipFill>
        <p:spPr>
          <a:xfrm>
            <a:off x="1258920" y="3860640"/>
            <a:ext cx="318600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6"/>
          <p:cNvSpPr/>
          <p:nvPr/>
        </p:nvSpPr>
        <p:spPr>
          <a:xfrm>
            <a:off x="4716360" y="5445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уя Кондотьера Бартолом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они Верроккь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4859280" y="3716280"/>
            <a:ext cx="403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ны Святых Марка и Теодора (установлены в 1172, вывезены из Сирии  в 112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нтиле Беллине «Чудо Святого Креста» (1500)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ерея Академии, Вен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s://ic.pics.livejournal.com/lenarudenko/8358342/2460906/2460906_original.jpg"/>
          <p:cNvPicPr/>
          <p:nvPr/>
        </p:nvPicPr>
        <p:blipFill>
          <a:blip r:embed="rId1"/>
          <a:stretch/>
        </p:blipFill>
        <p:spPr>
          <a:xfrm>
            <a:off x="468360" y="1413000"/>
            <a:ext cx="350028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ww.dariozausa.com/immagini/copie_d%27autore/bucintoro_canaletto_g.jpg"/>
          <p:cNvPicPr/>
          <p:nvPr/>
        </p:nvPicPr>
        <p:blipFill>
          <a:blip r:embed="rId2"/>
          <a:stretch/>
        </p:blipFill>
        <p:spPr>
          <a:xfrm>
            <a:off x="4427640" y="3933720"/>
            <a:ext cx="3525840" cy="264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956720" y="5373720"/>
            <a:ext cx="7300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067280" y="2708280"/>
            <a:ext cx="43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етто «Праздник обручения Венецианского дожа с Адриатическим морем» 1729-1730 Гос. музей им. А.С. Пушкина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ÐÐ· ÐºÐ¾Ð»Ð»ÐµÐºÑÐ¸Ð¸ Â«ÐÐ°ÑÑÐ¸Ð½Ñ Ð²ÐµÐ»Ð¸ÐºÐ¸Ñ ÑÑÐ´Ð¾Ð¶Ð½Ð¸ÐºÐ¾Ð² ÑÐ¿Ð¾ÑÐ¸ Ð ÐµÐ½ÐµÑÑÐ°Ð½ÑÐ°Â» ."/>
          <p:cNvPicPr/>
          <p:nvPr/>
        </p:nvPicPr>
        <p:blipFill>
          <a:blip r:embed="rId2"/>
          <a:stretch/>
        </p:blipFill>
        <p:spPr>
          <a:xfrm>
            <a:off x="2916360" y="1515960"/>
            <a:ext cx="3671640" cy="4538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ико Каприоло - Мужской портрет эпохи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ецианский карна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ÐÐ°ÑÐ½Ð°Ð²Ð°Ð» Ð² ÐÐµÐ½ÐµÑÐ¸Ð¸ â ÑÑÐ¾ Ð¿ÑÐ°Ð·Ð´Ð½Ð¸Ðº, ÐºÐ¾ÑÐ¾ÑÑÐ¹ Ð¾ÑÑÐ°Ð½ÐµÑÑÑ Ñ Ð²Ð°Ð¼Ð¸ Ð½Ð° Ð²ÑÑ Ð¶Ð¸Ð·Ð½Ñ!"/>
          <p:cNvPicPr/>
          <p:nvPr/>
        </p:nvPicPr>
        <p:blipFill>
          <a:blip r:embed="rId2"/>
          <a:stretch/>
        </p:blipFill>
        <p:spPr>
          <a:xfrm>
            <a:off x="1835280" y="1700280"/>
            <a:ext cx="47415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ида (греч.) - выступ в восточной части храма, чаще всего полукруглый или многогранный в плане, перекрытый полукуполом или  сомкнутым сводом. Внутреннее пространство апсиды составляет часть алт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вольт (итал.) - деталь, повторяющая очертание арки и составляющая оформление арочного проема, благодаря чему дуга арки рельефно выделяется из плоскости сте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лика (греч.) - протяженное здание, разделенное рядами столбов или колонн на продольные неф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птистерий (греч.) - у древних христиан - крещельня, с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а баптистерием называли церковь в честь Иоанна Крестителя. Баптистерии возводились в странах Западной Европ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нет (франц.) - участок поверхности стены (иногда проем) под сводом перекрытия, над окном или дверью,  ограниченный горизонтальной тягой снизу и криволинейной или дугообразной линией сверху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текс (греч.) - притвор, пристройка к западной стороне христианского храма. Нартекс предназначался для лиц, которые не допускались внутрь главного помещения для моля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 (франц.) - вытянутое в плане помещение, ограниченное с одной стороны или с двух сторон продольным рядом колонн или столбов, выделенная таким образом часть базилики, церкв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ястры (итал.) - вертикальный, плоский, прямоугольный в плане выступ стены или столба, обработка которого соответствует ордерной системе колон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ал (лат.) - архитектурно оформленный проем, являющийся обычно входом в зд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епт (лат.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ый неф в греческих, римских храмах, имеющих крестообразный план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пан (греч.) - внутреннее треугольное поле фронтона или ниша треугольного, стрельчатого или циркулярного очертания над дверью или окном. В тимпане часто размещают скульптурные компози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Третья стадия - рефлекси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воё понимание "толерантность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ерантность- ла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t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ерпение, 1) терпимость, снисходительность к кому или чему либо. Словарь иностранных слов, М., изд."Русский язык", 198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оявление людьми терпимости по отношению к представителям другой культуры и традиций. Современная глобализа-ция упрощает задачу толерантности, так как стирает границы между культурами различных народов. (студенты биологического факульт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готовность лояльно относиться и принимать чужой образ мыслей, чувства, вероисповедание, поведение и тому подобное, которые не совпадают с собственными, а также не разде-ляются и не поддерживаются человеком. Другими словами, признание за другими людьми права на собственное мировоззрение. (студенты философского факульт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. интерн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mnik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компьютерную презентацию по теме: «История создания города на Не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считаете, является ли Санкт- Петербург толерантным городом? Ответ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1674720" cy="2547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2447640" cy="16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4932360" y="3860640"/>
            <a:ext cx="1768320" cy="2141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6804000" y="4005360"/>
            <a:ext cx="1979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1:40:20Z</dcterms:created>
  <dc:creator>Дернов</dc:creator>
  <dc:description/>
  <dc:language>en-US</dc:language>
  <cp:lastModifiedBy>школа</cp:lastModifiedBy>
  <dcterms:modified xsi:type="dcterms:W3CDTF">2019-04-24T15:02:38Z</dcterms:modified>
  <cp:revision>68</cp:revision>
  <dc:subject/>
  <dc:title>Государственный общеобразовательный центр №195 Адмиралтейского района Санкт-Петербурга                                  Бородинская 11 литера А</dc:title>
</cp:coreProperties>
</file>