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0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25BD-FB16-4720-911A-D26A6B61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6C31-455B-4C38-AB61-FD376B9B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A34E-5717-4847-995A-D36B5580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4901-E08C-498B-8BE9-625C28F1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DD51-0457-4FD1-B271-5D7F526E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D798-63C6-4E18-9886-620A3504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13F8-03E3-420D-8C13-D17BAB22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F9C0-3DAD-4B05-8FB7-837EF8F4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A962-2F26-441D-B4B7-44AE80D6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7FFB-CF79-4C45-9E5E-C40E8BD1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D176-563D-420B-BA00-D12B183F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788F-2515-45B6-9BF7-C0948A41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0744-7BF4-453F-A9DE-2D9DB49FB4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Anton_van_Leeuwenhoek.pn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ds04.infourok.ru/uploads/ex/1169/0017cba0-97ab3596/hello_html_2808f5c1.jpg"/>
          <p:cNvPicPr/>
          <p:nvPr/>
        </p:nvPicPr>
        <p:blipFill>
          <a:blip r:embed="rId1"/>
          <a:stretch/>
        </p:blipFill>
        <p:spPr>
          <a:xfrm>
            <a:off x="457200" y="609480"/>
            <a:ext cx="83008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2"/>
          <p:cNvSpPr/>
          <p:nvPr/>
        </p:nvSpPr>
        <p:spPr>
          <a:xfrm>
            <a:off x="838080" y="533520"/>
            <a:ext cx="74678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«3» - п. 11 переск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«4» - п. 11 пересказ, письменный ответ задание «Подумайте» после параграф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«5» - п. 11 пересказ, выполните задание 1 после параграфа (выращивание бактериальной культур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106640" y="1249200"/>
            <a:ext cx="69292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2"/>
          <p:cNvSpPr/>
          <p:nvPr/>
        </p:nvSpPr>
        <p:spPr>
          <a:xfrm>
            <a:off x="380880" y="301680"/>
            <a:ext cx="83059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, хозяин мануфактурной лавки в городе Дельфте, который находится в Голландии. Много лет я посвятил своему увлечению, которое многие называли странным. По вечерам, когда торговля заканчивалась, я отдавал время занятию своим увлечениям. Покупатели подозрительно косились на мои обожженные и искалеченные пальцы, не зная моего увлечения. Чтобы овладеть своим странным ремеслом я посещал мастерские, где этим занимались. Но увы! Мои учителя умели немногое. Мне же удалось изготовить такой прибор, с помощью которого я открыл невиданный, неизвестный человеку мир живых суще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6920" y="9720"/>
            <a:ext cx="686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ервые бактерий увидел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тический микроскоп и описал в 1676 го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лландский натуралист Антони ван Левенгу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и всех микроскопических сущест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назвал их "анималькули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477320" y="5867280"/>
            <a:ext cx="466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 "бактерии" ввё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28 году Христиан Эренбе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Антони ван Левенгу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057400"/>
            <a:ext cx="340668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a900"/>
          <p:cNvPicPr/>
          <p:nvPr/>
        </p:nvPicPr>
        <p:blipFill>
          <a:blip r:embed="rId3"/>
          <a:stretch/>
        </p:blipFill>
        <p:spPr>
          <a:xfrm>
            <a:off x="5029200" y="1447920"/>
            <a:ext cx="37018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746748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ОЕНИЕ И ЖИЗНЕДЕЯТЕЛЬНОСТЬ БАКТЕР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rpp.nashaucheba.ru/pars_docs/refs/95/94754/img7.jpg"/>
          <p:cNvPicPr/>
          <p:nvPr/>
        </p:nvPicPr>
        <p:blipFill>
          <a:blip r:embed="rId1"/>
          <a:stretch/>
        </p:blipFill>
        <p:spPr>
          <a:xfrm>
            <a:off x="330120" y="457200"/>
            <a:ext cx="83566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АКТЕР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ОДНОКЛЕТОЧНЫЕ ОРГАНИЗ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ЗНАКИ БАКТЕР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 ядра,  ядерное вещество находится в цитоплаз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ть плотная клеточная стенка, иногда жгу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Program Files\Physicon\Open Biology 2.6\content\chapter9\section1\paragraph6\images\09010601.gif"/>
          <p:cNvPicPr/>
          <p:nvPr/>
        </p:nvPicPr>
        <p:blipFill>
          <a:blip r:embed="rId1"/>
          <a:stretch/>
        </p:blipFill>
        <p:spPr>
          <a:xfrm>
            <a:off x="1752480" y="3200400"/>
            <a:ext cx="609624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окк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 шаровидны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ацилл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палочковид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ибрион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 изогнутые в виде зап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пирилл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спиралевид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ФОРМА РАЗНООБРАЗНА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Бактерии"/>
          <p:cNvPicPr/>
          <p:nvPr/>
        </p:nvPicPr>
        <p:blipFill>
          <a:blip r:embed="rId1"/>
          <a:stretch/>
        </p:blipFill>
        <p:spPr>
          <a:xfrm>
            <a:off x="4191120" y="2590920"/>
            <a:ext cx="4724280" cy="4267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Рисунок8"/>
          <p:cNvPicPr/>
          <p:nvPr/>
        </p:nvPicPr>
        <p:blipFill>
          <a:blip r:embed="rId2"/>
          <a:stretch/>
        </p:blipFill>
        <p:spPr>
          <a:xfrm>
            <a:off x="228600" y="2590920"/>
            <a:ext cx="1841400" cy="180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Рисунок6"/>
          <p:cNvPicPr/>
          <p:nvPr/>
        </p:nvPicPr>
        <p:blipFill>
          <a:blip r:embed="rId3"/>
          <a:stretch/>
        </p:blipFill>
        <p:spPr>
          <a:xfrm>
            <a:off x="2362320" y="2590920"/>
            <a:ext cx="1730160" cy="1809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Рисунок9"/>
          <p:cNvPicPr/>
          <p:nvPr/>
        </p:nvPicPr>
        <p:blipFill>
          <a:blip r:embed="rId4"/>
          <a:stretch/>
        </p:blipFill>
        <p:spPr>
          <a:xfrm>
            <a:off x="228600" y="4495680"/>
            <a:ext cx="1809720" cy="1731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Рисунок10"/>
          <p:cNvPicPr/>
          <p:nvPr/>
        </p:nvPicPr>
        <p:blipFill>
          <a:blip r:embed="rId5"/>
          <a:stretch/>
        </p:blipFill>
        <p:spPr>
          <a:xfrm>
            <a:off x="2286000" y="4572000"/>
            <a:ext cx="1800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ОБИТАЮТ  В РАЗНЫХ УСЛОВ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РАЗМНОЖАЮТСЯ ДЕЛ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 ПРИ НЕБЛАГОПРИЯТНЫХ УСЛОВИЯХ ОБРАЗУЮТ СП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 ПИТАЮТСЯ ПО РАЗНОМУ: САПРОТРОФЫ – ОРГАНИЧЕСКИМИ ВЕЩЕСТВАМИ  ИЗ  МЕРТВЫХ   ТЕЛ, ПАРАЗИТЫ – ИХ ЖИВЫ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Образование спор у бактерий"/>
          <p:cNvPicPr/>
          <p:nvPr/>
        </p:nvPicPr>
        <p:blipFill>
          <a:blip r:embed="rId1"/>
          <a:stretch/>
        </p:blipFill>
        <p:spPr>
          <a:xfrm>
            <a:off x="4419720" y="3505320"/>
            <a:ext cx="4724280" cy="3081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0022"/>
          <p:cNvPicPr/>
          <p:nvPr/>
        </p:nvPicPr>
        <p:blipFill>
          <a:blip r:embed="rId2"/>
          <a:stretch/>
        </p:blipFill>
        <p:spPr>
          <a:xfrm>
            <a:off x="152280" y="3581280"/>
            <a:ext cx="396252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228600" y="304920"/>
            <a:ext cx="46483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К организмам, не имеющим в клетках оформленного ядра, относя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рас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.бак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водоро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гри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Образование бактериями спор – это приспособление 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размнож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.перенесению неблагоприятных усло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паразитиз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передвиж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Бактерии размнож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почков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.посредством половых кле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спо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делением к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5105520" y="304920"/>
            <a:ext cx="38098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Бактерии-паразиты пит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органическими веществами живых организ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.минеральными вещест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органическими веществами отмерших организ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водой и углекислым газ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Бактерии-сапрофиты пит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органическими веществами живых организ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.минеральными вещест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органическими веществами отмерших организ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водой и углекислым газ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19-04-25T14:53:4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