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430-912D-4838-B1F2-8D93B570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4AE-ED5C-438A-95AE-CFFFFEC4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E4B-A89D-408E-A9C8-A28DD36A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E5C-970A-491D-97BE-EFFF4849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736-378F-4A31-BA2C-2E80DEC1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C2A-5AA1-49E7-BFC8-01166D7F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E02B-D6E6-47F7-9660-706F1986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9A7-1E5A-4E25-BB0B-604816AA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2CE-9A81-46A1-A1A8-DB240D45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CC4-04C1-4351-BCD0-C2BD4F22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3E7-F181-40EF-8760-59B7B5C5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1E7-6E2C-4D95-B7D3-165066C3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7B10-C65F-4C38-A633-9729B59D98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Anton_van_Leeuwenhoek.pn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ds04.infourok.ru/uploads/ex/1169/0017cba0-97ab3596/hello_html_2808f5c1.jpg"/>
          <p:cNvPicPr/>
          <p:nvPr/>
        </p:nvPicPr>
        <p:blipFill>
          <a:blip r:embed="rId1"/>
          <a:stretch/>
        </p:blipFill>
        <p:spPr>
          <a:xfrm>
            <a:off x="457200" y="609480"/>
            <a:ext cx="83008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838080" y="533520"/>
            <a:ext cx="7467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«3» - п. 11 переск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«4» - п. 11 пересказ, письменный ответ задание «Подумайте» после параграф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«5» - п. 11 пересказ, выполните задание 1 после параграфа (выращивание бактериальной культу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106640" y="1249200"/>
            <a:ext cx="69292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2"/>
          <p:cNvSpPr/>
          <p:nvPr/>
        </p:nvSpPr>
        <p:spPr>
          <a:xfrm>
            <a:off x="380880" y="301680"/>
            <a:ext cx="83059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, хозяин мануфактурной лавки в городе Дельфте, который находится в Голландии. Много лет я посвятил своему увлечению, которое многие называли странным. По вечерам, когда торговля заканчивалась, я отдавал время занятию своим увлечениям. Покупатели подозрительно косились на мои обожженные и искалеченные пальцы, не зная моего увлечения. Чтобы овладеть своим странным ремеслом я посещал мастерские, где этим занимались. Но увы! Мои учителя умели немногое. Мне же удалось изготовить такой прибор, с помощью которого я открыл невиданный, неизвестный человеку мир живых сущ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6920" y="9720"/>
            <a:ext cx="686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бактерий увидел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ческий микроскоп и описал в 1676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ландский натуралист Антони ван Левенг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и всех микроскопических сущест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назвал их "анималькули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477320" y="5867280"/>
            <a:ext cx="466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"бактерии" ввё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28 году Христиан Эрен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Антони ван Левенгу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057400"/>
            <a:ext cx="340668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900"/>
          <p:cNvPicPr/>
          <p:nvPr/>
        </p:nvPicPr>
        <p:blipFill>
          <a:blip r:embed="rId3"/>
          <a:stretch/>
        </p:blipFill>
        <p:spPr>
          <a:xfrm>
            <a:off x="5029200" y="1447920"/>
            <a:ext cx="3701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4674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ОЕНИЕ И ЖИЗНЕДЕЯТЕЛЬНОСТЬ БАКТЕР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rpp.nashaucheba.ru/pars_docs/refs/95/94754/img7.jpg"/>
          <p:cNvPicPr/>
          <p:nvPr/>
        </p:nvPicPr>
        <p:blipFill>
          <a:blip r:embed="rId1"/>
          <a:stretch/>
        </p:blipFill>
        <p:spPr>
          <a:xfrm>
            <a:off x="330120" y="457200"/>
            <a:ext cx="83566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АКТЕР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ОДНОКЛЕТОЧНЫЕ ОРГАНИЗ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ЗНАКИ БАКТЕР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 ядра,  ядерное вещество находится в цитопла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плотная клеточная стенка, иногда жгу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Program Files\Physicon\Open Biology 2.6\content\chapter9\section1\paragraph6\images\09010601.gif"/>
          <p:cNvPicPr/>
          <p:nvPr/>
        </p:nvPicPr>
        <p:blipFill>
          <a:blip r:embed="rId1"/>
          <a:stretch/>
        </p:blipFill>
        <p:spPr>
          <a:xfrm>
            <a:off x="1752480" y="3200400"/>
            <a:ext cx="60962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окк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шаровидны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ацил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палочковид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ибрион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 изогнутые в виде зап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пирил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спиралевид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ФОРМА РАЗНООБРАЗНА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Бактерии"/>
          <p:cNvPicPr/>
          <p:nvPr/>
        </p:nvPicPr>
        <p:blipFill>
          <a:blip r:embed="rId1"/>
          <a:stretch/>
        </p:blipFill>
        <p:spPr>
          <a:xfrm>
            <a:off x="4191120" y="2590920"/>
            <a:ext cx="4724280" cy="426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Рисунок8"/>
          <p:cNvPicPr/>
          <p:nvPr/>
        </p:nvPicPr>
        <p:blipFill>
          <a:blip r:embed="rId2"/>
          <a:stretch/>
        </p:blipFill>
        <p:spPr>
          <a:xfrm>
            <a:off x="228600" y="2590920"/>
            <a:ext cx="1841400" cy="180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Рисунок6"/>
          <p:cNvPicPr/>
          <p:nvPr/>
        </p:nvPicPr>
        <p:blipFill>
          <a:blip r:embed="rId3"/>
          <a:stretch/>
        </p:blipFill>
        <p:spPr>
          <a:xfrm>
            <a:off x="2362320" y="2590920"/>
            <a:ext cx="1730160" cy="180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Рисунок9"/>
          <p:cNvPicPr/>
          <p:nvPr/>
        </p:nvPicPr>
        <p:blipFill>
          <a:blip r:embed="rId4"/>
          <a:stretch/>
        </p:blipFill>
        <p:spPr>
          <a:xfrm>
            <a:off x="228600" y="4495680"/>
            <a:ext cx="1809720" cy="1731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Рисунок10"/>
          <p:cNvPicPr/>
          <p:nvPr/>
        </p:nvPicPr>
        <p:blipFill>
          <a:blip r:embed="rId5"/>
          <a:stretch/>
        </p:blipFill>
        <p:spPr>
          <a:xfrm>
            <a:off x="2286000" y="4572000"/>
            <a:ext cx="1800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ОБИТАЮТ  В РАЗНЫ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РАЗМНОЖАЮТСЯ ДЕЛ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ПРИ НЕБЛАГОПРИЯТНЫХ УСЛОВИЯХ ОБРАЗУЮТ СП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ПИТАЮТСЯ ПО РАЗНОМУ: САПРОТРОФЫ – ОРГАНИЧЕСКИМИ ВЕЩЕСТВАМИ  ИЗ  МЕРТВЫХ   ТЕЛ, ПАРАЗИТЫ – ИХ ЖИВЫ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Образование спор у бактерий"/>
          <p:cNvPicPr/>
          <p:nvPr/>
        </p:nvPicPr>
        <p:blipFill>
          <a:blip r:embed="rId1"/>
          <a:stretch/>
        </p:blipFill>
        <p:spPr>
          <a:xfrm>
            <a:off x="4419720" y="3505320"/>
            <a:ext cx="4724280" cy="3081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0022"/>
          <p:cNvPicPr/>
          <p:nvPr/>
        </p:nvPicPr>
        <p:blipFill>
          <a:blip r:embed="rId2"/>
          <a:stretch/>
        </p:blipFill>
        <p:spPr>
          <a:xfrm>
            <a:off x="152280" y="3581280"/>
            <a:ext cx="39625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28600" y="304920"/>
            <a:ext cx="46483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К организмам, не имеющим в клетках оформленного ядра, относ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бак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водоро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гри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Образование бактериями спор – это приспособление 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размнож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перенесению неблагоприятных усло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паразитиз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передвиж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Бактерии размнож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почко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посредством половых кл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спо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делением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5105520" y="304920"/>
            <a:ext cx="3809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Бактерии-паразиты пит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органическими веществами живых организ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минеральными веще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органическими веществами отмерших организ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водой и углекислым г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Бактерии-сапрофиты пит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органическими веществами живых организ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минеральными веще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органическими веществами отмерших организ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водой и углекислым г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9-04-25T14:53:4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