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3FA3-C12B-45EE-8227-FF7F47AC6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364F-506A-4FE7-843F-CED07A3CC29B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FC00-A79C-41A5-8AA2-09C9BB072A74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2D30-2CDE-4D3C-9237-5517238D1DB4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E195-2BC3-4788-A76B-01F1A8C67D87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A6BE-724F-4826-9AC8-983D7440E6D6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44BB-F3D1-4608-911E-EF764C35C561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5C49-E678-477B-9A04-310FF23D397D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4395-08F8-4437-9662-1B47611C921D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9D77-FC77-4542-876C-3A4D111802B8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B345-587F-4CEF-A511-945C98FB06DA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00DF-A9F6-4703-9B00-9252E549C47A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8F5F-939A-4752-8605-725764B4DC6A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910C-5294-483B-9068-02A786E8982D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9025-6927-4331-ACD7-BE700B1A350B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913E-96C5-4C94-BE15-023D3865C705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B22C-025A-4F9B-B746-32E867BAD8E0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C462-51BF-4CD4-B284-08CF06A3701F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889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19320" y="389844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889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68000" y="182844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89844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68000" y="389844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889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92520" y="182844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65720" y="182844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19320" y="389844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92520" y="389844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65720" y="389844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889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19320" y="182844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889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889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68000" y="182844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889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19320" y="91404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89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68000" y="182844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19320" y="389844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889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19320" y="182844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889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68000" y="182844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68000" y="389844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889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68000" y="182844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89844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889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19320" y="389844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889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68000" y="182844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19320" y="389844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68000" y="389844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889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92520" y="182844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65720" y="182844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19320" y="389844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92520" y="389844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165720" y="389844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889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889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68000" y="182844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889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19320" y="91404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889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68000" y="182844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19320" y="389844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889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000" y="182844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68000" y="389844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889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000" y="182844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19320" y="389844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9140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82844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1974960" indent="-21924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1974960" indent="-21924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9140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19320" y="182844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1974960" indent="-21924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1974960" indent="-21924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657240" y="228600"/>
            <a:ext cx="51814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icrosoft Sans Serif"/>
              </a:rPr>
              <a:t>НЕДОСТАТКИ ПРОИЗНОШЕНИЯ СВИСТЯЩИХ ЗВУКОВ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Microsoft Sans Serif"/>
              </a:rPr>
              <a:t>И ПРИЁМЫ ИХ ПОСТАНОВКИ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209320" y="52578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icrosoft Sans Serif"/>
              </a:rPr>
              <a:t>Подготовила учитель-логопед МБДОУ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indent="0" algn="ctr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Microsoft Sans Serif"/>
              </a:rPr>
              <a:t>д/с «Звездочка» г.Зернограда Бендикс Т.В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6858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icrosoft Sans Serif"/>
              </a:rPr>
              <a:t>Постановка звука С от звука Т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70102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Ребенку предлагают улыбнуться и длительно с придыханием произнести звук [Т] . На ладони струйкой должен ощущаться выдох. Вторым звуком после [Т] будет слышаться неясный свистящий звук – «работает насос». 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В дальнейшем тренируем только звук «насоса»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icrosoft Sans Serif"/>
              </a:rPr>
              <a:t>Постановка звука С на вдохе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057400" y="1295280"/>
            <a:ext cx="6934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Ребенку предлагают приоткрыть рот, положить широкий язык на дне ротика так, чтобы он прикасался к нижним зубам. Затем сблизить зубки, вытянуть губы в улыбке и «всосать» в себя чуть-чуть воздуха, так, чтобы он попал на кончик языка. Язычок должен почувствовать холодок. В результате послышится тихий звук [С] . А теперь нужно постараться выдуть воздух через кончик языка наружу, как бы «процедить» его сквозь зубы. 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5120" y="685800"/>
            <a:ext cx="6248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icrosoft Sans Serif"/>
              </a:rPr>
              <a:t>Постановка звука СЬ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Microsoft Sans Serif"/>
              </a:rPr>
              <a:t>от звука И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80720" y="2057040"/>
            <a:ext cx="6782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Ребенку предлагают улыбнуться и длительно произнести звук [И] . Язык при этом принимает положение, близкое к положению при правильной артикуляции звука С. Затем, не меняя положения языка, выдохнуть по подражанию: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    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«И-и-с-с-и!»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80720" y="6858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icrosoft Sans Serif"/>
              </a:rPr>
              <a:t>Постановка звука С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Microsoft Sans Serif"/>
              </a:rPr>
              <a:t>от правильного звука СЬ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80720" y="2057040"/>
            <a:ext cx="6782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Ребенку предлагается улыбнуться,  прислонить кончик языка к верхним зубам и посвистеть, произнося [СЬ] и направляя струю воздуха на ладонь. Во время длительного произнесения звука [СЬ] ребенок должен постепенно округлять губы и вытягивать их в трубочку. При этом звук [С] будет звучать более твердо. 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80720" y="6858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icrosoft Sans Serif"/>
              </a:rPr>
              <a:t>Постановка звука С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Microsoft Sans Serif"/>
              </a:rPr>
              <a:t> с механической помощью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6934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Предложить ребенку улыбнуться, положить широкий язычок между зубами и подуть на его кончик. Пока ребенок дует, поместить узкий шпатель (спичку, зубочистку) по средней линии языка, опуская кончик языка вниз за зубы и образуя желобок для выхода направленной воздушной струи. После этого ребенок должен сблизить зубы, оставляя язык за зубами и продолжая при этом дуть на кончик языка. Регулировать степень нажатия на шпатель, добиваясь правильного произношения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80720" y="6858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icrosoft Sans Serif"/>
              </a:rPr>
              <a:t>Постановка звука З(ЗЬ) от звука С(СЬ)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6934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  <a:ea typeface="굴림"/>
              </a:rPr>
              <a:t>	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  <a:ea typeface="굴림"/>
              </a:rPr>
              <a:t>Звук 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[З]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  <a:ea typeface="굴림"/>
              </a:rPr>
              <a:t> ставится от звука 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[С]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  <a:ea typeface="굴림"/>
              </a:rPr>
              <a:t> с включением голоса. Используется тактильный контроль, держа руку на горлышке, и слуховой контроль, закрывая ладошками уши и сравнивая звучание 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[С]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  <a:ea typeface="굴림"/>
              </a:rPr>
              <a:t> и 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[З]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  <a:ea typeface="굴림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Мягкий вариант [ЗЬ] ставится по подражанию. 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05120" y="76212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icrosoft Sans Serif"/>
              </a:rPr>
              <a:t>Постановка звука Ц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52120" y="2971800"/>
            <a:ext cx="71629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Звук [Ц] ставится от правильно произносимых звуков [Т] и [С]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  <a:ea typeface="굴림"/>
              </a:rPr>
              <a:t> 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Ребенку предлагается раздельно и внятно произносить сочетание звуков [Т] и [С]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  <a:ea typeface="굴림"/>
              </a:rPr>
              <a:t> 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«Т-С, Т-С».  При постепенном ускорении темпа произнесения: «Т-С-Т-С-Т-С», звуки [Т] и [С]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  <a:ea typeface="굴림"/>
              </a:rPr>
              <a:t> 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сливаются воедино и слышится звук [Ц]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  <a:ea typeface="굴림"/>
              </a:rPr>
              <a:t> 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117" name="Picture 2" descr="C:\Users\Irina\Desktop\Безымянный.png"/>
          <p:cNvPicPr/>
          <p:nvPr/>
        </p:nvPicPr>
        <p:blipFill>
          <a:blip r:embed="rId2"/>
          <a:stretch/>
        </p:blipFill>
        <p:spPr>
          <a:xfrm>
            <a:off x="6888240" y="792000"/>
            <a:ext cx="212724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5120" y="1447560"/>
            <a:ext cx="62481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Microsoft Sans Serif"/>
              </a:rPr>
              <a:t>Спасибо за внимание!</a:t>
            </a: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09680" y="33523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Microsoft Sans Serif"/>
              </a:rPr>
              <a:t>Успехов в работе!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701028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icrosoft Sans Serif"/>
              </a:rPr>
              <a:t>При устранении причин нарушений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Microsoft Sans Serif"/>
              </a:rPr>
              <a:t>произношения необходимо: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33720" y="236196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99"/>
              </a:lnSpc>
              <a:spcBef>
                <a:spcPts val="4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Microsoft Sans Serif"/>
              </a:rPr>
              <a:t>Выявить и по возможности устранить аномалии 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2000" spc="-1" strike="noStrike">
                <a:solidFill>
                  <a:srgbClr val="4d4d4d"/>
                </a:solidFill>
                <a:latin typeface="Microsoft Sans Serif"/>
              </a:rPr>
              <a:t>строения речевого аппарата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Microsoft Sans Serif"/>
              </a:rPr>
              <a:t>Знать правильную артикуляцию звука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Microsoft Sans Serif"/>
              </a:rPr>
              <a:t>Соблюдать все этапы постановки звука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Microsoft Sans Serif"/>
              </a:rPr>
              <a:t>Применять подходящий способ постановки звука 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2000" spc="-1" strike="noStrike">
                <a:solidFill>
                  <a:srgbClr val="4d4d4d"/>
                </a:solidFill>
                <a:latin typeface="Microsoft Sans Serif"/>
              </a:rPr>
              <a:t>с учетом дефекта артикуляции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Microsoft Sans Serif"/>
              </a:rPr>
              <a:t>Опираться на различные сохранные анализаторы - слуховой, зрительный, тактильный, двигательный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Microsoft Sans Serif"/>
              </a:rPr>
              <a:t>Проводить занятия на положительном эмоциональном фоне - создавать ситуации успеха, использовать похвалу, поощрение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1960" y="304560"/>
            <a:ext cx="60195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icrosoft Sans Serif"/>
              </a:rPr>
              <a:t>Правильная артикуляция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Microsoft Sans Serif"/>
              </a:rPr>
              <a:t>звуков С, З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9880" y="1447920"/>
            <a:ext cx="5105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Губы в улыбке;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15360" indent="-31536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Зубы сближены;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15360" indent="-31536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Язык широкий, кончиком упирается в нижние зубы;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15360" indent="-31536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Спинка языка выгнута, посередине её образуется желобок, по которому проходит узкая воздушная струя;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15360" indent="-31536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Боковые края языка плотно прилегают к внутренней стороне верхних зубов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89" name="Рисунок 3" descr="http://mypresentation.ru/documents/467001f0ff762a7d120b4ac672a1ebec/img3.jpg"/>
          <p:cNvPicPr/>
          <p:nvPr/>
        </p:nvPicPr>
        <p:blipFill>
          <a:blip r:embed="rId2"/>
          <a:stretch/>
        </p:blipFill>
        <p:spPr>
          <a:xfrm>
            <a:off x="1768320" y="1390680"/>
            <a:ext cx="2376720" cy="29066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2819520" y="5791320"/>
            <a:ext cx="6129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d4d4d"/>
                </a:solidFill>
                <a:latin typeface="Microsoft Sans Serif"/>
              </a:rPr>
              <a:t>(Звук С - глухой,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1" i="1" lang="ru-RU" sz="2400" spc="-1" strike="noStrike">
                <a:solidFill>
                  <a:srgbClr val="4d4d4d"/>
                </a:solidFill>
                <a:latin typeface="Microsoft Sans Serif"/>
              </a:rPr>
              <a:t>З - звонкий, работают голосовые связки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icrosoft Sans Serif"/>
              </a:rPr>
              <a:t>Дефекты артикуляции звуков С, З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2120" y="16761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1" lang="ru-RU" sz="2400" spc="-1" strike="noStrike" u="sng">
                <a:solidFill>
                  <a:srgbClr val="4d4d4d"/>
                </a:solidFill>
                <a:uFillTx/>
                <a:latin typeface="Microsoft Sans Serif"/>
              </a:rPr>
              <a:t>Сигматизм свистящих: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    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      </a:t>
            </a:r>
            <a:r>
              <a:rPr b="1" lang="ru-RU" sz="2400" spc="-1" strike="noStrike" u="sng">
                <a:solidFill>
                  <a:srgbClr val="4d4d4d"/>
                </a:solidFill>
                <a:uFillTx/>
                <a:latin typeface="Microsoft Sans Serif"/>
              </a:rPr>
              <a:t>Парасигматизм: 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291600" indent="-29160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  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межзубный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    замена свистящих на звуки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291600" indent="-29160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  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губно-зубной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             Ш, Щ, Ф, Ч, Т, Х и др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291600" indent="-29160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  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призубный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291600" indent="-29160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  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шипящий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              </a:t>
            </a:r>
            <a:r>
              <a:rPr b="1" lang="ru-RU" sz="2400" spc="-1" strike="noStrike" u="sng">
                <a:solidFill>
                  <a:srgbClr val="4d4d4d"/>
                </a:solidFill>
                <a:uFillTx/>
                <a:latin typeface="Microsoft Sans Serif"/>
              </a:rPr>
              <a:t>Дефекты: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291600" indent="-29160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  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боковой одно-               смягчения (С – СЬ)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  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и двусторонний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 озвончения (С – З)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291600" indent="-29160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  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межзубно-боковой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291600" indent="-29160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  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носовой 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3200" y="60912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icrosoft Sans Serif"/>
              </a:rPr>
              <a:t>Этапы постановки звука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69343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Формирование фонематического слуха;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Развитие артикуляторной моторики;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Выработка целенаправленной воздушной струи;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Работа по непосредственной постановке звука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81080" y="6858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icrosoft Sans Serif"/>
              </a:rPr>
              <a:t>Комплекс артикуляционных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Microsoft Sans Serif"/>
              </a:rPr>
              <a:t>упражнений для свистящих звуков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14600" y="1752120"/>
            <a:ext cx="6019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ts val="29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«Окошечко»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22200" indent="0">
              <a:lnSpc>
                <a:spcPts val="29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«Заборчик» 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22200" indent="0">
              <a:lnSpc>
                <a:spcPts val="29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«Трубочка»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22200" indent="0">
              <a:lnSpc>
                <a:spcPts val="29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«Лопаточка» 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22200" indent="0">
              <a:lnSpc>
                <a:spcPts val="29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«Накажем непослушный язычок»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22200" indent="0">
              <a:lnSpc>
                <a:spcPts val="29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«Почистим нижние зубки»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22200" indent="0">
              <a:lnSpc>
                <a:spcPts val="29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«Качели» 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22200" indent="0">
              <a:lnSpc>
                <a:spcPts val="29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«Веник»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22200" indent="0">
              <a:lnSpc>
                <a:spcPts val="29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«Киска сердится»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22200" indent="0">
              <a:lnSpc>
                <a:spcPts val="29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«Песенка язычка И-И-И»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icrosoft Sans Serif"/>
              </a:rPr>
              <a:t>Комплекс упражнений для развития правильного речевого выдоха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81080" y="2666880"/>
            <a:ext cx="69343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«Подуй на бабочку, листочек…»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«Забей мяч в ворота» 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«Подуй на лопаточку»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«Желобок»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«Парашютики» 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3360" y="838080"/>
            <a:ext cx="5562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icrosoft Sans Serif"/>
              </a:rPr>
              <a:t>Способы постановки звука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80720" y="2362320"/>
            <a:ext cx="632484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по подражанию;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от артикуляционных упражнений;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от опорных звуков; 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с механической помощью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7400" y="6858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icrosoft Sans Serif"/>
              </a:rPr>
              <a:t>Постановка звука С от звука Ф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70102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Предложить ребенку длительно произнести звук [Ф] . Во время произнесения звука [Ф] логопед пальцами оттягивает нижнюю губу ребенка. Слышится приближенный звук [С] . В дальнейшем звук уточняется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Irina</cp:lastModifiedBy>
  <dcterms:modified xsi:type="dcterms:W3CDTF">2018-11-13T04:33:05Z</dcterms:modified>
  <cp:revision>83</cp:revision>
  <dc:subject/>
  <dc:title>Name of presentation</dc:title>
</cp:coreProperties>
</file>