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2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E74-1909-4F2B-821C-244AFCF6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293-BE02-40DA-BAF7-337961D4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CE0-4599-4F01-B268-561E15DC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3CC-D3E5-4DF8-9F4A-E41D8403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13D-B9B1-409D-AA41-DB7E85A3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C77-1F23-4FAF-ADF1-25541E17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239-78A9-4903-9944-68F594A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8A3-8F4F-4569-B231-75C7EAC1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CDD-C3ED-48EB-BC16-EB84CD42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A09-06CF-4F31-AA93-0DFFEC0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FA6-873B-4D3B-811E-6B773B3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ED5-CC06-4D27-A1B3-64F5B8CB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ffcc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FE22-07DC-41FD-95D1-4870BBD60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404640"/>
            <a:ext cx="60008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леб всему голова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Картинки по запросу красивый Каравай хлеба"/>
          <p:cNvPicPr/>
          <p:nvPr/>
        </p:nvPicPr>
        <p:blipFill>
          <a:blip r:embed="rId1"/>
          <a:stretch/>
        </p:blipFill>
        <p:spPr>
          <a:xfrm>
            <a:off x="2484360" y="2060640"/>
            <a:ext cx="3859200" cy="2822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071800" y="5232600"/>
            <a:ext cx="4897440" cy="12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: Формировать у детей знания о  знач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а в жизни человека. Дать представление о том, как хлеб пришел к нам на стол. Обратить внимание на содержание труда людей. Воспитывать уважения к людям труда, бережного отношения к хлебу как результату труда мног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00680" y="6247800"/>
            <a:ext cx="5127480" cy="21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 хлебозаводе огромные машины превращают муку в т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Картинки по запросу тестомешалки на хлебозаводе"/>
          <p:cNvPicPr/>
          <p:nvPr/>
        </p:nvPicPr>
        <p:blipFill>
          <a:blip r:embed="rId1"/>
          <a:srcRect l="0" t="0" r="0" b="-36"/>
          <a:stretch/>
        </p:blipFill>
        <p:spPr>
          <a:xfrm>
            <a:off x="0" y="0"/>
            <a:ext cx="6804000" cy="4941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6" name="Picture 12" descr="подготовка теста на хлебозаводе"/>
          <p:cNvPicPr/>
          <p:nvPr/>
        </p:nvPicPr>
        <p:blipFill>
          <a:blip r:embed="rId2"/>
          <a:stretch/>
        </p:blipFill>
        <p:spPr>
          <a:xfrm>
            <a:off x="0" y="0"/>
            <a:ext cx="6804000" cy="494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14" descr="37366_83825"/>
          <p:cNvPicPr/>
          <p:nvPr/>
        </p:nvPicPr>
        <p:blipFill>
          <a:blip r:embed="rId3"/>
          <a:stretch/>
        </p:blipFill>
        <p:spPr>
          <a:xfrm>
            <a:off x="0" y="0"/>
            <a:ext cx="6804000" cy="494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16" descr="Картинки по запросу замес теста руками"/>
          <p:cNvPicPr/>
          <p:nvPr/>
        </p:nvPicPr>
        <p:blipFill>
          <a:blip r:embed="rId4"/>
          <a:stretch/>
        </p:blipFill>
        <p:spPr>
          <a:xfrm>
            <a:off x="0" y="0"/>
            <a:ext cx="7812000" cy="56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9" name="Picture 20" descr="Картинки по запросу тесто клипарт"/>
          <p:cNvPicPr/>
          <p:nvPr/>
        </p:nvPicPr>
        <p:blipFill>
          <a:blip r:embed="rId5"/>
          <a:stretch/>
        </p:blipFill>
        <p:spPr>
          <a:xfrm>
            <a:off x="6372360" y="4365720"/>
            <a:ext cx="2595600" cy="23320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артинки по запросу замес теста для хлеба"/>
          <p:cNvPicPr/>
          <p:nvPr/>
        </p:nvPicPr>
        <p:blipFill>
          <a:blip r:embed="rId1"/>
          <a:stretch/>
        </p:blipFill>
        <p:spPr>
          <a:xfrm>
            <a:off x="0" y="0"/>
            <a:ext cx="3276720" cy="236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Rectangle 5"/>
          <p:cNvSpPr/>
          <p:nvPr/>
        </p:nvSpPr>
        <p:spPr>
          <a:xfrm>
            <a:off x="402120" y="6359400"/>
            <a:ext cx="534996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кари пекут хлеб и разнообразные хлебобулочные издел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Картинки по запросу батоны"/>
          <p:cNvPicPr/>
          <p:nvPr/>
        </p:nvPicPr>
        <p:blipFill>
          <a:blip r:embed="rId2"/>
          <a:stretch/>
        </p:blipFill>
        <p:spPr>
          <a:xfrm>
            <a:off x="5940360" y="2276640"/>
            <a:ext cx="3203640" cy="22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1" descr="Картинки по запросу хлеб кирпичики"/>
          <p:cNvPicPr/>
          <p:nvPr/>
        </p:nvPicPr>
        <p:blipFill>
          <a:blip r:embed="rId3"/>
          <a:stretch/>
        </p:blipFill>
        <p:spPr>
          <a:xfrm>
            <a:off x="5940360" y="4645080"/>
            <a:ext cx="3203640" cy="221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13" descr="Картинки по запросу хлеб хала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17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15" descr="Картинки по запросу плюшки"/>
          <p:cNvPicPr/>
          <p:nvPr/>
        </p:nvPicPr>
        <p:blipFill>
          <a:blip r:embed="rId5"/>
          <a:stretch/>
        </p:blipFill>
        <p:spPr>
          <a:xfrm>
            <a:off x="5940360" y="0"/>
            <a:ext cx="320364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21" descr="Картинки по запросу хлебобулочные изделия клипарт"/>
          <p:cNvPicPr/>
          <p:nvPr/>
        </p:nvPicPr>
        <p:blipFill>
          <a:blip r:embed="rId6"/>
          <a:stretch/>
        </p:blipFill>
        <p:spPr>
          <a:xfrm>
            <a:off x="179280" y="1628640"/>
            <a:ext cx="5977080" cy="456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сушки сухари баранки при гв"/>
          <p:cNvPicPr/>
          <p:nvPr/>
        </p:nvPicPr>
        <p:blipFill>
          <a:blip r:embed="rId7"/>
          <a:stretch/>
        </p:blipFill>
        <p:spPr>
          <a:xfrm>
            <a:off x="5940360" y="2276640"/>
            <a:ext cx="3203640" cy="22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25" descr="Картинки по запросу Калачи"/>
          <p:cNvPicPr/>
          <p:nvPr/>
        </p:nvPicPr>
        <p:blipFill>
          <a:blip r:embed="rId8"/>
          <a:stretch/>
        </p:blipFill>
        <p:spPr>
          <a:xfrm>
            <a:off x="5940360" y="4653000"/>
            <a:ext cx="320364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41840" y="6256440"/>
            <a:ext cx="7381440" cy="27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овозы спешат доставить хлеб в магазины, где его с нетерпением ждут покуп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ртинки по запросу грузовики хлеб"/>
          <p:cNvPicPr/>
          <p:nvPr/>
        </p:nvPicPr>
        <p:blipFill>
          <a:blip r:embed="rId1"/>
          <a:srcRect l="0" t="0" r="46" b="0"/>
          <a:stretch/>
        </p:blipFill>
        <p:spPr>
          <a:xfrm>
            <a:off x="2987640" y="0"/>
            <a:ext cx="6156360" cy="433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8" descr="Картинки по запросу грузовики хлеб"/>
          <p:cNvPicPr/>
          <p:nvPr/>
        </p:nvPicPr>
        <p:blipFill>
          <a:blip r:embed="rId2"/>
          <a:stretch/>
        </p:blipFill>
        <p:spPr>
          <a:xfrm>
            <a:off x="2987640" y="0"/>
            <a:ext cx="6156360" cy="433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Картинки по запросу грузовики хлеб"/>
          <p:cNvPicPr/>
          <p:nvPr/>
        </p:nvPicPr>
        <p:blipFill>
          <a:blip r:embed="rId3"/>
          <a:stretch/>
        </p:blipFill>
        <p:spPr>
          <a:xfrm>
            <a:off x="0" y="3114720"/>
            <a:ext cx="4932360" cy="33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Картинки по запросу хлеб на прилавке"/>
          <p:cNvPicPr/>
          <p:nvPr/>
        </p:nvPicPr>
        <p:blipFill>
          <a:blip r:embed="rId4"/>
          <a:stretch/>
        </p:blipFill>
        <p:spPr>
          <a:xfrm>
            <a:off x="241200" y="189000"/>
            <a:ext cx="2459160" cy="30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Картинки по запросу анимация движения колосьев пол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Картинки по запросу анимация зерно пшеницы"/>
          <p:cNvPicPr/>
          <p:nvPr/>
        </p:nvPicPr>
        <p:blipFill>
          <a:blip r:embed="rId2"/>
          <a:stretch/>
        </p:blipFill>
        <p:spPr>
          <a:xfrm>
            <a:off x="0" y="248292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165720" y="4959000"/>
            <a:ext cx="2798640" cy="17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 сперва на воле в по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ом цвел и колоси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когда обмолот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зерно вдруг преврати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зерна – в муку и т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агазине занял 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рос он под синим неб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ришел на стол к нам хлеб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Картинки по запросу хлеб клипарт"/>
          <p:cNvPicPr/>
          <p:nvPr/>
        </p:nvPicPr>
        <p:blipFill>
          <a:blip r:embed="rId3"/>
          <a:stretch/>
        </p:blipFill>
        <p:spPr>
          <a:xfrm>
            <a:off x="4211640" y="620640"/>
            <a:ext cx="4643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64000" y="4241160"/>
            <a:ext cx="3529080" cy="24692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, а как вы думаете – хлеб сразу стал хлебом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, не сразу стали зерна хлебом, тем, что на 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долго и упорно потрудились 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редлагаю совершить вам виртуальное путешеств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т зерна до карав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84560" y="405720"/>
            <a:ext cx="3164400" cy="164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гадать легко и быстр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ий, пышный и душист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и черный, он и бе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ывает подгор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него плохой об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ней его на свет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Картинки по запросу хлеб"/>
          <p:cNvPicPr/>
          <p:nvPr/>
        </p:nvPicPr>
        <p:blipFill>
          <a:blip r:embed="rId1"/>
          <a:stretch/>
        </p:blipFill>
        <p:spPr>
          <a:xfrm>
            <a:off x="179280" y="3335400"/>
            <a:ext cx="484344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Picture 14" descr="Картинки по запросу зернышко мука хлеб картинки"/>
          <p:cNvPicPr/>
          <p:nvPr/>
        </p:nvPicPr>
        <p:blipFill>
          <a:blip r:embed="rId2"/>
          <a:stretch/>
        </p:blipFill>
        <p:spPr>
          <a:xfrm>
            <a:off x="3635280" y="189000"/>
            <a:ext cx="5270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Картинки по запросу вспаханное поле тракто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8"/>
          <p:cNvSpPr/>
          <p:nvPr/>
        </p:nvSpPr>
        <p:spPr>
          <a:xfrm>
            <a:off x="324000" y="6308640"/>
            <a:ext cx="87138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ехал в поле тракторист на тракторе, вспахал землю, приготовил «постельку» для зер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Картинки по запросу поле с зелеными колосья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1"/>
          <p:cNvSpPr/>
          <p:nvPr/>
        </p:nvSpPr>
        <p:spPr>
          <a:xfrm>
            <a:off x="5435640" y="6327000"/>
            <a:ext cx="3529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ало в землю зерно и начало р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2" descr="Картинки по запросу посев зерна"/>
          <p:cNvPicPr/>
          <p:nvPr/>
        </p:nvPicPr>
        <p:blipFill>
          <a:blip r:embed="rId2"/>
          <a:stretch/>
        </p:blipFill>
        <p:spPr>
          <a:xfrm>
            <a:off x="468360" y="4724280"/>
            <a:ext cx="3529080" cy="202752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Картинки по запросу комбайны в поле"/>
          <p:cNvPicPr/>
          <p:nvPr/>
        </p:nvPicPr>
        <p:blipFill>
          <a:blip r:embed="rId1"/>
          <a:srcRect l="0" t="0" r="27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Картинки по запросу колосья пшеницы рисунок"/>
          <p:cNvPicPr/>
          <p:nvPr/>
        </p:nvPicPr>
        <p:blipFill>
          <a:blip r:embed="rId2"/>
          <a:stretch/>
        </p:blipFill>
        <p:spPr>
          <a:xfrm>
            <a:off x="250920" y="260280"/>
            <a:ext cx="200484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1619280" y="6394680"/>
            <a:ext cx="7416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рело зерно. Выехал в поле комбайнер на комбайне и принялся молотить зер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Картинки по запросу грузовик с зерном"/>
          <p:cNvPicPr/>
          <p:nvPr/>
        </p:nvPicPr>
        <p:blipFill>
          <a:blip r:embed="rId1"/>
          <a:srcRect l="0" t="0" r="-67" b="-75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133440" y="6321960"/>
            <a:ext cx="5848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сыпается зерно в кузов грузовика. Спешат грузовики на элев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Картинки по запросу Элеватор зер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3780720" y="6327000"/>
            <a:ext cx="52146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леваторе зерно сушат, лелеют, оберегают от грызу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Картинки по запросу современная мельница"/>
          <p:cNvPicPr/>
          <p:nvPr/>
        </p:nvPicPr>
        <p:blipFill>
          <a:blip r:embed="rId1"/>
          <a:srcRect l="0" t="0" r="0" b="-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Картинки по запросу современная мельниц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Картинки по запросу современная мельниц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Картинки по запросу мельницы на мель в заводах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5"/>
          <p:cNvSpPr/>
          <p:nvPr/>
        </p:nvSpPr>
        <p:spPr>
          <a:xfrm>
            <a:off x="3727080" y="6255360"/>
            <a:ext cx="50407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льнице из зерна вмиг получилась му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5" descr="Картинки по запросу Мешок с мукой клипарт"/>
          <p:cNvPicPr/>
          <p:nvPr/>
        </p:nvPicPr>
        <p:blipFill>
          <a:blip r:embed="rId5"/>
          <a:stretch/>
        </p:blipFill>
        <p:spPr>
          <a:xfrm>
            <a:off x="3708360" y="3860640"/>
            <a:ext cx="1800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Картинки по запросу Хлебозавод Барнаула"/>
          <p:cNvPicPr/>
          <p:nvPr/>
        </p:nvPicPr>
        <p:blipFill>
          <a:blip r:embed="rId1"/>
          <a:stretch/>
        </p:blipFill>
        <p:spPr>
          <a:xfrm>
            <a:off x="7236000" y="189000"/>
            <a:ext cx="1658880" cy="165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Картинки по запросу хлебопекарни в Барнауле"/>
          <p:cNvPicPr/>
          <p:nvPr/>
        </p:nvPicPr>
        <p:blipFill>
          <a:blip r:embed="rId2"/>
          <a:stretch/>
        </p:blipFill>
        <p:spPr>
          <a:xfrm>
            <a:off x="3994200" y="2965320"/>
            <a:ext cx="5149800" cy="3892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Rectangle 13"/>
          <p:cNvSpPr/>
          <p:nvPr/>
        </p:nvSpPr>
        <p:spPr>
          <a:xfrm>
            <a:off x="179280" y="6327720"/>
            <a:ext cx="3168720" cy="27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ковозы везут муку на хлебоза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Картинки по запросу муковозы"/>
          <p:cNvPicPr/>
          <p:nvPr/>
        </p:nvPicPr>
        <p:blipFill>
          <a:blip r:embed="rId3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0" name="Picture 20" descr="Картинки по запросу муковоз фото"/>
          <p:cNvPicPr/>
          <p:nvPr/>
        </p:nvPicPr>
        <p:blipFill>
          <a:blip r:embed="rId4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Картинки по запросу муковоз фото"/>
          <p:cNvPicPr/>
          <p:nvPr/>
        </p:nvPicPr>
        <p:blipFill>
          <a:blip r:embed="rId5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Картинки по запросу грузовик мука"/>
          <p:cNvPicPr/>
          <p:nvPr/>
        </p:nvPicPr>
        <p:blipFill>
          <a:blip r:embed="rId6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Картинки по запросу мука"/>
          <p:cNvPicPr/>
          <p:nvPr/>
        </p:nvPicPr>
        <p:blipFill>
          <a:blip r:embed="rId7"/>
          <a:stretch/>
        </p:blipFill>
        <p:spPr>
          <a:xfrm>
            <a:off x="826920" y="3933720"/>
            <a:ext cx="27115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11:39:25Z</dcterms:created>
  <dc:creator>1</dc:creator>
  <dc:description/>
  <dc:language>en-US</dc:language>
  <cp:lastModifiedBy>Настюша</cp:lastModifiedBy>
  <dcterms:modified xsi:type="dcterms:W3CDTF">2019-04-25T20:56:1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570000000000010282210207f7000400038000</vt:lpwstr>
  </property>
</Properties>
</file>