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2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E82-E67E-43A0-A618-1628D644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707-BF80-4AA1-8F0B-9BCFB95D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990A-5178-4BAD-A871-F1876E5E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0E5-759F-4AFE-8329-391E4CD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C85-E76F-4522-AB48-8311D06A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133-D2BF-4BFC-832B-78474E78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EAE-8DB2-4228-8502-AA2CA74A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18B-7B91-4646-A429-42455011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2B5-B20F-4EF2-ACDE-E10D7F72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09E-1798-4CFB-84BE-27C38C0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59B-64A9-4116-B822-1D30438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868-D34B-41DF-91B4-FCF23B3D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00ffcc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99CB-C759-4BE2-817B-FED82F495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547640" y="404640"/>
            <a:ext cx="60008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Хлеб всему голова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Картинки по запросу красивый Каравай хлеба"/>
          <p:cNvPicPr/>
          <p:nvPr/>
        </p:nvPicPr>
        <p:blipFill>
          <a:blip r:embed="rId1"/>
          <a:stretch/>
        </p:blipFill>
        <p:spPr>
          <a:xfrm>
            <a:off x="2484360" y="2060640"/>
            <a:ext cx="3859200" cy="28224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071800" y="5232600"/>
            <a:ext cx="4897440" cy="127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и: Формировать у детей знания о  знач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а в жизни человека. Дать представление о том, как хлеб пришел к нам на стол. Обратить внимание на содержание труда людей. Воспитывать уважения к людям труда, бережного отношения к хлебу как результату труда мног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00680" y="6247800"/>
            <a:ext cx="5127480" cy="21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 хлебозаводе огромные машины превращают муку в тес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Картинки по запросу тестомешалки на хлебозаводе"/>
          <p:cNvPicPr/>
          <p:nvPr/>
        </p:nvPicPr>
        <p:blipFill>
          <a:blip r:embed="rId1"/>
          <a:srcRect l="0" t="0" r="0" b="-36"/>
          <a:stretch/>
        </p:blipFill>
        <p:spPr>
          <a:xfrm>
            <a:off x="0" y="0"/>
            <a:ext cx="6804000" cy="4941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6" name="Picture 12" descr="подготовка теста на хлебозаводе"/>
          <p:cNvPicPr/>
          <p:nvPr/>
        </p:nvPicPr>
        <p:blipFill>
          <a:blip r:embed="rId2"/>
          <a:stretch/>
        </p:blipFill>
        <p:spPr>
          <a:xfrm>
            <a:off x="0" y="0"/>
            <a:ext cx="6804000" cy="494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14" descr="37366_83825"/>
          <p:cNvPicPr/>
          <p:nvPr/>
        </p:nvPicPr>
        <p:blipFill>
          <a:blip r:embed="rId3"/>
          <a:stretch/>
        </p:blipFill>
        <p:spPr>
          <a:xfrm>
            <a:off x="0" y="0"/>
            <a:ext cx="6804000" cy="494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16" descr="Картинки по запросу замес теста руками"/>
          <p:cNvPicPr/>
          <p:nvPr/>
        </p:nvPicPr>
        <p:blipFill>
          <a:blip r:embed="rId4"/>
          <a:stretch/>
        </p:blipFill>
        <p:spPr>
          <a:xfrm>
            <a:off x="0" y="0"/>
            <a:ext cx="7812000" cy="56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9" name="Picture 20" descr="Картинки по запросу тесто клипарт"/>
          <p:cNvPicPr/>
          <p:nvPr/>
        </p:nvPicPr>
        <p:blipFill>
          <a:blip r:embed="rId5"/>
          <a:stretch/>
        </p:blipFill>
        <p:spPr>
          <a:xfrm>
            <a:off x="6372360" y="4365720"/>
            <a:ext cx="2595600" cy="23320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артинки по запросу замес теста для хлеба"/>
          <p:cNvPicPr/>
          <p:nvPr/>
        </p:nvPicPr>
        <p:blipFill>
          <a:blip r:embed="rId1"/>
          <a:stretch/>
        </p:blipFill>
        <p:spPr>
          <a:xfrm>
            <a:off x="0" y="0"/>
            <a:ext cx="3276720" cy="236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2" name="Rectangle 5"/>
          <p:cNvSpPr/>
          <p:nvPr/>
        </p:nvSpPr>
        <p:spPr>
          <a:xfrm>
            <a:off x="402120" y="6359400"/>
            <a:ext cx="5349960" cy="30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кари пекут хлеб и разнообразные хлебобулочные издел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Картинки по запросу батоны"/>
          <p:cNvPicPr/>
          <p:nvPr/>
        </p:nvPicPr>
        <p:blipFill>
          <a:blip r:embed="rId2"/>
          <a:stretch/>
        </p:blipFill>
        <p:spPr>
          <a:xfrm>
            <a:off x="5940360" y="2276640"/>
            <a:ext cx="3203640" cy="22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Picture 11" descr="Картинки по запросу хлеб кирпичики"/>
          <p:cNvPicPr/>
          <p:nvPr/>
        </p:nvPicPr>
        <p:blipFill>
          <a:blip r:embed="rId3"/>
          <a:stretch/>
        </p:blipFill>
        <p:spPr>
          <a:xfrm>
            <a:off x="5940360" y="4645080"/>
            <a:ext cx="3203640" cy="221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13" descr="Картинки по запросу хлеб хала"/>
          <p:cNvPicPr/>
          <p:nvPr/>
        </p:nvPicPr>
        <p:blipFill>
          <a:blip r:embed="rId4"/>
          <a:stretch/>
        </p:blipFill>
        <p:spPr>
          <a:xfrm>
            <a:off x="5940360" y="0"/>
            <a:ext cx="3203640" cy="217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Picture 15" descr="Картинки по запросу плюшки"/>
          <p:cNvPicPr/>
          <p:nvPr/>
        </p:nvPicPr>
        <p:blipFill>
          <a:blip r:embed="rId5"/>
          <a:stretch/>
        </p:blipFill>
        <p:spPr>
          <a:xfrm>
            <a:off x="5940360" y="0"/>
            <a:ext cx="3203640" cy="223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21" descr="Картинки по запросу хлебобулочные изделия клипарт"/>
          <p:cNvPicPr/>
          <p:nvPr/>
        </p:nvPicPr>
        <p:blipFill>
          <a:blip r:embed="rId6"/>
          <a:stretch/>
        </p:blipFill>
        <p:spPr>
          <a:xfrm>
            <a:off x="179280" y="1628640"/>
            <a:ext cx="5977080" cy="456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сушки сухари баранки при гв"/>
          <p:cNvPicPr/>
          <p:nvPr/>
        </p:nvPicPr>
        <p:blipFill>
          <a:blip r:embed="rId7"/>
          <a:stretch/>
        </p:blipFill>
        <p:spPr>
          <a:xfrm>
            <a:off x="5940360" y="2276640"/>
            <a:ext cx="3203640" cy="22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Picture 25" descr="Картинки по запросу Калачи"/>
          <p:cNvPicPr/>
          <p:nvPr/>
        </p:nvPicPr>
        <p:blipFill>
          <a:blip r:embed="rId8"/>
          <a:stretch/>
        </p:blipFill>
        <p:spPr>
          <a:xfrm>
            <a:off x="5940360" y="4653000"/>
            <a:ext cx="320364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ff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1041840" y="6256440"/>
            <a:ext cx="7381440" cy="27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лебовозы спешат доставить хлеб в магазины, где его с нетерпением ждут покуп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Картинки по запросу грузовики хлеб"/>
          <p:cNvPicPr/>
          <p:nvPr/>
        </p:nvPicPr>
        <p:blipFill>
          <a:blip r:embed="rId1"/>
          <a:srcRect l="0" t="0" r="46" b="0"/>
          <a:stretch/>
        </p:blipFill>
        <p:spPr>
          <a:xfrm>
            <a:off x="2987640" y="0"/>
            <a:ext cx="6156360" cy="433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Picture 8" descr="Картинки по запросу грузовики хлеб"/>
          <p:cNvPicPr/>
          <p:nvPr/>
        </p:nvPicPr>
        <p:blipFill>
          <a:blip r:embed="rId2"/>
          <a:stretch/>
        </p:blipFill>
        <p:spPr>
          <a:xfrm>
            <a:off x="2987640" y="0"/>
            <a:ext cx="6156360" cy="433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Картинки по запросу грузовики хлеб"/>
          <p:cNvPicPr/>
          <p:nvPr/>
        </p:nvPicPr>
        <p:blipFill>
          <a:blip r:embed="rId3"/>
          <a:stretch/>
        </p:blipFill>
        <p:spPr>
          <a:xfrm>
            <a:off x="0" y="3114720"/>
            <a:ext cx="4932360" cy="33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Картинки по запросу хлеб на прилавке"/>
          <p:cNvPicPr/>
          <p:nvPr/>
        </p:nvPicPr>
        <p:blipFill>
          <a:blip r:embed="rId4"/>
          <a:stretch/>
        </p:blipFill>
        <p:spPr>
          <a:xfrm>
            <a:off x="241200" y="189000"/>
            <a:ext cx="2459160" cy="302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Картинки по запросу анимация движения колосьев пол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Картинки по запросу анимация зерно пшеницы"/>
          <p:cNvPicPr/>
          <p:nvPr/>
        </p:nvPicPr>
        <p:blipFill>
          <a:blip r:embed="rId2"/>
          <a:stretch/>
        </p:blipFill>
        <p:spPr>
          <a:xfrm>
            <a:off x="0" y="2482920"/>
            <a:ext cx="5832360" cy="4375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165720" y="4959000"/>
            <a:ext cx="2798640" cy="17053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с сперва на воле в пол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том цвел и колоси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когда обмолоти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зерно вдруг преврати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зерна – в муку и т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агазине занял 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рос он под синим неб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ришел на стол к нам хлеб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Картинки по запросу хлеб клипарт"/>
          <p:cNvPicPr/>
          <p:nvPr/>
        </p:nvPicPr>
        <p:blipFill>
          <a:blip r:embed="rId3"/>
          <a:stretch/>
        </p:blipFill>
        <p:spPr>
          <a:xfrm>
            <a:off x="4211640" y="620640"/>
            <a:ext cx="46432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64000" y="4241160"/>
            <a:ext cx="3529080" cy="24692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, а как вы думаете – хлеб сразу стал хлебом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, не сразу стали зерна хлебом, тем, что на 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 долго и упорно потрудились на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редлагаю совершить вам виртуальное путешеств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т зерна до карав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84560" y="405720"/>
            <a:ext cx="3164400" cy="164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гадать легко и быстр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гкий, пышный и душист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и черный, он и бе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бывает подгорел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него плохой об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усней его на свете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Картинки по запросу хлеб"/>
          <p:cNvPicPr/>
          <p:nvPr/>
        </p:nvPicPr>
        <p:blipFill>
          <a:blip r:embed="rId1"/>
          <a:stretch/>
        </p:blipFill>
        <p:spPr>
          <a:xfrm>
            <a:off x="179280" y="3335400"/>
            <a:ext cx="484344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Picture 14" descr="Картинки по запросу зернышко мука хлеб картинки"/>
          <p:cNvPicPr/>
          <p:nvPr/>
        </p:nvPicPr>
        <p:blipFill>
          <a:blip r:embed="rId2"/>
          <a:stretch/>
        </p:blipFill>
        <p:spPr>
          <a:xfrm>
            <a:off x="3635280" y="189000"/>
            <a:ext cx="5270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Картинки по запросу вспаханное поле тракто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8"/>
          <p:cNvSpPr/>
          <p:nvPr/>
        </p:nvSpPr>
        <p:spPr>
          <a:xfrm>
            <a:off x="324000" y="6308640"/>
            <a:ext cx="87138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ехал в поле тракторист на тракторе, вспахал землю, приготовил «постельку» для зер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Картинки по запросу поле с зелеными колосья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1"/>
          <p:cNvSpPr/>
          <p:nvPr/>
        </p:nvSpPr>
        <p:spPr>
          <a:xfrm>
            <a:off x="5435640" y="6327000"/>
            <a:ext cx="35290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ало в землю зерно и начало р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2" descr="Картинки по запросу посев зерна"/>
          <p:cNvPicPr/>
          <p:nvPr/>
        </p:nvPicPr>
        <p:blipFill>
          <a:blip r:embed="rId2"/>
          <a:stretch/>
        </p:blipFill>
        <p:spPr>
          <a:xfrm>
            <a:off x="468360" y="4724280"/>
            <a:ext cx="3529080" cy="202752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Картинки по запросу комбайны в поле"/>
          <p:cNvPicPr/>
          <p:nvPr/>
        </p:nvPicPr>
        <p:blipFill>
          <a:blip r:embed="rId1"/>
          <a:srcRect l="0" t="0" r="27" b="-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Картинки по запросу колосья пшеницы рисунок"/>
          <p:cNvPicPr/>
          <p:nvPr/>
        </p:nvPicPr>
        <p:blipFill>
          <a:blip r:embed="rId2"/>
          <a:stretch/>
        </p:blipFill>
        <p:spPr>
          <a:xfrm>
            <a:off x="250920" y="260280"/>
            <a:ext cx="2004840" cy="2592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1619280" y="6394680"/>
            <a:ext cx="741672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рело зерно. Выехал в поле комбайнер на комбайне и принялся молотить зер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Картинки по запросу грузовик с зерном"/>
          <p:cNvPicPr/>
          <p:nvPr/>
        </p:nvPicPr>
        <p:blipFill>
          <a:blip r:embed="rId1"/>
          <a:srcRect l="0" t="0" r="-67" b="-75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3133440" y="6321960"/>
            <a:ext cx="5848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сыпается зерно в кузов грузовика. Спешат грузовики на элева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" descr="Картинки по запросу Элеватор зер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3780720" y="6327000"/>
            <a:ext cx="52146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леваторе зерно сушат, лелеют, оберегают от грызу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4" descr="Картинки по запросу современная мельница"/>
          <p:cNvPicPr/>
          <p:nvPr/>
        </p:nvPicPr>
        <p:blipFill>
          <a:blip r:embed="rId1"/>
          <a:srcRect l="0" t="0" r="0" b="-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Картинки по запросу современная мельниц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Картинки по запросу современная мельниц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Картинки по запросу мельницы на мель в заводах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5"/>
          <p:cNvSpPr/>
          <p:nvPr/>
        </p:nvSpPr>
        <p:spPr>
          <a:xfrm>
            <a:off x="3727080" y="6255360"/>
            <a:ext cx="50407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ельнице из зерна вмиг получилась му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5" descr="Картинки по запросу Мешок с мукой клипарт"/>
          <p:cNvPicPr/>
          <p:nvPr/>
        </p:nvPicPr>
        <p:blipFill>
          <a:blip r:embed="rId5"/>
          <a:stretch/>
        </p:blipFill>
        <p:spPr>
          <a:xfrm>
            <a:off x="3708360" y="3860640"/>
            <a:ext cx="1800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Картинки по запросу Хлебозавод Барнаула"/>
          <p:cNvPicPr/>
          <p:nvPr/>
        </p:nvPicPr>
        <p:blipFill>
          <a:blip r:embed="rId1"/>
          <a:stretch/>
        </p:blipFill>
        <p:spPr>
          <a:xfrm>
            <a:off x="7236000" y="189000"/>
            <a:ext cx="1658880" cy="1658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Картинки по запросу хлебопекарни в Барнауле"/>
          <p:cNvPicPr/>
          <p:nvPr/>
        </p:nvPicPr>
        <p:blipFill>
          <a:blip r:embed="rId2"/>
          <a:stretch/>
        </p:blipFill>
        <p:spPr>
          <a:xfrm>
            <a:off x="3994200" y="2965320"/>
            <a:ext cx="5149800" cy="3892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Rectangle 13"/>
          <p:cNvSpPr/>
          <p:nvPr/>
        </p:nvSpPr>
        <p:spPr>
          <a:xfrm>
            <a:off x="179280" y="6327720"/>
            <a:ext cx="3168720" cy="2746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ковозы везут муку на хлебоза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Картинки по запросу муковозы"/>
          <p:cNvPicPr/>
          <p:nvPr/>
        </p:nvPicPr>
        <p:blipFill>
          <a:blip r:embed="rId3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0" name="Picture 20" descr="Картинки по запросу муковоз фото"/>
          <p:cNvPicPr/>
          <p:nvPr/>
        </p:nvPicPr>
        <p:blipFill>
          <a:blip r:embed="rId4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Картинки по запросу муковоз фото"/>
          <p:cNvPicPr/>
          <p:nvPr/>
        </p:nvPicPr>
        <p:blipFill>
          <a:blip r:embed="rId5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Картинки по запросу грузовик мука"/>
          <p:cNvPicPr/>
          <p:nvPr/>
        </p:nvPicPr>
        <p:blipFill>
          <a:blip r:embed="rId6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Картинки по запросу мука"/>
          <p:cNvPicPr/>
          <p:nvPr/>
        </p:nvPicPr>
        <p:blipFill>
          <a:blip r:embed="rId7"/>
          <a:stretch/>
        </p:blipFill>
        <p:spPr>
          <a:xfrm>
            <a:off x="826920" y="3933720"/>
            <a:ext cx="27115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11:39:25Z</dcterms:created>
  <dc:creator>1</dc:creator>
  <dc:description/>
  <dc:language>en-US</dc:language>
  <cp:lastModifiedBy>Настюша</cp:lastModifiedBy>
  <dcterms:modified xsi:type="dcterms:W3CDTF">2019-04-25T20:56:18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570000000000010282210207f7000400038000</vt:lpwstr>
  </property>
</Properties>
</file>