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FE9-1F74-4188-B0FC-EDF59608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D9F-396C-45DC-B4E1-E2096001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BD6-C8E2-419A-807E-D761FB5E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7EE-1FE1-42A4-B945-E43E472E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485-39A6-484E-AB0B-0F2DCCD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D55-5905-4B16-BA07-384C8A1C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2FD-A776-4B19-BAD8-6CD938A4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099-929A-45D2-A988-8BC3F0B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03E-ECDA-4873-9517-B008AC42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007-1D70-4418-9658-32BB66F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247-11AC-497D-A78C-19BB758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BC9-C630-4300-8EA5-0F9D1AA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40D1-B6FB-4AE1-B645-22F161B8C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35 из 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468360" y="260280"/>
            <a:ext cx="388620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ЫРТТАТЫ          КО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?id=84460169&amp;tov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2276640" y="5084640"/>
            <a:ext cx="459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ЪÆУМÆ   ФÆНДА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72495357&amp;tov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3851280" y="0"/>
            <a:ext cx="482436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ЪÆУУОН       ЦАРД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Картинка 143 из 7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2556000" y="5734080"/>
            <a:ext cx="6337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ÆРБАХÆЦЦÆ   СТÆ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i?id=60386553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2538360" y="0"/>
            <a:ext cx="40672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ДА     ХУЫМ    КÆ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?id=86009402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23 из 7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0" y="5877000"/>
            <a:ext cx="6451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НЫБЫЛ    НÆХИ     ИРХÆФСÆ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6:15:09Z</dcterms:created>
  <dc:creator>Карина</dc:creator>
  <dc:description/>
  <dc:language>en-US</dc:language>
  <cp:lastModifiedBy>kafedra</cp:lastModifiedBy>
  <dcterms:modified xsi:type="dcterms:W3CDTF">2009-09-23T13:14:54Z</dcterms:modified>
  <cp:revision>3</cp:revision>
  <dc:subject/>
  <dc:title>Слайд 1</dc:title>
</cp:coreProperties>
</file>