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5F2D-7DD6-4527-BE9A-56055F2FD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0E8A-2513-475D-A762-C0B2CF9A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F2B0-1AD5-495E-8322-20C2492E4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D957-9D6D-41C6-BAE4-DB46E899C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68D4-F7B0-4451-BC59-6248B5CD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71AC-2A37-4221-AACE-6774687D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32F7-2666-4893-8A82-C13D9D30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2D8A-8167-49AF-B489-A422B139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19E6-5792-435B-963B-989A70C4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A765-BB78-4B22-BE43-4AA3F79C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48E9-B3EE-44BD-B810-98C88888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0F59-6BBB-4730-AD0A-06219ECA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E769-498A-4827-8BE8-C60D04D94F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-main-pic" descr="Картинка 35 из 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9"/>
          <p:cNvSpPr txBox="1"/>
          <p:nvPr/>
        </p:nvSpPr>
        <p:spPr>
          <a:xfrm>
            <a:off x="468360" y="260280"/>
            <a:ext cx="3886200" cy="23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УЫРТТАТЫ          КОМ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i?id=84460169&amp;tov=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8"/>
          <p:cNvSpPr txBox="1"/>
          <p:nvPr/>
        </p:nvSpPr>
        <p:spPr>
          <a:xfrm>
            <a:off x="2276640" y="5084640"/>
            <a:ext cx="45907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ХЪÆУМÆ   ФÆНДА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i?id=72495357&amp;tov=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6"/>
          <p:cNvSpPr txBox="1"/>
          <p:nvPr/>
        </p:nvSpPr>
        <p:spPr>
          <a:xfrm>
            <a:off x="3851280" y="0"/>
            <a:ext cx="482436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ХЪÆУУОН       ЦАРД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Картинка 143 из 75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WordArt 9"/>
          <p:cNvSpPr txBox="1"/>
          <p:nvPr/>
        </p:nvSpPr>
        <p:spPr>
          <a:xfrm>
            <a:off x="2556000" y="5734080"/>
            <a:ext cx="633708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ÆРБАХÆЦЦÆ   СТÆМ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i?id=60386553&amp;tov=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WordArt 9"/>
          <p:cNvSpPr txBox="1"/>
          <p:nvPr/>
        </p:nvSpPr>
        <p:spPr>
          <a:xfrm>
            <a:off x="2538360" y="0"/>
            <a:ext cx="406728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ДАДА     ХУЫМ    КÆ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i?id=86009402&amp;tov=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Картинка 23 из 75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7"/>
          <p:cNvSpPr txBox="1"/>
          <p:nvPr/>
        </p:nvSpPr>
        <p:spPr>
          <a:xfrm>
            <a:off x="0" y="5877000"/>
            <a:ext cx="64515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05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НЫБЫЛ    НÆХИ     ИРХÆФСÆМ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6:15:09Z</dcterms:created>
  <dc:creator>Карина</dc:creator>
  <dc:description/>
  <dc:language>en-US</dc:language>
  <cp:lastModifiedBy>kafedra</cp:lastModifiedBy>
  <dcterms:modified xsi:type="dcterms:W3CDTF">2009-09-23T13:14:54Z</dcterms:modified>
  <cp:revision>3</cp:revision>
  <dc:subject/>
  <dc:title>Слайд 1</dc:title>
</cp:coreProperties>
</file>