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0A7-2833-4848-80EE-A0F5DE0E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BA0-56E8-4EAA-B9B6-5EBC15A0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343-2110-4BEA-A394-2D6DB71B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E1D-2C60-4DE4-AA77-6170935E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C1B6-CF78-47F0-B70C-6DD270B3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3E91-37A2-4BF7-99F6-E080AD4C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8896-26D3-4529-B39A-CDE3BB4E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E449-8687-4297-B621-5D6080A4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3E14-06DC-4C6C-9F13-2246C556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8A27-2307-4ACC-8D59-9573D0BF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7FE4-5966-4B47-AF2E-5D2AA09C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11E-6906-4CB1-A6F5-2C7B57FE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BE63-B2DF-4F0C-BE6A-3D578BD8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C8BB-82B8-4920-A059-FD96AE81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07C5-FE13-42BC-B606-4B1E09C4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D817-3F12-4C43-9249-DD52126D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8E62-6A31-4C84-B308-7448F44E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0BB-26AE-46E6-9186-E4F91F1F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349-D4EE-4D86-988B-9AAB0B8B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081-89FC-47FD-9977-DF0903CE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470-3B95-4685-9718-AD424FD9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B77-0B9B-4482-870E-5987E6FB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273-8D2B-431C-80F2-BEF76F06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785-55E6-4771-83C2-9C704299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1CE9-1704-4E20-BD24-B6E1D99EEAE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1331-F69A-437E-ACC3-378A021887F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Движение и его выражение                                                                   – глагол – являются основой языка. Найти верный глагол для фразы – это значит дать движение фраз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А.Н.Толсто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55360" y="522000"/>
            <a:ext cx="7737480" cy="12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пишите фразеологизмы, дополнив нужными глаголами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___________баклуш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___________ в ежовых рукавиц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__________ из мухи сло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__________ в калош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пряжение, время, лицо, наклонение, совершенный вид, род, падеж, склонение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ма 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аклонение глагол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зъявительное наклонени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64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зъявительное наклонени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ействие как реальный фак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садил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словное наклонение –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ействие как возможное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ли желательно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овелительное наклонение –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садили б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ак выражение побуждения к действию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садит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9128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и  наклонения глагол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Стрелка вниз 3"/>
          <p:cNvSpPr/>
          <p:nvPr/>
        </p:nvSpPr>
        <p:spPr>
          <a:xfrm>
            <a:off x="2556000" y="2349360"/>
            <a:ext cx="647640" cy="9352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Стрелка вниз 4"/>
          <p:cNvSpPr/>
          <p:nvPr/>
        </p:nvSpPr>
        <p:spPr>
          <a:xfrm>
            <a:off x="4211640" y="2600280"/>
            <a:ext cx="431640" cy="24130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Стрелка вниз 5"/>
          <p:cNvSpPr/>
          <p:nvPr/>
        </p:nvSpPr>
        <p:spPr>
          <a:xfrm>
            <a:off x="6227640" y="2349360"/>
            <a:ext cx="648000" cy="145764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вичное закрепление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змените глаголы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частвовать, написать, тренироваться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 наклонения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ровести взаимопроверк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оль глаголов в текст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14240" y="21427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ен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истья в поле пожелтели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кружатся и летят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ишь в бору поникши ели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елень мрачную хранят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д нависшею скалою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ж не любит меж цветов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ахарь отдыхать порою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 полуденных трудов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верь отважный поневоле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крыться где-нибудь спешит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очью месяц тускл и поле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квозь туман лишь серебри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М. Ю. Лермонтов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Рисунок 3" descr="I:\data\articles\55\5571\557112\Image1524.jpg"/>
          <p:cNvPicPr/>
          <p:nvPr/>
        </p:nvPicPr>
        <p:blipFill>
          <a:blip r:embed="rId1"/>
          <a:stretch/>
        </p:blipFill>
        <p:spPr>
          <a:xfrm>
            <a:off x="5334120" y="2857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ба пер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ставьте подходящие по смыслу глаголы и сравните  полученный текст с авторским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з-под камня (           ) родник. Он превращается в ручеёк, который весело (             ) на восток. Ручей брызжет, (                 ), (                ) и потом стремительно (               ) вниз. По склону горы он (                   ) дальше. Несколько таких ручейков (                  ) в один большой ручей, и он спокойно (                 ) по равнине. А вот он с шумом (                     ) в пропасть. К.Г.Паустовск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бота со словарё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извергается -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бота с пословица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сли в жизни не ленит(?)ся, можно многого добит(?)с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то упорно трудит(?)ся, у того всё сбудет(?)с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бы прославит(?)ся, не стремись всем понравит(?)с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10:26:24Z</dcterms:created>
  <dc:creator>phylol</dc:creator>
  <dc:description/>
  <dc:language>en-US</dc:language>
  <cp:lastModifiedBy>Эльвира</cp:lastModifiedBy>
  <dcterms:modified xsi:type="dcterms:W3CDTF">2019-04-22T04:46:55Z</dcterms:modified>
  <cp:revision>35</cp:revision>
  <dc:subject/>
  <dc:title>СИНКВЕЙН</dc:title>
</cp:coreProperties>
</file>