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A6D7-4E76-4603-A400-12621AE99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8282-C09F-4E0B-81C1-8C718552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84F2-B6AE-45E0-8606-B61C534F2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5A56-C04F-473C-B220-71FBB4437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4FC7-5397-4EC5-B6EB-087ADDF5D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B0D4-F56C-47AB-AACA-907B7E31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0917-6382-4C18-B2E6-911FEFAE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3CB6-D293-48BD-BCC6-F83FECB1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AB52-EBC8-43BA-92C9-E1DC72D6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E4D8-AF36-4F8C-8506-6264DDC4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376D-13FB-4EF0-80F5-8CEB644D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666D-9E1C-4A44-BB34-02837B69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9F9B-0EB8-4848-9F03-9A6FA4B3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DD30F-99F5-40BE-8B22-4B80F766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A01A-BA53-4743-AFF7-DC94C5C8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161E-D25F-45E3-BC59-8398C2434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DFB9-810A-44F2-9F65-036BA309D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67F1-0462-4CC3-88C2-BDEC355E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A0F7-69E8-45AE-AEF5-D9E32AF3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8BE3-5513-4E25-BDB2-8907ACB0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9276-409E-47DC-A8E7-3A77F04B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8EC4-3297-4448-A2A9-D4CEED68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617B-F02F-4D77-90C8-F7342ACB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B2C7-8C00-4CF1-A243-4C176D92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3DAE-A69D-4B69-9B94-CA9025F37A0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31FE-8233-4723-B828-46C4F317761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                          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Движение и его выражение                                                                   – глагол – являются основой языка. Найти верный глагол для фразы – это значит дать движение фраз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А.Н.Толсто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55360" y="522000"/>
            <a:ext cx="7737480" cy="128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Допишите фразеологизмы, дополнив нужными глаголами</a:t>
            </a:r>
            <a:br>
              <a:rPr sz="2800"/>
            </a:b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___________баклуш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___________ в ежовых рукавицах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__________ из мухи слон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__________ в калошу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26920" y="227628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Спряжение, время, лицо, наклонение, совершенный вид, род, падеж, склонение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ема  уро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аклонение глагол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Изъявительное наклонение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5564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Изъявительное наклонение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действие как реальный фак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осадил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                                              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                                    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Условное наклонение –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действие как возможное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или желательное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                            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Повелительное наклонение –                   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осадили б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как выражение побуждения к действию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осадит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691280" y="1053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ри  наклонения глагола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Стрелка вниз 3"/>
          <p:cNvSpPr/>
          <p:nvPr/>
        </p:nvSpPr>
        <p:spPr>
          <a:xfrm>
            <a:off x="2556000" y="2349360"/>
            <a:ext cx="647640" cy="93528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Стрелка вниз 4"/>
          <p:cNvSpPr/>
          <p:nvPr/>
        </p:nvSpPr>
        <p:spPr>
          <a:xfrm>
            <a:off x="4211640" y="2600280"/>
            <a:ext cx="431640" cy="2413080"/>
          </a:xfrm>
          <a:prstGeom prst="downArrow">
            <a:avLst>
              <a:gd name="adj1" fmla="val 50000"/>
              <a:gd name="adj2" fmla="val 5003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Стрелка вниз 5"/>
          <p:cNvSpPr/>
          <p:nvPr/>
        </p:nvSpPr>
        <p:spPr>
          <a:xfrm>
            <a:off x="6227640" y="2349360"/>
            <a:ext cx="648000" cy="145764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ервичное закрепление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Измените глаголы 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участвовать, написать, тренироваться 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по наклонениям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ровести взаимопроверку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оль глаголов в текст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14240" y="214272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сен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Листья в поле пожелтели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 кружатся и летят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Лишь в бору поникши ели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Зелень мрачную хранят.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од нависшею скалою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Уж не любит меж цветов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ахарь отдыхать порою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т полуденных трудов.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Зверь отважный поневоле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крыться где-нибудь спешит.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очью месяц тускл и поле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квозь туман лишь серебрит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(М. Ю. Лермонтов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Рисунок 3" descr="I:\data\articles\55\5571\557112\Image1524.jpg"/>
          <p:cNvPicPr/>
          <p:nvPr/>
        </p:nvPicPr>
        <p:blipFill>
          <a:blip r:embed="rId1"/>
          <a:stretch/>
        </p:blipFill>
        <p:spPr>
          <a:xfrm>
            <a:off x="5334120" y="28576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оба пера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Вставьте подходящие по смыслу глаголы и сравните  полученный текст с авторским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з-под камня (           ) родник. Он превращается в ручеёк, который весело (             ) на восток. Ручей брызжет, (                 ), (                ) и потом стремительно (               ) вниз. По склону горы он (                   ) дальше. Несколько таких ручейков (                  ) в один большой ручей, и он спокойно (                 ) по равнине. А вот он с шумом (                     ) в пропасть. К.Г.Паустовски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абота со словарём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Низвергается -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абота с пословицам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Если в жизни не ленит(?)ся, можно многого добит(?)ся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то упорно трудит(?)ся, у того всё сбудет(?)ся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бы прославит(?)ся, не стремись всем понравит(?)ся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9T10:26:24Z</dcterms:created>
  <dc:creator>phylol</dc:creator>
  <dc:description/>
  <dc:language>en-US</dc:language>
  <cp:lastModifiedBy>Эльвира</cp:lastModifiedBy>
  <dcterms:modified xsi:type="dcterms:W3CDTF">2019-04-22T04:46:55Z</dcterms:modified>
  <cp:revision>35</cp:revision>
  <dc:subject/>
  <dc:title>СИНКВЕЙН</dc:title>
</cp:coreProperties>
</file>