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EB1-3992-4F3C-BB3E-392DDF68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69A-FA3A-422D-B11C-4284FD07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FCE-5A5B-42BB-862E-529B5FF7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E68-E0D6-4FA5-8C49-5E2462DF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49B-6DCF-49B9-983F-421CBB7E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C96-8E03-42B4-9D13-F82C7B2A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4B0-1515-42C9-B814-2C00896A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943-2ACD-445C-91C0-F703D64D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0034-8478-4FC3-8C95-6D8645AE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815-BF4D-4002-886C-03A398C2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991-B018-4CC8-9F79-3E799D1F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055-92AD-49E8-8343-A908BCD5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FD13-13D0-4C2E-893C-B76E35D1C795}" type="slidenum">
              <a:rPr b="0" lang="ru-RU" sz="9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 Light"/>
              </a:rPr>
              <a:t>План характеристики части реч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200" y="2127240"/>
            <a:ext cx="792972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значение. В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ьная фор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рфологические призна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остоян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нтаксическая ро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3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3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920" y="40464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 раз случалось собаке на гону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йма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йца. Часто вовсе голодная, она не позволяла себ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е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го. О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брал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йца в зубы и тащила домой. Хозяин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люби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, кормил и берег от вол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ишите подчеркнут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голы вмес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теми словами, которые 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ясняют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KonstRuctor011020062329"/>
          <p:cNvPicPr/>
          <p:nvPr/>
        </p:nvPicPr>
        <p:blipFill>
          <a:blip r:embed="rId1"/>
          <a:stretch/>
        </p:blipFill>
        <p:spPr>
          <a:xfrm>
            <a:off x="4427640" y="2637000"/>
            <a:ext cx="4033800" cy="3168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оймать ( кого?) зайца ( сущ. Вин.пад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ть (кого?) его (местоим. Вин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Брала (кого?) зайца (сущ. Вин.пад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юбил (кого?) его (местоим. Вин.пад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переход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лаг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763640" y="249228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Calibri Light"/>
              </a:rPr>
              <a:t>Переходные и непереходные</a:t>
            </a: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Calibri Light"/>
              </a:rPr>
              <a:t>глаголы</a:t>
            </a: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 Light"/>
              </a:rPr>
              <a:t>Переходные глаголы –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о такие глаголы, которые сочетаются или могут сочетаться с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существительными, местоимениям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числительны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инительном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адеже без предлог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 Light"/>
              </a:rPr>
              <a:t>1.Спишите, расставляя пропущенные знаки препинания и буквы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libri Light"/>
              </a:rPr>
              <a:t>2.Определите, переходные или непереходные глаголы.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19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итраша выучился у отца делать деревя …ую посуду боч…нки шайки лохан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1908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н бывает на всех собраниях  старает ся понять обществе …ые заботы и , наверное, что-то смекает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Переходные или непереходные глаголы в этих предложениях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227664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стя вст..вала далеко до со …ца, в предрассветный час. С хворостинкой в руке выг..няла она свое любимое стадо и к..тилась обратно в избу. Она ра..топляла печь, чистила к..ртошку и так хл..потала до ноч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0:29:08Z</dcterms:created>
  <dc:creator>Computer-6</dc:creator>
  <dc:description/>
  <dc:language>en-US</dc:language>
  <cp:lastModifiedBy>Эльвира</cp:lastModifiedBy>
  <dcterms:modified xsi:type="dcterms:W3CDTF">2019-04-22T04:36:06Z</dcterms:modified>
  <cp:revision>14</cp:revision>
  <dc:subject/>
  <dc:title>Переходные и непереходные глаголы</dc:title>
</cp:coreProperties>
</file>