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02E5-A425-48AF-AB6C-9EDDF5656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AA9B-BC21-4FBC-950B-9F891BC58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D779-B7A9-4CF9-8788-333135BC6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CAE2-AD87-43B5-9E9F-14885A7FD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44A4-DA2D-40E8-AA56-7DE46B951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E304-28C7-4A4D-A46A-42F51878C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C73E-626F-4191-BBFB-1E490BF17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EC69-EAF3-4D2E-9F9B-814422165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6662-27AA-4D3A-8E8B-3A730A85F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5A37-A4EC-4214-B0F3-AEC7C150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6A32-B78A-461B-90E0-F63C94AE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02F2-47CE-48BD-86A3-013307B8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545E9-C066-4EFC-B9F5-BC32C6B54942}" type="slidenum">
              <a:rPr b="0" lang="ru-RU" sz="9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Calibri Light"/>
              </a:rPr>
              <a:t>План характеристики части речи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47200" y="2127240"/>
            <a:ext cx="7929720" cy="38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щее значение. Вопро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чальная фор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орфологические признак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тоянны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постоянны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интаксическая рол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3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3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3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3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3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50920" y="404640"/>
            <a:ext cx="84247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ного раз случалось собаке на гону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оймать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йца. Часто вовсе голодная, она не позволяла себе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ест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его. Она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брал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зайца в зубы и тащила домой. Хозяин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любил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ее, кормил и берег от волк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пишите подчеркнуты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лаголы вмес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 теми словами, которые и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ясняют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6" descr="KonstRuctor011020062329"/>
          <p:cNvPicPr/>
          <p:nvPr/>
        </p:nvPicPr>
        <p:blipFill>
          <a:blip r:embed="rId1"/>
          <a:stretch/>
        </p:blipFill>
        <p:spPr>
          <a:xfrm>
            <a:off x="4427640" y="2637000"/>
            <a:ext cx="4033800" cy="31683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2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2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2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68360" y="981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Поймать ( кого?) зайца ( сущ. Вин.пад.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Есть (кого?) его (местоим. Вин.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Брала (кого?) зайца (сущ. Вин.пад.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Любил (кого?) его (местоим. Вин.пад.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переходны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глагол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1763640" y="2492280"/>
            <a:ext cx="287280" cy="647640"/>
          </a:xfrm>
          <a:prstGeom prst="downArrow">
            <a:avLst>
              <a:gd name="adj1" fmla="val 50000"/>
              <a:gd name="adj2" fmla="val 5636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ircl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1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1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900" spc="-1" strike="noStrike">
                <a:solidFill>
                  <a:srgbClr val="000000"/>
                </a:solidFill>
                <a:latin typeface="Calibri Light"/>
              </a:rPr>
              <a:t>Переходные и непереходные</a:t>
            </a:r>
            <a:br>
              <a:rPr sz="4900"/>
            </a:br>
            <a:r>
              <a:rPr b="1" lang="ru-RU" sz="4900" spc="-1" strike="noStrike">
                <a:solidFill>
                  <a:srgbClr val="000000"/>
                </a:solidFill>
                <a:latin typeface="Calibri Light"/>
              </a:rPr>
              <a:t>глаголы</a:t>
            </a:r>
            <a:endParaRPr b="0" lang="en-US" sz="49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transition>
    <p:circl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5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800" spc="-1" strike="noStrike" u="sng">
                <a:solidFill>
                  <a:srgbClr val="000000"/>
                </a:solidFill>
                <a:uFillTx/>
                <a:latin typeface="Calibri Light"/>
              </a:rPr>
              <a:t>Переходные глаголы –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это такие глаголы, которые сочетаются или могут сочетаться с 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существительными, местоимениями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числительным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винительном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адеже без предлога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ircl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 Light"/>
              </a:rPr>
              <a:t>1.Спишите, расставляя пропущенные знаки препинания и буквы.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Calibri Light"/>
              </a:rPr>
              <a:t>2.Определите, переходные или непереходные глаголы.</a:t>
            </a:r>
            <a:endParaRPr b="0" lang="en-US" sz="2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9528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14440" indent="19080" algn="just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итраша выучился у отца делать деревя …ую посуду боч…нки шайки лохан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19080" algn="just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н бывает на всех собраниях  старает ся понять обществе …ые заботы и , наверное, что-то смекает.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Переходные или непереходные глаголы в этих предложениях?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79280" y="2276640"/>
            <a:ext cx="8785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стя вст..вала далеко до со …ца, в предрассветный час. С хворостинкой в руке выг..няла она свое любимое стадо и к..тилась обратно в избу. Она ра..топляла печь, чистила к..ртошку и так хл..потала до ноч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5T10:29:08Z</dcterms:created>
  <dc:creator>Computer-6</dc:creator>
  <dc:description/>
  <dc:language>en-US</dc:language>
  <cp:lastModifiedBy>Эльвира</cp:lastModifiedBy>
  <dcterms:modified xsi:type="dcterms:W3CDTF">2019-04-22T04:36:06Z</dcterms:modified>
  <cp:revision>14</cp:revision>
  <dc:subject/>
  <dc:title>Переходные и непереходные глаголы</dc:title>
</cp:coreProperties>
</file>