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511-FFAA-4633-9F9B-CF162328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FED-6279-4A61-844D-44785DF1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0C1-525C-4B48-A007-22BFB981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C99-AF93-49BD-91A2-7199E67A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CB90-84EA-4A14-B30D-6D5BAFFB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D56C-AF7C-462F-9187-8E9C50FB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89B6-30F2-4BFA-B07B-5DADB52A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628A-2B2D-4792-BDC8-BAF5719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28F9-DF5D-4C60-8D08-E6A4C8CF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411F-D569-4338-B5E1-B76396D5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E029-C680-4F4E-BD59-25ED989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C28-9E90-45FB-96B0-F8F69110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1141-957B-4A67-A26E-51E9FB4D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4FAA-5FD7-4765-B2F7-27AABC6F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42CB-93BA-4EFF-AEB6-65F8E5B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D16-CD66-4FC6-92A7-17E6B684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24F2-68A0-4243-9CCE-799B62E8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A44E-45FE-43EB-BDA8-138BA427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5F6A-CD2B-4F74-80B2-CDD5F2CF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C5A4-2889-41F4-9244-C50040F0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1524-D750-42CF-8183-9CC26B79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E40A-0F8D-4182-9743-66A85E0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0D5-FAF4-4708-9E45-39E9686D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3C4E-5AD5-46D8-8F43-F82E8A43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5525-3CE1-46A1-9673-EFEF5EF1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CCCD-27A8-4BAB-8D02-D7D7271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3832-7400-4E1F-AFCD-5ACAF6A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F2F6-4174-4EF9-97C6-5A840ED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8098B-27C5-46F4-BC9E-A4C6F469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1BA3-F3B6-46F4-962A-9E9D1243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54B8-AFEA-4395-8609-F7EAB858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8A34-647B-4A9B-951E-41C8F2B5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6DA1-CAAF-4C44-9713-A427CE2D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56A-924B-4228-A28B-C21C770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A677-9E14-4574-942A-0F227F9A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EF58-ED15-4309-83E6-8F5C00E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1A973-35A8-4B7F-9645-CAE6DC52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92D6B-2D74-45C3-A951-FACA145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0A86-A023-41C8-BB74-01FFA4D1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E826-5015-46B6-B8AD-6458EC65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7D5E-DD70-4D6C-B8D0-D4566867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9DB1-10D8-4F37-99F7-94C29638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66E1-1E9B-4A96-9CD2-0F083666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373-D570-4949-A482-3639DA67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E50-B106-4439-9FDE-EB582A5C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940-A4AD-4935-B982-A3C8795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258-D6B1-4284-AB4B-C5AF0721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AD8-E4DF-4616-A666-0CDF9F43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27F2B-8C01-445C-896B-C0E80B7B011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858BE-AF66-4FAC-8147-063689DEE77E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F6D7C-5AB2-4C88-83C5-0C751D73C93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01E6D-59E8-4BA9-A595-640B783B5109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4911840" y="2152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268640" y="189000"/>
            <a:ext cx="5108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«Пасха Христова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4" name="Picture 14" descr="jajtsa50"/>
          <p:cNvPicPr/>
          <p:nvPr/>
        </p:nvPicPr>
        <p:blipFill>
          <a:blip r:embed="rId1"/>
          <a:stretch/>
        </p:blipFill>
        <p:spPr>
          <a:xfrm>
            <a:off x="0" y="4375080"/>
            <a:ext cx="2247840" cy="24829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3769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497520" y="476280"/>
            <a:ext cx="816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Forte"/>
              </a:rPr>
              <a:t>«Раскрутка яиц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ют двое игроков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каждого – свое яйцо. Одновременно игроки раскручивают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и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асхальные яйц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а стол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кого яйцо дольше будет крутиться – тот и выигра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едитель забирает  яйцо проигравшего игрок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5" descr="03"/>
          <p:cNvPicPr/>
          <p:nvPr/>
        </p:nvPicPr>
        <p:blipFill>
          <a:blip r:embed="rId1"/>
          <a:stretch/>
        </p:blipFill>
        <p:spPr>
          <a:xfrm>
            <a:off x="1116000" y="3068640"/>
            <a:ext cx="5184720" cy="3548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bcd4f12513a0"/>
          <p:cNvPicPr/>
          <p:nvPr/>
        </p:nvPicPr>
        <p:blipFill>
          <a:blip r:embed="rId1"/>
          <a:stretch/>
        </p:blipFill>
        <p:spPr>
          <a:xfrm>
            <a:off x="826920" y="0"/>
            <a:ext cx="8066160" cy="43401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324000" y="4292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ками любимой пасхальной игрой на Руси было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атанье яиц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Для игры устанавливали деревянный «каток». Перед катком раскладывали  игрушечки, сувениры. Играющие дети подходили по очереди к «катку» и катили каждый свое яйцо. Выигрышем становился тот предмет, которого яичко коснулось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6156360" y="189000"/>
            <a:ext cx="248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инству известен обычай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итья яиц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Пасху. Игра совсем простая: один держит в руке яйцо носиком вверх, а другой бьет его носиком другого яйца. Тот, у которого яйцо остается целым, считался победител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8" descr="jajtsa50"/>
          <p:cNvPicPr/>
          <p:nvPr/>
        </p:nvPicPr>
        <p:blipFill>
          <a:blip r:embed="rId1"/>
          <a:stretch/>
        </p:blipFill>
        <p:spPr>
          <a:xfrm>
            <a:off x="0" y="4375080"/>
            <a:ext cx="2247840" cy="2482920"/>
          </a:xfrm>
          <a:prstGeom prst="rect">
            <a:avLst/>
          </a:prstGeom>
          <a:ln w="0">
            <a:noFill/>
          </a:ln>
        </p:spPr>
      </p:pic>
      <p:pic>
        <p:nvPicPr>
          <p:cNvPr id="243" name="Объект 3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51688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611280" y="258120"/>
            <a:ext cx="7812000" cy="1831320"/>
          </a:xfrm>
          <a:prstGeom prst="rect">
            <a:avLst/>
          </a:prstGeom>
          <a:solidFill>
            <a:srgbClr val="54a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иближается праздник Светлого Христова Воскресения – Пасх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Это большое событие в жизни христиан и отмечается с огромным торжеством и радость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7" name="Picture 9" descr="86020168_2971058_772084498"/>
          <p:cNvPicPr/>
          <p:nvPr/>
        </p:nvPicPr>
        <p:blipFill>
          <a:blip r:embed="rId1"/>
          <a:stretch/>
        </p:blipFill>
        <p:spPr>
          <a:xfrm>
            <a:off x="1116000" y="2273400"/>
            <a:ext cx="68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260280"/>
            <a:ext cx="3240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неделю до Пасхи в  воскресенье празднуется празд-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,  называемый 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Вербным воскресением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ященную в этот день вербу хранят в течение целого год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читается, что освященная верба приобрета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удодейственную силу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ствующую изгнанию нечистых дух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47368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4920" y="188640"/>
            <a:ext cx="8209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сха – это праздник всех праздников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Пасхе готовились, начиная с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еликого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Чистого четверга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т день весь дом убирали до сверкающей чистоты, красили и расписывали яйца, готовили    пасху, пекли куличи и мелкие мучные изделия в виде барашков, петушков, голубков; медовые пряники</a:t>
            </a:r>
            <a:r>
              <a:rPr b="1" lang="ru-RU" sz="2200" spc="-1" strike="noStrike">
                <a:solidFill>
                  <a:srgbClr val="c00000"/>
                </a:solidFill>
                <a:latin typeface="Trebuchet MS"/>
              </a:rPr>
              <a:t>.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5" descr="17-04-2009_25_im4-b"/>
          <p:cNvPicPr/>
          <p:nvPr/>
        </p:nvPicPr>
        <p:blipFill>
          <a:blip r:embed="rId1"/>
          <a:stretch/>
        </p:blipFill>
        <p:spPr>
          <a:xfrm>
            <a:off x="3203640" y="299736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51280" y="475920"/>
            <a:ext cx="48355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авние времена, яйца красить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ло принято только в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расный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вет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но в наше время люди этим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ограничиваются и делают яйц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цветными.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йца, окрашенные в один цвет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зывались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шенками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на общем цветном фоне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носились  пятна, полос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пинки другого  цвета - это был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панка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А еще  яйц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исывают сюжетными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зора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 marL="253800" indent="-2538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755640" y="353880"/>
            <a:ext cx="2747880" cy="20606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2"/>
          <a:stretch/>
        </p:blipFill>
        <p:spPr>
          <a:xfrm>
            <a:off x="709560" y="2414520"/>
            <a:ext cx="2840040" cy="2289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" descr=""/>
          <p:cNvPicPr/>
          <p:nvPr/>
        </p:nvPicPr>
        <p:blipFill>
          <a:blip r:embed="rId3"/>
          <a:stretch/>
        </p:blipFill>
        <p:spPr>
          <a:xfrm>
            <a:off x="681120" y="4581360"/>
            <a:ext cx="289728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1334472180_mn0pk7tvp4i1h8d"/>
          <p:cNvPicPr/>
          <p:nvPr/>
        </p:nvPicPr>
        <p:blipFill>
          <a:blip r:embed="rId1"/>
          <a:stretch/>
        </p:blipFill>
        <p:spPr>
          <a:xfrm>
            <a:off x="4635360" y="476280"/>
            <a:ext cx="3989520" cy="58323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27" name="Text Box 6"/>
          <p:cNvSpPr/>
          <p:nvPr/>
        </p:nvSpPr>
        <p:spPr>
          <a:xfrm>
            <a:off x="755640" y="907920"/>
            <a:ext cx="3529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Forte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ичи и пасхи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крашали окрашенным пшен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авшийся с Пасхи кулич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ьше сохраняли до Светлого Вознесения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упал через 40 дней после Пасх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Picture 7" descr="jajtsa50"/>
          <p:cNvPicPr/>
          <p:nvPr/>
        </p:nvPicPr>
        <p:blipFill>
          <a:blip r:embed="rId2"/>
          <a:stretch/>
        </p:blipFill>
        <p:spPr>
          <a:xfrm>
            <a:off x="0" y="7920"/>
            <a:ext cx="2482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755640" y="54849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Forte"/>
              </a:rPr>
              <a:t>Пасхальный стол отличался праздничным великолепием, был обильным и очень красивы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6696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0rv7ymspwe04rb9w"/>
          <p:cNvPicPr/>
          <p:nvPr/>
        </p:nvPicPr>
        <p:blipFill>
          <a:blip r:embed="rId1"/>
          <a:stretch/>
        </p:blipFill>
        <p:spPr>
          <a:xfrm>
            <a:off x="1835280" y="260280"/>
            <a:ext cx="6481800" cy="42940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755640" y="4653000"/>
            <a:ext cx="782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убботу на воскресенье наступала пасхальная ночь.  Верующие люди шли в церковь, брали с собой для освещения куличи и яйца. Дома оставались только маленькие дети, да глубокие стар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7" descr="jajtsa50"/>
          <p:cNvPicPr/>
          <p:nvPr/>
        </p:nvPicPr>
        <p:blipFill>
          <a:blip r:embed="rId2"/>
          <a:stretch/>
        </p:blipFill>
        <p:spPr>
          <a:xfrm>
            <a:off x="0" y="0"/>
            <a:ext cx="2482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04"/>
          <p:cNvPicPr/>
          <p:nvPr/>
        </p:nvPicPr>
        <p:blipFill>
          <a:blip r:embed="rId1"/>
          <a:stretch/>
        </p:blipFill>
        <p:spPr>
          <a:xfrm>
            <a:off x="4613400" y="260280"/>
            <a:ext cx="4174920" cy="6408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324000" y="1284120"/>
            <a:ext cx="371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асху мы радостно говорим: „Христос Воскресе!” и обмениваемся красными яичками. Этот обычай очень давний; Христос дал нам жизнь, а яйцо — это знак жизн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6" descr="jajtsa50"/>
          <p:cNvPicPr/>
          <p:nvPr/>
        </p:nvPicPr>
        <p:blipFill>
          <a:blip r:embed="rId2"/>
          <a:stretch/>
        </p:blipFill>
        <p:spPr>
          <a:xfrm>
            <a:off x="0" y="0"/>
            <a:ext cx="2482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1:41:58Z</dcterms:created>
  <dc:creator>GA</dc:creator>
  <dc:description/>
  <dc:language>en-US</dc:language>
  <cp:lastModifiedBy>Анна Кошан</cp:lastModifiedBy>
  <dcterms:modified xsi:type="dcterms:W3CDTF">2019-04-24T20:58:57Z</dcterms:modified>
  <cp:revision>24</cp:revision>
  <dc:subject/>
  <dc:title>Слайд 1</dc:title>
</cp:coreProperties>
</file>