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5AF6-13EB-4FF8-9960-812260734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B6BC-16CE-4AC6-9088-999CF553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AA08-C4D7-48B1-9374-AC4B9FBC5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D839-9DB7-49BD-B42A-060F8A65D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2D9D-2C4A-49ED-B289-95FFF8D28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4473-49B6-4295-987F-FD00E938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9917-26C1-4CF7-9C91-66709316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39B2-141F-450E-914D-7F13AF7A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5D67-C25A-4BCF-A22B-A3D1FCC0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1A1E-22C5-4227-9B3D-C5206F42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BD84-F4F4-46A9-AD23-EDF34B58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37D8-CF94-4BFD-8FF5-1EDF73C6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1A0F-7FA7-4B08-96F8-F66199A8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812E-6A35-4D8E-B7B3-EE203480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1CE2-7827-4B46-879C-103515AC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4712-48B8-45F7-A641-8157980A2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BFB7-A7A6-43DD-9F58-18B21073C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10C4E-C74E-4CFA-9EC9-483B2B4FA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F26AF-354D-49C7-927D-76713E7E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D5385-5A93-4A7A-A274-7C90BCBA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099BF-AA71-4F3D-8283-8E354331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FFF8E-6689-439D-A619-FEB3A96F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C79A-43AD-450F-A712-F179E134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19FC4-CD86-430C-B3A2-A1D05E1C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8ECE2-D14B-4A7B-A721-B750FC1D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47312-9604-4970-BE59-B767E84D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BEFA4-CCC7-47D0-BA52-68BFEA60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FFF25-D11D-4468-91E0-B6206E45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60A31-73D4-4CED-9CD0-CE1AF2E9C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C0569-1F2F-4A5F-BBD3-0D3BF530D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187E2-F928-4A69-8987-4DAB7253A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5480B-A6F1-4982-BB37-82388E85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E7FE8-370C-4033-8386-2301E065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E12D-E128-4D03-8DDE-B782682F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4F505-A5C6-4944-B343-B35CBAA3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C8588-9C13-48F6-87F7-4528775E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4FDA3-1512-46AD-99F9-762C6729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B7F13-7018-4294-A1BD-3C9E79DD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EDA73-B553-429D-A1E3-5BFA4B25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71B34-40E1-4F27-BAB0-92E34D06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3B5F7-73BB-46D4-8949-785DADFC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D1EDC-2674-4B93-9BDE-8B4395496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0F10F-A124-4A4C-A5BA-0D86AC3C2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34AC-260B-4302-90CB-2CE630A8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6928-A424-44A4-A126-3D824B18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029D-6303-4149-A368-79F985AC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A482-3109-414E-96B8-96576B67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67AD-80CB-4A15-BD79-084C2D7E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5805A7-CB73-48D9-844A-BCFAF8406B08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325AA7-A3C6-44F3-88A3-955D3CBF26C7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E1F0CC-2DB5-444B-ACBF-E165A1132E28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7899A3-7E52-45D5-8093-2DCCC655963C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4911840" y="2152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1268640" y="189000"/>
            <a:ext cx="51080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«Пасха Христова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4" name="Picture 14" descr="jajtsa50"/>
          <p:cNvPicPr/>
          <p:nvPr/>
        </p:nvPicPr>
        <p:blipFill>
          <a:blip r:embed="rId1"/>
          <a:stretch/>
        </p:blipFill>
        <p:spPr>
          <a:xfrm>
            <a:off x="0" y="4375080"/>
            <a:ext cx="2247840" cy="248292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2" descr=""/>
          <p:cNvPicPr/>
          <p:nvPr/>
        </p:nvPicPr>
        <p:blipFill>
          <a:blip r:embed="rId2"/>
          <a:stretch/>
        </p:blipFill>
        <p:spPr>
          <a:xfrm>
            <a:off x="1619280" y="1700280"/>
            <a:ext cx="53769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4"/>
          <p:cNvSpPr/>
          <p:nvPr/>
        </p:nvSpPr>
        <p:spPr>
          <a:xfrm>
            <a:off x="497520" y="476280"/>
            <a:ext cx="816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Forte"/>
              </a:rPr>
              <a:t>«Раскрутка яиц»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ают двое игроков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 каждого – свое яйцо. Одновременно игроки раскручивают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ои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пасхальные яйца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на столе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 кого яйцо дольше будет крутиться – тот и выиграл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бедитель забирает  яйцо проигравшего игрока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Picture 5" descr="03"/>
          <p:cNvPicPr/>
          <p:nvPr/>
        </p:nvPicPr>
        <p:blipFill>
          <a:blip r:embed="rId1"/>
          <a:stretch/>
        </p:blipFill>
        <p:spPr>
          <a:xfrm>
            <a:off x="1116000" y="3068640"/>
            <a:ext cx="5184720" cy="354816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4" descr="bcd4f12513a0"/>
          <p:cNvPicPr/>
          <p:nvPr/>
        </p:nvPicPr>
        <p:blipFill>
          <a:blip r:embed="rId1"/>
          <a:stretch/>
        </p:blipFill>
        <p:spPr>
          <a:xfrm>
            <a:off x="826920" y="0"/>
            <a:ext cx="8066160" cy="43401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324000" y="429264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ками любимой пасхальной игрой на Руси было 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катанье яиц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Для игры устанавливали деревянный «каток». Перед катком раскладывали  игрушечки, сувениры. Играющие дети подходили по очереди к «катку» и катили каждый свое яйцо. Выигрышем становился тот предмет, которого яичко коснулось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5"/>
          <p:cNvSpPr/>
          <p:nvPr/>
        </p:nvSpPr>
        <p:spPr>
          <a:xfrm>
            <a:off x="6156360" y="189000"/>
            <a:ext cx="2489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ольшинству известен обычай 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битья яиц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Пасху. Игра совсем простая: один держит в руке яйцо носиком вверх, а другой бьет его носиком другого яйца. Тот, у которого яйцо остается целым, считался победителе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2" name="Picture 8" descr="jajtsa50"/>
          <p:cNvPicPr/>
          <p:nvPr/>
        </p:nvPicPr>
        <p:blipFill>
          <a:blip r:embed="rId1"/>
          <a:stretch/>
        </p:blipFill>
        <p:spPr>
          <a:xfrm>
            <a:off x="0" y="4375080"/>
            <a:ext cx="2247840" cy="2482920"/>
          </a:xfrm>
          <a:prstGeom prst="rect">
            <a:avLst/>
          </a:prstGeom>
          <a:ln w="0">
            <a:noFill/>
          </a:ln>
        </p:spPr>
      </p:pic>
      <p:pic>
        <p:nvPicPr>
          <p:cNvPr id="243" name="Объект 3" descr=""/>
          <p:cNvPicPr/>
          <p:nvPr/>
        </p:nvPicPr>
        <p:blipFill>
          <a:blip r:embed="rId2"/>
          <a:stretch/>
        </p:blipFill>
        <p:spPr>
          <a:xfrm>
            <a:off x="684360" y="765000"/>
            <a:ext cx="516888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611280" y="258120"/>
            <a:ext cx="7812000" cy="1831320"/>
          </a:xfrm>
          <a:prstGeom prst="rect">
            <a:avLst/>
          </a:prstGeom>
          <a:solidFill>
            <a:srgbClr val="54a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риближается праздник Светлого Христова Воскресения – Пасха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Это большое событие в жизни христиан и отмечается с огромным торжеством и радостью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7" name="Picture 9" descr="86020168_2971058_772084498"/>
          <p:cNvPicPr/>
          <p:nvPr/>
        </p:nvPicPr>
        <p:blipFill>
          <a:blip r:embed="rId1"/>
          <a:stretch/>
        </p:blipFill>
        <p:spPr>
          <a:xfrm>
            <a:off x="1116000" y="2273400"/>
            <a:ext cx="68407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324000" y="260280"/>
            <a:ext cx="32400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 неделю до Пасхи в  воскресенье празднуется празд-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ик,  называемый </a:t>
            </a:r>
            <a:r>
              <a:rPr b="1" i="1" lang="ru-RU" sz="24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Вербным воскресением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вященную в этот день вербу хранят в течение целого года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читается, что освященная верба приобретае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удодейственную силу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особствующую изгнанию нечистых духов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9" name="Рисунок 1" descr=""/>
          <p:cNvPicPr/>
          <p:nvPr/>
        </p:nvPicPr>
        <p:blipFill>
          <a:blip r:embed="rId1"/>
          <a:stretch/>
        </p:blipFill>
        <p:spPr>
          <a:xfrm>
            <a:off x="3564000" y="1773360"/>
            <a:ext cx="47368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94920" y="188640"/>
            <a:ext cx="8209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асха – это праздник всех праздников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 Пасхе готовились, начиная с </a:t>
            </a: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Великого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или </a:t>
            </a: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Чистого четверга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этот день весь дом убирали до сверкающей чистоты, красили и расписывали яйца, готовили    пасху, пекли куличи и мелкие мучные изделия в виде барашков, петушков, голубков; медовые пряники</a:t>
            </a:r>
            <a:r>
              <a:rPr b="1" lang="ru-RU" sz="2200" spc="-1" strike="noStrike">
                <a:solidFill>
                  <a:srgbClr val="c00000"/>
                </a:solidFill>
                <a:latin typeface="Trebuchet MS"/>
              </a:rPr>
              <a:t>.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1" name="Picture 5" descr="17-04-2009_25_im4-b"/>
          <p:cNvPicPr/>
          <p:nvPr/>
        </p:nvPicPr>
        <p:blipFill>
          <a:blip r:embed="rId1"/>
          <a:stretch/>
        </p:blipFill>
        <p:spPr>
          <a:xfrm>
            <a:off x="3203640" y="2997360"/>
            <a:ext cx="504036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851280" y="475920"/>
            <a:ext cx="48355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0000ff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давние времена, яйца красить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53800" indent="-2538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ыло принято только в 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красный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53800" indent="-2538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цвет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но в наше время люди этим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53800" indent="-2538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ограничиваются и делают яйца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53800" indent="-2538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ноцветными.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53800" indent="-2538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53800" indent="-2538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53800" indent="-2538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53800" indent="-2538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йца, окрашенные в один цвет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53800" indent="-2538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зывались </a:t>
            </a: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рашенками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53800" indent="-2538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сли на общем цветном фоне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53800" indent="-2538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носились  пятна, полоски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53800" indent="-2538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апинки другого  цвета - это был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53800" indent="-2538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рапанка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А еще  яйца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53800" indent="-2538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писывают сюжетными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53800" indent="-2538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зорами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53800" indent="-2538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53800" indent="-2538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404040"/>
              </a:solidFill>
              <a:latin typeface="Trebuchet MS"/>
            </a:endParaRPr>
          </a:p>
          <a:p>
            <a:pPr marL="253800" indent="-2538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3" name="Рисунок 1" descr=""/>
          <p:cNvPicPr/>
          <p:nvPr/>
        </p:nvPicPr>
        <p:blipFill>
          <a:blip r:embed="rId1"/>
          <a:stretch/>
        </p:blipFill>
        <p:spPr>
          <a:xfrm>
            <a:off x="755640" y="353880"/>
            <a:ext cx="2747880" cy="206064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2" descr=""/>
          <p:cNvPicPr/>
          <p:nvPr/>
        </p:nvPicPr>
        <p:blipFill>
          <a:blip r:embed="rId2"/>
          <a:stretch/>
        </p:blipFill>
        <p:spPr>
          <a:xfrm>
            <a:off x="709560" y="2414520"/>
            <a:ext cx="2840040" cy="228924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3" descr=""/>
          <p:cNvPicPr/>
          <p:nvPr/>
        </p:nvPicPr>
        <p:blipFill>
          <a:blip r:embed="rId3"/>
          <a:stretch/>
        </p:blipFill>
        <p:spPr>
          <a:xfrm>
            <a:off x="681120" y="4581360"/>
            <a:ext cx="2897280" cy="21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5" descr="1334472180_mn0pk7tvp4i1h8d"/>
          <p:cNvPicPr/>
          <p:nvPr/>
        </p:nvPicPr>
        <p:blipFill>
          <a:blip r:embed="rId1"/>
          <a:stretch/>
        </p:blipFill>
        <p:spPr>
          <a:xfrm>
            <a:off x="4635360" y="476280"/>
            <a:ext cx="3989520" cy="583236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227" name="Text Box 6"/>
          <p:cNvSpPr/>
          <p:nvPr/>
        </p:nvSpPr>
        <p:spPr>
          <a:xfrm>
            <a:off x="755640" y="907920"/>
            <a:ext cx="352908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Forte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уличи и пасхи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крашали окрашенным пшеном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тавшийся с Пасхи кулич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ньше сохраняли до Светлого Вознесения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торы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ступал через 40 дней после Пасх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Picture 7" descr="jajtsa50"/>
          <p:cNvPicPr/>
          <p:nvPr/>
        </p:nvPicPr>
        <p:blipFill>
          <a:blip r:embed="rId2"/>
          <a:stretch/>
        </p:blipFill>
        <p:spPr>
          <a:xfrm>
            <a:off x="0" y="7920"/>
            <a:ext cx="24829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3"/>
          <p:cNvSpPr/>
          <p:nvPr/>
        </p:nvSpPr>
        <p:spPr>
          <a:xfrm>
            <a:off x="755640" y="548496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Forte"/>
              </a:rPr>
              <a:t>Пасхальный стол отличался праздничным великолепием, был обильным и очень красивым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Рисунок 1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669600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0rv7ymspwe04rb9w"/>
          <p:cNvPicPr/>
          <p:nvPr/>
        </p:nvPicPr>
        <p:blipFill>
          <a:blip r:embed="rId1"/>
          <a:stretch/>
        </p:blipFill>
        <p:spPr>
          <a:xfrm>
            <a:off x="1835280" y="260280"/>
            <a:ext cx="6481800" cy="42940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5"/>
          <p:cNvSpPr/>
          <p:nvPr/>
        </p:nvSpPr>
        <p:spPr>
          <a:xfrm>
            <a:off x="755640" y="4653000"/>
            <a:ext cx="782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субботу на воскресенье наступала пасхальная ночь.  Верующие люди шли в церковь, брали с собой для освещения куличи и яйца. Дома оставались только маленькие дети, да глубокие старик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Picture 7" descr="jajtsa50"/>
          <p:cNvPicPr/>
          <p:nvPr/>
        </p:nvPicPr>
        <p:blipFill>
          <a:blip r:embed="rId2"/>
          <a:stretch/>
        </p:blipFill>
        <p:spPr>
          <a:xfrm>
            <a:off x="0" y="0"/>
            <a:ext cx="24829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04"/>
          <p:cNvPicPr/>
          <p:nvPr/>
        </p:nvPicPr>
        <p:blipFill>
          <a:blip r:embed="rId1"/>
          <a:stretch/>
        </p:blipFill>
        <p:spPr>
          <a:xfrm>
            <a:off x="4613400" y="260280"/>
            <a:ext cx="4174920" cy="640872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"/>
          <p:cNvSpPr/>
          <p:nvPr/>
        </p:nvSpPr>
        <p:spPr>
          <a:xfrm>
            <a:off x="324000" y="1284120"/>
            <a:ext cx="3714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Пасху мы радостно говорим: „Христос Воскресе!” и обмениваемся красными яичками. Этот обычай очень давний; Христос дал нам жизнь, а яйцо — это знак жизн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Picture 6" descr="jajtsa50"/>
          <p:cNvPicPr/>
          <p:nvPr/>
        </p:nvPicPr>
        <p:blipFill>
          <a:blip r:embed="rId2"/>
          <a:stretch/>
        </p:blipFill>
        <p:spPr>
          <a:xfrm>
            <a:off x="0" y="0"/>
            <a:ext cx="24829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8T11:41:58Z</dcterms:created>
  <dc:creator>GA</dc:creator>
  <dc:description/>
  <dc:language>en-US</dc:language>
  <cp:lastModifiedBy>Анна Кошан</cp:lastModifiedBy>
  <dcterms:modified xsi:type="dcterms:W3CDTF">2019-04-24T20:58:57Z</dcterms:modified>
  <cp:revision>24</cp:revision>
  <dc:subject/>
  <dc:title>Слайд 1</dc:title>
</cp:coreProperties>
</file>