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151C-B7CB-4589-ACE7-3F331D403E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9E22-006E-49BF-894F-14BC58EA6D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процессе исследования был разработан алгоритм совершенствования процесса подготовки финансовой информации компании, который представлен на слайде №6. Финансовая информация является основным источником данных о компании и поэтому в первую очередь для компании необходимо понимание и осознание важности своевременной подготовки достоверной финансовой информации по международным подходам. Следующим этапом является осуществление диагностики процесса подготовки ФИ в компании и выявление основных проблем. Одной из наиболее серьезных и дискуссионных проблем является недостаточный уровень прозрачности и раскрытий российских компаний, в связи с чем существует огромное количество возможностей использования манипуляций с данными для создания наиболее привлекательной картины деятель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лее компании необходимо разработать алгоритм путей решения всех имеющихся в компании проблем. В диссертации была рассмотрена автоматизация всех процессов по созданию финансовой информации в компании, как наиболее часто используемый и один из наиболее эффективных инструментальных методов, который решает сразу несколько задач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идеале только после решения указанных проблем компания должна начинать задумываться о привлечении финансирования и выходе на финансовые рынки. В диссертации как пример рассматривается первичное публичное размещение акций, все плюсы и минусы данного процесса, а также непосредственное участие, которое принимает финансовая информация в данном процессе, оцениваются требования инвестор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икакая современная компания не может и не должна функционировать без эффективной системы управления стоимостью компании, поскольку это достаточно важный показатель, который анализируется инвесторами и собственниками компании. Каждая компания должна быть готова к тому, что в процессе общения с инвесторами ей необходимо будет подготовить финансовую модель будущего развития компании. Это не бюджет и не план, который должен строго соблюдаться и инвесторы это понимают, но это источник информации о том, как компания видит свое развитие в будущем, основные тенденции и направления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DDBB-D1A1-42C7-8E75-C8B45E1664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процессе исследования был разработан алгоритм совершенствования процесса подготовки финансовой информации компании, который представлен на слайде №6. Финансовая информация является основным источником данных о компании и поэтому в первую очередь для компании необходимо понимание и осознание важности своевременной подготовки достоверной финансовой информации по международным подходам. Следующим этапом является осуществление диагностики процесса подготовки ФИ в компании и выявление основных проблем. Одной из наиболее серьезных и дискуссионных проблем является недостаточный уровень прозрачности и раскрытий российских компаний, в связи с чем существует огромное количество возможностей использования манипуляций с данными для создания наиболее привлекательной картины деятель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лее компании необходимо разработать алгоритм путей решения всех имеющихся в компании проблем. В диссертации была рассмотрена автоматизация всех процессов по созданию финансовой информации в компании, как наиболее часто используемый и один из наиболее эффективных инструментальных методов, который решает сразу несколько задач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идеале только после решения указанных проблем компания должна начинать задумываться о привлечении финансирования и выходе на финансовые рынки. В диссертации как пример рассматривается первичное публичное размещение акций, все плюсы и минусы данного процесса, а также непосредственное участие, которое принимает финансовая информация в данном процессе, оцениваются требования инвестор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икакая современная компания не может и не должна функционировать без эффективной системы управления стоимостью компании, поскольку это достаточно важный показатель, который анализируется инвесторами и собственниками компании. Каждая компания должна быть готова к тому, что в процессе общения с инвесторами ей необходимо будет подготовить финансовую модель будущего развития компании. Это не бюджет и не план, который должен строго соблюдаться и инвесторы это понимают, но это источник информации о том, как компания видит свое развитие в будущем, основные тенденции и направления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255A-251D-4516-AAF8-1B4297454B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33A-CFA4-48DC-8AFB-F3EE6A52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473-C143-481B-BA38-D888627A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EBAD3-C9DF-4101-B431-5EF7A2CA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26E4C-586D-483D-892C-2E82BEDC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2B976-5B7A-4BA3-8C87-D08D02CF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4B694-25EA-47E5-B008-84A5218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28C2A-6104-463F-9523-3A0B6DD4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B1E82-2209-45F1-A3D2-86FFC7F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82FBA-F8B3-49D4-B138-8B099596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1D26F-CDAF-4C43-87CC-C93E12DF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AFB6C-595E-4414-B7E5-3D7783FF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1A76B-15E7-4142-A9F7-87320D03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1400-7AED-406D-975D-2CB836F7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39A35-B715-4A8E-96D9-5F6E1BF4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A7CA7-7329-48A6-812E-48BE15B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7D6BC-E529-4F63-A834-3E33A872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8331B-E821-4BCF-92CB-83B6C42A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07640-3922-421E-9BAE-0872F893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F9144-A9C6-45B4-A2CD-3B5D6CD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690B7-24E5-4B7C-BA30-0ACE156A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4BCBB-27F8-4E9A-BA23-72A378AD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7C86A-E16E-4EE2-BBCB-83132FDD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1E6F8-722D-4FE3-8195-E9F3D6A8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6D5-501C-4AD0-B86D-1966AD04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2024C-FEDA-4851-B4F7-F4214101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B5140-9392-4D17-A933-49B6DCC0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E6074-208A-44FC-AFD0-7BD50066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4B419-AADE-4090-8000-279E154D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AE347-56F7-44B6-9873-42AA2249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9C429-E19A-47A8-AFC1-4A388A44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2A247-0C91-4E23-9CB7-B6F80EC5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42F89-952E-4C3C-86E8-9B1B96D2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EEE8E-D998-4FA0-B78F-D01074EE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89004-81B2-42EE-B316-9AB2472C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BDAA-3162-4FB4-959F-3A339ACB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09B7E-4FAA-484D-A0D0-E8D19E57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51AD4-1A67-46A3-B056-3326F1E7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A83A6-F8B3-43AA-9B2B-DE992C4A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13605-34A8-48D9-825D-065DE4DA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8EF58-0076-4461-8034-CA522D2F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F48D9-937E-4DF8-A9C2-DAB39A1C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F47C6-1CC0-4D9E-8BFF-39B0D7A7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39549-E5DD-4140-AC5C-F38CEECC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17001-7FC2-4F1B-8CA0-CB39F3EB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E4515-FD05-49DB-8148-1AECBC2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AE38-085E-4A20-94A4-C782347E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827F1-1DE2-464B-BE9E-736A8D47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94765-F480-43B5-90BA-A06C6F50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93DC6-3F9C-4D9E-A7A6-634A3F02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CDFC5-BC40-47EA-9178-6C3A6C2B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A02CD-F120-4C43-97FA-4AB57D2D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5888-BD16-4051-8C25-C1C7031C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0AAC-6846-4DD7-AFD6-021BAAC0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38F4-B305-44DB-A45B-CB1B7F2E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CECB-066F-4EE7-AF04-3797F716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E872-98AD-4D0D-9189-E6112E87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D82-DA16-4B3C-9CFF-949A6781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D41D-B50D-4569-8928-BDECB19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83B8-CD8C-4A91-9018-5D37C2AC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9DF2-52CE-4121-82C7-8A85162E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04CC-A6B9-41A7-A5E5-45703379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39A1-B6DB-42BC-8EEC-956261A4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FDC6-98C7-452B-85F0-A720F29C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3DCF-5E37-470E-A69C-BA796F30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840D-2EFB-4FA8-85DC-F575596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0DC11-4257-4705-907B-757CFA6B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5DD8-1D70-42BA-8FC1-1A25742E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D65-23FB-4FC8-B586-3CEDB552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6950-1928-4A5A-8B42-F20534B7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EB64-548D-43E3-8F03-C4DAA1C5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F50D-10B3-4672-9FC2-0CB54625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56AC-78CC-4DCB-9A28-BCBE70B2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4919-38DC-4379-A122-A9877E3D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7FF84-9093-4DDC-8001-471C2853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F9FCA-8C13-4180-B25A-18F3A7CD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7CAA-D119-4F2A-802A-BACD043B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8E5D-2418-43CF-B481-EB19C8C5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902A-B8B7-46C6-A492-0073ADAB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787-E353-4E69-8D54-B1DB9762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EB658-B57E-482C-BDCE-D488307E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D3C4-E3D3-4931-98EF-3A60D2D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4383-0692-4CBA-88D3-9BEE0B87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3F2C-FF4B-491A-9BBF-8C1C6028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1C1F-A8EE-40BE-B3C4-D5F26FA5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7D44E-0354-436A-BEE3-AAADC001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C0DD-E017-4A5B-B9F9-B4569DA5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B6CC-217B-4C23-A433-09E130DF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0CD6-42A9-4615-A9DA-476E54AA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877B5-1C65-4F94-B772-BB2EBB9B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38E-A4D2-425A-975A-EDD1AB3A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3F99A-6034-4615-9EB9-576327E8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8709E-F3E9-4E76-AB48-209B4A81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06EEA-F4B6-4987-A045-97509E03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25012-A561-4C58-8290-6F895698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A790-23A2-42C9-B3D0-EF37CC79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687EC-D516-427E-B2E6-730B8889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156E-27B2-4851-BD41-A8475B22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F78C-2734-46ED-BED3-012F419A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FEFA2-A90C-4BE7-A2AE-83261952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0A4C5-6AC7-4142-AC41-73A93B0B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B99-E8BE-44DC-8487-38195BC0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C4E0-2311-43D8-A72A-7339D2E8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959C3-E736-4907-9B4A-6924DAFD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E741A-10A5-4069-BBD2-BE28C909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9BB1B-51F5-4780-A8C0-C36EDB8B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72BD2-4CCD-4839-9F9C-32D311C4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4B40-ABA5-4E93-895B-F932A365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05119-98C6-47F3-A372-67944431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306F5-6DA3-42DA-A83B-F0A12389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C554-B27F-4077-9439-A6DF9F00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8273B-5BF3-4294-9B6B-26D07C5A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EC8-818A-41C0-A75D-C3F22260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F653-F4EA-4624-B380-59F6F5FB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87024-90E8-4842-81A3-9B155B65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ED1F2-FE09-4B27-A6AE-E8C42D0E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3EB7-541B-4435-884E-7769F94C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F62D2-470B-4FC9-A4FA-4B7B0317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7A37-3E15-49A4-B893-FD8E8E0E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A1375-F071-491C-8C1B-0B07BF9D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CBD13-6486-4A1B-A3AB-ACB693F9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96C41-CFE4-49F5-B906-72BD6E95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F8FB4-6E69-4CF5-8097-69444AE0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3EE-2C9A-4320-96EE-7626A566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8800D-0E5E-40A3-B81E-EE704D8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9D1F7-828C-4A98-94D9-FDB676E3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4E176-9093-45B5-ABE1-8D6921AB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8114A-96A0-4E90-B72C-7F670B61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E4FA2-1256-4EA8-AAEB-AAB637B7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905BE-8559-4211-A202-FB7B7703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E795E-6B33-4C62-9F44-12710AFE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EEAE3-AF1F-4C4A-A7FB-E63DB506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1411C-DFED-402F-BD7F-26204A79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7AA2C-C875-4375-855B-770149E8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0A8-E688-4756-93A3-C549A394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8BF74-584C-401D-A6F1-0EAA94B8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06F38-02BE-4BC2-888C-F056BBAA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EC2BB-B996-4EC8-9A70-9D1A4EA5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E7670-80E8-4CE1-A0F6-EAEF6E15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014A5-731B-46AD-B7E6-EC666C9B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750B1-09B8-4DD8-ADBB-5D08514F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AACF8-0C20-4D0E-85BF-3A501519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C8D67-D1AF-4386-8F8E-E4760140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B45FF-8630-4E46-86C4-00AD082A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0ADFC-D166-4491-8C3F-015BB8D1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D32D-5716-49AD-929D-B952A5D59DBD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4D55-2488-448D-A071-B4831F1F983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00" name="Rectangle 7" descr=""/>
            <p:cNvPicPr/>
            <p:nvPr/>
          </p:nvPicPr>
          <p:blipFill>
            <a:blip r:embed="rId2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03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07" name="Oval 10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9170-2FC5-4C8E-89F0-4026F64E215E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657E-C5AA-44DA-B951-3B666F07B08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788C-6E0E-4FE4-9CCE-5861F4AA1F32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CCD-F655-4955-BBDD-58C547B0B7D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34E9-C817-4FFA-8DBB-A0435B26D2CB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13CA-5588-479F-A864-C62B34CC8FF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D5D9-7939-4D17-A4CB-69478F5B0E06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CB32-0B29-46E6-A4A0-CA7BE6DCA82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AD5D-5F17-47FC-93CB-E44F445668FE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A3F8-98B7-4383-93A9-72117C89D46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4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4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1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62DF-2BDF-4598-A232-0722658A940A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FF42-B670-4DC2-BCAA-3A6F44EBFE5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679A-5796-4E36-9437-C929BA192327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206-16D5-4B45-AE7A-8B1D5AB1620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A803-4D60-4D37-A3EB-AD20240DD4FC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271B-FF8E-4BAD-B0D3-144EC37264C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5F79-0E5E-4D94-A208-1A77BFD66937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0F87-5BED-4E5F-9F21-A3A0376950A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FD0A-C743-424A-9C02-43671850305F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8AEB-4725-4E63-A82F-7E8364784A7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a6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7CDD-B672-4453-AA75-A0F6C425B7A9}" type="datetime">
              <a:rPr b="1" lang="ru-RU" sz="1100" spc="-1" strike="noStrike">
                <a:solidFill>
                  <a:srgbClr val="7f7f7f"/>
                </a:solidFill>
                <a:latin typeface="Trebuchet MS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28AB-E7ED-4ED7-8ABA-631E4BE672A2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Заголовок 1"/>
          <p:cNvSpPr/>
          <p:nvPr/>
        </p:nvSpPr>
        <p:spPr>
          <a:xfrm>
            <a:off x="642960" y="2643120"/>
            <a:ext cx="8229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5"/>
          <p:cNvSpPr/>
          <p:nvPr/>
        </p:nvSpPr>
        <p:spPr>
          <a:xfrm>
            <a:off x="1071720" y="642960"/>
            <a:ext cx="74293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abic Typesetting"/>
              </a:rPr>
              <a:t>ГБОУ Школа № 967 СВ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abic Typesetting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Arabic Typesetting"/>
              </a:rPr>
              <a:t>Дошкольное подразделение №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Изобразительное творч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ко Дню космонав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Гр. №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49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rebuchet MS"/>
              </a:rPr>
              <a:t>Аппликация «Космонавт»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Номер слайда 3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BC4C-E347-4958-909B-DBC062BC9DBF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7" descr="C:\Users\Вадим\Desktop\МАМА РАБОТА 2018-2019\Проект Животные\Апрель\Аппликация космонавт и солнечная система\IMG-20190408-WA0001.jpg"/>
          <p:cNvPicPr/>
          <p:nvPr/>
        </p:nvPicPr>
        <p:blipFill>
          <a:blip r:embed="rId1"/>
          <a:stretch/>
        </p:blipFill>
        <p:spPr>
          <a:xfrm>
            <a:off x="4429080" y="1071720"/>
            <a:ext cx="2786040" cy="4960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C:\Users\Вадим\Desktop\МАМА РАБОТА 2018-2019\Проект Животные\Апрель\Аппликация космонавт и солнечная система\IMG-20190406-WA0008.jpg"/>
          <p:cNvPicPr/>
          <p:nvPr/>
        </p:nvPicPr>
        <p:blipFill>
          <a:blip r:embed="rId2"/>
          <a:stretch/>
        </p:blipFill>
        <p:spPr>
          <a:xfrm>
            <a:off x="1357200" y="1071720"/>
            <a:ext cx="27687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496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rebuchet MS"/>
              </a:rPr>
              <a:t>«Солнечная система»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Номер слайда 3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A5DB-3558-40AE-BB2B-C3563C54009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7" descr="C:\Users\Вадим\Desktop\МАМА РАБОТА 2018-2019\Проект Животные\Апрель\Аппликация космонавт и солнечная система\IMG-20190406-WA0005.jpg"/>
          <p:cNvPicPr/>
          <p:nvPr/>
        </p:nvPicPr>
        <p:blipFill>
          <a:blip r:embed="rId1"/>
          <a:stretch/>
        </p:blipFill>
        <p:spPr>
          <a:xfrm>
            <a:off x="642960" y="1000080"/>
            <a:ext cx="4970520" cy="2790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C:\Users\Вадим\Desktop\МАМА РАБОТА 2018-2019\Проект Животные\Апрель\Аппликация космонавт и солнечная система\IMG-20190408-WA0002.jpg"/>
          <p:cNvPicPr/>
          <p:nvPr/>
        </p:nvPicPr>
        <p:blipFill>
          <a:blip r:embed="rId2"/>
          <a:stretch/>
        </p:blipFill>
        <p:spPr>
          <a:xfrm>
            <a:off x="5786280" y="1000080"/>
            <a:ext cx="3168720" cy="5643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9" descr="C:\Users\Вадим\Desktop\МАМА РАБОТА 2018-2019\Проект Животные\Апрель\Аппликация космонавт и солнечная система\IMG-20190406-WA0014.jpg"/>
          <p:cNvPicPr/>
          <p:nvPr/>
        </p:nvPicPr>
        <p:blipFill>
          <a:blip r:embed="rId3"/>
          <a:stretch/>
        </p:blipFill>
        <p:spPr>
          <a:xfrm>
            <a:off x="642960" y="3929040"/>
            <a:ext cx="4929120" cy="26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1:54:23Z</dcterms:created>
  <dc:creator>Вадим</dc:creator>
  <dc:description/>
  <dc:language>en-US</dc:language>
  <cp:lastModifiedBy>Вадим</cp:lastModifiedBy>
  <cp:lastPrinted>2013-11-01T15:09:25Z</cp:lastPrinted>
  <dcterms:modified xsi:type="dcterms:W3CDTF">2019-04-25T11:51:45Z</dcterms:modified>
  <cp:revision>352</cp:revision>
  <dc:subject/>
  <dc:title>Слайд 1</dc:title>
</cp:coreProperties>
</file>