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4C73-C852-4E1D-AEC5-E548BB9F75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CD3F-9E51-4263-8C0F-C60B6C4002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процессе исследования был разработан алгоритм совершенствования процесса подготовки финансовой информации компании, который представлен на слайде №6. Финансовая информация является основным источником данных о компании и поэтому в первую очередь для компании необходимо понимание и осознание важности своевременной подготовки достоверной финансовой информации по международным подходам. Следующим этапом является осуществление диагностики процесса подготовки ФИ в компании и выявление основных проблем. Одной из наиболее серьезных и дискуссионных проблем является недостаточный уровень прозрачности и раскрытий российских компаний, в связи с чем существует огромное количество возможностей использования манипуляций с данными для создания наиболее привлекательной картины деятель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лее компании необходимо разработать алгоритм путей решения всех имеющихся в компании проблем. В диссертации была рассмотрена автоматизация всех процессов по созданию финансовой информации в компании, как наиболее часто используемый и один из наиболее эффективных инструментальных методов, который решает сразу несколько задач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идеале только после решения указанных проблем компания должна начинать задумываться о привлечении финансирования и выходе на финансовые рынки. В диссертации как пример рассматривается первичное публичное размещение акций, все плюсы и минусы данного процесса, а также непосредственное участие, которое принимает финансовая информация в данном процессе, оцениваются требования инвестор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икакая современная компания не может и не должна функционировать без эффективной системы управления стоимостью компании, поскольку это достаточно важный показатель, который анализируется инвесторами и собственниками компании. Каждая компания должна быть готова к тому, что в процессе общения с инвесторами ей необходимо будет подготовить финансовую модель будущего развития компании. Это не бюджет и не план, который должен строго соблюдаться и инвесторы это понимают, но это источник информации о том, как компания видит свое развитие в будущем, основные тенденции и направления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1ADF-140A-4F30-8399-A898A991D8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процессе исследования был разработан алгоритм совершенствования процесса подготовки финансовой информации компании, который представлен на слайде №6. Финансовая информация является основным источником данных о компании и поэтому в первую очередь для компании необходимо понимание и осознание важности своевременной подготовки достоверной финансовой информации по международным подходам. Следующим этапом является осуществление диагностики процесса подготовки ФИ в компании и выявление основных проблем. Одной из наиболее серьезных и дискуссионных проблем является недостаточный уровень прозрачности и раскрытий российских компаний, в связи с чем существует огромное количество возможностей использования манипуляций с данными для создания наиболее привлекательной картины деятель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лее компании необходимо разработать алгоритм путей решения всех имеющихся в компании проблем. В диссертации была рассмотрена автоматизация всех процессов по созданию финансовой информации в компании, как наиболее часто используемый и один из наиболее эффективных инструментальных методов, который решает сразу несколько задач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идеале только после решения указанных проблем компания должна начинать задумываться о привлечении финансирования и выходе на финансовые рынки. В диссертации как пример рассматривается первичное публичное размещение акций, все плюсы и минусы данного процесса, а также непосредственное участие, которое принимает финансовая информация в данном процессе, оцениваются требования инвестор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икакая современная компания не может и не должна функционировать без эффективной системы управления стоимостью компании, поскольку это достаточно важный показатель, который анализируется инвесторами и собственниками компании. Каждая компания должна быть готова к тому, что в процессе общения с инвесторами ей необходимо будет подготовить финансовую модель будущего развития компании. Это не бюджет и не план, который должен строго соблюдаться и инвесторы это понимают, но это источник информации о том, как компания видит свое развитие в будущем, основные тенденции и направления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B5DA-2DDA-418F-B482-2E9BC8EC44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0F3-6721-480C-B11B-87696610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661-FCBB-4498-AAF4-B4EBE055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43823-706C-43F7-856F-E4165643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2AB30-DEAA-4F98-A36A-24F66EE8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3976F-89FA-437A-8AB9-692513F4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EE7F1-F8C8-4DAB-A5D0-9D2129F8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53593-5AC1-4842-A199-EDAF985D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70CDC-5FE0-4D94-9875-684E3502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60AF5-0157-464C-A040-1651E586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24E41-ADC5-49A4-89F4-BDA1C694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A7C30-0739-4045-B957-26EE3E2B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68EA6-AFC0-40F5-89AF-B690B3F3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862-7532-4839-AF02-DB6EF4EF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786A7-5648-4C1F-A95C-16F312FB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CA50B-E749-4E68-A9C1-9AB45588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F4C90-775D-407D-A632-54173C94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2F5CF-1491-4096-B94D-776BA016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0A028-8ED7-4556-844B-AB19AB4F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3335A-C654-4485-88F7-84C1FA5C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DED75-D558-4776-A4A0-18BBA001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3B290-E66B-437C-B49D-5B72111D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F3345-3A44-4085-842A-4044FFA5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8A0D1-E8A7-49E8-B67C-514DAB13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6CA-6F72-4517-8162-4CAC83AE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A0E55-3B74-4ECC-B4D3-ADBBADDC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7876F-8BDB-4B0A-A05B-743E1F68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A974A-44FD-40F0-9BC4-1EBC2F2B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8B71F-556A-455E-B386-59C7566C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42D75-F86E-4038-BAAA-44429689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AA136-AB62-4D02-87E3-A308008D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EFB76-6AB7-4680-BB03-02BAD8DF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A35D9-DB98-439D-A143-DC54FC5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C3C21-F596-454F-9993-0AA3EAEB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7269D-1C7D-4B73-906C-49073DD5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7227-609B-4714-AF21-D9935FFB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0C629-B50C-4D82-9494-444AE3E6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DD4D8-F8D8-4AAF-AC70-EEDB37FC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F7C3D-C050-4786-9B10-6E9CF1EF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371ED-B854-4244-A663-DE91C285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F6942-3498-4524-B847-F0E1684D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1369F-2EF4-4359-A2C9-EE628E03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0C483-3F04-4CEB-B547-6ADF3821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D389A-00DA-413A-B1BF-AEE3AC06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DF954-0CE1-4B43-976A-296B0AD4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EFC46-EE5A-486C-ABFF-1A45C50A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D538-F406-43DF-97A3-177A08E1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3E2E1-96CD-4267-B422-1158DB83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AFDCD-A666-4FCB-93F1-A70E2552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D8293-06DC-4F21-A58A-FA54243B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68F76-C1F8-4E2E-A19E-B4611B13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F71D3-0222-48AB-9AD8-213D1CBE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0811-2790-4134-A3D5-38E2399D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2897-EC2C-478C-A07F-6448C695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BD97-4865-47DB-8F05-E5D459D5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9A5E-7438-4BE0-B270-4D450388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EAE5-7884-4E65-971A-CA335A65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6EC-A9CC-4070-882C-B72F54E7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6A46-D170-4704-B266-4BA0879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22BB-86FD-44C0-80CB-F2589C83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0CAC-9297-4823-9C38-FC15E975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F2A8-962E-445C-8B2E-25B4C73C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BD5E-58AF-4520-A15E-A8967A29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C0D3-1980-41F3-AA09-EC9B9448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84408-628A-4AA4-8350-7136AC0D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A2E2-4E9C-4131-98B6-F34E85A6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336F-5EE4-4558-BC7E-060F2F17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2CFF0-BA59-4E6E-843C-34DEDED5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5E1-FBAA-4831-8F52-79885D8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1D67-4DCD-49C0-88FD-F8088C21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CBE9-2394-4C6F-87D5-3161050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A3D3E-0F0F-4215-9E4C-59F7B5E6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DCB9-86BA-42E2-AD57-B7C9779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EAF0-5617-49FE-A30F-C15FA040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3D19-E857-4F8A-BCDA-E7DBF3E8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14CF-E6F4-450A-9358-51F56870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99A9F-3AED-4C5C-B917-8501D682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7E48D-8720-4361-8002-80E54CAF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E3EC-5DFF-4C12-926E-2509A6A2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0B4-CF7B-4B8D-826D-938B7A60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673D3-33DE-4D96-8F6E-4F37FEAF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3039-0DDE-43AE-8D52-D0666557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56CF4-E28A-48B5-BB91-9993D5C6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F498-AFD1-442E-96C2-6201D071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55A9F-1F41-4FE9-AE0B-E61D89EA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A25FD-9612-4E8F-A426-CE16271B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F4795-6A38-498B-A243-71167CA4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7578C-85C7-41D7-ADA5-F92C9163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2B87-9D29-45A1-9F36-D2315608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09BA7-6EB3-4C2A-BDC3-1C4A1A0D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00C-B7C4-4FDE-820E-9B095CD4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6458D-6D0E-42E4-BFE2-A3CF3B9A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E74C-1FC5-4BED-A51A-9B1945B4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8981D-CAB0-4799-AA42-B41172C4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0C76A-020D-40CF-B26D-0B883BFD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D7215-7A0C-458A-A082-FD205934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8F7BB-446E-40F6-B8F8-015BBD17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3E9A7-47F9-4113-B142-4A397D36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E9308-8CC9-4515-8B5B-7BAE3C03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BF011-6FC1-4C00-9D59-E86A184F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B872-6B02-4B0D-8FC9-8D491642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78D-0619-4824-9EB7-FCBFB7B4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B68FD-797B-46AF-B770-C590358D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24EE2-8521-46C4-BF2B-EC43C45B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4AC93-9127-4D43-B4A0-C77A31BC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0DA5F-0CD2-4E4F-A532-F18C89C7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D98D6-FFF5-4EC6-A5F7-83D80221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35E4B-76D2-439C-816C-F3726614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CA2D6-A0CC-4727-8078-BEA4AAE7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ECA5A-FB1B-486C-AF9B-EBB0472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3C814-8E08-44C7-A37C-8991DA8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5C6B5-3541-49FC-B535-A5C41FBF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6EB-711A-4966-92A8-89022EE9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C3245-C6B0-4E29-9734-7A2BBD0A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9494F-75DC-476A-B7BF-87ED31EC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C6DCD-1CB1-4C4F-8D86-5E4B60FD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3323E-47E2-44C5-85A9-572F9023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32C97-B66F-4AAC-AAEE-66902C87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3C288-EF43-47AA-BF7C-5A82AAC8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59FFE-527F-4CEF-9FEE-78525BB9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C0025-0163-4309-BE79-D79AEEB2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4B351-F28B-45A0-9E1F-5EC0934C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24DED-D1D9-404C-91D1-744B0B8B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9BA-D1B3-466C-8AA0-B51AF6B5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106D5-4354-4C8D-A16C-24DDF321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5E9D3-9E73-4860-8486-EFADF87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FBE28-C5B3-44BD-BDB9-B317D958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E96E4-343D-4F15-AECD-A7D7BA24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8A9F-38BA-4A05-A389-72282103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DE02E-EC91-441F-BF44-D64DAB2B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E8A1B-97A4-406B-B636-4CC00D08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C7D8B-82E1-438B-9B2D-E6E57DE7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41038-E5A8-4A73-AB2E-AD6AF796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2FD41-EEB0-4089-839B-9949ED2D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F49-FB4C-4DC9-B707-9F3C9170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0381E-8077-4240-9A5E-22F66D4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4574-878F-4E78-882C-58BED4E8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B721A-DF5A-4215-9F6A-D62440BA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2906C-DE54-4369-BA7B-A9F9BD7D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5B71A-ABE2-4EC6-ACEF-26BCC8E8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7ED4E-6634-4A3E-9B7D-A1468805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F5DE4-B76E-40F7-A5CA-E1D730C9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5F650-916F-4041-B080-6F8F9735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FD930-162A-4C81-B1A6-4010E514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33462-DF8A-48B4-B360-006B96C1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64D5-988F-4EF9-AAE1-3B0C739F6EF6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0E30-6008-41B5-82EA-3853289C15F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00" name="Rectangle 7" descr=""/>
            <p:cNvPicPr/>
            <p:nvPr/>
          </p:nvPicPr>
          <p:blipFill>
            <a:blip r:embed="rId2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07" name="Oval 10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C4EE-4A61-492C-9C66-D1618C71B25F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A69B-45DA-45FF-9644-F6328EC44C4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CA00-5026-4B84-915C-C5BC1D8090FB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5BE4-213F-4A29-9D93-59FCFC68B4C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F1FC-1F75-46EA-B460-2836725A9D9B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EAD6-63F4-4618-B8DF-A41C6788171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A4DE-6086-43E2-BA07-F29F5D0FEC6F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7165-2D4E-40A6-9D03-6BC333D530F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EEEF-0DA5-47A0-9820-3AF30CCDEAB8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B0BC-2E8F-4B0E-AEB6-71EBA5A6FA1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4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4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1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C004-7FF2-40FD-9BA6-EFEBE63DF9A7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4376-C973-40A7-BF94-72E85F2F359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0C56-A8D3-4F60-A170-E46C4A6CDC3D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568E-3A5F-45AC-A024-C96D651C717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2F98-E28E-4C2E-8071-63E9203A01B9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89ED-3D21-4510-98B3-B8BADAAEB8C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8169-D85F-4C84-9583-EBA62F3D5393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F046-5369-4DC9-979B-2629F70DD5E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15A5-F02E-4A6F-A5B6-903FC5DF388A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9B70-CCF3-4FBD-B806-9266B1C59E0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4CD6-BC6D-473B-AE67-A9A37AE5272F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55B3-5F4C-4702-8EEF-474D150C2DC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Заголовок 1"/>
          <p:cNvSpPr/>
          <p:nvPr/>
        </p:nvSpPr>
        <p:spPr>
          <a:xfrm>
            <a:off x="642960" y="2643120"/>
            <a:ext cx="82296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5"/>
          <p:cNvSpPr/>
          <p:nvPr/>
        </p:nvSpPr>
        <p:spPr>
          <a:xfrm>
            <a:off x="1071720" y="642960"/>
            <a:ext cx="74293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abic Typesetting"/>
              </a:rPr>
              <a:t>ГБОУ Школа № 967 СВ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abic Typesetting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abic Typesetting"/>
              </a:rPr>
              <a:t>Дошкольное подразделение №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Изобразительное творч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ко Дню космонав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Гр. №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49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rebuchet MS"/>
              </a:rPr>
              <a:t>Аппликация «Космонавт»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Номер слайда 3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F90A-5045-4600-8A45-EBFBD3F8E2C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7" descr="C:\Users\Вадим\Desktop\МАМА РАБОТА 2018-2019\Проект Животные\Апрель\Аппликация космонавт и солнечная система\IMG-20190408-WA0001.jpg"/>
          <p:cNvPicPr/>
          <p:nvPr/>
        </p:nvPicPr>
        <p:blipFill>
          <a:blip r:embed="rId1"/>
          <a:stretch/>
        </p:blipFill>
        <p:spPr>
          <a:xfrm>
            <a:off x="4429080" y="1071720"/>
            <a:ext cx="2786040" cy="4960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C:\Users\Вадим\Desktop\МАМА РАБОТА 2018-2019\Проект Животные\Апрель\Аппликация космонавт и солнечная система\IMG-20190406-WA0008.jpg"/>
          <p:cNvPicPr/>
          <p:nvPr/>
        </p:nvPicPr>
        <p:blipFill>
          <a:blip r:embed="rId2"/>
          <a:stretch/>
        </p:blipFill>
        <p:spPr>
          <a:xfrm>
            <a:off x="1357200" y="1071720"/>
            <a:ext cx="27687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496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rebuchet MS"/>
              </a:rPr>
              <a:t>«Солнечная система»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Номер слайда 3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FBE8-DECD-446F-97EB-C5EAC82A0EC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7" descr="C:\Users\Вадим\Desktop\МАМА РАБОТА 2018-2019\Проект Животные\Апрель\Аппликация космонавт и солнечная система\IMG-20190406-WA0005.jpg"/>
          <p:cNvPicPr/>
          <p:nvPr/>
        </p:nvPicPr>
        <p:blipFill>
          <a:blip r:embed="rId1"/>
          <a:stretch/>
        </p:blipFill>
        <p:spPr>
          <a:xfrm>
            <a:off x="642960" y="1000080"/>
            <a:ext cx="4970520" cy="2790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C:\Users\Вадим\Desktop\МАМА РАБОТА 2018-2019\Проект Животные\Апрель\Аппликация космонавт и солнечная система\IMG-20190408-WA0002.jpg"/>
          <p:cNvPicPr/>
          <p:nvPr/>
        </p:nvPicPr>
        <p:blipFill>
          <a:blip r:embed="rId2"/>
          <a:stretch/>
        </p:blipFill>
        <p:spPr>
          <a:xfrm>
            <a:off x="5786280" y="1000080"/>
            <a:ext cx="3168720" cy="5643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9" descr="C:\Users\Вадим\Desktop\МАМА РАБОТА 2018-2019\Проект Животные\Апрель\Аппликация космонавт и солнечная система\IMG-20190406-WA0014.jpg"/>
          <p:cNvPicPr/>
          <p:nvPr/>
        </p:nvPicPr>
        <p:blipFill>
          <a:blip r:embed="rId3"/>
          <a:stretch/>
        </p:blipFill>
        <p:spPr>
          <a:xfrm>
            <a:off x="642960" y="3929040"/>
            <a:ext cx="49291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1:54:23Z</dcterms:created>
  <dc:creator>Вадим</dc:creator>
  <dc:description/>
  <dc:language>en-US</dc:language>
  <cp:lastModifiedBy>Вадим</cp:lastModifiedBy>
  <cp:lastPrinted>2013-11-01T15:09:25Z</cp:lastPrinted>
  <dcterms:modified xsi:type="dcterms:W3CDTF">2019-04-25T11:51:45Z</dcterms:modified>
  <cp:revision>352</cp:revision>
  <dc:subject/>
  <dc:title>Слайд 1</dc:title>
</cp:coreProperties>
</file>