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024A-0B4C-411B-9FAA-CD341F52C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37B1-EB67-49E5-B2E2-2C60F6926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4BF7-ED91-4F72-A662-FFF9F459B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EC39-B7E2-459A-918B-851B682EF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8BEC-AA2F-4532-A87D-CAE280AFC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20BB-F57C-4762-920A-113E53C38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44F4-AAAD-4F06-9A31-DB082F4D3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B726-25C3-441F-A50B-32F4F3BDB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937B-ECD7-49A6-AA5F-A30B92836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4280-E283-42BB-BD15-7D504F7F5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361E-7787-406C-BCE2-FF796832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E1E2-82EC-4791-952A-D46820185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7F006-F196-445C-97B2-F7FFC446EA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76720" y="1484280"/>
            <a:ext cx="54720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ru-RU" sz="4800" spc="-1" strike="noStrike">
                <a:solidFill>
                  <a:srgbClr val="e46c0a"/>
                </a:solidFill>
                <a:latin typeface="Calibri"/>
              </a:rPr>
              <a:t>«ЗАГАДОЧНЫЙ КОСМОС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87640" y="3499920"/>
            <a:ext cx="56484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Проектная деятельность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в старшей группе №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4a7b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46c0a"/>
                </a:solidFill>
                <a:latin typeface="Calibri"/>
              </a:rPr>
              <a:t>Воспитатель: Соколенко Т. 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46c0a"/>
                </a:solidFill>
                <a:latin typeface="Calibri"/>
              </a:rPr>
              <a:t>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81bd"/>
                </a:solidFill>
                <a:latin typeface="Calibri"/>
              </a:rPr>
              <a:t>2019 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Заголовок 1"/>
          <p:cNvSpPr/>
          <p:nvPr/>
        </p:nvSpPr>
        <p:spPr>
          <a:xfrm>
            <a:off x="2771640" y="1628640"/>
            <a:ext cx="53294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771640" y="2349360"/>
          <a:ext cx="6096240" cy="15224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522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8" name="Picture 3" descr="http://barselit.ru/images/males/gf.gif"/>
          <p:cNvPicPr/>
          <p:nvPr/>
        </p:nvPicPr>
        <p:blipFill>
          <a:blip r:embed="rId2"/>
          <a:stretch/>
        </p:blipFill>
        <p:spPr>
          <a:xfrm>
            <a:off x="3635280" y="0"/>
            <a:ext cx="1656000" cy="1655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http://barselit.ru/images/males/gf.gif"/>
          <p:cNvPicPr/>
          <p:nvPr/>
        </p:nvPicPr>
        <p:blipFill>
          <a:blip r:embed="rId3"/>
          <a:stretch/>
        </p:blipFill>
        <p:spPr>
          <a:xfrm>
            <a:off x="7093080" y="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2"/>
          <p:cNvSpPr/>
          <p:nvPr/>
        </p:nvSpPr>
        <p:spPr>
          <a:xfrm>
            <a:off x="2286000" y="750960"/>
            <a:ext cx="6607080" cy="56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Calibri"/>
              </a:rPr>
              <a:t>ЧТЕНИЕ ХУДОЖЕСТВЕННОЙ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П. Клушанцева «О чем рассказал телескоп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И. Холи «Я тоже к звездам полечу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Г. Юрлин «Что внутри?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«Счастливого пути, космонавты» Е.П.Левитан, «Твоя Вселенная» Е.П.Левитан «Звёздные сказк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Л. Талимонова «Сказки о созвездиях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Н. Носов «Незнайка на Лун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Е. П. Левитан «Малышам о звездах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В. Севастьянов «В космос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Чтение стихотворений современных поэтов о Космосе, Вселенной, подвигах космонав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«Копилка мудрых мыслей» - чтение пословиц, поговорок, загадок о космосе и космонавт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Заголовок 1"/>
          <p:cNvSpPr/>
          <p:nvPr/>
        </p:nvSpPr>
        <p:spPr>
          <a:xfrm>
            <a:off x="1908000" y="1484280"/>
            <a:ext cx="6850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2"/>
          <p:cNvSpPr/>
          <p:nvPr/>
        </p:nvSpPr>
        <p:spPr>
          <a:xfrm>
            <a:off x="2124000" y="-357120"/>
            <a:ext cx="6912000" cy="67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Calibri"/>
              </a:rPr>
              <a:t>МУЗЫ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«Мы в космос улетаем на работу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«Я-Земля!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«Знаете, каким он парнем был!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"На пыльных тропинках далёких планет...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"Мы в космос улетаем на работу...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"И на Марсе будут яблони цвести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Саундтреки: Тайм-ат - Этот большой мир (ремейк песни из фильма "Отроки во Вселенной"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Александр Зацепин «Тайна третьей планеты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Ксения Ларионова «Ключ на старт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С.Светикова «Свет любви» (из мультфильма "День рождения Алисы"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Земляне «Трава у дом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Заголовок 1"/>
          <p:cNvSpPr/>
          <p:nvPr/>
        </p:nvSpPr>
        <p:spPr>
          <a:xfrm>
            <a:off x="1908000" y="1484280"/>
            <a:ext cx="6850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2"/>
          <p:cNvSpPr/>
          <p:nvPr/>
        </p:nvSpPr>
        <p:spPr>
          <a:xfrm>
            <a:off x="1908000" y="-357120"/>
            <a:ext cx="68500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3"/>
          <p:cNvSpPr/>
          <p:nvPr/>
        </p:nvSpPr>
        <p:spPr>
          <a:xfrm>
            <a:off x="2286000" y="1305000"/>
            <a:ext cx="6534000" cy="52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Calibri"/>
              </a:rPr>
              <a:t>ИКТ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Просмотр фильма «Как питаются космонавты», просмотр мультфильма «Астрономия для самых маленьких»; мультфильма про космический корабль; интерактивная игра «Собери ракету из геометрических фигур»; презентация о истории создания космического корабля; создание презентации о ходе прое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Calibri"/>
              </a:rPr>
              <a:t>РАБОТА С РОДИТЕЛ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Совместное с детьми разучивание стихотворений, загадок о космосе, беседы, просмотр мультфильмов; участие в подготовке к проекту (поделки, рисунки, книги о космос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Заголовок 1"/>
          <p:cNvSpPr/>
          <p:nvPr/>
        </p:nvSpPr>
        <p:spPr>
          <a:xfrm>
            <a:off x="1908000" y="1484280"/>
            <a:ext cx="6850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2"/>
          <p:cNvSpPr/>
          <p:nvPr/>
        </p:nvSpPr>
        <p:spPr>
          <a:xfrm>
            <a:off x="1908000" y="-357120"/>
            <a:ext cx="68500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3"/>
          <p:cNvSpPr/>
          <p:nvPr/>
        </p:nvSpPr>
        <p:spPr>
          <a:xfrm>
            <a:off x="2286000" y="1859040"/>
            <a:ext cx="6472080" cy="38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Calibri"/>
              </a:rPr>
              <a:t>СЮЖЕТНО-РОЛЕВЫЕ ИГР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«Космонавты», «Путешествие на Луну», «Строители» (сюжет «Строим космодром»), «Межпланетное путешествие», «Космический обед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Calibri"/>
              </a:rPr>
              <a:t>ДИДАКТИЧЕСКИЕ ИГРЫ</a:t>
            </a:r>
            <a:r>
              <a:rPr b="0" lang="ru-RU" sz="2400" spc="-1" strike="noStrike">
                <a:solidFill>
                  <a:srgbClr val="e46c0a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«Восстанови порядок в солнечной системе», «Найди лишнее», «Подбери созвездие», «Найди недостающую ракету», «Добавь словечко», «Куда летят ракеты» (см. приложе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Заголовок 1"/>
          <p:cNvSpPr/>
          <p:nvPr/>
        </p:nvSpPr>
        <p:spPr>
          <a:xfrm>
            <a:off x="1908000" y="1484280"/>
            <a:ext cx="6850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2"/>
          <p:cNvSpPr/>
          <p:nvPr/>
        </p:nvSpPr>
        <p:spPr>
          <a:xfrm>
            <a:off x="2340000" y="1773360"/>
            <a:ext cx="619272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Calibri"/>
              </a:rPr>
              <a:t>Паспорт проек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f497d"/>
                </a:solidFill>
                <a:uFillTx/>
                <a:latin typeface="Calibri"/>
              </a:rPr>
              <a:t>Тип проекта</a:t>
            </a: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: познавательно-ориентированный, игрово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f497d"/>
                </a:solidFill>
                <a:uFillTx/>
                <a:latin typeface="Calibri"/>
              </a:rPr>
              <a:t>Продолжительность</a:t>
            </a: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: краткосрочный, 2 недел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f497d"/>
                </a:solidFill>
                <a:uFillTx/>
                <a:latin typeface="Calibri"/>
              </a:rPr>
              <a:t>Возрастная группа</a:t>
            </a: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: старшая группа 5-6 ле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f497d"/>
                </a:solidFill>
                <a:uFillTx/>
                <a:latin typeface="Calibri"/>
              </a:rPr>
              <a:t>Участники</a:t>
            </a: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: дети, воспитатели, родител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f497d"/>
                </a:solidFill>
                <a:uFillTx/>
                <a:latin typeface="Calibri"/>
              </a:rPr>
              <a:t>Итоговое мероприятие</a:t>
            </a: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: Викторина «Знатоки космоса»;</a:t>
            </a:r>
            <a:br>
              <a:rPr sz="2400"/>
            </a:b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выставка работ «Космос глазами детей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1"/>
          <p:cNvSpPr/>
          <p:nvPr/>
        </p:nvSpPr>
        <p:spPr>
          <a:xfrm>
            <a:off x="1332000" y="-1325520"/>
            <a:ext cx="7056360" cy="9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46c0a"/>
                </a:solidFill>
                <a:latin typeface="Calibri"/>
              </a:rPr>
              <a:t>   </a:t>
            </a:r>
            <a:r>
              <a:rPr b="1" lang="ru-RU" sz="4000" spc="-1" strike="noStrike">
                <a:solidFill>
                  <a:srgbClr val="e46c0a"/>
                </a:solidFill>
                <a:latin typeface="Calibri"/>
              </a:rPr>
              <a:t>Цель проект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Приобщение детей к знаниям о вселенной, освоении человеком космического пространства, о значении космических исследований для жизни людей на Земл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Заголовок 1"/>
          <p:cNvSpPr/>
          <p:nvPr/>
        </p:nvSpPr>
        <p:spPr>
          <a:xfrm>
            <a:off x="1908000" y="1484280"/>
            <a:ext cx="6850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2"/>
          <p:cNvSpPr/>
          <p:nvPr/>
        </p:nvSpPr>
        <p:spPr>
          <a:xfrm>
            <a:off x="1908000" y="-357120"/>
            <a:ext cx="6850080" cy="63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Calibri"/>
              </a:rPr>
              <a:t>Задачи проек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Сформировать устойчивый интерес к познанию космического простран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Познакомить детей с историей развития космонавтики, с символикой некоторых созвездий, строением солнечной систем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Расширять первоначальные представления о звездах и планетах (их величине, о порядке расположения относительно Солнца, некоторых особенностях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Прививать любовь к родному краю, планете, героям освоения космос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Формировать предпосылки поисковой деятельности, интеллектуальной инициатив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Развивать умения определять возможные методы решения проблемы с помощью взрослого, а затем и самостоятель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Поощрять желание пользоваться специальной терминологией, ведение конструктивной беседы, совместной исследовательской деятель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Развивать и обогащать речь детей, повышать эрудицию и интеллек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Заголовок 1"/>
          <p:cNvSpPr/>
          <p:nvPr/>
        </p:nvSpPr>
        <p:spPr>
          <a:xfrm>
            <a:off x="1908000" y="1484280"/>
            <a:ext cx="6850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2"/>
          <p:cNvSpPr/>
          <p:nvPr/>
        </p:nvSpPr>
        <p:spPr>
          <a:xfrm>
            <a:off x="1908000" y="-357120"/>
            <a:ext cx="68500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3"/>
          <p:cNvSpPr/>
          <p:nvPr/>
        </p:nvSpPr>
        <p:spPr>
          <a:xfrm>
            <a:off x="1908000" y="-217440"/>
            <a:ext cx="6985080" cy="68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e46c0a"/>
                </a:solidFill>
                <a:latin typeface="Calibri"/>
              </a:rPr>
              <a:t>Продукты прое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1f497d"/>
                </a:solidFill>
                <a:uFillTx/>
                <a:latin typeface="Arial"/>
              </a:rPr>
              <a:t>Дети:</a:t>
            </a: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выставка работ «Космос глазами дете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1f497d"/>
                </a:solidFill>
                <a:uFillTx/>
                <a:latin typeface="Arial"/>
              </a:rPr>
              <a:t>Педагоги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: презентация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Calibri"/>
              </a:rPr>
              <a:t>Ожидаемые результа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1f497d"/>
                </a:solidFill>
                <a:uFillTx/>
                <a:latin typeface="Arial"/>
              </a:rPr>
              <a:t>Для дете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К окончанию срока реализации проекта у детей должны быть сформированы умения экспериментировать, синтезировать полученные знания, хорошо развиты творческие способности и коммуникативные навыки, возникло желание творить и исследовать вместе со взрослыми. Дети старшей группы должны ориентироваться в полученном материале, используя знания в играх и О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1f497d"/>
                </a:solidFill>
                <a:uFillTx/>
                <a:latin typeface="Arial"/>
              </a:rPr>
              <a:t>Для педагог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f49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Организация педагогического поиска через реализацию инновационных програм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f49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Повышение теоретического уровня и профессионализма педагог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f49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Самореализац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Заголовок 1"/>
          <p:cNvSpPr/>
          <p:nvPr/>
        </p:nvSpPr>
        <p:spPr>
          <a:xfrm>
            <a:off x="2771640" y="1782720"/>
            <a:ext cx="5329440" cy="1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771640" y="2349360"/>
          <a:ext cx="6096240" cy="15224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522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3" name="Picture 3" descr="http://barselit.ru/images/males/gf.gif"/>
          <p:cNvPicPr/>
          <p:nvPr/>
        </p:nvPicPr>
        <p:blipFill>
          <a:blip r:embed="rId2"/>
          <a:stretch/>
        </p:blipFill>
        <p:spPr>
          <a:xfrm>
            <a:off x="3635280" y="0"/>
            <a:ext cx="1656000" cy="1655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http://barselit.ru/images/males/gf.gif"/>
          <p:cNvPicPr/>
          <p:nvPr/>
        </p:nvPicPr>
        <p:blipFill>
          <a:blip r:embed="rId3"/>
          <a:stretch/>
        </p:blipFill>
        <p:spPr>
          <a:xfrm>
            <a:off x="7093080" y="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2"/>
          <p:cNvSpPr/>
          <p:nvPr/>
        </p:nvSpPr>
        <p:spPr>
          <a:xfrm>
            <a:off x="2484360" y="1413000"/>
            <a:ext cx="6408720" cy="9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Calibri"/>
              </a:rPr>
              <a:t>Изобразительная деяте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Рисовани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Calibri"/>
              </a:rPr>
              <a:t>«Загадочный мир космоса» (рисование с помощью восковых мелков и акварельных красок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Calibri"/>
              </a:rPr>
              <a:t>«Весёлые инопланетяне» (цветные карандаш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Calibri"/>
              </a:rPr>
              <a:t>Рисование пластилином «Вселенная.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Calibri"/>
              </a:rPr>
              <a:t>«Планеты солнечной системы» (акварельные краск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Calibri"/>
              </a:rPr>
              <a:t>Космические картины с помощью палочек на земле, с помощью мелков на асфаль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Аппликация:  </a:t>
            </a:r>
            <a:r>
              <a:rPr b="0" lang="ru-RU" sz="1800" spc="-1" strike="noStrike">
                <a:solidFill>
                  <a:srgbClr val="1f497d"/>
                </a:solidFill>
                <a:latin typeface="Calibri"/>
              </a:rPr>
              <a:t>«Ракета в космос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Лепка:</a:t>
            </a:r>
            <a:r>
              <a:rPr b="0" lang="ru-RU" sz="1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Calibri"/>
              </a:rPr>
              <a:t>«Забавные инопланетян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Calibri"/>
              </a:rPr>
              <a:t>«Звездное небо» (лепка картины в одноразовой тарелке – вид неба из иллюминатор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Конструирование</a:t>
            </a:r>
            <a:r>
              <a:rPr b="0" lang="ru-RU" sz="1800" spc="-1" strike="noStrike">
                <a:solidFill>
                  <a:srgbClr val="1f497d"/>
                </a:solidFill>
                <a:latin typeface="Calibri"/>
              </a:rPr>
              <a:t>: </a:t>
            </a:r>
            <a:r>
              <a:rPr b="0" lang="ru-RU" sz="1800" spc="-1" strike="noStrike">
                <a:solidFill>
                  <a:srgbClr val="1f497d"/>
                </a:solidFill>
                <a:latin typeface="Calibri"/>
              </a:rPr>
              <a:t>складывание созвездий из мозаики; конструирование из пластмассового конструктора «Космический корабль», конструирование ракет из блоков Дьенеша, оригами «Ракет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Заголовок 1"/>
          <p:cNvSpPr/>
          <p:nvPr/>
        </p:nvSpPr>
        <p:spPr>
          <a:xfrm>
            <a:off x="1908000" y="1484280"/>
            <a:ext cx="6850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"/>
          <p:cNvSpPr/>
          <p:nvPr/>
        </p:nvSpPr>
        <p:spPr>
          <a:xfrm>
            <a:off x="1908000" y="-357120"/>
            <a:ext cx="6850080" cy="64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Calibri"/>
              </a:rPr>
              <a:t>ФИЗИЧЕСКАЯ КУЛЬ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П/и: </a:t>
            </a: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«Ждут нас быстрые ракеты», «Космическая эстафета», «Невесомость», «Раз, два, три – космическое растение замри!» «Космонавты», «Солнце – чемпион» (см. приложе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e46c0a"/>
                </a:solidFill>
                <a:latin typeface="Calibri"/>
              </a:rPr>
              <a:t>ФЭМП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«Полет в космос» (см. Помораева, Позина с.6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«Космическое путешествие» Дидактическое упражнение «Конструирование ракеты из геометрических фигур», игра «Обратный отсчет», графический диктант «Полет ракет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Заголовок 1"/>
          <p:cNvSpPr/>
          <p:nvPr/>
        </p:nvSpPr>
        <p:spPr>
          <a:xfrm>
            <a:off x="2771640" y="1628640"/>
            <a:ext cx="53294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771640" y="2349360"/>
          <a:ext cx="6096240" cy="15224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1522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3" descr="http://barselit.ru/images/males/gf.gif"/>
          <p:cNvPicPr/>
          <p:nvPr/>
        </p:nvPicPr>
        <p:blipFill>
          <a:blip r:embed="rId2"/>
          <a:stretch/>
        </p:blipFill>
        <p:spPr>
          <a:xfrm>
            <a:off x="3635280" y="0"/>
            <a:ext cx="1656000" cy="1655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http://barselit.ru/images/males/gf.gif"/>
          <p:cNvPicPr/>
          <p:nvPr/>
        </p:nvPicPr>
        <p:blipFill>
          <a:blip r:embed="rId3"/>
          <a:stretch/>
        </p:blipFill>
        <p:spPr>
          <a:xfrm>
            <a:off x="7093080" y="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2"/>
          <p:cNvSpPr/>
          <p:nvPr/>
        </p:nvSpPr>
        <p:spPr>
          <a:xfrm>
            <a:off x="2484360" y="1444680"/>
            <a:ext cx="6408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46c0a"/>
                </a:solidFill>
                <a:latin typeface="Calibri"/>
              </a:rPr>
              <a:t>ФЦКМ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375e"/>
                </a:solidFill>
                <a:latin typeface="Calibri"/>
              </a:rPr>
              <a:t>«Загадочный мир космоса». Знакомство с космосом, звездами, солнечной системо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375e"/>
                </a:solidFill>
                <a:latin typeface="Calibri"/>
              </a:rPr>
              <a:t>«Небо – наш родимый дом» (расширение знаний о профессии космонавта, небольшой экскурс в историю российской космонавтики, знакомство с известными космонавтами – Гагариным, Терешковой, Королевым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375e"/>
                </a:solidFill>
                <a:latin typeface="Calibri"/>
              </a:rPr>
              <a:t>«Человек покоряет космос. Космические корабли» (расширение знаний о сложном устройстве космических кораблей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Заголовок 1"/>
          <p:cNvSpPr/>
          <p:nvPr/>
        </p:nvSpPr>
        <p:spPr>
          <a:xfrm>
            <a:off x="1908000" y="1484280"/>
            <a:ext cx="6850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2"/>
          <p:cNvSpPr/>
          <p:nvPr/>
        </p:nvSpPr>
        <p:spPr>
          <a:xfrm>
            <a:off x="1908000" y="-357120"/>
            <a:ext cx="68500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3"/>
          <p:cNvSpPr/>
          <p:nvPr/>
        </p:nvSpPr>
        <p:spPr>
          <a:xfrm>
            <a:off x="2440080" y="1754280"/>
            <a:ext cx="6318000" cy="43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Calibri"/>
              </a:rPr>
              <a:t>РАЗВИТИЕ РЕ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«Полет в космос» Звуковая культура речи. Дидактическое упражнение «Запусти ракету» (подбор родственных слов к слову «звезда»); звуковой анализ слова «дыр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Чтение и обсуждение литературной сказки Б. Заходера «Серая звездочк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Описательный рассказ по картине «Человек на Лун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Чтение и обсуждение стихотворения Р. Алдониной «Млечный путь»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2T20:21:28Z</dcterms:created>
  <dc:creator>DAY</dc:creator>
  <dc:description/>
  <dc:language>en-US</dc:language>
  <cp:lastModifiedBy>Александр</cp:lastModifiedBy>
  <dcterms:modified xsi:type="dcterms:W3CDTF">2019-04-25T19:24:46Z</dcterms:modified>
  <cp:revision>20</cp:revision>
  <dc:subject/>
  <dc:title>Слайд 1</dc:title>
</cp:coreProperties>
</file>