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DF7-4275-4990-8B81-7D709F1D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9A2-C25B-45EB-A286-002B24D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373-66CD-4F97-8466-A4570725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C90-B8AF-41FA-8288-B505901F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3C-D600-4C25-9A5D-BD586985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069-7293-4B39-BF09-6C3AD8D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78-B299-4E15-927D-7AA08DB8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DB5-34E9-408A-A225-B5FDD37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A10-7A51-45CC-AB3A-C960D47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00D-9660-4321-9C25-9DC7900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4CB-345F-4B29-A666-1EE5FEF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0A6-1D78-415E-80AB-15D8B987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683-D666-42E0-929B-DB87E34FE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484280"/>
            <a:ext cx="5472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«ЗАГАДОЧНЫЙ КОСМОС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3499920"/>
            <a:ext cx="5648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ектн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 старшей группе №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Воспитатель: Соколенко Т. 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2019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2771640" y="1628640"/>
            <a:ext cx="532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286000" y="750960"/>
            <a:ext cx="66070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. Клушанцева «О чем рассказал телескоп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. Холи «Я тоже к звездам полеч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Г. Юрлин «Что внутри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Счастливого пути, космонавты» Е.П.Левитан, «Твоя Вселенная» Е.П.Левитан «Звёздные сказ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Л. Талимонова «Сказки о созвездия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. Носов «Незнайка на Лу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Е. П. Левитан «Малышам о звезд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В. Севастьянов «В косм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Чтение стихотворений современных поэтов о Космосе, Вселенной, подвигах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пилка мудрых мыслей» - чтение пословиц, поговорок, загадок о космосе и космонав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124000" y="-357120"/>
            <a:ext cx="691200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Мы в космос улетаем на рабо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Я-Земля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Знаете, каким он парнем был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На пыльных тропинках далёких планет...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Мы в космос улетаем на работу...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И на Марсе будут яблони цвест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ундтреки: Тайм-ат - Этот большой мир (ремейк песни из фильма "Отроки во Вселенной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Александр Зацепин «Тайна третьей плане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сения Ларионова «Ключ на стар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.Светикова «Свет любви» (из мультфильма "День рождения Алисы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Земляне «Трава у до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286000" y="1305000"/>
            <a:ext cx="65340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И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осмотр фильма «Как питаются космонавты», просмотр мультфильма «Астрономия для самых маленьких»; мультфильма про космический корабль; интерактивная игра «Собери ракету из геометрических фигур»; презентация о истории создания космического корабля; создание презентации о ход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овместное с детьми разучивание стихотворений, загадок о космосе, беседы, просмотр мультфильмов; участие в подготовке к проекту (поделки, рисунки, книги о космо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286000" y="1859040"/>
            <a:ext cx="6472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СЮЖЕТНО-РОЛЕВЫЕ ИГ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смонавты», «Путешествие на Луну», «Строители» (сюжет «Строим космодром»), «Межпланетное путешествие», «Космический обе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ДИДАКТИЧЕСКИЕ ИГРЫ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Восстанови порядок в солнечной системе», «Найди лишнее», «Подбери созвездие», «Найди недостающую ракету», «Добавь словечко», «Куда летят ракеты» (см. при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340000" y="1773360"/>
            <a:ext cx="6192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Паспорт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Тип проект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познавательно-ориентированный, игро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Продолжительность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краткосрочный, 2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Возрастная групп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старшая группа 5-6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Участник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дети, воспитатели, род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Итоговое мероприятие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Викторина «Знатоки космоса»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ставка работ «Космос глазами дет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332000" y="-1325520"/>
            <a:ext cx="7056360" cy="9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иобщение детей к знаниям о вселенной, освоении человеком космического пространства, о значении космических исследований для жизни людей на Зем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908000" y="-357120"/>
            <a:ext cx="6850080" cy="63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Сформировать устойчивый интерес к познанию космического простра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знакомить детей с историей развития космонавтики, с символикой некоторых созвездий, строением солнеч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сширять первоначальные представления о звездах и планетах (их величине, о порядке расположения относительно Солнца, некоторых особенностя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ививать любовь к родному краю, планете, героям освоения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Формировать предпосылки поисковой деятельности, интеллектуальной инициа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звивать умения определять возможные методы решения проблемы с помощью взрослого, а затем и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ощрять желание пользоваться специальной терминологией, ведение конструктивной беседы, совместной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звивать и обогащать речь детей, повышать эрудицию 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908000" y="-217440"/>
            <a:ext cx="6985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одукт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ети: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ыставка работ «Космос глазами де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Педагоги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: презент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 окончанию срока реализации проекта у детей должны быть сформированы умения экспериментировать, синтезировать полученные знания, хорошо развиты творческие способности и коммуникативные навыки, возникло желание творить и исследовать вместе со взрослыми. Дети старшей группы должны ориентироваться в полученном материале, используя знания в играх и О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ция педагогического поиска через реализацию инновацион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вышение теоретического уровня и профессионализма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амореа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771640" y="1782720"/>
            <a:ext cx="5329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484360" y="1413000"/>
            <a:ext cx="6408720" cy="9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Изобраз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ис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агадочный мир космоса» (рисование с помощью восковых мелков и акварельных крас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Весёлые инопланетяне» (цветные каранда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Рисование пластилином «Вселенная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Планеты солнечной системы» (акварельные кра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Космические картины с помощью палочек на земле, с помощью мелков на асфаль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ппликация: 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Ракета в космос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епка: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абавные инопланет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вездное небо» (лепка картины в одноразовой тарелке – вид неба из иллюмина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Конструирование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складывание созвездий из мозаики; конструирование из пластмассового конструктора «Космический корабль», конструирование ракет из блоков Дьенеша, оригами «Рак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908000" y="-357120"/>
            <a:ext cx="685008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/и: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Ждут нас быстрые ракеты», «Космическая эстафета», «Невесомость», «Раз, два, три – космическое растение замри!» «Космонавты», «Солнце – чемпион» (см. при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ФЭМ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Полет в космос» (см. Помораева, Позина с.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смическое путешествие» Дидактическое упражнение «Конструирование ракеты из геометрических фигур», игра «Обратный отсчет», графический диктант «Полет рак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2771640" y="1628640"/>
            <a:ext cx="532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2484360" y="1444680"/>
            <a:ext cx="6408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ФЦК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Загадочный мир космоса». Знакомство с космосом, звездами, солнечной систем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Небо – наш родимый дом» (расширение знаний о профессии космонавта, небольшой экскурс в историю российской космонавтики, знакомство с известными космонавтами – Гагариным, Терешковой, Королевым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Человек покоряет космос. Космические корабли» (расширение знаний о сложном устройстве космических кора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440080" y="1754280"/>
            <a:ext cx="631800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«Полет в космос» Звуковая культура речи. Дидактическое упражнение «Запусти ракету» (подбор родственных слов к слову «звезда»); звуковой анализ слова «ды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Чтение и обсуждение литературной сказки Б. Заходера «Серая звез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писательный рассказ по картине «Человек на Лу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Чтение и обсуждение стихотворения Р. Алдониной «Млечный путь»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Александр</cp:lastModifiedBy>
  <dcterms:modified xsi:type="dcterms:W3CDTF">2019-04-25T19:24:46Z</dcterms:modified>
  <cp:revision>20</cp:revision>
  <dc:subject/>
  <dc:title>Слайд 1</dc:title>
</cp:coreProperties>
</file>