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04B-3631-48AA-8215-BE5304BE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EC5-EA4E-4B19-8B66-8DA9A1D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B7A-CB97-49DB-85CE-0ED9A3DB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D1D-3811-4667-B094-E9F12A5E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02C-B040-40AB-930A-74D3400B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8F4-6A9B-445A-B545-67FBBD0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6BF-86A9-4CF6-B70A-EC72892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028-BEE7-4D99-BC5F-C3E56A7D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0E0-E127-4DE3-943F-D83C34A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E1D-6B22-487E-BABA-1398357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B03-0E97-4667-B83B-E89EEF7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84B-7304-414E-9452-2AF132C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8ABE-734D-4020-BEAB-422318362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Беленова Анастасия, 9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Руководитель: Мелещенко Е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Исследование сметан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74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Измерение кислот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1800360" cy="2400120"/>
          </a:xfrm>
          <a:prstGeom prst="rect">
            <a:avLst/>
          </a:prstGeom>
          <a:ln w="0">
            <a:noFill/>
          </a:ln>
        </p:spPr>
      </p:pic>
      <p:pic>
        <p:nvPicPr>
          <p:cNvPr id="70" name="Изображение 8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2460600" cy="2274840"/>
          </a:xfrm>
          <a:prstGeom prst="rect">
            <a:avLst/>
          </a:prstGeom>
          <a:ln w="0">
            <a:noFill/>
          </a:ln>
        </p:spPr>
      </p:pic>
      <p:pic>
        <p:nvPicPr>
          <p:cNvPr id="71" name="Изображение 5" descr=""/>
          <p:cNvPicPr/>
          <p:nvPr/>
        </p:nvPicPr>
        <p:blipFill>
          <a:blip r:embed="rId3"/>
          <a:stretch/>
        </p:blipFill>
        <p:spPr>
          <a:xfrm>
            <a:off x="7740720" y="2997360"/>
            <a:ext cx="1127160" cy="3458880"/>
          </a:xfrm>
          <a:prstGeom prst="rect">
            <a:avLst/>
          </a:prstGeom>
          <a:ln w="0">
            <a:noFill/>
          </a:ln>
        </p:spPr>
      </p:pic>
      <p:pic>
        <p:nvPicPr>
          <p:cNvPr id="72" name="Изображение 10" descr=""/>
          <p:cNvPicPr/>
          <p:nvPr/>
        </p:nvPicPr>
        <p:blipFill>
          <a:blip r:embed="rId4"/>
          <a:stretch/>
        </p:blipFill>
        <p:spPr>
          <a:xfrm>
            <a:off x="4788000" y="1343160"/>
            <a:ext cx="24112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Таблица 2 – Результаты физико-химически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6920" y="1700280"/>
          <a:ext cx="7632720" cy="3889440"/>
        </p:xfrm>
        <a:graphic>
          <a:graphicData uri="http://schemas.openxmlformats.org/drawingml/2006/table">
            <a:tbl>
              <a:tblPr/>
              <a:tblGrid>
                <a:gridCol w="1527480"/>
                <a:gridCol w="1525320"/>
                <a:gridCol w="1527480"/>
                <a:gridCol w="1527120"/>
                <a:gridCol w="152532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ноте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окваш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ик в дере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крахм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8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примесей заменителей молочного жи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чие примесей твор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ри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тсутству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сл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 результатам исследования ни один образец не прошел провер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5760" y="81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Цель работы - провести исследование сметаны 4 торговых марок и сделать вывод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Методы исследов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рганолепт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Физико-химиче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Изучить литературные дан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иобрести сметану торговых марок: Вкуснотеево, Простоквашино, Избенка, Домик в дерев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овести органолептическую оценку: определить цвет, вкус, запах, консистенцию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Провести эксперимент физико-химическим методом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крахмала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примесей заменителей молочного жира в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определить наличие примесей творога в смета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измерить кислот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Calibri"/>
              </a:rPr>
              <a:t>Сделать выв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Задачи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Для исследования мы выбрали сметану торговых марок: Вкуснотеево, Простоквашино, Избенка, Домик в деревн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569880" y="2708280"/>
            <a:ext cx="7213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Выполнение органолептической оце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536400" y="1766880"/>
            <a:ext cx="175896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Изображение 4" descr=""/>
          <p:cNvPicPr/>
          <p:nvPr/>
        </p:nvPicPr>
        <p:blipFill>
          <a:blip r:embed="rId2"/>
          <a:stretch/>
        </p:blipFill>
        <p:spPr>
          <a:xfrm>
            <a:off x="2560680" y="309096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52" name="Изображение 5" descr=""/>
          <p:cNvPicPr/>
          <p:nvPr/>
        </p:nvPicPr>
        <p:blipFill>
          <a:blip r:embed="rId3"/>
          <a:stretch/>
        </p:blipFill>
        <p:spPr>
          <a:xfrm>
            <a:off x="6723000" y="3090960"/>
            <a:ext cx="172728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Изображение 6" descr=""/>
          <p:cNvPicPr/>
          <p:nvPr/>
        </p:nvPicPr>
        <p:blipFill>
          <a:blip r:embed="rId4"/>
          <a:stretch/>
        </p:blipFill>
        <p:spPr>
          <a:xfrm>
            <a:off x="4649760" y="1773360"/>
            <a:ext cx="17445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Таблица 1 – Результаты органолептической оце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773360"/>
          <a:ext cx="8229600" cy="388764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ноте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стокваши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мик в дерев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в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Белый, равноме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ку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исломол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систе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не очень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очень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днородная густая ма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пределение наличия крахмала смета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179280" y="396540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58" name="Изображение 4" descr=""/>
          <p:cNvPicPr/>
          <p:nvPr/>
        </p:nvPicPr>
        <p:blipFill>
          <a:blip r:embed="rId2"/>
          <a:stretch/>
        </p:blipFill>
        <p:spPr>
          <a:xfrm>
            <a:off x="6840360" y="166536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59" name="Изображение 5" descr=""/>
          <p:cNvPicPr/>
          <p:nvPr/>
        </p:nvPicPr>
        <p:blipFill>
          <a:blip r:embed="rId3"/>
          <a:stretch/>
        </p:blipFill>
        <p:spPr>
          <a:xfrm>
            <a:off x="2255760" y="2781360"/>
            <a:ext cx="4451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Определение наличия примесей заменителей молочного жира в сметане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324000" y="3552840"/>
            <a:ext cx="1995480" cy="2660760"/>
          </a:xfrm>
          <a:prstGeom prst="rect">
            <a:avLst/>
          </a:prstGeom>
          <a:ln w="0">
            <a:noFill/>
          </a:ln>
        </p:spPr>
      </p:pic>
      <p:pic>
        <p:nvPicPr>
          <p:cNvPr id="62" name="Изображение 4" descr=""/>
          <p:cNvPicPr/>
          <p:nvPr/>
        </p:nvPicPr>
        <p:blipFill>
          <a:blip r:embed="rId2"/>
          <a:stretch/>
        </p:blipFill>
        <p:spPr>
          <a:xfrm>
            <a:off x="3132000" y="1906560"/>
            <a:ext cx="2716200" cy="3621240"/>
          </a:xfrm>
          <a:prstGeom prst="rect">
            <a:avLst/>
          </a:prstGeom>
          <a:ln w="0">
            <a:noFill/>
          </a:ln>
        </p:spPr>
      </p:pic>
      <p:pic>
        <p:nvPicPr>
          <p:cNvPr id="63" name="Изображение 5" descr=""/>
          <p:cNvPicPr/>
          <p:nvPr/>
        </p:nvPicPr>
        <p:blipFill>
          <a:blip r:embed="rId3"/>
          <a:stretch/>
        </p:blipFill>
        <p:spPr>
          <a:xfrm>
            <a:off x="6562800" y="1585800"/>
            <a:ext cx="19764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пределение наличие примесей творога в смета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93680" y="1523880"/>
            <a:ext cx="2239920" cy="2986200"/>
          </a:xfrm>
          <a:prstGeom prst="rect">
            <a:avLst/>
          </a:prstGeom>
          <a:ln w="0">
            <a:noFill/>
          </a:ln>
        </p:spPr>
      </p:pic>
      <p:pic>
        <p:nvPicPr>
          <p:cNvPr id="66" name="Изображение 4" descr=""/>
          <p:cNvPicPr/>
          <p:nvPr/>
        </p:nvPicPr>
        <p:blipFill>
          <a:blip r:embed="rId2"/>
          <a:stretch/>
        </p:blipFill>
        <p:spPr>
          <a:xfrm>
            <a:off x="6767640" y="1500120"/>
            <a:ext cx="2232000" cy="2976480"/>
          </a:xfrm>
          <a:prstGeom prst="rect">
            <a:avLst/>
          </a:prstGeom>
          <a:ln w="0">
            <a:noFill/>
          </a:ln>
        </p:spPr>
      </p:pic>
      <p:pic>
        <p:nvPicPr>
          <p:cNvPr id="67" name="Изображение 5" descr=""/>
          <p:cNvPicPr/>
          <p:nvPr/>
        </p:nvPicPr>
        <p:blipFill>
          <a:blip r:embed="rId3"/>
          <a:stretch/>
        </p:blipFill>
        <p:spPr>
          <a:xfrm>
            <a:off x="2655720" y="3429000"/>
            <a:ext cx="38894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7T02:12:13Z</dcterms:created>
  <dc:creator>Наталья</dc:creator>
  <dc:description/>
  <dc:language>en-US</dc:language>
  <cp:lastModifiedBy>HP</cp:lastModifiedBy>
  <dcterms:modified xsi:type="dcterms:W3CDTF">2019-04-26T09:03:44Z</dcterms:modified>
  <cp:revision>14</cp:revision>
  <dc:subject/>
  <dc:title>Шаблон презентации по химии</dc:title>
</cp:coreProperties>
</file>