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D04-75D9-4672-93E5-8777DC8E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9D2-815D-4B26-A744-0CCF7132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163-AFF1-4B30-A6D7-AF4F4C5E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3E0-9951-4515-92AE-46B1A543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697A-793B-4727-83C0-1EF2D725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D9DF-C453-435D-88CF-D53791B7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9B6B-D46A-430E-99EC-A61AAFF5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C239-136A-4463-9EC9-54E5B0FA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DE73-C932-40B5-853F-6E071D79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962E-11B0-4E9B-978E-4493F7A9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C1CD-76BA-46D6-8432-D8586367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E1D-D555-48B2-BCB7-BBB65C1C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A3E4-20AC-4C0B-8E73-EF303B7E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492B-A6DA-4C5F-B1E9-485D2072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0075-7FEB-486A-AB5B-D57EF46A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6298-939A-40F2-998E-16E895E8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4998-C2EE-4F02-8407-394592C4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422-E6D0-4DD0-A708-2BBA9F9A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203-B577-4BAF-BE9A-560F15F8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279-685C-43D5-88E7-F795FD51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720-24BF-4745-88A7-083CD0D5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26A-181C-48D9-848E-DD91B670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467-1B78-48B0-A624-2EFBC7E0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6A1-ECD5-40E4-A92A-161993DD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623F-5EA3-4A1F-994C-E1B30A695C2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288B-1DA8-4B81-8B87-2BC32431F1BD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5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7772400" cy="276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d44a4"/>
                </a:solidFill>
                <a:latin typeface="Tahoma"/>
              </a:rPr>
              <a:t>Интеллектуальная викторина </a:t>
            </a:r>
            <a:br>
              <a:rPr sz="4400"/>
            </a:br>
            <a:br>
              <a:rPr sz="4400"/>
            </a:b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«Умники и Умницы»</a:t>
            </a:r>
            <a:br>
              <a:rPr sz="6000"/>
            </a:b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Кононова Л.Н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Рисунок 2" descr="sova_Kubok.jpg"/>
          <p:cNvPicPr/>
          <p:nvPr/>
        </p:nvPicPr>
        <p:blipFill>
          <a:blip r:embed="rId1"/>
          <a:stretch/>
        </p:blipFill>
        <p:spPr>
          <a:xfrm>
            <a:off x="428760" y="4357800"/>
            <a:ext cx="3598560" cy="23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Конкурс «Грамотеи» 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7" name="Рисунок 5" descr="sova_Kubok.jpg"/>
          <p:cNvPicPr/>
          <p:nvPr/>
        </p:nvPicPr>
        <p:blipFill>
          <a:blip r:embed="rId1"/>
          <a:stretch/>
        </p:blipFill>
        <p:spPr>
          <a:xfrm>
            <a:off x="357120" y="214200"/>
            <a:ext cx="1643040" cy="1055880"/>
          </a:xfrm>
          <a:prstGeom prst="rect">
            <a:avLst/>
          </a:prstGeom>
          <a:ln w="0">
            <a:noFill/>
          </a:ln>
        </p:spPr>
      </p:pic>
      <p:sp>
        <p:nvSpPr>
          <p:cNvPr id="248" name="Скругленный прямоугольник 6"/>
          <p:cNvSpPr/>
          <p:nvPr/>
        </p:nvSpPr>
        <p:spPr>
          <a:xfrm>
            <a:off x="2571840" y="1571760"/>
            <a:ext cx="4143240" cy="4971960"/>
          </a:xfrm>
          <a:custGeom>
            <a:avLst/>
            <a:gdLst>
              <a:gd name="textAreaLeft" fmla="*/ 201960 w 4143240"/>
              <a:gd name="textAreaRight" fmla="*/ 3941280 w 4143240"/>
              <a:gd name="textAreaTop" fmla="*/ 201960 h 4971960"/>
              <a:gd name="textAreaBottom" fmla="*/ 4770000 h 4971960"/>
            </a:gdLst>
            <a:ahLst/>
            <a:rect l="textAreaLeft" t="textAreaTop" r="textAreaRight" b="textAreaBottom"/>
            <a:pathLst>
              <a:path w="21600" h="25920">
                <a:moveTo>
                  <a:pt x="3600" y="0"/>
                </a:moveTo>
                <a:arcTo wR="3600" hR="3600" stAng="16200000" swAng="-5400000"/>
                <a:lnTo>
                  <a:pt x="0" y="22320"/>
                </a:lnTo>
                <a:arcTo wR="3600" hR="3600" stAng="10800000" swAng="-5400000"/>
                <a:lnTo>
                  <a:pt x="18000" y="259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Скругленный прямоугольник 7"/>
          <p:cNvSpPr/>
          <p:nvPr/>
        </p:nvSpPr>
        <p:spPr>
          <a:xfrm>
            <a:off x="785880" y="1571760"/>
            <a:ext cx="7761240" cy="49719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Скругленный прямоугольник 8"/>
          <p:cNvSpPr/>
          <p:nvPr/>
        </p:nvSpPr>
        <p:spPr>
          <a:xfrm>
            <a:off x="785880" y="1571760"/>
            <a:ext cx="7761240" cy="4971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Скругленный прямоугольник 9"/>
          <p:cNvSpPr/>
          <p:nvPr/>
        </p:nvSpPr>
        <p:spPr>
          <a:xfrm>
            <a:off x="785880" y="1571760"/>
            <a:ext cx="7761240" cy="497196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Конкурс «Составь слово»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3" name="Рисунок 3" descr="sova_Kubok.jpg"/>
          <p:cNvPicPr/>
          <p:nvPr/>
        </p:nvPicPr>
        <p:blipFill>
          <a:blip r:embed="rId1"/>
          <a:stretch/>
        </p:blipFill>
        <p:spPr>
          <a:xfrm>
            <a:off x="0" y="214200"/>
            <a:ext cx="1643040" cy="10558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857160" y="1500120"/>
            <a:ext cx="77724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ставить из предложенных букв два слова.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74320" indent="-27432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Tahoma"/>
              </a:rPr>
              <a:t>мир</a:t>
            </a:r>
            <a:endParaRPr b="0" lang="en-US" sz="11500" spc="-1" strike="noStrike">
              <a:solidFill>
                <a:srgbClr val="40458c"/>
              </a:solidFill>
              <a:latin typeface="Tahoma"/>
            </a:endParaRPr>
          </a:p>
          <a:p>
            <a:pPr marL="274320" indent="-274320" algn="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Tahoma"/>
              </a:rPr>
              <a:t>дружба</a:t>
            </a:r>
            <a:endParaRPr b="0" lang="en-US" sz="11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Конкурс «Перевертыш»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352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4a3"/>
                </a:solidFill>
                <a:latin typeface="Tahoma"/>
              </a:rPr>
              <a:t>1 –я команда: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окрый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сокий 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линный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ерный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ихо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ладкий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829040" y="1916280"/>
            <a:ext cx="3529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4a3"/>
                </a:solidFill>
                <a:latin typeface="Tahoma"/>
              </a:rPr>
              <a:t>2 –я команда: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Широкий 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олстый 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лой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ороший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ень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Горячий -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8" name="Рисунок 5" descr="sova_Kubok.jpg"/>
          <p:cNvPicPr/>
          <p:nvPr/>
        </p:nvPicPr>
        <p:blipFill>
          <a:blip r:embed="rId13"/>
          <a:stretch/>
        </p:blipFill>
        <p:spPr>
          <a:xfrm>
            <a:off x="0" y="214200"/>
            <a:ext cx="164304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285768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Так держать!</a:t>
            </a:r>
            <a:endParaRPr b="0" lang="en-US" sz="8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8760" y="5781600"/>
            <a:ext cx="91440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4a3"/>
                </a:solidFill>
                <a:latin typeface="Tahoma"/>
              </a:rPr>
              <a:t>ДЕВИЗ:</a:t>
            </a: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 «ЧТОБЫ МНОГО-МНОГО ЗНАТЬ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            НУЖНО КНИЖКИ ВСЕМ ЧИТАТЬ»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4296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458c"/>
                </a:solidFill>
                <a:latin typeface="Tahoma"/>
              </a:rPr>
              <a:t>Представление команд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Скругленный прямоугольник 3"/>
          <p:cNvSpPr/>
          <p:nvPr/>
        </p:nvSpPr>
        <p:spPr>
          <a:xfrm>
            <a:off x="2000160" y="1500120"/>
            <a:ext cx="5656320" cy="40528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Заголовок 1"/>
          <p:cNvSpPr/>
          <p:nvPr/>
        </p:nvSpPr>
        <p:spPr>
          <a:xfrm>
            <a:off x="171468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4a3"/>
                </a:solidFill>
                <a:latin typeface="Tahoma"/>
              </a:rPr>
              <a:t>КОМАНДА: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«ЗНАЙКИ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Рисунок 5" descr="sova_Kubok.jpg"/>
          <p:cNvPicPr/>
          <p:nvPr/>
        </p:nvPicPr>
        <p:blipFill>
          <a:blip r:embed="rId2"/>
          <a:stretch/>
        </p:blipFill>
        <p:spPr>
          <a:xfrm>
            <a:off x="0" y="214200"/>
            <a:ext cx="164304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840" y="5000400"/>
            <a:ext cx="86439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804a3"/>
                </a:solidFill>
                <a:latin typeface="Tahoma"/>
              </a:rPr>
              <a:t>ДЕВИЗ:</a:t>
            </a: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   «КАК РАКЕТА ЛЕТИТ ВВЫСЬ,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                  ТАК К ЗНАНИЯМ СТРЕМИСЬ».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Скругленный прямоугольник 3"/>
          <p:cNvSpPr/>
          <p:nvPr/>
        </p:nvSpPr>
        <p:spPr>
          <a:xfrm>
            <a:off x="1785960" y="1574640"/>
            <a:ext cx="5243400" cy="3711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Заголовок 1"/>
          <p:cNvSpPr/>
          <p:nvPr/>
        </p:nvSpPr>
        <p:spPr>
          <a:xfrm>
            <a:off x="2143080" y="21420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c804a3"/>
                </a:solidFill>
                <a:latin typeface="Tahoma"/>
              </a:rPr>
              <a:t>КОМАНДА: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  «РАКЕТА»</a:t>
            </a:r>
            <a:br>
              <a:rPr sz="3600"/>
            </a:b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Рисунок 4" descr="sova_Kubok.jpg"/>
          <p:cNvPicPr/>
          <p:nvPr/>
        </p:nvPicPr>
        <p:blipFill>
          <a:blip r:embed="rId2"/>
          <a:stretch/>
        </p:blipFill>
        <p:spPr>
          <a:xfrm>
            <a:off x="142920" y="285840"/>
            <a:ext cx="16430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Скругленный прямоугольник 3"/>
          <p:cNvSpPr/>
          <p:nvPr/>
        </p:nvSpPr>
        <p:spPr>
          <a:xfrm>
            <a:off x="571680" y="285840"/>
            <a:ext cx="4668480" cy="33462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Скругленный прямоугольник 4"/>
          <p:cNvSpPr/>
          <p:nvPr/>
        </p:nvSpPr>
        <p:spPr>
          <a:xfrm>
            <a:off x="3714840" y="3286080"/>
            <a:ext cx="4680000" cy="3313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76916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Конкурс «Эрудит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4a3"/>
                </a:solidFill>
                <a:latin typeface="Tahoma"/>
              </a:rPr>
              <a:t>Вопросы для 1 команды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рова в детств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азочный мальчик с деревянным носом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еречислить все дни недел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олько лапок у насекомых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к называется главный город нашей страны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кунь, карась, щука. (это кто?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Какая утка тяжелее на 1 кг или на 2 кг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Рыба в детстве. (кто это?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ибор для измерения давления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3" name="Рисунок 4" descr="sova_Kubok.jpg"/>
          <p:cNvPicPr/>
          <p:nvPr/>
        </p:nvPicPr>
        <p:blipFill>
          <a:blip r:embed="rId10"/>
          <a:stretch/>
        </p:blipFill>
        <p:spPr>
          <a:xfrm>
            <a:off x="366840" y="438120"/>
            <a:ext cx="164304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76916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Конкурс «Эрудит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04a3"/>
                </a:solidFill>
                <a:latin typeface="Tahoma"/>
              </a:rPr>
              <a:t>Вопросы для 2 команды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ервый месяц осени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урица в детстве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азочная девочка с голубыми волосам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звание страны в которой мы живе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то самый главный человек на корабл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уха, бабочка, пчела. (кто это?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Что тяжелее 1 кг ваты или1 кг железа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вца в детстве. (кто это?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ибор для измерения температуры тел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6" name="Рисунок 3" descr="sova_Kubok.jpg"/>
          <p:cNvPicPr/>
          <p:nvPr/>
        </p:nvPicPr>
        <p:blipFill>
          <a:blip r:embed="rId10"/>
          <a:stretch/>
        </p:blipFill>
        <p:spPr>
          <a:xfrm>
            <a:off x="357120" y="214200"/>
            <a:ext cx="164304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5345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Конкурс «Математический» 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85880" y="20718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c804a3"/>
                </a:solidFill>
                <a:latin typeface="Tahoma"/>
              </a:rPr>
              <a:t>Игра «Живые цифры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9" name="Рисунок 3" descr="sova_Kubok.jpg"/>
          <p:cNvPicPr/>
          <p:nvPr/>
        </p:nvPicPr>
        <p:blipFill>
          <a:blip r:embed="rId2"/>
          <a:stretch/>
        </p:blipFill>
        <p:spPr>
          <a:xfrm>
            <a:off x="0" y="214200"/>
            <a:ext cx="1643040" cy="105588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4" descr=""/>
          <p:cNvPicPr/>
          <p:nvPr/>
        </p:nvPicPr>
        <p:blipFill>
          <a:blip r:embed="rId3"/>
          <a:stretch/>
        </p:blipFill>
        <p:spPr>
          <a:xfrm>
            <a:off x="1073160" y="2646360"/>
            <a:ext cx="1073160" cy="124308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5" descr=""/>
          <p:cNvPicPr/>
          <p:nvPr/>
        </p:nvPicPr>
        <p:blipFill>
          <a:blip r:embed="rId4"/>
          <a:stretch/>
        </p:blipFill>
        <p:spPr>
          <a:xfrm>
            <a:off x="5430960" y="2712960"/>
            <a:ext cx="622080" cy="127944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6" descr=""/>
          <p:cNvPicPr/>
          <p:nvPr/>
        </p:nvPicPr>
        <p:blipFill>
          <a:blip r:embed="rId5"/>
          <a:stretch/>
        </p:blipFill>
        <p:spPr>
          <a:xfrm>
            <a:off x="3706920" y="3565440"/>
            <a:ext cx="645840" cy="93348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7" descr=""/>
          <p:cNvPicPr/>
          <p:nvPr/>
        </p:nvPicPr>
        <p:blipFill>
          <a:blip r:embed="rId6"/>
          <a:stretch/>
        </p:blipFill>
        <p:spPr>
          <a:xfrm>
            <a:off x="1139760" y="4998960"/>
            <a:ext cx="628560" cy="92556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8" descr=""/>
          <p:cNvPicPr/>
          <p:nvPr/>
        </p:nvPicPr>
        <p:blipFill>
          <a:blip r:embed="rId7"/>
          <a:stretch/>
        </p:blipFill>
        <p:spPr>
          <a:xfrm>
            <a:off x="6072120" y="5284800"/>
            <a:ext cx="627120" cy="92700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9" descr=""/>
          <p:cNvPicPr/>
          <p:nvPr/>
        </p:nvPicPr>
        <p:blipFill>
          <a:blip r:embed="rId8"/>
          <a:stretch/>
        </p:blipFill>
        <p:spPr>
          <a:xfrm>
            <a:off x="2212920" y="3786120"/>
            <a:ext cx="627120" cy="92556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10" descr=""/>
          <p:cNvPicPr/>
          <p:nvPr/>
        </p:nvPicPr>
        <p:blipFill>
          <a:blip r:embed="rId9"/>
          <a:stretch/>
        </p:blipFill>
        <p:spPr>
          <a:xfrm>
            <a:off x="6718320" y="3432240"/>
            <a:ext cx="620640" cy="92052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11" descr=""/>
          <p:cNvPicPr/>
          <p:nvPr/>
        </p:nvPicPr>
        <p:blipFill>
          <a:blip r:embed="rId10"/>
          <a:stretch/>
        </p:blipFill>
        <p:spPr>
          <a:xfrm>
            <a:off x="3932280" y="5499000"/>
            <a:ext cx="620640" cy="12621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12" descr=""/>
          <p:cNvPicPr/>
          <p:nvPr/>
        </p:nvPicPr>
        <p:blipFill>
          <a:blip r:embed="rId11"/>
          <a:stretch/>
        </p:blipFill>
        <p:spPr>
          <a:xfrm>
            <a:off x="7491240" y="4065480"/>
            <a:ext cx="6652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500040"/>
            <a:ext cx="85345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Игра «Будь внимателен» 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609480" y="1052640"/>
            <a:ext cx="856944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самая тонкая циф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цифра, которая подсказывает сколько глазков у светофор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цифра, которая похожая на кочерг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цифра, которая состоит из двух бубликов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цифра, которая может превращаться в цифру  - 6.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цифра, которая стоит после – 5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цифра, которая МЕНЬШЕ -8 – на – 1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сть сядет цифра, которая стоит между  цифрами       4 и 6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кая цифра осталась?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Рисунок 4" descr="sova_Kubok.jpg"/>
          <p:cNvPicPr/>
          <p:nvPr/>
        </p:nvPicPr>
        <p:blipFill>
          <a:blip r:embed="rId11"/>
          <a:stretch/>
        </p:blipFill>
        <p:spPr>
          <a:xfrm>
            <a:off x="0" y="214200"/>
            <a:ext cx="164304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76916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Эстафета «Собери в корзинки»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3" name="Рисунок 4" descr="960x640_fruktyi-mnogo-korzina.jpg"/>
          <p:cNvPicPr/>
          <p:nvPr/>
        </p:nvPicPr>
        <p:blipFill>
          <a:blip r:embed="rId1"/>
          <a:stretch/>
        </p:blipFill>
        <p:spPr>
          <a:xfrm>
            <a:off x="714240" y="1428840"/>
            <a:ext cx="3641760" cy="24271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5" descr="c91be22a8bbeb39c79fe1754f40c8b45.jpg"/>
          <p:cNvPicPr/>
          <p:nvPr/>
        </p:nvPicPr>
        <p:blipFill>
          <a:blip r:embed="rId2"/>
          <a:stretch/>
        </p:blipFill>
        <p:spPr>
          <a:xfrm>
            <a:off x="4857840" y="1357200"/>
            <a:ext cx="3421080" cy="256536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7" descr="tradeboardJYIhKJ_img.jpg"/>
          <p:cNvPicPr/>
          <p:nvPr/>
        </p:nvPicPr>
        <p:blipFill>
          <a:blip r:embed="rId3"/>
          <a:stretch/>
        </p:blipFill>
        <p:spPr>
          <a:xfrm>
            <a:off x="2286000" y="4000680"/>
            <a:ext cx="40114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6:38:46Z</dcterms:created>
  <dc:creator>Прутченков</dc:creator>
  <dc:description/>
  <dc:language>en-US</dc:language>
  <cp:lastModifiedBy>Konan</cp:lastModifiedBy>
  <cp:lastPrinted>2003-06-09T08:24:22Z</cp:lastPrinted>
  <dcterms:modified xsi:type="dcterms:W3CDTF">2019-03-25T11:37:22Z</dcterms:modified>
  <cp:revision>213</cp:revision>
  <dc:subject/>
  <dc:title>Портфолио</dc:title>
</cp:coreProperties>
</file>