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7339-0BE6-4435-B27F-FB2A3174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40C-C99C-4788-93D0-8966338C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D2E-18D2-4208-A87A-EE327113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ACB-B972-486A-BA8D-610358DC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9725-6024-40C7-8607-CEBCD44A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A351-C4C0-4130-A6F3-821885E4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0048-C37B-4538-89EE-C4E78CC5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569F-421A-42C6-ADC0-56B98304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4E25-1268-41BD-A57C-C980E44B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2B99-C356-407C-9E2B-713A213C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D2DB-99DC-4EA6-8EA5-931700C1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4BE-FEFC-4C7D-A211-5564030F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5AF7-DDF1-4031-A3DC-BCD31FFE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BFF0-2FAF-4C6C-87BD-CA9CA712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E2C1-8E8B-4C07-9257-DFF537B6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2C57-6DF7-44B5-803F-186AC732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904B-67C7-44BA-9670-688473C2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68F-42EF-4BE8-8B52-EF9E39D4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5FC-9E50-4A82-8C65-D2A56190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8A7-09D6-4330-B99B-4D13DFE9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741-FC7B-40E7-94CC-ACDA0AC6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5AF-9EFD-4B7B-9314-36581C6A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3E0-2B2F-4DF5-BC02-A8F09B94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5C2-E98D-47E9-8293-BFFF688E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283F-008A-4200-A4ED-B400676E961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02DF-70DC-458F-B987-4F358FA97677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7772400" cy="276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d44a4"/>
                </a:solidFill>
                <a:latin typeface="Tahoma"/>
              </a:rPr>
              <a:t>Интеллектуальная викторина </a:t>
            </a:r>
            <a:br>
              <a:rPr sz="4400"/>
            </a:br>
            <a:br>
              <a:rPr sz="4400"/>
            </a:b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«Умники и Умницы»</a:t>
            </a:r>
            <a:br>
              <a:rPr sz="6000"/>
            </a:b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Кононова Л.Н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Рисунок 2" descr="sova_Kubok.jpg"/>
          <p:cNvPicPr/>
          <p:nvPr/>
        </p:nvPicPr>
        <p:blipFill>
          <a:blip r:embed="rId1"/>
          <a:stretch/>
        </p:blipFill>
        <p:spPr>
          <a:xfrm>
            <a:off x="428760" y="4357800"/>
            <a:ext cx="3598560" cy="23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3416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Конкурс «Грамотеи» 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7" name="Рисунок 5" descr="sova_Kubok.jpg"/>
          <p:cNvPicPr/>
          <p:nvPr/>
        </p:nvPicPr>
        <p:blipFill>
          <a:blip r:embed="rId1"/>
          <a:stretch/>
        </p:blipFill>
        <p:spPr>
          <a:xfrm>
            <a:off x="357120" y="214200"/>
            <a:ext cx="1643040" cy="1055880"/>
          </a:xfrm>
          <a:prstGeom prst="rect">
            <a:avLst/>
          </a:prstGeom>
          <a:ln w="0">
            <a:noFill/>
          </a:ln>
        </p:spPr>
      </p:pic>
      <p:sp>
        <p:nvSpPr>
          <p:cNvPr id="248" name="Скругленный прямоугольник 6"/>
          <p:cNvSpPr/>
          <p:nvPr/>
        </p:nvSpPr>
        <p:spPr>
          <a:xfrm>
            <a:off x="2571840" y="1571760"/>
            <a:ext cx="4143240" cy="497196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4971960"/>
              <a:gd name="textAreaBottom" fmla="*/ 4770000 h 4971960"/>
            </a:gdLst>
            <a:ahLst/>
            <a:rect l="textAreaLeft" t="textAreaTop" r="textAreaRight" b="textAreaBottom"/>
            <a:pathLst>
              <a:path w="21600" h="25920">
                <a:moveTo>
                  <a:pt x="3600" y="0"/>
                </a:moveTo>
                <a:arcTo wR="3600" hR="3600" stAng="16200000" swAng="-5400000"/>
                <a:lnTo>
                  <a:pt x="0" y="22320"/>
                </a:lnTo>
                <a:arcTo wR="3600" hR="3600" stAng="10800000" swAng="-5400000"/>
                <a:lnTo>
                  <a:pt x="18000" y="259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Скругленный прямоугольник 7"/>
          <p:cNvSpPr/>
          <p:nvPr/>
        </p:nvSpPr>
        <p:spPr>
          <a:xfrm>
            <a:off x="785880" y="1571760"/>
            <a:ext cx="7761240" cy="49719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Скругленный прямоугольник 8"/>
          <p:cNvSpPr/>
          <p:nvPr/>
        </p:nvSpPr>
        <p:spPr>
          <a:xfrm>
            <a:off x="785880" y="1571760"/>
            <a:ext cx="7761240" cy="4971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Скругленный прямоугольник 9"/>
          <p:cNvSpPr/>
          <p:nvPr/>
        </p:nvSpPr>
        <p:spPr>
          <a:xfrm>
            <a:off x="785880" y="1571760"/>
            <a:ext cx="7761240" cy="49719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3416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Конкурс «Составь слово»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3" name="Рисунок 3" descr="sova_Kubok.jpg"/>
          <p:cNvPicPr/>
          <p:nvPr/>
        </p:nvPicPr>
        <p:blipFill>
          <a:blip r:embed="rId1"/>
          <a:stretch/>
        </p:blipFill>
        <p:spPr>
          <a:xfrm>
            <a:off x="0" y="214200"/>
            <a:ext cx="1643040" cy="10558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857160" y="1500120"/>
            <a:ext cx="77724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ставить из предложенных букв два слова.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74320" indent="-27432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Tahoma"/>
              </a:rPr>
              <a:t>мир</a:t>
            </a:r>
            <a:endParaRPr b="0" lang="en-US" sz="11500" spc="-1" strike="noStrike">
              <a:solidFill>
                <a:srgbClr val="40458c"/>
              </a:solidFill>
              <a:latin typeface="Tahoma"/>
            </a:endParaRPr>
          </a:p>
          <a:p>
            <a:pPr marL="274320" indent="-274320" algn="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Tahoma"/>
              </a:rPr>
              <a:t>дружба</a:t>
            </a:r>
            <a:endParaRPr b="0" lang="en-US" sz="11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3416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Конкурс «Перевертыш»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352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4a3"/>
                </a:solidFill>
                <a:latin typeface="Tahoma"/>
              </a:rPr>
              <a:t>1 –я команда: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окрый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сокий 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линный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ерный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ихо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ладкий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829040" y="1916280"/>
            <a:ext cx="3529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4a3"/>
                </a:solidFill>
                <a:latin typeface="Tahoma"/>
              </a:rPr>
              <a:t>2 –я команда: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Широкий 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олстый 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лой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ороший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ень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орячий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8" name="Рисунок 5" descr="sova_Kubok.jpg"/>
          <p:cNvPicPr/>
          <p:nvPr/>
        </p:nvPicPr>
        <p:blipFill>
          <a:blip r:embed="rId13"/>
          <a:stretch/>
        </p:blipFill>
        <p:spPr>
          <a:xfrm>
            <a:off x="0" y="214200"/>
            <a:ext cx="164304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285768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Так держать!</a:t>
            </a:r>
            <a:endParaRPr b="0" lang="en-US" sz="8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57816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4a3"/>
                </a:solidFill>
                <a:latin typeface="Tahoma"/>
              </a:rPr>
              <a:t>ДЕВИЗ:</a:t>
            </a: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 «ЧТОБЫ МНОГО-МНОГО ЗНАТЬ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            НУЖНО КНИЖКИ ВСЕМ ЧИТАТЬ»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4296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458c"/>
                </a:solidFill>
                <a:latin typeface="Tahoma"/>
              </a:rPr>
              <a:t>Представление команд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Скругленный прямоугольник 3"/>
          <p:cNvSpPr/>
          <p:nvPr/>
        </p:nvSpPr>
        <p:spPr>
          <a:xfrm>
            <a:off x="2000160" y="1500120"/>
            <a:ext cx="5656320" cy="40528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Заголовок 1"/>
          <p:cNvSpPr/>
          <p:nvPr/>
        </p:nvSpPr>
        <p:spPr>
          <a:xfrm>
            <a:off x="1714680" y="214200"/>
            <a:ext cx="7772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4a3"/>
                </a:solidFill>
                <a:latin typeface="Tahoma"/>
              </a:rPr>
              <a:t>КОМАНДА: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«ЗНАЙКИ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Рисунок 5" descr="sova_Kubok.jpg"/>
          <p:cNvPicPr/>
          <p:nvPr/>
        </p:nvPicPr>
        <p:blipFill>
          <a:blip r:embed="rId2"/>
          <a:stretch/>
        </p:blipFill>
        <p:spPr>
          <a:xfrm>
            <a:off x="0" y="214200"/>
            <a:ext cx="164304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840" y="5000400"/>
            <a:ext cx="86439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804a3"/>
                </a:solidFill>
                <a:latin typeface="Tahoma"/>
              </a:rPr>
              <a:t>ДЕВИЗ:</a:t>
            </a: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   «КАК РАКЕТА ЛЕТИТ ВВЫСЬ,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                  ТАК К ЗНАНИЯМ СТРЕМИСЬ».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Скругленный прямоугольник 3"/>
          <p:cNvSpPr/>
          <p:nvPr/>
        </p:nvSpPr>
        <p:spPr>
          <a:xfrm>
            <a:off x="1785960" y="1574640"/>
            <a:ext cx="5243400" cy="3711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Заголовок 1"/>
          <p:cNvSpPr/>
          <p:nvPr/>
        </p:nvSpPr>
        <p:spPr>
          <a:xfrm>
            <a:off x="2143080" y="21420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c804a3"/>
                </a:solidFill>
                <a:latin typeface="Tahoma"/>
              </a:rPr>
              <a:t>КОМАНДА: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  «РАКЕТА»</a:t>
            </a:r>
            <a:br>
              <a:rPr sz="3600"/>
            </a:b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Рисунок 4" descr="sova_Kubok.jpg"/>
          <p:cNvPicPr/>
          <p:nvPr/>
        </p:nvPicPr>
        <p:blipFill>
          <a:blip r:embed="rId2"/>
          <a:stretch/>
        </p:blipFill>
        <p:spPr>
          <a:xfrm>
            <a:off x="142920" y="285840"/>
            <a:ext cx="164304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Скругленный прямоугольник 3"/>
          <p:cNvSpPr/>
          <p:nvPr/>
        </p:nvSpPr>
        <p:spPr>
          <a:xfrm>
            <a:off x="571680" y="285840"/>
            <a:ext cx="4668480" cy="3346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Скругленный прямоугольник 4"/>
          <p:cNvSpPr/>
          <p:nvPr/>
        </p:nvSpPr>
        <p:spPr>
          <a:xfrm>
            <a:off x="3714840" y="3286080"/>
            <a:ext cx="4680000" cy="3313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76916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Конкурс «Эрудит»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4a3"/>
                </a:solidFill>
                <a:latin typeface="Tahoma"/>
              </a:rPr>
              <a:t>Вопросы для 1 команды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рова в детств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казочный мальчик с деревянным носом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еречислить все дни недел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колько лапок у насекомых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к называется главный город нашей страны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кунь, карась, щука. (это кто?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Какая утка тяжелее на 1 кг или на 2 кг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Рыба в детстве. (кто это?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рибор для измерения давления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3" name="Рисунок 4" descr="sova_Kubok.jpg"/>
          <p:cNvPicPr/>
          <p:nvPr/>
        </p:nvPicPr>
        <p:blipFill>
          <a:blip r:embed="rId10"/>
          <a:stretch/>
        </p:blipFill>
        <p:spPr>
          <a:xfrm>
            <a:off x="366840" y="438120"/>
            <a:ext cx="164304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76916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Конкурс «Эрудит»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4a3"/>
                </a:solidFill>
                <a:latin typeface="Tahoma"/>
              </a:rPr>
              <a:t>Вопросы для 2 команды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ервый месяц осени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урица в детстве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казочная девочка с голубыми волосам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звание страны в которой мы живе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то самый главный человек на корабл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уха, бабочка, пчела. (кто это?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Что тяжелее 1 кг ваты или1 кг железа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вца в детстве. (кто это?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рибор для измерения температуры тел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6" name="Рисунок 3" descr="sova_Kubok.jpg"/>
          <p:cNvPicPr/>
          <p:nvPr/>
        </p:nvPicPr>
        <p:blipFill>
          <a:blip r:embed="rId10"/>
          <a:stretch/>
        </p:blipFill>
        <p:spPr>
          <a:xfrm>
            <a:off x="357120" y="214200"/>
            <a:ext cx="164304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5345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Конкурс «Математический» 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85880" y="207180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c804a3"/>
                </a:solidFill>
                <a:latin typeface="Tahoma"/>
              </a:rPr>
              <a:t>Игра «Живые цифры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9" name="Рисунок 3" descr="sova_Kubok.jpg"/>
          <p:cNvPicPr/>
          <p:nvPr/>
        </p:nvPicPr>
        <p:blipFill>
          <a:blip r:embed="rId2"/>
          <a:stretch/>
        </p:blipFill>
        <p:spPr>
          <a:xfrm>
            <a:off x="0" y="214200"/>
            <a:ext cx="1643040" cy="105588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4" descr=""/>
          <p:cNvPicPr/>
          <p:nvPr/>
        </p:nvPicPr>
        <p:blipFill>
          <a:blip r:embed="rId3"/>
          <a:stretch/>
        </p:blipFill>
        <p:spPr>
          <a:xfrm>
            <a:off x="1073160" y="2646360"/>
            <a:ext cx="1073160" cy="124308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5" descr=""/>
          <p:cNvPicPr/>
          <p:nvPr/>
        </p:nvPicPr>
        <p:blipFill>
          <a:blip r:embed="rId4"/>
          <a:stretch/>
        </p:blipFill>
        <p:spPr>
          <a:xfrm>
            <a:off x="5430960" y="2712960"/>
            <a:ext cx="622080" cy="127944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6" descr=""/>
          <p:cNvPicPr/>
          <p:nvPr/>
        </p:nvPicPr>
        <p:blipFill>
          <a:blip r:embed="rId5"/>
          <a:stretch/>
        </p:blipFill>
        <p:spPr>
          <a:xfrm>
            <a:off x="3706920" y="3565440"/>
            <a:ext cx="645840" cy="93348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7" descr=""/>
          <p:cNvPicPr/>
          <p:nvPr/>
        </p:nvPicPr>
        <p:blipFill>
          <a:blip r:embed="rId6"/>
          <a:stretch/>
        </p:blipFill>
        <p:spPr>
          <a:xfrm>
            <a:off x="1139760" y="4998960"/>
            <a:ext cx="628560" cy="92556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8" descr=""/>
          <p:cNvPicPr/>
          <p:nvPr/>
        </p:nvPicPr>
        <p:blipFill>
          <a:blip r:embed="rId7"/>
          <a:stretch/>
        </p:blipFill>
        <p:spPr>
          <a:xfrm>
            <a:off x="6072120" y="5284800"/>
            <a:ext cx="627120" cy="92700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9" descr=""/>
          <p:cNvPicPr/>
          <p:nvPr/>
        </p:nvPicPr>
        <p:blipFill>
          <a:blip r:embed="rId8"/>
          <a:stretch/>
        </p:blipFill>
        <p:spPr>
          <a:xfrm>
            <a:off x="2212920" y="3786120"/>
            <a:ext cx="627120" cy="92556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10" descr=""/>
          <p:cNvPicPr/>
          <p:nvPr/>
        </p:nvPicPr>
        <p:blipFill>
          <a:blip r:embed="rId9"/>
          <a:stretch/>
        </p:blipFill>
        <p:spPr>
          <a:xfrm>
            <a:off x="6718320" y="3432240"/>
            <a:ext cx="620640" cy="92052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11" descr=""/>
          <p:cNvPicPr/>
          <p:nvPr/>
        </p:nvPicPr>
        <p:blipFill>
          <a:blip r:embed="rId10"/>
          <a:stretch/>
        </p:blipFill>
        <p:spPr>
          <a:xfrm>
            <a:off x="3932280" y="5499000"/>
            <a:ext cx="620640" cy="126216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12" descr=""/>
          <p:cNvPicPr/>
          <p:nvPr/>
        </p:nvPicPr>
        <p:blipFill>
          <a:blip r:embed="rId11"/>
          <a:stretch/>
        </p:blipFill>
        <p:spPr>
          <a:xfrm>
            <a:off x="7491240" y="4065480"/>
            <a:ext cx="6652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500040"/>
            <a:ext cx="85345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Игра «Будь внимателен» 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609480" y="1052640"/>
            <a:ext cx="856944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сядет самая тонкая циф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сядет цифра, которая подсказывает сколько глазков у светофор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сядет цифра, которая похожая на кочерг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сядет цифра, которая состоит из двух бубликов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сядет цифра, которая может превращаться в цифру  - 6.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сядет цифра, которая стоит после – 5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сядет цифра, которая МЕНЬШЕ -8 – на – 1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сядет цифра, которая стоит между  цифрами       4 и 6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кая цифра осталась?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Рисунок 4" descr="sova_Kubok.jpg"/>
          <p:cNvPicPr/>
          <p:nvPr/>
        </p:nvPicPr>
        <p:blipFill>
          <a:blip r:embed="rId11"/>
          <a:stretch/>
        </p:blipFill>
        <p:spPr>
          <a:xfrm>
            <a:off x="0" y="214200"/>
            <a:ext cx="164304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76916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Эстафета «Собери в корзинки»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3" name="Рисунок 4" descr="960x640_fruktyi-mnogo-korzina.jpg"/>
          <p:cNvPicPr/>
          <p:nvPr/>
        </p:nvPicPr>
        <p:blipFill>
          <a:blip r:embed="rId1"/>
          <a:stretch/>
        </p:blipFill>
        <p:spPr>
          <a:xfrm>
            <a:off x="714240" y="1428840"/>
            <a:ext cx="3641760" cy="24271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5" descr="c91be22a8bbeb39c79fe1754f40c8b45.jpg"/>
          <p:cNvPicPr/>
          <p:nvPr/>
        </p:nvPicPr>
        <p:blipFill>
          <a:blip r:embed="rId2"/>
          <a:stretch/>
        </p:blipFill>
        <p:spPr>
          <a:xfrm>
            <a:off x="4857840" y="1357200"/>
            <a:ext cx="3421080" cy="256536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7" descr="tradeboardJYIhKJ_img.jpg"/>
          <p:cNvPicPr/>
          <p:nvPr/>
        </p:nvPicPr>
        <p:blipFill>
          <a:blip r:embed="rId3"/>
          <a:stretch/>
        </p:blipFill>
        <p:spPr>
          <a:xfrm>
            <a:off x="2286000" y="4000680"/>
            <a:ext cx="40114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06:38:46Z</dcterms:created>
  <dc:creator>Прутченков</dc:creator>
  <dc:description/>
  <dc:language>en-US</dc:language>
  <cp:lastModifiedBy>Konan</cp:lastModifiedBy>
  <cp:lastPrinted>2003-06-09T08:24:22Z</cp:lastPrinted>
  <dcterms:modified xsi:type="dcterms:W3CDTF">2019-03-25T11:37:22Z</dcterms:modified>
  <cp:revision>213</cp:revision>
  <dc:subject/>
  <dc:title>Портфолио</dc:title>
</cp:coreProperties>
</file>