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AA9-BAD9-4225-A81D-59494134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2FC-7DC0-407A-8A21-80337EA0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BE8-D783-428B-BC5C-42A82D55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A16-D988-4497-AD40-FC05BDA6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6643-449B-4B16-B3BF-4856CBFF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3A1-DAF8-4629-8F82-7A1DDC6B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2DF-316C-44C8-BB91-02C96BC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DFF3-C6D8-4336-B9A3-EB6AA4F6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0A68-0556-4B01-8C36-5830223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A2B1-5E75-4AF3-BC5B-5646C4D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6A7-DAE5-472B-8058-DD14121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549-DD30-4306-8C8C-1D6CE3D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EA5A-A025-4305-A4D2-BFCF3B8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9E51-F88C-452F-A4CD-F5A6544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F107-1E53-4790-8C05-65014731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518A-C315-479D-B18A-04FCF53A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C90D-E956-4C33-AB6F-34354409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EF5-2A98-494B-A68F-6F1C18B0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9CF-085E-422D-9084-B5899DC0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44C-A47F-452C-A7A9-26531234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DEF-9CA1-4571-A244-BCB21138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401-0EA4-471A-A79E-4300633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5C4-73E6-439E-8B68-825853D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70B-1BD1-460B-A06F-F1DAABCC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A87C-31D5-4B95-BC81-06AC585443A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0D2-1F80-4B2C-B45E-40D45C8FC33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55640" y="57168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Центр развития ребёнка – детский сад «Хрусталик»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flipH="1">
            <a:off x="467640" y="29289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Тема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: «Страна дорожных знаков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14836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: Шроо С.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429000" y="6500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бакан 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img23.jpg"/>
          <p:cNvPicPr/>
          <p:nvPr/>
        </p:nvPicPr>
        <p:blipFill>
          <a:blip r:embed="rId1"/>
          <a:stretch/>
        </p:blipFill>
        <p:spPr>
          <a:xfrm>
            <a:off x="468360" y="404640"/>
            <a:ext cx="8315280" cy="618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4" descr="hello_html_m1a1698c8.jpg"/>
          <p:cNvPicPr/>
          <p:nvPr/>
        </p:nvPicPr>
        <p:blipFill>
          <a:blip r:embed="rId2"/>
          <a:stretch/>
        </p:blipFill>
        <p:spPr>
          <a:xfrm>
            <a:off x="395280" y="1600200"/>
            <a:ext cx="388944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5" descr="img7.jpg"/>
          <p:cNvPicPr/>
          <p:nvPr/>
        </p:nvPicPr>
        <p:blipFill>
          <a:blip r:embed="rId3"/>
          <a:stretch/>
        </p:blipFill>
        <p:spPr>
          <a:xfrm>
            <a:off x="4648320" y="1557360"/>
            <a:ext cx="403848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022.jpg"/>
          <p:cNvPicPr/>
          <p:nvPr/>
        </p:nvPicPr>
        <p:blipFill>
          <a:blip r:embed="rId1"/>
          <a:stretch/>
        </p:blipFill>
        <p:spPr>
          <a:xfrm>
            <a:off x="588960" y="333360"/>
            <a:ext cx="796608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Содержимое 3" descr="65139196.jpg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img6.jpg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hello_html_5c2c8443.jpg"/>
          <p:cNvPicPr/>
          <p:nvPr/>
        </p:nvPicPr>
        <p:blipFill>
          <a:blip r:embed="rId1"/>
          <a:stretch/>
        </p:blipFill>
        <p:spPr>
          <a:xfrm>
            <a:off x="395280" y="333360"/>
            <a:ext cx="8410680" cy="631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img9.jpg"/>
          <p:cNvPicPr/>
          <p:nvPr/>
        </p:nvPicPr>
        <p:blipFill>
          <a:blip r:embed="rId2"/>
          <a:stretch/>
        </p:blipFill>
        <p:spPr>
          <a:xfrm>
            <a:off x="457200" y="1484280"/>
            <a:ext cx="4259160" cy="48974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img26.jpg"/>
          <p:cNvPicPr/>
          <p:nvPr/>
        </p:nvPicPr>
        <p:blipFill>
          <a:blip r:embed="rId3"/>
          <a:stretch/>
        </p:blipFill>
        <p:spPr>
          <a:xfrm>
            <a:off x="4859280" y="1484280"/>
            <a:ext cx="382752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s1200.jpg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1307198404_zh[1]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015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mg12.jp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6045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img6 (1).jp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0:47:10Z</dcterms:created>
  <dc:creator>Игорь</dc:creator>
  <dc:description/>
  <dc:language>en-US</dc:language>
  <cp:lastModifiedBy>Светлана</cp:lastModifiedBy>
  <dcterms:modified xsi:type="dcterms:W3CDTF">2019-04-26T14:40:43Z</dcterms:modified>
  <cp:revision>66</cp:revision>
  <dc:subject/>
  <dc:title>Слайд 1</dc:title>
</cp:coreProperties>
</file>