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C74-4F6E-439F-BFD9-8B25B7FD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DB3-B02C-4B31-A291-66506CC1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853-0538-4AFB-B8B9-E8FB33EF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5DD-566A-48FC-BB6E-F73BBEBF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BF2B-71B9-4FCE-AA54-A5DD91A7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E429-1C5C-48A9-A2A1-F89641D2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CD36-79E5-4EAA-BF3C-895C195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3FBF-29AD-4085-B974-E80E5ADA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504A-9ECA-4E6C-98FD-EA7FCD9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9355-34AC-411B-BF33-88D459ED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D348-7470-4BF3-8BE2-553551EC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676-C156-40FE-9512-3D700C1F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AAA-3554-4AEE-83C0-1272357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C1CD-20BD-436C-94B6-73BE850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23E0-F31E-4A65-8CAD-18049C9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2737-2D6F-4B58-BAA5-38AE6AA0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3385-1678-4A43-957E-8F620491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A03-DCFB-4C24-8AE3-075D57CD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9CD-7791-432B-83DF-A2690EEF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4FF-479A-43EF-A8C4-68ED9678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63E-C667-4C4A-A88E-D503189B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9E0-96B6-46C4-AA28-DCC8277F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FB1-7612-4F52-BD3D-5AB1886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6D2-36C0-47BD-BCC1-CC0D512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6106-0087-4021-9F8C-93723C076CA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74E7-1D8B-46D3-89EC-82900B727D7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55640" y="57168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Центр развития ребёнка – детский сад «Хрусталик»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flipH="1">
            <a:off x="467640" y="292896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Тема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: «Страна дорожных знаков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148360" y="4869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: Шроо С.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429000" y="6500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бакан 20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img23.jpg"/>
          <p:cNvPicPr/>
          <p:nvPr/>
        </p:nvPicPr>
        <p:blipFill>
          <a:blip r:embed="rId1"/>
          <a:stretch/>
        </p:blipFill>
        <p:spPr>
          <a:xfrm>
            <a:off x="468360" y="404640"/>
            <a:ext cx="8315280" cy="618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4" descr="hello_html_m1a1698c8.jpg"/>
          <p:cNvPicPr/>
          <p:nvPr/>
        </p:nvPicPr>
        <p:blipFill>
          <a:blip r:embed="rId2"/>
          <a:stretch/>
        </p:blipFill>
        <p:spPr>
          <a:xfrm>
            <a:off x="395280" y="1600200"/>
            <a:ext cx="388944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5" descr="img7.jpg"/>
          <p:cNvPicPr/>
          <p:nvPr/>
        </p:nvPicPr>
        <p:blipFill>
          <a:blip r:embed="rId3"/>
          <a:stretch/>
        </p:blipFill>
        <p:spPr>
          <a:xfrm>
            <a:off x="4648320" y="1557360"/>
            <a:ext cx="403848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одержимое 3" descr="022.jpg"/>
          <p:cNvPicPr/>
          <p:nvPr/>
        </p:nvPicPr>
        <p:blipFill>
          <a:blip r:embed="rId1"/>
          <a:stretch/>
        </p:blipFill>
        <p:spPr>
          <a:xfrm>
            <a:off x="588960" y="333360"/>
            <a:ext cx="796608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Содержимое 3" descr="65139196.jpg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img6.jpg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hello_html_5c2c8443.jpg"/>
          <p:cNvPicPr/>
          <p:nvPr/>
        </p:nvPicPr>
        <p:blipFill>
          <a:blip r:embed="rId1"/>
          <a:stretch/>
        </p:blipFill>
        <p:spPr>
          <a:xfrm>
            <a:off x="395280" y="333360"/>
            <a:ext cx="8410680" cy="631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img9.jpg"/>
          <p:cNvPicPr/>
          <p:nvPr/>
        </p:nvPicPr>
        <p:blipFill>
          <a:blip r:embed="rId2"/>
          <a:stretch/>
        </p:blipFill>
        <p:spPr>
          <a:xfrm>
            <a:off x="457200" y="1484280"/>
            <a:ext cx="4259160" cy="48974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img26.jpg"/>
          <p:cNvPicPr/>
          <p:nvPr/>
        </p:nvPicPr>
        <p:blipFill>
          <a:blip r:embed="rId3"/>
          <a:stretch/>
        </p:blipFill>
        <p:spPr>
          <a:xfrm>
            <a:off x="4859280" y="1484280"/>
            <a:ext cx="382752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s1200.jpg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1307198404_zh[1]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6015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img12.jpg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60454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img6 (1).jpg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0:47:10Z</dcterms:created>
  <dc:creator>Игорь</dc:creator>
  <dc:description/>
  <dc:language>en-US</dc:language>
  <cp:lastModifiedBy>Светлана</cp:lastModifiedBy>
  <dcterms:modified xsi:type="dcterms:W3CDTF">2019-04-26T14:40:43Z</dcterms:modified>
  <cp:revision>66</cp:revision>
  <dc:subject/>
  <dc:title>Слайд 1</dc:title>
</cp:coreProperties>
</file>