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2EE2C-F82A-4B58-BC3E-E13D4C554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0C222-B597-47FE-995B-0E8551BBE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1DC7C-8A0D-419E-B861-F5B7D28A8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C6B9F-AD4E-4D93-A334-74E7D4DD7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64798-D2C0-4218-AB02-C5AC14816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7DFDE-EF02-4EDC-BF22-C795DD945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E550B-C43B-4034-AD7D-698B45AD1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1A00C-FB7B-4049-915D-5804D0517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D8933-6FE9-431C-8ECD-75DBA679B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4221A-67A0-4776-A864-DBCC37091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BE2B3-DC6B-4012-806E-AA0137603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D3397-D3D8-4C2F-9C40-C642C7AB5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3CC20-53D6-4819-BF9A-1EBF047A96E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Рисунок 3" descr="white-hous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4"/>
          <p:cNvSpPr/>
          <p:nvPr/>
        </p:nvSpPr>
        <p:spPr>
          <a:xfrm flipH="1">
            <a:off x="1515960" y="404640"/>
            <a:ext cx="557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THE WHITE HO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5"/>
          <p:cNvSpPr/>
          <p:nvPr/>
        </p:nvSpPr>
        <p:spPr>
          <a:xfrm>
            <a:off x="684360" y="5661000"/>
            <a:ext cx="78483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4920" y="404640"/>
            <a:ext cx="828036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Garamond"/>
              </a:rPr>
              <a:t>The Green Roo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Содержимое 3" descr="3d889a89c35b4d21b3731339d15b77e0.jpg"/>
          <p:cNvPicPr/>
          <p:nvPr/>
        </p:nvPicPr>
        <p:blipFill>
          <a:blip r:embed="rId1"/>
          <a:stretch/>
        </p:blipFill>
        <p:spPr>
          <a:xfrm>
            <a:off x="1311120" y="1197000"/>
            <a:ext cx="5802480" cy="4103640"/>
          </a:xfrm>
          <a:prstGeom prst="rect">
            <a:avLst/>
          </a:prstGeom>
          <a:ln w="0">
            <a:noFill/>
          </a:ln>
        </p:spPr>
      </p:pic>
      <p:sp>
        <p:nvSpPr>
          <p:cNvPr id="48" name="TextBox 5"/>
          <p:cNvSpPr/>
          <p:nvPr/>
        </p:nvSpPr>
        <p:spPr>
          <a:xfrm>
            <a:off x="826920" y="5229360"/>
            <a:ext cx="7417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Garamond"/>
              </a:rPr>
              <a:t>The Green Room has served many purposes since the White House was first occupied in 1800. This  Room traditionally served as a parlor for small teas and receptions and on occasion for formal dinn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Garamond"/>
              </a:rPr>
              <a:t>THE BLUE ROO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Содержимое 3" descr="kennedy-12.jpg"/>
          <p:cNvPicPr/>
          <p:nvPr/>
        </p:nvPicPr>
        <p:blipFill>
          <a:blip r:embed="rId1"/>
          <a:stretch/>
        </p:blipFill>
        <p:spPr>
          <a:xfrm>
            <a:off x="1463760" y="1365120"/>
            <a:ext cx="6216480" cy="499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3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Garamond"/>
              </a:rPr>
              <a:t>THE RED ROO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Содержимое 3" descr="400-redroommonkman.jpg"/>
          <p:cNvPicPr/>
          <p:nvPr/>
        </p:nvPicPr>
        <p:blipFill>
          <a:blip r:embed="rId1"/>
          <a:stretch/>
        </p:blipFill>
        <p:spPr>
          <a:xfrm>
            <a:off x="539640" y="1695600"/>
            <a:ext cx="7993080" cy="48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a2c64"/>
                </a:solidFill>
                <a:latin typeface="Garamond"/>
              </a:rPr>
              <a:t>The State Dining Room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Содержимое 3" descr="state-dining-room-1977.jpg"/>
          <p:cNvPicPr/>
          <p:nvPr/>
        </p:nvPicPr>
        <p:blipFill>
          <a:blip r:embed="rId1"/>
          <a:stretch/>
        </p:blipFill>
        <p:spPr>
          <a:xfrm>
            <a:off x="1332000" y="1600200"/>
            <a:ext cx="6408720" cy="4924440"/>
          </a:xfrm>
          <a:prstGeom prst="rect">
            <a:avLst/>
          </a:prstGeom>
          <a:ln w="19080">
            <a:solidFill>
              <a:srgbClr val="ffc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3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3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3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Garamond"/>
              </a:rPr>
              <a:t>The Oval Offi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Содержимое 3" descr="ovaloff.jpg"/>
          <p:cNvPicPr/>
          <p:nvPr/>
        </p:nvPicPr>
        <p:blipFill>
          <a:blip r:embed="rId1"/>
          <a:stretch/>
        </p:blipFill>
        <p:spPr>
          <a:xfrm>
            <a:off x="2814480" y="1600200"/>
            <a:ext cx="3515040" cy="4525920"/>
          </a:xfrm>
          <a:prstGeom prst="rect">
            <a:avLst/>
          </a:prstGeom>
          <a:ln w="19080">
            <a:solidFill>
              <a:srgbClr val="170391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9T17:45:26Z</dcterms:created>
  <dc:creator>TOSHIBA</dc:creator>
  <dc:description/>
  <dc:language>en-US</dc:language>
  <cp:lastModifiedBy>Елена</cp:lastModifiedBy>
  <dcterms:modified xsi:type="dcterms:W3CDTF">2018-11-29T17:16:52Z</dcterms:modified>
  <cp:revision>92</cp:revision>
  <dc:subject/>
  <dc:title>The White House</dc:title>
</cp:coreProperties>
</file>