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FD4-25A6-4E4C-ABC2-3B377441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5DA-DDB3-4671-AEAD-F41494AC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F3B-9A4E-4E7E-8D73-80DD0510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EE4-0536-4BAA-B29E-9BCC0B2B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185-6B57-499C-93B6-EAD6F9CD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611-65BC-4F70-A07F-21DEE334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612-BEBF-4F71-95E0-2CA67454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0BB-0C7F-4B94-A2BE-16C74B15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033-DD81-433F-9721-EDA96B4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19E-F55A-4B45-B9E9-6B2A9B4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505-4B0D-41D5-B05B-BC84A0CB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50D-A0B2-4231-9B74-F330B99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ED58-F085-47AB-BFB3-8CD36E803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white-hou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 flipH="1">
            <a:off x="1515960" y="404640"/>
            <a:ext cx="55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WHIT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84360" y="5661000"/>
            <a:ext cx="784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The Green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3d889a89c35b4d21b3731339d15b77e0.jpg"/>
          <p:cNvPicPr/>
          <p:nvPr/>
        </p:nvPicPr>
        <p:blipFill>
          <a:blip r:embed="rId1"/>
          <a:stretch/>
        </p:blipFill>
        <p:spPr>
          <a:xfrm>
            <a:off x="1311120" y="1197000"/>
            <a:ext cx="5802480" cy="4103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826920" y="522936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Garamond"/>
              </a:rPr>
              <a:t>The Green Room has served many purposes since the White House was first occupied in 1800. This  Room traditionally served as a parlor for small teas and receptions and on occasion for formal din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Garamond"/>
              </a:rPr>
              <a:t>THE BLUE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kennedy-12.jpg"/>
          <p:cNvPicPr/>
          <p:nvPr/>
        </p:nvPicPr>
        <p:blipFill>
          <a:blip r:embed="rId1"/>
          <a:stretch/>
        </p:blipFill>
        <p:spPr>
          <a:xfrm>
            <a:off x="1463760" y="1365120"/>
            <a:ext cx="621648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aramond"/>
              </a:rPr>
              <a:t>THE RED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400-redroommonkman.jpg"/>
          <p:cNvPicPr/>
          <p:nvPr/>
        </p:nvPicPr>
        <p:blipFill>
          <a:blip r:embed="rId1"/>
          <a:stretch/>
        </p:blipFill>
        <p:spPr>
          <a:xfrm>
            <a:off x="539640" y="1695600"/>
            <a:ext cx="7993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2c64"/>
                </a:solidFill>
                <a:latin typeface="Garamond"/>
              </a:rPr>
              <a:t>The State Dining Ro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state-dining-room-1977.jpg"/>
          <p:cNvPicPr/>
          <p:nvPr/>
        </p:nvPicPr>
        <p:blipFill>
          <a:blip r:embed="rId1"/>
          <a:stretch/>
        </p:blipFill>
        <p:spPr>
          <a:xfrm>
            <a:off x="1332000" y="1600200"/>
            <a:ext cx="6408720" cy="492444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The Oval 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ovaloff.jpg"/>
          <p:cNvPicPr/>
          <p:nvPr/>
        </p:nvPicPr>
        <p:blipFill>
          <a:blip r:embed="rId1"/>
          <a:stretch/>
        </p:blipFill>
        <p:spPr>
          <a:xfrm>
            <a:off x="2814480" y="1600200"/>
            <a:ext cx="3515040" cy="4525920"/>
          </a:xfrm>
          <a:prstGeom prst="rect">
            <a:avLst/>
          </a:prstGeom>
          <a:ln w="19080">
            <a:solidFill>
              <a:srgbClr val="1703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7:45:26Z</dcterms:created>
  <dc:creator>TOSHIBA</dc:creator>
  <dc:description/>
  <dc:language>en-US</dc:language>
  <cp:lastModifiedBy>Елена</cp:lastModifiedBy>
  <dcterms:modified xsi:type="dcterms:W3CDTF">2018-11-29T17:16:52Z</dcterms:modified>
  <cp:revision>92</cp:revision>
  <dc:subject/>
  <dc:title>The White House</dc:title>
</cp:coreProperties>
</file>