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A87-AC37-48C2-86F7-FAE9C21F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F74-1641-4B1D-9394-93E57E1D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D58-3897-40BD-B3FF-D12B3503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B7F-D80A-40BC-A815-50E15735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1277-D87B-4F5F-B802-F37ADFC6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893A-15D1-469C-92EE-A7E39486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FFA1-6E50-490D-851F-91AFFB41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79A1-51BF-49E7-96D3-1551ED4A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FBC5-C238-4823-A2D4-57F4487D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C9A6-7849-4F7C-9429-96FE1943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E217-2820-4374-9D73-9CEBF95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BAD-99C7-4CFF-A9A7-D573A75C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C8DA-C38D-4698-BF7E-016F6801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5D9B-D787-4B3A-B857-88B4BEBB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7152-B4D4-4BEB-A769-89E86D71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C509-4300-4892-ABE6-36462B3B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A68D-E395-4333-814F-B1F6923F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7CF-561B-4860-8DBB-7747E3B6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303-991D-4247-8FBF-FFB6E083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45E-617B-4DE7-92BF-387AFE11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EC1-E7E8-40FB-8F42-21613716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0A6-E2AC-4742-B05B-A661CBDA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73F-B8B5-417B-8D8B-3A64526A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9A7-9D59-4197-987D-2976A956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BF32-6D1F-480D-AF06-82E57309B0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A9EF-894C-4CCA-8F27-D442D1D37D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Бобр</a:t>
            </a:r>
            <a:br>
              <a:rPr sz="4400"/>
            </a:b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7640" y="1196640"/>
            <a:ext cx="4402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обр достаточно крупный зверек, может весить до тридцати килограммов и достигать более метра в длину (включая хвост). Живет колониями по лесным рекам, отлично плавает и ныряет. Шкура бобра покрыта шерстью двух типов: ворсинки длинные и блестящие и другие – короткие и мягкие, образуют плотный подшерсток, не позволяющий воде соприкасаться с кожей. Питается бобр в основном древесной корой, а также камышом, крапивой и молодыми побегами деревь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 бобра есть четыре длинных острых резца. Покрытых эмалью желто-оранжевого цвета. Челюстные мышцы настолько сильны, что развивают давление до 100 кг! Такие резцы нужны бобру для того, чтобы валить деревья и сдирать кору, которой он пита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8876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699080" cy="2882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378936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бры – великие строители плотин. Передвигающийся по земле бобр неуклюж, зато в воде он очень подвижен. Именно вода служит его настоящей средой обитания. Когда ее мало, бобр валит деревья, чтобы построить плотину и увеличить зону, где он может вырыть нору. Бобр роет нору под землей, но делает вход и выход ниже уровня воды, что защищает его от хищников. Нора большая: в ней должно уместиться все семейство и запас пищи на зиму. Помогая друг другу, бобры делают из поваленных деревьев и веток сооружение, кажущееся, на первый взгляд, беспорядочным. На самом деле это очень прочная конструкция, которая может устоять даже в половод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08440" cy="403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844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351240" cy="4113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0" r="0" b="18782"/>
          <a:stretch/>
        </p:blipFill>
        <p:spPr>
          <a:xfrm>
            <a:off x="4284720" y="981000"/>
            <a:ext cx="4464000" cy="362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5640" y="5300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ухарь.  Эта красивая птица обитает в лесах. Зиму она проводит на ветвях хвойных деревьев, объедая с них более нежные иголки, а летом, когда сходит снег, роется в земле в поисках семян и молодых побе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771640" y="620640"/>
            <a:ext cx="6085080" cy="2921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360" y="4365720"/>
            <a:ext cx="835164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ос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воядное животное, обитающее около воды. Питается растительностью на мелководье рек и озер. При появлении хищника лось ищет спасения в воде. Он в состоянии проплыть много килом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осиха производит на свет одного – двух детенышей, которые расстаются с матерью через десять меся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464360" cy="2566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3789360"/>
            <a:ext cx="77770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д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красно приспособлена к жизни в воде и никогда от нее не удаляется. День она проводит в норе, которую роет сама или занимает убежище другого животного. В сумерках она покидает нору и охотиться на рыб, земноводных и мелких млекопитающих. Чтобы легче заметить рыбу, выдра часто залезает на возвышение, например на свисающие над водой ветки, откуда и бросается на добы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5:43:39Z</dcterms:created>
  <dc:creator>qqq</dc:creator>
  <dc:description/>
  <dc:language>en-US</dc:language>
  <cp:lastModifiedBy>Samsung</cp:lastModifiedBy>
  <dcterms:modified xsi:type="dcterms:W3CDTF">2019-04-27T18:50:31Z</dcterms:modified>
  <cp:revision>3</cp:revision>
  <dc:subject/>
  <dc:title>Слайд 1</dc:title>
</cp:coreProperties>
</file>