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4983-D260-440F-BF59-37FC4C87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F423-FA12-43C9-8CA9-1FE746D8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1144-C81E-4E0D-A949-6479E2EE7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FAAF-4768-4BDF-81C0-F23A6A7B6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DF75-51C0-4FD1-A07C-ADB2A897F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83A6-CE24-493B-8130-FD02D334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1836-D315-484E-A860-F3B0968D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B3D6-EB98-4A6D-AA68-9A2D1EED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6928-2C88-402A-8050-B3CA6642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B299-9264-4453-897F-0BD494C4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56AD-2808-442C-8C93-621B6074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46BB-0AF9-41F0-BC4D-BBDC08F3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5184-5E86-45A0-BB79-265004D4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FA65-4742-4587-9D21-1388F224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ABE1-0572-4C9F-BCBF-4F928C2D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B38E-3BF0-4D66-8527-82694CE1A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79A4-B5B1-43E1-8D46-8477D9F0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D857-7B9B-4AAF-8785-BDC39584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7FD9-F83B-4B25-9A40-1BFF3FD8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D849-5309-4ACA-9F12-B94F6188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0AD4-CD89-498E-8985-A6D5E817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8869-99A0-4221-A83C-1B017928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C0B1-F353-494D-9128-289112EF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DD3B-D406-4478-AC54-A873A473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576E-8FE7-4CAE-964F-C94DFE14CB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D1A7-8D36-4B8D-80BE-48B7EB5577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Бобр</a:t>
            </a:r>
            <a:br>
              <a:rPr sz="4400"/>
            </a:b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27640" y="1196640"/>
            <a:ext cx="44020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обр достаточно крупный зверек, может весить до тридцати килограммов и достигать более метра в длину (включая хвост). Живет колониями по лесным рекам, отлично плавает и ныряет. Шкура бобра покрыта шерстью двух типов: ворсинки длинные и блестящие и другие – короткие и мягкие, образуют плотный подшерсток, не позволяющий воде соприкасаться с кожей. Питается бобр в основном древесной корой, а также камышом, крапивой и молодыми побегами деревье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У бобра есть четыре длинных острых резца. Покрытых эмалью желто-оранжевого цвета. Челюстные мышцы настолько сильны, что развивают давление до 100 кг! Такие резцы нужны бобру для того, чтобы валить деревья и сдирать кору, которой он питаетс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388764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68360" y="620640"/>
            <a:ext cx="4699080" cy="2882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9640" y="378936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обры – великие строители плотин. Передвигающийся по земле бобр неуклюж, зато в воде он очень подвижен. Именно вода служит его настоящей средой обитания. Когда ее мало, бобр валит деревья, чтобы построить плотину и увеличить зону, где он может вырыть нору. Бобр роет нору под землей, но делает вход и выход ниже уровня воды, что защищает его от хищников. Нора большая: в ней должно уместиться все семейство и запас пищи на зиму. Помогая друг другу, бобры делают из поваленных деревьев и веток сооружение, кажущееся, на первый взгляд, беспорядочным. На самом деле это очень прочная конструкция, которая может устоять даже в половодь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3808440" cy="4032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788000" y="620640"/>
            <a:ext cx="38448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3351240" cy="4113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rcRect l="0" t="0" r="0" b="18782"/>
          <a:stretch/>
        </p:blipFill>
        <p:spPr>
          <a:xfrm>
            <a:off x="4284720" y="981000"/>
            <a:ext cx="4464000" cy="362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55640" y="530064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лухарь.  Эта красивая птица обитает в лесах. Зиму она проводит на ветвях хвойных деревьев, объедая с них более нежные иголки, а летом, когда сходит снег, роется в земле в поисках семян и молодых побег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2255760" cy="3384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771640" y="620640"/>
            <a:ext cx="6085080" cy="2921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68360" y="4365720"/>
            <a:ext cx="8351640" cy="20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ос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равоядное животное, обитающее около воды. Питается растительностью на мелководье рек и озер. При появлении хищника лось ищет спасения в воде. Он в состоянии проплыть много километр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осиха производит на свет одного – двух детенышей, которые расстаются с матерью через десять месяце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4464360" cy="2566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55640" y="3789360"/>
            <a:ext cx="777708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д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екрасно приспособлена к жизни в воде и никогда от нее не удаляется. День она проводит в норе, которую роет сама или занимает убежище другого животного. В сумерках она покидает нору и охотиться на рыб, земноводных и мелких млекопитающих. Чтобы легче заметить рыбу, выдра часто залезает на возвышение, например на свисающие над водой ветки, откуда и бросается на добыч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5:43:39Z</dcterms:created>
  <dc:creator>qqq</dc:creator>
  <dc:description/>
  <dc:language>en-US</dc:language>
  <cp:lastModifiedBy>Samsung</cp:lastModifiedBy>
  <dcterms:modified xsi:type="dcterms:W3CDTF">2019-04-27T18:50:31Z</dcterms:modified>
  <cp:revision>3</cp:revision>
  <dc:subject/>
  <dc:title>Слайд 1</dc:title>
</cp:coreProperties>
</file>