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3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8E2E-6ED3-4986-9745-DDB6A97B2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7344-D0FE-40EB-B139-E319AE4F6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98B4-E2A6-4086-BCDA-E2CA573A7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02EC-39B4-4597-A606-25C82C233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8BCDC-59BD-4928-A703-68DB786D7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E3B37-2C36-4CF2-ABE3-A495085EA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90A7C-5AF7-4B21-B96D-A1A3E7799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2E69A-BBF7-47B6-B5E4-5F5FBC39D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9101A-9AFB-4588-B351-A2C0141AA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DA0D1-852B-4A53-A896-BE0904A9E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7E119-A80F-4A18-B2EB-D17A27BA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4FEC-44AD-4C18-8D9C-E3EF7A11C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23FDA-4880-472B-ABA5-E7FD7DEBE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58C92-0444-4523-B51F-CE4FF93A8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49ED9-1B2F-413B-898B-57DCB44BB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02242-2660-4F9A-A636-DC9759211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226A3-F9DE-4EA6-A70D-8B40B257D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DC98-A458-4751-B461-1369C9834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4BD6-4FEC-4D52-A2C4-CA8EFC47A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F2EF-A050-4EA3-82EB-6B6B32052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231C-3DAB-45F0-98AD-99DDA10B4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6128-E4AD-4A7B-8980-CCC70104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6B24-4165-4381-9D34-F4415B6A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5362-BF37-4AEC-A297-887F3702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CBD7E-B201-4765-81E0-7FAFC662DEB8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3A021-7A0F-490A-AF78-E2527027DBC3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4"/>
          <p:cNvSpPr/>
          <p:nvPr/>
        </p:nvSpPr>
        <p:spPr>
          <a:xfrm>
            <a:off x="1258920" y="2205000"/>
            <a:ext cx="7489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Компетентностный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подход в образовании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7" name="Picture 6" descr="j0432657"/>
          <p:cNvPicPr/>
          <p:nvPr/>
        </p:nvPicPr>
        <p:blipFill>
          <a:blip r:embed="rId1"/>
          <a:stretch/>
        </p:blipFill>
        <p:spPr>
          <a:xfrm>
            <a:off x="1258920" y="76500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j0432385"/>
          <p:cNvPicPr/>
          <p:nvPr/>
        </p:nvPicPr>
        <p:blipFill>
          <a:blip r:embed="rId2"/>
          <a:stretch/>
        </p:blipFill>
        <p:spPr>
          <a:xfrm>
            <a:off x="7308720" y="69228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j0433712"/>
          <p:cNvPicPr/>
          <p:nvPr/>
        </p:nvPicPr>
        <p:blipFill>
          <a:blip r:embed="rId3"/>
          <a:stretch/>
        </p:blipFill>
        <p:spPr>
          <a:xfrm>
            <a:off x="4140360" y="5445000"/>
            <a:ext cx="609480" cy="6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4"/>
          <p:cNvSpPr/>
          <p:nvPr/>
        </p:nvSpPr>
        <p:spPr>
          <a:xfrm>
            <a:off x="250920" y="1989000"/>
            <a:ext cx="85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Ключевые компетенции отечественного образования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820000" cy="3384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Компетенции следует отличать от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бразовательных компетенций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, т.е. от тех, которые моделируют деятельность ученика для его полноценной жизни в будущем. Например, до определенного возраста гражданин еще не может реализовать какую-либо компетенцию, но это не значит, что ее не следует у школьника формировать. В этом случае мы будем говорить об образовательной компетенции.</a:t>
            </a:r>
            <a:br>
              <a:rPr sz="40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50560" y="3428640"/>
            <a:ext cx="87138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Verdana"/>
              </a:rPr>
              <a:t>Образовательная компетенция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,— это совокупность взаимосвязанных смысловых ориентаций, знаний, умений, навыков и опыта деятельности ученика, необходимых, чтобы осуществлять личностно и социально-значимую продуктивную деятельность по отношению к реальной действительност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Diagram 7"/>
          <p:cNvGrpSpPr/>
          <p:nvPr/>
        </p:nvGrpSpPr>
        <p:grpSpPr>
          <a:xfrm>
            <a:off x="393840" y="246240"/>
            <a:ext cx="8315280" cy="6140160"/>
            <a:chOff x="393840" y="246240"/>
            <a:chExt cx="8315280" cy="6140160"/>
          </a:xfrm>
        </p:grpSpPr>
        <p:sp>
          <p:nvSpPr>
            <p:cNvPr id="215" name="_s1028"/>
            <p:cNvSpPr/>
            <p:nvPr/>
          </p:nvSpPr>
          <p:spPr>
            <a:xfrm flipH="1" flipV="1">
              <a:off x="2908440" y="2433240"/>
              <a:ext cx="838080" cy="500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6" name="_s1029"/>
            <p:cNvSpPr/>
            <p:nvPr/>
          </p:nvSpPr>
          <p:spPr>
            <a:xfrm>
              <a:off x="1020600" y="1141560"/>
              <a:ext cx="2119320" cy="159048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0000"/>
                  </a:solidFill>
                  <a:latin typeface="Verdana"/>
                </a:rPr>
                <a:t>Личностное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0000"/>
                  </a:solidFill>
                  <a:latin typeface="Verdana"/>
                </a:rPr>
                <a:t>совершенство-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0000"/>
                  </a:solidFill>
                  <a:latin typeface="Verdana"/>
                </a:rPr>
                <a:t>вание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7" name="_s1030"/>
            <p:cNvSpPr/>
            <p:nvPr/>
          </p:nvSpPr>
          <p:spPr>
            <a:xfrm flipH="1">
              <a:off x="2498760" y="3603600"/>
              <a:ext cx="1044720" cy="179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8" name="_s1031"/>
            <p:cNvSpPr/>
            <p:nvPr/>
          </p:nvSpPr>
          <p:spPr>
            <a:xfrm>
              <a:off x="393840" y="3141720"/>
              <a:ext cx="2124000" cy="159048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Verdana"/>
                </a:rPr>
                <a:t>Социально-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Verdana"/>
                </a:rPr>
                <a:t>трудовые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9" name="_s1032"/>
            <p:cNvSpPr/>
            <p:nvPr/>
          </p:nvSpPr>
          <p:spPr>
            <a:xfrm flipH="1">
              <a:off x="3648240" y="4140360"/>
              <a:ext cx="465120" cy="725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0" name="_s1033"/>
            <p:cNvSpPr/>
            <p:nvPr/>
          </p:nvSpPr>
          <p:spPr>
            <a:xfrm>
              <a:off x="2128680" y="4789440"/>
              <a:ext cx="2121120" cy="158904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0000"/>
                  </a:solidFill>
                  <a:latin typeface="Verdana"/>
                </a:rPr>
                <a:t>Коммуни-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0000"/>
                  </a:solidFill>
                  <a:latin typeface="Verdana"/>
                </a:rPr>
                <a:t>кативные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1" name="_s1034"/>
            <p:cNvSpPr/>
            <p:nvPr/>
          </p:nvSpPr>
          <p:spPr>
            <a:xfrm>
              <a:off x="5027760" y="4140360"/>
              <a:ext cx="465120" cy="725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2" name="_s1035"/>
            <p:cNvSpPr/>
            <p:nvPr/>
          </p:nvSpPr>
          <p:spPr>
            <a:xfrm>
              <a:off x="4932360" y="4799160"/>
              <a:ext cx="2120760" cy="158724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0000"/>
                  </a:solidFill>
                  <a:latin typeface="Verdana"/>
                </a:rPr>
                <a:t>Информацион-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0000"/>
                  </a:solidFill>
                  <a:latin typeface="Verdana"/>
                </a:rPr>
                <a:t>ные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3" name="_s1036"/>
            <p:cNvSpPr/>
            <p:nvPr/>
          </p:nvSpPr>
          <p:spPr>
            <a:xfrm>
              <a:off x="5600880" y="3603600"/>
              <a:ext cx="1041120" cy="179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4" name="_s1037"/>
            <p:cNvSpPr/>
            <p:nvPr/>
          </p:nvSpPr>
          <p:spPr>
            <a:xfrm>
              <a:off x="6588000" y="3141720"/>
              <a:ext cx="2121120" cy="159048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0000"/>
                  </a:solidFill>
                  <a:latin typeface="Verdana"/>
                </a:rPr>
                <a:t>Учебнопо-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0000"/>
                  </a:solidFill>
                  <a:latin typeface="Verdana"/>
                </a:rPr>
                <a:t>знавательные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5" name="_s1038"/>
            <p:cNvSpPr/>
            <p:nvPr/>
          </p:nvSpPr>
          <p:spPr>
            <a:xfrm flipV="1">
              <a:off x="5397480" y="2433240"/>
              <a:ext cx="835200" cy="500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6" name="_s1039"/>
            <p:cNvSpPr/>
            <p:nvPr/>
          </p:nvSpPr>
          <p:spPr>
            <a:xfrm>
              <a:off x="6004080" y="1144440"/>
              <a:ext cx="2119320" cy="158940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0000"/>
                  </a:solidFill>
                  <a:latin typeface="Verdana"/>
                </a:rPr>
                <a:t>Общекуль-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0000"/>
                  </a:solidFill>
                  <a:latin typeface="Verdana"/>
                </a:rPr>
                <a:t>турные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7" name="_s1040"/>
            <p:cNvSpPr/>
            <p:nvPr/>
          </p:nvSpPr>
          <p:spPr>
            <a:xfrm flipV="1">
              <a:off x="4570560" y="1833480"/>
              <a:ext cx="0" cy="803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8" name="_s1041"/>
            <p:cNvSpPr/>
            <p:nvPr/>
          </p:nvSpPr>
          <p:spPr>
            <a:xfrm>
              <a:off x="3511440" y="246240"/>
              <a:ext cx="2121120" cy="158904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0000"/>
                  </a:solidFill>
                  <a:latin typeface="Verdana"/>
                </a:rPr>
                <a:t>Ценностно-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0000"/>
                  </a:solidFill>
                  <a:latin typeface="Verdana"/>
                </a:rPr>
                <a:t>смысловые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9" name="_s1042"/>
            <p:cNvSpPr/>
            <p:nvPr/>
          </p:nvSpPr>
          <p:spPr>
            <a:xfrm>
              <a:off x="3511440" y="2637000"/>
              <a:ext cx="2121120" cy="158904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 u="sng">
                  <a:solidFill>
                    <a:srgbClr val="ff0000"/>
                  </a:solidFill>
                  <a:uFillTx/>
                  <a:latin typeface="Verdana"/>
                </a:rPr>
                <a:t>Ключевые 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 u="sng">
                  <a:solidFill>
                    <a:srgbClr val="ff0000"/>
                  </a:solidFill>
                  <a:uFillTx/>
                  <a:latin typeface="Verdana"/>
                </a:rPr>
                <a:t>компетенции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30" name="Text Box 42"/>
          <p:cNvSpPr/>
          <p:nvPr/>
        </p:nvSpPr>
        <p:spPr>
          <a:xfrm>
            <a:off x="519120" y="189000"/>
            <a:ext cx="8013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Text Box 43"/>
          <p:cNvSpPr/>
          <p:nvPr/>
        </p:nvSpPr>
        <p:spPr>
          <a:xfrm>
            <a:off x="1095480" y="5388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AutoShape 44"/>
          <p:cNvSpPr/>
          <p:nvPr/>
        </p:nvSpPr>
        <p:spPr>
          <a:xfrm>
            <a:off x="971640" y="1125360"/>
            <a:ext cx="2162160" cy="158292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AutoShape 45"/>
          <p:cNvSpPr/>
          <p:nvPr/>
        </p:nvSpPr>
        <p:spPr>
          <a:xfrm>
            <a:off x="3492360" y="260280"/>
            <a:ext cx="2162160" cy="158292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AutoShape 46"/>
          <p:cNvSpPr/>
          <p:nvPr/>
        </p:nvSpPr>
        <p:spPr>
          <a:xfrm>
            <a:off x="5940360" y="1125360"/>
            <a:ext cx="2162160" cy="158292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AutoShape 47"/>
          <p:cNvSpPr/>
          <p:nvPr/>
        </p:nvSpPr>
        <p:spPr>
          <a:xfrm>
            <a:off x="4932360" y="4797360"/>
            <a:ext cx="2162160" cy="158292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AutoShape 48"/>
          <p:cNvSpPr/>
          <p:nvPr/>
        </p:nvSpPr>
        <p:spPr>
          <a:xfrm>
            <a:off x="6588000" y="3141720"/>
            <a:ext cx="2162160" cy="158256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AutoShape 49"/>
          <p:cNvSpPr/>
          <p:nvPr/>
        </p:nvSpPr>
        <p:spPr>
          <a:xfrm>
            <a:off x="2124000" y="4797360"/>
            <a:ext cx="2162160" cy="158292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AutoShape 50"/>
          <p:cNvSpPr/>
          <p:nvPr/>
        </p:nvSpPr>
        <p:spPr>
          <a:xfrm>
            <a:off x="395280" y="3141720"/>
            <a:ext cx="2162160" cy="158256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AutoShape 51"/>
          <p:cNvSpPr/>
          <p:nvPr/>
        </p:nvSpPr>
        <p:spPr>
          <a:xfrm>
            <a:off x="324000" y="189000"/>
            <a:ext cx="8459640" cy="6335640"/>
          </a:xfrm>
          <a:prstGeom prst="flowChartProcess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Verdana"/>
              </a:rPr>
              <a:t>Ценностно-смысловые компетенции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Это компетенции в сфере мировоззрения,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вязанные с ценностными ориентирами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ученика, его способностью видеть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онимать окружающий мир,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ориентироваться в нем, осознавать свою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роль и предназначение, уметь выбирать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целевые и смысловые установки для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воих действий и поступков, принимать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решения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AutoShape 52"/>
          <p:cNvSpPr/>
          <p:nvPr/>
        </p:nvSpPr>
        <p:spPr>
          <a:xfrm>
            <a:off x="324000" y="189000"/>
            <a:ext cx="8424720" cy="6335640"/>
          </a:xfrm>
          <a:prstGeom prst="flowChartProcess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Общекультурные компетенции</a:t>
            </a:r>
            <a:r>
              <a:rPr b="0" lang="ru-RU" sz="2800" spc="-1" strike="noStrike">
                <a:solidFill>
                  <a:srgbClr val="99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990000"/>
                </a:solidFill>
                <a:latin typeface="Verdana"/>
              </a:rPr>
              <a:t>Ученик должен быть хорошо осведомлен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Verdana"/>
              </a:rPr>
              <a:t>обладать познаниями и опытом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Verdana"/>
              </a:rPr>
              <a:t>деятельности в вопросах национальной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Verdana"/>
              </a:rPr>
              <a:t>и общечеловеческой культуры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Verdana"/>
              </a:rPr>
              <a:t>духовно-нравственных основ жизни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Verdana"/>
              </a:rPr>
              <a:t>человека и человечества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Verdana"/>
              </a:rPr>
              <a:t>культурологических основ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Verdana"/>
              </a:rPr>
              <a:t>семейных, социальных, общественных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Verdana"/>
              </a:rPr>
              <a:t>явлений и традиций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Verdana"/>
              </a:rPr>
              <a:t>бытовой и культурно-досуговой сфере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990000"/>
                </a:solidFill>
                <a:latin typeface="Verdana"/>
              </a:rPr>
              <a:t>Сюда же относится опыт освоения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Verdana"/>
              </a:rPr>
              <a:t>учеником научной картины мир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AutoShape 53"/>
          <p:cNvSpPr/>
          <p:nvPr/>
        </p:nvSpPr>
        <p:spPr>
          <a:xfrm>
            <a:off x="324000" y="189000"/>
            <a:ext cx="8424720" cy="6335640"/>
          </a:xfrm>
          <a:prstGeom prst="flowChartProcess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Учебно-познавательные компетенции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Это совокупность компетенций ученика в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фере самостоятельной познавательной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еятельности, включающей элементы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логической, методологической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бщеучебной деятельности, соотнесенной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 реальными познаваемыми объектам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юда входят знания и умения организаци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целеполагания, планирования, анализа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ефлексии, самооценки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учебно-познавательной деятельност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AutoShape 54"/>
          <p:cNvSpPr/>
          <p:nvPr/>
        </p:nvSpPr>
        <p:spPr>
          <a:xfrm>
            <a:off x="324000" y="189000"/>
            <a:ext cx="8424720" cy="6335640"/>
          </a:xfrm>
          <a:prstGeom prst="flowChartProcess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Информационные компетенции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 помощи реальных объектов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(телевизор, магнитофон, телефон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акс, компьютер, принтер, модем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пир) и информационных технологи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(аудио- видеозапись, электронная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чта, СМИ, Интернет) формируются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мения самостоятельно искать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нализировать и отбирать необходимую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формацию, организовывать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образовывать, сохранять и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ередавать ее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AutoShape 55"/>
          <p:cNvSpPr/>
          <p:nvPr/>
        </p:nvSpPr>
        <p:spPr>
          <a:xfrm>
            <a:off x="324000" y="189000"/>
            <a:ext cx="8424720" cy="6335640"/>
          </a:xfrm>
          <a:prstGeom prst="flowChartProcess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Коммуникативные компетенции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ключают знание необходимых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зыков, способов взаимодействи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окружающими и удаленными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ьми и событиями, навыки работы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группе, владение различными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циальными ролями в коллектив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AutoShape 57"/>
          <p:cNvSpPr/>
          <p:nvPr/>
        </p:nvSpPr>
        <p:spPr>
          <a:xfrm>
            <a:off x="324000" y="189000"/>
            <a:ext cx="8424720" cy="6335640"/>
          </a:xfrm>
          <a:prstGeom prst="flowChartProcess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Социально-трудовые компетенции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значают владение знаниями и опытом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сфере гражданско-общественной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еятельности (выполнение роли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ражданина, наблюдателя, избирателя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ставителя), в социально-трудовой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фере (права потребителя, покупателя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лиента, производителя), в сфере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емейных отношений и обязанностей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вопросах экономики и права, в области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фессионального самоопределения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AutoShape 58"/>
          <p:cNvSpPr/>
          <p:nvPr/>
        </p:nvSpPr>
        <p:spPr>
          <a:xfrm>
            <a:off x="324000" y="189000"/>
            <a:ext cx="8424720" cy="6335640"/>
          </a:xfrm>
          <a:prstGeom prst="flowChartProcess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Компетенции личностного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самосовершенствования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правлены на освоение способов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физического, духовного и интеллектуаль-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ого саморазвития, эмоцио-нальной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аморегуляции и самоподдержки. К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анным компетенциям относятся правила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личной гигиены, забота о собственном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доровье, половая грамотность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нутренняя экологическая культура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юда же входит комплекс качеств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вязанных с основами безопасной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жизнедеятельности личност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" dur="10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8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10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2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" dur="10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" dur="1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3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8" dur="10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0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8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12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6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0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1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2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4017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Иерархия компетенци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В соответствии с разделением содержания образования на общее метапредметное (для всех предметов), межпредметное (для цикла предметов или образовательных областей) и предметное (для каждого учебного предмета), выстраиваются три уровня</a:t>
            </a:r>
            <a:br>
              <a:rPr sz="2000"/>
            </a:b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ключевые компетенции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- относятся к общему (метапредметному) содержанию образования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общепредметные компетенции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– относятся к определенному кругу учебных предметов и образовательных областей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предметные компетенции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- частные по отношению к двум предыдущим уровням компетенции, имеющие конкретное описание и возможность формирования в рамках учебных предметов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Древо компетенци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0" name="Picture 6" descr=""/>
          <p:cNvPicPr/>
          <p:nvPr/>
        </p:nvPicPr>
        <p:blipFill>
          <a:blip r:embed="rId1"/>
          <a:stretch/>
        </p:blipFill>
        <p:spPr>
          <a:xfrm>
            <a:off x="468360" y="1392120"/>
            <a:ext cx="7632720" cy="534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Структурные компоненты компетенци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обеспечить соотносимость компетенций с традиционными образовательными параметрами, раскроем содержание понятия «образовательные компетенции» путем перечня структурных компонентов компетенции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4"/>
          <p:cNvSpPr/>
          <p:nvPr/>
        </p:nvSpPr>
        <p:spPr>
          <a:xfrm>
            <a:off x="684360" y="260280"/>
            <a:ext cx="7704000" cy="936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звание компетенци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755640" y="1484280"/>
            <a:ext cx="7632720" cy="9349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ип компетенции в их общей иерархии (ключевая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щепредметная, предметная компетенция)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684360" y="2708280"/>
            <a:ext cx="7848360" cy="10810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руг реальных объектов действительности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 отношению к которым вводится компетенц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826920" y="4005360"/>
            <a:ext cx="7777440" cy="115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циально-практическая обусловленность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 значимость компетенции (для чего она необходима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социуме)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Rectangle 8"/>
          <p:cNvSpPr/>
          <p:nvPr/>
        </p:nvSpPr>
        <p:spPr>
          <a:xfrm>
            <a:off x="755640" y="5373720"/>
            <a:ext cx="7920000" cy="11509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мысловые ориентации ученика по отношению к данным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ъектам, личностная значимость компетенции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в чем и зачем ученику необходимо быть компетентным)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7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4"/>
          <p:cNvSpPr/>
          <p:nvPr/>
        </p:nvSpPr>
        <p:spPr>
          <a:xfrm>
            <a:off x="971640" y="189000"/>
            <a:ext cx="7488000" cy="1224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нания о данном круге реальных объектов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971640" y="1628640"/>
            <a:ext cx="7416720" cy="1224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мения и навыки, относящиеся к данному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ругу реальных объектов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Rectangle 6"/>
          <p:cNvSpPr/>
          <p:nvPr/>
        </p:nvSpPr>
        <p:spPr>
          <a:xfrm>
            <a:off x="971640" y="2924280"/>
            <a:ext cx="7488000" cy="10810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пособы деятельности по отношению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 данному кругу реальных объектов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971640" y="4149720"/>
            <a:ext cx="7561080" cy="1295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инимально необходимый опыт деятельности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ченика в сфере данной компетенци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по ступеням обучения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971640" y="5707080"/>
            <a:ext cx="7632720" cy="11509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ндикаторы - примеры, образцы учебных и контрольно-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ценочных заданий по определению степени (уровня)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мпетентности ученика (по ступеням обучения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4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Деятельностная форма представления компетенций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перейти к обучению, необходимо задать компетенции в 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деятельностной форме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В этом случае само название компетенции будет определять суть соответствующего метода обучени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4"/>
          <p:cNvSpPr/>
          <p:nvPr/>
        </p:nvSpPr>
        <p:spPr>
          <a:xfrm>
            <a:off x="0" y="224460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3645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омпетентностный подход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- это приоритетная ориентация на цели - векторы образования: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учаемость,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амоопределение,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амоактуализация,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циализация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развитие индивидуальности.</a:t>
            </a:r>
            <a:br>
              <a:rPr sz="24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Цель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компетентностного подхода - обеспечение качества образовани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Picture 13" descr="j0430368"/>
          <p:cNvPicPr/>
          <p:nvPr/>
        </p:nvPicPr>
        <p:blipFill>
          <a:blip r:embed="rId1"/>
          <a:stretch/>
        </p:blipFill>
        <p:spPr>
          <a:xfrm>
            <a:off x="7740720" y="1989000"/>
            <a:ext cx="1403280" cy="14036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4" descr="j0430370"/>
          <p:cNvPicPr/>
          <p:nvPr/>
        </p:nvPicPr>
        <p:blipFill>
          <a:blip r:embed="rId2"/>
          <a:stretch/>
        </p:blipFill>
        <p:spPr>
          <a:xfrm>
            <a:off x="755640" y="2205000"/>
            <a:ext cx="1257480" cy="12574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5" descr="j0427785"/>
          <p:cNvPicPr/>
          <p:nvPr/>
        </p:nvPicPr>
        <p:blipFill>
          <a:blip r:embed="rId3"/>
          <a:stretch/>
        </p:blipFill>
        <p:spPr>
          <a:xfrm>
            <a:off x="7740720" y="465300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6" descr="j0427821"/>
          <p:cNvPicPr/>
          <p:nvPr/>
        </p:nvPicPr>
        <p:blipFill>
          <a:blip r:embed="rId4"/>
          <a:stretch/>
        </p:blipFill>
        <p:spPr>
          <a:xfrm>
            <a:off x="900000" y="5229360"/>
            <a:ext cx="1368360" cy="13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Ценностно-смысловые компетенции предполагают умения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формулировать собственные ценностные ориентиры по отношению к изучаемым учебным предметам и сферам деятельности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ладеть способами самоопределения в ситуациях выбора на основе собственных позиций; уметь принимать решения, брать на себя ответственность за их последствия, осуществлять действия и поступки на основе выбранных целевых и смысловых установок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существлять индивидуальную образовательную траекторию с учетом общих требований и норм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Учебно-познавательные компетенции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424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организовывать планирование, анализ, рефлексию, самооценку своей учебно-познавательной деятельности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задавать вопросы к наблюдаемым фактам, отыскивать причины явлений, обозначать свое понимание или непонимание по отношению к изучаемой проблеме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ставить познавательные задачи и выдвигать гипотезы; выбирать условия проведения наблюдения или опыта; выбирать необходимые приборы и оборудование, владеть измерительными навыками, работать с инструкциями; использовать элементы вероятностных и статистических методов познания; описывать результаты, формулировать выводы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ыступать устно и письменно о результатах своего исследования с использованием компьютерных средств и технологий (текстовые и графические редакторы, презентации)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иметь опыт восприятия картины мир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Социокультурные компетенции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- владеть знаниями и опытом выполнения типичных социальных ролей: семьянина, гражданина, работника, собственника, потребителя, покупателя; уметь действовать в каждодневных ситуациях семейно-бытовой сферы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- определять свое место и роль в окружающем мире, в семье, в коллективе, государстве; владеть культурными нормами и традициями, прожитыми в собственной деятельности; владеть эффективными способами организации свободного времени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- иметь представление о системах социальных норм и ценностей в России и других странах; иметь осознанный опыт жизни в многонациональном, многокуль¬турном, многоконфессиональном обществе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- действовать в сфере трудовых отношений в соответствии с личной и общественной пользой, владеть этикой трудовых и гражданских взаимоотношений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- владеть элементами художественно-творческих компетенций читателя, слушателя, исполнителя, зрителя, юного художника, писателя, ремесленника и др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Коммуникативные компетенции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- уметь представить себя устно и письменно, написать анкету, заявление, резюме, письмо, поздравление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- уметь представлять свой класс, школу, страну в ситуациях межкультурного общения, в режиме диалога культур, использовать для этого знание иностранного языка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- владеть способами взаимодействия с окружающими и удаленными людьми и событиями; выступать с устным сообщением, уметь задать вопрос, корректно вести учебный диалог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- владеть разными видами речевой деятельности (монолог, диалог, чтение, письмо), лингвистической и языковой компетенциями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- владеть способами совместной деятельности в группе, приемами действий в ситуациях общения; умениями искать и находить компромиссы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- иметь позитивные навыки общения в поликультурном, полиэтническом и многоконфессиональном обществе, основанные на знании исторических корней и традиций различных национальных общностей и социальных групп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Информационные компетенции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362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ладеть навыками работы с различными источниками информации: книгами, учебниками, справочниками, атласами, картами, определителями, энциклопедиями, каталогами, словарями, CD-Rom, Интернет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самостоятельно искать, извлекать, систематизировать, анализировать и отбирать необходимую для решения учебных задач информацию, организовывать, преобразовывать, сохранять и передавать ее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ориентироваться в информационных потоках, уметь выделять в них главное и необходимое; уметь осознанно воспринимать информацию, распространяемую по каналам СМИ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ладеть навыками использования информационных устройств: компьютера, телевизора, магнитофона, телефона, мобильного телефона, пейджера, факса, принтера, модема, копира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рименять для решения учебных задач информационные и телекоммуникационные технологии: аудио и видеозапись, электронную почту, Интернет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риродоведческие и здоровьесберегающие компетенции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2915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меть опыт ориентации и экологической деятельности в природной среде (в лесу, в поле, на водоемах и др.)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знать и применять правила поведения в экстремальных ситуациях: под дождем, градом, при сильном ветре, во время грозы, наводнения, пожара, при встрече с опасными животными, насекомыми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озитивно относиться к своему здоровью; владеть способами физического самосовершенствования, эмоциональной саморегуляции, самоподдержки и самоконтроля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знать и применять правила личной гигиены, уметь заботиться о собственном здоровье, личной безопасности; владеть способами оказания первой медицинской помощи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ладеть элементами психологической грамотности, половой культуры и поведения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меть многообразие двигательного опыта и умение использовать его в массовых формах соревновательной деятельности, в организации активного отдыха и досуга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уметь подбирать индивидуальные средства и методы для развития своих физических качеств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4"/>
          <p:cNvSpPr/>
          <p:nvPr/>
        </p:nvSpPr>
        <p:spPr>
          <a:xfrm>
            <a:off x="539640" y="102600"/>
            <a:ext cx="820908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ведение компетентностного подхода в учебный процесс требует серьезных изменений и в содержании образования, и в осуществлении учебного процесса, и в практике работы педагога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о-первых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целью обучения становится не процесс, а достижение учащимися определенного результата. Содержание материала внутри предмета подбирается преподавателем под сформулированный результат. Меняются так же и подходы к оценке — в процедуру оценивания включается рефлексия, сбор портфеля доказательств, наблюдение за деятельностью учащихся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о-вторых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меняются формы и методы организации занятий — обучение приобретает деятельностный характер, акцент делается на обучение через практику, продуктивную работу учащихся в малых группах, выстраивание индивидуальных учебных траекторий, использование межпредметных связей, развитие самостоятельности учащихся и личной ответственности за принятие решений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этому измениться должны и механизмы доставки знаний от преподавателя к обучающемуся: приоритетным становится свободный доступ к информационным ресурсам, самообучение, дистанционное и сетевое обучение. Все эти формы обучения направлены на то, чтобы ввести ученика в социальные и профессиональные роли так, чтобы научить его быть успешным и в том и в другом. Это поможет ему затем самостоятельно повышать свой профессиональный уровень, обучаться на протяжении всей жизн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4"/>
          <p:cNvSpPr/>
          <p:nvPr/>
        </p:nvSpPr>
        <p:spPr>
          <a:xfrm>
            <a:off x="179280" y="0"/>
            <a:ext cx="8964720" cy="66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ecff"/>
                </a:solidFill>
                <a:latin typeface="Verdana"/>
              </a:rPr>
              <a:t>Приложение </a:t>
            </a:r>
            <a:br>
              <a:rPr sz="1600"/>
            </a:br>
            <a:r>
              <a:rPr b="0" lang="ru-RU" sz="1600" spc="-1" strike="noStrike">
                <a:solidFill>
                  <a:srgbClr val="ccecff"/>
                </a:solidFill>
                <a:latin typeface="Verdana"/>
              </a:rPr>
              <a:t>Список 37 видов компетентностей, по Дж. Равену (Равен Дж. Компетентность в современном обществе. Выявление, развитие и реализация. М., 2002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тенденция к более ясному пониманию ценностей и установок по отношению к конкретной цели;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тенденция контролировать свою деятельность;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вовлечение эмоций в процесс деятельности;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готовность и способность обучаться самостоятельно;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поиск и использование обратной связи;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уверенность в себе;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самоконтроль;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адаптивность: отсутствие чувства беспомощности;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склонность к размышлениям о будущем: привычка к абстрагированию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внимание к проблемам, связанным с достижением поставленных целей;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4"/>
          <p:cNvSpPr/>
          <p:nvPr/>
        </p:nvSpPr>
        <p:spPr>
          <a:xfrm>
            <a:off x="250920" y="87480"/>
            <a:ext cx="8642160" cy="68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самостоятельность мышления, оригинальность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ритическое мышление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готовность решать сложные вопросы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готовность работать над чем-либо спорным и вызывающим беспокойство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исследование окружающей среды для выявления ее возможностей и ресурсов (как материальных, так и человеческих)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готовность полагаться на субъективные оценки и идти на умеренный риск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отсутствие фатализма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готовность использовать новые идеи и инновации для достижения цели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знание того, как использовать инновации;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4"/>
          <p:cNvSpPr/>
          <p:nvPr/>
        </p:nvSpPr>
        <p:spPr>
          <a:xfrm>
            <a:off x="0" y="404640"/>
            <a:ext cx="8893080" cy="53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уверенность в благожелательном отношении общества к инновациям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установка на взаимный выигрыш и широта перспектив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астойчивость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спользование ресурсов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доверие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тношение к правилам как указателям желательных способов поведения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пособность принимать решения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ерсональная ответственность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пособность к совместной работе ради достижения цели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4"/>
          <p:cNvSpPr/>
          <p:nvPr/>
        </p:nvSpPr>
        <p:spPr>
          <a:xfrm>
            <a:off x="611280" y="260280"/>
            <a:ext cx="80643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России переход на компетентностно- ориентированное образование был нормативно закреплен в 2001 г. в правительственной Программе модернизации российского образования до 2010 года и подтвержден в решении Коллегии Минобрнауки РФ "О приоритетных направлениях развития образовательной системы Российской Федерации" в 2005 г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рамках Болонского процесса наша страна взяла на себя обязательства присоединения в том числе по компетентностному формату представления результатов профессионального образования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авительственная Стратегия модернизации образования предполагает, что в основу обновленного содержания общего образования будут положены «ключевые компетентности»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8" name="Picture 7" descr="j0427709"/>
          <p:cNvPicPr/>
          <p:nvPr/>
        </p:nvPicPr>
        <p:blipFill>
          <a:blip r:embed="rId1"/>
          <a:stretch/>
        </p:blipFill>
        <p:spPr>
          <a:xfrm>
            <a:off x="7885080" y="11592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j0430941"/>
          <p:cNvPicPr/>
          <p:nvPr/>
        </p:nvPicPr>
        <p:blipFill>
          <a:blip r:embed="rId2"/>
          <a:stretch/>
        </p:blipFill>
        <p:spPr>
          <a:xfrm>
            <a:off x="7956720" y="5661000"/>
            <a:ext cx="969840" cy="96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4"/>
          <p:cNvSpPr/>
          <p:nvPr/>
        </p:nvSpPr>
        <p:spPr>
          <a:xfrm>
            <a:off x="324000" y="333360"/>
            <a:ext cx="8496000" cy="64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пособность побуждать других людей работать сообща ради достижения поставленной цели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пособность слушать других людей и принимать во внимание то, что они говорят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тремление к субъективной оценке личностного потенциала сотрудников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готовность разрешать другим людям принимать самостоятельные решения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пособность разрешать конфликты и смягчать разногласия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пособность эффективно работать в качестве подчиненного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терпимость по отношению к различным стилям жизни окружающих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онимание плюралистической политики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готовность заниматься организационным и общественным планированием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4"/>
          <p:cNvSpPr/>
          <p:nvPr/>
        </p:nvSpPr>
        <p:spPr>
          <a:xfrm>
            <a:off x="468360" y="404640"/>
            <a:ext cx="8136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Литература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. Концепция модернизации российского образования на период до 2010 года. - Правительство Российской Федерации. – Распоряжение № 1756-р от 29.12.2001 г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. Краевский В.В., Хуторской А.В. Предметное и общепредметное в образовательных стандартах // Педагогика. – 2003. - №2. – С.3-10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3. Совет Европы: Симпозиум по теме «Ключевые компетенции для Европы»: Док. DECS / SC / Sec (96) 43. – Берн, 1996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4. Хуторской А.В. Технология проектирования ключевых и предметных компетенций // Интернет-журнал "Эйдос". - 2005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5. Хуторской А. Ключевые компетенции как компонент личностно-ориентированного образования // Народное образование. – 2003. - №2. – С.58-64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TextBox 1"/>
          <p:cNvSpPr/>
          <p:nvPr/>
        </p:nvSpPr>
        <p:spPr>
          <a:xfrm>
            <a:off x="2466360" y="5764320"/>
            <a:ext cx="636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езентацию подготовила учитель высшей категори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жигова Н.М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4"/>
          <p:cNvSpPr/>
          <p:nvPr/>
        </p:nvSpPr>
        <p:spPr>
          <a:xfrm>
            <a:off x="468360" y="260280"/>
            <a:ext cx="8675640" cy="34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редполагается, что в число формируемых и развиваемых в школе </a:t>
            </a: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ключевых компетентностей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должны войти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информационная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оциально-правовая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коммуникативная компетентность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1" name="Picture 5" descr="j0431247"/>
          <p:cNvPicPr/>
          <p:nvPr/>
        </p:nvPicPr>
        <p:blipFill>
          <a:blip r:embed="rId1"/>
          <a:stretch/>
        </p:blipFill>
        <p:spPr>
          <a:xfrm>
            <a:off x="468360" y="4508640"/>
            <a:ext cx="934920" cy="934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j0427686"/>
          <p:cNvPicPr/>
          <p:nvPr/>
        </p:nvPicPr>
        <p:blipFill>
          <a:blip r:embed="rId2"/>
          <a:stretch/>
        </p:blipFill>
        <p:spPr>
          <a:xfrm>
            <a:off x="2195640" y="551664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j0431150"/>
          <p:cNvPicPr/>
          <p:nvPr/>
        </p:nvPicPr>
        <p:blipFill>
          <a:blip r:embed="rId3"/>
          <a:stretch/>
        </p:blipFill>
        <p:spPr>
          <a:xfrm>
            <a:off x="7380360" y="393372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j0422179"/>
          <p:cNvPicPr/>
          <p:nvPr/>
        </p:nvPicPr>
        <p:blipFill>
          <a:blip r:embed="rId4"/>
          <a:stretch/>
        </p:blipFill>
        <p:spPr>
          <a:xfrm>
            <a:off x="4788000" y="4869000"/>
            <a:ext cx="969840" cy="96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4"/>
          <p:cNvSpPr/>
          <p:nvPr/>
        </p:nvSpPr>
        <p:spPr>
          <a:xfrm>
            <a:off x="395280" y="404640"/>
            <a:ext cx="8748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Данный подход к определению ключевых компетенций соответствует пониманию фундаментальных целей образования, сформулированных в </a:t>
            </a:r>
            <a:r>
              <a:rPr b="0" lang="ru-RU" sz="2400" spc="-1" strike="noStrike">
                <a:solidFill>
                  <a:srgbClr val="ffcc66"/>
                </a:solidFill>
                <a:latin typeface="Verdana"/>
              </a:rPr>
              <a:t>документах ЮНЕСКО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-научить получать знания </a:t>
            </a: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(учить учиться);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-научить работать и зарабатывать </a:t>
            </a: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(учение дл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труда)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-научить жить </a:t>
            </a: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(учение для бытия);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-научить жить вместе </a:t>
            </a: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(учение для совместной жизни)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Picture 5" descr="j0398149"/>
          <p:cNvPicPr/>
          <p:nvPr/>
        </p:nvPicPr>
        <p:blipFill>
          <a:blip r:embed="rId1"/>
          <a:stretch/>
        </p:blipFill>
        <p:spPr>
          <a:xfrm>
            <a:off x="7956720" y="47242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j0422528"/>
          <p:cNvPicPr/>
          <p:nvPr/>
        </p:nvPicPr>
        <p:blipFill>
          <a:blip r:embed="rId2"/>
          <a:stretch/>
        </p:blipFill>
        <p:spPr>
          <a:xfrm>
            <a:off x="7451640" y="2276640"/>
            <a:ext cx="825480" cy="8254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j0411747"/>
          <p:cNvPicPr/>
          <p:nvPr/>
        </p:nvPicPr>
        <p:blipFill>
          <a:blip r:embed="rId3"/>
          <a:stretch/>
        </p:blipFill>
        <p:spPr>
          <a:xfrm>
            <a:off x="6516720" y="3860640"/>
            <a:ext cx="896760" cy="8971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j0427688"/>
          <p:cNvPicPr/>
          <p:nvPr/>
        </p:nvPicPr>
        <p:blipFill>
          <a:blip r:embed="rId4"/>
          <a:stretch/>
        </p:blipFill>
        <p:spPr>
          <a:xfrm>
            <a:off x="8028000" y="5734080"/>
            <a:ext cx="898560" cy="89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71280" y="333000"/>
            <a:ext cx="7715160" cy="1871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омпетентностный подход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предполагает не усвоение учеником отдельных друг от друга знаний и умений, а овладение ими в комплексе. В связи с этим меняется, точнее, по иному определяется система методов обучения. В основе отбора и конструирования методов обучения лежит структура соответствующих компетенций и функции, которые они выполняют в образовании.</a:t>
            </a:r>
            <a:br>
              <a:rPr sz="24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99640" y="4149720"/>
            <a:ext cx="741708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уть образовательного процесса в условиях </a:t>
            </a: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компетентностного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подхода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- создание ситуаций и поддержка действий, которые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могут привести к формированию той или иной </a:t>
            </a: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компетенци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2" name="Picture 5" descr="i"/>
          <p:cNvPicPr/>
          <p:nvPr/>
        </p:nvPicPr>
        <p:blipFill>
          <a:blip r:embed="rId1"/>
          <a:stretch/>
        </p:blipFill>
        <p:spPr>
          <a:xfrm>
            <a:off x="250920" y="5877000"/>
            <a:ext cx="711000" cy="5331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i2"/>
          <p:cNvPicPr/>
          <p:nvPr/>
        </p:nvPicPr>
        <p:blipFill>
          <a:blip r:embed="rId2"/>
          <a:stretch/>
        </p:blipFill>
        <p:spPr>
          <a:xfrm>
            <a:off x="7596360" y="5481720"/>
            <a:ext cx="1547640" cy="125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68000" y="1483920"/>
            <a:ext cx="381636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Компетенция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– включает совокупность взаимосвязанных качеств личности (знаний, умений, навыков, способов деятельности), задаваемых по отношению к определенному кругу предметов и процессов, и необходимых для качественной продуктивной деятельности по отношению к ним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00720" y="1599840"/>
            <a:ext cx="41860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Компетентность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– владение, обладание учеником соответствующей компетенцией, включающее его личностное отношение к ней и предмету деятельности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Компетентность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– уже состоявшееся качество личности (совокупность качеств) ученика и минимальный опыт деятельности в заданной сфере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900000" y="3246480"/>
            <a:ext cx="993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Rectangle 8"/>
          <p:cNvSpPr/>
          <p:nvPr/>
        </p:nvSpPr>
        <p:spPr>
          <a:xfrm>
            <a:off x="395280" y="476280"/>
            <a:ext cx="820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нутри компетентностного подхода выделяются два базовых понятия: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«компетенция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«компетентность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»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Европейский вариант ключевых компетенций 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Не существует единого согласованного перечня ключевых компетенций. Поскольку компетенции - это, прежде всего, заказ общества к подготовке его граждан, то такой перечень во многом определяется согласованной позицией социума в определенной стране или регионе. Во время симпозиума Совета Европы по теме «Ключевые компетенции для Европы» был определен следующий примерный перечень ключевых компетенций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250920" y="5589720"/>
            <a:ext cx="1139760" cy="12682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5" descr=""/>
          <p:cNvPicPr/>
          <p:nvPr/>
        </p:nvPicPr>
        <p:blipFill>
          <a:blip r:embed="rId2"/>
          <a:stretch/>
        </p:blipFill>
        <p:spPr>
          <a:xfrm>
            <a:off x="7020000" y="5477040"/>
            <a:ext cx="1851120" cy="13809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"/>
          <p:cNvPicPr/>
          <p:nvPr/>
        </p:nvPicPr>
        <p:blipFill>
          <a:blip r:embed="rId3"/>
          <a:stretch/>
        </p:blipFill>
        <p:spPr>
          <a:xfrm>
            <a:off x="4002120" y="5516640"/>
            <a:ext cx="1204920" cy="134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4"/>
          <p:cNvSpPr/>
          <p:nvPr/>
        </p:nvSpPr>
        <p:spPr>
          <a:xfrm>
            <a:off x="324000" y="6093000"/>
            <a:ext cx="3240000" cy="576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зучать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24000" y="5373720"/>
            <a:ext cx="3240000" cy="504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кать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24000" y="4581360"/>
            <a:ext cx="3240000" cy="576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умать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24000" y="3500280"/>
            <a:ext cx="3240000" cy="720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трудничать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24000" y="2492280"/>
            <a:ext cx="3240000" cy="719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ниматься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 дело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24000" y="1628640"/>
            <a:ext cx="3240000" cy="576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даптироватьс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Rectangle 13"/>
          <p:cNvSpPr/>
          <p:nvPr/>
        </p:nvSpPr>
        <p:spPr>
          <a:xfrm>
            <a:off x="1042920" y="0"/>
            <a:ext cx="68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Европейский вариант ключевых компетенци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Rectangle 20"/>
          <p:cNvSpPr/>
          <p:nvPr/>
        </p:nvSpPr>
        <p:spPr>
          <a:xfrm>
            <a:off x="3780000" y="1052640"/>
            <a:ext cx="5005080" cy="53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Verdana"/>
              </a:rPr>
              <a:t>организовывать взаимосвязь своих знаний и упорядочивать их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Verdana"/>
              </a:rPr>
              <a:t>организовывать свои собственные приемы изучения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Verdana"/>
              </a:rPr>
              <a:t>уметь извлекать пользу из опыта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Verdana"/>
              </a:rPr>
              <a:t>уметь решать проблемы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Verdana"/>
              </a:rPr>
              <a:t>самостоятельно заниматься своим обучение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3851280" y="1052640"/>
            <a:ext cx="496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Text Box 22"/>
          <p:cNvSpPr/>
          <p:nvPr/>
        </p:nvSpPr>
        <p:spPr>
          <a:xfrm>
            <a:off x="1887480" y="836640"/>
            <a:ext cx="725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Text Box 23"/>
          <p:cNvSpPr/>
          <p:nvPr/>
        </p:nvSpPr>
        <p:spPr>
          <a:xfrm>
            <a:off x="3780000" y="1125360"/>
            <a:ext cx="536400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запрашивать различные базы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данных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прашивать окружение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консультироваться у эксперта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олучать информацию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уметь работать с документами и классифицировать их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Text Box 24"/>
          <p:cNvSpPr/>
          <p:nvPr/>
        </p:nvSpPr>
        <p:spPr>
          <a:xfrm>
            <a:off x="2895480" y="779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Text Box 25"/>
          <p:cNvSpPr/>
          <p:nvPr/>
        </p:nvSpPr>
        <p:spPr>
          <a:xfrm>
            <a:off x="3635280" y="1279440"/>
            <a:ext cx="5508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организовывать взаимосвязь прошлых и настоящих событий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ритически относиться к тому или иному аспекту развития наших обществ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уметь противостоять неуверенности и сложности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занимать позицию в дискуссиях и выковывать свое собственное мнение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идеть важность политического и экономического окружения, в котором проходит обучение и работа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оценивать социальные привычки, связанные со здоровьем, потреблением, а также с окружающей средой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уметь оценивать произведения искусства и литературы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Text Box 26"/>
          <p:cNvSpPr/>
          <p:nvPr/>
        </p:nvSpPr>
        <p:spPr>
          <a:xfrm>
            <a:off x="3959280" y="1654200"/>
            <a:ext cx="518472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уметь сотрудничать и работать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 группе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ринимать решения — улаживать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разногласия и конфликты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уметь договариваться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уметь разрабатывать и выполнять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контракты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Text Box 27"/>
          <p:cNvSpPr/>
          <p:nvPr/>
        </p:nvSpPr>
        <p:spPr>
          <a:xfrm>
            <a:off x="3743280" y="907920"/>
            <a:ext cx="540072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ключаться в проект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нести ответственность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ходить в группу или коллектив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и вносить свой вклад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доказывать солидарность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уметь организовывать свою работу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уметь пользоваться вычислительными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и моделирующими приборам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Text Box 28"/>
          <p:cNvSpPr/>
          <p:nvPr/>
        </p:nvSpPr>
        <p:spPr>
          <a:xfrm>
            <a:off x="4000680" y="1052640"/>
            <a:ext cx="5143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уметь использовать новые технологии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информации и коммуникации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доказывать гибкость перед лицом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быстрых изменений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оказывать стойкость перед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трудностями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уметь находить новые решения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14:07:23Z</dcterms:created>
  <dc:creator>Komp</dc:creator>
  <dc:description/>
  <dc:language>en-US</dc:language>
  <cp:lastModifiedBy>admin</cp:lastModifiedBy>
  <dcterms:modified xsi:type="dcterms:W3CDTF">2019-04-28T12:12:48Z</dcterms:modified>
  <cp:revision>76</cp:revision>
  <dc:subject/>
  <dc:title>Слайд 1</dc:title>
</cp:coreProperties>
</file>