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A74-67EC-4B54-BFBF-64A0B612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DD8-7C6C-4CE5-B2DE-03F7408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2E1-7AB6-41A5-A016-B028947E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E6C-BD1E-41C9-818C-C7AAA9FF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C9FB-FFD0-4926-AABB-36813D04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67B4-76AA-487F-93C4-A7E5BB0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8241-AB70-4503-85FE-F8D9A4D2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0847-2767-4A10-906A-D6863D81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6961-FA01-4070-B1CB-AAF805A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8EA-F1F7-4A73-B3DD-542A7F56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70FB-2C27-42DD-8D07-E73AB7D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451-4E06-4DA3-9310-83DC70A8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870E-23A7-47B8-A40E-CD58020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A32-36E6-4D01-99CF-13DB883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3303-67C7-48A1-B010-8ABCD641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E137-5A02-4D30-B440-48ACE7E8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2D1-0E42-4AD1-A2BB-AC7F3F70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E673-5334-4C90-ADC7-8BC4F25C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CE2-FC82-42E6-B679-B53994D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583-9CB8-479A-965C-50F4EEB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C0D-84E5-42F9-AEB0-6B8E87DD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8DC-C835-49B5-8E4C-F5641269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D1D-B51C-482D-B53F-76F7E58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F6F-32DF-4A63-84F3-E9B3D6C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8A64-11E2-4A2D-84B0-F25D78378AB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00AA-E312-4CA1-BE2E-643F37B61D5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258920" y="2205000"/>
            <a:ext cx="748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омпетентностный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дход в образов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6" descr="j0432657"/>
          <p:cNvPicPr/>
          <p:nvPr/>
        </p:nvPicPr>
        <p:blipFill>
          <a:blip r:embed="rId1"/>
          <a:stretch/>
        </p:blipFill>
        <p:spPr>
          <a:xfrm>
            <a:off x="125892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j0432385"/>
          <p:cNvPicPr/>
          <p:nvPr/>
        </p:nvPicPr>
        <p:blipFill>
          <a:blip r:embed="rId2"/>
          <a:stretch/>
        </p:blipFill>
        <p:spPr>
          <a:xfrm>
            <a:off x="7308720" y="692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j0433712"/>
          <p:cNvPicPr/>
          <p:nvPr/>
        </p:nvPicPr>
        <p:blipFill>
          <a:blip r:embed="rId3"/>
          <a:stretch/>
        </p:blipFill>
        <p:spPr>
          <a:xfrm>
            <a:off x="414036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250920" y="198900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ючевые компетенции отечественного образован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33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омпетенции следует отличать о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зовательных компетенций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, т.е. от тех, которые моделируют деятельность ученика для его полноценной жизни в будущем. Например, до определенного возраста гражданин еще не может реализовать какую-либо компетенцию, но это не значит, что ее не следует у школьника формировать. В этом случае мы будем говорить об образовательной компетенции.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342864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—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реальной действительно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Diagram 7"/>
          <p:cNvGrpSpPr/>
          <p:nvPr/>
        </p:nvGrpSpPr>
        <p:grpSpPr>
          <a:xfrm>
            <a:off x="393840" y="246240"/>
            <a:ext cx="8315280" cy="6140160"/>
            <a:chOff x="393840" y="246240"/>
            <a:chExt cx="8315280" cy="6140160"/>
          </a:xfrm>
        </p:grpSpPr>
        <p:sp>
          <p:nvSpPr>
            <p:cNvPr id="215" name="_s1028"/>
            <p:cNvSpPr/>
            <p:nvPr/>
          </p:nvSpPr>
          <p:spPr>
            <a:xfrm flipH="1" flipV="1">
              <a:off x="2908440" y="2433240"/>
              <a:ext cx="838080" cy="500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_s1029"/>
            <p:cNvSpPr/>
            <p:nvPr/>
          </p:nvSpPr>
          <p:spPr>
            <a:xfrm>
              <a:off x="1020600" y="1141560"/>
              <a:ext cx="211932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Личностно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совершенств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вани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_s1030"/>
            <p:cNvSpPr/>
            <p:nvPr/>
          </p:nvSpPr>
          <p:spPr>
            <a:xfrm flipH="1">
              <a:off x="2498760" y="3603600"/>
              <a:ext cx="104472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_s1031"/>
            <p:cNvSpPr/>
            <p:nvPr/>
          </p:nvSpPr>
          <p:spPr>
            <a:xfrm>
              <a:off x="393840" y="3141720"/>
              <a:ext cx="212400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Социальн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трудов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 flipH="1">
              <a:off x="3648240" y="4140360"/>
              <a:ext cx="465120" cy="72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2128680" y="478944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оммуни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катив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_s1034"/>
            <p:cNvSpPr/>
            <p:nvPr/>
          </p:nvSpPr>
          <p:spPr>
            <a:xfrm>
              <a:off x="5027760" y="4140360"/>
              <a:ext cx="465120" cy="72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_s1035"/>
            <p:cNvSpPr/>
            <p:nvPr/>
          </p:nvSpPr>
          <p:spPr>
            <a:xfrm>
              <a:off x="4932360" y="4799160"/>
              <a:ext cx="2120760" cy="15872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Информацион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_s1036"/>
            <p:cNvSpPr/>
            <p:nvPr/>
          </p:nvSpPr>
          <p:spPr>
            <a:xfrm>
              <a:off x="5600880" y="3603600"/>
              <a:ext cx="104112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_s1037"/>
            <p:cNvSpPr/>
            <p:nvPr/>
          </p:nvSpPr>
          <p:spPr>
            <a:xfrm>
              <a:off x="6588000" y="3141720"/>
              <a:ext cx="2121120" cy="15904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Учебноп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знаватель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_s1038"/>
            <p:cNvSpPr/>
            <p:nvPr/>
          </p:nvSpPr>
          <p:spPr>
            <a:xfrm flipV="1">
              <a:off x="5397480" y="2433240"/>
              <a:ext cx="835200" cy="500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_s1039"/>
            <p:cNvSpPr/>
            <p:nvPr/>
          </p:nvSpPr>
          <p:spPr>
            <a:xfrm>
              <a:off x="6004080" y="1144440"/>
              <a:ext cx="2119320" cy="15894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Общекуль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турн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_s1040"/>
            <p:cNvSpPr/>
            <p:nvPr/>
          </p:nvSpPr>
          <p:spPr>
            <a:xfrm flipV="1">
              <a:off x="4570560" y="183348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_s1041"/>
            <p:cNvSpPr/>
            <p:nvPr/>
          </p:nvSpPr>
          <p:spPr>
            <a:xfrm>
              <a:off x="3511440" y="24624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Ценностно-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Verdana"/>
                </a:rPr>
                <a:t>смысловые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_s1042"/>
            <p:cNvSpPr/>
            <p:nvPr/>
          </p:nvSpPr>
          <p:spPr>
            <a:xfrm>
              <a:off x="3511440" y="2637000"/>
              <a:ext cx="2121120" cy="15890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Verdana"/>
                </a:rPr>
                <a:t>Ключевые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0000"/>
                  </a:solidFill>
                  <a:uFillTx/>
                  <a:latin typeface="Verdana"/>
                </a:rPr>
                <a:t>компетенции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0" name="Text Box 42"/>
          <p:cNvSpPr/>
          <p:nvPr/>
        </p:nvSpPr>
        <p:spPr>
          <a:xfrm>
            <a:off x="519120" y="189000"/>
            <a:ext cx="801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3"/>
          <p:cNvSpPr/>
          <p:nvPr/>
        </p:nvSpPr>
        <p:spPr>
          <a:xfrm>
            <a:off x="109548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AutoShape 44"/>
          <p:cNvSpPr/>
          <p:nvPr/>
        </p:nvSpPr>
        <p:spPr>
          <a:xfrm>
            <a:off x="971640" y="1125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45"/>
          <p:cNvSpPr/>
          <p:nvPr/>
        </p:nvSpPr>
        <p:spPr>
          <a:xfrm>
            <a:off x="3492360" y="26028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46"/>
          <p:cNvSpPr/>
          <p:nvPr/>
        </p:nvSpPr>
        <p:spPr>
          <a:xfrm>
            <a:off x="5940360" y="1125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47"/>
          <p:cNvSpPr/>
          <p:nvPr/>
        </p:nvSpPr>
        <p:spPr>
          <a:xfrm>
            <a:off x="4932360" y="4797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8"/>
          <p:cNvSpPr/>
          <p:nvPr/>
        </p:nvSpPr>
        <p:spPr>
          <a:xfrm>
            <a:off x="6588000" y="3141720"/>
            <a:ext cx="2162160" cy="15825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49"/>
          <p:cNvSpPr/>
          <p:nvPr/>
        </p:nvSpPr>
        <p:spPr>
          <a:xfrm>
            <a:off x="2124000" y="4797360"/>
            <a:ext cx="2162160" cy="15829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AutoShape 50"/>
          <p:cNvSpPr/>
          <p:nvPr/>
        </p:nvSpPr>
        <p:spPr>
          <a:xfrm>
            <a:off x="395280" y="3141720"/>
            <a:ext cx="2162160" cy="158256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51"/>
          <p:cNvSpPr/>
          <p:nvPr/>
        </p:nvSpPr>
        <p:spPr>
          <a:xfrm>
            <a:off x="324000" y="189000"/>
            <a:ext cx="8459640" cy="633564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Ценностно-смысловые компетенци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Это компетенции в сфере мировоззрения,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язанные с ценностными ориентирами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ученика, его способностью видеть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онимать окружающий мир,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риентироваться в нем, осознавать свою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оль и предназначение, уметь выбирать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целевые и смысловые установки для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воих действий и поступков, принимать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решения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AutoShape 52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Общекультурные компетенции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Ученик должен быть хорошо осведомле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обладать познаниями и опы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деятельности в вопросах национа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и общечеловеческой культур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духовно-нравственных основ жизн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человека и человечеств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культурологических осн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семейных, социальных, общественных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явлений и традици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бытовой и культурно-досуговой сфер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Сюда же относится опыт освоен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учеником научной картины ми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53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Учебно-познавательные компетенци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Это совокупность компетенций ученика 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фере самостоятельной познавате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ятельности, включающей элемент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гической, методологическо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щеучебной деятельности, соотнесен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реальными познаваемыми объект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юда входят знания и умения организ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еполагания, планирования, анализа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флексии, самооценк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ебно-познавательно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AutoShape 54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Информационные компетенци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мощи реальных объект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телевизор, магнитофон, телефон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кс, компьютер, принтер, модем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пир) и информационных технолог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аудио- видеозапись, электронна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та, СМИ, Интернет) формирую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я самостоятельно иска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овать и отбирать необходимую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, организовыва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образовывать, сохранять 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вать е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55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Коммуникативные компетен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ключают знание необходим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зыков, способов взаимодейств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кружающими и удаленны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ьми и событиями, навыки раб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руппе, владение различным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циальными ролями в коллектив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AutoShape 57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оциально-трудовые компетенци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ют владение знаниями и опыт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фере гражданско-обществен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ятельности (выполнение рол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жданина, наблюдателя, избирател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ителя), в социально-трудов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фере (права потребителя, покупателя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иента, производителя), в сфер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мейных отношений и обязанностей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вопросах экономики и права, в област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ого самоопредел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8"/>
          <p:cNvSpPr/>
          <p:nvPr/>
        </p:nvSpPr>
        <p:spPr>
          <a:xfrm>
            <a:off x="324000" y="189000"/>
            <a:ext cx="8424720" cy="6335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мпетенции личностного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самосовершенствова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правлены на освоение способов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изического, духовного и интеллектуаль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ого саморазвития, эмоцио-наль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аморегуляции и самоподдержки. 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нным компетенциям относятся правил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ичной гигиены, забота о собственно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доровье, половая грамотность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утренняя экологическая культур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юда же входит комплекс качеств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вязанных с основами безопас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жизнедеятельности лич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01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ерархия компетенц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соответствии с разделением содержания образования на общее метапредметное (для всех предметов), межпредметное (для цикла предметов или образовательных областей) и предметное (для каждого учебного предмета), выстраиваются три уровн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лючев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относятся к общему (метапредметному) содержанию образова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общепредметн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– относятся к определенному кругу учебных предметов и образовательных област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едметные компетенци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частные по отношению к двум предыдущим уровням компетенции, имеющие конкретное описание и возможность формирования в рамках учебных предмет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рево компетенц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8360" y="1392120"/>
            <a:ext cx="7632720" cy="53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ные компоненты компетен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обеспечить соотносимость компетенций с традиционными образовательными параметрами, раскроем содержание понятия «образовательные компетенции» путем перечня структурных компонентов компетенци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684360" y="260280"/>
            <a:ext cx="7704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компет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55640" y="1484280"/>
            <a:ext cx="763272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п компетенции в их общей иерархии (ключевая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епредметная, предметная компетенци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84360" y="2708280"/>
            <a:ext cx="784836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уг реальных объектов действительност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отношению к которым вводится компетенц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826920" y="4005360"/>
            <a:ext cx="777744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практическая обусловленность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значимость компетенции (для чего она необходим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оциум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55640" y="5373720"/>
            <a:ext cx="792000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ысловые ориентации ученика по отношению к данны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ктам, личностная значимость компетенци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в чем и зачем ученику необходимо быть компетентным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971640" y="189000"/>
            <a:ext cx="748800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я о данном круге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971640" y="1628640"/>
            <a:ext cx="741672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и навыки, относящиеся к данн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ругу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971640" y="2924280"/>
            <a:ext cx="748800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деятельности по отношению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данному кругу реальных объ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971640" y="4149720"/>
            <a:ext cx="75610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о необходимый опыт деятельнос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ника в сфере данной компет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по ступеням обучения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71640" y="5707080"/>
            <a:ext cx="7632720" cy="1150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дикаторы - примеры, образцы учебных и контрольн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ценочных заданий по определению степени (уровня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етентности ученика (по ступеням обуч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еятельностная форма представления компетенц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перейти к обучению, необходимо задать компетенции в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деятельностной форм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 этом случае само название компетенции будет определять суть соответствующего метода обуч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22446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364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мпетентностный подх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риоритетная ориентация на цели - векторы образования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е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определени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актуализация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из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развитие индивидуальности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Цель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компетентностного подхода - обеспечение качества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13" descr="j0430368"/>
          <p:cNvPicPr/>
          <p:nvPr/>
        </p:nvPicPr>
        <p:blipFill>
          <a:blip r:embed="rId1"/>
          <a:stretch/>
        </p:blipFill>
        <p:spPr>
          <a:xfrm>
            <a:off x="7740720" y="1989000"/>
            <a:ext cx="1403280" cy="14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j0430370"/>
          <p:cNvPicPr/>
          <p:nvPr/>
        </p:nvPicPr>
        <p:blipFill>
          <a:blip r:embed="rId2"/>
          <a:stretch/>
        </p:blipFill>
        <p:spPr>
          <a:xfrm>
            <a:off x="755640" y="220500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j0427785"/>
          <p:cNvPicPr/>
          <p:nvPr/>
        </p:nvPicPr>
        <p:blipFill>
          <a:blip r:embed="rId3"/>
          <a:stretch/>
        </p:blipFill>
        <p:spPr>
          <a:xfrm>
            <a:off x="7740720" y="465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j0427821"/>
          <p:cNvPicPr/>
          <p:nvPr/>
        </p:nvPicPr>
        <p:blipFill>
          <a:blip r:embed="rId4"/>
          <a:stretch/>
        </p:blipFill>
        <p:spPr>
          <a:xfrm>
            <a:off x="900000" y="5229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Ценностно-смысловые компетенции предполагают уме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рмулировать собственные ценностные ориентиры по отношению к изучаемым учебным предметам и сферам деятельности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ладеть способами самоопределения в ситуациях выбора на основе собственных позиций; уметь принимать решения, брать на себя ответственность за их последствия, осуществлять действия и поступки на основе выбранных целевых и смысловых установок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уществлять индивидуальную образовательную траекторию с учетом общих требований и нор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чебно-познаватель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овывать планирование, анализ, рефлексию, самооценку своей учебно-познавательной деятельн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давать вопросы к наблюдаемым фактам, отыскивать причины явлений, обозначать свое понимание или непонимание по отношению к изучаемой проблем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авить познавательные задачи и выдвигать гипотезы; выбирать условия проведения наблюдения или опыта; выбирать необходимые приборы и оборудование, владеть измерительными навыками, работать с инструкциями; использовать элементы вероятностных и статистических методов познания; описывать результаты, формулировать выв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ступать устно и письменно о результатах своего исследования с использованием компьютерных средств и технологий (текстовые и графические редакторы, презентации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еть опыт восприятия картины ми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циокультур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знаниями и опытом выполнения типичных социальных ролей: семьянина, гражданина, работника, собственника, потребителя, покупателя; уметь действовать в каждодневных ситуациях семейно-бытовой сфер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определять свое место и роль в окружающем мире, в семье, в коллективе, государстве; владеть культурными нормами и традициями, прожитыми в собственной деятельности; владеть эффективными способами организации свободного времен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меть представление о системах социальных норм и ценностей в России и других странах; иметь осознанный опыт жизни в многонациональном, многокуль¬турном, многоконфессиональном обществ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действовать в сфере трудовых отношений в соответствии с личной и общественной пользой, владеть этикой трудовых и гражданских взаимоотношен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элементами художественно-творческих компетенций читателя, слушателя, исполнителя, зрителя, юного художника, писателя, ремесленника и др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тив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уметь представить себя устно и письменно, написать анкету, заявление, резюме, письмо, поздравление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уметь представлять свой класс, школу, страну в ситуациях межкультурного общения, в режиме диалога культур, использовать для этого знание иностранного язык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способами взаимодействия с окружающими и удаленными людьми и событиями; выступать с устным сообщением, уметь задать вопрос, корректно вести учебный диалог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разными видами речевой деятельности (монолог, диалог, чтение, письмо), лингвистической и языковой компетенция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владеть способами совместной деятельности в группе, приемами действий в ситуациях общения; умениями искать и находить компромисс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меть позитивные навыки общения в поликультурном, полиэтническом и многоконфессиональном обществе, основанные на знании исторических корней и традиций различных национальных общностей и социальных груп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онные компетенци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ладеть навыками работы с различными источниками информации: книгами, учебниками, справочниками, атласами, картами, определителями, энциклопедиями, каталогами, словарями, CD-Rom, Интерне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остоятельно искать, извлекать, систематизировать, анализировать и отбирать необходимую для решения учебных задач информацию, организовывать, преобразовывать, сохранять и передавать е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иентироваться в информационных потоках, уметь выделять в них главное и необходимое; уметь осознанно воспринимать информацию, распространяемую по каналам С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ладеть навыками использования информационных устройств: компьютера, телевизора, магнитофона, телефона, мобильного телефона, пейджера, факса, принтера, модема, копир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именять для решения учебных задач информационные и телекоммуникационные технологии: аудио и видеозапись, электронную почту, Интерне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родоведческие и здоровьесберегающие компетенци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меть опыт ориентации и экологической деятельности в природной среде (в лесу, в поле, на водоемах и др.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ть и применять правила поведения в экстремальных ситуациях: под дождем, градом, при сильном ветре, во время грозы, наводнения, пожара, при встрече с опасными животными, насекомым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зитивно относиться к своему здоровью; владеть способами физического самосовершенствования, эмоциональной саморегуляции, самоподдержки и самоконтрол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нать и применять правила личной гигиены, уметь заботиться о собственном здоровье, личной безопасности; владеть способами оказания первой медицинской помощ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ладеть элементами психологической грамотности, половой культуры и поведени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меть многообразие двигательного опыта и умение использовать его в массовых формах соревновательной деятельности, в организации активного отдыха и досуг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меть подбирать индивидуальные средства и методы для развития своих физических качес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539640" y="102600"/>
            <a:ext cx="82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едение компетентностного подхода в учебный процесс требует серьезных изменений и в содержании образования, и в осуществлении учебного процесса, и в практике работы педагог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-первых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елью обучения становится не процесс, а достижение учащимися определенного результата. Содержание материала внутри предмета подбирается преподавателем под сформулированный результат. Меняются так же и подходы к оценке — в процедуру оценивания включается рефлексия, сбор портфеля доказательств, наблюдение за деятельностью учащихс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няются формы и методы организации занятий — обучение приобретает деятельностный характер, акцент делается на обучение через практику, продуктивную работу учащихся в малых группах, выстраивание индивидуальных учебных траекторий, использование межпредметных связей, развитие самостоятельности учащихся и личной ответственности за принятие решени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ому измениться должны и механизмы доставки знаний от преподавателя к обучающемуся: приоритетным становится свободный доступ к информационным ресурсам, самообучение, дистанционное и сетевое обучение. Все эти формы обучения направлены на то, чтобы ввести ученика в социальные и профессиональные роли так, чтобы научить его быть успешным и в том и в другом. Это поможет ему затем самостоятельно повышать свой профессиональный уровень, обучаться на протяжении всей жизн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0"/>
            <a:ext cx="8964720" cy="66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Verdana"/>
              </a:rPr>
              <a:t>Приложение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Verdana"/>
              </a:rPr>
              <a:t>Список 37 видов компетентностей, по Дж. Равену (Равен Дж. Компетентность в современном обществе. Выявление, развитие и реализация. М., 2002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нденция к более ясному пониманию ценностей и установок по отношению к конкретной цел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нденция контролировать свою деятельность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влечение эмоций в процесс деятельност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отовность и способность обучаться самостоятельно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иск и использование обратной связ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веренность в себе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амоконтроль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даптивность: отсутствие чувства беспомощности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клонность к размышлениям о будущем: привычка к абстрагированию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нимание к проблемам, связанным с достижением поставленных целей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250920" y="87480"/>
            <a:ext cx="864216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амостоятельность мышления, оригинальность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итическое мышление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решать сложные вопросы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работать над чем-либо спорным и вызывающим беспокойство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ние окружающей среды для выявления ее возможностей и ресурсов (как материальных, так и человеческих)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полагаться на субъективные оценки и идти на умеренный риск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сутствие фатализма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товность использовать новые идеи и инновации для достижения цели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нание того, как использовать инновации;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0" y="404640"/>
            <a:ext cx="889308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веренность в благожелательном отношении общества к инновациям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ка на взаимный выигрыш и широта перспекти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стойчивость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ользование ресурс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вери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ношение к правилам как указателям желательных способов повед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принимать реш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сональная ответственность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к совместной работе ради достижения цел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11280" y="26028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оссии переход на компетентностно- ориентированное образование был нормативно закреплен в 2001 г. в правительственной Программе модернизации российского образования до 2010 года и подтвержден в решении Коллегии Минобрнауки РФ "О приоритетных направлениях развития образовательной системы Российской Федерации" в 2005 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мках Болонского процесса наша страна взяла на себя обязательства присоединения в том числе по компетентностному формату представления результатов профессионального образования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тельственная Стратегия модернизации образования предполагает, что в основу обновленного содержания общего образования будут положены «ключевые компетентности»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j0427709"/>
          <p:cNvPicPr/>
          <p:nvPr/>
        </p:nvPicPr>
        <p:blipFill>
          <a:blip r:embed="rId1"/>
          <a:stretch/>
        </p:blipFill>
        <p:spPr>
          <a:xfrm>
            <a:off x="7885080" y="115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j0430941"/>
          <p:cNvPicPr/>
          <p:nvPr/>
        </p:nvPicPr>
        <p:blipFill>
          <a:blip r:embed="rId2"/>
          <a:stretch/>
        </p:blipFill>
        <p:spPr>
          <a:xfrm>
            <a:off x="7956720" y="5661000"/>
            <a:ext cx="9698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324000" y="333360"/>
            <a:ext cx="84960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побуждать других людей работать сообща ради достижения поставленной цел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слушать других людей и принимать во внимание то, что они говорят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емление к субъективной оценке личностного потенциала сотрудников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товность разрешать другим людям принимать самостоятельные решен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разрешать конфликты и смягчать разногласия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пособность эффективно работать в качестве подчиненного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рпимость по отношению к различным стилям жизни окружающих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имание плюралистической политики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товность заниматься организационным и общественным планирование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468360" y="404640"/>
            <a:ext cx="813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Концепция модернизации российского образования на период до 2010 года. - Правительство Российской Федерации. – Распоряжение № 1756-р от 29.12.2001 г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Краевский В.В., Хуторской А.В. Предметное и общепредметное в образовательных стандартах // Педагогика. – 2003. - №2. – С.3-10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Совет Европы: Симпозиум по теме «Ключевые компетенции для Европы»: Док. DECS / SC / Sec (96) 43. – Берн, 1996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Хуторской А.В. Технология проектирования ключевых и предметных компетенций // Интернет-журнал "Эйдос". - 2005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Хуторской А. Ключевые компетенции как компонент личностно-ориентированного образования // Народное образование. – 2003. - №2. – С.58-64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466360" y="5764320"/>
            <a:ext cx="636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зентацию подготовила учитель высшей категори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жигова Н.М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468360" y="260280"/>
            <a:ext cx="86756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полагается, что в число формируемых и развиваемых в школ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лючевых компетентносте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лжны войт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онна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циально-правовая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ммуникативная компетентнос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j0431247"/>
          <p:cNvPicPr/>
          <p:nvPr/>
        </p:nvPicPr>
        <p:blipFill>
          <a:blip r:embed="rId1"/>
          <a:stretch/>
        </p:blipFill>
        <p:spPr>
          <a:xfrm>
            <a:off x="468360" y="450864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j0427686"/>
          <p:cNvPicPr/>
          <p:nvPr/>
        </p:nvPicPr>
        <p:blipFill>
          <a:blip r:embed="rId2"/>
          <a:stretch/>
        </p:blipFill>
        <p:spPr>
          <a:xfrm>
            <a:off x="2195640" y="5516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j0431150"/>
          <p:cNvPicPr/>
          <p:nvPr/>
        </p:nvPicPr>
        <p:blipFill>
          <a:blip r:embed="rId3"/>
          <a:stretch/>
        </p:blipFill>
        <p:spPr>
          <a:xfrm>
            <a:off x="7380360" y="39337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422179"/>
          <p:cNvPicPr/>
          <p:nvPr/>
        </p:nvPicPr>
        <p:blipFill>
          <a:blip r:embed="rId4"/>
          <a:stretch/>
        </p:blipFill>
        <p:spPr>
          <a:xfrm>
            <a:off x="4788000" y="4869000"/>
            <a:ext cx="969840" cy="9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395280" y="404640"/>
            <a:ext cx="87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ый подход к определению ключевых компетенций соответствует пониманию фундаментальных целей образования, сформулированных в </a:t>
            </a: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документах ЮНЕСКО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получать знани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ить учиться);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работать и зарабатыва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труда)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жить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 бытия);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-научить жить вмест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(учение для совместной жизни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5" descr="j0398149"/>
          <p:cNvPicPr/>
          <p:nvPr/>
        </p:nvPicPr>
        <p:blipFill>
          <a:blip r:embed="rId1"/>
          <a:stretch/>
        </p:blipFill>
        <p:spPr>
          <a:xfrm>
            <a:off x="7956720" y="472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0422528"/>
          <p:cNvPicPr/>
          <p:nvPr/>
        </p:nvPicPr>
        <p:blipFill>
          <a:blip r:embed="rId2"/>
          <a:stretch/>
        </p:blipFill>
        <p:spPr>
          <a:xfrm>
            <a:off x="7451640" y="227664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j0411747"/>
          <p:cNvPicPr/>
          <p:nvPr/>
        </p:nvPicPr>
        <p:blipFill>
          <a:blip r:embed="rId3"/>
          <a:stretch/>
        </p:blipFill>
        <p:spPr>
          <a:xfrm>
            <a:off x="6516720" y="3860640"/>
            <a:ext cx="896760" cy="89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j0427688"/>
          <p:cNvPicPr/>
          <p:nvPr/>
        </p:nvPicPr>
        <p:blipFill>
          <a:blip r:embed="rId4"/>
          <a:stretch/>
        </p:blipFill>
        <p:spPr>
          <a:xfrm>
            <a:off x="8028000" y="5734080"/>
            <a:ext cx="89856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15160" cy="187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мпетентностный подход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предполагает не усвоение учеником отдельных друг от друга знаний и умений, а овладение ими в комплексе. В связи с этим меняется, точнее, по иному определяется система методов обучения. В основе отбора и конструирования методов обучения лежит структура соответствующих компетенций и функции, которые они выполняют в образовании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99640" y="4149720"/>
            <a:ext cx="7417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уть образовательного процесса в условиях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мпетентностного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дход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создание ситуаций и поддержка действий, которые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ривести к формированию той или иной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компетен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5" descr="i"/>
          <p:cNvPicPr/>
          <p:nvPr/>
        </p:nvPicPr>
        <p:blipFill>
          <a:blip r:embed="rId1"/>
          <a:stretch/>
        </p:blipFill>
        <p:spPr>
          <a:xfrm>
            <a:off x="250920" y="5877000"/>
            <a:ext cx="711000" cy="533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i2"/>
          <p:cNvPicPr/>
          <p:nvPr/>
        </p:nvPicPr>
        <p:blipFill>
          <a:blip r:embed="rId2"/>
          <a:stretch/>
        </p:blipFill>
        <p:spPr>
          <a:xfrm>
            <a:off x="7596360" y="5481720"/>
            <a:ext cx="1547640" cy="12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000" y="1483920"/>
            <a:ext cx="381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ц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включает совокупность взаимосвязанных качеств личности (знаний, умений, навыков, способов деятельности), задаваемых по отношению к определенному кругу предметов и процессов, и необходимых для качественной продуктивной деятельности по отношению к ни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00720" y="1599840"/>
            <a:ext cx="4186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тность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владение, обладание учеником соответствующей компетенцией, включающее его личностное отношение к ней и предмету деятельности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Компетентность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– уже состоявшееся качество личности (совокупность качеств) ученика и минимальный опыт деятельности в заданной сфер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900000" y="3246480"/>
            <a:ext cx="993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95280" y="476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утри компетентностного подхода выделяются два базовых понятия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компетенц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компетентно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вропейский вариант ключевых компетенций 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е существует единого согласованного перечня ключевых компетенций. Поскольку компетенции - это, прежде всего, заказ общества к подготовке его граждан, то такой перечень во многом определяется согласованной позицией социума в определенной стране или регионе. Во время симпозиума Совета Европы по теме «Ключевые компетенции для Европы» был определен следующий примерный перечень ключевых компетенц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50920" y="5589720"/>
            <a:ext cx="1139760" cy="126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7020000" y="5477040"/>
            <a:ext cx="1851120" cy="138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4002120" y="5516640"/>
            <a:ext cx="12049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324000" y="6093000"/>
            <a:ext cx="324000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24000" y="5373720"/>
            <a:ext cx="3240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24000" y="4581360"/>
            <a:ext cx="32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ум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24000" y="3500280"/>
            <a:ext cx="3240000" cy="72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ча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24000" y="2492280"/>
            <a:ext cx="3240000" cy="71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ниматьс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 дел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4000" y="1628640"/>
            <a:ext cx="32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птироватьс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1042920" y="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Европейский вариант ключевых компетенц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20"/>
          <p:cNvSpPr/>
          <p:nvPr/>
        </p:nvSpPr>
        <p:spPr>
          <a:xfrm>
            <a:off x="3780000" y="1052640"/>
            <a:ext cx="5005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рганизовывать взаимосвязь своих знаний и упорядочивать и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организовывать свои собственные приемы изуч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уметь извлекать пользу из опы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уметь решать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самостоятельно заниматься своим обучени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3851280" y="105264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1887480" y="836640"/>
            <a:ext cx="72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3780000" y="1125360"/>
            <a:ext cx="536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апрашивать различные баз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ых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ашивать окружени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сультироваться у эксперт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лучать информацию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работать с документами и классифицировать и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2895480" y="77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3635280" y="1279440"/>
            <a:ext cx="550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изовывать взаимосвязь прошлых и настоящих событи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итически относиться к тому или иному аспекту развития наших общест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противостоять неуверенности и сложн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нимать позицию в дискуссиях и выковывать свое собственное мнени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идеть важность политического и экономического окружения, в котором проходит обучение и рабо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ценивать социальные привычки, связанные со здоровьем, потреблением, а также с окружающей сред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оценивать произведения искусства и литерату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959280" y="1654200"/>
            <a:ext cx="51847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сотрудничать и работа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групп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нимать решения — улажива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ногласия и конфликт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договариватьс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разрабатывать и выполнят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онтрак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3743280" y="907920"/>
            <a:ext cx="5400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ключаться в проект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ести ответствен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ходить в группу или коллекти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вносить свой вклад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оказывать солидарность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организовывать свою работ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меть пользоваться вычислительным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 моделирующими прибор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000680" y="1052640"/>
            <a:ext cx="5143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использовать новые технолог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нформации и коммуник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азывать гибкость перед лицом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ыстрых изменен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казывать стойкость пере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удностям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меть находить новые реш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07:23Z</dcterms:created>
  <dc:creator>Komp</dc:creator>
  <dc:description/>
  <dc:language>en-US</dc:language>
  <cp:lastModifiedBy>admin</cp:lastModifiedBy>
  <dcterms:modified xsi:type="dcterms:W3CDTF">2019-04-28T12:12:48Z</dcterms:modified>
  <cp:revision>76</cp:revision>
  <dc:subject/>
  <dc:title>Слайд 1</dc:title>
</cp:coreProperties>
</file>