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25A5-1CBF-40C9-A18C-79326E3056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F6EE-4AA1-439F-AF33-B3E05F30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2C3D-C29D-4673-992B-EBB55BB9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6136-3B5C-44FC-8ADF-00E0134211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B1761-0A98-485F-8EEA-F8A336A20D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A4265-56D0-4F79-8F9E-264F5766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CE04F-866F-498D-A4F3-D9699F04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6FD75-DAF6-48FC-880A-647E6AC0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A8E81-DD1D-46E8-9301-E1F09B00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16FEA-EBFA-4EBD-A0F0-70167BA4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34FF6-A3A6-45B0-9901-6D2D16EA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3BCFC-194F-4C3A-A8E8-24541F12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49DAF-5B8D-46F7-9F92-E6298438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133F8-9D84-4C15-827F-2113D954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D9734-D161-4D09-AE2E-B5156A43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D1D30-22B6-4C1A-853C-7CA38F89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DF9E5-A148-4E6F-8303-A78FCD6DA8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5A90-6AF5-4052-99B7-BC8FBD5246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9AB1-A710-4FCA-BBDC-A257F01F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61B0-4AF7-4E3A-825E-FBE16DBD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6051-C1E9-49C2-9BBE-BE85E026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3675-5C5F-427B-962D-632B0994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2308-13B8-4B0B-BE93-45108F7F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97D8-503D-48EC-A039-1B734FB2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9874-778F-4ED6-8DA2-9630F2F9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02A2-C0C3-40BC-BA32-A12383C0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D81A-6337-4A65-BFF9-AD48BA4E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85F0-09C2-4F31-AC5F-8BDE4C36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B888-DFAC-4FCD-8C18-92B3EA98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2544-44BE-4F67-8C80-EA09DBFF6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C72D3-F5D6-4425-A4E3-A279DA94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ADB2-258F-466B-86C2-C02F0520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1FD0-CC20-468B-8E01-33655B6E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2994-170E-41A0-95EF-192F2F48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13597-B484-4E60-A412-AFAE7CE5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6597-EAAD-4526-9FBB-A4CD620F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8964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6480" y="5791320"/>
            <a:ext cx="3402000" cy="1081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9360" y="5788080"/>
            <a:ext cx="3404880" cy="1084320"/>
          </a:xfrm>
          <a:prstGeom prst="line">
            <a:avLst/>
          </a:prstGeom>
          <a:ln w="12240">
            <a:solidFill>
              <a:srgbClr val="196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72588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8.4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36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D8437E-0CBB-4041-9A53-064179364CB5}" type="slidenum"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5640" y="5938920"/>
            <a:ext cx="368964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480" y="5791320"/>
            <a:ext cx="3402000" cy="10810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9360" y="5788080"/>
            <a:ext cx="3404880" cy="1084320"/>
          </a:xfrm>
          <a:prstGeom prst="line">
            <a:avLst/>
          </a:prstGeom>
          <a:ln w="12240">
            <a:solidFill>
              <a:srgbClr val="196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5409720"/>
            <a:ext cx="4038480" cy="76068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5000" bIns="45000" anchor="ctr">
            <a:normAutofit fontScale="16000"/>
          </a:bodyPr>
          <a:p>
            <a:pPr marL="5472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672588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8.4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36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D42E38-414E-40AF-8F25-125F4ADF8E2E}" type="slidenum"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640" y="5938920"/>
            <a:ext cx="3689640" cy="93348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6480" y="5791320"/>
            <a:ext cx="3402000" cy="1081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9360" y="5788080"/>
            <a:ext cx="3404880" cy="1084320"/>
          </a:xfrm>
          <a:prstGeom prst="line">
            <a:avLst/>
          </a:prstGeom>
          <a:ln w="12240">
            <a:solidFill>
              <a:srgbClr val="196f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672588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8.4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36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EBFF86-1F19-4022-ACBB-EADF7863FEEB}" type="slidenum"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77720" y="333360"/>
            <a:ext cx="81885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Проек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«Детский календар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«Чудесные шляпы»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76720" y="3284640"/>
            <a:ext cx="301464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260280"/>
            <a:ext cx="7632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группе организована выставка книг. Дети принесли в группу свои любимые книги и делились впечатлениями о прочитанных книгах с другим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58880" y="1989000"/>
            <a:ext cx="4026240" cy="37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549360"/>
            <a:ext cx="867564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рамках проекта дети совместно с родителями делали книжки - малышки со сказками. Все книжки получились разными и по оформлению, и по стилю. Среди книжек есть авторские. Дети и родители сами сочинили истории и придумали к ним иллюстрации. В процессе такого творчества ребенок и взрослый становятся не только создателем своей собственной книги, но и дизайнером, художником-иллюстратором, сочинителем собственных ист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4873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С большим энтузиазмом дети играли в игры-ходилки по сказкам, узнавали героев и все вместе вспоминали знакомое произведение.</a:t>
            </a:r>
            <a:br>
              <a:rPr sz="41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rot="16200000">
            <a:off x="2052360" y="2062080"/>
            <a:ext cx="2735280" cy="2592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25192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464646"/>
                </a:solidFill>
                <a:latin typeface="Lucida Sans Unicode"/>
              </a:rPr>
              <a:t>Дети с удовольствием собирали пазлы и узнавали любимых сказочных героев.</a:t>
            </a:r>
            <a:br>
              <a:rPr sz="4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63640" y="2133720"/>
            <a:ext cx="2467080" cy="253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251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Детям предлагалось собрать по картинкам сказку, таким образом закрепляя прочитанное произведение.</a:t>
            </a:r>
            <a:br>
              <a:rPr sz="41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2951280" cy="2322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788000" y="2060640"/>
            <a:ext cx="3112920" cy="24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8360" y="549360"/>
            <a:ext cx="8424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нятие «Знакомимся с художественным произведением шведской писательницы Астрид Линдгрен «Малыш и Карлсон, который живет на крыш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4360" y="1917720"/>
            <a:ext cx="3311280" cy="223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399888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2840"/>
            <a:ext cx="7632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5880"/>
                <a:tab algn="l" pos="976320"/>
                <a:tab algn="l" pos="1625760"/>
                <a:tab algn="l" pos="2335320"/>
                <a:tab algn="l" pos="3402000"/>
                <a:tab algn="l" pos="4432320"/>
                <a:tab algn="l" pos="565164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 в рамках проекта получается интересной и познавательной для всех участников проекта. Проект позволяет расширить кругозор детей о разнообразие книг, у детей сформировалась любознательность, познавательная активность. Цель и задачи, поставленные в начале проекта, выполн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5880"/>
                <a:tab algn="l" pos="976320"/>
                <a:tab algn="l" pos="1625760"/>
                <a:tab algn="l" pos="2335320"/>
                <a:tab algn="l" pos="3402000"/>
                <a:tab algn="l" pos="4432320"/>
                <a:tab algn="l" pos="565164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ный проект является важным звеном литературного воспитания дошкольников, через его реализацию формируются знания художественных произведений, их закрепление в форме различных игр. Дети стали узнавать любимых героев, рассказывать друг другу сказки. Привлечение воспитанников к литературной деятельности  помогает развивать детскую речь, память, мышление. Мы вместе с воспитанниками получили массу новых впечатлений, мы дали детям возможность узнать новую литературу, открыть для себя новых героев через применение как традиционных, так и нетрадиционных форм проведения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42880" y="2967120"/>
            <a:ext cx="8058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32000" y="339840"/>
            <a:ext cx="6408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К сожалению, в настоящее время мультфильмы, детские телепрограммы, компьютерные игры перехватывают интерес детей у детской литературы. Над ними не нужно размышлять в отличие от художественных произведений. Да и родители часто ввиду своего не желания, отсутствия времени, внимания, сил мало уделяют внимания на совместное чтение с ребенком, хотя в магазинах представлено огромное разнообразие познавательных, красочных и интересных изд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задача приобщения дошкольников к книге ложится на плечи воспитателя. Любящий литературу воспитатель, желающий привить эту любовь детям, будет знакомить воспитанников не только с программными произведениями, но и с другими замечательными сказками, рассказами, былинами, стихотворениями, а также пословицами и поговорк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16360" y="3429000"/>
            <a:ext cx="34336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ходе подготовительного этапа педагогами были разработаны буклеты детского календаря «С какими книгами лучше дружить дошколятам», а также консультации «Читайте на ночь сказки детям», «Хорошие детские книги осенью», «Лучшие сказки на ночь зимой», «Лучшие сказки на ночь весной», «Хорошие детские книги летом»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40280" cy="4319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 rot="5400000">
            <a:off x="4755240" y="1879920"/>
            <a:ext cx="2880000" cy="23767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64646"/>
                </a:solidFill>
                <a:latin typeface="Lucida Sans Unicode"/>
              </a:rPr>
              <a:t>Дети с большим энтузиазмом вручали буклеты родителям</a:t>
            </a:r>
            <a:br>
              <a:rPr sz="41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2982960" cy="3941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3384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Lucida Sans Unicode"/>
              </a:rPr>
              <a:t>Родителей решили вдохновить на идею проекта мастер-классом по мнемотаб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900080"/>
            <a:ext cx="4040280" cy="4264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643280" y="1917720"/>
            <a:ext cx="403236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ru-RU" sz="4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ru-RU" sz="2000" spc="-1" strike="noStrike">
                <a:solidFill>
                  <a:srgbClr val="464646"/>
                </a:solidFill>
                <a:latin typeface="Lucida Sans Unicode"/>
              </a:rPr>
              <a:t>Для детей была собрана картотека «Детского календаря». Дети могут рассматривать яркие книжки любимых художественных произведений, а могут попросить воспитателя почитать им еще незнакомую сказку. </a:t>
            </a:r>
            <a:br>
              <a:rPr sz="41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1008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5080" y="541008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547640" y="1917720"/>
            <a:ext cx="2686320" cy="3240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25927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846000"/>
            <a:ext cx="9144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детям в детский сад заехал купец, державший свой путь на ярмарку, где хотел продать свои волшебные шляпы, да по дороге растерял их. Дети с радостью помогли купцу отыскать его шляпы. Купец решил отблагодарить помощников и рассказал детям, в чем секрет этих необычных шляп. Каждая шляпа ассоциируется с определенным временем года, а в самой шляпе много игр на разные сказ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2646360" cy="19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2654280" cy="207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060720" y="4365720"/>
            <a:ext cx="265428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88920"/>
            <a:ext cx="72723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месте с бабой Ягой дети прошли квест-игру, где на каждой станции их поджидали чудесные шляпы с различными играми. Вместе вспоминали сказки, раскладывая картинки по сказкам, играя в игры-ходилки и собирая паз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4094280" cy="2732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32360" y="4221000"/>
            <a:ext cx="3897360" cy="23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2000" y="62064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Была организована экскурсия в библиотеку на которой детям и их родителям рассказали о значении библиотек и о том как важны книги в жизни человека.</a:t>
            </a:r>
            <a:br>
              <a:rPr sz="41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66920" y="2421000"/>
            <a:ext cx="4464000" cy="33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ия Романова</cp:lastModifiedBy>
  <dcterms:modified xsi:type="dcterms:W3CDTF">2019-04-28T17:21:06Z</dcterms:modified>
  <cp:revision>1</cp:revision>
  <dc:subject/>
  <dc:title/>
</cp:coreProperties>
</file>