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27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A4A53-9826-46AF-BA4F-5584B596D9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9E149-898A-450F-BB26-D816E46E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CC740-E6B0-413F-9BBD-A81E70E3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A439F-9970-4797-A576-B8D85357A2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67E71-D0B3-4131-A152-41CC400D2C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3C931-CE9D-465A-B624-955B6034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B91D6-382E-4A9C-95D3-D06EFCCE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06069-4BF5-4336-8F1B-B43B6CB9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2FECB-0F1D-4140-89E5-1B1609FD9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0C7C3-4D89-4342-8D30-E8524DF5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65504-C4E8-42E6-97C6-32EC7F5B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2FB82-2C45-4E5D-B7D9-FFFF9805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1B40E6-D5F8-42D4-ADEB-4B56D84A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E8D0F-3D81-41AC-A3F4-B5242BDF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7B6B3-439B-4021-A74B-B27B4409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911C1-1AF7-4906-A026-9B98AAE7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918E60-71CB-4B6B-9EC2-5EB668C368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534F-5D66-419B-9214-9E227D1136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2DFE-EB25-4564-BCDC-D2C73915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3B8C-57E4-4C95-89AC-8A619DBF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FA0A-24B1-4228-809F-2AC6FE44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6FF1-3FE5-4D56-959C-D0EA535C0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A1577-F6AC-44FA-B1D1-C71CF36E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358E-C839-4523-82FF-8816ED046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988B-4397-48E8-A45C-FD69AC37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1692-84F0-418E-B52C-85876E4B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C971-C482-4D6C-ABB4-54A75189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E8C5-D8D5-4B84-A5A8-06A52F2E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FDB2-9166-41FA-B99C-2FCA7789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1263-4FBA-4122-889C-FABB58CEDA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35730-920E-4EB0-9961-DECAA626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2E106-D02A-4FE8-8F36-4D4391BA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C4A36-1F7F-4640-B66A-BDF7A8F9E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698B8-3473-47AB-8E3C-67ED9CAA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14B86-CDB9-4EA4-9966-C8842B92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C67B8-810B-4FAF-A10A-345655DB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04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85640" y="5938920"/>
            <a:ext cx="3689640" cy="93348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6480" y="5791320"/>
            <a:ext cx="3402000" cy="108108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9360" y="5788080"/>
            <a:ext cx="3404880" cy="1084320"/>
          </a:xfrm>
          <a:prstGeom prst="line">
            <a:avLst/>
          </a:prstGeom>
          <a:ln w="12240">
            <a:solidFill>
              <a:srgbClr val="196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72588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Lucida Sans Unicode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28.4.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2"/>
          </p:nvPr>
        </p:nvSpPr>
        <p:spPr>
          <a:xfrm>
            <a:off x="8647200" y="6408720"/>
            <a:ext cx="3636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Lucida Sans Unicode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DF2E3A2-512B-4639-B32A-19FEF8139A4F}" type="slidenum">
              <a:rPr b="0" lang="ru-RU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004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5640" y="5938920"/>
            <a:ext cx="3689640" cy="93348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6480" y="5791320"/>
            <a:ext cx="3402000" cy="108108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9360" y="5788080"/>
            <a:ext cx="3404880" cy="1084320"/>
          </a:xfrm>
          <a:prstGeom prst="line">
            <a:avLst/>
          </a:prstGeom>
          <a:ln w="12240">
            <a:solidFill>
              <a:srgbClr val="196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5409720"/>
            <a:ext cx="4038480" cy="76068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5000" bIns="45000" anchor="ctr">
            <a:normAutofit fontScale="16000"/>
          </a:bodyPr>
          <a:p>
            <a:pPr marL="5472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4720" indent="-5472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54720" indent="-5472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54720" indent="-5472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54720" indent="-5472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54720" indent="-5472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54720" indent="-5472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672588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Lucida Sans Unicode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28.4.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8647200" y="6408720"/>
            <a:ext cx="3636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Lucida Sans Unicode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EB70405-AC4E-4DC7-AED1-A227B7BEDFE4}" type="slidenum">
              <a:rPr b="0" lang="ru-RU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0004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5640" y="5938920"/>
            <a:ext cx="3689640" cy="93348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6480" y="5791320"/>
            <a:ext cx="3402000" cy="108108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-9360" y="5788080"/>
            <a:ext cx="3404880" cy="1084320"/>
          </a:xfrm>
          <a:prstGeom prst="line">
            <a:avLst/>
          </a:prstGeom>
          <a:ln w="12240">
            <a:solidFill>
              <a:srgbClr val="196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672588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Lucida Sans Unicode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28.4.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36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Lucida Sans Unicode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216125E-089F-4692-B96E-5286E65F4774}" type="slidenum">
              <a:rPr b="0" lang="ru-RU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77720" y="333360"/>
            <a:ext cx="818856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Lucida Sans Unicode"/>
              </a:rPr>
              <a:t>Проек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Lucida Sans Unicode"/>
              </a:rPr>
              <a:t>«Детский календар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Lucida Sans Unicode"/>
              </a:rPr>
              <a:t>«Чудесные шляпы»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76720" y="3284640"/>
            <a:ext cx="3014640" cy="25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24000" y="260280"/>
            <a:ext cx="76327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 группе организована выставка книг. Дети принесли в группу свои любимые книги и делились впечатлениями о прочитанных книгах с другими дет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558880" y="1989000"/>
            <a:ext cx="4026240" cy="37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549360"/>
            <a:ext cx="8675640" cy="20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 рамках проекта дети совместно с родителями делали книжки - малышки со сказками. Все книжки получились разными и по оформлению, и по стилю. Среди книжек есть авторские. Дети и родители сами сочинили истории и придумали к ним иллюстрации. В процессе такого творчества ребенок и взрослый становятся не только создателем своей собственной книги, но и дизайнером, художником-иллюстратором, сочинителем собственных истор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195640" y="2781360"/>
            <a:ext cx="48733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27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С большим энтузиазмом дети играли в игры-ходилки по сказкам, узнавали героев и все вместе вспоминали знакомое произведение.</a:t>
            </a:r>
            <a:br>
              <a:rPr sz="4100"/>
            </a:b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541008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45080" y="541008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 rot="16200000">
            <a:off x="2052360" y="2062080"/>
            <a:ext cx="2735280" cy="2592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4859280" y="1989000"/>
            <a:ext cx="251928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57200" y="27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100" spc="-1" strike="noStrike">
                <a:solidFill>
                  <a:srgbClr val="464646"/>
                </a:solidFill>
                <a:latin typeface="Lucida Sans Unicode"/>
              </a:rPr>
              <a:t>Дети с удовольствием собирали пазлы и узнавали любимых сказочных героев.</a:t>
            </a:r>
            <a:br>
              <a:rPr sz="4100"/>
            </a:b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541008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45080" y="541008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763640" y="2133720"/>
            <a:ext cx="2467080" cy="25365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4716360" y="2133720"/>
            <a:ext cx="251964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57200" y="27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Детям предлагалось собрать по картинкам сказку, таким образом закрепляя прочитанное произведение.</a:t>
            </a:r>
            <a:br>
              <a:rPr sz="4100"/>
            </a:b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541008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45080" y="541008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258920" y="2133720"/>
            <a:ext cx="2951280" cy="2322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4788000" y="2060640"/>
            <a:ext cx="3112920" cy="242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68360" y="549360"/>
            <a:ext cx="84247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Занятие «Знакомимся с художественным произведением шведской писательницы Астрид Линдгрен «Малыш и Карлсон, который живет на крыше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84360" y="1917720"/>
            <a:ext cx="3311280" cy="2232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211640" y="3429000"/>
            <a:ext cx="3998880" cy="25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4360" y="42840"/>
            <a:ext cx="7632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5880"/>
                <a:tab algn="l" pos="976320"/>
                <a:tab algn="l" pos="1625760"/>
                <a:tab algn="l" pos="2335320"/>
                <a:tab algn="l" pos="3402000"/>
                <a:tab algn="l" pos="4432320"/>
                <a:tab algn="l" pos="565164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бота в рамках проекта получается интересной и познавательной для всех участников проекта. Проект позволяет расширить кругозор детей о разнообразие книг, у детей сформировалась любознательность, познавательная активность. Цель и задачи, поставленные в начале проекта, выполня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85880"/>
                <a:tab algn="l" pos="976320"/>
                <a:tab algn="l" pos="1625760"/>
                <a:tab algn="l" pos="2335320"/>
                <a:tab algn="l" pos="3402000"/>
                <a:tab algn="l" pos="4432320"/>
                <a:tab algn="l" pos="565164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нный проект является важным звеном литературного воспитания дошкольников, через его реализацию формируются знания художественных произведений, их закрепление в форме различных игр. Дети стали узнавать любимых героев, рассказывать друг другу сказки. Привлечение воспитанников к литературной деятельности  помогает развивать детскую речь, память, мышление. Мы вместе с воспитанниками получили массу новых впечатлений, мы дали детям возможность узнать новую литературу, открыть для себя новых героев через применение как традиционных, так и нетрадиционных форм проведения зан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42880" y="2967120"/>
            <a:ext cx="8058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Lucida Sans Unicode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32000" y="339840"/>
            <a:ext cx="64087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К сожалению, в настоящее время мультфильмы, детские телепрограммы, компьютерные игры перехватывают интерес детей у детской литературы. Над ними не нужно размышлять в отличие от художественных произведений. Да и родители часто ввиду своего не желания, отсутствия времени, внимания, сил мало уделяют внимания на совместное чтение с ребенком, хотя в магазинах представлено огромное разнообразие познавательных, красочных и интересных изда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задача приобщения дошкольников к книге ложится на плечи воспитателя. Любящий литературу воспитатель, желающий привить эту любовь детям, будет знакомить воспитанников не только с программными произведениями, но и с другими замечательными сказками, рассказами, былинами, стихотворениями, а также пословицами и поговорк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916360" y="3429000"/>
            <a:ext cx="343368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27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 ходе подготовительного этапа педагогами были разработаны буклеты детского календаря «С какими книгами лучше дружить дошколятам», а также консультации «Читайте на ночь сказки детям», «Хорошие детские книги осенью», «Лучшие сказки на ночь зимой», «Лучшие сказки на ночь весной», «Хорошие детские книги летом».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541008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45080" y="541008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4040280" cy="4319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 rot="5400000">
            <a:off x="4755240" y="1879920"/>
            <a:ext cx="2880000" cy="23767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27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464646"/>
                </a:solidFill>
                <a:latin typeface="Lucida Sans Unicode"/>
              </a:rPr>
              <a:t>Дети с большим энтузиазмом вручали буклеты родителям</a:t>
            </a:r>
            <a:br>
              <a:rPr sz="41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541008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45080" y="541008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042920" y="1413000"/>
            <a:ext cx="2982960" cy="3941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003640" y="1484280"/>
            <a:ext cx="338472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27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64646"/>
                </a:solidFill>
                <a:latin typeface="Lucida Sans Unicode"/>
              </a:rPr>
              <a:t>Родителей решили вдохновить на идею проекта мастер-классом по мнемотаблиц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541008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45080" y="541008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57200" y="1900080"/>
            <a:ext cx="4040280" cy="4264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643280" y="1917720"/>
            <a:ext cx="403236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57200" y="27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r>
              <a:rPr b="1" lang="ru-RU" sz="4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ru-RU" sz="2000" spc="-1" strike="noStrike">
                <a:solidFill>
                  <a:srgbClr val="464646"/>
                </a:solidFill>
                <a:latin typeface="Lucida Sans Unicode"/>
              </a:rPr>
              <a:t>Для детей была собрана картотека «Детского календаря». Дети могут рассматривать яркие книжки любимых художественных произведений, а могут попросить воспитателя почитать им еще незнакомую сказку. </a:t>
            </a:r>
            <a:br>
              <a:rPr sz="41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541008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45080" y="541008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547640" y="1917720"/>
            <a:ext cx="2686320" cy="3240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003640" y="1844640"/>
            <a:ext cx="259272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846000"/>
            <a:ext cx="91440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детям в детский сад заехал купец, державший свой путь на ярмарку, где хотел продать свои волшебные шляпы, да по дороге растерял их. Дети с радостью помогли купцу отыскать его шляпы. Купец решил отблагодарить помощников и рассказал детям, в чем секрет этих необычных шляп. Каждая шляпа ассоциируется с определенным временем года, а в самой шляпе много игр на разные сказ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43280" y="2060640"/>
            <a:ext cx="2646360" cy="1942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116000" y="2060640"/>
            <a:ext cx="2654280" cy="2079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3060720" y="4365720"/>
            <a:ext cx="2654280" cy="207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55640" y="88920"/>
            <a:ext cx="72723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месте с бабой Ягой дети прошли квест-игру, где на каждой станции их поджидали чудесные шляпы с различными играми. Вместе вспоминали сказки, раскладывая картинки по сказкам, играя в игры-ходилки и собирая паз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4094280" cy="27324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932360" y="4221000"/>
            <a:ext cx="3897360" cy="23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2000" y="620640"/>
            <a:ext cx="8209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Была организована экскурсия в библиотеку на которой детям и их родителям рассказали о значении библиотек и о том как важны книги в жизни человека.</a:t>
            </a:r>
            <a:br>
              <a:rPr sz="4100"/>
            </a:b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266920" y="2421000"/>
            <a:ext cx="4464000" cy="338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ия Романова</cp:lastModifiedBy>
  <dcterms:modified xsi:type="dcterms:W3CDTF">2019-04-28T17:21:06Z</dcterms:modified>
  <cp:revision>1</cp:revision>
  <dc:subject/>
  <dc:title/>
</cp:coreProperties>
</file>