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F4F5-0305-49D0-B0AA-9A5A249B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2D5-6732-46D4-ABB9-D9BF33C9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258A-8DA2-499F-A192-F263F7EF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D1C-FC5C-40CB-B97B-F331F47B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9078-99C9-4222-B780-66380425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BBD0-31D5-4673-B583-935344FA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BD7B-6C2B-480E-9E50-BF14B041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8F03-26AF-4362-9A66-C3132EA1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BCF5-E9DD-4A18-8329-33356E32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BA31-7CC7-4542-8CAA-F8D833E3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3BA4-16C7-42CD-9959-A5A868B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EBF-1772-427B-9A37-BC429921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C856-090F-45AA-899E-C2D6A47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9500-E0DE-4AF5-8C34-C2AB531E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4497-6A53-4684-9AA0-320178D3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BAB9-3A0E-4BFE-B1D2-91C640AD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13DC-D30B-4EDA-AFCC-4F7105C4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FD3-73F5-4737-923F-0B9BDC47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489-C93A-4203-94A8-4C26FE90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6F4-5B89-4AED-BC70-9EA471D5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55A-135F-46B6-A539-463D86BA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BD6-75C7-4520-85AE-EB6690B4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B19-BABE-477E-87B2-46E3351F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B12-9A9F-41B9-AE07-0ADF2A73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90B-7671-4EFE-B487-93E55A9D35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A7D3-F132-44D5-8308-2087D6B114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инистерство образования и науки РФ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униципальное бюджет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Кяхтинская средняя общеобразовательная школа №1»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яхтинского района Республики Бурятия.</a:t>
            </a:r>
            <a:br>
              <a:rPr sz="1600"/>
            </a:b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УМК (математика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240" y="4941360"/>
            <a:ext cx="723276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ла: Гармаева В.Н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СОШ №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 Кях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15-2016 уч.год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етодические рекоменда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держат указания по работе с учебниками и подробное поурочное планирование учебного материал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бочие тетрад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используемые в комплекте с учебниками, содержат разнообразные упражнения к каждому параграфу. Среди них: задания, связанные с закреплением изученного материала, задачи повышенной трудности, занимательные и развивающие упражнения. В тетрадях представлены некоторые упражнения из учебника с пояснениями, иллюстрациями, образцами выполнения зада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нтрольные рабо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держат текущие и итоговую контрольные работы, диагностические тесты. Все текущие контрольные работы составлены в четырех вариантах и напечатаны на карточках. Итоговая контрольная работа может быть предложена в качестве административной или экзаменационной. 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тематические дикта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— новый вид заданий и по форме, и по содержанию, и по выбору решаемых педагогических задач. Основное их назначение — эффективно тренировать устойчивость внимания детей, оперативную память, умение сосредотачиваться. Пособие позволяет формировать правильную математическую речь учащихся и может быть использовано как при работе с учителем в классе, так и дома — под руководством родител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атематические тренаже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могут быть использованы при организации устного счета в 5—6-м классах для выработки и совершенствования прочных вычислительных навыков, развития внимания и оперативной памяти. В течение учебного года все задания целесообразно использовать многократно, предлагая их на каждом уроке для устных занятий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1187280" y="1628640"/>
            <a:ext cx="720108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920" y="1988640"/>
            <a:ext cx="8775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3143160" cy="857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900000" y="1557360"/>
            <a:ext cx="7775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Важнейшей задачей современной системы образования является формирование универсальных учебных действий, обеспечивающих школьникам умение учиться, способность к саморазвитию и самосовершенствованию. Всё это достигается путём сознательного, активного присвоения учащимися социального опыта. При этом знания, умения и навыки (ЗУН) формируются, применяются и сохраняются в тесной связи с активными действиями самих учащихс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условиях модернизации содержания образования и введения ФГОС начального общего образования второго поколения учебники являются важным средством реализации основных образовательных програм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д учителем встает вопрос, а какой учебник будет проводником его идей в обучении? Учителю предстоит выбрать такой учебно-методический комплект, который отражает обязательный минимум содержания образования, обеспечивает реальное интеллектуальное развитие и формирование ключевых компетентностей каждого ребенка, гарантирует высокое качество знаний выпускников и формирование метапредметных и личностных результатов , соответствует методическим взглядам самого учител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ниверсальные учебные действия (УУД)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чност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егулятивны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.Познавате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.Коммуникатив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-90360" y="57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8000" y="1700280"/>
          <a:ext cx="8928000" cy="4970520"/>
        </p:xfrm>
        <a:graphic>
          <a:graphicData uri="http://schemas.openxmlformats.org/drawingml/2006/table">
            <a:tbl>
              <a:tblPr/>
              <a:tblGrid>
                <a:gridCol w="676080"/>
                <a:gridCol w="2133720"/>
                <a:gridCol w="2206800"/>
                <a:gridCol w="2133360"/>
                <a:gridCol w="1778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ятивные УУ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 У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</a:tr>
              <a:tr h="445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Ценить и принимать следующие базовые ценности:  «добро», «терпение», «родина», «природа», «семья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Уважать к своей семье, к своим родственникам, любовь к родителям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своить  роли  ученика; формирование интереса (мотивации) к учени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Оценивать  жизненные ситуаций  и поступки героев художественных текстов с точки зрения общечеловеческих нор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Организовывать свое рабочее место под руководством учителя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Определять цель выполнения заданий на уроке, во внеурочной деятельности, в жизненных ситуациях под руководством учителя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пределять план выполнения заданий на уроках, внеурочной деятельности, жизненных ситуациях под руководством учител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Использовать в своей деятельности простейшие приборы: линейку, треугольник и т.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Ориентироваться в учебнике: определять умения, которые будут сформированы на основе изучения данного раздел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Отвечать на простые вопросы учителя, находить нужную информацию в учебник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Сравнивать предметы, объекты: находить общее и различи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Группировать предметы, объекты на основе существенных признак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одробно пересказывать прочитанное или прослушанное; определять тему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Участвовать в диалоге на уроке и в жизненных ситуация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Отвечать на вопросы учителя, товарищей по классу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Соблюдать простейшие нормы речевого этикета: здороваться, прощаться, благодарить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Слушать и понимать речь други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Участвовать  в паре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31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арактеристика  результатов формирования УУД на разных этапах обучения в начальной школ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первый этап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ые УУД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риентироваться в учебнике: определять умения, которые будут сформированы на основе изучения данного раздел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твечать на простые вопросы учителя, находить нужную информацию в учебник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равнивать предметы, объекты: находить общее и различ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Группировать предметы, объекты на основе существенных призна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одробно пересказывать прочитанное или прослушанное; определять тем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42920" y="2060640"/>
          <a:ext cx="8893080" cy="4597200"/>
        </p:xfrm>
        <a:graphic>
          <a:graphicData uri="http://schemas.openxmlformats.org/drawingml/2006/table">
            <a:tbl>
              <a:tblPr/>
              <a:tblGrid>
                <a:gridCol w="2394000"/>
                <a:gridCol w="1539720"/>
                <a:gridCol w="1505160"/>
                <a:gridCol w="1981080"/>
                <a:gridCol w="147312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ысловые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ы УУ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зненное само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равственно-этическая ориентац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ыслообразо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равственно-этическая ориентац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улятивны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полагание, планирование, прогнозирование, контроль, коррекция, оценка, алгоритмизация действий (Математика, Русский язык, Окружающий мир, Технология , Физическая культура и др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ы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учебны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ирование (перевод устной речи в письменную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ысловое чтение, произвольные и осознанные устные и письменные высказыв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делирование, выбор наиболее эффективных способов решения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ирокий спектр источников информ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ые логическ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улирование личных, языковых, нравственных проблем.; самостоятельное создание способов решения проблем поискового и творческого характе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, синтез, сравнение, группировка, причинно-следственные связи, логические рассуждения, доказательства, практические действ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ование средств языка и речи для получения и передачи информации, участие в продуктивном диалоге; самовыражение: монологические высказывания разного типа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173"/>
          <p:cNvSpPr/>
          <p:nvPr/>
        </p:nvSpPr>
        <p:spPr>
          <a:xfrm>
            <a:off x="971640" y="333360"/>
            <a:ext cx="77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аждый предмет, в зависимости от его содержания и способов организации учебной деятельности учащихся раскрывает определенные возможности для формирования УУ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84720" y="2133720"/>
            <a:ext cx="2337120" cy="309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303280" cy="309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3143160" cy="857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539640" y="2060640"/>
            <a:ext cx="237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агаемый учебно-методический комплект используется педагогами уже не одно десятилетие. Он обеспечивает преемственность курсов математики в начальной школе и курсов алгебры в последующих классах для большинства программ, позволяет проводить разноуровневое обучение и качественную подготовку школьников к изучению курсов алгебры и геометрии (в том числе стереометрии) в старших классах, а также смежных дисциплин — физики, химии, географии и др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10:29:40Z</dcterms:created>
  <dc:creator>User</dc:creator>
  <dc:description/>
  <dc:language>en-US</dc:language>
  <cp:lastModifiedBy>Admin</cp:lastModifiedBy>
  <dcterms:modified xsi:type="dcterms:W3CDTF">2003-12-31T16:45:27Z</dcterms:modified>
  <cp:revision>6</cp:revision>
  <dc:subject/>
  <dc:title>Анализ УМК (математика)</dc:title>
</cp:coreProperties>
</file>