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73F-8C13-4D15-8C29-C1242AB7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EF2-4F3B-41F4-BB1B-419E1D82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718-B239-49A5-9E8F-6DFBCDCE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866-0040-4FB5-8F99-34DE030D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EC3D-67C2-4869-AD06-4E3EEB0A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CC60-5993-41A5-A0DE-78E7DF3A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3EB7-C9C3-452E-A6A6-B556F828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3E84-5309-4F6E-9564-86008F38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EA12-BBB6-4C91-B315-832045B0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DBE1-5722-4B3B-9B25-BE0D67EA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1058-23EA-4A8A-B312-529EFD04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8A5-0B16-4856-A0AD-D49ADCA6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F922-F000-484C-A44A-9B1C9D5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F396-DEBD-4FA0-916D-0BD90FD0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2A33-F5D8-48E9-87AC-1ED722C1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A707-9328-4252-87F6-17448DB7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F09D-67D9-4872-B939-4A2BE3DE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C3C-59FA-49FB-B919-1898F52B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375-3D1D-4B57-B6D8-685E6322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9BC-33FF-4A53-9645-7089645A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CDB-64A8-491E-A365-B4D75B73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CB1-10BF-4B5C-80B0-1A08F7E4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078-EB50-4FEB-920D-A957B0FC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1A1-6B55-4584-BCCB-65475B35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BB57-0049-4EB2-91A8-33F9C8776A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6223-31DF-4D62-84DB-7FD30B5CB3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инистерство образования и науки РФ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униципальное бюджет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Кяхтинская средняя общеобразовательная школа №1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яхтинского района Республики Бурятия.</a:t>
            </a:r>
            <a:br>
              <a:rPr sz="16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УМК (математика)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240" y="4941360"/>
            <a:ext cx="723276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ла: Гармаева В.Н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СОШ №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 Кях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15-2016 уч.год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одические рекомендац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держат указания по работе с учебниками и подробное поурочное планирование учебного материал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бочие тетрад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используемые в комплекте с учебниками, содержат разнообразные упражнения к каждому параграфу. Среди них: задания, связанные с закреплением изученного материала, задачи повышенной трудности, занимательные и развивающие упражнения. В тетрадях представлены некоторые упражнения из учебника с пояснениями, иллюстрациями, образцами выполнения зада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нтрольные рабо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держат текущие и итоговую контрольные работы, диагностические тесты. Все текущие контрольные работы составлены в четырех вариантах и напечатаны на карточках. Итоговая контрольная работа может быть предложена в качестве административной или экзаменационной. 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тематические дикта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— новый вид заданий и по форме, и по содержанию, и по выбору решаемых педагогических задач. Основное их назначение — эффективно тренировать устойчивость внимания детей, оперативную память, умение сосредотачиваться. Пособие позволяет формировать правильную математическую речь учащихся и может быть использовано как при работе с учителем в классе, так и дома — под руководством родител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тематические тренажер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гут быть использованы при организации устного счета в 5—6-м классах для выработки и совершенствования прочных вычислительных навыков, развития внимания и оперативной памяти. В течение учебного года все задания целесообразно использовать многократно, предлагая их на каждом уроке для устных занятий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187280" y="1628640"/>
            <a:ext cx="7201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920" y="1988640"/>
            <a:ext cx="8775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3143160" cy="857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900000" y="1557360"/>
            <a:ext cx="7775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Важнейшей задачей современной системы образования является формирование универсальных учебных действий, обеспечивающих школьникам умение учиться, способность к саморазвитию и самосовершенствованию. Всё это достигается путём сознательного, активного присвоения учащимися социального опыта. При этом знания, умения и навыки (ЗУН) формируются, применяются и сохраняются в тесной связи с активными действиями самих учащихс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условиях модернизации содержания образования и введения ФГОС начального общего образования второго поколения учебники являются важным средством реализации основных образовательных програм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д учителем встает вопрос, а какой учебник будет проводником его идей в обучении? Учителю предстоит выбрать такой учебно-методический комплект, который отражает обязательный минимум содержания образования, обеспечивает реальное интеллектуальное развитие и формирование ключевых компетентностей каждого ребенка, гарантирует высокое качество знаний выпускников и формирование метапредметных и личностных результатов , соответствует методическим взглядам самого учител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ниверсальные учебные действия (УУД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чност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егулятивны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.Познаватель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.Коммуникатив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-90360" y="57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8000" y="1700280"/>
          <a:ext cx="8928000" cy="4970520"/>
        </p:xfrm>
        <a:graphic>
          <a:graphicData uri="http://schemas.openxmlformats.org/drawingml/2006/table">
            <a:tbl>
              <a:tblPr/>
              <a:tblGrid>
                <a:gridCol w="676080"/>
                <a:gridCol w="2133720"/>
                <a:gridCol w="2206800"/>
                <a:gridCol w="2133360"/>
                <a:gridCol w="1778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улятивные УУ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</a:tr>
              <a:tr h="445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Ценить и принимать следующие базовые ценности:  «добро», «терпение», «родина», «природа», «семья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Уважать к своей семье, к своим родственникам, любовь к родителям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своить  роли  ученика; формирование интереса (мотивации) к учени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Оценивать  жизненные ситуаций  и поступки героев художественных текстов с точки зрения общечеловеческих нор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Организовывать свое рабочее место под руководством учителя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Определять цель выполнения заданий на уроке, во внеурочной деятельности, в жизненных ситуациях под руководством учителя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пределять план выполнения заданий на уроках, внеурочной деятельности, жизненных ситуациях под руководством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Использовать в своей деятельности простейшие приборы: линейку, треугольник и т.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Ориентироваться в учебнике: определять умения, которые будут сформированы на основе изучения данного раздел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Отвечать на простые вопросы учителя, находить нужную информацию в учебник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Сравнивать предметы, объекты: находить общее и различи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Группировать предметы, объекты на основе существенных признак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Подробно пересказывать прочитанное или прослушанное; определять тему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Участвовать в диалоге на уроке и в жизненных ситуация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Отвечать на вопросы учителя, товарищей по классу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Соблюдать простейшие нормы речевого этикета: здороваться, прощаться, благодарит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Слушать и понимать речь други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Участвовать  в паре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31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арактеристика  результатов формирования УУД на разных этапах обучения в начальной школ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первый этап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ые УУД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риентироваться в учебнике: определять умения, которые будут сформированы на основе изучения данного раздел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твечать на простые вопросы учителя, находить нужную информацию в учебни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равнивать предметы, объекты: находить общее и различ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Группировать предметы, объекты на основе существенных призна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одробно пересказывать прочитанное или прослушанное; определять тем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42920" y="2060640"/>
          <a:ext cx="8893080" cy="4597200"/>
        </p:xfrm>
        <a:graphic>
          <a:graphicData uri="http://schemas.openxmlformats.org/drawingml/2006/table">
            <a:tbl>
              <a:tblPr/>
              <a:tblGrid>
                <a:gridCol w="2394000"/>
                <a:gridCol w="1539720"/>
                <a:gridCol w="1505160"/>
                <a:gridCol w="1981080"/>
                <a:gridCol w="147312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ысловые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енты УУ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зненное само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равственно-этическая ориентац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ыслообразов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равственно-этическая ориентац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улятивны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полагание, планирование, прогнозирование, контроль, коррекция, оценка, алгоритмизация действий (Математика, Русский язык, Окружающий мир, Технология , Физическая культура и др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учебны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ирование (перевод устной речи в письменную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ысловое чтение, произвольные и осознанные устные и письменные высказыв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ирование, выбор наиболее эффективных способов решения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ирокий спектр источников информ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ые логическ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улирование личных, языковых, нравственных проблем.; самостоятельное создание способов решения проблем поискового и творческого характе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, синтез, сравнение, группировка, причинно-следственные связи, логические рассуждения, доказательства, практические действ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средств языка и речи для получения и передачи информации, участие в продуктивном диалоге; самовыражение: монологические высказывания разного типа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173"/>
          <p:cNvSpPr/>
          <p:nvPr/>
        </p:nvSpPr>
        <p:spPr>
          <a:xfrm>
            <a:off x="971640" y="33336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ждый предмет, в зависимости от его содержания и способов организации учебной деятельности учащихся раскрывает определенные возможности для формирования УУ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084720" y="2133720"/>
            <a:ext cx="2337120" cy="309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303280" cy="309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3143160" cy="85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4"/>
          <a:stretch/>
        </p:blipFill>
        <p:spPr>
          <a:xfrm>
            <a:off x="539640" y="2060640"/>
            <a:ext cx="237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агаемый учебно-методический комплект используется педагогами уже не одно десятилетие. Он обеспечивает преемственность курсов математики в начальной школе и курсов алгебры в последующих классах для большинства программ, позволяет проводить разноуровневое обучение и качественную подготовку школьников к изучению курсов алгебры и геометрии (в том числе стереометрии) в старших классах, а также смежных дисциплин — физики, химии, географии и др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10:29:40Z</dcterms:created>
  <dc:creator>User</dc:creator>
  <dc:description/>
  <dc:language>en-US</dc:language>
  <cp:lastModifiedBy>Admin</cp:lastModifiedBy>
  <dcterms:modified xsi:type="dcterms:W3CDTF">2003-12-31T16:45:27Z</dcterms:modified>
  <cp:revision>6</cp:revision>
  <dc:subject/>
  <dc:title>Анализ УМК (математика)</dc:title>
</cp:coreProperties>
</file>