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1D6E-2124-46B5-A04A-7CBC1E8F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26E9-4BE8-429A-A03B-B51F05F7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06C9-6DAB-4BAD-A506-B2DE46B1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3EE1-1698-4759-BF27-9A57F28A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E5A3-F1B8-4C5D-AF0E-26EDEF64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AB94-BC2A-42BA-B1CE-48B54076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C38B-0FC3-460A-853A-0A659DEA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BB60-F7EA-4AE9-BF77-7C24D2B0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4A51-A96D-4AD0-8940-37605C7D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09A4-3EB0-4649-A06C-A4B49983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4380-B825-4CDA-8888-27A4F636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7A88-3F44-45DD-AAFE-6253318C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7788-E88B-4967-94B3-71003628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D533-9935-4B79-B925-7208D597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F2EE-C947-4F6E-81B6-B80248A1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74BF-2C96-4CCD-9714-09C74B73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57DF-97AA-41FC-A290-C5DA5A6E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EF47-4958-44FE-A603-C34C9C0A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FF35-CFE5-4978-8DF8-3E127CDD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E5EF-4336-4D8D-8E55-07CDD49A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56E5-D702-4147-BC48-230B3924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770A-D416-4EA5-82EE-348B7501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7EBC-58C2-4C93-B706-729F7CD3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CD53-7423-40E5-B8E4-C2170A02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C75203-C90D-49E8-BBE3-7182C7B9186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07267B-8DCD-4974-9993-A31A99AAD01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Газовые законы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922400" y="4049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         </a:t>
            </a: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Грандашевская Оксана Иосифовн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Учитель физик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19360" y="935280"/>
            <a:ext cx="7810920" cy="7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</a:rPr>
              <a:t>Домашнее зад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§71,стр.194-195, упр.13 (1,3,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19360" y="935280"/>
            <a:ext cx="7810920" cy="7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Уравнение Клапейрона-Менделеева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Уравнение Клапейрона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Менделеева – уравнение состояния идеального газа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связывающее три макроскопических параметра(давление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объём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температуру) данной массы газа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600200" y="5394240"/>
            <a:ext cx="23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3276720" y="4724280"/>
            <a:ext cx="273672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19360" y="935280"/>
            <a:ext cx="7810920" cy="7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Изопроцессы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Изопроцесс – процесс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при котором один из макроскопических параметров состояния данной массы газа остаётся постоянным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Из уравнения Клапейрона можно получить любой газовый зако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700360" y="4941720"/>
            <a:ext cx="2376360" cy="64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0" y="2192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19360" y="935280"/>
            <a:ext cx="7810920" cy="7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Закон Бойля - Мариотта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ля данной массы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анного газа при постоянной температуре произведение давления газа на его объем постоянно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952720" y="4176720"/>
            <a:ext cx="252108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19360" y="935280"/>
            <a:ext cx="7810920" cy="7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Закон Бойля - Мариотта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роцесс перехода газа из одного состояния в другое при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=const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зывается изотермически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График изотермического процесса называется изотермой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1908000" y="4653000"/>
            <a:ext cx="5220000" cy="173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19360" y="935280"/>
            <a:ext cx="7810920" cy="7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Закон Гей - Люссака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676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ля данной массы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анного газа при постоянной температуре отношение объема к абсолютной температуре есть величина постоянная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5292720" y="2822400"/>
            <a:ext cx="2374920" cy="15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19360" y="935280"/>
            <a:ext cx="7810920" cy="7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Закон Гей - Люссака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роцесс перехода газа из одного состояния в другое при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=const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зывается изобарны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График изобарного процесса называется изобаро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684360" y="3933720"/>
            <a:ext cx="817380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19360" y="935280"/>
            <a:ext cx="7810920" cy="7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</a:rPr>
              <a:t>Закон Шарл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2420640"/>
            <a:ext cx="402732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ля данной массы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анного газа при постоянной температуре отношение давления к абсолютной температуре есть величина постоянная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5292720" y="2997360"/>
            <a:ext cx="2232000" cy="158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19360" y="935280"/>
            <a:ext cx="7810920" cy="7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Закон Шарля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роцесс перехода газа из одного состояния в другое при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=const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зывается изохорны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График изохорного процесса называется изохоро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755640" y="4005360"/>
            <a:ext cx="8174160" cy="2714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9T09:48:19Z</dcterms:created>
  <dc:creator>Оксана</dc:creator>
  <dc:description/>
  <dc:language>en-US</dc:language>
  <cp:lastModifiedBy>Илья</cp:lastModifiedBy>
  <dcterms:modified xsi:type="dcterms:W3CDTF">2019-04-27T18:03:32Z</dcterms:modified>
  <cp:revision>6</cp:revision>
  <dc:subject/>
  <dc:title>Газовые законы</dc:title>
</cp:coreProperties>
</file>