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611-DD46-4553-A8FD-861A4509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B35-3519-4E27-A3BD-17DEE525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F5B-A670-4B50-A57C-D6112E2A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0E2-7FD7-4AF1-8AB0-5E96464D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EF4-B07C-466F-8670-00F23A02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CB03-4B5D-4302-9DED-D4294DC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484E-F9E5-45CB-944E-AB370FDA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A5DF-34B2-47FD-AF51-68A714EE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12AF-5CA8-4CEF-9224-BCDC1CFE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7D71-2FF5-4CD3-9FBC-02A4D82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979F-C763-47AB-AC84-9DB6C98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EBB-F24B-48E5-9278-A6FAAAA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6E3-CD6A-4470-B021-1F0D4C4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D250-E513-4746-BAA4-6D2D69DC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8CAD-5067-41D5-9FB8-492D74DD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793F-F43F-4952-AA51-B99DADD6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512-47A1-4E9F-9D34-0F624E1F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D67-A549-4610-B3F4-949F96C8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E81-E774-47FF-8904-D8BBFA27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39D-1531-46E9-80E3-9C655F69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EEF-3403-4DD3-8BB4-2345F4B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5DD-D9CD-4F48-91E9-3ABCF64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88B-E65D-4545-932F-FAE19BB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A8F-2C8F-478F-BEF5-05B2404C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AB462E-6CF1-4C33-80A3-1380B4746AA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D6531E-9D2A-45F7-94E6-F186B4ED4BD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Газовые закон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22400" y="4049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</a:t>
            </a: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Грандашевская Оксана Иосифовна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Учитель физи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Домашнее 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§71,стр.194-195, упр.13 (1,3,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Уравнение Клапейрона-Менделеева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Уравнение Клапейрон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енделеева – уравнение состояния идеального газ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связывающее три макроскопических параметра(давление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объём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температуру) данной массы газа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00200" y="539424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736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Изопроцесс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опроцесс – процесс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и котором один из макроскопических параметров состояния данной массы газа остаётся постоянным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з уравнения Клапейрона можно получить любой газовый зако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700360" y="4941720"/>
            <a:ext cx="2376360" cy="64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219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Бойля - Мариот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ля данной масс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анного газа при постоянной температуре произведение давления газа на его объем постоянно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952720" y="4176720"/>
            <a:ext cx="252108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Бойля - Мариот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оцесс перехода газа из одного состояния в другое при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=const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ывается изотермически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афик изотермического процесса называется изотермой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908000" y="4653000"/>
            <a:ext cx="5220000" cy="173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Гей - Люсса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676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ля данной масс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анного газа при постоянной температуре отношение объема к абсолютной температуре есть величина постоянная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5292720" y="2822400"/>
            <a:ext cx="2374920" cy="15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Закон Гей - Люсса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оцесс перехода газа из одного состояния в другое при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=const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ывается изобарн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афик изобарного процесса называется изобар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84360" y="3933720"/>
            <a:ext cx="81738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Закон Шарл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402732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ля данной массы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анного газа при постоянной температуре отношение давления к абсолютной температуре есть величина постоянная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2232000" cy="15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9360" y="935280"/>
            <a:ext cx="7810920" cy="7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Закон Шарля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оцесс перехода газа из одного состояния в другое при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=const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зывается изохорн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рафик изохорного процесса называется изохор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81741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9T09:48:19Z</dcterms:created>
  <dc:creator>Оксана</dc:creator>
  <dc:description/>
  <dc:language>en-US</dc:language>
  <cp:lastModifiedBy>Илья</cp:lastModifiedBy>
  <dcterms:modified xsi:type="dcterms:W3CDTF">2019-04-27T18:03:32Z</dcterms:modified>
  <cp:revision>6</cp:revision>
  <dc:subject/>
  <dc:title>Газовые законы</dc:title>
</cp:coreProperties>
</file>