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F1D-0AE8-43E4-BF58-BF3EB94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668-3F29-4D98-9A89-FDFD59A5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65A-3A57-44F0-B9F8-9FE7D7EE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022-052A-4F0E-B335-E1C43E5A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49B-0B7B-4CB4-8DC1-4E691EA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5EF-7E1D-4B98-8613-DDFEE2C2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6B3-0F6F-485C-BCA8-55E37E86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09A-75A2-4B5E-90DF-A785C596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A8B-EA9A-40DB-A635-B0BEAB9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50A-E24F-4BC6-BBD8-F8F6C7C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081-BEB4-475F-8A36-11C9218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469-D65B-4507-95A8-025ECEA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F69-423F-47DC-95E1-CCBC829FD6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81040" y="1214280"/>
            <a:ext cx="85104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03360" y="3046320"/>
            <a:ext cx="8540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Arial Narrow"/>
              </a:rPr>
              <a:t>                       </a:t>
            </a: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смонавт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Юрию Гагарину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600_384_fixw.jpg"/>
          <p:cNvPicPr/>
          <p:nvPr/>
        </p:nvPicPr>
        <p:blipFill>
          <a:blip r:embed="rId2"/>
          <a:srcRect l="26532" t="0" r="22173" b="0"/>
          <a:stretch/>
        </p:blipFill>
        <p:spPr>
          <a:xfrm>
            <a:off x="357120" y="1285920"/>
            <a:ext cx="3780000" cy="471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285800" y="999720"/>
            <a:ext cx="4643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находится в Москве на Ленинском проспекте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памятник представляет собой фигуру космонавта, выполненную в полный рост, с чуть отведенными в сторону руками. Постаментом является точная копия части аппарата «Восток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был открыт 4 июля 1980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Алексею Леоно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5" descr="2007_08_09_261.jpg"/>
          <p:cNvPicPr/>
          <p:nvPr/>
        </p:nvPicPr>
        <p:blipFill>
          <a:blip r:embed="rId2"/>
          <a:stretch/>
        </p:blipFill>
        <p:spPr>
          <a:xfrm>
            <a:off x="428760" y="1428840"/>
            <a:ext cx="3679560" cy="4906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00360" y="16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ст  летчика-космонавта, Почетного Гражданину города Кемерово и Кемеровской области Алексею Леонову открыт 12 апреля 2003 г. на аллее Героев в г. Кемер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Валентине Терешк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6" descr="tereshkova.png"/>
          <p:cNvPicPr/>
          <p:nvPr/>
        </p:nvPicPr>
        <p:blipFill>
          <a:blip r:embed="rId2"/>
          <a:stretch/>
        </p:blipFill>
        <p:spPr>
          <a:xfrm>
            <a:off x="357120" y="2357280"/>
            <a:ext cx="40388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1640" y="1599840"/>
            <a:ext cx="435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называется "Чайка" - таким был позывной Валентины Терешковой во время в полета в косм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а "Чайка" в 7 км от села Баево  Алтайского кра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метровая композиция с парящей «в невесомости» Терешковой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17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 класс МАОУ СОШ №28 г. Балак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5" descr="P90410-073615.jpg"/>
          <p:cNvPicPr/>
          <p:nvPr/>
        </p:nvPicPr>
        <p:blipFill>
          <a:blip r:embed="rId2"/>
          <a:srcRect l="0" t="0" r="12279" b="0"/>
          <a:stretch/>
        </p:blipFill>
        <p:spPr>
          <a:xfrm>
            <a:off x="500040" y="1428840"/>
            <a:ext cx="5000760" cy="3571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214680" y="1285920"/>
            <a:ext cx="2538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ы провели виртуальную экскурсию, познакомились с памятниками летчикам-космонав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держимое 3"/>
          <p:cNvSpPr/>
          <p:nvPr/>
        </p:nvSpPr>
        <p:spPr>
          <a:xfrm>
            <a:off x="571680" y="5214960"/>
            <a:ext cx="578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мы оформили  доску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P90410-073605.jpg"/>
          <p:cNvPicPr/>
          <p:nvPr/>
        </p:nvPicPr>
        <p:blipFill>
          <a:blip r:embed="rId2"/>
          <a:srcRect l="0" t="0" r="0" b="42233"/>
          <a:stretch/>
        </p:blipFill>
        <p:spPr>
          <a:xfrm>
            <a:off x="428760" y="1500120"/>
            <a:ext cx="4076640" cy="4186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 класс МАОУ СОШ №28 г. Балак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4714920" y="1857240"/>
            <a:ext cx="40003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организовали выставку рисунков «Космическое путешествие». На этих рисунках  наши мечты о косм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октября 1957 г. - начало космической э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image_58ee84565636f.jpg"/>
          <p:cNvPicPr/>
          <p:nvPr/>
        </p:nvPicPr>
        <p:blipFill>
          <a:blip r:embed="rId3"/>
          <a:stretch/>
        </p:blipFill>
        <p:spPr>
          <a:xfrm>
            <a:off x="428760" y="1785960"/>
            <a:ext cx="371304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всего мира вглядывались в ночное неб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ктября 1957 года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диостанции передавали в эфир звуковой сигна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ос был успешно запущен первый искусственный спутник Земли – небольшой металлический шар с антенн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17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августа1960 г. – полёт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ки и Стр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9631024.png"/>
          <p:cNvPicPr/>
          <p:nvPr/>
        </p:nvPicPr>
        <p:blipFill>
          <a:blip r:embed="rId3"/>
          <a:stretch/>
        </p:blipFill>
        <p:spPr>
          <a:xfrm>
            <a:off x="285840" y="1643040"/>
            <a:ext cx="4011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0" y="1600200"/>
            <a:ext cx="42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е собаки-космонавты, совершившие космический полёт на корабле «Спутник-5»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вгуста 1960 го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 целью полёта было исследование влияния на организм животных факторов космического полёта: перегрузка, длительная невесомость, переход от перегрузок к невесомости и обрат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 – первый полёт человека в косм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p30.jpg"/>
          <p:cNvPicPr/>
          <p:nvPr/>
        </p:nvPicPr>
        <p:blipFill>
          <a:blip r:embed="rId3"/>
          <a:stretch/>
        </p:blipFill>
        <p:spPr>
          <a:xfrm>
            <a:off x="733320" y="1600200"/>
            <a:ext cx="348624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7960" y="1599840"/>
            <a:ext cx="4281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, в космос отправился и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смодрома Байконур стартовала ракета-носитель «Восто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мире космический корабль с человеком на борту ворвался в просто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лен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Татьяна\Desktop\yuri-gagarin-1024x675.jpg"/>
          <p:cNvPicPr/>
          <p:nvPr/>
        </p:nvPicPr>
        <p:blipFill>
          <a:blip r:embed="rId3"/>
          <a:stretch/>
        </p:blipFill>
        <p:spPr>
          <a:xfrm>
            <a:off x="1428840" y="357120"/>
            <a:ext cx="6431040" cy="4238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500040" y="485784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Гагарин, ставший первым из людей, побывавшим в космосе, пробыл на земной орбите цел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 мину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это время совершил полный оборот вокруг планеты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марта 1965 – 19 марта 1965 г. – первый выход человека в открытый косм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C:\Users\Татьяна\Desktop\img23.jpg"/>
          <p:cNvPicPr/>
          <p:nvPr/>
        </p:nvPicPr>
        <p:blipFill>
          <a:blip r:embed="rId3"/>
          <a:srcRect l="0" t="0" r="6666" b="18249"/>
          <a:stretch/>
        </p:blipFill>
        <p:spPr>
          <a:xfrm>
            <a:off x="2071800" y="1571760"/>
            <a:ext cx="4786200" cy="3144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357120" y="4643280"/>
            <a:ext cx="85010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олета космического корабля «Восход-2» на втором витке вокруг Земли Алексей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июня 1963 г. -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 в космос женщины-космонав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6PUDMSYMdB4.jpg"/>
          <p:cNvPicPr/>
          <p:nvPr/>
        </p:nvPicPr>
        <p:blipFill>
          <a:blip r:embed="rId3"/>
          <a:srcRect l="56923" t="0" r="0" b="0"/>
          <a:stretch/>
        </p:blipFill>
        <p:spPr>
          <a:xfrm>
            <a:off x="428760" y="1571760"/>
            <a:ext cx="3286080" cy="481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071960" y="1571760"/>
            <a:ext cx="471024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80640" indent="15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 Терешкова, советский космонавт, первая женщина в космосе. 16 июня 1963 г. на корабле «Восток-6» 45 раз облетела вокруг Земли, проведя 71 час в космо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80640" indent="15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своего полёта в космос Терешкова сказала родным, что уезжает на соревнования парашютистов, о полёте они узнали из новостей по ради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спутник (монумент «Спутник»)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1600.jpg"/>
          <p:cNvPicPr/>
          <p:nvPr/>
        </p:nvPicPr>
        <p:blipFill>
          <a:blip r:embed="rId2"/>
          <a:stretch/>
        </p:blipFill>
        <p:spPr>
          <a:xfrm>
            <a:off x="857160" y="1643040"/>
            <a:ext cx="30196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357440" y="1600200"/>
            <a:ext cx="4500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17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установлен в Москве в 1958 году. Скульптура представляет собой рабочего, поднявшего в руке первый искусственный спутник Земл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88920" indent="17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таменте памятника отчеканена надпись: «Создателям первого спутника Земли. 1957 год.»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Белке и Стрел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Cobaka_pam_74.jpg"/>
          <p:cNvPicPr/>
          <p:nvPr/>
        </p:nvPicPr>
        <p:blipFill>
          <a:blip r:embed="rId2"/>
          <a:stretch/>
        </p:blipFill>
        <p:spPr>
          <a:xfrm>
            <a:off x="214200" y="2000160"/>
            <a:ext cx="4491000" cy="283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57840" y="1356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Белке и Стрелке – легендарным собакам, которые первыми из животных совершили полет в космос и благополучно вернулись на Землю – открыли  в июне 2017 года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ная композиция находится на территории Томилинского лесопарка  в Люберц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Татьяна</cp:lastModifiedBy>
  <dcterms:modified xsi:type="dcterms:W3CDTF">2019-04-28T18:02:51Z</dcterms:modified>
  <cp:revision>46</cp:revision>
  <dc:subject/>
  <dc:title>Слайд 1</dc:title>
</cp:coreProperties>
</file>