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E63-AFFF-492C-BCA2-6F1D94A8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FA5-FCD6-448E-B26D-41FA41A4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006-8678-452A-B61B-E4497AA1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A02-57D0-47F3-9D9F-AAA71CFA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2C2-3E37-40F1-AA4E-DEC4465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0EE-381D-49FE-8035-D814F867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47B-95FC-4883-9B68-FA9780A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C80-C348-49AE-8CC0-082956CC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968-C8CD-4E1F-BD30-88200A93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D3E-B897-460C-8FDA-1259837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6C5-A812-4F26-B9A7-FAB4435D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BDE-84E4-4835-A53E-CB97213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7961-D36B-4445-8B68-CC64E4C849C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81040" y="1214280"/>
            <a:ext cx="85104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12 апр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03360" y="3046320"/>
            <a:ext cx="85406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Arial Narrow"/>
              </a:rPr>
              <a:t>                       </a:t>
            </a:r>
            <a:r>
              <a:rPr b="1" lang="ru-RU" sz="8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е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1" lang="ru-RU" sz="8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осмонавти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Юрию Гагарину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5" descr="600_384_fixw.jpg"/>
          <p:cNvPicPr/>
          <p:nvPr/>
        </p:nvPicPr>
        <p:blipFill>
          <a:blip r:embed="rId2"/>
          <a:srcRect l="26532" t="0" r="22173" b="0"/>
          <a:stretch/>
        </p:blipFill>
        <p:spPr>
          <a:xfrm>
            <a:off x="357120" y="1285920"/>
            <a:ext cx="3780000" cy="4714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285800" y="999720"/>
            <a:ext cx="464364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находится в Москве на Ленинском проспекте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памятник представляет собой фигуру космонавта, выполненную в полный рост, с чуть отведенными в сторону руками. Постаментом является точная копия части аппарата «Восток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был открыт 4 июля 1980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Алексею Леонов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5" descr="2007_08_09_261.jpg"/>
          <p:cNvPicPr/>
          <p:nvPr/>
        </p:nvPicPr>
        <p:blipFill>
          <a:blip r:embed="rId2"/>
          <a:stretch/>
        </p:blipFill>
        <p:spPr>
          <a:xfrm>
            <a:off x="428760" y="1428840"/>
            <a:ext cx="3679560" cy="4906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00360" y="160020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ст  летчика-космонавта, Почетного Гражданину города Кемерово и Кемеровской области Алексею Леонову открыт 12 апреля 2003 г. на аллее Героев в г. Кемер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Валентине Терешков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6" descr="tereshkova.png"/>
          <p:cNvPicPr/>
          <p:nvPr/>
        </p:nvPicPr>
        <p:blipFill>
          <a:blip r:embed="rId2"/>
          <a:stretch/>
        </p:blipFill>
        <p:spPr>
          <a:xfrm>
            <a:off x="357120" y="2357280"/>
            <a:ext cx="40388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1640" y="1599840"/>
            <a:ext cx="43578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называется "Чайка" - таким был позывной Валентины Терешковой во время в полета в косм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а "Чайка" в 7 км от села Баево  Алтайского кра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метровая композиция с парящей «в невесомости» Терешковой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17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В класс МАОУ СОШ №28 г. Балако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5" descr="P90410-073615.jpg"/>
          <p:cNvPicPr/>
          <p:nvPr/>
        </p:nvPicPr>
        <p:blipFill>
          <a:blip r:embed="rId2"/>
          <a:srcRect l="0" t="0" r="12279" b="0"/>
          <a:stretch/>
        </p:blipFill>
        <p:spPr>
          <a:xfrm>
            <a:off x="500040" y="1428840"/>
            <a:ext cx="5000760" cy="3571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214680" y="1285920"/>
            <a:ext cx="25383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ы провели виртуальную экскурсию, познакомились с памятниками летчикам-космонавт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одержимое 3"/>
          <p:cNvSpPr/>
          <p:nvPr/>
        </p:nvSpPr>
        <p:spPr>
          <a:xfrm>
            <a:off x="571680" y="5214960"/>
            <a:ext cx="578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мы оформили  доску к у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P90410-073605.jpg"/>
          <p:cNvPicPr/>
          <p:nvPr/>
        </p:nvPicPr>
        <p:blipFill>
          <a:blip r:embed="rId2"/>
          <a:srcRect l="0" t="0" r="0" b="42233"/>
          <a:stretch/>
        </p:blipFill>
        <p:spPr>
          <a:xfrm>
            <a:off x="428760" y="1500120"/>
            <a:ext cx="4076640" cy="4186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В класс МАОУ СОШ №28 г. Балако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4714920" y="1857240"/>
            <a:ext cx="400032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организовали выставку рисунков «Космическое путешествие». На этих рисунках  наши мечты о космо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274680"/>
            <a:ext cx="79009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октября 1957 г. - начало космической э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4" descr="image_58ee84565636f.jpg"/>
          <p:cNvPicPr/>
          <p:nvPr/>
        </p:nvPicPr>
        <p:blipFill>
          <a:blip r:embed="rId3"/>
          <a:stretch/>
        </p:blipFill>
        <p:spPr>
          <a:xfrm>
            <a:off x="428760" y="1785960"/>
            <a:ext cx="3713040" cy="464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всего мира вглядывались в ночное небо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ктября 1957 года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диостанции передавали в эфир звуковой сигна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смос был успешно запущен первый искусственный спутник Земли – небольшой металлический шар с антенн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17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августа1960 г. – полёт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ки и Стре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9631024.png"/>
          <p:cNvPicPr/>
          <p:nvPr/>
        </p:nvPicPr>
        <p:blipFill>
          <a:blip r:embed="rId3"/>
          <a:stretch/>
        </p:blipFill>
        <p:spPr>
          <a:xfrm>
            <a:off x="285840" y="1643040"/>
            <a:ext cx="4011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0" y="1600200"/>
            <a:ext cx="42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ие собаки-космонавты, совершившие космический полёт на корабле «Спутник-5»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августа 1960 год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ой целью полёта было исследование влияния на организм животных факторов космического полёта: перегрузка, длительная невесомость, переход от перегрузок к невесомости и обратн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апреля 1961 г – первый полёт человека в косм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p30.jpg"/>
          <p:cNvPicPr/>
          <p:nvPr/>
        </p:nvPicPr>
        <p:blipFill>
          <a:blip r:embed="rId3"/>
          <a:stretch/>
        </p:blipFill>
        <p:spPr>
          <a:xfrm>
            <a:off x="733320" y="1600200"/>
            <a:ext cx="348624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7960" y="1599840"/>
            <a:ext cx="4281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, в космос отправился и челов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апреля 1961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смодрома Байконур стартовала ракета-носитель «Восто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 мире космический корабль с человеком на борту ворвался в просто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ленн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Татьяна\Desktop\yuri-gagarin-1024x675.jpg"/>
          <p:cNvPicPr/>
          <p:nvPr/>
        </p:nvPicPr>
        <p:blipFill>
          <a:blip r:embed="rId3"/>
          <a:stretch/>
        </p:blipFill>
        <p:spPr>
          <a:xfrm>
            <a:off x="1428840" y="357120"/>
            <a:ext cx="6431040" cy="42386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7"/>
          <p:cNvSpPr/>
          <p:nvPr/>
        </p:nvSpPr>
        <p:spPr>
          <a:xfrm>
            <a:off x="500040" y="485784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Гагарин, ставший первым из людей, побывавшим в космосе, пробыл на земной орбите целы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8 мину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это время совершил полный оборот вокруг планеты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марта 1965 – 19 марта 1965 г. – первый выход человека в открытый космо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C:\Users\Татьяна\Desktop\img23.jpg"/>
          <p:cNvPicPr/>
          <p:nvPr/>
        </p:nvPicPr>
        <p:blipFill>
          <a:blip r:embed="rId3"/>
          <a:srcRect l="0" t="0" r="6666" b="18249"/>
          <a:stretch/>
        </p:blipFill>
        <p:spPr>
          <a:xfrm>
            <a:off x="2071800" y="1571760"/>
            <a:ext cx="4786200" cy="3144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357120" y="4643280"/>
            <a:ext cx="85010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олета космического корабля «Восход-2» на втором витке вокруг Земли Алексей Леонов в специальном скафандре с автономной системой жизнеобеспечения впервые в мире вышел из корабля в космическое простр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nastol.com.ua-1909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июня 1963 г. -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ёт в космос женщины-космонав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6PUDMSYMdB4.jpg"/>
          <p:cNvPicPr/>
          <p:nvPr/>
        </p:nvPicPr>
        <p:blipFill>
          <a:blip r:embed="rId3"/>
          <a:srcRect l="56923" t="0" r="0" b="0"/>
          <a:stretch/>
        </p:blipFill>
        <p:spPr>
          <a:xfrm>
            <a:off x="428760" y="1571760"/>
            <a:ext cx="3286080" cy="481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071960" y="1571760"/>
            <a:ext cx="471024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80640" indent="154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а Терешкова, советский космонавт, первая женщина в космосе. 16 июня 1963 г. на корабле «Восток-6» 45 раз облетела вокруг Земли, проведя 71 час в космос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80640" indent="154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нь своего полёта в космос Терешкова сказала родным, что уезжает на соревнования парашютистов, о полёте они узнали из новостей по ради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й спутник (монумент «Спутник»)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1600.jpg"/>
          <p:cNvPicPr/>
          <p:nvPr/>
        </p:nvPicPr>
        <p:blipFill>
          <a:blip r:embed="rId2"/>
          <a:stretch/>
        </p:blipFill>
        <p:spPr>
          <a:xfrm>
            <a:off x="857160" y="1643040"/>
            <a:ext cx="30196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357440" y="1600200"/>
            <a:ext cx="45003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17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установлен в Москве в 1958 году. Скульптура представляет собой рабочего, поднявшего в руке первый искусственный спутник Земл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88920" indent="17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стаменте памятника отчеканена надпись: «Создателям первого спутника Земли. 1957 год.»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4" descr="nastol.com.ua-190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0104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Белке и Стрел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6" descr="Cobaka_pam_74.jpg"/>
          <p:cNvPicPr/>
          <p:nvPr/>
        </p:nvPicPr>
        <p:blipFill>
          <a:blip r:embed="rId2"/>
          <a:stretch/>
        </p:blipFill>
        <p:spPr>
          <a:xfrm>
            <a:off x="214200" y="2000160"/>
            <a:ext cx="4491000" cy="2835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857840" y="1356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Белке и Стрелке – легендарным собакам, которые первыми из животных совершили полет в космос и благополучно вернулись на Землю – открыли  в июне 2017 года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ьптурная композиция находится на территории Томилинского лесопарка  в Люберца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Татьяна</cp:lastModifiedBy>
  <dcterms:modified xsi:type="dcterms:W3CDTF">2019-04-28T18:02:51Z</dcterms:modified>
  <cp:revision>46</cp:revision>
  <dc:subject/>
  <dc:title>Слайд 1</dc:title>
</cp:coreProperties>
</file>