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_rels/item1.xml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948-208B-45AC-97AB-7AAB90E9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1FE-341B-4409-864D-5539EE1C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784-C156-4205-AEC2-122D445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8FE-8E7B-4884-BA0D-6A93A151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A71-356F-4246-B62E-4526F9ED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069-FE74-43E2-BC29-3788E524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DE2-AC45-49A0-A8F9-839DA6CB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E54-BAC6-4F1A-A4D0-1168033C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7D2-CDA3-4F9F-9A7A-57EFF01E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160-C157-42CA-B713-EC7B880C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F1F-28B4-4B98-932C-38BB8393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EDA-FD33-4CC6-AD31-202BF3AE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D286-191A-4D53-8A6B-B5FE43EA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05D8-A0A4-4B71-936F-A7D352E9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10DD-FF44-44A2-94B8-415C15C7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543A-469F-408F-A264-A4141063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4673-D19D-4538-A207-DE9D790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E0B8-96B4-4B75-A0E6-2D7920DD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C6CD-F6F6-47EF-9F04-7AEC54A5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7381-EFF0-46EB-8061-B6303A5B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343A-B253-44CE-B550-FFD24F8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4F77-F8FC-4E3A-855D-849F0EB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794F-688A-4A5A-BAC7-1F2DB3D3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B6E9-F900-45EF-966B-82BEE72A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1600200"/>
            <a:ext cx="7886520" cy="10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228600" y="304920"/>
            <a:ext cx="8686440" cy="6248160"/>
          </a:xfrm>
          <a:prstGeom prst="rect">
            <a:avLst/>
          </a:prstGeom>
          <a:noFill/>
          <a:ln w="508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3880" y="2514600"/>
            <a:ext cx="7886520" cy="274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300" spc="-38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23880" y="5257800"/>
            <a:ext cx="7886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ru-RU" sz="1500" spc="35" strike="noStrike" cap="all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оугольник 6" hidden="1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" name="Прямоугольник 7"/>
          <p:cNvSpPr/>
          <p:nvPr/>
        </p:nvSpPr>
        <p:spPr>
          <a:xfrm>
            <a:off x="6114960" y="0"/>
            <a:ext cx="3028680" cy="685764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399720" y="4591800"/>
            <a:ext cx="2343960" cy="15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399720" y="1714680"/>
            <a:ext cx="2343960" cy="287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25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en-US" sz="22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0" y="0"/>
            <a:ext cx="607572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72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тавка рисунк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6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7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550" spc="-1" strike="noStrike" cap="all">
                <a:solidFill>
                  <a:schemeClr val="accent1"/>
                </a:solidFill>
                <a:latin typeface="Calibri Light"/>
              </a:rPr>
              <a:t>Образец заголовка</a:t>
            </a:r>
            <a:endParaRPr b="0" lang="en-US" sz="25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920" indent="-171360">
              <a:lnSpc>
                <a:spcPct val="90000"/>
              </a:lnSpc>
              <a:spcBef>
                <a:spcPts val="1349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45680" indent="-1713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35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135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1713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891720" indent="-1371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4" marL="1097280" indent="-137160">
              <a:lnSpc>
                <a:spcPct val="90000"/>
              </a:lnSpc>
              <a:spcBef>
                <a:spcPts val="601"/>
              </a:spcBef>
              <a:buClr>
                <a:srgbClr val="94b6d2"/>
              </a:buClr>
              <a:buFont typeface="Arial"/>
              <a:buChar char="▪"/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1"/>
          </p:nvPr>
        </p:nvSpPr>
        <p:spPr>
          <a:xfrm>
            <a:off x="6140880" y="6601680"/>
            <a:ext cx="11502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6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2"/>
          </p:nvPr>
        </p:nvSpPr>
        <p:spPr>
          <a:xfrm>
            <a:off x="1143000" y="6601680"/>
            <a:ext cx="486828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3"/>
          </p:nvPr>
        </p:nvSpPr>
        <p:spPr>
          <a:xfrm>
            <a:off x="7421040" y="6601680"/>
            <a:ext cx="5796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F4E67F-E67E-4A02-B7DE-04D543A8CB1D}" type="slidenum">
              <a:rPr b="0" lang="ru-RU" sz="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6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7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2550" spc="-1" strike="noStrike" cap="all">
                <a:solidFill>
                  <a:schemeClr val="accent1"/>
                </a:solidFill>
                <a:latin typeface="Calibri Light"/>
              </a:rPr>
              <a:t>Образец заголовка</a:t>
            </a:r>
            <a:endParaRPr b="0" lang="en-US" sz="25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6140880" y="6601680"/>
            <a:ext cx="11502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6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5"/>
          </p:nvPr>
        </p:nvSpPr>
        <p:spPr>
          <a:xfrm>
            <a:off x="1143000" y="6601680"/>
            <a:ext cx="486828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6"/>
          </p:nvPr>
        </p:nvSpPr>
        <p:spPr>
          <a:xfrm>
            <a:off x="7421040" y="6601680"/>
            <a:ext cx="579600" cy="22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000769-17AD-4783-830B-90874986EE40}" type="slidenum">
              <a:rPr b="0" lang="ru-RU" sz="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6" hidden="1"/>
          <p:cNvSpPr/>
          <p:nvPr/>
        </p:nvSpPr>
        <p:spPr>
          <a:xfrm>
            <a:off x="0" y="6583680"/>
            <a:ext cx="9143640" cy="273960"/>
          </a:xfrm>
          <a:prstGeom prst="rect">
            <a:avLst/>
          </a:prstGeom>
          <a:solidFill>
            <a:srgbClr val="94b6d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300" spc="-1" strike="noStrike" cap="all">
                <a:solidFill>
                  <a:srgbClr val="ffffff"/>
                </a:solidFill>
                <a:latin typeface="Calibri Light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228600" y="304920"/>
            <a:ext cx="8686440" cy="6248160"/>
          </a:xfrm>
          <a:prstGeom prst="rect">
            <a:avLst/>
          </a:prstGeom>
          <a:noFill/>
          <a:ln w="50800">
            <a:solidFill>
              <a:srgbClr val="ffffff"/>
            </a:solidFill>
            <a:miter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05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72280" y="469800"/>
            <a:ext cx="3885480" cy="280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300" spc="-38" strike="noStrike">
                <a:solidFill>
                  <a:srgbClr val="002060"/>
                </a:solidFill>
                <a:latin typeface="Arial Narrow"/>
              </a:rPr>
              <a:t>ПАНТЕЛЕЕВА</a:t>
            </a:r>
            <a:br>
              <a:rPr sz="3300"/>
            </a:br>
            <a:r>
              <a:rPr b="1" lang="ru-RU" sz="3300" spc="-38" strike="noStrike" cap="all">
                <a:solidFill>
                  <a:srgbClr val="002060"/>
                </a:solidFill>
                <a:latin typeface="Arial Narrow"/>
              </a:rPr>
              <a:t>ЕВГЕНИЯ</a:t>
            </a:r>
            <a:br>
              <a:rPr sz="3300"/>
            </a:br>
            <a:r>
              <a:rPr b="1" lang="ru-RU" sz="3300" spc="-38" strike="noStrike" cap="all">
                <a:solidFill>
                  <a:srgbClr val="002060"/>
                </a:solidFill>
                <a:latin typeface="Arial Narrow"/>
              </a:rPr>
              <a:t>ГРИГОРЬЕВНА</a:t>
            </a:r>
            <a:br>
              <a:rPr sz="3300"/>
            </a:br>
            <a:br>
              <a:rPr sz="3300"/>
            </a:br>
            <a:r>
              <a:rPr b="1" lang="ru-RU" sz="3300" spc="-38" strike="noStrike" cap="all">
                <a:solidFill>
                  <a:srgbClr val="002060"/>
                </a:solidFill>
                <a:latin typeface="Arial Narrow"/>
              </a:rPr>
              <a:t>ВОСПИТАТЕЛЬ</a:t>
            </a:r>
            <a:br>
              <a:rPr sz="3300"/>
            </a:br>
            <a:br>
              <a:rPr sz="14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080" y="4058640"/>
            <a:ext cx="7888680" cy="24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100" spc="35" strike="noStrike" cap="all">
                <a:solidFill>
                  <a:srgbClr val="002060"/>
                </a:solidFill>
                <a:latin typeface="Arial Narrow"/>
              </a:rPr>
              <a:t>ПРОПЕДЕВТИКА РАННЕЙ ПРОФОРИЕНТАЦИИ ДОШКОЛЬНИКОВ ПОСРЕДСТВОМ 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5100" spc="35" strike="noStrike" cap="all">
                <a:solidFill>
                  <a:srgbClr val="002060"/>
                </a:solidFill>
                <a:latin typeface="Arial Narrow"/>
              </a:rPr>
              <a:t>ПРОЕКТНОЙ ДЕЯТЕЛЬНОСТИ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ru-RU" sz="3600" spc="35" strike="noStrike" cap="all">
                <a:solidFill>
                  <a:srgbClr val="002060"/>
                </a:solidFill>
                <a:latin typeface="Arial Narrow"/>
              </a:rPr>
              <a:t>МКДОУ «Детский сад № 24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" descr=""/>
          <p:cNvPicPr/>
          <p:nvPr/>
        </p:nvPicPr>
        <p:blipFill>
          <a:blip r:embed="rId1"/>
          <a:stretch/>
        </p:blipFill>
        <p:spPr>
          <a:xfrm>
            <a:off x="912600" y="469800"/>
            <a:ext cx="2925720" cy="33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7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ПРЕЗЕНТАЦИЯ </a:t>
            </a:r>
            <a:br>
              <a:rPr sz="2800"/>
            </a:b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ДЕТСКО-РОДИТЕЛЬСКИХ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1"/>
          <a:stretch/>
        </p:blipFill>
        <p:spPr>
          <a:xfrm>
            <a:off x="418320" y="2647440"/>
            <a:ext cx="3997800" cy="34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626720" y="2647440"/>
            <a:ext cx="4002480" cy="34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71100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Родители – активные участники </a:t>
            </a:r>
            <a:br>
              <a:rPr sz="2800"/>
            </a:b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воспитательно-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Рисунок 5" descr=""/>
          <p:cNvPicPr/>
          <p:nvPr/>
        </p:nvPicPr>
        <p:blipFill>
          <a:blip r:embed="rId1"/>
          <a:stretch/>
        </p:blipFill>
        <p:spPr>
          <a:xfrm>
            <a:off x="423000" y="2850840"/>
            <a:ext cx="4248000" cy="3185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4877280" y="2850840"/>
            <a:ext cx="3960000" cy="323388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1400" y="64080"/>
            <a:ext cx="6857640" cy="405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rgbClr val="002060"/>
                </a:solidFill>
                <a:latin typeface="Arial Narrow"/>
              </a:rPr>
              <a:t>ОСТАВЛЯЙТЕ ВСЕГДА ЧТО-ТО НЕДОСКАЗАННОЕ, ЧТОБЫ РЕБЕНКУ ЗАХОТЕЛОСЬ ЕЩЕ И ЕЩЕ РАЗ ВОЗВРАТИТЬСЯ К ТОМУ, </a:t>
            </a:r>
            <a:br>
              <a:rPr sz="3200"/>
            </a:br>
            <a:r>
              <a:rPr b="1" lang="ru-RU" sz="3200" spc="-1" strike="noStrike" cap="all">
                <a:solidFill>
                  <a:srgbClr val="002060"/>
                </a:solidFill>
                <a:latin typeface="Arial Narrow"/>
              </a:rPr>
              <a:t>ЧТО ОН УЗНА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5396760" y="4680000"/>
            <a:ext cx="331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5" descr=""/>
          <p:cNvPicPr/>
          <p:nvPr/>
        </p:nvPicPr>
        <p:blipFill>
          <a:blip r:embed="rId1"/>
          <a:stretch/>
        </p:blipFill>
        <p:spPr>
          <a:xfrm>
            <a:off x="119520" y="2712600"/>
            <a:ext cx="1764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1600200"/>
            <a:ext cx="7886520" cy="22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50" spc="-1" strike="noStrike" cap="all">
                <a:solidFill>
                  <a:srgbClr val="ffff00"/>
                </a:solidFill>
                <a:latin typeface="Constantia"/>
              </a:rPr>
              <a:t>Спасибо за внимание!</a:t>
            </a:r>
            <a:endParaRPr b="0" lang="en-US" sz="405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http://i003.radikal.ru/1103/f0/61854e121b2b.jpg"/>
          <p:cNvPicPr/>
          <p:nvPr/>
        </p:nvPicPr>
        <p:blipFill>
          <a:blip r:embed="rId1"/>
          <a:stretch/>
        </p:blipFill>
        <p:spPr>
          <a:xfrm>
            <a:off x="0" y="0"/>
            <a:ext cx="6075720" cy="6857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s://im3-tub-ru.yandex.net/i?id=dd1075fc100874d811e18d6482e6af46&amp;n=33&amp;h=215&amp;w=287"/>
          <p:cNvPicPr/>
          <p:nvPr/>
        </p:nvPicPr>
        <p:blipFill>
          <a:blip r:embed="rId2"/>
          <a:stretch/>
        </p:blipFill>
        <p:spPr>
          <a:xfrm rot="20536200">
            <a:off x="536760" y="1909080"/>
            <a:ext cx="1105920" cy="8283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6"/>
          <p:cNvSpPr/>
          <p:nvPr/>
        </p:nvSpPr>
        <p:spPr>
          <a:xfrm rot="20316000">
            <a:off x="402840" y="2677320"/>
            <a:ext cx="48146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 rot="20346000">
            <a:off x="298800" y="2533320"/>
            <a:ext cx="269784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всегда была ненавистна роль стороннего  наблюдателя.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rgbClr val="002060"/>
                </a:solidFill>
                <a:latin typeface="Times New Roman"/>
                <a:ea typeface="Calibri"/>
              </a:rPr>
              <a:t>Что же я такое, если я не принимаю участие?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rgbClr val="002060"/>
                </a:solidFill>
                <a:latin typeface="Times New Roman"/>
                <a:ea typeface="Calibri"/>
              </a:rPr>
              <a:t>Чтобы быть, я должен участвовать</a:t>
            </a:r>
            <a:r>
              <a:rPr b="0" i="1" lang="ru-RU" sz="135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</a:tabLst>
            </a:pPr>
            <a:r>
              <a:rPr b="1" i="1" lang="ru-RU" sz="135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ea typeface="Calibri"/>
              </a:rPr>
              <a:t>Антуан де Сент-Экзюпери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Фотографии Антуана де Сент-Экзюпери - &quot;Подборка фотографий&quot;"/>
          <p:cNvPicPr/>
          <p:nvPr/>
        </p:nvPicPr>
        <p:blipFill>
          <a:blip r:embed="rId3"/>
          <a:stretch/>
        </p:blipFill>
        <p:spPr>
          <a:xfrm>
            <a:off x="6577200" y="1611720"/>
            <a:ext cx="2245680" cy="3541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13" name="Picture 17" descr="http://cs625222.vk.me/v625222814/1bdb2/ti8dyNQI66g.jpg"/>
          <p:cNvPicPr/>
          <p:nvPr/>
        </p:nvPicPr>
        <p:blipFill>
          <a:blip r:embed="rId4"/>
          <a:stretch/>
        </p:blipFill>
        <p:spPr>
          <a:xfrm rot="20603400">
            <a:off x="3314880" y="1995840"/>
            <a:ext cx="1925280" cy="19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i003.radikal.ru/1103/f0/61854e121b2b.jpg"/>
          <p:cNvPicPr/>
          <p:nvPr/>
        </p:nvPicPr>
        <p:blipFill>
          <a:blip r:embed="rId1"/>
          <a:stretch/>
        </p:blipFill>
        <p:spPr>
          <a:xfrm>
            <a:off x="0" y="837720"/>
            <a:ext cx="6164640" cy="51429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 rot="20504400">
            <a:off x="-418320" y="2010600"/>
            <a:ext cx="5977440" cy="19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Основны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понятия, термин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проект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3-tub-ru.yandex.net/i?id=b05aa10ab08af03000a9c4c31b7152b4&amp;n=33&amp;h=215&amp;w=250"/>
          <p:cNvPicPr/>
          <p:nvPr/>
        </p:nvPicPr>
        <p:blipFill>
          <a:blip r:embed="rId2"/>
          <a:stretch/>
        </p:blipFill>
        <p:spPr>
          <a:xfrm rot="19917600">
            <a:off x="4744080" y="2937600"/>
            <a:ext cx="999000" cy="858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s://im3-tub-ru.yandex.net/i?id=87a0c6209499fbc38005006abf839280&amp;n=33&amp;h=215&amp;w=410"/>
          <p:cNvPicPr/>
          <p:nvPr/>
        </p:nvPicPr>
        <p:blipFill>
          <a:blip r:embed="rId3"/>
          <a:stretch/>
        </p:blipFill>
        <p:spPr>
          <a:xfrm rot="19921200">
            <a:off x="149040" y="2193840"/>
            <a:ext cx="1094040" cy="573480"/>
          </a:xfrm>
          <a:prstGeom prst="rect">
            <a:avLst/>
          </a:prstGeom>
          <a:ln w="0">
            <a:noFill/>
          </a:ln>
        </p:spPr>
      </p:pic>
      <p:sp>
        <p:nvSpPr>
          <p:cNvPr id="218" name="Прямоугольник 8"/>
          <p:cNvSpPr/>
          <p:nvPr/>
        </p:nvSpPr>
        <p:spPr>
          <a:xfrm>
            <a:off x="6154920" y="759600"/>
            <a:ext cx="316728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Игровой 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Модел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Метод наблю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Элементарный 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Проектирова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Проектная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Проблемные мет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Опы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Исследовательский мет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chemeClr val="accent6">
                    <a:lumMod val="50000"/>
                  </a:schemeClr>
                </a:solidFill>
                <a:latin typeface="Constantia"/>
                <a:ea typeface="Calibri"/>
              </a:rPr>
              <a:t>Исследовательское повед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  </a:t>
            </a:r>
            <a:r>
              <a:rPr b="1" lang="ru-RU" sz="1500" spc="-1" strike="noStrike">
                <a:solidFill>
                  <a:srgbClr val="002060"/>
                </a:solidFill>
                <a:latin typeface="Constantia"/>
                <a:ea typeface="Calibri"/>
              </a:rPr>
              <a:t>Познавательная, исследовательская актив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800" spc="-1" strike="noStrike" cap="all">
                <a:solidFill>
                  <a:srgbClr val="002060"/>
                </a:solidFill>
                <a:latin typeface="Arial Narrow"/>
              </a:rPr>
              <a:t>ЭКРАН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1714680"/>
            <a:ext cx="6857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08280" y="2088720"/>
            <a:ext cx="3239640" cy="43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5038560" y="2088720"/>
            <a:ext cx="3239640" cy="4319640"/>
          </a:xfrm>
          <a:prstGeom prst="rect">
            <a:avLst/>
          </a:prstGeom>
          <a:ln w="127000">
            <a:noFill/>
          </a:ln>
          <a:effectLst>
            <a:outerShdw algn="tl" blurRad="57240" dir="2700000" dist="50402" rotWithShape="0">
              <a:srgbClr val="000000">
                <a:alpha val="40000"/>
              </a:srgbClr>
            </a:outerShdw>
          </a:effectLst>
        </p:spPr>
      </p:pic>
      <p:sp>
        <p:nvSpPr>
          <p:cNvPr id="223" name="Прямоугольник 3"/>
          <p:cNvSpPr/>
          <p:nvPr/>
        </p:nvSpPr>
        <p:spPr>
          <a:xfrm>
            <a:off x="457200" y="877680"/>
            <a:ext cx="8229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</a:rPr>
              <a:t>Формируем умение осуществлять собственный выбор, самостоятельно планировать основные этапы своей и общ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5"/>
          <p:cNvSpPr/>
          <p:nvPr/>
        </p:nvSpPr>
        <p:spPr>
          <a:xfrm>
            <a:off x="0" y="1388520"/>
            <a:ext cx="6155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Способы разработк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экранов проект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244800" y="2156040"/>
            <a:ext cx="566568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558bb8"/>
              </a:buClr>
              <a:buFont typeface="Wingdings" charset="2"/>
              <a:buChar char=""/>
              <a:tabLst>
                <a:tab algn="l" pos="343080"/>
              </a:tabLst>
            </a:pP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  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«Модель трёх вопросов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558bb8"/>
              </a:buClr>
              <a:buFont typeface="Wingdings" charset="2"/>
              <a:buChar char=""/>
              <a:tabLst>
                <a:tab algn="l" pos="343080"/>
              </a:tabLst>
            </a:pP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 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Образ «Семь мы» (</a:t>
            </a:r>
            <a:r>
              <a:rPr b="0" i="1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по Заир-Бек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50000"/>
              </a:lnSpc>
              <a:buClr>
                <a:srgbClr val="558bb8"/>
              </a:buClr>
              <a:buFont typeface="Wingdings" charset="2"/>
              <a:buChar char=""/>
              <a:tabLst>
                <a:tab algn="l" pos="343080"/>
              </a:tabLst>
            </a:pP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 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Метод «Мыслительных карт» (</a:t>
            </a:r>
            <a:r>
              <a:rPr b="0" i="1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Тони Бьюзен</a:t>
            </a:r>
            <a:r>
              <a:rPr b="0" lang="ru-RU" sz="2100" spc="-1" strike="noStrike">
                <a:solidFill>
                  <a:schemeClr val="accent1">
                    <a:lumMod val="75000"/>
                  </a:schemeClr>
                </a:solidFill>
                <a:latin typeface="Constantia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343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https://im1-tub-ru.yandex.net/i?id=d3912c65d8c91a91ff27ed0c46b4b6a8&amp;n=33&amp;h=215&amp;w=261"/>
          <p:cNvPicPr/>
          <p:nvPr/>
        </p:nvPicPr>
        <p:blipFill>
          <a:blip r:embed="rId1"/>
          <a:stretch/>
        </p:blipFill>
        <p:spPr>
          <a:xfrm>
            <a:off x="2116440" y="4318920"/>
            <a:ext cx="1922400" cy="1583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https://im3-tub-ru.yandex.net/i?id=343c26c1533ecbeed3c92c65c59e6352&amp;n=33&amp;h=215&amp;w=173"/>
          <p:cNvPicPr/>
          <p:nvPr/>
        </p:nvPicPr>
        <p:blipFill>
          <a:blip r:embed="rId2"/>
          <a:stretch/>
        </p:blipFill>
        <p:spPr>
          <a:xfrm>
            <a:off x="6639840" y="2156040"/>
            <a:ext cx="1996200" cy="248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5"/>
          <p:cNvSpPr/>
          <p:nvPr/>
        </p:nvSpPr>
        <p:spPr>
          <a:xfrm>
            <a:off x="1036800" y="1609560"/>
            <a:ext cx="4840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«Модель трёх вопросов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Таблица 1"/>
          <p:cNvGraphicFramePr/>
          <p:nvPr/>
        </p:nvGraphicFramePr>
        <p:xfrm>
          <a:off x="212400" y="2743200"/>
          <a:ext cx="5632920" cy="1840320"/>
        </p:xfrm>
        <a:graphic>
          <a:graphicData uri="http://schemas.openxmlformats.org/drawingml/2006/table">
            <a:tbl>
              <a:tblPr/>
              <a:tblGrid>
                <a:gridCol w="1877760"/>
                <a:gridCol w="1877760"/>
                <a:gridCol w="1877760"/>
              </a:tblGrid>
              <a:tr h="81396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ЧТО ЗНАЮ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2240">
                      <a:solidFill>
                        <a:srgbClr val="94b6d2"/>
                      </a:solidFill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ЧТО ХОЧУ УЗН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КАК УЗН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12240">
                      <a:solidFill>
                        <a:srgbClr val="94b6d2"/>
                      </a:solidFill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26360"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одержание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о что де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уже зна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12240">
                      <a:solidFill>
                        <a:srgbClr val="94b6d2"/>
                      </a:solidFill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ла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тема проек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rgbClr val="eef2f6"/>
                    </a:solidFill>
                  </a:tcPr>
                </a:tc>
                <a:tc>
                  <a:txBody>
                    <a:bodyPr lIns="39960" rIns="39960" tIns="39960" bIns="39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сточники новых зн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.е.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>
                      <a:noFill/>
                    </a:lnL>
                    <a:lnR w="12240">
                      <a:solidFill>
                        <a:srgbClr val="94b6d2"/>
                      </a:solidFill>
                    </a:lnR>
                    <a:lnT w="12240">
                      <a:solidFill>
                        <a:srgbClr val="94b6d2"/>
                      </a:solidFill>
                    </a:lnT>
                    <a:lnB w="12240">
                      <a:solidFill>
                        <a:srgbClr val="94b6d2"/>
                      </a:solidFill>
                    </a:lnB>
                    <a:solidFill>
                      <a:srgbClr val="eef2f6"/>
                    </a:solidFill>
                  </a:tcPr>
                </a:tc>
              </a:tr>
            </a:tbl>
          </a:graphicData>
        </a:graphic>
      </p:graphicFrame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05840" y="983520"/>
            <a:ext cx="1127160" cy="1458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31" name="Picture 10" descr="https://im3-tub-ru.yandex.net/i?id=343c26c1533ecbeed3c92c65c59e6352&amp;n=33&amp;h=215&amp;w=173"/>
          <p:cNvPicPr/>
          <p:nvPr/>
        </p:nvPicPr>
        <p:blipFill>
          <a:blip r:embed="rId2"/>
          <a:stretch/>
        </p:blipFill>
        <p:spPr>
          <a:xfrm>
            <a:off x="6639840" y="2156040"/>
            <a:ext cx="1996200" cy="2480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"/>
          <p:cNvSpPr/>
          <p:nvPr/>
        </p:nvSpPr>
        <p:spPr>
          <a:xfrm>
            <a:off x="1208880" y="0"/>
            <a:ext cx="672588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700" spc="-1" strike="noStrike">
                <a:solidFill>
                  <a:srgbClr val="002060"/>
                </a:solidFill>
                <a:latin typeface="Constantia"/>
                <a:ea typeface="Calibri"/>
              </a:rPr>
              <a:t>Образ «Семь мы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(по Заир-Бе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7"/>
          <p:cNvSpPr/>
          <p:nvPr/>
        </p:nvSpPr>
        <p:spPr>
          <a:xfrm>
            <a:off x="85320" y="784800"/>
            <a:ext cx="7417440" cy="63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ac958b"/>
              </a:buClr>
              <a:buFont typeface="Wingdings" charset="2"/>
              <a:buChar char=""/>
            </a:pPr>
            <a:r>
              <a:rPr b="1" lang="ru-RU" sz="1800" spc="-1" strike="noStrike">
                <a:solidFill>
                  <a:srgbClr val="ac958b"/>
                </a:solidFill>
                <a:latin typeface="Constantia"/>
                <a:ea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озабочены… </a:t>
            </a:r>
            <a:r>
              <a:rPr b="0" lang="ru-RU" sz="2400" spc="-1" strike="noStrike">
                <a:solidFill>
                  <a:srgbClr val="ac958b"/>
                </a:solidFill>
                <a:latin typeface="Calibri"/>
                <a:ea typeface="Calibri"/>
              </a:rPr>
              <a:t>(формулируется факт, противоречие, то, что привлекает вним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понимаем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представляется осознанная проблема для решения и ориентиры-цен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ожидаем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ается описание предполагаемых целей – результа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предполагаем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представляются идеи, гипоте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намереваемся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контекст действий, планируемых поэтап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готовы…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ается описание имеющихся ресурсов различного характе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Мы обращаемся за поддержкой…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представляется обоснование необходимой внешней поддержки реализации проек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https://im1-tub-ru.yandex.net/i?id=d3912c65d8c91a91ff27ed0c46b4b6a8&amp;n=33&amp;h=215&amp;w=261"/>
          <p:cNvPicPr/>
          <p:nvPr/>
        </p:nvPicPr>
        <p:blipFill>
          <a:blip r:embed="rId1"/>
          <a:stretch/>
        </p:blipFill>
        <p:spPr>
          <a:xfrm>
            <a:off x="6980040" y="7490160"/>
            <a:ext cx="1687680" cy="13899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2"/>
          <a:stretch/>
        </p:blipFill>
        <p:spPr>
          <a:xfrm>
            <a:off x="6765840" y="1657440"/>
            <a:ext cx="1764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91880" y="1162080"/>
            <a:ext cx="5800320" cy="3808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5"/>
          <p:cNvSpPr/>
          <p:nvPr/>
        </p:nvSpPr>
        <p:spPr>
          <a:xfrm>
            <a:off x="6114960" y="1702800"/>
            <a:ext cx="3028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«Мыслительных кар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2060"/>
                </a:solidFill>
                <a:latin typeface="Constantia"/>
                <a:ea typeface="Calibri"/>
              </a:rPr>
              <a:t>(Тони Бьюз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0" y="2222640"/>
            <a:ext cx="59922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onstanti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https://im2-tub-ru.yandex.net/i?id=abfb0ea9790c99bb356a6cfb1179ec90&amp;n=33&amp;h=215&amp;w=230"/>
          <p:cNvPicPr/>
          <p:nvPr/>
        </p:nvPicPr>
        <p:blipFill>
          <a:blip r:embed="rId2"/>
          <a:stretch/>
        </p:blipFill>
        <p:spPr>
          <a:xfrm>
            <a:off x="6554520" y="2938320"/>
            <a:ext cx="2149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6" descr="http://www.maam.ru/upload/blogs/a48dfed1c0999823dc0250f9ac2103ad.jpg.jpg"/>
          <p:cNvPicPr/>
          <p:nvPr/>
        </p:nvPicPr>
        <p:blipFill>
          <a:blip r:embed="rId1"/>
          <a:stretch/>
        </p:blipFill>
        <p:spPr>
          <a:xfrm>
            <a:off x="323280" y="1134720"/>
            <a:ext cx="5505480" cy="4522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://cs629420.vk.me/v629420216/35c0/LVItjcQD0cA.jpg"/>
          <p:cNvPicPr/>
          <p:nvPr/>
        </p:nvPicPr>
        <p:blipFill>
          <a:blip r:embed="rId2"/>
          <a:stretch/>
        </p:blipFill>
        <p:spPr>
          <a:xfrm>
            <a:off x="6299640" y="3788280"/>
            <a:ext cx="2617200" cy="1798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wiseparents.ru/wp-content/uploads/2014/03/mindmap5.png"/>
          <p:cNvPicPr/>
          <p:nvPr/>
        </p:nvPicPr>
        <p:blipFill>
          <a:blip r:embed="rId3"/>
          <a:stretch/>
        </p:blipFill>
        <p:spPr>
          <a:xfrm>
            <a:off x="6312600" y="1369440"/>
            <a:ext cx="2603880" cy="19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S102922391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item1.xml><?xml version="1.0" encoding="utf-8"?>
<?mso-contentType ?>
<FormTemplates xmlns="http://schemas.microsoft.com/sharepoint/v3/contenttype/forms">
  <Display>DocumentLibraryForm</Display>
  <Edit>AssetEditForm</Edit>
  <New>DocumentLibraryForm</New>
</FormTemplates>
</file>

<file path=customXml/itemProps1.xml><?xml version="1.0" encoding="utf-8"?>
<ds:datastoreItem xmlns:ds="http://schemas.openxmlformats.org/officeDocument/2006/customXml" ds:itemID="{FE382D75-6DC6-4908-8B05-64D061C4B191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81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4:23:20Z</dcterms:created>
  <dc:creator/>
  <dc:description/>
  <dc:language>en-US</dc:language>
  <cp:lastModifiedBy/>
  <dcterms:modified xsi:type="dcterms:W3CDTF">2019-04-28T09:59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  <property fmtid="{D5CDD505-2E9C-101B-9397-08002B2CF9AE}" pid="4" name="_TemplateID">
    <vt:lpwstr>TC029223919991</vt:lpwstr>
  </property>
</Properties>
</file>