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EDC27-6044-4C84-9139-DFF2ABC97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41073-0D3A-4DC4-90CF-BE655C21A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63AE2-1D32-4AAC-9019-65E0503C4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5906D-43B2-4F8E-B3AB-77BD33CFE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F7C4D-2E79-48A3-87E2-CDA2F0C5F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74DF2-451F-4AEA-A19E-0F5A47FE1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58545-F588-4A37-B8BA-EFDD2F06B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DD243-E062-482C-960D-7F96043FD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D762C-4454-4A3C-8818-86BD1E95A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D6B40-5809-4521-8B98-A0C8FCBF4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D6754-1FF9-4AA1-B04F-30A502842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A8BDA-DCF6-404A-A082-4BFD8BC07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69512-2EAB-4506-A030-83173D52E9D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ословицы о труде и ремесл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5"/>
          <p:cNvSpPr/>
          <p:nvPr/>
        </p:nvSpPr>
        <p:spPr>
          <a:xfrm>
            <a:off x="533520" y="1544040"/>
            <a:ext cx="79246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ред вами пословицы, в которых пропущено одно слово.  Вставьте пропущенное слово. Пропущенные слова даны в именительном падеже. Поставьте их в нужный по смыслу текста пословицы падеж. Если это первое слово в предложении, напишите его с большой букв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 каждый правильный ответ – один бал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4"/>
          <p:cNvSpPr/>
          <p:nvPr/>
        </p:nvSpPr>
        <p:spPr>
          <a:xfrm>
            <a:off x="609480" y="762120"/>
            <a:ext cx="81536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лова: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руки, рубаха, хлеб, делай, дело, топор, рукоделье, золото, кузнец, тру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рпенье и   _______________  все перетру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лаза страшатся, а ____________________   делаю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______________  — время, потехе — час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ова пряха, такова на ней ___________________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ез __________________    не плотник,  без иглы не портно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учи безделью, а учи ________________________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просит ремесло  _________________  - само корми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кует железа молот, кует ____________________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умеешь шить ___________________, бей молото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дно дело _____________________, другого не порт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4"/>
          <p:cNvSpPr/>
          <p:nvPr/>
        </p:nvSpPr>
        <p:spPr>
          <a:xfrm>
            <a:off x="533520" y="1676520"/>
            <a:ext cx="82296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рпенье и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труд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все перетрут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лаза страшатся, а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рук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делают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Делу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— время, потехе — час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ова пряха, такова на ней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рубах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ез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топор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 не плотник,  без иглы не портно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 учи безделью, а учи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рукоделью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 просит ремесло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хлеб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- само кормит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 кует железа молот, кует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кузнец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 умеешь шить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золотом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бей молото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дно дело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делай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другого не порть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5"/>
          <p:cNvSpPr/>
          <p:nvPr/>
        </p:nvSpPr>
        <p:spPr>
          <a:xfrm>
            <a:off x="1531440" y="609480"/>
            <a:ext cx="568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словицы о труде и ремесл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3T08:23:10Z</dcterms:created>
  <dc:creator>Alena</dc:creator>
  <dc:description/>
  <dc:language>en-US</dc:language>
  <cp:lastModifiedBy>Admin</cp:lastModifiedBy>
  <dcterms:modified xsi:type="dcterms:W3CDTF">2019-03-25T12:18:59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