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AD8-77F4-464D-A5BB-FAF7AFD9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07A-FAF8-49FB-BE74-B60C73A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A76-DC4E-4F84-B916-BD7D80C2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4EF-A489-4EA5-984A-718A8EDE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6E5-4C9B-4EB3-9B8C-C7275C9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401-BA7C-4CB9-BB40-EDBC1EB7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BFF-6815-4BD7-B0B1-1AE1AA2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A65-46DE-4D93-BF10-3A03BA5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5AE-EE02-43F4-A98B-9A432AD6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B38-16D7-4C50-9AA6-679FBCB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AD6-A871-4672-BC7A-F7373B4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5B1-9D2B-4413-8C1C-0E0A3375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9966-7985-4A15-A058-D96ECCD94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овицы о труде и ремес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154404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пословицы, в которых пропущено одно слово.  Вставьте пропущенное слово. Пропущенные слова даны в именительном падеже. Поставьте их в нужный по смыслу текста пословицы падеж. Если это первое слово в предложении, напишите его с большой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каждый правильный ответ – один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09480" y="7621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уки, рубаха, хлеб, делай, дело, топор, рукоделье, золото, кузнец, тр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пенье и   _______________  все перетр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 страшатся, а ____________________   дел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  — время, потехе — 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пряха, такова на ней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__________________    не плотник,  без иглы не пор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чи безделью, а учи ________________________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сит ремесло  _________________  - само корм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ует железа молот, кует 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меешь шить ___________________, бей моло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дело _____________________, другого не по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3520" y="1676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пенье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 перет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а страшатся, 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л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ремя, потехе — ч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пряха, такова на не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бах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п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е плотник,  без иглы не порт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 безделью, а уч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одел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сит реме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ле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 корм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кует железа молот, ку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зн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меешь ши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оло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бей моло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де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ла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ругого не пор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31440" y="60948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о труде и реме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08:23:10Z</dcterms:created>
  <dc:creator>Alena</dc:creator>
  <dc:description/>
  <dc:language>en-US</dc:language>
  <cp:lastModifiedBy>Admin</cp:lastModifiedBy>
  <dcterms:modified xsi:type="dcterms:W3CDTF">2019-03-25T12:18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