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62A-661B-46E7-85C0-02D204EE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872-E9EA-4CA4-BB30-C85B7A2E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E40-9723-4BE4-908F-379A18B0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AAE-AB43-4CE0-B27C-41732B9C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FF75-EE22-45C0-964C-EE864C4A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A08F-2863-4A84-A57A-43C3256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DBE3-0138-4058-ABEF-6F64314C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D1F-23EE-48A3-A664-38D52AC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B75D-1258-4F92-8177-BC884BFC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D2B7-3460-45CC-A40E-AD62485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2A42-F8B8-4535-BC69-CFDC7CF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FF9-9DCA-4C9C-AEBA-C998069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C2C9-600F-475B-980A-BAB16C4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C70B-08EF-4348-9232-09C4F85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FA1D-CF81-4B3B-A6C2-E4B4026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B870-419F-47D4-A640-4C1BBE37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CABC-2A52-4328-A401-C9E8D584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06E-D661-4C42-84A8-8BBD5EA5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DED-97D1-45A2-A97A-08E61684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A5D-AD30-49FF-AD3D-5470192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5F0-139D-402D-AE76-64F10E09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B85-B198-40E9-A6C1-D2BF409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162-3DBA-4E6F-8F01-8D0B4857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C26-41B8-4B59-B376-BA276D72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b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da900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bd81e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A03-B30F-48F3-AF69-1D38DB0530D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b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9c9800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bd81e"/>
                </a:gs>
                <a:gs pos="100000">
                  <a:srgbClr val="b8b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7B5F-A32B-40E2-9527-B61BCF64C3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zagadki.info/zag/remesla.html" TargetMode="External"/><Relationship Id="rId2" Type="http://schemas.openxmlformats.org/officeDocument/2006/relationships/hyperlink" Target="https://nsportal.ru/detskiy-sad/raznoe/2012/03/14/itogovoe-zanyatie-po-priobshcheniyu-detey-k-russkoy-narodnoy-kulture" TargetMode="External"/><Relationship Id="rId3" Type="http://schemas.openxmlformats.org/officeDocument/2006/relationships/hyperlink" Target="https://nsportal.ru/detskiy-sad/raznoe/2012/03/14/itogovoe-zanyatie-po-priobshcheniyu-detey-k-russkoy-narodnoy-kulture" TargetMode="External"/><Relationship Id="rId4" Type="http://schemas.openxmlformats.org/officeDocument/2006/relationships/hyperlink" Target="https://nsportal.ru/detskiy-sad/raznoe/2012/03/14/itogovoe-zanyatie-po-priobshcheniyu-detey-k-russkoy-narodnoy-kulture" TargetMode="External"/><Relationship Id="rId5" Type="http://schemas.openxmlformats.org/officeDocument/2006/relationships/hyperlink" Target="https://nsportal.ru/detskiy-sad/raznoe/2012/03/14/itogovoe-zanyatie-po-priobshcheniyu-detey-k-russkoy-narodnoy-kulture" TargetMode="External"/><Relationship Id="rId6" Type="http://schemas.openxmlformats.org/officeDocument/2006/relationships/hyperlink" Target="https://nsportal.ru/detskiy-sad/raznoe/2012/03/14/itogovoe-zanyatie-po-priobshcheniyu-detey-k-russkoy-narodnoy-kulture" TargetMode="External"/><Relationship Id="rId7" Type="http://schemas.openxmlformats.org/officeDocument/2006/relationships/hyperlink" Target="https://nsportal.ru/detskiy-sad/raznoe/2012/03/14/itogovoe-zanyatie-po-priobshcheniyu-detey-k-russkoy-narodnoy-kulture" TargetMode="External"/><Relationship Id="rId8" Type="http://schemas.openxmlformats.org/officeDocument/2006/relationships/hyperlink" Target="https://nsportal.ru/detskiy-sad/raznoe/2012/03/14/itogovoe-zanyatie-po-priobshcheniyu-detey-k-russkoy-narodnoy-kulture" TargetMode="External"/><Relationship Id="rId9" Type="http://schemas.openxmlformats.org/officeDocument/2006/relationships/hyperlink" Target="https://nsportal.ru/detskiy-sad/raznoe/2012/03/14/itogovoe-zanyatie-po-priobshcheniyu-detey-k-russkoy-narodnoy-kulture" TargetMode="External"/><Relationship Id="rId10" Type="http://schemas.openxmlformats.org/officeDocument/2006/relationships/hyperlink" Target="https://nsportal.ru/detskiy-sad/raznoe/2012/03/14/itogovoe-zanyatie-po-priobshcheniyu-detey-k-russkoy-narodnoy-kulture" TargetMode="External"/><Relationship Id="rId11" Type="http://schemas.openxmlformats.org/officeDocument/2006/relationships/hyperlink" Target="https://nsportal.ru/detskiy-sad/raznoe/2012/03/14/itogovoe-zanyatie-po-priobshcheniyu-detey-k-russkoy-narodnoy-kulture" TargetMode="External"/><Relationship Id="rId12" Type="http://schemas.openxmlformats.org/officeDocument/2006/relationships/hyperlink" Target="https://nsportal.ru/detskiy-sad/raznoe/2012/03/14/itogovoe-zanyatie-po-priobshcheniyu-detey-k-russkoy-narodnoy-kulture" TargetMode="External"/><Relationship Id="rId13" Type="http://schemas.openxmlformats.org/officeDocument/2006/relationships/hyperlink" Target="https://nsportal.ru/detskiy-sad/raznoe/2012/03/14/itogovoe-zanyatie-po-priobshcheniyu-detey-k-russkoy-narodnoy-kulture" TargetMode="External"/><Relationship Id="rId14" Type="http://schemas.openxmlformats.org/officeDocument/2006/relationships/hyperlink" Target="https://nsportal.ru/detskiy-sad/raznoe/2012/03/14/itogovoe-zanyatie-po-priobshcheniyu-detey-k-russkoy-narodnoy-kulture" TargetMode="External"/><Relationship Id="rId15" Type="http://schemas.openxmlformats.org/officeDocument/2006/relationships/hyperlink" Target="https://nsportal.ru/detskiy-sad/raznoe/2012/03/14/itogovoe-zanyatie-po-priobshcheniyu-detey-k-russkoy-narodnoy-kulture" TargetMode="External"/><Relationship Id="rId16" Type="http://schemas.openxmlformats.org/officeDocument/2006/relationships/hyperlink" Target="https://nsportal.ru/detskiy-sad/raznoe/2012/03/14/itogovoe-zanyatie-po-priobshcheniyu-detey-k-russkoy-narodnoy-kulture" TargetMode="External"/><Relationship Id="rId17" Type="http://schemas.openxmlformats.org/officeDocument/2006/relationships/hyperlink" Target="https://nsportal.ru/detskiy-sad/raznoe/2012/03/14/itogovoe-zanyatie-po-priobshcheniyu-detey-k-russkoy-narodnoy-kulture" TargetMode="External"/><Relationship Id="rId18" Type="http://schemas.openxmlformats.org/officeDocument/2006/relationships/hyperlink" Target="https://nsportal.ru/detskiy-sad/raznoe/2012/03/14/itogovoe-zanyatie-po-priobshcheniyu-detey-k-russkoy-narodnoy-kulture" TargetMode="External"/><Relationship Id="rId19" Type="http://schemas.openxmlformats.org/officeDocument/2006/relationships/hyperlink" Target="https://nsportal.ru/detskiy-sad/raznoe/2012/03/14/itogovoe-zanyatie-po-priobshcheniyu-detey-k-russkoy-narodnoy-kulture" TargetMode="External"/><Relationship Id="rId20" Type="http://schemas.openxmlformats.org/officeDocument/2006/relationships/hyperlink" Target="https://nsportal.ru/detskiy-sad/raznoe/2012/03/14/itogovoe-zanyatie-po-priobshcheniyu-detey-k-russkoy-narodnoy-kulture" TargetMode="External"/><Relationship Id="rId21" Type="http://schemas.openxmlformats.org/officeDocument/2006/relationships/hyperlink" Target="https://nsportal.ru/detskiy-sad/raznoe/2012/03/14/itogovoe-zanyatie-po-priobshcheniyu-detey-k-russkoy-narodnoy-kulture" TargetMode="External"/><Relationship Id="rId22" Type="http://schemas.openxmlformats.org/officeDocument/2006/relationships/hyperlink" Target="https://nsportal.ru/detskiy-sad/raznoe/2012/03/14/itogovoe-zanyatie-po-priobshcheniyu-detey-k-russkoy-narodnoy-kulture" TargetMode="External"/><Relationship Id="rId23" Type="http://schemas.openxmlformats.org/officeDocument/2006/relationships/hyperlink" Target="https://nsportal.ru/detskiy-sad/raznoe/2012/03/14/itogovoe-zanyatie-po-priobshcheniyu-detey-k-russkoy-narodnoy-kulture" TargetMode="External"/><Relationship Id="rId24" Type="http://schemas.openxmlformats.org/officeDocument/2006/relationships/hyperlink" Target="https://nsportal.ru/detskiy-sad/raznoe/2012/03/14/itogovoe-zanyatie-po-priobshcheniyu-detey-k-russkoy-narodnoy-kulture" TargetMode="External"/><Relationship Id="rId25" Type="http://schemas.openxmlformats.org/officeDocument/2006/relationships/hyperlink" Target="https://nsportal.ru/detskiy-sad/raznoe/2012/03/14/itogovoe-zanyatie-po-priobshcheniyu-detey-k-russkoy-narodnoy-kulture" TargetMode="External"/><Relationship Id="rId26" Type="http://schemas.openxmlformats.org/officeDocument/2006/relationships/hyperlink" Target="https://nsportal.ru/detskiy-sad/raznoe/2012/03/14/itogovoe-zanyatie-po-priobshcheniyu-detey-k-russkoy-narodnoy-kulture" TargetMode="External"/><Relationship Id="rId27" Type="http://schemas.openxmlformats.org/officeDocument/2006/relationships/hyperlink" Target="https://nsportal.ru/detskiy-sad/raznoe/2012/03/14/itogovoe-zanyatie-po-priobshcheniyu-detey-k-russkoy-narodnoy-kulture" TargetMode="External"/><Relationship Id="rId28" Type="http://schemas.openxmlformats.org/officeDocument/2006/relationships/hyperlink" Target="https://nsportal.ru/detskiy-sad/raznoe/2012/03/14/itogovoe-zanyatie-po-priobshcheniyu-detey-k-russkoy-narodnoy-kulture" TargetMode="External"/><Relationship Id="rId29" Type="http://schemas.openxmlformats.org/officeDocument/2006/relationships/hyperlink" Target="https://nsportal.ru/detskiy-sad/raznoe/2012/03/14/itogovoe-zanyatie-po-priobshcheniyu-detey-k-russkoy-narodnoy-kulture" TargetMode="External"/><Relationship Id="rId30" Type="http://schemas.openxmlformats.org/officeDocument/2006/relationships/hyperlink" Target="https://nsportal.ru/detskiy-sad/raznoe/2012/03/14/itogovoe-zanyatie-po-priobshcheniyu-detey-k-russkoy-narodnoy-kulture" TargetMode="External"/><Relationship Id="rId31" Type="http://schemas.openxmlformats.org/officeDocument/2006/relationships/hyperlink" Target="https://nsportal.ru/detskiy-sad/raznoe/2012/03/14/itogovoe-zanyatie-po-priobshcheniyu-detey-k-russkoy-narodnoy-kulture" TargetMode="External"/><Relationship Id="rId32" Type="http://schemas.openxmlformats.org/officeDocument/2006/relationships/hyperlink" Target="https://nsportal.ru/detskiy-sad/raznoe/2012/03/14/itogovoe-zanyatie-po-priobshcheniyu-detey-k-russkoy-narodnoy-kulture" TargetMode="External"/><Relationship Id="rId33" Type="http://schemas.openxmlformats.org/officeDocument/2006/relationships/hyperlink" Target="https://nsportal.ru/detskiy-sad/raznoe/2012/03/14/itogovoe-zanyatie-po-priobshcheniyu-detey-k-russkoy-narodnoy-kulture" TargetMode="External"/><Relationship Id="rId34" Type="http://schemas.openxmlformats.org/officeDocument/2006/relationships/hyperlink" Target="https://nsportal.ru/detskiy-sad/raznoe/2012/03/14/itogovoe-zanyatie-po-priobshcheniyu-detey-k-russkoy-narodnoy-kulture" TargetMode="External"/><Relationship Id="rId35" Type="http://schemas.openxmlformats.org/officeDocument/2006/relationships/hyperlink" Target="https://nsportal.ru/detskiy-sad/raznoe/2012/03/14/itogovoe-zanyatie-po-priobshcheniyu-detey-k-russkoy-narodnoy-kulture" TargetMode="External"/><Relationship Id="rId36" Type="http://schemas.openxmlformats.org/officeDocument/2006/relationships/hyperlink" Target="https://nsportal.ru/detskiy-sad/raznoe/2012/03/14/itogovoe-zanyatie-po-priobshcheniyu-detey-k-russkoy-narodnoy-kulture" TargetMode="External"/><Relationship Id="rId37" Type="http://schemas.openxmlformats.org/officeDocument/2006/relationships/hyperlink" Target="https://nsportal.ru/detskiy-sad/raznoe/2012/03/14/itogovoe-zanyatie-po-priobshcheniyu-detey-k-russkoy-narodnoy-kulture" TargetMode="External"/><Relationship Id="rId38" Type="http://schemas.openxmlformats.org/officeDocument/2006/relationships/hyperlink" Target="https://nsportal.ru/detskiy-sad/raznoe/2012/03/14/itogovoe-zanyatie-po-priobshcheniyu-detey-k-russkoy-narodnoy-kulture" TargetMode="External"/><Relationship Id="rId39" Type="http://schemas.openxmlformats.org/officeDocument/2006/relationships/hyperlink" Target="https://nsportal.ru/detskiy-sad/raznoe/2012/03/14/itogovoe-zanyatie-po-priobshcheniyu-detey-k-russkoy-narodnoy-kulture" TargetMode="External"/><Relationship Id="rId40" Type="http://schemas.openxmlformats.org/officeDocument/2006/relationships/hyperlink" Target="https://nsportal.ru/detskiy-sad/raznoe/2012/03/14/itogovoe-zanyatie-po-priobshcheniyu-detey-k-russkoy-narodnoy-kulture" TargetMode="External"/><Relationship Id="rId41" Type="http://schemas.openxmlformats.org/officeDocument/2006/relationships/hyperlink" Target="https://nsportal.ru/detskiy-sad/raznoe/2012/03/14/itogovoe-zanyatie-po-priobshcheniyu-detey-k-russkoy-narodnoy-kulture" TargetMode="External"/><Relationship Id="rId42" Type="http://schemas.openxmlformats.org/officeDocument/2006/relationships/hyperlink" Target="https://nsportal.ru/detskiy-sad/raznoe/2012/03/14/itogovoe-zanyatie-po-priobshcheniyu-detey-k-russkoy-narodnoy-kulture" TargetMode="External"/><Relationship Id="rId43" Type="http://schemas.openxmlformats.org/officeDocument/2006/relationships/hyperlink" Target="https://nsportal.ru/detskiy-sad/raznoe/2012/03/14/itogovoe-zanyatie-po-priobshcheniyu-detey-k-russkoy-narodnoy-kulture" TargetMode="External"/><Relationship Id="rId44" Type="http://schemas.openxmlformats.org/officeDocument/2006/relationships/hyperlink" Target="https://nsportal.ru/detskiy-sad/raznoe/2012/03/14/itogovoe-zanyatie-po-priobshcheniyu-detey-k-russkoy-narodnoy-kulture" TargetMode="External"/><Relationship Id="rId45" Type="http://schemas.openxmlformats.org/officeDocument/2006/relationships/hyperlink" Target="https://nsportal.ru/detskiy-sad/raznoe/2012/03/14/itogovoe-zanyatie-po-priobshcheniyu-detey-k-russkoy-narodnoy-kulture" TargetMode="External"/><Relationship Id="rId46" Type="http://schemas.openxmlformats.org/officeDocument/2006/relationships/hyperlink" Target="https://nsportal.ru/detskiy-sad/raznoe/2012/03/14/itogovoe-zanyatie-po-priobshcheniyu-detey-k-russkoy-narodnoy-kulture" TargetMode="External"/><Relationship Id="rId47" Type="http://schemas.openxmlformats.org/officeDocument/2006/relationships/hyperlink" Target="https://nsportal.ru/detskiy-sad/raznoe/2012/03/14/itogovoe-zanyatie-po-priobshcheniyu-detey-k-russkoy-narodnoy-kulture" TargetMode="External"/><Relationship Id="rId48" Type="http://schemas.openxmlformats.org/officeDocument/2006/relationships/hyperlink" Target="https://nsportal.ru/detskiy-sad/raznoe/2012/03/14/itogovoe-zanyatie-po-priobshcheniyu-detey-k-russkoy-narodnoy-kulture" TargetMode="External"/><Relationship Id="rId49" Type="http://schemas.openxmlformats.org/officeDocument/2006/relationships/hyperlink" Target="https://nsportal.ru/detskiy-sad/raznoe/2012/03/14/itogovoe-zanyatie-po-priobshcheniyu-detey-k-russkoy-narodnoy-kulture" TargetMode="External"/><Relationship Id="rId50" Type="http://schemas.openxmlformats.org/officeDocument/2006/relationships/hyperlink" Target="https://nsportal.ru/detskiy-sad/raznoe/2012/03/14/itogovoe-zanyatie-po-priobshcheniyu-detey-k-russkoy-narodnoy-kulture" TargetMode="External"/><Relationship Id="rId51" Type="http://schemas.openxmlformats.org/officeDocument/2006/relationships/hyperlink" Target="https://nsportal.ru/detskiy-sad/raznoe/2012/03/14/itogovoe-zanyatie-po-priobshcheniyu-detey-k-russkoy-narodnoy-kulture" TargetMode="External"/><Relationship Id="rId52" Type="http://schemas.openxmlformats.org/officeDocument/2006/relationships/hyperlink" Target="https://nsportal.ru/detskiy-sad/raznoe/2012/03/14/itogovoe-zanyatie-po-priobshcheniyu-detey-k-russkoy-narodnoy-kulture" TargetMode="External"/><Relationship Id="rId53" Type="http://schemas.openxmlformats.org/officeDocument/2006/relationships/hyperlink" Target="https://nsportal.ru/detskiy-sad/raznoe/2012/03/14/itogovoe-zanyatie-po-priobshcheniyu-detey-k-russkoy-narodnoy-kulture" TargetMode="External"/><Relationship Id="rId54" Type="http://schemas.openxmlformats.org/officeDocument/2006/relationships/hyperlink" Target="https://nsportal.ru/detskiy-sad/raznoe/2012/03/14/itogovoe-zanyatie-po-priobshcheniyu-detey-k-russkoy-narodnoy-kulture" TargetMode="External"/><Relationship Id="rId55" Type="http://schemas.openxmlformats.org/officeDocument/2006/relationships/hyperlink" Target="https://nsportal.ru/detskiy-sad/raznoe/2012/03/14/itogovoe-zanyatie-po-priobshcheniyu-detey-k-russkoy-narodnoy-kulture" TargetMode="External"/><Relationship Id="rId56" Type="http://schemas.openxmlformats.org/officeDocument/2006/relationships/hyperlink" Target="https://nsportal.ru/detskiy-sad/raznoe/2012/03/14/itogovoe-zanyatie-po-priobshcheniyu-detey-k-russkoy-narodnoy-kulture" TargetMode="External"/><Relationship Id="rId57" Type="http://schemas.openxmlformats.org/officeDocument/2006/relationships/hyperlink" Target="https://nsportal.ru/detskiy-sad/raznoe/2012/03/14/itogovoe-zanyatie-po-priobshcheniyu-detey-k-russkoy-narodnoy-kulture" TargetMode="External"/><Relationship Id="rId58" Type="http://schemas.openxmlformats.org/officeDocument/2006/relationships/hyperlink" Target="https://nsportal.ru/detskiy-sad/raznoe/2012/03/14/itogovoe-zanyatie-po-priobshcheniyu-detey-k-russkoy-narodnoy-kulture" TargetMode="External"/><Relationship Id="rId59" Type="http://schemas.openxmlformats.org/officeDocument/2006/relationships/hyperlink" Target="https://nsportal.ru/detskiy-sad/raznoe/2012/03/14/itogovoe-zanyatie-po-priobshcheniyu-detey-k-russkoy-narodnoy-kulture" TargetMode="External"/><Relationship Id="rId60" Type="http://schemas.openxmlformats.org/officeDocument/2006/relationships/hyperlink" Target="https://nsportal.ru/detskiy-sad/raznoe/2012/03/14/itogovoe-zanyatie-po-priobshcheniyu-detey-k-russkoy-narodnoy-kulture" TargetMode="External"/><Relationship Id="rId61" Type="http://schemas.openxmlformats.org/officeDocument/2006/relationships/hyperlink" Target="https://nsportal.ru/detskiy-sad/raznoe/2012/03/14/itogovoe-zanyatie-po-priobshcheniyu-detey-k-russkoy-narodnoy-kulture" TargetMode="External"/><Relationship Id="rId62" Type="http://schemas.openxmlformats.org/officeDocument/2006/relationships/hyperlink" Target="https://nsportal.ru/detskiy-sad/raznoe/2012/03/14/itogovoe-zanyatie-po-priobshcheniyu-detey-k-russkoy-narodnoy-kulture" TargetMode="External"/><Relationship Id="rId63" Type="http://schemas.openxmlformats.org/officeDocument/2006/relationships/hyperlink" Target="https://nsportal.ru/detskiy-sad/raznoe/2012/03/14/itogovoe-zanyatie-po-priobshcheniyu-detey-k-russkoy-narodnoy-kulture" TargetMode="External"/><Relationship Id="rId64" Type="http://schemas.openxmlformats.org/officeDocument/2006/relationships/hyperlink" Target="https://nsportal.ru/detskiy-sad/raznoe/2012/03/14/itogovoe-zanyatie-po-priobshcheniyu-detey-k-russkoy-narodnoy-kulture" TargetMode="External"/><Relationship Id="rId65" Type="http://schemas.openxmlformats.org/officeDocument/2006/relationships/hyperlink" Target="https://nsportal.ru/detskiy-sad/raznoe/2012/03/14/itogovoe-zanyatie-po-priobshcheniyu-detey-k-russkoy-narodnoy-kulture" TargetMode="External"/><Relationship Id="rId66" Type="http://schemas.openxmlformats.org/officeDocument/2006/relationships/hyperlink" Target="https://nsportal.ru/detskiy-sad/raznoe/2012/03/14/itogovoe-zanyatie-po-priobshcheniyu-detey-k-russkoy-narodnoy-kulture" TargetMode="External"/><Relationship Id="rId67" Type="http://schemas.openxmlformats.org/officeDocument/2006/relationships/hyperlink" Target="https://nsportal.ru/detskiy-sad/raznoe/2012/03/14/itogovoe-zanyatie-po-priobshcheniyu-detey-k-russkoy-narodnoy-kulture" TargetMode="External"/><Relationship Id="rId68" Type="http://schemas.openxmlformats.org/officeDocument/2006/relationships/hyperlink" Target="https://nsportal.ru/detskiy-sad/raznoe/2012/03/14/itogovoe-zanyatie-po-priobshcheniyu-detey-k-russkoy-narodnoy-kulture" TargetMode="External"/><Relationship Id="rId69" Type="http://schemas.openxmlformats.org/officeDocument/2006/relationships/hyperlink" Target="https://nsportal.ru/detskiy-sad/raznoe/2012/03/14/itogovoe-zanyatie-po-priobshcheniyu-detey-k-russkoy-narodnoy-kulture" TargetMode="External"/><Relationship Id="rId70" Type="http://schemas.openxmlformats.org/officeDocument/2006/relationships/hyperlink" Target="https://nsportal.ru/detskiy-sad/raznoe/2012/03/14/itogovoe-zanyatie-po-priobshcheniyu-detey-k-russkoy-narodnoy-kulture" TargetMode="External"/><Relationship Id="rId71" Type="http://schemas.openxmlformats.org/officeDocument/2006/relationships/hyperlink" Target="https://nsportal.ru/detskiy-sad/raznoe/2012/03/14/itogovoe-zanyatie-po-priobshcheniyu-detey-k-russkoy-narodnoy-kulture" TargetMode="External"/><Relationship Id="rId72" Type="http://schemas.openxmlformats.org/officeDocument/2006/relationships/hyperlink" Target="https://nsportal.ru/detskiy-sad/raznoe/2012/03/14/itogovoe-zanyatie-po-priobshcheniyu-detey-k-russkoy-narodnoy-kulture" TargetMode="External"/><Relationship Id="rId73" Type="http://schemas.openxmlformats.org/officeDocument/2006/relationships/hyperlink" Target="https://nsportal.ru/detskiy-sad/raznoe/2012/03/14/itogovoe-zanyatie-po-priobshcheniyu-detey-k-russkoy-narodnoy-kulture" TargetMode="External"/><Relationship Id="rId74" Type="http://schemas.openxmlformats.org/officeDocument/2006/relationships/hyperlink" Target="https://nsportal.ru/detskiy-sad/raznoe/2012/03/14/itogovoe-zanyatie-po-priobshcheniyu-detey-k-russkoy-narodnoy-kulture" TargetMode="External"/><Relationship Id="rId75" Type="http://schemas.openxmlformats.org/officeDocument/2006/relationships/hyperlink" Target="https://nsportal.ru/detskiy-sad/raznoe/2012/03/14/itogovoe-zanyatie-po-priobshcheniyu-detey-k-russkoy-narodnoy-kulture" TargetMode="External"/><Relationship Id="rId76" Type="http://schemas.openxmlformats.org/officeDocument/2006/relationships/hyperlink" Target="https://nsportal.ru/detskiy-sad/raznoe/2012/03/14/itogovoe-zanyatie-po-priobshcheniyu-detey-k-russkoy-narodnoy-kulture" TargetMode="External"/><Relationship Id="rId77" Type="http://schemas.openxmlformats.org/officeDocument/2006/relationships/hyperlink" Target="https://nsportal.ru/detskiy-sad/raznoe/2012/03/14/itogovoe-zanyatie-po-priobshcheniyu-detey-k-russkoy-narodnoy-kulture" TargetMode="External"/><Relationship Id="rId78" Type="http://schemas.openxmlformats.org/officeDocument/2006/relationships/hyperlink" Target="https://nsportal.ru/detskiy-sad/raznoe/2012/03/14/itogovoe-zanyatie-po-priobshcheniyu-detey-k-russkoy-narodnoy-kulture" TargetMode="External"/><Relationship Id="rId79" Type="http://schemas.openxmlformats.org/officeDocument/2006/relationships/hyperlink" Target="https://nsportal.ru/detskiy-sad/raznoe/2012/03/14/itogovoe-zanyatie-po-priobshcheniyu-detey-k-russkoy-narodnoy-kulture" TargetMode="External"/><Relationship Id="rId80" Type="http://schemas.openxmlformats.org/officeDocument/2006/relationships/hyperlink" Target="https://nsportal.ru/detskiy-sad/raznoe/2012/03/14/itogovoe-zanyatie-po-priobshcheniyu-detey-k-russkoy-narodnoy-kulture" TargetMode="External"/><Relationship Id="rId81" Type="http://schemas.openxmlformats.org/officeDocument/2006/relationships/hyperlink" Target="https://nsportal.ru/detskiy-sad/raznoe/2012/03/14/itogovoe-zanyatie-po-priobshcheniyu-detey-k-russkoy-narodnoy-kulture" TargetMode="External"/><Relationship Id="rId82" Type="http://schemas.openxmlformats.org/officeDocument/2006/relationships/hyperlink" Target="https://nsportal.ru/detskiy-sad/raznoe/2012/03/14/itogovoe-zanyatie-po-priobshcheniyu-detey-k-russkoy-narodnoy-kulture" TargetMode="External"/><Relationship Id="rId83" Type="http://schemas.openxmlformats.org/officeDocument/2006/relationships/hyperlink" Target="https://nsportal.ru/detskiy-sad/raznoe/2012/03/14/itogovoe-zanyatie-po-priobshcheniyu-detey-k-russkoy-narodnoy-kulture" TargetMode="External"/><Relationship Id="rId84" Type="http://schemas.openxmlformats.org/officeDocument/2006/relationships/hyperlink" Target="https://nsportal.ru/detskiy-sad/raznoe/2012/03/14/itogovoe-zanyatie-po-priobshcheniyu-detey-k-russkoy-narodnoy-kulture" TargetMode="External"/><Relationship Id="rId85" Type="http://schemas.openxmlformats.org/officeDocument/2006/relationships/hyperlink" Target="https://nsportal.ru/detskiy-sad/raznoe/2012/03/14/itogovoe-zanyatie-po-priobshcheniyu-detey-k-russkoy-narodnoy-kulture" TargetMode="External"/><Relationship Id="rId86" Type="http://schemas.openxmlformats.org/officeDocument/2006/relationships/hyperlink" Target="https://nsportal.ru/detskiy-sad/raznoe/2012/03/14/itogovoe-zanyatie-po-priobshcheniyu-detey-k-russkoy-narodnoy-kulture" TargetMode="External"/><Relationship Id="rId87" Type="http://schemas.openxmlformats.org/officeDocument/2006/relationships/hyperlink" Target="https://nsportal.ru/detskiy-sad/raznoe/2012/03/14/itogovoe-zanyatie-po-priobshcheniyu-detey-k-russkoy-narodnoy-kulture" TargetMode="External"/><Relationship Id="rId88" Type="http://schemas.openxmlformats.org/officeDocument/2006/relationships/hyperlink" Target="https://nsportal.ru/detskiy-sad/raznoe/2012/03/14/itogovoe-zanyatie-po-priobshcheniyu-detey-k-russkoy-narodnoy-kulture" TargetMode="External"/><Relationship Id="rId89" Type="http://schemas.openxmlformats.org/officeDocument/2006/relationships/hyperlink" Target="https://nsportal.ru/detskiy-sad/raznoe/2012/03/14/itogovoe-zanyatie-po-priobshcheniyu-detey-k-russkoy-narodnoy-kulture" TargetMode="External"/><Relationship Id="rId90" Type="http://schemas.openxmlformats.org/officeDocument/2006/relationships/hyperlink" Target="https://nsportal.ru/detskiy-sad/raznoe/2012/03/14/itogovoe-zanyatie-po-priobshcheniyu-detey-k-russkoy-narodnoy-kulture" TargetMode="External"/><Relationship Id="rId91" Type="http://schemas.openxmlformats.org/officeDocument/2006/relationships/hyperlink" Target="https://nsportal.ru/detskiy-sad/raznoe/2012/03/14/itogovoe-zanyatie-po-priobshcheniyu-detey-k-russkoy-narodnoy-kulture" TargetMode="External"/><Relationship Id="rId92" Type="http://schemas.openxmlformats.org/officeDocument/2006/relationships/hyperlink" Target="https://nsportal.ru/detskiy-sad/raznoe/2012/03/14/itogovoe-zanyatie-po-priobshcheniyu-detey-k-russkoy-narodnoy-kulture" TargetMode="External"/><Relationship Id="rId93" Type="http://schemas.openxmlformats.org/officeDocument/2006/relationships/hyperlink" Target="https://nsportal.ru/detskiy-sad/raznoe/2012/03/14/itogovoe-zanyatie-po-priobshcheniyu-detey-k-russkoy-narodnoy-kulture" TargetMode="External"/><Relationship Id="rId94" Type="http://schemas.openxmlformats.org/officeDocument/2006/relationships/hyperlink" Target="https://nsportal.ru/detskiy-sad/raznoe/2012/03/14/itogovoe-zanyatie-po-priobshcheniyu-detey-k-russkoy-narodnoy-kulture" TargetMode="External"/><Relationship Id="rId95" Type="http://schemas.openxmlformats.org/officeDocument/2006/relationships/hyperlink" Target="https://nsportal.ru/detskiy-sad/raznoe/2012/03/14/itogovoe-zanyatie-po-priobshcheniyu-detey-k-russkoy-narodnoy-kulture" TargetMode="External"/><Relationship Id="rId96" Type="http://schemas.openxmlformats.org/officeDocument/2006/relationships/hyperlink" Target="https://nsportal.ru/detskiy-sad/raznoe/2012/03/14/itogovoe-zanyatie-po-priobshcheniyu-detey-k-russkoy-narodnoy-kulture" TargetMode="External"/><Relationship Id="rId97" Type="http://schemas.openxmlformats.org/officeDocument/2006/relationships/hyperlink" Target="https://nsportal.ru/detskiy-sad/raznoe/2012/03/14/itogovoe-zanyatie-po-priobshcheniyu-detey-k-russkoy-narodnoy-kulture" TargetMode="External"/><Relationship Id="rId98" Type="http://schemas.openxmlformats.org/officeDocument/2006/relationships/hyperlink" Target="https://nsportal.ru/detskiy-sad/raznoe/2012/03/14/itogovoe-zanyatie-po-priobshcheniyu-detey-k-russkoy-narodnoy-kulture" TargetMode="External"/><Relationship Id="rId99" Type="http://schemas.openxmlformats.org/officeDocument/2006/relationships/hyperlink" Target="https://nsportal.ru/detskiy-sad/raznoe/2012/03/14/itogovoe-zanyatie-po-priobshcheniyu-detey-k-russkoy-narodnoy-kulture" TargetMode="External"/><Relationship Id="rId100" Type="http://schemas.openxmlformats.org/officeDocument/2006/relationships/hyperlink" Target="https://nsportal.ru/detskiy-sad/raznoe/2012/03/14/itogovoe-zanyatie-po-priobshcheniyu-detey-k-russkoy-narodnoy-kulture" TargetMode="External"/><Relationship Id="rId101" Type="http://schemas.openxmlformats.org/officeDocument/2006/relationships/hyperlink" Target="https://nsportal.ru/detskiy-sad/raznoe/2012/03/14/itogovoe-zanyatie-po-priobshcheniyu-detey-k-russkoy-narodnoy-kulture" TargetMode="External"/><Relationship Id="rId102" Type="http://schemas.openxmlformats.org/officeDocument/2006/relationships/hyperlink" Target="https://nsportal.ru/detskiy-sad/raznoe/2012/03/14/itogovoe-zanyatie-po-priobshcheniyu-detey-k-russkoy-narodnoy-kulture" TargetMode="External"/><Relationship Id="rId103" Type="http://schemas.openxmlformats.org/officeDocument/2006/relationships/hyperlink" Target="https://nsportal.ru/detskiy-sad/raznoe/2012/03/14/itogovoe-zanyatie-po-priobshcheniyu-detey-k-russkoy-narodnoy-kulture" TargetMode="External"/><Relationship Id="rId104" Type="http://schemas.openxmlformats.org/officeDocument/2006/relationships/hyperlink" Target="https://nsportal.ru/detskiy-sad/raznoe/2012/03/14/itogovoe-zanyatie-po-priobshcheniyu-detey-k-russkoy-narodnoy-kulture" TargetMode="External"/><Relationship Id="rId105" Type="http://schemas.openxmlformats.org/officeDocument/2006/relationships/hyperlink" Target="https://nsportal.ru/detskiy-sad/raznoe/2012/03/14/itogovoe-zanyatie-po-priobshcheniyu-detey-k-russkoy-narodnoy-kulture" TargetMode="External"/><Relationship Id="rId106" Type="http://schemas.openxmlformats.org/officeDocument/2006/relationships/hyperlink" Target="https://nsportal.ru/detskiy-sad/raznoe/2012/03/14/itogovoe-zanyatie-po-priobshcheniyu-detey-k-russkoy-narodnoy-kulture" TargetMode="External"/><Relationship Id="rId107" Type="http://schemas.openxmlformats.org/officeDocument/2006/relationships/hyperlink" Target="https://nsportal.ru/detskiy-sad/raznoe/2012/03/14/itogovoe-zanyatie-po-priobshcheniyu-detey-k-russkoy-narodnoy-kulture" TargetMode="External"/><Relationship Id="rId108" Type="http://schemas.openxmlformats.org/officeDocument/2006/relationships/hyperlink" Target="https://nsportal.ru/detskiy-sad/raznoe/2012/03/14/itogovoe-zanyatie-po-priobshcheniyu-detey-k-russkoy-narodnoy-kulture" TargetMode="External"/><Relationship Id="rId109" Type="http://schemas.openxmlformats.org/officeDocument/2006/relationships/hyperlink" Target="https://nsportal.ru/detskiy-sad/raznoe/2012/03/14/itogovoe-zanyatie-po-priobshcheniyu-detey-k-russkoy-narodnoy-kulture" TargetMode="External"/><Relationship Id="rId110" Type="http://schemas.openxmlformats.org/officeDocument/2006/relationships/hyperlink" Target="https://nsportal.ru/detskiy-sad/raznoe/2012/03/14/itogovoe-zanyatie-po-priobshcheniyu-detey-k-russkoy-narodnoy-kulture" TargetMode="External"/><Relationship Id="rId111" Type="http://schemas.openxmlformats.org/officeDocument/2006/relationships/hyperlink" Target="https://nsportal.ru/detskiy-sad/raznoe/2012/03/14/itogovoe-zanyatie-po-priobshcheniyu-detey-k-russkoy-narodnoy-kulture" TargetMode="External"/><Relationship Id="rId112" Type="http://schemas.openxmlformats.org/officeDocument/2006/relationships/hyperlink" Target="https://nsportal.ru/detskiy-sad/raznoe/2012/03/14/itogovoe-zanyatie-po-priobshcheniyu-detey-k-russkoy-narodnoy-kulture" TargetMode="External"/><Relationship Id="rId113" Type="http://schemas.openxmlformats.org/officeDocument/2006/relationships/hyperlink" Target="https://nsportal.ru/detskiy-sad/raznoe/2012/03/14/itogovoe-zanyatie-po-priobshcheniyu-detey-k-russkoy-narodnoy-kulture" TargetMode="External"/><Relationship Id="rId114" Type="http://schemas.openxmlformats.org/officeDocument/2006/relationships/hyperlink" Target="https://nsportal.ru/detskiy-sad/raznoe/2012/03/14/itogovoe-zanyatie-po-priobshcheniyu-detey-k-russkoy-narodnoy-kulture" TargetMode="External"/><Relationship Id="rId115" Type="http://schemas.openxmlformats.org/officeDocument/2006/relationships/hyperlink" Target="https://nsportal.ru/detskiy-sad/raznoe/2012/03/14/itogovoe-zanyatie-po-priobshcheniyu-detey-k-russkoy-narodnoy-kulture" TargetMode="External"/><Relationship Id="rId116" Type="http://schemas.openxmlformats.org/officeDocument/2006/relationships/hyperlink" Target="https://nsportal.ru/detskiy-sad/raznoe/2012/03/14/itogovoe-zanyatie-po-priobshcheniyu-detey-k-russkoy-narodnoy-kulture" TargetMode="External"/><Relationship Id="rId117" Type="http://schemas.openxmlformats.org/officeDocument/2006/relationships/hyperlink" Target="https://nsportal.ru/detskiy-sad/raznoe/2012/03/14/itogovoe-zanyatie-po-priobshcheniyu-detey-k-russkoy-narodnoy-kulture" TargetMode="External"/><Relationship Id="rId118" Type="http://schemas.openxmlformats.org/officeDocument/2006/relationships/hyperlink" Target="https://nsportal.ru/detskiy-sad/raznoe/2012/03/14/itogovoe-zanyatie-po-priobshcheniyu-detey-k-russkoy-narodnoy-kulture" TargetMode="External"/><Relationship Id="rId119" Type="http://schemas.openxmlformats.org/officeDocument/2006/relationships/hyperlink" Target="https://nsportal.ru/detskiy-sad/raznoe/2012/03/14/itogovoe-zanyatie-po-priobshcheniyu-detey-k-russkoy-narodnoy-kulture" TargetMode="External"/><Relationship Id="rId120" Type="http://schemas.openxmlformats.org/officeDocument/2006/relationships/hyperlink" Target="https://nsportal.ru/detskiy-sad/raznoe/2012/03/14/itogovoe-zanyatie-po-priobshcheniyu-detey-k-russkoy-narodnoy-kulture" TargetMode="External"/><Relationship Id="rId121" Type="http://schemas.openxmlformats.org/officeDocument/2006/relationships/hyperlink" Target="https://nsportal.ru/detskiy-sad/raznoe/2012/03/14/itogovoe-zanyatie-po-priobshcheniyu-detey-k-russkoy-narodnoy-kulture" TargetMode="External"/><Relationship Id="rId122" Type="http://schemas.openxmlformats.org/officeDocument/2006/relationships/hyperlink" Target="https://nsportal.ru/detskiy-sad/raznoe/2012/03/14/itogovoe-zanyatie-po-priobshcheniyu-detey-k-russkoy-narodnoy-kulture" TargetMode="External"/><Relationship Id="rId123" Type="http://schemas.openxmlformats.org/officeDocument/2006/relationships/hyperlink" Target="https://nsportal.ru/detskiy-sad/raznoe/2012/03/14/itogovoe-zanyatie-po-priobshcheniyu-detey-k-russkoy-narodnoy-kulture" TargetMode="External"/><Relationship Id="rId124" Type="http://schemas.openxmlformats.org/officeDocument/2006/relationships/hyperlink" Target="https://nsportal.ru/detskiy-sad/raznoe/2012/03/14/itogovoe-zanyatie-po-priobshcheniyu-detey-k-russkoy-narodnoy-kulture" TargetMode="External"/><Relationship Id="rId125" Type="http://schemas.openxmlformats.org/officeDocument/2006/relationships/hyperlink" Target="https://nsportal.ru/detskiy-sad/raznoe/2012/03/14/itogovoe-zanyatie-po-priobshcheniyu-detey-k-russkoy-narodnoy-kulture" TargetMode="External"/><Relationship Id="rId126" Type="http://schemas.openxmlformats.org/officeDocument/2006/relationships/hyperlink" Target="https://nsportal.ru/detskiy-sad/raznoe/2012/03/14/itogovoe-zanyatie-po-priobshcheniyu-detey-k-russkoy-narodnoy-kulture" TargetMode="External"/><Relationship Id="rId127" Type="http://schemas.openxmlformats.org/officeDocument/2006/relationships/hyperlink" Target="https://nsportal.ru/detskiy-sad/raznoe/2012/03/14/itogovoe-zanyatie-po-priobshcheniyu-detey-k-russkoy-narodnoy-kulture" TargetMode="External"/><Relationship Id="rId128" Type="http://schemas.openxmlformats.org/officeDocument/2006/relationships/hyperlink" Target="https://nsportal.ru/detskiy-sad/raznoe/2012/03/14/itogovoe-zanyatie-po-priobshcheniyu-detey-k-russkoy-narodnoy-kulture" TargetMode="External"/><Relationship Id="rId129" Type="http://schemas.openxmlformats.org/officeDocument/2006/relationships/hyperlink" Target="https://nsportal.ru/detskiy-sad/raznoe/2012/03/14/itogovoe-zanyatie-po-priobshcheniyu-detey-k-russkoy-narodnoy-kulture" TargetMode="External"/><Relationship Id="rId130" Type="http://schemas.openxmlformats.org/officeDocument/2006/relationships/hyperlink" Target="https://nsportal.ru/detskiy-sad/raznoe/2012/03/14/itogovoe-zanyatie-po-priobshcheniyu-detey-k-russkoy-narodnoy-kulture" TargetMode="External"/><Relationship Id="rId131" Type="http://schemas.openxmlformats.org/officeDocument/2006/relationships/hyperlink" Target="https://nsportal.ru/detskiy-sad/raznoe/2012/03/14/itogovoe-zanyatie-po-priobshcheniyu-detey-k-russkoy-narodnoy-kulture" TargetMode="External"/><Relationship Id="rId132" Type="http://schemas.openxmlformats.org/officeDocument/2006/relationships/hyperlink" Target="https://nsportal.ru/detskiy-sad/raznoe/2012/03/14/itogovoe-zanyatie-po-priobshcheniyu-detey-k-russkoy-narodnoy-kulture" TargetMode="External"/><Relationship Id="rId133" Type="http://schemas.openxmlformats.org/officeDocument/2006/relationships/hyperlink" Target="https://nsportal.ru/detskiy-sad/raznoe/2012/03/14/itogovoe-zanyatie-po-priobshcheniyu-detey-k-russkoy-narodnoy-kulture" TargetMode="External"/><Relationship Id="rId134" Type="http://schemas.openxmlformats.org/officeDocument/2006/relationships/hyperlink" Target="https://nsportal.ru/detskiy-sad/raznoe/2012/03/14/itogovoe-zanyatie-po-priobshcheniyu-detey-k-russkoy-narodnoy-kulture" TargetMode="External"/><Relationship Id="rId135" Type="http://schemas.openxmlformats.org/officeDocument/2006/relationships/hyperlink" Target="https://nsportal.ru/detskiy-sad/raznoe/2012/03/14/itogovoe-zanyatie-po-priobshcheniyu-detey-k-russkoy-narodnoy-kulture" TargetMode="External"/><Relationship Id="rId136" Type="http://schemas.openxmlformats.org/officeDocument/2006/relationships/hyperlink" Target="https://nsportal.ru/detskiy-sad/raznoe/2012/03/14/itogovoe-zanyatie-po-priobshcheniyu-detey-k-russkoy-narodnoy-kulture" TargetMode="External"/><Relationship Id="rId137" Type="http://schemas.openxmlformats.org/officeDocument/2006/relationships/hyperlink" Target="https://nsportal.ru/detskiy-sad/raznoe/2012/03/14/itogovoe-zanyatie-po-priobshcheniyu-detey-k-russkoy-narodnoy-kulture" TargetMode="External"/><Relationship Id="rId138" Type="http://schemas.openxmlformats.org/officeDocument/2006/relationships/hyperlink" Target="https://nsportal.ru/detskiy-sad/raznoe/2012/03/14/itogovoe-zanyatie-po-priobshcheniyu-detey-k-russkoy-narodnoy-kulture" TargetMode="External"/><Relationship Id="rId139" Type="http://schemas.openxmlformats.org/officeDocument/2006/relationships/hyperlink" Target="https://nsportal.ru/detskiy-sad/raznoe/2012/03/14/itogovoe-zanyatie-po-priobshcheniyu-detey-k-russkoy-narodnoy-kulture" TargetMode="External"/><Relationship Id="rId140" Type="http://schemas.openxmlformats.org/officeDocument/2006/relationships/hyperlink" Target="https://nsportal.ru/detskiy-sad/raznoe/2012/03/14/itogovoe-zanyatie-po-priobshcheniyu-detey-k-russkoy-narodnoy-kulture" TargetMode="External"/><Relationship Id="rId141" Type="http://schemas.openxmlformats.org/officeDocument/2006/relationships/hyperlink" Target="https://nsportal.ru/detskiy-sad/raznoe/2012/03/14/itogovoe-zanyatie-po-priobshcheniyu-detey-k-russkoy-narodnoy-kulture" TargetMode="External"/><Relationship Id="rId142" Type="http://schemas.openxmlformats.org/officeDocument/2006/relationships/hyperlink" Target="https://nsportal.ru/detskiy-sad/raznoe/2012/03/14/itogovoe-zanyatie-po-priobshcheniyu-detey-k-russkoy-narodnoy-kulture" TargetMode="External"/><Relationship Id="rId143" Type="http://schemas.openxmlformats.org/officeDocument/2006/relationships/hyperlink" Target="https://nsportal.ru/detskiy-sad/raznoe/2012/03/14/itogovoe-zanyatie-po-priobshcheniyu-detey-k-russkoy-narodnoy-kulture" TargetMode="External"/><Relationship Id="rId144" Type="http://schemas.openxmlformats.org/officeDocument/2006/relationships/hyperlink" Target="https://nsportal.ru/detskiy-sad/raznoe/2012/03/14/itogovoe-zanyatie-po-priobshcheniyu-detey-k-russkoy-narodnoy-kulture" TargetMode="External"/><Relationship Id="rId145" Type="http://schemas.openxmlformats.org/officeDocument/2006/relationships/hyperlink" Target="https://nsportal.ru/detskiy-sad/raznoe/2012/03/14/itogovoe-zanyatie-po-priobshcheniyu-detey-k-russkoy-narodnoy-kulture" TargetMode="External"/><Relationship Id="rId146" Type="http://schemas.openxmlformats.org/officeDocument/2006/relationships/hyperlink" Target="https://nsportal.ru/detskiy-sad/raznoe/2012/03/14/itogovoe-zanyatie-po-priobshcheniyu-detey-k-russkoy-narodnoy-kulture" TargetMode="External"/><Relationship Id="rId147" Type="http://schemas.openxmlformats.org/officeDocument/2006/relationships/hyperlink" Target="https://nsportal.ru/detskiy-sad/raznoe/2012/03/14/itogovoe-zanyatie-po-priobshcheniyu-detey-k-russkoy-narodnoy-kulture" TargetMode="External"/><Relationship Id="rId148" Type="http://schemas.openxmlformats.org/officeDocument/2006/relationships/hyperlink" Target="https://nsportal.ru/detskiy-sad/raznoe/2012/03/14/itogovoe-zanyatie-po-priobshcheniyu-detey-k-russkoy-narodnoy-kulture" TargetMode="External"/><Relationship Id="rId149" Type="http://schemas.openxmlformats.org/officeDocument/2006/relationships/hyperlink" Target="https://nsportal.ru/detskiy-sad/raznoe/2012/03/14/itogovoe-zanyatie-po-priobshcheniyu-detey-k-russkoy-narodnoy-kulture" TargetMode="External"/><Relationship Id="rId150" Type="http://schemas.openxmlformats.org/officeDocument/2006/relationships/hyperlink" Target="https://nsportal.ru/detskiy-sad/raznoe/2012/03/14/itogovoe-zanyatie-po-priobshcheniyu-detey-k-russkoy-narodnoy-kulture" TargetMode="External"/><Relationship Id="rId151" Type="http://schemas.openxmlformats.org/officeDocument/2006/relationships/hyperlink" Target="https://nsportal.ru/detskiy-sad/raznoe/2012/03/14/itogovoe-zanyatie-po-priobshcheniyu-detey-k-russkoy-narodnoy-kulture" TargetMode="External"/><Relationship Id="rId152" Type="http://schemas.openxmlformats.org/officeDocument/2006/relationships/hyperlink" Target="https://nsportal.ru/detskiy-sad/raznoe/2012/03/14/itogovoe-zanyatie-po-priobshcheniyu-detey-k-russkoy-narodnoy-kulture" TargetMode="External"/><Relationship Id="rId153" Type="http://schemas.openxmlformats.org/officeDocument/2006/relationships/hyperlink" Target="https://nsportal.ru/detskiy-sad/raznoe/2012/03/14/itogovoe-zanyatie-po-priobshcheniyu-detey-k-russkoy-narodnoy-kulture" TargetMode="External"/><Relationship Id="rId154" Type="http://schemas.openxmlformats.org/officeDocument/2006/relationships/hyperlink" Target="https://nsportal.ru/detskiy-sad/raznoe/2012/03/14/itogovoe-zanyatie-po-priobshcheniyu-detey-k-russkoy-narodnoy-kulture" TargetMode="External"/><Relationship Id="rId155" Type="http://schemas.openxmlformats.org/officeDocument/2006/relationships/hyperlink" Target="https://nsportal.ru/detskiy-sad/raznoe/2012/03/14/itogovoe-zanyatie-po-priobshcheniyu-detey-k-russkoy-narodnoy-kulture" TargetMode="External"/><Relationship Id="rId156" Type="http://schemas.openxmlformats.org/officeDocument/2006/relationships/hyperlink" Target="https://nsportal.ru/detskiy-sad/raznoe/2012/03/14/itogovoe-zanyatie-po-priobshcheniyu-detey-k-russkoy-narodnoy-kulture" TargetMode="External"/><Relationship Id="rId157" Type="http://schemas.openxmlformats.org/officeDocument/2006/relationships/hyperlink" Target="https://nsportal.ru/detskiy-sad/raznoe/2012/03/14/itogovoe-zanyatie-po-priobshcheniyu-detey-k-russkoy-narodnoy-kulture" TargetMode="External"/><Relationship Id="rId158" Type="http://schemas.openxmlformats.org/officeDocument/2006/relationships/hyperlink" Target="https://nsportal.ru/detskiy-sad/raznoe/2012/03/14/itogovoe-zanyatie-po-priobshcheniyu-detey-k-russkoy-narodnoy-kulture" TargetMode="External"/><Relationship Id="rId159" Type="http://schemas.openxmlformats.org/officeDocument/2006/relationships/hyperlink" Target="https://nsportal.ru/detskiy-sad/raznoe/2012/03/14/itogovoe-zanyatie-po-priobshcheniyu-detey-k-russkoy-narodnoy-kulture" TargetMode="External"/><Relationship Id="rId160" Type="http://schemas.openxmlformats.org/officeDocument/2006/relationships/hyperlink" Target="https://nsportal.ru/detskiy-sad/raznoe/2012/03/14/itogovoe-zanyatie-po-priobshcheniyu-detey-k-russkoy-narodnoy-kulture" TargetMode="External"/><Relationship Id="rId161" Type="http://schemas.openxmlformats.org/officeDocument/2006/relationships/hyperlink" Target="https://nsportal.ru/detskiy-sad/raznoe/2012/03/14/itogovoe-zanyatie-po-priobshcheniyu-detey-k-russkoy-narodnoy-kulture" TargetMode="External"/><Relationship Id="rId162" Type="http://schemas.openxmlformats.org/officeDocument/2006/relationships/hyperlink" Target="https://nsportal.ru/detskiy-sad/raznoe/2012/03/14/itogovoe-zanyatie-po-priobshcheniyu-detey-k-russkoy-narodnoy-kulture" TargetMode="External"/><Relationship Id="rId163" Type="http://schemas.openxmlformats.org/officeDocument/2006/relationships/hyperlink" Target="https://nsportal.ru/detskiy-sad/raznoe/2012/03/14/itogovoe-zanyatie-po-priobshcheniyu-detey-k-russkoy-narodnoy-kulture" TargetMode="External"/><Relationship Id="rId164" Type="http://schemas.openxmlformats.org/officeDocument/2006/relationships/hyperlink" Target="https://nsportal.ru/detskiy-sad/raznoe/2012/03/14/itogovoe-zanyatie-po-priobshcheniyu-detey-k-russkoy-narodnoy-kulture" TargetMode="External"/><Relationship Id="rId165" Type="http://schemas.openxmlformats.org/officeDocument/2006/relationships/hyperlink" Target="https://nsportal.ru/detskiy-sad/raznoe/2012/03/14/itogovoe-zanyatie-po-priobshcheniyu-detey-k-russkoy-narodnoy-kulture" TargetMode="External"/><Relationship Id="rId166" Type="http://schemas.openxmlformats.org/officeDocument/2006/relationships/hyperlink" Target="https://nsportal.ru/detskiy-sad/raznoe/2012/03/14/itogovoe-zanyatie-po-priobshcheniyu-detey-k-russkoy-narodnoy-kulture" TargetMode="External"/><Relationship Id="rId167" Type="http://schemas.openxmlformats.org/officeDocument/2006/relationships/hyperlink" Target="https://nsportal.ru/detskiy-sad/raznoe/2012/03/14/itogovoe-zanyatie-po-priobshcheniyu-detey-k-russkoy-narodnoy-kulture" TargetMode="External"/><Relationship Id="rId168" Type="http://schemas.openxmlformats.org/officeDocument/2006/relationships/hyperlink" Target="https://nsportal.ru/detskiy-sad/raznoe/2012/03/14/itogovoe-zanyatie-po-priobshcheniyu-detey-k-russkoy-narodnoy-kulture" TargetMode="External"/><Relationship Id="rId169" Type="http://schemas.openxmlformats.org/officeDocument/2006/relationships/hyperlink" Target="https://nsportal.ru/detskiy-sad/raznoe/2012/03/14/itogovoe-zanyatie-po-priobshcheniyu-detey-k-russkoy-narodnoy-kulture" TargetMode="External"/><Relationship Id="rId170" Type="http://schemas.openxmlformats.org/officeDocument/2006/relationships/hyperlink" Target="https://nsportal.ru/detskiy-sad/raznoe/2012/03/14/itogovoe-zanyatie-po-priobshcheniyu-detey-k-russkoy-narodnoy-kulture" TargetMode="External"/><Relationship Id="rId171" Type="http://schemas.openxmlformats.org/officeDocument/2006/relationships/hyperlink" Target="https://nsportal.ru/detskiy-sad/raznoe/2012/03/14/itogovoe-zanyatie-po-priobshcheniyu-detey-k-russkoy-narodnoy-kulture" TargetMode="External"/><Relationship Id="rId172" Type="http://schemas.openxmlformats.org/officeDocument/2006/relationships/hyperlink" Target="https://nsportal.ru/detskiy-sad/raznoe/2012/03/14/itogovoe-zanyatie-po-priobshcheniyu-detey-k-russkoy-narodnoy-kulture" TargetMode="External"/><Relationship Id="rId173" Type="http://schemas.openxmlformats.org/officeDocument/2006/relationships/hyperlink" Target="https://nsportal.ru/detskiy-sad/raznoe/2012/03/14/itogovoe-zanyatie-po-priobshcheniyu-detey-k-russkoy-narodnoy-kulture" TargetMode="External"/><Relationship Id="rId17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990720" y="68580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стиха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 ремеслах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304920" y="47242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месло – навык, умение человека производ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ую –либо вещь, издел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914400" y="632880"/>
            <a:ext cx="7391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до лошадь подковать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ить ключ к замку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угодно – все смог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же меч – кладенец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месло мое - …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узне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3" descr="D:\Ольга\картинки\orig_af07a68b726eb9ea3088e24244fa7182.jpg"/>
          <p:cNvPicPr/>
          <p:nvPr/>
        </p:nvPicPr>
        <p:blipFill>
          <a:blip r:embed="rId1"/>
          <a:stretch/>
        </p:blipFill>
        <p:spPr>
          <a:xfrm>
            <a:off x="2362320" y="4267080"/>
            <a:ext cx="29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380880" y="609480"/>
            <a:ext cx="838224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есь сработают подковы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, два, три, они готовы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лошадку подкуют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й копыта берегут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уваются мех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нят косы, лемеха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есь горит огонь в печи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стер делает мечи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оточков слышен стук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, два, три, готов сундук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дед мастера - Левша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мотри, но не мешай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зниц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3" descr="D:\Ольга\картинки\cd5209288dbad35305a9ad4f3cf3c2ea_full.jpg"/>
          <p:cNvPicPr/>
          <p:nvPr/>
        </p:nvPicPr>
        <p:blipFill>
          <a:blip r:embed="rId1"/>
          <a:stretch/>
        </p:blipFill>
        <p:spPr>
          <a:xfrm>
            <a:off x="5791320" y="1600200"/>
            <a:ext cx="3047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934560"/>
            <a:ext cx="8001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лю вам из глин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иску, крынку и горшок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меня отличный дар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месло мое…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нча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3" descr="D:\Ольга\картинки\img_11.jpg"/>
          <p:cNvPicPr/>
          <p:nvPr/>
        </p:nvPicPr>
        <p:blipFill>
          <a:blip r:embed="rId1"/>
          <a:stretch/>
        </p:blipFill>
        <p:spPr>
          <a:xfrm>
            <a:off x="6248520" y="2362320"/>
            <a:ext cx="25970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895480" y="709200"/>
            <a:ext cx="6096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 пушистой шерст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пряду я пряж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мотаю всё в клубоч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свяжу носочк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 теплую рубаху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то я….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я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Рисунок 2" descr="D:\Ольга\картинки\s1200.jpg"/>
          <p:cNvPicPr/>
          <p:nvPr/>
        </p:nvPicPr>
        <p:blipFill>
          <a:blip r:embed="rId1"/>
          <a:stretch/>
        </p:blipFill>
        <p:spPr>
          <a:xfrm>
            <a:off x="228600" y="2666880"/>
            <a:ext cx="2567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380880" y="685800"/>
            <a:ext cx="6096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ужен вам полови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и ткань красива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лю в один миг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правляюсь лихо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емесло мое…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качих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Рисунок 2" descr="D:\Ольга\картинки\яяяяяяяяяяяяяс.jpg"/>
          <p:cNvPicPr/>
          <p:nvPr/>
        </p:nvPicPr>
        <p:blipFill>
          <a:blip r:embed="rId1"/>
          <a:stretch/>
        </p:blipFill>
        <p:spPr>
          <a:xfrm>
            <a:off x="5791320" y="2666880"/>
            <a:ext cx="3073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057400" y="609480"/>
            <a:ext cx="6400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рагоценности, алмазы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корили уж весь ми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готовлю украшенья 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Я отличный ….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Ювели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Рисунок 2" descr="D:\Ольга\картинки\triola-jeweller.jpg"/>
          <p:cNvPicPr/>
          <p:nvPr/>
        </p:nvPicPr>
        <p:blipFill>
          <a:blip r:embed="rId1"/>
          <a:stretch/>
        </p:blipFill>
        <p:spPr>
          <a:xfrm>
            <a:off x="457200" y="3581280"/>
            <a:ext cx="3581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и информац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зниц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zagadki.info/zag/remesla.htm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8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0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2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4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6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8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0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Гончар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1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2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3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4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5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6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7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9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0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1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2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3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5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7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9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1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3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5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7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59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Ткачиха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0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1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2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3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4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5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6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68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9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0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1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2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4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6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78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0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2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4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6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8"/>
              </a:rPr>
              <a:t>kultur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Ювелир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89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0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1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2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3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4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5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7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8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99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0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1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3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5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7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09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1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3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5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7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узнец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18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19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0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1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2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3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4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6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7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28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29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0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2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4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6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7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38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39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0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1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2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3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4"/>
              </a:rPr>
              <a:t>narodn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5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6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 u="sng">
                <a:solidFill>
                  <a:srgbClr val="ffc000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ряха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7"/>
              </a:rPr>
              <a:t>https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48"/>
              </a:rPr>
              <a:t>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49"/>
              </a:rPr>
              <a:t>nsportal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0"/>
              </a:rPr>
              <a:t>.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1"/>
              </a:rPr>
              <a:t>r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2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3"/>
              </a:rPr>
              <a:t>detski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5"/>
              </a:rPr>
              <a:t>sad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6"/>
              </a:rPr>
              <a:t>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7"/>
              </a:rPr>
              <a:t>razn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58"/>
              </a:rPr>
              <a:t>/2012/03/14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59"/>
              </a:rPr>
              <a:t>itogovo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1"/>
              </a:rPr>
              <a:t>zanyatie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3"/>
              </a:rPr>
              <a:t>po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4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5"/>
              </a:rPr>
              <a:t>priobshcheniyu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6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7"/>
              </a:rPr>
              <a:t>dete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68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69"/>
              </a:rPr>
              <a:t>k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70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71"/>
              </a:rPr>
              <a:t>russkoy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72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73"/>
              </a:rPr>
              <a:t>narodnoy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kulture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https://yandex.ru/search/?t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08:44:20Z</dcterms:created>
  <dc:creator>Alena</dc:creator>
  <dc:description/>
  <dc:language>en-US</dc:language>
  <cp:lastModifiedBy>Admin</cp:lastModifiedBy>
  <dcterms:modified xsi:type="dcterms:W3CDTF">2019-04-15T05:44:3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