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696-82D1-4B31-BC68-981DFC54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08D-97C0-480B-A782-C7B1205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2FA-137B-4015-BBC2-B86E830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40B-183B-4478-9FA7-C0493905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D43-0D32-4A1A-B17C-65803BEB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13E4-4C1C-4C7F-BD61-9F7AA24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81C4-65C1-497D-AD35-8E68432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6941-4688-4486-A6B6-A25D6AF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9E2B-D9F6-4762-AA64-71A8FCB9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F93-E340-43B9-AA41-169487E4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CD04-F9E1-4BA1-A4A3-E057E0E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892-8839-4542-ACBF-6CD56D5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46D-9BD3-4241-A8A9-12DD003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9A0-B9E3-41BE-8530-145EE1A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AB47-6415-4EBE-9EFE-D4D7A7B0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155-BDF0-4579-A786-3DB03C9C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2D9-F8C4-4B35-953F-9AAF13B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1F4-C6FD-4961-99BB-2CD05C0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AD6-0916-404B-84BA-7E3CE574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DEB-CF93-4C00-8BAE-E695E70E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64C-CC04-4D93-A4E7-48AB3D53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241-64D8-453F-B0B1-4FC2C8C8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704-557E-4CB3-A457-71656D3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C55-143B-498F-AB4B-1FF693E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da900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bd81e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D72F-5B5B-42AD-89EC-6E21D8B4A16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9c9800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bd81e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F18-B3FC-42A0-A96E-45D729715B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zagadki.info/zag/remesla.html" TargetMode="External"/><Relationship Id="rId2" Type="http://schemas.openxmlformats.org/officeDocument/2006/relationships/hyperlink" Target="https://nsportal.ru/detskiy-sad/raznoe/2012/03/14/itogovoe-zanyatie-po-priobshcheniyu-detey-k-russkoy-narodnoy-kulture" TargetMode="External"/><Relationship Id="rId3" Type="http://schemas.openxmlformats.org/officeDocument/2006/relationships/hyperlink" Target="https://nsportal.ru/detskiy-sad/raznoe/2012/03/14/itogovoe-zanyatie-po-priobshcheniyu-detey-k-russkoy-narodnoy-kulture" TargetMode="External"/><Relationship Id="rId4" Type="http://schemas.openxmlformats.org/officeDocument/2006/relationships/hyperlink" Target="https://nsportal.ru/detskiy-sad/raznoe/2012/03/14/itogovoe-zanyatie-po-priobshcheniyu-detey-k-russkoy-narodnoy-kulture" TargetMode="External"/><Relationship Id="rId5" Type="http://schemas.openxmlformats.org/officeDocument/2006/relationships/hyperlink" Target="https://nsportal.ru/detskiy-sad/raznoe/2012/03/14/itogovoe-zanyatie-po-priobshcheniyu-detey-k-russkoy-narodnoy-kulture" TargetMode="External"/><Relationship Id="rId6" Type="http://schemas.openxmlformats.org/officeDocument/2006/relationships/hyperlink" Target="https://nsportal.ru/detskiy-sad/raznoe/2012/03/14/itogovoe-zanyatie-po-priobshcheniyu-detey-k-russkoy-narodnoy-kulture" TargetMode="External"/><Relationship Id="rId7" Type="http://schemas.openxmlformats.org/officeDocument/2006/relationships/hyperlink" Target="https://nsportal.ru/detskiy-sad/raznoe/2012/03/14/itogovoe-zanyatie-po-priobshcheniyu-detey-k-russkoy-narodnoy-kulture" TargetMode="External"/><Relationship Id="rId8" Type="http://schemas.openxmlformats.org/officeDocument/2006/relationships/hyperlink" Target="https://nsportal.ru/detskiy-sad/raznoe/2012/03/14/itogovoe-zanyatie-po-priobshcheniyu-detey-k-russkoy-narodnoy-kulture" TargetMode="External"/><Relationship Id="rId9" Type="http://schemas.openxmlformats.org/officeDocument/2006/relationships/hyperlink" Target="https://nsportal.ru/detskiy-sad/raznoe/2012/03/14/itogovoe-zanyatie-po-priobshcheniyu-detey-k-russkoy-narodnoy-kulture" TargetMode="External"/><Relationship Id="rId10" Type="http://schemas.openxmlformats.org/officeDocument/2006/relationships/hyperlink" Target="https://nsportal.ru/detskiy-sad/raznoe/2012/03/14/itogovoe-zanyatie-po-priobshcheniyu-detey-k-russkoy-narodnoy-kulture" TargetMode="External"/><Relationship Id="rId11" Type="http://schemas.openxmlformats.org/officeDocument/2006/relationships/hyperlink" Target="https://nsportal.ru/detskiy-sad/raznoe/2012/03/14/itogovoe-zanyatie-po-priobshcheniyu-detey-k-russkoy-narodnoy-kulture" TargetMode="External"/><Relationship Id="rId12" Type="http://schemas.openxmlformats.org/officeDocument/2006/relationships/hyperlink" Target="https://nsportal.ru/detskiy-sad/raznoe/2012/03/14/itogovoe-zanyatie-po-priobshcheniyu-detey-k-russkoy-narodnoy-kulture" TargetMode="External"/><Relationship Id="rId13" Type="http://schemas.openxmlformats.org/officeDocument/2006/relationships/hyperlink" Target="https://nsportal.ru/detskiy-sad/raznoe/2012/03/14/itogovoe-zanyatie-po-priobshcheniyu-detey-k-russkoy-narodnoy-kulture" TargetMode="External"/><Relationship Id="rId14" Type="http://schemas.openxmlformats.org/officeDocument/2006/relationships/hyperlink" Target="https://nsportal.ru/detskiy-sad/raznoe/2012/03/14/itogovoe-zanyatie-po-priobshcheniyu-detey-k-russkoy-narodnoy-kulture" TargetMode="External"/><Relationship Id="rId15" Type="http://schemas.openxmlformats.org/officeDocument/2006/relationships/hyperlink" Target="https://nsportal.ru/detskiy-sad/raznoe/2012/03/14/itogovoe-zanyatie-po-priobshcheniyu-detey-k-russkoy-narodnoy-kulture" TargetMode="External"/><Relationship Id="rId16" Type="http://schemas.openxmlformats.org/officeDocument/2006/relationships/hyperlink" Target="https://nsportal.ru/detskiy-sad/raznoe/2012/03/14/itogovoe-zanyatie-po-priobshcheniyu-detey-k-russkoy-narodnoy-kulture" TargetMode="External"/><Relationship Id="rId17" Type="http://schemas.openxmlformats.org/officeDocument/2006/relationships/hyperlink" Target="https://nsportal.ru/detskiy-sad/raznoe/2012/03/14/itogovoe-zanyatie-po-priobshcheniyu-detey-k-russkoy-narodnoy-kulture" TargetMode="External"/><Relationship Id="rId18" Type="http://schemas.openxmlformats.org/officeDocument/2006/relationships/hyperlink" Target="https://nsportal.ru/detskiy-sad/raznoe/2012/03/14/itogovoe-zanyatie-po-priobshcheniyu-detey-k-russkoy-narodnoy-kulture" TargetMode="External"/><Relationship Id="rId19" Type="http://schemas.openxmlformats.org/officeDocument/2006/relationships/hyperlink" Target="https://nsportal.ru/detskiy-sad/raznoe/2012/03/14/itogovoe-zanyatie-po-priobshcheniyu-detey-k-russkoy-narodnoy-kulture" TargetMode="External"/><Relationship Id="rId20" Type="http://schemas.openxmlformats.org/officeDocument/2006/relationships/hyperlink" Target="https://nsportal.ru/detskiy-sad/raznoe/2012/03/14/itogovoe-zanyatie-po-priobshcheniyu-detey-k-russkoy-narodnoy-kulture" TargetMode="External"/><Relationship Id="rId21" Type="http://schemas.openxmlformats.org/officeDocument/2006/relationships/hyperlink" Target="https://nsportal.ru/detskiy-sad/raznoe/2012/03/14/itogovoe-zanyatie-po-priobshcheniyu-detey-k-russkoy-narodnoy-kulture" TargetMode="External"/><Relationship Id="rId22" Type="http://schemas.openxmlformats.org/officeDocument/2006/relationships/hyperlink" Target="https://nsportal.ru/detskiy-sad/raznoe/2012/03/14/itogovoe-zanyatie-po-priobshcheniyu-detey-k-russkoy-narodnoy-kulture" TargetMode="External"/><Relationship Id="rId23" Type="http://schemas.openxmlformats.org/officeDocument/2006/relationships/hyperlink" Target="https://nsportal.ru/detskiy-sad/raznoe/2012/03/14/itogovoe-zanyatie-po-priobshcheniyu-detey-k-russkoy-narodnoy-kulture" TargetMode="External"/><Relationship Id="rId24" Type="http://schemas.openxmlformats.org/officeDocument/2006/relationships/hyperlink" Target="https://nsportal.ru/detskiy-sad/raznoe/2012/03/14/itogovoe-zanyatie-po-priobshcheniyu-detey-k-russkoy-narodnoy-kulture" TargetMode="External"/><Relationship Id="rId25" Type="http://schemas.openxmlformats.org/officeDocument/2006/relationships/hyperlink" Target="https://nsportal.ru/detskiy-sad/raznoe/2012/03/14/itogovoe-zanyatie-po-priobshcheniyu-detey-k-russkoy-narodnoy-kulture" TargetMode="External"/><Relationship Id="rId26" Type="http://schemas.openxmlformats.org/officeDocument/2006/relationships/hyperlink" Target="https://nsportal.ru/detskiy-sad/raznoe/2012/03/14/itogovoe-zanyatie-po-priobshcheniyu-detey-k-russkoy-narodnoy-kulture" TargetMode="External"/><Relationship Id="rId27" Type="http://schemas.openxmlformats.org/officeDocument/2006/relationships/hyperlink" Target="https://nsportal.ru/detskiy-sad/raznoe/2012/03/14/itogovoe-zanyatie-po-priobshcheniyu-detey-k-russkoy-narodnoy-kulture" TargetMode="External"/><Relationship Id="rId28" Type="http://schemas.openxmlformats.org/officeDocument/2006/relationships/hyperlink" Target="https://nsportal.ru/detskiy-sad/raznoe/2012/03/14/itogovoe-zanyatie-po-priobshcheniyu-detey-k-russkoy-narodnoy-kulture" TargetMode="External"/><Relationship Id="rId29" Type="http://schemas.openxmlformats.org/officeDocument/2006/relationships/hyperlink" Target="https://nsportal.ru/detskiy-sad/raznoe/2012/03/14/itogovoe-zanyatie-po-priobshcheniyu-detey-k-russkoy-narodnoy-kulture" TargetMode="External"/><Relationship Id="rId30" Type="http://schemas.openxmlformats.org/officeDocument/2006/relationships/hyperlink" Target="https://nsportal.ru/detskiy-sad/raznoe/2012/03/14/itogovoe-zanyatie-po-priobshcheniyu-detey-k-russkoy-narodnoy-kulture" TargetMode="External"/><Relationship Id="rId31" Type="http://schemas.openxmlformats.org/officeDocument/2006/relationships/hyperlink" Target="https://nsportal.ru/detskiy-sad/raznoe/2012/03/14/itogovoe-zanyatie-po-priobshcheniyu-detey-k-russkoy-narodnoy-kulture" TargetMode="External"/><Relationship Id="rId32" Type="http://schemas.openxmlformats.org/officeDocument/2006/relationships/hyperlink" Target="https://nsportal.ru/detskiy-sad/raznoe/2012/03/14/itogovoe-zanyatie-po-priobshcheniyu-detey-k-russkoy-narodnoy-kulture" TargetMode="External"/><Relationship Id="rId33" Type="http://schemas.openxmlformats.org/officeDocument/2006/relationships/hyperlink" Target="https://nsportal.ru/detskiy-sad/raznoe/2012/03/14/itogovoe-zanyatie-po-priobshcheniyu-detey-k-russkoy-narodnoy-kulture" TargetMode="External"/><Relationship Id="rId34" Type="http://schemas.openxmlformats.org/officeDocument/2006/relationships/hyperlink" Target="https://nsportal.ru/detskiy-sad/raznoe/2012/03/14/itogovoe-zanyatie-po-priobshcheniyu-detey-k-russkoy-narodnoy-kulture" TargetMode="External"/><Relationship Id="rId35" Type="http://schemas.openxmlformats.org/officeDocument/2006/relationships/hyperlink" Target="https://nsportal.ru/detskiy-sad/raznoe/2012/03/14/itogovoe-zanyatie-po-priobshcheniyu-detey-k-russkoy-narodnoy-kulture" TargetMode="External"/><Relationship Id="rId36" Type="http://schemas.openxmlformats.org/officeDocument/2006/relationships/hyperlink" Target="https://nsportal.ru/detskiy-sad/raznoe/2012/03/14/itogovoe-zanyatie-po-priobshcheniyu-detey-k-russkoy-narodnoy-kulture" TargetMode="External"/><Relationship Id="rId37" Type="http://schemas.openxmlformats.org/officeDocument/2006/relationships/hyperlink" Target="https://nsportal.ru/detskiy-sad/raznoe/2012/03/14/itogovoe-zanyatie-po-priobshcheniyu-detey-k-russkoy-narodnoy-kulture" TargetMode="External"/><Relationship Id="rId38" Type="http://schemas.openxmlformats.org/officeDocument/2006/relationships/hyperlink" Target="https://nsportal.ru/detskiy-sad/raznoe/2012/03/14/itogovoe-zanyatie-po-priobshcheniyu-detey-k-russkoy-narodnoy-kulture" TargetMode="External"/><Relationship Id="rId39" Type="http://schemas.openxmlformats.org/officeDocument/2006/relationships/hyperlink" Target="https://nsportal.ru/detskiy-sad/raznoe/2012/03/14/itogovoe-zanyatie-po-priobshcheniyu-detey-k-russkoy-narodnoy-kulture" TargetMode="External"/><Relationship Id="rId40" Type="http://schemas.openxmlformats.org/officeDocument/2006/relationships/hyperlink" Target="https://nsportal.ru/detskiy-sad/raznoe/2012/03/14/itogovoe-zanyatie-po-priobshcheniyu-detey-k-russkoy-narodnoy-kulture" TargetMode="External"/><Relationship Id="rId41" Type="http://schemas.openxmlformats.org/officeDocument/2006/relationships/hyperlink" Target="https://nsportal.ru/detskiy-sad/raznoe/2012/03/14/itogovoe-zanyatie-po-priobshcheniyu-detey-k-russkoy-narodnoy-kulture" TargetMode="External"/><Relationship Id="rId42" Type="http://schemas.openxmlformats.org/officeDocument/2006/relationships/hyperlink" Target="https://nsportal.ru/detskiy-sad/raznoe/2012/03/14/itogovoe-zanyatie-po-priobshcheniyu-detey-k-russkoy-narodnoy-kulture" TargetMode="External"/><Relationship Id="rId43" Type="http://schemas.openxmlformats.org/officeDocument/2006/relationships/hyperlink" Target="https://nsportal.ru/detskiy-sad/raznoe/2012/03/14/itogovoe-zanyatie-po-priobshcheniyu-detey-k-russkoy-narodnoy-kulture" TargetMode="External"/><Relationship Id="rId44" Type="http://schemas.openxmlformats.org/officeDocument/2006/relationships/hyperlink" Target="https://nsportal.ru/detskiy-sad/raznoe/2012/03/14/itogovoe-zanyatie-po-priobshcheniyu-detey-k-russkoy-narodnoy-kulture" TargetMode="External"/><Relationship Id="rId45" Type="http://schemas.openxmlformats.org/officeDocument/2006/relationships/hyperlink" Target="https://nsportal.ru/detskiy-sad/raznoe/2012/03/14/itogovoe-zanyatie-po-priobshcheniyu-detey-k-russkoy-narodnoy-kulture" TargetMode="External"/><Relationship Id="rId46" Type="http://schemas.openxmlformats.org/officeDocument/2006/relationships/hyperlink" Target="https://nsportal.ru/detskiy-sad/raznoe/2012/03/14/itogovoe-zanyatie-po-priobshcheniyu-detey-k-russkoy-narodnoy-kulture" TargetMode="External"/><Relationship Id="rId47" Type="http://schemas.openxmlformats.org/officeDocument/2006/relationships/hyperlink" Target="https://nsportal.ru/detskiy-sad/raznoe/2012/03/14/itogovoe-zanyatie-po-priobshcheniyu-detey-k-russkoy-narodnoy-kulture" TargetMode="External"/><Relationship Id="rId48" Type="http://schemas.openxmlformats.org/officeDocument/2006/relationships/hyperlink" Target="https://nsportal.ru/detskiy-sad/raznoe/2012/03/14/itogovoe-zanyatie-po-priobshcheniyu-detey-k-russkoy-narodnoy-kulture" TargetMode="External"/><Relationship Id="rId49" Type="http://schemas.openxmlformats.org/officeDocument/2006/relationships/hyperlink" Target="https://nsportal.ru/detskiy-sad/raznoe/2012/03/14/itogovoe-zanyatie-po-priobshcheniyu-detey-k-russkoy-narodnoy-kulture" TargetMode="External"/><Relationship Id="rId50" Type="http://schemas.openxmlformats.org/officeDocument/2006/relationships/hyperlink" Target="https://nsportal.ru/detskiy-sad/raznoe/2012/03/14/itogovoe-zanyatie-po-priobshcheniyu-detey-k-russkoy-narodnoy-kulture" TargetMode="External"/><Relationship Id="rId51" Type="http://schemas.openxmlformats.org/officeDocument/2006/relationships/hyperlink" Target="https://nsportal.ru/detskiy-sad/raznoe/2012/03/14/itogovoe-zanyatie-po-priobshcheniyu-detey-k-russkoy-narodnoy-kulture" TargetMode="External"/><Relationship Id="rId52" Type="http://schemas.openxmlformats.org/officeDocument/2006/relationships/hyperlink" Target="https://nsportal.ru/detskiy-sad/raznoe/2012/03/14/itogovoe-zanyatie-po-priobshcheniyu-detey-k-russkoy-narodnoy-kulture" TargetMode="External"/><Relationship Id="rId53" Type="http://schemas.openxmlformats.org/officeDocument/2006/relationships/hyperlink" Target="https://nsportal.ru/detskiy-sad/raznoe/2012/03/14/itogovoe-zanyatie-po-priobshcheniyu-detey-k-russkoy-narodnoy-kulture" TargetMode="External"/><Relationship Id="rId54" Type="http://schemas.openxmlformats.org/officeDocument/2006/relationships/hyperlink" Target="https://nsportal.ru/detskiy-sad/raznoe/2012/03/14/itogovoe-zanyatie-po-priobshcheniyu-detey-k-russkoy-narodnoy-kulture" TargetMode="External"/><Relationship Id="rId55" Type="http://schemas.openxmlformats.org/officeDocument/2006/relationships/hyperlink" Target="https://nsportal.ru/detskiy-sad/raznoe/2012/03/14/itogovoe-zanyatie-po-priobshcheniyu-detey-k-russkoy-narodnoy-kulture" TargetMode="External"/><Relationship Id="rId56" Type="http://schemas.openxmlformats.org/officeDocument/2006/relationships/hyperlink" Target="https://nsportal.ru/detskiy-sad/raznoe/2012/03/14/itogovoe-zanyatie-po-priobshcheniyu-detey-k-russkoy-narodnoy-kulture" TargetMode="External"/><Relationship Id="rId57" Type="http://schemas.openxmlformats.org/officeDocument/2006/relationships/hyperlink" Target="https://nsportal.ru/detskiy-sad/raznoe/2012/03/14/itogovoe-zanyatie-po-priobshcheniyu-detey-k-russkoy-narodnoy-kulture" TargetMode="External"/><Relationship Id="rId58" Type="http://schemas.openxmlformats.org/officeDocument/2006/relationships/hyperlink" Target="https://nsportal.ru/detskiy-sad/raznoe/2012/03/14/itogovoe-zanyatie-po-priobshcheniyu-detey-k-russkoy-narodnoy-kulture" TargetMode="External"/><Relationship Id="rId59" Type="http://schemas.openxmlformats.org/officeDocument/2006/relationships/hyperlink" Target="https://nsportal.ru/detskiy-sad/raznoe/2012/03/14/itogovoe-zanyatie-po-priobshcheniyu-detey-k-russkoy-narodnoy-kulture" TargetMode="External"/><Relationship Id="rId60" Type="http://schemas.openxmlformats.org/officeDocument/2006/relationships/hyperlink" Target="https://nsportal.ru/detskiy-sad/raznoe/2012/03/14/itogovoe-zanyatie-po-priobshcheniyu-detey-k-russkoy-narodnoy-kulture" TargetMode="External"/><Relationship Id="rId61" Type="http://schemas.openxmlformats.org/officeDocument/2006/relationships/hyperlink" Target="https://nsportal.ru/detskiy-sad/raznoe/2012/03/14/itogovoe-zanyatie-po-priobshcheniyu-detey-k-russkoy-narodnoy-kulture" TargetMode="External"/><Relationship Id="rId62" Type="http://schemas.openxmlformats.org/officeDocument/2006/relationships/hyperlink" Target="https://nsportal.ru/detskiy-sad/raznoe/2012/03/14/itogovoe-zanyatie-po-priobshcheniyu-detey-k-russkoy-narodnoy-kulture" TargetMode="External"/><Relationship Id="rId63" Type="http://schemas.openxmlformats.org/officeDocument/2006/relationships/hyperlink" Target="https://nsportal.ru/detskiy-sad/raznoe/2012/03/14/itogovoe-zanyatie-po-priobshcheniyu-detey-k-russkoy-narodnoy-kulture" TargetMode="External"/><Relationship Id="rId64" Type="http://schemas.openxmlformats.org/officeDocument/2006/relationships/hyperlink" Target="https://nsportal.ru/detskiy-sad/raznoe/2012/03/14/itogovoe-zanyatie-po-priobshcheniyu-detey-k-russkoy-narodnoy-kulture" TargetMode="External"/><Relationship Id="rId65" Type="http://schemas.openxmlformats.org/officeDocument/2006/relationships/hyperlink" Target="https://nsportal.ru/detskiy-sad/raznoe/2012/03/14/itogovoe-zanyatie-po-priobshcheniyu-detey-k-russkoy-narodnoy-kulture" TargetMode="External"/><Relationship Id="rId66" Type="http://schemas.openxmlformats.org/officeDocument/2006/relationships/hyperlink" Target="https://nsportal.ru/detskiy-sad/raznoe/2012/03/14/itogovoe-zanyatie-po-priobshcheniyu-detey-k-russkoy-narodnoy-kulture" TargetMode="External"/><Relationship Id="rId67" Type="http://schemas.openxmlformats.org/officeDocument/2006/relationships/hyperlink" Target="https://nsportal.ru/detskiy-sad/raznoe/2012/03/14/itogovoe-zanyatie-po-priobshcheniyu-detey-k-russkoy-narodnoy-kulture" TargetMode="External"/><Relationship Id="rId68" Type="http://schemas.openxmlformats.org/officeDocument/2006/relationships/hyperlink" Target="https://nsportal.ru/detskiy-sad/raznoe/2012/03/14/itogovoe-zanyatie-po-priobshcheniyu-detey-k-russkoy-narodnoy-kulture" TargetMode="External"/><Relationship Id="rId69" Type="http://schemas.openxmlformats.org/officeDocument/2006/relationships/hyperlink" Target="https://nsportal.ru/detskiy-sad/raznoe/2012/03/14/itogovoe-zanyatie-po-priobshcheniyu-detey-k-russkoy-narodnoy-kulture" TargetMode="External"/><Relationship Id="rId70" Type="http://schemas.openxmlformats.org/officeDocument/2006/relationships/hyperlink" Target="https://nsportal.ru/detskiy-sad/raznoe/2012/03/14/itogovoe-zanyatie-po-priobshcheniyu-detey-k-russkoy-narodnoy-kulture" TargetMode="External"/><Relationship Id="rId71" Type="http://schemas.openxmlformats.org/officeDocument/2006/relationships/hyperlink" Target="https://nsportal.ru/detskiy-sad/raznoe/2012/03/14/itogovoe-zanyatie-po-priobshcheniyu-detey-k-russkoy-narodnoy-kulture" TargetMode="External"/><Relationship Id="rId72" Type="http://schemas.openxmlformats.org/officeDocument/2006/relationships/hyperlink" Target="https://nsportal.ru/detskiy-sad/raznoe/2012/03/14/itogovoe-zanyatie-po-priobshcheniyu-detey-k-russkoy-narodnoy-kulture" TargetMode="External"/><Relationship Id="rId73" Type="http://schemas.openxmlformats.org/officeDocument/2006/relationships/hyperlink" Target="https://nsportal.ru/detskiy-sad/raznoe/2012/03/14/itogovoe-zanyatie-po-priobshcheniyu-detey-k-russkoy-narodnoy-kulture" TargetMode="External"/><Relationship Id="rId74" Type="http://schemas.openxmlformats.org/officeDocument/2006/relationships/hyperlink" Target="https://nsportal.ru/detskiy-sad/raznoe/2012/03/14/itogovoe-zanyatie-po-priobshcheniyu-detey-k-russkoy-narodnoy-kulture" TargetMode="External"/><Relationship Id="rId75" Type="http://schemas.openxmlformats.org/officeDocument/2006/relationships/hyperlink" Target="https://nsportal.ru/detskiy-sad/raznoe/2012/03/14/itogovoe-zanyatie-po-priobshcheniyu-detey-k-russkoy-narodnoy-kulture" TargetMode="External"/><Relationship Id="rId76" Type="http://schemas.openxmlformats.org/officeDocument/2006/relationships/hyperlink" Target="https://nsportal.ru/detskiy-sad/raznoe/2012/03/14/itogovoe-zanyatie-po-priobshcheniyu-detey-k-russkoy-narodnoy-kulture" TargetMode="External"/><Relationship Id="rId77" Type="http://schemas.openxmlformats.org/officeDocument/2006/relationships/hyperlink" Target="https://nsportal.ru/detskiy-sad/raznoe/2012/03/14/itogovoe-zanyatie-po-priobshcheniyu-detey-k-russkoy-narodnoy-kulture" TargetMode="External"/><Relationship Id="rId78" Type="http://schemas.openxmlformats.org/officeDocument/2006/relationships/hyperlink" Target="https://nsportal.ru/detskiy-sad/raznoe/2012/03/14/itogovoe-zanyatie-po-priobshcheniyu-detey-k-russkoy-narodnoy-kulture" TargetMode="External"/><Relationship Id="rId79" Type="http://schemas.openxmlformats.org/officeDocument/2006/relationships/hyperlink" Target="https://nsportal.ru/detskiy-sad/raznoe/2012/03/14/itogovoe-zanyatie-po-priobshcheniyu-detey-k-russkoy-narodnoy-kulture" TargetMode="External"/><Relationship Id="rId80" Type="http://schemas.openxmlformats.org/officeDocument/2006/relationships/hyperlink" Target="https://nsportal.ru/detskiy-sad/raznoe/2012/03/14/itogovoe-zanyatie-po-priobshcheniyu-detey-k-russkoy-narodnoy-kulture" TargetMode="External"/><Relationship Id="rId81" Type="http://schemas.openxmlformats.org/officeDocument/2006/relationships/hyperlink" Target="https://nsportal.ru/detskiy-sad/raznoe/2012/03/14/itogovoe-zanyatie-po-priobshcheniyu-detey-k-russkoy-narodnoy-kulture" TargetMode="External"/><Relationship Id="rId82" Type="http://schemas.openxmlformats.org/officeDocument/2006/relationships/hyperlink" Target="https://nsportal.ru/detskiy-sad/raznoe/2012/03/14/itogovoe-zanyatie-po-priobshcheniyu-detey-k-russkoy-narodnoy-kulture" TargetMode="External"/><Relationship Id="rId83" Type="http://schemas.openxmlformats.org/officeDocument/2006/relationships/hyperlink" Target="https://nsportal.ru/detskiy-sad/raznoe/2012/03/14/itogovoe-zanyatie-po-priobshcheniyu-detey-k-russkoy-narodnoy-kulture" TargetMode="External"/><Relationship Id="rId84" Type="http://schemas.openxmlformats.org/officeDocument/2006/relationships/hyperlink" Target="https://nsportal.ru/detskiy-sad/raznoe/2012/03/14/itogovoe-zanyatie-po-priobshcheniyu-detey-k-russkoy-narodnoy-kulture" TargetMode="External"/><Relationship Id="rId85" Type="http://schemas.openxmlformats.org/officeDocument/2006/relationships/hyperlink" Target="https://nsportal.ru/detskiy-sad/raznoe/2012/03/14/itogovoe-zanyatie-po-priobshcheniyu-detey-k-russkoy-narodnoy-kulture" TargetMode="External"/><Relationship Id="rId86" Type="http://schemas.openxmlformats.org/officeDocument/2006/relationships/hyperlink" Target="https://nsportal.ru/detskiy-sad/raznoe/2012/03/14/itogovoe-zanyatie-po-priobshcheniyu-detey-k-russkoy-narodnoy-kulture" TargetMode="External"/><Relationship Id="rId87" Type="http://schemas.openxmlformats.org/officeDocument/2006/relationships/hyperlink" Target="https://nsportal.ru/detskiy-sad/raznoe/2012/03/14/itogovoe-zanyatie-po-priobshcheniyu-detey-k-russkoy-narodnoy-kulture" TargetMode="External"/><Relationship Id="rId88" Type="http://schemas.openxmlformats.org/officeDocument/2006/relationships/hyperlink" Target="https://nsportal.ru/detskiy-sad/raznoe/2012/03/14/itogovoe-zanyatie-po-priobshcheniyu-detey-k-russkoy-narodnoy-kulture" TargetMode="External"/><Relationship Id="rId89" Type="http://schemas.openxmlformats.org/officeDocument/2006/relationships/hyperlink" Target="https://nsportal.ru/detskiy-sad/raznoe/2012/03/14/itogovoe-zanyatie-po-priobshcheniyu-detey-k-russkoy-narodnoy-kulture" TargetMode="External"/><Relationship Id="rId90" Type="http://schemas.openxmlformats.org/officeDocument/2006/relationships/hyperlink" Target="https://nsportal.ru/detskiy-sad/raznoe/2012/03/14/itogovoe-zanyatie-po-priobshcheniyu-detey-k-russkoy-narodnoy-kulture" TargetMode="External"/><Relationship Id="rId91" Type="http://schemas.openxmlformats.org/officeDocument/2006/relationships/hyperlink" Target="https://nsportal.ru/detskiy-sad/raznoe/2012/03/14/itogovoe-zanyatie-po-priobshcheniyu-detey-k-russkoy-narodnoy-kulture" TargetMode="External"/><Relationship Id="rId92" Type="http://schemas.openxmlformats.org/officeDocument/2006/relationships/hyperlink" Target="https://nsportal.ru/detskiy-sad/raznoe/2012/03/14/itogovoe-zanyatie-po-priobshcheniyu-detey-k-russkoy-narodnoy-kulture" TargetMode="External"/><Relationship Id="rId93" Type="http://schemas.openxmlformats.org/officeDocument/2006/relationships/hyperlink" Target="https://nsportal.ru/detskiy-sad/raznoe/2012/03/14/itogovoe-zanyatie-po-priobshcheniyu-detey-k-russkoy-narodnoy-kulture" TargetMode="External"/><Relationship Id="rId94" Type="http://schemas.openxmlformats.org/officeDocument/2006/relationships/hyperlink" Target="https://nsportal.ru/detskiy-sad/raznoe/2012/03/14/itogovoe-zanyatie-po-priobshcheniyu-detey-k-russkoy-narodnoy-kulture" TargetMode="External"/><Relationship Id="rId95" Type="http://schemas.openxmlformats.org/officeDocument/2006/relationships/hyperlink" Target="https://nsportal.ru/detskiy-sad/raznoe/2012/03/14/itogovoe-zanyatie-po-priobshcheniyu-detey-k-russkoy-narodnoy-kulture" TargetMode="External"/><Relationship Id="rId96" Type="http://schemas.openxmlformats.org/officeDocument/2006/relationships/hyperlink" Target="https://nsportal.ru/detskiy-sad/raznoe/2012/03/14/itogovoe-zanyatie-po-priobshcheniyu-detey-k-russkoy-narodnoy-kulture" TargetMode="External"/><Relationship Id="rId97" Type="http://schemas.openxmlformats.org/officeDocument/2006/relationships/hyperlink" Target="https://nsportal.ru/detskiy-sad/raznoe/2012/03/14/itogovoe-zanyatie-po-priobshcheniyu-detey-k-russkoy-narodnoy-kulture" TargetMode="External"/><Relationship Id="rId98" Type="http://schemas.openxmlformats.org/officeDocument/2006/relationships/hyperlink" Target="https://nsportal.ru/detskiy-sad/raznoe/2012/03/14/itogovoe-zanyatie-po-priobshcheniyu-detey-k-russkoy-narodnoy-kulture" TargetMode="External"/><Relationship Id="rId99" Type="http://schemas.openxmlformats.org/officeDocument/2006/relationships/hyperlink" Target="https://nsportal.ru/detskiy-sad/raznoe/2012/03/14/itogovoe-zanyatie-po-priobshcheniyu-detey-k-russkoy-narodnoy-kulture" TargetMode="External"/><Relationship Id="rId100" Type="http://schemas.openxmlformats.org/officeDocument/2006/relationships/hyperlink" Target="https://nsportal.ru/detskiy-sad/raznoe/2012/03/14/itogovoe-zanyatie-po-priobshcheniyu-detey-k-russkoy-narodnoy-kulture" TargetMode="External"/><Relationship Id="rId101" Type="http://schemas.openxmlformats.org/officeDocument/2006/relationships/hyperlink" Target="https://nsportal.ru/detskiy-sad/raznoe/2012/03/14/itogovoe-zanyatie-po-priobshcheniyu-detey-k-russkoy-narodnoy-kulture" TargetMode="External"/><Relationship Id="rId102" Type="http://schemas.openxmlformats.org/officeDocument/2006/relationships/hyperlink" Target="https://nsportal.ru/detskiy-sad/raznoe/2012/03/14/itogovoe-zanyatie-po-priobshcheniyu-detey-k-russkoy-narodnoy-kulture" TargetMode="External"/><Relationship Id="rId103" Type="http://schemas.openxmlformats.org/officeDocument/2006/relationships/hyperlink" Target="https://nsportal.ru/detskiy-sad/raznoe/2012/03/14/itogovoe-zanyatie-po-priobshcheniyu-detey-k-russkoy-narodnoy-kulture" TargetMode="External"/><Relationship Id="rId104" Type="http://schemas.openxmlformats.org/officeDocument/2006/relationships/hyperlink" Target="https://nsportal.ru/detskiy-sad/raznoe/2012/03/14/itogovoe-zanyatie-po-priobshcheniyu-detey-k-russkoy-narodnoy-kulture" TargetMode="External"/><Relationship Id="rId105" Type="http://schemas.openxmlformats.org/officeDocument/2006/relationships/hyperlink" Target="https://nsportal.ru/detskiy-sad/raznoe/2012/03/14/itogovoe-zanyatie-po-priobshcheniyu-detey-k-russkoy-narodnoy-kulture" TargetMode="External"/><Relationship Id="rId106" Type="http://schemas.openxmlformats.org/officeDocument/2006/relationships/hyperlink" Target="https://nsportal.ru/detskiy-sad/raznoe/2012/03/14/itogovoe-zanyatie-po-priobshcheniyu-detey-k-russkoy-narodnoy-kulture" TargetMode="External"/><Relationship Id="rId107" Type="http://schemas.openxmlformats.org/officeDocument/2006/relationships/hyperlink" Target="https://nsportal.ru/detskiy-sad/raznoe/2012/03/14/itogovoe-zanyatie-po-priobshcheniyu-detey-k-russkoy-narodnoy-kulture" TargetMode="External"/><Relationship Id="rId108" Type="http://schemas.openxmlformats.org/officeDocument/2006/relationships/hyperlink" Target="https://nsportal.ru/detskiy-sad/raznoe/2012/03/14/itogovoe-zanyatie-po-priobshcheniyu-detey-k-russkoy-narodnoy-kulture" TargetMode="External"/><Relationship Id="rId109" Type="http://schemas.openxmlformats.org/officeDocument/2006/relationships/hyperlink" Target="https://nsportal.ru/detskiy-sad/raznoe/2012/03/14/itogovoe-zanyatie-po-priobshcheniyu-detey-k-russkoy-narodnoy-kulture" TargetMode="External"/><Relationship Id="rId110" Type="http://schemas.openxmlformats.org/officeDocument/2006/relationships/hyperlink" Target="https://nsportal.ru/detskiy-sad/raznoe/2012/03/14/itogovoe-zanyatie-po-priobshcheniyu-detey-k-russkoy-narodnoy-kulture" TargetMode="External"/><Relationship Id="rId111" Type="http://schemas.openxmlformats.org/officeDocument/2006/relationships/hyperlink" Target="https://nsportal.ru/detskiy-sad/raznoe/2012/03/14/itogovoe-zanyatie-po-priobshcheniyu-detey-k-russkoy-narodnoy-kulture" TargetMode="External"/><Relationship Id="rId112" Type="http://schemas.openxmlformats.org/officeDocument/2006/relationships/hyperlink" Target="https://nsportal.ru/detskiy-sad/raznoe/2012/03/14/itogovoe-zanyatie-po-priobshcheniyu-detey-k-russkoy-narodnoy-kulture" TargetMode="External"/><Relationship Id="rId113" Type="http://schemas.openxmlformats.org/officeDocument/2006/relationships/hyperlink" Target="https://nsportal.ru/detskiy-sad/raznoe/2012/03/14/itogovoe-zanyatie-po-priobshcheniyu-detey-k-russkoy-narodnoy-kulture" TargetMode="External"/><Relationship Id="rId114" Type="http://schemas.openxmlformats.org/officeDocument/2006/relationships/hyperlink" Target="https://nsportal.ru/detskiy-sad/raznoe/2012/03/14/itogovoe-zanyatie-po-priobshcheniyu-detey-k-russkoy-narodnoy-kulture" TargetMode="External"/><Relationship Id="rId115" Type="http://schemas.openxmlformats.org/officeDocument/2006/relationships/hyperlink" Target="https://nsportal.ru/detskiy-sad/raznoe/2012/03/14/itogovoe-zanyatie-po-priobshcheniyu-detey-k-russkoy-narodnoy-kulture" TargetMode="External"/><Relationship Id="rId116" Type="http://schemas.openxmlformats.org/officeDocument/2006/relationships/hyperlink" Target="https://nsportal.ru/detskiy-sad/raznoe/2012/03/14/itogovoe-zanyatie-po-priobshcheniyu-detey-k-russkoy-narodnoy-kulture" TargetMode="External"/><Relationship Id="rId117" Type="http://schemas.openxmlformats.org/officeDocument/2006/relationships/hyperlink" Target="https://nsportal.ru/detskiy-sad/raznoe/2012/03/14/itogovoe-zanyatie-po-priobshcheniyu-detey-k-russkoy-narodnoy-kulture" TargetMode="External"/><Relationship Id="rId118" Type="http://schemas.openxmlformats.org/officeDocument/2006/relationships/hyperlink" Target="https://nsportal.ru/detskiy-sad/raznoe/2012/03/14/itogovoe-zanyatie-po-priobshcheniyu-detey-k-russkoy-narodnoy-kulture" TargetMode="External"/><Relationship Id="rId119" Type="http://schemas.openxmlformats.org/officeDocument/2006/relationships/hyperlink" Target="https://nsportal.ru/detskiy-sad/raznoe/2012/03/14/itogovoe-zanyatie-po-priobshcheniyu-detey-k-russkoy-narodnoy-kulture" TargetMode="External"/><Relationship Id="rId120" Type="http://schemas.openxmlformats.org/officeDocument/2006/relationships/hyperlink" Target="https://nsportal.ru/detskiy-sad/raznoe/2012/03/14/itogovoe-zanyatie-po-priobshcheniyu-detey-k-russkoy-narodnoy-kulture" TargetMode="External"/><Relationship Id="rId121" Type="http://schemas.openxmlformats.org/officeDocument/2006/relationships/hyperlink" Target="https://nsportal.ru/detskiy-sad/raznoe/2012/03/14/itogovoe-zanyatie-po-priobshcheniyu-detey-k-russkoy-narodnoy-kulture" TargetMode="External"/><Relationship Id="rId122" Type="http://schemas.openxmlformats.org/officeDocument/2006/relationships/hyperlink" Target="https://nsportal.ru/detskiy-sad/raznoe/2012/03/14/itogovoe-zanyatie-po-priobshcheniyu-detey-k-russkoy-narodnoy-kulture" TargetMode="External"/><Relationship Id="rId123" Type="http://schemas.openxmlformats.org/officeDocument/2006/relationships/hyperlink" Target="https://nsportal.ru/detskiy-sad/raznoe/2012/03/14/itogovoe-zanyatie-po-priobshcheniyu-detey-k-russkoy-narodnoy-kulture" TargetMode="External"/><Relationship Id="rId124" Type="http://schemas.openxmlformats.org/officeDocument/2006/relationships/hyperlink" Target="https://nsportal.ru/detskiy-sad/raznoe/2012/03/14/itogovoe-zanyatie-po-priobshcheniyu-detey-k-russkoy-narodnoy-kulture" TargetMode="External"/><Relationship Id="rId125" Type="http://schemas.openxmlformats.org/officeDocument/2006/relationships/hyperlink" Target="https://nsportal.ru/detskiy-sad/raznoe/2012/03/14/itogovoe-zanyatie-po-priobshcheniyu-detey-k-russkoy-narodnoy-kulture" TargetMode="External"/><Relationship Id="rId126" Type="http://schemas.openxmlformats.org/officeDocument/2006/relationships/hyperlink" Target="https://nsportal.ru/detskiy-sad/raznoe/2012/03/14/itogovoe-zanyatie-po-priobshcheniyu-detey-k-russkoy-narodnoy-kulture" TargetMode="External"/><Relationship Id="rId127" Type="http://schemas.openxmlformats.org/officeDocument/2006/relationships/hyperlink" Target="https://nsportal.ru/detskiy-sad/raznoe/2012/03/14/itogovoe-zanyatie-po-priobshcheniyu-detey-k-russkoy-narodnoy-kulture" TargetMode="External"/><Relationship Id="rId128" Type="http://schemas.openxmlformats.org/officeDocument/2006/relationships/hyperlink" Target="https://nsportal.ru/detskiy-sad/raznoe/2012/03/14/itogovoe-zanyatie-po-priobshcheniyu-detey-k-russkoy-narodnoy-kulture" TargetMode="External"/><Relationship Id="rId129" Type="http://schemas.openxmlformats.org/officeDocument/2006/relationships/hyperlink" Target="https://nsportal.ru/detskiy-sad/raznoe/2012/03/14/itogovoe-zanyatie-po-priobshcheniyu-detey-k-russkoy-narodnoy-kulture" TargetMode="External"/><Relationship Id="rId130" Type="http://schemas.openxmlformats.org/officeDocument/2006/relationships/hyperlink" Target="https://nsportal.ru/detskiy-sad/raznoe/2012/03/14/itogovoe-zanyatie-po-priobshcheniyu-detey-k-russkoy-narodnoy-kulture" TargetMode="External"/><Relationship Id="rId131" Type="http://schemas.openxmlformats.org/officeDocument/2006/relationships/hyperlink" Target="https://nsportal.ru/detskiy-sad/raznoe/2012/03/14/itogovoe-zanyatie-po-priobshcheniyu-detey-k-russkoy-narodnoy-kulture" TargetMode="External"/><Relationship Id="rId132" Type="http://schemas.openxmlformats.org/officeDocument/2006/relationships/hyperlink" Target="https://nsportal.ru/detskiy-sad/raznoe/2012/03/14/itogovoe-zanyatie-po-priobshcheniyu-detey-k-russkoy-narodnoy-kulture" TargetMode="External"/><Relationship Id="rId133" Type="http://schemas.openxmlformats.org/officeDocument/2006/relationships/hyperlink" Target="https://nsportal.ru/detskiy-sad/raznoe/2012/03/14/itogovoe-zanyatie-po-priobshcheniyu-detey-k-russkoy-narodnoy-kulture" TargetMode="External"/><Relationship Id="rId134" Type="http://schemas.openxmlformats.org/officeDocument/2006/relationships/hyperlink" Target="https://nsportal.ru/detskiy-sad/raznoe/2012/03/14/itogovoe-zanyatie-po-priobshcheniyu-detey-k-russkoy-narodnoy-kulture" TargetMode="External"/><Relationship Id="rId135" Type="http://schemas.openxmlformats.org/officeDocument/2006/relationships/hyperlink" Target="https://nsportal.ru/detskiy-sad/raznoe/2012/03/14/itogovoe-zanyatie-po-priobshcheniyu-detey-k-russkoy-narodnoy-kulture" TargetMode="External"/><Relationship Id="rId136" Type="http://schemas.openxmlformats.org/officeDocument/2006/relationships/hyperlink" Target="https://nsportal.ru/detskiy-sad/raznoe/2012/03/14/itogovoe-zanyatie-po-priobshcheniyu-detey-k-russkoy-narodnoy-kulture" TargetMode="External"/><Relationship Id="rId137" Type="http://schemas.openxmlformats.org/officeDocument/2006/relationships/hyperlink" Target="https://nsportal.ru/detskiy-sad/raznoe/2012/03/14/itogovoe-zanyatie-po-priobshcheniyu-detey-k-russkoy-narodnoy-kulture" TargetMode="External"/><Relationship Id="rId138" Type="http://schemas.openxmlformats.org/officeDocument/2006/relationships/hyperlink" Target="https://nsportal.ru/detskiy-sad/raznoe/2012/03/14/itogovoe-zanyatie-po-priobshcheniyu-detey-k-russkoy-narodnoy-kulture" TargetMode="External"/><Relationship Id="rId139" Type="http://schemas.openxmlformats.org/officeDocument/2006/relationships/hyperlink" Target="https://nsportal.ru/detskiy-sad/raznoe/2012/03/14/itogovoe-zanyatie-po-priobshcheniyu-detey-k-russkoy-narodnoy-kulture" TargetMode="External"/><Relationship Id="rId140" Type="http://schemas.openxmlformats.org/officeDocument/2006/relationships/hyperlink" Target="https://nsportal.ru/detskiy-sad/raznoe/2012/03/14/itogovoe-zanyatie-po-priobshcheniyu-detey-k-russkoy-narodnoy-kulture" TargetMode="External"/><Relationship Id="rId141" Type="http://schemas.openxmlformats.org/officeDocument/2006/relationships/hyperlink" Target="https://nsportal.ru/detskiy-sad/raznoe/2012/03/14/itogovoe-zanyatie-po-priobshcheniyu-detey-k-russkoy-narodnoy-kulture" TargetMode="External"/><Relationship Id="rId142" Type="http://schemas.openxmlformats.org/officeDocument/2006/relationships/hyperlink" Target="https://nsportal.ru/detskiy-sad/raznoe/2012/03/14/itogovoe-zanyatie-po-priobshcheniyu-detey-k-russkoy-narodnoy-kulture" TargetMode="External"/><Relationship Id="rId143" Type="http://schemas.openxmlformats.org/officeDocument/2006/relationships/hyperlink" Target="https://nsportal.ru/detskiy-sad/raznoe/2012/03/14/itogovoe-zanyatie-po-priobshcheniyu-detey-k-russkoy-narodnoy-kulture" TargetMode="External"/><Relationship Id="rId144" Type="http://schemas.openxmlformats.org/officeDocument/2006/relationships/hyperlink" Target="https://nsportal.ru/detskiy-sad/raznoe/2012/03/14/itogovoe-zanyatie-po-priobshcheniyu-detey-k-russkoy-narodnoy-kulture" TargetMode="External"/><Relationship Id="rId145" Type="http://schemas.openxmlformats.org/officeDocument/2006/relationships/hyperlink" Target="https://nsportal.ru/detskiy-sad/raznoe/2012/03/14/itogovoe-zanyatie-po-priobshcheniyu-detey-k-russkoy-narodnoy-kulture" TargetMode="External"/><Relationship Id="rId146" Type="http://schemas.openxmlformats.org/officeDocument/2006/relationships/hyperlink" Target="https://nsportal.ru/detskiy-sad/raznoe/2012/03/14/itogovoe-zanyatie-po-priobshcheniyu-detey-k-russkoy-narodnoy-kulture" TargetMode="External"/><Relationship Id="rId147" Type="http://schemas.openxmlformats.org/officeDocument/2006/relationships/hyperlink" Target="https://nsportal.ru/detskiy-sad/raznoe/2012/03/14/itogovoe-zanyatie-po-priobshcheniyu-detey-k-russkoy-narodnoy-kulture" TargetMode="External"/><Relationship Id="rId148" Type="http://schemas.openxmlformats.org/officeDocument/2006/relationships/hyperlink" Target="https://nsportal.ru/detskiy-sad/raznoe/2012/03/14/itogovoe-zanyatie-po-priobshcheniyu-detey-k-russkoy-narodnoy-kulture" TargetMode="External"/><Relationship Id="rId149" Type="http://schemas.openxmlformats.org/officeDocument/2006/relationships/hyperlink" Target="https://nsportal.ru/detskiy-sad/raznoe/2012/03/14/itogovoe-zanyatie-po-priobshcheniyu-detey-k-russkoy-narodnoy-kulture" TargetMode="External"/><Relationship Id="rId150" Type="http://schemas.openxmlformats.org/officeDocument/2006/relationships/hyperlink" Target="https://nsportal.ru/detskiy-sad/raznoe/2012/03/14/itogovoe-zanyatie-po-priobshcheniyu-detey-k-russkoy-narodnoy-kulture" TargetMode="External"/><Relationship Id="rId151" Type="http://schemas.openxmlformats.org/officeDocument/2006/relationships/hyperlink" Target="https://nsportal.ru/detskiy-sad/raznoe/2012/03/14/itogovoe-zanyatie-po-priobshcheniyu-detey-k-russkoy-narodnoy-kulture" TargetMode="External"/><Relationship Id="rId152" Type="http://schemas.openxmlformats.org/officeDocument/2006/relationships/hyperlink" Target="https://nsportal.ru/detskiy-sad/raznoe/2012/03/14/itogovoe-zanyatie-po-priobshcheniyu-detey-k-russkoy-narodnoy-kulture" TargetMode="External"/><Relationship Id="rId153" Type="http://schemas.openxmlformats.org/officeDocument/2006/relationships/hyperlink" Target="https://nsportal.ru/detskiy-sad/raznoe/2012/03/14/itogovoe-zanyatie-po-priobshcheniyu-detey-k-russkoy-narodnoy-kulture" TargetMode="External"/><Relationship Id="rId154" Type="http://schemas.openxmlformats.org/officeDocument/2006/relationships/hyperlink" Target="https://nsportal.ru/detskiy-sad/raznoe/2012/03/14/itogovoe-zanyatie-po-priobshcheniyu-detey-k-russkoy-narodnoy-kulture" TargetMode="External"/><Relationship Id="rId155" Type="http://schemas.openxmlformats.org/officeDocument/2006/relationships/hyperlink" Target="https://nsportal.ru/detskiy-sad/raznoe/2012/03/14/itogovoe-zanyatie-po-priobshcheniyu-detey-k-russkoy-narodnoy-kulture" TargetMode="External"/><Relationship Id="rId156" Type="http://schemas.openxmlformats.org/officeDocument/2006/relationships/hyperlink" Target="https://nsportal.ru/detskiy-sad/raznoe/2012/03/14/itogovoe-zanyatie-po-priobshcheniyu-detey-k-russkoy-narodnoy-kulture" TargetMode="External"/><Relationship Id="rId157" Type="http://schemas.openxmlformats.org/officeDocument/2006/relationships/hyperlink" Target="https://nsportal.ru/detskiy-sad/raznoe/2012/03/14/itogovoe-zanyatie-po-priobshcheniyu-detey-k-russkoy-narodnoy-kulture" TargetMode="External"/><Relationship Id="rId158" Type="http://schemas.openxmlformats.org/officeDocument/2006/relationships/hyperlink" Target="https://nsportal.ru/detskiy-sad/raznoe/2012/03/14/itogovoe-zanyatie-po-priobshcheniyu-detey-k-russkoy-narodnoy-kulture" TargetMode="External"/><Relationship Id="rId159" Type="http://schemas.openxmlformats.org/officeDocument/2006/relationships/hyperlink" Target="https://nsportal.ru/detskiy-sad/raznoe/2012/03/14/itogovoe-zanyatie-po-priobshcheniyu-detey-k-russkoy-narodnoy-kulture" TargetMode="External"/><Relationship Id="rId160" Type="http://schemas.openxmlformats.org/officeDocument/2006/relationships/hyperlink" Target="https://nsportal.ru/detskiy-sad/raznoe/2012/03/14/itogovoe-zanyatie-po-priobshcheniyu-detey-k-russkoy-narodnoy-kulture" TargetMode="External"/><Relationship Id="rId161" Type="http://schemas.openxmlformats.org/officeDocument/2006/relationships/hyperlink" Target="https://nsportal.ru/detskiy-sad/raznoe/2012/03/14/itogovoe-zanyatie-po-priobshcheniyu-detey-k-russkoy-narodnoy-kulture" TargetMode="External"/><Relationship Id="rId162" Type="http://schemas.openxmlformats.org/officeDocument/2006/relationships/hyperlink" Target="https://nsportal.ru/detskiy-sad/raznoe/2012/03/14/itogovoe-zanyatie-po-priobshcheniyu-detey-k-russkoy-narodnoy-kulture" TargetMode="External"/><Relationship Id="rId163" Type="http://schemas.openxmlformats.org/officeDocument/2006/relationships/hyperlink" Target="https://nsportal.ru/detskiy-sad/raznoe/2012/03/14/itogovoe-zanyatie-po-priobshcheniyu-detey-k-russkoy-narodnoy-kulture" TargetMode="External"/><Relationship Id="rId164" Type="http://schemas.openxmlformats.org/officeDocument/2006/relationships/hyperlink" Target="https://nsportal.ru/detskiy-sad/raznoe/2012/03/14/itogovoe-zanyatie-po-priobshcheniyu-detey-k-russkoy-narodnoy-kulture" TargetMode="External"/><Relationship Id="rId165" Type="http://schemas.openxmlformats.org/officeDocument/2006/relationships/hyperlink" Target="https://nsportal.ru/detskiy-sad/raznoe/2012/03/14/itogovoe-zanyatie-po-priobshcheniyu-detey-k-russkoy-narodnoy-kulture" TargetMode="External"/><Relationship Id="rId166" Type="http://schemas.openxmlformats.org/officeDocument/2006/relationships/hyperlink" Target="https://nsportal.ru/detskiy-sad/raznoe/2012/03/14/itogovoe-zanyatie-po-priobshcheniyu-detey-k-russkoy-narodnoy-kulture" TargetMode="External"/><Relationship Id="rId167" Type="http://schemas.openxmlformats.org/officeDocument/2006/relationships/hyperlink" Target="https://nsportal.ru/detskiy-sad/raznoe/2012/03/14/itogovoe-zanyatie-po-priobshcheniyu-detey-k-russkoy-narodnoy-kulture" TargetMode="External"/><Relationship Id="rId168" Type="http://schemas.openxmlformats.org/officeDocument/2006/relationships/hyperlink" Target="https://nsportal.ru/detskiy-sad/raznoe/2012/03/14/itogovoe-zanyatie-po-priobshcheniyu-detey-k-russkoy-narodnoy-kulture" TargetMode="External"/><Relationship Id="rId169" Type="http://schemas.openxmlformats.org/officeDocument/2006/relationships/hyperlink" Target="https://nsportal.ru/detskiy-sad/raznoe/2012/03/14/itogovoe-zanyatie-po-priobshcheniyu-detey-k-russkoy-narodnoy-kulture" TargetMode="External"/><Relationship Id="rId170" Type="http://schemas.openxmlformats.org/officeDocument/2006/relationships/hyperlink" Target="https://nsportal.ru/detskiy-sad/raznoe/2012/03/14/itogovoe-zanyatie-po-priobshcheniyu-detey-k-russkoy-narodnoy-kulture" TargetMode="External"/><Relationship Id="rId171" Type="http://schemas.openxmlformats.org/officeDocument/2006/relationships/hyperlink" Target="https://nsportal.ru/detskiy-sad/raznoe/2012/03/14/itogovoe-zanyatie-po-priobshcheniyu-detey-k-russkoy-narodnoy-kulture" TargetMode="External"/><Relationship Id="rId172" Type="http://schemas.openxmlformats.org/officeDocument/2006/relationships/hyperlink" Target="https://nsportal.ru/detskiy-sad/raznoe/2012/03/14/itogovoe-zanyatie-po-priobshcheniyu-detey-k-russkoy-narodnoy-kulture" TargetMode="External"/><Relationship Id="rId173" Type="http://schemas.openxmlformats.org/officeDocument/2006/relationships/hyperlink" Target="https://nsportal.ru/detskiy-sad/raznoe/2012/03/14/itogovoe-zanyatie-po-priobshcheniyu-detey-k-russkoy-narodnoy-kulture" TargetMode="External"/><Relationship Id="rId17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990720" y="68580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стиха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 ремеслах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04920" y="4724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месло – навык, умение человека произв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ую –либо вещь, из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914400" y="632880"/>
            <a:ext cx="739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до лошадь подковать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ить ключ к замку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угодно – все смо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же меч – кладенец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 - …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зне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3" descr="D:\Ольга\картинки\orig_af07a68b726eb9ea3088e24244fa7182.jpg"/>
          <p:cNvPicPr/>
          <p:nvPr/>
        </p:nvPicPr>
        <p:blipFill>
          <a:blip r:embed="rId1"/>
          <a:stretch/>
        </p:blipFill>
        <p:spPr>
          <a:xfrm>
            <a:off x="2362320" y="4267080"/>
            <a:ext cx="29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80880" y="609480"/>
            <a:ext cx="838224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есь сработают подковы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, два, три, они готовы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лошадку подкую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й копыта берегут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уваются мех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нят косы, лемеха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есь горит огонь в печ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тер делает меч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оточков слышен стук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, два, три, готов сундук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дед мастера - Левш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мотри, но не мешай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зни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3" descr="D:\Ольга\картинки\cd5209288dbad35305a9ad4f3cf3c2ea_full.jpg"/>
          <p:cNvPicPr/>
          <p:nvPr/>
        </p:nvPicPr>
        <p:blipFill>
          <a:blip r:embed="rId1"/>
          <a:stretch/>
        </p:blipFill>
        <p:spPr>
          <a:xfrm>
            <a:off x="5791320" y="1600200"/>
            <a:ext cx="3047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9345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вам из глин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ску, крынку и горшо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меня отличный д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…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нча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3" descr="D:\Ольга\картинки\img_11.jpg"/>
          <p:cNvPicPr/>
          <p:nvPr/>
        </p:nvPicPr>
        <p:blipFill>
          <a:blip r:embed="rId1"/>
          <a:stretch/>
        </p:blipFill>
        <p:spPr>
          <a:xfrm>
            <a:off x="6248520" y="2362320"/>
            <a:ext cx="25970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895480" y="709200"/>
            <a:ext cx="6096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 пушистой шер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пряду я пряж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отаю всё в клубоч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свяжу носочк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 теплую рубаху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то я….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я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2" descr="D:\Ольга\картинки\s1200.jpg"/>
          <p:cNvPicPr/>
          <p:nvPr/>
        </p:nvPicPr>
        <p:blipFill>
          <a:blip r:embed="rId1"/>
          <a:stretch/>
        </p:blipFill>
        <p:spPr>
          <a:xfrm>
            <a:off x="228600" y="2666880"/>
            <a:ext cx="2567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80880" y="685800"/>
            <a:ext cx="6096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ен вам полов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 ткань красива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в один ми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правляюсь лих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качи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2" descr="D:\Ольга\картинки\яяяяяяяяяяяяяс.jpg"/>
          <p:cNvPicPr/>
          <p:nvPr/>
        </p:nvPicPr>
        <p:blipFill>
          <a:blip r:embed="rId1"/>
          <a:stretch/>
        </p:blipFill>
        <p:spPr>
          <a:xfrm>
            <a:off x="5791320" y="2666880"/>
            <a:ext cx="3073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057400" y="609480"/>
            <a:ext cx="6400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рагоценности, алмазы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корили уж весь ми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украшенья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 отличный ….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Ювел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Рисунок 2" descr="D:\Ольга\картинки\triola-jeweller.jpg"/>
          <p:cNvPicPr/>
          <p:nvPr/>
        </p:nvPicPr>
        <p:blipFill>
          <a:blip r:embed="rId1"/>
          <a:stretch/>
        </p:blipFill>
        <p:spPr>
          <a:xfrm>
            <a:off x="457200" y="3581280"/>
            <a:ext cx="3581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и информа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зниц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zagadki.info/zag/remesla.htm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0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2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4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6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8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0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ончар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1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2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3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4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5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6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7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9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0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1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2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3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5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7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9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1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3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5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7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9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качиха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0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1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2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3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4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5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6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8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9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0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1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2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4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6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8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0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2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4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6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8"/>
              </a:rPr>
              <a:t>kultur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Ювелир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9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0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1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2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3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4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5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7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8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9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0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1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3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5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7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9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1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3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5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7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знец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8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9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0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1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2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3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4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6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7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8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9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0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2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4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6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8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0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2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4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6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яха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7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8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9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0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1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2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3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5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6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7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8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9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1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3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5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7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9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71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73"/>
              </a:rPr>
              <a:t>narodnoy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08:44:20Z</dcterms:created>
  <dc:creator>Alena</dc:creator>
  <dc:description/>
  <dc:language>en-US</dc:language>
  <cp:lastModifiedBy>Admin</cp:lastModifiedBy>
  <dcterms:modified xsi:type="dcterms:W3CDTF">2019-04-15T05:44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