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D95-B245-4765-8E4C-4E223DD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09A-A728-43C9-9300-4B8088A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60F-EF79-4C93-80DA-AF9F0AFC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DAA-0279-46A4-9D5B-6EC27D7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A37-18A2-4B6C-924E-D0602000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D6E-1702-42D8-8BCD-4406490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404-E078-432E-85B3-842E88D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86C-5165-4392-9662-D7F23D7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D50-68DC-4F96-872E-89D9891E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D9A-3AED-4751-8337-20BF2D4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86B-9F3C-4B75-9692-A1773CA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56F-0568-465A-80EB-580DCCD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381C-C21B-48C4-A155-100F78DF2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BEST RELAX MUZIK - Волшебная музы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9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31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ÐÐµÐ¾Ð±ÑÑÐ½ÑÐµ Ð¼ÐµÑÑÐ° Ð² Ð¡ÐÐ±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1062036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¿Ð°Ð¼ÑÑÐ½Ð¸Ðº ÑÑÐ¸ÑÐµÐ»Ñ Ð² ÐÐ°Ð»Ð¸Ð½Ð¸Ð½ÑÐºÐ¾Ð¼ Ñ-Ð½Ðµ ÑÐ¿Ð±"/>
          <p:cNvPicPr/>
          <p:nvPr/>
        </p:nvPicPr>
        <p:blipFill>
          <a:blip r:embed="rId1"/>
          <a:stretch/>
        </p:blipFill>
        <p:spPr>
          <a:xfrm>
            <a:off x="164304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Формула успех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x\Desktop\вооо.jpg"/>
          <p:cNvPicPr/>
          <p:nvPr/>
        </p:nvPicPr>
        <p:blipFill>
          <a:blip r:embed="rId1"/>
          <a:stretch/>
        </p:blipFill>
        <p:spPr>
          <a:xfrm>
            <a:off x="2071800" y="1785960"/>
            <a:ext cx="5310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9600" spc="-1" strike="noStrike">
                <a:solidFill>
                  <a:srgbClr val="e46c0a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успе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ÐÐ°ÑÑÐ¸Ð½ÐºÐ¸ Ð¿Ð¾ Ð·Ð°Ð¿ÑÐ¾ÑÑ Ð°Ð»ÑÐµ Ð¿Ð°ÑÑÑÐ° 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ебята, надо верить в чудеса - АЛЫЕ ПАРУ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051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0" y="0"/>
            <a:ext cx="106678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Санкт-Петербург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город, гд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исполняютс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меч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EST RELAX MUZIK - Волшебная музы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8990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работы в группе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  <a:ea typeface="Times New Roman"/>
              </a:rPr>
              <a:t>1.Слушай, что говорят другие.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2.Говори спокойно ясно, только по делу.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3. Высказывая свое мнение, не перебивай других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Точн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олняй возложенную на тебя рол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x\Desktop\сфинкс 1.jpg"/>
          <p:cNvPicPr/>
          <p:nvPr/>
        </p:nvPicPr>
        <p:blipFill>
          <a:blip r:embed="rId1"/>
          <a:stretch/>
        </p:blipFill>
        <p:spPr>
          <a:xfrm>
            <a:off x="0" y="1500120"/>
            <a:ext cx="4643280" cy="427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x\Desktop\сфинкс 2.jpg"/>
          <p:cNvPicPr/>
          <p:nvPr/>
        </p:nvPicPr>
        <p:blipFill>
          <a:blip r:embed="rId2"/>
          <a:stretch/>
        </p:blipFill>
        <p:spPr>
          <a:xfrm>
            <a:off x="4643280" y="1500120"/>
            <a:ext cx="4500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144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peterburg.center/sites/default/files/fotograf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3492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ÐÐ°ÑÑÐ¸Ð½ÐºÐ¸ Ð¿Ð¾ Ð·Ð°Ð¿ÑÐ¾ÑÑ Ð¼ÐµÑÑÐ° Ð² ÑÐ¿Ð±, Ð¿ÑÐ¸Ð½Ð¾ÑÑÑÐ¸Ðµ ÑÐ´Ð°ÑÑ"/>
          <p:cNvPicPr/>
          <p:nvPr/>
        </p:nvPicPr>
        <p:blipFill>
          <a:blip r:embed="rId1"/>
          <a:stretch/>
        </p:blipFill>
        <p:spPr>
          <a:xfrm>
            <a:off x="4140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9T20:47:00Z</dcterms:created>
  <dc:creator>x</dc:creator>
  <dc:description/>
  <dc:language>en-US</dc:language>
  <cp:lastModifiedBy>x</cp:lastModifiedBy>
  <dcterms:modified xsi:type="dcterms:W3CDTF">2018-11-13T21:33:18Z</dcterms:modified>
  <cp:revision>91</cp:revision>
  <dc:subject/>
  <dc:title>Слайд 1</dc:title>
</cp:coreProperties>
</file>