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F65-03C4-499D-9EBD-E5861E70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F05-6036-4BFF-A38F-0A434195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7E0-73B7-45D9-A98B-43AA441F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8A3-0978-4F07-B67D-1B195A38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5E1-3ED6-4052-8A37-BC78F807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1A7-74D1-428B-9BA8-91921AD5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9AB-CB07-49F8-9639-80617905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C9B-808F-485F-A1F5-FE54FB6E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890B-6FAB-4063-BB87-B7368649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364-E402-4DD8-B159-5CE72230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7DB-767F-4CBB-8BDF-0873846D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A16-849E-40A3-8347-1F3B64FE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70E2-2F53-4D2A-8E7F-4CA81B6324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ÐÐ°ÑÑÐ¸Ð½ÐºÐ¸ Ð¿Ð¾ Ð·Ð°Ð¿ÑÐ¾ÑÑ ÑÐ°Ð½ÐºÑ-Ð¿ÐµÑÐµÑÐ±ÑÑÐ³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BEST RELAX MUZIK - Волшебная музык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99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ÐÐ°ÑÑÐ¸Ð½ÐºÐ¸ Ð¿Ð¾ Ð·Ð°Ð¿ÑÐ¾ÑÑ ÑÐ°Ð½ÐºÑ-Ð¿ÐµÑÐµÑÐ±ÑÑÐ³"/>
          <p:cNvPicPr/>
          <p:nvPr/>
        </p:nvPicPr>
        <p:blipFill>
          <a:blip r:embed="rId1"/>
          <a:stretch/>
        </p:blipFill>
        <p:spPr>
          <a:xfrm>
            <a:off x="0" y="0"/>
            <a:ext cx="931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ÐÐµÐ¾Ð±ÑÑÐ½ÑÐµ Ð¼ÐµÑÑÐ° Ð² Ð¡ÐÐ±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ÐÐ°ÑÑÐ¸Ð½ÐºÐ¸ Ð¿Ð¾ Ð·Ð°Ð¿ÑÐ¾ÑÑ ÑÐ°Ð½ÐºÑ-Ð¿ÐµÑÐµÑÐ±ÑÑÐ³"/>
          <p:cNvPicPr/>
          <p:nvPr/>
        </p:nvPicPr>
        <p:blipFill>
          <a:blip r:embed="rId1"/>
          <a:stretch/>
        </p:blipFill>
        <p:spPr>
          <a:xfrm>
            <a:off x="0" y="0"/>
            <a:ext cx="10620360" cy="77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ÐÐ°ÑÑÐ¸Ð½ÐºÐ¸ Ð¿Ð¾ Ð·Ð°Ð¿ÑÐ¾ÑÑ Ð¿Ð°Ð¼ÑÑÐ½Ð¸Ðº ÑÑÐ¸ÑÐµÐ»Ñ Ð² ÐÐ°Ð»Ð¸Ð½Ð¸Ð½ÑÐºÐ¾Ð¼ Ñ-Ð½Ðµ ÑÐ¿Ð±"/>
          <p:cNvPicPr/>
          <p:nvPr/>
        </p:nvPicPr>
        <p:blipFill>
          <a:blip r:embed="rId1"/>
          <a:stretch/>
        </p:blipFill>
        <p:spPr>
          <a:xfrm>
            <a:off x="1643040" y="0"/>
            <a:ext cx="60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Формула успех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x\Desktop\вооо.jpg"/>
          <p:cNvPicPr/>
          <p:nvPr/>
        </p:nvPicPr>
        <p:blipFill>
          <a:blip r:embed="rId1"/>
          <a:stretch/>
        </p:blipFill>
        <p:spPr>
          <a:xfrm>
            <a:off x="2071800" y="1785960"/>
            <a:ext cx="5310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b050"/>
                </a:solidFill>
                <a:latin typeface="Calibri"/>
              </a:rPr>
              <a:t>?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9600" spc="-1" strike="noStrike">
                <a:solidFill>
                  <a:srgbClr val="002060"/>
                </a:solidFill>
                <a:latin typeface="Calibri"/>
              </a:rPr>
              <a:t>?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9600" spc="-1" strike="noStrike">
                <a:solidFill>
                  <a:srgbClr val="e46c0a"/>
                </a:solidFill>
                <a:latin typeface="Calibri"/>
              </a:rPr>
              <a:t>?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успе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ÐÐ°ÑÑÐ¸Ð½ÐºÐ¸ Ð¿Ð¾ Ð·Ð°Ð¿ÑÐ¾ÑÑ Ð°Ð»ÑÐµ Ð¿Ð°ÑÑÑÐ° Ð¿ÐµÑÐµÑÐ±ÑÑÐ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ебята, надо верить в чудеса - АЛЫЕ ПАРУС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5051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ÐÐ°ÑÑÐ¸Ð½ÐºÐ¸ Ð¿Ð¾ Ð·Ð°Ð¿ÑÐ¾ÑÑ ÑÐ°Ð½ÐºÑ-Ð¿ÐµÑÐµÑÐ±ÑÑÐ³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0" y="0"/>
            <a:ext cx="1066788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Segoe Script"/>
              </a:rPr>
              <a:t>Санкт-Петербург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Segoe Script"/>
              </a:rPr>
              <a:t>город, гд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Segoe Script"/>
              </a:rPr>
              <a:t>исполняютс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Segoe Script"/>
              </a:rPr>
              <a:t>меч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BEST RELAX MUZIK - Волшебная музык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8990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Правила работы в группе: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4f6228"/>
                </a:solidFill>
                <a:latin typeface="Calibri"/>
                <a:ea typeface="Times New Roman"/>
              </a:rPr>
              <a:t>1.Слушай, что говорят другие.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  <a:ea typeface="Times New Roman"/>
              </a:rPr>
              <a:t>2.Говори спокойно ясно, только по делу.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Times New Roman"/>
              </a:rPr>
              <a:t>3. Высказывая свое мнение, не перебивай других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4.Точно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полняй возложенную на тебя роль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ÐÐ°ÑÑÐ¸Ð½ÐºÐ¸ Ð¿Ð¾ Ð·Ð°Ð¿ÑÐ¾ÑÑ ÑÐ°Ð½ÐºÑ-Ð¿ÐµÑÐµÑÐ±ÑÑÐ³"/>
          <p:cNvPicPr/>
          <p:nvPr/>
        </p:nvPicPr>
        <p:blipFill>
          <a:blip r:embed="rId1"/>
          <a:stretch/>
        </p:blipFill>
        <p:spPr>
          <a:xfrm>
            <a:off x="-68400" y="0"/>
            <a:ext cx="921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x\Desktop\сфинкс 1.jpg"/>
          <p:cNvPicPr/>
          <p:nvPr/>
        </p:nvPicPr>
        <p:blipFill>
          <a:blip r:embed="rId1"/>
          <a:stretch/>
        </p:blipFill>
        <p:spPr>
          <a:xfrm>
            <a:off x="0" y="1500120"/>
            <a:ext cx="4643280" cy="427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x\Desktop\сфинкс 2.jpg"/>
          <p:cNvPicPr/>
          <p:nvPr/>
        </p:nvPicPr>
        <p:blipFill>
          <a:blip r:embed="rId2"/>
          <a:stretch/>
        </p:blipFill>
        <p:spPr>
          <a:xfrm>
            <a:off x="4643280" y="1500120"/>
            <a:ext cx="45007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ÐÐ°ÑÑÐ¸Ð½ÐºÐ¸ Ð¿Ð¾ Ð·Ð°Ð¿ÑÐ¾ÑÑ ÑÐ°Ð½ÐºÑ-Ð¿ÐµÑÐµÑÐ±ÑÑÐ³"/>
          <p:cNvPicPr/>
          <p:nvPr/>
        </p:nvPicPr>
        <p:blipFill>
          <a:blip r:embed="rId1"/>
          <a:stretch/>
        </p:blipFill>
        <p:spPr>
          <a:xfrm>
            <a:off x="1440" y="0"/>
            <a:ext cx="912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peterburg.center/sites/default/files/fotograf.jpg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ÐÐ°ÑÑÐ¸Ð½ÐºÐ¸ Ð¿Ð¾ Ð·Ð°Ð¿ÑÐ¾ÑÑ ÑÐ°Ð½ÐºÑ-Ð¿ÐµÑÐµÑÐ±ÑÑÐ³"/>
          <p:cNvPicPr/>
          <p:nvPr/>
        </p:nvPicPr>
        <p:blipFill>
          <a:blip r:embed="rId1"/>
          <a:stretch/>
        </p:blipFill>
        <p:spPr>
          <a:xfrm>
            <a:off x="34920" y="0"/>
            <a:ext cx="909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ÐÐ°ÑÑÐ¸Ð½ÐºÐ¸ Ð¿Ð¾ Ð·Ð°Ð¿ÑÐ¾ÑÑ Ð¼ÐµÑÑÐ° Ð² ÑÐ¿Ð±, Ð¿ÑÐ¸Ð½Ð¾ÑÑÑÐ¸Ðµ ÑÐ´Ð°ÑÑ"/>
          <p:cNvPicPr/>
          <p:nvPr/>
        </p:nvPicPr>
        <p:blipFill>
          <a:blip r:embed="rId1"/>
          <a:stretch/>
        </p:blipFill>
        <p:spPr>
          <a:xfrm>
            <a:off x="41400" y="0"/>
            <a:ext cx="910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9T20:47:00Z</dcterms:created>
  <dc:creator>x</dc:creator>
  <dc:description/>
  <dc:language>en-US</dc:language>
  <cp:lastModifiedBy>x</cp:lastModifiedBy>
  <dcterms:modified xsi:type="dcterms:W3CDTF">2018-11-13T21:33:18Z</dcterms:modified>
  <cp:revision>91</cp:revision>
  <dc:subject/>
  <dc:title>Слайд 1</dc:title>
</cp:coreProperties>
</file>