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816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412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3184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816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412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131840" y="982800"/>
            <a:ext cx="688032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45816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78412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13184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45816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78412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131840" y="982800"/>
            <a:ext cx="688032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45816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78412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3184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45816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78412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131840" y="982800"/>
            <a:ext cx="688032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45816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784120" y="190332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13184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45816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784120" y="4339440"/>
            <a:ext cx="221508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31840" y="982800"/>
            <a:ext cx="688032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7320" y="433944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184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903320"/>
            <a:ext cx="335736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31840" y="4339440"/>
            <a:ext cx="6880320" cy="222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Shape 468"/>
          <p:cNvGrpSpPr/>
          <p:nvPr/>
        </p:nvGrpSpPr>
        <p:grpSpPr>
          <a:xfrm>
            <a:off x="-7920" y="-6480"/>
            <a:ext cx="9159840" cy="6870960"/>
            <a:chOff x="-7920" y="-6480"/>
            <a:chExt cx="9159840" cy="6870960"/>
          </a:xfrm>
        </p:grpSpPr>
        <p:sp>
          <p:nvSpPr>
            <p:cNvPr id="39" name="Shape 469"/>
            <p:cNvSpPr/>
            <p:nvPr/>
          </p:nvSpPr>
          <p:spPr>
            <a:xfrm>
              <a:off x="3689280" y="5616720"/>
              <a:ext cx="153720" cy="147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24" h="2223">
                  <a:moveTo>
                    <a:pt x="1919" y="202"/>
                  </a:moveTo>
                  <a:lnTo>
                    <a:pt x="1953" y="573"/>
                  </a:lnTo>
                  <a:lnTo>
                    <a:pt x="2020" y="943"/>
                  </a:lnTo>
                  <a:lnTo>
                    <a:pt x="2088" y="1381"/>
                  </a:lnTo>
                  <a:lnTo>
                    <a:pt x="2155" y="1818"/>
                  </a:lnTo>
                  <a:lnTo>
                    <a:pt x="1953" y="1818"/>
                  </a:lnTo>
                  <a:lnTo>
                    <a:pt x="1785" y="1852"/>
                  </a:lnTo>
                  <a:lnTo>
                    <a:pt x="1414" y="1919"/>
                  </a:lnTo>
                  <a:lnTo>
                    <a:pt x="943" y="1987"/>
                  </a:lnTo>
                  <a:lnTo>
                    <a:pt x="707" y="2020"/>
                  </a:lnTo>
                  <a:lnTo>
                    <a:pt x="472" y="2088"/>
                  </a:lnTo>
                  <a:lnTo>
                    <a:pt x="371" y="1650"/>
                  </a:lnTo>
                  <a:lnTo>
                    <a:pt x="270" y="1179"/>
                  </a:lnTo>
                  <a:lnTo>
                    <a:pt x="202" y="808"/>
                  </a:lnTo>
                  <a:lnTo>
                    <a:pt x="101" y="438"/>
                  </a:lnTo>
                  <a:lnTo>
                    <a:pt x="1010" y="337"/>
                  </a:lnTo>
                  <a:lnTo>
                    <a:pt x="1919" y="202"/>
                  </a:lnTo>
                  <a:close/>
                  <a:moveTo>
                    <a:pt x="1886" y="0"/>
                  </a:moveTo>
                  <a:lnTo>
                    <a:pt x="977" y="135"/>
                  </a:lnTo>
                  <a:lnTo>
                    <a:pt x="68" y="270"/>
                  </a:lnTo>
                  <a:lnTo>
                    <a:pt x="34" y="303"/>
                  </a:lnTo>
                  <a:lnTo>
                    <a:pt x="0" y="371"/>
                  </a:lnTo>
                  <a:lnTo>
                    <a:pt x="0" y="606"/>
                  </a:lnTo>
                  <a:lnTo>
                    <a:pt x="34" y="808"/>
                  </a:lnTo>
                  <a:lnTo>
                    <a:pt x="101" y="1212"/>
                  </a:lnTo>
                  <a:lnTo>
                    <a:pt x="202" y="1717"/>
                  </a:lnTo>
                  <a:lnTo>
                    <a:pt x="270" y="1953"/>
                  </a:lnTo>
                  <a:lnTo>
                    <a:pt x="371" y="2189"/>
                  </a:lnTo>
                  <a:lnTo>
                    <a:pt x="404" y="2222"/>
                  </a:lnTo>
                  <a:lnTo>
                    <a:pt x="674" y="2222"/>
                  </a:lnTo>
                  <a:lnTo>
                    <a:pt x="876" y="2189"/>
                  </a:lnTo>
                  <a:lnTo>
                    <a:pt x="1313" y="2121"/>
                  </a:lnTo>
                  <a:lnTo>
                    <a:pt x="1751" y="2088"/>
                  </a:lnTo>
                  <a:lnTo>
                    <a:pt x="1987" y="2054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323" y="1953"/>
                  </a:lnTo>
                  <a:lnTo>
                    <a:pt x="2323" y="1717"/>
                  </a:lnTo>
                  <a:lnTo>
                    <a:pt x="2290" y="1482"/>
                  </a:lnTo>
                  <a:lnTo>
                    <a:pt x="2222" y="1044"/>
                  </a:lnTo>
                  <a:lnTo>
                    <a:pt x="2155" y="539"/>
                  </a:lnTo>
                  <a:lnTo>
                    <a:pt x="2088" y="303"/>
                  </a:lnTo>
                  <a:lnTo>
                    <a:pt x="1987" y="68"/>
                  </a:lnTo>
                  <a:lnTo>
                    <a:pt x="1953" y="34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Shape 470"/>
            <p:cNvSpPr/>
            <p:nvPr/>
          </p:nvSpPr>
          <p:spPr>
            <a:xfrm>
              <a:off x="-7920" y="4475160"/>
              <a:ext cx="315720" cy="90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90360"/>
                <a:gd name="textAreaBottom" fmla="*/ 90360 h 90360"/>
              </a:gdLst>
              <a:ahLst/>
              <a:rect l="textAreaLeft" t="textAreaTop" r="textAreaRight" b="textAreaBottom"/>
              <a:pathLst>
                <a:path w="4748" h="1348">
                  <a:moveTo>
                    <a:pt x="4714" y="1"/>
                  </a:moveTo>
                  <a:lnTo>
                    <a:pt x="3737" y="203"/>
                  </a:lnTo>
                  <a:lnTo>
                    <a:pt x="2727" y="438"/>
                  </a:lnTo>
                  <a:lnTo>
                    <a:pt x="1751" y="708"/>
                  </a:lnTo>
                  <a:lnTo>
                    <a:pt x="774" y="943"/>
                  </a:lnTo>
                  <a:lnTo>
                    <a:pt x="0" y="1112"/>
                  </a:lnTo>
                  <a:lnTo>
                    <a:pt x="0" y="1347"/>
                  </a:lnTo>
                  <a:lnTo>
                    <a:pt x="1313" y="1044"/>
                  </a:lnTo>
                  <a:lnTo>
                    <a:pt x="2188" y="842"/>
                  </a:lnTo>
                  <a:lnTo>
                    <a:pt x="3064" y="640"/>
                  </a:lnTo>
                  <a:lnTo>
                    <a:pt x="3905" y="371"/>
                  </a:lnTo>
                  <a:lnTo>
                    <a:pt x="4343" y="236"/>
                  </a:lnTo>
                  <a:lnTo>
                    <a:pt x="4747" y="68"/>
                  </a:lnTo>
                  <a:lnTo>
                    <a:pt x="4747" y="34"/>
                  </a:lnTo>
                  <a:lnTo>
                    <a:pt x="471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6640" bIns="-2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Shape 471"/>
            <p:cNvSpPr/>
            <p:nvPr/>
          </p:nvSpPr>
          <p:spPr>
            <a:xfrm>
              <a:off x="3581280" y="547380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4" h="2290">
                  <a:moveTo>
                    <a:pt x="1987" y="0"/>
                  </a:moveTo>
                  <a:lnTo>
                    <a:pt x="1953" y="34"/>
                  </a:lnTo>
                  <a:lnTo>
                    <a:pt x="1953" y="101"/>
                  </a:lnTo>
                  <a:lnTo>
                    <a:pt x="1448" y="101"/>
                  </a:lnTo>
                  <a:lnTo>
                    <a:pt x="943" y="169"/>
                  </a:lnTo>
                  <a:lnTo>
                    <a:pt x="505" y="202"/>
                  </a:lnTo>
                  <a:lnTo>
                    <a:pt x="270" y="236"/>
                  </a:lnTo>
                  <a:lnTo>
                    <a:pt x="202" y="270"/>
                  </a:lnTo>
                  <a:lnTo>
                    <a:pt x="101" y="337"/>
                  </a:lnTo>
                  <a:lnTo>
                    <a:pt x="270" y="404"/>
                  </a:lnTo>
                  <a:lnTo>
                    <a:pt x="472" y="404"/>
                  </a:lnTo>
                  <a:lnTo>
                    <a:pt x="842" y="371"/>
                  </a:lnTo>
                  <a:lnTo>
                    <a:pt x="1381" y="337"/>
                  </a:lnTo>
                  <a:lnTo>
                    <a:pt x="1953" y="270"/>
                  </a:lnTo>
                  <a:lnTo>
                    <a:pt x="1987" y="607"/>
                  </a:lnTo>
                  <a:lnTo>
                    <a:pt x="2020" y="943"/>
                  </a:lnTo>
                  <a:lnTo>
                    <a:pt x="2088" y="1381"/>
                  </a:lnTo>
                  <a:lnTo>
                    <a:pt x="2121" y="1583"/>
                  </a:lnTo>
                  <a:lnTo>
                    <a:pt x="2189" y="1785"/>
                  </a:lnTo>
                  <a:lnTo>
                    <a:pt x="2155" y="1785"/>
                  </a:lnTo>
                  <a:lnTo>
                    <a:pt x="1280" y="1920"/>
                  </a:lnTo>
                  <a:lnTo>
                    <a:pt x="808" y="1987"/>
                  </a:lnTo>
                  <a:lnTo>
                    <a:pt x="404" y="2122"/>
                  </a:lnTo>
                  <a:lnTo>
                    <a:pt x="303" y="1684"/>
                  </a:lnTo>
                  <a:lnTo>
                    <a:pt x="236" y="1246"/>
                  </a:lnTo>
                  <a:lnTo>
                    <a:pt x="202" y="775"/>
                  </a:lnTo>
                  <a:lnTo>
                    <a:pt x="169" y="573"/>
                  </a:lnTo>
                  <a:lnTo>
                    <a:pt x="101" y="371"/>
                  </a:lnTo>
                  <a:lnTo>
                    <a:pt x="68" y="371"/>
                  </a:lnTo>
                  <a:lnTo>
                    <a:pt x="34" y="505"/>
                  </a:lnTo>
                  <a:lnTo>
                    <a:pt x="0" y="640"/>
                  </a:lnTo>
                  <a:lnTo>
                    <a:pt x="0" y="977"/>
                  </a:lnTo>
                  <a:lnTo>
                    <a:pt x="101" y="1583"/>
                  </a:lnTo>
                  <a:lnTo>
                    <a:pt x="135" y="1785"/>
                  </a:lnTo>
                  <a:lnTo>
                    <a:pt x="135" y="1987"/>
                  </a:lnTo>
                  <a:lnTo>
                    <a:pt x="169" y="2088"/>
                  </a:lnTo>
                  <a:lnTo>
                    <a:pt x="236" y="2189"/>
                  </a:lnTo>
                  <a:lnTo>
                    <a:pt x="270" y="2256"/>
                  </a:lnTo>
                  <a:lnTo>
                    <a:pt x="371" y="2290"/>
                  </a:lnTo>
                  <a:lnTo>
                    <a:pt x="404" y="2256"/>
                  </a:lnTo>
                  <a:lnTo>
                    <a:pt x="438" y="2223"/>
                  </a:lnTo>
                  <a:lnTo>
                    <a:pt x="876" y="2223"/>
                  </a:lnTo>
                  <a:lnTo>
                    <a:pt x="1313" y="2155"/>
                  </a:lnTo>
                  <a:lnTo>
                    <a:pt x="2189" y="1987"/>
                  </a:lnTo>
                  <a:lnTo>
                    <a:pt x="2256" y="1953"/>
                  </a:lnTo>
                  <a:lnTo>
                    <a:pt x="2290" y="1987"/>
                  </a:lnTo>
                  <a:lnTo>
                    <a:pt x="2323" y="1953"/>
                  </a:lnTo>
                  <a:lnTo>
                    <a:pt x="2323" y="1718"/>
                  </a:lnTo>
                  <a:lnTo>
                    <a:pt x="2290" y="1482"/>
                  </a:lnTo>
                  <a:lnTo>
                    <a:pt x="2222" y="1044"/>
                  </a:lnTo>
                  <a:lnTo>
                    <a:pt x="2155" y="539"/>
                  </a:lnTo>
                  <a:lnTo>
                    <a:pt x="2121" y="270"/>
                  </a:lnTo>
                  <a:lnTo>
                    <a:pt x="2054" y="34"/>
                  </a:lnTo>
                  <a:lnTo>
                    <a:pt x="20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Shape 472"/>
            <p:cNvSpPr/>
            <p:nvPr/>
          </p:nvSpPr>
          <p:spPr>
            <a:xfrm>
              <a:off x="-7920" y="4375080"/>
              <a:ext cx="311040" cy="968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680" h="1449">
                  <a:moveTo>
                    <a:pt x="4646" y="0"/>
                  </a:moveTo>
                  <a:lnTo>
                    <a:pt x="4209" y="68"/>
                  </a:lnTo>
                  <a:lnTo>
                    <a:pt x="3737" y="169"/>
                  </a:lnTo>
                  <a:lnTo>
                    <a:pt x="2828" y="371"/>
                  </a:lnTo>
                  <a:lnTo>
                    <a:pt x="1044" y="909"/>
                  </a:lnTo>
                  <a:lnTo>
                    <a:pt x="0" y="1145"/>
                  </a:lnTo>
                  <a:lnTo>
                    <a:pt x="0" y="1448"/>
                  </a:lnTo>
                  <a:lnTo>
                    <a:pt x="1111" y="1145"/>
                  </a:lnTo>
                  <a:lnTo>
                    <a:pt x="2895" y="640"/>
                  </a:lnTo>
                  <a:lnTo>
                    <a:pt x="3804" y="371"/>
                  </a:lnTo>
                  <a:lnTo>
                    <a:pt x="4242" y="202"/>
                  </a:lnTo>
                  <a:lnTo>
                    <a:pt x="4680" y="34"/>
                  </a:lnTo>
                  <a:lnTo>
                    <a:pt x="468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9800" bIns="-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hape 473"/>
            <p:cNvSpPr/>
            <p:nvPr/>
          </p:nvSpPr>
          <p:spPr>
            <a:xfrm>
              <a:off x="-7920" y="4187880"/>
              <a:ext cx="257040" cy="615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872" h="944">
                  <a:moveTo>
                    <a:pt x="3064" y="0"/>
                  </a:moveTo>
                  <a:lnTo>
                    <a:pt x="2323" y="135"/>
                  </a:lnTo>
                  <a:lnTo>
                    <a:pt x="1582" y="270"/>
                  </a:lnTo>
                  <a:lnTo>
                    <a:pt x="842" y="472"/>
                  </a:lnTo>
                  <a:lnTo>
                    <a:pt x="0" y="707"/>
                  </a:lnTo>
                  <a:lnTo>
                    <a:pt x="0" y="943"/>
                  </a:lnTo>
                  <a:lnTo>
                    <a:pt x="909" y="674"/>
                  </a:lnTo>
                  <a:lnTo>
                    <a:pt x="1616" y="505"/>
                  </a:lnTo>
                  <a:lnTo>
                    <a:pt x="2357" y="337"/>
                  </a:lnTo>
                  <a:lnTo>
                    <a:pt x="3838" y="34"/>
                  </a:lnTo>
                  <a:lnTo>
                    <a:pt x="3872" y="34"/>
                  </a:lnTo>
                  <a:lnTo>
                    <a:pt x="383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5080" bIns="-55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hape 474"/>
            <p:cNvSpPr/>
            <p:nvPr/>
          </p:nvSpPr>
          <p:spPr>
            <a:xfrm>
              <a:off x="-7920" y="4238640"/>
              <a:ext cx="261720" cy="856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940" h="1281">
                  <a:moveTo>
                    <a:pt x="3905" y="1"/>
                  </a:moveTo>
                  <a:lnTo>
                    <a:pt x="3535" y="68"/>
                  </a:lnTo>
                  <a:lnTo>
                    <a:pt x="3165" y="169"/>
                  </a:lnTo>
                  <a:lnTo>
                    <a:pt x="2390" y="371"/>
                  </a:lnTo>
                  <a:lnTo>
                    <a:pt x="909" y="842"/>
                  </a:lnTo>
                  <a:lnTo>
                    <a:pt x="0" y="1078"/>
                  </a:lnTo>
                  <a:lnTo>
                    <a:pt x="0" y="1280"/>
                  </a:lnTo>
                  <a:lnTo>
                    <a:pt x="976" y="1011"/>
                  </a:lnTo>
                  <a:lnTo>
                    <a:pt x="2458" y="607"/>
                  </a:lnTo>
                  <a:lnTo>
                    <a:pt x="3232" y="337"/>
                  </a:lnTo>
                  <a:lnTo>
                    <a:pt x="3569" y="203"/>
                  </a:lnTo>
                  <a:lnTo>
                    <a:pt x="3939" y="34"/>
                  </a:lnTo>
                  <a:lnTo>
                    <a:pt x="390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0960" bIns="-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hape 475"/>
            <p:cNvSpPr/>
            <p:nvPr/>
          </p:nvSpPr>
          <p:spPr>
            <a:xfrm>
              <a:off x="3417840" y="6016680"/>
              <a:ext cx="39600" cy="37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07" h="574">
                  <a:moveTo>
                    <a:pt x="34" y="1"/>
                  </a:moveTo>
                  <a:lnTo>
                    <a:pt x="0" y="68"/>
                  </a:lnTo>
                  <a:lnTo>
                    <a:pt x="34" y="102"/>
                  </a:lnTo>
                  <a:lnTo>
                    <a:pt x="169" y="169"/>
                  </a:lnTo>
                  <a:lnTo>
                    <a:pt x="337" y="203"/>
                  </a:lnTo>
                  <a:lnTo>
                    <a:pt x="135" y="438"/>
                  </a:lnTo>
                  <a:lnTo>
                    <a:pt x="101" y="472"/>
                  </a:lnTo>
                  <a:lnTo>
                    <a:pt x="135" y="540"/>
                  </a:lnTo>
                  <a:lnTo>
                    <a:pt x="202" y="573"/>
                  </a:lnTo>
                  <a:lnTo>
                    <a:pt x="236" y="540"/>
                  </a:lnTo>
                  <a:lnTo>
                    <a:pt x="404" y="405"/>
                  </a:lnTo>
                  <a:lnTo>
                    <a:pt x="573" y="236"/>
                  </a:lnTo>
                  <a:lnTo>
                    <a:pt x="606" y="203"/>
                  </a:lnTo>
                  <a:lnTo>
                    <a:pt x="606" y="135"/>
                  </a:lnTo>
                  <a:lnTo>
                    <a:pt x="573" y="102"/>
                  </a:lnTo>
                  <a:lnTo>
                    <a:pt x="539" y="68"/>
                  </a:lnTo>
                  <a:lnTo>
                    <a:pt x="303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8840" bIns="-78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hape 476"/>
            <p:cNvSpPr/>
            <p:nvPr/>
          </p:nvSpPr>
          <p:spPr>
            <a:xfrm>
              <a:off x="3744720" y="5766120"/>
              <a:ext cx="147600" cy="152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224" h="2291">
                  <a:moveTo>
                    <a:pt x="1920" y="169"/>
                  </a:moveTo>
                  <a:lnTo>
                    <a:pt x="1954" y="540"/>
                  </a:lnTo>
                  <a:lnTo>
                    <a:pt x="1987" y="944"/>
                  </a:lnTo>
                  <a:lnTo>
                    <a:pt x="2021" y="1381"/>
                  </a:lnTo>
                  <a:lnTo>
                    <a:pt x="2055" y="1853"/>
                  </a:lnTo>
                  <a:lnTo>
                    <a:pt x="1819" y="1853"/>
                  </a:lnTo>
                  <a:lnTo>
                    <a:pt x="1583" y="1886"/>
                  </a:lnTo>
                  <a:lnTo>
                    <a:pt x="1146" y="1954"/>
                  </a:lnTo>
                  <a:lnTo>
                    <a:pt x="742" y="1987"/>
                  </a:lnTo>
                  <a:lnTo>
                    <a:pt x="573" y="2055"/>
                  </a:lnTo>
                  <a:lnTo>
                    <a:pt x="405" y="2088"/>
                  </a:lnTo>
                  <a:lnTo>
                    <a:pt x="338" y="1651"/>
                  </a:lnTo>
                  <a:lnTo>
                    <a:pt x="270" y="1213"/>
                  </a:lnTo>
                  <a:lnTo>
                    <a:pt x="203" y="843"/>
                  </a:lnTo>
                  <a:lnTo>
                    <a:pt x="136" y="472"/>
                  </a:lnTo>
                  <a:lnTo>
                    <a:pt x="1045" y="338"/>
                  </a:lnTo>
                  <a:lnTo>
                    <a:pt x="1920" y="169"/>
                  </a:lnTo>
                  <a:close/>
                  <a:moveTo>
                    <a:pt x="1920" y="1"/>
                  </a:moveTo>
                  <a:lnTo>
                    <a:pt x="1011" y="136"/>
                  </a:lnTo>
                  <a:lnTo>
                    <a:pt x="102" y="270"/>
                  </a:lnTo>
                  <a:lnTo>
                    <a:pt x="35" y="304"/>
                  </a:lnTo>
                  <a:lnTo>
                    <a:pt x="1" y="338"/>
                  </a:lnTo>
                  <a:lnTo>
                    <a:pt x="1" y="607"/>
                  </a:lnTo>
                  <a:lnTo>
                    <a:pt x="35" y="876"/>
                  </a:lnTo>
                  <a:lnTo>
                    <a:pt x="102" y="1381"/>
                  </a:lnTo>
                  <a:lnTo>
                    <a:pt x="169" y="1819"/>
                  </a:lnTo>
                  <a:lnTo>
                    <a:pt x="203" y="2021"/>
                  </a:lnTo>
                  <a:lnTo>
                    <a:pt x="270" y="2257"/>
                  </a:lnTo>
                  <a:lnTo>
                    <a:pt x="304" y="2290"/>
                  </a:lnTo>
                  <a:lnTo>
                    <a:pt x="371" y="2290"/>
                  </a:lnTo>
                  <a:lnTo>
                    <a:pt x="405" y="2257"/>
                  </a:lnTo>
                  <a:lnTo>
                    <a:pt x="607" y="2257"/>
                  </a:lnTo>
                  <a:lnTo>
                    <a:pt x="843" y="2223"/>
                  </a:lnTo>
                  <a:lnTo>
                    <a:pt x="1280" y="2122"/>
                  </a:lnTo>
                  <a:lnTo>
                    <a:pt x="1718" y="2088"/>
                  </a:lnTo>
                  <a:lnTo>
                    <a:pt x="1920" y="2021"/>
                  </a:lnTo>
                  <a:lnTo>
                    <a:pt x="2088" y="1987"/>
                  </a:lnTo>
                  <a:lnTo>
                    <a:pt x="2122" y="1954"/>
                  </a:lnTo>
                  <a:lnTo>
                    <a:pt x="2189" y="1954"/>
                  </a:lnTo>
                  <a:lnTo>
                    <a:pt x="2223" y="1920"/>
                  </a:lnTo>
                  <a:lnTo>
                    <a:pt x="2223" y="1651"/>
                  </a:lnTo>
                  <a:lnTo>
                    <a:pt x="2223" y="1415"/>
                  </a:lnTo>
                  <a:lnTo>
                    <a:pt x="2189" y="910"/>
                  </a:lnTo>
                  <a:lnTo>
                    <a:pt x="2122" y="472"/>
                  </a:lnTo>
                  <a:lnTo>
                    <a:pt x="2088" y="270"/>
                  </a:lnTo>
                  <a:lnTo>
                    <a:pt x="2021" y="68"/>
                  </a:lnTo>
                  <a:lnTo>
                    <a:pt x="1987" y="35"/>
                  </a:lnTo>
                  <a:lnTo>
                    <a:pt x="192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hape 477"/>
            <p:cNvSpPr/>
            <p:nvPr/>
          </p:nvSpPr>
          <p:spPr>
            <a:xfrm>
              <a:off x="3579840" y="5791320"/>
              <a:ext cx="158400" cy="1490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391" h="2257">
                  <a:moveTo>
                    <a:pt x="1751" y="0"/>
                  </a:moveTo>
                  <a:lnTo>
                    <a:pt x="1516" y="34"/>
                  </a:lnTo>
                  <a:lnTo>
                    <a:pt x="1078" y="135"/>
                  </a:lnTo>
                  <a:lnTo>
                    <a:pt x="607" y="236"/>
                  </a:lnTo>
                  <a:lnTo>
                    <a:pt x="102" y="371"/>
                  </a:lnTo>
                  <a:lnTo>
                    <a:pt x="102" y="303"/>
                  </a:lnTo>
                  <a:lnTo>
                    <a:pt x="68" y="270"/>
                  </a:lnTo>
                  <a:lnTo>
                    <a:pt x="34" y="270"/>
                  </a:lnTo>
                  <a:lnTo>
                    <a:pt x="1" y="303"/>
                  </a:lnTo>
                  <a:lnTo>
                    <a:pt x="1" y="573"/>
                  </a:lnTo>
                  <a:lnTo>
                    <a:pt x="34" y="842"/>
                  </a:lnTo>
                  <a:lnTo>
                    <a:pt x="135" y="1347"/>
                  </a:lnTo>
                  <a:lnTo>
                    <a:pt x="169" y="1818"/>
                  </a:lnTo>
                  <a:lnTo>
                    <a:pt x="236" y="2020"/>
                  </a:lnTo>
                  <a:lnTo>
                    <a:pt x="304" y="2256"/>
                  </a:lnTo>
                  <a:lnTo>
                    <a:pt x="337" y="2256"/>
                  </a:lnTo>
                  <a:lnTo>
                    <a:pt x="371" y="2222"/>
                  </a:lnTo>
                  <a:lnTo>
                    <a:pt x="438" y="2256"/>
                  </a:lnTo>
                  <a:lnTo>
                    <a:pt x="1314" y="2155"/>
                  </a:lnTo>
                  <a:lnTo>
                    <a:pt x="1785" y="2054"/>
                  </a:lnTo>
                  <a:lnTo>
                    <a:pt x="2189" y="1953"/>
                  </a:lnTo>
                  <a:lnTo>
                    <a:pt x="2223" y="1987"/>
                  </a:lnTo>
                  <a:lnTo>
                    <a:pt x="2256" y="1987"/>
                  </a:lnTo>
                  <a:lnTo>
                    <a:pt x="2324" y="1919"/>
                  </a:lnTo>
                  <a:lnTo>
                    <a:pt x="2391" y="1852"/>
                  </a:lnTo>
                  <a:lnTo>
                    <a:pt x="2391" y="1751"/>
                  </a:lnTo>
                  <a:lnTo>
                    <a:pt x="2391" y="1650"/>
                  </a:lnTo>
                  <a:lnTo>
                    <a:pt x="2357" y="1414"/>
                  </a:lnTo>
                  <a:lnTo>
                    <a:pt x="2290" y="1246"/>
                  </a:lnTo>
                  <a:lnTo>
                    <a:pt x="2223" y="606"/>
                  </a:lnTo>
                  <a:lnTo>
                    <a:pt x="2122" y="303"/>
                  </a:lnTo>
                  <a:lnTo>
                    <a:pt x="2054" y="169"/>
                  </a:lnTo>
                  <a:lnTo>
                    <a:pt x="1987" y="68"/>
                  </a:lnTo>
                  <a:lnTo>
                    <a:pt x="1953" y="303"/>
                  </a:lnTo>
                  <a:lnTo>
                    <a:pt x="1953" y="505"/>
                  </a:lnTo>
                  <a:lnTo>
                    <a:pt x="2088" y="977"/>
                  </a:lnTo>
                  <a:lnTo>
                    <a:pt x="2155" y="1414"/>
                  </a:lnTo>
                  <a:lnTo>
                    <a:pt x="2189" y="1852"/>
                  </a:lnTo>
                  <a:lnTo>
                    <a:pt x="1751" y="1852"/>
                  </a:lnTo>
                  <a:lnTo>
                    <a:pt x="1280" y="1886"/>
                  </a:lnTo>
                  <a:lnTo>
                    <a:pt x="405" y="2054"/>
                  </a:lnTo>
                  <a:lnTo>
                    <a:pt x="371" y="1852"/>
                  </a:lnTo>
                  <a:lnTo>
                    <a:pt x="371" y="1616"/>
                  </a:lnTo>
                  <a:lnTo>
                    <a:pt x="270" y="1179"/>
                  </a:lnTo>
                  <a:lnTo>
                    <a:pt x="236" y="842"/>
                  </a:lnTo>
                  <a:lnTo>
                    <a:pt x="169" y="539"/>
                  </a:lnTo>
                  <a:lnTo>
                    <a:pt x="708" y="404"/>
                  </a:lnTo>
                  <a:lnTo>
                    <a:pt x="1246" y="270"/>
                  </a:lnTo>
                  <a:lnTo>
                    <a:pt x="1617" y="236"/>
                  </a:lnTo>
                  <a:lnTo>
                    <a:pt x="1819" y="169"/>
                  </a:lnTo>
                  <a:lnTo>
                    <a:pt x="1953" y="68"/>
                  </a:lnTo>
                  <a:lnTo>
                    <a:pt x="1852" y="34"/>
                  </a:lnTo>
                  <a:lnTo>
                    <a:pt x="175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hape 478"/>
            <p:cNvSpPr/>
            <p:nvPr/>
          </p:nvSpPr>
          <p:spPr>
            <a:xfrm>
              <a:off x="3527280" y="5637240"/>
              <a:ext cx="153720" cy="166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24" h="2526">
                  <a:moveTo>
                    <a:pt x="1953" y="169"/>
                  </a:moveTo>
                  <a:lnTo>
                    <a:pt x="1953" y="640"/>
                  </a:lnTo>
                  <a:lnTo>
                    <a:pt x="1987" y="1111"/>
                  </a:lnTo>
                  <a:lnTo>
                    <a:pt x="2054" y="1583"/>
                  </a:lnTo>
                  <a:lnTo>
                    <a:pt x="2155" y="2020"/>
                  </a:lnTo>
                  <a:lnTo>
                    <a:pt x="1751" y="2054"/>
                  </a:lnTo>
                  <a:lnTo>
                    <a:pt x="1347" y="2121"/>
                  </a:lnTo>
                  <a:lnTo>
                    <a:pt x="943" y="2155"/>
                  </a:lnTo>
                  <a:lnTo>
                    <a:pt x="505" y="2222"/>
                  </a:lnTo>
                  <a:lnTo>
                    <a:pt x="337" y="1313"/>
                  </a:lnTo>
                  <a:lnTo>
                    <a:pt x="169" y="404"/>
                  </a:lnTo>
                  <a:lnTo>
                    <a:pt x="606" y="404"/>
                  </a:lnTo>
                  <a:lnTo>
                    <a:pt x="1078" y="337"/>
                  </a:lnTo>
                  <a:lnTo>
                    <a:pt x="1953" y="169"/>
                  </a:lnTo>
                  <a:close/>
                  <a:moveTo>
                    <a:pt x="1953" y="0"/>
                  </a:moveTo>
                  <a:lnTo>
                    <a:pt x="1044" y="135"/>
                  </a:lnTo>
                  <a:lnTo>
                    <a:pt x="573" y="202"/>
                  </a:lnTo>
                  <a:lnTo>
                    <a:pt x="101" y="270"/>
                  </a:lnTo>
                  <a:lnTo>
                    <a:pt x="68" y="303"/>
                  </a:lnTo>
                  <a:lnTo>
                    <a:pt x="68" y="337"/>
                  </a:lnTo>
                  <a:lnTo>
                    <a:pt x="34" y="371"/>
                  </a:lnTo>
                  <a:lnTo>
                    <a:pt x="0" y="404"/>
                  </a:lnTo>
                  <a:lnTo>
                    <a:pt x="34" y="909"/>
                  </a:lnTo>
                  <a:lnTo>
                    <a:pt x="135" y="1448"/>
                  </a:lnTo>
                  <a:lnTo>
                    <a:pt x="236" y="1953"/>
                  </a:lnTo>
                  <a:lnTo>
                    <a:pt x="371" y="2458"/>
                  </a:lnTo>
                  <a:lnTo>
                    <a:pt x="404" y="2492"/>
                  </a:lnTo>
                  <a:lnTo>
                    <a:pt x="472" y="2525"/>
                  </a:lnTo>
                  <a:lnTo>
                    <a:pt x="539" y="2458"/>
                  </a:lnTo>
                  <a:lnTo>
                    <a:pt x="573" y="2391"/>
                  </a:lnTo>
                  <a:lnTo>
                    <a:pt x="539" y="2323"/>
                  </a:lnTo>
                  <a:lnTo>
                    <a:pt x="943" y="2357"/>
                  </a:lnTo>
                  <a:lnTo>
                    <a:pt x="1381" y="2357"/>
                  </a:lnTo>
                  <a:lnTo>
                    <a:pt x="1785" y="2290"/>
                  </a:lnTo>
                  <a:lnTo>
                    <a:pt x="2189" y="2155"/>
                  </a:lnTo>
                  <a:lnTo>
                    <a:pt x="2222" y="2121"/>
                  </a:lnTo>
                  <a:lnTo>
                    <a:pt x="2222" y="2054"/>
                  </a:lnTo>
                  <a:lnTo>
                    <a:pt x="2290" y="2054"/>
                  </a:lnTo>
                  <a:lnTo>
                    <a:pt x="2290" y="2020"/>
                  </a:lnTo>
                  <a:lnTo>
                    <a:pt x="2323" y="1987"/>
                  </a:lnTo>
                  <a:lnTo>
                    <a:pt x="2290" y="1515"/>
                  </a:lnTo>
                  <a:lnTo>
                    <a:pt x="2222" y="1044"/>
                  </a:lnTo>
                  <a:lnTo>
                    <a:pt x="2121" y="606"/>
                  </a:lnTo>
                  <a:lnTo>
                    <a:pt x="2054" y="135"/>
                  </a:lnTo>
                  <a:lnTo>
                    <a:pt x="2054" y="101"/>
                  </a:lnTo>
                  <a:lnTo>
                    <a:pt x="2054" y="34"/>
                  </a:lnTo>
                  <a:lnTo>
                    <a:pt x="20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0040" bIns="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hape 479"/>
            <p:cNvSpPr/>
            <p:nvPr/>
          </p:nvSpPr>
          <p:spPr>
            <a:xfrm>
              <a:off x="-7920" y="4633920"/>
              <a:ext cx="372960" cy="982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623" h="1483">
                  <a:moveTo>
                    <a:pt x="5589" y="1"/>
                  </a:moveTo>
                  <a:lnTo>
                    <a:pt x="4646" y="304"/>
                  </a:lnTo>
                  <a:lnTo>
                    <a:pt x="3703" y="540"/>
                  </a:lnTo>
                  <a:lnTo>
                    <a:pt x="2761" y="775"/>
                  </a:lnTo>
                  <a:lnTo>
                    <a:pt x="1784" y="910"/>
                  </a:lnTo>
                  <a:lnTo>
                    <a:pt x="909" y="1045"/>
                  </a:lnTo>
                  <a:lnTo>
                    <a:pt x="0" y="1179"/>
                  </a:lnTo>
                  <a:lnTo>
                    <a:pt x="0" y="1482"/>
                  </a:lnTo>
                  <a:lnTo>
                    <a:pt x="909" y="1314"/>
                  </a:lnTo>
                  <a:lnTo>
                    <a:pt x="1852" y="1146"/>
                  </a:lnTo>
                  <a:lnTo>
                    <a:pt x="2828" y="1011"/>
                  </a:lnTo>
                  <a:lnTo>
                    <a:pt x="3333" y="944"/>
                  </a:lnTo>
                  <a:lnTo>
                    <a:pt x="3804" y="843"/>
                  </a:lnTo>
                  <a:lnTo>
                    <a:pt x="4310" y="708"/>
                  </a:lnTo>
                  <a:lnTo>
                    <a:pt x="4747" y="540"/>
                  </a:lnTo>
                  <a:lnTo>
                    <a:pt x="5185" y="304"/>
                  </a:lnTo>
                  <a:lnTo>
                    <a:pt x="5589" y="35"/>
                  </a:lnTo>
                  <a:lnTo>
                    <a:pt x="5623" y="35"/>
                  </a:lnTo>
                  <a:lnTo>
                    <a:pt x="558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8360" bIns="-18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hape 480"/>
            <p:cNvSpPr/>
            <p:nvPr/>
          </p:nvSpPr>
          <p:spPr>
            <a:xfrm>
              <a:off x="3325680" y="5605560"/>
              <a:ext cx="34920" cy="44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06" h="675">
                  <a:moveTo>
                    <a:pt x="303" y="338"/>
                  </a:moveTo>
                  <a:lnTo>
                    <a:pt x="303" y="439"/>
                  </a:lnTo>
                  <a:lnTo>
                    <a:pt x="236" y="472"/>
                  </a:lnTo>
                  <a:lnTo>
                    <a:pt x="168" y="472"/>
                  </a:lnTo>
                  <a:lnTo>
                    <a:pt x="202" y="405"/>
                  </a:lnTo>
                  <a:lnTo>
                    <a:pt x="269" y="338"/>
                  </a:lnTo>
                  <a:close/>
                  <a:moveTo>
                    <a:pt x="370" y="1"/>
                  </a:moveTo>
                  <a:lnTo>
                    <a:pt x="269" y="35"/>
                  </a:lnTo>
                  <a:lnTo>
                    <a:pt x="168" y="68"/>
                  </a:lnTo>
                  <a:lnTo>
                    <a:pt x="101" y="169"/>
                  </a:lnTo>
                  <a:lnTo>
                    <a:pt x="101" y="203"/>
                  </a:lnTo>
                  <a:lnTo>
                    <a:pt x="135" y="237"/>
                  </a:lnTo>
                  <a:lnTo>
                    <a:pt x="135" y="270"/>
                  </a:lnTo>
                  <a:lnTo>
                    <a:pt x="101" y="270"/>
                  </a:lnTo>
                  <a:lnTo>
                    <a:pt x="34" y="371"/>
                  </a:lnTo>
                  <a:lnTo>
                    <a:pt x="0" y="472"/>
                  </a:lnTo>
                  <a:lnTo>
                    <a:pt x="0" y="540"/>
                  </a:lnTo>
                  <a:lnTo>
                    <a:pt x="67" y="641"/>
                  </a:lnTo>
                  <a:lnTo>
                    <a:pt x="168" y="674"/>
                  </a:lnTo>
                  <a:lnTo>
                    <a:pt x="269" y="674"/>
                  </a:lnTo>
                  <a:lnTo>
                    <a:pt x="337" y="607"/>
                  </a:lnTo>
                  <a:lnTo>
                    <a:pt x="438" y="573"/>
                  </a:lnTo>
                  <a:lnTo>
                    <a:pt x="505" y="472"/>
                  </a:lnTo>
                  <a:lnTo>
                    <a:pt x="505" y="338"/>
                  </a:lnTo>
                  <a:lnTo>
                    <a:pt x="505" y="203"/>
                  </a:lnTo>
                  <a:lnTo>
                    <a:pt x="471" y="102"/>
                  </a:lnTo>
                  <a:lnTo>
                    <a:pt x="438" y="35"/>
                  </a:lnTo>
                  <a:lnTo>
                    <a:pt x="37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hape 481"/>
            <p:cNvSpPr/>
            <p:nvPr/>
          </p:nvSpPr>
          <p:spPr>
            <a:xfrm>
              <a:off x="3259080" y="551844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90" h="2526">
                  <a:moveTo>
                    <a:pt x="1919" y="203"/>
                  </a:moveTo>
                  <a:lnTo>
                    <a:pt x="1919" y="641"/>
                  </a:lnTo>
                  <a:lnTo>
                    <a:pt x="1953" y="1112"/>
                  </a:lnTo>
                  <a:lnTo>
                    <a:pt x="2020" y="1583"/>
                  </a:lnTo>
                  <a:lnTo>
                    <a:pt x="2121" y="2021"/>
                  </a:lnTo>
                  <a:lnTo>
                    <a:pt x="2155" y="2055"/>
                  </a:lnTo>
                  <a:lnTo>
                    <a:pt x="2121" y="2055"/>
                  </a:lnTo>
                  <a:lnTo>
                    <a:pt x="1717" y="2088"/>
                  </a:lnTo>
                  <a:lnTo>
                    <a:pt x="1313" y="2122"/>
                  </a:lnTo>
                  <a:lnTo>
                    <a:pt x="909" y="2189"/>
                  </a:lnTo>
                  <a:lnTo>
                    <a:pt x="471" y="2223"/>
                  </a:lnTo>
                  <a:lnTo>
                    <a:pt x="303" y="1314"/>
                  </a:lnTo>
                  <a:lnTo>
                    <a:pt x="135" y="405"/>
                  </a:lnTo>
                  <a:lnTo>
                    <a:pt x="572" y="405"/>
                  </a:lnTo>
                  <a:lnTo>
                    <a:pt x="1044" y="338"/>
                  </a:lnTo>
                  <a:lnTo>
                    <a:pt x="1919" y="203"/>
                  </a:lnTo>
                  <a:close/>
                  <a:moveTo>
                    <a:pt x="1919" y="1"/>
                  </a:moveTo>
                  <a:lnTo>
                    <a:pt x="1010" y="136"/>
                  </a:lnTo>
                  <a:lnTo>
                    <a:pt x="539" y="203"/>
                  </a:lnTo>
                  <a:lnTo>
                    <a:pt x="101" y="304"/>
                  </a:lnTo>
                  <a:lnTo>
                    <a:pt x="34" y="304"/>
                  </a:lnTo>
                  <a:lnTo>
                    <a:pt x="34" y="371"/>
                  </a:lnTo>
                  <a:lnTo>
                    <a:pt x="0" y="371"/>
                  </a:lnTo>
                  <a:lnTo>
                    <a:pt x="0" y="405"/>
                  </a:lnTo>
                  <a:lnTo>
                    <a:pt x="34" y="944"/>
                  </a:lnTo>
                  <a:lnTo>
                    <a:pt x="101" y="1449"/>
                  </a:lnTo>
                  <a:lnTo>
                    <a:pt x="202" y="1954"/>
                  </a:lnTo>
                  <a:lnTo>
                    <a:pt x="337" y="2459"/>
                  </a:lnTo>
                  <a:lnTo>
                    <a:pt x="404" y="2526"/>
                  </a:lnTo>
                  <a:lnTo>
                    <a:pt x="471" y="2526"/>
                  </a:lnTo>
                  <a:lnTo>
                    <a:pt x="505" y="2492"/>
                  </a:lnTo>
                  <a:lnTo>
                    <a:pt x="539" y="2425"/>
                  </a:lnTo>
                  <a:lnTo>
                    <a:pt x="505" y="2358"/>
                  </a:lnTo>
                  <a:lnTo>
                    <a:pt x="909" y="2391"/>
                  </a:lnTo>
                  <a:lnTo>
                    <a:pt x="1347" y="2358"/>
                  </a:lnTo>
                  <a:lnTo>
                    <a:pt x="1784" y="2290"/>
                  </a:lnTo>
                  <a:lnTo>
                    <a:pt x="2155" y="2189"/>
                  </a:lnTo>
                  <a:lnTo>
                    <a:pt x="2188" y="2122"/>
                  </a:lnTo>
                  <a:lnTo>
                    <a:pt x="2188" y="2055"/>
                  </a:lnTo>
                  <a:lnTo>
                    <a:pt x="2256" y="2055"/>
                  </a:lnTo>
                  <a:lnTo>
                    <a:pt x="2289" y="2021"/>
                  </a:lnTo>
                  <a:lnTo>
                    <a:pt x="2289" y="1987"/>
                  </a:lnTo>
                  <a:lnTo>
                    <a:pt x="2256" y="1550"/>
                  </a:lnTo>
                  <a:lnTo>
                    <a:pt x="2188" y="1078"/>
                  </a:lnTo>
                  <a:lnTo>
                    <a:pt x="2121" y="607"/>
                  </a:lnTo>
                  <a:lnTo>
                    <a:pt x="2020" y="169"/>
                  </a:lnTo>
                  <a:lnTo>
                    <a:pt x="2020" y="102"/>
                  </a:lnTo>
                  <a:lnTo>
                    <a:pt x="2020" y="68"/>
                  </a:lnTo>
                  <a:lnTo>
                    <a:pt x="19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hape 482"/>
            <p:cNvSpPr/>
            <p:nvPr/>
          </p:nvSpPr>
          <p:spPr>
            <a:xfrm>
              <a:off x="2622600" y="5936040"/>
              <a:ext cx="137880" cy="152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089" h="2291">
                  <a:moveTo>
                    <a:pt x="1684" y="1"/>
                  </a:moveTo>
                  <a:lnTo>
                    <a:pt x="1482" y="34"/>
                  </a:lnTo>
                  <a:lnTo>
                    <a:pt x="1078" y="102"/>
                  </a:lnTo>
                  <a:lnTo>
                    <a:pt x="573" y="169"/>
                  </a:lnTo>
                  <a:lnTo>
                    <a:pt x="68" y="270"/>
                  </a:lnTo>
                  <a:lnTo>
                    <a:pt x="1" y="304"/>
                  </a:lnTo>
                  <a:lnTo>
                    <a:pt x="1" y="337"/>
                  </a:lnTo>
                  <a:lnTo>
                    <a:pt x="1" y="405"/>
                  </a:lnTo>
                  <a:lnTo>
                    <a:pt x="34" y="438"/>
                  </a:lnTo>
                  <a:lnTo>
                    <a:pt x="34" y="640"/>
                  </a:lnTo>
                  <a:lnTo>
                    <a:pt x="68" y="809"/>
                  </a:lnTo>
                  <a:lnTo>
                    <a:pt x="102" y="1213"/>
                  </a:lnTo>
                  <a:lnTo>
                    <a:pt x="169" y="1684"/>
                  </a:lnTo>
                  <a:lnTo>
                    <a:pt x="203" y="1920"/>
                  </a:lnTo>
                  <a:lnTo>
                    <a:pt x="270" y="2156"/>
                  </a:lnTo>
                  <a:lnTo>
                    <a:pt x="270" y="2189"/>
                  </a:lnTo>
                  <a:lnTo>
                    <a:pt x="270" y="2257"/>
                  </a:lnTo>
                  <a:lnTo>
                    <a:pt x="304" y="2290"/>
                  </a:lnTo>
                  <a:lnTo>
                    <a:pt x="371" y="2290"/>
                  </a:lnTo>
                  <a:lnTo>
                    <a:pt x="1415" y="2122"/>
                  </a:lnTo>
                  <a:lnTo>
                    <a:pt x="1785" y="2055"/>
                  </a:lnTo>
                  <a:lnTo>
                    <a:pt x="1953" y="2021"/>
                  </a:lnTo>
                  <a:lnTo>
                    <a:pt x="2088" y="1886"/>
                  </a:lnTo>
                  <a:lnTo>
                    <a:pt x="1920" y="1853"/>
                  </a:lnTo>
                  <a:lnTo>
                    <a:pt x="1751" y="1853"/>
                  </a:lnTo>
                  <a:lnTo>
                    <a:pt x="1381" y="1920"/>
                  </a:lnTo>
                  <a:lnTo>
                    <a:pt x="438" y="2088"/>
                  </a:lnTo>
                  <a:lnTo>
                    <a:pt x="405" y="1853"/>
                  </a:lnTo>
                  <a:lnTo>
                    <a:pt x="371" y="1617"/>
                  </a:lnTo>
                  <a:lnTo>
                    <a:pt x="304" y="1179"/>
                  </a:lnTo>
                  <a:lnTo>
                    <a:pt x="270" y="809"/>
                  </a:lnTo>
                  <a:lnTo>
                    <a:pt x="236" y="607"/>
                  </a:lnTo>
                  <a:lnTo>
                    <a:pt x="169" y="438"/>
                  </a:lnTo>
                  <a:lnTo>
                    <a:pt x="708" y="371"/>
                  </a:lnTo>
                  <a:lnTo>
                    <a:pt x="1246" y="270"/>
                  </a:lnTo>
                  <a:lnTo>
                    <a:pt x="1617" y="203"/>
                  </a:lnTo>
                  <a:lnTo>
                    <a:pt x="1785" y="169"/>
                  </a:lnTo>
                  <a:lnTo>
                    <a:pt x="1886" y="34"/>
                  </a:lnTo>
                  <a:lnTo>
                    <a:pt x="168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hape 483"/>
            <p:cNvSpPr/>
            <p:nvPr/>
          </p:nvSpPr>
          <p:spPr>
            <a:xfrm>
              <a:off x="-7920" y="4557960"/>
              <a:ext cx="225360" cy="698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01" h="1044">
                  <a:moveTo>
                    <a:pt x="3367" y="0"/>
                  </a:moveTo>
                  <a:lnTo>
                    <a:pt x="2525" y="236"/>
                  </a:lnTo>
                  <a:lnTo>
                    <a:pt x="1683" y="438"/>
                  </a:lnTo>
                  <a:lnTo>
                    <a:pt x="0" y="775"/>
                  </a:lnTo>
                  <a:lnTo>
                    <a:pt x="0" y="1044"/>
                  </a:lnTo>
                  <a:lnTo>
                    <a:pt x="236" y="977"/>
                  </a:lnTo>
                  <a:lnTo>
                    <a:pt x="1044" y="842"/>
                  </a:lnTo>
                  <a:lnTo>
                    <a:pt x="1852" y="640"/>
                  </a:lnTo>
                  <a:lnTo>
                    <a:pt x="2626" y="371"/>
                  </a:lnTo>
                  <a:lnTo>
                    <a:pt x="2996" y="236"/>
                  </a:lnTo>
                  <a:lnTo>
                    <a:pt x="3367" y="34"/>
                  </a:lnTo>
                  <a:lnTo>
                    <a:pt x="340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hape 484"/>
            <p:cNvSpPr/>
            <p:nvPr/>
          </p:nvSpPr>
          <p:spPr>
            <a:xfrm>
              <a:off x="-7920" y="4686480"/>
              <a:ext cx="382320" cy="93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58" h="1415">
                  <a:moveTo>
                    <a:pt x="5757" y="0"/>
                  </a:moveTo>
                  <a:lnTo>
                    <a:pt x="5286" y="34"/>
                  </a:lnTo>
                  <a:lnTo>
                    <a:pt x="4815" y="101"/>
                  </a:lnTo>
                  <a:lnTo>
                    <a:pt x="3905" y="270"/>
                  </a:lnTo>
                  <a:lnTo>
                    <a:pt x="2087" y="707"/>
                  </a:lnTo>
                  <a:lnTo>
                    <a:pt x="0" y="1179"/>
                  </a:lnTo>
                  <a:lnTo>
                    <a:pt x="0" y="1414"/>
                  </a:lnTo>
                  <a:lnTo>
                    <a:pt x="2121" y="909"/>
                  </a:lnTo>
                  <a:lnTo>
                    <a:pt x="3973" y="539"/>
                  </a:lnTo>
                  <a:lnTo>
                    <a:pt x="4882" y="337"/>
                  </a:lnTo>
                  <a:lnTo>
                    <a:pt x="5320" y="202"/>
                  </a:lnTo>
                  <a:lnTo>
                    <a:pt x="5757" y="34"/>
                  </a:lnTo>
                  <a:lnTo>
                    <a:pt x="575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3040" bIns="-23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hape 485"/>
            <p:cNvSpPr/>
            <p:nvPr/>
          </p:nvSpPr>
          <p:spPr>
            <a:xfrm>
              <a:off x="1657080" y="4408560"/>
              <a:ext cx="382320" cy="3348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5758" h="5051">
                  <a:moveTo>
                    <a:pt x="2627" y="169"/>
                  </a:moveTo>
                  <a:lnTo>
                    <a:pt x="1852" y="202"/>
                  </a:lnTo>
                  <a:lnTo>
                    <a:pt x="1145" y="303"/>
                  </a:lnTo>
                  <a:lnTo>
                    <a:pt x="1482" y="202"/>
                  </a:lnTo>
                  <a:lnTo>
                    <a:pt x="1852" y="169"/>
                  </a:lnTo>
                  <a:close/>
                  <a:moveTo>
                    <a:pt x="1044" y="303"/>
                  </a:moveTo>
                  <a:lnTo>
                    <a:pt x="1044" y="337"/>
                  </a:lnTo>
                  <a:lnTo>
                    <a:pt x="1078" y="371"/>
                  </a:lnTo>
                  <a:lnTo>
                    <a:pt x="2425" y="371"/>
                  </a:lnTo>
                  <a:lnTo>
                    <a:pt x="3132" y="404"/>
                  </a:lnTo>
                  <a:lnTo>
                    <a:pt x="3873" y="404"/>
                  </a:lnTo>
                  <a:lnTo>
                    <a:pt x="4176" y="505"/>
                  </a:lnTo>
                  <a:lnTo>
                    <a:pt x="4479" y="607"/>
                  </a:lnTo>
                  <a:lnTo>
                    <a:pt x="4815" y="809"/>
                  </a:lnTo>
                  <a:lnTo>
                    <a:pt x="5085" y="1011"/>
                  </a:lnTo>
                  <a:lnTo>
                    <a:pt x="5287" y="1280"/>
                  </a:lnTo>
                  <a:lnTo>
                    <a:pt x="5421" y="1549"/>
                  </a:lnTo>
                  <a:lnTo>
                    <a:pt x="5388" y="1516"/>
                  </a:lnTo>
                  <a:lnTo>
                    <a:pt x="5219" y="1415"/>
                  </a:lnTo>
                  <a:lnTo>
                    <a:pt x="5219" y="1347"/>
                  </a:lnTo>
                  <a:lnTo>
                    <a:pt x="5152" y="1314"/>
                  </a:lnTo>
                  <a:lnTo>
                    <a:pt x="4613" y="1213"/>
                  </a:lnTo>
                  <a:lnTo>
                    <a:pt x="4041" y="1179"/>
                  </a:lnTo>
                  <a:lnTo>
                    <a:pt x="3502" y="1145"/>
                  </a:lnTo>
                  <a:lnTo>
                    <a:pt x="2930" y="1179"/>
                  </a:lnTo>
                  <a:lnTo>
                    <a:pt x="2290" y="1179"/>
                  </a:lnTo>
                  <a:lnTo>
                    <a:pt x="1617" y="1145"/>
                  </a:lnTo>
                  <a:lnTo>
                    <a:pt x="977" y="1145"/>
                  </a:lnTo>
                  <a:lnTo>
                    <a:pt x="304" y="1213"/>
                  </a:lnTo>
                  <a:lnTo>
                    <a:pt x="438" y="977"/>
                  </a:lnTo>
                  <a:lnTo>
                    <a:pt x="573" y="741"/>
                  </a:lnTo>
                  <a:lnTo>
                    <a:pt x="741" y="539"/>
                  </a:lnTo>
                  <a:lnTo>
                    <a:pt x="943" y="337"/>
                  </a:lnTo>
                  <a:lnTo>
                    <a:pt x="1044" y="303"/>
                  </a:lnTo>
                  <a:close/>
                  <a:moveTo>
                    <a:pt x="3772" y="1347"/>
                  </a:moveTo>
                  <a:lnTo>
                    <a:pt x="4445" y="1415"/>
                  </a:lnTo>
                  <a:lnTo>
                    <a:pt x="5118" y="1516"/>
                  </a:lnTo>
                  <a:lnTo>
                    <a:pt x="5152" y="1516"/>
                  </a:lnTo>
                  <a:lnTo>
                    <a:pt x="5287" y="1617"/>
                  </a:lnTo>
                  <a:lnTo>
                    <a:pt x="5489" y="1785"/>
                  </a:lnTo>
                  <a:lnTo>
                    <a:pt x="5522" y="2122"/>
                  </a:lnTo>
                  <a:lnTo>
                    <a:pt x="5522" y="2458"/>
                  </a:lnTo>
                  <a:lnTo>
                    <a:pt x="5455" y="2795"/>
                  </a:lnTo>
                  <a:lnTo>
                    <a:pt x="5320" y="3132"/>
                  </a:lnTo>
                  <a:lnTo>
                    <a:pt x="5186" y="2896"/>
                  </a:lnTo>
                  <a:lnTo>
                    <a:pt x="4984" y="2660"/>
                  </a:lnTo>
                  <a:lnTo>
                    <a:pt x="4613" y="2256"/>
                  </a:lnTo>
                  <a:lnTo>
                    <a:pt x="4142" y="1718"/>
                  </a:lnTo>
                  <a:lnTo>
                    <a:pt x="3974" y="1516"/>
                  </a:lnTo>
                  <a:lnTo>
                    <a:pt x="3873" y="1415"/>
                  </a:lnTo>
                  <a:lnTo>
                    <a:pt x="3704" y="1347"/>
                  </a:lnTo>
                  <a:close/>
                  <a:moveTo>
                    <a:pt x="270" y="1280"/>
                  </a:moveTo>
                  <a:lnTo>
                    <a:pt x="539" y="1347"/>
                  </a:lnTo>
                  <a:lnTo>
                    <a:pt x="809" y="1381"/>
                  </a:lnTo>
                  <a:lnTo>
                    <a:pt x="1347" y="1415"/>
                  </a:lnTo>
                  <a:lnTo>
                    <a:pt x="1920" y="1415"/>
                  </a:lnTo>
                  <a:lnTo>
                    <a:pt x="2425" y="1381"/>
                  </a:lnTo>
                  <a:lnTo>
                    <a:pt x="3098" y="1347"/>
                  </a:lnTo>
                  <a:lnTo>
                    <a:pt x="3704" y="1347"/>
                  </a:lnTo>
                  <a:lnTo>
                    <a:pt x="3704" y="1381"/>
                  </a:lnTo>
                  <a:lnTo>
                    <a:pt x="3738" y="1482"/>
                  </a:lnTo>
                  <a:lnTo>
                    <a:pt x="3805" y="1617"/>
                  </a:lnTo>
                  <a:lnTo>
                    <a:pt x="3974" y="1886"/>
                  </a:lnTo>
                  <a:lnTo>
                    <a:pt x="4378" y="2290"/>
                  </a:lnTo>
                  <a:lnTo>
                    <a:pt x="4782" y="2829"/>
                  </a:lnTo>
                  <a:lnTo>
                    <a:pt x="5017" y="3098"/>
                  </a:lnTo>
                  <a:lnTo>
                    <a:pt x="5118" y="3199"/>
                  </a:lnTo>
                  <a:lnTo>
                    <a:pt x="5253" y="3266"/>
                  </a:lnTo>
                  <a:lnTo>
                    <a:pt x="5017" y="3704"/>
                  </a:lnTo>
                  <a:lnTo>
                    <a:pt x="4714" y="4108"/>
                  </a:lnTo>
                  <a:lnTo>
                    <a:pt x="4512" y="4344"/>
                  </a:lnTo>
                  <a:lnTo>
                    <a:pt x="4310" y="4512"/>
                  </a:lnTo>
                  <a:lnTo>
                    <a:pt x="4075" y="4647"/>
                  </a:lnTo>
                  <a:lnTo>
                    <a:pt x="3839" y="4748"/>
                  </a:lnTo>
                  <a:lnTo>
                    <a:pt x="3603" y="4815"/>
                  </a:lnTo>
                  <a:lnTo>
                    <a:pt x="3334" y="4849"/>
                  </a:lnTo>
                  <a:lnTo>
                    <a:pt x="3064" y="4849"/>
                  </a:lnTo>
                  <a:lnTo>
                    <a:pt x="2761" y="4815"/>
                  </a:lnTo>
                  <a:lnTo>
                    <a:pt x="2324" y="4714"/>
                  </a:lnTo>
                  <a:lnTo>
                    <a:pt x="1920" y="4613"/>
                  </a:lnTo>
                  <a:lnTo>
                    <a:pt x="1516" y="4445"/>
                  </a:lnTo>
                  <a:lnTo>
                    <a:pt x="1145" y="4243"/>
                  </a:lnTo>
                  <a:lnTo>
                    <a:pt x="910" y="4074"/>
                  </a:lnTo>
                  <a:lnTo>
                    <a:pt x="708" y="3872"/>
                  </a:lnTo>
                  <a:lnTo>
                    <a:pt x="539" y="3603"/>
                  </a:lnTo>
                  <a:lnTo>
                    <a:pt x="438" y="3334"/>
                  </a:lnTo>
                  <a:lnTo>
                    <a:pt x="337" y="3064"/>
                  </a:lnTo>
                  <a:lnTo>
                    <a:pt x="304" y="2761"/>
                  </a:lnTo>
                  <a:lnTo>
                    <a:pt x="203" y="2189"/>
                  </a:lnTo>
                  <a:lnTo>
                    <a:pt x="203" y="1953"/>
                  </a:lnTo>
                  <a:lnTo>
                    <a:pt x="203" y="1718"/>
                  </a:lnTo>
                  <a:lnTo>
                    <a:pt x="236" y="1482"/>
                  </a:lnTo>
                  <a:lnTo>
                    <a:pt x="270" y="1280"/>
                  </a:lnTo>
                  <a:close/>
                  <a:moveTo>
                    <a:pt x="1684" y="0"/>
                  </a:moveTo>
                  <a:lnTo>
                    <a:pt x="1347" y="34"/>
                  </a:lnTo>
                  <a:lnTo>
                    <a:pt x="1011" y="101"/>
                  </a:lnTo>
                  <a:lnTo>
                    <a:pt x="708" y="236"/>
                  </a:lnTo>
                  <a:lnTo>
                    <a:pt x="405" y="371"/>
                  </a:lnTo>
                  <a:lnTo>
                    <a:pt x="371" y="438"/>
                  </a:lnTo>
                  <a:lnTo>
                    <a:pt x="371" y="472"/>
                  </a:lnTo>
                  <a:lnTo>
                    <a:pt x="405" y="539"/>
                  </a:lnTo>
                  <a:lnTo>
                    <a:pt x="438" y="573"/>
                  </a:lnTo>
                  <a:lnTo>
                    <a:pt x="304" y="708"/>
                  </a:lnTo>
                  <a:lnTo>
                    <a:pt x="203" y="910"/>
                  </a:lnTo>
                  <a:lnTo>
                    <a:pt x="102" y="1112"/>
                  </a:lnTo>
                  <a:lnTo>
                    <a:pt x="34" y="1314"/>
                  </a:lnTo>
                  <a:lnTo>
                    <a:pt x="1" y="1549"/>
                  </a:lnTo>
                  <a:lnTo>
                    <a:pt x="1" y="1819"/>
                  </a:lnTo>
                  <a:lnTo>
                    <a:pt x="1" y="2324"/>
                  </a:lnTo>
                  <a:lnTo>
                    <a:pt x="68" y="2829"/>
                  </a:lnTo>
                  <a:lnTo>
                    <a:pt x="203" y="3300"/>
                  </a:lnTo>
                  <a:lnTo>
                    <a:pt x="371" y="3704"/>
                  </a:lnTo>
                  <a:lnTo>
                    <a:pt x="573" y="4041"/>
                  </a:lnTo>
                  <a:lnTo>
                    <a:pt x="741" y="4209"/>
                  </a:lnTo>
                  <a:lnTo>
                    <a:pt x="943" y="4377"/>
                  </a:lnTo>
                  <a:lnTo>
                    <a:pt x="1145" y="4512"/>
                  </a:lnTo>
                  <a:lnTo>
                    <a:pt x="1347" y="4613"/>
                  </a:lnTo>
                  <a:lnTo>
                    <a:pt x="1819" y="4781"/>
                  </a:lnTo>
                  <a:lnTo>
                    <a:pt x="2290" y="4916"/>
                  </a:lnTo>
                  <a:lnTo>
                    <a:pt x="2829" y="5017"/>
                  </a:lnTo>
                  <a:lnTo>
                    <a:pt x="3098" y="5051"/>
                  </a:lnTo>
                  <a:lnTo>
                    <a:pt x="3367" y="5051"/>
                  </a:lnTo>
                  <a:lnTo>
                    <a:pt x="3637" y="5017"/>
                  </a:lnTo>
                  <a:lnTo>
                    <a:pt x="3906" y="4950"/>
                  </a:lnTo>
                  <a:lnTo>
                    <a:pt x="4142" y="4849"/>
                  </a:lnTo>
                  <a:lnTo>
                    <a:pt x="4411" y="4680"/>
                  </a:lnTo>
                  <a:lnTo>
                    <a:pt x="4782" y="4310"/>
                  </a:lnTo>
                  <a:lnTo>
                    <a:pt x="5152" y="3872"/>
                  </a:lnTo>
                  <a:lnTo>
                    <a:pt x="5320" y="3637"/>
                  </a:lnTo>
                  <a:lnTo>
                    <a:pt x="5455" y="3401"/>
                  </a:lnTo>
                  <a:lnTo>
                    <a:pt x="5556" y="3132"/>
                  </a:lnTo>
                  <a:lnTo>
                    <a:pt x="5657" y="2896"/>
                  </a:lnTo>
                  <a:lnTo>
                    <a:pt x="5724" y="2627"/>
                  </a:lnTo>
                  <a:lnTo>
                    <a:pt x="5758" y="2357"/>
                  </a:lnTo>
                  <a:lnTo>
                    <a:pt x="5758" y="2088"/>
                  </a:lnTo>
                  <a:lnTo>
                    <a:pt x="5724" y="1819"/>
                  </a:lnTo>
                  <a:lnTo>
                    <a:pt x="5657" y="1583"/>
                  </a:lnTo>
                  <a:lnTo>
                    <a:pt x="5556" y="1347"/>
                  </a:lnTo>
                  <a:lnTo>
                    <a:pt x="5421" y="1112"/>
                  </a:lnTo>
                  <a:lnTo>
                    <a:pt x="5219" y="876"/>
                  </a:lnTo>
                  <a:lnTo>
                    <a:pt x="4984" y="674"/>
                  </a:lnTo>
                  <a:lnTo>
                    <a:pt x="4748" y="505"/>
                  </a:lnTo>
                  <a:lnTo>
                    <a:pt x="4479" y="371"/>
                  </a:lnTo>
                  <a:lnTo>
                    <a:pt x="4176" y="270"/>
                  </a:lnTo>
                  <a:lnTo>
                    <a:pt x="3906" y="202"/>
                  </a:lnTo>
                  <a:lnTo>
                    <a:pt x="3603" y="135"/>
                  </a:lnTo>
                  <a:lnTo>
                    <a:pt x="2997" y="68"/>
                  </a:lnTo>
                  <a:lnTo>
                    <a:pt x="232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hape 486"/>
            <p:cNvSpPr/>
            <p:nvPr/>
          </p:nvSpPr>
          <p:spPr>
            <a:xfrm>
              <a:off x="-7920" y="4735800"/>
              <a:ext cx="376200" cy="1029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5657" h="1549">
                  <a:moveTo>
                    <a:pt x="5623" y="0"/>
                  </a:moveTo>
                  <a:lnTo>
                    <a:pt x="4512" y="269"/>
                  </a:lnTo>
                  <a:lnTo>
                    <a:pt x="3400" y="572"/>
                  </a:lnTo>
                  <a:lnTo>
                    <a:pt x="2289" y="875"/>
                  </a:lnTo>
                  <a:lnTo>
                    <a:pt x="1178" y="1145"/>
                  </a:lnTo>
                  <a:lnTo>
                    <a:pt x="606" y="1246"/>
                  </a:lnTo>
                  <a:lnTo>
                    <a:pt x="0" y="1347"/>
                  </a:lnTo>
                  <a:lnTo>
                    <a:pt x="0" y="1549"/>
                  </a:lnTo>
                  <a:lnTo>
                    <a:pt x="1246" y="1347"/>
                  </a:lnTo>
                  <a:lnTo>
                    <a:pt x="2357" y="1111"/>
                  </a:lnTo>
                  <a:lnTo>
                    <a:pt x="3468" y="808"/>
                  </a:lnTo>
                  <a:lnTo>
                    <a:pt x="4579" y="471"/>
                  </a:lnTo>
                  <a:lnTo>
                    <a:pt x="5656" y="34"/>
                  </a:lnTo>
                  <a:lnTo>
                    <a:pt x="562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3680" bIns="-13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hape 487"/>
            <p:cNvSpPr/>
            <p:nvPr/>
          </p:nvSpPr>
          <p:spPr>
            <a:xfrm>
              <a:off x="2625480" y="615348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75" h="540">
                  <a:moveTo>
                    <a:pt x="136" y="1"/>
                  </a:moveTo>
                  <a:lnTo>
                    <a:pt x="68" y="34"/>
                  </a:lnTo>
                  <a:lnTo>
                    <a:pt x="1" y="68"/>
                  </a:lnTo>
                  <a:lnTo>
                    <a:pt x="35" y="135"/>
                  </a:lnTo>
                  <a:lnTo>
                    <a:pt x="68" y="203"/>
                  </a:lnTo>
                  <a:lnTo>
                    <a:pt x="102" y="304"/>
                  </a:lnTo>
                  <a:lnTo>
                    <a:pt x="169" y="405"/>
                  </a:lnTo>
                  <a:lnTo>
                    <a:pt x="237" y="472"/>
                  </a:lnTo>
                  <a:lnTo>
                    <a:pt x="338" y="539"/>
                  </a:lnTo>
                  <a:lnTo>
                    <a:pt x="439" y="539"/>
                  </a:lnTo>
                  <a:lnTo>
                    <a:pt x="472" y="506"/>
                  </a:lnTo>
                  <a:lnTo>
                    <a:pt x="573" y="270"/>
                  </a:lnTo>
                  <a:lnTo>
                    <a:pt x="641" y="169"/>
                  </a:lnTo>
                  <a:lnTo>
                    <a:pt x="674" y="102"/>
                  </a:lnTo>
                  <a:lnTo>
                    <a:pt x="674" y="68"/>
                  </a:lnTo>
                  <a:lnTo>
                    <a:pt x="641" y="34"/>
                  </a:lnTo>
                  <a:lnTo>
                    <a:pt x="607" y="1"/>
                  </a:lnTo>
                  <a:lnTo>
                    <a:pt x="506" y="34"/>
                  </a:lnTo>
                  <a:lnTo>
                    <a:pt x="439" y="102"/>
                  </a:lnTo>
                  <a:lnTo>
                    <a:pt x="338" y="337"/>
                  </a:lnTo>
                  <a:lnTo>
                    <a:pt x="237" y="203"/>
                  </a:lnTo>
                  <a:lnTo>
                    <a:pt x="203" y="68"/>
                  </a:lnTo>
                  <a:lnTo>
                    <a:pt x="169" y="34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0280" bIns="-80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hape 488"/>
            <p:cNvSpPr/>
            <p:nvPr/>
          </p:nvSpPr>
          <p:spPr>
            <a:xfrm>
              <a:off x="-7920" y="3986280"/>
              <a:ext cx="217440" cy="727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266" h="1112">
                  <a:moveTo>
                    <a:pt x="3030" y="0"/>
                  </a:moveTo>
                  <a:lnTo>
                    <a:pt x="2794" y="34"/>
                  </a:lnTo>
                  <a:lnTo>
                    <a:pt x="1986" y="236"/>
                  </a:lnTo>
                  <a:lnTo>
                    <a:pt x="1178" y="472"/>
                  </a:lnTo>
                  <a:lnTo>
                    <a:pt x="640" y="606"/>
                  </a:lnTo>
                  <a:lnTo>
                    <a:pt x="0" y="741"/>
                  </a:lnTo>
                  <a:lnTo>
                    <a:pt x="0" y="1111"/>
                  </a:lnTo>
                  <a:lnTo>
                    <a:pt x="774" y="876"/>
                  </a:lnTo>
                  <a:lnTo>
                    <a:pt x="1953" y="539"/>
                  </a:lnTo>
                  <a:lnTo>
                    <a:pt x="2592" y="404"/>
                  </a:lnTo>
                  <a:lnTo>
                    <a:pt x="2929" y="303"/>
                  </a:lnTo>
                  <a:lnTo>
                    <a:pt x="3030" y="236"/>
                  </a:lnTo>
                  <a:lnTo>
                    <a:pt x="3131" y="135"/>
                  </a:lnTo>
                  <a:lnTo>
                    <a:pt x="3097" y="202"/>
                  </a:lnTo>
                  <a:lnTo>
                    <a:pt x="3131" y="236"/>
                  </a:lnTo>
                  <a:lnTo>
                    <a:pt x="3232" y="236"/>
                  </a:lnTo>
                  <a:lnTo>
                    <a:pt x="3266" y="169"/>
                  </a:lnTo>
                  <a:lnTo>
                    <a:pt x="3266" y="135"/>
                  </a:lnTo>
                  <a:lnTo>
                    <a:pt x="3266" y="68"/>
                  </a:lnTo>
                  <a:lnTo>
                    <a:pt x="316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3920" bIns="-43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hape 489"/>
            <p:cNvSpPr/>
            <p:nvPr/>
          </p:nvSpPr>
          <p:spPr>
            <a:xfrm>
              <a:off x="2469960" y="6177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39" h="540">
                  <a:moveTo>
                    <a:pt x="371" y="1"/>
                  </a:moveTo>
                  <a:lnTo>
                    <a:pt x="270" y="35"/>
                  </a:lnTo>
                  <a:lnTo>
                    <a:pt x="169" y="68"/>
                  </a:lnTo>
                  <a:lnTo>
                    <a:pt x="101" y="102"/>
                  </a:lnTo>
                  <a:lnTo>
                    <a:pt x="34" y="169"/>
                  </a:lnTo>
                  <a:lnTo>
                    <a:pt x="0" y="237"/>
                  </a:lnTo>
                  <a:lnTo>
                    <a:pt x="0" y="338"/>
                  </a:lnTo>
                  <a:lnTo>
                    <a:pt x="34" y="405"/>
                  </a:lnTo>
                  <a:lnTo>
                    <a:pt x="101" y="472"/>
                  </a:lnTo>
                  <a:lnTo>
                    <a:pt x="169" y="540"/>
                  </a:lnTo>
                  <a:lnTo>
                    <a:pt x="371" y="540"/>
                  </a:lnTo>
                  <a:lnTo>
                    <a:pt x="438" y="506"/>
                  </a:lnTo>
                  <a:lnTo>
                    <a:pt x="505" y="472"/>
                  </a:lnTo>
                  <a:lnTo>
                    <a:pt x="505" y="371"/>
                  </a:lnTo>
                  <a:lnTo>
                    <a:pt x="505" y="338"/>
                  </a:lnTo>
                  <a:lnTo>
                    <a:pt x="472" y="338"/>
                  </a:lnTo>
                  <a:lnTo>
                    <a:pt x="404" y="304"/>
                  </a:lnTo>
                  <a:lnTo>
                    <a:pt x="337" y="371"/>
                  </a:lnTo>
                  <a:lnTo>
                    <a:pt x="202" y="371"/>
                  </a:lnTo>
                  <a:lnTo>
                    <a:pt x="169" y="304"/>
                  </a:lnTo>
                  <a:lnTo>
                    <a:pt x="202" y="237"/>
                  </a:lnTo>
                  <a:lnTo>
                    <a:pt x="236" y="237"/>
                  </a:lnTo>
                  <a:lnTo>
                    <a:pt x="303" y="169"/>
                  </a:lnTo>
                  <a:lnTo>
                    <a:pt x="404" y="136"/>
                  </a:lnTo>
                  <a:lnTo>
                    <a:pt x="505" y="102"/>
                  </a:lnTo>
                  <a:lnTo>
                    <a:pt x="539" y="102"/>
                  </a:lnTo>
                  <a:lnTo>
                    <a:pt x="539" y="68"/>
                  </a:lnTo>
                  <a:lnTo>
                    <a:pt x="438" y="35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0280" bIns="-80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hape 490"/>
            <p:cNvSpPr/>
            <p:nvPr/>
          </p:nvSpPr>
          <p:spPr>
            <a:xfrm>
              <a:off x="-7920" y="4424400"/>
              <a:ext cx="323640" cy="93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82" h="1415">
                  <a:moveTo>
                    <a:pt x="4848" y="0"/>
                  </a:moveTo>
                  <a:lnTo>
                    <a:pt x="4411" y="168"/>
                  </a:lnTo>
                  <a:lnTo>
                    <a:pt x="3939" y="303"/>
                  </a:lnTo>
                  <a:lnTo>
                    <a:pt x="3030" y="505"/>
                  </a:lnTo>
                  <a:lnTo>
                    <a:pt x="2087" y="674"/>
                  </a:lnTo>
                  <a:lnTo>
                    <a:pt x="1178" y="842"/>
                  </a:lnTo>
                  <a:lnTo>
                    <a:pt x="0" y="1145"/>
                  </a:lnTo>
                  <a:lnTo>
                    <a:pt x="0" y="1414"/>
                  </a:lnTo>
                  <a:lnTo>
                    <a:pt x="741" y="1212"/>
                  </a:lnTo>
                  <a:lnTo>
                    <a:pt x="1481" y="1010"/>
                  </a:lnTo>
                  <a:lnTo>
                    <a:pt x="2357" y="842"/>
                  </a:lnTo>
                  <a:lnTo>
                    <a:pt x="3232" y="674"/>
                  </a:lnTo>
                  <a:lnTo>
                    <a:pt x="3636" y="573"/>
                  </a:lnTo>
                  <a:lnTo>
                    <a:pt x="4074" y="438"/>
                  </a:lnTo>
                  <a:lnTo>
                    <a:pt x="4478" y="269"/>
                  </a:lnTo>
                  <a:lnTo>
                    <a:pt x="4848" y="34"/>
                  </a:lnTo>
                  <a:lnTo>
                    <a:pt x="4882" y="34"/>
                  </a:lnTo>
                  <a:lnTo>
                    <a:pt x="484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3040" bIns="-23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hape 491"/>
            <p:cNvSpPr/>
            <p:nvPr/>
          </p:nvSpPr>
          <p:spPr>
            <a:xfrm>
              <a:off x="2568600" y="6102720"/>
              <a:ext cx="158400" cy="1476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92" h="2223">
                  <a:moveTo>
                    <a:pt x="1886" y="0"/>
                  </a:moveTo>
                  <a:lnTo>
                    <a:pt x="1684" y="34"/>
                  </a:lnTo>
                  <a:lnTo>
                    <a:pt x="1347" y="101"/>
                  </a:lnTo>
                  <a:lnTo>
                    <a:pt x="741" y="169"/>
                  </a:lnTo>
                  <a:lnTo>
                    <a:pt x="438" y="236"/>
                  </a:lnTo>
                  <a:lnTo>
                    <a:pt x="135" y="303"/>
                  </a:lnTo>
                  <a:lnTo>
                    <a:pt x="135" y="236"/>
                  </a:lnTo>
                  <a:lnTo>
                    <a:pt x="102" y="202"/>
                  </a:lnTo>
                  <a:lnTo>
                    <a:pt x="68" y="202"/>
                  </a:lnTo>
                  <a:lnTo>
                    <a:pt x="34" y="236"/>
                  </a:lnTo>
                  <a:lnTo>
                    <a:pt x="1" y="472"/>
                  </a:lnTo>
                  <a:lnTo>
                    <a:pt x="1" y="707"/>
                  </a:lnTo>
                  <a:lnTo>
                    <a:pt x="68" y="1145"/>
                  </a:lnTo>
                  <a:lnTo>
                    <a:pt x="169" y="1684"/>
                  </a:lnTo>
                  <a:lnTo>
                    <a:pt x="203" y="1919"/>
                  </a:lnTo>
                  <a:lnTo>
                    <a:pt x="304" y="2189"/>
                  </a:lnTo>
                  <a:lnTo>
                    <a:pt x="337" y="2222"/>
                  </a:lnTo>
                  <a:lnTo>
                    <a:pt x="405" y="2222"/>
                  </a:lnTo>
                  <a:lnTo>
                    <a:pt x="438" y="2189"/>
                  </a:lnTo>
                  <a:lnTo>
                    <a:pt x="438" y="2155"/>
                  </a:lnTo>
                  <a:lnTo>
                    <a:pt x="405" y="1886"/>
                  </a:lnTo>
                  <a:lnTo>
                    <a:pt x="371" y="1616"/>
                  </a:lnTo>
                  <a:lnTo>
                    <a:pt x="270" y="1111"/>
                  </a:lnTo>
                  <a:lnTo>
                    <a:pt x="203" y="741"/>
                  </a:lnTo>
                  <a:lnTo>
                    <a:pt x="169" y="404"/>
                  </a:lnTo>
                  <a:lnTo>
                    <a:pt x="573" y="371"/>
                  </a:lnTo>
                  <a:lnTo>
                    <a:pt x="977" y="337"/>
                  </a:lnTo>
                  <a:lnTo>
                    <a:pt x="1886" y="169"/>
                  </a:lnTo>
                  <a:lnTo>
                    <a:pt x="1920" y="202"/>
                  </a:lnTo>
                  <a:lnTo>
                    <a:pt x="1987" y="202"/>
                  </a:lnTo>
                  <a:lnTo>
                    <a:pt x="1987" y="472"/>
                  </a:lnTo>
                  <a:lnTo>
                    <a:pt x="2021" y="775"/>
                  </a:lnTo>
                  <a:lnTo>
                    <a:pt x="2189" y="1785"/>
                  </a:lnTo>
                  <a:lnTo>
                    <a:pt x="1987" y="1785"/>
                  </a:lnTo>
                  <a:lnTo>
                    <a:pt x="1785" y="1818"/>
                  </a:lnTo>
                  <a:lnTo>
                    <a:pt x="1381" y="1886"/>
                  </a:lnTo>
                  <a:lnTo>
                    <a:pt x="876" y="1953"/>
                  </a:lnTo>
                  <a:lnTo>
                    <a:pt x="640" y="2020"/>
                  </a:lnTo>
                  <a:lnTo>
                    <a:pt x="539" y="2054"/>
                  </a:lnTo>
                  <a:lnTo>
                    <a:pt x="438" y="2155"/>
                  </a:lnTo>
                  <a:lnTo>
                    <a:pt x="539" y="2189"/>
                  </a:lnTo>
                  <a:lnTo>
                    <a:pt x="640" y="2222"/>
                  </a:lnTo>
                  <a:lnTo>
                    <a:pt x="842" y="2222"/>
                  </a:lnTo>
                  <a:lnTo>
                    <a:pt x="1280" y="2121"/>
                  </a:lnTo>
                  <a:lnTo>
                    <a:pt x="1751" y="2088"/>
                  </a:lnTo>
                  <a:lnTo>
                    <a:pt x="1987" y="2020"/>
                  </a:lnTo>
                  <a:lnTo>
                    <a:pt x="2223" y="1953"/>
                  </a:lnTo>
                  <a:lnTo>
                    <a:pt x="2256" y="1987"/>
                  </a:lnTo>
                  <a:lnTo>
                    <a:pt x="2324" y="1987"/>
                  </a:lnTo>
                  <a:lnTo>
                    <a:pt x="2357" y="1953"/>
                  </a:lnTo>
                  <a:lnTo>
                    <a:pt x="2391" y="1886"/>
                  </a:lnTo>
                  <a:lnTo>
                    <a:pt x="2223" y="876"/>
                  </a:lnTo>
                  <a:lnTo>
                    <a:pt x="2189" y="438"/>
                  </a:lnTo>
                  <a:lnTo>
                    <a:pt x="2155" y="236"/>
                  </a:lnTo>
                  <a:lnTo>
                    <a:pt x="2054" y="34"/>
                  </a:lnTo>
                  <a:lnTo>
                    <a:pt x="2021" y="34"/>
                  </a:lnTo>
                  <a:lnTo>
                    <a:pt x="2021" y="68"/>
                  </a:lnTo>
                  <a:lnTo>
                    <a:pt x="1953" y="34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hape 492"/>
            <p:cNvSpPr/>
            <p:nvPr/>
          </p:nvSpPr>
          <p:spPr>
            <a:xfrm>
              <a:off x="2417760" y="612648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190" h="2223">
                  <a:moveTo>
                    <a:pt x="1819" y="1"/>
                  </a:moveTo>
                  <a:lnTo>
                    <a:pt x="1314" y="68"/>
                  </a:lnTo>
                  <a:lnTo>
                    <a:pt x="775" y="135"/>
                  </a:lnTo>
                  <a:lnTo>
                    <a:pt x="371" y="169"/>
                  </a:lnTo>
                  <a:lnTo>
                    <a:pt x="169" y="203"/>
                  </a:lnTo>
                  <a:lnTo>
                    <a:pt x="1" y="270"/>
                  </a:lnTo>
                  <a:lnTo>
                    <a:pt x="1" y="304"/>
                  </a:lnTo>
                  <a:lnTo>
                    <a:pt x="135" y="371"/>
                  </a:lnTo>
                  <a:lnTo>
                    <a:pt x="338" y="405"/>
                  </a:lnTo>
                  <a:lnTo>
                    <a:pt x="674" y="337"/>
                  </a:lnTo>
                  <a:lnTo>
                    <a:pt x="1213" y="270"/>
                  </a:lnTo>
                  <a:lnTo>
                    <a:pt x="1752" y="203"/>
                  </a:lnTo>
                  <a:lnTo>
                    <a:pt x="1752" y="371"/>
                  </a:lnTo>
                  <a:lnTo>
                    <a:pt x="1785" y="539"/>
                  </a:lnTo>
                  <a:lnTo>
                    <a:pt x="1853" y="910"/>
                  </a:lnTo>
                  <a:lnTo>
                    <a:pt x="1920" y="1381"/>
                  </a:lnTo>
                  <a:lnTo>
                    <a:pt x="1954" y="1617"/>
                  </a:lnTo>
                  <a:lnTo>
                    <a:pt x="1987" y="1819"/>
                  </a:lnTo>
                  <a:lnTo>
                    <a:pt x="1011" y="1953"/>
                  </a:lnTo>
                  <a:lnTo>
                    <a:pt x="674" y="1987"/>
                  </a:lnTo>
                  <a:lnTo>
                    <a:pt x="506" y="2021"/>
                  </a:lnTo>
                  <a:lnTo>
                    <a:pt x="371" y="2122"/>
                  </a:lnTo>
                  <a:lnTo>
                    <a:pt x="540" y="2189"/>
                  </a:lnTo>
                  <a:lnTo>
                    <a:pt x="708" y="2223"/>
                  </a:lnTo>
                  <a:lnTo>
                    <a:pt x="1045" y="2155"/>
                  </a:lnTo>
                  <a:lnTo>
                    <a:pt x="2122" y="2021"/>
                  </a:lnTo>
                  <a:lnTo>
                    <a:pt x="2189" y="1987"/>
                  </a:lnTo>
                  <a:lnTo>
                    <a:pt x="2189" y="1953"/>
                  </a:lnTo>
                  <a:lnTo>
                    <a:pt x="2189" y="1886"/>
                  </a:lnTo>
                  <a:lnTo>
                    <a:pt x="2156" y="1852"/>
                  </a:lnTo>
                  <a:lnTo>
                    <a:pt x="2156" y="1617"/>
                  </a:lnTo>
                  <a:lnTo>
                    <a:pt x="2122" y="1347"/>
                  </a:lnTo>
                  <a:lnTo>
                    <a:pt x="2021" y="876"/>
                  </a:lnTo>
                  <a:lnTo>
                    <a:pt x="1987" y="506"/>
                  </a:lnTo>
                  <a:lnTo>
                    <a:pt x="1954" y="337"/>
                  </a:lnTo>
                  <a:lnTo>
                    <a:pt x="1886" y="135"/>
                  </a:lnTo>
                  <a:lnTo>
                    <a:pt x="1920" y="102"/>
                  </a:lnTo>
                  <a:lnTo>
                    <a:pt x="1920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hape 493"/>
            <p:cNvSpPr/>
            <p:nvPr/>
          </p:nvSpPr>
          <p:spPr>
            <a:xfrm>
              <a:off x="2409840" y="6143760"/>
              <a:ext cx="31680" cy="13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72" h="2021">
                  <a:moveTo>
                    <a:pt x="67" y="1"/>
                  </a:moveTo>
                  <a:lnTo>
                    <a:pt x="34" y="35"/>
                  </a:lnTo>
                  <a:lnTo>
                    <a:pt x="0" y="270"/>
                  </a:lnTo>
                  <a:lnTo>
                    <a:pt x="34" y="506"/>
                  </a:lnTo>
                  <a:lnTo>
                    <a:pt x="101" y="944"/>
                  </a:lnTo>
                  <a:lnTo>
                    <a:pt x="202" y="1482"/>
                  </a:lnTo>
                  <a:lnTo>
                    <a:pt x="269" y="1718"/>
                  </a:lnTo>
                  <a:lnTo>
                    <a:pt x="337" y="1987"/>
                  </a:lnTo>
                  <a:lnTo>
                    <a:pt x="370" y="2021"/>
                  </a:lnTo>
                  <a:lnTo>
                    <a:pt x="438" y="2021"/>
                  </a:lnTo>
                  <a:lnTo>
                    <a:pt x="472" y="1987"/>
                  </a:lnTo>
                  <a:lnTo>
                    <a:pt x="472" y="1954"/>
                  </a:lnTo>
                  <a:lnTo>
                    <a:pt x="438" y="1684"/>
                  </a:lnTo>
                  <a:lnTo>
                    <a:pt x="404" y="1415"/>
                  </a:lnTo>
                  <a:lnTo>
                    <a:pt x="269" y="910"/>
                  </a:lnTo>
                  <a:lnTo>
                    <a:pt x="202" y="472"/>
                  </a:lnTo>
                  <a:lnTo>
                    <a:pt x="168" y="270"/>
                  </a:lnTo>
                  <a:lnTo>
                    <a:pt x="101" y="35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8000" bIns="18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hape 494"/>
            <p:cNvSpPr/>
            <p:nvPr/>
          </p:nvSpPr>
          <p:spPr>
            <a:xfrm>
              <a:off x="2519280" y="6012000"/>
              <a:ext cx="42840" cy="63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41" h="944">
                  <a:moveTo>
                    <a:pt x="439" y="0"/>
                  </a:moveTo>
                  <a:lnTo>
                    <a:pt x="304" y="34"/>
                  </a:lnTo>
                  <a:lnTo>
                    <a:pt x="169" y="68"/>
                  </a:lnTo>
                  <a:lnTo>
                    <a:pt x="136" y="101"/>
                  </a:lnTo>
                  <a:lnTo>
                    <a:pt x="102" y="101"/>
                  </a:lnTo>
                  <a:lnTo>
                    <a:pt x="35" y="135"/>
                  </a:lnTo>
                  <a:lnTo>
                    <a:pt x="1" y="169"/>
                  </a:lnTo>
                  <a:lnTo>
                    <a:pt x="35" y="202"/>
                  </a:lnTo>
                  <a:lnTo>
                    <a:pt x="35" y="236"/>
                  </a:lnTo>
                  <a:lnTo>
                    <a:pt x="68" y="236"/>
                  </a:lnTo>
                  <a:lnTo>
                    <a:pt x="136" y="573"/>
                  </a:lnTo>
                  <a:lnTo>
                    <a:pt x="237" y="876"/>
                  </a:lnTo>
                  <a:lnTo>
                    <a:pt x="270" y="943"/>
                  </a:lnTo>
                  <a:lnTo>
                    <a:pt x="338" y="943"/>
                  </a:lnTo>
                  <a:lnTo>
                    <a:pt x="371" y="910"/>
                  </a:lnTo>
                  <a:lnTo>
                    <a:pt x="405" y="842"/>
                  </a:lnTo>
                  <a:lnTo>
                    <a:pt x="304" y="539"/>
                  </a:lnTo>
                  <a:lnTo>
                    <a:pt x="405" y="539"/>
                  </a:lnTo>
                  <a:lnTo>
                    <a:pt x="472" y="505"/>
                  </a:lnTo>
                  <a:lnTo>
                    <a:pt x="540" y="472"/>
                  </a:lnTo>
                  <a:lnTo>
                    <a:pt x="573" y="438"/>
                  </a:lnTo>
                  <a:lnTo>
                    <a:pt x="573" y="404"/>
                  </a:lnTo>
                  <a:lnTo>
                    <a:pt x="540" y="371"/>
                  </a:lnTo>
                  <a:lnTo>
                    <a:pt x="472" y="371"/>
                  </a:lnTo>
                  <a:lnTo>
                    <a:pt x="338" y="404"/>
                  </a:lnTo>
                  <a:lnTo>
                    <a:pt x="304" y="438"/>
                  </a:lnTo>
                  <a:lnTo>
                    <a:pt x="237" y="236"/>
                  </a:lnTo>
                  <a:lnTo>
                    <a:pt x="338" y="236"/>
                  </a:lnTo>
                  <a:lnTo>
                    <a:pt x="472" y="169"/>
                  </a:lnTo>
                  <a:lnTo>
                    <a:pt x="540" y="169"/>
                  </a:lnTo>
                  <a:lnTo>
                    <a:pt x="607" y="101"/>
                  </a:lnTo>
                  <a:lnTo>
                    <a:pt x="641" y="68"/>
                  </a:lnTo>
                  <a:lnTo>
                    <a:pt x="607" y="34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3280" bIns="-53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hape 495"/>
            <p:cNvSpPr/>
            <p:nvPr/>
          </p:nvSpPr>
          <p:spPr>
            <a:xfrm>
              <a:off x="2458800" y="5954760"/>
              <a:ext cx="155520" cy="155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358" h="2357">
                  <a:moveTo>
                    <a:pt x="1987" y="0"/>
                  </a:moveTo>
                  <a:lnTo>
                    <a:pt x="1954" y="34"/>
                  </a:lnTo>
                  <a:lnTo>
                    <a:pt x="1954" y="135"/>
                  </a:lnTo>
                  <a:lnTo>
                    <a:pt x="1651" y="135"/>
                  </a:lnTo>
                  <a:lnTo>
                    <a:pt x="1348" y="168"/>
                  </a:lnTo>
                  <a:lnTo>
                    <a:pt x="742" y="269"/>
                  </a:lnTo>
                  <a:lnTo>
                    <a:pt x="405" y="303"/>
                  </a:lnTo>
                  <a:lnTo>
                    <a:pt x="203" y="337"/>
                  </a:lnTo>
                  <a:lnTo>
                    <a:pt x="136" y="370"/>
                  </a:lnTo>
                  <a:lnTo>
                    <a:pt x="102" y="438"/>
                  </a:lnTo>
                  <a:lnTo>
                    <a:pt x="68" y="438"/>
                  </a:lnTo>
                  <a:lnTo>
                    <a:pt x="68" y="404"/>
                  </a:lnTo>
                  <a:lnTo>
                    <a:pt x="35" y="438"/>
                  </a:lnTo>
                  <a:lnTo>
                    <a:pt x="1" y="640"/>
                  </a:lnTo>
                  <a:lnTo>
                    <a:pt x="35" y="842"/>
                  </a:lnTo>
                  <a:lnTo>
                    <a:pt x="136" y="1279"/>
                  </a:lnTo>
                  <a:lnTo>
                    <a:pt x="270" y="2290"/>
                  </a:lnTo>
                  <a:lnTo>
                    <a:pt x="304" y="2357"/>
                  </a:lnTo>
                  <a:lnTo>
                    <a:pt x="405" y="2357"/>
                  </a:lnTo>
                  <a:lnTo>
                    <a:pt x="439" y="2323"/>
                  </a:lnTo>
                  <a:lnTo>
                    <a:pt x="674" y="2323"/>
                  </a:lnTo>
                  <a:lnTo>
                    <a:pt x="944" y="2290"/>
                  </a:lnTo>
                  <a:lnTo>
                    <a:pt x="1415" y="2189"/>
                  </a:lnTo>
                  <a:lnTo>
                    <a:pt x="1819" y="2155"/>
                  </a:lnTo>
                  <a:lnTo>
                    <a:pt x="2055" y="2088"/>
                  </a:lnTo>
                  <a:lnTo>
                    <a:pt x="2122" y="2054"/>
                  </a:lnTo>
                  <a:lnTo>
                    <a:pt x="2189" y="1987"/>
                  </a:lnTo>
                  <a:lnTo>
                    <a:pt x="2189" y="1953"/>
                  </a:lnTo>
                  <a:lnTo>
                    <a:pt x="2088" y="1919"/>
                  </a:lnTo>
                  <a:lnTo>
                    <a:pt x="1987" y="1886"/>
                  </a:lnTo>
                  <a:lnTo>
                    <a:pt x="1718" y="1886"/>
                  </a:lnTo>
                  <a:lnTo>
                    <a:pt x="1247" y="1987"/>
                  </a:lnTo>
                  <a:lnTo>
                    <a:pt x="843" y="2054"/>
                  </a:lnTo>
                  <a:lnTo>
                    <a:pt x="641" y="2088"/>
                  </a:lnTo>
                  <a:lnTo>
                    <a:pt x="439" y="2121"/>
                  </a:lnTo>
                  <a:lnTo>
                    <a:pt x="270" y="1111"/>
                  </a:lnTo>
                  <a:lnTo>
                    <a:pt x="237" y="842"/>
                  </a:lnTo>
                  <a:lnTo>
                    <a:pt x="136" y="572"/>
                  </a:lnTo>
                  <a:lnTo>
                    <a:pt x="203" y="572"/>
                  </a:lnTo>
                  <a:lnTo>
                    <a:pt x="237" y="539"/>
                  </a:lnTo>
                  <a:lnTo>
                    <a:pt x="237" y="505"/>
                  </a:lnTo>
                  <a:lnTo>
                    <a:pt x="1179" y="370"/>
                  </a:lnTo>
                  <a:lnTo>
                    <a:pt x="1550" y="303"/>
                  </a:lnTo>
                  <a:lnTo>
                    <a:pt x="1954" y="202"/>
                  </a:lnTo>
                  <a:lnTo>
                    <a:pt x="2021" y="572"/>
                  </a:lnTo>
                  <a:lnTo>
                    <a:pt x="2055" y="943"/>
                  </a:lnTo>
                  <a:lnTo>
                    <a:pt x="2122" y="1448"/>
                  </a:lnTo>
                  <a:lnTo>
                    <a:pt x="2156" y="1717"/>
                  </a:lnTo>
                  <a:lnTo>
                    <a:pt x="2189" y="1953"/>
                  </a:lnTo>
                  <a:lnTo>
                    <a:pt x="2223" y="2020"/>
                  </a:lnTo>
                  <a:lnTo>
                    <a:pt x="2324" y="2020"/>
                  </a:lnTo>
                  <a:lnTo>
                    <a:pt x="2324" y="1953"/>
                  </a:lnTo>
                  <a:lnTo>
                    <a:pt x="2358" y="1717"/>
                  </a:lnTo>
                  <a:lnTo>
                    <a:pt x="2324" y="1448"/>
                  </a:lnTo>
                  <a:lnTo>
                    <a:pt x="2257" y="909"/>
                  </a:lnTo>
                  <a:lnTo>
                    <a:pt x="2189" y="471"/>
                  </a:lnTo>
                  <a:lnTo>
                    <a:pt x="2122" y="236"/>
                  </a:lnTo>
                  <a:lnTo>
                    <a:pt x="2055" y="34"/>
                  </a:lnTo>
                  <a:lnTo>
                    <a:pt x="198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hape 496"/>
            <p:cNvSpPr/>
            <p:nvPr/>
          </p:nvSpPr>
          <p:spPr>
            <a:xfrm>
              <a:off x="1803240" y="-6480"/>
              <a:ext cx="5943600" cy="72540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89490" h="10910">
                  <a:moveTo>
                    <a:pt x="89187" y="1"/>
                  </a:moveTo>
                  <a:lnTo>
                    <a:pt x="87840" y="2458"/>
                  </a:lnTo>
                  <a:lnTo>
                    <a:pt x="87133" y="3671"/>
                  </a:lnTo>
                  <a:lnTo>
                    <a:pt x="86426" y="4883"/>
                  </a:lnTo>
                  <a:lnTo>
                    <a:pt x="85551" y="6297"/>
                  </a:lnTo>
                  <a:lnTo>
                    <a:pt x="84642" y="7677"/>
                  </a:lnTo>
                  <a:lnTo>
                    <a:pt x="83733" y="9057"/>
                  </a:lnTo>
                  <a:lnTo>
                    <a:pt x="82823" y="10438"/>
                  </a:lnTo>
                  <a:lnTo>
                    <a:pt x="82756" y="10404"/>
                  </a:lnTo>
                  <a:lnTo>
                    <a:pt x="69289" y="10471"/>
                  </a:lnTo>
                  <a:lnTo>
                    <a:pt x="55822" y="10539"/>
                  </a:lnTo>
                  <a:lnTo>
                    <a:pt x="28887" y="10606"/>
                  </a:lnTo>
                  <a:lnTo>
                    <a:pt x="14477" y="10606"/>
                  </a:lnTo>
                  <a:lnTo>
                    <a:pt x="7272" y="10640"/>
                  </a:lnTo>
                  <a:lnTo>
                    <a:pt x="67" y="10707"/>
                  </a:lnTo>
                  <a:lnTo>
                    <a:pt x="0" y="10741"/>
                  </a:lnTo>
                  <a:lnTo>
                    <a:pt x="0" y="10775"/>
                  </a:lnTo>
                  <a:lnTo>
                    <a:pt x="0" y="10842"/>
                  </a:lnTo>
                  <a:lnTo>
                    <a:pt x="67" y="10876"/>
                  </a:lnTo>
                  <a:lnTo>
                    <a:pt x="6801" y="10909"/>
                  </a:lnTo>
                  <a:lnTo>
                    <a:pt x="13535" y="10876"/>
                  </a:lnTo>
                  <a:lnTo>
                    <a:pt x="27002" y="10808"/>
                  </a:lnTo>
                  <a:lnTo>
                    <a:pt x="53936" y="10741"/>
                  </a:lnTo>
                  <a:lnTo>
                    <a:pt x="68346" y="10674"/>
                  </a:lnTo>
                  <a:lnTo>
                    <a:pt x="82756" y="10640"/>
                  </a:lnTo>
                  <a:lnTo>
                    <a:pt x="82823" y="10674"/>
                  </a:lnTo>
                  <a:lnTo>
                    <a:pt x="82857" y="10640"/>
                  </a:lnTo>
                  <a:lnTo>
                    <a:pt x="83362" y="10000"/>
                  </a:lnTo>
                  <a:lnTo>
                    <a:pt x="83867" y="9360"/>
                  </a:lnTo>
                  <a:lnTo>
                    <a:pt x="84776" y="8014"/>
                  </a:lnTo>
                  <a:lnTo>
                    <a:pt x="85685" y="6633"/>
                  </a:lnTo>
                  <a:lnTo>
                    <a:pt x="86527" y="5219"/>
                  </a:lnTo>
                  <a:lnTo>
                    <a:pt x="87301" y="3940"/>
                  </a:lnTo>
                  <a:lnTo>
                    <a:pt x="88042" y="2661"/>
                  </a:lnTo>
                  <a:lnTo>
                    <a:pt x="88783" y="1347"/>
                  </a:lnTo>
                  <a:lnTo>
                    <a:pt x="8949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hape 497"/>
            <p:cNvSpPr/>
            <p:nvPr/>
          </p:nvSpPr>
          <p:spPr>
            <a:xfrm>
              <a:off x="-7920" y="4030560"/>
              <a:ext cx="217440" cy="666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66" h="1011">
                  <a:moveTo>
                    <a:pt x="3266" y="1"/>
                  </a:moveTo>
                  <a:lnTo>
                    <a:pt x="2929" y="135"/>
                  </a:lnTo>
                  <a:lnTo>
                    <a:pt x="2592" y="270"/>
                  </a:lnTo>
                  <a:lnTo>
                    <a:pt x="2256" y="337"/>
                  </a:lnTo>
                  <a:lnTo>
                    <a:pt x="1919" y="438"/>
                  </a:lnTo>
                  <a:lnTo>
                    <a:pt x="1212" y="539"/>
                  </a:lnTo>
                  <a:lnTo>
                    <a:pt x="505" y="640"/>
                  </a:lnTo>
                  <a:lnTo>
                    <a:pt x="0" y="775"/>
                  </a:lnTo>
                  <a:lnTo>
                    <a:pt x="0" y="1011"/>
                  </a:lnTo>
                  <a:lnTo>
                    <a:pt x="370" y="910"/>
                  </a:lnTo>
                  <a:lnTo>
                    <a:pt x="774" y="809"/>
                  </a:lnTo>
                  <a:lnTo>
                    <a:pt x="1448" y="674"/>
                  </a:lnTo>
                  <a:lnTo>
                    <a:pt x="2087" y="539"/>
                  </a:lnTo>
                  <a:lnTo>
                    <a:pt x="2390" y="438"/>
                  </a:lnTo>
                  <a:lnTo>
                    <a:pt x="2693" y="337"/>
                  </a:lnTo>
                  <a:lnTo>
                    <a:pt x="2963" y="203"/>
                  </a:lnTo>
                  <a:lnTo>
                    <a:pt x="326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hape 498"/>
            <p:cNvSpPr/>
            <p:nvPr/>
          </p:nvSpPr>
          <p:spPr>
            <a:xfrm>
              <a:off x="-7920" y="4127400"/>
              <a:ext cx="239400" cy="727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603" h="1112">
                  <a:moveTo>
                    <a:pt x="3569" y="0"/>
                  </a:moveTo>
                  <a:lnTo>
                    <a:pt x="2020" y="505"/>
                  </a:lnTo>
                  <a:lnTo>
                    <a:pt x="1246" y="707"/>
                  </a:lnTo>
                  <a:lnTo>
                    <a:pt x="438" y="909"/>
                  </a:lnTo>
                  <a:lnTo>
                    <a:pt x="0" y="943"/>
                  </a:lnTo>
                  <a:lnTo>
                    <a:pt x="0" y="1111"/>
                  </a:lnTo>
                  <a:lnTo>
                    <a:pt x="741" y="1010"/>
                  </a:lnTo>
                  <a:lnTo>
                    <a:pt x="1481" y="842"/>
                  </a:lnTo>
                  <a:lnTo>
                    <a:pt x="2188" y="606"/>
                  </a:lnTo>
                  <a:lnTo>
                    <a:pt x="2895" y="337"/>
                  </a:lnTo>
                  <a:lnTo>
                    <a:pt x="3602" y="34"/>
                  </a:lnTo>
                  <a:lnTo>
                    <a:pt x="3602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3920" bIns="-43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hape 499"/>
            <p:cNvSpPr/>
            <p:nvPr/>
          </p:nvSpPr>
          <p:spPr>
            <a:xfrm>
              <a:off x="-7920" y="4310280"/>
              <a:ext cx="142560" cy="53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55" h="809">
                  <a:moveTo>
                    <a:pt x="2121" y="0"/>
                  </a:moveTo>
                  <a:lnTo>
                    <a:pt x="1582" y="236"/>
                  </a:lnTo>
                  <a:lnTo>
                    <a:pt x="1077" y="370"/>
                  </a:lnTo>
                  <a:lnTo>
                    <a:pt x="539" y="505"/>
                  </a:lnTo>
                  <a:lnTo>
                    <a:pt x="0" y="640"/>
                  </a:lnTo>
                  <a:lnTo>
                    <a:pt x="0" y="808"/>
                  </a:lnTo>
                  <a:lnTo>
                    <a:pt x="572" y="707"/>
                  </a:lnTo>
                  <a:lnTo>
                    <a:pt x="1111" y="539"/>
                  </a:lnTo>
                  <a:lnTo>
                    <a:pt x="1380" y="471"/>
                  </a:lnTo>
                  <a:lnTo>
                    <a:pt x="1650" y="337"/>
                  </a:lnTo>
                  <a:lnTo>
                    <a:pt x="1885" y="202"/>
                  </a:lnTo>
                  <a:lnTo>
                    <a:pt x="2155" y="67"/>
                  </a:lnTo>
                  <a:lnTo>
                    <a:pt x="2155" y="34"/>
                  </a:lnTo>
                  <a:lnTo>
                    <a:pt x="212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hape 500"/>
            <p:cNvSpPr/>
            <p:nvPr/>
          </p:nvSpPr>
          <p:spPr>
            <a:xfrm>
              <a:off x="3051000" y="6026400"/>
              <a:ext cx="156960" cy="1537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358" h="2324">
                  <a:moveTo>
                    <a:pt x="1954" y="303"/>
                  </a:moveTo>
                  <a:lnTo>
                    <a:pt x="1987" y="640"/>
                  </a:lnTo>
                  <a:lnTo>
                    <a:pt x="2055" y="943"/>
                  </a:lnTo>
                  <a:lnTo>
                    <a:pt x="2088" y="1381"/>
                  </a:lnTo>
                  <a:lnTo>
                    <a:pt x="2122" y="1617"/>
                  </a:lnTo>
                  <a:lnTo>
                    <a:pt x="2189" y="1819"/>
                  </a:lnTo>
                  <a:lnTo>
                    <a:pt x="1280" y="1920"/>
                  </a:lnTo>
                  <a:lnTo>
                    <a:pt x="843" y="2021"/>
                  </a:lnTo>
                  <a:lnTo>
                    <a:pt x="405" y="2155"/>
                  </a:lnTo>
                  <a:lnTo>
                    <a:pt x="338" y="1718"/>
                  </a:lnTo>
                  <a:lnTo>
                    <a:pt x="270" y="1280"/>
                  </a:lnTo>
                  <a:lnTo>
                    <a:pt x="237" y="809"/>
                  </a:lnTo>
                  <a:lnTo>
                    <a:pt x="203" y="573"/>
                  </a:lnTo>
                  <a:lnTo>
                    <a:pt x="102" y="371"/>
                  </a:lnTo>
                  <a:lnTo>
                    <a:pt x="304" y="438"/>
                  </a:lnTo>
                  <a:lnTo>
                    <a:pt x="472" y="438"/>
                  </a:lnTo>
                  <a:lnTo>
                    <a:pt x="843" y="371"/>
                  </a:lnTo>
                  <a:lnTo>
                    <a:pt x="1415" y="337"/>
                  </a:lnTo>
                  <a:lnTo>
                    <a:pt x="1954" y="303"/>
                  </a:lnTo>
                  <a:close/>
                  <a:moveTo>
                    <a:pt x="2021" y="0"/>
                  </a:moveTo>
                  <a:lnTo>
                    <a:pt x="1987" y="34"/>
                  </a:lnTo>
                  <a:lnTo>
                    <a:pt x="1954" y="68"/>
                  </a:lnTo>
                  <a:lnTo>
                    <a:pt x="1954" y="135"/>
                  </a:lnTo>
                  <a:lnTo>
                    <a:pt x="1449" y="135"/>
                  </a:lnTo>
                  <a:lnTo>
                    <a:pt x="944" y="169"/>
                  </a:lnTo>
                  <a:lnTo>
                    <a:pt x="506" y="202"/>
                  </a:lnTo>
                  <a:lnTo>
                    <a:pt x="304" y="270"/>
                  </a:lnTo>
                  <a:lnTo>
                    <a:pt x="203" y="303"/>
                  </a:lnTo>
                  <a:lnTo>
                    <a:pt x="102" y="371"/>
                  </a:lnTo>
                  <a:lnTo>
                    <a:pt x="68" y="371"/>
                  </a:lnTo>
                  <a:lnTo>
                    <a:pt x="35" y="506"/>
                  </a:lnTo>
                  <a:lnTo>
                    <a:pt x="1" y="674"/>
                  </a:lnTo>
                  <a:lnTo>
                    <a:pt x="35" y="977"/>
                  </a:lnTo>
                  <a:lnTo>
                    <a:pt x="102" y="1617"/>
                  </a:lnTo>
                  <a:lnTo>
                    <a:pt x="136" y="1785"/>
                  </a:lnTo>
                  <a:lnTo>
                    <a:pt x="169" y="2021"/>
                  </a:lnTo>
                  <a:lnTo>
                    <a:pt x="203" y="2122"/>
                  </a:lnTo>
                  <a:lnTo>
                    <a:pt x="237" y="2189"/>
                  </a:lnTo>
                  <a:lnTo>
                    <a:pt x="304" y="2256"/>
                  </a:lnTo>
                  <a:lnTo>
                    <a:pt x="371" y="2324"/>
                  </a:lnTo>
                  <a:lnTo>
                    <a:pt x="439" y="2290"/>
                  </a:lnTo>
                  <a:lnTo>
                    <a:pt x="439" y="2256"/>
                  </a:lnTo>
                  <a:lnTo>
                    <a:pt x="876" y="2256"/>
                  </a:lnTo>
                  <a:lnTo>
                    <a:pt x="1314" y="2189"/>
                  </a:lnTo>
                  <a:lnTo>
                    <a:pt x="2223" y="2021"/>
                  </a:lnTo>
                  <a:lnTo>
                    <a:pt x="2257" y="1987"/>
                  </a:lnTo>
                  <a:lnTo>
                    <a:pt x="2324" y="2021"/>
                  </a:lnTo>
                  <a:lnTo>
                    <a:pt x="2358" y="1953"/>
                  </a:lnTo>
                  <a:lnTo>
                    <a:pt x="2358" y="1751"/>
                  </a:lnTo>
                  <a:lnTo>
                    <a:pt x="2324" y="1516"/>
                  </a:lnTo>
                  <a:lnTo>
                    <a:pt x="2223" y="1078"/>
                  </a:lnTo>
                  <a:lnTo>
                    <a:pt x="2156" y="539"/>
                  </a:lnTo>
                  <a:lnTo>
                    <a:pt x="2122" y="303"/>
                  </a:lnTo>
                  <a:lnTo>
                    <a:pt x="2055" y="34"/>
                  </a:lnTo>
                  <a:lnTo>
                    <a:pt x="2021" y="34"/>
                  </a:lnTo>
                  <a:lnTo>
                    <a:pt x="202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hape 501"/>
            <p:cNvSpPr/>
            <p:nvPr/>
          </p:nvSpPr>
          <p:spPr>
            <a:xfrm>
              <a:off x="3368520" y="5983560"/>
              <a:ext cx="158400" cy="1458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392" h="2190">
                  <a:moveTo>
                    <a:pt x="1684" y="1"/>
                  </a:moveTo>
                  <a:lnTo>
                    <a:pt x="1347" y="68"/>
                  </a:lnTo>
                  <a:lnTo>
                    <a:pt x="741" y="169"/>
                  </a:lnTo>
                  <a:lnTo>
                    <a:pt x="438" y="203"/>
                  </a:lnTo>
                  <a:lnTo>
                    <a:pt x="135" y="304"/>
                  </a:lnTo>
                  <a:lnTo>
                    <a:pt x="135" y="203"/>
                  </a:lnTo>
                  <a:lnTo>
                    <a:pt x="68" y="203"/>
                  </a:lnTo>
                  <a:lnTo>
                    <a:pt x="34" y="236"/>
                  </a:lnTo>
                  <a:lnTo>
                    <a:pt x="1" y="438"/>
                  </a:lnTo>
                  <a:lnTo>
                    <a:pt x="34" y="674"/>
                  </a:lnTo>
                  <a:lnTo>
                    <a:pt x="68" y="1146"/>
                  </a:lnTo>
                  <a:lnTo>
                    <a:pt x="169" y="1651"/>
                  </a:lnTo>
                  <a:lnTo>
                    <a:pt x="236" y="1920"/>
                  </a:lnTo>
                  <a:lnTo>
                    <a:pt x="304" y="2156"/>
                  </a:lnTo>
                  <a:lnTo>
                    <a:pt x="337" y="2189"/>
                  </a:lnTo>
                  <a:lnTo>
                    <a:pt x="438" y="2189"/>
                  </a:lnTo>
                  <a:lnTo>
                    <a:pt x="438" y="2122"/>
                  </a:lnTo>
                  <a:lnTo>
                    <a:pt x="405" y="1853"/>
                  </a:lnTo>
                  <a:lnTo>
                    <a:pt x="371" y="1617"/>
                  </a:lnTo>
                  <a:lnTo>
                    <a:pt x="270" y="1112"/>
                  </a:lnTo>
                  <a:lnTo>
                    <a:pt x="236" y="741"/>
                  </a:lnTo>
                  <a:lnTo>
                    <a:pt x="169" y="371"/>
                  </a:lnTo>
                  <a:lnTo>
                    <a:pt x="573" y="371"/>
                  </a:lnTo>
                  <a:lnTo>
                    <a:pt x="977" y="304"/>
                  </a:lnTo>
                  <a:lnTo>
                    <a:pt x="1886" y="169"/>
                  </a:lnTo>
                  <a:lnTo>
                    <a:pt x="1920" y="169"/>
                  </a:lnTo>
                  <a:lnTo>
                    <a:pt x="1953" y="203"/>
                  </a:lnTo>
                  <a:lnTo>
                    <a:pt x="1987" y="203"/>
                  </a:lnTo>
                  <a:lnTo>
                    <a:pt x="2021" y="472"/>
                  </a:lnTo>
                  <a:lnTo>
                    <a:pt x="2054" y="741"/>
                  </a:lnTo>
                  <a:lnTo>
                    <a:pt x="2189" y="1752"/>
                  </a:lnTo>
                  <a:lnTo>
                    <a:pt x="1987" y="1752"/>
                  </a:lnTo>
                  <a:lnTo>
                    <a:pt x="1785" y="1785"/>
                  </a:lnTo>
                  <a:lnTo>
                    <a:pt x="1381" y="1886"/>
                  </a:lnTo>
                  <a:lnTo>
                    <a:pt x="876" y="1920"/>
                  </a:lnTo>
                  <a:lnTo>
                    <a:pt x="640" y="1987"/>
                  </a:lnTo>
                  <a:lnTo>
                    <a:pt x="539" y="2055"/>
                  </a:lnTo>
                  <a:lnTo>
                    <a:pt x="472" y="2122"/>
                  </a:lnTo>
                  <a:lnTo>
                    <a:pt x="539" y="2189"/>
                  </a:lnTo>
                  <a:lnTo>
                    <a:pt x="842" y="2189"/>
                  </a:lnTo>
                  <a:lnTo>
                    <a:pt x="1280" y="2122"/>
                  </a:lnTo>
                  <a:lnTo>
                    <a:pt x="1751" y="2055"/>
                  </a:lnTo>
                  <a:lnTo>
                    <a:pt x="1987" y="2021"/>
                  </a:lnTo>
                  <a:lnTo>
                    <a:pt x="2223" y="1954"/>
                  </a:lnTo>
                  <a:lnTo>
                    <a:pt x="2256" y="1987"/>
                  </a:lnTo>
                  <a:lnTo>
                    <a:pt x="2324" y="1954"/>
                  </a:lnTo>
                  <a:lnTo>
                    <a:pt x="2358" y="1920"/>
                  </a:lnTo>
                  <a:lnTo>
                    <a:pt x="2391" y="1886"/>
                  </a:lnTo>
                  <a:lnTo>
                    <a:pt x="2223" y="876"/>
                  </a:lnTo>
                  <a:lnTo>
                    <a:pt x="2189" y="438"/>
                  </a:lnTo>
                  <a:lnTo>
                    <a:pt x="2155" y="203"/>
                  </a:lnTo>
                  <a:lnTo>
                    <a:pt x="2054" y="1"/>
                  </a:lnTo>
                  <a:lnTo>
                    <a:pt x="2021" y="68"/>
                  </a:lnTo>
                  <a:lnTo>
                    <a:pt x="2021" y="34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9160" bIns="29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hape 502"/>
            <p:cNvSpPr/>
            <p:nvPr/>
          </p:nvSpPr>
          <p:spPr>
            <a:xfrm>
              <a:off x="2728800" y="607248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91" h="2526">
                  <a:moveTo>
                    <a:pt x="1953" y="169"/>
                  </a:moveTo>
                  <a:lnTo>
                    <a:pt x="1953" y="640"/>
                  </a:lnTo>
                  <a:lnTo>
                    <a:pt x="1987" y="1112"/>
                  </a:lnTo>
                  <a:lnTo>
                    <a:pt x="2054" y="1583"/>
                  </a:lnTo>
                  <a:lnTo>
                    <a:pt x="2155" y="2021"/>
                  </a:lnTo>
                  <a:lnTo>
                    <a:pt x="1751" y="2054"/>
                  </a:lnTo>
                  <a:lnTo>
                    <a:pt x="1347" y="2122"/>
                  </a:lnTo>
                  <a:lnTo>
                    <a:pt x="910" y="2155"/>
                  </a:lnTo>
                  <a:lnTo>
                    <a:pt x="506" y="2223"/>
                  </a:lnTo>
                  <a:lnTo>
                    <a:pt x="304" y="1314"/>
                  </a:lnTo>
                  <a:lnTo>
                    <a:pt x="135" y="405"/>
                  </a:lnTo>
                  <a:lnTo>
                    <a:pt x="607" y="405"/>
                  </a:lnTo>
                  <a:lnTo>
                    <a:pt x="1044" y="337"/>
                  </a:lnTo>
                  <a:lnTo>
                    <a:pt x="1953" y="169"/>
                  </a:lnTo>
                  <a:close/>
                  <a:moveTo>
                    <a:pt x="1953" y="1"/>
                  </a:moveTo>
                  <a:lnTo>
                    <a:pt x="1011" y="135"/>
                  </a:lnTo>
                  <a:lnTo>
                    <a:pt x="573" y="203"/>
                  </a:lnTo>
                  <a:lnTo>
                    <a:pt x="102" y="270"/>
                  </a:lnTo>
                  <a:lnTo>
                    <a:pt x="68" y="304"/>
                  </a:lnTo>
                  <a:lnTo>
                    <a:pt x="34" y="337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34" y="910"/>
                  </a:lnTo>
                  <a:lnTo>
                    <a:pt x="102" y="1448"/>
                  </a:lnTo>
                  <a:lnTo>
                    <a:pt x="203" y="1953"/>
                  </a:lnTo>
                  <a:lnTo>
                    <a:pt x="371" y="2458"/>
                  </a:lnTo>
                  <a:lnTo>
                    <a:pt x="405" y="2492"/>
                  </a:lnTo>
                  <a:lnTo>
                    <a:pt x="472" y="2526"/>
                  </a:lnTo>
                  <a:lnTo>
                    <a:pt x="539" y="2458"/>
                  </a:lnTo>
                  <a:lnTo>
                    <a:pt x="539" y="2391"/>
                  </a:lnTo>
                  <a:lnTo>
                    <a:pt x="539" y="2357"/>
                  </a:lnTo>
                  <a:lnTo>
                    <a:pt x="1347" y="2357"/>
                  </a:lnTo>
                  <a:lnTo>
                    <a:pt x="1785" y="2290"/>
                  </a:lnTo>
                  <a:lnTo>
                    <a:pt x="2155" y="2155"/>
                  </a:lnTo>
                  <a:lnTo>
                    <a:pt x="2189" y="2122"/>
                  </a:lnTo>
                  <a:lnTo>
                    <a:pt x="2189" y="2054"/>
                  </a:lnTo>
                  <a:lnTo>
                    <a:pt x="2256" y="2054"/>
                  </a:lnTo>
                  <a:lnTo>
                    <a:pt x="2290" y="2021"/>
                  </a:lnTo>
                  <a:lnTo>
                    <a:pt x="2290" y="1987"/>
                  </a:lnTo>
                  <a:lnTo>
                    <a:pt x="2256" y="1516"/>
                  </a:lnTo>
                  <a:lnTo>
                    <a:pt x="2189" y="1044"/>
                  </a:lnTo>
                  <a:lnTo>
                    <a:pt x="2122" y="607"/>
                  </a:lnTo>
                  <a:lnTo>
                    <a:pt x="2021" y="135"/>
                  </a:lnTo>
                  <a:lnTo>
                    <a:pt x="2054" y="102"/>
                  </a:lnTo>
                  <a:lnTo>
                    <a:pt x="2054" y="34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hape 503"/>
            <p:cNvSpPr/>
            <p:nvPr/>
          </p:nvSpPr>
          <p:spPr>
            <a:xfrm>
              <a:off x="-7920" y="4075200"/>
              <a:ext cx="247320" cy="918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3738" h="1382">
                  <a:moveTo>
                    <a:pt x="3670" y="1"/>
                  </a:moveTo>
                  <a:lnTo>
                    <a:pt x="0" y="1078"/>
                  </a:lnTo>
                  <a:lnTo>
                    <a:pt x="0" y="1381"/>
                  </a:lnTo>
                  <a:lnTo>
                    <a:pt x="976" y="1146"/>
                  </a:lnTo>
                  <a:lnTo>
                    <a:pt x="1919" y="843"/>
                  </a:lnTo>
                  <a:lnTo>
                    <a:pt x="2828" y="506"/>
                  </a:lnTo>
                  <a:lnTo>
                    <a:pt x="3266" y="304"/>
                  </a:lnTo>
                  <a:lnTo>
                    <a:pt x="3703" y="102"/>
                  </a:lnTo>
                  <a:lnTo>
                    <a:pt x="3737" y="68"/>
                  </a:lnTo>
                  <a:lnTo>
                    <a:pt x="3737" y="35"/>
                  </a:lnTo>
                  <a:lnTo>
                    <a:pt x="370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5200" bIns="-25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hape 504"/>
            <p:cNvSpPr/>
            <p:nvPr/>
          </p:nvSpPr>
          <p:spPr>
            <a:xfrm>
              <a:off x="2782800" y="612648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41" h="775">
                  <a:moveTo>
                    <a:pt x="438" y="135"/>
                  </a:moveTo>
                  <a:lnTo>
                    <a:pt x="438" y="169"/>
                  </a:lnTo>
                  <a:lnTo>
                    <a:pt x="405" y="270"/>
                  </a:lnTo>
                  <a:lnTo>
                    <a:pt x="304" y="304"/>
                  </a:lnTo>
                  <a:lnTo>
                    <a:pt x="203" y="337"/>
                  </a:lnTo>
                  <a:lnTo>
                    <a:pt x="135" y="169"/>
                  </a:lnTo>
                  <a:lnTo>
                    <a:pt x="405" y="135"/>
                  </a:lnTo>
                  <a:close/>
                  <a:moveTo>
                    <a:pt x="405" y="405"/>
                  </a:moveTo>
                  <a:lnTo>
                    <a:pt x="472" y="438"/>
                  </a:lnTo>
                  <a:lnTo>
                    <a:pt x="472" y="472"/>
                  </a:lnTo>
                  <a:lnTo>
                    <a:pt x="438" y="539"/>
                  </a:lnTo>
                  <a:lnTo>
                    <a:pt x="405" y="607"/>
                  </a:lnTo>
                  <a:lnTo>
                    <a:pt x="270" y="607"/>
                  </a:lnTo>
                  <a:lnTo>
                    <a:pt x="236" y="472"/>
                  </a:lnTo>
                  <a:lnTo>
                    <a:pt x="270" y="472"/>
                  </a:lnTo>
                  <a:lnTo>
                    <a:pt x="405" y="438"/>
                  </a:lnTo>
                  <a:lnTo>
                    <a:pt x="405" y="405"/>
                  </a:lnTo>
                  <a:close/>
                  <a:moveTo>
                    <a:pt x="337" y="1"/>
                  </a:moveTo>
                  <a:lnTo>
                    <a:pt x="169" y="68"/>
                  </a:lnTo>
                  <a:lnTo>
                    <a:pt x="34" y="169"/>
                  </a:lnTo>
                  <a:lnTo>
                    <a:pt x="34" y="203"/>
                  </a:lnTo>
                  <a:lnTo>
                    <a:pt x="102" y="472"/>
                  </a:lnTo>
                  <a:lnTo>
                    <a:pt x="102" y="607"/>
                  </a:lnTo>
                  <a:lnTo>
                    <a:pt x="34" y="607"/>
                  </a:lnTo>
                  <a:lnTo>
                    <a:pt x="1" y="674"/>
                  </a:lnTo>
                  <a:lnTo>
                    <a:pt x="34" y="741"/>
                  </a:lnTo>
                  <a:lnTo>
                    <a:pt x="68" y="775"/>
                  </a:lnTo>
                  <a:lnTo>
                    <a:pt x="438" y="775"/>
                  </a:lnTo>
                  <a:lnTo>
                    <a:pt x="506" y="708"/>
                  </a:lnTo>
                  <a:lnTo>
                    <a:pt x="573" y="674"/>
                  </a:lnTo>
                  <a:lnTo>
                    <a:pt x="607" y="607"/>
                  </a:lnTo>
                  <a:lnTo>
                    <a:pt x="640" y="506"/>
                  </a:lnTo>
                  <a:lnTo>
                    <a:pt x="640" y="405"/>
                  </a:lnTo>
                  <a:lnTo>
                    <a:pt x="539" y="304"/>
                  </a:lnTo>
                  <a:lnTo>
                    <a:pt x="573" y="203"/>
                  </a:lnTo>
                  <a:lnTo>
                    <a:pt x="573" y="102"/>
                  </a:lnTo>
                  <a:lnTo>
                    <a:pt x="539" y="34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hape 505"/>
            <p:cNvSpPr/>
            <p:nvPr/>
          </p:nvSpPr>
          <p:spPr>
            <a:xfrm>
              <a:off x="3417840" y="5500800"/>
              <a:ext cx="153720" cy="1443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324" h="2189">
                  <a:moveTo>
                    <a:pt x="1920" y="169"/>
                  </a:moveTo>
                  <a:lnTo>
                    <a:pt x="1953" y="539"/>
                  </a:lnTo>
                  <a:lnTo>
                    <a:pt x="2021" y="910"/>
                  </a:lnTo>
                  <a:lnTo>
                    <a:pt x="2088" y="1381"/>
                  </a:lnTo>
                  <a:lnTo>
                    <a:pt x="2155" y="1819"/>
                  </a:lnTo>
                  <a:lnTo>
                    <a:pt x="1785" y="1819"/>
                  </a:lnTo>
                  <a:lnTo>
                    <a:pt x="1414" y="1886"/>
                  </a:lnTo>
                  <a:lnTo>
                    <a:pt x="943" y="1953"/>
                  </a:lnTo>
                  <a:lnTo>
                    <a:pt x="707" y="1987"/>
                  </a:lnTo>
                  <a:lnTo>
                    <a:pt x="505" y="2088"/>
                  </a:lnTo>
                  <a:lnTo>
                    <a:pt x="404" y="1617"/>
                  </a:lnTo>
                  <a:lnTo>
                    <a:pt x="270" y="1145"/>
                  </a:lnTo>
                  <a:lnTo>
                    <a:pt x="202" y="775"/>
                  </a:lnTo>
                  <a:lnTo>
                    <a:pt x="135" y="405"/>
                  </a:lnTo>
                  <a:lnTo>
                    <a:pt x="1010" y="304"/>
                  </a:lnTo>
                  <a:lnTo>
                    <a:pt x="1920" y="169"/>
                  </a:lnTo>
                  <a:close/>
                  <a:moveTo>
                    <a:pt x="1886" y="0"/>
                  </a:moveTo>
                  <a:lnTo>
                    <a:pt x="977" y="101"/>
                  </a:lnTo>
                  <a:lnTo>
                    <a:pt x="101" y="270"/>
                  </a:lnTo>
                  <a:lnTo>
                    <a:pt x="34" y="304"/>
                  </a:lnTo>
                  <a:lnTo>
                    <a:pt x="34" y="371"/>
                  </a:lnTo>
                  <a:lnTo>
                    <a:pt x="0" y="573"/>
                  </a:lnTo>
                  <a:lnTo>
                    <a:pt x="34" y="775"/>
                  </a:lnTo>
                  <a:lnTo>
                    <a:pt x="101" y="1179"/>
                  </a:lnTo>
                  <a:lnTo>
                    <a:pt x="202" y="1684"/>
                  </a:lnTo>
                  <a:lnTo>
                    <a:pt x="270" y="1920"/>
                  </a:lnTo>
                  <a:lnTo>
                    <a:pt x="371" y="2155"/>
                  </a:lnTo>
                  <a:lnTo>
                    <a:pt x="404" y="2189"/>
                  </a:lnTo>
                  <a:lnTo>
                    <a:pt x="707" y="2189"/>
                  </a:lnTo>
                  <a:lnTo>
                    <a:pt x="909" y="2155"/>
                  </a:lnTo>
                  <a:lnTo>
                    <a:pt x="1313" y="2088"/>
                  </a:lnTo>
                  <a:lnTo>
                    <a:pt x="1751" y="2054"/>
                  </a:lnTo>
                  <a:lnTo>
                    <a:pt x="1987" y="2021"/>
                  </a:lnTo>
                  <a:lnTo>
                    <a:pt x="2189" y="1953"/>
                  </a:lnTo>
                  <a:lnTo>
                    <a:pt x="2223" y="1987"/>
                  </a:lnTo>
                  <a:lnTo>
                    <a:pt x="2256" y="1987"/>
                  </a:lnTo>
                  <a:lnTo>
                    <a:pt x="2290" y="1953"/>
                  </a:lnTo>
                  <a:lnTo>
                    <a:pt x="2324" y="1920"/>
                  </a:lnTo>
                  <a:lnTo>
                    <a:pt x="2324" y="1684"/>
                  </a:lnTo>
                  <a:lnTo>
                    <a:pt x="2290" y="1482"/>
                  </a:lnTo>
                  <a:lnTo>
                    <a:pt x="2223" y="1044"/>
                  </a:lnTo>
                  <a:lnTo>
                    <a:pt x="2155" y="539"/>
                  </a:lnTo>
                  <a:lnTo>
                    <a:pt x="2088" y="270"/>
                  </a:lnTo>
                  <a:lnTo>
                    <a:pt x="2021" y="34"/>
                  </a:lnTo>
                  <a:lnTo>
                    <a:pt x="198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hape 506"/>
            <p:cNvSpPr/>
            <p:nvPr/>
          </p:nvSpPr>
          <p:spPr>
            <a:xfrm>
              <a:off x="1982520" y="592956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42" h="843">
                  <a:moveTo>
                    <a:pt x="371" y="203"/>
                  </a:moveTo>
                  <a:lnTo>
                    <a:pt x="405" y="236"/>
                  </a:lnTo>
                  <a:lnTo>
                    <a:pt x="405" y="304"/>
                  </a:lnTo>
                  <a:lnTo>
                    <a:pt x="405" y="371"/>
                  </a:lnTo>
                  <a:lnTo>
                    <a:pt x="304" y="472"/>
                  </a:lnTo>
                  <a:lnTo>
                    <a:pt x="203" y="506"/>
                  </a:lnTo>
                  <a:lnTo>
                    <a:pt x="203" y="405"/>
                  </a:lnTo>
                  <a:lnTo>
                    <a:pt x="236" y="304"/>
                  </a:lnTo>
                  <a:lnTo>
                    <a:pt x="270" y="236"/>
                  </a:lnTo>
                  <a:lnTo>
                    <a:pt x="304" y="236"/>
                  </a:lnTo>
                  <a:lnTo>
                    <a:pt x="371" y="203"/>
                  </a:lnTo>
                  <a:close/>
                  <a:moveTo>
                    <a:pt x="304" y="1"/>
                  </a:moveTo>
                  <a:lnTo>
                    <a:pt x="236" y="68"/>
                  </a:lnTo>
                  <a:lnTo>
                    <a:pt x="102" y="169"/>
                  </a:lnTo>
                  <a:lnTo>
                    <a:pt x="34" y="337"/>
                  </a:lnTo>
                  <a:lnTo>
                    <a:pt x="1" y="472"/>
                  </a:lnTo>
                  <a:lnTo>
                    <a:pt x="34" y="607"/>
                  </a:lnTo>
                  <a:lnTo>
                    <a:pt x="68" y="674"/>
                  </a:lnTo>
                  <a:lnTo>
                    <a:pt x="135" y="708"/>
                  </a:lnTo>
                  <a:lnTo>
                    <a:pt x="304" y="674"/>
                  </a:lnTo>
                  <a:lnTo>
                    <a:pt x="405" y="640"/>
                  </a:lnTo>
                  <a:lnTo>
                    <a:pt x="438" y="674"/>
                  </a:lnTo>
                  <a:lnTo>
                    <a:pt x="539" y="775"/>
                  </a:lnTo>
                  <a:lnTo>
                    <a:pt x="674" y="842"/>
                  </a:lnTo>
                  <a:lnTo>
                    <a:pt x="741" y="809"/>
                  </a:lnTo>
                  <a:lnTo>
                    <a:pt x="741" y="775"/>
                  </a:lnTo>
                  <a:lnTo>
                    <a:pt x="708" y="741"/>
                  </a:lnTo>
                  <a:lnTo>
                    <a:pt x="607" y="674"/>
                  </a:lnTo>
                  <a:lnTo>
                    <a:pt x="506" y="573"/>
                  </a:lnTo>
                  <a:lnTo>
                    <a:pt x="573" y="405"/>
                  </a:lnTo>
                  <a:lnTo>
                    <a:pt x="607" y="304"/>
                  </a:lnTo>
                  <a:lnTo>
                    <a:pt x="607" y="203"/>
                  </a:lnTo>
                  <a:lnTo>
                    <a:pt x="573" y="135"/>
                  </a:lnTo>
                  <a:lnTo>
                    <a:pt x="539" y="68"/>
                  </a:lnTo>
                  <a:lnTo>
                    <a:pt x="472" y="34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hape 507"/>
            <p:cNvSpPr/>
            <p:nvPr/>
          </p:nvSpPr>
          <p:spPr>
            <a:xfrm>
              <a:off x="6701040" y="5054760"/>
              <a:ext cx="112680" cy="1512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684" h="22761">
                  <a:moveTo>
                    <a:pt x="1549" y="1"/>
                  </a:moveTo>
                  <a:lnTo>
                    <a:pt x="1515" y="68"/>
                  </a:lnTo>
                  <a:lnTo>
                    <a:pt x="1381" y="1448"/>
                  </a:lnTo>
                  <a:lnTo>
                    <a:pt x="1246" y="2862"/>
                  </a:lnTo>
                  <a:lnTo>
                    <a:pt x="1077" y="5623"/>
                  </a:lnTo>
                  <a:lnTo>
                    <a:pt x="741" y="11178"/>
                  </a:lnTo>
                  <a:lnTo>
                    <a:pt x="0" y="22625"/>
                  </a:lnTo>
                  <a:lnTo>
                    <a:pt x="34" y="22659"/>
                  </a:lnTo>
                  <a:lnTo>
                    <a:pt x="34" y="22726"/>
                  </a:lnTo>
                  <a:lnTo>
                    <a:pt x="101" y="22760"/>
                  </a:lnTo>
                  <a:lnTo>
                    <a:pt x="135" y="22760"/>
                  </a:lnTo>
                  <a:lnTo>
                    <a:pt x="269" y="22726"/>
                  </a:lnTo>
                  <a:lnTo>
                    <a:pt x="303" y="22659"/>
                  </a:lnTo>
                  <a:lnTo>
                    <a:pt x="303" y="22625"/>
                  </a:lnTo>
                  <a:lnTo>
                    <a:pt x="1010" y="11448"/>
                  </a:lnTo>
                  <a:lnTo>
                    <a:pt x="1414" y="5758"/>
                  </a:lnTo>
                  <a:lnTo>
                    <a:pt x="1583" y="2930"/>
                  </a:lnTo>
                  <a:lnTo>
                    <a:pt x="1650" y="1482"/>
                  </a:lnTo>
                  <a:lnTo>
                    <a:pt x="1684" y="68"/>
                  </a:lnTo>
                  <a:lnTo>
                    <a:pt x="165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hape 508"/>
            <p:cNvSpPr/>
            <p:nvPr/>
          </p:nvSpPr>
          <p:spPr>
            <a:xfrm>
              <a:off x="8758440" y="2981160"/>
              <a:ext cx="26640" cy="33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05" h="506">
                  <a:moveTo>
                    <a:pt x="135" y="0"/>
                  </a:moveTo>
                  <a:lnTo>
                    <a:pt x="102" y="34"/>
                  </a:lnTo>
                  <a:lnTo>
                    <a:pt x="68" y="68"/>
                  </a:lnTo>
                  <a:lnTo>
                    <a:pt x="1" y="135"/>
                  </a:lnTo>
                  <a:lnTo>
                    <a:pt x="1" y="202"/>
                  </a:lnTo>
                  <a:lnTo>
                    <a:pt x="1" y="270"/>
                  </a:lnTo>
                  <a:lnTo>
                    <a:pt x="34" y="337"/>
                  </a:lnTo>
                  <a:lnTo>
                    <a:pt x="34" y="371"/>
                  </a:lnTo>
                  <a:lnTo>
                    <a:pt x="68" y="438"/>
                  </a:lnTo>
                  <a:lnTo>
                    <a:pt x="135" y="472"/>
                  </a:lnTo>
                  <a:lnTo>
                    <a:pt x="169" y="505"/>
                  </a:lnTo>
                  <a:lnTo>
                    <a:pt x="236" y="505"/>
                  </a:lnTo>
                  <a:lnTo>
                    <a:pt x="304" y="472"/>
                  </a:lnTo>
                  <a:lnTo>
                    <a:pt x="371" y="438"/>
                  </a:lnTo>
                  <a:lnTo>
                    <a:pt x="405" y="404"/>
                  </a:lnTo>
                  <a:lnTo>
                    <a:pt x="405" y="303"/>
                  </a:lnTo>
                  <a:lnTo>
                    <a:pt x="405" y="270"/>
                  </a:lnTo>
                  <a:lnTo>
                    <a:pt x="405" y="236"/>
                  </a:lnTo>
                  <a:lnTo>
                    <a:pt x="405" y="169"/>
                  </a:lnTo>
                  <a:lnTo>
                    <a:pt x="371" y="68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3520" bIns="-83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hape 509"/>
            <p:cNvSpPr/>
            <p:nvPr/>
          </p:nvSpPr>
          <p:spPr>
            <a:xfrm>
              <a:off x="1906560" y="6355080"/>
              <a:ext cx="155520" cy="18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358" h="2829">
                  <a:moveTo>
                    <a:pt x="1954" y="169"/>
                  </a:moveTo>
                  <a:lnTo>
                    <a:pt x="1954" y="674"/>
                  </a:lnTo>
                  <a:lnTo>
                    <a:pt x="2021" y="1280"/>
                  </a:lnTo>
                  <a:lnTo>
                    <a:pt x="2088" y="1852"/>
                  </a:lnTo>
                  <a:lnTo>
                    <a:pt x="2189" y="2324"/>
                  </a:lnTo>
                  <a:lnTo>
                    <a:pt x="2223" y="2357"/>
                  </a:lnTo>
                  <a:lnTo>
                    <a:pt x="2189" y="2357"/>
                  </a:lnTo>
                  <a:lnTo>
                    <a:pt x="1785" y="2391"/>
                  </a:lnTo>
                  <a:lnTo>
                    <a:pt x="1381" y="2458"/>
                  </a:lnTo>
                  <a:lnTo>
                    <a:pt x="977" y="2492"/>
                  </a:lnTo>
                  <a:lnTo>
                    <a:pt x="540" y="2559"/>
                  </a:lnTo>
                  <a:lnTo>
                    <a:pt x="338" y="1482"/>
                  </a:lnTo>
                  <a:lnTo>
                    <a:pt x="136" y="405"/>
                  </a:lnTo>
                  <a:lnTo>
                    <a:pt x="607" y="371"/>
                  </a:lnTo>
                  <a:lnTo>
                    <a:pt x="1045" y="337"/>
                  </a:lnTo>
                  <a:lnTo>
                    <a:pt x="1954" y="169"/>
                  </a:lnTo>
                  <a:close/>
                  <a:moveTo>
                    <a:pt x="1954" y="1"/>
                  </a:moveTo>
                  <a:lnTo>
                    <a:pt x="1011" y="135"/>
                  </a:lnTo>
                  <a:lnTo>
                    <a:pt x="573" y="203"/>
                  </a:lnTo>
                  <a:lnTo>
                    <a:pt x="102" y="270"/>
                  </a:lnTo>
                  <a:lnTo>
                    <a:pt x="68" y="304"/>
                  </a:lnTo>
                  <a:lnTo>
                    <a:pt x="35" y="337"/>
                  </a:lnTo>
                  <a:lnTo>
                    <a:pt x="35" y="371"/>
                  </a:lnTo>
                  <a:lnTo>
                    <a:pt x="1" y="405"/>
                  </a:lnTo>
                  <a:lnTo>
                    <a:pt x="35" y="977"/>
                  </a:lnTo>
                  <a:lnTo>
                    <a:pt x="136" y="1617"/>
                  </a:lnTo>
                  <a:lnTo>
                    <a:pt x="270" y="2223"/>
                  </a:lnTo>
                  <a:lnTo>
                    <a:pt x="405" y="2795"/>
                  </a:lnTo>
                  <a:lnTo>
                    <a:pt x="472" y="2829"/>
                  </a:lnTo>
                  <a:lnTo>
                    <a:pt x="540" y="2829"/>
                  </a:lnTo>
                  <a:lnTo>
                    <a:pt x="573" y="2795"/>
                  </a:lnTo>
                  <a:lnTo>
                    <a:pt x="607" y="2728"/>
                  </a:lnTo>
                  <a:lnTo>
                    <a:pt x="573" y="2660"/>
                  </a:lnTo>
                  <a:lnTo>
                    <a:pt x="977" y="2694"/>
                  </a:lnTo>
                  <a:lnTo>
                    <a:pt x="1415" y="2660"/>
                  </a:lnTo>
                  <a:lnTo>
                    <a:pt x="1853" y="2593"/>
                  </a:lnTo>
                  <a:lnTo>
                    <a:pt x="2223" y="2492"/>
                  </a:lnTo>
                  <a:lnTo>
                    <a:pt x="2257" y="2458"/>
                  </a:lnTo>
                  <a:lnTo>
                    <a:pt x="2257" y="2391"/>
                  </a:lnTo>
                  <a:lnTo>
                    <a:pt x="2324" y="2391"/>
                  </a:lnTo>
                  <a:lnTo>
                    <a:pt x="2358" y="2357"/>
                  </a:lnTo>
                  <a:lnTo>
                    <a:pt x="2358" y="2324"/>
                  </a:lnTo>
                  <a:lnTo>
                    <a:pt x="2324" y="1785"/>
                  </a:lnTo>
                  <a:lnTo>
                    <a:pt x="2223" y="1213"/>
                  </a:lnTo>
                  <a:lnTo>
                    <a:pt x="2122" y="640"/>
                  </a:lnTo>
                  <a:lnTo>
                    <a:pt x="2021" y="135"/>
                  </a:lnTo>
                  <a:lnTo>
                    <a:pt x="2055" y="102"/>
                  </a:lnTo>
                  <a:lnTo>
                    <a:pt x="2055" y="34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0560" bIns="70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hape 510"/>
            <p:cNvSpPr/>
            <p:nvPr/>
          </p:nvSpPr>
          <p:spPr>
            <a:xfrm>
              <a:off x="8682120" y="3930840"/>
              <a:ext cx="102960" cy="117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550" h="1785">
                  <a:moveTo>
                    <a:pt x="439" y="405"/>
                  </a:moveTo>
                  <a:lnTo>
                    <a:pt x="405" y="506"/>
                  </a:lnTo>
                  <a:lnTo>
                    <a:pt x="405" y="573"/>
                  </a:lnTo>
                  <a:lnTo>
                    <a:pt x="405" y="607"/>
                  </a:lnTo>
                  <a:lnTo>
                    <a:pt x="472" y="640"/>
                  </a:lnTo>
                  <a:lnTo>
                    <a:pt x="540" y="607"/>
                  </a:lnTo>
                  <a:lnTo>
                    <a:pt x="674" y="539"/>
                  </a:lnTo>
                  <a:lnTo>
                    <a:pt x="809" y="506"/>
                  </a:lnTo>
                  <a:lnTo>
                    <a:pt x="977" y="539"/>
                  </a:lnTo>
                  <a:lnTo>
                    <a:pt x="1078" y="607"/>
                  </a:lnTo>
                  <a:lnTo>
                    <a:pt x="1213" y="674"/>
                  </a:lnTo>
                  <a:lnTo>
                    <a:pt x="1280" y="809"/>
                  </a:lnTo>
                  <a:lnTo>
                    <a:pt x="1314" y="943"/>
                  </a:lnTo>
                  <a:lnTo>
                    <a:pt x="1314" y="1112"/>
                  </a:lnTo>
                  <a:lnTo>
                    <a:pt x="1280" y="1246"/>
                  </a:lnTo>
                  <a:lnTo>
                    <a:pt x="1213" y="1347"/>
                  </a:lnTo>
                  <a:lnTo>
                    <a:pt x="1078" y="1448"/>
                  </a:lnTo>
                  <a:lnTo>
                    <a:pt x="977" y="1482"/>
                  </a:lnTo>
                  <a:lnTo>
                    <a:pt x="843" y="1516"/>
                  </a:lnTo>
                  <a:lnTo>
                    <a:pt x="708" y="1482"/>
                  </a:lnTo>
                  <a:lnTo>
                    <a:pt x="573" y="1448"/>
                  </a:lnTo>
                  <a:lnTo>
                    <a:pt x="472" y="1381"/>
                  </a:lnTo>
                  <a:lnTo>
                    <a:pt x="371" y="1314"/>
                  </a:lnTo>
                  <a:lnTo>
                    <a:pt x="304" y="1179"/>
                  </a:lnTo>
                  <a:lnTo>
                    <a:pt x="270" y="1078"/>
                  </a:lnTo>
                  <a:lnTo>
                    <a:pt x="237" y="977"/>
                  </a:lnTo>
                  <a:lnTo>
                    <a:pt x="270" y="708"/>
                  </a:lnTo>
                  <a:lnTo>
                    <a:pt x="371" y="506"/>
                  </a:lnTo>
                  <a:lnTo>
                    <a:pt x="439" y="405"/>
                  </a:lnTo>
                  <a:close/>
                  <a:moveTo>
                    <a:pt x="674" y="1"/>
                  </a:moveTo>
                  <a:lnTo>
                    <a:pt x="607" y="34"/>
                  </a:lnTo>
                  <a:lnTo>
                    <a:pt x="439" y="102"/>
                  </a:lnTo>
                  <a:lnTo>
                    <a:pt x="270" y="236"/>
                  </a:lnTo>
                  <a:lnTo>
                    <a:pt x="169" y="371"/>
                  </a:lnTo>
                  <a:lnTo>
                    <a:pt x="68" y="573"/>
                  </a:lnTo>
                  <a:lnTo>
                    <a:pt x="1" y="775"/>
                  </a:lnTo>
                  <a:lnTo>
                    <a:pt x="1" y="977"/>
                  </a:lnTo>
                  <a:lnTo>
                    <a:pt x="68" y="1179"/>
                  </a:lnTo>
                  <a:lnTo>
                    <a:pt x="136" y="1347"/>
                  </a:lnTo>
                  <a:lnTo>
                    <a:pt x="270" y="1516"/>
                  </a:lnTo>
                  <a:lnTo>
                    <a:pt x="439" y="1650"/>
                  </a:lnTo>
                  <a:lnTo>
                    <a:pt x="607" y="1751"/>
                  </a:lnTo>
                  <a:lnTo>
                    <a:pt x="809" y="1785"/>
                  </a:lnTo>
                  <a:lnTo>
                    <a:pt x="1011" y="1751"/>
                  </a:lnTo>
                  <a:lnTo>
                    <a:pt x="1179" y="1684"/>
                  </a:lnTo>
                  <a:lnTo>
                    <a:pt x="1314" y="1549"/>
                  </a:lnTo>
                  <a:lnTo>
                    <a:pt x="1415" y="1415"/>
                  </a:lnTo>
                  <a:lnTo>
                    <a:pt x="1516" y="1246"/>
                  </a:lnTo>
                  <a:lnTo>
                    <a:pt x="1550" y="1078"/>
                  </a:lnTo>
                  <a:lnTo>
                    <a:pt x="1550" y="876"/>
                  </a:lnTo>
                  <a:lnTo>
                    <a:pt x="1482" y="708"/>
                  </a:lnTo>
                  <a:lnTo>
                    <a:pt x="1381" y="573"/>
                  </a:lnTo>
                  <a:lnTo>
                    <a:pt x="1213" y="438"/>
                  </a:lnTo>
                  <a:lnTo>
                    <a:pt x="1045" y="304"/>
                  </a:lnTo>
                  <a:lnTo>
                    <a:pt x="843" y="270"/>
                  </a:lnTo>
                  <a:lnTo>
                    <a:pt x="674" y="270"/>
                  </a:lnTo>
                  <a:lnTo>
                    <a:pt x="607" y="292"/>
                  </a:lnTo>
                  <a:lnTo>
                    <a:pt x="641" y="270"/>
                  </a:lnTo>
                  <a:lnTo>
                    <a:pt x="742" y="203"/>
                  </a:lnTo>
                  <a:lnTo>
                    <a:pt x="809" y="203"/>
                  </a:lnTo>
                  <a:lnTo>
                    <a:pt x="910" y="236"/>
                  </a:lnTo>
                  <a:lnTo>
                    <a:pt x="1045" y="270"/>
                  </a:lnTo>
                  <a:lnTo>
                    <a:pt x="1045" y="236"/>
                  </a:lnTo>
                  <a:lnTo>
                    <a:pt x="1078" y="203"/>
                  </a:lnTo>
                  <a:lnTo>
                    <a:pt x="1045" y="135"/>
                  </a:lnTo>
                  <a:lnTo>
                    <a:pt x="977" y="68"/>
                  </a:lnTo>
                  <a:lnTo>
                    <a:pt x="876" y="34"/>
                  </a:lnTo>
                  <a:lnTo>
                    <a:pt x="77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20" bIns="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hape 511"/>
            <p:cNvSpPr/>
            <p:nvPr/>
          </p:nvSpPr>
          <p:spPr>
            <a:xfrm>
              <a:off x="1977840" y="6029640"/>
              <a:ext cx="158400" cy="1504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391" h="2257">
                  <a:moveTo>
                    <a:pt x="1751" y="1"/>
                  </a:moveTo>
                  <a:lnTo>
                    <a:pt x="1515" y="34"/>
                  </a:lnTo>
                  <a:lnTo>
                    <a:pt x="1078" y="135"/>
                  </a:lnTo>
                  <a:lnTo>
                    <a:pt x="573" y="236"/>
                  </a:lnTo>
                  <a:lnTo>
                    <a:pt x="101" y="371"/>
                  </a:lnTo>
                  <a:lnTo>
                    <a:pt x="68" y="304"/>
                  </a:lnTo>
                  <a:lnTo>
                    <a:pt x="68" y="270"/>
                  </a:lnTo>
                  <a:lnTo>
                    <a:pt x="34" y="270"/>
                  </a:lnTo>
                  <a:lnTo>
                    <a:pt x="0" y="304"/>
                  </a:lnTo>
                  <a:lnTo>
                    <a:pt x="0" y="573"/>
                  </a:lnTo>
                  <a:lnTo>
                    <a:pt x="34" y="843"/>
                  </a:lnTo>
                  <a:lnTo>
                    <a:pt x="135" y="1348"/>
                  </a:lnTo>
                  <a:lnTo>
                    <a:pt x="169" y="1819"/>
                  </a:lnTo>
                  <a:lnTo>
                    <a:pt x="202" y="2021"/>
                  </a:lnTo>
                  <a:lnTo>
                    <a:pt x="270" y="2257"/>
                  </a:lnTo>
                  <a:lnTo>
                    <a:pt x="337" y="2257"/>
                  </a:lnTo>
                  <a:lnTo>
                    <a:pt x="371" y="2223"/>
                  </a:lnTo>
                  <a:lnTo>
                    <a:pt x="438" y="2257"/>
                  </a:lnTo>
                  <a:lnTo>
                    <a:pt x="1313" y="2156"/>
                  </a:lnTo>
                  <a:lnTo>
                    <a:pt x="1751" y="2088"/>
                  </a:lnTo>
                  <a:lnTo>
                    <a:pt x="2189" y="1954"/>
                  </a:lnTo>
                  <a:lnTo>
                    <a:pt x="2222" y="1987"/>
                  </a:lnTo>
                  <a:lnTo>
                    <a:pt x="2256" y="1987"/>
                  </a:lnTo>
                  <a:lnTo>
                    <a:pt x="2323" y="1920"/>
                  </a:lnTo>
                  <a:lnTo>
                    <a:pt x="2357" y="1853"/>
                  </a:lnTo>
                  <a:lnTo>
                    <a:pt x="2391" y="1752"/>
                  </a:lnTo>
                  <a:lnTo>
                    <a:pt x="2391" y="1651"/>
                  </a:lnTo>
                  <a:lnTo>
                    <a:pt x="2357" y="1449"/>
                  </a:lnTo>
                  <a:lnTo>
                    <a:pt x="2290" y="1247"/>
                  </a:lnTo>
                  <a:lnTo>
                    <a:pt x="2222" y="641"/>
                  </a:lnTo>
                  <a:lnTo>
                    <a:pt x="2121" y="304"/>
                  </a:lnTo>
                  <a:lnTo>
                    <a:pt x="2054" y="169"/>
                  </a:lnTo>
                  <a:lnTo>
                    <a:pt x="1987" y="68"/>
                  </a:lnTo>
                  <a:lnTo>
                    <a:pt x="1953" y="68"/>
                  </a:lnTo>
                  <a:lnTo>
                    <a:pt x="1919" y="304"/>
                  </a:lnTo>
                  <a:lnTo>
                    <a:pt x="1953" y="506"/>
                  </a:lnTo>
                  <a:lnTo>
                    <a:pt x="2054" y="977"/>
                  </a:lnTo>
                  <a:lnTo>
                    <a:pt x="2121" y="1415"/>
                  </a:lnTo>
                  <a:lnTo>
                    <a:pt x="2189" y="1853"/>
                  </a:lnTo>
                  <a:lnTo>
                    <a:pt x="1751" y="1853"/>
                  </a:lnTo>
                  <a:lnTo>
                    <a:pt x="1280" y="1886"/>
                  </a:lnTo>
                  <a:lnTo>
                    <a:pt x="404" y="2055"/>
                  </a:lnTo>
                  <a:lnTo>
                    <a:pt x="371" y="2055"/>
                  </a:lnTo>
                  <a:lnTo>
                    <a:pt x="371" y="1853"/>
                  </a:lnTo>
                  <a:lnTo>
                    <a:pt x="337" y="1617"/>
                  </a:lnTo>
                  <a:lnTo>
                    <a:pt x="270" y="1179"/>
                  </a:lnTo>
                  <a:lnTo>
                    <a:pt x="236" y="876"/>
                  </a:lnTo>
                  <a:lnTo>
                    <a:pt x="169" y="540"/>
                  </a:lnTo>
                  <a:lnTo>
                    <a:pt x="707" y="405"/>
                  </a:lnTo>
                  <a:lnTo>
                    <a:pt x="1246" y="304"/>
                  </a:lnTo>
                  <a:lnTo>
                    <a:pt x="1616" y="236"/>
                  </a:lnTo>
                  <a:lnTo>
                    <a:pt x="1785" y="169"/>
                  </a:lnTo>
                  <a:lnTo>
                    <a:pt x="1953" y="68"/>
                  </a:lnTo>
                  <a:lnTo>
                    <a:pt x="1852" y="34"/>
                  </a:lnTo>
                  <a:lnTo>
                    <a:pt x="175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3840" bIns="33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512"/>
            <p:cNvSpPr/>
            <p:nvPr/>
          </p:nvSpPr>
          <p:spPr>
            <a:xfrm>
              <a:off x="6456600" y="4802400"/>
              <a:ext cx="333360" cy="18939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893960"/>
                <a:gd name="textAreaBottom" fmla="*/ 1894320 h 1893960"/>
              </a:gdLst>
              <a:ahLst/>
              <a:rect l="textAreaLeft" t="textAreaTop" r="textAreaRight" b="textAreaBottom"/>
              <a:pathLst>
                <a:path w="5017" h="28517">
                  <a:moveTo>
                    <a:pt x="3838" y="0"/>
                  </a:moveTo>
                  <a:lnTo>
                    <a:pt x="3535" y="34"/>
                  </a:lnTo>
                  <a:lnTo>
                    <a:pt x="3266" y="101"/>
                  </a:lnTo>
                  <a:lnTo>
                    <a:pt x="2963" y="236"/>
                  </a:lnTo>
                  <a:lnTo>
                    <a:pt x="2694" y="404"/>
                  </a:lnTo>
                  <a:lnTo>
                    <a:pt x="2458" y="606"/>
                  </a:lnTo>
                  <a:lnTo>
                    <a:pt x="2290" y="875"/>
                  </a:lnTo>
                  <a:lnTo>
                    <a:pt x="2155" y="1145"/>
                  </a:lnTo>
                  <a:lnTo>
                    <a:pt x="2020" y="1414"/>
                  </a:lnTo>
                  <a:lnTo>
                    <a:pt x="1919" y="1717"/>
                  </a:lnTo>
                  <a:lnTo>
                    <a:pt x="1852" y="2020"/>
                  </a:lnTo>
                  <a:lnTo>
                    <a:pt x="1751" y="2626"/>
                  </a:lnTo>
                  <a:lnTo>
                    <a:pt x="1515" y="4714"/>
                  </a:lnTo>
                  <a:lnTo>
                    <a:pt x="1313" y="6801"/>
                  </a:lnTo>
                  <a:lnTo>
                    <a:pt x="977" y="11010"/>
                  </a:lnTo>
                  <a:lnTo>
                    <a:pt x="640" y="15353"/>
                  </a:lnTo>
                  <a:lnTo>
                    <a:pt x="337" y="19696"/>
                  </a:lnTo>
                  <a:lnTo>
                    <a:pt x="135" y="24039"/>
                  </a:lnTo>
                  <a:lnTo>
                    <a:pt x="0" y="28382"/>
                  </a:lnTo>
                  <a:lnTo>
                    <a:pt x="0" y="28450"/>
                  </a:lnTo>
                  <a:lnTo>
                    <a:pt x="34" y="28483"/>
                  </a:lnTo>
                  <a:lnTo>
                    <a:pt x="135" y="28517"/>
                  </a:lnTo>
                  <a:lnTo>
                    <a:pt x="236" y="28483"/>
                  </a:lnTo>
                  <a:lnTo>
                    <a:pt x="270" y="28450"/>
                  </a:lnTo>
                  <a:lnTo>
                    <a:pt x="270" y="28382"/>
                  </a:lnTo>
                  <a:lnTo>
                    <a:pt x="404" y="24645"/>
                  </a:lnTo>
                  <a:lnTo>
                    <a:pt x="606" y="20908"/>
                  </a:lnTo>
                  <a:lnTo>
                    <a:pt x="808" y="17171"/>
                  </a:lnTo>
                  <a:lnTo>
                    <a:pt x="1044" y="13400"/>
                  </a:lnTo>
                  <a:lnTo>
                    <a:pt x="1347" y="9663"/>
                  </a:lnTo>
                  <a:lnTo>
                    <a:pt x="1684" y="5926"/>
                  </a:lnTo>
                  <a:lnTo>
                    <a:pt x="1852" y="4108"/>
                  </a:lnTo>
                  <a:lnTo>
                    <a:pt x="1953" y="3165"/>
                  </a:lnTo>
                  <a:lnTo>
                    <a:pt x="2088" y="2256"/>
                  </a:lnTo>
                  <a:lnTo>
                    <a:pt x="2155" y="1852"/>
                  </a:lnTo>
                  <a:lnTo>
                    <a:pt x="2290" y="1448"/>
                  </a:lnTo>
                  <a:lnTo>
                    <a:pt x="2492" y="1077"/>
                  </a:lnTo>
                  <a:lnTo>
                    <a:pt x="2727" y="741"/>
                  </a:lnTo>
                  <a:lnTo>
                    <a:pt x="2963" y="539"/>
                  </a:lnTo>
                  <a:lnTo>
                    <a:pt x="3199" y="404"/>
                  </a:lnTo>
                  <a:lnTo>
                    <a:pt x="3468" y="303"/>
                  </a:lnTo>
                  <a:lnTo>
                    <a:pt x="3771" y="269"/>
                  </a:lnTo>
                  <a:lnTo>
                    <a:pt x="4074" y="269"/>
                  </a:lnTo>
                  <a:lnTo>
                    <a:pt x="4377" y="337"/>
                  </a:lnTo>
                  <a:lnTo>
                    <a:pt x="4646" y="438"/>
                  </a:lnTo>
                  <a:lnTo>
                    <a:pt x="4916" y="572"/>
                  </a:lnTo>
                  <a:lnTo>
                    <a:pt x="4983" y="606"/>
                  </a:lnTo>
                  <a:lnTo>
                    <a:pt x="5017" y="572"/>
                  </a:lnTo>
                  <a:lnTo>
                    <a:pt x="5017" y="505"/>
                  </a:lnTo>
                  <a:lnTo>
                    <a:pt x="4983" y="438"/>
                  </a:lnTo>
                  <a:lnTo>
                    <a:pt x="4714" y="236"/>
                  </a:lnTo>
                  <a:lnTo>
                    <a:pt x="4444" y="135"/>
                  </a:lnTo>
                  <a:lnTo>
                    <a:pt x="4141" y="34"/>
                  </a:lnTo>
                  <a:lnTo>
                    <a:pt x="383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hape 513"/>
            <p:cNvSpPr/>
            <p:nvPr/>
          </p:nvSpPr>
          <p:spPr>
            <a:xfrm>
              <a:off x="1925640" y="587556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91" h="2526">
                  <a:moveTo>
                    <a:pt x="1954" y="169"/>
                  </a:moveTo>
                  <a:lnTo>
                    <a:pt x="1954" y="640"/>
                  </a:lnTo>
                  <a:lnTo>
                    <a:pt x="1987" y="1112"/>
                  </a:lnTo>
                  <a:lnTo>
                    <a:pt x="2055" y="1583"/>
                  </a:lnTo>
                  <a:lnTo>
                    <a:pt x="2156" y="2021"/>
                  </a:lnTo>
                  <a:lnTo>
                    <a:pt x="1752" y="2054"/>
                  </a:lnTo>
                  <a:lnTo>
                    <a:pt x="1348" y="2122"/>
                  </a:lnTo>
                  <a:lnTo>
                    <a:pt x="944" y="2189"/>
                  </a:lnTo>
                  <a:lnTo>
                    <a:pt x="506" y="2223"/>
                  </a:lnTo>
                  <a:lnTo>
                    <a:pt x="304" y="1314"/>
                  </a:lnTo>
                  <a:lnTo>
                    <a:pt x="136" y="405"/>
                  </a:lnTo>
                  <a:lnTo>
                    <a:pt x="607" y="405"/>
                  </a:lnTo>
                  <a:lnTo>
                    <a:pt x="1045" y="337"/>
                  </a:lnTo>
                  <a:lnTo>
                    <a:pt x="1954" y="169"/>
                  </a:lnTo>
                  <a:close/>
                  <a:moveTo>
                    <a:pt x="1954" y="1"/>
                  </a:moveTo>
                  <a:lnTo>
                    <a:pt x="1045" y="135"/>
                  </a:lnTo>
                  <a:lnTo>
                    <a:pt x="573" y="203"/>
                  </a:lnTo>
                  <a:lnTo>
                    <a:pt x="102" y="270"/>
                  </a:lnTo>
                  <a:lnTo>
                    <a:pt x="68" y="304"/>
                  </a:lnTo>
                  <a:lnTo>
                    <a:pt x="68" y="337"/>
                  </a:lnTo>
                  <a:lnTo>
                    <a:pt x="35" y="371"/>
                  </a:lnTo>
                  <a:lnTo>
                    <a:pt x="1" y="405"/>
                  </a:lnTo>
                  <a:lnTo>
                    <a:pt x="35" y="943"/>
                  </a:lnTo>
                  <a:lnTo>
                    <a:pt x="102" y="1448"/>
                  </a:lnTo>
                  <a:lnTo>
                    <a:pt x="237" y="1953"/>
                  </a:lnTo>
                  <a:lnTo>
                    <a:pt x="371" y="2458"/>
                  </a:lnTo>
                  <a:lnTo>
                    <a:pt x="405" y="2526"/>
                  </a:lnTo>
                  <a:lnTo>
                    <a:pt x="472" y="2526"/>
                  </a:lnTo>
                  <a:lnTo>
                    <a:pt x="540" y="2492"/>
                  </a:lnTo>
                  <a:lnTo>
                    <a:pt x="540" y="2425"/>
                  </a:lnTo>
                  <a:lnTo>
                    <a:pt x="540" y="2357"/>
                  </a:lnTo>
                  <a:lnTo>
                    <a:pt x="1381" y="2357"/>
                  </a:lnTo>
                  <a:lnTo>
                    <a:pt x="1785" y="2290"/>
                  </a:lnTo>
                  <a:lnTo>
                    <a:pt x="2156" y="2155"/>
                  </a:lnTo>
                  <a:lnTo>
                    <a:pt x="2223" y="2122"/>
                  </a:lnTo>
                  <a:lnTo>
                    <a:pt x="2189" y="2054"/>
                  </a:lnTo>
                  <a:lnTo>
                    <a:pt x="2257" y="2054"/>
                  </a:lnTo>
                  <a:lnTo>
                    <a:pt x="2290" y="2021"/>
                  </a:lnTo>
                  <a:lnTo>
                    <a:pt x="2290" y="1987"/>
                  </a:lnTo>
                  <a:lnTo>
                    <a:pt x="2257" y="1516"/>
                  </a:lnTo>
                  <a:lnTo>
                    <a:pt x="2223" y="1078"/>
                  </a:lnTo>
                  <a:lnTo>
                    <a:pt x="2122" y="607"/>
                  </a:lnTo>
                  <a:lnTo>
                    <a:pt x="2021" y="135"/>
                  </a:lnTo>
                  <a:lnTo>
                    <a:pt x="2055" y="102"/>
                  </a:lnTo>
                  <a:lnTo>
                    <a:pt x="2055" y="34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hape 514"/>
            <p:cNvSpPr/>
            <p:nvPr/>
          </p:nvSpPr>
          <p:spPr>
            <a:xfrm>
              <a:off x="8805960" y="2998800"/>
              <a:ext cx="106200" cy="26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617" h="405">
                  <a:moveTo>
                    <a:pt x="169" y="1"/>
                  </a:moveTo>
                  <a:lnTo>
                    <a:pt x="102" y="34"/>
                  </a:lnTo>
                  <a:lnTo>
                    <a:pt x="1" y="68"/>
                  </a:lnTo>
                  <a:lnTo>
                    <a:pt x="1" y="102"/>
                  </a:lnTo>
                  <a:lnTo>
                    <a:pt x="68" y="169"/>
                  </a:lnTo>
                  <a:lnTo>
                    <a:pt x="169" y="203"/>
                  </a:lnTo>
                  <a:lnTo>
                    <a:pt x="337" y="270"/>
                  </a:lnTo>
                  <a:lnTo>
                    <a:pt x="741" y="304"/>
                  </a:lnTo>
                  <a:lnTo>
                    <a:pt x="1145" y="371"/>
                  </a:lnTo>
                  <a:lnTo>
                    <a:pt x="1381" y="405"/>
                  </a:lnTo>
                  <a:lnTo>
                    <a:pt x="1583" y="371"/>
                  </a:lnTo>
                  <a:lnTo>
                    <a:pt x="1617" y="337"/>
                  </a:lnTo>
                  <a:lnTo>
                    <a:pt x="1617" y="304"/>
                  </a:lnTo>
                  <a:lnTo>
                    <a:pt x="1617" y="236"/>
                  </a:lnTo>
                  <a:lnTo>
                    <a:pt x="1583" y="203"/>
                  </a:lnTo>
                  <a:lnTo>
                    <a:pt x="1415" y="135"/>
                  </a:lnTo>
                  <a:lnTo>
                    <a:pt x="1179" y="102"/>
                  </a:lnTo>
                  <a:lnTo>
                    <a:pt x="775" y="68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hape 515"/>
            <p:cNvSpPr/>
            <p:nvPr/>
          </p:nvSpPr>
          <p:spPr>
            <a:xfrm>
              <a:off x="8442360" y="2878200"/>
              <a:ext cx="688680" cy="1217520"/>
            </a:xfrm>
            <a:custGeom>
              <a:avLst/>
              <a:gdLst>
                <a:gd name="textAreaLeft" fmla="*/ 0 w 688680"/>
                <a:gd name="textAreaRight" fmla="*/ 688680 w 68868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10371" h="18316">
                  <a:moveTo>
                    <a:pt x="3401" y="169"/>
                  </a:moveTo>
                  <a:lnTo>
                    <a:pt x="3670" y="270"/>
                  </a:lnTo>
                  <a:lnTo>
                    <a:pt x="3973" y="337"/>
                  </a:lnTo>
                  <a:lnTo>
                    <a:pt x="4613" y="405"/>
                  </a:lnTo>
                  <a:lnTo>
                    <a:pt x="6397" y="607"/>
                  </a:lnTo>
                  <a:lnTo>
                    <a:pt x="8418" y="876"/>
                  </a:lnTo>
                  <a:lnTo>
                    <a:pt x="8855" y="943"/>
                  </a:lnTo>
                  <a:lnTo>
                    <a:pt x="9091" y="977"/>
                  </a:lnTo>
                  <a:lnTo>
                    <a:pt x="9327" y="1044"/>
                  </a:lnTo>
                  <a:lnTo>
                    <a:pt x="9562" y="1112"/>
                  </a:lnTo>
                  <a:lnTo>
                    <a:pt x="9764" y="1213"/>
                  </a:lnTo>
                  <a:lnTo>
                    <a:pt x="9933" y="1381"/>
                  </a:lnTo>
                  <a:lnTo>
                    <a:pt x="10034" y="1583"/>
                  </a:lnTo>
                  <a:lnTo>
                    <a:pt x="10067" y="1617"/>
                  </a:lnTo>
                  <a:lnTo>
                    <a:pt x="10135" y="1650"/>
                  </a:lnTo>
                  <a:lnTo>
                    <a:pt x="10168" y="2492"/>
                  </a:lnTo>
                  <a:lnTo>
                    <a:pt x="10168" y="2896"/>
                  </a:lnTo>
                  <a:lnTo>
                    <a:pt x="10168" y="3300"/>
                  </a:lnTo>
                  <a:lnTo>
                    <a:pt x="10101" y="3872"/>
                  </a:lnTo>
                  <a:lnTo>
                    <a:pt x="9966" y="4411"/>
                  </a:lnTo>
                  <a:lnTo>
                    <a:pt x="9731" y="5522"/>
                  </a:lnTo>
                  <a:lnTo>
                    <a:pt x="9562" y="6431"/>
                  </a:lnTo>
                  <a:lnTo>
                    <a:pt x="9428" y="7374"/>
                  </a:lnTo>
                  <a:lnTo>
                    <a:pt x="9226" y="9259"/>
                  </a:lnTo>
                  <a:lnTo>
                    <a:pt x="9024" y="11414"/>
                  </a:lnTo>
                  <a:lnTo>
                    <a:pt x="8754" y="13569"/>
                  </a:lnTo>
                  <a:lnTo>
                    <a:pt x="8620" y="14545"/>
                  </a:lnTo>
                  <a:lnTo>
                    <a:pt x="8451" y="15488"/>
                  </a:lnTo>
                  <a:lnTo>
                    <a:pt x="8283" y="16431"/>
                  </a:lnTo>
                  <a:lnTo>
                    <a:pt x="8148" y="17373"/>
                  </a:lnTo>
                  <a:lnTo>
                    <a:pt x="8014" y="17575"/>
                  </a:lnTo>
                  <a:lnTo>
                    <a:pt x="7845" y="17744"/>
                  </a:lnTo>
                  <a:lnTo>
                    <a:pt x="7677" y="17878"/>
                  </a:lnTo>
                  <a:lnTo>
                    <a:pt x="7475" y="17979"/>
                  </a:lnTo>
                  <a:lnTo>
                    <a:pt x="7273" y="18047"/>
                  </a:lnTo>
                  <a:lnTo>
                    <a:pt x="7037" y="18080"/>
                  </a:lnTo>
                  <a:lnTo>
                    <a:pt x="6498" y="18080"/>
                  </a:lnTo>
                  <a:lnTo>
                    <a:pt x="4377" y="17912"/>
                  </a:lnTo>
                  <a:lnTo>
                    <a:pt x="3367" y="17845"/>
                  </a:lnTo>
                  <a:lnTo>
                    <a:pt x="2862" y="17811"/>
                  </a:lnTo>
                  <a:lnTo>
                    <a:pt x="2391" y="17744"/>
                  </a:lnTo>
                  <a:lnTo>
                    <a:pt x="2021" y="17676"/>
                  </a:lnTo>
                  <a:lnTo>
                    <a:pt x="1650" y="17575"/>
                  </a:lnTo>
                  <a:lnTo>
                    <a:pt x="1718" y="17508"/>
                  </a:lnTo>
                  <a:lnTo>
                    <a:pt x="1684" y="17407"/>
                  </a:lnTo>
                  <a:lnTo>
                    <a:pt x="1650" y="17373"/>
                  </a:lnTo>
                  <a:lnTo>
                    <a:pt x="1549" y="17340"/>
                  </a:lnTo>
                  <a:lnTo>
                    <a:pt x="1381" y="17407"/>
                  </a:lnTo>
                  <a:lnTo>
                    <a:pt x="1213" y="17441"/>
                  </a:lnTo>
                  <a:lnTo>
                    <a:pt x="1078" y="17441"/>
                  </a:lnTo>
                  <a:lnTo>
                    <a:pt x="943" y="17407"/>
                  </a:lnTo>
                  <a:lnTo>
                    <a:pt x="842" y="17373"/>
                  </a:lnTo>
                  <a:lnTo>
                    <a:pt x="708" y="17306"/>
                  </a:lnTo>
                  <a:lnTo>
                    <a:pt x="640" y="17205"/>
                  </a:lnTo>
                  <a:lnTo>
                    <a:pt x="539" y="17104"/>
                  </a:lnTo>
                  <a:lnTo>
                    <a:pt x="438" y="16835"/>
                  </a:lnTo>
                  <a:lnTo>
                    <a:pt x="371" y="16532"/>
                  </a:lnTo>
                  <a:lnTo>
                    <a:pt x="304" y="16195"/>
                  </a:lnTo>
                  <a:lnTo>
                    <a:pt x="304" y="15825"/>
                  </a:lnTo>
                  <a:lnTo>
                    <a:pt x="304" y="15420"/>
                  </a:lnTo>
                  <a:lnTo>
                    <a:pt x="337" y="15016"/>
                  </a:lnTo>
                  <a:lnTo>
                    <a:pt x="438" y="14242"/>
                  </a:lnTo>
                  <a:lnTo>
                    <a:pt x="607" y="13131"/>
                  </a:lnTo>
                  <a:lnTo>
                    <a:pt x="1213" y="8889"/>
                  </a:lnTo>
                  <a:lnTo>
                    <a:pt x="1852" y="4613"/>
                  </a:lnTo>
                  <a:lnTo>
                    <a:pt x="2155" y="2492"/>
                  </a:lnTo>
                  <a:lnTo>
                    <a:pt x="2223" y="1852"/>
                  </a:lnTo>
                  <a:lnTo>
                    <a:pt x="2290" y="1448"/>
                  </a:lnTo>
                  <a:lnTo>
                    <a:pt x="2425" y="1044"/>
                  </a:lnTo>
                  <a:lnTo>
                    <a:pt x="2559" y="708"/>
                  </a:lnTo>
                  <a:lnTo>
                    <a:pt x="2660" y="539"/>
                  </a:lnTo>
                  <a:lnTo>
                    <a:pt x="2761" y="405"/>
                  </a:lnTo>
                  <a:lnTo>
                    <a:pt x="2862" y="304"/>
                  </a:lnTo>
                  <a:lnTo>
                    <a:pt x="2997" y="203"/>
                  </a:lnTo>
                  <a:lnTo>
                    <a:pt x="3165" y="169"/>
                  </a:lnTo>
                  <a:close/>
                  <a:moveTo>
                    <a:pt x="2963" y="1"/>
                  </a:moveTo>
                  <a:lnTo>
                    <a:pt x="2795" y="68"/>
                  </a:lnTo>
                  <a:lnTo>
                    <a:pt x="2627" y="169"/>
                  </a:lnTo>
                  <a:lnTo>
                    <a:pt x="2492" y="337"/>
                  </a:lnTo>
                  <a:lnTo>
                    <a:pt x="2357" y="573"/>
                  </a:lnTo>
                  <a:lnTo>
                    <a:pt x="2256" y="809"/>
                  </a:lnTo>
                  <a:lnTo>
                    <a:pt x="2189" y="1078"/>
                  </a:lnTo>
                  <a:lnTo>
                    <a:pt x="2054" y="1617"/>
                  </a:lnTo>
                  <a:lnTo>
                    <a:pt x="1953" y="2155"/>
                  </a:lnTo>
                  <a:lnTo>
                    <a:pt x="1852" y="2963"/>
                  </a:lnTo>
                  <a:lnTo>
                    <a:pt x="910" y="9360"/>
                  </a:lnTo>
                  <a:lnTo>
                    <a:pt x="472" y="12256"/>
                  </a:lnTo>
                  <a:lnTo>
                    <a:pt x="270" y="13703"/>
                  </a:lnTo>
                  <a:lnTo>
                    <a:pt x="68" y="15185"/>
                  </a:lnTo>
                  <a:lnTo>
                    <a:pt x="34" y="15690"/>
                  </a:lnTo>
                  <a:lnTo>
                    <a:pt x="1" y="15959"/>
                  </a:lnTo>
                  <a:lnTo>
                    <a:pt x="34" y="16229"/>
                  </a:lnTo>
                  <a:lnTo>
                    <a:pt x="68" y="16532"/>
                  </a:lnTo>
                  <a:lnTo>
                    <a:pt x="135" y="16767"/>
                  </a:lnTo>
                  <a:lnTo>
                    <a:pt x="236" y="17037"/>
                  </a:lnTo>
                  <a:lnTo>
                    <a:pt x="371" y="17239"/>
                  </a:lnTo>
                  <a:lnTo>
                    <a:pt x="607" y="17441"/>
                  </a:lnTo>
                  <a:lnTo>
                    <a:pt x="842" y="17575"/>
                  </a:lnTo>
                  <a:lnTo>
                    <a:pt x="1078" y="17676"/>
                  </a:lnTo>
                  <a:lnTo>
                    <a:pt x="1347" y="17676"/>
                  </a:lnTo>
                  <a:lnTo>
                    <a:pt x="2088" y="17878"/>
                  </a:lnTo>
                  <a:lnTo>
                    <a:pt x="2458" y="17979"/>
                  </a:lnTo>
                  <a:lnTo>
                    <a:pt x="2829" y="18047"/>
                  </a:lnTo>
                  <a:lnTo>
                    <a:pt x="4142" y="18148"/>
                  </a:lnTo>
                  <a:lnTo>
                    <a:pt x="5455" y="18249"/>
                  </a:lnTo>
                  <a:lnTo>
                    <a:pt x="6296" y="18316"/>
                  </a:lnTo>
                  <a:lnTo>
                    <a:pt x="7239" y="18316"/>
                  </a:lnTo>
                  <a:lnTo>
                    <a:pt x="7475" y="18249"/>
                  </a:lnTo>
                  <a:lnTo>
                    <a:pt x="7677" y="18181"/>
                  </a:lnTo>
                  <a:lnTo>
                    <a:pt x="7879" y="18114"/>
                  </a:lnTo>
                  <a:lnTo>
                    <a:pt x="8047" y="18013"/>
                  </a:lnTo>
                  <a:lnTo>
                    <a:pt x="8216" y="17845"/>
                  </a:lnTo>
                  <a:lnTo>
                    <a:pt x="8317" y="17676"/>
                  </a:lnTo>
                  <a:lnTo>
                    <a:pt x="8418" y="17474"/>
                  </a:lnTo>
                  <a:lnTo>
                    <a:pt x="8451" y="17205"/>
                  </a:lnTo>
                  <a:lnTo>
                    <a:pt x="8451" y="17138"/>
                  </a:lnTo>
                  <a:lnTo>
                    <a:pt x="8653" y="16195"/>
                  </a:lnTo>
                  <a:lnTo>
                    <a:pt x="8822" y="15252"/>
                  </a:lnTo>
                  <a:lnTo>
                    <a:pt x="8956" y="14309"/>
                  </a:lnTo>
                  <a:lnTo>
                    <a:pt x="9091" y="13333"/>
                  </a:lnTo>
                  <a:lnTo>
                    <a:pt x="9293" y="11414"/>
                  </a:lnTo>
                  <a:lnTo>
                    <a:pt x="9461" y="9495"/>
                  </a:lnTo>
                  <a:lnTo>
                    <a:pt x="9562" y="8451"/>
                  </a:lnTo>
                  <a:lnTo>
                    <a:pt x="9663" y="7407"/>
                  </a:lnTo>
                  <a:lnTo>
                    <a:pt x="9798" y="6364"/>
                  </a:lnTo>
                  <a:lnTo>
                    <a:pt x="10000" y="5320"/>
                  </a:lnTo>
                  <a:lnTo>
                    <a:pt x="10202" y="4411"/>
                  </a:lnTo>
                  <a:lnTo>
                    <a:pt x="10269" y="3940"/>
                  </a:lnTo>
                  <a:lnTo>
                    <a:pt x="10337" y="3468"/>
                  </a:lnTo>
                  <a:lnTo>
                    <a:pt x="10370" y="2997"/>
                  </a:lnTo>
                  <a:lnTo>
                    <a:pt x="10370" y="2526"/>
                  </a:lnTo>
                  <a:lnTo>
                    <a:pt x="10337" y="2054"/>
                  </a:lnTo>
                  <a:lnTo>
                    <a:pt x="10236" y="1583"/>
                  </a:lnTo>
                  <a:lnTo>
                    <a:pt x="10269" y="1549"/>
                  </a:lnTo>
                  <a:lnTo>
                    <a:pt x="10236" y="1516"/>
                  </a:lnTo>
                  <a:lnTo>
                    <a:pt x="10168" y="1347"/>
                  </a:lnTo>
                  <a:lnTo>
                    <a:pt x="10067" y="1213"/>
                  </a:lnTo>
                  <a:lnTo>
                    <a:pt x="9933" y="1112"/>
                  </a:lnTo>
                  <a:lnTo>
                    <a:pt x="9798" y="1011"/>
                  </a:lnTo>
                  <a:lnTo>
                    <a:pt x="9495" y="842"/>
                  </a:lnTo>
                  <a:lnTo>
                    <a:pt x="9125" y="741"/>
                  </a:lnTo>
                  <a:lnTo>
                    <a:pt x="8754" y="674"/>
                  </a:lnTo>
                  <a:lnTo>
                    <a:pt x="8384" y="640"/>
                  </a:lnTo>
                  <a:lnTo>
                    <a:pt x="7710" y="573"/>
                  </a:lnTo>
                  <a:lnTo>
                    <a:pt x="5623" y="304"/>
                  </a:lnTo>
                  <a:lnTo>
                    <a:pt x="4546" y="135"/>
                  </a:lnTo>
                  <a:lnTo>
                    <a:pt x="3973" y="68"/>
                  </a:lnTo>
                  <a:lnTo>
                    <a:pt x="3704" y="68"/>
                  </a:lnTo>
                  <a:lnTo>
                    <a:pt x="3435" y="102"/>
                  </a:lnTo>
                  <a:lnTo>
                    <a:pt x="3435" y="68"/>
                  </a:lnTo>
                  <a:lnTo>
                    <a:pt x="3401" y="68"/>
                  </a:lnTo>
                  <a:lnTo>
                    <a:pt x="316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hape 516"/>
            <p:cNvSpPr/>
            <p:nvPr/>
          </p:nvSpPr>
          <p:spPr>
            <a:xfrm>
              <a:off x="1044360" y="-6480"/>
              <a:ext cx="7118280" cy="2100240"/>
            </a:xfrm>
            <a:custGeom>
              <a:avLst/>
              <a:gdLst>
                <a:gd name="textAreaLeft" fmla="*/ 0 w 7118280"/>
                <a:gd name="textAreaRight" fmla="*/ 7118640 w 711828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107167" h="31616">
                  <a:moveTo>
                    <a:pt x="98850" y="8889"/>
                  </a:moveTo>
                  <a:lnTo>
                    <a:pt x="99456" y="9057"/>
                  </a:lnTo>
                  <a:lnTo>
                    <a:pt x="100062" y="9192"/>
                  </a:lnTo>
                  <a:lnTo>
                    <a:pt x="100702" y="9360"/>
                  </a:lnTo>
                  <a:lnTo>
                    <a:pt x="101308" y="9529"/>
                  </a:lnTo>
                  <a:lnTo>
                    <a:pt x="102048" y="9798"/>
                  </a:lnTo>
                  <a:lnTo>
                    <a:pt x="102789" y="10168"/>
                  </a:lnTo>
                  <a:lnTo>
                    <a:pt x="103496" y="10572"/>
                  </a:lnTo>
                  <a:lnTo>
                    <a:pt x="104136" y="11078"/>
                  </a:lnTo>
                  <a:lnTo>
                    <a:pt x="104675" y="11515"/>
                  </a:lnTo>
                  <a:lnTo>
                    <a:pt x="105146" y="12054"/>
                  </a:lnTo>
                  <a:lnTo>
                    <a:pt x="105550" y="12593"/>
                  </a:lnTo>
                  <a:lnTo>
                    <a:pt x="105920" y="13199"/>
                  </a:lnTo>
                  <a:lnTo>
                    <a:pt x="106223" y="13805"/>
                  </a:lnTo>
                  <a:lnTo>
                    <a:pt x="106493" y="14444"/>
                  </a:lnTo>
                  <a:lnTo>
                    <a:pt x="106695" y="15118"/>
                  </a:lnTo>
                  <a:lnTo>
                    <a:pt x="106829" y="15791"/>
                  </a:lnTo>
                  <a:lnTo>
                    <a:pt x="106728" y="15825"/>
                  </a:lnTo>
                  <a:lnTo>
                    <a:pt x="106594" y="15825"/>
                  </a:lnTo>
                  <a:lnTo>
                    <a:pt x="106493" y="15858"/>
                  </a:lnTo>
                  <a:lnTo>
                    <a:pt x="106459" y="15892"/>
                  </a:lnTo>
                  <a:lnTo>
                    <a:pt x="106425" y="15926"/>
                  </a:lnTo>
                  <a:lnTo>
                    <a:pt x="106425" y="15959"/>
                  </a:lnTo>
                  <a:lnTo>
                    <a:pt x="106459" y="15993"/>
                  </a:lnTo>
                  <a:lnTo>
                    <a:pt x="106560" y="16027"/>
                  </a:lnTo>
                  <a:lnTo>
                    <a:pt x="106661" y="16060"/>
                  </a:lnTo>
                  <a:lnTo>
                    <a:pt x="106863" y="16027"/>
                  </a:lnTo>
                  <a:lnTo>
                    <a:pt x="106930" y="16262"/>
                  </a:lnTo>
                  <a:lnTo>
                    <a:pt x="106930" y="16296"/>
                  </a:lnTo>
                  <a:lnTo>
                    <a:pt x="106998" y="16330"/>
                  </a:lnTo>
                  <a:lnTo>
                    <a:pt x="106964" y="16969"/>
                  </a:lnTo>
                  <a:lnTo>
                    <a:pt x="106526" y="17037"/>
                  </a:lnTo>
                  <a:lnTo>
                    <a:pt x="106493" y="16767"/>
                  </a:lnTo>
                  <a:lnTo>
                    <a:pt x="106459" y="16532"/>
                  </a:lnTo>
                  <a:lnTo>
                    <a:pt x="106493" y="16431"/>
                  </a:lnTo>
                  <a:lnTo>
                    <a:pt x="106425" y="16094"/>
                  </a:lnTo>
                  <a:lnTo>
                    <a:pt x="106324" y="15757"/>
                  </a:lnTo>
                  <a:lnTo>
                    <a:pt x="106190" y="15421"/>
                  </a:lnTo>
                  <a:lnTo>
                    <a:pt x="106055" y="15118"/>
                  </a:lnTo>
                  <a:lnTo>
                    <a:pt x="105887" y="14815"/>
                  </a:lnTo>
                  <a:lnTo>
                    <a:pt x="105685" y="14512"/>
                  </a:lnTo>
                  <a:lnTo>
                    <a:pt x="105281" y="13939"/>
                  </a:lnTo>
                  <a:lnTo>
                    <a:pt x="104809" y="13434"/>
                  </a:lnTo>
                  <a:lnTo>
                    <a:pt x="104271" y="12929"/>
                  </a:lnTo>
                  <a:lnTo>
                    <a:pt x="103732" y="12458"/>
                  </a:lnTo>
                  <a:lnTo>
                    <a:pt x="103193" y="12054"/>
                  </a:lnTo>
                  <a:lnTo>
                    <a:pt x="102587" y="11583"/>
                  </a:lnTo>
                  <a:lnTo>
                    <a:pt x="101947" y="11212"/>
                  </a:lnTo>
                  <a:lnTo>
                    <a:pt x="101274" y="10876"/>
                  </a:lnTo>
                  <a:lnTo>
                    <a:pt x="100601" y="10572"/>
                  </a:lnTo>
                  <a:lnTo>
                    <a:pt x="99995" y="10337"/>
                  </a:lnTo>
                  <a:lnTo>
                    <a:pt x="99355" y="10168"/>
                  </a:lnTo>
                  <a:lnTo>
                    <a:pt x="98715" y="10000"/>
                  </a:lnTo>
                  <a:lnTo>
                    <a:pt x="98379" y="9966"/>
                  </a:lnTo>
                  <a:lnTo>
                    <a:pt x="98042" y="9933"/>
                  </a:lnTo>
                  <a:lnTo>
                    <a:pt x="98850" y="8889"/>
                  </a:lnTo>
                  <a:close/>
                  <a:moveTo>
                    <a:pt x="106324" y="19865"/>
                  </a:moveTo>
                  <a:lnTo>
                    <a:pt x="106392" y="19899"/>
                  </a:lnTo>
                  <a:lnTo>
                    <a:pt x="106324" y="20303"/>
                  </a:lnTo>
                  <a:lnTo>
                    <a:pt x="106257" y="20639"/>
                  </a:lnTo>
                  <a:lnTo>
                    <a:pt x="106190" y="20774"/>
                  </a:lnTo>
                  <a:lnTo>
                    <a:pt x="106156" y="20942"/>
                  </a:lnTo>
                  <a:lnTo>
                    <a:pt x="106055" y="20808"/>
                  </a:lnTo>
                  <a:lnTo>
                    <a:pt x="106021" y="20639"/>
                  </a:lnTo>
                  <a:lnTo>
                    <a:pt x="106021" y="20471"/>
                  </a:lnTo>
                  <a:lnTo>
                    <a:pt x="106089" y="20303"/>
                  </a:lnTo>
                  <a:lnTo>
                    <a:pt x="106190" y="20067"/>
                  </a:lnTo>
                  <a:lnTo>
                    <a:pt x="106324" y="19865"/>
                  </a:lnTo>
                  <a:close/>
                  <a:moveTo>
                    <a:pt x="91712" y="20168"/>
                  </a:moveTo>
                  <a:lnTo>
                    <a:pt x="91881" y="20202"/>
                  </a:lnTo>
                  <a:lnTo>
                    <a:pt x="91813" y="20740"/>
                  </a:lnTo>
                  <a:lnTo>
                    <a:pt x="91780" y="21313"/>
                  </a:lnTo>
                  <a:lnTo>
                    <a:pt x="91746" y="20740"/>
                  </a:lnTo>
                  <a:lnTo>
                    <a:pt x="91712" y="20168"/>
                  </a:lnTo>
                  <a:close/>
                  <a:moveTo>
                    <a:pt x="64004" y="14242"/>
                  </a:moveTo>
                  <a:lnTo>
                    <a:pt x="64004" y="14276"/>
                  </a:lnTo>
                  <a:lnTo>
                    <a:pt x="64004" y="14343"/>
                  </a:lnTo>
                  <a:lnTo>
                    <a:pt x="64239" y="14848"/>
                  </a:lnTo>
                  <a:lnTo>
                    <a:pt x="64475" y="15387"/>
                  </a:lnTo>
                  <a:lnTo>
                    <a:pt x="64643" y="15926"/>
                  </a:lnTo>
                  <a:lnTo>
                    <a:pt x="64812" y="16498"/>
                  </a:lnTo>
                  <a:lnTo>
                    <a:pt x="64913" y="17037"/>
                  </a:lnTo>
                  <a:lnTo>
                    <a:pt x="64980" y="17609"/>
                  </a:lnTo>
                  <a:lnTo>
                    <a:pt x="65014" y="18181"/>
                  </a:lnTo>
                  <a:lnTo>
                    <a:pt x="64946" y="18754"/>
                  </a:lnTo>
                  <a:lnTo>
                    <a:pt x="64879" y="19057"/>
                  </a:lnTo>
                  <a:lnTo>
                    <a:pt x="64812" y="19326"/>
                  </a:lnTo>
                  <a:lnTo>
                    <a:pt x="64711" y="19562"/>
                  </a:lnTo>
                  <a:lnTo>
                    <a:pt x="64576" y="19798"/>
                  </a:lnTo>
                  <a:lnTo>
                    <a:pt x="64441" y="20033"/>
                  </a:lnTo>
                  <a:lnTo>
                    <a:pt x="64273" y="20235"/>
                  </a:lnTo>
                  <a:lnTo>
                    <a:pt x="64105" y="20437"/>
                  </a:lnTo>
                  <a:lnTo>
                    <a:pt x="63936" y="20639"/>
                  </a:lnTo>
                  <a:lnTo>
                    <a:pt x="63499" y="20942"/>
                  </a:lnTo>
                  <a:lnTo>
                    <a:pt x="63061" y="21212"/>
                  </a:lnTo>
                  <a:lnTo>
                    <a:pt x="62556" y="21380"/>
                  </a:lnTo>
                  <a:lnTo>
                    <a:pt x="61984" y="21548"/>
                  </a:lnTo>
                  <a:lnTo>
                    <a:pt x="61445" y="21616"/>
                  </a:lnTo>
                  <a:lnTo>
                    <a:pt x="60906" y="21683"/>
                  </a:lnTo>
                  <a:lnTo>
                    <a:pt x="60334" y="21717"/>
                  </a:lnTo>
                  <a:lnTo>
                    <a:pt x="59795" y="21750"/>
                  </a:lnTo>
                  <a:lnTo>
                    <a:pt x="57573" y="21750"/>
                  </a:lnTo>
                  <a:lnTo>
                    <a:pt x="52792" y="21851"/>
                  </a:lnTo>
                  <a:lnTo>
                    <a:pt x="48045" y="21919"/>
                  </a:lnTo>
                  <a:lnTo>
                    <a:pt x="43298" y="22020"/>
                  </a:lnTo>
                  <a:lnTo>
                    <a:pt x="42961" y="21986"/>
                  </a:lnTo>
                  <a:lnTo>
                    <a:pt x="42658" y="21952"/>
                  </a:lnTo>
                  <a:lnTo>
                    <a:pt x="42355" y="21851"/>
                  </a:lnTo>
                  <a:lnTo>
                    <a:pt x="42119" y="21717"/>
                  </a:lnTo>
                  <a:lnTo>
                    <a:pt x="41884" y="21582"/>
                  </a:lnTo>
                  <a:lnTo>
                    <a:pt x="41715" y="21380"/>
                  </a:lnTo>
                  <a:lnTo>
                    <a:pt x="41513" y="21178"/>
                  </a:lnTo>
                  <a:lnTo>
                    <a:pt x="41379" y="20942"/>
                  </a:lnTo>
                  <a:lnTo>
                    <a:pt x="41244" y="20707"/>
                  </a:lnTo>
                  <a:lnTo>
                    <a:pt x="41143" y="20437"/>
                  </a:lnTo>
                  <a:lnTo>
                    <a:pt x="40941" y="19865"/>
                  </a:lnTo>
                  <a:lnTo>
                    <a:pt x="40840" y="19259"/>
                  </a:lnTo>
                  <a:lnTo>
                    <a:pt x="40739" y="18687"/>
                  </a:lnTo>
                  <a:lnTo>
                    <a:pt x="40672" y="18114"/>
                  </a:lnTo>
                  <a:lnTo>
                    <a:pt x="40672" y="17575"/>
                  </a:lnTo>
                  <a:lnTo>
                    <a:pt x="40705" y="17037"/>
                  </a:lnTo>
                  <a:lnTo>
                    <a:pt x="40739" y="16498"/>
                  </a:lnTo>
                  <a:lnTo>
                    <a:pt x="40840" y="15959"/>
                  </a:lnTo>
                  <a:lnTo>
                    <a:pt x="40941" y="15421"/>
                  </a:lnTo>
                  <a:lnTo>
                    <a:pt x="41076" y="14882"/>
                  </a:lnTo>
                  <a:lnTo>
                    <a:pt x="41210" y="14343"/>
                  </a:lnTo>
                  <a:lnTo>
                    <a:pt x="52624" y="14242"/>
                  </a:lnTo>
                  <a:close/>
                  <a:moveTo>
                    <a:pt x="89288" y="20639"/>
                  </a:moveTo>
                  <a:lnTo>
                    <a:pt x="89322" y="20774"/>
                  </a:lnTo>
                  <a:lnTo>
                    <a:pt x="89389" y="20875"/>
                  </a:lnTo>
                  <a:lnTo>
                    <a:pt x="89457" y="20942"/>
                  </a:lnTo>
                  <a:lnTo>
                    <a:pt x="89558" y="21010"/>
                  </a:lnTo>
                  <a:lnTo>
                    <a:pt x="89793" y="21043"/>
                  </a:lnTo>
                  <a:lnTo>
                    <a:pt x="89928" y="21077"/>
                  </a:lnTo>
                  <a:lnTo>
                    <a:pt x="90029" y="21043"/>
                  </a:lnTo>
                  <a:lnTo>
                    <a:pt x="89928" y="22121"/>
                  </a:lnTo>
                  <a:lnTo>
                    <a:pt x="89861" y="23232"/>
                  </a:lnTo>
                  <a:lnTo>
                    <a:pt x="89760" y="25420"/>
                  </a:lnTo>
                  <a:lnTo>
                    <a:pt x="89558" y="25521"/>
                  </a:lnTo>
                  <a:lnTo>
                    <a:pt x="89389" y="25656"/>
                  </a:lnTo>
                  <a:lnTo>
                    <a:pt x="89255" y="25790"/>
                  </a:lnTo>
                  <a:lnTo>
                    <a:pt x="89154" y="25959"/>
                  </a:lnTo>
                  <a:lnTo>
                    <a:pt x="89120" y="25790"/>
                  </a:lnTo>
                  <a:lnTo>
                    <a:pt x="89086" y="25790"/>
                  </a:lnTo>
                  <a:lnTo>
                    <a:pt x="88985" y="25117"/>
                  </a:lnTo>
                  <a:lnTo>
                    <a:pt x="88985" y="24444"/>
                  </a:lnTo>
                  <a:lnTo>
                    <a:pt x="88985" y="23770"/>
                  </a:lnTo>
                  <a:lnTo>
                    <a:pt x="89019" y="23097"/>
                  </a:lnTo>
                  <a:lnTo>
                    <a:pt x="89053" y="22255"/>
                  </a:lnTo>
                  <a:lnTo>
                    <a:pt x="89086" y="21851"/>
                  </a:lnTo>
                  <a:lnTo>
                    <a:pt x="89154" y="21447"/>
                  </a:lnTo>
                  <a:lnTo>
                    <a:pt x="89221" y="21043"/>
                  </a:lnTo>
                  <a:lnTo>
                    <a:pt x="89255" y="20841"/>
                  </a:lnTo>
                  <a:lnTo>
                    <a:pt x="89288" y="20639"/>
                  </a:lnTo>
                  <a:close/>
                  <a:moveTo>
                    <a:pt x="92015" y="20202"/>
                  </a:moveTo>
                  <a:lnTo>
                    <a:pt x="92015" y="20235"/>
                  </a:lnTo>
                  <a:lnTo>
                    <a:pt x="92015" y="20303"/>
                  </a:lnTo>
                  <a:lnTo>
                    <a:pt x="92083" y="20370"/>
                  </a:lnTo>
                  <a:lnTo>
                    <a:pt x="92015" y="21043"/>
                  </a:lnTo>
                  <a:lnTo>
                    <a:pt x="91982" y="21717"/>
                  </a:lnTo>
                  <a:lnTo>
                    <a:pt x="91914" y="23097"/>
                  </a:lnTo>
                  <a:lnTo>
                    <a:pt x="91679" y="26598"/>
                  </a:lnTo>
                  <a:lnTo>
                    <a:pt x="91645" y="26598"/>
                  </a:lnTo>
                  <a:lnTo>
                    <a:pt x="91813" y="23501"/>
                  </a:lnTo>
                  <a:lnTo>
                    <a:pt x="91914" y="21851"/>
                  </a:lnTo>
                  <a:lnTo>
                    <a:pt x="91948" y="21010"/>
                  </a:lnTo>
                  <a:lnTo>
                    <a:pt x="91948" y="20202"/>
                  </a:lnTo>
                  <a:close/>
                  <a:moveTo>
                    <a:pt x="91140" y="19865"/>
                  </a:moveTo>
                  <a:lnTo>
                    <a:pt x="91275" y="19932"/>
                  </a:lnTo>
                  <a:lnTo>
                    <a:pt x="91342" y="20000"/>
                  </a:lnTo>
                  <a:lnTo>
                    <a:pt x="91376" y="20067"/>
                  </a:lnTo>
                  <a:lnTo>
                    <a:pt x="91443" y="20235"/>
                  </a:lnTo>
                  <a:lnTo>
                    <a:pt x="91477" y="20303"/>
                  </a:lnTo>
                  <a:lnTo>
                    <a:pt x="91544" y="20303"/>
                  </a:lnTo>
                  <a:lnTo>
                    <a:pt x="91510" y="21818"/>
                  </a:lnTo>
                  <a:lnTo>
                    <a:pt x="91443" y="23333"/>
                  </a:lnTo>
                  <a:lnTo>
                    <a:pt x="91275" y="26329"/>
                  </a:lnTo>
                  <a:lnTo>
                    <a:pt x="91241" y="26363"/>
                  </a:lnTo>
                  <a:lnTo>
                    <a:pt x="91207" y="26363"/>
                  </a:lnTo>
                  <a:lnTo>
                    <a:pt x="91106" y="26531"/>
                  </a:lnTo>
                  <a:lnTo>
                    <a:pt x="91005" y="26666"/>
                  </a:lnTo>
                  <a:lnTo>
                    <a:pt x="91106" y="23501"/>
                  </a:lnTo>
                  <a:lnTo>
                    <a:pt x="91174" y="21683"/>
                  </a:lnTo>
                  <a:lnTo>
                    <a:pt x="91174" y="20774"/>
                  </a:lnTo>
                  <a:lnTo>
                    <a:pt x="91140" y="19865"/>
                  </a:lnTo>
                  <a:close/>
                  <a:moveTo>
                    <a:pt x="91039" y="19865"/>
                  </a:moveTo>
                  <a:lnTo>
                    <a:pt x="90972" y="20707"/>
                  </a:lnTo>
                  <a:lnTo>
                    <a:pt x="90938" y="21548"/>
                  </a:lnTo>
                  <a:lnTo>
                    <a:pt x="90938" y="23232"/>
                  </a:lnTo>
                  <a:lnTo>
                    <a:pt x="90770" y="26733"/>
                  </a:lnTo>
                  <a:lnTo>
                    <a:pt x="90669" y="26733"/>
                  </a:lnTo>
                  <a:lnTo>
                    <a:pt x="90568" y="26700"/>
                  </a:lnTo>
                  <a:lnTo>
                    <a:pt x="90366" y="26598"/>
                  </a:lnTo>
                  <a:lnTo>
                    <a:pt x="90231" y="26497"/>
                  </a:lnTo>
                  <a:lnTo>
                    <a:pt x="90130" y="26396"/>
                  </a:lnTo>
                  <a:lnTo>
                    <a:pt x="89928" y="26161"/>
                  </a:lnTo>
                  <a:lnTo>
                    <a:pt x="89995" y="25588"/>
                  </a:lnTo>
                  <a:lnTo>
                    <a:pt x="90063" y="25521"/>
                  </a:lnTo>
                  <a:lnTo>
                    <a:pt x="90063" y="25454"/>
                  </a:lnTo>
                  <a:lnTo>
                    <a:pt x="90029" y="25386"/>
                  </a:lnTo>
                  <a:lnTo>
                    <a:pt x="90130" y="24141"/>
                  </a:lnTo>
                  <a:lnTo>
                    <a:pt x="90231" y="22895"/>
                  </a:lnTo>
                  <a:lnTo>
                    <a:pt x="90298" y="21649"/>
                  </a:lnTo>
                  <a:lnTo>
                    <a:pt x="90298" y="21043"/>
                  </a:lnTo>
                  <a:lnTo>
                    <a:pt x="90298" y="20437"/>
                  </a:lnTo>
                  <a:lnTo>
                    <a:pt x="90568" y="20168"/>
                  </a:lnTo>
                  <a:lnTo>
                    <a:pt x="90837" y="19966"/>
                  </a:lnTo>
                  <a:lnTo>
                    <a:pt x="90938" y="19899"/>
                  </a:lnTo>
                  <a:lnTo>
                    <a:pt x="91039" y="19865"/>
                  </a:lnTo>
                  <a:close/>
                  <a:moveTo>
                    <a:pt x="92756" y="19798"/>
                  </a:moveTo>
                  <a:lnTo>
                    <a:pt x="92891" y="19831"/>
                  </a:lnTo>
                  <a:lnTo>
                    <a:pt x="93059" y="19899"/>
                  </a:lnTo>
                  <a:lnTo>
                    <a:pt x="93227" y="20000"/>
                  </a:lnTo>
                  <a:lnTo>
                    <a:pt x="93396" y="20168"/>
                  </a:lnTo>
                  <a:lnTo>
                    <a:pt x="93429" y="20404"/>
                  </a:lnTo>
                  <a:lnTo>
                    <a:pt x="93396" y="20639"/>
                  </a:lnTo>
                  <a:lnTo>
                    <a:pt x="93396" y="21144"/>
                  </a:lnTo>
                  <a:lnTo>
                    <a:pt x="93328" y="23265"/>
                  </a:lnTo>
                  <a:lnTo>
                    <a:pt x="93295" y="24343"/>
                  </a:lnTo>
                  <a:lnTo>
                    <a:pt x="93261" y="25420"/>
                  </a:lnTo>
                  <a:lnTo>
                    <a:pt x="93261" y="25959"/>
                  </a:lnTo>
                  <a:lnTo>
                    <a:pt x="93194" y="26531"/>
                  </a:lnTo>
                  <a:lnTo>
                    <a:pt x="93126" y="26767"/>
                  </a:lnTo>
                  <a:lnTo>
                    <a:pt x="93025" y="26935"/>
                  </a:lnTo>
                  <a:lnTo>
                    <a:pt x="92857" y="27036"/>
                  </a:lnTo>
                  <a:lnTo>
                    <a:pt x="92655" y="27104"/>
                  </a:lnTo>
                  <a:lnTo>
                    <a:pt x="92453" y="27104"/>
                  </a:lnTo>
                  <a:lnTo>
                    <a:pt x="92251" y="27070"/>
                  </a:lnTo>
                  <a:lnTo>
                    <a:pt x="92015" y="27036"/>
                  </a:lnTo>
                  <a:lnTo>
                    <a:pt x="91847" y="26935"/>
                  </a:lnTo>
                  <a:lnTo>
                    <a:pt x="91881" y="26902"/>
                  </a:lnTo>
                  <a:lnTo>
                    <a:pt x="91881" y="26834"/>
                  </a:lnTo>
                  <a:lnTo>
                    <a:pt x="92116" y="23366"/>
                  </a:lnTo>
                  <a:lnTo>
                    <a:pt x="92251" y="21784"/>
                  </a:lnTo>
                  <a:lnTo>
                    <a:pt x="92285" y="21010"/>
                  </a:lnTo>
                  <a:lnTo>
                    <a:pt x="92318" y="20202"/>
                  </a:lnTo>
                  <a:lnTo>
                    <a:pt x="92352" y="20168"/>
                  </a:lnTo>
                  <a:lnTo>
                    <a:pt x="92419" y="20000"/>
                  </a:lnTo>
                  <a:lnTo>
                    <a:pt x="92520" y="19899"/>
                  </a:lnTo>
                  <a:lnTo>
                    <a:pt x="92655" y="19831"/>
                  </a:lnTo>
                  <a:lnTo>
                    <a:pt x="92756" y="19798"/>
                  </a:lnTo>
                  <a:close/>
                  <a:moveTo>
                    <a:pt x="90467" y="14444"/>
                  </a:moveTo>
                  <a:lnTo>
                    <a:pt x="90265" y="14781"/>
                  </a:lnTo>
                  <a:lnTo>
                    <a:pt x="90096" y="15118"/>
                  </a:lnTo>
                  <a:lnTo>
                    <a:pt x="89962" y="15522"/>
                  </a:lnTo>
                  <a:lnTo>
                    <a:pt x="89827" y="15926"/>
                  </a:lnTo>
                  <a:lnTo>
                    <a:pt x="89659" y="16767"/>
                  </a:lnTo>
                  <a:lnTo>
                    <a:pt x="89524" y="17542"/>
                  </a:lnTo>
                  <a:lnTo>
                    <a:pt x="89423" y="18249"/>
                  </a:lnTo>
                  <a:lnTo>
                    <a:pt x="89356" y="18990"/>
                  </a:lnTo>
                  <a:lnTo>
                    <a:pt x="89322" y="19730"/>
                  </a:lnTo>
                  <a:lnTo>
                    <a:pt x="89356" y="20471"/>
                  </a:lnTo>
                  <a:lnTo>
                    <a:pt x="89288" y="20505"/>
                  </a:lnTo>
                  <a:lnTo>
                    <a:pt x="89288" y="20572"/>
                  </a:lnTo>
                  <a:lnTo>
                    <a:pt x="89288" y="20606"/>
                  </a:lnTo>
                  <a:lnTo>
                    <a:pt x="89255" y="20505"/>
                  </a:lnTo>
                  <a:lnTo>
                    <a:pt x="89086" y="20774"/>
                  </a:lnTo>
                  <a:lnTo>
                    <a:pt x="88952" y="21077"/>
                  </a:lnTo>
                  <a:lnTo>
                    <a:pt x="88884" y="21414"/>
                  </a:lnTo>
                  <a:lnTo>
                    <a:pt x="88817" y="21750"/>
                  </a:lnTo>
                  <a:lnTo>
                    <a:pt x="88783" y="22457"/>
                  </a:lnTo>
                  <a:lnTo>
                    <a:pt x="88783" y="23097"/>
                  </a:lnTo>
                  <a:lnTo>
                    <a:pt x="88750" y="23871"/>
                  </a:lnTo>
                  <a:lnTo>
                    <a:pt x="88716" y="24679"/>
                  </a:lnTo>
                  <a:lnTo>
                    <a:pt x="88750" y="25083"/>
                  </a:lnTo>
                  <a:lnTo>
                    <a:pt x="88783" y="25487"/>
                  </a:lnTo>
                  <a:lnTo>
                    <a:pt x="88851" y="25858"/>
                  </a:lnTo>
                  <a:lnTo>
                    <a:pt x="88952" y="26262"/>
                  </a:lnTo>
                  <a:lnTo>
                    <a:pt x="88985" y="26295"/>
                  </a:lnTo>
                  <a:lnTo>
                    <a:pt x="88918" y="26598"/>
                  </a:lnTo>
                  <a:lnTo>
                    <a:pt x="88851" y="26868"/>
                  </a:lnTo>
                  <a:lnTo>
                    <a:pt x="88716" y="27137"/>
                  </a:lnTo>
                  <a:lnTo>
                    <a:pt x="88548" y="27407"/>
                  </a:lnTo>
                  <a:lnTo>
                    <a:pt x="88413" y="27036"/>
                  </a:lnTo>
                  <a:lnTo>
                    <a:pt x="88278" y="26666"/>
                  </a:lnTo>
                  <a:lnTo>
                    <a:pt x="88211" y="26262"/>
                  </a:lnTo>
                  <a:lnTo>
                    <a:pt x="88177" y="25858"/>
                  </a:lnTo>
                  <a:lnTo>
                    <a:pt x="88110" y="25083"/>
                  </a:lnTo>
                  <a:lnTo>
                    <a:pt x="88076" y="24275"/>
                  </a:lnTo>
                  <a:lnTo>
                    <a:pt x="88009" y="22558"/>
                  </a:lnTo>
                  <a:lnTo>
                    <a:pt x="88009" y="21717"/>
                  </a:lnTo>
                  <a:lnTo>
                    <a:pt x="88043" y="20841"/>
                  </a:lnTo>
                  <a:lnTo>
                    <a:pt x="88110" y="20000"/>
                  </a:lnTo>
                  <a:lnTo>
                    <a:pt x="88211" y="19192"/>
                  </a:lnTo>
                  <a:lnTo>
                    <a:pt x="88346" y="18350"/>
                  </a:lnTo>
                  <a:lnTo>
                    <a:pt x="88514" y="17542"/>
                  </a:lnTo>
                  <a:lnTo>
                    <a:pt x="88750" y="16734"/>
                  </a:lnTo>
                  <a:lnTo>
                    <a:pt x="89053" y="15959"/>
                  </a:lnTo>
                  <a:lnTo>
                    <a:pt x="89389" y="15185"/>
                  </a:lnTo>
                  <a:lnTo>
                    <a:pt x="89726" y="14444"/>
                  </a:lnTo>
                  <a:close/>
                  <a:moveTo>
                    <a:pt x="99692" y="22558"/>
                  </a:moveTo>
                  <a:lnTo>
                    <a:pt x="99826" y="22626"/>
                  </a:lnTo>
                  <a:lnTo>
                    <a:pt x="99961" y="22727"/>
                  </a:lnTo>
                  <a:lnTo>
                    <a:pt x="100096" y="22861"/>
                  </a:lnTo>
                  <a:lnTo>
                    <a:pt x="100230" y="23030"/>
                  </a:lnTo>
                  <a:lnTo>
                    <a:pt x="100264" y="23198"/>
                  </a:lnTo>
                  <a:lnTo>
                    <a:pt x="100264" y="23366"/>
                  </a:lnTo>
                  <a:lnTo>
                    <a:pt x="100230" y="23737"/>
                  </a:lnTo>
                  <a:lnTo>
                    <a:pt x="100264" y="23804"/>
                  </a:lnTo>
                  <a:lnTo>
                    <a:pt x="100331" y="23838"/>
                  </a:lnTo>
                  <a:lnTo>
                    <a:pt x="99860" y="24309"/>
                  </a:lnTo>
                  <a:lnTo>
                    <a:pt x="99389" y="24780"/>
                  </a:lnTo>
                  <a:lnTo>
                    <a:pt x="98547" y="25790"/>
                  </a:lnTo>
                  <a:lnTo>
                    <a:pt x="97907" y="26464"/>
                  </a:lnTo>
                  <a:lnTo>
                    <a:pt x="97200" y="27104"/>
                  </a:lnTo>
                  <a:lnTo>
                    <a:pt x="96527" y="27710"/>
                  </a:lnTo>
                  <a:lnTo>
                    <a:pt x="95887" y="28383"/>
                  </a:lnTo>
                  <a:lnTo>
                    <a:pt x="95584" y="28383"/>
                  </a:lnTo>
                  <a:lnTo>
                    <a:pt x="95450" y="28349"/>
                  </a:lnTo>
                  <a:lnTo>
                    <a:pt x="95349" y="28282"/>
                  </a:lnTo>
                  <a:lnTo>
                    <a:pt x="95180" y="28080"/>
                  </a:lnTo>
                  <a:lnTo>
                    <a:pt x="95012" y="27878"/>
                  </a:lnTo>
                  <a:lnTo>
                    <a:pt x="94978" y="27811"/>
                  </a:lnTo>
                  <a:lnTo>
                    <a:pt x="94945" y="27710"/>
                  </a:lnTo>
                  <a:lnTo>
                    <a:pt x="94945" y="27508"/>
                  </a:lnTo>
                  <a:lnTo>
                    <a:pt x="95012" y="27339"/>
                  </a:lnTo>
                  <a:lnTo>
                    <a:pt x="95147" y="27137"/>
                  </a:lnTo>
                  <a:lnTo>
                    <a:pt x="95416" y="26801"/>
                  </a:lnTo>
                  <a:lnTo>
                    <a:pt x="95652" y="26531"/>
                  </a:lnTo>
                  <a:lnTo>
                    <a:pt x="96931" y="24949"/>
                  </a:lnTo>
                  <a:lnTo>
                    <a:pt x="97604" y="24208"/>
                  </a:lnTo>
                  <a:lnTo>
                    <a:pt x="98278" y="23467"/>
                  </a:lnTo>
                  <a:lnTo>
                    <a:pt x="98682" y="23063"/>
                  </a:lnTo>
                  <a:lnTo>
                    <a:pt x="98884" y="22861"/>
                  </a:lnTo>
                  <a:lnTo>
                    <a:pt x="99119" y="22693"/>
                  </a:lnTo>
                  <a:lnTo>
                    <a:pt x="99254" y="22626"/>
                  </a:lnTo>
                  <a:lnTo>
                    <a:pt x="99389" y="22558"/>
                  </a:lnTo>
                  <a:close/>
                  <a:moveTo>
                    <a:pt x="100870" y="23905"/>
                  </a:moveTo>
                  <a:lnTo>
                    <a:pt x="100971" y="23972"/>
                  </a:lnTo>
                  <a:lnTo>
                    <a:pt x="98648" y="26464"/>
                  </a:lnTo>
                  <a:lnTo>
                    <a:pt x="97402" y="27743"/>
                  </a:lnTo>
                  <a:lnTo>
                    <a:pt x="96796" y="28383"/>
                  </a:lnTo>
                  <a:lnTo>
                    <a:pt x="96258" y="29090"/>
                  </a:lnTo>
                  <a:lnTo>
                    <a:pt x="96123" y="28989"/>
                  </a:lnTo>
                  <a:lnTo>
                    <a:pt x="96022" y="28922"/>
                  </a:lnTo>
                  <a:lnTo>
                    <a:pt x="96022" y="28888"/>
                  </a:lnTo>
                  <a:lnTo>
                    <a:pt x="96359" y="28652"/>
                  </a:lnTo>
                  <a:lnTo>
                    <a:pt x="96695" y="28383"/>
                  </a:lnTo>
                  <a:lnTo>
                    <a:pt x="96998" y="28080"/>
                  </a:lnTo>
                  <a:lnTo>
                    <a:pt x="97301" y="27777"/>
                  </a:lnTo>
                  <a:lnTo>
                    <a:pt x="97874" y="27137"/>
                  </a:lnTo>
                  <a:lnTo>
                    <a:pt x="98446" y="26497"/>
                  </a:lnTo>
                  <a:lnTo>
                    <a:pt x="99624" y="25184"/>
                  </a:lnTo>
                  <a:lnTo>
                    <a:pt x="100230" y="24511"/>
                  </a:lnTo>
                  <a:lnTo>
                    <a:pt x="100870" y="23905"/>
                  </a:lnTo>
                  <a:close/>
                  <a:moveTo>
                    <a:pt x="101308" y="24511"/>
                  </a:moveTo>
                  <a:lnTo>
                    <a:pt x="101409" y="24780"/>
                  </a:lnTo>
                  <a:lnTo>
                    <a:pt x="101510" y="25016"/>
                  </a:lnTo>
                  <a:lnTo>
                    <a:pt x="101543" y="25252"/>
                  </a:lnTo>
                  <a:lnTo>
                    <a:pt x="101038" y="25790"/>
                  </a:lnTo>
                  <a:lnTo>
                    <a:pt x="100466" y="26295"/>
                  </a:lnTo>
                  <a:lnTo>
                    <a:pt x="99321" y="27339"/>
                  </a:lnTo>
                  <a:lnTo>
                    <a:pt x="98783" y="27878"/>
                  </a:lnTo>
                  <a:lnTo>
                    <a:pt x="98244" y="28417"/>
                  </a:lnTo>
                  <a:lnTo>
                    <a:pt x="97806" y="29023"/>
                  </a:lnTo>
                  <a:lnTo>
                    <a:pt x="97604" y="29326"/>
                  </a:lnTo>
                  <a:lnTo>
                    <a:pt x="97402" y="29629"/>
                  </a:lnTo>
                  <a:lnTo>
                    <a:pt x="96965" y="29561"/>
                  </a:lnTo>
                  <a:lnTo>
                    <a:pt x="96763" y="29494"/>
                  </a:lnTo>
                  <a:lnTo>
                    <a:pt x="96594" y="29393"/>
                  </a:lnTo>
                  <a:lnTo>
                    <a:pt x="96931" y="29090"/>
                  </a:lnTo>
                  <a:lnTo>
                    <a:pt x="97234" y="28787"/>
                  </a:lnTo>
                  <a:lnTo>
                    <a:pt x="97840" y="28147"/>
                  </a:lnTo>
                  <a:lnTo>
                    <a:pt x="98412" y="27508"/>
                  </a:lnTo>
                  <a:lnTo>
                    <a:pt x="98985" y="26868"/>
                  </a:lnTo>
                  <a:lnTo>
                    <a:pt x="100129" y="25689"/>
                  </a:lnTo>
                  <a:lnTo>
                    <a:pt x="101308" y="24511"/>
                  </a:lnTo>
                  <a:close/>
                  <a:moveTo>
                    <a:pt x="101274" y="25858"/>
                  </a:moveTo>
                  <a:lnTo>
                    <a:pt x="101308" y="25891"/>
                  </a:lnTo>
                  <a:lnTo>
                    <a:pt x="101442" y="26026"/>
                  </a:lnTo>
                  <a:lnTo>
                    <a:pt x="101611" y="26093"/>
                  </a:lnTo>
                  <a:lnTo>
                    <a:pt x="101813" y="26127"/>
                  </a:lnTo>
                  <a:lnTo>
                    <a:pt x="101981" y="26093"/>
                  </a:lnTo>
                  <a:lnTo>
                    <a:pt x="101678" y="26666"/>
                  </a:lnTo>
                  <a:lnTo>
                    <a:pt x="101308" y="27205"/>
                  </a:lnTo>
                  <a:lnTo>
                    <a:pt x="100870" y="27710"/>
                  </a:lnTo>
                  <a:lnTo>
                    <a:pt x="100432" y="28181"/>
                  </a:lnTo>
                  <a:lnTo>
                    <a:pt x="99456" y="29191"/>
                  </a:lnTo>
                  <a:lnTo>
                    <a:pt x="98783" y="29797"/>
                  </a:lnTo>
                  <a:lnTo>
                    <a:pt x="98547" y="29999"/>
                  </a:lnTo>
                  <a:lnTo>
                    <a:pt x="98345" y="30100"/>
                  </a:lnTo>
                  <a:lnTo>
                    <a:pt x="98345" y="29864"/>
                  </a:lnTo>
                  <a:lnTo>
                    <a:pt x="98379" y="29831"/>
                  </a:lnTo>
                  <a:lnTo>
                    <a:pt x="98379" y="29763"/>
                  </a:lnTo>
                  <a:lnTo>
                    <a:pt x="98345" y="29696"/>
                  </a:lnTo>
                  <a:lnTo>
                    <a:pt x="98244" y="29460"/>
                  </a:lnTo>
                  <a:lnTo>
                    <a:pt x="98210" y="29393"/>
                  </a:lnTo>
                  <a:lnTo>
                    <a:pt x="98109" y="29292"/>
                  </a:lnTo>
                  <a:lnTo>
                    <a:pt x="98042" y="29225"/>
                  </a:lnTo>
                  <a:lnTo>
                    <a:pt x="97941" y="29191"/>
                  </a:lnTo>
                  <a:lnTo>
                    <a:pt x="98682" y="28383"/>
                  </a:lnTo>
                  <a:lnTo>
                    <a:pt x="99456" y="27575"/>
                  </a:lnTo>
                  <a:lnTo>
                    <a:pt x="100365" y="26733"/>
                  </a:lnTo>
                  <a:lnTo>
                    <a:pt x="100836" y="26295"/>
                  </a:lnTo>
                  <a:lnTo>
                    <a:pt x="101274" y="25858"/>
                  </a:lnTo>
                  <a:close/>
                  <a:moveTo>
                    <a:pt x="106930" y="17171"/>
                  </a:moveTo>
                  <a:lnTo>
                    <a:pt x="106930" y="18114"/>
                  </a:lnTo>
                  <a:lnTo>
                    <a:pt x="106897" y="19023"/>
                  </a:lnTo>
                  <a:lnTo>
                    <a:pt x="106863" y="19495"/>
                  </a:lnTo>
                  <a:lnTo>
                    <a:pt x="106829" y="19932"/>
                  </a:lnTo>
                  <a:lnTo>
                    <a:pt x="106728" y="20404"/>
                  </a:lnTo>
                  <a:lnTo>
                    <a:pt x="106627" y="20841"/>
                  </a:lnTo>
                  <a:lnTo>
                    <a:pt x="106425" y="21380"/>
                  </a:lnTo>
                  <a:lnTo>
                    <a:pt x="106190" y="21919"/>
                  </a:lnTo>
                  <a:lnTo>
                    <a:pt x="105954" y="22457"/>
                  </a:lnTo>
                  <a:lnTo>
                    <a:pt x="105685" y="22996"/>
                  </a:lnTo>
                  <a:lnTo>
                    <a:pt x="105382" y="23535"/>
                  </a:lnTo>
                  <a:lnTo>
                    <a:pt x="105079" y="24040"/>
                  </a:lnTo>
                  <a:lnTo>
                    <a:pt x="104405" y="25016"/>
                  </a:lnTo>
                  <a:lnTo>
                    <a:pt x="104069" y="25487"/>
                  </a:lnTo>
                  <a:lnTo>
                    <a:pt x="103698" y="25925"/>
                  </a:lnTo>
                  <a:lnTo>
                    <a:pt x="102890" y="26801"/>
                  </a:lnTo>
                  <a:lnTo>
                    <a:pt x="102015" y="27642"/>
                  </a:lnTo>
                  <a:lnTo>
                    <a:pt x="101173" y="28450"/>
                  </a:lnTo>
                  <a:lnTo>
                    <a:pt x="100298" y="29225"/>
                  </a:lnTo>
                  <a:lnTo>
                    <a:pt x="99422" y="29965"/>
                  </a:lnTo>
                  <a:lnTo>
                    <a:pt x="98513" y="30672"/>
                  </a:lnTo>
                  <a:lnTo>
                    <a:pt x="97571" y="31346"/>
                  </a:lnTo>
                  <a:lnTo>
                    <a:pt x="97571" y="31177"/>
                  </a:lnTo>
                  <a:lnTo>
                    <a:pt x="97604" y="31043"/>
                  </a:lnTo>
                  <a:lnTo>
                    <a:pt x="97705" y="30740"/>
                  </a:lnTo>
                  <a:lnTo>
                    <a:pt x="97874" y="30403"/>
                  </a:lnTo>
                  <a:lnTo>
                    <a:pt x="98109" y="30134"/>
                  </a:lnTo>
                  <a:lnTo>
                    <a:pt x="98109" y="30201"/>
                  </a:lnTo>
                  <a:lnTo>
                    <a:pt x="98109" y="30268"/>
                  </a:lnTo>
                  <a:lnTo>
                    <a:pt x="98143" y="30302"/>
                  </a:lnTo>
                  <a:lnTo>
                    <a:pt x="98210" y="30336"/>
                  </a:lnTo>
                  <a:lnTo>
                    <a:pt x="98311" y="30302"/>
                  </a:lnTo>
                  <a:lnTo>
                    <a:pt x="98345" y="30235"/>
                  </a:lnTo>
                  <a:lnTo>
                    <a:pt x="98480" y="30235"/>
                  </a:lnTo>
                  <a:lnTo>
                    <a:pt x="98581" y="30167"/>
                  </a:lnTo>
                  <a:lnTo>
                    <a:pt x="98783" y="29999"/>
                  </a:lnTo>
                  <a:lnTo>
                    <a:pt x="100230" y="28619"/>
                  </a:lnTo>
                  <a:lnTo>
                    <a:pt x="100803" y="28080"/>
                  </a:lnTo>
                  <a:lnTo>
                    <a:pt x="101341" y="27474"/>
                  </a:lnTo>
                  <a:lnTo>
                    <a:pt x="101577" y="27171"/>
                  </a:lnTo>
                  <a:lnTo>
                    <a:pt x="101813" y="26834"/>
                  </a:lnTo>
                  <a:lnTo>
                    <a:pt x="102015" y="26497"/>
                  </a:lnTo>
                  <a:lnTo>
                    <a:pt x="102183" y="26127"/>
                  </a:lnTo>
                  <a:lnTo>
                    <a:pt x="102217" y="26060"/>
                  </a:lnTo>
                  <a:lnTo>
                    <a:pt x="102183" y="25992"/>
                  </a:lnTo>
                  <a:lnTo>
                    <a:pt x="102419" y="25858"/>
                  </a:lnTo>
                  <a:lnTo>
                    <a:pt x="102654" y="25656"/>
                  </a:lnTo>
                  <a:lnTo>
                    <a:pt x="102857" y="25454"/>
                  </a:lnTo>
                  <a:lnTo>
                    <a:pt x="103092" y="25218"/>
                  </a:lnTo>
                  <a:lnTo>
                    <a:pt x="103732" y="24410"/>
                  </a:lnTo>
                  <a:lnTo>
                    <a:pt x="104405" y="23669"/>
                  </a:lnTo>
                  <a:lnTo>
                    <a:pt x="104742" y="23265"/>
                  </a:lnTo>
                  <a:lnTo>
                    <a:pt x="105079" y="22895"/>
                  </a:lnTo>
                  <a:lnTo>
                    <a:pt x="105348" y="22491"/>
                  </a:lnTo>
                  <a:lnTo>
                    <a:pt x="105617" y="22053"/>
                  </a:lnTo>
                  <a:lnTo>
                    <a:pt x="105819" y="21616"/>
                  </a:lnTo>
                  <a:lnTo>
                    <a:pt x="105988" y="21144"/>
                  </a:lnTo>
                  <a:lnTo>
                    <a:pt x="106055" y="21144"/>
                  </a:lnTo>
                  <a:lnTo>
                    <a:pt x="106156" y="21111"/>
                  </a:lnTo>
                  <a:lnTo>
                    <a:pt x="106190" y="21111"/>
                  </a:lnTo>
                  <a:lnTo>
                    <a:pt x="106190" y="21144"/>
                  </a:lnTo>
                  <a:lnTo>
                    <a:pt x="106223" y="21111"/>
                  </a:lnTo>
                  <a:lnTo>
                    <a:pt x="106358" y="20976"/>
                  </a:lnTo>
                  <a:lnTo>
                    <a:pt x="106425" y="20774"/>
                  </a:lnTo>
                  <a:lnTo>
                    <a:pt x="106493" y="20370"/>
                  </a:lnTo>
                  <a:lnTo>
                    <a:pt x="106560" y="20033"/>
                  </a:lnTo>
                  <a:lnTo>
                    <a:pt x="106526" y="19697"/>
                  </a:lnTo>
                  <a:lnTo>
                    <a:pt x="106560" y="19663"/>
                  </a:lnTo>
                  <a:lnTo>
                    <a:pt x="106526" y="19596"/>
                  </a:lnTo>
                  <a:lnTo>
                    <a:pt x="106560" y="18990"/>
                  </a:lnTo>
                  <a:lnTo>
                    <a:pt x="106594" y="18417"/>
                  </a:lnTo>
                  <a:lnTo>
                    <a:pt x="106627" y="17845"/>
                  </a:lnTo>
                  <a:lnTo>
                    <a:pt x="106627" y="17508"/>
                  </a:lnTo>
                  <a:lnTo>
                    <a:pt x="106560" y="17239"/>
                  </a:lnTo>
                  <a:lnTo>
                    <a:pt x="106930" y="17171"/>
                  </a:lnTo>
                  <a:close/>
                  <a:moveTo>
                    <a:pt x="1" y="1"/>
                  </a:moveTo>
                  <a:lnTo>
                    <a:pt x="607" y="1011"/>
                  </a:lnTo>
                  <a:lnTo>
                    <a:pt x="1246" y="2021"/>
                  </a:lnTo>
                  <a:lnTo>
                    <a:pt x="2559" y="3974"/>
                  </a:lnTo>
                  <a:lnTo>
                    <a:pt x="4175" y="6263"/>
                  </a:lnTo>
                  <a:lnTo>
                    <a:pt x="5792" y="8519"/>
                  </a:lnTo>
                  <a:lnTo>
                    <a:pt x="7408" y="10640"/>
                  </a:lnTo>
                  <a:lnTo>
                    <a:pt x="9091" y="12727"/>
                  </a:lnTo>
                  <a:lnTo>
                    <a:pt x="9394" y="13098"/>
                  </a:lnTo>
                  <a:lnTo>
                    <a:pt x="9764" y="13468"/>
                  </a:lnTo>
                  <a:lnTo>
                    <a:pt x="10101" y="13805"/>
                  </a:lnTo>
                  <a:lnTo>
                    <a:pt x="10505" y="14074"/>
                  </a:lnTo>
                  <a:lnTo>
                    <a:pt x="10943" y="14343"/>
                  </a:lnTo>
                  <a:lnTo>
                    <a:pt x="11380" y="14512"/>
                  </a:lnTo>
                  <a:lnTo>
                    <a:pt x="11616" y="14579"/>
                  </a:lnTo>
                  <a:lnTo>
                    <a:pt x="11852" y="14646"/>
                  </a:lnTo>
                  <a:lnTo>
                    <a:pt x="12357" y="14646"/>
                  </a:lnTo>
                  <a:lnTo>
                    <a:pt x="12357" y="14747"/>
                  </a:lnTo>
                  <a:lnTo>
                    <a:pt x="12390" y="14781"/>
                  </a:lnTo>
                  <a:lnTo>
                    <a:pt x="12424" y="14781"/>
                  </a:lnTo>
                  <a:lnTo>
                    <a:pt x="19090" y="14714"/>
                  </a:lnTo>
                  <a:lnTo>
                    <a:pt x="25723" y="14613"/>
                  </a:lnTo>
                  <a:lnTo>
                    <a:pt x="32389" y="14478"/>
                  </a:lnTo>
                  <a:lnTo>
                    <a:pt x="39056" y="14377"/>
                  </a:lnTo>
                  <a:lnTo>
                    <a:pt x="41008" y="14343"/>
                  </a:lnTo>
                  <a:lnTo>
                    <a:pt x="40806" y="14882"/>
                  </a:lnTo>
                  <a:lnTo>
                    <a:pt x="40672" y="15454"/>
                  </a:lnTo>
                  <a:lnTo>
                    <a:pt x="40537" y="16027"/>
                  </a:lnTo>
                  <a:lnTo>
                    <a:pt x="40470" y="16599"/>
                  </a:lnTo>
                  <a:lnTo>
                    <a:pt x="40436" y="17171"/>
                  </a:lnTo>
                  <a:lnTo>
                    <a:pt x="40436" y="17744"/>
                  </a:lnTo>
                  <a:lnTo>
                    <a:pt x="40470" y="18350"/>
                  </a:lnTo>
                  <a:lnTo>
                    <a:pt x="40503" y="18922"/>
                  </a:lnTo>
                  <a:lnTo>
                    <a:pt x="40571" y="19360"/>
                  </a:lnTo>
                  <a:lnTo>
                    <a:pt x="40672" y="19831"/>
                  </a:lnTo>
                  <a:lnTo>
                    <a:pt x="40806" y="20303"/>
                  </a:lnTo>
                  <a:lnTo>
                    <a:pt x="40975" y="20740"/>
                  </a:lnTo>
                  <a:lnTo>
                    <a:pt x="41177" y="21178"/>
                  </a:lnTo>
                  <a:lnTo>
                    <a:pt x="41446" y="21548"/>
                  </a:lnTo>
                  <a:lnTo>
                    <a:pt x="41614" y="21717"/>
                  </a:lnTo>
                  <a:lnTo>
                    <a:pt x="41783" y="21851"/>
                  </a:lnTo>
                  <a:lnTo>
                    <a:pt x="41985" y="21986"/>
                  </a:lnTo>
                  <a:lnTo>
                    <a:pt x="42187" y="22121"/>
                  </a:lnTo>
                  <a:lnTo>
                    <a:pt x="42389" y="22188"/>
                  </a:lnTo>
                  <a:lnTo>
                    <a:pt x="42624" y="22255"/>
                  </a:lnTo>
                  <a:lnTo>
                    <a:pt x="42860" y="22289"/>
                  </a:lnTo>
                  <a:lnTo>
                    <a:pt x="43567" y="22289"/>
                  </a:lnTo>
                  <a:lnTo>
                    <a:pt x="44038" y="22255"/>
                  </a:lnTo>
                  <a:lnTo>
                    <a:pt x="46968" y="22222"/>
                  </a:lnTo>
                  <a:lnTo>
                    <a:pt x="52792" y="22087"/>
                  </a:lnTo>
                  <a:lnTo>
                    <a:pt x="58347" y="21986"/>
                  </a:lnTo>
                  <a:lnTo>
                    <a:pt x="59526" y="21986"/>
                  </a:lnTo>
                  <a:lnTo>
                    <a:pt x="60738" y="21952"/>
                  </a:lnTo>
                  <a:lnTo>
                    <a:pt x="61310" y="21919"/>
                  </a:lnTo>
                  <a:lnTo>
                    <a:pt x="61916" y="21818"/>
                  </a:lnTo>
                  <a:lnTo>
                    <a:pt x="62489" y="21683"/>
                  </a:lnTo>
                  <a:lnTo>
                    <a:pt x="63061" y="21515"/>
                  </a:lnTo>
                  <a:lnTo>
                    <a:pt x="63499" y="21313"/>
                  </a:lnTo>
                  <a:lnTo>
                    <a:pt x="63903" y="21043"/>
                  </a:lnTo>
                  <a:lnTo>
                    <a:pt x="64239" y="20740"/>
                  </a:lnTo>
                  <a:lnTo>
                    <a:pt x="64542" y="20370"/>
                  </a:lnTo>
                  <a:lnTo>
                    <a:pt x="64778" y="19966"/>
                  </a:lnTo>
                  <a:lnTo>
                    <a:pt x="64980" y="19562"/>
                  </a:lnTo>
                  <a:lnTo>
                    <a:pt x="65115" y="19091"/>
                  </a:lnTo>
                  <a:lnTo>
                    <a:pt x="65216" y="18619"/>
                  </a:lnTo>
                  <a:lnTo>
                    <a:pt x="65283" y="18047"/>
                  </a:lnTo>
                  <a:lnTo>
                    <a:pt x="65283" y="17474"/>
                  </a:lnTo>
                  <a:lnTo>
                    <a:pt x="65182" y="16936"/>
                  </a:lnTo>
                  <a:lnTo>
                    <a:pt x="65081" y="16363"/>
                  </a:lnTo>
                  <a:lnTo>
                    <a:pt x="64913" y="15825"/>
                  </a:lnTo>
                  <a:lnTo>
                    <a:pt x="64711" y="15286"/>
                  </a:lnTo>
                  <a:lnTo>
                    <a:pt x="64239" y="14242"/>
                  </a:lnTo>
                  <a:lnTo>
                    <a:pt x="71848" y="14242"/>
                  </a:lnTo>
                  <a:lnTo>
                    <a:pt x="77774" y="14276"/>
                  </a:lnTo>
                  <a:lnTo>
                    <a:pt x="89625" y="14444"/>
                  </a:lnTo>
                  <a:lnTo>
                    <a:pt x="89389" y="14747"/>
                  </a:lnTo>
                  <a:lnTo>
                    <a:pt x="89187" y="15118"/>
                  </a:lnTo>
                  <a:lnTo>
                    <a:pt x="88985" y="15454"/>
                  </a:lnTo>
                  <a:lnTo>
                    <a:pt x="88817" y="15825"/>
                  </a:lnTo>
                  <a:lnTo>
                    <a:pt x="88514" y="16599"/>
                  </a:lnTo>
                  <a:lnTo>
                    <a:pt x="88278" y="17373"/>
                  </a:lnTo>
                  <a:lnTo>
                    <a:pt x="88110" y="18181"/>
                  </a:lnTo>
                  <a:lnTo>
                    <a:pt x="87975" y="18990"/>
                  </a:lnTo>
                  <a:lnTo>
                    <a:pt x="87874" y="19798"/>
                  </a:lnTo>
                  <a:lnTo>
                    <a:pt x="87773" y="20572"/>
                  </a:lnTo>
                  <a:lnTo>
                    <a:pt x="87740" y="21582"/>
                  </a:lnTo>
                  <a:lnTo>
                    <a:pt x="87740" y="22558"/>
                  </a:lnTo>
                  <a:lnTo>
                    <a:pt x="87773" y="23568"/>
                  </a:lnTo>
                  <a:lnTo>
                    <a:pt x="87841" y="24545"/>
                  </a:lnTo>
                  <a:lnTo>
                    <a:pt x="87874" y="25353"/>
                  </a:lnTo>
                  <a:lnTo>
                    <a:pt x="87942" y="26161"/>
                  </a:lnTo>
                  <a:lnTo>
                    <a:pt x="88043" y="26565"/>
                  </a:lnTo>
                  <a:lnTo>
                    <a:pt x="88110" y="26935"/>
                  </a:lnTo>
                  <a:lnTo>
                    <a:pt x="88245" y="27339"/>
                  </a:lnTo>
                  <a:lnTo>
                    <a:pt x="88413" y="27676"/>
                  </a:lnTo>
                  <a:lnTo>
                    <a:pt x="88480" y="27710"/>
                  </a:lnTo>
                  <a:lnTo>
                    <a:pt x="88514" y="27743"/>
                  </a:lnTo>
                  <a:lnTo>
                    <a:pt x="88581" y="27743"/>
                  </a:lnTo>
                  <a:lnTo>
                    <a:pt x="88615" y="27710"/>
                  </a:lnTo>
                  <a:lnTo>
                    <a:pt x="88851" y="27407"/>
                  </a:lnTo>
                  <a:lnTo>
                    <a:pt x="89053" y="27036"/>
                  </a:lnTo>
                  <a:lnTo>
                    <a:pt x="89154" y="26700"/>
                  </a:lnTo>
                  <a:lnTo>
                    <a:pt x="89187" y="26497"/>
                  </a:lnTo>
                  <a:lnTo>
                    <a:pt x="89221" y="26295"/>
                  </a:lnTo>
                  <a:lnTo>
                    <a:pt x="89255" y="26295"/>
                  </a:lnTo>
                  <a:lnTo>
                    <a:pt x="89255" y="26262"/>
                  </a:lnTo>
                  <a:lnTo>
                    <a:pt x="89288" y="26228"/>
                  </a:lnTo>
                  <a:lnTo>
                    <a:pt x="89255" y="26194"/>
                  </a:lnTo>
                  <a:lnTo>
                    <a:pt x="89288" y="26093"/>
                  </a:lnTo>
                  <a:lnTo>
                    <a:pt x="89356" y="25992"/>
                  </a:lnTo>
                  <a:lnTo>
                    <a:pt x="89457" y="25858"/>
                  </a:lnTo>
                  <a:lnTo>
                    <a:pt x="89591" y="25757"/>
                  </a:lnTo>
                  <a:lnTo>
                    <a:pt x="89726" y="25723"/>
                  </a:lnTo>
                  <a:lnTo>
                    <a:pt x="89692" y="26228"/>
                  </a:lnTo>
                  <a:lnTo>
                    <a:pt x="89692" y="26295"/>
                  </a:lnTo>
                  <a:lnTo>
                    <a:pt x="89726" y="26329"/>
                  </a:lnTo>
                  <a:lnTo>
                    <a:pt x="89827" y="26329"/>
                  </a:lnTo>
                  <a:lnTo>
                    <a:pt x="89995" y="26565"/>
                  </a:lnTo>
                  <a:lnTo>
                    <a:pt x="90197" y="26733"/>
                  </a:lnTo>
                  <a:lnTo>
                    <a:pt x="90433" y="26868"/>
                  </a:lnTo>
                  <a:lnTo>
                    <a:pt x="90669" y="26969"/>
                  </a:lnTo>
                  <a:lnTo>
                    <a:pt x="90770" y="26969"/>
                  </a:lnTo>
                  <a:lnTo>
                    <a:pt x="90770" y="27171"/>
                  </a:lnTo>
                  <a:lnTo>
                    <a:pt x="90770" y="27205"/>
                  </a:lnTo>
                  <a:lnTo>
                    <a:pt x="90803" y="27238"/>
                  </a:lnTo>
                  <a:lnTo>
                    <a:pt x="90871" y="27272"/>
                  </a:lnTo>
                  <a:lnTo>
                    <a:pt x="90972" y="27238"/>
                  </a:lnTo>
                  <a:lnTo>
                    <a:pt x="91005" y="27205"/>
                  </a:lnTo>
                  <a:lnTo>
                    <a:pt x="91005" y="27171"/>
                  </a:lnTo>
                  <a:lnTo>
                    <a:pt x="91005" y="26935"/>
                  </a:lnTo>
                  <a:lnTo>
                    <a:pt x="91140" y="26868"/>
                  </a:lnTo>
                  <a:lnTo>
                    <a:pt x="91241" y="26767"/>
                  </a:lnTo>
                  <a:lnTo>
                    <a:pt x="91241" y="26834"/>
                  </a:lnTo>
                  <a:lnTo>
                    <a:pt x="91308" y="26868"/>
                  </a:lnTo>
                  <a:lnTo>
                    <a:pt x="91679" y="26868"/>
                  </a:lnTo>
                  <a:lnTo>
                    <a:pt x="91679" y="26902"/>
                  </a:lnTo>
                  <a:lnTo>
                    <a:pt x="91712" y="26935"/>
                  </a:lnTo>
                  <a:lnTo>
                    <a:pt x="91746" y="26935"/>
                  </a:lnTo>
                  <a:lnTo>
                    <a:pt x="91914" y="27104"/>
                  </a:lnTo>
                  <a:lnTo>
                    <a:pt x="92116" y="27238"/>
                  </a:lnTo>
                  <a:lnTo>
                    <a:pt x="92285" y="27306"/>
                  </a:lnTo>
                  <a:lnTo>
                    <a:pt x="92487" y="27339"/>
                  </a:lnTo>
                  <a:lnTo>
                    <a:pt x="92689" y="27339"/>
                  </a:lnTo>
                  <a:lnTo>
                    <a:pt x="92891" y="27238"/>
                  </a:lnTo>
                  <a:lnTo>
                    <a:pt x="93059" y="27104"/>
                  </a:lnTo>
                  <a:lnTo>
                    <a:pt x="93194" y="26935"/>
                  </a:lnTo>
                  <a:lnTo>
                    <a:pt x="93295" y="26801"/>
                  </a:lnTo>
                  <a:lnTo>
                    <a:pt x="93328" y="26632"/>
                  </a:lnTo>
                  <a:lnTo>
                    <a:pt x="93396" y="26329"/>
                  </a:lnTo>
                  <a:lnTo>
                    <a:pt x="93429" y="25992"/>
                  </a:lnTo>
                  <a:lnTo>
                    <a:pt x="93429" y="25656"/>
                  </a:lnTo>
                  <a:lnTo>
                    <a:pt x="93530" y="23265"/>
                  </a:lnTo>
                  <a:lnTo>
                    <a:pt x="93598" y="21144"/>
                  </a:lnTo>
                  <a:lnTo>
                    <a:pt x="93631" y="20740"/>
                  </a:lnTo>
                  <a:lnTo>
                    <a:pt x="93631" y="20336"/>
                  </a:lnTo>
                  <a:lnTo>
                    <a:pt x="93631" y="20134"/>
                  </a:lnTo>
                  <a:lnTo>
                    <a:pt x="93598" y="19966"/>
                  </a:lnTo>
                  <a:lnTo>
                    <a:pt x="93530" y="19764"/>
                  </a:lnTo>
                  <a:lnTo>
                    <a:pt x="93463" y="19596"/>
                  </a:lnTo>
                  <a:lnTo>
                    <a:pt x="93328" y="19461"/>
                  </a:lnTo>
                  <a:lnTo>
                    <a:pt x="93160" y="19394"/>
                  </a:lnTo>
                  <a:lnTo>
                    <a:pt x="93025" y="19360"/>
                  </a:lnTo>
                  <a:lnTo>
                    <a:pt x="92857" y="19394"/>
                  </a:lnTo>
                  <a:lnTo>
                    <a:pt x="92722" y="19495"/>
                  </a:lnTo>
                  <a:lnTo>
                    <a:pt x="92554" y="19596"/>
                  </a:lnTo>
                  <a:lnTo>
                    <a:pt x="92285" y="19831"/>
                  </a:lnTo>
                  <a:lnTo>
                    <a:pt x="92251" y="19798"/>
                  </a:lnTo>
                  <a:lnTo>
                    <a:pt x="92217" y="19798"/>
                  </a:lnTo>
                  <a:lnTo>
                    <a:pt x="92184" y="19831"/>
                  </a:lnTo>
                  <a:lnTo>
                    <a:pt x="92150" y="19865"/>
                  </a:lnTo>
                  <a:lnTo>
                    <a:pt x="92150" y="19932"/>
                  </a:lnTo>
                  <a:lnTo>
                    <a:pt x="91914" y="19966"/>
                  </a:lnTo>
                  <a:lnTo>
                    <a:pt x="91679" y="19966"/>
                  </a:lnTo>
                  <a:lnTo>
                    <a:pt x="91645" y="19932"/>
                  </a:lnTo>
                  <a:lnTo>
                    <a:pt x="91578" y="19932"/>
                  </a:lnTo>
                  <a:lnTo>
                    <a:pt x="91544" y="19966"/>
                  </a:lnTo>
                  <a:lnTo>
                    <a:pt x="91510" y="19899"/>
                  </a:lnTo>
                  <a:lnTo>
                    <a:pt x="91342" y="19764"/>
                  </a:lnTo>
                  <a:lnTo>
                    <a:pt x="91241" y="19663"/>
                  </a:lnTo>
                  <a:lnTo>
                    <a:pt x="91140" y="19663"/>
                  </a:lnTo>
                  <a:lnTo>
                    <a:pt x="90904" y="19730"/>
                  </a:lnTo>
                  <a:lnTo>
                    <a:pt x="90669" y="19865"/>
                  </a:lnTo>
                  <a:lnTo>
                    <a:pt x="90433" y="20033"/>
                  </a:lnTo>
                  <a:lnTo>
                    <a:pt x="90265" y="20235"/>
                  </a:lnTo>
                  <a:lnTo>
                    <a:pt x="90231" y="20202"/>
                  </a:lnTo>
                  <a:lnTo>
                    <a:pt x="90164" y="20202"/>
                  </a:lnTo>
                  <a:lnTo>
                    <a:pt x="90130" y="20235"/>
                  </a:lnTo>
                  <a:lnTo>
                    <a:pt x="90063" y="20808"/>
                  </a:lnTo>
                  <a:lnTo>
                    <a:pt x="89659" y="20808"/>
                  </a:lnTo>
                  <a:lnTo>
                    <a:pt x="89591" y="20740"/>
                  </a:lnTo>
                  <a:lnTo>
                    <a:pt x="89625" y="19899"/>
                  </a:lnTo>
                  <a:lnTo>
                    <a:pt x="89659" y="19057"/>
                  </a:lnTo>
                  <a:lnTo>
                    <a:pt x="89692" y="18215"/>
                  </a:lnTo>
                  <a:lnTo>
                    <a:pt x="89827" y="17340"/>
                  </a:lnTo>
                  <a:lnTo>
                    <a:pt x="89962" y="16633"/>
                  </a:lnTo>
                  <a:lnTo>
                    <a:pt x="90130" y="15892"/>
                  </a:lnTo>
                  <a:lnTo>
                    <a:pt x="90366" y="15185"/>
                  </a:lnTo>
                  <a:lnTo>
                    <a:pt x="90467" y="14815"/>
                  </a:lnTo>
                  <a:lnTo>
                    <a:pt x="90500" y="14478"/>
                  </a:lnTo>
                  <a:lnTo>
                    <a:pt x="90500" y="14444"/>
                  </a:lnTo>
                  <a:lnTo>
                    <a:pt x="92756" y="14478"/>
                  </a:lnTo>
                  <a:lnTo>
                    <a:pt x="92992" y="14545"/>
                  </a:lnTo>
                  <a:lnTo>
                    <a:pt x="93497" y="14545"/>
                  </a:lnTo>
                  <a:lnTo>
                    <a:pt x="93732" y="14512"/>
                  </a:lnTo>
                  <a:lnTo>
                    <a:pt x="93901" y="14512"/>
                  </a:lnTo>
                  <a:lnTo>
                    <a:pt x="93968" y="14478"/>
                  </a:lnTo>
                  <a:lnTo>
                    <a:pt x="94002" y="14411"/>
                  </a:lnTo>
                  <a:lnTo>
                    <a:pt x="94271" y="14276"/>
                  </a:lnTo>
                  <a:lnTo>
                    <a:pt x="94507" y="14141"/>
                  </a:lnTo>
                  <a:lnTo>
                    <a:pt x="94743" y="13973"/>
                  </a:lnTo>
                  <a:lnTo>
                    <a:pt x="94978" y="13771"/>
                  </a:lnTo>
                  <a:lnTo>
                    <a:pt x="95382" y="13367"/>
                  </a:lnTo>
                  <a:lnTo>
                    <a:pt x="95753" y="12929"/>
                  </a:lnTo>
                  <a:lnTo>
                    <a:pt x="96325" y="12155"/>
                  </a:lnTo>
                  <a:lnTo>
                    <a:pt x="96392" y="12155"/>
                  </a:lnTo>
                  <a:lnTo>
                    <a:pt x="96426" y="12121"/>
                  </a:lnTo>
                  <a:lnTo>
                    <a:pt x="96426" y="12054"/>
                  </a:lnTo>
                  <a:lnTo>
                    <a:pt x="97907" y="10135"/>
                  </a:lnTo>
                  <a:lnTo>
                    <a:pt x="98446" y="10303"/>
                  </a:lnTo>
                  <a:lnTo>
                    <a:pt x="98985" y="10404"/>
                  </a:lnTo>
                  <a:lnTo>
                    <a:pt x="99557" y="10505"/>
                  </a:lnTo>
                  <a:lnTo>
                    <a:pt x="100096" y="10640"/>
                  </a:lnTo>
                  <a:lnTo>
                    <a:pt x="100769" y="10876"/>
                  </a:lnTo>
                  <a:lnTo>
                    <a:pt x="101442" y="11179"/>
                  </a:lnTo>
                  <a:lnTo>
                    <a:pt x="102082" y="11549"/>
                  </a:lnTo>
                  <a:lnTo>
                    <a:pt x="102722" y="11953"/>
                  </a:lnTo>
                  <a:lnTo>
                    <a:pt x="103294" y="12391"/>
                  </a:lnTo>
                  <a:lnTo>
                    <a:pt x="103867" y="12862"/>
                  </a:lnTo>
                  <a:lnTo>
                    <a:pt x="104405" y="13367"/>
                  </a:lnTo>
                  <a:lnTo>
                    <a:pt x="104910" y="13906"/>
                  </a:lnTo>
                  <a:lnTo>
                    <a:pt x="105382" y="14512"/>
                  </a:lnTo>
                  <a:lnTo>
                    <a:pt x="105584" y="14815"/>
                  </a:lnTo>
                  <a:lnTo>
                    <a:pt x="105752" y="15118"/>
                  </a:lnTo>
                  <a:lnTo>
                    <a:pt x="105920" y="15454"/>
                  </a:lnTo>
                  <a:lnTo>
                    <a:pt x="106055" y="15791"/>
                  </a:lnTo>
                  <a:lnTo>
                    <a:pt x="106156" y="16128"/>
                  </a:lnTo>
                  <a:lnTo>
                    <a:pt x="106223" y="16498"/>
                  </a:lnTo>
                  <a:lnTo>
                    <a:pt x="106257" y="16565"/>
                  </a:lnTo>
                  <a:lnTo>
                    <a:pt x="106291" y="16599"/>
                  </a:lnTo>
                  <a:lnTo>
                    <a:pt x="106291" y="16902"/>
                  </a:lnTo>
                  <a:lnTo>
                    <a:pt x="106324" y="17171"/>
                  </a:lnTo>
                  <a:lnTo>
                    <a:pt x="106358" y="17239"/>
                  </a:lnTo>
                  <a:lnTo>
                    <a:pt x="106425" y="17272"/>
                  </a:lnTo>
                  <a:lnTo>
                    <a:pt x="106392" y="17542"/>
                  </a:lnTo>
                  <a:lnTo>
                    <a:pt x="106392" y="17878"/>
                  </a:lnTo>
                  <a:lnTo>
                    <a:pt x="106425" y="18417"/>
                  </a:lnTo>
                  <a:lnTo>
                    <a:pt x="106392" y="19023"/>
                  </a:lnTo>
                  <a:lnTo>
                    <a:pt x="106324" y="19596"/>
                  </a:lnTo>
                  <a:lnTo>
                    <a:pt x="106223" y="19663"/>
                  </a:lnTo>
                  <a:lnTo>
                    <a:pt x="106156" y="19730"/>
                  </a:lnTo>
                  <a:lnTo>
                    <a:pt x="105988" y="19966"/>
                  </a:lnTo>
                  <a:lnTo>
                    <a:pt x="105887" y="20202"/>
                  </a:lnTo>
                  <a:lnTo>
                    <a:pt x="105819" y="20404"/>
                  </a:lnTo>
                  <a:lnTo>
                    <a:pt x="105786" y="20673"/>
                  </a:lnTo>
                  <a:lnTo>
                    <a:pt x="105786" y="20808"/>
                  </a:lnTo>
                  <a:lnTo>
                    <a:pt x="105853" y="20976"/>
                  </a:lnTo>
                  <a:lnTo>
                    <a:pt x="105718" y="21313"/>
                  </a:lnTo>
                  <a:lnTo>
                    <a:pt x="105550" y="21683"/>
                  </a:lnTo>
                  <a:lnTo>
                    <a:pt x="105382" y="21986"/>
                  </a:lnTo>
                  <a:lnTo>
                    <a:pt x="105180" y="22323"/>
                  </a:lnTo>
                  <a:lnTo>
                    <a:pt x="104742" y="22929"/>
                  </a:lnTo>
                  <a:lnTo>
                    <a:pt x="104237" y="23501"/>
                  </a:lnTo>
                  <a:lnTo>
                    <a:pt x="103059" y="24814"/>
                  </a:lnTo>
                  <a:lnTo>
                    <a:pt x="102722" y="25184"/>
                  </a:lnTo>
                  <a:lnTo>
                    <a:pt x="102553" y="25420"/>
                  </a:lnTo>
                  <a:lnTo>
                    <a:pt x="102351" y="25622"/>
                  </a:lnTo>
                  <a:lnTo>
                    <a:pt x="102116" y="25757"/>
                  </a:lnTo>
                  <a:lnTo>
                    <a:pt x="101880" y="25858"/>
                  </a:lnTo>
                  <a:lnTo>
                    <a:pt x="101745" y="25891"/>
                  </a:lnTo>
                  <a:lnTo>
                    <a:pt x="101644" y="25891"/>
                  </a:lnTo>
                  <a:lnTo>
                    <a:pt x="101510" y="25858"/>
                  </a:lnTo>
                  <a:lnTo>
                    <a:pt x="101375" y="25790"/>
                  </a:lnTo>
                  <a:lnTo>
                    <a:pt x="101341" y="25790"/>
                  </a:lnTo>
                  <a:lnTo>
                    <a:pt x="101712" y="25420"/>
                  </a:lnTo>
                  <a:lnTo>
                    <a:pt x="101779" y="25386"/>
                  </a:lnTo>
                  <a:lnTo>
                    <a:pt x="101813" y="25319"/>
                  </a:lnTo>
                  <a:lnTo>
                    <a:pt x="101813" y="25285"/>
                  </a:lnTo>
                  <a:lnTo>
                    <a:pt x="101813" y="25252"/>
                  </a:lnTo>
                  <a:lnTo>
                    <a:pt x="101813" y="25218"/>
                  </a:lnTo>
                  <a:lnTo>
                    <a:pt x="101712" y="24881"/>
                  </a:lnTo>
                  <a:lnTo>
                    <a:pt x="101577" y="24545"/>
                  </a:lnTo>
                  <a:lnTo>
                    <a:pt x="101476" y="24343"/>
                  </a:lnTo>
                  <a:lnTo>
                    <a:pt x="101510" y="24309"/>
                  </a:lnTo>
                  <a:lnTo>
                    <a:pt x="101543" y="24275"/>
                  </a:lnTo>
                  <a:lnTo>
                    <a:pt x="101510" y="24208"/>
                  </a:lnTo>
                  <a:lnTo>
                    <a:pt x="101442" y="24174"/>
                  </a:lnTo>
                  <a:lnTo>
                    <a:pt x="101375" y="24208"/>
                  </a:lnTo>
                  <a:lnTo>
                    <a:pt x="101308" y="24141"/>
                  </a:lnTo>
                  <a:lnTo>
                    <a:pt x="101207" y="24141"/>
                  </a:lnTo>
                  <a:lnTo>
                    <a:pt x="101173" y="24174"/>
                  </a:lnTo>
                  <a:lnTo>
                    <a:pt x="101173" y="24208"/>
                  </a:lnTo>
                  <a:lnTo>
                    <a:pt x="101207" y="24242"/>
                  </a:lnTo>
                  <a:lnTo>
                    <a:pt x="101207" y="24275"/>
                  </a:lnTo>
                  <a:lnTo>
                    <a:pt x="101207" y="24309"/>
                  </a:lnTo>
                  <a:lnTo>
                    <a:pt x="101240" y="24343"/>
                  </a:lnTo>
                  <a:lnTo>
                    <a:pt x="100062" y="25555"/>
                  </a:lnTo>
                  <a:lnTo>
                    <a:pt x="98884" y="26733"/>
                  </a:lnTo>
                  <a:lnTo>
                    <a:pt x="97638" y="28013"/>
                  </a:lnTo>
                  <a:lnTo>
                    <a:pt x="97066" y="28652"/>
                  </a:lnTo>
                  <a:lnTo>
                    <a:pt x="96796" y="28989"/>
                  </a:lnTo>
                  <a:lnTo>
                    <a:pt x="96561" y="29359"/>
                  </a:lnTo>
                  <a:lnTo>
                    <a:pt x="96325" y="29191"/>
                  </a:lnTo>
                  <a:lnTo>
                    <a:pt x="96998" y="28585"/>
                  </a:lnTo>
                  <a:lnTo>
                    <a:pt x="97604" y="27912"/>
                  </a:lnTo>
                  <a:lnTo>
                    <a:pt x="98816" y="26598"/>
                  </a:lnTo>
                  <a:lnTo>
                    <a:pt x="101308" y="23871"/>
                  </a:lnTo>
                  <a:lnTo>
                    <a:pt x="101341" y="23804"/>
                  </a:lnTo>
                  <a:lnTo>
                    <a:pt x="101308" y="23770"/>
                  </a:lnTo>
                  <a:lnTo>
                    <a:pt x="101240" y="23737"/>
                  </a:lnTo>
                  <a:lnTo>
                    <a:pt x="101173" y="23770"/>
                  </a:lnTo>
                  <a:lnTo>
                    <a:pt x="101072" y="23871"/>
                  </a:lnTo>
                  <a:lnTo>
                    <a:pt x="101005" y="23770"/>
                  </a:lnTo>
                  <a:lnTo>
                    <a:pt x="101106" y="23669"/>
                  </a:lnTo>
                  <a:lnTo>
                    <a:pt x="101139" y="23636"/>
                  </a:lnTo>
                  <a:lnTo>
                    <a:pt x="101139" y="23602"/>
                  </a:lnTo>
                  <a:lnTo>
                    <a:pt x="101072" y="23602"/>
                  </a:lnTo>
                  <a:lnTo>
                    <a:pt x="100971" y="23703"/>
                  </a:lnTo>
                  <a:lnTo>
                    <a:pt x="100870" y="23568"/>
                  </a:lnTo>
                  <a:lnTo>
                    <a:pt x="100803" y="23501"/>
                  </a:lnTo>
                  <a:lnTo>
                    <a:pt x="100735" y="23535"/>
                  </a:lnTo>
                  <a:lnTo>
                    <a:pt x="100466" y="23737"/>
                  </a:lnTo>
                  <a:lnTo>
                    <a:pt x="100466" y="23501"/>
                  </a:lnTo>
                  <a:lnTo>
                    <a:pt x="100466" y="23232"/>
                  </a:lnTo>
                  <a:lnTo>
                    <a:pt x="100399" y="22962"/>
                  </a:lnTo>
                  <a:lnTo>
                    <a:pt x="100331" y="22727"/>
                  </a:lnTo>
                  <a:lnTo>
                    <a:pt x="100230" y="22525"/>
                  </a:lnTo>
                  <a:lnTo>
                    <a:pt x="100129" y="22457"/>
                  </a:lnTo>
                  <a:lnTo>
                    <a:pt x="100062" y="22390"/>
                  </a:lnTo>
                  <a:lnTo>
                    <a:pt x="99961" y="22323"/>
                  </a:lnTo>
                  <a:lnTo>
                    <a:pt x="99826" y="22289"/>
                  </a:lnTo>
                  <a:lnTo>
                    <a:pt x="99557" y="22289"/>
                  </a:lnTo>
                  <a:lnTo>
                    <a:pt x="99220" y="22390"/>
                  </a:lnTo>
                  <a:lnTo>
                    <a:pt x="98951" y="22525"/>
                  </a:lnTo>
                  <a:lnTo>
                    <a:pt x="98715" y="22727"/>
                  </a:lnTo>
                  <a:lnTo>
                    <a:pt x="98480" y="22929"/>
                  </a:lnTo>
                  <a:lnTo>
                    <a:pt x="97672" y="23737"/>
                  </a:lnTo>
                  <a:lnTo>
                    <a:pt x="96931" y="24612"/>
                  </a:lnTo>
                  <a:lnTo>
                    <a:pt x="96291" y="25386"/>
                  </a:lnTo>
                  <a:lnTo>
                    <a:pt x="95652" y="26161"/>
                  </a:lnTo>
                  <a:lnTo>
                    <a:pt x="95147" y="26767"/>
                  </a:lnTo>
                  <a:lnTo>
                    <a:pt x="94911" y="27070"/>
                  </a:lnTo>
                  <a:lnTo>
                    <a:pt x="94810" y="27272"/>
                  </a:lnTo>
                  <a:lnTo>
                    <a:pt x="94743" y="27440"/>
                  </a:lnTo>
                  <a:lnTo>
                    <a:pt x="94709" y="27541"/>
                  </a:lnTo>
                  <a:lnTo>
                    <a:pt x="94709" y="27676"/>
                  </a:lnTo>
                  <a:lnTo>
                    <a:pt x="94743" y="27777"/>
                  </a:lnTo>
                  <a:lnTo>
                    <a:pt x="94776" y="27912"/>
                  </a:lnTo>
                  <a:lnTo>
                    <a:pt x="94911" y="28114"/>
                  </a:lnTo>
                  <a:lnTo>
                    <a:pt x="95046" y="28316"/>
                  </a:lnTo>
                  <a:lnTo>
                    <a:pt x="95248" y="28484"/>
                  </a:lnTo>
                  <a:lnTo>
                    <a:pt x="95416" y="28585"/>
                  </a:lnTo>
                  <a:lnTo>
                    <a:pt x="95584" y="28619"/>
                  </a:lnTo>
                  <a:lnTo>
                    <a:pt x="95786" y="28585"/>
                  </a:lnTo>
                  <a:lnTo>
                    <a:pt x="95854" y="28585"/>
                  </a:lnTo>
                  <a:lnTo>
                    <a:pt x="95854" y="28551"/>
                  </a:lnTo>
                  <a:lnTo>
                    <a:pt x="95887" y="28551"/>
                  </a:lnTo>
                  <a:lnTo>
                    <a:pt x="95921" y="28518"/>
                  </a:lnTo>
                  <a:lnTo>
                    <a:pt x="96628" y="27945"/>
                  </a:lnTo>
                  <a:lnTo>
                    <a:pt x="97268" y="27339"/>
                  </a:lnTo>
                  <a:lnTo>
                    <a:pt x="97907" y="26733"/>
                  </a:lnTo>
                  <a:lnTo>
                    <a:pt x="98513" y="26093"/>
                  </a:lnTo>
                  <a:lnTo>
                    <a:pt x="99119" y="25386"/>
                  </a:lnTo>
                  <a:lnTo>
                    <a:pt x="99725" y="24713"/>
                  </a:lnTo>
                  <a:lnTo>
                    <a:pt x="99995" y="24376"/>
                  </a:lnTo>
                  <a:lnTo>
                    <a:pt x="100331" y="24073"/>
                  </a:lnTo>
                  <a:lnTo>
                    <a:pt x="100500" y="23939"/>
                  </a:lnTo>
                  <a:lnTo>
                    <a:pt x="100601" y="23838"/>
                  </a:lnTo>
                  <a:lnTo>
                    <a:pt x="100702" y="23838"/>
                  </a:lnTo>
                  <a:lnTo>
                    <a:pt x="100803" y="23871"/>
                  </a:lnTo>
                  <a:lnTo>
                    <a:pt x="100230" y="24444"/>
                  </a:lnTo>
                  <a:lnTo>
                    <a:pt x="99658" y="25050"/>
                  </a:lnTo>
                  <a:lnTo>
                    <a:pt x="98513" y="26262"/>
                  </a:lnTo>
                  <a:lnTo>
                    <a:pt x="97907" y="26935"/>
                  </a:lnTo>
                  <a:lnTo>
                    <a:pt x="97268" y="27609"/>
                  </a:lnTo>
                  <a:lnTo>
                    <a:pt x="96965" y="27912"/>
                  </a:lnTo>
                  <a:lnTo>
                    <a:pt x="96628" y="28215"/>
                  </a:lnTo>
                  <a:lnTo>
                    <a:pt x="96291" y="28518"/>
                  </a:lnTo>
                  <a:lnTo>
                    <a:pt x="95955" y="28821"/>
                  </a:lnTo>
                  <a:lnTo>
                    <a:pt x="95955" y="28787"/>
                  </a:lnTo>
                  <a:lnTo>
                    <a:pt x="95921" y="28686"/>
                  </a:lnTo>
                  <a:lnTo>
                    <a:pt x="95887" y="28686"/>
                  </a:lnTo>
                  <a:lnTo>
                    <a:pt x="95887" y="28652"/>
                  </a:lnTo>
                  <a:lnTo>
                    <a:pt x="95820" y="28652"/>
                  </a:lnTo>
                  <a:lnTo>
                    <a:pt x="95753" y="28686"/>
                  </a:lnTo>
                  <a:lnTo>
                    <a:pt x="95753" y="28753"/>
                  </a:lnTo>
                  <a:lnTo>
                    <a:pt x="95820" y="28922"/>
                  </a:lnTo>
                  <a:lnTo>
                    <a:pt x="95887" y="29056"/>
                  </a:lnTo>
                  <a:lnTo>
                    <a:pt x="96022" y="29191"/>
                  </a:lnTo>
                  <a:lnTo>
                    <a:pt x="96157" y="29258"/>
                  </a:lnTo>
                  <a:lnTo>
                    <a:pt x="96224" y="29258"/>
                  </a:lnTo>
                  <a:lnTo>
                    <a:pt x="96291" y="29427"/>
                  </a:lnTo>
                  <a:lnTo>
                    <a:pt x="96392" y="29561"/>
                  </a:lnTo>
                  <a:lnTo>
                    <a:pt x="96561" y="29662"/>
                  </a:lnTo>
                  <a:lnTo>
                    <a:pt x="96729" y="29730"/>
                  </a:lnTo>
                  <a:lnTo>
                    <a:pt x="97133" y="29831"/>
                  </a:lnTo>
                  <a:lnTo>
                    <a:pt x="97436" y="29898"/>
                  </a:lnTo>
                  <a:lnTo>
                    <a:pt x="97537" y="29864"/>
                  </a:lnTo>
                  <a:lnTo>
                    <a:pt x="97571" y="29831"/>
                  </a:lnTo>
                  <a:lnTo>
                    <a:pt x="97571" y="29730"/>
                  </a:lnTo>
                  <a:lnTo>
                    <a:pt x="97503" y="29662"/>
                  </a:lnTo>
                  <a:lnTo>
                    <a:pt x="97806" y="29359"/>
                  </a:lnTo>
                  <a:lnTo>
                    <a:pt x="97975" y="29460"/>
                  </a:lnTo>
                  <a:lnTo>
                    <a:pt x="98042" y="29561"/>
                  </a:lnTo>
                  <a:lnTo>
                    <a:pt x="98076" y="29662"/>
                  </a:lnTo>
                  <a:lnTo>
                    <a:pt x="98109" y="29797"/>
                  </a:lnTo>
                  <a:lnTo>
                    <a:pt x="97941" y="30033"/>
                  </a:lnTo>
                  <a:lnTo>
                    <a:pt x="97773" y="30235"/>
                  </a:lnTo>
                  <a:lnTo>
                    <a:pt x="97604" y="30470"/>
                  </a:lnTo>
                  <a:lnTo>
                    <a:pt x="97470" y="30740"/>
                  </a:lnTo>
                  <a:lnTo>
                    <a:pt x="97402" y="30908"/>
                  </a:lnTo>
                  <a:lnTo>
                    <a:pt x="97369" y="31110"/>
                  </a:lnTo>
                  <a:lnTo>
                    <a:pt x="97369" y="31312"/>
                  </a:lnTo>
                  <a:lnTo>
                    <a:pt x="97402" y="31379"/>
                  </a:lnTo>
                  <a:lnTo>
                    <a:pt x="97470" y="31447"/>
                  </a:lnTo>
                  <a:lnTo>
                    <a:pt x="97436" y="31514"/>
                  </a:lnTo>
                  <a:lnTo>
                    <a:pt x="97470" y="31581"/>
                  </a:lnTo>
                  <a:lnTo>
                    <a:pt x="97537" y="31615"/>
                  </a:lnTo>
                  <a:lnTo>
                    <a:pt x="97604" y="31581"/>
                  </a:lnTo>
                  <a:lnTo>
                    <a:pt x="98547" y="30908"/>
                  </a:lnTo>
                  <a:lnTo>
                    <a:pt x="99490" y="30201"/>
                  </a:lnTo>
                  <a:lnTo>
                    <a:pt x="100399" y="29494"/>
                  </a:lnTo>
                  <a:lnTo>
                    <a:pt x="101274" y="28720"/>
                  </a:lnTo>
                  <a:lnTo>
                    <a:pt x="102149" y="27912"/>
                  </a:lnTo>
                  <a:lnTo>
                    <a:pt x="102958" y="27070"/>
                  </a:lnTo>
                  <a:lnTo>
                    <a:pt x="103732" y="26228"/>
                  </a:lnTo>
                  <a:lnTo>
                    <a:pt x="104473" y="25319"/>
                  </a:lnTo>
                  <a:lnTo>
                    <a:pt x="104809" y="24848"/>
                  </a:lnTo>
                  <a:lnTo>
                    <a:pt x="105146" y="24343"/>
                  </a:lnTo>
                  <a:lnTo>
                    <a:pt x="105449" y="23838"/>
                  </a:lnTo>
                  <a:lnTo>
                    <a:pt x="105752" y="23299"/>
                  </a:lnTo>
                  <a:lnTo>
                    <a:pt x="106257" y="22222"/>
                  </a:lnTo>
                  <a:lnTo>
                    <a:pt x="106728" y="21111"/>
                  </a:lnTo>
                  <a:lnTo>
                    <a:pt x="106897" y="20606"/>
                  </a:lnTo>
                  <a:lnTo>
                    <a:pt x="106998" y="20067"/>
                  </a:lnTo>
                  <a:lnTo>
                    <a:pt x="107065" y="19528"/>
                  </a:lnTo>
                  <a:lnTo>
                    <a:pt x="107099" y="18990"/>
                  </a:lnTo>
                  <a:lnTo>
                    <a:pt x="107166" y="17104"/>
                  </a:lnTo>
                  <a:lnTo>
                    <a:pt x="107166" y="17037"/>
                  </a:lnTo>
                  <a:lnTo>
                    <a:pt x="107166" y="16969"/>
                  </a:lnTo>
                  <a:lnTo>
                    <a:pt x="107132" y="16027"/>
                  </a:lnTo>
                  <a:lnTo>
                    <a:pt x="107099" y="15993"/>
                  </a:lnTo>
                  <a:lnTo>
                    <a:pt x="107031" y="15993"/>
                  </a:lnTo>
                  <a:lnTo>
                    <a:pt x="106998" y="16027"/>
                  </a:lnTo>
                  <a:lnTo>
                    <a:pt x="106998" y="15993"/>
                  </a:lnTo>
                  <a:lnTo>
                    <a:pt x="107099" y="15892"/>
                  </a:lnTo>
                  <a:lnTo>
                    <a:pt x="107132" y="15825"/>
                  </a:lnTo>
                  <a:lnTo>
                    <a:pt x="107099" y="15791"/>
                  </a:lnTo>
                  <a:lnTo>
                    <a:pt x="107031" y="15724"/>
                  </a:lnTo>
                  <a:lnTo>
                    <a:pt x="106964" y="15724"/>
                  </a:lnTo>
                  <a:lnTo>
                    <a:pt x="106829" y="15050"/>
                  </a:lnTo>
                  <a:lnTo>
                    <a:pt x="106627" y="14411"/>
                  </a:lnTo>
                  <a:lnTo>
                    <a:pt x="106392" y="13805"/>
                  </a:lnTo>
                  <a:lnTo>
                    <a:pt x="106089" y="13199"/>
                  </a:lnTo>
                  <a:lnTo>
                    <a:pt x="105752" y="12626"/>
                  </a:lnTo>
                  <a:lnTo>
                    <a:pt x="105382" y="12088"/>
                  </a:lnTo>
                  <a:lnTo>
                    <a:pt x="104944" y="11549"/>
                  </a:lnTo>
                  <a:lnTo>
                    <a:pt x="104439" y="11078"/>
                  </a:lnTo>
                  <a:lnTo>
                    <a:pt x="104170" y="10842"/>
                  </a:lnTo>
                  <a:lnTo>
                    <a:pt x="103867" y="10606"/>
                  </a:lnTo>
                  <a:lnTo>
                    <a:pt x="103261" y="10202"/>
                  </a:lnTo>
                  <a:lnTo>
                    <a:pt x="102621" y="9865"/>
                  </a:lnTo>
                  <a:lnTo>
                    <a:pt x="101981" y="9562"/>
                  </a:lnTo>
                  <a:lnTo>
                    <a:pt x="101274" y="9293"/>
                  </a:lnTo>
                  <a:lnTo>
                    <a:pt x="100500" y="9024"/>
                  </a:lnTo>
                  <a:lnTo>
                    <a:pt x="100129" y="8923"/>
                  </a:lnTo>
                  <a:lnTo>
                    <a:pt x="99725" y="8822"/>
                  </a:lnTo>
                  <a:lnTo>
                    <a:pt x="99321" y="8788"/>
                  </a:lnTo>
                  <a:lnTo>
                    <a:pt x="98951" y="8754"/>
                  </a:lnTo>
                  <a:lnTo>
                    <a:pt x="99187" y="8485"/>
                  </a:lnTo>
                  <a:lnTo>
                    <a:pt x="105718" y="1"/>
                  </a:lnTo>
                  <a:lnTo>
                    <a:pt x="105415" y="1"/>
                  </a:lnTo>
                  <a:lnTo>
                    <a:pt x="99826" y="7273"/>
                  </a:lnTo>
                  <a:lnTo>
                    <a:pt x="97739" y="9933"/>
                  </a:lnTo>
                  <a:lnTo>
                    <a:pt x="97537" y="9966"/>
                  </a:lnTo>
                  <a:lnTo>
                    <a:pt x="97672" y="10034"/>
                  </a:lnTo>
                  <a:lnTo>
                    <a:pt x="96695" y="11313"/>
                  </a:lnTo>
                  <a:lnTo>
                    <a:pt x="96224" y="11919"/>
                  </a:lnTo>
                  <a:lnTo>
                    <a:pt x="69424" y="12054"/>
                  </a:lnTo>
                  <a:lnTo>
                    <a:pt x="42624" y="12088"/>
                  </a:lnTo>
                  <a:lnTo>
                    <a:pt x="34308" y="12088"/>
                  </a:lnTo>
                  <a:lnTo>
                    <a:pt x="25959" y="12054"/>
                  </a:lnTo>
                  <a:lnTo>
                    <a:pt x="17643" y="12020"/>
                  </a:lnTo>
                  <a:lnTo>
                    <a:pt x="13502" y="12054"/>
                  </a:lnTo>
                  <a:lnTo>
                    <a:pt x="9327" y="12088"/>
                  </a:lnTo>
                  <a:lnTo>
                    <a:pt x="9259" y="12121"/>
                  </a:lnTo>
                  <a:lnTo>
                    <a:pt x="9226" y="12189"/>
                  </a:lnTo>
                  <a:lnTo>
                    <a:pt x="9259" y="12256"/>
                  </a:lnTo>
                  <a:lnTo>
                    <a:pt x="9327" y="12290"/>
                  </a:lnTo>
                  <a:lnTo>
                    <a:pt x="16027" y="12357"/>
                  </a:lnTo>
                  <a:lnTo>
                    <a:pt x="22760" y="12357"/>
                  </a:lnTo>
                  <a:lnTo>
                    <a:pt x="36194" y="12323"/>
                  </a:lnTo>
                  <a:lnTo>
                    <a:pt x="63027" y="12290"/>
                  </a:lnTo>
                  <a:lnTo>
                    <a:pt x="79558" y="12256"/>
                  </a:lnTo>
                  <a:lnTo>
                    <a:pt x="96056" y="12155"/>
                  </a:lnTo>
                  <a:lnTo>
                    <a:pt x="95584" y="12795"/>
                  </a:lnTo>
                  <a:lnTo>
                    <a:pt x="95315" y="13131"/>
                  </a:lnTo>
                  <a:lnTo>
                    <a:pt x="95046" y="13401"/>
                  </a:lnTo>
                  <a:lnTo>
                    <a:pt x="94743" y="13704"/>
                  </a:lnTo>
                  <a:lnTo>
                    <a:pt x="94439" y="13939"/>
                  </a:lnTo>
                  <a:lnTo>
                    <a:pt x="94136" y="14108"/>
                  </a:lnTo>
                  <a:lnTo>
                    <a:pt x="93800" y="14276"/>
                  </a:lnTo>
                  <a:lnTo>
                    <a:pt x="87100" y="14175"/>
                  </a:lnTo>
                  <a:lnTo>
                    <a:pt x="80366" y="14074"/>
                  </a:lnTo>
                  <a:lnTo>
                    <a:pt x="73666" y="14040"/>
                  </a:lnTo>
                  <a:lnTo>
                    <a:pt x="66966" y="14007"/>
                  </a:lnTo>
                  <a:lnTo>
                    <a:pt x="53533" y="14007"/>
                  </a:lnTo>
                  <a:lnTo>
                    <a:pt x="46833" y="14074"/>
                  </a:lnTo>
                  <a:lnTo>
                    <a:pt x="40133" y="14141"/>
                  </a:lnTo>
                  <a:lnTo>
                    <a:pt x="26295" y="14310"/>
                  </a:lnTo>
                  <a:lnTo>
                    <a:pt x="19393" y="14444"/>
                  </a:lnTo>
                  <a:lnTo>
                    <a:pt x="12458" y="14613"/>
                  </a:lnTo>
                  <a:lnTo>
                    <a:pt x="12491" y="14512"/>
                  </a:lnTo>
                  <a:lnTo>
                    <a:pt x="12491" y="14444"/>
                  </a:lnTo>
                  <a:lnTo>
                    <a:pt x="12458" y="14377"/>
                  </a:lnTo>
                  <a:lnTo>
                    <a:pt x="12357" y="14343"/>
                  </a:lnTo>
                  <a:lnTo>
                    <a:pt x="12087" y="14343"/>
                  </a:lnTo>
                  <a:lnTo>
                    <a:pt x="11784" y="14310"/>
                  </a:lnTo>
                  <a:lnTo>
                    <a:pt x="11549" y="14276"/>
                  </a:lnTo>
                  <a:lnTo>
                    <a:pt x="11279" y="14175"/>
                  </a:lnTo>
                  <a:lnTo>
                    <a:pt x="11044" y="14074"/>
                  </a:lnTo>
                  <a:lnTo>
                    <a:pt x="10808" y="13939"/>
                  </a:lnTo>
                  <a:lnTo>
                    <a:pt x="10337" y="13603"/>
                  </a:lnTo>
                  <a:lnTo>
                    <a:pt x="9933" y="13232"/>
                  </a:lnTo>
                  <a:lnTo>
                    <a:pt x="9562" y="12795"/>
                  </a:lnTo>
                  <a:lnTo>
                    <a:pt x="8855" y="11953"/>
                  </a:lnTo>
                  <a:lnTo>
                    <a:pt x="7206" y="9865"/>
                  </a:lnTo>
                  <a:lnTo>
                    <a:pt x="5623" y="7778"/>
                  </a:lnTo>
                  <a:lnTo>
                    <a:pt x="4108" y="5691"/>
                  </a:lnTo>
                  <a:lnTo>
                    <a:pt x="2694" y="3603"/>
                  </a:lnTo>
                  <a:lnTo>
                    <a:pt x="2088" y="2728"/>
                  </a:lnTo>
                  <a:lnTo>
                    <a:pt x="1516" y="1819"/>
                  </a:lnTo>
                  <a:lnTo>
                    <a:pt x="943" y="910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hape 517"/>
            <p:cNvSpPr/>
            <p:nvPr/>
          </p:nvSpPr>
          <p:spPr>
            <a:xfrm>
              <a:off x="380880" y="3465360"/>
              <a:ext cx="715680" cy="19980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0775" h="3031">
                  <a:moveTo>
                    <a:pt x="10673" y="1"/>
                  </a:moveTo>
                  <a:lnTo>
                    <a:pt x="5320" y="1448"/>
                  </a:lnTo>
                  <a:lnTo>
                    <a:pt x="2525" y="2223"/>
                  </a:lnTo>
                  <a:lnTo>
                    <a:pt x="1246" y="2559"/>
                  </a:lnTo>
                  <a:lnTo>
                    <a:pt x="606" y="2761"/>
                  </a:lnTo>
                  <a:lnTo>
                    <a:pt x="303" y="2862"/>
                  </a:lnTo>
                  <a:lnTo>
                    <a:pt x="0" y="2997"/>
                  </a:lnTo>
                  <a:lnTo>
                    <a:pt x="0" y="3031"/>
                  </a:lnTo>
                  <a:lnTo>
                    <a:pt x="573" y="2930"/>
                  </a:lnTo>
                  <a:lnTo>
                    <a:pt x="1179" y="2795"/>
                  </a:lnTo>
                  <a:lnTo>
                    <a:pt x="2323" y="2458"/>
                  </a:lnTo>
                  <a:lnTo>
                    <a:pt x="5118" y="1684"/>
                  </a:lnTo>
                  <a:lnTo>
                    <a:pt x="10740" y="169"/>
                  </a:lnTo>
                  <a:lnTo>
                    <a:pt x="10774" y="102"/>
                  </a:lnTo>
                  <a:lnTo>
                    <a:pt x="10774" y="68"/>
                  </a:lnTo>
                  <a:lnTo>
                    <a:pt x="1074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hape 518"/>
            <p:cNvSpPr/>
            <p:nvPr/>
          </p:nvSpPr>
          <p:spPr>
            <a:xfrm>
              <a:off x="1068120" y="4327560"/>
              <a:ext cx="50760" cy="26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75" h="405">
                  <a:moveTo>
                    <a:pt x="135" y="0"/>
                  </a:moveTo>
                  <a:lnTo>
                    <a:pt x="34" y="34"/>
                  </a:lnTo>
                  <a:lnTo>
                    <a:pt x="0" y="135"/>
                  </a:lnTo>
                  <a:lnTo>
                    <a:pt x="0" y="202"/>
                  </a:lnTo>
                  <a:lnTo>
                    <a:pt x="34" y="236"/>
                  </a:lnTo>
                  <a:lnTo>
                    <a:pt x="68" y="270"/>
                  </a:lnTo>
                  <a:lnTo>
                    <a:pt x="303" y="270"/>
                  </a:lnTo>
                  <a:lnTo>
                    <a:pt x="404" y="337"/>
                  </a:lnTo>
                  <a:lnTo>
                    <a:pt x="505" y="404"/>
                  </a:lnTo>
                  <a:lnTo>
                    <a:pt x="606" y="404"/>
                  </a:lnTo>
                  <a:lnTo>
                    <a:pt x="741" y="337"/>
                  </a:lnTo>
                  <a:lnTo>
                    <a:pt x="741" y="303"/>
                  </a:lnTo>
                  <a:lnTo>
                    <a:pt x="775" y="270"/>
                  </a:lnTo>
                  <a:lnTo>
                    <a:pt x="741" y="169"/>
                  </a:lnTo>
                  <a:lnTo>
                    <a:pt x="674" y="101"/>
                  </a:lnTo>
                  <a:lnTo>
                    <a:pt x="606" y="101"/>
                  </a:lnTo>
                  <a:lnTo>
                    <a:pt x="573" y="135"/>
                  </a:lnTo>
                  <a:lnTo>
                    <a:pt x="505" y="68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hape 519"/>
            <p:cNvSpPr/>
            <p:nvPr/>
          </p:nvSpPr>
          <p:spPr>
            <a:xfrm>
              <a:off x="2946240" y="557244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223" h="2223">
                  <a:moveTo>
                    <a:pt x="1852" y="1"/>
                  </a:moveTo>
                  <a:lnTo>
                    <a:pt x="1314" y="68"/>
                  </a:lnTo>
                  <a:lnTo>
                    <a:pt x="809" y="136"/>
                  </a:lnTo>
                  <a:lnTo>
                    <a:pt x="404" y="169"/>
                  </a:lnTo>
                  <a:lnTo>
                    <a:pt x="202" y="203"/>
                  </a:lnTo>
                  <a:lnTo>
                    <a:pt x="0" y="304"/>
                  </a:lnTo>
                  <a:lnTo>
                    <a:pt x="169" y="371"/>
                  </a:lnTo>
                  <a:lnTo>
                    <a:pt x="337" y="405"/>
                  </a:lnTo>
                  <a:lnTo>
                    <a:pt x="708" y="371"/>
                  </a:lnTo>
                  <a:lnTo>
                    <a:pt x="1246" y="304"/>
                  </a:lnTo>
                  <a:lnTo>
                    <a:pt x="1785" y="203"/>
                  </a:lnTo>
                  <a:lnTo>
                    <a:pt x="1785" y="371"/>
                  </a:lnTo>
                  <a:lnTo>
                    <a:pt x="1785" y="573"/>
                  </a:lnTo>
                  <a:lnTo>
                    <a:pt x="1886" y="944"/>
                  </a:lnTo>
                  <a:lnTo>
                    <a:pt x="1920" y="1381"/>
                  </a:lnTo>
                  <a:lnTo>
                    <a:pt x="1953" y="1617"/>
                  </a:lnTo>
                  <a:lnTo>
                    <a:pt x="2021" y="1819"/>
                  </a:lnTo>
                  <a:lnTo>
                    <a:pt x="1044" y="1954"/>
                  </a:lnTo>
                  <a:lnTo>
                    <a:pt x="674" y="1987"/>
                  </a:lnTo>
                  <a:lnTo>
                    <a:pt x="539" y="2055"/>
                  </a:lnTo>
                  <a:lnTo>
                    <a:pt x="404" y="2156"/>
                  </a:lnTo>
                  <a:lnTo>
                    <a:pt x="539" y="2223"/>
                  </a:lnTo>
                  <a:lnTo>
                    <a:pt x="708" y="2223"/>
                  </a:lnTo>
                  <a:lnTo>
                    <a:pt x="1078" y="2156"/>
                  </a:lnTo>
                  <a:lnTo>
                    <a:pt x="2155" y="2021"/>
                  </a:lnTo>
                  <a:lnTo>
                    <a:pt x="2189" y="1987"/>
                  </a:lnTo>
                  <a:lnTo>
                    <a:pt x="2223" y="1954"/>
                  </a:lnTo>
                  <a:lnTo>
                    <a:pt x="2223" y="1886"/>
                  </a:lnTo>
                  <a:lnTo>
                    <a:pt x="2189" y="1853"/>
                  </a:lnTo>
                  <a:lnTo>
                    <a:pt x="2189" y="1617"/>
                  </a:lnTo>
                  <a:lnTo>
                    <a:pt x="2155" y="1381"/>
                  </a:lnTo>
                  <a:lnTo>
                    <a:pt x="2054" y="910"/>
                  </a:lnTo>
                  <a:lnTo>
                    <a:pt x="2021" y="506"/>
                  </a:lnTo>
                  <a:lnTo>
                    <a:pt x="1987" y="338"/>
                  </a:lnTo>
                  <a:lnTo>
                    <a:pt x="1920" y="169"/>
                  </a:lnTo>
                  <a:lnTo>
                    <a:pt x="1920" y="102"/>
                  </a:lnTo>
                  <a:lnTo>
                    <a:pt x="1920" y="68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hape 520"/>
            <p:cNvSpPr/>
            <p:nvPr/>
          </p:nvSpPr>
          <p:spPr>
            <a:xfrm>
              <a:off x="8499600" y="3035160"/>
              <a:ext cx="582480" cy="9144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8788" h="13771">
                  <a:moveTo>
                    <a:pt x="1818" y="169"/>
                  </a:moveTo>
                  <a:lnTo>
                    <a:pt x="2189" y="270"/>
                  </a:lnTo>
                  <a:lnTo>
                    <a:pt x="2626" y="337"/>
                  </a:lnTo>
                  <a:lnTo>
                    <a:pt x="3030" y="371"/>
                  </a:lnTo>
                  <a:lnTo>
                    <a:pt x="3468" y="438"/>
                  </a:lnTo>
                  <a:lnTo>
                    <a:pt x="5219" y="707"/>
                  </a:lnTo>
                  <a:lnTo>
                    <a:pt x="6936" y="943"/>
                  </a:lnTo>
                  <a:lnTo>
                    <a:pt x="8619" y="1111"/>
                  </a:lnTo>
                  <a:lnTo>
                    <a:pt x="8485" y="1785"/>
                  </a:lnTo>
                  <a:lnTo>
                    <a:pt x="8384" y="2492"/>
                  </a:lnTo>
                  <a:lnTo>
                    <a:pt x="8215" y="3872"/>
                  </a:lnTo>
                  <a:lnTo>
                    <a:pt x="7811" y="7003"/>
                  </a:lnTo>
                  <a:lnTo>
                    <a:pt x="7609" y="8619"/>
                  </a:lnTo>
                  <a:lnTo>
                    <a:pt x="7374" y="10202"/>
                  </a:lnTo>
                  <a:lnTo>
                    <a:pt x="6868" y="13400"/>
                  </a:lnTo>
                  <a:lnTo>
                    <a:pt x="5993" y="13333"/>
                  </a:lnTo>
                  <a:lnTo>
                    <a:pt x="5151" y="13232"/>
                  </a:lnTo>
                  <a:lnTo>
                    <a:pt x="4276" y="13097"/>
                  </a:lnTo>
                  <a:lnTo>
                    <a:pt x="3434" y="12962"/>
                  </a:lnTo>
                  <a:lnTo>
                    <a:pt x="2660" y="12828"/>
                  </a:lnTo>
                  <a:lnTo>
                    <a:pt x="1852" y="12693"/>
                  </a:lnTo>
                  <a:lnTo>
                    <a:pt x="1044" y="12626"/>
                  </a:lnTo>
                  <a:lnTo>
                    <a:pt x="640" y="12626"/>
                  </a:lnTo>
                  <a:lnTo>
                    <a:pt x="236" y="12659"/>
                  </a:lnTo>
                  <a:lnTo>
                    <a:pt x="1044" y="6431"/>
                  </a:lnTo>
                  <a:lnTo>
                    <a:pt x="1448" y="3266"/>
                  </a:lnTo>
                  <a:lnTo>
                    <a:pt x="1684" y="1717"/>
                  </a:lnTo>
                  <a:lnTo>
                    <a:pt x="1751" y="943"/>
                  </a:lnTo>
                  <a:lnTo>
                    <a:pt x="1818" y="169"/>
                  </a:lnTo>
                  <a:close/>
                  <a:moveTo>
                    <a:pt x="2155" y="0"/>
                  </a:moveTo>
                  <a:lnTo>
                    <a:pt x="1987" y="34"/>
                  </a:lnTo>
                  <a:lnTo>
                    <a:pt x="1818" y="68"/>
                  </a:lnTo>
                  <a:lnTo>
                    <a:pt x="1785" y="68"/>
                  </a:lnTo>
                  <a:lnTo>
                    <a:pt x="1751" y="34"/>
                  </a:lnTo>
                  <a:lnTo>
                    <a:pt x="1717" y="68"/>
                  </a:lnTo>
                  <a:lnTo>
                    <a:pt x="1684" y="101"/>
                  </a:lnTo>
                  <a:lnTo>
                    <a:pt x="1549" y="808"/>
                  </a:lnTo>
                  <a:lnTo>
                    <a:pt x="1414" y="1549"/>
                  </a:lnTo>
                  <a:lnTo>
                    <a:pt x="1246" y="2997"/>
                  </a:lnTo>
                  <a:lnTo>
                    <a:pt x="842" y="6162"/>
                  </a:lnTo>
                  <a:lnTo>
                    <a:pt x="0" y="12760"/>
                  </a:lnTo>
                  <a:lnTo>
                    <a:pt x="0" y="12828"/>
                  </a:lnTo>
                  <a:lnTo>
                    <a:pt x="68" y="12861"/>
                  </a:lnTo>
                  <a:lnTo>
                    <a:pt x="169" y="12861"/>
                  </a:lnTo>
                  <a:lnTo>
                    <a:pt x="202" y="12794"/>
                  </a:lnTo>
                  <a:lnTo>
                    <a:pt x="640" y="12895"/>
                  </a:lnTo>
                  <a:lnTo>
                    <a:pt x="1044" y="12929"/>
                  </a:lnTo>
                  <a:lnTo>
                    <a:pt x="1919" y="13030"/>
                  </a:lnTo>
                  <a:lnTo>
                    <a:pt x="2761" y="13131"/>
                  </a:lnTo>
                  <a:lnTo>
                    <a:pt x="3603" y="13232"/>
                  </a:lnTo>
                  <a:lnTo>
                    <a:pt x="4411" y="13400"/>
                  </a:lnTo>
                  <a:lnTo>
                    <a:pt x="5219" y="13535"/>
                  </a:lnTo>
                  <a:lnTo>
                    <a:pt x="6027" y="13636"/>
                  </a:lnTo>
                  <a:lnTo>
                    <a:pt x="6835" y="13636"/>
                  </a:lnTo>
                  <a:lnTo>
                    <a:pt x="6868" y="13737"/>
                  </a:lnTo>
                  <a:lnTo>
                    <a:pt x="6936" y="13771"/>
                  </a:lnTo>
                  <a:lnTo>
                    <a:pt x="7003" y="13771"/>
                  </a:lnTo>
                  <a:lnTo>
                    <a:pt x="7037" y="13737"/>
                  </a:lnTo>
                  <a:lnTo>
                    <a:pt x="7071" y="13703"/>
                  </a:lnTo>
                  <a:lnTo>
                    <a:pt x="7071" y="13602"/>
                  </a:lnTo>
                  <a:lnTo>
                    <a:pt x="7138" y="13569"/>
                  </a:lnTo>
                  <a:lnTo>
                    <a:pt x="7172" y="13535"/>
                  </a:lnTo>
                  <a:lnTo>
                    <a:pt x="7172" y="13468"/>
                  </a:lnTo>
                  <a:lnTo>
                    <a:pt x="7104" y="13400"/>
                  </a:lnTo>
                  <a:lnTo>
                    <a:pt x="7407" y="11952"/>
                  </a:lnTo>
                  <a:lnTo>
                    <a:pt x="7609" y="10471"/>
                  </a:lnTo>
                  <a:lnTo>
                    <a:pt x="8013" y="7542"/>
                  </a:lnTo>
                  <a:lnTo>
                    <a:pt x="8384" y="4411"/>
                  </a:lnTo>
                  <a:lnTo>
                    <a:pt x="8619" y="2761"/>
                  </a:lnTo>
                  <a:lnTo>
                    <a:pt x="8687" y="1953"/>
                  </a:lnTo>
                  <a:lnTo>
                    <a:pt x="8720" y="1515"/>
                  </a:lnTo>
                  <a:lnTo>
                    <a:pt x="8720" y="1111"/>
                  </a:lnTo>
                  <a:lnTo>
                    <a:pt x="8788" y="1078"/>
                  </a:lnTo>
                  <a:lnTo>
                    <a:pt x="8788" y="977"/>
                  </a:lnTo>
                  <a:lnTo>
                    <a:pt x="8754" y="909"/>
                  </a:lnTo>
                  <a:lnTo>
                    <a:pt x="8687" y="876"/>
                  </a:lnTo>
                  <a:lnTo>
                    <a:pt x="6835" y="674"/>
                  </a:lnTo>
                  <a:lnTo>
                    <a:pt x="5017" y="438"/>
                  </a:lnTo>
                  <a:lnTo>
                    <a:pt x="4141" y="303"/>
                  </a:lnTo>
                  <a:lnTo>
                    <a:pt x="3266" y="135"/>
                  </a:lnTo>
                  <a:lnTo>
                    <a:pt x="2896" y="68"/>
                  </a:lnTo>
                  <a:lnTo>
                    <a:pt x="2525" y="34"/>
                  </a:lnTo>
                  <a:lnTo>
                    <a:pt x="215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hape 521"/>
            <p:cNvSpPr/>
            <p:nvPr/>
          </p:nvSpPr>
          <p:spPr>
            <a:xfrm>
              <a:off x="1744560" y="6383520"/>
              <a:ext cx="161640" cy="169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425" h="2560">
                  <a:moveTo>
                    <a:pt x="1886" y="0"/>
                  </a:moveTo>
                  <a:lnTo>
                    <a:pt x="1684" y="34"/>
                  </a:lnTo>
                  <a:lnTo>
                    <a:pt x="1347" y="101"/>
                  </a:lnTo>
                  <a:lnTo>
                    <a:pt x="741" y="169"/>
                  </a:lnTo>
                  <a:lnTo>
                    <a:pt x="438" y="202"/>
                  </a:lnTo>
                  <a:lnTo>
                    <a:pt x="135" y="303"/>
                  </a:lnTo>
                  <a:lnTo>
                    <a:pt x="135" y="236"/>
                  </a:lnTo>
                  <a:lnTo>
                    <a:pt x="102" y="202"/>
                  </a:lnTo>
                  <a:lnTo>
                    <a:pt x="68" y="202"/>
                  </a:lnTo>
                  <a:lnTo>
                    <a:pt x="34" y="236"/>
                  </a:lnTo>
                  <a:lnTo>
                    <a:pt x="1" y="472"/>
                  </a:lnTo>
                  <a:lnTo>
                    <a:pt x="34" y="707"/>
                  </a:lnTo>
                  <a:lnTo>
                    <a:pt x="68" y="1145"/>
                  </a:lnTo>
                  <a:lnTo>
                    <a:pt x="169" y="1852"/>
                  </a:lnTo>
                  <a:lnTo>
                    <a:pt x="270" y="2222"/>
                  </a:lnTo>
                  <a:lnTo>
                    <a:pt x="371" y="2492"/>
                  </a:lnTo>
                  <a:lnTo>
                    <a:pt x="405" y="2559"/>
                  </a:lnTo>
                  <a:lnTo>
                    <a:pt x="438" y="2559"/>
                  </a:lnTo>
                  <a:lnTo>
                    <a:pt x="506" y="2525"/>
                  </a:lnTo>
                  <a:lnTo>
                    <a:pt x="506" y="2458"/>
                  </a:lnTo>
                  <a:lnTo>
                    <a:pt x="405" y="1785"/>
                  </a:lnTo>
                  <a:lnTo>
                    <a:pt x="270" y="1111"/>
                  </a:lnTo>
                  <a:lnTo>
                    <a:pt x="236" y="741"/>
                  </a:lnTo>
                  <a:lnTo>
                    <a:pt x="169" y="371"/>
                  </a:lnTo>
                  <a:lnTo>
                    <a:pt x="573" y="371"/>
                  </a:lnTo>
                  <a:lnTo>
                    <a:pt x="977" y="303"/>
                  </a:lnTo>
                  <a:lnTo>
                    <a:pt x="1886" y="169"/>
                  </a:lnTo>
                  <a:lnTo>
                    <a:pt x="1920" y="202"/>
                  </a:lnTo>
                  <a:lnTo>
                    <a:pt x="1987" y="202"/>
                  </a:lnTo>
                  <a:lnTo>
                    <a:pt x="2021" y="472"/>
                  </a:lnTo>
                  <a:lnTo>
                    <a:pt x="2054" y="775"/>
                  </a:lnTo>
                  <a:lnTo>
                    <a:pt x="2223" y="2121"/>
                  </a:lnTo>
                  <a:lnTo>
                    <a:pt x="2021" y="2121"/>
                  </a:lnTo>
                  <a:lnTo>
                    <a:pt x="1819" y="2155"/>
                  </a:lnTo>
                  <a:lnTo>
                    <a:pt x="1415" y="2222"/>
                  </a:lnTo>
                  <a:lnTo>
                    <a:pt x="943" y="2256"/>
                  </a:lnTo>
                  <a:lnTo>
                    <a:pt x="674" y="2323"/>
                  </a:lnTo>
                  <a:lnTo>
                    <a:pt x="573" y="2391"/>
                  </a:lnTo>
                  <a:lnTo>
                    <a:pt x="506" y="2458"/>
                  </a:lnTo>
                  <a:lnTo>
                    <a:pt x="607" y="2525"/>
                  </a:lnTo>
                  <a:lnTo>
                    <a:pt x="674" y="2559"/>
                  </a:lnTo>
                  <a:lnTo>
                    <a:pt x="910" y="2525"/>
                  </a:lnTo>
                  <a:lnTo>
                    <a:pt x="1314" y="2458"/>
                  </a:lnTo>
                  <a:lnTo>
                    <a:pt x="1819" y="2391"/>
                  </a:lnTo>
                  <a:lnTo>
                    <a:pt x="2054" y="2357"/>
                  </a:lnTo>
                  <a:lnTo>
                    <a:pt x="2257" y="2290"/>
                  </a:lnTo>
                  <a:lnTo>
                    <a:pt x="2324" y="2323"/>
                  </a:lnTo>
                  <a:lnTo>
                    <a:pt x="2391" y="2323"/>
                  </a:lnTo>
                  <a:lnTo>
                    <a:pt x="2425" y="2290"/>
                  </a:lnTo>
                  <a:lnTo>
                    <a:pt x="2425" y="2222"/>
                  </a:lnTo>
                  <a:lnTo>
                    <a:pt x="2223" y="876"/>
                  </a:lnTo>
                  <a:lnTo>
                    <a:pt x="2189" y="438"/>
                  </a:lnTo>
                  <a:lnTo>
                    <a:pt x="2155" y="236"/>
                  </a:lnTo>
                  <a:lnTo>
                    <a:pt x="2054" y="34"/>
                  </a:lnTo>
                  <a:lnTo>
                    <a:pt x="2021" y="68"/>
                  </a:lnTo>
                  <a:lnTo>
                    <a:pt x="1953" y="34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2920" bIns="52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hape 522"/>
            <p:cNvSpPr/>
            <p:nvPr/>
          </p:nvSpPr>
          <p:spPr>
            <a:xfrm>
              <a:off x="2043000" y="44830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77" h="371">
                  <a:moveTo>
                    <a:pt x="236" y="1"/>
                  </a:moveTo>
                  <a:lnTo>
                    <a:pt x="135" y="34"/>
                  </a:lnTo>
                  <a:lnTo>
                    <a:pt x="34" y="102"/>
                  </a:lnTo>
                  <a:lnTo>
                    <a:pt x="1" y="102"/>
                  </a:lnTo>
                  <a:lnTo>
                    <a:pt x="1" y="135"/>
                  </a:lnTo>
                  <a:lnTo>
                    <a:pt x="1" y="169"/>
                  </a:lnTo>
                  <a:lnTo>
                    <a:pt x="34" y="203"/>
                  </a:lnTo>
                  <a:lnTo>
                    <a:pt x="203" y="236"/>
                  </a:lnTo>
                  <a:lnTo>
                    <a:pt x="371" y="270"/>
                  </a:lnTo>
                  <a:lnTo>
                    <a:pt x="607" y="304"/>
                  </a:lnTo>
                  <a:lnTo>
                    <a:pt x="809" y="371"/>
                  </a:lnTo>
                  <a:lnTo>
                    <a:pt x="910" y="371"/>
                  </a:lnTo>
                  <a:lnTo>
                    <a:pt x="977" y="304"/>
                  </a:lnTo>
                  <a:lnTo>
                    <a:pt x="977" y="203"/>
                  </a:lnTo>
                  <a:lnTo>
                    <a:pt x="910" y="135"/>
                  </a:lnTo>
                  <a:lnTo>
                    <a:pt x="708" y="34"/>
                  </a:lnTo>
                  <a:lnTo>
                    <a:pt x="47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2880" bIns="-92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hape 523"/>
            <p:cNvSpPr/>
            <p:nvPr/>
          </p:nvSpPr>
          <p:spPr>
            <a:xfrm>
              <a:off x="4267080" y="5524560"/>
              <a:ext cx="590400" cy="9795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8889" h="14748">
                  <a:moveTo>
                    <a:pt x="4882" y="304"/>
                  </a:moveTo>
                  <a:lnTo>
                    <a:pt x="4815" y="472"/>
                  </a:lnTo>
                  <a:lnTo>
                    <a:pt x="4545" y="371"/>
                  </a:lnTo>
                  <a:lnTo>
                    <a:pt x="4882" y="304"/>
                  </a:lnTo>
                  <a:close/>
                  <a:moveTo>
                    <a:pt x="4781" y="4344"/>
                  </a:moveTo>
                  <a:lnTo>
                    <a:pt x="4815" y="4411"/>
                  </a:lnTo>
                  <a:lnTo>
                    <a:pt x="4747" y="4411"/>
                  </a:lnTo>
                  <a:lnTo>
                    <a:pt x="4545" y="4479"/>
                  </a:lnTo>
                  <a:lnTo>
                    <a:pt x="4545" y="4344"/>
                  </a:lnTo>
                  <a:lnTo>
                    <a:pt x="4613" y="4411"/>
                  </a:lnTo>
                  <a:lnTo>
                    <a:pt x="4747" y="4411"/>
                  </a:lnTo>
                  <a:lnTo>
                    <a:pt x="4781" y="4344"/>
                  </a:lnTo>
                  <a:close/>
                  <a:moveTo>
                    <a:pt x="5556" y="270"/>
                  </a:moveTo>
                  <a:lnTo>
                    <a:pt x="5892" y="304"/>
                  </a:lnTo>
                  <a:lnTo>
                    <a:pt x="6195" y="405"/>
                  </a:lnTo>
                  <a:lnTo>
                    <a:pt x="6498" y="540"/>
                  </a:lnTo>
                  <a:lnTo>
                    <a:pt x="6801" y="742"/>
                  </a:lnTo>
                  <a:lnTo>
                    <a:pt x="7037" y="977"/>
                  </a:lnTo>
                  <a:lnTo>
                    <a:pt x="7273" y="1213"/>
                  </a:lnTo>
                  <a:lnTo>
                    <a:pt x="7508" y="1482"/>
                  </a:lnTo>
                  <a:lnTo>
                    <a:pt x="7677" y="1785"/>
                  </a:lnTo>
                  <a:lnTo>
                    <a:pt x="7946" y="2290"/>
                  </a:lnTo>
                  <a:lnTo>
                    <a:pt x="8148" y="2863"/>
                  </a:lnTo>
                  <a:lnTo>
                    <a:pt x="8316" y="3469"/>
                  </a:lnTo>
                  <a:lnTo>
                    <a:pt x="8451" y="4108"/>
                  </a:lnTo>
                  <a:lnTo>
                    <a:pt x="8518" y="4748"/>
                  </a:lnTo>
                  <a:lnTo>
                    <a:pt x="8586" y="5354"/>
                  </a:lnTo>
                  <a:lnTo>
                    <a:pt x="8653" y="6566"/>
                  </a:lnTo>
                  <a:lnTo>
                    <a:pt x="8653" y="7172"/>
                  </a:lnTo>
                  <a:lnTo>
                    <a:pt x="8653" y="7778"/>
                  </a:lnTo>
                  <a:lnTo>
                    <a:pt x="8653" y="8384"/>
                  </a:lnTo>
                  <a:lnTo>
                    <a:pt x="8586" y="9024"/>
                  </a:lnTo>
                  <a:lnTo>
                    <a:pt x="8518" y="9630"/>
                  </a:lnTo>
                  <a:lnTo>
                    <a:pt x="8417" y="10236"/>
                  </a:lnTo>
                  <a:lnTo>
                    <a:pt x="8283" y="10808"/>
                  </a:lnTo>
                  <a:lnTo>
                    <a:pt x="8114" y="11414"/>
                  </a:lnTo>
                  <a:lnTo>
                    <a:pt x="7946" y="11818"/>
                  </a:lnTo>
                  <a:lnTo>
                    <a:pt x="8081" y="11010"/>
                  </a:lnTo>
                  <a:lnTo>
                    <a:pt x="8182" y="10169"/>
                  </a:lnTo>
                  <a:lnTo>
                    <a:pt x="8249" y="9361"/>
                  </a:lnTo>
                  <a:lnTo>
                    <a:pt x="8283" y="8553"/>
                  </a:lnTo>
                  <a:lnTo>
                    <a:pt x="8316" y="7542"/>
                  </a:lnTo>
                  <a:lnTo>
                    <a:pt x="8316" y="6499"/>
                  </a:lnTo>
                  <a:lnTo>
                    <a:pt x="8283" y="5489"/>
                  </a:lnTo>
                  <a:lnTo>
                    <a:pt x="8182" y="4479"/>
                  </a:lnTo>
                  <a:lnTo>
                    <a:pt x="8013" y="3671"/>
                  </a:lnTo>
                  <a:lnTo>
                    <a:pt x="7912" y="3267"/>
                  </a:lnTo>
                  <a:lnTo>
                    <a:pt x="7778" y="2896"/>
                  </a:lnTo>
                  <a:lnTo>
                    <a:pt x="7643" y="2492"/>
                  </a:lnTo>
                  <a:lnTo>
                    <a:pt x="7475" y="2122"/>
                  </a:lnTo>
                  <a:lnTo>
                    <a:pt x="7239" y="1785"/>
                  </a:lnTo>
                  <a:lnTo>
                    <a:pt x="7003" y="1449"/>
                  </a:lnTo>
                  <a:lnTo>
                    <a:pt x="6835" y="1213"/>
                  </a:lnTo>
                  <a:lnTo>
                    <a:pt x="6633" y="1011"/>
                  </a:lnTo>
                  <a:lnTo>
                    <a:pt x="6397" y="809"/>
                  </a:lnTo>
                  <a:lnTo>
                    <a:pt x="6128" y="641"/>
                  </a:lnTo>
                  <a:lnTo>
                    <a:pt x="5859" y="506"/>
                  </a:lnTo>
                  <a:lnTo>
                    <a:pt x="5589" y="405"/>
                  </a:lnTo>
                  <a:lnTo>
                    <a:pt x="5185" y="405"/>
                  </a:lnTo>
                  <a:lnTo>
                    <a:pt x="5050" y="439"/>
                  </a:lnTo>
                  <a:lnTo>
                    <a:pt x="5050" y="304"/>
                  </a:lnTo>
                  <a:lnTo>
                    <a:pt x="5556" y="270"/>
                  </a:lnTo>
                  <a:close/>
                  <a:moveTo>
                    <a:pt x="5421" y="573"/>
                  </a:moveTo>
                  <a:lnTo>
                    <a:pt x="5623" y="607"/>
                  </a:lnTo>
                  <a:lnTo>
                    <a:pt x="5825" y="674"/>
                  </a:lnTo>
                  <a:lnTo>
                    <a:pt x="5993" y="775"/>
                  </a:lnTo>
                  <a:lnTo>
                    <a:pt x="6162" y="876"/>
                  </a:lnTo>
                  <a:lnTo>
                    <a:pt x="6465" y="1146"/>
                  </a:lnTo>
                  <a:lnTo>
                    <a:pt x="6768" y="1449"/>
                  </a:lnTo>
                  <a:lnTo>
                    <a:pt x="7003" y="1819"/>
                  </a:lnTo>
                  <a:lnTo>
                    <a:pt x="7239" y="2156"/>
                  </a:lnTo>
                  <a:lnTo>
                    <a:pt x="7407" y="2492"/>
                  </a:lnTo>
                  <a:lnTo>
                    <a:pt x="7576" y="2863"/>
                  </a:lnTo>
                  <a:lnTo>
                    <a:pt x="7677" y="3233"/>
                  </a:lnTo>
                  <a:lnTo>
                    <a:pt x="7778" y="3603"/>
                  </a:lnTo>
                  <a:lnTo>
                    <a:pt x="7879" y="3974"/>
                  </a:lnTo>
                  <a:lnTo>
                    <a:pt x="7980" y="4748"/>
                  </a:lnTo>
                  <a:lnTo>
                    <a:pt x="8047" y="5522"/>
                  </a:lnTo>
                  <a:lnTo>
                    <a:pt x="8081" y="6398"/>
                  </a:lnTo>
                  <a:lnTo>
                    <a:pt x="8081" y="7273"/>
                  </a:lnTo>
                  <a:lnTo>
                    <a:pt x="8081" y="8149"/>
                  </a:lnTo>
                  <a:lnTo>
                    <a:pt x="8047" y="9024"/>
                  </a:lnTo>
                  <a:lnTo>
                    <a:pt x="7980" y="9899"/>
                  </a:lnTo>
                  <a:lnTo>
                    <a:pt x="7879" y="10775"/>
                  </a:lnTo>
                  <a:lnTo>
                    <a:pt x="7744" y="11650"/>
                  </a:lnTo>
                  <a:lnTo>
                    <a:pt x="7576" y="12525"/>
                  </a:lnTo>
                  <a:lnTo>
                    <a:pt x="7441" y="12727"/>
                  </a:lnTo>
                  <a:lnTo>
                    <a:pt x="7508" y="12559"/>
                  </a:lnTo>
                  <a:lnTo>
                    <a:pt x="7542" y="12357"/>
                  </a:lnTo>
                  <a:lnTo>
                    <a:pt x="7576" y="12155"/>
                  </a:lnTo>
                  <a:lnTo>
                    <a:pt x="7576" y="11953"/>
                  </a:lnTo>
                  <a:lnTo>
                    <a:pt x="7542" y="11886"/>
                  </a:lnTo>
                  <a:lnTo>
                    <a:pt x="7441" y="11886"/>
                  </a:lnTo>
                  <a:lnTo>
                    <a:pt x="7407" y="11953"/>
                  </a:lnTo>
                  <a:lnTo>
                    <a:pt x="7340" y="12323"/>
                  </a:lnTo>
                  <a:lnTo>
                    <a:pt x="7239" y="12626"/>
                  </a:lnTo>
                  <a:lnTo>
                    <a:pt x="7071" y="12896"/>
                  </a:lnTo>
                  <a:lnTo>
                    <a:pt x="6902" y="13131"/>
                  </a:lnTo>
                  <a:lnTo>
                    <a:pt x="6667" y="13333"/>
                  </a:lnTo>
                  <a:lnTo>
                    <a:pt x="6431" y="13535"/>
                  </a:lnTo>
                  <a:lnTo>
                    <a:pt x="6162" y="13670"/>
                  </a:lnTo>
                  <a:lnTo>
                    <a:pt x="5859" y="13805"/>
                  </a:lnTo>
                  <a:lnTo>
                    <a:pt x="5556" y="13906"/>
                  </a:lnTo>
                  <a:lnTo>
                    <a:pt x="5253" y="13973"/>
                  </a:lnTo>
                  <a:lnTo>
                    <a:pt x="4579" y="14074"/>
                  </a:lnTo>
                  <a:lnTo>
                    <a:pt x="3939" y="14108"/>
                  </a:lnTo>
                  <a:lnTo>
                    <a:pt x="3300" y="14074"/>
                  </a:lnTo>
                  <a:lnTo>
                    <a:pt x="2896" y="14040"/>
                  </a:lnTo>
                  <a:lnTo>
                    <a:pt x="2492" y="13973"/>
                  </a:lnTo>
                  <a:lnTo>
                    <a:pt x="2155" y="13838"/>
                  </a:lnTo>
                  <a:lnTo>
                    <a:pt x="1852" y="13636"/>
                  </a:lnTo>
                  <a:lnTo>
                    <a:pt x="1616" y="13434"/>
                  </a:lnTo>
                  <a:lnTo>
                    <a:pt x="1381" y="13199"/>
                  </a:lnTo>
                  <a:lnTo>
                    <a:pt x="1179" y="12929"/>
                  </a:lnTo>
                  <a:lnTo>
                    <a:pt x="1010" y="12626"/>
                  </a:lnTo>
                  <a:lnTo>
                    <a:pt x="909" y="12290"/>
                  </a:lnTo>
                  <a:lnTo>
                    <a:pt x="808" y="11953"/>
                  </a:lnTo>
                  <a:lnTo>
                    <a:pt x="707" y="11583"/>
                  </a:lnTo>
                  <a:lnTo>
                    <a:pt x="674" y="11246"/>
                  </a:lnTo>
                  <a:lnTo>
                    <a:pt x="640" y="10876"/>
                  </a:lnTo>
                  <a:lnTo>
                    <a:pt x="640" y="10472"/>
                  </a:lnTo>
                  <a:lnTo>
                    <a:pt x="640" y="9765"/>
                  </a:lnTo>
                  <a:lnTo>
                    <a:pt x="808" y="8418"/>
                  </a:lnTo>
                  <a:lnTo>
                    <a:pt x="1044" y="7071"/>
                  </a:lnTo>
                  <a:lnTo>
                    <a:pt x="1313" y="5758"/>
                  </a:lnTo>
                  <a:lnTo>
                    <a:pt x="1650" y="4445"/>
                  </a:lnTo>
                  <a:lnTo>
                    <a:pt x="1852" y="3839"/>
                  </a:lnTo>
                  <a:lnTo>
                    <a:pt x="2020" y="3267"/>
                  </a:lnTo>
                  <a:lnTo>
                    <a:pt x="2256" y="2694"/>
                  </a:lnTo>
                  <a:lnTo>
                    <a:pt x="2559" y="2156"/>
                  </a:lnTo>
                  <a:lnTo>
                    <a:pt x="2761" y="1853"/>
                  </a:lnTo>
                  <a:lnTo>
                    <a:pt x="2997" y="1583"/>
                  </a:lnTo>
                  <a:lnTo>
                    <a:pt x="3232" y="1381"/>
                  </a:lnTo>
                  <a:lnTo>
                    <a:pt x="3502" y="1213"/>
                  </a:lnTo>
                  <a:lnTo>
                    <a:pt x="3771" y="1078"/>
                  </a:lnTo>
                  <a:lnTo>
                    <a:pt x="4074" y="944"/>
                  </a:lnTo>
                  <a:lnTo>
                    <a:pt x="4747" y="742"/>
                  </a:lnTo>
                  <a:lnTo>
                    <a:pt x="4646" y="1179"/>
                  </a:lnTo>
                  <a:lnTo>
                    <a:pt x="4579" y="1651"/>
                  </a:lnTo>
                  <a:lnTo>
                    <a:pt x="4411" y="1752"/>
                  </a:lnTo>
                  <a:lnTo>
                    <a:pt x="4343" y="1752"/>
                  </a:lnTo>
                  <a:lnTo>
                    <a:pt x="4242" y="1785"/>
                  </a:lnTo>
                  <a:lnTo>
                    <a:pt x="4209" y="1886"/>
                  </a:lnTo>
                  <a:lnTo>
                    <a:pt x="3939" y="3401"/>
                  </a:lnTo>
                  <a:lnTo>
                    <a:pt x="3737" y="4950"/>
                  </a:lnTo>
                  <a:lnTo>
                    <a:pt x="3771" y="5017"/>
                  </a:lnTo>
                  <a:lnTo>
                    <a:pt x="3805" y="5085"/>
                  </a:lnTo>
                  <a:lnTo>
                    <a:pt x="3872" y="5118"/>
                  </a:lnTo>
                  <a:lnTo>
                    <a:pt x="3939" y="5118"/>
                  </a:lnTo>
                  <a:lnTo>
                    <a:pt x="4141" y="5051"/>
                  </a:lnTo>
                  <a:lnTo>
                    <a:pt x="3872" y="6532"/>
                  </a:lnTo>
                  <a:lnTo>
                    <a:pt x="3468" y="6465"/>
                  </a:lnTo>
                  <a:lnTo>
                    <a:pt x="3064" y="6364"/>
                  </a:lnTo>
                  <a:lnTo>
                    <a:pt x="2256" y="6128"/>
                  </a:lnTo>
                  <a:lnTo>
                    <a:pt x="2222" y="6128"/>
                  </a:lnTo>
                  <a:lnTo>
                    <a:pt x="2189" y="6162"/>
                  </a:lnTo>
                  <a:lnTo>
                    <a:pt x="2155" y="6196"/>
                  </a:lnTo>
                  <a:lnTo>
                    <a:pt x="2189" y="6229"/>
                  </a:lnTo>
                  <a:lnTo>
                    <a:pt x="2357" y="6364"/>
                  </a:lnTo>
                  <a:lnTo>
                    <a:pt x="2525" y="6499"/>
                  </a:lnTo>
                  <a:lnTo>
                    <a:pt x="2929" y="6701"/>
                  </a:lnTo>
                  <a:lnTo>
                    <a:pt x="3367" y="6835"/>
                  </a:lnTo>
                  <a:lnTo>
                    <a:pt x="3805" y="6936"/>
                  </a:lnTo>
                  <a:lnTo>
                    <a:pt x="3872" y="7004"/>
                  </a:lnTo>
                  <a:lnTo>
                    <a:pt x="3939" y="7037"/>
                  </a:lnTo>
                  <a:lnTo>
                    <a:pt x="4007" y="7037"/>
                  </a:lnTo>
                  <a:lnTo>
                    <a:pt x="4074" y="6970"/>
                  </a:lnTo>
                  <a:lnTo>
                    <a:pt x="4646" y="6970"/>
                  </a:lnTo>
                  <a:lnTo>
                    <a:pt x="5253" y="6936"/>
                  </a:lnTo>
                  <a:lnTo>
                    <a:pt x="5791" y="6869"/>
                  </a:lnTo>
                  <a:lnTo>
                    <a:pt x="6296" y="6734"/>
                  </a:lnTo>
                  <a:lnTo>
                    <a:pt x="6364" y="6701"/>
                  </a:lnTo>
                  <a:lnTo>
                    <a:pt x="6397" y="6667"/>
                  </a:lnTo>
                  <a:lnTo>
                    <a:pt x="6397" y="6532"/>
                  </a:lnTo>
                  <a:lnTo>
                    <a:pt x="6330" y="6465"/>
                  </a:lnTo>
                  <a:lnTo>
                    <a:pt x="6296" y="6431"/>
                  </a:lnTo>
                  <a:lnTo>
                    <a:pt x="6229" y="6431"/>
                  </a:lnTo>
                  <a:lnTo>
                    <a:pt x="5690" y="6532"/>
                  </a:lnTo>
                  <a:lnTo>
                    <a:pt x="5185" y="6600"/>
                  </a:lnTo>
                  <a:lnTo>
                    <a:pt x="4646" y="6600"/>
                  </a:lnTo>
                  <a:lnTo>
                    <a:pt x="4175" y="6566"/>
                  </a:lnTo>
                  <a:lnTo>
                    <a:pt x="4310" y="5758"/>
                  </a:lnTo>
                  <a:lnTo>
                    <a:pt x="4478" y="4950"/>
                  </a:lnTo>
                  <a:lnTo>
                    <a:pt x="5017" y="4815"/>
                  </a:lnTo>
                  <a:lnTo>
                    <a:pt x="5084" y="4815"/>
                  </a:lnTo>
                  <a:lnTo>
                    <a:pt x="5118" y="4748"/>
                  </a:lnTo>
                  <a:lnTo>
                    <a:pt x="5151" y="4647"/>
                  </a:lnTo>
                  <a:lnTo>
                    <a:pt x="5050" y="3940"/>
                  </a:lnTo>
                  <a:lnTo>
                    <a:pt x="5084" y="3233"/>
                  </a:lnTo>
                  <a:lnTo>
                    <a:pt x="5151" y="2526"/>
                  </a:lnTo>
                  <a:lnTo>
                    <a:pt x="5320" y="1853"/>
                  </a:lnTo>
                  <a:lnTo>
                    <a:pt x="5320" y="1819"/>
                  </a:lnTo>
                  <a:lnTo>
                    <a:pt x="5387" y="1785"/>
                  </a:lnTo>
                  <a:lnTo>
                    <a:pt x="5387" y="1684"/>
                  </a:lnTo>
                  <a:lnTo>
                    <a:pt x="5354" y="1617"/>
                  </a:lnTo>
                  <a:lnTo>
                    <a:pt x="5286" y="1583"/>
                  </a:lnTo>
                  <a:lnTo>
                    <a:pt x="5185" y="1550"/>
                  </a:lnTo>
                  <a:lnTo>
                    <a:pt x="4882" y="1550"/>
                  </a:lnTo>
                  <a:lnTo>
                    <a:pt x="4983" y="775"/>
                  </a:lnTo>
                  <a:lnTo>
                    <a:pt x="5050" y="742"/>
                  </a:lnTo>
                  <a:lnTo>
                    <a:pt x="5050" y="674"/>
                  </a:lnTo>
                  <a:lnTo>
                    <a:pt x="5050" y="641"/>
                  </a:lnTo>
                  <a:lnTo>
                    <a:pt x="5017" y="607"/>
                  </a:lnTo>
                  <a:lnTo>
                    <a:pt x="5219" y="573"/>
                  </a:lnTo>
                  <a:close/>
                  <a:moveTo>
                    <a:pt x="4108" y="506"/>
                  </a:moveTo>
                  <a:lnTo>
                    <a:pt x="4310" y="540"/>
                  </a:lnTo>
                  <a:lnTo>
                    <a:pt x="4512" y="607"/>
                  </a:lnTo>
                  <a:lnTo>
                    <a:pt x="4714" y="674"/>
                  </a:lnTo>
                  <a:lnTo>
                    <a:pt x="4478" y="641"/>
                  </a:lnTo>
                  <a:lnTo>
                    <a:pt x="4209" y="641"/>
                  </a:lnTo>
                  <a:lnTo>
                    <a:pt x="3973" y="708"/>
                  </a:lnTo>
                  <a:lnTo>
                    <a:pt x="3737" y="775"/>
                  </a:lnTo>
                  <a:lnTo>
                    <a:pt x="3502" y="910"/>
                  </a:lnTo>
                  <a:lnTo>
                    <a:pt x="3266" y="1045"/>
                  </a:lnTo>
                  <a:lnTo>
                    <a:pt x="2896" y="1381"/>
                  </a:lnTo>
                  <a:lnTo>
                    <a:pt x="2626" y="1617"/>
                  </a:lnTo>
                  <a:lnTo>
                    <a:pt x="2424" y="1920"/>
                  </a:lnTo>
                  <a:lnTo>
                    <a:pt x="2222" y="2223"/>
                  </a:lnTo>
                  <a:lnTo>
                    <a:pt x="2088" y="2526"/>
                  </a:lnTo>
                  <a:lnTo>
                    <a:pt x="1818" y="3199"/>
                  </a:lnTo>
                  <a:lnTo>
                    <a:pt x="1583" y="3873"/>
                  </a:lnTo>
                  <a:lnTo>
                    <a:pt x="1313" y="4748"/>
                  </a:lnTo>
                  <a:lnTo>
                    <a:pt x="1078" y="5657"/>
                  </a:lnTo>
                  <a:lnTo>
                    <a:pt x="842" y="6600"/>
                  </a:lnTo>
                  <a:lnTo>
                    <a:pt x="674" y="7542"/>
                  </a:lnTo>
                  <a:lnTo>
                    <a:pt x="505" y="8485"/>
                  </a:lnTo>
                  <a:lnTo>
                    <a:pt x="404" y="9428"/>
                  </a:lnTo>
                  <a:lnTo>
                    <a:pt x="371" y="10337"/>
                  </a:lnTo>
                  <a:lnTo>
                    <a:pt x="404" y="11280"/>
                  </a:lnTo>
                  <a:lnTo>
                    <a:pt x="438" y="11583"/>
                  </a:lnTo>
                  <a:lnTo>
                    <a:pt x="472" y="11886"/>
                  </a:lnTo>
                  <a:lnTo>
                    <a:pt x="573" y="12155"/>
                  </a:lnTo>
                  <a:lnTo>
                    <a:pt x="674" y="12458"/>
                  </a:lnTo>
                  <a:lnTo>
                    <a:pt x="775" y="12727"/>
                  </a:lnTo>
                  <a:lnTo>
                    <a:pt x="943" y="12963"/>
                  </a:lnTo>
                  <a:lnTo>
                    <a:pt x="1078" y="13232"/>
                  </a:lnTo>
                  <a:lnTo>
                    <a:pt x="1280" y="13468"/>
                  </a:lnTo>
                  <a:lnTo>
                    <a:pt x="1515" y="13704"/>
                  </a:lnTo>
                  <a:lnTo>
                    <a:pt x="1818" y="13906"/>
                  </a:lnTo>
                  <a:lnTo>
                    <a:pt x="2121" y="14074"/>
                  </a:lnTo>
                  <a:lnTo>
                    <a:pt x="2424" y="14175"/>
                  </a:lnTo>
                  <a:lnTo>
                    <a:pt x="2761" y="14242"/>
                  </a:lnTo>
                  <a:lnTo>
                    <a:pt x="3098" y="14310"/>
                  </a:lnTo>
                  <a:lnTo>
                    <a:pt x="4310" y="14310"/>
                  </a:lnTo>
                  <a:lnTo>
                    <a:pt x="4882" y="14242"/>
                  </a:lnTo>
                  <a:lnTo>
                    <a:pt x="5455" y="14141"/>
                  </a:lnTo>
                  <a:lnTo>
                    <a:pt x="6027" y="13973"/>
                  </a:lnTo>
                  <a:lnTo>
                    <a:pt x="5623" y="14141"/>
                  </a:lnTo>
                  <a:lnTo>
                    <a:pt x="5219" y="14276"/>
                  </a:lnTo>
                  <a:lnTo>
                    <a:pt x="4781" y="14377"/>
                  </a:lnTo>
                  <a:lnTo>
                    <a:pt x="4343" y="14444"/>
                  </a:lnTo>
                  <a:lnTo>
                    <a:pt x="3737" y="14478"/>
                  </a:lnTo>
                  <a:lnTo>
                    <a:pt x="3131" y="14478"/>
                  </a:lnTo>
                  <a:lnTo>
                    <a:pt x="2559" y="14411"/>
                  </a:lnTo>
                  <a:lnTo>
                    <a:pt x="2290" y="14377"/>
                  </a:lnTo>
                  <a:lnTo>
                    <a:pt x="2020" y="14276"/>
                  </a:lnTo>
                  <a:lnTo>
                    <a:pt x="1751" y="14175"/>
                  </a:lnTo>
                  <a:lnTo>
                    <a:pt x="1515" y="14074"/>
                  </a:lnTo>
                  <a:lnTo>
                    <a:pt x="1313" y="13906"/>
                  </a:lnTo>
                  <a:lnTo>
                    <a:pt x="1078" y="13737"/>
                  </a:lnTo>
                  <a:lnTo>
                    <a:pt x="909" y="13535"/>
                  </a:lnTo>
                  <a:lnTo>
                    <a:pt x="741" y="13266"/>
                  </a:lnTo>
                  <a:lnTo>
                    <a:pt x="606" y="12997"/>
                  </a:lnTo>
                  <a:lnTo>
                    <a:pt x="472" y="12694"/>
                  </a:lnTo>
                  <a:lnTo>
                    <a:pt x="371" y="12155"/>
                  </a:lnTo>
                  <a:lnTo>
                    <a:pt x="270" y="11616"/>
                  </a:lnTo>
                  <a:lnTo>
                    <a:pt x="236" y="11044"/>
                  </a:lnTo>
                  <a:lnTo>
                    <a:pt x="270" y="10472"/>
                  </a:lnTo>
                  <a:lnTo>
                    <a:pt x="337" y="9327"/>
                  </a:lnTo>
                  <a:lnTo>
                    <a:pt x="438" y="8216"/>
                  </a:lnTo>
                  <a:lnTo>
                    <a:pt x="606" y="6970"/>
                  </a:lnTo>
                  <a:lnTo>
                    <a:pt x="775" y="5724"/>
                  </a:lnTo>
                  <a:lnTo>
                    <a:pt x="1044" y="4512"/>
                  </a:lnTo>
                  <a:lnTo>
                    <a:pt x="1347" y="3267"/>
                  </a:lnTo>
                  <a:lnTo>
                    <a:pt x="1482" y="2896"/>
                  </a:lnTo>
                  <a:lnTo>
                    <a:pt x="1616" y="2526"/>
                  </a:lnTo>
                  <a:lnTo>
                    <a:pt x="1818" y="2122"/>
                  </a:lnTo>
                  <a:lnTo>
                    <a:pt x="2054" y="1752"/>
                  </a:lnTo>
                  <a:lnTo>
                    <a:pt x="2323" y="1415"/>
                  </a:lnTo>
                  <a:lnTo>
                    <a:pt x="2593" y="1112"/>
                  </a:lnTo>
                  <a:lnTo>
                    <a:pt x="2929" y="876"/>
                  </a:lnTo>
                  <a:lnTo>
                    <a:pt x="3266" y="674"/>
                  </a:lnTo>
                  <a:lnTo>
                    <a:pt x="3906" y="506"/>
                  </a:lnTo>
                  <a:close/>
                  <a:moveTo>
                    <a:pt x="5017" y="1"/>
                  </a:moveTo>
                  <a:lnTo>
                    <a:pt x="5017" y="35"/>
                  </a:lnTo>
                  <a:lnTo>
                    <a:pt x="4512" y="136"/>
                  </a:lnTo>
                  <a:lnTo>
                    <a:pt x="4007" y="237"/>
                  </a:lnTo>
                  <a:lnTo>
                    <a:pt x="3030" y="472"/>
                  </a:lnTo>
                  <a:lnTo>
                    <a:pt x="2963" y="506"/>
                  </a:lnTo>
                  <a:lnTo>
                    <a:pt x="2929" y="573"/>
                  </a:lnTo>
                  <a:lnTo>
                    <a:pt x="2593" y="775"/>
                  </a:lnTo>
                  <a:lnTo>
                    <a:pt x="2290" y="1045"/>
                  </a:lnTo>
                  <a:lnTo>
                    <a:pt x="2020" y="1314"/>
                  </a:lnTo>
                  <a:lnTo>
                    <a:pt x="1785" y="1617"/>
                  </a:lnTo>
                  <a:lnTo>
                    <a:pt x="1616" y="1886"/>
                  </a:lnTo>
                  <a:lnTo>
                    <a:pt x="1482" y="2122"/>
                  </a:lnTo>
                  <a:lnTo>
                    <a:pt x="1246" y="2694"/>
                  </a:lnTo>
                  <a:lnTo>
                    <a:pt x="1078" y="3267"/>
                  </a:lnTo>
                  <a:lnTo>
                    <a:pt x="943" y="3839"/>
                  </a:lnTo>
                  <a:lnTo>
                    <a:pt x="741" y="4647"/>
                  </a:lnTo>
                  <a:lnTo>
                    <a:pt x="573" y="5489"/>
                  </a:lnTo>
                  <a:lnTo>
                    <a:pt x="438" y="6330"/>
                  </a:lnTo>
                  <a:lnTo>
                    <a:pt x="303" y="7172"/>
                  </a:lnTo>
                  <a:lnTo>
                    <a:pt x="135" y="8485"/>
                  </a:lnTo>
                  <a:lnTo>
                    <a:pt x="68" y="9192"/>
                  </a:lnTo>
                  <a:lnTo>
                    <a:pt x="34" y="9866"/>
                  </a:lnTo>
                  <a:lnTo>
                    <a:pt x="0" y="10573"/>
                  </a:lnTo>
                  <a:lnTo>
                    <a:pt x="34" y="11246"/>
                  </a:lnTo>
                  <a:lnTo>
                    <a:pt x="68" y="11919"/>
                  </a:lnTo>
                  <a:lnTo>
                    <a:pt x="202" y="12559"/>
                  </a:lnTo>
                  <a:lnTo>
                    <a:pt x="270" y="12862"/>
                  </a:lnTo>
                  <a:lnTo>
                    <a:pt x="337" y="13098"/>
                  </a:lnTo>
                  <a:lnTo>
                    <a:pt x="472" y="13333"/>
                  </a:lnTo>
                  <a:lnTo>
                    <a:pt x="606" y="13569"/>
                  </a:lnTo>
                  <a:lnTo>
                    <a:pt x="741" y="13737"/>
                  </a:lnTo>
                  <a:lnTo>
                    <a:pt x="909" y="13939"/>
                  </a:lnTo>
                  <a:lnTo>
                    <a:pt x="1078" y="14074"/>
                  </a:lnTo>
                  <a:lnTo>
                    <a:pt x="1280" y="14242"/>
                  </a:lnTo>
                  <a:lnTo>
                    <a:pt x="1482" y="14343"/>
                  </a:lnTo>
                  <a:lnTo>
                    <a:pt x="1684" y="14444"/>
                  </a:lnTo>
                  <a:lnTo>
                    <a:pt x="2155" y="14613"/>
                  </a:lnTo>
                  <a:lnTo>
                    <a:pt x="2660" y="14714"/>
                  </a:lnTo>
                  <a:lnTo>
                    <a:pt x="3199" y="14747"/>
                  </a:lnTo>
                  <a:lnTo>
                    <a:pt x="3805" y="14747"/>
                  </a:lnTo>
                  <a:lnTo>
                    <a:pt x="4411" y="14714"/>
                  </a:lnTo>
                  <a:lnTo>
                    <a:pt x="4983" y="14613"/>
                  </a:lnTo>
                  <a:lnTo>
                    <a:pt x="5522" y="14478"/>
                  </a:lnTo>
                  <a:lnTo>
                    <a:pt x="6061" y="14276"/>
                  </a:lnTo>
                  <a:lnTo>
                    <a:pt x="6296" y="14141"/>
                  </a:lnTo>
                  <a:lnTo>
                    <a:pt x="6566" y="14007"/>
                  </a:lnTo>
                  <a:lnTo>
                    <a:pt x="6768" y="13805"/>
                  </a:lnTo>
                  <a:lnTo>
                    <a:pt x="7003" y="13636"/>
                  </a:lnTo>
                  <a:lnTo>
                    <a:pt x="7205" y="13434"/>
                  </a:lnTo>
                  <a:lnTo>
                    <a:pt x="7407" y="13165"/>
                  </a:lnTo>
                  <a:lnTo>
                    <a:pt x="7576" y="12929"/>
                  </a:lnTo>
                  <a:lnTo>
                    <a:pt x="7710" y="12929"/>
                  </a:lnTo>
                  <a:lnTo>
                    <a:pt x="7744" y="12862"/>
                  </a:lnTo>
                  <a:lnTo>
                    <a:pt x="7811" y="12593"/>
                  </a:lnTo>
                  <a:lnTo>
                    <a:pt x="8081" y="12054"/>
                  </a:lnTo>
                  <a:lnTo>
                    <a:pt x="8283" y="11549"/>
                  </a:lnTo>
                  <a:lnTo>
                    <a:pt x="8451" y="10977"/>
                  </a:lnTo>
                  <a:lnTo>
                    <a:pt x="8586" y="10404"/>
                  </a:lnTo>
                  <a:lnTo>
                    <a:pt x="8687" y="9832"/>
                  </a:lnTo>
                  <a:lnTo>
                    <a:pt x="8788" y="9260"/>
                  </a:lnTo>
                  <a:lnTo>
                    <a:pt x="8855" y="8115"/>
                  </a:lnTo>
                  <a:lnTo>
                    <a:pt x="8889" y="7374"/>
                  </a:lnTo>
                  <a:lnTo>
                    <a:pt x="8889" y="6633"/>
                  </a:lnTo>
                  <a:lnTo>
                    <a:pt x="8889" y="5893"/>
                  </a:lnTo>
                  <a:lnTo>
                    <a:pt x="8821" y="5152"/>
                  </a:lnTo>
                  <a:lnTo>
                    <a:pt x="8720" y="4411"/>
                  </a:lnTo>
                  <a:lnTo>
                    <a:pt x="8586" y="3671"/>
                  </a:lnTo>
                  <a:lnTo>
                    <a:pt x="8417" y="2964"/>
                  </a:lnTo>
                  <a:lnTo>
                    <a:pt x="8182" y="2257"/>
                  </a:lnTo>
                  <a:lnTo>
                    <a:pt x="7980" y="1785"/>
                  </a:lnTo>
                  <a:lnTo>
                    <a:pt x="7710" y="1348"/>
                  </a:lnTo>
                  <a:lnTo>
                    <a:pt x="7374" y="944"/>
                  </a:lnTo>
                  <a:lnTo>
                    <a:pt x="7003" y="607"/>
                  </a:lnTo>
                  <a:lnTo>
                    <a:pt x="6801" y="439"/>
                  </a:lnTo>
                  <a:lnTo>
                    <a:pt x="6599" y="304"/>
                  </a:lnTo>
                  <a:lnTo>
                    <a:pt x="6364" y="203"/>
                  </a:lnTo>
                  <a:lnTo>
                    <a:pt x="6128" y="102"/>
                  </a:lnTo>
                  <a:lnTo>
                    <a:pt x="5892" y="68"/>
                  </a:lnTo>
                  <a:lnTo>
                    <a:pt x="5623" y="1"/>
                  </a:lnTo>
                  <a:lnTo>
                    <a:pt x="5354" y="1"/>
                  </a:lnTo>
                  <a:lnTo>
                    <a:pt x="5118" y="35"/>
                  </a:lnTo>
                  <a:lnTo>
                    <a:pt x="508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hape 524"/>
            <p:cNvSpPr/>
            <p:nvPr/>
          </p:nvSpPr>
          <p:spPr>
            <a:xfrm>
              <a:off x="2458800" y="5639040"/>
              <a:ext cx="152280" cy="1648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291" h="2493">
                  <a:moveTo>
                    <a:pt x="1920" y="169"/>
                  </a:moveTo>
                  <a:lnTo>
                    <a:pt x="1920" y="641"/>
                  </a:lnTo>
                  <a:lnTo>
                    <a:pt x="1954" y="1112"/>
                  </a:lnTo>
                  <a:lnTo>
                    <a:pt x="2021" y="1550"/>
                  </a:lnTo>
                  <a:lnTo>
                    <a:pt x="2122" y="1987"/>
                  </a:lnTo>
                  <a:lnTo>
                    <a:pt x="2156" y="2021"/>
                  </a:lnTo>
                  <a:lnTo>
                    <a:pt x="2122" y="2021"/>
                  </a:lnTo>
                  <a:lnTo>
                    <a:pt x="1718" y="2055"/>
                  </a:lnTo>
                  <a:lnTo>
                    <a:pt x="1314" y="2122"/>
                  </a:lnTo>
                  <a:lnTo>
                    <a:pt x="910" y="2156"/>
                  </a:lnTo>
                  <a:lnTo>
                    <a:pt x="472" y="2223"/>
                  </a:lnTo>
                  <a:lnTo>
                    <a:pt x="304" y="1314"/>
                  </a:lnTo>
                  <a:lnTo>
                    <a:pt x="136" y="405"/>
                  </a:lnTo>
                  <a:lnTo>
                    <a:pt x="573" y="371"/>
                  </a:lnTo>
                  <a:lnTo>
                    <a:pt x="1045" y="338"/>
                  </a:lnTo>
                  <a:lnTo>
                    <a:pt x="1920" y="169"/>
                  </a:lnTo>
                  <a:close/>
                  <a:moveTo>
                    <a:pt x="1920" y="1"/>
                  </a:moveTo>
                  <a:lnTo>
                    <a:pt x="1011" y="136"/>
                  </a:lnTo>
                  <a:lnTo>
                    <a:pt x="540" y="203"/>
                  </a:lnTo>
                  <a:lnTo>
                    <a:pt x="68" y="270"/>
                  </a:lnTo>
                  <a:lnTo>
                    <a:pt x="35" y="304"/>
                  </a:lnTo>
                  <a:lnTo>
                    <a:pt x="35" y="338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1" y="910"/>
                  </a:lnTo>
                  <a:lnTo>
                    <a:pt x="102" y="1449"/>
                  </a:lnTo>
                  <a:lnTo>
                    <a:pt x="203" y="1954"/>
                  </a:lnTo>
                  <a:lnTo>
                    <a:pt x="338" y="2459"/>
                  </a:lnTo>
                  <a:lnTo>
                    <a:pt x="405" y="2492"/>
                  </a:lnTo>
                  <a:lnTo>
                    <a:pt x="472" y="2492"/>
                  </a:lnTo>
                  <a:lnTo>
                    <a:pt x="506" y="2459"/>
                  </a:lnTo>
                  <a:lnTo>
                    <a:pt x="540" y="2391"/>
                  </a:lnTo>
                  <a:lnTo>
                    <a:pt x="506" y="2324"/>
                  </a:lnTo>
                  <a:lnTo>
                    <a:pt x="910" y="2358"/>
                  </a:lnTo>
                  <a:lnTo>
                    <a:pt x="1348" y="2358"/>
                  </a:lnTo>
                  <a:lnTo>
                    <a:pt x="1785" y="2290"/>
                  </a:lnTo>
                  <a:lnTo>
                    <a:pt x="2156" y="2156"/>
                  </a:lnTo>
                  <a:lnTo>
                    <a:pt x="2189" y="2122"/>
                  </a:lnTo>
                  <a:lnTo>
                    <a:pt x="2189" y="2055"/>
                  </a:lnTo>
                  <a:lnTo>
                    <a:pt x="2257" y="2055"/>
                  </a:lnTo>
                  <a:lnTo>
                    <a:pt x="2290" y="2021"/>
                  </a:lnTo>
                  <a:lnTo>
                    <a:pt x="2290" y="1987"/>
                  </a:lnTo>
                  <a:lnTo>
                    <a:pt x="2257" y="1516"/>
                  </a:lnTo>
                  <a:lnTo>
                    <a:pt x="2189" y="1045"/>
                  </a:lnTo>
                  <a:lnTo>
                    <a:pt x="2122" y="607"/>
                  </a:lnTo>
                  <a:lnTo>
                    <a:pt x="2021" y="136"/>
                  </a:lnTo>
                  <a:lnTo>
                    <a:pt x="2021" y="102"/>
                  </a:lnTo>
                  <a:lnTo>
                    <a:pt x="2021" y="35"/>
                  </a:lnTo>
                  <a:lnTo>
                    <a:pt x="198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8240" bIns="48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hape 525"/>
            <p:cNvSpPr/>
            <p:nvPr/>
          </p:nvSpPr>
          <p:spPr>
            <a:xfrm>
              <a:off x="1325520" y="-6480"/>
              <a:ext cx="487080" cy="71100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7340" h="10708">
                  <a:moveTo>
                    <a:pt x="0" y="1"/>
                  </a:moveTo>
                  <a:lnTo>
                    <a:pt x="236" y="405"/>
                  </a:lnTo>
                  <a:lnTo>
                    <a:pt x="472" y="775"/>
                  </a:lnTo>
                  <a:lnTo>
                    <a:pt x="977" y="1516"/>
                  </a:lnTo>
                  <a:lnTo>
                    <a:pt x="1953" y="3031"/>
                  </a:lnTo>
                  <a:lnTo>
                    <a:pt x="2963" y="4512"/>
                  </a:lnTo>
                  <a:lnTo>
                    <a:pt x="7037" y="10640"/>
                  </a:lnTo>
                  <a:lnTo>
                    <a:pt x="7104" y="10674"/>
                  </a:lnTo>
                  <a:lnTo>
                    <a:pt x="7138" y="10707"/>
                  </a:lnTo>
                  <a:lnTo>
                    <a:pt x="7205" y="10707"/>
                  </a:lnTo>
                  <a:lnTo>
                    <a:pt x="7272" y="10674"/>
                  </a:lnTo>
                  <a:lnTo>
                    <a:pt x="7306" y="10640"/>
                  </a:lnTo>
                  <a:lnTo>
                    <a:pt x="7340" y="10606"/>
                  </a:lnTo>
                  <a:lnTo>
                    <a:pt x="7340" y="10539"/>
                  </a:lnTo>
                  <a:lnTo>
                    <a:pt x="7306" y="10471"/>
                  </a:lnTo>
                  <a:lnTo>
                    <a:pt x="3401" y="4546"/>
                  </a:lnTo>
                  <a:lnTo>
                    <a:pt x="1381" y="1583"/>
                  </a:lnTo>
                  <a:lnTo>
                    <a:pt x="909" y="876"/>
                  </a:lnTo>
                  <a:lnTo>
                    <a:pt x="472" y="135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hape 526"/>
            <p:cNvSpPr/>
            <p:nvPr/>
          </p:nvSpPr>
          <p:spPr>
            <a:xfrm>
              <a:off x="2617560" y="5618520"/>
              <a:ext cx="153720" cy="147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24" h="2223">
                  <a:moveTo>
                    <a:pt x="1919" y="203"/>
                  </a:moveTo>
                  <a:lnTo>
                    <a:pt x="1953" y="573"/>
                  </a:lnTo>
                  <a:lnTo>
                    <a:pt x="2020" y="944"/>
                  </a:lnTo>
                  <a:lnTo>
                    <a:pt x="2088" y="1381"/>
                  </a:lnTo>
                  <a:lnTo>
                    <a:pt x="2155" y="1819"/>
                  </a:lnTo>
                  <a:lnTo>
                    <a:pt x="1953" y="1819"/>
                  </a:lnTo>
                  <a:lnTo>
                    <a:pt x="1785" y="1853"/>
                  </a:lnTo>
                  <a:lnTo>
                    <a:pt x="1414" y="1920"/>
                  </a:lnTo>
                  <a:lnTo>
                    <a:pt x="943" y="1954"/>
                  </a:lnTo>
                  <a:lnTo>
                    <a:pt x="707" y="2021"/>
                  </a:lnTo>
                  <a:lnTo>
                    <a:pt x="472" y="2088"/>
                  </a:lnTo>
                  <a:lnTo>
                    <a:pt x="404" y="1651"/>
                  </a:lnTo>
                  <a:lnTo>
                    <a:pt x="270" y="1179"/>
                  </a:lnTo>
                  <a:lnTo>
                    <a:pt x="202" y="809"/>
                  </a:lnTo>
                  <a:lnTo>
                    <a:pt x="101" y="439"/>
                  </a:lnTo>
                  <a:lnTo>
                    <a:pt x="1010" y="338"/>
                  </a:lnTo>
                  <a:lnTo>
                    <a:pt x="1919" y="203"/>
                  </a:lnTo>
                  <a:close/>
                  <a:moveTo>
                    <a:pt x="1886" y="1"/>
                  </a:moveTo>
                  <a:lnTo>
                    <a:pt x="977" y="136"/>
                  </a:lnTo>
                  <a:lnTo>
                    <a:pt x="68" y="270"/>
                  </a:lnTo>
                  <a:lnTo>
                    <a:pt x="34" y="304"/>
                  </a:lnTo>
                  <a:lnTo>
                    <a:pt x="34" y="371"/>
                  </a:lnTo>
                  <a:lnTo>
                    <a:pt x="0" y="573"/>
                  </a:lnTo>
                  <a:lnTo>
                    <a:pt x="34" y="809"/>
                  </a:lnTo>
                  <a:lnTo>
                    <a:pt x="101" y="1213"/>
                  </a:lnTo>
                  <a:lnTo>
                    <a:pt x="202" y="1718"/>
                  </a:lnTo>
                  <a:lnTo>
                    <a:pt x="270" y="1954"/>
                  </a:lnTo>
                  <a:lnTo>
                    <a:pt x="371" y="2189"/>
                  </a:lnTo>
                  <a:lnTo>
                    <a:pt x="404" y="2223"/>
                  </a:lnTo>
                  <a:lnTo>
                    <a:pt x="674" y="2223"/>
                  </a:lnTo>
                  <a:lnTo>
                    <a:pt x="909" y="2189"/>
                  </a:lnTo>
                  <a:lnTo>
                    <a:pt x="1313" y="2122"/>
                  </a:lnTo>
                  <a:lnTo>
                    <a:pt x="1751" y="2055"/>
                  </a:lnTo>
                  <a:lnTo>
                    <a:pt x="1987" y="2021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323" y="1954"/>
                  </a:lnTo>
                  <a:lnTo>
                    <a:pt x="2323" y="1718"/>
                  </a:lnTo>
                  <a:lnTo>
                    <a:pt x="2290" y="1482"/>
                  </a:lnTo>
                  <a:lnTo>
                    <a:pt x="2222" y="1045"/>
                  </a:lnTo>
                  <a:lnTo>
                    <a:pt x="2155" y="540"/>
                  </a:lnTo>
                  <a:lnTo>
                    <a:pt x="2088" y="304"/>
                  </a:lnTo>
                  <a:lnTo>
                    <a:pt x="1987" y="35"/>
                  </a:lnTo>
                  <a:lnTo>
                    <a:pt x="1953" y="35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hape 527"/>
            <p:cNvSpPr/>
            <p:nvPr/>
          </p:nvSpPr>
          <p:spPr>
            <a:xfrm>
              <a:off x="2143080" y="591372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6" h="640">
                  <a:moveTo>
                    <a:pt x="674" y="0"/>
                  </a:moveTo>
                  <a:lnTo>
                    <a:pt x="573" y="202"/>
                  </a:lnTo>
                  <a:lnTo>
                    <a:pt x="539" y="438"/>
                  </a:lnTo>
                  <a:lnTo>
                    <a:pt x="438" y="337"/>
                  </a:lnTo>
                  <a:lnTo>
                    <a:pt x="405" y="269"/>
                  </a:lnTo>
                  <a:lnTo>
                    <a:pt x="438" y="168"/>
                  </a:lnTo>
                  <a:lnTo>
                    <a:pt x="438" y="135"/>
                  </a:lnTo>
                  <a:lnTo>
                    <a:pt x="405" y="67"/>
                  </a:lnTo>
                  <a:lnTo>
                    <a:pt x="337" y="67"/>
                  </a:lnTo>
                  <a:lnTo>
                    <a:pt x="304" y="135"/>
                  </a:lnTo>
                  <a:lnTo>
                    <a:pt x="169" y="404"/>
                  </a:lnTo>
                  <a:lnTo>
                    <a:pt x="135" y="370"/>
                  </a:lnTo>
                  <a:lnTo>
                    <a:pt x="102" y="269"/>
                  </a:lnTo>
                  <a:lnTo>
                    <a:pt x="102" y="236"/>
                  </a:lnTo>
                  <a:lnTo>
                    <a:pt x="68" y="202"/>
                  </a:lnTo>
                  <a:lnTo>
                    <a:pt x="34" y="202"/>
                  </a:lnTo>
                  <a:lnTo>
                    <a:pt x="1" y="269"/>
                  </a:lnTo>
                  <a:lnTo>
                    <a:pt x="1" y="303"/>
                  </a:lnTo>
                  <a:lnTo>
                    <a:pt x="1" y="404"/>
                  </a:lnTo>
                  <a:lnTo>
                    <a:pt x="102" y="606"/>
                  </a:lnTo>
                  <a:lnTo>
                    <a:pt x="135" y="640"/>
                  </a:lnTo>
                  <a:lnTo>
                    <a:pt x="203" y="640"/>
                  </a:lnTo>
                  <a:lnTo>
                    <a:pt x="236" y="606"/>
                  </a:lnTo>
                  <a:lnTo>
                    <a:pt x="337" y="404"/>
                  </a:lnTo>
                  <a:lnTo>
                    <a:pt x="371" y="438"/>
                  </a:lnTo>
                  <a:lnTo>
                    <a:pt x="472" y="539"/>
                  </a:lnTo>
                  <a:lnTo>
                    <a:pt x="573" y="606"/>
                  </a:lnTo>
                  <a:lnTo>
                    <a:pt x="640" y="606"/>
                  </a:lnTo>
                  <a:lnTo>
                    <a:pt x="674" y="539"/>
                  </a:lnTo>
                  <a:lnTo>
                    <a:pt x="708" y="303"/>
                  </a:lnTo>
                  <a:lnTo>
                    <a:pt x="775" y="67"/>
                  </a:lnTo>
                  <a:lnTo>
                    <a:pt x="775" y="34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hape 528"/>
            <p:cNvSpPr/>
            <p:nvPr/>
          </p:nvSpPr>
          <p:spPr>
            <a:xfrm>
              <a:off x="8109000" y="4967280"/>
              <a:ext cx="61560" cy="601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1" h="910">
                  <a:moveTo>
                    <a:pt x="405" y="0"/>
                  </a:moveTo>
                  <a:lnTo>
                    <a:pt x="304" y="34"/>
                  </a:lnTo>
                  <a:lnTo>
                    <a:pt x="203" y="101"/>
                  </a:lnTo>
                  <a:lnTo>
                    <a:pt x="136" y="169"/>
                  </a:lnTo>
                  <a:lnTo>
                    <a:pt x="68" y="236"/>
                  </a:lnTo>
                  <a:lnTo>
                    <a:pt x="1" y="337"/>
                  </a:lnTo>
                  <a:lnTo>
                    <a:pt x="1" y="438"/>
                  </a:lnTo>
                  <a:lnTo>
                    <a:pt x="1" y="573"/>
                  </a:lnTo>
                  <a:lnTo>
                    <a:pt x="68" y="674"/>
                  </a:lnTo>
                  <a:lnTo>
                    <a:pt x="102" y="741"/>
                  </a:lnTo>
                  <a:lnTo>
                    <a:pt x="203" y="842"/>
                  </a:lnTo>
                  <a:lnTo>
                    <a:pt x="304" y="876"/>
                  </a:lnTo>
                  <a:lnTo>
                    <a:pt x="405" y="910"/>
                  </a:lnTo>
                  <a:lnTo>
                    <a:pt x="506" y="910"/>
                  </a:lnTo>
                  <a:lnTo>
                    <a:pt x="641" y="876"/>
                  </a:lnTo>
                  <a:lnTo>
                    <a:pt x="742" y="809"/>
                  </a:lnTo>
                  <a:lnTo>
                    <a:pt x="809" y="708"/>
                  </a:lnTo>
                  <a:lnTo>
                    <a:pt x="876" y="607"/>
                  </a:lnTo>
                  <a:lnTo>
                    <a:pt x="910" y="506"/>
                  </a:lnTo>
                  <a:lnTo>
                    <a:pt x="910" y="371"/>
                  </a:lnTo>
                  <a:lnTo>
                    <a:pt x="876" y="270"/>
                  </a:lnTo>
                  <a:lnTo>
                    <a:pt x="809" y="169"/>
                  </a:lnTo>
                  <a:lnTo>
                    <a:pt x="742" y="68"/>
                  </a:lnTo>
                  <a:lnTo>
                    <a:pt x="641" y="34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hape 529"/>
            <p:cNvSpPr/>
            <p:nvPr/>
          </p:nvSpPr>
          <p:spPr>
            <a:xfrm>
              <a:off x="2781360" y="559152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4" h="2291">
                  <a:moveTo>
                    <a:pt x="1986" y="1"/>
                  </a:moveTo>
                  <a:lnTo>
                    <a:pt x="1953" y="35"/>
                  </a:lnTo>
                  <a:lnTo>
                    <a:pt x="1953" y="136"/>
                  </a:lnTo>
                  <a:lnTo>
                    <a:pt x="1448" y="136"/>
                  </a:lnTo>
                  <a:lnTo>
                    <a:pt x="943" y="169"/>
                  </a:lnTo>
                  <a:lnTo>
                    <a:pt x="505" y="203"/>
                  </a:lnTo>
                  <a:lnTo>
                    <a:pt x="269" y="270"/>
                  </a:lnTo>
                  <a:lnTo>
                    <a:pt x="168" y="304"/>
                  </a:lnTo>
                  <a:lnTo>
                    <a:pt x="101" y="371"/>
                  </a:lnTo>
                  <a:lnTo>
                    <a:pt x="269" y="439"/>
                  </a:lnTo>
                  <a:lnTo>
                    <a:pt x="471" y="439"/>
                  </a:lnTo>
                  <a:lnTo>
                    <a:pt x="842" y="371"/>
                  </a:lnTo>
                  <a:lnTo>
                    <a:pt x="1380" y="338"/>
                  </a:lnTo>
                  <a:lnTo>
                    <a:pt x="1953" y="304"/>
                  </a:lnTo>
                  <a:lnTo>
                    <a:pt x="1986" y="641"/>
                  </a:lnTo>
                  <a:lnTo>
                    <a:pt x="2020" y="944"/>
                  </a:lnTo>
                  <a:lnTo>
                    <a:pt x="2087" y="1381"/>
                  </a:lnTo>
                  <a:lnTo>
                    <a:pt x="2121" y="1617"/>
                  </a:lnTo>
                  <a:lnTo>
                    <a:pt x="2188" y="1819"/>
                  </a:lnTo>
                  <a:lnTo>
                    <a:pt x="2155" y="1819"/>
                  </a:lnTo>
                  <a:lnTo>
                    <a:pt x="1279" y="1920"/>
                  </a:lnTo>
                  <a:lnTo>
                    <a:pt x="808" y="2021"/>
                  </a:lnTo>
                  <a:lnTo>
                    <a:pt x="404" y="2122"/>
                  </a:lnTo>
                  <a:lnTo>
                    <a:pt x="303" y="1718"/>
                  </a:lnTo>
                  <a:lnTo>
                    <a:pt x="236" y="1280"/>
                  </a:lnTo>
                  <a:lnTo>
                    <a:pt x="202" y="809"/>
                  </a:lnTo>
                  <a:lnTo>
                    <a:pt x="168" y="573"/>
                  </a:lnTo>
                  <a:lnTo>
                    <a:pt x="67" y="371"/>
                  </a:lnTo>
                  <a:lnTo>
                    <a:pt x="34" y="506"/>
                  </a:lnTo>
                  <a:lnTo>
                    <a:pt x="0" y="674"/>
                  </a:lnTo>
                  <a:lnTo>
                    <a:pt x="0" y="977"/>
                  </a:lnTo>
                  <a:lnTo>
                    <a:pt x="101" y="1583"/>
                  </a:lnTo>
                  <a:lnTo>
                    <a:pt x="135" y="1785"/>
                  </a:lnTo>
                  <a:lnTo>
                    <a:pt x="135" y="2021"/>
                  </a:lnTo>
                  <a:lnTo>
                    <a:pt x="168" y="2122"/>
                  </a:lnTo>
                  <a:lnTo>
                    <a:pt x="202" y="2189"/>
                  </a:lnTo>
                  <a:lnTo>
                    <a:pt x="269" y="2257"/>
                  </a:lnTo>
                  <a:lnTo>
                    <a:pt x="370" y="2290"/>
                  </a:lnTo>
                  <a:lnTo>
                    <a:pt x="404" y="2290"/>
                  </a:lnTo>
                  <a:lnTo>
                    <a:pt x="438" y="2257"/>
                  </a:lnTo>
                  <a:lnTo>
                    <a:pt x="875" y="2223"/>
                  </a:lnTo>
                  <a:lnTo>
                    <a:pt x="1313" y="2189"/>
                  </a:lnTo>
                  <a:lnTo>
                    <a:pt x="2188" y="2021"/>
                  </a:lnTo>
                  <a:lnTo>
                    <a:pt x="2256" y="1987"/>
                  </a:lnTo>
                  <a:lnTo>
                    <a:pt x="2289" y="1987"/>
                  </a:lnTo>
                  <a:lnTo>
                    <a:pt x="2323" y="1954"/>
                  </a:lnTo>
                  <a:lnTo>
                    <a:pt x="2323" y="1752"/>
                  </a:lnTo>
                  <a:lnTo>
                    <a:pt x="2289" y="1516"/>
                  </a:lnTo>
                  <a:lnTo>
                    <a:pt x="2222" y="1078"/>
                  </a:lnTo>
                  <a:lnTo>
                    <a:pt x="2155" y="540"/>
                  </a:lnTo>
                  <a:lnTo>
                    <a:pt x="2121" y="304"/>
                  </a:lnTo>
                  <a:lnTo>
                    <a:pt x="2054" y="35"/>
                  </a:lnTo>
                  <a:lnTo>
                    <a:pt x="202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hape 530"/>
            <p:cNvSpPr/>
            <p:nvPr/>
          </p:nvSpPr>
          <p:spPr>
            <a:xfrm>
              <a:off x="2844720" y="567720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05" h="607">
                  <a:moveTo>
                    <a:pt x="236" y="0"/>
                  </a:moveTo>
                  <a:lnTo>
                    <a:pt x="135" y="68"/>
                  </a:lnTo>
                  <a:lnTo>
                    <a:pt x="0" y="135"/>
                  </a:lnTo>
                  <a:lnTo>
                    <a:pt x="0" y="169"/>
                  </a:lnTo>
                  <a:lnTo>
                    <a:pt x="0" y="202"/>
                  </a:lnTo>
                  <a:lnTo>
                    <a:pt x="169" y="202"/>
                  </a:lnTo>
                  <a:lnTo>
                    <a:pt x="202" y="169"/>
                  </a:lnTo>
                  <a:lnTo>
                    <a:pt x="202" y="337"/>
                  </a:lnTo>
                  <a:lnTo>
                    <a:pt x="169" y="505"/>
                  </a:lnTo>
                  <a:lnTo>
                    <a:pt x="169" y="573"/>
                  </a:lnTo>
                  <a:lnTo>
                    <a:pt x="202" y="606"/>
                  </a:lnTo>
                  <a:lnTo>
                    <a:pt x="270" y="606"/>
                  </a:lnTo>
                  <a:lnTo>
                    <a:pt x="337" y="573"/>
                  </a:lnTo>
                  <a:lnTo>
                    <a:pt x="371" y="438"/>
                  </a:lnTo>
                  <a:lnTo>
                    <a:pt x="404" y="303"/>
                  </a:lnTo>
                  <a:lnTo>
                    <a:pt x="371" y="169"/>
                  </a:lnTo>
                  <a:lnTo>
                    <a:pt x="337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7040" bIns="-77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hape 531"/>
            <p:cNvSpPr/>
            <p:nvPr/>
          </p:nvSpPr>
          <p:spPr>
            <a:xfrm>
              <a:off x="-7920" y="3247920"/>
              <a:ext cx="2193840" cy="2009880"/>
            </a:xfrm>
            <a:custGeom>
              <a:avLst/>
              <a:gdLst>
                <a:gd name="textAreaLeft" fmla="*/ 0 w 2193840"/>
                <a:gd name="textAreaRight" fmla="*/ 2194200 w 2193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33029" h="30269">
                  <a:moveTo>
                    <a:pt x="18484" y="16498"/>
                  </a:moveTo>
                  <a:lnTo>
                    <a:pt x="18080" y="16700"/>
                  </a:lnTo>
                  <a:lnTo>
                    <a:pt x="17777" y="16868"/>
                  </a:lnTo>
                  <a:lnTo>
                    <a:pt x="17642" y="16969"/>
                  </a:lnTo>
                  <a:lnTo>
                    <a:pt x="17507" y="17104"/>
                  </a:lnTo>
                  <a:lnTo>
                    <a:pt x="17642" y="16868"/>
                  </a:lnTo>
                  <a:lnTo>
                    <a:pt x="17844" y="16633"/>
                  </a:lnTo>
                  <a:lnTo>
                    <a:pt x="18181" y="16565"/>
                  </a:lnTo>
                  <a:lnTo>
                    <a:pt x="18484" y="16498"/>
                  </a:lnTo>
                  <a:close/>
                  <a:moveTo>
                    <a:pt x="19022" y="16464"/>
                  </a:moveTo>
                  <a:lnTo>
                    <a:pt x="19325" y="16498"/>
                  </a:lnTo>
                  <a:lnTo>
                    <a:pt x="19628" y="16532"/>
                  </a:lnTo>
                  <a:lnTo>
                    <a:pt x="20234" y="16633"/>
                  </a:lnTo>
                  <a:lnTo>
                    <a:pt x="20841" y="16835"/>
                  </a:lnTo>
                  <a:lnTo>
                    <a:pt x="21413" y="17037"/>
                  </a:lnTo>
                  <a:lnTo>
                    <a:pt x="21682" y="17104"/>
                  </a:lnTo>
                  <a:lnTo>
                    <a:pt x="21918" y="17205"/>
                  </a:lnTo>
                  <a:lnTo>
                    <a:pt x="22120" y="17373"/>
                  </a:lnTo>
                  <a:lnTo>
                    <a:pt x="22322" y="17542"/>
                  </a:lnTo>
                  <a:lnTo>
                    <a:pt x="22389" y="17744"/>
                  </a:lnTo>
                  <a:lnTo>
                    <a:pt x="22457" y="17912"/>
                  </a:lnTo>
                  <a:lnTo>
                    <a:pt x="22423" y="17912"/>
                  </a:lnTo>
                  <a:lnTo>
                    <a:pt x="21952" y="17878"/>
                  </a:lnTo>
                  <a:lnTo>
                    <a:pt x="21480" y="17777"/>
                  </a:lnTo>
                  <a:lnTo>
                    <a:pt x="20975" y="17676"/>
                  </a:lnTo>
                  <a:lnTo>
                    <a:pt x="20538" y="17575"/>
                  </a:lnTo>
                  <a:lnTo>
                    <a:pt x="19830" y="17373"/>
                  </a:lnTo>
                  <a:lnTo>
                    <a:pt x="19494" y="17306"/>
                  </a:lnTo>
                  <a:lnTo>
                    <a:pt x="19157" y="17272"/>
                  </a:lnTo>
                  <a:lnTo>
                    <a:pt x="18888" y="17272"/>
                  </a:lnTo>
                  <a:lnTo>
                    <a:pt x="18618" y="17373"/>
                  </a:lnTo>
                  <a:lnTo>
                    <a:pt x="18383" y="17474"/>
                  </a:lnTo>
                  <a:lnTo>
                    <a:pt x="18147" y="17643"/>
                  </a:lnTo>
                  <a:lnTo>
                    <a:pt x="17911" y="17811"/>
                  </a:lnTo>
                  <a:lnTo>
                    <a:pt x="17709" y="18013"/>
                  </a:lnTo>
                  <a:lnTo>
                    <a:pt x="17373" y="18417"/>
                  </a:lnTo>
                  <a:lnTo>
                    <a:pt x="17373" y="18316"/>
                  </a:lnTo>
                  <a:lnTo>
                    <a:pt x="17339" y="18013"/>
                  </a:lnTo>
                  <a:lnTo>
                    <a:pt x="17339" y="17777"/>
                  </a:lnTo>
                  <a:lnTo>
                    <a:pt x="17373" y="17508"/>
                  </a:lnTo>
                  <a:lnTo>
                    <a:pt x="17440" y="17272"/>
                  </a:lnTo>
                  <a:lnTo>
                    <a:pt x="17608" y="17205"/>
                  </a:lnTo>
                  <a:lnTo>
                    <a:pt x="17810" y="17104"/>
                  </a:lnTo>
                  <a:lnTo>
                    <a:pt x="18147" y="16868"/>
                  </a:lnTo>
                  <a:lnTo>
                    <a:pt x="18585" y="16666"/>
                  </a:lnTo>
                  <a:lnTo>
                    <a:pt x="19022" y="16464"/>
                  </a:lnTo>
                  <a:close/>
                  <a:moveTo>
                    <a:pt x="23803" y="18047"/>
                  </a:moveTo>
                  <a:lnTo>
                    <a:pt x="24039" y="18081"/>
                  </a:lnTo>
                  <a:lnTo>
                    <a:pt x="24207" y="18148"/>
                  </a:lnTo>
                  <a:lnTo>
                    <a:pt x="24376" y="18249"/>
                  </a:lnTo>
                  <a:lnTo>
                    <a:pt x="24510" y="18384"/>
                  </a:lnTo>
                  <a:lnTo>
                    <a:pt x="24510" y="18451"/>
                  </a:lnTo>
                  <a:lnTo>
                    <a:pt x="23467" y="18249"/>
                  </a:lnTo>
                  <a:lnTo>
                    <a:pt x="23500" y="18114"/>
                  </a:lnTo>
                  <a:lnTo>
                    <a:pt x="23669" y="18081"/>
                  </a:lnTo>
                  <a:lnTo>
                    <a:pt x="23803" y="18047"/>
                  </a:lnTo>
                  <a:close/>
                  <a:moveTo>
                    <a:pt x="16363" y="17609"/>
                  </a:moveTo>
                  <a:lnTo>
                    <a:pt x="16396" y="18316"/>
                  </a:lnTo>
                  <a:lnTo>
                    <a:pt x="16497" y="18990"/>
                  </a:lnTo>
                  <a:lnTo>
                    <a:pt x="15925" y="19259"/>
                  </a:lnTo>
                  <a:lnTo>
                    <a:pt x="15656" y="19326"/>
                  </a:lnTo>
                  <a:lnTo>
                    <a:pt x="15487" y="19360"/>
                  </a:lnTo>
                  <a:lnTo>
                    <a:pt x="15353" y="19326"/>
                  </a:lnTo>
                  <a:lnTo>
                    <a:pt x="15184" y="19259"/>
                  </a:lnTo>
                  <a:lnTo>
                    <a:pt x="14982" y="19158"/>
                  </a:lnTo>
                  <a:lnTo>
                    <a:pt x="14679" y="18889"/>
                  </a:lnTo>
                  <a:lnTo>
                    <a:pt x="14545" y="18720"/>
                  </a:lnTo>
                  <a:lnTo>
                    <a:pt x="14477" y="18653"/>
                  </a:lnTo>
                  <a:lnTo>
                    <a:pt x="14477" y="18586"/>
                  </a:lnTo>
                  <a:lnTo>
                    <a:pt x="14477" y="18518"/>
                  </a:lnTo>
                  <a:lnTo>
                    <a:pt x="14511" y="18417"/>
                  </a:lnTo>
                  <a:lnTo>
                    <a:pt x="14545" y="18350"/>
                  </a:lnTo>
                  <a:lnTo>
                    <a:pt x="14646" y="18283"/>
                  </a:lnTo>
                  <a:lnTo>
                    <a:pt x="14848" y="18182"/>
                  </a:lnTo>
                  <a:lnTo>
                    <a:pt x="15050" y="18081"/>
                  </a:lnTo>
                  <a:lnTo>
                    <a:pt x="15521" y="17979"/>
                  </a:lnTo>
                  <a:lnTo>
                    <a:pt x="15992" y="17845"/>
                  </a:lnTo>
                  <a:lnTo>
                    <a:pt x="16194" y="17744"/>
                  </a:lnTo>
                  <a:lnTo>
                    <a:pt x="16363" y="17609"/>
                  </a:lnTo>
                  <a:close/>
                  <a:moveTo>
                    <a:pt x="19393" y="17508"/>
                  </a:moveTo>
                  <a:lnTo>
                    <a:pt x="19797" y="17542"/>
                  </a:lnTo>
                  <a:lnTo>
                    <a:pt x="21110" y="17878"/>
                  </a:lnTo>
                  <a:lnTo>
                    <a:pt x="21750" y="18013"/>
                  </a:lnTo>
                  <a:lnTo>
                    <a:pt x="22423" y="18114"/>
                  </a:lnTo>
                  <a:lnTo>
                    <a:pt x="22457" y="18114"/>
                  </a:lnTo>
                  <a:lnTo>
                    <a:pt x="22389" y="18485"/>
                  </a:lnTo>
                  <a:lnTo>
                    <a:pt x="22322" y="18821"/>
                  </a:lnTo>
                  <a:lnTo>
                    <a:pt x="22221" y="19225"/>
                  </a:lnTo>
                  <a:lnTo>
                    <a:pt x="22053" y="19596"/>
                  </a:lnTo>
                  <a:lnTo>
                    <a:pt x="21884" y="19966"/>
                  </a:lnTo>
                  <a:lnTo>
                    <a:pt x="21615" y="20303"/>
                  </a:lnTo>
                  <a:lnTo>
                    <a:pt x="21447" y="20471"/>
                  </a:lnTo>
                  <a:lnTo>
                    <a:pt x="21245" y="20606"/>
                  </a:lnTo>
                  <a:lnTo>
                    <a:pt x="21043" y="20707"/>
                  </a:lnTo>
                  <a:lnTo>
                    <a:pt x="20807" y="20774"/>
                  </a:lnTo>
                  <a:lnTo>
                    <a:pt x="20571" y="20841"/>
                  </a:lnTo>
                  <a:lnTo>
                    <a:pt x="20302" y="20875"/>
                  </a:lnTo>
                  <a:lnTo>
                    <a:pt x="19797" y="20875"/>
                  </a:lnTo>
                  <a:lnTo>
                    <a:pt x="19258" y="20808"/>
                  </a:lnTo>
                  <a:lnTo>
                    <a:pt x="18753" y="20707"/>
                  </a:lnTo>
                  <a:lnTo>
                    <a:pt x="18282" y="20572"/>
                  </a:lnTo>
                  <a:lnTo>
                    <a:pt x="17878" y="20370"/>
                  </a:lnTo>
                  <a:lnTo>
                    <a:pt x="17709" y="20235"/>
                  </a:lnTo>
                  <a:lnTo>
                    <a:pt x="17608" y="20033"/>
                  </a:lnTo>
                  <a:lnTo>
                    <a:pt x="17507" y="19831"/>
                  </a:lnTo>
                  <a:lnTo>
                    <a:pt x="17440" y="19596"/>
                  </a:lnTo>
                  <a:lnTo>
                    <a:pt x="17373" y="19057"/>
                  </a:lnTo>
                  <a:lnTo>
                    <a:pt x="17373" y="18552"/>
                  </a:lnTo>
                  <a:lnTo>
                    <a:pt x="17406" y="18552"/>
                  </a:lnTo>
                  <a:lnTo>
                    <a:pt x="17979" y="18114"/>
                  </a:lnTo>
                  <a:lnTo>
                    <a:pt x="18214" y="17912"/>
                  </a:lnTo>
                  <a:lnTo>
                    <a:pt x="18484" y="17710"/>
                  </a:lnTo>
                  <a:lnTo>
                    <a:pt x="18753" y="17575"/>
                  </a:lnTo>
                  <a:lnTo>
                    <a:pt x="19056" y="17508"/>
                  </a:lnTo>
                  <a:close/>
                  <a:moveTo>
                    <a:pt x="31412" y="19865"/>
                  </a:moveTo>
                  <a:lnTo>
                    <a:pt x="31513" y="20067"/>
                  </a:lnTo>
                  <a:lnTo>
                    <a:pt x="31715" y="20269"/>
                  </a:lnTo>
                  <a:lnTo>
                    <a:pt x="32052" y="20606"/>
                  </a:lnTo>
                  <a:lnTo>
                    <a:pt x="32456" y="21010"/>
                  </a:lnTo>
                  <a:lnTo>
                    <a:pt x="32658" y="21212"/>
                  </a:lnTo>
                  <a:lnTo>
                    <a:pt x="-32676" y="21346"/>
                  </a:lnTo>
                  <a:lnTo>
                    <a:pt x="32422" y="21616"/>
                  </a:lnTo>
                  <a:lnTo>
                    <a:pt x="32187" y="21717"/>
                  </a:lnTo>
                  <a:lnTo>
                    <a:pt x="31884" y="21750"/>
                  </a:lnTo>
                  <a:lnTo>
                    <a:pt x="31715" y="21717"/>
                  </a:lnTo>
                  <a:lnTo>
                    <a:pt x="31581" y="21683"/>
                  </a:lnTo>
                  <a:lnTo>
                    <a:pt x="31446" y="21616"/>
                  </a:lnTo>
                  <a:lnTo>
                    <a:pt x="31311" y="21515"/>
                  </a:lnTo>
                  <a:lnTo>
                    <a:pt x="31076" y="21313"/>
                  </a:lnTo>
                  <a:lnTo>
                    <a:pt x="30840" y="21111"/>
                  </a:lnTo>
                  <a:lnTo>
                    <a:pt x="30806" y="21077"/>
                  </a:lnTo>
                  <a:lnTo>
                    <a:pt x="30773" y="21111"/>
                  </a:lnTo>
                  <a:lnTo>
                    <a:pt x="31143" y="20505"/>
                  </a:lnTo>
                  <a:lnTo>
                    <a:pt x="31412" y="19865"/>
                  </a:lnTo>
                  <a:close/>
                  <a:moveTo>
                    <a:pt x="16127" y="1381"/>
                  </a:moveTo>
                  <a:lnTo>
                    <a:pt x="16430" y="1415"/>
                  </a:lnTo>
                  <a:lnTo>
                    <a:pt x="16699" y="1448"/>
                  </a:lnTo>
                  <a:lnTo>
                    <a:pt x="16935" y="1516"/>
                  </a:lnTo>
                  <a:lnTo>
                    <a:pt x="17137" y="1617"/>
                  </a:lnTo>
                  <a:lnTo>
                    <a:pt x="17339" y="1718"/>
                  </a:lnTo>
                  <a:lnTo>
                    <a:pt x="17507" y="1886"/>
                  </a:lnTo>
                  <a:lnTo>
                    <a:pt x="17676" y="2055"/>
                  </a:lnTo>
                  <a:lnTo>
                    <a:pt x="17810" y="2257"/>
                  </a:lnTo>
                  <a:lnTo>
                    <a:pt x="18046" y="2661"/>
                  </a:lnTo>
                  <a:lnTo>
                    <a:pt x="18248" y="3132"/>
                  </a:lnTo>
                  <a:lnTo>
                    <a:pt x="18416" y="3637"/>
                  </a:lnTo>
                  <a:lnTo>
                    <a:pt x="18551" y="4142"/>
                  </a:lnTo>
                  <a:lnTo>
                    <a:pt x="19022" y="6229"/>
                  </a:lnTo>
                  <a:lnTo>
                    <a:pt x="19460" y="8317"/>
                  </a:lnTo>
                  <a:lnTo>
                    <a:pt x="19898" y="10303"/>
                  </a:lnTo>
                  <a:lnTo>
                    <a:pt x="20335" y="12290"/>
                  </a:lnTo>
                  <a:lnTo>
                    <a:pt x="20605" y="13300"/>
                  </a:lnTo>
                  <a:lnTo>
                    <a:pt x="20874" y="14276"/>
                  </a:lnTo>
                  <a:lnTo>
                    <a:pt x="21177" y="15252"/>
                  </a:lnTo>
                  <a:lnTo>
                    <a:pt x="21514" y="16229"/>
                  </a:lnTo>
                  <a:lnTo>
                    <a:pt x="20874" y="16027"/>
                  </a:lnTo>
                  <a:lnTo>
                    <a:pt x="20234" y="15892"/>
                  </a:lnTo>
                  <a:lnTo>
                    <a:pt x="19258" y="15724"/>
                  </a:lnTo>
                  <a:lnTo>
                    <a:pt x="18753" y="15656"/>
                  </a:lnTo>
                  <a:lnTo>
                    <a:pt x="18248" y="15623"/>
                  </a:lnTo>
                  <a:lnTo>
                    <a:pt x="17238" y="15623"/>
                  </a:lnTo>
                  <a:lnTo>
                    <a:pt x="16733" y="15690"/>
                  </a:lnTo>
                  <a:lnTo>
                    <a:pt x="16228" y="15791"/>
                  </a:lnTo>
                  <a:lnTo>
                    <a:pt x="16161" y="15757"/>
                  </a:lnTo>
                  <a:lnTo>
                    <a:pt x="16093" y="15791"/>
                  </a:lnTo>
                  <a:lnTo>
                    <a:pt x="16060" y="15825"/>
                  </a:lnTo>
                  <a:lnTo>
                    <a:pt x="15959" y="16027"/>
                  </a:lnTo>
                  <a:lnTo>
                    <a:pt x="15858" y="16229"/>
                  </a:lnTo>
                  <a:lnTo>
                    <a:pt x="15824" y="16464"/>
                  </a:lnTo>
                  <a:lnTo>
                    <a:pt x="15858" y="16700"/>
                  </a:lnTo>
                  <a:lnTo>
                    <a:pt x="15891" y="16767"/>
                  </a:lnTo>
                  <a:lnTo>
                    <a:pt x="15959" y="16767"/>
                  </a:lnTo>
                  <a:lnTo>
                    <a:pt x="15992" y="16734"/>
                  </a:lnTo>
                  <a:lnTo>
                    <a:pt x="16026" y="16700"/>
                  </a:lnTo>
                  <a:lnTo>
                    <a:pt x="16060" y="16464"/>
                  </a:lnTo>
                  <a:lnTo>
                    <a:pt x="16093" y="16296"/>
                  </a:lnTo>
                  <a:lnTo>
                    <a:pt x="16161" y="16094"/>
                  </a:lnTo>
                  <a:lnTo>
                    <a:pt x="16262" y="15926"/>
                  </a:lnTo>
                  <a:lnTo>
                    <a:pt x="16262" y="15892"/>
                  </a:lnTo>
                  <a:lnTo>
                    <a:pt x="18349" y="15926"/>
                  </a:lnTo>
                  <a:lnTo>
                    <a:pt x="19393" y="15993"/>
                  </a:lnTo>
                  <a:lnTo>
                    <a:pt x="19898" y="16060"/>
                  </a:lnTo>
                  <a:lnTo>
                    <a:pt x="20437" y="16161"/>
                  </a:lnTo>
                  <a:lnTo>
                    <a:pt x="21043" y="16296"/>
                  </a:lnTo>
                  <a:lnTo>
                    <a:pt x="21615" y="16464"/>
                  </a:lnTo>
                  <a:lnTo>
                    <a:pt x="22793" y="16801"/>
                  </a:lnTo>
                  <a:lnTo>
                    <a:pt x="22827" y="16868"/>
                  </a:lnTo>
                  <a:lnTo>
                    <a:pt x="22894" y="16936"/>
                  </a:lnTo>
                  <a:lnTo>
                    <a:pt x="22962" y="16969"/>
                  </a:lnTo>
                  <a:lnTo>
                    <a:pt x="23029" y="16936"/>
                  </a:lnTo>
                  <a:lnTo>
                    <a:pt x="23096" y="16902"/>
                  </a:lnTo>
                  <a:lnTo>
                    <a:pt x="23736" y="17037"/>
                  </a:lnTo>
                  <a:lnTo>
                    <a:pt x="24409" y="17171"/>
                  </a:lnTo>
                  <a:lnTo>
                    <a:pt x="24914" y="17239"/>
                  </a:lnTo>
                  <a:lnTo>
                    <a:pt x="25386" y="17306"/>
                  </a:lnTo>
                  <a:lnTo>
                    <a:pt x="26396" y="17340"/>
                  </a:lnTo>
                  <a:lnTo>
                    <a:pt x="27372" y="17373"/>
                  </a:lnTo>
                  <a:lnTo>
                    <a:pt x="28382" y="17441"/>
                  </a:lnTo>
                  <a:lnTo>
                    <a:pt x="29359" y="17542"/>
                  </a:lnTo>
                  <a:lnTo>
                    <a:pt x="29830" y="17609"/>
                  </a:lnTo>
                  <a:lnTo>
                    <a:pt x="30335" y="17710"/>
                  </a:lnTo>
                  <a:lnTo>
                    <a:pt x="30806" y="17845"/>
                  </a:lnTo>
                  <a:lnTo>
                    <a:pt x="31244" y="18047"/>
                  </a:lnTo>
                  <a:lnTo>
                    <a:pt x="31715" y="18249"/>
                  </a:lnTo>
                  <a:lnTo>
                    <a:pt x="32153" y="18518"/>
                  </a:lnTo>
                  <a:lnTo>
                    <a:pt x="32052" y="19057"/>
                  </a:lnTo>
                  <a:lnTo>
                    <a:pt x="32018" y="19259"/>
                  </a:lnTo>
                  <a:lnTo>
                    <a:pt x="31951" y="19360"/>
                  </a:lnTo>
                  <a:lnTo>
                    <a:pt x="31884" y="19394"/>
                  </a:lnTo>
                  <a:lnTo>
                    <a:pt x="31816" y="19427"/>
                  </a:lnTo>
                  <a:lnTo>
                    <a:pt x="31715" y="19394"/>
                  </a:lnTo>
                  <a:lnTo>
                    <a:pt x="31581" y="19360"/>
                  </a:lnTo>
                  <a:lnTo>
                    <a:pt x="31581" y="19293"/>
                  </a:lnTo>
                  <a:lnTo>
                    <a:pt x="31581" y="19259"/>
                  </a:lnTo>
                  <a:lnTo>
                    <a:pt x="31581" y="19192"/>
                  </a:lnTo>
                  <a:lnTo>
                    <a:pt x="31513" y="19158"/>
                  </a:lnTo>
                  <a:lnTo>
                    <a:pt x="31412" y="19158"/>
                  </a:lnTo>
                  <a:lnTo>
                    <a:pt x="31379" y="19192"/>
                  </a:lnTo>
                  <a:lnTo>
                    <a:pt x="31345" y="19225"/>
                  </a:lnTo>
                  <a:lnTo>
                    <a:pt x="31278" y="19562"/>
                  </a:lnTo>
                  <a:lnTo>
                    <a:pt x="31143" y="19899"/>
                  </a:lnTo>
                  <a:lnTo>
                    <a:pt x="31008" y="20202"/>
                  </a:lnTo>
                  <a:lnTo>
                    <a:pt x="30874" y="20505"/>
                  </a:lnTo>
                  <a:lnTo>
                    <a:pt x="30503" y="21077"/>
                  </a:lnTo>
                  <a:lnTo>
                    <a:pt x="30099" y="21616"/>
                  </a:lnTo>
                  <a:lnTo>
                    <a:pt x="29864" y="21851"/>
                  </a:lnTo>
                  <a:lnTo>
                    <a:pt x="29662" y="22087"/>
                  </a:lnTo>
                  <a:lnTo>
                    <a:pt x="29426" y="22289"/>
                  </a:lnTo>
                  <a:lnTo>
                    <a:pt x="29157" y="22491"/>
                  </a:lnTo>
                  <a:lnTo>
                    <a:pt x="28921" y="22626"/>
                  </a:lnTo>
                  <a:lnTo>
                    <a:pt x="28685" y="22693"/>
                  </a:lnTo>
                  <a:lnTo>
                    <a:pt x="28416" y="22727"/>
                  </a:lnTo>
                  <a:lnTo>
                    <a:pt x="28180" y="22727"/>
                  </a:lnTo>
                  <a:lnTo>
                    <a:pt x="27944" y="22693"/>
                  </a:lnTo>
                  <a:lnTo>
                    <a:pt x="27675" y="22659"/>
                  </a:lnTo>
                  <a:lnTo>
                    <a:pt x="27204" y="22491"/>
                  </a:lnTo>
                  <a:lnTo>
                    <a:pt x="26598" y="22255"/>
                  </a:lnTo>
                  <a:lnTo>
                    <a:pt x="26295" y="22121"/>
                  </a:lnTo>
                  <a:lnTo>
                    <a:pt x="26025" y="21952"/>
                  </a:lnTo>
                  <a:lnTo>
                    <a:pt x="25790" y="21784"/>
                  </a:lnTo>
                  <a:lnTo>
                    <a:pt x="25554" y="21582"/>
                  </a:lnTo>
                  <a:lnTo>
                    <a:pt x="25352" y="21346"/>
                  </a:lnTo>
                  <a:lnTo>
                    <a:pt x="25150" y="21077"/>
                  </a:lnTo>
                  <a:lnTo>
                    <a:pt x="25083" y="20909"/>
                  </a:lnTo>
                  <a:lnTo>
                    <a:pt x="25015" y="20740"/>
                  </a:lnTo>
                  <a:lnTo>
                    <a:pt x="24914" y="20370"/>
                  </a:lnTo>
                  <a:lnTo>
                    <a:pt x="24813" y="19629"/>
                  </a:lnTo>
                  <a:lnTo>
                    <a:pt x="24746" y="18922"/>
                  </a:lnTo>
                  <a:lnTo>
                    <a:pt x="24679" y="18619"/>
                  </a:lnTo>
                  <a:lnTo>
                    <a:pt x="24780" y="18619"/>
                  </a:lnTo>
                  <a:lnTo>
                    <a:pt x="24813" y="18586"/>
                  </a:lnTo>
                  <a:lnTo>
                    <a:pt x="24847" y="18518"/>
                  </a:lnTo>
                  <a:lnTo>
                    <a:pt x="24847" y="18451"/>
                  </a:lnTo>
                  <a:lnTo>
                    <a:pt x="24746" y="18316"/>
                  </a:lnTo>
                  <a:lnTo>
                    <a:pt x="24746" y="18283"/>
                  </a:lnTo>
                  <a:lnTo>
                    <a:pt x="24712" y="18249"/>
                  </a:lnTo>
                  <a:lnTo>
                    <a:pt x="24679" y="18249"/>
                  </a:lnTo>
                  <a:lnTo>
                    <a:pt x="24544" y="18114"/>
                  </a:lnTo>
                  <a:lnTo>
                    <a:pt x="24409" y="17979"/>
                  </a:lnTo>
                  <a:lnTo>
                    <a:pt x="24241" y="17912"/>
                  </a:lnTo>
                  <a:lnTo>
                    <a:pt x="24039" y="17845"/>
                  </a:lnTo>
                  <a:lnTo>
                    <a:pt x="23803" y="17845"/>
                  </a:lnTo>
                  <a:lnTo>
                    <a:pt x="23500" y="17878"/>
                  </a:lnTo>
                  <a:lnTo>
                    <a:pt x="23467" y="17845"/>
                  </a:lnTo>
                  <a:lnTo>
                    <a:pt x="23332" y="17845"/>
                  </a:lnTo>
                  <a:lnTo>
                    <a:pt x="23298" y="17912"/>
                  </a:lnTo>
                  <a:lnTo>
                    <a:pt x="23164" y="18215"/>
                  </a:lnTo>
                  <a:lnTo>
                    <a:pt x="23130" y="18283"/>
                  </a:lnTo>
                  <a:lnTo>
                    <a:pt x="23130" y="18350"/>
                  </a:lnTo>
                  <a:lnTo>
                    <a:pt x="22962" y="18754"/>
                  </a:lnTo>
                  <a:lnTo>
                    <a:pt x="22726" y="19158"/>
                  </a:lnTo>
                  <a:lnTo>
                    <a:pt x="22490" y="19528"/>
                  </a:lnTo>
                  <a:lnTo>
                    <a:pt x="22221" y="19899"/>
                  </a:lnTo>
                  <a:lnTo>
                    <a:pt x="22389" y="19596"/>
                  </a:lnTo>
                  <a:lnTo>
                    <a:pt x="22524" y="19225"/>
                  </a:lnTo>
                  <a:lnTo>
                    <a:pt x="22625" y="18889"/>
                  </a:lnTo>
                  <a:lnTo>
                    <a:pt x="22692" y="18518"/>
                  </a:lnTo>
                  <a:lnTo>
                    <a:pt x="22692" y="18182"/>
                  </a:lnTo>
                  <a:lnTo>
                    <a:pt x="22659" y="17845"/>
                  </a:lnTo>
                  <a:lnTo>
                    <a:pt x="22558" y="17542"/>
                  </a:lnTo>
                  <a:lnTo>
                    <a:pt x="22423" y="17272"/>
                  </a:lnTo>
                  <a:lnTo>
                    <a:pt x="22221" y="17104"/>
                  </a:lnTo>
                  <a:lnTo>
                    <a:pt x="22019" y="16936"/>
                  </a:lnTo>
                  <a:lnTo>
                    <a:pt x="21750" y="16801"/>
                  </a:lnTo>
                  <a:lnTo>
                    <a:pt x="21447" y="16700"/>
                  </a:lnTo>
                  <a:lnTo>
                    <a:pt x="20841" y="16532"/>
                  </a:lnTo>
                  <a:lnTo>
                    <a:pt x="20335" y="16397"/>
                  </a:lnTo>
                  <a:lnTo>
                    <a:pt x="19696" y="16262"/>
                  </a:lnTo>
                  <a:lnTo>
                    <a:pt x="19359" y="16229"/>
                  </a:lnTo>
                  <a:lnTo>
                    <a:pt x="19022" y="16195"/>
                  </a:lnTo>
                  <a:lnTo>
                    <a:pt x="18686" y="16229"/>
                  </a:lnTo>
                  <a:lnTo>
                    <a:pt x="18383" y="16262"/>
                  </a:lnTo>
                  <a:lnTo>
                    <a:pt x="18046" y="16330"/>
                  </a:lnTo>
                  <a:lnTo>
                    <a:pt x="17709" y="16397"/>
                  </a:lnTo>
                  <a:lnTo>
                    <a:pt x="17676" y="16431"/>
                  </a:lnTo>
                  <a:lnTo>
                    <a:pt x="17642" y="16464"/>
                  </a:lnTo>
                  <a:lnTo>
                    <a:pt x="17642" y="16565"/>
                  </a:lnTo>
                  <a:lnTo>
                    <a:pt x="17440" y="16767"/>
                  </a:lnTo>
                  <a:lnTo>
                    <a:pt x="17305" y="17003"/>
                  </a:lnTo>
                  <a:lnTo>
                    <a:pt x="17204" y="17272"/>
                  </a:lnTo>
                  <a:lnTo>
                    <a:pt x="17137" y="17542"/>
                  </a:lnTo>
                  <a:lnTo>
                    <a:pt x="17070" y="17845"/>
                  </a:lnTo>
                  <a:lnTo>
                    <a:pt x="17070" y="18148"/>
                  </a:lnTo>
                  <a:lnTo>
                    <a:pt x="17137" y="18788"/>
                  </a:lnTo>
                  <a:lnTo>
                    <a:pt x="17204" y="19461"/>
                  </a:lnTo>
                  <a:lnTo>
                    <a:pt x="17238" y="19798"/>
                  </a:lnTo>
                  <a:lnTo>
                    <a:pt x="17339" y="20134"/>
                  </a:lnTo>
                  <a:lnTo>
                    <a:pt x="17440" y="20336"/>
                  </a:lnTo>
                  <a:lnTo>
                    <a:pt x="17608" y="20505"/>
                  </a:lnTo>
                  <a:lnTo>
                    <a:pt x="17777" y="20639"/>
                  </a:lnTo>
                  <a:lnTo>
                    <a:pt x="18012" y="20740"/>
                  </a:lnTo>
                  <a:lnTo>
                    <a:pt x="18248" y="20808"/>
                  </a:lnTo>
                  <a:lnTo>
                    <a:pt x="18484" y="20875"/>
                  </a:lnTo>
                  <a:lnTo>
                    <a:pt x="18921" y="20976"/>
                  </a:lnTo>
                  <a:lnTo>
                    <a:pt x="19527" y="21077"/>
                  </a:lnTo>
                  <a:lnTo>
                    <a:pt x="19830" y="21111"/>
                  </a:lnTo>
                  <a:lnTo>
                    <a:pt x="20133" y="21111"/>
                  </a:lnTo>
                  <a:lnTo>
                    <a:pt x="20403" y="21077"/>
                  </a:lnTo>
                  <a:lnTo>
                    <a:pt x="20706" y="21010"/>
                  </a:lnTo>
                  <a:lnTo>
                    <a:pt x="21009" y="20942"/>
                  </a:lnTo>
                  <a:lnTo>
                    <a:pt x="21278" y="20841"/>
                  </a:lnTo>
                  <a:lnTo>
                    <a:pt x="21379" y="20808"/>
                  </a:lnTo>
                  <a:lnTo>
                    <a:pt x="21043" y="21043"/>
                  </a:lnTo>
                  <a:lnTo>
                    <a:pt x="20874" y="21144"/>
                  </a:lnTo>
                  <a:lnTo>
                    <a:pt x="20672" y="21178"/>
                  </a:lnTo>
                  <a:lnTo>
                    <a:pt x="20437" y="21212"/>
                  </a:lnTo>
                  <a:lnTo>
                    <a:pt x="20167" y="21245"/>
                  </a:lnTo>
                  <a:lnTo>
                    <a:pt x="19696" y="21212"/>
                  </a:lnTo>
                  <a:lnTo>
                    <a:pt x="19258" y="21178"/>
                  </a:lnTo>
                  <a:lnTo>
                    <a:pt x="18854" y="21144"/>
                  </a:lnTo>
                  <a:lnTo>
                    <a:pt x="18450" y="21077"/>
                  </a:lnTo>
                  <a:lnTo>
                    <a:pt x="18113" y="20942"/>
                  </a:lnTo>
                  <a:lnTo>
                    <a:pt x="17777" y="20740"/>
                  </a:lnTo>
                  <a:lnTo>
                    <a:pt x="17474" y="20538"/>
                  </a:lnTo>
                  <a:lnTo>
                    <a:pt x="17238" y="20235"/>
                  </a:lnTo>
                  <a:lnTo>
                    <a:pt x="17036" y="19899"/>
                  </a:lnTo>
                  <a:lnTo>
                    <a:pt x="16868" y="19528"/>
                  </a:lnTo>
                  <a:lnTo>
                    <a:pt x="16733" y="18990"/>
                  </a:lnTo>
                  <a:lnTo>
                    <a:pt x="16666" y="18417"/>
                  </a:lnTo>
                  <a:lnTo>
                    <a:pt x="16497" y="17306"/>
                  </a:lnTo>
                  <a:lnTo>
                    <a:pt x="16565" y="17306"/>
                  </a:lnTo>
                  <a:lnTo>
                    <a:pt x="16666" y="17272"/>
                  </a:lnTo>
                  <a:lnTo>
                    <a:pt x="16699" y="17205"/>
                  </a:lnTo>
                  <a:lnTo>
                    <a:pt x="16699" y="17138"/>
                  </a:lnTo>
                  <a:lnTo>
                    <a:pt x="16699" y="17104"/>
                  </a:lnTo>
                  <a:lnTo>
                    <a:pt x="16666" y="17070"/>
                  </a:lnTo>
                  <a:lnTo>
                    <a:pt x="16598" y="17037"/>
                  </a:lnTo>
                  <a:lnTo>
                    <a:pt x="16430" y="17037"/>
                  </a:lnTo>
                  <a:lnTo>
                    <a:pt x="16329" y="16969"/>
                  </a:lnTo>
                  <a:lnTo>
                    <a:pt x="16262" y="16902"/>
                  </a:lnTo>
                  <a:lnTo>
                    <a:pt x="16161" y="16835"/>
                  </a:lnTo>
                  <a:lnTo>
                    <a:pt x="16026" y="16801"/>
                  </a:lnTo>
                  <a:lnTo>
                    <a:pt x="15925" y="16835"/>
                  </a:lnTo>
                  <a:lnTo>
                    <a:pt x="15858" y="16868"/>
                  </a:lnTo>
                  <a:lnTo>
                    <a:pt x="15824" y="16936"/>
                  </a:lnTo>
                  <a:lnTo>
                    <a:pt x="15858" y="17003"/>
                  </a:lnTo>
                  <a:lnTo>
                    <a:pt x="15891" y="17003"/>
                  </a:lnTo>
                  <a:lnTo>
                    <a:pt x="15992" y="17037"/>
                  </a:lnTo>
                  <a:lnTo>
                    <a:pt x="16060" y="17070"/>
                  </a:lnTo>
                  <a:lnTo>
                    <a:pt x="16194" y="17205"/>
                  </a:lnTo>
                  <a:lnTo>
                    <a:pt x="16329" y="17272"/>
                  </a:lnTo>
                  <a:lnTo>
                    <a:pt x="16329" y="17474"/>
                  </a:lnTo>
                  <a:lnTo>
                    <a:pt x="15555" y="17710"/>
                  </a:lnTo>
                  <a:lnTo>
                    <a:pt x="15184" y="17845"/>
                  </a:lnTo>
                  <a:lnTo>
                    <a:pt x="14814" y="17979"/>
                  </a:lnTo>
                  <a:lnTo>
                    <a:pt x="14612" y="18081"/>
                  </a:lnTo>
                  <a:lnTo>
                    <a:pt x="14376" y="18215"/>
                  </a:lnTo>
                  <a:lnTo>
                    <a:pt x="14275" y="18316"/>
                  </a:lnTo>
                  <a:lnTo>
                    <a:pt x="14174" y="18384"/>
                  </a:lnTo>
                  <a:lnTo>
                    <a:pt x="14141" y="18518"/>
                  </a:lnTo>
                  <a:lnTo>
                    <a:pt x="14141" y="18619"/>
                  </a:lnTo>
                  <a:lnTo>
                    <a:pt x="14208" y="18720"/>
                  </a:lnTo>
                  <a:lnTo>
                    <a:pt x="14309" y="18855"/>
                  </a:lnTo>
                  <a:lnTo>
                    <a:pt x="14545" y="19057"/>
                  </a:lnTo>
                  <a:lnTo>
                    <a:pt x="14881" y="19326"/>
                  </a:lnTo>
                  <a:lnTo>
                    <a:pt x="15050" y="19461"/>
                  </a:lnTo>
                  <a:lnTo>
                    <a:pt x="15252" y="19562"/>
                  </a:lnTo>
                  <a:lnTo>
                    <a:pt x="15420" y="19596"/>
                  </a:lnTo>
                  <a:lnTo>
                    <a:pt x="15757" y="19596"/>
                  </a:lnTo>
                  <a:lnTo>
                    <a:pt x="15925" y="19528"/>
                  </a:lnTo>
                  <a:lnTo>
                    <a:pt x="16228" y="19394"/>
                  </a:lnTo>
                  <a:lnTo>
                    <a:pt x="16531" y="19225"/>
                  </a:lnTo>
                  <a:lnTo>
                    <a:pt x="16666" y="19730"/>
                  </a:lnTo>
                  <a:lnTo>
                    <a:pt x="16834" y="20202"/>
                  </a:lnTo>
                  <a:lnTo>
                    <a:pt x="17002" y="20505"/>
                  </a:lnTo>
                  <a:lnTo>
                    <a:pt x="17238" y="20740"/>
                  </a:lnTo>
                  <a:lnTo>
                    <a:pt x="17474" y="20942"/>
                  </a:lnTo>
                  <a:lnTo>
                    <a:pt x="17777" y="21111"/>
                  </a:lnTo>
                  <a:lnTo>
                    <a:pt x="18080" y="21245"/>
                  </a:lnTo>
                  <a:lnTo>
                    <a:pt x="18383" y="21346"/>
                  </a:lnTo>
                  <a:lnTo>
                    <a:pt x="18719" y="21414"/>
                  </a:lnTo>
                  <a:lnTo>
                    <a:pt x="19022" y="21447"/>
                  </a:lnTo>
                  <a:lnTo>
                    <a:pt x="19898" y="21515"/>
                  </a:lnTo>
                  <a:lnTo>
                    <a:pt x="20335" y="21515"/>
                  </a:lnTo>
                  <a:lnTo>
                    <a:pt x="20571" y="21481"/>
                  </a:lnTo>
                  <a:lnTo>
                    <a:pt x="20773" y="21447"/>
                  </a:lnTo>
                  <a:lnTo>
                    <a:pt x="21076" y="21313"/>
                  </a:lnTo>
                  <a:lnTo>
                    <a:pt x="21346" y="21178"/>
                  </a:lnTo>
                  <a:lnTo>
                    <a:pt x="21581" y="20976"/>
                  </a:lnTo>
                  <a:lnTo>
                    <a:pt x="21817" y="20774"/>
                  </a:lnTo>
                  <a:lnTo>
                    <a:pt x="22255" y="20336"/>
                  </a:lnTo>
                  <a:lnTo>
                    <a:pt x="22625" y="19865"/>
                  </a:lnTo>
                  <a:lnTo>
                    <a:pt x="22726" y="20202"/>
                  </a:lnTo>
                  <a:lnTo>
                    <a:pt x="22827" y="20538"/>
                  </a:lnTo>
                  <a:lnTo>
                    <a:pt x="23063" y="21212"/>
                  </a:lnTo>
                  <a:lnTo>
                    <a:pt x="23164" y="21548"/>
                  </a:lnTo>
                  <a:lnTo>
                    <a:pt x="23164" y="21851"/>
                  </a:lnTo>
                  <a:lnTo>
                    <a:pt x="23130" y="22121"/>
                  </a:lnTo>
                  <a:lnTo>
                    <a:pt x="23029" y="22356"/>
                  </a:lnTo>
                  <a:lnTo>
                    <a:pt x="22861" y="22592"/>
                  </a:lnTo>
                  <a:lnTo>
                    <a:pt x="22625" y="22794"/>
                  </a:lnTo>
                  <a:lnTo>
                    <a:pt x="22389" y="22962"/>
                  </a:lnTo>
                  <a:lnTo>
                    <a:pt x="22086" y="23097"/>
                  </a:lnTo>
                  <a:lnTo>
                    <a:pt x="21144" y="23434"/>
                  </a:lnTo>
                  <a:lnTo>
                    <a:pt x="20201" y="23737"/>
                  </a:lnTo>
                  <a:lnTo>
                    <a:pt x="18282" y="24275"/>
                  </a:lnTo>
                  <a:lnTo>
                    <a:pt x="16430" y="24814"/>
                  </a:lnTo>
                  <a:lnTo>
                    <a:pt x="14578" y="25319"/>
                  </a:lnTo>
                  <a:lnTo>
                    <a:pt x="12558" y="25824"/>
                  </a:lnTo>
                  <a:lnTo>
                    <a:pt x="11683" y="25992"/>
                  </a:lnTo>
                  <a:lnTo>
                    <a:pt x="11245" y="26127"/>
                  </a:lnTo>
                  <a:lnTo>
                    <a:pt x="10807" y="26296"/>
                  </a:lnTo>
                  <a:lnTo>
                    <a:pt x="10100" y="23467"/>
                  </a:lnTo>
                  <a:lnTo>
                    <a:pt x="9259" y="20202"/>
                  </a:lnTo>
                  <a:lnTo>
                    <a:pt x="8484" y="16902"/>
                  </a:lnTo>
                  <a:lnTo>
                    <a:pt x="8013" y="14848"/>
                  </a:lnTo>
                  <a:lnTo>
                    <a:pt x="8350" y="14781"/>
                  </a:lnTo>
                  <a:lnTo>
                    <a:pt x="8686" y="14714"/>
                  </a:lnTo>
                  <a:lnTo>
                    <a:pt x="9360" y="14545"/>
                  </a:lnTo>
                  <a:lnTo>
                    <a:pt x="10134" y="14310"/>
                  </a:lnTo>
                  <a:lnTo>
                    <a:pt x="10504" y="14141"/>
                  </a:lnTo>
                  <a:lnTo>
                    <a:pt x="10841" y="13973"/>
                  </a:lnTo>
                  <a:lnTo>
                    <a:pt x="10875" y="13939"/>
                  </a:lnTo>
                  <a:lnTo>
                    <a:pt x="10875" y="13906"/>
                  </a:lnTo>
                  <a:lnTo>
                    <a:pt x="10841" y="13872"/>
                  </a:lnTo>
                  <a:lnTo>
                    <a:pt x="10807" y="13872"/>
                  </a:lnTo>
                  <a:lnTo>
                    <a:pt x="10437" y="13973"/>
                  </a:lnTo>
                  <a:lnTo>
                    <a:pt x="10067" y="14108"/>
                  </a:lnTo>
                  <a:lnTo>
                    <a:pt x="9326" y="14377"/>
                  </a:lnTo>
                  <a:lnTo>
                    <a:pt x="8653" y="14545"/>
                  </a:lnTo>
                  <a:lnTo>
                    <a:pt x="8013" y="14747"/>
                  </a:lnTo>
                  <a:lnTo>
                    <a:pt x="7845" y="14040"/>
                  </a:lnTo>
                  <a:lnTo>
                    <a:pt x="8484" y="13906"/>
                  </a:lnTo>
                  <a:lnTo>
                    <a:pt x="9090" y="13737"/>
                  </a:lnTo>
                  <a:lnTo>
                    <a:pt x="10302" y="13367"/>
                  </a:lnTo>
                  <a:lnTo>
                    <a:pt x="13063" y="12593"/>
                  </a:lnTo>
                  <a:lnTo>
                    <a:pt x="15824" y="11886"/>
                  </a:lnTo>
                  <a:lnTo>
                    <a:pt x="18618" y="11179"/>
                  </a:lnTo>
                  <a:lnTo>
                    <a:pt x="18686" y="11145"/>
                  </a:lnTo>
                  <a:lnTo>
                    <a:pt x="18686" y="11078"/>
                  </a:lnTo>
                  <a:lnTo>
                    <a:pt x="18652" y="11010"/>
                  </a:lnTo>
                  <a:lnTo>
                    <a:pt x="18585" y="11010"/>
                  </a:lnTo>
                  <a:lnTo>
                    <a:pt x="15790" y="11684"/>
                  </a:lnTo>
                  <a:lnTo>
                    <a:pt x="12996" y="12424"/>
                  </a:lnTo>
                  <a:lnTo>
                    <a:pt x="10235" y="13199"/>
                  </a:lnTo>
                  <a:lnTo>
                    <a:pt x="9023" y="13535"/>
                  </a:lnTo>
                  <a:lnTo>
                    <a:pt x="8417" y="13704"/>
                  </a:lnTo>
                  <a:lnTo>
                    <a:pt x="7845" y="13939"/>
                  </a:lnTo>
                  <a:lnTo>
                    <a:pt x="7676" y="13266"/>
                  </a:lnTo>
                  <a:lnTo>
                    <a:pt x="8350" y="13165"/>
                  </a:lnTo>
                  <a:lnTo>
                    <a:pt x="8989" y="12997"/>
                  </a:lnTo>
                  <a:lnTo>
                    <a:pt x="9629" y="12795"/>
                  </a:lnTo>
                  <a:lnTo>
                    <a:pt x="10269" y="12593"/>
                  </a:lnTo>
                  <a:lnTo>
                    <a:pt x="11514" y="12155"/>
                  </a:lnTo>
                  <a:lnTo>
                    <a:pt x="12794" y="11751"/>
                  </a:lnTo>
                  <a:lnTo>
                    <a:pt x="14107" y="11381"/>
                  </a:lnTo>
                  <a:lnTo>
                    <a:pt x="15420" y="11044"/>
                  </a:lnTo>
                  <a:lnTo>
                    <a:pt x="18080" y="10404"/>
                  </a:lnTo>
                  <a:lnTo>
                    <a:pt x="18113" y="10371"/>
                  </a:lnTo>
                  <a:lnTo>
                    <a:pt x="18147" y="10337"/>
                  </a:lnTo>
                  <a:lnTo>
                    <a:pt x="18147" y="10270"/>
                  </a:lnTo>
                  <a:lnTo>
                    <a:pt x="18113" y="10202"/>
                  </a:lnTo>
                  <a:lnTo>
                    <a:pt x="18012" y="10202"/>
                  </a:lnTo>
                  <a:lnTo>
                    <a:pt x="16699" y="10505"/>
                  </a:lnTo>
                  <a:lnTo>
                    <a:pt x="15420" y="10842"/>
                  </a:lnTo>
                  <a:lnTo>
                    <a:pt x="12828" y="11583"/>
                  </a:lnTo>
                  <a:lnTo>
                    <a:pt x="10235" y="12391"/>
                  </a:lnTo>
                  <a:lnTo>
                    <a:pt x="7643" y="13131"/>
                  </a:lnTo>
                  <a:lnTo>
                    <a:pt x="7272" y="11482"/>
                  </a:lnTo>
                  <a:lnTo>
                    <a:pt x="7710" y="11414"/>
                  </a:lnTo>
                  <a:lnTo>
                    <a:pt x="8148" y="11313"/>
                  </a:lnTo>
                  <a:lnTo>
                    <a:pt x="9023" y="11044"/>
                  </a:lnTo>
                  <a:lnTo>
                    <a:pt x="11279" y="10404"/>
                  </a:lnTo>
                  <a:lnTo>
                    <a:pt x="12390" y="10101"/>
                  </a:lnTo>
                  <a:lnTo>
                    <a:pt x="13501" y="9832"/>
                  </a:lnTo>
                  <a:lnTo>
                    <a:pt x="14646" y="9596"/>
                  </a:lnTo>
                  <a:lnTo>
                    <a:pt x="15790" y="9394"/>
                  </a:lnTo>
                  <a:lnTo>
                    <a:pt x="15824" y="9360"/>
                  </a:lnTo>
                  <a:lnTo>
                    <a:pt x="15824" y="9293"/>
                  </a:lnTo>
                  <a:lnTo>
                    <a:pt x="15790" y="9259"/>
                  </a:lnTo>
                  <a:lnTo>
                    <a:pt x="15723" y="9226"/>
                  </a:lnTo>
                  <a:lnTo>
                    <a:pt x="14679" y="9428"/>
                  </a:lnTo>
                  <a:lnTo>
                    <a:pt x="13602" y="9630"/>
                  </a:lnTo>
                  <a:lnTo>
                    <a:pt x="12525" y="9899"/>
                  </a:lnTo>
                  <a:lnTo>
                    <a:pt x="11481" y="10169"/>
                  </a:lnTo>
                  <a:lnTo>
                    <a:pt x="9225" y="10808"/>
                  </a:lnTo>
                  <a:lnTo>
                    <a:pt x="8215" y="11078"/>
                  </a:lnTo>
                  <a:lnTo>
                    <a:pt x="7744" y="11246"/>
                  </a:lnTo>
                  <a:lnTo>
                    <a:pt x="7272" y="11448"/>
                  </a:lnTo>
                  <a:lnTo>
                    <a:pt x="7138" y="10977"/>
                  </a:lnTo>
                  <a:lnTo>
                    <a:pt x="8417" y="10573"/>
                  </a:lnTo>
                  <a:lnTo>
                    <a:pt x="9730" y="10135"/>
                  </a:lnTo>
                  <a:lnTo>
                    <a:pt x="11009" y="9697"/>
                  </a:lnTo>
                  <a:lnTo>
                    <a:pt x="12323" y="9293"/>
                  </a:lnTo>
                  <a:lnTo>
                    <a:pt x="13669" y="8923"/>
                  </a:lnTo>
                  <a:lnTo>
                    <a:pt x="15016" y="8586"/>
                  </a:lnTo>
                  <a:lnTo>
                    <a:pt x="16363" y="8283"/>
                  </a:lnTo>
                  <a:lnTo>
                    <a:pt x="17743" y="8014"/>
                  </a:lnTo>
                  <a:lnTo>
                    <a:pt x="17777" y="7980"/>
                  </a:lnTo>
                  <a:lnTo>
                    <a:pt x="17777" y="7913"/>
                  </a:lnTo>
                  <a:lnTo>
                    <a:pt x="17743" y="7845"/>
                  </a:lnTo>
                  <a:lnTo>
                    <a:pt x="17676" y="7845"/>
                  </a:lnTo>
                  <a:lnTo>
                    <a:pt x="16329" y="8115"/>
                  </a:lnTo>
                  <a:lnTo>
                    <a:pt x="14982" y="8418"/>
                  </a:lnTo>
                  <a:lnTo>
                    <a:pt x="13602" y="8754"/>
                  </a:lnTo>
                  <a:lnTo>
                    <a:pt x="12289" y="9125"/>
                  </a:lnTo>
                  <a:lnTo>
                    <a:pt x="10976" y="9495"/>
                  </a:lnTo>
                  <a:lnTo>
                    <a:pt x="9663" y="9899"/>
                  </a:lnTo>
                  <a:lnTo>
                    <a:pt x="8350" y="10337"/>
                  </a:lnTo>
                  <a:lnTo>
                    <a:pt x="7710" y="10606"/>
                  </a:lnTo>
                  <a:lnTo>
                    <a:pt x="7104" y="10876"/>
                  </a:lnTo>
                  <a:lnTo>
                    <a:pt x="6969" y="10371"/>
                  </a:lnTo>
                  <a:lnTo>
                    <a:pt x="6902" y="10270"/>
                  </a:lnTo>
                  <a:lnTo>
                    <a:pt x="7542" y="10101"/>
                  </a:lnTo>
                  <a:lnTo>
                    <a:pt x="8148" y="9933"/>
                  </a:lnTo>
                  <a:lnTo>
                    <a:pt x="9360" y="9562"/>
                  </a:lnTo>
                  <a:lnTo>
                    <a:pt x="12087" y="8788"/>
                  </a:lnTo>
                  <a:lnTo>
                    <a:pt x="13501" y="8451"/>
                  </a:lnTo>
                  <a:lnTo>
                    <a:pt x="14881" y="8115"/>
                  </a:lnTo>
                  <a:lnTo>
                    <a:pt x="17676" y="7475"/>
                  </a:lnTo>
                  <a:lnTo>
                    <a:pt x="17709" y="7441"/>
                  </a:lnTo>
                  <a:lnTo>
                    <a:pt x="17709" y="7374"/>
                  </a:lnTo>
                  <a:lnTo>
                    <a:pt x="17676" y="7340"/>
                  </a:lnTo>
                  <a:lnTo>
                    <a:pt x="17642" y="7340"/>
                  </a:lnTo>
                  <a:lnTo>
                    <a:pt x="16228" y="7610"/>
                  </a:lnTo>
                  <a:lnTo>
                    <a:pt x="14848" y="7946"/>
                  </a:lnTo>
                  <a:lnTo>
                    <a:pt x="12053" y="8653"/>
                  </a:lnTo>
                  <a:lnTo>
                    <a:pt x="9326" y="9428"/>
                  </a:lnTo>
                  <a:lnTo>
                    <a:pt x="8080" y="9764"/>
                  </a:lnTo>
                  <a:lnTo>
                    <a:pt x="7474" y="9933"/>
                  </a:lnTo>
                  <a:lnTo>
                    <a:pt x="6902" y="10169"/>
                  </a:lnTo>
                  <a:lnTo>
                    <a:pt x="6599" y="9327"/>
                  </a:lnTo>
                  <a:lnTo>
                    <a:pt x="7239" y="9293"/>
                  </a:lnTo>
                  <a:lnTo>
                    <a:pt x="7878" y="9158"/>
                  </a:lnTo>
                  <a:lnTo>
                    <a:pt x="8518" y="8990"/>
                  </a:lnTo>
                  <a:lnTo>
                    <a:pt x="9158" y="8788"/>
                  </a:lnTo>
                  <a:lnTo>
                    <a:pt x="10370" y="8350"/>
                  </a:lnTo>
                  <a:lnTo>
                    <a:pt x="11582" y="7879"/>
                  </a:lnTo>
                  <a:lnTo>
                    <a:pt x="11952" y="7778"/>
                  </a:lnTo>
                  <a:lnTo>
                    <a:pt x="12323" y="7711"/>
                  </a:lnTo>
                  <a:lnTo>
                    <a:pt x="13097" y="7610"/>
                  </a:lnTo>
                  <a:lnTo>
                    <a:pt x="13871" y="7542"/>
                  </a:lnTo>
                  <a:lnTo>
                    <a:pt x="14612" y="7441"/>
                  </a:lnTo>
                  <a:lnTo>
                    <a:pt x="15353" y="7273"/>
                  </a:lnTo>
                  <a:lnTo>
                    <a:pt x="16093" y="7105"/>
                  </a:lnTo>
                  <a:lnTo>
                    <a:pt x="16834" y="6869"/>
                  </a:lnTo>
                  <a:lnTo>
                    <a:pt x="17575" y="6633"/>
                  </a:lnTo>
                  <a:lnTo>
                    <a:pt x="17608" y="6600"/>
                  </a:lnTo>
                  <a:lnTo>
                    <a:pt x="17608" y="6532"/>
                  </a:lnTo>
                  <a:lnTo>
                    <a:pt x="17575" y="6465"/>
                  </a:lnTo>
                  <a:lnTo>
                    <a:pt x="17507" y="6465"/>
                  </a:lnTo>
                  <a:lnTo>
                    <a:pt x="16868" y="6701"/>
                  </a:lnTo>
                  <a:lnTo>
                    <a:pt x="16194" y="6903"/>
                  </a:lnTo>
                  <a:lnTo>
                    <a:pt x="15521" y="7071"/>
                  </a:lnTo>
                  <a:lnTo>
                    <a:pt x="14814" y="7239"/>
                  </a:lnTo>
                  <a:lnTo>
                    <a:pt x="14073" y="7340"/>
                  </a:lnTo>
                  <a:lnTo>
                    <a:pt x="13299" y="7441"/>
                  </a:lnTo>
                  <a:lnTo>
                    <a:pt x="12558" y="7542"/>
                  </a:lnTo>
                  <a:lnTo>
                    <a:pt x="11784" y="7677"/>
                  </a:lnTo>
                  <a:lnTo>
                    <a:pt x="11481" y="7744"/>
                  </a:lnTo>
                  <a:lnTo>
                    <a:pt x="11144" y="7845"/>
                  </a:lnTo>
                  <a:lnTo>
                    <a:pt x="10504" y="8115"/>
                  </a:lnTo>
                  <a:lnTo>
                    <a:pt x="9865" y="8350"/>
                  </a:lnTo>
                  <a:lnTo>
                    <a:pt x="9259" y="8586"/>
                  </a:lnTo>
                  <a:lnTo>
                    <a:pt x="8585" y="8788"/>
                  </a:lnTo>
                  <a:lnTo>
                    <a:pt x="7912" y="8923"/>
                  </a:lnTo>
                  <a:lnTo>
                    <a:pt x="7239" y="9091"/>
                  </a:lnTo>
                  <a:lnTo>
                    <a:pt x="6565" y="9259"/>
                  </a:lnTo>
                  <a:lnTo>
                    <a:pt x="6128" y="7980"/>
                  </a:lnTo>
                  <a:lnTo>
                    <a:pt x="6666" y="7913"/>
                  </a:lnTo>
                  <a:lnTo>
                    <a:pt x="7239" y="7845"/>
                  </a:lnTo>
                  <a:lnTo>
                    <a:pt x="7811" y="7711"/>
                  </a:lnTo>
                  <a:lnTo>
                    <a:pt x="8383" y="7576"/>
                  </a:lnTo>
                  <a:lnTo>
                    <a:pt x="9461" y="7206"/>
                  </a:lnTo>
                  <a:lnTo>
                    <a:pt x="10538" y="6869"/>
                  </a:lnTo>
                  <a:lnTo>
                    <a:pt x="11750" y="6465"/>
                  </a:lnTo>
                  <a:lnTo>
                    <a:pt x="12962" y="6061"/>
                  </a:lnTo>
                  <a:lnTo>
                    <a:pt x="14174" y="5724"/>
                  </a:lnTo>
                  <a:lnTo>
                    <a:pt x="15386" y="5455"/>
                  </a:lnTo>
                  <a:lnTo>
                    <a:pt x="15454" y="5421"/>
                  </a:lnTo>
                  <a:lnTo>
                    <a:pt x="15454" y="5354"/>
                  </a:lnTo>
                  <a:lnTo>
                    <a:pt x="15420" y="5287"/>
                  </a:lnTo>
                  <a:lnTo>
                    <a:pt x="15353" y="5287"/>
                  </a:lnTo>
                  <a:lnTo>
                    <a:pt x="14174" y="5556"/>
                  </a:lnTo>
                  <a:lnTo>
                    <a:pt x="13030" y="5893"/>
                  </a:lnTo>
                  <a:lnTo>
                    <a:pt x="11885" y="6229"/>
                  </a:lnTo>
                  <a:lnTo>
                    <a:pt x="10740" y="6600"/>
                  </a:lnTo>
                  <a:lnTo>
                    <a:pt x="9595" y="6970"/>
                  </a:lnTo>
                  <a:lnTo>
                    <a:pt x="8417" y="7273"/>
                  </a:lnTo>
                  <a:lnTo>
                    <a:pt x="6094" y="7913"/>
                  </a:lnTo>
                  <a:lnTo>
                    <a:pt x="5892" y="7307"/>
                  </a:lnTo>
                  <a:lnTo>
                    <a:pt x="5892" y="7273"/>
                  </a:lnTo>
                  <a:lnTo>
                    <a:pt x="6565" y="7138"/>
                  </a:lnTo>
                  <a:lnTo>
                    <a:pt x="7239" y="7004"/>
                  </a:lnTo>
                  <a:lnTo>
                    <a:pt x="8585" y="6667"/>
                  </a:lnTo>
                  <a:lnTo>
                    <a:pt x="9898" y="6297"/>
                  </a:lnTo>
                  <a:lnTo>
                    <a:pt x="11245" y="5926"/>
                  </a:lnTo>
                  <a:lnTo>
                    <a:pt x="12659" y="5489"/>
                  </a:lnTo>
                  <a:lnTo>
                    <a:pt x="14107" y="5051"/>
                  </a:lnTo>
                  <a:lnTo>
                    <a:pt x="15521" y="4580"/>
                  </a:lnTo>
                  <a:lnTo>
                    <a:pt x="16901" y="4041"/>
                  </a:lnTo>
                  <a:lnTo>
                    <a:pt x="16969" y="4007"/>
                  </a:lnTo>
                  <a:lnTo>
                    <a:pt x="16969" y="3940"/>
                  </a:lnTo>
                  <a:lnTo>
                    <a:pt x="16935" y="3906"/>
                  </a:lnTo>
                  <a:lnTo>
                    <a:pt x="16868" y="3906"/>
                  </a:lnTo>
                  <a:lnTo>
                    <a:pt x="14174" y="4815"/>
                  </a:lnTo>
                  <a:lnTo>
                    <a:pt x="12794" y="5253"/>
                  </a:lnTo>
                  <a:lnTo>
                    <a:pt x="11447" y="5657"/>
                  </a:lnTo>
                  <a:lnTo>
                    <a:pt x="10033" y="6061"/>
                  </a:lnTo>
                  <a:lnTo>
                    <a:pt x="8619" y="6398"/>
                  </a:lnTo>
                  <a:lnTo>
                    <a:pt x="7239" y="6734"/>
                  </a:lnTo>
                  <a:lnTo>
                    <a:pt x="5825" y="7105"/>
                  </a:lnTo>
                  <a:lnTo>
                    <a:pt x="5656" y="6398"/>
                  </a:lnTo>
                  <a:lnTo>
                    <a:pt x="5488" y="5657"/>
                  </a:lnTo>
                  <a:lnTo>
                    <a:pt x="5219" y="4209"/>
                  </a:lnTo>
                  <a:lnTo>
                    <a:pt x="7845" y="3536"/>
                  </a:lnTo>
                  <a:lnTo>
                    <a:pt x="11952" y="2492"/>
                  </a:lnTo>
                  <a:lnTo>
                    <a:pt x="16060" y="1448"/>
                  </a:lnTo>
                  <a:lnTo>
                    <a:pt x="16127" y="1448"/>
                  </a:lnTo>
                  <a:lnTo>
                    <a:pt x="16127" y="1381"/>
                  </a:lnTo>
                  <a:close/>
                  <a:moveTo>
                    <a:pt x="4141" y="4479"/>
                  </a:moveTo>
                  <a:lnTo>
                    <a:pt x="4478" y="6061"/>
                  </a:lnTo>
                  <a:lnTo>
                    <a:pt x="4882" y="7610"/>
                  </a:lnTo>
                  <a:lnTo>
                    <a:pt x="5656" y="10707"/>
                  </a:lnTo>
                  <a:lnTo>
                    <a:pt x="7306" y="17171"/>
                  </a:lnTo>
                  <a:lnTo>
                    <a:pt x="9696" y="26632"/>
                  </a:lnTo>
                  <a:lnTo>
                    <a:pt x="8451" y="26868"/>
                  </a:lnTo>
                  <a:lnTo>
                    <a:pt x="8249" y="26228"/>
                  </a:lnTo>
                  <a:lnTo>
                    <a:pt x="8047" y="25555"/>
                  </a:lnTo>
                  <a:lnTo>
                    <a:pt x="7744" y="24242"/>
                  </a:lnTo>
                  <a:lnTo>
                    <a:pt x="7441" y="22895"/>
                  </a:lnTo>
                  <a:lnTo>
                    <a:pt x="7205" y="21582"/>
                  </a:lnTo>
                  <a:lnTo>
                    <a:pt x="6902" y="20168"/>
                  </a:lnTo>
                  <a:lnTo>
                    <a:pt x="6565" y="18788"/>
                  </a:lnTo>
                  <a:lnTo>
                    <a:pt x="6161" y="17407"/>
                  </a:lnTo>
                  <a:lnTo>
                    <a:pt x="5724" y="16060"/>
                  </a:lnTo>
                  <a:lnTo>
                    <a:pt x="5286" y="14680"/>
                  </a:lnTo>
                  <a:lnTo>
                    <a:pt x="4882" y="13300"/>
                  </a:lnTo>
                  <a:lnTo>
                    <a:pt x="4512" y="11886"/>
                  </a:lnTo>
                  <a:lnTo>
                    <a:pt x="4175" y="10505"/>
                  </a:lnTo>
                  <a:lnTo>
                    <a:pt x="3501" y="7711"/>
                  </a:lnTo>
                  <a:lnTo>
                    <a:pt x="3165" y="6263"/>
                  </a:lnTo>
                  <a:lnTo>
                    <a:pt x="2996" y="5556"/>
                  </a:lnTo>
                  <a:lnTo>
                    <a:pt x="2794" y="4849"/>
                  </a:lnTo>
                  <a:lnTo>
                    <a:pt x="3737" y="4580"/>
                  </a:lnTo>
                  <a:lnTo>
                    <a:pt x="4141" y="4479"/>
                  </a:lnTo>
                  <a:close/>
                  <a:moveTo>
                    <a:pt x="23298" y="18687"/>
                  </a:moveTo>
                  <a:lnTo>
                    <a:pt x="23635" y="19562"/>
                  </a:lnTo>
                  <a:lnTo>
                    <a:pt x="23904" y="20437"/>
                  </a:lnTo>
                  <a:lnTo>
                    <a:pt x="24140" y="21144"/>
                  </a:lnTo>
                  <a:lnTo>
                    <a:pt x="24241" y="21481"/>
                  </a:lnTo>
                  <a:lnTo>
                    <a:pt x="24308" y="21851"/>
                  </a:lnTo>
                  <a:lnTo>
                    <a:pt x="24342" y="22222"/>
                  </a:lnTo>
                  <a:lnTo>
                    <a:pt x="24275" y="22558"/>
                  </a:lnTo>
                  <a:lnTo>
                    <a:pt x="24241" y="22727"/>
                  </a:lnTo>
                  <a:lnTo>
                    <a:pt x="24174" y="22861"/>
                  </a:lnTo>
                  <a:lnTo>
                    <a:pt x="24073" y="23030"/>
                  </a:lnTo>
                  <a:lnTo>
                    <a:pt x="23972" y="23164"/>
                  </a:lnTo>
                  <a:lnTo>
                    <a:pt x="23736" y="23366"/>
                  </a:lnTo>
                  <a:lnTo>
                    <a:pt x="23500" y="23535"/>
                  </a:lnTo>
                  <a:lnTo>
                    <a:pt x="23231" y="23703"/>
                  </a:lnTo>
                  <a:lnTo>
                    <a:pt x="22928" y="23804"/>
                  </a:lnTo>
                  <a:lnTo>
                    <a:pt x="22356" y="24006"/>
                  </a:lnTo>
                  <a:lnTo>
                    <a:pt x="21783" y="24174"/>
                  </a:lnTo>
                  <a:lnTo>
                    <a:pt x="21245" y="24309"/>
                  </a:lnTo>
                  <a:lnTo>
                    <a:pt x="20706" y="24410"/>
                  </a:lnTo>
                  <a:lnTo>
                    <a:pt x="19595" y="24578"/>
                  </a:lnTo>
                  <a:lnTo>
                    <a:pt x="18517" y="24780"/>
                  </a:lnTo>
                  <a:lnTo>
                    <a:pt x="17406" y="25050"/>
                  </a:lnTo>
                  <a:lnTo>
                    <a:pt x="16329" y="25319"/>
                  </a:lnTo>
                  <a:lnTo>
                    <a:pt x="15252" y="25588"/>
                  </a:lnTo>
                  <a:lnTo>
                    <a:pt x="14174" y="25891"/>
                  </a:lnTo>
                  <a:lnTo>
                    <a:pt x="13097" y="26228"/>
                  </a:lnTo>
                  <a:lnTo>
                    <a:pt x="10976" y="26935"/>
                  </a:lnTo>
                  <a:lnTo>
                    <a:pt x="10908" y="26733"/>
                  </a:lnTo>
                  <a:lnTo>
                    <a:pt x="10807" y="26363"/>
                  </a:lnTo>
                  <a:lnTo>
                    <a:pt x="10841" y="26363"/>
                  </a:lnTo>
                  <a:lnTo>
                    <a:pt x="11346" y="26329"/>
                  </a:lnTo>
                  <a:lnTo>
                    <a:pt x="11851" y="26228"/>
                  </a:lnTo>
                  <a:lnTo>
                    <a:pt x="12861" y="25959"/>
                  </a:lnTo>
                  <a:lnTo>
                    <a:pt x="15117" y="25420"/>
                  </a:lnTo>
                  <a:lnTo>
                    <a:pt x="17474" y="24747"/>
                  </a:lnTo>
                  <a:lnTo>
                    <a:pt x="19830" y="24073"/>
                  </a:lnTo>
                  <a:lnTo>
                    <a:pt x="20672" y="23838"/>
                  </a:lnTo>
                  <a:lnTo>
                    <a:pt x="21548" y="23568"/>
                  </a:lnTo>
                  <a:lnTo>
                    <a:pt x="21985" y="23400"/>
                  </a:lnTo>
                  <a:lnTo>
                    <a:pt x="22389" y="23232"/>
                  </a:lnTo>
                  <a:lnTo>
                    <a:pt x="22760" y="22996"/>
                  </a:lnTo>
                  <a:lnTo>
                    <a:pt x="23096" y="22693"/>
                  </a:lnTo>
                  <a:lnTo>
                    <a:pt x="23231" y="22558"/>
                  </a:lnTo>
                  <a:lnTo>
                    <a:pt x="23332" y="22390"/>
                  </a:lnTo>
                  <a:lnTo>
                    <a:pt x="23399" y="22188"/>
                  </a:lnTo>
                  <a:lnTo>
                    <a:pt x="23399" y="22020"/>
                  </a:lnTo>
                  <a:lnTo>
                    <a:pt x="23433" y="21818"/>
                  </a:lnTo>
                  <a:lnTo>
                    <a:pt x="23399" y="21649"/>
                  </a:lnTo>
                  <a:lnTo>
                    <a:pt x="23332" y="21245"/>
                  </a:lnTo>
                  <a:lnTo>
                    <a:pt x="23197" y="20841"/>
                  </a:lnTo>
                  <a:lnTo>
                    <a:pt x="23029" y="20437"/>
                  </a:lnTo>
                  <a:lnTo>
                    <a:pt x="22894" y="20067"/>
                  </a:lnTo>
                  <a:lnTo>
                    <a:pt x="22793" y="19730"/>
                  </a:lnTo>
                  <a:lnTo>
                    <a:pt x="22793" y="19697"/>
                  </a:lnTo>
                  <a:lnTo>
                    <a:pt x="22760" y="19663"/>
                  </a:lnTo>
                  <a:lnTo>
                    <a:pt x="23029" y="19192"/>
                  </a:lnTo>
                  <a:lnTo>
                    <a:pt x="23298" y="18687"/>
                  </a:lnTo>
                  <a:close/>
                  <a:moveTo>
                    <a:pt x="5050" y="4243"/>
                  </a:moveTo>
                  <a:lnTo>
                    <a:pt x="5151" y="4984"/>
                  </a:lnTo>
                  <a:lnTo>
                    <a:pt x="5286" y="5724"/>
                  </a:lnTo>
                  <a:lnTo>
                    <a:pt x="5454" y="6465"/>
                  </a:lnTo>
                  <a:lnTo>
                    <a:pt x="5623" y="7172"/>
                  </a:lnTo>
                  <a:lnTo>
                    <a:pt x="5623" y="7206"/>
                  </a:lnTo>
                  <a:lnTo>
                    <a:pt x="5623" y="7239"/>
                  </a:lnTo>
                  <a:lnTo>
                    <a:pt x="5623" y="7273"/>
                  </a:lnTo>
                  <a:lnTo>
                    <a:pt x="5656" y="7307"/>
                  </a:lnTo>
                  <a:lnTo>
                    <a:pt x="5892" y="7980"/>
                  </a:lnTo>
                  <a:lnTo>
                    <a:pt x="6633" y="10202"/>
                  </a:lnTo>
                  <a:lnTo>
                    <a:pt x="6666" y="10270"/>
                  </a:lnTo>
                  <a:lnTo>
                    <a:pt x="6599" y="10303"/>
                  </a:lnTo>
                  <a:lnTo>
                    <a:pt x="6599" y="10337"/>
                  </a:lnTo>
                  <a:lnTo>
                    <a:pt x="6666" y="10303"/>
                  </a:lnTo>
                  <a:lnTo>
                    <a:pt x="6936" y="11111"/>
                  </a:lnTo>
                  <a:lnTo>
                    <a:pt x="7138" y="11953"/>
                  </a:lnTo>
                  <a:lnTo>
                    <a:pt x="7542" y="13603"/>
                  </a:lnTo>
                  <a:lnTo>
                    <a:pt x="7878" y="15286"/>
                  </a:lnTo>
                  <a:lnTo>
                    <a:pt x="8215" y="16969"/>
                  </a:lnTo>
                  <a:lnTo>
                    <a:pt x="9023" y="20269"/>
                  </a:lnTo>
                  <a:lnTo>
                    <a:pt x="9865" y="23535"/>
                  </a:lnTo>
                  <a:lnTo>
                    <a:pt x="10168" y="24915"/>
                  </a:lnTo>
                  <a:lnTo>
                    <a:pt x="10471" y="26329"/>
                  </a:lnTo>
                  <a:lnTo>
                    <a:pt x="10673" y="27036"/>
                  </a:lnTo>
                  <a:lnTo>
                    <a:pt x="10875" y="27710"/>
                  </a:lnTo>
                  <a:lnTo>
                    <a:pt x="11144" y="28383"/>
                  </a:lnTo>
                  <a:lnTo>
                    <a:pt x="11447" y="29023"/>
                  </a:lnTo>
                  <a:lnTo>
                    <a:pt x="11043" y="28821"/>
                  </a:lnTo>
                  <a:lnTo>
                    <a:pt x="11009" y="28787"/>
                  </a:lnTo>
                  <a:lnTo>
                    <a:pt x="10942" y="28821"/>
                  </a:lnTo>
                  <a:lnTo>
                    <a:pt x="10908" y="28854"/>
                  </a:lnTo>
                  <a:lnTo>
                    <a:pt x="10875" y="28888"/>
                  </a:lnTo>
                  <a:lnTo>
                    <a:pt x="10706" y="29359"/>
                  </a:lnTo>
                  <a:lnTo>
                    <a:pt x="9124" y="23232"/>
                  </a:lnTo>
                  <a:lnTo>
                    <a:pt x="7575" y="17104"/>
                  </a:lnTo>
                  <a:lnTo>
                    <a:pt x="5993" y="10909"/>
                  </a:lnTo>
                  <a:lnTo>
                    <a:pt x="5185" y="7677"/>
                  </a:lnTo>
                  <a:lnTo>
                    <a:pt x="4747" y="6061"/>
                  </a:lnTo>
                  <a:lnTo>
                    <a:pt x="4276" y="4445"/>
                  </a:lnTo>
                  <a:lnTo>
                    <a:pt x="5050" y="4243"/>
                  </a:lnTo>
                  <a:close/>
                  <a:moveTo>
                    <a:pt x="17406" y="1"/>
                  </a:moveTo>
                  <a:lnTo>
                    <a:pt x="17204" y="34"/>
                  </a:lnTo>
                  <a:lnTo>
                    <a:pt x="15689" y="337"/>
                  </a:lnTo>
                  <a:lnTo>
                    <a:pt x="14174" y="708"/>
                  </a:lnTo>
                  <a:lnTo>
                    <a:pt x="11211" y="1448"/>
                  </a:lnTo>
                  <a:lnTo>
                    <a:pt x="8282" y="2189"/>
                  </a:lnTo>
                  <a:lnTo>
                    <a:pt x="5421" y="2997"/>
                  </a:lnTo>
                  <a:lnTo>
                    <a:pt x="2424" y="3873"/>
                  </a:lnTo>
                  <a:lnTo>
                    <a:pt x="909" y="4344"/>
                  </a:lnTo>
                  <a:lnTo>
                    <a:pt x="168" y="4580"/>
                  </a:lnTo>
                  <a:lnTo>
                    <a:pt x="0" y="4647"/>
                  </a:lnTo>
                  <a:lnTo>
                    <a:pt x="0" y="4916"/>
                  </a:lnTo>
                  <a:lnTo>
                    <a:pt x="337" y="4815"/>
                  </a:lnTo>
                  <a:lnTo>
                    <a:pt x="640" y="4681"/>
                  </a:lnTo>
                  <a:lnTo>
                    <a:pt x="1246" y="4479"/>
                  </a:lnTo>
                  <a:lnTo>
                    <a:pt x="3703" y="3704"/>
                  </a:lnTo>
                  <a:lnTo>
                    <a:pt x="6363" y="2964"/>
                  </a:lnTo>
                  <a:lnTo>
                    <a:pt x="8989" y="2257"/>
                  </a:lnTo>
                  <a:lnTo>
                    <a:pt x="11649" y="1583"/>
                  </a:lnTo>
                  <a:lnTo>
                    <a:pt x="14309" y="943"/>
                  </a:lnTo>
                  <a:lnTo>
                    <a:pt x="16834" y="337"/>
                  </a:lnTo>
                  <a:lnTo>
                    <a:pt x="17272" y="270"/>
                  </a:lnTo>
                  <a:lnTo>
                    <a:pt x="17474" y="236"/>
                  </a:lnTo>
                  <a:lnTo>
                    <a:pt x="17676" y="270"/>
                  </a:lnTo>
                  <a:lnTo>
                    <a:pt x="17878" y="304"/>
                  </a:lnTo>
                  <a:lnTo>
                    <a:pt x="18046" y="405"/>
                  </a:lnTo>
                  <a:lnTo>
                    <a:pt x="18214" y="539"/>
                  </a:lnTo>
                  <a:lnTo>
                    <a:pt x="18383" y="708"/>
                  </a:lnTo>
                  <a:lnTo>
                    <a:pt x="18484" y="876"/>
                  </a:lnTo>
                  <a:lnTo>
                    <a:pt x="18517" y="1011"/>
                  </a:lnTo>
                  <a:lnTo>
                    <a:pt x="18618" y="1347"/>
                  </a:lnTo>
                  <a:lnTo>
                    <a:pt x="18652" y="1650"/>
                  </a:lnTo>
                  <a:lnTo>
                    <a:pt x="18652" y="1987"/>
                  </a:lnTo>
                  <a:lnTo>
                    <a:pt x="18652" y="2055"/>
                  </a:lnTo>
                  <a:lnTo>
                    <a:pt x="18686" y="2088"/>
                  </a:lnTo>
                  <a:lnTo>
                    <a:pt x="18753" y="2122"/>
                  </a:lnTo>
                  <a:lnTo>
                    <a:pt x="18854" y="2088"/>
                  </a:lnTo>
                  <a:lnTo>
                    <a:pt x="18888" y="2055"/>
                  </a:lnTo>
                  <a:lnTo>
                    <a:pt x="18888" y="1987"/>
                  </a:lnTo>
                  <a:lnTo>
                    <a:pt x="18888" y="1954"/>
                  </a:lnTo>
                  <a:lnTo>
                    <a:pt x="18955" y="2358"/>
                  </a:lnTo>
                  <a:lnTo>
                    <a:pt x="19022" y="2795"/>
                  </a:lnTo>
                  <a:lnTo>
                    <a:pt x="19258" y="3671"/>
                  </a:lnTo>
                  <a:lnTo>
                    <a:pt x="19696" y="5388"/>
                  </a:lnTo>
                  <a:lnTo>
                    <a:pt x="20672" y="9226"/>
                  </a:lnTo>
                  <a:lnTo>
                    <a:pt x="21110" y="11078"/>
                  </a:lnTo>
                  <a:lnTo>
                    <a:pt x="21615" y="12929"/>
                  </a:lnTo>
                  <a:lnTo>
                    <a:pt x="22120" y="14747"/>
                  </a:lnTo>
                  <a:lnTo>
                    <a:pt x="22423" y="15656"/>
                  </a:lnTo>
                  <a:lnTo>
                    <a:pt x="22726" y="16565"/>
                  </a:lnTo>
                  <a:lnTo>
                    <a:pt x="21817" y="16296"/>
                  </a:lnTo>
                  <a:lnTo>
                    <a:pt x="21817" y="16262"/>
                  </a:lnTo>
                  <a:lnTo>
                    <a:pt x="21413" y="15084"/>
                  </a:lnTo>
                  <a:lnTo>
                    <a:pt x="21043" y="13906"/>
                  </a:lnTo>
                  <a:lnTo>
                    <a:pt x="20740" y="12727"/>
                  </a:lnTo>
                  <a:lnTo>
                    <a:pt x="20437" y="11549"/>
                  </a:lnTo>
                  <a:lnTo>
                    <a:pt x="19898" y="9158"/>
                  </a:lnTo>
                  <a:lnTo>
                    <a:pt x="19393" y="6768"/>
                  </a:lnTo>
                  <a:lnTo>
                    <a:pt x="19191" y="5691"/>
                  </a:lnTo>
                  <a:lnTo>
                    <a:pt x="18955" y="4580"/>
                  </a:lnTo>
                  <a:lnTo>
                    <a:pt x="18820" y="4041"/>
                  </a:lnTo>
                  <a:lnTo>
                    <a:pt x="18686" y="3502"/>
                  </a:lnTo>
                  <a:lnTo>
                    <a:pt x="18484" y="2997"/>
                  </a:lnTo>
                  <a:lnTo>
                    <a:pt x="18282" y="2492"/>
                  </a:lnTo>
                  <a:lnTo>
                    <a:pt x="18147" y="2189"/>
                  </a:lnTo>
                  <a:lnTo>
                    <a:pt x="17911" y="1920"/>
                  </a:lnTo>
                  <a:lnTo>
                    <a:pt x="17676" y="1650"/>
                  </a:lnTo>
                  <a:lnTo>
                    <a:pt x="17406" y="1448"/>
                  </a:lnTo>
                  <a:lnTo>
                    <a:pt x="17070" y="1280"/>
                  </a:lnTo>
                  <a:lnTo>
                    <a:pt x="16767" y="1179"/>
                  </a:lnTo>
                  <a:lnTo>
                    <a:pt x="16598" y="1145"/>
                  </a:lnTo>
                  <a:lnTo>
                    <a:pt x="16430" y="1179"/>
                  </a:lnTo>
                  <a:lnTo>
                    <a:pt x="16262" y="1179"/>
                  </a:lnTo>
                  <a:lnTo>
                    <a:pt x="16093" y="1246"/>
                  </a:lnTo>
                  <a:lnTo>
                    <a:pt x="15992" y="1246"/>
                  </a:lnTo>
                  <a:lnTo>
                    <a:pt x="11885" y="2257"/>
                  </a:lnTo>
                  <a:lnTo>
                    <a:pt x="7777" y="3300"/>
                  </a:lnTo>
                  <a:lnTo>
                    <a:pt x="3670" y="4378"/>
                  </a:lnTo>
                  <a:lnTo>
                    <a:pt x="1818" y="4815"/>
                  </a:lnTo>
                  <a:lnTo>
                    <a:pt x="909" y="5085"/>
                  </a:lnTo>
                  <a:lnTo>
                    <a:pt x="0" y="5354"/>
                  </a:lnTo>
                  <a:lnTo>
                    <a:pt x="0" y="5590"/>
                  </a:lnTo>
                  <a:lnTo>
                    <a:pt x="673" y="5421"/>
                  </a:lnTo>
                  <a:lnTo>
                    <a:pt x="1347" y="5253"/>
                  </a:lnTo>
                  <a:lnTo>
                    <a:pt x="2660" y="4883"/>
                  </a:lnTo>
                  <a:lnTo>
                    <a:pt x="2761" y="5489"/>
                  </a:lnTo>
                  <a:lnTo>
                    <a:pt x="2895" y="6061"/>
                  </a:lnTo>
                  <a:lnTo>
                    <a:pt x="3198" y="7239"/>
                  </a:lnTo>
                  <a:lnTo>
                    <a:pt x="3905" y="10303"/>
                  </a:lnTo>
                  <a:lnTo>
                    <a:pt x="4579" y="13098"/>
                  </a:lnTo>
                  <a:lnTo>
                    <a:pt x="4949" y="14512"/>
                  </a:lnTo>
                  <a:lnTo>
                    <a:pt x="5387" y="15892"/>
                  </a:lnTo>
                  <a:lnTo>
                    <a:pt x="5825" y="17239"/>
                  </a:lnTo>
                  <a:lnTo>
                    <a:pt x="6229" y="18619"/>
                  </a:lnTo>
                  <a:lnTo>
                    <a:pt x="6565" y="20000"/>
                  </a:lnTo>
                  <a:lnTo>
                    <a:pt x="6902" y="21414"/>
                  </a:lnTo>
                  <a:lnTo>
                    <a:pt x="7171" y="22794"/>
                  </a:lnTo>
                  <a:lnTo>
                    <a:pt x="7474" y="24174"/>
                  </a:lnTo>
                  <a:lnTo>
                    <a:pt x="7811" y="25555"/>
                  </a:lnTo>
                  <a:lnTo>
                    <a:pt x="8013" y="26228"/>
                  </a:lnTo>
                  <a:lnTo>
                    <a:pt x="8215" y="26902"/>
                  </a:lnTo>
                  <a:lnTo>
                    <a:pt x="6262" y="27339"/>
                  </a:lnTo>
                  <a:lnTo>
                    <a:pt x="4310" y="27777"/>
                  </a:lnTo>
                  <a:lnTo>
                    <a:pt x="2963" y="28147"/>
                  </a:lnTo>
                  <a:lnTo>
                    <a:pt x="1582" y="28518"/>
                  </a:lnTo>
                  <a:lnTo>
                    <a:pt x="135" y="28989"/>
                  </a:lnTo>
                  <a:lnTo>
                    <a:pt x="0" y="29023"/>
                  </a:lnTo>
                  <a:lnTo>
                    <a:pt x="0" y="29258"/>
                  </a:lnTo>
                  <a:lnTo>
                    <a:pt x="909" y="28955"/>
                  </a:lnTo>
                  <a:lnTo>
                    <a:pt x="2390" y="28518"/>
                  </a:lnTo>
                  <a:lnTo>
                    <a:pt x="3872" y="28114"/>
                  </a:lnTo>
                  <a:lnTo>
                    <a:pt x="4983" y="27878"/>
                  </a:lnTo>
                  <a:lnTo>
                    <a:pt x="6094" y="27609"/>
                  </a:lnTo>
                  <a:lnTo>
                    <a:pt x="8316" y="27171"/>
                  </a:lnTo>
                  <a:lnTo>
                    <a:pt x="8383" y="27205"/>
                  </a:lnTo>
                  <a:lnTo>
                    <a:pt x="8451" y="27205"/>
                  </a:lnTo>
                  <a:lnTo>
                    <a:pt x="8518" y="27171"/>
                  </a:lnTo>
                  <a:lnTo>
                    <a:pt x="8552" y="27104"/>
                  </a:lnTo>
                  <a:lnTo>
                    <a:pt x="9764" y="26834"/>
                  </a:lnTo>
                  <a:lnTo>
                    <a:pt x="9865" y="27272"/>
                  </a:lnTo>
                  <a:lnTo>
                    <a:pt x="8383" y="27642"/>
                  </a:lnTo>
                  <a:lnTo>
                    <a:pt x="6936" y="28046"/>
                  </a:lnTo>
                  <a:lnTo>
                    <a:pt x="4006" y="28888"/>
                  </a:lnTo>
                  <a:lnTo>
                    <a:pt x="1178" y="29696"/>
                  </a:lnTo>
                  <a:lnTo>
                    <a:pt x="0" y="30033"/>
                  </a:lnTo>
                  <a:lnTo>
                    <a:pt x="0" y="30268"/>
                  </a:lnTo>
                  <a:lnTo>
                    <a:pt x="3299" y="29359"/>
                  </a:lnTo>
                  <a:lnTo>
                    <a:pt x="6633" y="28450"/>
                  </a:lnTo>
                  <a:lnTo>
                    <a:pt x="8282" y="27979"/>
                  </a:lnTo>
                  <a:lnTo>
                    <a:pt x="9898" y="27474"/>
                  </a:lnTo>
                  <a:lnTo>
                    <a:pt x="10504" y="29864"/>
                  </a:lnTo>
                  <a:lnTo>
                    <a:pt x="10572" y="29932"/>
                  </a:lnTo>
                  <a:lnTo>
                    <a:pt x="10572" y="30134"/>
                  </a:lnTo>
                  <a:lnTo>
                    <a:pt x="10740" y="29932"/>
                  </a:lnTo>
                  <a:lnTo>
                    <a:pt x="10807" y="29898"/>
                  </a:lnTo>
                  <a:lnTo>
                    <a:pt x="10807" y="29797"/>
                  </a:lnTo>
                  <a:lnTo>
                    <a:pt x="10942" y="29460"/>
                  </a:lnTo>
                  <a:lnTo>
                    <a:pt x="11077" y="29124"/>
                  </a:lnTo>
                  <a:lnTo>
                    <a:pt x="11380" y="29326"/>
                  </a:lnTo>
                  <a:lnTo>
                    <a:pt x="11716" y="29494"/>
                  </a:lnTo>
                  <a:lnTo>
                    <a:pt x="11750" y="29528"/>
                  </a:lnTo>
                  <a:lnTo>
                    <a:pt x="11885" y="29528"/>
                  </a:lnTo>
                  <a:lnTo>
                    <a:pt x="11952" y="29460"/>
                  </a:lnTo>
                  <a:lnTo>
                    <a:pt x="11952" y="29393"/>
                  </a:lnTo>
                  <a:lnTo>
                    <a:pt x="11918" y="29359"/>
                  </a:lnTo>
                  <a:lnTo>
                    <a:pt x="11615" y="28821"/>
                  </a:lnTo>
                  <a:lnTo>
                    <a:pt x="11380" y="28282"/>
                  </a:lnTo>
                  <a:lnTo>
                    <a:pt x="11178" y="27710"/>
                  </a:lnTo>
                  <a:lnTo>
                    <a:pt x="11009" y="27137"/>
                  </a:lnTo>
                  <a:lnTo>
                    <a:pt x="12289" y="26767"/>
                  </a:lnTo>
                  <a:lnTo>
                    <a:pt x="13568" y="26363"/>
                  </a:lnTo>
                  <a:lnTo>
                    <a:pt x="14848" y="25992"/>
                  </a:lnTo>
                  <a:lnTo>
                    <a:pt x="16127" y="25622"/>
                  </a:lnTo>
                  <a:lnTo>
                    <a:pt x="17373" y="25285"/>
                  </a:lnTo>
                  <a:lnTo>
                    <a:pt x="18652" y="24982"/>
                  </a:lnTo>
                  <a:lnTo>
                    <a:pt x="19325" y="24848"/>
                  </a:lnTo>
                  <a:lnTo>
                    <a:pt x="19999" y="24747"/>
                  </a:lnTo>
                  <a:lnTo>
                    <a:pt x="20672" y="24612"/>
                  </a:lnTo>
                  <a:lnTo>
                    <a:pt x="21346" y="24444"/>
                  </a:lnTo>
                  <a:lnTo>
                    <a:pt x="22255" y="24208"/>
                  </a:lnTo>
                  <a:lnTo>
                    <a:pt x="22726" y="24073"/>
                  </a:lnTo>
                  <a:lnTo>
                    <a:pt x="23197" y="23905"/>
                  </a:lnTo>
                  <a:lnTo>
                    <a:pt x="23635" y="23669"/>
                  </a:lnTo>
                  <a:lnTo>
                    <a:pt x="23803" y="23568"/>
                  </a:lnTo>
                  <a:lnTo>
                    <a:pt x="24005" y="23400"/>
                  </a:lnTo>
                  <a:lnTo>
                    <a:pt x="24174" y="23232"/>
                  </a:lnTo>
                  <a:lnTo>
                    <a:pt x="24308" y="23063"/>
                  </a:lnTo>
                  <a:lnTo>
                    <a:pt x="24409" y="22861"/>
                  </a:lnTo>
                  <a:lnTo>
                    <a:pt x="24510" y="22626"/>
                  </a:lnTo>
                  <a:lnTo>
                    <a:pt x="24578" y="22390"/>
                  </a:lnTo>
                  <a:lnTo>
                    <a:pt x="24578" y="22154"/>
                  </a:lnTo>
                  <a:lnTo>
                    <a:pt x="24544" y="21885"/>
                  </a:lnTo>
                  <a:lnTo>
                    <a:pt x="24477" y="21616"/>
                  </a:lnTo>
                  <a:lnTo>
                    <a:pt x="24342" y="21111"/>
                  </a:lnTo>
                  <a:lnTo>
                    <a:pt x="24174" y="20639"/>
                  </a:lnTo>
                  <a:lnTo>
                    <a:pt x="24005" y="20101"/>
                  </a:lnTo>
                  <a:lnTo>
                    <a:pt x="23803" y="19562"/>
                  </a:lnTo>
                  <a:lnTo>
                    <a:pt x="23366" y="18485"/>
                  </a:lnTo>
                  <a:lnTo>
                    <a:pt x="23399" y="18384"/>
                  </a:lnTo>
                  <a:lnTo>
                    <a:pt x="23938" y="18518"/>
                  </a:lnTo>
                  <a:lnTo>
                    <a:pt x="24477" y="18619"/>
                  </a:lnTo>
                  <a:lnTo>
                    <a:pt x="24510" y="18889"/>
                  </a:lnTo>
                  <a:lnTo>
                    <a:pt x="24544" y="19158"/>
                  </a:lnTo>
                  <a:lnTo>
                    <a:pt x="24578" y="19629"/>
                  </a:lnTo>
                  <a:lnTo>
                    <a:pt x="24645" y="20101"/>
                  </a:lnTo>
                  <a:lnTo>
                    <a:pt x="24746" y="20538"/>
                  </a:lnTo>
                  <a:lnTo>
                    <a:pt x="24847" y="20976"/>
                  </a:lnTo>
                  <a:lnTo>
                    <a:pt x="25015" y="21313"/>
                  </a:lnTo>
                  <a:lnTo>
                    <a:pt x="25217" y="21582"/>
                  </a:lnTo>
                  <a:lnTo>
                    <a:pt x="25453" y="21818"/>
                  </a:lnTo>
                  <a:lnTo>
                    <a:pt x="25722" y="22020"/>
                  </a:lnTo>
                  <a:lnTo>
                    <a:pt x="26025" y="22222"/>
                  </a:lnTo>
                  <a:lnTo>
                    <a:pt x="26328" y="22390"/>
                  </a:lnTo>
                  <a:lnTo>
                    <a:pt x="26934" y="22659"/>
                  </a:lnTo>
                  <a:lnTo>
                    <a:pt x="27338" y="22794"/>
                  </a:lnTo>
                  <a:lnTo>
                    <a:pt x="27742" y="22895"/>
                  </a:lnTo>
                  <a:lnTo>
                    <a:pt x="28113" y="22929"/>
                  </a:lnTo>
                  <a:lnTo>
                    <a:pt x="28449" y="22929"/>
                  </a:lnTo>
                  <a:lnTo>
                    <a:pt x="28820" y="22861"/>
                  </a:lnTo>
                  <a:lnTo>
                    <a:pt x="29157" y="22727"/>
                  </a:lnTo>
                  <a:lnTo>
                    <a:pt x="29493" y="22525"/>
                  </a:lnTo>
                  <a:lnTo>
                    <a:pt x="29796" y="22255"/>
                  </a:lnTo>
                  <a:lnTo>
                    <a:pt x="30066" y="22020"/>
                  </a:lnTo>
                  <a:lnTo>
                    <a:pt x="30335" y="21750"/>
                  </a:lnTo>
                  <a:lnTo>
                    <a:pt x="30537" y="21447"/>
                  </a:lnTo>
                  <a:lnTo>
                    <a:pt x="30773" y="21144"/>
                  </a:lnTo>
                  <a:lnTo>
                    <a:pt x="30773" y="21178"/>
                  </a:lnTo>
                  <a:lnTo>
                    <a:pt x="30806" y="21313"/>
                  </a:lnTo>
                  <a:lnTo>
                    <a:pt x="30907" y="21481"/>
                  </a:lnTo>
                  <a:lnTo>
                    <a:pt x="31008" y="21616"/>
                  </a:lnTo>
                  <a:lnTo>
                    <a:pt x="31143" y="21717"/>
                  </a:lnTo>
                  <a:lnTo>
                    <a:pt x="31278" y="21818"/>
                  </a:lnTo>
                  <a:lnTo>
                    <a:pt x="31446" y="21885"/>
                  </a:lnTo>
                  <a:lnTo>
                    <a:pt x="31648" y="21919"/>
                  </a:lnTo>
                  <a:lnTo>
                    <a:pt x="31816" y="21952"/>
                  </a:lnTo>
                  <a:lnTo>
                    <a:pt x="32018" y="21986"/>
                  </a:lnTo>
                  <a:lnTo>
                    <a:pt x="32187" y="21952"/>
                  </a:lnTo>
                  <a:lnTo>
                    <a:pt x="32389" y="21919"/>
                  </a:lnTo>
                  <a:lnTo>
                    <a:pt x="32523" y="21885"/>
                  </a:lnTo>
                  <a:lnTo>
                    <a:pt x="32692" y="21784"/>
                  </a:lnTo>
                  <a:lnTo>
                    <a:pt x="-32710" y="21683"/>
                  </a:lnTo>
                  <a:lnTo>
                    <a:pt x="-32609" y="21548"/>
                  </a:lnTo>
                  <a:lnTo>
                    <a:pt x="-32508" y="21414"/>
                  </a:lnTo>
                  <a:lnTo>
                    <a:pt x="-32508" y="21346"/>
                  </a:lnTo>
                  <a:lnTo>
                    <a:pt x="-32541" y="21346"/>
                  </a:lnTo>
                  <a:lnTo>
                    <a:pt x="-32508" y="21279"/>
                  </a:lnTo>
                  <a:lnTo>
                    <a:pt x="-32541" y="21212"/>
                  </a:lnTo>
                  <a:lnTo>
                    <a:pt x="-32710" y="21010"/>
                  </a:lnTo>
                  <a:lnTo>
                    <a:pt x="32624" y="20841"/>
                  </a:lnTo>
                  <a:lnTo>
                    <a:pt x="32220" y="20471"/>
                  </a:lnTo>
                  <a:lnTo>
                    <a:pt x="31850" y="20101"/>
                  </a:lnTo>
                  <a:lnTo>
                    <a:pt x="31648" y="19932"/>
                  </a:lnTo>
                  <a:lnTo>
                    <a:pt x="31412" y="19831"/>
                  </a:lnTo>
                  <a:lnTo>
                    <a:pt x="31513" y="19562"/>
                  </a:lnTo>
                  <a:lnTo>
                    <a:pt x="31682" y="19629"/>
                  </a:lnTo>
                  <a:lnTo>
                    <a:pt x="31816" y="19629"/>
                  </a:lnTo>
                  <a:lnTo>
                    <a:pt x="31985" y="19596"/>
                  </a:lnTo>
                  <a:lnTo>
                    <a:pt x="32119" y="19495"/>
                  </a:lnTo>
                  <a:lnTo>
                    <a:pt x="32187" y="19394"/>
                  </a:lnTo>
                  <a:lnTo>
                    <a:pt x="32220" y="19293"/>
                  </a:lnTo>
                  <a:lnTo>
                    <a:pt x="32254" y="19023"/>
                  </a:lnTo>
                  <a:lnTo>
                    <a:pt x="32355" y="18485"/>
                  </a:lnTo>
                  <a:lnTo>
                    <a:pt x="32321" y="18451"/>
                  </a:lnTo>
                  <a:lnTo>
                    <a:pt x="32355" y="18384"/>
                  </a:lnTo>
                  <a:lnTo>
                    <a:pt x="32288" y="18316"/>
                  </a:lnTo>
                  <a:lnTo>
                    <a:pt x="31850" y="18047"/>
                  </a:lnTo>
                  <a:lnTo>
                    <a:pt x="31412" y="17811"/>
                  </a:lnTo>
                  <a:lnTo>
                    <a:pt x="30941" y="17643"/>
                  </a:lnTo>
                  <a:lnTo>
                    <a:pt x="30470" y="17474"/>
                  </a:lnTo>
                  <a:lnTo>
                    <a:pt x="29965" y="17373"/>
                  </a:lnTo>
                  <a:lnTo>
                    <a:pt x="29493" y="17272"/>
                  </a:lnTo>
                  <a:lnTo>
                    <a:pt x="28988" y="17205"/>
                  </a:lnTo>
                  <a:lnTo>
                    <a:pt x="28483" y="17171"/>
                  </a:lnTo>
                  <a:lnTo>
                    <a:pt x="27473" y="17138"/>
                  </a:lnTo>
                  <a:lnTo>
                    <a:pt x="26463" y="17104"/>
                  </a:lnTo>
                  <a:lnTo>
                    <a:pt x="25453" y="17037"/>
                  </a:lnTo>
                  <a:lnTo>
                    <a:pt x="24477" y="16969"/>
                  </a:lnTo>
                  <a:lnTo>
                    <a:pt x="23736" y="16835"/>
                  </a:lnTo>
                  <a:lnTo>
                    <a:pt x="23029" y="16666"/>
                  </a:lnTo>
                  <a:lnTo>
                    <a:pt x="22490" y="14848"/>
                  </a:lnTo>
                  <a:lnTo>
                    <a:pt x="21952" y="13064"/>
                  </a:lnTo>
                  <a:lnTo>
                    <a:pt x="21447" y="11246"/>
                  </a:lnTo>
                  <a:lnTo>
                    <a:pt x="20975" y="9428"/>
                  </a:lnTo>
                  <a:lnTo>
                    <a:pt x="20032" y="5590"/>
                  </a:lnTo>
                  <a:lnTo>
                    <a:pt x="19797" y="4613"/>
                  </a:lnTo>
                  <a:lnTo>
                    <a:pt x="19561" y="3603"/>
                  </a:lnTo>
                  <a:lnTo>
                    <a:pt x="19325" y="2627"/>
                  </a:lnTo>
                  <a:lnTo>
                    <a:pt x="19157" y="2122"/>
                  </a:lnTo>
                  <a:lnTo>
                    <a:pt x="18989" y="1684"/>
                  </a:lnTo>
                  <a:lnTo>
                    <a:pt x="18921" y="1650"/>
                  </a:lnTo>
                  <a:lnTo>
                    <a:pt x="18888" y="1650"/>
                  </a:lnTo>
                  <a:lnTo>
                    <a:pt x="18854" y="1314"/>
                  </a:lnTo>
                  <a:lnTo>
                    <a:pt x="18753" y="977"/>
                  </a:lnTo>
                  <a:lnTo>
                    <a:pt x="18618" y="674"/>
                  </a:lnTo>
                  <a:lnTo>
                    <a:pt x="18416" y="405"/>
                  </a:lnTo>
                  <a:lnTo>
                    <a:pt x="18181" y="203"/>
                  </a:lnTo>
                  <a:lnTo>
                    <a:pt x="18046" y="135"/>
                  </a:lnTo>
                  <a:lnTo>
                    <a:pt x="17911" y="68"/>
                  </a:lnTo>
                  <a:lnTo>
                    <a:pt x="1774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hape 532"/>
            <p:cNvSpPr/>
            <p:nvPr/>
          </p:nvSpPr>
          <p:spPr>
            <a:xfrm>
              <a:off x="2685960" y="570096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07" h="607">
                  <a:moveTo>
                    <a:pt x="270" y="1"/>
                  </a:moveTo>
                  <a:lnTo>
                    <a:pt x="203" y="34"/>
                  </a:lnTo>
                  <a:lnTo>
                    <a:pt x="136" y="68"/>
                  </a:lnTo>
                  <a:lnTo>
                    <a:pt x="35" y="203"/>
                  </a:lnTo>
                  <a:lnTo>
                    <a:pt x="1" y="337"/>
                  </a:lnTo>
                  <a:lnTo>
                    <a:pt x="1" y="438"/>
                  </a:lnTo>
                  <a:lnTo>
                    <a:pt x="35" y="506"/>
                  </a:lnTo>
                  <a:lnTo>
                    <a:pt x="136" y="573"/>
                  </a:lnTo>
                  <a:lnTo>
                    <a:pt x="270" y="607"/>
                  </a:lnTo>
                  <a:lnTo>
                    <a:pt x="338" y="607"/>
                  </a:lnTo>
                  <a:lnTo>
                    <a:pt x="405" y="573"/>
                  </a:lnTo>
                  <a:lnTo>
                    <a:pt x="506" y="438"/>
                  </a:lnTo>
                  <a:lnTo>
                    <a:pt x="506" y="371"/>
                  </a:lnTo>
                  <a:lnTo>
                    <a:pt x="506" y="337"/>
                  </a:lnTo>
                  <a:lnTo>
                    <a:pt x="472" y="304"/>
                  </a:lnTo>
                  <a:lnTo>
                    <a:pt x="439" y="304"/>
                  </a:lnTo>
                  <a:lnTo>
                    <a:pt x="136" y="371"/>
                  </a:lnTo>
                  <a:lnTo>
                    <a:pt x="136" y="270"/>
                  </a:lnTo>
                  <a:lnTo>
                    <a:pt x="203" y="169"/>
                  </a:lnTo>
                  <a:lnTo>
                    <a:pt x="237" y="102"/>
                  </a:lnTo>
                  <a:lnTo>
                    <a:pt x="27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hape 533"/>
            <p:cNvSpPr/>
            <p:nvPr/>
          </p:nvSpPr>
          <p:spPr>
            <a:xfrm>
              <a:off x="2087640" y="5856480"/>
              <a:ext cx="153720" cy="147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25" h="2223">
                  <a:moveTo>
                    <a:pt x="1920" y="203"/>
                  </a:moveTo>
                  <a:lnTo>
                    <a:pt x="1954" y="573"/>
                  </a:lnTo>
                  <a:lnTo>
                    <a:pt x="2021" y="943"/>
                  </a:lnTo>
                  <a:lnTo>
                    <a:pt x="2055" y="1381"/>
                  </a:lnTo>
                  <a:lnTo>
                    <a:pt x="2156" y="1852"/>
                  </a:lnTo>
                  <a:lnTo>
                    <a:pt x="1752" y="1852"/>
                  </a:lnTo>
                  <a:lnTo>
                    <a:pt x="1381" y="1920"/>
                  </a:lnTo>
                  <a:lnTo>
                    <a:pt x="944" y="1987"/>
                  </a:lnTo>
                  <a:lnTo>
                    <a:pt x="708" y="2021"/>
                  </a:lnTo>
                  <a:lnTo>
                    <a:pt x="472" y="2122"/>
                  </a:lnTo>
                  <a:lnTo>
                    <a:pt x="371" y="1650"/>
                  </a:lnTo>
                  <a:lnTo>
                    <a:pt x="270" y="1179"/>
                  </a:lnTo>
                  <a:lnTo>
                    <a:pt x="203" y="809"/>
                  </a:lnTo>
                  <a:lnTo>
                    <a:pt x="102" y="438"/>
                  </a:lnTo>
                  <a:lnTo>
                    <a:pt x="1011" y="337"/>
                  </a:lnTo>
                  <a:lnTo>
                    <a:pt x="1920" y="203"/>
                  </a:lnTo>
                  <a:close/>
                  <a:moveTo>
                    <a:pt x="1886" y="1"/>
                  </a:moveTo>
                  <a:lnTo>
                    <a:pt x="977" y="135"/>
                  </a:lnTo>
                  <a:lnTo>
                    <a:pt x="68" y="270"/>
                  </a:lnTo>
                  <a:lnTo>
                    <a:pt x="1" y="337"/>
                  </a:lnTo>
                  <a:lnTo>
                    <a:pt x="1" y="371"/>
                  </a:lnTo>
                  <a:lnTo>
                    <a:pt x="1" y="607"/>
                  </a:lnTo>
                  <a:lnTo>
                    <a:pt x="35" y="809"/>
                  </a:lnTo>
                  <a:lnTo>
                    <a:pt x="102" y="1213"/>
                  </a:lnTo>
                  <a:lnTo>
                    <a:pt x="203" y="1718"/>
                  </a:lnTo>
                  <a:lnTo>
                    <a:pt x="270" y="1953"/>
                  </a:lnTo>
                  <a:lnTo>
                    <a:pt x="338" y="2189"/>
                  </a:lnTo>
                  <a:lnTo>
                    <a:pt x="405" y="2223"/>
                  </a:lnTo>
                  <a:lnTo>
                    <a:pt x="674" y="2223"/>
                  </a:lnTo>
                  <a:lnTo>
                    <a:pt x="876" y="2189"/>
                  </a:lnTo>
                  <a:lnTo>
                    <a:pt x="1280" y="2122"/>
                  </a:lnTo>
                  <a:lnTo>
                    <a:pt x="1752" y="2088"/>
                  </a:lnTo>
                  <a:lnTo>
                    <a:pt x="1987" y="2054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290" y="1953"/>
                  </a:lnTo>
                  <a:lnTo>
                    <a:pt x="2324" y="1718"/>
                  </a:lnTo>
                  <a:lnTo>
                    <a:pt x="2290" y="1516"/>
                  </a:lnTo>
                  <a:lnTo>
                    <a:pt x="2223" y="1078"/>
                  </a:lnTo>
                  <a:lnTo>
                    <a:pt x="2122" y="539"/>
                  </a:lnTo>
                  <a:lnTo>
                    <a:pt x="2088" y="304"/>
                  </a:lnTo>
                  <a:lnTo>
                    <a:pt x="1987" y="68"/>
                  </a:lnTo>
                  <a:lnTo>
                    <a:pt x="1954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hape 534"/>
            <p:cNvSpPr/>
            <p:nvPr/>
          </p:nvSpPr>
          <p:spPr>
            <a:xfrm>
              <a:off x="-7920" y="4792680"/>
              <a:ext cx="360360" cy="1094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21" h="1651">
                  <a:moveTo>
                    <a:pt x="5387" y="0"/>
                  </a:moveTo>
                  <a:lnTo>
                    <a:pt x="4848" y="68"/>
                  </a:lnTo>
                  <a:lnTo>
                    <a:pt x="4310" y="135"/>
                  </a:lnTo>
                  <a:lnTo>
                    <a:pt x="3804" y="270"/>
                  </a:lnTo>
                  <a:lnTo>
                    <a:pt x="3266" y="404"/>
                  </a:lnTo>
                  <a:lnTo>
                    <a:pt x="2222" y="707"/>
                  </a:lnTo>
                  <a:lnTo>
                    <a:pt x="1212" y="1010"/>
                  </a:lnTo>
                  <a:lnTo>
                    <a:pt x="0" y="1381"/>
                  </a:lnTo>
                  <a:lnTo>
                    <a:pt x="0" y="1650"/>
                  </a:lnTo>
                  <a:lnTo>
                    <a:pt x="1044" y="1313"/>
                  </a:lnTo>
                  <a:lnTo>
                    <a:pt x="3198" y="640"/>
                  </a:lnTo>
                  <a:lnTo>
                    <a:pt x="5387" y="34"/>
                  </a:lnTo>
                  <a:lnTo>
                    <a:pt x="542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00" bIns="-7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hape 535"/>
            <p:cNvSpPr/>
            <p:nvPr/>
          </p:nvSpPr>
          <p:spPr>
            <a:xfrm>
              <a:off x="8845560" y="2962080"/>
              <a:ext cx="20520" cy="18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8720"/>
                <a:gd name="textAreaBottom" fmla="*/ 18720 h 18720"/>
              </a:gdLst>
              <a:ahLst/>
              <a:rect l="textAreaLeft" t="textAreaTop" r="textAreaRight" b="textAreaBottom"/>
              <a:pathLst>
                <a:path w="304" h="304">
                  <a:moveTo>
                    <a:pt x="68" y="0"/>
                  </a:moveTo>
                  <a:lnTo>
                    <a:pt x="1" y="101"/>
                  </a:lnTo>
                  <a:lnTo>
                    <a:pt x="1" y="202"/>
                  </a:lnTo>
                  <a:lnTo>
                    <a:pt x="34" y="236"/>
                  </a:lnTo>
                  <a:lnTo>
                    <a:pt x="68" y="270"/>
                  </a:lnTo>
                  <a:lnTo>
                    <a:pt x="169" y="303"/>
                  </a:lnTo>
                  <a:lnTo>
                    <a:pt x="236" y="270"/>
                  </a:lnTo>
                  <a:lnTo>
                    <a:pt x="304" y="236"/>
                  </a:lnTo>
                  <a:lnTo>
                    <a:pt x="304" y="135"/>
                  </a:lnTo>
                  <a:lnTo>
                    <a:pt x="304" y="6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8280" bIns="-98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hape 536"/>
            <p:cNvSpPr/>
            <p:nvPr/>
          </p:nvSpPr>
          <p:spPr>
            <a:xfrm>
              <a:off x="6797880" y="5021280"/>
              <a:ext cx="2354040" cy="15696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5454" h="2358">
                  <a:moveTo>
                    <a:pt x="641" y="1"/>
                  </a:moveTo>
                  <a:lnTo>
                    <a:pt x="68" y="34"/>
                  </a:lnTo>
                  <a:lnTo>
                    <a:pt x="35" y="34"/>
                  </a:lnTo>
                  <a:lnTo>
                    <a:pt x="1" y="68"/>
                  </a:lnTo>
                  <a:lnTo>
                    <a:pt x="1" y="135"/>
                  </a:lnTo>
                  <a:lnTo>
                    <a:pt x="35" y="135"/>
                  </a:lnTo>
                  <a:lnTo>
                    <a:pt x="573" y="236"/>
                  </a:lnTo>
                  <a:lnTo>
                    <a:pt x="1112" y="304"/>
                  </a:lnTo>
                  <a:lnTo>
                    <a:pt x="2189" y="405"/>
                  </a:lnTo>
                  <a:lnTo>
                    <a:pt x="4344" y="506"/>
                  </a:lnTo>
                  <a:lnTo>
                    <a:pt x="8856" y="842"/>
                  </a:lnTo>
                  <a:lnTo>
                    <a:pt x="18114" y="1448"/>
                  </a:lnTo>
                  <a:lnTo>
                    <a:pt x="22457" y="1718"/>
                  </a:lnTo>
                  <a:lnTo>
                    <a:pt x="26801" y="1987"/>
                  </a:lnTo>
                  <a:lnTo>
                    <a:pt x="31110" y="2189"/>
                  </a:lnTo>
                  <a:lnTo>
                    <a:pt x="-30083" y="2357"/>
                  </a:lnTo>
                  <a:lnTo>
                    <a:pt x="-30083" y="2021"/>
                  </a:lnTo>
                  <a:lnTo>
                    <a:pt x="31177" y="1819"/>
                  </a:lnTo>
                  <a:lnTo>
                    <a:pt x="26935" y="1617"/>
                  </a:lnTo>
                  <a:lnTo>
                    <a:pt x="22659" y="1415"/>
                  </a:lnTo>
                  <a:lnTo>
                    <a:pt x="18384" y="1179"/>
                  </a:lnTo>
                  <a:lnTo>
                    <a:pt x="9394" y="607"/>
                  </a:lnTo>
                  <a:lnTo>
                    <a:pt x="4849" y="270"/>
                  </a:lnTo>
                  <a:lnTo>
                    <a:pt x="3671" y="169"/>
                  </a:lnTo>
                  <a:lnTo>
                    <a:pt x="2459" y="68"/>
                  </a:lnTo>
                  <a:lnTo>
                    <a:pt x="124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hape 537"/>
            <p:cNvSpPr/>
            <p:nvPr/>
          </p:nvSpPr>
          <p:spPr>
            <a:xfrm>
              <a:off x="6786720" y="4797720"/>
              <a:ext cx="2365200" cy="16956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5622" h="2560">
                  <a:moveTo>
                    <a:pt x="7677" y="506"/>
                  </a:moveTo>
                  <a:lnTo>
                    <a:pt x="8081" y="539"/>
                  </a:lnTo>
                  <a:lnTo>
                    <a:pt x="8485" y="607"/>
                  </a:lnTo>
                  <a:lnTo>
                    <a:pt x="9428" y="674"/>
                  </a:lnTo>
                  <a:lnTo>
                    <a:pt x="10101" y="775"/>
                  </a:lnTo>
                  <a:lnTo>
                    <a:pt x="10404" y="809"/>
                  </a:lnTo>
                  <a:lnTo>
                    <a:pt x="10606" y="876"/>
                  </a:lnTo>
                  <a:lnTo>
                    <a:pt x="9259" y="809"/>
                  </a:lnTo>
                  <a:lnTo>
                    <a:pt x="6869" y="674"/>
                  </a:lnTo>
                  <a:lnTo>
                    <a:pt x="7071" y="573"/>
                  </a:lnTo>
                  <a:lnTo>
                    <a:pt x="7273" y="539"/>
                  </a:lnTo>
                  <a:lnTo>
                    <a:pt x="7475" y="506"/>
                  </a:lnTo>
                  <a:close/>
                  <a:moveTo>
                    <a:pt x="2021" y="1"/>
                  </a:moveTo>
                  <a:lnTo>
                    <a:pt x="1953" y="34"/>
                  </a:lnTo>
                  <a:lnTo>
                    <a:pt x="1920" y="68"/>
                  </a:lnTo>
                  <a:lnTo>
                    <a:pt x="1920" y="102"/>
                  </a:lnTo>
                  <a:lnTo>
                    <a:pt x="1920" y="236"/>
                  </a:lnTo>
                  <a:lnTo>
                    <a:pt x="1920" y="371"/>
                  </a:lnTo>
                  <a:lnTo>
                    <a:pt x="2021" y="337"/>
                  </a:lnTo>
                  <a:lnTo>
                    <a:pt x="2054" y="304"/>
                  </a:lnTo>
                  <a:lnTo>
                    <a:pt x="2054" y="236"/>
                  </a:lnTo>
                  <a:lnTo>
                    <a:pt x="2593" y="304"/>
                  </a:lnTo>
                  <a:lnTo>
                    <a:pt x="3165" y="438"/>
                  </a:lnTo>
                  <a:lnTo>
                    <a:pt x="3502" y="472"/>
                  </a:lnTo>
                  <a:lnTo>
                    <a:pt x="2391" y="405"/>
                  </a:lnTo>
                  <a:lnTo>
                    <a:pt x="1381" y="371"/>
                  </a:lnTo>
                  <a:lnTo>
                    <a:pt x="1078" y="337"/>
                  </a:lnTo>
                  <a:lnTo>
                    <a:pt x="607" y="304"/>
                  </a:lnTo>
                  <a:lnTo>
                    <a:pt x="405" y="270"/>
                  </a:lnTo>
                  <a:lnTo>
                    <a:pt x="203" y="236"/>
                  </a:lnTo>
                  <a:lnTo>
                    <a:pt x="102" y="169"/>
                  </a:lnTo>
                  <a:lnTo>
                    <a:pt x="102" y="102"/>
                  </a:lnTo>
                  <a:lnTo>
                    <a:pt x="135" y="68"/>
                  </a:lnTo>
                  <a:lnTo>
                    <a:pt x="102" y="34"/>
                  </a:lnTo>
                  <a:lnTo>
                    <a:pt x="34" y="135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68" y="304"/>
                  </a:lnTo>
                  <a:lnTo>
                    <a:pt x="270" y="405"/>
                  </a:lnTo>
                  <a:lnTo>
                    <a:pt x="539" y="472"/>
                  </a:lnTo>
                  <a:lnTo>
                    <a:pt x="1112" y="539"/>
                  </a:lnTo>
                  <a:lnTo>
                    <a:pt x="1381" y="573"/>
                  </a:lnTo>
                  <a:lnTo>
                    <a:pt x="6330" y="876"/>
                  </a:lnTo>
                  <a:lnTo>
                    <a:pt x="16464" y="1482"/>
                  </a:lnTo>
                  <a:lnTo>
                    <a:pt x="26026" y="2021"/>
                  </a:lnTo>
                  <a:lnTo>
                    <a:pt x="-29915" y="2559"/>
                  </a:lnTo>
                  <a:lnTo>
                    <a:pt x="-29915" y="2290"/>
                  </a:lnTo>
                  <a:lnTo>
                    <a:pt x="18316" y="1314"/>
                  </a:lnTo>
                  <a:lnTo>
                    <a:pt x="10976" y="910"/>
                  </a:lnTo>
                  <a:lnTo>
                    <a:pt x="10943" y="809"/>
                  </a:lnTo>
                  <a:lnTo>
                    <a:pt x="10909" y="741"/>
                  </a:lnTo>
                  <a:lnTo>
                    <a:pt x="10741" y="640"/>
                  </a:lnTo>
                  <a:lnTo>
                    <a:pt x="10539" y="573"/>
                  </a:lnTo>
                  <a:lnTo>
                    <a:pt x="10337" y="539"/>
                  </a:lnTo>
                  <a:lnTo>
                    <a:pt x="9865" y="506"/>
                  </a:lnTo>
                  <a:lnTo>
                    <a:pt x="9529" y="506"/>
                  </a:lnTo>
                  <a:lnTo>
                    <a:pt x="7710" y="304"/>
                  </a:lnTo>
                  <a:lnTo>
                    <a:pt x="7374" y="270"/>
                  </a:lnTo>
                  <a:lnTo>
                    <a:pt x="7172" y="270"/>
                  </a:lnTo>
                  <a:lnTo>
                    <a:pt x="7104" y="337"/>
                  </a:lnTo>
                  <a:lnTo>
                    <a:pt x="7003" y="405"/>
                  </a:lnTo>
                  <a:lnTo>
                    <a:pt x="6835" y="640"/>
                  </a:lnTo>
                  <a:lnTo>
                    <a:pt x="6835" y="674"/>
                  </a:lnTo>
                  <a:lnTo>
                    <a:pt x="5522" y="573"/>
                  </a:lnTo>
                  <a:lnTo>
                    <a:pt x="5488" y="506"/>
                  </a:lnTo>
                  <a:lnTo>
                    <a:pt x="5455" y="438"/>
                  </a:lnTo>
                  <a:lnTo>
                    <a:pt x="5421" y="438"/>
                  </a:lnTo>
                  <a:lnTo>
                    <a:pt x="4546" y="371"/>
                  </a:lnTo>
                  <a:lnTo>
                    <a:pt x="3704" y="270"/>
                  </a:lnTo>
                  <a:lnTo>
                    <a:pt x="2862" y="135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2920" bIns="52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hape 538"/>
            <p:cNvSpPr/>
            <p:nvPr/>
          </p:nvSpPr>
          <p:spPr>
            <a:xfrm>
              <a:off x="8024760" y="498348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72" h="472">
                  <a:moveTo>
                    <a:pt x="102" y="0"/>
                  </a:moveTo>
                  <a:lnTo>
                    <a:pt x="68" y="68"/>
                  </a:lnTo>
                  <a:lnTo>
                    <a:pt x="1" y="101"/>
                  </a:lnTo>
                  <a:lnTo>
                    <a:pt x="1" y="169"/>
                  </a:lnTo>
                  <a:lnTo>
                    <a:pt x="1" y="303"/>
                  </a:lnTo>
                  <a:lnTo>
                    <a:pt x="34" y="371"/>
                  </a:lnTo>
                  <a:lnTo>
                    <a:pt x="68" y="371"/>
                  </a:lnTo>
                  <a:lnTo>
                    <a:pt x="102" y="438"/>
                  </a:lnTo>
                  <a:lnTo>
                    <a:pt x="203" y="438"/>
                  </a:lnTo>
                  <a:lnTo>
                    <a:pt x="270" y="472"/>
                  </a:lnTo>
                  <a:lnTo>
                    <a:pt x="337" y="438"/>
                  </a:lnTo>
                  <a:lnTo>
                    <a:pt x="405" y="404"/>
                  </a:lnTo>
                  <a:lnTo>
                    <a:pt x="438" y="337"/>
                  </a:lnTo>
                  <a:lnTo>
                    <a:pt x="472" y="270"/>
                  </a:lnTo>
                  <a:lnTo>
                    <a:pt x="472" y="169"/>
                  </a:lnTo>
                  <a:lnTo>
                    <a:pt x="438" y="101"/>
                  </a:lnTo>
                  <a:lnTo>
                    <a:pt x="371" y="34"/>
                  </a:lnTo>
                  <a:lnTo>
                    <a:pt x="337" y="3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4960" bIns="-84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hape 539"/>
            <p:cNvSpPr/>
            <p:nvPr/>
          </p:nvSpPr>
          <p:spPr>
            <a:xfrm>
              <a:off x="2523960" y="5721480"/>
              <a:ext cx="39600" cy="586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7" h="876">
                  <a:moveTo>
                    <a:pt x="371" y="1"/>
                  </a:moveTo>
                  <a:lnTo>
                    <a:pt x="236" y="34"/>
                  </a:lnTo>
                  <a:lnTo>
                    <a:pt x="0" y="169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101" y="472"/>
                  </a:lnTo>
                  <a:lnTo>
                    <a:pt x="169" y="539"/>
                  </a:lnTo>
                  <a:lnTo>
                    <a:pt x="236" y="506"/>
                  </a:lnTo>
                  <a:lnTo>
                    <a:pt x="337" y="472"/>
                  </a:lnTo>
                  <a:lnTo>
                    <a:pt x="371" y="438"/>
                  </a:lnTo>
                  <a:lnTo>
                    <a:pt x="438" y="472"/>
                  </a:lnTo>
                  <a:lnTo>
                    <a:pt x="472" y="506"/>
                  </a:lnTo>
                  <a:lnTo>
                    <a:pt x="472" y="539"/>
                  </a:lnTo>
                  <a:lnTo>
                    <a:pt x="371" y="573"/>
                  </a:lnTo>
                  <a:lnTo>
                    <a:pt x="202" y="607"/>
                  </a:lnTo>
                  <a:lnTo>
                    <a:pt x="68" y="674"/>
                  </a:lnTo>
                  <a:lnTo>
                    <a:pt x="34" y="708"/>
                  </a:lnTo>
                  <a:lnTo>
                    <a:pt x="0" y="775"/>
                  </a:lnTo>
                  <a:lnTo>
                    <a:pt x="0" y="809"/>
                  </a:lnTo>
                  <a:lnTo>
                    <a:pt x="34" y="842"/>
                  </a:lnTo>
                  <a:lnTo>
                    <a:pt x="68" y="876"/>
                  </a:lnTo>
                  <a:lnTo>
                    <a:pt x="101" y="842"/>
                  </a:lnTo>
                  <a:lnTo>
                    <a:pt x="236" y="775"/>
                  </a:lnTo>
                  <a:lnTo>
                    <a:pt x="371" y="741"/>
                  </a:lnTo>
                  <a:lnTo>
                    <a:pt x="505" y="674"/>
                  </a:lnTo>
                  <a:lnTo>
                    <a:pt x="573" y="640"/>
                  </a:lnTo>
                  <a:lnTo>
                    <a:pt x="606" y="573"/>
                  </a:lnTo>
                  <a:lnTo>
                    <a:pt x="606" y="506"/>
                  </a:lnTo>
                  <a:lnTo>
                    <a:pt x="606" y="438"/>
                  </a:lnTo>
                  <a:lnTo>
                    <a:pt x="539" y="371"/>
                  </a:lnTo>
                  <a:lnTo>
                    <a:pt x="472" y="337"/>
                  </a:lnTo>
                  <a:lnTo>
                    <a:pt x="404" y="304"/>
                  </a:lnTo>
                  <a:lnTo>
                    <a:pt x="337" y="304"/>
                  </a:lnTo>
                  <a:lnTo>
                    <a:pt x="202" y="337"/>
                  </a:lnTo>
                  <a:lnTo>
                    <a:pt x="169" y="236"/>
                  </a:lnTo>
                  <a:lnTo>
                    <a:pt x="337" y="135"/>
                  </a:lnTo>
                  <a:lnTo>
                    <a:pt x="505" y="34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hape 540"/>
            <p:cNvSpPr/>
            <p:nvPr/>
          </p:nvSpPr>
          <p:spPr>
            <a:xfrm>
              <a:off x="2146320" y="569304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223" h="2190">
                  <a:moveTo>
                    <a:pt x="1818" y="1"/>
                  </a:moveTo>
                  <a:lnTo>
                    <a:pt x="1313" y="68"/>
                  </a:lnTo>
                  <a:lnTo>
                    <a:pt x="808" y="136"/>
                  </a:lnTo>
                  <a:lnTo>
                    <a:pt x="404" y="169"/>
                  </a:lnTo>
                  <a:lnTo>
                    <a:pt x="202" y="203"/>
                  </a:lnTo>
                  <a:lnTo>
                    <a:pt x="0" y="270"/>
                  </a:lnTo>
                  <a:lnTo>
                    <a:pt x="0" y="304"/>
                  </a:lnTo>
                  <a:lnTo>
                    <a:pt x="169" y="371"/>
                  </a:lnTo>
                  <a:lnTo>
                    <a:pt x="337" y="371"/>
                  </a:lnTo>
                  <a:lnTo>
                    <a:pt x="707" y="338"/>
                  </a:lnTo>
                  <a:lnTo>
                    <a:pt x="1246" y="270"/>
                  </a:lnTo>
                  <a:lnTo>
                    <a:pt x="1785" y="169"/>
                  </a:lnTo>
                  <a:lnTo>
                    <a:pt x="1785" y="371"/>
                  </a:lnTo>
                  <a:lnTo>
                    <a:pt x="1785" y="540"/>
                  </a:lnTo>
                  <a:lnTo>
                    <a:pt x="1852" y="910"/>
                  </a:lnTo>
                  <a:lnTo>
                    <a:pt x="1919" y="1381"/>
                  </a:lnTo>
                  <a:lnTo>
                    <a:pt x="1953" y="1583"/>
                  </a:lnTo>
                  <a:lnTo>
                    <a:pt x="2020" y="1819"/>
                  </a:lnTo>
                  <a:lnTo>
                    <a:pt x="1044" y="1954"/>
                  </a:lnTo>
                  <a:lnTo>
                    <a:pt x="674" y="1987"/>
                  </a:lnTo>
                  <a:lnTo>
                    <a:pt x="505" y="2021"/>
                  </a:lnTo>
                  <a:lnTo>
                    <a:pt x="371" y="2122"/>
                  </a:lnTo>
                  <a:lnTo>
                    <a:pt x="539" y="2189"/>
                  </a:lnTo>
                  <a:lnTo>
                    <a:pt x="707" y="2189"/>
                  </a:lnTo>
                  <a:lnTo>
                    <a:pt x="1078" y="2156"/>
                  </a:lnTo>
                  <a:lnTo>
                    <a:pt x="2121" y="2021"/>
                  </a:lnTo>
                  <a:lnTo>
                    <a:pt x="2189" y="1987"/>
                  </a:lnTo>
                  <a:lnTo>
                    <a:pt x="2222" y="1954"/>
                  </a:lnTo>
                  <a:lnTo>
                    <a:pt x="2222" y="1886"/>
                  </a:lnTo>
                  <a:lnTo>
                    <a:pt x="2189" y="1853"/>
                  </a:lnTo>
                  <a:lnTo>
                    <a:pt x="2189" y="1583"/>
                  </a:lnTo>
                  <a:lnTo>
                    <a:pt x="2155" y="1348"/>
                  </a:lnTo>
                  <a:lnTo>
                    <a:pt x="2054" y="876"/>
                  </a:lnTo>
                  <a:lnTo>
                    <a:pt x="2020" y="506"/>
                  </a:lnTo>
                  <a:lnTo>
                    <a:pt x="1953" y="304"/>
                  </a:lnTo>
                  <a:lnTo>
                    <a:pt x="1919" y="136"/>
                  </a:lnTo>
                  <a:lnTo>
                    <a:pt x="1919" y="102"/>
                  </a:lnTo>
                  <a:lnTo>
                    <a:pt x="1919" y="35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hape 541"/>
            <p:cNvSpPr/>
            <p:nvPr/>
          </p:nvSpPr>
          <p:spPr>
            <a:xfrm>
              <a:off x="1725480" y="5990040"/>
              <a:ext cx="64800" cy="53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8" h="809">
                  <a:moveTo>
                    <a:pt x="809" y="1"/>
                  </a:moveTo>
                  <a:lnTo>
                    <a:pt x="775" y="34"/>
                  </a:lnTo>
                  <a:lnTo>
                    <a:pt x="775" y="203"/>
                  </a:lnTo>
                  <a:lnTo>
                    <a:pt x="775" y="371"/>
                  </a:lnTo>
                  <a:lnTo>
                    <a:pt x="809" y="405"/>
                  </a:lnTo>
                  <a:lnTo>
                    <a:pt x="775" y="405"/>
                  </a:lnTo>
                  <a:lnTo>
                    <a:pt x="472" y="203"/>
                  </a:lnTo>
                  <a:lnTo>
                    <a:pt x="405" y="203"/>
                  </a:lnTo>
                  <a:lnTo>
                    <a:pt x="371" y="236"/>
                  </a:lnTo>
                  <a:lnTo>
                    <a:pt x="337" y="270"/>
                  </a:lnTo>
                  <a:lnTo>
                    <a:pt x="371" y="337"/>
                  </a:lnTo>
                  <a:lnTo>
                    <a:pt x="506" y="472"/>
                  </a:lnTo>
                  <a:lnTo>
                    <a:pt x="135" y="472"/>
                  </a:lnTo>
                  <a:lnTo>
                    <a:pt x="68" y="506"/>
                  </a:lnTo>
                  <a:lnTo>
                    <a:pt x="1" y="539"/>
                  </a:lnTo>
                  <a:lnTo>
                    <a:pt x="1" y="573"/>
                  </a:lnTo>
                  <a:lnTo>
                    <a:pt x="68" y="607"/>
                  </a:lnTo>
                  <a:lnTo>
                    <a:pt x="506" y="607"/>
                  </a:lnTo>
                  <a:lnTo>
                    <a:pt x="405" y="674"/>
                  </a:lnTo>
                  <a:lnTo>
                    <a:pt x="371" y="741"/>
                  </a:lnTo>
                  <a:lnTo>
                    <a:pt x="405" y="775"/>
                  </a:lnTo>
                  <a:lnTo>
                    <a:pt x="438" y="809"/>
                  </a:lnTo>
                  <a:lnTo>
                    <a:pt x="506" y="809"/>
                  </a:lnTo>
                  <a:lnTo>
                    <a:pt x="674" y="708"/>
                  </a:lnTo>
                  <a:lnTo>
                    <a:pt x="809" y="539"/>
                  </a:lnTo>
                  <a:lnTo>
                    <a:pt x="842" y="708"/>
                  </a:lnTo>
                  <a:lnTo>
                    <a:pt x="876" y="775"/>
                  </a:lnTo>
                  <a:lnTo>
                    <a:pt x="910" y="775"/>
                  </a:lnTo>
                  <a:lnTo>
                    <a:pt x="977" y="741"/>
                  </a:lnTo>
                  <a:lnTo>
                    <a:pt x="977" y="674"/>
                  </a:lnTo>
                  <a:lnTo>
                    <a:pt x="943" y="337"/>
                  </a:lnTo>
                  <a:lnTo>
                    <a:pt x="910" y="169"/>
                  </a:lnTo>
                  <a:lnTo>
                    <a:pt x="876" y="34"/>
                  </a:lnTo>
                  <a:lnTo>
                    <a:pt x="84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hape 542"/>
            <p:cNvSpPr/>
            <p:nvPr/>
          </p:nvSpPr>
          <p:spPr>
            <a:xfrm>
              <a:off x="2639880" y="5507280"/>
              <a:ext cx="160200" cy="110880"/>
            </a:xfrm>
            <a:custGeom>
              <a:avLst/>
              <a:gdLst>
                <a:gd name="textAreaLeft" fmla="*/ 0 w 160200"/>
                <a:gd name="textAreaRight" fmla="*/ 160200 w 160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426" h="1684">
                  <a:moveTo>
                    <a:pt x="2088" y="0"/>
                  </a:moveTo>
                  <a:lnTo>
                    <a:pt x="2055" y="34"/>
                  </a:lnTo>
                  <a:lnTo>
                    <a:pt x="1516" y="102"/>
                  </a:lnTo>
                  <a:lnTo>
                    <a:pt x="977" y="169"/>
                  </a:lnTo>
                  <a:lnTo>
                    <a:pt x="506" y="236"/>
                  </a:lnTo>
                  <a:lnTo>
                    <a:pt x="270" y="304"/>
                  </a:lnTo>
                  <a:lnTo>
                    <a:pt x="68" y="405"/>
                  </a:lnTo>
                  <a:lnTo>
                    <a:pt x="35" y="371"/>
                  </a:lnTo>
                  <a:lnTo>
                    <a:pt x="1" y="371"/>
                  </a:lnTo>
                  <a:lnTo>
                    <a:pt x="1" y="674"/>
                  </a:lnTo>
                  <a:lnTo>
                    <a:pt x="35" y="943"/>
                  </a:lnTo>
                  <a:lnTo>
                    <a:pt x="169" y="1549"/>
                  </a:lnTo>
                  <a:lnTo>
                    <a:pt x="169" y="1583"/>
                  </a:lnTo>
                  <a:lnTo>
                    <a:pt x="203" y="1650"/>
                  </a:lnTo>
                  <a:lnTo>
                    <a:pt x="237" y="1684"/>
                  </a:lnTo>
                  <a:lnTo>
                    <a:pt x="270" y="1684"/>
                  </a:lnTo>
                  <a:lnTo>
                    <a:pt x="338" y="1650"/>
                  </a:lnTo>
                  <a:lnTo>
                    <a:pt x="338" y="1617"/>
                  </a:lnTo>
                  <a:lnTo>
                    <a:pt x="809" y="1549"/>
                  </a:lnTo>
                  <a:lnTo>
                    <a:pt x="1247" y="1482"/>
                  </a:lnTo>
                  <a:lnTo>
                    <a:pt x="1718" y="1415"/>
                  </a:lnTo>
                  <a:lnTo>
                    <a:pt x="1920" y="1347"/>
                  </a:lnTo>
                  <a:lnTo>
                    <a:pt x="2122" y="1280"/>
                  </a:lnTo>
                  <a:lnTo>
                    <a:pt x="1886" y="1246"/>
                  </a:lnTo>
                  <a:lnTo>
                    <a:pt x="1684" y="1246"/>
                  </a:lnTo>
                  <a:lnTo>
                    <a:pt x="1247" y="1314"/>
                  </a:lnTo>
                  <a:lnTo>
                    <a:pt x="775" y="1381"/>
                  </a:lnTo>
                  <a:lnTo>
                    <a:pt x="304" y="1482"/>
                  </a:lnTo>
                  <a:lnTo>
                    <a:pt x="203" y="943"/>
                  </a:lnTo>
                  <a:lnTo>
                    <a:pt x="169" y="708"/>
                  </a:lnTo>
                  <a:lnTo>
                    <a:pt x="68" y="438"/>
                  </a:lnTo>
                  <a:lnTo>
                    <a:pt x="540" y="438"/>
                  </a:lnTo>
                  <a:lnTo>
                    <a:pt x="1011" y="337"/>
                  </a:lnTo>
                  <a:lnTo>
                    <a:pt x="1550" y="236"/>
                  </a:lnTo>
                  <a:lnTo>
                    <a:pt x="2055" y="135"/>
                  </a:lnTo>
                  <a:lnTo>
                    <a:pt x="2156" y="708"/>
                  </a:lnTo>
                  <a:lnTo>
                    <a:pt x="2257" y="1280"/>
                  </a:lnTo>
                  <a:lnTo>
                    <a:pt x="2290" y="1347"/>
                  </a:lnTo>
                  <a:lnTo>
                    <a:pt x="2358" y="1347"/>
                  </a:lnTo>
                  <a:lnTo>
                    <a:pt x="2425" y="1314"/>
                  </a:lnTo>
                  <a:lnTo>
                    <a:pt x="2425" y="1246"/>
                  </a:lnTo>
                  <a:lnTo>
                    <a:pt x="2324" y="640"/>
                  </a:lnTo>
                  <a:lnTo>
                    <a:pt x="2189" y="34"/>
                  </a:lnTo>
                  <a:lnTo>
                    <a:pt x="215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60" bIns="-5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hape 543"/>
            <p:cNvSpPr/>
            <p:nvPr/>
          </p:nvSpPr>
          <p:spPr>
            <a:xfrm>
              <a:off x="2798640" y="5484960"/>
              <a:ext cx="160200" cy="110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425" h="1685">
                  <a:moveTo>
                    <a:pt x="1684" y="1"/>
                  </a:moveTo>
                  <a:lnTo>
                    <a:pt x="1145" y="34"/>
                  </a:lnTo>
                  <a:lnTo>
                    <a:pt x="573" y="169"/>
                  </a:lnTo>
                  <a:lnTo>
                    <a:pt x="68" y="337"/>
                  </a:lnTo>
                  <a:lnTo>
                    <a:pt x="34" y="371"/>
                  </a:lnTo>
                  <a:lnTo>
                    <a:pt x="0" y="405"/>
                  </a:lnTo>
                  <a:lnTo>
                    <a:pt x="34" y="439"/>
                  </a:lnTo>
                  <a:lnTo>
                    <a:pt x="68" y="472"/>
                  </a:lnTo>
                  <a:lnTo>
                    <a:pt x="101" y="708"/>
                  </a:lnTo>
                  <a:lnTo>
                    <a:pt x="135" y="944"/>
                  </a:lnTo>
                  <a:lnTo>
                    <a:pt x="202" y="1617"/>
                  </a:lnTo>
                  <a:lnTo>
                    <a:pt x="236" y="1651"/>
                  </a:lnTo>
                  <a:lnTo>
                    <a:pt x="270" y="1684"/>
                  </a:lnTo>
                  <a:lnTo>
                    <a:pt x="337" y="1651"/>
                  </a:lnTo>
                  <a:lnTo>
                    <a:pt x="606" y="1684"/>
                  </a:lnTo>
                  <a:lnTo>
                    <a:pt x="909" y="1651"/>
                  </a:lnTo>
                  <a:lnTo>
                    <a:pt x="1482" y="1516"/>
                  </a:lnTo>
                  <a:lnTo>
                    <a:pt x="1886" y="1415"/>
                  </a:lnTo>
                  <a:lnTo>
                    <a:pt x="2088" y="1348"/>
                  </a:lnTo>
                  <a:lnTo>
                    <a:pt x="2290" y="1247"/>
                  </a:lnTo>
                  <a:lnTo>
                    <a:pt x="2020" y="1247"/>
                  </a:lnTo>
                  <a:lnTo>
                    <a:pt x="1785" y="1280"/>
                  </a:lnTo>
                  <a:lnTo>
                    <a:pt x="1313" y="1415"/>
                  </a:lnTo>
                  <a:lnTo>
                    <a:pt x="842" y="1482"/>
                  </a:lnTo>
                  <a:lnTo>
                    <a:pt x="371" y="1550"/>
                  </a:lnTo>
                  <a:lnTo>
                    <a:pt x="337" y="1179"/>
                  </a:lnTo>
                  <a:lnTo>
                    <a:pt x="270" y="809"/>
                  </a:lnTo>
                  <a:lnTo>
                    <a:pt x="236" y="641"/>
                  </a:lnTo>
                  <a:lnTo>
                    <a:pt x="169" y="472"/>
                  </a:lnTo>
                  <a:lnTo>
                    <a:pt x="438" y="405"/>
                  </a:lnTo>
                  <a:lnTo>
                    <a:pt x="674" y="337"/>
                  </a:lnTo>
                  <a:lnTo>
                    <a:pt x="1212" y="270"/>
                  </a:lnTo>
                  <a:lnTo>
                    <a:pt x="1717" y="203"/>
                  </a:lnTo>
                  <a:lnTo>
                    <a:pt x="1987" y="135"/>
                  </a:lnTo>
                  <a:lnTo>
                    <a:pt x="2222" y="102"/>
                  </a:lnTo>
                  <a:lnTo>
                    <a:pt x="2222" y="337"/>
                  </a:lnTo>
                  <a:lnTo>
                    <a:pt x="2256" y="607"/>
                  </a:lnTo>
                  <a:lnTo>
                    <a:pt x="2256" y="944"/>
                  </a:lnTo>
                  <a:lnTo>
                    <a:pt x="2290" y="1247"/>
                  </a:lnTo>
                  <a:lnTo>
                    <a:pt x="2323" y="1314"/>
                  </a:lnTo>
                  <a:lnTo>
                    <a:pt x="2424" y="1314"/>
                  </a:lnTo>
                  <a:lnTo>
                    <a:pt x="2424" y="1247"/>
                  </a:lnTo>
                  <a:lnTo>
                    <a:pt x="2424" y="977"/>
                  </a:lnTo>
                  <a:lnTo>
                    <a:pt x="2391" y="674"/>
                  </a:lnTo>
                  <a:lnTo>
                    <a:pt x="2357" y="371"/>
                  </a:lnTo>
                  <a:lnTo>
                    <a:pt x="2323" y="68"/>
                  </a:lnTo>
                  <a:lnTo>
                    <a:pt x="2290" y="34"/>
                  </a:lnTo>
                  <a:lnTo>
                    <a:pt x="2222" y="34"/>
                  </a:lnTo>
                  <a:lnTo>
                    <a:pt x="168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60" bIns="-5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hape 544"/>
            <p:cNvSpPr/>
            <p:nvPr/>
          </p:nvSpPr>
          <p:spPr>
            <a:xfrm>
              <a:off x="3462120" y="5391360"/>
              <a:ext cx="152280" cy="99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291" h="1516">
                  <a:moveTo>
                    <a:pt x="1920" y="169"/>
                  </a:moveTo>
                  <a:lnTo>
                    <a:pt x="1920" y="371"/>
                  </a:lnTo>
                  <a:lnTo>
                    <a:pt x="1954" y="573"/>
                  </a:lnTo>
                  <a:lnTo>
                    <a:pt x="2055" y="1078"/>
                  </a:lnTo>
                  <a:lnTo>
                    <a:pt x="1146" y="1280"/>
                  </a:lnTo>
                  <a:lnTo>
                    <a:pt x="741" y="1347"/>
                  </a:lnTo>
                  <a:lnTo>
                    <a:pt x="539" y="1381"/>
                  </a:lnTo>
                  <a:lnTo>
                    <a:pt x="337" y="1415"/>
                  </a:lnTo>
                  <a:lnTo>
                    <a:pt x="203" y="876"/>
                  </a:lnTo>
                  <a:lnTo>
                    <a:pt x="102" y="304"/>
                  </a:lnTo>
                  <a:lnTo>
                    <a:pt x="539" y="304"/>
                  </a:lnTo>
                  <a:lnTo>
                    <a:pt x="944" y="236"/>
                  </a:lnTo>
                  <a:lnTo>
                    <a:pt x="1920" y="169"/>
                  </a:lnTo>
                  <a:close/>
                  <a:moveTo>
                    <a:pt x="1482" y="1"/>
                  </a:moveTo>
                  <a:lnTo>
                    <a:pt x="977" y="34"/>
                  </a:lnTo>
                  <a:lnTo>
                    <a:pt x="506" y="102"/>
                  </a:lnTo>
                  <a:lnTo>
                    <a:pt x="270" y="135"/>
                  </a:lnTo>
                  <a:lnTo>
                    <a:pt x="34" y="236"/>
                  </a:lnTo>
                  <a:lnTo>
                    <a:pt x="1" y="236"/>
                  </a:lnTo>
                  <a:lnTo>
                    <a:pt x="1" y="270"/>
                  </a:lnTo>
                  <a:lnTo>
                    <a:pt x="1" y="573"/>
                  </a:lnTo>
                  <a:lnTo>
                    <a:pt x="34" y="876"/>
                  </a:lnTo>
                  <a:lnTo>
                    <a:pt x="102" y="1179"/>
                  </a:lnTo>
                  <a:lnTo>
                    <a:pt x="203" y="1482"/>
                  </a:lnTo>
                  <a:lnTo>
                    <a:pt x="203" y="1516"/>
                  </a:lnTo>
                  <a:lnTo>
                    <a:pt x="236" y="1516"/>
                  </a:lnTo>
                  <a:lnTo>
                    <a:pt x="304" y="1482"/>
                  </a:lnTo>
                  <a:lnTo>
                    <a:pt x="539" y="1516"/>
                  </a:lnTo>
                  <a:lnTo>
                    <a:pt x="741" y="1516"/>
                  </a:lnTo>
                  <a:lnTo>
                    <a:pt x="1213" y="1482"/>
                  </a:lnTo>
                  <a:lnTo>
                    <a:pt x="1684" y="1381"/>
                  </a:lnTo>
                  <a:lnTo>
                    <a:pt x="2088" y="1246"/>
                  </a:lnTo>
                  <a:lnTo>
                    <a:pt x="2156" y="1314"/>
                  </a:lnTo>
                  <a:lnTo>
                    <a:pt x="2223" y="1314"/>
                  </a:lnTo>
                  <a:lnTo>
                    <a:pt x="2257" y="1280"/>
                  </a:lnTo>
                  <a:lnTo>
                    <a:pt x="2290" y="1213"/>
                  </a:lnTo>
                  <a:lnTo>
                    <a:pt x="2156" y="674"/>
                  </a:lnTo>
                  <a:lnTo>
                    <a:pt x="2021" y="169"/>
                  </a:lnTo>
                  <a:lnTo>
                    <a:pt x="2055" y="102"/>
                  </a:lnTo>
                  <a:lnTo>
                    <a:pt x="2055" y="68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6920" bIns="-16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hape 545"/>
            <p:cNvSpPr/>
            <p:nvPr/>
          </p:nvSpPr>
          <p:spPr>
            <a:xfrm>
              <a:off x="2979720" y="5457960"/>
              <a:ext cx="145800" cy="1108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189" h="1685">
                  <a:moveTo>
                    <a:pt x="1953" y="102"/>
                  </a:moveTo>
                  <a:lnTo>
                    <a:pt x="1987" y="674"/>
                  </a:lnTo>
                  <a:lnTo>
                    <a:pt x="2054" y="1247"/>
                  </a:lnTo>
                  <a:lnTo>
                    <a:pt x="1852" y="1247"/>
                  </a:lnTo>
                  <a:lnTo>
                    <a:pt x="1617" y="1280"/>
                  </a:lnTo>
                  <a:lnTo>
                    <a:pt x="1213" y="1348"/>
                  </a:lnTo>
                  <a:lnTo>
                    <a:pt x="270" y="1415"/>
                  </a:lnTo>
                  <a:lnTo>
                    <a:pt x="236" y="910"/>
                  </a:lnTo>
                  <a:lnTo>
                    <a:pt x="203" y="708"/>
                  </a:lnTo>
                  <a:lnTo>
                    <a:pt x="169" y="539"/>
                  </a:lnTo>
                  <a:lnTo>
                    <a:pt x="1112" y="304"/>
                  </a:lnTo>
                  <a:lnTo>
                    <a:pt x="1516" y="236"/>
                  </a:lnTo>
                  <a:lnTo>
                    <a:pt x="1751" y="169"/>
                  </a:lnTo>
                  <a:lnTo>
                    <a:pt x="1953" y="102"/>
                  </a:lnTo>
                  <a:close/>
                  <a:moveTo>
                    <a:pt x="1718" y="1"/>
                  </a:moveTo>
                  <a:lnTo>
                    <a:pt x="1482" y="34"/>
                  </a:lnTo>
                  <a:lnTo>
                    <a:pt x="1011" y="102"/>
                  </a:lnTo>
                  <a:lnTo>
                    <a:pt x="506" y="236"/>
                  </a:lnTo>
                  <a:lnTo>
                    <a:pt x="68" y="371"/>
                  </a:lnTo>
                  <a:lnTo>
                    <a:pt x="34" y="405"/>
                  </a:lnTo>
                  <a:lnTo>
                    <a:pt x="0" y="438"/>
                  </a:lnTo>
                  <a:lnTo>
                    <a:pt x="0" y="506"/>
                  </a:lnTo>
                  <a:lnTo>
                    <a:pt x="34" y="539"/>
                  </a:lnTo>
                  <a:lnTo>
                    <a:pt x="102" y="1078"/>
                  </a:lnTo>
                  <a:lnTo>
                    <a:pt x="102" y="1617"/>
                  </a:lnTo>
                  <a:lnTo>
                    <a:pt x="135" y="1684"/>
                  </a:lnTo>
                  <a:lnTo>
                    <a:pt x="203" y="1684"/>
                  </a:lnTo>
                  <a:lnTo>
                    <a:pt x="270" y="1651"/>
                  </a:lnTo>
                  <a:lnTo>
                    <a:pt x="304" y="1583"/>
                  </a:lnTo>
                  <a:lnTo>
                    <a:pt x="741" y="1583"/>
                  </a:lnTo>
                  <a:lnTo>
                    <a:pt x="1213" y="1550"/>
                  </a:lnTo>
                  <a:lnTo>
                    <a:pt x="1650" y="1449"/>
                  </a:lnTo>
                  <a:lnTo>
                    <a:pt x="1886" y="1381"/>
                  </a:lnTo>
                  <a:lnTo>
                    <a:pt x="2054" y="1280"/>
                  </a:lnTo>
                  <a:lnTo>
                    <a:pt x="2155" y="1314"/>
                  </a:lnTo>
                  <a:lnTo>
                    <a:pt x="2189" y="1280"/>
                  </a:lnTo>
                  <a:lnTo>
                    <a:pt x="2189" y="1247"/>
                  </a:lnTo>
                  <a:lnTo>
                    <a:pt x="2189" y="944"/>
                  </a:lnTo>
                  <a:lnTo>
                    <a:pt x="2155" y="640"/>
                  </a:lnTo>
                  <a:lnTo>
                    <a:pt x="2088" y="337"/>
                  </a:lnTo>
                  <a:lnTo>
                    <a:pt x="2021" y="34"/>
                  </a:lnTo>
                  <a:lnTo>
                    <a:pt x="1953" y="34"/>
                  </a:lnTo>
                  <a:lnTo>
                    <a:pt x="171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60" bIns="-5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hape 546"/>
            <p:cNvSpPr/>
            <p:nvPr/>
          </p:nvSpPr>
          <p:spPr>
            <a:xfrm>
              <a:off x="2305080" y="5558040"/>
              <a:ext cx="161640" cy="10476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459" h="1584">
                  <a:moveTo>
                    <a:pt x="2122" y="136"/>
                  </a:moveTo>
                  <a:lnTo>
                    <a:pt x="2156" y="641"/>
                  </a:lnTo>
                  <a:lnTo>
                    <a:pt x="2257" y="1112"/>
                  </a:lnTo>
                  <a:lnTo>
                    <a:pt x="1987" y="1179"/>
                  </a:lnTo>
                  <a:lnTo>
                    <a:pt x="1684" y="1213"/>
                  </a:lnTo>
                  <a:lnTo>
                    <a:pt x="1145" y="1280"/>
                  </a:lnTo>
                  <a:lnTo>
                    <a:pt x="708" y="1314"/>
                  </a:lnTo>
                  <a:lnTo>
                    <a:pt x="472" y="1381"/>
                  </a:lnTo>
                  <a:lnTo>
                    <a:pt x="304" y="1482"/>
                  </a:lnTo>
                  <a:lnTo>
                    <a:pt x="169" y="910"/>
                  </a:lnTo>
                  <a:lnTo>
                    <a:pt x="135" y="641"/>
                  </a:lnTo>
                  <a:lnTo>
                    <a:pt x="68" y="405"/>
                  </a:lnTo>
                  <a:lnTo>
                    <a:pt x="573" y="405"/>
                  </a:lnTo>
                  <a:lnTo>
                    <a:pt x="1112" y="338"/>
                  </a:lnTo>
                  <a:lnTo>
                    <a:pt x="2122" y="136"/>
                  </a:lnTo>
                  <a:close/>
                  <a:moveTo>
                    <a:pt x="2122" y="1"/>
                  </a:moveTo>
                  <a:lnTo>
                    <a:pt x="1617" y="102"/>
                  </a:lnTo>
                  <a:lnTo>
                    <a:pt x="1078" y="136"/>
                  </a:lnTo>
                  <a:lnTo>
                    <a:pt x="539" y="237"/>
                  </a:lnTo>
                  <a:lnTo>
                    <a:pt x="34" y="338"/>
                  </a:lnTo>
                  <a:lnTo>
                    <a:pt x="1" y="371"/>
                  </a:lnTo>
                  <a:lnTo>
                    <a:pt x="34" y="405"/>
                  </a:lnTo>
                  <a:lnTo>
                    <a:pt x="1" y="674"/>
                  </a:lnTo>
                  <a:lnTo>
                    <a:pt x="34" y="977"/>
                  </a:lnTo>
                  <a:lnTo>
                    <a:pt x="169" y="1550"/>
                  </a:lnTo>
                  <a:lnTo>
                    <a:pt x="203" y="1583"/>
                  </a:lnTo>
                  <a:lnTo>
                    <a:pt x="270" y="1583"/>
                  </a:lnTo>
                  <a:lnTo>
                    <a:pt x="304" y="1516"/>
                  </a:lnTo>
                  <a:lnTo>
                    <a:pt x="539" y="1516"/>
                  </a:lnTo>
                  <a:lnTo>
                    <a:pt x="809" y="1482"/>
                  </a:lnTo>
                  <a:lnTo>
                    <a:pt x="1314" y="1415"/>
                  </a:lnTo>
                  <a:lnTo>
                    <a:pt x="1819" y="1381"/>
                  </a:lnTo>
                  <a:lnTo>
                    <a:pt x="2290" y="1280"/>
                  </a:lnTo>
                  <a:lnTo>
                    <a:pt x="2358" y="1280"/>
                  </a:lnTo>
                  <a:lnTo>
                    <a:pt x="2425" y="1247"/>
                  </a:lnTo>
                  <a:lnTo>
                    <a:pt x="2425" y="1213"/>
                  </a:lnTo>
                  <a:lnTo>
                    <a:pt x="2459" y="1179"/>
                  </a:lnTo>
                  <a:lnTo>
                    <a:pt x="2425" y="1112"/>
                  </a:lnTo>
                  <a:lnTo>
                    <a:pt x="2358" y="573"/>
                  </a:lnTo>
                  <a:lnTo>
                    <a:pt x="2290" y="304"/>
                  </a:lnTo>
                  <a:lnTo>
                    <a:pt x="2223" y="68"/>
                  </a:lnTo>
                  <a:lnTo>
                    <a:pt x="2189" y="35"/>
                  </a:lnTo>
                  <a:lnTo>
                    <a:pt x="215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880" bIns="-11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hape 547"/>
            <p:cNvSpPr/>
            <p:nvPr/>
          </p:nvSpPr>
          <p:spPr>
            <a:xfrm>
              <a:off x="3298680" y="5413680"/>
              <a:ext cx="156960" cy="102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357" h="1550">
                  <a:moveTo>
                    <a:pt x="2054" y="135"/>
                  </a:moveTo>
                  <a:lnTo>
                    <a:pt x="2020" y="270"/>
                  </a:lnTo>
                  <a:lnTo>
                    <a:pt x="2054" y="371"/>
                  </a:lnTo>
                  <a:lnTo>
                    <a:pt x="2087" y="606"/>
                  </a:lnTo>
                  <a:lnTo>
                    <a:pt x="2121" y="842"/>
                  </a:lnTo>
                  <a:lnTo>
                    <a:pt x="2155" y="1078"/>
                  </a:lnTo>
                  <a:lnTo>
                    <a:pt x="1178" y="1212"/>
                  </a:lnTo>
                  <a:lnTo>
                    <a:pt x="707" y="1313"/>
                  </a:lnTo>
                  <a:lnTo>
                    <a:pt x="236" y="1448"/>
                  </a:lnTo>
                  <a:lnTo>
                    <a:pt x="236" y="1280"/>
                  </a:lnTo>
                  <a:lnTo>
                    <a:pt x="236" y="1145"/>
                  </a:lnTo>
                  <a:lnTo>
                    <a:pt x="202" y="808"/>
                  </a:lnTo>
                  <a:lnTo>
                    <a:pt x="168" y="606"/>
                  </a:lnTo>
                  <a:lnTo>
                    <a:pt x="135" y="371"/>
                  </a:lnTo>
                  <a:lnTo>
                    <a:pt x="438" y="371"/>
                  </a:lnTo>
                  <a:lnTo>
                    <a:pt x="741" y="303"/>
                  </a:lnTo>
                  <a:lnTo>
                    <a:pt x="1347" y="236"/>
                  </a:lnTo>
                  <a:lnTo>
                    <a:pt x="1650" y="169"/>
                  </a:lnTo>
                  <a:lnTo>
                    <a:pt x="1784" y="169"/>
                  </a:lnTo>
                  <a:lnTo>
                    <a:pt x="1953" y="135"/>
                  </a:lnTo>
                  <a:lnTo>
                    <a:pt x="1986" y="169"/>
                  </a:lnTo>
                  <a:lnTo>
                    <a:pt x="2054" y="135"/>
                  </a:lnTo>
                  <a:close/>
                  <a:moveTo>
                    <a:pt x="1784" y="0"/>
                  </a:moveTo>
                  <a:lnTo>
                    <a:pt x="1515" y="34"/>
                  </a:lnTo>
                  <a:lnTo>
                    <a:pt x="1044" y="101"/>
                  </a:lnTo>
                  <a:lnTo>
                    <a:pt x="539" y="169"/>
                  </a:lnTo>
                  <a:lnTo>
                    <a:pt x="303" y="202"/>
                  </a:lnTo>
                  <a:lnTo>
                    <a:pt x="67" y="303"/>
                  </a:lnTo>
                  <a:lnTo>
                    <a:pt x="0" y="337"/>
                  </a:lnTo>
                  <a:lnTo>
                    <a:pt x="34" y="371"/>
                  </a:lnTo>
                  <a:lnTo>
                    <a:pt x="0" y="472"/>
                  </a:lnTo>
                  <a:lnTo>
                    <a:pt x="34" y="606"/>
                  </a:lnTo>
                  <a:lnTo>
                    <a:pt x="34" y="842"/>
                  </a:lnTo>
                  <a:lnTo>
                    <a:pt x="67" y="1145"/>
                  </a:lnTo>
                  <a:lnTo>
                    <a:pt x="101" y="1313"/>
                  </a:lnTo>
                  <a:lnTo>
                    <a:pt x="135" y="1448"/>
                  </a:lnTo>
                  <a:lnTo>
                    <a:pt x="202" y="1482"/>
                  </a:lnTo>
                  <a:lnTo>
                    <a:pt x="202" y="1516"/>
                  </a:lnTo>
                  <a:lnTo>
                    <a:pt x="236" y="1549"/>
                  </a:lnTo>
                  <a:lnTo>
                    <a:pt x="741" y="1516"/>
                  </a:lnTo>
                  <a:lnTo>
                    <a:pt x="1246" y="1414"/>
                  </a:lnTo>
                  <a:lnTo>
                    <a:pt x="2222" y="1246"/>
                  </a:lnTo>
                  <a:lnTo>
                    <a:pt x="2256" y="1246"/>
                  </a:lnTo>
                  <a:lnTo>
                    <a:pt x="2289" y="1212"/>
                  </a:lnTo>
                  <a:lnTo>
                    <a:pt x="2357" y="1212"/>
                  </a:lnTo>
                  <a:lnTo>
                    <a:pt x="2357" y="1145"/>
                  </a:lnTo>
                  <a:lnTo>
                    <a:pt x="2357" y="1111"/>
                  </a:lnTo>
                  <a:lnTo>
                    <a:pt x="2289" y="1078"/>
                  </a:lnTo>
                  <a:lnTo>
                    <a:pt x="2256" y="808"/>
                  </a:lnTo>
                  <a:lnTo>
                    <a:pt x="2222" y="573"/>
                  </a:lnTo>
                  <a:lnTo>
                    <a:pt x="2188" y="303"/>
                  </a:lnTo>
                  <a:lnTo>
                    <a:pt x="2155" y="135"/>
                  </a:lnTo>
                  <a:lnTo>
                    <a:pt x="2087" y="34"/>
                  </a:lnTo>
                  <a:lnTo>
                    <a:pt x="2087" y="68"/>
                  </a:lnTo>
                  <a:lnTo>
                    <a:pt x="20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3680" bIns="-13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hape 548"/>
            <p:cNvSpPr/>
            <p:nvPr/>
          </p:nvSpPr>
          <p:spPr>
            <a:xfrm>
              <a:off x="3136680" y="5437440"/>
              <a:ext cx="155520" cy="102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358" h="1550">
                  <a:moveTo>
                    <a:pt x="2020" y="102"/>
                  </a:moveTo>
                  <a:lnTo>
                    <a:pt x="2054" y="304"/>
                  </a:lnTo>
                  <a:lnTo>
                    <a:pt x="2088" y="539"/>
                  </a:lnTo>
                  <a:lnTo>
                    <a:pt x="2121" y="842"/>
                  </a:lnTo>
                  <a:lnTo>
                    <a:pt x="2155" y="1011"/>
                  </a:lnTo>
                  <a:lnTo>
                    <a:pt x="2222" y="1146"/>
                  </a:lnTo>
                  <a:lnTo>
                    <a:pt x="1751" y="1146"/>
                  </a:lnTo>
                  <a:lnTo>
                    <a:pt x="1246" y="1213"/>
                  </a:lnTo>
                  <a:lnTo>
                    <a:pt x="270" y="1381"/>
                  </a:lnTo>
                  <a:lnTo>
                    <a:pt x="270" y="1112"/>
                  </a:lnTo>
                  <a:lnTo>
                    <a:pt x="202" y="876"/>
                  </a:lnTo>
                  <a:lnTo>
                    <a:pt x="169" y="640"/>
                  </a:lnTo>
                  <a:lnTo>
                    <a:pt x="169" y="539"/>
                  </a:lnTo>
                  <a:lnTo>
                    <a:pt x="135" y="438"/>
                  </a:lnTo>
                  <a:lnTo>
                    <a:pt x="169" y="438"/>
                  </a:lnTo>
                  <a:lnTo>
                    <a:pt x="236" y="405"/>
                  </a:lnTo>
                  <a:lnTo>
                    <a:pt x="371" y="371"/>
                  </a:lnTo>
                  <a:lnTo>
                    <a:pt x="505" y="337"/>
                  </a:lnTo>
                  <a:lnTo>
                    <a:pt x="808" y="304"/>
                  </a:lnTo>
                  <a:lnTo>
                    <a:pt x="1414" y="203"/>
                  </a:lnTo>
                  <a:lnTo>
                    <a:pt x="1717" y="169"/>
                  </a:lnTo>
                  <a:lnTo>
                    <a:pt x="1886" y="135"/>
                  </a:lnTo>
                  <a:lnTo>
                    <a:pt x="2020" y="102"/>
                  </a:lnTo>
                  <a:close/>
                  <a:moveTo>
                    <a:pt x="1549" y="1"/>
                  </a:moveTo>
                  <a:lnTo>
                    <a:pt x="1078" y="102"/>
                  </a:lnTo>
                  <a:lnTo>
                    <a:pt x="573" y="169"/>
                  </a:lnTo>
                  <a:lnTo>
                    <a:pt x="337" y="203"/>
                  </a:lnTo>
                  <a:lnTo>
                    <a:pt x="101" y="270"/>
                  </a:lnTo>
                  <a:lnTo>
                    <a:pt x="68" y="371"/>
                  </a:lnTo>
                  <a:lnTo>
                    <a:pt x="34" y="337"/>
                  </a:lnTo>
                  <a:lnTo>
                    <a:pt x="0" y="472"/>
                  </a:lnTo>
                  <a:lnTo>
                    <a:pt x="34" y="607"/>
                  </a:lnTo>
                  <a:lnTo>
                    <a:pt x="68" y="876"/>
                  </a:lnTo>
                  <a:lnTo>
                    <a:pt x="101" y="1146"/>
                  </a:lnTo>
                  <a:lnTo>
                    <a:pt x="135" y="1381"/>
                  </a:lnTo>
                  <a:lnTo>
                    <a:pt x="135" y="1449"/>
                  </a:lnTo>
                  <a:lnTo>
                    <a:pt x="169" y="1482"/>
                  </a:lnTo>
                  <a:lnTo>
                    <a:pt x="236" y="1516"/>
                  </a:lnTo>
                  <a:lnTo>
                    <a:pt x="303" y="1550"/>
                  </a:lnTo>
                  <a:lnTo>
                    <a:pt x="438" y="1550"/>
                  </a:lnTo>
                  <a:lnTo>
                    <a:pt x="472" y="1516"/>
                  </a:lnTo>
                  <a:lnTo>
                    <a:pt x="1381" y="1415"/>
                  </a:lnTo>
                  <a:lnTo>
                    <a:pt x="1886" y="1348"/>
                  </a:lnTo>
                  <a:lnTo>
                    <a:pt x="2357" y="1213"/>
                  </a:lnTo>
                  <a:lnTo>
                    <a:pt x="2290" y="1179"/>
                  </a:lnTo>
                  <a:lnTo>
                    <a:pt x="2323" y="1146"/>
                  </a:lnTo>
                  <a:lnTo>
                    <a:pt x="2323" y="977"/>
                  </a:lnTo>
                  <a:lnTo>
                    <a:pt x="2290" y="809"/>
                  </a:lnTo>
                  <a:lnTo>
                    <a:pt x="2222" y="506"/>
                  </a:lnTo>
                  <a:lnTo>
                    <a:pt x="2189" y="270"/>
                  </a:lnTo>
                  <a:lnTo>
                    <a:pt x="2155" y="169"/>
                  </a:lnTo>
                  <a:lnTo>
                    <a:pt x="2121" y="34"/>
                  </a:lnTo>
                  <a:lnTo>
                    <a:pt x="2155" y="34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3680" bIns="-13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hape 549"/>
            <p:cNvSpPr/>
            <p:nvPr/>
          </p:nvSpPr>
          <p:spPr>
            <a:xfrm>
              <a:off x="1807920" y="5639040"/>
              <a:ext cx="152280" cy="99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290" h="1516">
                  <a:moveTo>
                    <a:pt x="1920" y="169"/>
                  </a:moveTo>
                  <a:lnTo>
                    <a:pt x="1920" y="371"/>
                  </a:lnTo>
                  <a:lnTo>
                    <a:pt x="1953" y="573"/>
                  </a:lnTo>
                  <a:lnTo>
                    <a:pt x="2088" y="1045"/>
                  </a:lnTo>
                  <a:lnTo>
                    <a:pt x="1145" y="1247"/>
                  </a:lnTo>
                  <a:lnTo>
                    <a:pt x="741" y="1314"/>
                  </a:lnTo>
                  <a:lnTo>
                    <a:pt x="539" y="1348"/>
                  </a:lnTo>
                  <a:lnTo>
                    <a:pt x="337" y="1415"/>
                  </a:lnTo>
                  <a:lnTo>
                    <a:pt x="202" y="876"/>
                  </a:lnTo>
                  <a:lnTo>
                    <a:pt x="101" y="304"/>
                  </a:lnTo>
                  <a:lnTo>
                    <a:pt x="303" y="304"/>
                  </a:lnTo>
                  <a:lnTo>
                    <a:pt x="539" y="270"/>
                  </a:lnTo>
                  <a:lnTo>
                    <a:pt x="977" y="237"/>
                  </a:lnTo>
                  <a:lnTo>
                    <a:pt x="1920" y="169"/>
                  </a:lnTo>
                  <a:close/>
                  <a:moveTo>
                    <a:pt x="1010" y="1"/>
                  </a:moveTo>
                  <a:lnTo>
                    <a:pt x="505" y="68"/>
                  </a:lnTo>
                  <a:lnTo>
                    <a:pt x="270" y="136"/>
                  </a:lnTo>
                  <a:lnTo>
                    <a:pt x="68" y="203"/>
                  </a:lnTo>
                  <a:lnTo>
                    <a:pt x="34" y="237"/>
                  </a:lnTo>
                  <a:lnTo>
                    <a:pt x="0" y="270"/>
                  </a:lnTo>
                  <a:lnTo>
                    <a:pt x="34" y="573"/>
                  </a:lnTo>
                  <a:lnTo>
                    <a:pt x="68" y="876"/>
                  </a:lnTo>
                  <a:lnTo>
                    <a:pt x="135" y="1179"/>
                  </a:lnTo>
                  <a:lnTo>
                    <a:pt x="202" y="1449"/>
                  </a:lnTo>
                  <a:lnTo>
                    <a:pt x="236" y="1482"/>
                  </a:lnTo>
                  <a:lnTo>
                    <a:pt x="270" y="1516"/>
                  </a:lnTo>
                  <a:lnTo>
                    <a:pt x="337" y="1482"/>
                  </a:lnTo>
                  <a:lnTo>
                    <a:pt x="539" y="1482"/>
                  </a:lnTo>
                  <a:lnTo>
                    <a:pt x="775" y="1516"/>
                  </a:lnTo>
                  <a:lnTo>
                    <a:pt x="1212" y="1449"/>
                  </a:lnTo>
                  <a:lnTo>
                    <a:pt x="1684" y="1348"/>
                  </a:lnTo>
                  <a:lnTo>
                    <a:pt x="2122" y="1213"/>
                  </a:lnTo>
                  <a:lnTo>
                    <a:pt x="2122" y="1247"/>
                  </a:lnTo>
                  <a:lnTo>
                    <a:pt x="2155" y="1280"/>
                  </a:lnTo>
                  <a:lnTo>
                    <a:pt x="2223" y="1314"/>
                  </a:lnTo>
                  <a:lnTo>
                    <a:pt x="2290" y="1280"/>
                  </a:lnTo>
                  <a:lnTo>
                    <a:pt x="2290" y="1213"/>
                  </a:lnTo>
                  <a:lnTo>
                    <a:pt x="2155" y="674"/>
                  </a:lnTo>
                  <a:lnTo>
                    <a:pt x="2054" y="136"/>
                  </a:lnTo>
                  <a:lnTo>
                    <a:pt x="2054" y="102"/>
                  </a:lnTo>
                  <a:lnTo>
                    <a:pt x="2054" y="35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6920" bIns="-16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hape 550"/>
            <p:cNvSpPr/>
            <p:nvPr/>
          </p:nvSpPr>
          <p:spPr>
            <a:xfrm>
              <a:off x="1971720" y="5607360"/>
              <a:ext cx="163440" cy="107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58" h="1617">
                  <a:moveTo>
                    <a:pt x="1684" y="1"/>
                  </a:moveTo>
                  <a:lnTo>
                    <a:pt x="1145" y="68"/>
                  </a:lnTo>
                  <a:lnTo>
                    <a:pt x="573" y="169"/>
                  </a:lnTo>
                  <a:lnTo>
                    <a:pt x="68" y="371"/>
                  </a:lnTo>
                  <a:lnTo>
                    <a:pt x="0" y="371"/>
                  </a:lnTo>
                  <a:lnTo>
                    <a:pt x="0" y="405"/>
                  </a:lnTo>
                  <a:lnTo>
                    <a:pt x="34" y="741"/>
                  </a:lnTo>
                  <a:lnTo>
                    <a:pt x="101" y="1044"/>
                  </a:lnTo>
                  <a:lnTo>
                    <a:pt x="169" y="1314"/>
                  </a:lnTo>
                  <a:lnTo>
                    <a:pt x="236" y="1583"/>
                  </a:lnTo>
                  <a:lnTo>
                    <a:pt x="270" y="1617"/>
                  </a:lnTo>
                  <a:lnTo>
                    <a:pt x="371" y="1617"/>
                  </a:lnTo>
                  <a:lnTo>
                    <a:pt x="371" y="1549"/>
                  </a:lnTo>
                  <a:lnTo>
                    <a:pt x="303" y="1246"/>
                  </a:lnTo>
                  <a:lnTo>
                    <a:pt x="236" y="943"/>
                  </a:lnTo>
                  <a:lnTo>
                    <a:pt x="169" y="674"/>
                  </a:lnTo>
                  <a:lnTo>
                    <a:pt x="101" y="405"/>
                  </a:lnTo>
                  <a:lnTo>
                    <a:pt x="337" y="405"/>
                  </a:lnTo>
                  <a:lnTo>
                    <a:pt x="606" y="371"/>
                  </a:lnTo>
                  <a:lnTo>
                    <a:pt x="1111" y="270"/>
                  </a:lnTo>
                  <a:lnTo>
                    <a:pt x="1650" y="203"/>
                  </a:lnTo>
                  <a:lnTo>
                    <a:pt x="1886" y="169"/>
                  </a:lnTo>
                  <a:lnTo>
                    <a:pt x="2155" y="203"/>
                  </a:lnTo>
                  <a:lnTo>
                    <a:pt x="2155" y="371"/>
                  </a:lnTo>
                  <a:lnTo>
                    <a:pt x="2155" y="539"/>
                  </a:lnTo>
                  <a:lnTo>
                    <a:pt x="2222" y="910"/>
                  </a:lnTo>
                  <a:lnTo>
                    <a:pt x="2290" y="1280"/>
                  </a:lnTo>
                  <a:lnTo>
                    <a:pt x="1818" y="1347"/>
                  </a:lnTo>
                  <a:lnTo>
                    <a:pt x="1347" y="1415"/>
                  </a:lnTo>
                  <a:lnTo>
                    <a:pt x="842" y="1448"/>
                  </a:lnTo>
                  <a:lnTo>
                    <a:pt x="606" y="1482"/>
                  </a:lnTo>
                  <a:lnTo>
                    <a:pt x="371" y="1549"/>
                  </a:lnTo>
                  <a:lnTo>
                    <a:pt x="606" y="1583"/>
                  </a:lnTo>
                  <a:lnTo>
                    <a:pt x="808" y="1617"/>
                  </a:lnTo>
                  <a:lnTo>
                    <a:pt x="1246" y="1583"/>
                  </a:lnTo>
                  <a:lnTo>
                    <a:pt x="1818" y="1516"/>
                  </a:lnTo>
                  <a:lnTo>
                    <a:pt x="2088" y="1482"/>
                  </a:lnTo>
                  <a:lnTo>
                    <a:pt x="2357" y="1381"/>
                  </a:lnTo>
                  <a:lnTo>
                    <a:pt x="2424" y="1347"/>
                  </a:lnTo>
                  <a:lnTo>
                    <a:pt x="2458" y="1347"/>
                  </a:lnTo>
                  <a:lnTo>
                    <a:pt x="2458" y="1280"/>
                  </a:lnTo>
                  <a:lnTo>
                    <a:pt x="2323" y="607"/>
                  </a:lnTo>
                  <a:lnTo>
                    <a:pt x="2323" y="405"/>
                  </a:lnTo>
                  <a:lnTo>
                    <a:pt x="2290" y="169"/>
                  </a:lnTo>
                  <a:lnTo>
                    <a:pt x="2290" y="135"/>
                  </a:lnTo>
                  <a:lnTo>
                    <a:pt x="2290" y="68"/>
                  </a:lnTo>
                  <a:lnTo>
                    <a:pt x="2290" y="34"/>
                  </a:lnTo>
                  <a:lnTo>
                    <a:pt x="222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hape 551"/>
            <p:cNvSpPr/>
            <p:nvPr/>
          </p:nvSpPr>
          <p:spPr>
            <a:xfrm>
              <a:off x="1815840" y="573912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24" h="2224">
                  <a:moveTo>
                    <a:pt x="1919" y="169"/>
                  </a:moveTo>
                  <a:lnTo>
                    <a:pt x="1953" y="540"/>
                  </a:lnTo>
                  <a:lnTo>
                    <a:pt x="2020" y="910"/>
                  </a:lnTo>
                  <a:lnTo>
                    <a:pt x="2088" y="1381"/>
                  </a:lnTo>
                  <a:lnTo>
                    <a:pt x="2155" y="1819"/>
                  </a:lnTo>
                  <a:lnTo>
                    <a:pt x="1785" y="1819"/>
                  </a:lnTo>
                  <a:lnTo>
                    <a:pt x="1414" y="1886"/>
                  </a:lnTo>
                  <a:lnTo>
                    <a:pt x="1381" y="1886"/>
                  </a:lnTo>
                  <a:lnTo>
                    <a:pt x="1414" y="1853"/>
                  </a:lnTo>
                  <a:lnTo>
                    <a:pt x="1381" y="1684"/>
                  </a:lnTo>
                  <a:lnTo>
                    <a:pt x="1347" y="1516"/>
                  </a:lnTo>
                  <a:lnTo>
                    <a:pt x="1313" y="1179"/>
                  </a:lnTo>
                  <a:lnTo>
                    <a:pt x="1280" y="1146"/>
                  </a:lnTo>
                  <a:lnTo>
                    <a:pt x="1212" y="1112"/>
                  </a:lnTo>
                  <a:lnTo>
                    <a:pt x="1179" y="1146"/>
                  </a:lnTo>
                  <a:lnTo>
                    <a:pt x="1145" y="1213"/>
                  </a:lnTo>
                  <a:lnTo>
                    <a:pt x="1179" y="1550"/>
                  </a:lnTo>
                  <a:lnTo>
                    <a:pt x="1212" y="1718"/>
                  </a:lnTo>
                  <a:lnTo>
                    <a:pt x="1280" y="1886"/>
                  </a:lnTo>
                  <a:lnTo>
                    <a:pt x="1313" y="1886"/>
                  </a:lnTo>
                  <a:lnTo>
                    <a:pt x="875" y="1954"/>
                  </a:lnTo>
                  <a:lnTo>
                    <a:pt x="673" y="2021"/>
                  </a:lnTo>
                  <a:lnTo>
                    <a:pt x="471" y="2088"/>
                  </a:lnTo>
                  <a:lnTo>
                    <a:pt x="370" y="1617"/>
                  </a:lnTo>
                  <a:lnTo>
                    <a:pt x="269" y="1179"/>
                  </a:lnTo>
                  <a:lnTo>
                    <a:pt x="202" y="775"/>
                  </a:lnTo>
                  <a:lnTo>
                    <a:pt x="101" y="439"/>
                  </a:lnTo>
                  <a:lnTo>
                    <a:pt x="1010" y="304"/>
                  </a:lnTo>
                  <a:lnTo>
                    <a:pt x="1919" y="169"/>
                  </a:lnTo>
                  <a:close/>
                  <a:moveTo>
                    <a:pt x="1886" y="1"/>
                  </a:moveTo>
                  <a:lnTo>
                    <a:pt x="976" y="102"/>
                  </a:lnTo>
                  <a:lnTo>
                    <a:pt x="67" y="270"/>
                  </a:lnTo>
                  <a:lnTo>
                    <a:pt x="34" y="304"/>
                  </a:lnTo>
                  <a:lnTo>
                    <a:pt x="0" y="371"/>
                  </a:lnTo>
                  <a:lnTo>
                    <a:pt x="0" y="573"/>
                  </a:lnTo>
                  <a:lnTo>
                    <a:pt x="34" y="775"/>
                  </a:lnTo>
                  <a:lnTo>
                    <a:pt x="101" y="1179"/>
                  </a:lnTo>
                  <a:lnTo>
                    <a:pt x="202" y="1684"/>
                  </a:lnTo>
                  <a:lnTo>
                    <a:pt x="269" y="1954"/>
                  </a:lnTo>
                  <a:lnTo>
                    <a:pt x="370" y="2156"/>
                  </a:lnTo>
                  <a:lnTo>
                    <a:pt x="404" y="2223"/>
                  </a:lnTo>
                  <a:lnTo>
                    <a:pt x="471" y="2189"/>
                  </a:lnTo>
                  <a:lnTo>
                    <a:pt x="875" y="2189"/>
                  </a:lnTo>
                  <a:lnTo>
                    <a:pt x="1313" y="2122"/>
                  </a:lnTo>
                  <a:lnTo>
                    <a:pt x="1751" y="2055"/>
                  </a:lnTo>
                  <a:lnTo>
                    <a:pt x="1987" y="2021"/>
                  </a:lnTo>
                  <a:lnTo>
                    <a:pt x="2189" y="1954"/>
                  </a:lnTo>
                  <a:lnTo>
                    <a:pt x="2222" y="1987"/>
                  </a:lnTo>
                  <a:lnTo>
                    <a:pt x="2256" y="1987"/>
                  </a:lnTo>
                  <a:lnTo>
                    <a:pt x="2290" y="1954"/>
                  </a:lnTo>
                  <a:lnTo>
                    <a:pt x="2323" y="1920"/>
                  </a:lnTo>
                  <a:lnTo>
                    <a:pt x="2323" y="1718"/>
                  </a:lnTo>
                  <a:lnTo>
                    <a:pt x="2290" y="1482"/>
                  </a:lnTo>
                  <a:lnTo>
                    <a:pt x="2222" y="1045"/>
                  </a:lnTo>
                  <a:lnTo>
                    <a:pt x="2155" y="540"/>
                  </a:lnTo>
                  <a:lnTo>
                    <a:pt x="2088" y="270"/>
                  </a:lnTo>
                  <a:lnTo>
                    <a:pt x="1987" y="35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hape 552"/>
            <p:cNvSpPr/>
            <p:nvPr/>
          </p:nvSpPr>
          <p:spPr>
            <a:xfrm>
              <a:off x="2047680" y="578520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41" h="775">
                  <a:moveTo>
                    <a:pt x="136" y="0"/>
                  </a:moveTo>
                  <a:lnTo>
                    <a:pt x="68" y="68"/>
                  </a:lnTo>
                  <a:lnTo>
                    <a:pt x="35" y="169"/>
                  </a:lnTo>
                  <a:lnTo>
                    <a:pt x="35" y="236"/>
                  </a:lnTo>
                  <a:lnTo>
                    <a:pt x="102" y="236"/>
                  </a:lnTo>
                  <a:lnTo>
                    <a:pt x="237" y="135"/>
                  </a:lnTo>
                  <a:lnTo>
                    <a:pt x="169" y="404"/>
                  </a:lnTo>
                  <a:lnTo>
                    <a:pt x="35" y="640"/>
                  </a:lnTo>
                  <a:lnTo>
                    <a:pt x="1" y="707"/>
                  </a:lnTo>
                  <a:lnTo>
                    <a:pt x="1" y="741"/>
                  </a:lnTo>
                  <a:lnTo>
                    <a:pt x="35" y="775"/>
                  </a:lnTo>
                  <a:lnTo>
                    <a:pt x="102" y="775"/>
                  </a:lnTo>
                  <a:lnTo>
                    <a:pt x="371" y="707"/>
                  </a:lnTo>
                  <a:lnTo>
                    <a:pt x="506" y="674"/>
                  </a:lnTo>
                  <a:lnTo>
                    <a:pt x="641" y="606"/>
                  </a:lnTo>
                  <a:lnTo>
                    <a:pt x="641" y="539"/>
                  </a:lnTo>
                  <a:lnTo>
                    <a:pt x="641" y="505"/>
                  </a:lnTo>
                  <a:lnTo>
                    <a:pt x="472" y="505"/>
                  </a:lnTo>
                  <a:lnTo>
                    <a:pt x="338" y="539"/>
                  </a:lnTo>
                  <a:lnTo>
                    <a:pt x="270" y="573"/>
                  </a:lnTo>
                  <a:lnTo>
                    <a:pt x="371" y="337"/>
                  </a:lnTo>
                  <a:lnTo>
                    <a:pt x="439" y="68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hape 553"/>
            <p:cNvSpPr/>
            <p:nvPr/>
          </p:nvSpPr>
          <p:spPr>
            <a:xfrm>
              <a:off x="2136600" y="5585040"/>
              <a:ext cx="158400" cy="107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92" h="1617">
                  <a:moveTo>
                    <a:pt x="1920" y="1"/>
                  </a:moveTo>
                  <a:lnTo>
                    <a:pt x="1684" y="35"/>
                  </a:lnTo>
                  <a:lnTo>
                    <a:pt x="1213" y="102"/>
                  </a:lnTo>
                  <a:lnTo>
                    <a:pt x="674" y="169"/>
                  </a:lnTo>
                  <a:lnTo>
                    <a:pt x="135" y="304"/>
                  </a:lnTo>
                  <a:lnTo>
                    <a:pt x="102" y="270"/>
                  </a:lnTo>
                  <a:lnTo>
                    <a:pt x="34" y="270"/>
                  </a:lnTo>
                  <a:lnTo>
                    <a:pt x="1" y="304"/>
                  </a:lnTo>
                  <a:lnTo>
                    <a:pt x="68" y="944"/>
                  </a:lnTo>
                  <a:lnTo>
                    <a:pt x="135" y="1550"/>
                  </a:lnTo>
                  <a:lnTo>
                    <a:pt x="169" y="1617"/>
                  </a:lnTo>
                  <a:lnTo>
                    <a:pt x="236" y="1617"/>
                  </a:lnTo>
                  <a:lnTo>
                    <a:pt x="270" y="1583"/>
                  </a:lnTo>
                  <a:lnTo>
                    <a:pt x="304" y="1516"/>
                  </a:lnTo>
                  <a:lnTo>
                    <a:pt x="236" y="944"/>
                  </a:lnTo>
                  <a:lnTo>
                    <a:pt x="135" y="371"/>
                  </a:lnTo>
                  <a:lnTo>
                    <a:pt x="708" y="338"/>
                  </a:lnTo>
                  <a:lnTo>
                    <a:pt x="1246" y="237"/>
                  </a:lnTo>
                  <a:lnTo>
                    <a:pt x="1684" y="203"/>
                  </a:lnTo>
                  <a:lnTo>
                    <a:pt x="1920" y="169"/>
                  </a:lnTo>
                  <a:lnTo>
                    <a:pt x="2155" y="102"/>
                  </a:lnTo>
                  <a:lnTo>
                    <a:pt x="2155" y="338"/>
                  </a:lnTo>
                  <a:lnTo>
                    <a:pt x="2155" y="607"/>
                  </a:lnTo>
                  <a:lnTo>
                    <a:pt x="2223" y="1146"/>
                  </a:lnTo>
                  <a:lnTo>
                    <a:pt x="1751" y="1179"/>
                  </a:lnTo>
                  <a:lnTo>
                    <a:pt x="1314" y="1280"/>
                  </a:lnTo>
                  <a:lnTo>
                    <a:pt x="842" y="1348"/>
                  </a:lnTo>
                  <a:lnTo>
                    <a:pt x="640" y="1381"/>
                  </a:lnTo>
                  <a:lnTo>
                    <a:pt x="438" y="1482"/>
                  </a:lnTo>
                  <a:lnTo>
                    <a:pt x="640" y="1516"/>
                  </a:lnTo>
                  <a:lnTo>
                    <a:pt x="842" y="1482"/>
                  </a:lnTo>
                  <a:lnTo>
                    <a:pt x="1280" y="1415"/>
                  </a:lnTo>
                  <a:lnTo>
                    <a:pt x="1785" y="1348"/>
                  </a:lnTo>
                  <a:lnTo>
                    <a:pt x="2155" y="1280"/>
                  </a:lnTo>
                  <a:lnTo>
                    <a:pt x="2189" y="1348"/>
                  </a:lnTo>
                  <a:lnTo>
                    <a:pt x="2256" y="1348"/>
                  </a:lnTo>
                  <a:lnTo>
                    <a:pt x="2324" y="1314"/>
                  </a:lnTo>
                  <a:lnTo>
                    <a:pt x="2357" y="1280"/>
                  </a:lnTo>
                  <a:lnTo>
                    <a:pt x="2357" y="1213"/>
                  </a:lnTo>
                  <a:lnTo>
                    <a:pt x="2391" y="1179"/>
                  </a:lnTo>
                  <a:lnTo>
                    <a:pt x="2324" y="573"/>
                  </a:lnTo>
                  <a:lnTo>
                    <a:pt x="2290" y="270"/>
                  </a:lnTo>
                  <a:lnTo>
                    <a:pt x="2189" y="1"/>
                  </a:lnTo>
                  <a:lnTo>
                    <a:pt x="2155" y="1"/>
                  </a:lnTo>
                  <a:lnTo>
                    <a:pt x="2155" y="35"/>
                  </a:lnTo>
                  <a:lnTo>
                    <a:pt x="192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hape 554"/>
            <p:cNvSpPr/>
            <p:nvPr/>
          </p:nvSpPr>
          <p:spPr>
            <a:xfrm>
              <a:off x="1979640" y="5712120"/>
              <a:ext cx="155520" cy="152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4" h="2291">
                  <a:moveTo>
                    <a:pt x="1954" y="1"/>
                  </a:moveTo>
                  <a:lnTo>
                    <a:pt x="1954" y="35"/>
                  </a:lnTo>
                  <a:lnTo>
                    <a:pt x="1954" y="102"/>
                  </a:lnTo>
                  <a:lnTo>
                    <a:pt x="1449" y="136"/>
                  </a:lnTo>
                  <a:lnTo>
                    <a:pt x="944" y="169"/>
                  </a:lnTo>
                  <a:lnTo>
                    <a:pt x="506" y="203"/>
                  </a:lnTo>
                  <a:lnTo>
                    <a:pt x="270" y="237"/>
                  </a:lnTo>
                  <a:lnTo>
                    <a:pt x="169" y="304"/>
                  </a:lnTo>
                  <a:lnTo>
                    <a:pt x="102" y="338"/>
                  </a:lnTo>
                  <a:lnTo>
                    <a:pt x="102" y="371"/>
                  </a:lnTo>
                  <a:lnTo>
                    <a:pt x="270" y="405"/>
                  </a:lnTo>
                  <a:lnTo>
                    <a:pt x="439" y="405"/>
                  </a:lnTo>
                  <a:lnTo>
                    <a:pt x="843" y="371"/>
                  </a:lnTo>
                  <a:lnTo>
                    <a:pt x="1381" y="338"/>
                  </a:lnTo>
                  <a:lnTo>
                    <a:pt x="1954" y="270"/>
                  </a:lnTo>
                  <a:lnTo>
                    <a:pt x="1987" y="607"/>
                  </a:lnTo>
                  <a:lnTo>
                    <a:pt x="2021" y="944"/>
                  </a:lnTo>
                  <a:lnTo>
                    <a:pt x="2088" y="1381"/>
                  </a:lnTo>
                  <a:lnTo>
                    <a:pt x="2122" y="1583"/>
                  </a:lnTo>
                  <a:lnTo>
                    <a:pt x="2189" y="1819"/>
                  </a:lnTo>
                  <a:lnTo>
                    <a:pt x="2156" y="1819"/>
                  </a:lnTo>
                  <a:lnTo>
                    <a:pt x="1280" y="1920"/>
                  </a:lnTo>
                  <a:lnTo>
                    <a:pt x="809" y="1987"/>
                  </a:lnTo>
                  <a:lnTo>
                    <a:pt x="405" y="2122"/>
                  </a:lnTo>
                  <a:lnTo>
                    <a:pt x="304" y="1684"/>
                  </a:lnTo>
                  <a:lnTo>
                    <a:pt x="237" y="1247"/>
                  </a:lnTo>
                  <a:lnTo>
                    <a:pt x="203" y="809"/>
                  </a:lnTo>
                  <a:lnTo>
                    <a:pt x="169" y="573"/>
                  </a:lnTo>
                  <a:lnTo>
                    <a:pt x="68" y="371"/>
                  </a:lnTo>
                  <a:lnTo>
                    <a:pt x="35" y="506"/>
                  </a:lnTo>
                  <a:lnTo>
                    <a:pt x="1" y="641"/>
                  </a:lnTo>
                  <a:lnTo>
                    <a:pt x="1" y="977"/>
                  </a:lnTo>
                  <a:lnTo>
                    <a:pt x="102" y="1583"/>
                  </a:lnTo>
                  <a:lnTo>
                    <a:pt x="102" y="1785"/>
                  </a:lnTo>
                  <a:lnTo>
                    <a:pt x="136" y="1987"/>
                  </a:lnTo>
                  <a:lnTo>
                    <a:pt x="169" y="2088"/>
                  </a:lnTo>
                  <a:lnTo>
                    <a:pt x="203" y="2189"/>
                  </a:lnTo>
                  <a:lnTo>
                    <a:pt x="270" y="2257"/>
                  </a:lnTo>
                  <a:lnTo>
                    <a:pt x="371" y="2290"/>
                  </a:lnTo>
                  <a:lnTo>
                    <a:pt x="405" y="2290"/>
                  </a:lnTo>
                  <a:lnTo>
                    <a:pt x="439" y="2223"/>
                  </a:lnTo>
                  <a:lnTo>
                    <a:pt x="843" y="2223"/>
                  </a:lnTo>
                  <a:lnTo>
                    <a:pt x="1314" y="2156"/>
                  </a:lnTo>
                  <a:lnTo>
                    <a:pt x="2189" y="1987"/>
                  </a:lnTo>
                  <a:lnTo>
                    <a:pt x="2257" y="1954"/>
                  </a:lnTo>
                  <a:lnTo>
                    <a:pt x="2290" y="1987"/>
                  </a:lnTo>
                  <a:lnTo>
                    <a:pt x="2324" y="1954"/>
                  </a:lnTo>
                  <a:lnTo>
                    <a:pt x="2324" y="1718"/>
                  </a:lnTo>
                  <a:lnTo>
                    <a:pt x="2290" y="1516"/>
                  </a:lnTo>
                  <a:lnTo>
                    <a:pt x="2223" y="1045"/>
                  </a:lnTo>
                  <a:lnTo>
                    <a:pt x="2156" y="540"/>
                  </a:lnTo>
                  <a:lnTo>
                    <a:pt x="2122" y="270"/>
                  </a:lnTo>
                  <a:lnTo>
                    <a:pt x="2055" y="35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hape 555"/>
            <p:cNvSpPr/>
            <p:nvPr/>
          </p:nvSpPr>
          <p:spPr>
            <a:xfrm>
              <a:off x="2357280" y="5739120"/>
              <a:ext cx="45720" cy="489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75" h="742">
                  <a:moveTo>
                    <a:pt x="270" y="1"/>
                  </a:moveTo>
                  <a:lnTo>
                    <a:pt x="169" y="136"/>
                  </a:lnTo>
                  <a:lnTo>
                    <a:pt x="102" y="270"/>
                  </a:lnTo>
                  <a:lnTo>
                    <a:pt x="1" y="540"/>
                  </a:lnTo>
                  <a:lnTo>
                    <a:pt x="1" y="573"/>
                  </a:lnTo>
                  <a:lnTo>
                    <a:pt x="1" y="641"/>
                  </a:lnTo>
                  <a:lnTo>
                    <a:pt x="270" y="641"/>
                  </a:lnTo>
                  <a:lnTo>
                    <a:pt x="472" y="607"/>
                  </a:lnTo>
                  <a:lnTo>
                    <a:pt x="506" y="674"/>
                  </a:lnTo>
                  <a:lnTo>
                    <a:pt x="539" y="742"/>
                  </a:lnTo>
                  <a:lnTo>
                    <a:pt x="573" y="742"/>
                  </a:lnTo>
                  <a:lnTo>
                    <a:pt x="607" y="708"/>
                  </a:lnTo>
                  <a:lnTo>
                    <a:pt x="607" y="641"/>
                  </a:lnTo>
                  <a:lnTo>
                    <a:pt x="607" y="573"/>
                  </a:lnTo>
                  <a:lnTo>
                    <a:pt x="640" y="540"/>
                  </a:lnTo>
                  <a:lnTo>
                    <a:pt x="674" y="506"/>
                  </a:lnTo>
                  <a:lnTo>
                    <a:pt x="640" y="439"/>
                  </a:lnTo>
                  <a:lnTo>
                    <a:pt x="607" y="405"/>
                  </a:lnTo>
                  <a:lnTo>
                    <a:pt x="607" y="237"/>
                  </a:lnTo>
                  <a:lnTo>
                    <a:pt x="573" y="203"/>
                  </a:lnTo>
                  <a:lnTo>
                    <a:pt x="539" y="237"/>
                  </a:lnTo>
                  <a:lnTo>
                    <a:pt x="506" y="405"/>
                  </a:lnTo>
                  <a:lnTo>
                    <a:pt x="203" y="472"/>
                  </a:lnTo>
                  <a:lnTo>
                    <a:pt x="270" y="270"/>
                  </a:lnTo>
                  <a:lnTo>
                    <a:pt x="337" y="35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hape 556"/>
            <p:cNvSpPr/>
            <p:nvPr/>
          </p:nvSpPr>
          <p:spPr>
            <a:xfrm>
              <a:off x="2297160" y="566748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58" h="2223">
                  <a:moveTo>
                    <a:pt x="1886" y="169"/>
                  </a:moveTo>
                  <a:lnTo>
                    <a:pt x="1886" y="203"/>
                  </a:lnTo>
                  <a:lnTo>
                    <a:pt x="1987" y="203"/>
                  </a:lnTo>
                  <a:lnTo>
                    <a:pt x="1987" y="472"/>
                  </a:lnTo>
                  <a:lnTo>
                    <a:pt x="2021" y="775"/>
                  </a:lnTo>
                  <a:lnTo>
                    <a:pt x="2156" y="1785"/>
                  </a:lnTo>
                  <a:lnTo>
                    <a:pt x="1953" y="1785"/>
                  </a:lnTo>
                  <a:lnTo>
                    <a:pt x="1751" y="1819"/>
                  </a:lnTo>
                  <a:lnTo>
                    <a:pt x="1347" y="1886"/>
                  </a:lnTo>
                  <a:lnTo>
                    <a:pt x="842" y="1953"/>
                  </a:lnTo>
                  <a:lnTo>
                    <a:pt x="607" y="1987"/>
                  </a:lnTo>
                  <a:lnTo>
                    <a:pt x="506" y="2054"/>
                  </a:lnTo>
                  <a:lnTo>
                    <a:pt x="438" y="2122"/>
                  </a:lnTo>
                  <a:lnTo>
                    <a:pt x="405" y="1886"/>
                  </a:lnTo>
                  <a:lnTo>
                    <a:pt x="337" y="1617"/>
                  </a:lnTo>
                  <a:lnTo>
                    <a:pt x="236" y="1112"/>
                  </a:lnTo>
                  <a:lnTo>
                    <a:pt x="203" y="741"/>
                  </a:lnTo>
                  <a:lnTo>
                    <a:pt x="135" y="371"/>
                  </a:lnTo>
                  <a:lnTo>
                    <a:pt x="539" y="371"/>
                  </a:lnTo>
                  <a:lnTo>
                    <a:pt x="943" y="304"/>
                  </a:lnTo>
                  <a:lnTo>
                    <a:pt x="1886" y="169"/>
                  </a:lnTo>
                  <a:close/>
                  <a:moveTo>
                    <a:pt x="1852" y="1"/>
                  </a:moveTo>
                  <a:lnTo>
                    <a:pt x="1684" y="34"/>
                  </a:lnTo>
                  <a:lnTo>
                    <a:pt x="1347" y="102"/>
                  </a:lnTo>
                  <a:lnTo>
                    <a:pt x="708" y="169"/>
                  </a:lnTo>
                  <a:lnTo>
                    <a:pt x="405" y="236"/>
                  </a:lnTo>
                  <a:lnTo>
                    <a:pt x="135" y="304"/>
                  </a:lnTo>
                  <a:lnTo>
                    <a:pt x="102" y="236"/>
                  </a:lnTo>
                  <a:lnTo>
                    <a:pt x="102" y="203"/>
                  </a:lnTo>
                  <a:lnTo>
                    <a:pt x="68" y="203"/>
                  </a:lnTo>
                  <a:lnTo>
                    <a:pt x="1" y="236"/>
                  </a:lnTo>
                  <a:lnTo>
                    <a:pt x="1" y="472"/>
                  </a:lnTo>
                  <a:lnTo>
                    <a:pt x="1" y="708"/>
                  </a:lnTo>
                  <a:lnTo>
                    <a:pt x="68" y="1145"/>
                  </a:lnTo>
                  <a:lnTo>
                    <a:pt x="135" y="1684"/>
                  </a:lnTo>
                  <a:lnTo>
                    <a:pt x="203" y="1920"/>
                  </a:lnTo>
                  <a:lnTo>
                    <a:pt x="304" y="2189"/>
                  </a:lnTo>
                  <a:lnTo>
                    <a:pt x="337" y="2223"/>
                  </a:lnTo>
                  <a:lnTo>
                    <a:pt x="371" y="2223"/>
                  </a:lnTo>
                  <a:lnTo>
                    <a:pt x="438" y="2189"/>
                  </a:lnTo>
                  <a:lnTo>
                    <a:pt x="438" y="2155"/>
                  </a:lnTo>
                  <a:lnTo>
                    <a:pt x="539" y="2189"/>
                  </a:lnTo>
                  <a:lnTo>
                    <a:pt x="607" y="2223"/>
                  </a:lnTo>
                  <a:lnTo>
                    <a:pt x="842" y="2223"/>
                  </a:lnTo>
                  <a:lnTo>
                    <a:pt x="1246" y="2122"/>
                  </a:lnTo>
                  <a:lnTo>
                    <a:pt x="1718" y="2088"/>
                  </a:lnTo>
                  <a:lnTo>
                    <a:pt x="1987" y="2021"/>
                  </a:lnTo>
                  <a:lnTo>
                    <a:pt x="2189" y="1953"/>
                  </a:lnTo>
                  <a:lnTo>
                    <a:pt x="2257" y="1987"/>
                  </a:lnTo>
                  <a:lnTo>
                    <a:pt x="2290" y="1987"/>
                  </a:lnTo>
                  <a:lnTo>
                    <a:pt x="2358" y="1953"/>
                  </a:lnTo>
                  <a:lnTo>
                    <a:pt x="2358" y="1886"/>
                  </a:lnTo>
                  <a:lnTo>
                    <a:pt x="2223" y="876"/>
                  </a:lnTo>
                  <a:lnTo>
                    <a:pt x="2156" y="438"/>
                  </a:lnTo>
                  <a:lnTo>
                    <a:pt x="2122" y="236"/>
                  </a:lnTo>
                  <a:lnTo>
                    <a:pt x="2054" y="34"/>
                  </a:lnTo>
                  <a:lnTo>
                    <a:pt x="2021" y="34"/>
                  </a:lnTo>
                  <a:lnTo>
                    <a:pt x="2021" y="68"/>
                  </a:lnTo>
                  <a:lnTo>
                    <a:pt x="1987" y="68"/>
                  </a:lnTo>
                  <a:lnTo>
                    <a:pt x="1920" y="34"/>
                  </a:lnTo>
                  <a:lnTo>
                    <a:pt x="185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hape 557"/>
            <p:cNvSpPr/>
            <p:nvPr/>
          </p:nvSpPr>
          <p:spPr>
            <a:xfrm>
              <a:off x="2471760" y="5535720"/>
              <a:ext cx="158400" cy="104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392" h="1583">
                  <a:moveTo>
                    <a:pt x="2156" y="34"/>
                  </a:moveTo>
                  <a:lnTo>
                    <a:pt x="2156" y="303"/>
                  </a:lnTo>
                  <a:lnTo>
                    <a:pt x="2189" y="573"/>
                  </a:lnTo>
                  <a:lnTo>
                    <a:pt x="2257" y="1145"/>
                  </a:lnTo>
                  <a:lnTo>
                    <a:pt x="2021" y="1111"/>
                  </a:lnTo>
                  <a:lnTo>
                    <a:pt x="1819" y="1111"/>
                  </a:lnTo>
                  <a:lnTo>
                    <a:pt x="1381" y="1212"/>
                  </a:lnTo>
                  <a:lnTo>
                    <a:pt x="843" y="1313"/>
                  </a:lnTo>
                  <a:lnTo>
                    <a:pt x="540" y="1347"/>
                  </a:lnTo>
                  <a:lnTo>
                    <a:pt x="270" y="1381"/>
                  </a:lnTo>
                  <a:lnTo>
                    <a:pt x="203" y="876"/>
                  </a:lnTo>
                  <a:lnTo>
                    <a:pt x="102" y="404"/>
                  </a:lnTo>
                  <a:lnTo>
                    <a:pt x="1146" y="303"/>
                  </a:lnTo>
                  <a:lnTo>
                    <a:pt x="1651" y="202"/>
                  </a:lnTo>
                  <a:lnTo>
                    <a:pt x="2156" y="34"/>
                  </a:lnTo>
                  <a:close/>
                  <a:moveTo>
                    <a:pt x="2156" y="0"/>
                  </a:moveTo>
                  <a:lnTo>
                    <a:pt x="1651" y="34"/>
                  </a:lnTo>
                  <a:lnTo>
                    <a:pt x="1112" y="101"/>
                  </a:lnTo>
                  <a:lnTo>
                    <a:pt x="573" y="202"/>
                  </a:lnTo>
                  <a:lnTo>
                    <a:pt x="68" y="270"/>
                  </a:lnTo>
                  <a:lnTo>
                    <a:pt x="35" y="303"/>
                  </a:lnTo>
                  <a:lnTo>
                    <a:pt x="1" y="303"/>
                  </a:lnTo>
                  <a:lnTo>
                    <a:pt x="1" y="337"/>
                  </a:lnTo>
                  <a:lnTo>
                    <a:pt x="1" y="606"/>
                  </a:lnTo>
                  <a:lnTo>
                    <a:pt x="35" y="876"/>
                  </a:lnTo>
                  <a:lnTo>
                    <a:pt x="102" y="1414"/>
                  </a:lnTo>
                  <a:lnTo>
                    <a:pt x="102" y="1515"/>
                  </a:lnTo>
                  <a:lnTo>
                    <a:pt x="136" y="1515"/>
                  </a:lnTo>
                  <a:lnTo>
                    <a:pt x="169" y="1549"/>
                  </a:lnTo>
                  <a:lnTo>
                    <a:pt x="203" y="1583"/>
                  </a:lnTo>
                  <a:lnTo>
                    <a:pt x="270" y="1549"/>
                  </a:lnTo>
                  <a:lnTo>
                    <a:pt x="775" y="1482"/>
                  </a:lnTo>
                  <a:lnTo>
                    <a:pt x="1247" y="1414"/>
                  </a:lnTo>
                  <a:lnTo>
                    <a:pt x="1752" y="1313"/>
                  </a:lnTo>
                  <a:lnTo>
                    <a:pt x="2021" y="1280"/>
                  </a:lnTo>
                  <a:lnTo>
                    <a:pt x="2257" y="1179"/>
                  </a:lnTo>
                  <a:lnTo>
                    <a:pt x="2290" y="1246"/>
                  </a:lnTo>
                  <a:lnTo>
                    <a:pt x="2324" y="1246"/>
                  </a:lnTo>
                  <a:lnTo>
                    <a:pt x="2391" y="1212"/>
                  </a:lnTo>
                  <a:lnTo>
                    <a:pt x="2391" y="1179"/>
                  </a:lnTo>
                  <a:lnTo>
                    <a:pt x="2358" y="573"/>
                  </a:lnTo>
                  <a:lnTo>
                    <a:pt x="2290" y="303"/>
                  </a:lnTo>
                  <a:lnTo>
                    <a:pt x="2189" y="3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880" bIns="-11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hape 558"/>
            <p:cNvSpPr/>
            <p:nvPr/>
          </p:nvSpPr>
          <p:spPr>
            <a:xfrm>
              <a:off x="3981600" y="6166080"/>
              <a:ext cx="28440" cy="42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9" h="641">
                  <a:moveTo>
                    <a:pt x="68" y="1"/>
                  </a:moveTo>
                  <a:lnTo>
                    <a:pt x="34" y="68"/>
                  </a:lnTo>
                  <a:lnTo>
                    <a:pt x="34" y="135"/>
                  </a:lnTo>
                  <a:lnTo>
                    <a:pt x="68" y="169"/>
                  </a:lnTo>
                  <a:lnTo>
                    <a:pt x="135" y="236"/>
                  </a:lnTo>
                  <a:lnTo>
                    <a:pt x="203" y="270"/>
                  </a:lnTo>
                  <a:lnTo>
                    <a:pt x="169" y="304"/>
                  </a:lnTo>
                  <a:lnTo>
                    <a:pt x="34" y="506"/>
                  </a:lnTo>
                  <a:lnTo>
                    <a:pt x="1" y="573"/>
                  </a:lnTo>
                  <a:lnTo>
                    <a:pt x="68" y="640"/>
                  </a:lnTo>
                  <a:lnTo>
                    <a:pt x="135" y="640"/>
                  </a:lnTo>
                  <a:lnTo>
                    <a:pt x="203" y="607"/>
                  </a:lnTo>
                  <a:lnTo>
                    <a:pt x="337" y="405"/>
                  </a:lnTo>
                  <a:lnTo>
                    <a:pt x="405" y="304"/>
                  </a:lnTo>
                  <a:lnTo>
                    <a:pt x="438" y="270"/>
                  </a:lnTo>
                  <a:lnTo>
                    <a:pt x="438" y="236"/>
                  </a:lnTo>
                  <a:lnTo>
                    <a:pt x="438" y="203"/>
                  </a:lnTo>
                  <a:lnTo>
                    <a:pt x="405" y="169"/>
                  </a:lnTo>
                  <a:lnTo>
                    <a:pt x="304" y="102"/>
                  </a:lnTo>
                  <a:lnTo>
                    <a:pt x="236" y="68"/>
                  </a:lnTo>
                  <a:lnTo>
                    <a:pt x="169" y="34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hape 559"/>
            <p:cNvSpPr/>
            <p:nvPr/>
          </p:nvSpPr>
          <p:spPr>
            <a:xfrm>
              <a:off x="3921120" y="6164640"/>
              <a:ext cx="17280" cy="77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271" h="1180">
                  <a:moveTo>
                    <a:pt x="34" y="1"/>
                  </a:moveTo>
                  <a:lnTo>
                    <a:pt x="1" y="102"/>
                  </a:lnTo>
                  <a:lnTo>
                    <a:pt x="1" y="203"/>
                  </a:lnTo>
                  <a:lnTo>
                    <a:pt x="34" y="439"/>
                  </a:lnTo>
                  <a:lnTo>
                    <a:pt x="102" y="1112"/>
                  </a:lnTo>
                  <a:lnTo>
                    <a:pt x="135" y="1146"/>
                  </a:lnTo>
                  <a:lnTo>
                    <a:pt x="203" y="1179"/>
                  </a:lnTo>
                  <a:lnTo>
                    <a:pt x="236" y="1146"/>
                  </a:lnTo>
                  <a:lnTo>
                    <a:pt x="270" y="1078"/>
                  </a:lnTo>
                  <a:lnTo>
                    <a:pt x="169" y="405"/>
                  </a:lnTo>
                  <a:lnTo>
                    <a:pt x="135" y="203"/>
                  </a:lnTo>
                  <a:lnTo>
                    <a:pt x="102" y="68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240" bIns="-39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hape 560"/>
            <p:cNvSpPr/>
            <p:nvPr/>
          </p:nvSpPr>
          <p:spPr>
            <a:xfrm>
              <a:off x="3921120" y="6132600"/>
              <a:ext cx="153720" cy="1029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324" h="1550">
                  <a:moveTo>
                    <a:pt x="1886" y="1"/>
                  </a:moveTo>
                  <a:lnTo>
                    <a:pt x="1886" y="34"/>
                  </a:lnTo>
                  <a:lnTo>
                    <a:pt x="1920" y="68"/>
                  </a:lnTo>
                  <a:lnTo>
                    <a:pt x="1718" y="34"/>
                  </a:lnTo>
                  <a:lnTo>
                    <a:pt x="1516" y="68"/>
                  </a:lnTo>
                  <a:lnTo>
                    <a:pt x="1112" y="102"/>
                  </a:lnTo>
                  <a:lnTo>
                    <a:pt x="573" y="203"/>
                  </a:lnTo>
                  <a:lnTo>
                    <a:pt x="304" y="236"/>
                  </a:lnTo>
                  <a:lnTo>
                    <a:pt x="34" y="337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34" y="438"/>
                  </a:lnTo>
                  <a:lnTo>
                    <a:pt x="68" y="438"/>
                  </a:lnTo>
                  <a:lnTo>
                    <a:pt x="607" y="371"/>
                  </a:lnTo>
                  <a:lnTo>
                    <a:pt x="1112" y="304"/>
                  </a:lnTo>
                  <a:lnTo>
                    <a:pt x="1549" y="270"/>
                  </a:lnTo>
                  <a:lnTo>
                    <a:pt x="1751" y="236"/>
                  </a:lnTo>
                  <a:lnTo>
                    <a:pt x="1953" y="203"/>
                  </a:lnTo>
                  <a:lnTo>
                    <a:pt x="2054" y="438"/>
                  </a:lnTo>
                  <a:lnTo>
                    <a:pt x="2088" y="674"/>
                  </a:lnTo>
                  <a:lnTo>
                    <a:pt x="2122" y="1179"/>
                  </a:lnTo>
                  <a:lnTo>
                    <a:pt x="1179" y="1314"/>
                  </a:lnTo>
                  <a:lnTo>
                    <a:pt x="741" y="1347"/>
                  </a:lnTo>
                  <a:lnTo>
                    <a:pt x="506" y="1415"/>
                  </a:lnTo>
                  <a:lnTo>
                    <a:pt x="304" y="1482"/>
                  </a:lnTo>
                  <a:lnTo>
                    <a:pt x="270" y="1516"/>
                  </a:lnTo>
                  <a:lnTo>
                    <a:pt x="304" y="1549"/>
                  </a:lnTo>
                  <a:lnTo>
                    <a:pt x="741" y="1549"/>
                  </a:lnTo>
                  <a:lnTo>
                    <a:pt x="1213" y="1482"/>
                  </a:lnTo>
                  <a:lnTo>
                    <a:pt x="2223" y="1347"/>
                  </a:lnTo>
                  <a:lnTo>
                    <a:pt x="2290" y="1314"/>
                  </a:lnTo>
                  <a:lnTo>
                    <a:pt x="2324" y="1246"/>
                  </a:lnTo>
                  <a:lnTo>
                    <a:pt x="2257" y="977"/>
                  </a:lnTo>
                  <a:lnTo>
                    <a:pt x="2189" y="708"/>
                  </a:lnTo>
                  <a:lnTo>
                    <a:pt x="2021" y="203"/>
                  </a:lnTo>
                  <a:lnTo>
                    <a:pt x="2054" y="169"/>
                  </a:lnTo>
                  <a:lnTo>
                    <a:pt x="2088" y="169"/>
                  </a:lnTo>
                  <a:lnTo>
                    <a:pt x="2088" y="135"/>
                  </a:lnTo>
                  <a:lnTo>
                    <a:pt x="2054" y="102"/>
                  </a:lnTo>
                  <a:lnTo>
                    <a:pt x="2021" y="68"/>
                  </a:lnTo>
                  <a:lnTo>
                    <a:pt x="1987" y="68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3680" bIns="-13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hape 561"/>
            <p:cNvSpPr/>
            <p:nvPr/>
          </p:nvSpPr>
          <p:spPr>
            <a:xfrm>
              <a:off x="3805200" y="611388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41" h="472">
                  <a:moveTo>
                    <a:pt x="303" y="1"/>
                  </a:moveTo>
                  <a:lnTo>
                    <a:pt x="202" y="102"/>
                  </a:lnTo>
                  <a:lnTo>
                    <a:pt x="135" y="203"/>
                  </a:lnTo>
                  <a:lnTo>
                    <a:pt x="34" y="304"/>
                  </a:lnTo>
                  <a:lnTo>
                    <a:pt x="0" y="337"/>
                  </a:lnTo>
                  <a:lnTo>
                    <a:pt x="0" y="405"/>
                  </a:lnTo>
                  <a:lnTo>
                    <a:pt x="0" y="472"/>
                  </a:lnTo>
                  <a:lnTo>
                    <a:pt x="67" y="472"/>
                  </a:lnTo>
                  <a:lnTo>
                    <a:pt x="168" y="438"/>
                  </a:lnTo>
                  <a:lnTo>
                    <a:pt x="236" y="337"/>
                  </a:lnTo>
                  <a:lnTo>
                    <a:pt x="370" y="203"/>
                  </a:lnTo>
                  <a:lnTo>
                    <a:pt x="505" y="337"/>
                  </a:lnTo>
                  <a:lnTo>
                    <a:pt x="640" y="438"/>
                  </a:lnTo>
                  <a:lnTo>
                    <a:pt x="707" y="438"/>
                  </a:lnTo>
                  <a:lnTo>
                    <a:pt x="741" y="405"/>
                  </a:lnTo>
                  <a:lnTo>
                    <a:pt x="741" y="337"/>
                  </a:lnTo>
                  <a:lnTo>
                    <a:pt x="572" y="236"/>
                  </a:lnTo>
                  <a:lnTo>
                    <a:pt x="404" y="102"/>
                  </a:lnTo>
                  <a:lnTo>
                    <a:pt x="404" y="68"/>
                  </a:lnTo>
                  <a:lnTo>
                    <a:pt x="404" y="34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6760" bIns="-86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hape 562"/>
            <p:cNvSpPr/>
            <p:nvPr/>
          </p:nvSpPr>
          <p:spPr>
            <a:xfrm>
              <a:off x="3624120" y="5359680"/>
              <a:ext cx="164880" cy="109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493" h="1651">
                  <a:moveTo>
                    <a:pt x="1718" y="0"/>
                  </a:moveTo>
                  <a:lnTo>
                    <a:pt x="1146" y="68"/>
                  </a:lnTo>
                  <a:lnTo>
                    <a:pt x="607" y="202"/>
                  </a:lnTo>
                  <a:lnTo>
                    <a:pt x="102" y="371"/>
                  </a:lnTo>
                  <a:lnTo>
                    <a:pt x="102" y="404"/>
                  </a:lnTo>
                  <a:lnTo>
                    <a:pt x="35" y="371"/>
                  </a:lnTo>
                  <a:lnTo>
                    <a:pt x="1" y="438"/>
                  </a:lnTo>
                  <a:lnTo>
                    <a:pt x="68" y="741"/>
                  </a:lnTo>
                  <a:lnTo>
                    <a:pt x="136" y="1044"/>
                  </a:lnTo>
                  <a:lnTo>
                    <a:pt x="169" y="1347"/>
                  </a:lnTo>
                  <a:lnTo>
                    <a:pt x="270" y="1616"/>
                  </a:lnTo>
                  <a:lnTo>
                    <a:pt x="304" y="1650"/>
                  </a:lnTo>
                  <a:lnTo>
                    <a:pt x="338" y="1650"/>
                  </a:lnTo>
                  <a:lnTo>
                    <a:pt x="371" y="1616"/>
                  </a:lnTo>
                  <a:lnTo>
                    <a:pt x="405" y="1583"/>
                  </a:lnTo>
                  <a:lnTo>
                    <a:pt x="338" y="1246"/>
                  </a:lnTo>
                  <a:lnTo>
                    <a:pt x="237" y="943"/>
                  </a:lnTo>
                  <a:lnTo>
                    <a:pt x="203" y="674"/>
                  </a:lnTo>
                  <a:lnTo>
                    <a:pt x="102" y="438"/>
                  </a:lnTo>
                  <a:lnTo>
                    <a:pt x="371" y="404"/>
                  </a:lnTo>
                  <a:lnTo>
                    <a:pt x="641" y="371"/>
                  </a:lnTo>
                  <a:lnTo>
                    <a:pt x="1146" y="303"/>
                  </a:lnTo>
                  <a:lnTo>
                    <a:pt x="1651" y="202"/>
                  </a:lnTo>
                  <a:lnTo>
                    <a:pt x="2189" y="202"/>
                  </a:lnTo>
                  <a:lnTo>
                    <a:pt x="2189" y="371"/>
                  </a:lnTo>
                  <a:lnTo>
                    <a:pt x="2189" y="539"/>
                  </a:lnTo>
                  <a:lnTo>
                    <a:pt x="2223" y="909"/>
                  </a:lnTo>
                  <a:lnTo>
                    <a:pt x="2324" y="1280"/>
                  </a:lnTo>
                  <a:lnTo>
                    <a:pt x="1853" y="1347"/>
                  </a:lnTo>
                  <a:lnTo>
                    <a:pt x="1381" y="1414"/>
                  </a:lnTo>
                  <a:lnTo>
                    <a:pt x="876" y="1448"/>
                  </a:lnTo>
                  <a:lnTo>
                    <a:pt x="641" y="1482"/>
                  </a:lnTo>
                  <a:lnTo>
                    <a:pt x="405" y="1549"/>
                  </a:lnTo>
                  <a:lnTo>
                    <a:pt x="607" y="1616"/>
                  </a:lnTo>
                  <a:lnTo>
                    <a:pt x="843" y="1616"/>
                  </a:lnTo>
                  <a:lnTo>
                    <a:pt x="1247" y="1583"/>
                  </a:lnTo>
                  <a:lnTo>
                    <a:pt x="1819" y="1549"/>
                  </a:lnTo>
                  <a:lnTo>
                    <a:pt x="2122" y="1482"/>
                  </a:lnTo>
                  <a:lnTo>
                    <a:pt x="2391" y="1381"/>
                  </a:lnTo>
                  <a:lnTo>
                    <a:pt x="2459" y="1381"/>
                  </a:lnTo>
                  <a:lnTo>
                    <a:pt x="2492" y="1347"/>
                  </a:lnTo>
                  <a:lnTo>
                    <a:pt x="2492" y="1313"/>
                  </a:lnTo>
                  <a:lnTo>
                    <a:pt x="2358" y="640"/>
                  </a:lnTo>
                  <a:lnTo>
                    <a:pt x="2324" y="404"/>
                  </a:lnTo>
                  <a:lnTo>
                    <a:pt x="2290" y="169"/>
                  </a:lnTo>
                  <a:lnTo>
                    <a:pt x="2324" y="135"/>
                  </a:lnTo>
                  <a:lnTo>
                    <a:pt x="2324" y="101"/>
                  </a:lnTo>
                  <a:lnTo>
                    <a:pt x="2290" y="34"/>
                  </a:lnTo>
                  <a:lnTo>
                    <a:pt x="2257" y="34"/>
                  </a:lnTo>
                  <a:lnTo>
                    <a:pt x="171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00" bIns="-7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hape 563"/>
            <p:cNvSpPr/>
            <p:nvPr/>
          </p:nvSpPr>
          <p:spPr>
            <a:xfrm>
              <a:off x="3753000" y="6081840"/>
              <a:ext cx="155520" cy="1807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324" h="2728">
                  <a:moveTo>
                    <a:pt x="1819" y="0"/>
                  </a:moveTo>
                  <a:lnTo>
                    <a:pt x="1347" y="68"/>
                  </a:lnTo>
                  <a:lnTo>
                    <a:pt x="876" y="169"/>
                  </a:lnTo>
                  <a:lnTo>
                    <a:pt x="472" y="270"/>
                  </a:lnTo>
                  <a:lnTo>
                    <a:pt x="102" y="371"/>
                  </a:lnTo>
                  <a:lnTo>
                    <a:pt x="68" y="337"/>
                  </a:lnTo>
                  <a:lnTo>
                    <a:pt x="68" y="303"/>
                  </a:lnTo>
                  <a:lnTo>
                    <a:pt x="34" y="337"/>
                  </a:lnTo>
                  <a:lnTo>
                    <a:pt x="1" y="606"/>
                  </a:lnTo>
                  <a:lnTo>
                    <a:pt x="34" y="876"/>
                  </a:lnTo>
                  <a:lnTo>
                    <a:pt x="102" y="1414"/>
                  </a:lnTo>
                  <a:lnTo>
                    <a:pt x="203" y="2054"/>
                  </a:lnTo>
                  <a:lnTo>
                    <a:pt x="270" y="2357"/>
                  </a:lnTo>
                  <a:lnTo>
                    <a:pt x="337" y="2694"/>
                  </a:lnTo>
                  <a:lnTo>
                    <a:pt x="371" y="2727"/>
                  </a:lnTo>
                  <a:lnTo>
                    <a:pt x="438" y="2727"/>
                  </a:lnTo>
                  <a:lnTo>
                    <a:pt x="472" y="2694"/>
                  </a:lnTo>
                  <a:lnTo>
                    <a:pt x="506" y="2626"/>
                  </a:lnTo>
                  <a:lnTo>
                    <a:pt x="472" y="2357"/>
                  </a:lnTo>
                  <a:lnTo>
                    <a:pt x="438" y="2054"/>
                  </a:lnTo>
                  <a:lnTo>
                    <a:pt x="337" y="1482"/>
                  </a:lnTo>
                  <a:lnTo>
                    <a:pt x="506" y="1515"/>
                  </a:lnTo>
                  <a:lnTo>
                    <a:pt x="708" y="1482"/>
                  </a:lnTo>
                  <a:lnTo>
                    <a:pt x="1112" y="1448"/>
                  </a:lnTo>
                  <a:lnTo>
                    <a:pt x="1549" y="1414"/>
                  </a:lnTo>
                  <a:lnTo>
                    <a:pt x="1785" y="1381"/>
                  </a:lnTo>
                  <a:lnTo>
                    <a:pt x="2021" y="1347"/>
                  </a:lnTo>
                  <a:lnTo>
                    <a:pt x="2054" y="1785"/>
                  </a:lnTo>
                  <a:lnTo>
                    <a:pt x="2088" y="1987"/>
                  </a:lnTo>
                  <a:lnTo>
                    <a:pt x="2155" y="2189"/>
                  </a:lnTo>
                  <a:lnTo>
                    <a:pt x="1751" y="2256"/>
                  </a:lnTo>
                  <a:lnTo>
                    <a:pt x="1381" y="2323"/>
                  </a:lnTo>
                  <a:lnTo>
                    <a:pt x="943" y="2424"/>
                  </a:lnTo>
                  <a:lnTo>
                    <a:pt x="708" y="2492"/>
                  </a:lnTo>
                  <a:lnTo>
                    <a:pt x="506" y="2559"/>
                  </a:lnTo>
                  <a:lnTo>
                    <a:pt x="506" y="2593"/>
                  </a:lnTo>
                  <a:lnTo>
                    <a:pt x="506" y="2626"/>
                  </a:lnTo>
                  <a:lnTo>
                    <a:pt x="741" y="2593"/>
                  </a:lnTo>
                  <a:lnTo>
                    <a:pt x="943" y="2593"/>
                  </a:lnTo>
                  <a:lnTo>
                    <a:pt x="1381" y="2492"/>
                  </a:lnTo>
                  <a:lnTo>
                    <a:pt x="1785" y="2424"/>
                  </a:lnTo>
                  <a:lnTo>
                    <a:pt x="2189" y="2323"/>
                  </a:lnTo>
                  <a:lnTo>
                    <a:pt x="2223" y="2391"/>
                  </a:lnTo>
                  <a:lnTo>
                    <a:pt x="2290" y="2391"/>
                  </a:lnTo>
                  <a:lnTo>
                    <a:pt x="2290" y="2290"/>
                  </a:lnTo>
                  <a:lnTo>
                    <a:pt x="2324" y="2256"/>
                  </a:lnTo>
                  <a:lnTo>
                    <a:pt x="2290" y="2222"/>
                  </a:lnTo>
                  <a:lnTo>
                    <a:pt x="2290" y="1987"/>
                  </a:lnTo>
                  <a:lnTo>
                    <a:pt x="2256" y="1751"/>
                  </a:lnTo>
                  <a:lnTo>
                    <a:pt x="2189" y="1313"/>
                  </a:lnTo>
                  <a:lnTo>
                    <a:pt x="2122" y="707"/>
                  </a:lnTo>
                  <a:lnTo>
                    <a:pt x="2054" y="371"/>
                  </a:lnTo>
                  <a:lnTo>
                    <a:pt x="1953" y="101"/>
                  </a:lnTo>
                  <a:lnTo>
                    <a:pt x="1920" y="101"/>
                  </a:lnTo>
                  <a:lnTo>
                    <a:pt x="1920" y="371"/>
                  </a:lnTo>
                  <a:lnTo>
                    <a:pt x="1920" y="640"/>
                  </a:lnTo>
                  <a:lnTo>
                    <a:pt x="1987" y="1145"/>
                  </a:lnTo>
                  <a:lnTo>
                    <a:pt x="1987" y="1212"/>
                  </a:lnTo>
                  <a:lnTo>
                    <a:pt x="1785" y="1179"/>
                  </a:lnTo>
                  <a:lnTo>
                    <a:pt x="1516" y="1212"/>
                  </a:lnTo>
                  <a:lnTo>
                    <a:pt x="1078" y="1246"/>
                  </a:lnTo>
                  <a:lnTo>
                    <a:pt x="708" y="1280"/>
                  </a:lnTo>
                  <a:lnTo>
                    <a:pt x="506" y="1313"/>
                  </a:lnTo>
                  <a:lnTo>
                    <a:pt x="304" y="1414"/>
                  </a:lnTo>
                  <a:lnTo>
                    <a:pt x="304" y="1381"/>
                  </a:lnTo>
                  <a:lnTo>
                    <a:pt x="236" y="943"/>
                  </a:lnTo>
                  <a:lnTo>
                    <a:pt x="203" y="707"/>
                  </a:lnTo>
                  <a:lnTo>
                    <a:pt x="135" y="505"/>
                  </a:lnTo>
                  <a:lnTo>
                    <a:pt x="573" y="438"/>
                  </a:lnTo>
                  <a:lnTo>
                    <a:pt x="1011" y="337"/>
                  </a:lnTo>
                  <a:lnTo>
                    <a:pt x="1448" y="236"/>
                  </a:lnTo>
                  <a:lnTo>
                    <a:pt x="1852" y="135"/>
                  </a:lnTo>
                  <a:lnTo>
                    <a:pt x="1886" y="101"/>
                  </a:lnTo>
                  <a:lnTo>
                    <a:pt x="1886" y="34"/>
                  </a:lnTo>
                  <a:lnTo>
                    <a:pt x="1852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4080" bIns="64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hape 564"/>
            <p:cNvSpPr/>
            <p:nvPr/>
          </p:nvSpPr>
          <p:spPr>
            <a:xfrm>
              <a:off x="3817800" y="6191640"/>
              <a:ext cx="47520" cy="31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8" h="473">
                  <a:moveTo>
                    <a:pt x="572" y="1"/>
                  </a:moveTo>
                  <a:lnTo>
                    <a:pt x="337" y="304"/>
                  </a:lnTo>
                  <a:lnTo>
                    <a:pt x="236" y="203"/>
                  </a:lnTo>
                  <a:lnTo>
                    <a:pt x="101" y="102"/>
                  </a:lnTo>
                  <a:lnTo>
                    <a:pt x="67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203"/>
                  </a:lnTo>
                  <a:lnTo>
                    <a:pt x="135" y="338"/>
                  </a:lnTo>
                  <a:lnTo>
                    <a:pt x="236" y="439"/>
                  </a:lnTo>
                  <a:lnTo>
                    <a:pt x="303" y="472"/>
                  </a:lnTo>
                  <a:lnTo>
                    <a:pt x="370" y="439"/>
                  </a:lnTo>
                  <a:lnTo>
                    <a:pt x="404" y="439"/>
                  </a:lnTo>
                  <a:lnTo>
                    <a:pt x="438" y="405"/>
                  </a:lnTo>
                  <a:lnTo>
                    <a:pt x="572" y="270"/>
                  </a:lnTo>
                  <a:lnTo>
                    <a:pt x="707" y="136"/>
                  </a:lnTo>
                  <a:lnTo>
                    <a:pt x="707" y="68"/>
                  </a:lnTo>
                  <a:lnTo>
                    <a:pt x="70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4960" bIns="-84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hape 565"/>
            <p:cNvSpPr/>
            <p:nvPr/>
          </p:nvSpPr>
          <p:spPr>
            <a:xfrm>
              <a:off x="3605040" y="6174000"/>
              <a:ext cx="155520" cy="106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324" h="1617">
                  <a:moveTo>
                    <a:pt x="1920" y="270"/>
                  </a:moveTo>
                  <a:lnTo>
                    <a:pt x="2021" y="775"/>
                  </a:lnTo>
                  <a:lnTo>
                    <a:pt x="2122" y="1179"/>
                  </a:lnTo>
                  <a:lnTo>
                    <a:pt x="1920" y="1179"/>
                  </a:lnTo>
                  <a:lnTo>
                    <a:pt x="1718" y="1213"/>
                  </a:lnTo>
                  <a:lnTo>
                    <a:pt x="1280" y="1280"/>
                  </a:lnTo>
                  <a:lnTo>
                    <a:pt x="809" y="1347"/>
                  </a:lnTo>
                  <a:lnTo>
                    <a:pt x="539" y="1381"/>
                  </a:lnTo>
                  <a:lnTo>
                    <a:pt x="304" y="1482"/>
                  </a:lnTo>
                  <a:lnTo>
                    <a:pt x="236" y="943"/>
                  </a:lnTo>
                  <a:lnTo>
                    <a:pt x="203" y="708"/>
                  </a:lnTo>
                  <a:lnTo>
                    <a:pt x="169" y="573"/>
                  </a:lnTo>
                  <a:lnTo>
                    <a:pt x="135" y="472"/>
                  </a:lnTo>
                  <a:lnTo>
                    <a:pt x="337" y="506"/>
                  </a:lnTo>
                  <a:lnTo>
                    <a:pt x="573" y="506"/>
                  </a:lnTo>
                  <a:lnTo>
                    <a:pt x="1011" y="438"/>
                  </a:lnTo>
                  <a:lnTo>
                    <a:pt x="1448" y="405"/>
                  </a:lnTo>
                  <a:lnTo>
                    <a:pt x="1684" y="337"/>
                  </a:lnTo>
                  <a:lnTo>
                    <a:pt x="1920" y="270"/>
                  </a:lnTo>
                  <a:close/>
                  <a:moveTo>
                    <a:pt x="1920" y="1"/>
                  </a:moveTo>
                  <a:lnTo>
                    <a:pt x="1886" y="34"/>
                  </a:lnTo>
                  <a:lnTo>
                    <a:pt x="1886" y="68"/>
                  </a:lnTo>
                  <a:lnTo>
                    <a:pt x="1886" y="135"/>
                  </a:lnTo>
                  <a:lnTo>
                    <a:pt x="1516" y="203"/>
                  </a:lnTo>
                  <a:lnTo>
                    <a:pt x="1112" y="270"/>
                  </a:lnTo>
                  <a:lnTo>
                    <a:pt x="607" y="304"/>
                  </a:lnTo>
                  <a:lnTo>
                    <a:pt x="371" y="337"/>
                  </a:lnTo>
                  <a:lnTo>
                    <a:pt x="102" y="405"/>
                  </a:lnTo>
                  <a:lnTo>
                    <a:pt x="68" y="405"/>
                  </a:lnTo>
                  <a:lnTo>
                    <a:pt x="34" y="438"/>
                  </a:lnTo>
                  <a:lnTo>
                    <a:pt x="1" y="539"/>
                  </a:lnTo>
                  <a:lnTo>
                    <a:pt x="1" y="640"/>
                  </a:lnTo>
                  <a:lnTo>
                    <a:pt x="34" y="876"/>
                  </a:lnTo>
                  <a:lnTo>
                    <a:pt x="135" y="1549"/>
                  </a:lnTo>
                  <a:lnTo>
                    <a:pt x="169" y="1617"/>
                  </a:lnTo>
                  <a:lnTo>
                    <a:pt x="304" y="1617"/>
                  </a:lnTo>
                  <a:lnTo>
                    <a:pt x="337" y="1549"/>
                  </a:lnTo>
                  <a:lnTo>
                    <a:pt x="741" y="1549"/>
                  </a:lnTo>
                  <a:lnTo>
                    <a:pt x="1179" y="1482"/>
                  </a:lnTo>
                  <a:lnTo>
                    <a:pt x="1684" y="1415"/>
                  </a:lnTo>
                  <a:lnTo>
                    <a:pt x="1920" y="1347"/>
                  </a:lnTo>
                  <a:lnTo>
                    <a:pt x="2155" y="1280"/>
                  </a:lnTo>
                  <a:lnTo>
                    <a:pt x="2256" y="1415"/>
                  </a:lnTo>
                  <a:lnTo>
                    <a:pt x="2290" y="1448"/>
                  </a:lnTo>
                  <a:lnTo>
                    <a:pt x="2324" y="1415"/>
                  </a:lnTo>
                  <a:lnTo>
                    <a:pt x="2324" y="1246"/>
                  </a:lnTo>
                  <a:lnTo>
                    <a:pt x="2290" y="1078"/>
                  </a:lnTo>
                  <a:lnTo>
                    <a:pt x="2189" y="775"/>
                  </a:lnTo>
                  <a:lnTo>
                    <a:pt x="2054" y="236"/>
                  </a:lnTo>
                  <a:lnTo>
                    <a:pt x="2054" y="203"/>
                  </a:lnTo>
                  <a:lnTo>
                    <a:pt x="2054" y="169"/>
                  </a:lnTo>
                  <a:lnTo>
                    <a:pt x="2021" y="135"/>
                  </a:lnTo>
                  <a:lnTo>
                    <a:pt x="1987" y="135"/>
                  </a:lnTo>
                  <a:lnTo>
                    <a:pt x="1953" y="34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440" bIns="-10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hape 566"/>
            <p:cNvSpPr/>
            <p:nvPr/>
          </p:nvSpPr>
          <p:spPr>
            <a:xfrm>
              <a:off x="3735360" y="5442120"/>
              <a:ext cx="239400" cy="1537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603" h="2324">
                  <a:moveTo>
                    <a:pt x="3131" y="168"/>
                  </a:moveTo>
                  <a:lnTo>
                    <a:pt x="3266" y="976"/>
                  </a:lnTo>
                  <a:lnTo>
                    <a:pt x="3401" y="1785"/>
                  </a:lnTo>
                  <a:lnTo>
                    <a:pt x="1852" y="1987"/>
                  </a:lnTo>
                  <a:lnTo>
                    <a:pt x="1111" y="2088"/>
                  </a:lnTo>
                  <a:lnTo>
                    <a:pt x="337" y="2222"/>
                  </a:lnTo>
                  <a:lnTo>
                    <a:pt x="337" y="2189"/>
                  </a:lnTo>
                  <a:lnTo>
                    <a:pt x="337" y="2020"/>
                  </a:lnTo>
                  <a:lnTo>
                    <a:pt x="303" y="1818"/>
                  </a:lnTo>
                  <a:lnTo>
                    <a:pt x="202" y="1414"/>
                  </a:lnTo>
                  <a:lnTo>
                    <a:pt x="169" y="1010"/>
                  </a:lnTo>
                  <a:lnTo>
                    <a:pt x="135" y="572"/>
                  </a:lnTo>
                  <a:lnTo>
                    <a:pt x="876" y="471"/>
                  </a:lnTo>
                  <a:lnTo>
                    <a:pt x="1616" y="370"/>
                  </a:lnTo>
                  <a:lnTo>
                    <a:pt x="2391" y="236"/>
                  </a:lnTo>
                  <a:lnTo>
                    <a:pt x="3131" y="168"/>
                  </a:lnTo>
                  <a:close/>
                  <a:moveTo>
                    <a:pt x="3131" y="0"/>
                  </a:moveTo>
                  <a:lnTo>
                    <a:pt x="2357" y="67"/>
                  </a:lnTo>
                  <a:lnTo>
                    <a:pt x="1583" y="168"/>
                  </a:lnTo>
                  <a:lnTo>
                    <a:pt x="842" y="303"/>
                  </a:lnTo>
                  <a:lnTo>
                    <a:pt x="101" y="471"/>
                  </a:lnTo>
                  <a:lnTo>
                    <a:pt x="68" y="471"/>
                  </a:lnTo>
                  <a:lnTo>
                    <a:pt x="34" y="505"/>
                  </a:lnTo>
                  <a:lnTo>
                    <a:pt x="0" y="539"/>
                  </a:lnTo>
                  <a:lnTo>
                    <a:pt x="0" y="976"/>
                  </a:lnTo>
                  <a:lnTo>
                    <a:pt x="68" y="1448"/>
                  </a:lnTo>
                  <a:lnTo>
                    <a:pt x="101" y="1852"/>
                  </a:lnTo>
                  <a:lnTo>
                    <a:pt x="169" y="2054"/>
                  </a:lnTo>
                  <a:lnTo>
                    <a:pt x="270" y="2222"/>
                  </a:lnTo>
                  <a:lnTo>
                    <a:pt x="303" y="2256"/>
                  </a:lnTo>
                  <a:lnTo>
                    <a:pt x="303" y="2290"/>
                  </a:lnTo>
                  <a:lnTo>
                    <a:pt x="337" y="2323"/>
                  </a:lnTo>
                  <a:lnTo>
                    <a:pt x="1111" y="2323"/>
                  </a:lnTo>
                  <a:lnTo>
                    <a:pt x="1886" y="2256"/>
                  </a:lnTo>
                  <a:lnTo>
                    <a:pt x="2694" y="2155"/>
                  </a:lnTo>
                  <a:lnTo>
                    <a:pt x="3434" y="1987"/>
                  </a:lnTo>
                  <a:lnTo>
                    <a:pt x="3468" y="2020"/>
                  </a:lnTo>
                  <a:lnTo>
                    <a:pt x="3535" y="1987"/>
                  </a:lnTo>
                  <a:lnTo>
                    <a:pt x="3569" y="1953"/>
                  </a:lnTo>
                  <a:lnTo>
                    <a:pt x="3603" y="1919"/>
                  </a:lnTo>
                  <a:lnTo>
                    <a:pt x="3434" y="976"/>
                  </a:lnTo>
                  <a:lnTo>
                    <a:pt x="3266" y="67"/>
                  </a:lnTo>
                  <a:lnTo>
                    <a:pt x="3232" y="34"/>
                  </a:lnTo>
                  <a:lnTo>
                    <a:pt x="3232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hape 567"/>
            <p:cNvSpPr/>
            <p:nvPr/>
          </p:nvSpPr>
          <p:spPr>
            <a:xfrm>
              <a:off x="3873600" y="551844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44" h="641">
                  <a:moveTo>
                    <a:pt x="203" y="1"/>
                  </a:moveTo>
                  <a:lnTo>
                    <a:pt x="102" y="68"/>
                  </a:lnTo>
                  <a:lnTo>
                    <a:pt x="68" y="169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34" y="472"/>
                  </a:lnTo>
                  <a:lnTo>
                    <a:pt x="337" y="641"/>
                  </a:lnTo>
                  <a:lnTo>
                    <a:pt x="405" y="641"/>
                  </a:lnTo>
                  <a:lnTo>
                    <a:pt x="472" y="607"/>
                  </a:lnTo>
                  <a:lnTo>
                    <a:pt x="472" y="573"/>
                  </a:lnTo>
                  <a:lnTo>
                    <a:pt x="438" y="506"/>
                  </a:lnTo>
                  <a:lnTo>
                    <a:pt x="270" y="405"/>
                  </a:lnTo>
                  <a:lnTo>
                    <a:pt x="573" y="338"/>
                  </a:lnTo>
                  <a:lnTo>
                    <a:pt x="876" y="237"/>
                  </a:lnTo>
                  <a:lnTo>
                    <a:pt x="910" y="203"/>
                  </a:lnTo>
                  <a:lnTo>
                    <a:pt x="943" y="136"/>
                  </a:lnTo>
                  <a:lnTo>
                    <a:pt x="910" y="102"/>
                  </a:lnTo>
                  <a:lnTo>
                    <a:pt x="842" y="68"/>
                  </a:lnTo>
                  <a:lnTo>
                    <a:pt x="539" y="169"/>
                  </a:lnTo>
                  <a:lnTo>
                    <a:pt x="203" y="270"/>
                  </a:lnTo>
                  <a:lnTo>
                    <a:pt x="304" y="102"/>
                  </a:lnTo>
                  <a:lnTo>
                    <a:pt x="337" y="68"/>
                  </a:lnTo>
                  <a:lnTo>
                    <a:pt x="30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hape 568"/>
            <p:cNvSpPr/>
            <p:nvPr/>
          </p:nvSpPr>
          <p:spPr>
            <a:xfrm>
              <a:off x="3790800" y="5337360"/>
              <a:ext cx="156960" cy="109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358" h="1651">
                  <a:moveTo>
                    <a:pt x="2156" y="1"/>
                  </a:moveTo>
                  <a:lnTo>
                    <a:pt x="2156" y="34"/>
                  </a:lnTo>
                  <a:lnTo>
                    <a:pt x="1684" y="34"/>
                  </a:lnTo>
                  <a:lnTo>
                    <a:pt x="1213" y="102"/>
                  </a:lnTo>
                  <a:lnTo>
                    <a:pt x="641" y="169"/>
                  </a:lnTo>
                  <a:lnTo>
                    <a:pt x="102" y="304"/>
                  </a:lnTo>
                  <a:lnTo>
                    <a:pt x="68" y="270"/>
                  </a:lnTo>
                  <a:lnTo>
                    <a:pt x="35" y="270"/>
                  </a:lnTo>
                  <a:lnTo>
                    <a:pt x="1" y="304"/>
                  </a:lnTo>
                  <a:lnTo>
                    <a:pt x="1" y="337"/>
                  </a:lnTo>
                  <a:lnTo>
                    <a:pt x="35" y="943"/>
                  </a:lnTo>
                  <a:lnTo>
                    <a:pt x="136" y="1583"/>
                  </a:lnTo>
                  <a:lnTo>
                    <a:pt x="169" y="1617"/>
                  </a:lnTo>
                  <a:lnTo>
                    <a:pt x="203" y="1650"/>
                  </a:lnTo>
                  <a:lnTo>
                    <a:pt x="270" y="1617"/>
                  </a:lnTo>
                  <a:lnTo>
                    <a:pt x="270" y="1549"/>
                  </a:lnTo>
                  <a:lnTo>
                    <a:pt x="237" y="977"/>
                  </a:lnTo>
                  <a:lnTo>
                    <a:pt x="136" y="405"/>
                  </a:lnTo>
                  <a:lnTo>
                    <a:pt x="674" y="337"/>
                  </a:lnTo>
                  <a:lnTo>
                    <a:pt x="1213" y="270"/>
                  </a:lnTo>
                  <a:lnTo>
                    <a:pt x="1684" y="203"/>
                  </a:lnTo>
                  <a:lnTo>
                    <a:pt x="1920" y="169"/>
                  </a:lnTo>
                  <a:lnTo>
                    <a:pt x="2122" y="102"/>
                  </a:lnTo>
                  <a:lnTo>
                    <a:pt x="2122" y="371"/>
                  </a:lnTo>
                  <a:lnTo>
                    <a:pt x="2156" y="640"/>
                  </a:lnTo>
                  <a:lnTo>
                    <a:pt x="2223" y="1145"/>
                  </a:lnTo>
                  <a:lnTo>
                    <a:pt x="1752" y="1213"/>
                  </a:lnTo>
                  <a:lnTo>
                    <a:pt x="1280" y="1280"/>
                  </a:lnTo>
                  <a:lnTo>
                    <a:pt x="843" y="1347"/>
                  </a:lnTo>
                  <a:lnTo>
                    <a:pt x="641" y="1415"/>
                  </a:lnTo>
                  <a:lnTo>
                    <a:pt x="405" y="1482"/>
                  </a:lnTo>
                  <a:lnTo>
                    <a:pt x="439" y="1482"/>
                  </a:lnTo>
                  <a:lnTo>
                    <a:pt x="641" y="1516"/>
                  </a:lnTo>
                  <a:lnTo>
                    <a:pt x="843" y="1516"/>
                  </a:lnTo>
                  <a:lnTo>
                    <a:pt x="1280" y="1448"/>
                  </a:lnTo>
                  <a:lnTo>
                    <a:pt x="1752" y="1381"/>
                  </a:lnTo>
                  <a:lnTo>
                    <a:pt x="2189" y="1280"/>
                  </a:lnTo>
                  <a:lnTo>
                    <a:pt x="2189" y="1314"/>
                  </a:lnTo>
                  <a:lnTo>
                    <a:pt x="2223" y="1347"/>
                  </a:lnTo>
                  <a:lnTo>
                    <a:pt x="2290" y="1347"/>
                  </a:lnTo>
                  <a:lnTo>
                    <a:pt x="2324" y="1314"/>
                  </a:lnTo>
                  <a:lnTo>
                    <a:pt x="2358" y="1280"/>
                  </a:lnTo>
                  <a:lnTo>
                    <a:pt x="2358" y="1213"/>
                  </a:lnTo>
                  <a:lnTo>
                    <a:pt x="2358" y="1179"/>
                  </a:lnTo>
                  <a:lnTo>
                    <a:pt x="2324" y="573"/>
                  </a:lnTo>
                  <a:lnTo>
                    <a:pt x="2257" y="304"/>
                  </a:lnTo>
                  <a:lnTo>
                    <a:pt x="218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00" bIns="-7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hape 569"/>
            <p:cNvSpPr/>
            <p:nvPr/>
          </p:nvSpPr>
          <p:spPr>
            <a:xfrm>
              <a:off x="3911400" y="5672520"/>
              <a:ext cx="60120" cy="55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10" h="843">
                  <a:moveTo>
                    <a:pt x="741" y="1"/>
                  </a:moveTo>
                  <a:lnTo>
                    <a:pt x="707" y="35"/>
                  </a:lnTo>
                  <a:lnTo>
                    <a:pt x="707" y="102"/>
                  </a:lnTo>
                  <a:lnTo>
                    <a:pt x="741" y="203"/>
                  </a:lnTo>
                  <a:lnTo>
                    <a:pt x="707" y="304"/>
                  </a:lnTo>
                  <a:lnTo>
                    <a:pt x="640" y="371"/>
                  </a:lnTo>
                  <a:lnTo>
                    <a:pt x="539" y="439"/>
                  </a:lnTo>
                  <a:lnTo>
                    <a:pt x="438" y="472"/>
                  </a:lnTo>
                  <a:lnTo>
                    <a:pt x="337" y="472"/>
                  </a:lnTo>
                  <a:lnTo>
                    <a:pt x="337" y="405"/>
                  </a:lnTo>
                  <a:lnTo>
                    <a:pt x="337" y="338"/>
                  </a:lnTo>
                  <a:lnTo>
                    <a:pt x="337" y="270"/>
                  </a:lnTo>
                  <a:lnTo>
                    <a:pt x="337" y="237"/>
                  </a:lnTo>
                  <a:lnTo>
                    <a:pt x="269" y="237"/>
                  </a:lnTo>
                  <a:lnTo>
                    <a:pt x="168" y="338"/>
                  </a:lnTo>
                  <a:lnTo>
                    <a:pt x="67" y="405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202" y="809"/>
                  </a:lnTo>
                  <a:lnTo>
                    <a:pt x="236" y="843"/>
                  </a:lnTo>
                  <a:lnTo>
                    <a:pt x="370" y="843"/>
                  </a:lnTo>
                  <a:lnTo>
                    <a:pt x="370" y="809"/>
                  </a:lnTo>
                  <a:lnTo>
                    <a:pt x="370" y="742"/>
                  </a:lnTo>
                  <a:lnTo>
                    <a:pt x="370" y="641"/>
                  </a:lnTo>
                  <a:lnTo>
                    <a:pt x="539" y="607"/>
                  </a:lnTo>
                  <a:lnTo>
                    <a:pt x="707" y="540"/>
                  </a:lnTo>
                  <a:lnTo>
                    <a:pt x="808" y="439"/>
                  </a:lnTo>
                  <a:lnTo>
                    <a:pt x="875" y="304"/>
                  </a:lnTo>
                  <a:lnTo>
                    <a:pt x="909" y="169"/>
                  </a:lnTo>
                  <a:lnTo>
                    <a:pt x="842" y="35"/>
                  </a:lnTo>
                  <a:lnTo>
                    <a:pt x="80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hape 570"/>
            <p:cNvSpPr/>
            <p:nvPr/>
          </p:nvSpPr>
          <p:spPr>
            <a:xfrm>
              <a:off x="3686040" y="5896080"/>
              <a:ext cx="355320" cy="1918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5354" h="2897">
                  <a:moveTo>
                    <a:pt x="5051" y="1"/>
                  </a:moveTo>
                  <a:lnTo>
                    <a:pt x="5017" y="34"/>
                  </a:lnTo>
                  <a:lnTo>
                    <a:pt x="4983" y="34"/>
                  </a:lnTo>
                  <a:lnTo>
                    <a:pt x="4983" y="539"/>
                  </a:lnTo>
                  <a:lnTo>
                    <a:pt x="5017" y="1011"/>
                  </a:lnTo>
                  <a:lnTo>
                    <a:pt x="5152" y="1987"/>
                  </a:lnTo>
                  <a:lnTo>
                    <a:pt x="4546" y="2054"/>
                  </a:lnTo>
                  <a:lnTo>
                    <a:pt x="3973" y="2155"/>
                  </a:lnTo>
                  <a:lnTo>
                    <a:pt x="2829" y="2358"/>
                  </a:lnTo>
                  <a:lnTo>
                    <a:pt x="1684" y="2593"/>
                  </a:lnTo>
                  <a:lnTo>
                    <a:pt x="1112" y="2694"/>
                  </a:lnTo>
                  <a:lnTo>
                    <a:pt x="539" y="2762"/>
                  </a:lnTo>
                  <a:lnTo>
                    <a:pt x="371" y="2256"/>
                  </a:lnTo>
                  <a:lnTo>
                    <a:pt x="270" y="1785"/>
                  </a:lnTo>
                  <a:lnTo>
                    <a:pt x="203" y="1347"/>
                  </a:lnTo>
                  <a:lnTo>
                    <a:pt x="169" y="1145"/>
                  </a:lnTo>
                  <a:lnTo>
                    <a:pt x="102" y="943"/>
                  </a:lnTo>
                  <a:lnTo>
                    <a:pt x="640" y="876"/>
                  </a:lnTo>
                  <a:lnTo>
                    <a:pt x="1179" y="809"/>
                  </a:lnTo>
                  <a:lnTo>
                    <a:pt x="2256" y="573"/>
                  </a:lnTo>
                  <a:lnTo>
                    <a:pt x="3367" y="405"/>
                  </a:lnTo>
                  <a:lnTo>
                    <a:pt x="4041" y="304"/>
                  </a:lnTo>
                  <a:lnTo>
                    <a:pt x="4445" y="236"/>
                  </a:lnTo>
                  <a:lnTo>
                    <a:pt x="4647" y="203"/>
                  </a:lnTo>
                  <a:lnTo>
                    <a:pt x="4748" y="203"/>
                  </a:lnTo>
                  <a:lnTo>
                    <a:pt x="4815" y="236"/>
                  </a:lnTo>
                  <a:lnTo>
                    <a:pt x="4882" y="236"/>
                  </a:lnTo>
                  <a:lnTo>
                    <a:pt x="4916" y="203"/>
                  </a:lnTo>
                  <a:lnTo>
                    <a:pt x="4916" y="135"/>
                  </a:lnTo>
                  <a:lnTo>
                    <a:pt x="4882" y="68"/>
                  </a:lnTo>
                  <a:lnTo>
                    <a:pt x="4849" y="34"/>
                  </a:lnTo>
                  <a:lnTo>
                    <a:pt x="4680" y="34"/>
                  </a:lnTo>
                  <a:lnTo>
                    <a:pt x="3132" y="236"/>
                  </a:lnTo>
                  <a:lnTo>
                    <a:pt x="1549" y="506"/>
                  </a:lnTo>
                  <a:lnTo>
                    <a:pt x="775" y="640"/>
                  </a:lnTo>
                  <a:lnTo>
                    <a:pt x="371" y="741"/>
                  </a:lnTo>
                  <a:lnTo>
                    <a:pt x="1" y="876"/>
                  </a:lnTo>
                  <a:lnTo>
                    <a:pt x="1" y="910"/>
                  </a:lnTo>
                  <a:lnTo>
                    <a:pt x="34" y="943"/>
                  </a:lnTo>
                  <a:lnTo>
                    <a:pt x="1" y="1145"/>
                  </a:lnTo>
                  <a:lnTo>
                    <a:pt x="1" y="1381"/>
                  </a:lnTo>
                  <a:lnTo>
                    <a:pt x="68" y="1819"/>
                  </a:lnTo>
                  <a:lnTo>
                    <a:pt x="203" y="2324"/>
                  </a:lnTo>
                  <a:lnTo>
                    <a:pt x="337" y="2863"/>
                  </a:lnTo>
                  <a:lnTo>
                    <a:pt x="371" y="2896"/>
                  </a:lnTo>
                  <a:lnTo>
                    <a:pt x="1078" y="2896"/>
                  </a:lnTo>
                  <a:lnTo>
                    <a:pt x="1684" y="2829"/>
                  </a:lnTo>
                  <a:lnTo>
                    <a:pt x="2256" y="2728"/>
                  </a:lnTo>
                  <a:lnTo>
                    <a:pt x="2829" y="2593"/>
                  </a:lnTo>
                  <a:lnTo>
                    <a:pt x="4007" y="2358"/>
                  </a:lnTo>
                  <a:lnTo>
                    <a:pt x="4579" y="2256"/>
                  </a:lnTo>
                  <a:lnTo>
                    <a:pt x="5185" y="2189"/>
                  </a:lnTo>
                  <a:lnTo>
                    <a:pt x="5219" y="2223"/>
                  </a:lnTo>
                  <a:lnTo>
                    <a:pt x="5286" y="2223"/>
                  </a:lnTo>
                  <a:lnTo>
                    <a:pt x="5354" y="2189"/>
                  </a:lnTo>
                  <a:lnTo>
                    <a:pt x="5354" y="2122"/>
                  </a:lnTo>
                  <a:lnTo>
                    <a:pt x="5286" y="1078"/>
                  </a:lnTo>
                  <a:lnTo>
                    <a:pt x="5219" y="539"/>
                  </a:lnTo>
                  <a:lnTo>
                    <a:pt x="5118" y="34"/>
                  </a:lnTo>
                  <a:lnTo>
                    <a:pt x="508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5240" bIns="75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hape 571"/>
            <p:cNvSpPr/>
            <p:nvPr/>
          </p:nvSpPr>
          <p:spPr>
            <a:xfrm>
              <a:off x="3843360" y="5591520"/>
              <a:ext cx="185400" cy="2984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95" h="4479">
                  <a:moveTo>
                    <a:pt x="2054" y="169"/>
                  </a:moveTo>
                  <a:lnTo>
                    <a:pt x="2020" y="405"/>
                  </a:lnTo>
                  <a:lnTo>
                    <a:pt x="2054" y="641"/>
                  </a:lnTo>
                  <a:lnTo>
                    <a:pt x="2121" y="1112"/>
                  </a:lnTo>
                  <a:lnTo>
                    <a:pt x="2222" y="1617"/>
                  </a:lnTo>
                  <a:lnTo>
                    <a:pt x="2290" y="2088"/>
                  </a:lnTo>
                  <a:lnTo>
                    <a:pt x="2424" y="3132"/>
                  </a:lnTo>
                  <a:lnTo>
                    <a:pt x="2525" y="4142"/>
                  </a:lnTo>
                  <a:lnTo>
                    <a:pt x="1953" y="4209"/>
                  </a:lnTo>
                  <a:lnTo>
                    <a:pt x="1650" y="4243"/>
                  </a:lnTo>
                  <a:lnTo>
                    <a:pt x="1515" y="4277"/>
                  </a:lnTo>
                  <a:lnTo>
                    <a:pt x="1347" y="4310"/>
                  </a:lnTo>
                  <a:lnTo>
                    <a:pt x="1313" y="3772"/>
                  </a:lnTo>
                  <a:lnTo>
                    <a:pt x="1212" y="3233"/>
                  </a:lnTo>
                  <a:lnTo>
                    <a:pt x="1010" y="2189"/>
                  </a:lnTo>
                  <a:lnTo>
                    <a:pt x="1044" y="2122"/>
                  </a:lnTo>
                  <a:lnTo>
                    <a:pt x="1010" y="2055"/>
                  </a:lnTo>
                  <a:lnTo>
                    <a:pt x="977" y="2021"/>
                  </a:lnTo>
                  <a:lnTo>
                    <a:pt x="909" y="2021"/>
                  </a:lnTo>
                  <a:lnTo>
                    <a:pt x="472" y="2189"/>
                  </a:lnTo>
                  <a:lnTo>
                    <a:pt x="404" y="1718"/>
                  </a:lnTo>
                  <a:lnTo>
                    <a:pt x="303" y="1247"/>
                  </a:lnTo>
                  <a:lnTo>
                    <a:pt x="236" y="843"/>
                  </a:lnTo>
                  <a:lnTo>
                    <a:pt x="202" y="641"/>
                  </a:lnTo>
                  <a:lnTo>
                    <a:pt x="135" y="439"/>
                  </a:lnTo>
                  <a:lnTo>
                    <a:pt x="606" y="405"/>
                  </a:lnTo>
                  <a:lnTo>
                    <a:pt x="1111" y="338"/>
                  </a:lnTo>
                  <a:lnTo>
                    <a:pt x="2054" y="169"/>
                  </a:lnTo>
                  <a:close/>
                  <a:moveTo>
                    <a:pt x="2020" y="1"/>
                  </a:moveTo>
                  <a:lnTo>
                    <a:pt x="1078" y="136"/>
                  </a:lnTo>
                  <a:lnTo>
                    <a:pt x="606" y="203"/>
                  </a:lnTo>
                  <a:lnTo>
                    <a:pt x="135" y="338"/>
                  </a:lnTo>
                  <a:lnTo>
                    <a:pt x="101" y="371"/>
                  </a:lnTo>
                  <a:lnTo>
                    <a:pt x="68" y="371"/>
                  </a:lnTo>
                  <a:lnTo>
                    <a:pt x="34" y="405"/>
                  </a:lnTo>
                  <a:lnTo>
                    <a:pt x="0" y="607"/>
                  </a:lnTo>
                  <a:lnTo>
                    <a:pt x="0" y="843"/>
                  </a:lnTo>
                  <a:lnTo>
                    <a:pt x="68" y="1280"/>
                  </a:lnTo>
                  <a:lnTo>
                    <a:pt x="169" y="1785"/>
                  </a:lnTo>
                  <a:lnTo>
                    <a:pt x="236" y="2055"/>
                  </a:lnTo>
                  <a:lnTo>
                    <a:pt x="303" y="2290"/>
                  </a:lnTo>
                  <a:lnTo>
                    <a:pt x="337" y="2324"/>
                  </a:lnTo>
                  <a:lnTo>
                    <a:pt x="371" y="2358"/>
                  </a:lnTo>
                  <a:lnTo>
                    <a:pt x="438" y="2324"/>
                  </a:lnTo>
                  <a:lnTo>
                    <a:pt x="472" y="2324"/>
                  </a:lnTo>
                  <a:lnTo>
                    <a:pt x="876" y="2223"/>
                  </a:lnTo>
                  <a:lnTo>
                    <a:pt x="1010" y="3334"/>
                  </a:lnTo>
                  <a:lnTo>
                    <a:pt x="1111" y="3906"/>
                  </a:lnTo>
                  <a:lnTo>
                    <a:pt x="1246" y="4445"/>
                  </a:lnTo>
                  <a:lnTo>
                    <a:pt x="1280" y="4479"/>
                  </a:lnTo>
                  <a:lnTo>
                    <a:pt x="1347" y="4479"/>
                  </a:lnTo>
                  <a:lnTo>
                    <a:pt x="1381" y="4411"/>
                  </a:lnTo>
                  <a:lnTo>
                    <a:pt x="1482" y="4445"/>
                  </a:lnTo>
                  <a:lnTo>
                    <a:pt x="1616" y="4445"/>
                  </a:lnTo>
                  <a:lnTo>
                    <a:pt x="1886" y="4411"/>
                  </a:lnTo>
                  <a:lnTo>
                    <a:pt x="2559" y="4344"/>
                  </a:lnTo>
                  <a:lnTo>
                    <a:pt x="2626" y="4344"/>
                  </a:lnTo>
                  <a:lnTo>
                    <a:pt x="2694" y="4310"/>
                  </a:lnTo>
                  <a:lnTo>
                    <a:pt x="2761" y="4277"/>
                  </a:lnTo>
                  <a:lnTo>
                    <a:pt x="2795" y="4209"/>
                  </a:lnTo>
                  <a:lnTo>
                    <a:pt x="2761" y="4176"/>
                  </a:lnTo>
                  <a:lnTo>
                    <a:pt x="2694" y="4142"/>
                  </a:lnTo>
                  <a:lnTo>
                    <a:pt x="2593" y="3098"/>
                  </a:lnTo>
                  <a:lnTo>
                    <a:pt x="2458" y="2055"/>
                  </a:lnTo>
                  <a:lnTo>
                    <a:pt x="2357" y="1078"/>
                  </a:lnTo>
                  <a:lnTo>
                    <a:pt x="2256" y="573"/>
                  </a:lnTo>
                  <a:lnTo>
                    <a:pt x="2189" y="338"/>
                  </a:lnTo>
                  <a:lnTo>
                    <a:pt x="2088" y="136"/>
                  </a:lnTo>
                  <a:lnTo>
                    <a:pt x="2121" y="68"/>
                  </a:lnTo>
                  <a:lnTo>
                    <a:pt x="2088" y="35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hape 572"/>
            <p:cNvSpPr/>
            <p:nvPr/>
          </p:nvSpPr>
          <p:spPr>
            <a:xfrm>
              <a:off x="1725480" y="6218640"/>
              <a:ext cx="198360" cy="1602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60200"/>
                <a:gd name="textAreaBottom" fmla="*/ 160200 h 160200"/>
              </a:gdLst>
              <a:ahLst/>
              <a:rect l="textAreaLeft" t="textAreaTop" r="textAreaRight" b="textAreaBottom"/>
              <a:pathLst>
                <a:path w="2998" h="2426">
                  <a:moveTo>
                    <a:pt x="2526" y="371"/>
                  </a:moveTo>
                  <a:lnTo>
                    <a:pt x="2526" y="775"/>
                  </a:lnTo>
                  <a:lnTo>
                    <a:pt x="2593" y="1179"/>
                  </a:lnTo>
                  <a:lnTo>
                    <a:pt x="2762" y="1954"/>
                  </a:lnTo>
                  <a:lnTo>
                    <a:pt x="1617" y="2189"/>
                  </a:lnTo>
                  <a:lnTo>
                    <a:pt x="977" y="2257"/>
                  </a:lnTo>
                  <a:lnTo>
                    <a:pt x="573" y="2257"/>
                  </a:lnTo>
                  <a:lnTo>
                    <a:pt x="506" y="1785"/>
                  </a:lnTo>
                  <a:lnTo>
                    <a:pt x="405" y="1314"/>
                  </a:lnTo>
                  <a:lnTo>
                    <a:pt x="337" y="944"/>
                  </a:lnTo>
                  <a:lnTo>
                    <a:pt x="236" y="573"/>
                  </a:lnTo>
                  <a:lnTo>
                    <a:pt x="708" y="540"/>
                  </a:lnTo>
                  <a:lnTo>
                    <a:pt x="1179" y="472"/>
                  </a:lnTo>
                  <a:lnTo>
                    <a:pt x="1852" y="405"/>
                  </a:lnTo>
                  <a:lnTo>
                    <a:pt x="2526" y="371"/>
                  </a:lnTo>
                  <a:close/>
                  <a:moveTo>
                    <a:pt x="2627" y="1"/>
                  </a:moveTo>
                  <a:lnTo>
                    <a:pt x="2593" y="35"/>
                  </a:lnTo>
                  <a:lnTo>
                    <a:pt x="2560" y="68"/>
                  </a:lnTo>
                  <a:lnTo>
                    <a:pt x="2560" y="203"/>
                  </a:lnTo>
                  <a:lnTo>
                    <a:pt x="1953" y="203"/>
                  </a:lnTo>
                  <a:lnTo>
                    <a:pt x="1347" y="270"/>
                  </a:lnTo>
                  <a:lnTo>
                    <a:pt x="775" y="338"/>
                  </a:lnTo>
                  <a:lnTo>
                    <a:pt x="472" y="371"/>
                  </a:lnTo>
                  <a:lnTo>
                    <a:pt x="203" y="439"/>
                  </a:lnTo>
                  <a:lnTo>
                    <a:pt x="169" y="405"/>
                  </a:lnTo>
                  <a:lnTo>
                    <a:pt x="135" y="371"/>
                  </a:lnTo>
                  <a:lnTo>
                    <a:pt x="102" y="371"/>
                  </a:lnTo>
                  <a:lnTo>
                    <a:pt x="34" y="405"/>
                  </a:lnTo>
                  <a:lnTo>
                    <a:pt x="34" y="472"/>
                  </a:lnTo>
                  <a:lnTo>
                    <a:pt x="34" y="506"/>
                  </a:lnTo>
                  <a:lnTo>
                    <a:pt x="1" y="506"/>
                  </a:lnTo>
                  <a:lnTo>
                    <a:pt x="1" y="540"/>
                  </a:lnTo>
                  <a:lnTo>
                    <a:pt x="1" y="573"/>
                  </a:lnTo>
                  <a:lnTo>
                    <a:pt x="34" y="573"/>
                  </a:lnTo>
                  <a:lnTo>
                    <a:pt x="102" y="1011"/>
                  </a:lnTo>
                  <a:lnTo>
                    <a:pt x="203" y="1482"/>
                  </a:lnTo>
                  <a:lnTo>
                    <a:pt x="304" y="1920"/>
                  </a:lnTo>
                  <a:lnTo>
                    <a:pt x="337" y="2156"/>
                  </a:lnTo>
                  <a:lnTo>
                    <a:pt x="438" y="2358"/>
                  </a:lnTo>
                  <a:lnTo>
                    <a:pt x="438" y="2391"/>
                  </a:lnTo>
                  <a:lnTo>
                    <a:pt x="472" y="2425"/>
                  </a:lnTo>
                  <a:lnTo>
                    <a:pt x="539" y="2391"/>
                  </a:lnTo>
                  <a:lnTo>
                    <a:pt x="1145" y="2425"/>
                  </a:lnTo>
                  <a:lnTo>
                    <a:pt x="1718" y="2391"/>
                  </a:lnTo>
                  <a:lnTo>
                    <a:pt x="2290" y="2290"/>
                  </a:lnTo>
                  <a:lnTo>
                    <a:pt x="2863" y="2122"/>
                  </a:lnTo>
                  <a:lnTo>
                    <a:pt x="2896" y="2122"/>
                  </a:lnTo>
                  <a:lnTo>
                    <a:pt x="2964" y="2088"/>
                  </a:lnTo>
                  <a:lnTo>
                    <a:pt x="2997" y="2055"/>
                  </a:lnTo>
                  <a:lnTo>
                    <a:pt x="2997" y="1987"/>
                  </a:lnTo>
                  <a:lnTo>
                    <a:pt x="2896" y="1482"/>
                  </a:lnTo>
                  <a:lnTo>
                    <a:pt x="2795" y="944"/>
                  </a:lnTo>
                  <a:lnTo>
                    <a:pt x="2762" y="506"/>
                  </a:lnTo>
                  <a:lnTo>
                    <a:pt x="2728" y="270"/>
                  </a:lnTo>
                  <a:lnTo>
                    <a:pt x="2694" y="35"/>
                  </a:lnTo>
                  <a:lnTo>
                    <a:pt x="266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200" bIns="43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hape 573"/>
            <p:cNvSpPr/>
            <p:nvPr/>
          </p:nvSpPr>
          <p:spPr>
            <a:xfrm>
              <a:off x="1342800" y="2046240"/>
              <a:ext cx="118800" cy="107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85" h="1617">
                  <a:moveTo>
                    <a:pt x="1011" y="0"/>
                  </a:moveTo>
                  <a:lnTo>
                    <a:pt x="842" y="67"/>
                  </a:lnTo>
                  <a:lnTo>
                    <a:pt x="573" y="236"/>
                  </a:lnTo>
                  <a:lnTo>
                    <a:pt x="405" y="370"/>
                  </a:lnTo>
                  <a:lnTo>
                    <a:pt x="304" y="471"/>
                  </a:lnTo>
                  <a:lnTo>
                    <a:pt x="169" y="640"/>
                  </a:lnTo>
                  <a:lnTo>
                    <a:pt x="102" y="808"/>
                  </a:lnTo>
                  <a:lnTo>
                    <a:pt x="34" y="976"/>
                  </a:lnTo>
                  <a:lnTo>
                    <a:pt x="0" y="1145"/>
                  </a:lnTo>
                  <a:lnTo>
                    <a:pt x="0" y="1313"/>
                  </a:lnTo>
                  <a:lnTo>
                    <a:pt x="34" y="1515"/>
                  </a:lnTo>
                  <a:lnTo>
                    <a:pt x="68" y="1549"/>
                  </a:lnTo>
                  <a:lnTo>
                    <a:pt x="102" y="1582"/>
                  </a:lnTo>
                  <a:lnTo>
                    <a:pt x="236" y="1616"/>
                  </a:lnTo>
                  <a:lnTo>
                    <a:pt x="337" y="1582"/>
                  </a:lnTo>
                  <a:lnTo>
                    <a:pt x="371" y="1515"/>
                  </a:lnTo>
                  <a:lnTo>
                    <a:pt x="371" y="1448"/>
                  </a:lnTo>
                  <a:lnTo>
                    <a:pt x="405" y="1178"/>
                  </a:lnTo>
                  <a:lnTo>
                    <a:pt x="472" y="909"/>
                  </a:lnTo>
                  <a:lnTo>
                    <a:pt x="607" y="707"/>
                  </a:lnTo>
                  <a:lnTo>
                    <a:pt x="809" y="505"/>
                  </a:lnTo>
                  <a:lnTo>
                    <a:pt x="1044" y="370"/>
                  </a:lnTo>
                  <a:lnTo>
                    <a:pt x="1314" y="370"/>
                  </a:lnTo>
                  <a:lnTo>
                    <a:pt x="1482" y="438"/>
                  </a:lnTo>
                  <a:lnTo>
                    <a:pt x="1684" y="471"/>
                  </a:lnTo>
                  <a:lnTo>
                    <a:pt x="1751" y="438"/>
                  </a:lnTo>
                  <a:lnTo>
                    <a:pt x="1785" y="370"/>
                  </a:lnTo>
                  <a:lnTo>
                    <a:pt x="1785" y="269"/>
                  </a:lnTo>
                  <a:lnTo>
                    <a:pt x="1751" y="202"/>
                  </a:lnTo>
                  <a:lnTo>
                    <a:pt x="1482" y="67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hape 574"/>
            <p:cNvSpPr/>
            <p:nvPr/>
          </p:nvSpPr>
          <p:spPr>
            <a:xfrm>
              <a:off x="1409760" y="2120760"/>
              <a:ext cx="36360" cy="34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40" h="539">
                  <a:moveTo>
                    <a:pt x="304" y="0"/>
                  </a:moveTo>
                  <a:lnTo>
                    <a:pt x="169" y="34"/>
                  </a:lnTo>
                  <a:lnTo>
                    <a:pt x="102" y="67"/>
                  </a:lnTo>
                  <a:lnTo>
                    <a:pt x="68" y="135"/>
                  </a:lnTo>
                  <a:lnTo>
                    <a:pt x="34" y="202"/>
                  </a:lnTo>
                  <a:lnTo>
                    <a:pt x="1" y="337"/>
                  </a:lnTo>
                  <a:lnTo>
                    <a:pt x="34" y="438"/>
                  </a:lnTo>
                  <a:lnTo>
                    <a:pt x="68" y="471"/>
                  </a:lnTo>
                  <a:lnTo>
                    <a:pt x="135" y="539"/>
                  </a:lnTo>
                  <a:lnTo>
                    <a:pt x="236" y="539"/>
                  </a:lnTo>
                  <a:lnTo>
                    <a:pt x="371" y="505"/>
                  </a:lnTo>
                  <a:lnTo>
                    <a:pt x="506" y="404"/>
                  </a:lnTo>
                  <a:lnTo>
                    <a:pt x="539" y="269"/>
                  </a:lnTo>
                  <a:lnTo>
                    <a:pt x="539" y="202"/>
                  </a:lnTo>
                  <a:lnTo>
                    <a:pt x="506" y="135"/>
                  </a:lnTo>
                  <a:lnTo>
                    <a:pt x="472" y="67"/>
                  </a:lnTo>
                  <a:lnTo>
                    <a:pt x="405" y="3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1720" bIns="-81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hape 575"/>
            <p:cNvSpPr/>
            <p:nvPr/>
          </p:nvSpPr>
          <p:spPr>
            <a:xfrm>
              <a:off x="1644480" y="5659560"/>
              <a:ext cx="156960" cy="1015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358" h="1550">
                  <a:moveTo>
                    <a:pt x="2054" y="169"/>
                  </a:moveTo>
                  <a:lnTo>
                    <a:pt x="2054" y="270"/>
                  </a:lnTo>
                  <a:lnTo>
                    <a:pt x="2054" y="405"/>
                  </a:lnTo>
                  <a:lnTo>
                    <a:pt x="2088" y="607"/>
                  </a:lnTo>
                  <a:lnTo>
                    <a:pt x="2122" y="876"/>
                  </a:lnTo>
                  <a:lnTo>
                    <a:pt x="2155" y="1112"/>
                  </a:lnTo>
                  <a:lnTo>
                    <a:pt x="1213" y="1247"/>
                  </a:lnTo>
                  <a:lnTo>
                    <a:pt x="708" y="1348"/>
                  </a:lnTo>
                  <a:lnTo>
                    <a:pt x="236" y="1449"/>
                  </a:lnTo>
                  <a:lnTo>
                    <a:pt x="270" y="1314"/>
                  </a:lnTo>
                  <a:lnTo>
                    <a:pt x="236" y="1146"/>
                  </a:lnTo>
                  <a:lnTo>
                    <a:pt x="203" y="843"/>
                  </a:lnTo>
                  <a:lnTo>
                    <a:pt x="169" y="607"/>
                  </a:lnTo>
                  <a:lnTo>
                    <a:pt x="135" y="405"/>
                  </a:lnTo>
                  <a:lnTo>
                    <a:pt x="438" y="405"/>
                  </a:lnTo>
                  <a:lnTo>
                    <a:pt x="775" y="338"/>
                  </a:lnTo>
                  <a:lnTo>
                    <a:pt x="1381" y="270"/>
                  </a:lnTo>
                  <a:lnTo>
                    <a:pt x="1650" y="203"/>
                  </a:lnTo>
                  <a:lnTo>
                    <a:pt x="1819" y="169"/>
                  </a:lnTo>
                  <a:lnTo>
                    <a:pt x="1953" y="169"/>
                  </a:lnTo>
                  <a:lnTo>
                    <a:pt x="1987" y="203"/>
                  </a:lnTo>
                  <a:lnTo>
                    <a:pt x="2054" y="169"/>
                  </a:lnTo>
                  <a:close/>
                  <a:moveTo>
                    <a:pt x="1785" y="1"/>
                  </a:moveTo>
                  <a:lnTo>
                    <a:pt x="1549" y="35"/>
                  </a:lnTo>
                  <a:lnTo>
                    <a:pt x="1044" y="136"/>
                  </a:lnTo>
                  <a:lnTo>
                    <a:pt x="573" y="203"/>
                  </a:lnTo>
                  <a:lnTo>
                    <a:pt x="304" y="237"/>
                  </a:lnTo>
                  <a:lnTo>
                    <a:pt x="102" y="304"/>
                  </a:lnTo>
                  <a:lnTo>
                    <a:pt x="68" y="304"/>
                  </a:lnTo>
                  <a:lnTo>
                    <a:pt x="68" y="338"/>
                  </a:lnTo>
                  <a:lnTo>
                    <a:pt x="1" y="371"/>
                  </a:lnTo>
                  <a:lnTo>
                    <a:pt x="34" y="371"/>
                  </a:lnTo>
                  <a:lnTo>
                    <a:pt x="34" y="506"/>
                  </a:lnTo>
                  <a:lnTo>
                    <a:pt x="34" y="607"/>
                  </a:lnTo>
                  <a:lnTo>
                    <a:pt x="68" y="843"/>
                  </a:lnTo>
                  <a:lnTo>
                    <a:pt x="68" y="1179"/>
                  </a:lnTo>
                  <a:lnTo>
                    <a:pt x="102" y="1348"/>
                  </a:lnTo>
                  <a:lnTo>
                    <a:pt x="169" y="1482"/>
                  </a:lnTo>
                  <a:lnTo>
                    <a:pt x="203" y="1516"/>
                  </a:lnTo>
                  <a:lnTo>
                    <a:pt x="203" y="1550"/>
                  </a:lnTo>
                  <a:lnTo>
                    <a:pt x="236" y="1550"/>
                  </a:lnTo>
                  <a:lnTo>
                    <a:pt x="741" y="1516"/>
                  </a:lnTo>
                  <a:lnTo>
                    <a:pt x="1246" y="1449"/>
                  </a:lnTo>
                  <a:lnTo>
                    <a:pt x="2256" y="1247"/>
                  </a:lnTo>
                  <a:lnTo>
                    <a:pt x="2290" y="1280"/>
                  </a:lnTo>
                  <a:lnTo>
                    <a:pt x="2290" y="1247"/>
                  </a:lnTo>
                  <a:lnTo>
                    <a:pt x="2357" y="1213"/>
                  </a:lnTo>
                  <a:lnTo>
                    <a:pt x="2357" y="1179"/>
                  </a:lnTo>
                  <a:lnTo>
                    <a:pt x="2357" y="1112"/>
                  </a:lnTo>
                  <a:lnTo>
                    <a:pt x="2324" y="1078"/>
                  </a:lnTo>
                  <a:lnTo>
                    <a:pt x="2290" y="843"/>
                  </a:lnTo>
                  <a:lnTo>
                    <a:pt x="2223" y="607"/>
                  </a:lnTo>
                  <a:lnTo>
                    <a:pt x="2189" y="304"/>
                  </a:lnTo>
                  <a:lnTo>
                    <a:pt x="2155" y="169"/>
                  </a:lnTo>
                  <a:lnTo>
                    <a:pt x="2088" y="68"/>
                  </a:lnTo>
                  <a:lnTo>
                    <a:pt x="2021" y="35"/>
                  </a:lnTo>
                  <a:lnTo>
                    <a:pt x="178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5120" bIns="-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hape 576"/>
            <p:cNvSpPr/>
            <p:nvPr/>
          </p:nvSpPr>
          <p:spPr>
            <a:xfrm>
              <a:off x="792000" y="1261800"/>
              <a:ext cx="620640" cy="56520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9327" h="8519">
                  <a:moveTo>
                    <a:pt x="1818" y="68"/>
                  </a:moveTo>
                  <a:lnTo>
                    <a:pt x="2189" y="236"/>
                  </a:lnTo>
                  <a:lnTo>
                    <a:pt x="2593" y="371"/>
                  </a:lnTo>
                  <a:lnTo>
                    <a:pt x="2997" y="506"/>
                  </a:lnTo>
                  <a:lnTo>
                    <a:pt x="3401" y="607"/>
                  </a:lnTo>
                  <a:lnTo>
                    <a:pt x="4242" y="741"/>
                  </a:lnTo>
                  <a:lnTo>
                    <a:pt x="5050" y="876"/>
                  </a:lnTo>
                  <a:lnTo>
                    <a:pt x="6969" y="1213"/>
                  </a:lnTo>
                  <a:lnTo>
                    <a:pt x="7912" y="1415"/>
                  </a:lnTo>
                  <a:lnTo>
                    <a:pt x="8855" y="1650"/>
                  </a:lnTo>
                  <a:lnTo>
                    <a:pt x="8821" y="1819"/>
                  </a:lnTo>
                  <a:lnTo>
                    <a:pt x="8754" y="2088"/>
                  </a:lnTo>
                  <a:lnTo>
                    <a:pt x="4545" y="1246"/>
                  </a:lnTo>
                  <a:lnTo>
                    <a:pt x="2189" y="809"/>
                  </a:lnTo>
                  <a:lnTo>
                    <a:pt x="1953" y="741"/>
                  </a:lnTo>
                  <a:lnTo>
                    <a:pt x="1751" y="674"/>
                  </a:lnTo>
                  <a:lnTo>
                    <a:pt x="1785" y="539"/>
                  </a:lnTo>
                  <a:lnTo>
                    <a:pt x="1785" y="405"/>
                  </a:lnTo>
                  <a:lnTo>
                    <a:pt x="1818" y="236"/>
                  </a:lnTo>
                  <a:lnTo>
                    <a:pt x="1818" y="68"/>
                  </a:lnTo>
                  <a:close/>
                  <a:moveTo>
                    <a:pt x="1381" y="2223"/>
                  </a:moveTo>
                  <a:lnTo>
                    <a:pt x="2256" y="2458"/>
                  </a:lnTo>
                  <a:lnTo>
                    <a:pt x="3131" y="2660"/>
                  </a:lnTo>
                  <a:lnTo>
                    <a:pt x="4882" y="2997"/>
                  </a:lnTo>
                  <a:lnTo>
                    <a:pt x="6666" y="3367"/>
                  </a:lnTo>
                  <a:lnTo>
                    <a:pt x="8451" y="3738"/>
                  </a:lnTo>
                  <a:lnTo>
                    <a:pt x="8417" y="3906"/>
                  </a:lnTo>
                  <a:lnTo>
                    <a:pt x="8316" y="4344"/>
                  </a:lnTo>
                  <a:lnTo>
                    <a:pt x="6498" y="4074"/>
                  </a:lnTo>
                  <a:lnTo>
                    <a:pt x="4680" y="3738"/>
                  </a:lnTo>
                  <a:lnTo>
                    <a:pt x="3838" y="3536"/>
                  </a:lnTo>
                  <a:lnTo>
                    <a:pt x="2963" y="3300"/>
                  </a:lnTo>
                  <a:lnTo>
                    <a:pt x="2121" y="3064"/>
                  </a:lnTo>
                  <a:lnTo>
                    <a:pt x="1684" y="2997"/>
                  </a:lnTo>
                  <a:lnTo>
                    <a:pt x="1280" y="2930"/>
                  </a:lnTo>
                  <a:lnTo>
                    <a:pt x="1313" y="2728"/>
                  </a:lnTo>
                  <a:lnTo>
                    <a:pt x="1313" y="2559"/>
                  </a:lnTo>
                  <a:lnTo>
                    <a:pt x="1381" y="2223"/>
                  </a:lnTo>
                  <a:close/>
                  <a:moveTo>
                    <a:pt x="1347" y="3098"/>
                  </a:moveTo>
                  <a:lnTo>
                    <a:pt x="1717" y="3233"/>
                  </a:lnTo>
                  <a:lnTo>
                    <a:pt x="2121" y="3367"/>
                  </a:lnTo>
                  <a:lnTo>
                    <a:pt x="2963" y="3603"/>
                  </a:lnTo>
                  <a:lnTo>
                    <a:pt x="4613" y="3940"/>
                  </a:lnTo>
                  <a:lnTo>
                    <a:pt x="5522" y="4142"/>
                  </a:lnTo>
                  <a:lnTo>
                    <a:pt x="6431" y="4276"/>
                  </a:lnTo>
                  <a:lnTo>
                    <a:pt x="8249" y="4579"/>
                  </a:lnTo>
                  <a:lnTo>
                    <a:pt x="8114" y="4882"/>
                  </a:lnTo>
                  <a:lnTo>
                    <a:pt x="8047" y="5219"/>
                  </a:lnTo>
                  <a:lnTo>
                    <a:pt x="7946" y="5892"/>
                  </a:lnTo>
                  <a:lnTo>
                    <a:pt x="6128" y="5623"/>
                  </a:lnTo>
                  <a:lnTo>
                    <a:pt x="4310" y="5320"/>
                  </a:lnTo>
                  <a:lnTo>
                    <a:pt x="3502" y="5152"/>
                  </a:lnTo>
                  <a:lnTo>
                    <a:pt x="2660" y="4950"/>
                  </a:lnTo>
                  <a:lnTo>
                    <a:pt x="1852" y="4748"/>
                  </a:lnTo>
                  <a:lnTo>
                    <a:pt x="1448" y="4680"/>
                  </a:lnTo>
                  <a:lnTo>
                    <a:pt x="1010" y="4647"/>
                  </a:lnTo>
                  <a:lnTo>
                    <a:pt x="1111" y="4445"/>
                  </a:lnTo>
                  <a:lnTo>
                    <a:pt x="1145" y="4243"/>
                  </a:lnTo>
                  <a:lnTo>
                    <a:pt x="1212" y="3805"/>
                  </a:lnTo>
                  <a:lnTo>
                    <a:pt x="1347" y="3098"/>
                  </a:lnTo>
                  <a:close/>
                  <a:moveTo>
                    <a:pt x="1785" y="1"/>
                  </a:moveTo>
                  <a:lnTo>
                    <a:pt x="1751" y="34"/>
                  </a:lnTo>
                  <a:lnTo>
                    <a:pt x="1751" y="68"/>
                  </a:lnTo>
                  <a:lnTo>
                    <a:pt x="1684" y="236"/>
                  </a:lnTo>
                  <a:lnTo>
                    <a:pt x="1616" y="405"/>
                  </a:lnTo>
                  <a:lnTo>
                    <a:pt x="1583" y="539"/>
                  </a:lnTo>
                  <a:lnTo>
                    <a:pt x="1583" y="708"/>
                  </a:lnTo>
                  <a:lnTo>
                    <a:pt x="1448" y="741"/>
                  </a:lnTo>
                  <a:lnTo>
                    <a:pt x="1347" y="842"/>
                  </a:lnTo>
                  <a:lnTo>
                    <a:pt x="1347" y="876"/>
                  </a:lnTo>
                  <a:lnTo>
                    <a:pt x="1818" y="876"/>
                  </a:lnTo>
                  <a:lnTo>
                    <a:pt x="2290" y="977"/>
                  </a:lnTo>
                  <a:lnTo>
                    <a:pt x="2761" y="1112"/>
                  </a:lnTo>
                  <a:lnTo>
                    <a:pt x="3199" y="1213"/>
                  </a:lnTo>
                  <a:lnTo>
                    <a:pt x="5286" y="1617"/>
                  </a:lnTo>
                  <a:lnTo>
                    <a:pt x="9192" y="2391"/>
                  </a:lnTo>
                  <a:lnTo>
                    <a:pt x="9057" y="2660"/>
                  </a:lnTo>
                  <a:lnTo>
                    <a:pt x="8922" y="2963"/>
                  </a:lnTo>
                  <a:lnTo>
                    <a:pt x="8855" y="3266"/>
                  </a:lnTo>
                  <a:lnTo>
                    <a:pt x="8821" y="3569"/>
                  </a:lnTo>
                  <a:lnTo>
                    <a:pt x="4949" y="2761"/>
                  </a:lnTo>
                  <a:lnTo>
                    <a:pt x="3973" y="2526"/>
                  </a:lnTo>
                  <a:lnTo>
                    <a:pt x="3030" y="2290"/>
                  </a:lnTo>
                  <a:lnTo>
                    <a:pt x="2054" y="2122"/>
                  </a:lnTo>
                  <a:lnTo>
                    <a:pt x="1549" y="2021"/>
                  </a:lnTo>
                  <a:lnTo>
                    <a:pt x="1078" y="1987"/>
                  </a:lnTo>
                  <a:lnTo>
                    <a:pt x="1145" y="1751"/>
                  </a:lnTo>
                  <a:lnTo>
                    <a:pt x="1212" y="1549"/>
                  </a:lnTo>
                  <a:lnTo>
                    <a:pt x="1313" y="1145"/>
                  </a:lnTo>
                  <a:lnTo>
                    <a:pt x="1313" y="943"/>
                  </a:lnTo>
                  <a:lnTo>
                    <a:pt x="1313" y="741"/>
                  </a:lnTo>
                  <a:lnTo>
                    <a:pt x="1313" y="708"/>
                  </a:lnTo>
                  <a:lnTo>
                    <a:pt x="1212" y="708"/>
                  </a:lnTo>
                  <a:lnTo>
                    <a:pt x="1145" y="876"/>
                  </a:lnTo>
                  <a:lnTo>
                    <a:pt x="1078" y="1044"/>
                  </a:lnTo>
                  <a:lnTo>
                    <a:pt x="977" y="1381"/>
                  </a:lnTo>
                  <a:lnTo>
                    <a:pt x="876" y="1718"/>
                  </a:lnTo>
                  <a:lnTo>
                    <a:pt x="842" y="1920"/>
                  </a:lnTo>
                  <a:lnTo>
                    <a:pt x="842" y="2088"/>
                  </a:lnTo>
                  <a:lnTo>
                    <a:pt x="876" y="2122"/>
                  </a:lnTo>
                  <a:lnTo>
                    <a:pt x="977" y="2122"/>
                  </a:lnTo>
                  <a:lnTo>
                    <a:pt x="1010" y="2088"/>
                  </a:lnTo>
                  <a:lnTo>
                    <a:pt x="1246" y="2189"/>
                  </a:lnTo>
                  <a:lnTo>
                    <a:pt x="1145" y="2357"/>
                  </a:lnTo>
                  <a:lnTo>
                    <a:pt x="1078" y="2559"/>
                  </a:lnTo>
                  <a:lnTo>
                    <a:pt x="1078" y="2761"/>
                  </a:lnTo>
                  <a:lnTo>
                    <a:pt x="1078" y="2963"/>
                  </a:lnTo>
                  <a:lnTo>
                    <a:pt x="1111" y="2997"/>
                  </a:lnTo>
                  <a:lnTo>
                    <a:pt x="1145" y="2997"/>
                  </a:lnTo>
                  <a:lnTo>
                    <a:pt x="1212" y="3031"/>
                  </a:lnTo>
                  <a:lnTo>
                    <a:pt x="1145" y="3132"/>
                  </a:lnTo>
                  <a:lnTo>
                    <a:pt x="1111" y="3266"/>
                  </a:lnTo>
                  <a:lnTo>
                    <a:pt x="1044" y="3502"/>
                  </a:lnTo>
                  <a:lnTo>
                    <a:pt x="943" y="4074"/>
                  </a:lnTo>
                  <a:lnTo>
                    <a:pt x="909" y="4344"/>
                  </a:lnTo>
                  <a:lnTo>
                    <a:pt x="909" y="4647"/>
                  </a:lnTo>
                  <a:lnTo>
                    <a:pt x="943" y="4680"/>
                  </a:lnTo>
                  <a:lnTo>
                    <a:pt x="943" y="4714"/>
                  </a:lnTo>
                  <a:lnTo>
                    <a:pt x="1280" y="4849"/>
                  </a:lnTo>
                  <a:lnTo>
                    <a:pt x="1212" y="4916"/>
                  </a:lnTo>
                  <a:lnTo>
                    <a:pt x="1179" y="5017"/>
                  </a:lnTo>
                  <a:lnTo>
                    <a:pt x="1111" y="5185"/>
                  </a:lnTo>
                  <a:lnTo>
                    <a:pt x="1010" y="5522"/>
                  </a:lnTo>
                  <a:lnTo>
                    <a:pt x="943" y="5892"/>
                  </a:lnTo>
                  <a:lnTo>
                    <a:pt x="674" y="5892"/>
                  </a:lnTo>
                  <a:lnTo>
                    <a:pt x="606" y="5926"/>
                  </a:lnTo>
                  <a:lnTo>
                    <a:pt x="539" y="6027"/>
                  </a:lnTo>
                  <a:lnTo>
                    <a:pt x="505" y="6162"/>
                  </a:lnTo>
                  <a:lnTo>
                    <a:pt x="472" y="6431"/>
                  </a:lnTo>
                  <a:lnTo>
                    <a:pt x="404" y="6397"/>
                  </a:lnTo>
                  <a:lnTo>
                    <a:pt x="337" y="6330"/>
                  </a:lnTo>
                  <a:lnTo>
                    <a:pt x="303" y="6296"/>
                  </a:lnTo>
                  <a:lnTo>
                    <a:pt x="270" y="6296"/>
                  </a:lnTo>
                  <a:lnTo>
                    <a:pt x="202" y="6330"/>
                  </a:lnTo>
                  <a:lnTo>
                    <a:pt x="101" y="6465"/>
                  </a:lnTo>
                  <a:lnTo>
                    <a:pt x="34" y="6633"/>
                  </a:lnTo>
                  <a:lnTo>
                    <a:pt x="0" y="6835"/>
                  </a:lnTo>
                  <a:lnTo>
                    <a:pt x="0" y="6902"/>
                  </a:lnTo>
                  <a:lnTo>
                    <a:pt x="67" y="6970"/>
                  </a:lnTo>
                  <a:lnTo>
                    <a:pt x="101" y="6970"/>
                  </a:lnTo>
                  <a:lnTo>
                    <a:pt x="168" y="6902"/>
                  </a:lnTo>
                  <a:lnTo>
                    <a:pt x="168" y="6835"/>
                  </a:lnTo>
                  <a:lnTo>
                    <a:pt x="202" y="6667"/>
                  </a:lnTo>
                  <a:lnTo>
                    <a:pt x="270" y="6532"/>
                  </a:lnTo>
                  <a:lnTo>
                    <a:pt x="404" y="6599"/>
                  </a:lnTo>
                  <a:lnTo>
                    <a:pt x="539" y="6633"/>
                  </a:lnTo>
                  <a:lnTo>
                    <a:pt x="606" y="6599"/>
                  </a:lnTo>
                  <a:lnTo>
                    <a:pt x="640" y="6566"/>
                  </a:lnTo>
                  <a:lnTo>
                    <a:pt x="741" y="6094"/>
                  </a:lnTo>
                  <a:lnTo>
                    <a:pt x="1111" y="6094"/>
                  </a:lnTo>
                  <a:lnTo>
                    <a:pt x="1515" y="6229"/>
                  </a:lnTo>
                  <a:lnTo>
                    <a:pt x="1919" y="6330"/>
                  </a:lnTo>
                  <a:lnTo>
                    <a:pt x="2727" y="6498"/>
                  </a:lnTo>
                  <a:lnTo>
                    <a:pt x="3569" y="6633"/>
                  </a:lnTo>
                  <a:lnTo>
                    <a:pt x="4377" y="6768"/>
                  </a:lnTo>
                  <a:lnTo>
                    <a:pt x="5892" y="7104"/>
                  </a:lnTo>
                  <a:lnTo>
                    <a:pt x="6330" y="7205"/>
                  </a:lnTo>
                  <a:lnTo>
                    <a:pt x="6599" y="7239"/>
                  </a:lnTo>
                  <a:lnTo>
                    <a:pt x="6835" y="7340"/>
                  </a:lnTo>
                  <a:lnTo>
                    <a:pt x="6868" y="7374"/>
                  </a:lnTo>
                  <a:lnTo>
                    <a:pt x="6902" y="7441"/>
                  </a:lnTo>
                  <a:lnTo>
                    <a:pt x="6969" y="7441"/>
                  </a:lnTo>
                  <a:lnTo>
                    <a:pt x="7037" y="7407"/>
                  </a:lnTo>
                  <a:lnTo>
                    <a:pt x="7104" y="7475"/>
                  </a:lnTo>
                  <a:lnTo>
                    <a:pt x="7171" y="7542"/>
                  </a:lnTo>
                  <a:lnTo>
                    <a:pt x="7205" y="7610"/>
                  </a:lnTo>
                  <a:lnTo>
                    <a:pt x="7171" y="7711"/>
                  </a:lnTo>
                  <a:lnTo>
                    <a:pt x="7171" y="7744"/>
                  </a:lnTo>
                  <a:lnTo>
                    <a:pt x="7205" y="7812"/>
                  </a:lnTo>
                  <a:lnTo>
                    <a:pt x="7272" y="7845"/>
                  </a:lnTo>
                  <a:lnTo>
                    <a:pt x="7373" y="7879"/>
                  </a:lnTo>
                  <a:lnTo>
                    <a:pt x="7441" y="7913"/>
                  </a:lnTo>
                  <a:lnTo>
                    <a:pt x="7474" y="7980"/>
                  </a:lnTo>
                  <a:lnTo>
                    <a:pt x="7508" y="8047"/>
                  </a:lnTo>
                  <a:lnTo>
                    <a:pt x="7474" y="8216"/>
                  </a:lnTo>
                  <a:lnTo>
                    <a:pt x="7474" y="8418"/>
                  </a:lnTo>
                  <a:lnTo>
                    <a:pt x="7508" y="8485"/>
                  </a:lnTo>
                  <a:lnTo>
                    <a:pt x="7575" y="8519"/>
                  </a:lnTo>
                  <a:lnTo>
                    <a:pt x="7676" y="8485"/>
                  </a:lnTo>
                  <a:lnTo>
                    <a:pt x="7710" y="8418"/>
                  </a:lnTo>
                  <a:lnTo>
                    <a:pt x="7710" y="7778"/>
                  </a:lnTo>
                  <a:lnTo>
                    <a:pt x="7676" y="7711"/>
                  </a:lnTo>
                  <a:lnTo>
                    <a:pt x="7676" y="7677"/>
                  </a:lnTo>
                  <a:lnTo>
                    <a:pt x="7575" y="7643"/>
                  </a:lnTo>
                  <a:lnTo>
                    <a:pt x="7441" y="7643"/>
                  </a:lnTo>
                  <a:lnTo>
                    <a:pt x="7508" y="7407"/>
                  </a:lnTo>
                  <a:lnTo>
                    <a:pt x="7542" y="7374"/>
                  </a:lnTo>
                  <a:lnTo>
                    <a:pt x="7508" y="7340"/>
                  </a:lnTo>
                  <a:lnTo>
                    <a:pt x="7441" y="7273"/>
                  </a:lnTo>
                  <a:lnTo>
                    <a:pt x="7138" y="7205"/>
                  </a:lnTo>
                  <a:lnTo>
                    <a:pt x="7306" y="6667"/>
                  </a:lnTo>
                  <a:lnTo>
                    <a:pt x="7373" y="6397"/>
                  </a:lnTo>
                  <a:lnTo>
                    <a:pt x="7407" y="6128"/>
                  </a:lnTo>
                  <a:lnTo>
                    <a:pt x="7407" y="6061"/>
                  </a:lnTo>
                  <a:lnTo>
                    <a:pt x="7272" y="6061"/>
                  </a:lnTo>
                  <a:lnTo>
                    <a:pt x="7171" y="6330"/>
                  </a:lnTo>
                  <a:lnTo>
                    <a:pt x="7070" y="6599"/>
                  </a:lnTo>
                  <a:lnTo>
                    <a:pt x="6902" y="7138"/>
                  </a:lnTo>
                  <a:lnTo>
                    <a:pt x="5555" y="6835"/>
                  </a:lnTo>
                  <a:lnTo>
                    <a:pt x="4175" y="6532"/>
                  </a:lnTo>
                  <a:lnTo>
                    <a:pt x="2727" y="6195"/>
                  </a:lnTo>
                  <a:lnTo>
                    <a:pt x="1953" y="6061"/>
                  </a:lnTo>
                  <a:lnTo>
                    <a:pt x="1583" y="6027"/>
                  </a:lnTo>
                  <a:lnTo>
                    <a:pt x="1212" y="6027"/>
                  </a:lnTo>
                  <a:lnTo>
                    <a:pt x="1212" y="5960"/>
                  </a:lnTo>
                  <a:lnTo>
                    <a:pt x="1145" y="5926"/>
                  </a:lnTo>
                  <a:lnTo>
                    <a:pt x="1246" y="5387"/>
                  </a:lnTo>
                  <a:lnTo>
                    <a:pt x="1280" y="5152"/>
                  </a:lnTo>
                  <a:lnTo>
                    <a:pt x="1313" y="5017"/>
                  </a:lnTo>
                  <a:lnTo>
                    <a:pt x="1347" y="4882"/>
                  </a:lnTo>
                  <a:lnTo>
                    <a:pt x="1751" y="5017"/>
                  </a:lnTo>
                  <a:lnTo>
                    <a:pt x="2121" y="5118"/>
                  </a:lnTo>
                  <a:lnTo>
                    <a:pt x="2929" y="5286"/>
                  </a:lnTo>
                  <a:lnTo>
                    <a:pt x="4512" y="5556"/>
                  </a:lnTo>
                  <a:lnTo>
                    <a:pt x="6330" y="5892"/>
                  </a:lnTo>
                  <a:lnTo>
                    <a:pt x="8148" y="6128"/>
                  </a:lnTo>
                  <a:lnTo>
                    <a:pt x="8215" y="6128"/>
                  </a:lnTo>
                  <a:lnTo>
                    <a:pt x="8249" y="6061"/>
                  </a:lnTo>
                  <a:lnTo>
                    <a:pt x="8249" y="5993"/>
                  </a:lnTo>
                  <a:lnTo>
                    <a:pt x="8181" y="5926"/>
                  </a:lnTo>
                  <a:lnTo>
                    <a:pt x="8316" y="5253"/>
                  </a:lnTo>
                  <a:lnTo>
                    <a:pt x="8350" y="4950"/>
                  </a:lnTo>
                  <a:lnTo>
                    <a:pt x="8417" y="4613"/>
                  </a:lnTo>
                  <a:lnTo>
                    <a:pt x="8451" y="4579"/>
                  </a:lnTo>
                  <a:lnTo>
                    <a:pt x="8485" y="4512"/>
                  </a:lnTo>
                  <a:lnTo>
                    <a:pt x="8586" y="4243"/>
                  </a:lnTo>
                  <a:lnTo>
                    <a:pt x="8619" y="3973"/>
                  </a:lnTo>
                  <a:lnTo>
                    <a:pt x="8653" y="3771"/>
                  </a:lnTo>
                  <a:lnTo>
                    <a:pt x="8788" y="3805"/>
                  </a:lnTo>
                  <a:lnTo>
                    <a:pt x="8821" y="3839"/>
                  </a:lnTo>
                  <a:lnTo>
                    <a:pt x="8855" y="3872"/>
                  </a:lnTo>
                  <a:lnTo>
                    <a:pt x="8922" y="3872"/>
                  </a:lnTo>
                  <a:lnTo>
                    <a:pt x="8956" y="3839"/>
                  </a:lnTo>
                  <a:lnTo>
                    <a:pt x="9023" y="3805"/>
                  </a:lnTo>
                  <a:lnTo>
                    <a:pt x="9057" y="3738"/>
                  </a:lnTo>
                  <a:lnTo>
                    <a:pt x="9057" y="3637"/>
                  </a:lnTo>
                  <a:lnTo>
                    <a:pt x="8990" y="3603"/>
                  </a:lnTo>
                  <a:lnTo>
                    <a:pt x="9023" y="3300"/>
                  </a:lnTo>
                  <a:lnTo>
                    <a:pt x="9091" y="2997"/>
                  </a:lnTo>
                  <a:lnTo>
                    <a:pt x="9192" y="2694"/>
                  </a:lnTo>
                  <a:lnTo>
                    <a:pt x="9293" y="2391"/>
                  </a:lnTo>
                  <a:lnTo>
                    <a:pt x="9326" y="2324"/>
                  </a:lnTo>
                  <a:lnTo>
                    <a:pt x="9326" y="2256"/>
                  </a:lnTo>
                  <a:lnTo>
                    <a:pt x="9326" y="2223"/>
                  </a:lnTo>
                  <a:lnTo>
                    <a:pt x="9259" y="2189"/>
                  </a:lnTo>
                  <a:lnTo>
                    <a:pt x="8889" y="2122"/>
                  </a:lnTo>
                  <a:lnTo>
                    <a:pt x="8956" y="1886"/>
                  </a:lnTo>
                  <a:lnTo>
                    <a:pt x="8956" y="1751"/>
                  </a:lnTo>
                  <a:lnTo>
                    <a:pt x="8956" y="1650"/>
                  </a:lnTo>
                  <a:lnTo>
                    <a:pt x="8990" y="1583"/>
                  </a:lnTo>
                  <a:lnTo>
                    <a:pt x="8990" y="1516"/>
                  </a:lnTo>
                  <a:lnTo>
                    <a:pt x="8956" y="1482"/>
                  </a:lnTo>
                  <a:lnTo>
                    <a:pt x="8922" y="1448"/>
                  </a:lnTo>
                  <a:lnTo>
                    <a:pt x="8047" y="1213"/>
                  </a:lnTo>
                  <a:lnTo>
                    <a:pt x="7138" y="1044"/>
                  </a:lnTo>
                  <a:lnTo>
                    <a:pt x="6262" y="876"/>
                  </a:lnTo>
                  <a:lnTo>
                    <a:pt x="5353" y="741"/>
                  </a:lnTo>
                  <a:lnTo>
                    <a:pt x="4478" y="573"/>
                  </a:lnTo>
                  <a:lnTo>
                    <a:pt x="3569" y="371"/>
                  </a:lnTo>
                  <a:lnTo>
                    <a:pt x="181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hape 577"/>
            <p:cNvSpPr/>
            <p:nvPr/>
          </p:nvSpPr>
          <p:spPr>
            <a:xfrm>
              <a:off x="969840" y="1726920"/>
              <a:ext cx="209520" cy="53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166" h="809">
                  <a:moveTo>
                    <a:pt x="203" y="0"/>
                  </a:moveTo>
                  <a:lnTo>
                    <a:pt x="1" y="68"/>
                  </a:lnTo>
                  <a:lnTo>
                    <a:pt x="1" y="101"/>
                  </a:lnTo>
                  <a:lnTo>
                    <a:pt x="203" y="169"/>
                  </a:lnTo>
                  <a:lnTo>
                    <a:pt x="371" y="169"/>
                  </a:lnTo>
                  <a:lnTo>
                    <a:pt x="573" y="202"/>
                  </a:lnTo>
                  <a:lnTo>
                    <a:pt x="742" y="270"/>
                  </a:lnTo>
                  <a:lnTo>
                    <a:pt x="1011" y="404"/>
                  </a:lnTo>
                  <a:lnTo>
                    <a:pt x="1280" y="505"/>
                  </a:lnTo>
                  <a:lnTo>
                    <a:pt x="1718" y="607"/>
                  </a:lnTo>
                  <a:lnTo>
                    <a:pt x="2156" y="674"/>
                  </a:lnTo>
                  <a:lnTo>
                    <a:pt x="2593" y="708"/>
                  </a:lnTo>
                  <a:lnTo>
                    <a:pt x="3031" y="809"/>
                  </a:lnTo>
                  <a:lnTo>
                    <a:pt x="3065" y="809"/>
                  </a:lnTo>
                  <a:lnTo>
                    <a:pt x="3098" y="775"/>
                  </a:lnTo>
                  <a:lnTo>
                    <a:pt x="3166" y="708"/>
                  </a:lnTo>
                  <a:lnTo>
                    <a:pt x="3166" y="640"/>
                  </a:lnTo>
                  <a:lnTo>
                    <a:pt x="3132" y="607"/>
                  </a:lnTo>
                  <a:lnTo>
                    <a:pt x="3098" y="573"/>
                  </a:lnTo>
                  <a:lnTo>
                    <a:pt x="2661" y="472"/>
                  </a:lnTo>
                  <a:lnTo>
                    <a:pt x="2223" y="438"/>
                  </a:lnTo>
                  <a:lnTo>
                    <a:pt x="1785" y="371"/>
                  </a:lnTo>
                  <a:lnTo>
                    <a:pt x="1348" y="303"/>
                  </a:lnTo>
                  <a:lnTo>
                    <a:pt x="1179" y="270"/>
                  </a:lnTo>
                  <a:lnTo>
                    <a:pt x="1011" y="202"/>
                  </a:lnTo>
                  <a:lnTo>
                    <a:pt x="674" y="68"/>
                  </a:lnTo>
                  <a:lnTo>
                    <a:pt x="540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hape 578"/>
            <p:cNvSpPr/>
            <p:nvPr/>
          </p:nvSpPr>
          <p:spPr>
            <a:xfrm>
              <a:off x="1798560" y="2000160"/>
              <a:ext cx="63360" cy="1332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44" h="2022">
                  <a:moveTo>
                    <a:pt x="34" y="1"/>
                  </a:moveTo>
                  <a:lnTo>
                    <a:pt x="34" y="35"/>
                  </a:lnTo>
                  <a:lnTo>
                    <a:pt x="1" y="203"/>
                  </a:lnTo>
                  <a:lnTo>
                    <a:pt x="68" y="371"/>
                  </a:lnTo>
                  <a:lnTo>
                    <a:pt x="135" y="540"/>
                  </a:lnTo>
                  <a:lnTo>
                    <a:pt x="236" y="674"/>
                  </a:lnTo>
                  <a:lnTo>
                    <a:pt x="472" y="944"/>
                  </a:lnTo>
                  <a:lnTo>
                    <a:pt x="539" y="1078"/>
                  </a:lnTo>
                  <a:lnTo>
                    <a:pt x="640" y="1213"/>
                  </a:lnTo>
                  <a:lnTo>
                    <a:pt x="674" y="1381"/>
                  </a:lnTo>
                  <a:lnTo>
                    <a:pt x="708" y="1550"/>
                  </a:lnTo>
                  <a:lnTo>
                    <a:pt x="708" y="1718"/>
                  </a:lnTo>
                  <a:lnTo>
                    <a:pt x="640" y="1886"/>
                  </a:lnTo>
                  <a:lnTo>
                    <a:pt x="640" y="1920"/>
                  </a:lnTo>
                  <a:lnTo>
                    <a:pt x="640" y="1987"/>
                  </a:lnTo>
                  <a:lnTo>
                    <a:pt x="741" y="2021"/>
                  </a:lnTo>
                  <a:lnTo>
                    <a:pt x="809" y="2021"/>
                  </a:lnTo>
                  <a:lnTo>
                    <a:pt x="842" y="1987"/>
                  </a:lnTo>
                  <a:lnTo>
                    <a:pt x="876" y="1954"/>
                  </a:lnTo>
                  <a:lnTo>
                    <a:pt x="943" y="1718"/>
                  </a:lnTo>
                  <a:lnTo>
                    <a:pt x="943" y="1482"/>
                  </a:lnTo>
                  <a:lnTo>
                    <a:pt x="910" y="1247"/>
                  </a:lnTo>
                  <a:lnTo>
                    <a:pt x="809" y="1045"/>
                  </a:lnTo>
                  <a:lnTo>
                    <a:pt x="674" y="843"/>
                  </a:lnTo>
                  <a:lnTo>
                    <a:pt x="539" y="674"/>
                  </a:lnTo>
                  <a:lnTo>
                    <a:pt x="304" y="371"/>
                  </a:lnTo>
                  <a:lnTo>
                    <a:pt x="169" y="169"/>
                  </a:lnTo>
                  <a:lnTo>
                    <a:pt x="135" y="102"/>
                  </a:lnTo>
                  <a:lnTo>
                    <a:pt x="135" y="35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6560" bIns="16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hape 579"/>
            <p:cNvSpPr/>
            <p:nvPr/>
          </p:nvSpPr>
          <p:spPr>
            <a:xfrm>
              <a:off x="1197000" y="1776240"/>
              <a:ext cx="74520" cy="31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12" h="472">
                  <a:moveTo>
                    <a:pt x="34" y="0"/>
                  </a:moveTo>
                  <a:lnTo>
                    <a:pt x="0" y="34"/>
                  </a:lnTo>
                  <a:lnTo>
                    <a:pt x="0" y="68"/>
                  </a:lnTo>
                  <a:lnTo>
                    <a:pt x="34" y="135"/>
                  </a:lnTo>
                  <a:lnTo>
                    <a:pt x="236" y="236"/>
                  </a:lnTo>
                  <a:lnTo>
                    <a:pt x="438" y="303"/>
                  </a:lnTo>
                  <a:lnTo>
                    <a:pt x="976" y="472"/>
                  </a:lnTo>
                  <a:lnTo>
                    <a:pt x="1077" y="472"/>
                  </a:lnTo>
                  <a:lnTo>
                    <a:pt x="1111" y="404"/>
                  </a:lnTo>
                  <a:lnTo>
                    <a:pt x="1111" y="303"/>
                  </a:lnTo>
                  <a:lnTo>
                    <a:pt x="1077" y="270"/>
                  </a:lnTo>
                  <a:lnTo>
                    <a:pt x="1044" y="236"/>
                  </a:lnTo>
                  <a:lnTo>
                    <a:pt x="539" y="68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4960" bIns="-84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hape 580"/>
            <p:cNvSpPr/>
            <p:nvPr/>
          </p:nvSpPr>
          <p:spPr>
            <a:xfrm>
              <a:off x="8239320" y="6777360"/>
              <a:ext cx="93600" cy="66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415" h="1011">
                  <a:moveTo>
                    <a:pt x="438" y="1"/>
                  </a:moveTo>
                  <a:lnTo>
                    <a:pt x="203" y="102"/>
                  </a:lnTo>
                  <a:lnTo>
                    <a:pt x="34" y="237"/>
                  </a:lnTo>
                  <a:lnTo>
                    <a:pt x="1" y="270"/>
                  </a:lnTo>
                  <a:lnTo>
                    <a:pt x="1" y="304"/>
                  </a:lnTo>
                  <a:lnTo>
                    <a:pt x="34" y="338"/>
                  </a:lnTo>
                  <a:lnTo>
                    <a:pt x="68" y="338"/>
                  </a:lnTo>
                  <a:lnTo>
                    <a:pt x="102" y="405"/>
                  </a:lnTo>
                  <a:lnTo>
                    <a:pt x="236" y="506"/>
                  </a:lnTo>
                  <a:lnTo>
                    <a:pt x="371" y="607"/>
                  </a:lnTo>
                  <a:lnTo>
                    <a:pt x="405" y="641"/>
                  </a:lnTo>
                  <a:lnTo>
                    <a:pt x="472" y="607"/>
                  </a:lnTo>
                  <a:lnTo>
                    <a:pt x="472" y="573"/>
                  </a:lnTo>
                  <a:lnTo>
                    <a:pt x="472" y="506"/>
                  </a:lnTo>
                  <a:lnTo>
                    <a:pt x="371" y="371"/>
                  </a:lnTo>
                  <a:lnTo>
                    <a:pt x="775" y="405"/>
                  </a:lnTo>
                  <a:lnTo>
                    <a:pt x="1179" y="405"/>
                  </a:lnTo>
                  <a:lnTo>
                    <a:pt x="1145" y="674"/>
                  </a:lnTo>
                  <a:lnTo>
                    <a:pt x="1179" y="944"/>
                  </a:lnTo>
                  <a:lnTo>
                    <a:pt x="1213" y="1011"/>
                  </a:lnTo>
                  <a:lnTo>
                    <a:pt x="1246" y="1011"/>
                  </a:lnTo>
                  <a:lnTo>
                    <a:pt x="1314" y="977"/>
                  </a:lnTo>
                  <a:lnTo>
                    <a:pt x="1347" y="944"/>
                  </a:lnTo>
                  <a:lnTo>
                    <a:pt x="1381" y="775"/>
                  </a:lnTo>
                  <a:lnTo>
                    <a:pt x="1415" y="607"/>
                  </a:lnTo>
                  <a:lnTo>
                    <a:pt x="1415" y="270"/>
                  </a:lnTo>
                  <a:lnTo>
                    <a:pt x="1415" y="237"/>
                  </a:lnTo>
                  <a:lnTo>
                    <a:pt x="1381" y="203"/>
                  </a:lnTo>
                  <a:lnTo>
                    <a:pt x="1314" y="169"/>
                  </a:lnTo>
                  <a:lnTo>
                    <a:pt x="539" y="169"/>
                  </a:lnTo>
                  <a:lnTo>
                    <a:pt x="573" y="102"/>
                  </a:lnTo>
                  <a:lnTo>
                    <a:pt x="573" y="35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hape 581"/>
            <p:cNvSpPr/>
            <p:nvPr/>
          </p:nvSpPr>
          <p:spPr>
            <a:xfrm>
              <a:off x="7864560" y="6728040"/>
              <a:ext cx="290520" cy="968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378" h="1448">
                  <a:moveTo>
                    <a:pt x="371" y="169"/>
                  </a:moveTo>
                  <a:lnTo>
                    <a:pt x="842" y="270"/>
                  </a:lnTo>
                  <a:lnTo>
                    <a:pt x="1314" y="303"/>
                  </a:lnTo>
                  <a:lnTo>
                    <a:pt x="1785" y="337"/>
                  </a:lnTo>
                  <a:lnTo>
                    <a:pt x="2256" y="404"/>
                  </a:lnTo>
                  <a:lnTo>
                    <a:pt x="3233" y="606"/>
                  </a:lnTo>
                  <a:lnTo>
                    <a:pt x="3569" y="640"/>
                  </a:lnTo>
                  <a:lnTo>
                    <a:pt x="3704" y="674"/>
                  </a:lnTo>
                  <a:lnTo>
                    <a:pt x="3839" y="707"/>
                  </a:lnTo>
                  <a:lnTo>
                    <a:pt x="3940" y="775"/>
                  </a:lnTo>
                  <a:lnTo>
                    <a:pt x="4007" y="876"/>
                  </a:lnTo>
                  <a:lnTo>
                    <a:pt x="4007" y="1010"/>
                  </a:lnTo>
                  <a:lnTo>
                    <a:pt x="3973" y="1179"/>
                  </a:lnTo>
                  <a:lnTo>
                    <a:pt x="1987" y="1010"/>
                  </a:lnTo>
                  <a:lnTo>
                    <a:pt x="1112" y="909"/>
                  </a:lnTo>
                  <a:lnTo>
                    <a:pt x="674" y="876"/>
                  </a:lnTo>
                  <a:lnTo>
                    <a:pt x="236" y="909"/>
                  </a:lnTo>
                  <a:lnTo>
                    <a:pt x="371" y="169"/>
                  </a:lnTo>
                  <a:close/>
                  <a:moveTo>
                    <a:pt x="741" y="0"/>
                  </a:moveTo>
                  <a:lnTo>
                    <a:pt x="304" y="34"/>
                  </a:lnTo>
                  <a:lnTo>
                    <a:pt x="203" y="34"/>
                  </a:lnTo>
                  <a:lnTo>
                    <a:pt x="34" y="68"/>
                  </a:lnTo>
                  <a:lnTo>
                    <a:pt x="34" y="101"/>
                  </a:lnTo>
                  <a:lnTo>
                    <a:pt x="169" y="135"/>
                  </a:lnTo>
                  <a:lnTo>
                    <a:pt x="68" y="505"/>
                  </a:lnTo>
                  <a:lnTo>
                    <a:pt x="0" y="909"/>
                  </a:lnTo>
                  <a:lnTo>
                    <a:pt x="34" y="977"/>
                  </a:lnTo>
                  <a:lnTo>
                    <a:pt x="68" y="1044"/>
                  </a:lnTo>
                  <a:lnTo>
                    <a:pt x="169" y="1044"/>
                  </a:lnTo>
                  <a:lnTo>
                    <a:pt x="236" y="1010"/>
                  </a:lnTo>
                  <a:lnTo>
                    <a:pt x="640" y="1111"/>
                  </a:lnTo>
                  <a:lnTo>
                    <a:pt x="1112" y="1179"/>
                  </a:lnTo>
                  <a:lnTo>
                    <a:pt x="1987" y="1246"/>
                  </a:lnTo>
                  <a:lnTo>
                    <a:pt x="4108" y="1448"/>
                  </a:lnTo>
                  <a:lnTo>
                    <a:pt x="4142" y="1414"/>
                  </a:lnTo>
                  <a:lnTo>
                    <a:pt x="4209" y="1381"/>
                  </a:lnTo>
                  <a:lnTo>
                    <a:pt x="4209" y="1347"/>
                  </a:lnTo>
                  <a:lnTo>
                    <a:pt x="4209" y="1280"/>
                  </a:lnTo>
                  <a:lnTo>
                    <a:pt x="4209" y="1246"/>
                  </a:lnTo>
                  <a:lnTo>
                    <a:pt x="4377" y="741"/>
                  </a:lnTo>
                  <a:lnTo>
                    <a:pt x="4377" y="674"/>
                  </a:lnTo>
                  <a:lnTo>
                    <a:pt x="4377" y="640"/>
                  </a:lnTo>
                  <a:lnTo>
                    <a:pt x="4344" y="606"/>
                  </a:lnTo>
                  <a:lnTo>
                    <a:pt x="4276" y="573"/>
                  </a:lnTo>
                  <a:lnTo>
                    <a:pt x="3199" y="337"/>
                  </a:lnTo>
                  <a:lnTo>
                    <a:pt x="2088" y="135"/>
                  </a:lnTo>
                  <a:lnTo>
                    <a:pt x="1213" y="34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9800" bIns="-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hape 582"/>
            <p:cNvSpPr/>
            <p:nvPr/>
          </p:nvSpPr>
          <p:spPr>
            <a:xfrm>
              <a:off x="799920" y="1766880"/>
              <a:ext cx="63360" cy="33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77" h="506">
                  <a:moveTo>
                    <a:pt x="640" y="1"/>
                  </a:moveTo>
                  <a:lnTo>
                    <a:pt x="404" y="68"/>
                  </a:lnTo>
                  <a:lnTo>
                    <a:pt x="202" y="203"/>
                  </a:lnTo>
                  <a:lnTo>
                    <a:pt x="34" y="371"/>
                  </a:lnTo>
                  <a:lnTo>
                    <a:pt x="0" y="405"/>
                  </a:lnTo>
                  <a:lnTo>
                    <a:pt x="0" y="472"/>
                  </a:lnTo>
                  <a:lnTo>
                    <a:pt x="34" y="506"/>
                  </a:lnTo>
                  <a:lnTo>
                    <a:pt x="135" y="506"/>
                  </a:lnTo>
                  <a:lnTo>
                    <a:pt x="303" y="405"/>
                  </a:lnTo>
                  <a:lnTo>
                    <a:pt x="505" y="304"/>
                  </a:lnTo>
                  <a:lnTo>
                    <a:pt x="707" y="236"/>
                  </a:lnTo>
                  <a:lnTo>
                    <a:pt x="909" y="203"/>
                  </a:lnTo>
                  <a:lnTo>
                    <a:pt x="977" y="169"/>
                  </a:lnTo>
                  <a:lnTo>
                    <a:pt x="977" y="102"/>
                  </a:lnTo>
                  <a:lnTo>
                    <a:pt x="943" y="34"/>
                  </a:lnTo>
                  <a:lnTo>
                    <a:pt x="87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3520" bIns="-83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hape 583"/>
            <p:cNvSpPr/>
            <p:nvPr/>
          </p:nvSpPr>
          <p:spPr>
            <a:xfrm>
              <a:off x="6705720" y="6564600"/>
              <a:ext cx="2446200" cy="190440"/>
            </a:xfrm>
            <a:custGeom>
              <a:avLst/>
              <a:gdLst>
                <a:gd name="textAreaLeft" fmla="*/ 0 w 2446200"/>
                <a:gd name="textAreaRight" fmla="*/ 2446560 w 244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834" h="2863">
                  <a:moveTo>
                    <a:pt x="606" y="0"/>
                  </a:moveTo>
                  <a:lnTo>
                    <a:pt x="34" y="34"/>
                  </a:lnTo>
                  <a:lnTo>
                    <a:pt x="0" y="68"/>
                  </a:lnTo>
                  <a:lnTo>
                    <a:pt x="34" y="101"/>
                  </a:lnTo>
                  <a:lnTo>
                    <a:pt x="573" y="202"/>
                  </a:lnTo>
                  <a:lnTo>
                    <a:pt x="1111" y="270"/>
                  </a:lnTo>
                  <a:lnTo>
                    <a:pt x="2189" y="337"/>
                  </a:lnTo>
                  <a:lnTo>
                    <a:pt x="4377" y="405"/>
                  </a:lnTo>
                  <a:lnTo>
                    <a:pt x="9192" y="674"/>
                  </a:lnTo>
                  <a:lnTo>
                    <a:pt x="13973" y="977"/>
                  </a:lnTo>
                  <a:lnTo>
                    <a:pt x="18787" y="1314"/>
                  </a:lnTo>
                  <a:lnTo>
                    <a:pt x="23299" y="1684"/>
                  </a:lnTo>
                  <a:lnTo>
                    <a:pt x="27810" y="2054"/>
                  </a:lnTo>
                  <a:lnTo>
                    <a:pt x="-28703" y="2862"/>
                  </a:lnTo>
                  <a:lnTo>
                    <a:pt x="-28703" y="2559"/>
                  </a:lnTo>
                  <a:lnTo>
                    <a:pt x="32389" y="2122"/>
                  </a:lnTo>
                  <a:lnTo>
                    <a:pt x="27945" y="1751"/>
                  </a:lnTo>
                  <a:lnTo>
                    <a:pt x="23501" y="1415"/>
                  </a:lnTo>
                  <a:lnTo>
                    <a:pt x="19057" y="1078"/>
                  </a:lnTo>
                  <a:lnTo>
                    <a:pt x="14242" y="775"/>
                  </a:lnTo>
                  <a:lnTo>
                    <a:pt x="9461" y="472"/>
                  </a:lnTo>
                  <a:lnTo>
                    <a:pt x="4647" y="202"/>
                  </a:lnTo>
                  <a:lnTo>
                    <a:pt x="2357" y="34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3800" bIns="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hape 584"/>
            <p:cNvSpPr/>
            <p:nvPr/>
          </p:nvSpPr>
          <p:spPr>
            <a:xfrm>
              <a:off x="7670880" y="6766200"/>
              <a:ext cx="85680" cy="219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80" h="338">
                  <a:moveTo>
                    <a:pt x="67" y="1"/>
                  </a:move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34" y="169"/>
                  </a:lnTo>
                  <a:lnTo>
                    <a:pt x="202" y="236"/>
                  </a:lnTo>
                  <a:lnTo>
                    <a:pt x="370" y="270"/>
                  </a:lnTo>
                  <a:lnTo>
                    <a:pt x="741" y="304"/>
                  </a:lnTo>
                  <a:lnTo>
                    <a:pt x="1044" y="337"/>
                  </a:lnTo>
                  <a:lnTo>
                    <a:pt x="1178" y="304"/>
                  </a:lnTo>
                  <a:lnTo>
                    <a:pt x="1246" y="270"/>
                  </a:lnTo>
                  <a:lnTo>
                    <a:pt x="1279" y="203"/>
                  </a:lnTo>
                  <a:lnTo>
                    <a:pt x="1279" y="169"/>
                  </a:lnTo>
                  <a:lnTo>
                    <a:pt x="1279" y="135"/>
                  </a:lnTo>
                  <a:lnTo>
                    <a:pt x="1178" y="68"/>
                  </a:lnTo>
                  <a:lnTo>
                    <a:pt x="808" y="68"/>
                  </a:lnTo>
                  <a:lnTo>
                    <a:pt x="438" y="3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4680" bIns="-94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hape 585"/>
            <p:cNvSpPr/>
            <p:nvPr/>
          </p:nvSpPr>
          <p:spPr>
            <a:xfrm>
              <a:off x="7678800" y="6696360"/>
              <a:ext cx="87120" cy="205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14" h="304">
                  <a:moveTo>
                    <a:pt x="404" y="1"/>
                  </a:moveTo>
                  <a:lnTo>
                    <a:pt x="236" y="35"/>
                  </a:lnTo>
                  <a:lnTo>
                    <a:pt x="34" y="68"/>
                  </a:lnTo>
                  <a:lnTo>
                    <a:pt x="0" y="102"/>
                  </a:lnTo>
                  <a:lnTo>
                    <a:pt x="34" y="136"/>
                  </a:lnTo>
                  <a:lnTo>
                    <a:pt x="168" y="203"/>
                  </a:lnTo>
                  <a:lnTo>
                    <a:pt x="303" y="270"/>
                  </a:lnTo>
                  <a:lnTo>
                    <a:pt x="673" y="304"/>
                  </a:lnTo>
                  <a:lnTo>
                    <a:pt x="1010" y="304"/>
                  </a:lnTo>
                  <a:lnTo>
                    <a:pt x="1145" y="270"/>
                  </a:lnTo>
                  <a:lnTo>
                    <a:pt x="1212" y="237"/>
                  </a:lnTo>
                  <a:lnTo>
                    <a:pt x="1279" y="203"/>
                  </a:lnTo>
                  <a:lnTo>
                    <a:pt x="1313" y="136"/>
                  </a:lnTo>
                  <a:lnTo>
                    <a:pt x="1279" y="102"/>
                  </a:lnTo>
                  <a:lnTo>
                    <a:pt x="1178" y="35"/>
                  </a:lnTo>
                  <a:lnTo>
                    <a:pt x="1044" y="1"/>
                  </a:lnTo>
                  <a:lnTo>
                    <a:pt x="774" y="35"/>
                  </a:lnTo>
                  <a:lnTo>
                    <a:pt x="40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6120" bIns="-96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hape 586"/>
            <p:cNvSpPr/>
            <p:nvPr/>
          </p:nvSpPr>
          <p:spPr>
            <a:xfrm>
              <a:off x="7686720" y="6729840"/>
              <a:ext cx="91800" cy="29880"/>
            </a:xfrm>
            <a:custGeom>
              <a:avLst/>
              <a:gdLst>
                <a:gd name="textAreaLeft" fmla="*/ 0 w 91800"/>
                <a:gd name="textAreaRight" fmla="*/ 91800 w 91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82" h="439">
                  <a:moveTo>
                    <a:pt x="135" y="1"/>
                  </a:moveTo>
                  <a:lnTo>
                    <a:pt x="1" y="35"/>
                  </a:lnTo>
                  <a:lnTo>
                    <a:pt x="1" y="68"/>
                  </a:lnTo>
                  <a:lnTo>
                    <a:pt x="102" y="169"/>
                  </a:lnTo>
                  <a:lnTo>
                    <a:pt x="203" y="237"/>
                  </a:lnTo>
                  <a:lnTo>
                    <a:pt x="472" y="304"/>
                  </a:lnTo>
                  <a:lnTo>
                    <a:pt x="842" y="371"/>
                  </a:lnTo>
                  <a:lnTo>
                    <a:pt x="1246" y="439"/>
                  </a:lnTo>
                  <a:lnTo>
                    <a:pt x="1347" y="405"/>
                  </a:lnTo>
                  <a:lnTo>
                    <a:pt x="1381" y="338"/>
                  </a:lnTo>
                  <a:lnTo>
                    <a:pt x="1347" y="237"/>
                  </a:lnTo>
                  <a:lnTo>
                    <a:pt x="1280" y="203"/>
                  </a:lnTo>
                  <a:lnTo>
                    <a:pt x="910" y="102"/>
                  </a:lnTo>
                  <a:lnTo>
                    <a:pt x="539" y="35"/>
                  </a:lnTo>
                  <a:lnTo>
                    <a:pt x="27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6760" bIns="-86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hape 587"/>
            <p:cNvSpPr/>
            <p:nvPr/>
          </p:nvSpPr>
          <p:spPr>
            <a:xfrm>
              <a:off x="6445440" y="6685200"/>
              <a:ext cx="1552320" cy="17928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3367" h="2694">
                  <a:moveTo>
                    <a:pt x="68" y="1"/>
                  </a:moveTo>
                  <a:lnTo>
                    <a:pt x="1" y="34"/>
                  </a:lnTo>
                  <a:lnTo>
                    <a:pt x="1" y="102"/>
                  </a:lnTo>
                  <a:lnTo>
                    <a:pt x="68" y="371"/>
                  </a:lnTo>
                  <a:lnTo>
                    <a:pt x="169" y="573"/>
                  </a:lnTo>
                  <a:lnTo>
                    <a:pt x="338" y="775"/>
                  </a:lnTo>
                  <a:lnTo>
                    <a:pt x="540" y="910"/>
                  </a:lnTo>
                  <a:lnTo>
                    <a:pt x="742" y="1044"/>
                  </a:lnTo>
                  <a:lnTo>
                    <a:pt x="977" y="1145"/>
                  </a:lnTo>
                  <a:lnTo>
                    <a:pt x="1482" y="1280"/>
                  </a:lnTo>
                  <a:lnTo>
                    <a:pt x="1954" y="1381"/>
                  </a:lnTo>
                  <a:lnTo>
                    <a:pt x="2425" y="1448"/>
                  </a:lnTo>
                  <a:lnTo>
                    <a:pt x="3401" y="1549"/>
                  </a:lnTo>
                  <a:lnTo>
                    <a:pt x="5287" y="1684"/>
                  </a:lnTo>
                  <a:lnTo>
                    <a:pt x="9529" y="2054"/>
                  </a:lnTo>
                  <a:lnTo>
                    <a:pt x="13738" y="2391"/>
                  </a:lnTo>
                  <a:lnTo>
                    <a:pt x="18114" y="2694"/>
                  </a:lnTo>
                  <a:lnTo>
                    <a:pt x="23367" y="2694"/>
                  </a:lnTo>
                  <a:lnTo>
                    <a:pt x="19225" y="2458"/>
                  </a:lnTo>
                  <a:lnTo>
                    <a:pt x="15084" y="2189"/>
                  </a:lnTo>
                  <a:lnTo>
                    <a:pt x="11246" y="1920"/>
                  </a:lnTo>
                  <a:lnTo>
                    <a:pt x="7408" y="1583"/>
                  </a:lnTo>
                  <a:lnTo>
                    <a:pt x="3435" y="1213"/>
                  </a:lnTo>
                  <a:lnTo>
                    <a:pt x="2593" y="1145"/>
                  </a:lnTo>
                  <a:lnTo>
                    <a:pt x="2088" y="1112"/>
                  </a:lnTo>
                  <a:lnTo>
                    <a:pt x="1550" y="1044"/>
                  </a:lnTo>
                  <a:lnTo>
                    <a:pt x="1078" y="910"/>
                  </a:lnTo>
                  <a:lnTo>
                    <a:pt x="843" y="809"/>
                  </a:lnTo>
                  <a:lnTo>
                    <a:pt x="674" y="708"/>
                  </a:lnTo>
                  <a:lnTo>
                    <a:pt x="472" y="573"/>
                  </a:lnTo>
                  <a:lnTo>
                    <a:pt x="338" y="438"/>
                  </a:lnTo>
                  <a:lnTo>
                    <a:pt x="237" y="270"/>
                  </a:lnTo>
                  <a:lnTo>
                    <a:pt x="169" y="68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hape 588"/>
            <p:cNvSpPr/>
            <p:nvPr/>
          </p:nvSpPr>
          <p:spPr>
            <a:xfrm>
              <a:off x="1322280" y="1836720"/>
              <a:ext cx="142560" cy="507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56" h="775">
                  <a:moveTo>
                    <a:pt x="101" y="0"/>
                  </a:moveTo>
                  <a:lnTo>
                    <a:pt x="34" y="68"/>
                  </a:lnTo>
                  <a:lnTo>
                    <a:pt x="0" y="169"/>
                  </a:lnTo>
                  <a:lnTo>
                    <a:pt x="0" y="202"/>
                  </a:lnTo>
                  <a:lnTo>
                    <a:pt x="34" y="270"/>
                  </a:lnTo>
                  <a:lnTo>
                    <a:pt x="236" y="371"/>
                  </a:lnTo>
                  <a:lnTo>
                    <a:pt x="438" y="438"/>
                  </a:lnTo>
                  <a:lnTo>
                    <a:pt x="842" y="539"/>
                  </a:lnTo>
                  <a:lnTo>
                    <a:pt x="1280" y="640"/>
                  </a:lnTo>
                  <a:lnTo>
                    <a:pt x="1751" y="707"/>
                  </a:lnTo>
                  <a:lnTo>
                    <a:pt x="1785" y="741"/>
                  </a:lnTo>
                  <a:lnTo>
                    <a:pt x="1852" y="775"/>
                  </a:lnTo>
                  <a:lnTo>
                    <a:pt x="1920" y="775"/>
                  </a:lnTo>
                  <a:lnTo>
                    <a:pt x="1987" y="741"/>
                  </a:lnTo>
                  <a:lnTo>
                    <a:pt x="2088" y="674"/>
                  </a:lnTo>
                  <a:lnTo>
                    <a:pt x="2122" y="640"/>
                  </a:lnTo>
                  <a:lnTo>
                    <a:pt x="2155" y="573"/>
                  </a:lnTo>
                  <a:lnTo>
                    <a:pt x="2155" y="472"/>
                  </a:lnTo>
                  <a:lnTo>
                    <a:pt x="2088" y="371"/>
                  </a:lnTo>
                  <a:lnTo>
                    <a:pt x="2054" y="337"/>
                  </a:lnTo>
                  <a:lnTo>
                    <a:pt x="1987" y="303"/>
                  </a:lnTo>
                  <a:lnTo>
                    <a:pt x="1516" y="270"/>
                  </a:lnTo>
                  <a:lnTo>
                    <a:pt x="1078" y="169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hape 589"/>
            <p:cNvSpPr/>
            <p:nvPr/>
          </p:nvSpPr>
          <p:spPr>
            <a:xfrm>
              <a:off x="3665520" y="62121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05" h="607">
                  <a:moveTo>
                    <a:pt x="270" y="1"/>
                  </a:moveTo>
                  <a:lnTo>
                    <a:pt x="203" y="35"/>
                  </a:lnTo>
                  <a:lnTo>
                    <a:pt x="68" y="136"/>
                  </a:lnTo>
                  <a:lnTo>
                    <a:pt x="1" y="237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34" y="439"/>
                  </a:lnTo>
                  <a:lnTo>
                    <a:pt x="68" y="439"/>
                  </a:lnTo>
                  <a:lnTo>
                    <a:pt x="102" y="405"/>
                  </a:lnTo>
                  <a:lnTo>
                    <a:pt x="135" y="472"/>
                  </a:lnTo>
                  <a:lnTo>
                    <a:pt x="270" y="573"/>
                  </a:lnTo>
                  <a:lnTo>
                    <a:pt x="337" y="607"/>
                  </a:lnTo>
                  <a:lnTo>
                    <a:pt x="371" y="573"/>
                  </a:lnTo>
                  <a:lnTo>
                    <a:pt x="405" y="506"/>
                  </a:lnTo>
                  <a:lnTo>
                    <a:pt x="371" y="472"/>
                  </a:lnTo>
                  <a:lnTo>
                    <a:pt x="270" y="371"/>
                  </a:lnTo>
                  <a:lnTo>
                    <a:pt x="169" y="304"/>
                  </a:lnTo>
                  <a:lnTo>
                    <a:pt x="304" y="169"/>
                  </a:lnTo>
                  <a:lnTo>
                    <a:pt x="337" y="102"/>
                  </a:lnTo>
                  <a:lnTo>
                    <a:pt x="337" y="68"/>
                  </a:lnTo>
                  <a:lnTo>
                    <a:pt x="304" y="35"/>
                  </a:lnTo>
                  <a:lnTo>
                    <a:pt x="27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7040" bIns="-77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hape 590"/>
            <p:cNvSpPr/>
            <p:nvPr/>
          </p:nvSpPr>
          <p:spPr>
            <a:xfrm>
              <a:off x="1573200" y="5173920"/>
              <a:ext cx="2549520" cy="1442880"/>
            </a:xfrm>
            <a:custGeom>
              <a:avLst/>
              <a:gdLst>
                <a:gd name="textAreaLeft" fmla="*/ 0 w 2549520"/>
                <a:gd name="textAreaRight" fmla="*/ 2549520 w 2549520"/>
                <a:gd name="textAreaTop" fmla="*/ 0 h 1442880"/>
                <a:gd name="textAreaBottom" fmla="*/ 1443240 h 1442880"/>
              </a:gdLst>
              <a:ahLst/>
              <a:rect l="textAreaLeft" t="textAreaTop" r="textAreaRight" b="textAreaBottom"/>
              <a:pathLst>
                <a:path w="38382" h="21717">
                  <a:moveTo>
                    <a:pt x="-29477" y="304"/>
                  </a:moveTo>
                  <a:lnTo>
                    <a:pt x="-29309" y="1247"/>
                  </a:lnTo>
                  <a:lnTo>
                    <a:pt x="-29141" y="2223"/>
                  </a:lnTo>
                  <a:lnTo>
                    <a:pt x="-28770" y="4142"/>
                  </a:lnTo>
                  <a:lnTo>
                    <a:pt x="-28400" y="6432"/>
                  </a:lnTo>
                  <a:lnTo>
                    <a:pt x="-28097" y="8721"/>
                  </a:lnTo>
                  <a:lnTo>
                    <a:pt x="-27827" y="10909"/>
                  </a:lnTo>
                  <a:lnTo>
                    <a:pt x="-27592" y="13098"/>
                  </a:lnTo>
                  <a:lnTo>
                    <a:pt x="-27524" y="14108"/>
                  </a:lnTo>
                  <a:lnTo>
                    <a:pt x="-27457" y="15152"/>
                  </a:lnTo>
                  <a:lnTo>
                    <a:pt x="-27423" y="15421"/>
                  </a:lnTo>
                  <a:lnTo>
                    <a:pt x="-27457" y="15791"/>
                  </a:lnTo>
                  <a:lnTo>
                    <a:pt x="-27491" y="15960"/>
                  </a:lnTo>
                  <a:lnTo>
                    <a:pt x="-27524" y="16094"/>
                  </a:lnTo>
                  <a:lnTo>
                    <a:pt x="-27625" y="16229"/>
                  </a:lnTo>
                  <a:lnTo>
                    <a:pt x="-27794" y="16296"/>
                  </a:lnTo>
                  <a:lnTo>
                    <a:pt x="-27962" y="16330"/>
                  </a:lnTo>
                  <a:lnTo>
                    <a:pt x="-28097" y="16397"/>
                  </a:lnTo>
                  <a:lnTo>
                    <a:pt x="28685" y="17609"/>
                  </a:lnTo>
                  <a:lnTo>
                    <a:pt x="19932" y="18855"/>
                  </a:lnTo>
                  <a:lnTo>
                    <a:pt x="15488" y="19495"/>
                  </a:lnTo>
                  <a:lnTo>
                    <a:pt x="11043" y="20202"/>
                  </a:lnTo>
                  <a:lnTo>
                    <a:pt x="6633" y="20976"/>
                  </a:lnTo>
                  <a:lnTo>
                    <a:pt x="4276" y="21414"/>
                  </a:lnTo>
                  <a:lnTo>
                    <a:pt x="3805" y="21481"/>
                  </a:lnTo>
                  <a:lnTo>
                    <a:pt x="3333" y="21549"/>
                  </a:lnTo>
                  <a:lnTo>
                    <a:pt x="3098" y="21549"/>
                  </a:lnTo>
                  <a:lnTo>
                    <a:pt x="2862" y="21515"/>
                  </a:lnTo>
                  <a:lnTo>
                    <a:pt x="2626" y="21448"/>
                  </a:lnTo>
                  <a:lnTo>
                    <a:pt x="2424" y="21313"/>
                  </a:lnTo>
                  <a:lnTo>
                    <a:pt x="2054" y="19360"/>
                  </a:lnTo>
                  <a:lnTo>
                    <a:pt x="1751" y="17407"/>
                  </a:lnTo>
                  <a:lnTo>
                    <a:pt x="1448" y="15488"/>
                  </a:lnTo>
                  <a:lnTo>
                    <a:pt x="1179" y="13502"/>
                  </a:lnTo>
                  <a:lnTo>
                    <a:pt x="674" y="9630"/>
                  </a:lnTo>
                  <a:lnTo>
                    <a:pt x="438" y="7745"/>
                  </a:lnTo>
                  <a:lnTo>
                    <a:pt x="303" y="6768"/>
                  </a:lnTo>
                  <a:lnTo>
                    <a:pt x="101" y="5859"/>
                  </a:lnTo>
                  <a:lnTo>
                    <a:pt x="4579" y="5119"/>
                  </a:lnTo>
                  <a:lnTo>
                    <a:pt x="9091" y="4445"/>
                  </a:lnTo>
                  <a:lnTo>
                    <a:pt x="18080" y="3199"/>
                  </a:lnTo>
                  <a:lnTo>
                    <a:pt x="22592" y="2526"/>
                  </a:lnTo>
                  <a:lnTo>
                    <a:pt x="27103" y="1853"/>
                  </a:lnTo>
                  <a:lnTo>
                    <a:pt x="31581" y="1112"/>
                  </a:lnTo>
                  <a:lnTo>
                    <a:pt x="-31699" y="708"/>
                  </a:lnTo>
                  <a:lnTo>
                    <a:pt x="-29477" y="304"/>
                  </a:lnTo>
                  <a:close/>
                  <a:moveTo>
                    <a:pt x="-29444" y="1"/>
                  </a:moveTo>
                  <a:lnTo>
                    <a:pt x="-29511" y="35"/>
                  </a:lnTo>
                  <a:lnTo>
                    <a:pt x="-29511" y="68"/>
                  </a:lnTo>
                  <a:lnTo>
                    <a:pt x="-29511" y="102"/>
                  </a:lnTo>
                  <a:lnTo>
                    <a:pt x="-31733" y="540"/>
                  </a:lnTo>
                  <a:lnTo>
                    <a:pt x="31547" y="910"/>
                  </a:lnTo>
                  <a:lnTo>
                    <a:pt x="29291" y="1280"/>
                  </a:lnTo>
                  <a:lnTo>
                    <a:pt x="27069" y="1651"/>
                  </a:lnTo>
                  <a:lnTo>
                    <a:pt x="22558" y="2290"/>
                  </a:lnTo>
                  <a:lnTo>
                    <a:pt x="18046" y="2930"/>
                  </a:lnTo>
                  <a:lnTo>
                    <a:pt x="13535" y="3536"/>
                  </a:lnTo>
                  <a:lnTo>
                    <a:pt x="9023" y="4176"/>
                  </a:lnTo>
                  <a:lnTo>
                    <a:pt x="6768" y="4546"/>
                  </a:lnTo>
                  <a:lnTo>
                    <a:pt x="4545" y="4916"/>
                  </a:lnTo>
                  <a:lnTo>
                    <a:pt x="2290" y="5287"/>
                  </a:lnTo>
                  <a:lnTo>
                    <a:pt x="68" y="5725"/>
                  </a:lnTo>
                  <a:lnTo>
                    <a:pt x="34" y="5725"/>
                  </a:lnTo>
                  <a:lnTo>
                    <a:pt x="0" y="5758"/>
                  </a:lnTo>
                  <a:lnTo>
                    <a:pt x="34" y="5826"/>
                  </a:lnTo>
                  <a:lnTo>
                    <a:pt x="68" y="6768"/>
                  </a:lnTo>
                  <a:lnTo>
                    <a:pt x="169" y="7745"/>
                  </a:lnTo>
                  <a:lnTo>
                    <a:pt x="438" y="9630"/>
                  </a:lnTo>
                  <a:lnTo>
                    <a:pt x="1010" y="13771"/>
                  </a:lnTo>
                  <a:lnTo>
                    <a:pt x="1212" y="15589"/>
                  </a:lnTo>
                  <a:lnTo>
                    <a:pt x="1482" y="17441"/>
                  </a:lnTo>
                  <a:lnTo>
                    <a:pt x="1751" y="19259"/>
                  </a:lnTo>
                  <a:lnTo>
                    <a:pt x="1919" y="20134"/>
                  </a:lnTo>
                  <a:lnTo>
                    <a:pt x="2155" y="21043"/>
                  </a:lnTo>
                  <a:lnTo>
                    <a:pt x="2088" y="21077"/>
                  </a:lnTo>
                  <a:lnTo>
                    <a:pt x="2054" y="21111"/>
                  </a:lnTo>
                  <a:lnTo>
                    <a:pt x="2054" y="21144"/>
                  </a:lnTo>
                  <a:lnTo>
                    <a:pt x="2222" y="21347"/>
                  </a:lnTo>
                  <a:lnTo>
                    <a:pt x="2222" y="21380"/>
                  </a:lnTo>
                  <a:lnTo>
                    <a:pt x="2256" y="21414"/>
                  </a:lnTo>
                  <a:lnTo>
                    <a:pt x="2323" y="21448"/>
                  </a:lnTo>
                  <a:lnTo>
                    <a:pt x="2492" y="21582"/>
                  </a:lnTo>
                  <a:lnTo>
                    <a:pt x="2694" y="21650"/>
                  </a:lnTo>
                  <a:lnTo>
                    <a:pt x="2929" y="21717"/>
                  </a:lnTo>
                  <a:lnTo>
                    <a:pt x="3603" y="21717"/>
                  </a:lnTo>
                  <a:lnTo>
                    <a:pt x="4074" y="21650"/>
                  </a:lnTo>
                  <a:lnTo>
                    <a:pt x="6431" y="21246"/>
                  </a:lnTo>
                  <a:lnTo>
                    <a:pt x="8754" y="20808"/>
                  </a:lnTo>
                  <a:lnTo>
                    <a:pt x="11178" y="20404"/>
                  </a:lnTo>
                  <a:lnTo>
                    <a:pt x="13569" y="20000"/>
                  </a:lnTo>
                  <a:lnTo>
                    <a:pt x="18417" y="19293"/>
                  </a:lnTo>
                  <a:lnTo>
                    <a:pt x="27844" y="17946"/>
                  </a:lnTo>
                  <a:lnTo>
                    <a:pt x="-28265" y="16633"/>
                  </a:lnTo>
                  <a:lnTo>
                    <a:pt x="-28198" y="16700"/>
                  </a:lnTo>
                  <a:lnTo>
                    <a:pt x="-28164" y="16700"/>
                  </a:lnTo>
                  <a:lnTo>
                    <a:pt x="-28131" y="16667"/>
                  </a:lnTo>
                  <a:lnTo>
                    <a:pt x="-27996" y="16633"/>
                  </a:lnTo>
                  <a:lnTo>
                    <a:pt x="-27895" y="16566"/>
                  </a:lnTo>
                  <a:lnTo>
                    <a:pt x="-27794" y="16566"/>
                  </a:lnTo>
                  <a:lnTo>
                    <a:pt x="-27726" y="16532"/>
                  </a:lnTo>
                  <a:lnTo>
                    <a:pt x="-27592" y="16498"/>
                  </a:lnTo>
                  <a:lnTo>
                    <a:pt x="-27457" y="16431"/>
                  </a:lnTo>
                  <a:lnTo>
                    <a:pt x="-27322" y="16330"/>
                  </a:lnTo>
                  <a:lnTo>
                    <a:pt x="-27255" y="16162"/>
                  </a:lnTo>
                  <a:lnTo>
                    <a:pt x="-27221" y="15960"/>
                  </a:lnTo>
                  <a:lnTo>
                    <a:pt x="-27188" y="15724"/>
                  </a:lnTo>
                  <a:lnTo>
                    <a:pt x="-27154" y="15286"/>
                  </a:lnTo>
                  <a:lnTo>
                    <a:pt x="-27221" y="14377"/>
                  </a:lnTo>
                  <a:lnTo>
                    <a:pt x="-27322" y="13165"/>
                  </a:lnTo>
                  <a:lnTo>
                    <a:pt x="-27457" y="11919"/>
                  </a:lnTo>
                  <a:lnTo>
                    <a:pt x="-27726" y="9495"/>
                  </a:lnTo>
                  <a:lnTo>
                    <a:pt x="-28063" y="7172"/>
                  </a:lnTo>
                  <a:lnTo>
                    <a:pt x="-28400" y="4849"/>
                  </a:lnTo>
                  <a:lnTo>
                    <a:pt x="-28602" y="3637"/>
                  </a:lnTo>
                  <a:lnTo>
                    <a:pt x="-28804" y="2425"/>
                  </a:lnTo>
                  <a:lnTo>
                    <a:pt x="-29040" y="1213"/>
                  </a:lnTo>
                  <a:lnTo>
                    <a:pt x="-29208" y="641"/>
                  </a:lnTo>
                  <a:lnTo>
                    <a:pt x="-29343" y="35"/>
                  </a:lnTo>
                  <a:lnTo>
                    <a:pt x="-2941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hape 591"/>
            <p:cNvSpPr/>
            <p:nvPr/>
          </p:nvSpPr>
          <p:spPr>
            <a:xfrm>
              <a:off x="1684080" y="21812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6280" bIns="-116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hape 592"/>
            <p:cNvSpPr/>
            <p:nvPr/>
          </p:nvSpPr>
          <p:spPr>
            <a:xfrm>
              <a:off x="1655640" y="5758200"/>
              <a:ext cx="153720" cy="1666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24" h="2526">
                  <a:moveTo>
                    <a:pt x="1953" y="202"/>
                  </a:moveTo>
                  <a:lnTo>
                    <a:pt x="1953" y="640"/>
                  </a:lnTo>
                  <a:lnTo>
                    <a:pt x="1986" y="1111"/>
                  </a:lnTo>
                  <a:lnTo>
                    <a:pt x="2054" y="1583"/>
                  </a:lnTo>
                  <a:lnTo>
                    <a:pt x="2155" y="2020"/>
                  </a:lnTo>
                  <a:lnTo>
                    <a:pt x="2188" y="2054"/>
                  </a:lnTo>
                  <a:lnTo>
                    <a:pt x="2155" y="2054"/>
                  </a:lnTo>
                  <a:lnTo>
                    <a:pt x="1751" y="2088"/>
                  </a:lnTo>
                  <a:lnTo>
                    <a:pt x="1347" y="2155"/>
                  </a:lnTo>
                  <a:lnTo>
                    <a:pt x="943" y="2189"/>
                  </a:lnTo>
                  <a:lnTo>
                    <a:pt x="505" y="2222"/>
                  </a:lnTo>
                  <a:lnTo>
                    <a:pt x="337" y="1347"/>
                  </a:lnTo>
                  <a:lnTo>
                    <a:pt x="168" y="404"/>
                  </a:lnTo>
                  <a:lnTo>
                    <a:pt x="606" y="404"/>
                  </a:lnTo>
                  <a:lnTo>
                    <a:pt x="1077" y="371"/>
                  </a:lnTo>
                  <a:lnTo>
                    <a:pt x="1953" y="202"/>
                  </a:lnTo>
                  <a:close/>
                  <a:moveTo>
                    <a:pt x="1953" y="0"/>
                  </a:moveTo>
                  <a:lnTo>
                    <a:pt x="1044" y="135"/>
                  </a:lnTo>
                  <a:lnTo>
                    <a:pt x="572" y="202"/>
                  </a:lnTo>
                  <a:lnTo>
                    <a:pt x="101" y="303"/>
                  </a:lnTo>
                  <a:lnTo>
                    <a:pt x="67" y="303"/>
                  </a:lnTo>
                  <a:lnTo>
                    <a:pt x="67" y="371"/>
                  </a:lnTo>
                  <a:lnTo>
                    <a:pt x="34" y="371"/>
                  </a:lnTo>
                  <a:lnTo>
                    <a:pt x="0" y="404"/>
                  </a:lnTo>
                  <a:lnTo>
                    <a:pt x="34" y="943"/>
                  </a:lnTo>
                  <a:lnTo>
                    <a:pt x="135" y="1448"/>
                  </a:lnTo>
                  <a:lnTo>
                    <a:pt x="236" y="1987"/>
                  </a:lnTo>
                  <a:lnTo>
                    <a:pt x="370" y="2458"/>
                  </a:lnTo>
                  <a:lnTo>
                    <a:pt x="404" y="2525"/>
                  </a:lnTo>
                  <a:lnTo>
                    <a:pt x="471" y="2525"/>
                  </a:lnTo>
                  <a:lnTo>
                    <a:pt x="539" y="2492"/>
                  </a:lnTo>
                  <a:lnTo>
                    <a:pt x="572" y="2424"/>
                  </a:lnTo>
                  <a:lnTo>
                    <a:pt x="539" y="2357"/>
                  </a:lnTo>
                  <a:lnTo>
                    <a:pt x="943" y="2391"/>
                  </a:lnTo>
                  <a:lnTo>
                    <a:pt x="1380" y="2357"/>
                  </a:lnTo>
                  <a:lnTo>
                    <a:pt x="1784" y="2290"/>
                  </a:lnTo>
                  <a:lnTo>
                    <a:pt x="2188" y="2189"/>
                  </a:lnTo>
                  <a:lnTo>
                    <a:pt x="2222" y="2121"/>
                  </a:lnTo>
                  <a:lnTo>
                    <a:pt x="2222" y="2088"/>
                  </a:lnTo>
                  <a:lnTo>
                    <a:pt x="2289" y="2054"/>
                  </a:lnTo>
                  <a:lnTo>
                    <a:pt x="2323" y="1987"/>
                  </a:lnTo>
                  <a:lnTo>
                    <a:pt x="2289" y="1549"/>
                  </a:lnTo>
                  <a:lnTo>
                    <a:pt x="2222" y="1078"/>
                  </a:lnTo>
                  <a:lnTo>
                    <a:pt x="2121" y="606"/>
                  </a:lnTo>
                  <a:lnTo>
                    <a:pt x="2054" y="169"/>
                  </a:lnTo>
                  <a:lnTo>
                    <a:pt x="2054" y="101"/>
                  </a:lnTo>
                  <a:lnTo>
                    <a:pt x="2054" y="68"/>
                  </a:lnTo>
                  <a:lnTo>
                    <a:pt x="2020" y="34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0040" bIns="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hape 593"/>
            <p:cNvSpPr/>
            <p:nvPr/>
          </p:nvSpPr>
          <p:spPr>
            <a:xfrm>
              <a:off x="1660320" y="2158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5" h="405">
                  <a:moveTo>
                    <a:pt x="202" y="0"/>
                  </a:moveTo>
                  <a:lnTo>
                    <a:pt x="101" y="34"/>
                  </a:lnTo>
                  <a:lnTo>
                    <a:pt x="68" y="68"/>
                  </a:lnTo>
                  <a:lnTo>
                    <a:pt x="34" y="135"/>
                  </a:lnTo>
                  <a:lnTo>
                    <a:pt x="0" y="202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101" y="371"/>
                  </a:lnTo>
                  <a:lnTo>
                    <a:pt x="169" y="404"/>
                  </a:lnTo>
                  <a:lnTo>
                    <a:pt x="270" y="404"/>
                  </a:lnTo>
                  <a:lnTo>
                    <a:pt x="303" y="371"/>
                  </a:lnTo>
                  <a:lnTo>
                    <a:pt x="371" y="337"/>
                  </a:lnTo>
                  <a:lnTo>
                    <a:pt x="404" y="236"/>
                  </a:lnTo>
                  <a:lnTo>
                    <a:pt x="404" y="169"/>
                  </a:lnTo>
                  <a:lnTo>
                    <a:pt x="404" y="101"/>
                  </a:lnTo>
                  <a:lnTo>
                    <a:pt x="337" y="3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hape 594"/>
            <p:cNvSpPr/>
            <p:nvPr/>
          </p:nvSpPr>
          <p:spPr>
            <a:xfrm>
              <a:off x="1704960" y="6059880"/>
              <a:ext cx="274320" cy="1666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142" h="2526">
                  <a:moveTo>
                    <a:pt x="3738" y="169"/>
                  </a:moveTo>
                  <a:lnTo>
                    <a:pt x="3704" y="337"/>
                  </a:lnTo>
                  <a:lnTo>
                    <a:pt x="3738" y="472"/>
                  </a:lnTo>
                  <a:lnTo>
                    <a:pt x="3772" y="809"/>
                  </a:lnTo>
                  <a:lnTo>
                    <a:pt x="3906" y="1751"/>
                  </a:lnTo>
                  <a:lnTo>
                    <a:pt x="3065" y="1852"/>
                  </a:lnTo>
                  <a:lnTo>
                    <a:pt x="2223" y="1953"/>
                  </a:lnTo>
                  <a:lnTo>
                    <a:pt x="1347" y="2088"/>
                  </a:lnTo>
                  <a:lnTo>
                    <a:pt x="910" y="2189"/>
                  </a:lnTo>
                  <a:lnTo>
                    <a:pt x="674" y="2256"/>
                  </a:lnTo>
                  <a:lnTo>
                    <a:pt x="506" y="2357"/>
                  </a:lnTo>
                  <a:lnTo>
                    <a:pt x="337" y="1381"/>
                  </a:lnTo>
                  <a:lnTo>
                    <a:pt x="270" y="1011"/>
                  </a:lnTo>
                  <a:lnTo>
                    <a:pt x="236" y="809"/>
                  </a:lnTo>
                  <a:lnTo>
                    <a:pt x="169" y="640"/>
                  </a:lnTo>
                  <a:lnTo>
                    <a:pt x="1044" y="472"/>
                  </a:lnTo>
                  <a:lnTo>
                    <a:pt x="1953" y="371"/>
                  </a:lnTo>
                  <a:lnTo>
                    <a:pt x="3738" y="169"/>
                  </a:lnTo>
                  <a:close/>
                  <a:moveTo>
                    <a:pt x="3267" y="1"/>
                  </a:moveTo>
                  <a:lnTo>
                    <a:pt x="2728" y="68"/>
                  </a:lnTo>
                  <a:lnTo>
                    <a:pt x="1684" y="203"/>
                  </a:lnTo>
                  <a:lnTo>
                    <a:pt x="876" y="304"/>
                  </a:lnTo>
                  <a:lnTo>
                    <a:pt x="472" y="405"/>
                  </a:lnTo>
                  <a:lnTo>
                    <a:pt x="270" y="472"/>
                  </a:lnTo>
                  <a:lnTo>
                    <a:pt x="135" y="573"/>
                  </a:lnTo>
                  <a:lnTo>
                    <a:pt x="102" y="506"/>
                  </a:lnTo>
                  <a:lnTo>
                    <a:pt x="68" y="539"/>
                  </a:lnTo>
                  <a:lnTo>
                    <a:pt x="1" y="708"/>
                  </a:lnTo>
                  <a:lnTo>
                    <a:pt x="34" y="910"/>
                  </a:lnTo>
                  <a:lnTo>
                    <a:pt x="102" y="1280"/>
                  </a:lnTo>
                  <a:lnTo>
                    <a:pt x="304" y="2425"/>
                  </a:lnTo>
                  <a:lnTo>
                    <a:pt x="337" y="2492"/>
                  </a:lnTo>
                  <a:lnTo>
                    <a:pt x="405" y="2526"/>
                  </a:lnTo>
                  <a:lnTo>
                    <a:pt x="472" y="2492"/>
                  </a:lnTo>
                  <a:lnTo>
                    <a:pt x="506" y="2425"/>
                  </a:lnTo>
                  <a:lnTo>
                    <a:pt x="506" y="2391"/>
                  </a:lnTo>
                  <a:lnTo>
                    <a:pt x="876" y="2391"/>
                  </a:lnTo>
                  <a:lnTo>
                    <a:pt x="1246" y="2324"/>
                  </a:lnTo>
                  <a:lnTo>
                    <a:pt x="2021" y="2155"/>
                  </a:lnTo>
                  <a:lnTo>
                    <a:pt x="2997" y="2021"/>
                  </a:lnTo>
                  <a:lnTo>
                    <a:pt x="3974" y="1920"/>
                  </a:lnTo>
                  <a:lnTo>
                    <a:pt x="3974" y="1987"/>
                  </a:lnTo>
                  <a:lnTo>
                    <a:pt x="4007" y="2021"/>
                  </a:lnTo>
                  <a:lnTo>
                    <a:pt x="4075" y="2054"/>
                  </a:lnTo>
                  <a:lnTo>
                    <a:pt x="4108" y="2021"/>
                  </a:lnTo>
                  <a:lnTo>
                    <a:pt x="4142" y="1953"/>
                  </a:lnTo>
                  <a:lnTo>
                    <a:pt x="4075" y="1448"/>
                  </a:lnTo>
                  <a:lnTo>
                    <a:pt x="4007" y="910"/>
                  </a:lnTo>
                  <a:lnTo>
                    <a:pt x="3974" y="539"/>
                  </a:lnTo>
                  <a:lnTo>
                    <a:pt x="3940" y="337"/>
                  </a:lnTo>
                  <a:lnTo>
                    <a:pt x="3839" y="135"/>
                  </a:lnTo>
                  <a:lnTo>
                    <a:pt x="3873" y="102"/>
                  </a:lnTo>
                  <a:lnTo>
                    <a:pt x="3873" y="34"/>
                  </a:lnTo>
                  <a:lnTo>
                    <a:pt x="383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0040" bIns="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hape 595"/>
            <p:cNvSpPr/>
            <p:nvPr/>
          </p:nvSpPr>
          <p:spPr>
            <a:xfrm>
              <a:off x="750600" y="1865160"/>
              <a:ext cx="303120" cy="2505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580" h="3772">
                  <a:moveTo>
                    <a:pt x="2391" y="1583"/>
                  </a:moveTo>
                  <a:lnTo>
                    <a:pt x="2425" y="1651"/>
                  </a:lnTo>
                  <a:lnTo>
                    <a:pt x="2559" y="1718"/>
                  </a:lnTo>
                  <a:lnTo>
                    <a:pt x="2660" y="1819"/>
                  </a:lnTo>
                  <a:lnTo>
                    <a:pt x="2694" y="1954"/>
                  </a:lnTo>
                  <a:lnTo>
                    <a:pt x="2728" y="2088"/>
                  </a:lnTo>
                  <a:lnTo>
                    <a:pt x="2694" y="2223"/>
                  </a:lnTo>
                  <a:lnTo>
                    <a:pt x="2660" y="2324"/>
                  </a:lnTo>
                  <a:lnTo>
                    <a:pt x="2559" y="2425"/>
                  </a:lnTo>
                  <a:lnTo>
                    <a:pt x="2425" y="2526"/>
                  </a:lnTo>
                  <a:lnTo>
                    <a:pt x="2357" y="2560"/>
                  </a:lnTo>
                  <a:lnTo>
                    <a:pt x="2324" y="2627"/>
                  </a:lnTo>
                  <a:lnTo>
                    <a:pt x="2290" y="2964"/>
                  </a:lnTo>
                  <a:lnTo>
                    <a:pt x="2256" y="3267"/>
                  </a:lnTo>
                  <a:lnTo>
                    <a:pt x="1819" y="3199"/>
                  </a:lnTo>
                  <a:lnTo>
                    <a:pt x="1819" y="2896"/>
                  </a:lnTo>
                  <a:lnTo>
                    <a:pt x="1920" y="2627"/>
                  </a:lnTo>
                  <a:lnTo>
                    <a:pt x="1920" y="2526"/>
                  </a:lnTo>
                  <a:lnTo>
                    <a:pt x="1886" y="2492"/>
                  </a:lnTo>
                  <a:lnTo>
                    <a:pt x="1852" y="2459"/>
                  </a:lnTo>
                  <a:lnTo>
                    <a:pt x="1718" y="2391"/>
                  </a:lnTo>
                  <a:lnTo>
                    <a:pt x="1617" y="2324"/>
                  </a:lnTo>
                  <a:lnTo>
                    <a:pt x="1549" y="2223"/>
                  </a:lnTo>
                  <a:lnTo>
                    <a:pt x="1549" y="2122"/>
                  </a:lnTo>
                  <a:lnTo>
                    <a:pt x="1549" y="1987"/>
                  </a:lnTo>
                  <a:lnTo>
                    <a:pt x="1583" y="1886"/>
                  </a:lnTo>
                  <a:lnTo>
                    <a:pt x="1650" y="1752"/>
                  </a:lnTo>
                  <a:lnTo>
                    <a:pt x="1751" y="1684"/>
                  </a:lnTo>
                  <a:lnTo>
                    <a:pt x="1920" y="1617"/>
                  </a:lnTo>
                  <a:lnTo>
                    <a:pt x="2054" y="1583"/>
                  </a:lnTo>
                  <a:close/>
                  <a:moveTo>
                    <a:pt x="775" y="270"/>
                  </a:moveTo>
                  <a:lnTo>
                    <a:pt x="1213" y="472"/>
                  </a:lnTo>
                  <a:lnTo>
                    <a:pt x="1650" y="607"/>
                  </a:lnTo>
                  <a:lnTo>
                    <a:pt x="2088" y="708"/>
                  </a:lnTo>
                  <a:lnTo>
                    <a:pt x="2559" y="775"/>
                  </a:lnTo>
                  <a:lnTo>
                    <a:pt x="3536" y="843"/>
                  </a:lnTo>
                  <a:lnTo>
                    <a:pt x="4445" y="910"/>
                  </a:lnTo>
                  <a:lnTo>
                    <a:pt x="4310" y="1213"/>
                  </a:lnTo>
                  <a:lnTo>
                    <a:pt x="4175" y="1516"/>
                  </a:lnTo>
                  <a:lnTo>
                    <a:pt x="4007" y="2156"/>
                  </a:lnTo>
                  <a:lnTo>
                    <a:pt x="3670" y="3469"/>
                  </a:lnTo>
                  <a:lnTo>
                    <a:pt x="3670" y="3502"/>
                  </a:lnTo>
                  <a:lnTo>
                    <a:pt x="3064" y="3368"/>
                  </a:lnTo>
                  <a:lnTo>
                    <a:pt x="2492" y="3300"/>
                  </a:lnTo>
                  <a:lnTo>
                    <a:pt x="2559" y="2997"/>
                  </a:lnTo>
                  <a:lnTo>
                    <a:pt x="2559" y="2728"/>
                  </a:lnTo>
                  <a:lnTo>
                    <a:pt x="2728" y="2593"/>
                  </a:lnTo>
                  <a:lnTo>
                    <a:pt x="2862" y="2425"/>
                  </a:lnTo>
                  <a:lnTo>
                    <a:pt x="2930" y="2257"/>
                  </a:lnTo>
                  <a:lnTo>
                    <a:pt x="2963" y="2088"/>
                  </a:lnTo>
                  <a:lnTo>
                    <a:pt x="2930" y="1886"/>
                  </a:lnTo>
                  <a:lnTo>
                    <a:pt x="2862" y="1718"/>
                  </a:lnTo>
                  <a:lnTo>
                    <a:pt x="2728" y="1550"/>
                  </a:lnTo>
                  <a:lnTo>
                    <a:pt x="2559" y="1449"/>
                  </a:lnTo>
                  <a:lnTo>
                    <a:pt x="2458" y="1415"/>
                  </a:lnTo>
                  <a:lnTo>
                    <a:pt x="2391" y="1482"/>
                  </a:lnTo>
                  <a:lnTo>
                    <a:pt x="2290" y="1415"/>
                  </a:lnTo>
                  <a:lnTo>
                    <a:pt x="2155" y="1381"/>
                  </a:lnTo>
                  <a:lnTo>
                    <a:pt x="2021" y="1381"/>
                  </a:lnTo>
                  <a:lnTo>
                    <a:pt x="1886" y="1415"/>
                  </a:lnTo>
                  <a:lnTo>
                    <a:pt x="1751" y="1449"/>
                  </a:lnTo>
                  <a:lnTo>
                    <a:pt x="1617" y="1550"/>
                  </a:lnTo>
                  <a:lnTo>
                    <a:pt x="1516" y="1617"/>
                  </a:lnTo>
                  <a:lnTo>
                    <a:pt x="1415" y="1752"/>
                  </a:lnTo>
                  <a:lnTo>
                    <a:pt x="1347" y="1853"/>
                  </a:lnTo>
                  <a:lnTo>
                    <a:pt x="1314" y="1987"/>
                  </a:lnTo>
                  <a:lnTo>
                    <a:pt x="1314" y="2122"/>
                  </a:lnTo>
                  <a:lnTo>
                    <a:pt x="1347" y="2257"/>
                  </a:lnTo>
                  <a:lnTo>
                    <a:pt x="1381" y="2358"/>
                  </a:lnTo>
                  <a:lnTo>
                    <a:pt x="1448" y="2459"/>
                  </a:lnTo>
                  <a:lnTo>
                    <a:pt x="1549" y="2560"/>
                  </a:lnTo>
                  <a:lnTo>
                    <a:pt x="1684" y="2627"/>
                  </a:lnTo>
                  <a:lnTo>
                    <a:pt x="1583" y="2896"/>
                  </a:lnTo>
                  <a:lnTo>
                    <a:pt x="1583" y="3166"/>
                  </a:lnTo>
                  <a:lnTo>
                    <a:pt x="876" y="3065"/>
                  </a:lnTo>
                  <a:lnTo>
                    <a:pt x="539" y="3031"/>
                  </a:lnTo>
                  <a:lnTo>
                    <a:pt x="202" y="3031"/>
                  </a:lnTo>
                  <a:lnTo>
                    <a:pt x="337" y="2358"/>
                  </a:lnTo>
                  <a:lnTo>
                    <a:pt x="505" y="1651"/>
                  </a:lnTo>
                  <a:lnTo>
                    <a:pt x="640" y="977"/>
                  </a:lnTo>
                  <a:lnTo>
                    <a:pt x="775" y="270"/>
                  </a:lnTo>
                  <a:close/>
                  <a:moveTo>
                    <a:pt x="741" y="1"/>
                  </a:moveTo>
                  <a:lnTo>
                    <a:pt x="707" y="68"/>
                  </a:lnTo>
                  <a:lnTo>
                    <a:pt x="472" y="775"/>
                  </a:lnTo>
                  <a:lnTo>
                    <a:pt x="270" y="1516"/>
                  </a:lnTo>
                  <a:lnTo>
                    <a:pt x="101" y="2290"/>
                  </a:lnTo>
                  <a:lnTo>
                    <a:pt x="0" y="3031"/>
                  </a:lnTo>
                  <a:lnTo>
                    <a:pt x="0" y="3098"/>
                  </a:lnTo>
                  <a:lnTo>
                    <a:pt x="34" y="3132"/>
                  </a:lnTo>
                  <a:lnTo>
                    <a:pt x="101" y="3132"/>
                  </a:lnTo>
                  <a:lnTo>
                    <a:pt x="573" y="3267"/>
                  </a:lnTo>
                  <a:lnTo>
                    <a:pt x="1044" y="3368"/>
                  </a:lnTo>
                  <a:lnTo>
                    <a:pt x="2021" y="3502"/>
                  </a:lnTo>
                  <a:lnTo>
                    <a:pt x="2997" y="3603"/>
                  </a:lnTo>
                  <a:lnTo>
                    <a:pt x="3468" y="3704"/>
                  </a:lnTo>
                  <a:lnTo>
                    <a:pt x="3940" y="3772"/>
                  </a:lnTo>
                  <a:lnTo>
                    <a:pt x="4041" y="3772"/>
                  </a:lnTo>
                  <a:lnTo>
                    <a:pt x="4108" y="3704"/>
                  </a:lnTo>
                  <a:lnTo>
                    <a:pt x="4074" y="3603"/>
                  </a:lnTo>
                  <a:lnTo>
                    <a:pt x="4074" y="3570"/>
                  </a:lnTo>
                  <a:lnTo>
                    <a:pt x="4007" y="3570"/>
                  </a:lnTo>
                  <a:lnTo>
                    <a:pt x="3906" y="3536"/>
                  </a:lnTo>
                  <a:lnTo>
                    <a:pt x="3906" y="3502"/>
                  </a:lnTo>
                  <a:lnTo>
                    <a:pt x="4310" y="2122"/>
                  </a:lnTo>
                  <a:lnTo>
                    <a:pt x="4478" y="1415"/>
                  </a:lnTo>
                  <a:lnTo>
                    <a:pt x="4546" y="1078"/>
                  </a:lnTo>
                  <a:lnTo>
                    <a:pt x="4579" y="708"/>
                  </a:lnTo>
                  <a:lnTo>
                    <a:pt x="4546" y="674"/>
                  </a:lnTo>
                  <a:lnTo>
                    <a:pt x="4546" y="708"/>
                  </a:lnTo>
                  <a:lnTo>
                    <a:pt x="4512" y="742"/>
                  </a:lnTo>
                  <a:lnTo>
                    <a:pt x="4478" y="742"/>
                  </a:lnTo>
                  <a:lnTo>
                    <a:pt x="4074" y="607"/>
                  </a:lnTo>
                  <a:lnTo>
                    <a:pt x="3637" y="573"/>
                  </a:lnTo>
                  <a:lnTo>
                    <a:pt x="2761" y="506"/>
                  </a:lnTo>
                  <a:lnTo>
                    <a:pt x="2256" y="472"/>
                  </a:lnTo>
                  <a:lnTo>
                    <a:pt x="1785" y="371"/>
                  </a:lnTo>
                  <a:lnTo>
                    <a:pt x="808" y="102"/>
                  </a:lnTo>
                  <a:lnTo>
                    <a:pt x="808" y="35"/>
                  </a:lnTo>
                  <a:lnTo>
                    <a:pt x="77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hape 596"/>
            <p:cNvSpPr/>
            <p:nvPr/>
          </p:nvSpPr>
          <p:spPr>
            <a:xfrm>
              <a:off x="1677960" y="5897880"/>
              <a:ext cx="239400" cy="1681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604" h="2526">
                  <a:moveTo>
                    <a:pt x="3199" y="337"/>
                  </a:moveTo>
                  <a:lnTo>
                    <a:pt x="3300" y="1212"/>
                  </a:lnTo>
                  <a:lnTo>
                    <a:pt x="3334" y="1583"/>
                  </a:lnTo>
                  <a:lnTo>
                    <a:pt x="3368" y="1987"/>
                  </a:lnTo>
                  <a:lnTo>
                    <a:pt x="3267" y="1919"/>
                  </a:lnTo>
                  <a:lnTo>
                    <a:pt x="2896" y="1919"/>
                  </a:lnTo>
                  <a:lnTo>
                    <a:pt x="2425" y="2020"/>
                  </a:lnTo>
                  <a:lnTo>
                    <a:pt x="1482" y="2256"/>
                  </a:lnTo>
                  <a:lnTo>
                    <a:pt x="1246" y="2290"/>
                  </a:lnTo>
                  <a:lnTo>
                    <a:pt x="977" y="2290"/>
                  </a:lnTo>
                  <a:lnTo>
                    <a:pt x="708" y="2324"/>
                  </a:lnTo>
                  <a:lnTo>
                    <a:pt x="472" y="2391"/>
                  </a:lnTo>
                  <a:lnTo>
                    <a:pt x="337" y="1919"/>
                  </a:lnTo>
                  <a:lnTo>
                    <a:pt x="236" y="1448"/>
                  </a:lnTo>
                  <a:lnTo>
                    <a:pt x="203" y="1078"/>
                  </a:lnTo>
                  <a:lnTo>
                    <a:pt x="203" y="876"/>
                  </a:lnTo>
                  <a:lnTo>
                    <a:pt x="135" y="707"/>
                  </a:lnTo>
                  <a:lnTo>
                    <a:pt x="169" y="707"/>
                  </a:lnTo>
                  <a:lnTo>
                    <a:pt x="506" y="606"/>
                  </a:lnTo>
                  <a:lnTo>
                    <a:pt x="842" y="539"/>
                  </a:lnTo>
                  <a:lnTo>
                    <a:pt x="1549" y="472"/>
                  </a:lnTo>
                  <a:lnTo>
                    <a:pt x="2357" y="371"/>
                  </a:lnTo>
                  <a:lnTo>
                    <a:pt x="3199" y="337"/>
                  </a:lnTo>
                  <a:close/>
                  <a:moveTo>
                    <a:pt x="3233" y="0"/>
                  </a:moveTo>
                  <a:lnTo>
                    <a:pt x="3165" y="34"/>
                  </a:lnTo>
                  <a:lnTo>
                    <a:pt x="3165" y="101"/>
                  </a:lnTo>
                  <a:lnTo>
                    <a:pt x="3165" y="169"/>
                  </a:lnTo>
                  <a:lnTo>
                    <a:pt x="2458" y="202"/>
                  </a:lnTo>
                  <a:lnTo>
                    <a:pt x="1751" y="270"/>
                  </a:lnTo>
                  <a:lnTo>
                    <a:pt x="943" y="337"/>
                  </a:lnTo>
                  <a:lnTo>
                    <a:pt x="539" y="438"/>
                  </a:lnTo>
                  <a:lnTo>
                    <a:pt x="169" y="539"/>
                  </a:lnTo>
                  <a:lnTo>
                    <a:pt x="135" y="606"/>
                  </a:lnTo>
                  <a:lnTo>
                    <a:pt x="135" y="674"/>
                  </a:lnTo>
                  <a:lnTo>
                    <a:pt x="102" y="606"/>
                  </a:lnTo>
                  <a:lnTo>
                    <a:pt x="68" y="606"/>
                  </a:lnTo>
                  <a:lnTo>
                    <a:pt x="34" y="707"/>
                  </a:lnTo>
                  <a:lnTo>
                    <a:pt x="1" y="808"/>
                  </a:lnTo>
                  <a:lnTo>
                    <a:pt x="1" y="1044"/>
                  </a:lnTo>
                  <a:lnTo>
                    <a:pt x="68" y="1482"/>
                  </a:lnTo>
                  <a:lnTo>
                    <a:pt x="169" y="1987"/>
                  </a:lnTo>
                  <a:lnTo>
                    <a:pt x="304" y="2458"/>
                  </a:lnTo>
                  <a:lnTo>
                    <a:pt x="337" y="2526"/>
                  </a:lnTo>
                  <a:lnTo>
                    <a:pt x="405" y="2526"/>
                  </a:lnTo>
                  <a:lnTo>
                    <a:pt x="472" y="2492"/>
                  </a:lnTo>
                  <a:lnTo>
                    <a:pt x="472" y="2425"/>
                  </a:lnTo>
                  <a:lnTo>
                    <a:pt x="842" y="2492"/>
                  </a:lnTo>
                  <a:lnTo>
                    <a:pt x="1179" y="2458"/>
                  </a:lnTo>
                  <a:lnTo>
                    <a:pt x="1549" y="2425"/>
                  </a:lnTo>
                  <a:lnTo>
                    <a:pt x="1886" y="2357"/>
                  </a:lnTo>
                  <a:lnTo>
                    <a:pt x="2290" y="2256"/>
                  </a:lnTo>
                  <a:lnTo>
                    <a:pt x="2660" y="2189"/>
                  </a:lnTo>
                  <a:lnTo>
                    <a:pt x="3031" y="2155"/>
                  </a:lnTo>
                  <a:lnTo>
                    <a:pt x="3435" y="2155"/>
                  </a:lnTo>
                  <a:lnTo>
                    <a:pt x="3435" y="2189"/>
                  </a:lnTo>
                  <a:lnTo>
                    <a:pt x="3536" y="2189"/>
                  </a:lnTo>
                  <a:lnTo>
                    <a:pt x="3570" y="2121"/>
                  </a:lnTo>
                  <a:lnTo>
                    <a:pt x="3603" y="1886"/>
                  </a:lnTo>
                  <a:lnTo>
                    <a:pt x="3603" y="1650"/>
                  </a:lnTo>
                  <a:lnTo>
                    <a:pt x="3536" y="1179"/>
                  </a:lnTo>
                  <a:lnTo>
                    <a:pt x="3469" y="606"/>
                  </a:lnTo>
                  <a:lnTo>
                    <a:pt x="3334" y="68"/>
                  </a:lnTo>
                  <a:lnTo>
                    <a:pt x="330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hape 597"/>
            <p:cNvSpPr/>
            <p:nvPr/>
          </p:nvSpPr>
          <p:spPr>
            <a:xfrm>
              <a:off x="1635120" y="2128680"/>
              <a:ext cx="90360" cy="101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347" h="1516">
                  <a:moveTo>
                    <a:pt x="842" y="236"/>
                  </a:moveTo>
                  <a:lnTo>
                    <a:pt x="909" y="270"/>
                  </a:lnTo>
                  <a:lnTo>
                    <a:pt x="1044" y="337"/>
                  </a:lnTo>
                  <a:lnTo>
                    <a:pt x="1111" y="472"/>
                  </a:lnTo>
                  <a:lnTo>
                    <a:pt x="1145" y="573"/>
                  </a:lnTo>
                  <a:lnTo>
                    <a:pt x="1145" y="708"/>
                  </a:lnTo>
                  <a:lnTo>
                    <a:pt x="1145" y="842"/>
                  </a:lnTo>
                  <a:lnTo>
                    <a:pt x="1111" y="943"/>
                  </a:lnTo>
                  <a:lnTo>
                    <a:pt x="1044" y="1044"/>
                  </a:lnTo>
                  <a:lnTo>
                    <a:pt x="976" y="1145"/>
                  </a:lnTo>
                  <a:lnTo>
                    <a:pt x="875" y="1213"/>
                  </a:lnTo>
                  <a:lnTo>
                    <a:pt x="774" y="1246"/>
                  </a:lnTo>
                  <a:lnTo>
                    <a:pt x="640" y="1280"/>
                  </a:lnTo>
                  <a:lnTo>
                    <a:pt x="505" y="1280"/>
                  </a:lnTo>
                  <a:lnTo>
                    <a:pt x="404" y="1213"/>
                  </a:lnTo>
                  <a:lnTo>
                    <a:pt x="303" y="1145"/>
                  </a:lnTo>
                  <a:lnTo>
                    <a:pt x="236" y="1078"/>
                  </a:lnTo>
                  <a:lnTo>
                    <a:pt x="202" y="943"/>
                  </a:lnTo>
                  <a:lnTo>
                    <a:pt x="202" y="708"/>
                  </a:lnTo>
                  <a:lnTo>
                    <a:pt x="236" y="472"/>
                  </a:lnTo>
                  <a:lnTo>
                    <a:pt x="269" y="371"/>
                  </a:lnTo>
                  <a:lnTo>
                    <a:pt x="337" y="304"/>
                  </a:lnTo>
                  <a:lnTo>
                    <a:pt x="404" y="270"/>
                  </a:lnTo>
                  <a:lnTo>
                    <a:pt x="505" y="236"/>
                  </a:lnTo>
                  <a:close/>
                  <a:moveTo>
                    <a:pt x="741" y="1"/>
                  </a:moveTo>
                  <a:lnTo>
                    <a:pt x="606" y="34"/>
                  </a:lnTo>
                  <a:lnTo>
                    <a:pt x="438" y="68"/>
                  </a:lnTo>
                  <a:lnTo>
                    <a:pt x="303" y="135"/>
                  </a:lnTo>
                  <a:lnTo>
                    <a:pt x="168" y="236"/>
                  </a:lnTo>
                  <a:lnTo>
                    <a:pt x="101" y="371"/>
                  </a:lnTo>
                  <a:lnTo>
                    <a:pt x="34" y="539"/>
                  </a:lnTo>
                  <a:lnTo>
                    <a:pt x="0" y="708"/>
                  </a:lnTo>
                  <a:lnTo>
                    <a:pt x="0" y="876"/>
                  </a:lnTo>
                  <a:lnTo>
                    <a:pt x="34" y="1044"/>
                  </a:lnTo>
                  <a:lnTo>
                    <a:pt x="101" y="1213"/>
                  </a:lnTo>
                  <a:lnTo>
                    <a:pt x="202" y="1314"/>
                  </a:lnTo>
                  <a:lnTo>
                    <a:pt x="337" y="1415"/>
                  </a:lnTo>
                  <a:lnTo>
                    <a:pt x="539" y="1482"/>
                  </a:lnTo>
                  <a:lnTo>
                    <a:pt x="707" y="1516"/>
                  </a:lnTo>
                  <a:lnTo>
                    <a:pt x="842" y="1448"/>
                  </a:lnTo>
                  <a:lnTo>
                    <a:pt x="976" y="1381"/>
                  </a:lnTo>
                  <a:lnTo>
                    <a:pt x="1111" y="1280"/>
                  </a:lnTo>
                  <a:lnTo>
                    <a:pt x="1212" y="1179"/>
                  </a:lnTo>
                  <a:lnTo>
                    <a:pt x="1279" y="1011"/>
                  </a:lnTo>
                  <a:lnTo>
                    <a:pt x="1347" y="876"/>
                  </a:lnTo>
                  <a:lnTo>
                    <a:pt x="1347" y="708"/>
                  </a:lnTo>
                  <a:lnTo>
                    <a:pt x="1347" y="573"/>
                  </a:lnTo>
                  <a:lnTo>
                    <a:pt x="1313" y="438"/>
                  </a:lnTo>
                  <a:lnTo>
                    <a:pt x="1212" y="304"/>
                  </a:lnTo>
                  <a:lnTo>
                    <a:pt x="1111" y="169"/>
                  </a:lnTo>
                  <a:lnTo>
                    <a:pt x="1010" y="102"/>
                  </a:lnTo>
                  <a:lnTo>
                    <a:pt x="875" y="34"/>
                  </a:lnTo>
                  <a:lnTo>
                    <a:pt x="74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5120" bIns="-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hape 598"/>
            <p:cNvSpPr/>
            <p:nvPr/>
          </p:nvSpPr>
          <p:spPr>
            <a:xfrm>
              <a:off x="871560" y="19843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3" h="539">
                  <a:moveTo>
                    <a:pt x="236" y="0"/>
                  </a:moveTo>
                  <a:lnTo>
                    <a:pt x="169" y="34"/>
                  </a:lnTo>
                  <a:lnTo>
                    <a:pt x="102" y="68"/>
                  </a:lnTo>
                  <a:lnTo>
                    <a:pt x="68" y="101"/>
                  </a:lnTo>
                  <a:lnTo>
                    <a:pt x="34" y="169"/>
                  </a:lnTo>
                  <a:lnTo>
                    <a:pt x="34" y="236"/>
                  </a:lnTo>
                  <a:lnTo>
                    <a:pt x="1" y="303"/>
                  </a:lnTo>
                  <a:lnTo>
                    <a:pt x="1" y="371"/>
                  </a:lnTo>
                  <a:lnTo>
                    <a:pt x="1" y="438"/>
                  </a:lnTo>
                  <a:lnTo>
                    <a:pt x="102" y="505"/>
                  </a:lnTo>
                  <a:lnTo>
                    <a:pt x="236" y="539"/>
                  </a:lnTo>
                  <a:lnTo>
                    <a:pt x="438" y="539"/>
                  </a:lnTo>
                  <a:lnTo>
                    <a:pt x="506" y="505"/>
                  </a:lnTo>
                  <a:lnTo>
                    <a:pt x="539" y="472"/>
                  </a:lnTo>
                  <a:lnTo>
                    <a:pt x="573" y="404"/>
                  </a:lnTo>
                  <a:lnTo>
                    <a:pt x="539" y="270"/>
                  </a:lnTo>
                  <a:lnTo>
                    <a:pt x="506" y="135"/>
                  </a:lnTo>
                  <a:lnTo>
                    <a:pt x="405" y="34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1720" bIns="-81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hape 599"/>
            <p:cNvSpPr/>
            <p:nvPr/>
          </p:nvSpPr>
          <p:spPr>
            <a:xfrm>
              <a:off x="369720" y="1765080"/>
              <a:ext cx="266400" cy="257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008" h="3873">
                  <a:moveTo>
                    <a:pt x="2088" y="270"/>
                  </a:moveTo>
                  <a:lnTo>
                    <a:pt x="2391" y="304"/>
                  </a:lnTo>
                  <a:lnTo>
                    <a:pt x="2661" y="371"/>
                  </a:lnTo>
                  <a:lnTo>
                    <a:pt x="2930" y="472"/>
                  </a:lnTo>
                  <a:lnTo>
                    <a:pt x="3166" y="641"/>
                  </a:lnTo>
                  <a:lnTo>
                    <a:pt x="3368" y="843"/>
                  </a:lnTo>
                  <a:lnTo>
                    <a:pt x="3570" y="1112"/>
                  </a:lnTo>
                  <a:lnTo>
                    <a:pt x="3671" y="1280"/>
                  </a:lnTo>
                  <a:lnTo>
                    <a:pt x="3738" y="1449"/>
                  </a:lnTo>
                  <a:lnTo>
                    <a:pt x="3772" y="1617"/>
                  </a:lnTo>
                  <a:lnTo>
                    <a:pt x="3805" y="1819"/>
                  </a:lnTo>
                  <a:lnTo>
                    <a:pt x="3772" y="1987"/>
                  </a:lnTo>
                  <a:lnTo>
                    <a:pt x="3772" y="2156"/>
                  </a:lnTo>
                  <a:lnTo>
                    <a:pt x="3637" y="2492"/>
                  </a:lnTo>
                  <a:lnTo>
                    <a:pt x="3469" y="2829"/>
                  </a:lnTo>
                  <a:lnTo>
                    <a:pt x="3233" y="3098"/>
                  </a:lnTo>
                  <a:lnTo>
                    <a:pt x="2964" y="3334"/>
                  </a:lnTo>
                  <a:lnTo>
                    <a:pt x="2627" y="3502"/>
                  </a:lnTo>
                  <a:lnTo>
                    <a:pt x="2324" y="3570"/>
                  </a:lnTo>
                  <a:lnTo>
                    <a:pt x="1987" y="3603"/>
                  </a:lnTo>
                  <a:lnTo>
                    <a:pt x="1651" y="3603"/>
                  </a:lnTo>
                  <a:lnTo>
                    <a:pt x="1348" y="3570"/>
                  </a:lnTo>
                  <a:lnTo>
                    <a:pt x="1112" y="3502"/>
                  </a:lnTo>
                  <a:lnTo>
                    <a:pt x="944" y="3435"/>
                  </a:lnTo>
                  <a:lnTo>
                    <a:pt x="775" y="3334"/>
                  </a:lnTo>
                  <a:lnTo>
                    <a:pt x="641" y="3199"/>
                  </a:lnTo>
                  <a:lnTo>
                    <a:pt x="506" y="3031"/>
                  </a:lnTo>
                  <a:lnTo>
                    <a:pt x="405" y="2863"/>
                  </a:lnTo>
                  <a:lnTo>
                    <a:pt x="338" y="2694"/>
                  </a:lnTo>
                  <a:lnTo>
                    <a:pt x="270" y="2459"/>
                  </a:lnTo>
                  <a:lnTo>
                    <a:pt x="237" y="2122"/>
                  </a:lnTo>
                  <a:lnTo>
                    <a:pt x="237" y="1785"/>
                  </a:lnTo>
                  <a:lnTo>
                    <a:pt x="338" y="1449"/>
                  </a:lnTo>
                  <a:lnTo>
                    <a:pt x="439" y="1146"/>
                  </a:lnTo>
                  <a:lnTo>
                    <a:pt x="641" y="876"/>
                  </a:lnTo>
                  <a:lnTo>
                    <a:pt x="843" y="674"/>
                  </a:lnTo>
                  <a:lnTo>
                    <a:pt x="1112" y="472"/>
                  </a:lnTo>
                  <a:lnTo>
                    <a:pt x="1415" y="338"/>
                  </a:lnTo>
                  <a:lnTo>
                    <a:pt x="1482" y="338"/>
                  </a:lnTo>
                  <a:lnTo>
                    <a:pt x="1785" y="304"/>
                  </a:lnTo>
                  <a:lnTo>
                    <a:pt x="2088" y="270"/>
                  </a:lnTo>
                  <a:close/>
                  <a:moveTo>
                    <a:pt x="1987" y="1"/>
                  </a:moveTo>
                  <a:lnTo>
                    <a:pt x="1651" y="35"/>
                  </a:lnTo>
                  <a:lnTo>
                    <a:pt x="1449" y="68"/>
                  </a:lnTo>
                  <a:lnTo>
                    <a:pt x="1280" y="136"/>
                  </a:lnTo>
                  <a:lnTo>
                    <a:pt x="1112" y="203"/>
                  </a:lnTo>
                  <a:lnTo>
                    <a:pt x="944" y="270"/>
                  </a:lnTo>
                  <a:lnTo>
                    <a:pt x="775" y="405"/>
                  </a:lnTo>
                  <a:lnTo>
                    <a:pt x="641" y="506"/>
                  </a:lnTo>
                  <a:lnTo>
                    <a:pt x="405" y="809"/>
                  </a:lnTo>
                  <a:lnTo>
                    <a:pt x="203" y="1112"/>
                  </a:lnTo>
                  <a:lnTo>
                    <a:pt x="68" y="1482"/>
                  </a:lnTo>
                  <a:lnTo>
                    <a:pt x="1" y="1886"/>
                  </a:lnTo>
                  <a:lnTo>
                    <a:pt x="1" y="2290"/>
                  </a:lnTo>
                  <a:lnTo>
                    <a:pt x="35" y="2526"/>
                  </a:lnTo>
                  <a:lnTo>
                    <a:pt x="68" y="2762"/>
                  </a:lnTo>
                  <a:lnTo>
                    <a:pt x="136" y="2964"/>
                  </a:lnTo>
                  <a:lnTo>
                    <a:pt x="237" y="3166"/>
                  </a:lnTo>
                  <a:lnTo>
                    <a:pt x="371" y="3300"/>
                  </a:lnTo>
                  <a:lnTo>
                    <a:pt x="506" y="3435"/>
                  </a:lnTo>
                  <a:lnTo>
                    <a:pt x="674" y="3570"/>
                  </a:lnTo>
                  <a:lnTo>
                    <a:pt x="843" y="3671"/>
                  </a:lnTo>
                  <a:lnTo>
                    <a:pt x="1011" y="3738"/>
                  </a:lnTo>
                  <a:lnTo>
                    <a:pt x="1213" y="3805"/>
                  </a:lnTo>
                  <a:lnTo>
                    <a:pt x="1617" y="3873"/>
                  </a:lnTo>
                  <a:lnTo>
                    <a:pt x="2055" y="3873"/>
                  </a:lnTo>
                  <a:lnTo>
                    <a:pt x="2526" y="3805"/>
                  </a:lnTo>
                  <a:lnTo>
                    <a:pt x="2728" y="3772"/>
                  </a:lnTo>
                  <a:lnTo>
                    <a:pt x="2930" y="3671"/>
                  </a:lnTo>
                  <a:lnTo>
                    <a:pt x="3132" y="3570"/>
                  </a:lnTo>
                  <a:lnTo>
                    <a:pt x="3300" y="3469"/>
                  </a:lnTo>
                  <a:lnTo>
                    <a:pt x="3435" y="3300"/>
                  </a:lnTo>
                  <a:lnTo>
                    <a:pt x="3570" y="3166"/>
                  </a:lnTo>
                  <a:lnTo>
                    <a:pt x="3704" y="2997"/>
                  </a:lnTo>
                  <a:lnTo>
                    <a:pt x="3805" y="2795"/>
                  </a:lnTo>
                  <a:lnTo>
                    <a:pt x="3873" y="2627"/>
                  </a:lnTo>
                  <a:lnTo>
                    <a:pt x="3940" y="2425"/>
                  </a:lnTo>
                  <a:lnTo>
                    <a:pt x="3974" y="2223"/>
                  </a:lnTo>
                  <a:lnTo>
                    <a:pt x="4007" y="2021"/>
                  </a:lnTo>
                  <a:lnTo>
                    <a:pt x="4007" y="1785"/>
                  </a:lnTo>
                  <a:lnTo>
                    <a:pt x="3974" y="1583"/>
                  </a:lnTo>
                  <a:lnTo>
                    <a:pt x="3940" y="1381"/>
                  </a:lnTo>
                  <a:lnTo>
                    <a:pt x="3906" y="1179"/>
                  </a:lnTo>
                  <a:lnTo>
                    <a:pt x="3738" y="876"/>
                  </a:lnTo>
                  <a:lnTo>
                    <a:pt x="3536" y="607"/>
                  </a:lnTo>
                  <a:lnTo>
                    <a:pt x="3267" y="371"/>
                  </a:lnTo>
                  <a:lnTo>
                    <a:pt x="2997" y="203"/>
                  </a:lnTo>
                  <a:lnTo>
                    <a:pt x="2661" y="68"/>
                  </a:lnTo>
                  <a:lnTo>
                    <a:pt x="232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hape 600"/>
            <p:cNvSpPr/>
            <p:nvPr/>
          </p:nvSpPr>
          <p:spPr>
            <a:xfrm>
              <a:off x="304560" y="1677960"/>
              <a:ext cx="1538280" cy="67284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23165" h="10135">
                  <a:moveTo>
                    <a:pt x="3603" y="304"/>
                  </a:moveTo>
                  <a:lnTo>
                    <a:pt x="3940" y="337"/>
                  </a:lnTo>
                  <a:lnTo>
                    <a:pt x="4647" y="472"/>
                  </a:lnTo>
                  <a:lnTo>
                    <a:pt x="5219" y="607"/>
                  </a:lnTo>
                  <a:lnTo>
                    <a:pt x="6397" y="775"/>
                  </a:lnTo>
                  <a:lnTo>
                    <a:pt x="7576" y="977"/>
                  </a:lnTo>
                  <a:lnTo>
                    <a:pt x="7340" y="1112"/>
                  </a:lnTo>
                  <a:lnTo>
                    <a:pt x="7138" y="1213"/>
                  </a:lnTo>
                  <a:lnTo>
                    <a:pt x="6667" y="1482"/>
                  </a:lnTo>
                  <a:lnTo>
                    <a:pt x="6330" y="1348"/>
                  </a:lnTo>
                  <a:lnTo>
                    <a:pt x="5926" y="1246"/>
                  </a:lnTo>
                  <a:lnTo>
                    <a:pt x="5522" y="1179"/>
                  </a:lnTo>
                  <a:lnTo>
                    <a:pt x="5152" y="1145"/>
                  </a:lnTo>
                  <a:lnTo>
                    <a:pt x="5084" y="1112"/>
                  </a:lnTo>
                  <a:lnTo>
                    <a:pt x="4849" y="910"/>
                  </a:lnTo>
                  <a:lnTo>
                    <a:pt x="4546" y="741"/>
                  </a:lnTo>
                  <a:lnTo>
                    <a:pt x="4276" y="640"/>
                  </a:lnTo>
                  <a:lnTo>
                    <a:pt x="3973" y="539"/>
                  </a:lnTo>
                  <a:lnTo>
                    <a:pt x="3637" y="506"/>
                  </a:lnTo>
                  <a:lnTo>
                    <a:pt x="3334" y="472"/>
                  </a:lnTo>
                  <a:lnTo>
                    <a:pt x="2997" y="472"/>
                  </a:lnTo>
                  <a:lnTo>
                    <a:pt x="2694" y="506"/>
                  </a:lnTo>
                  <a:lnTo>
                    <a:pt x="2829" y="438"/>
                  </a:lnTo>
                  <a:lnTo>
                    <a:pt x="2963" y="371"/>
                  </a:lnTo>
                  <a:lnTo>
                    <a:pt x="3266" y="304"/>
                  </a:lnTo>
                  <a:close/>
                  <a:moveTo>
                    <a:pt x="2559" y="640"/>
                  </a:moveTo>
                  <a:lnTo>
                    <a:pt x="2593" y="741"/>
                  </a:lnTo>
                  <a:lnTo>
                    <a:pt x="2627" y="775"/>
                  </a:lnTo>
                  <a:lnTo>
                    <a:pt x="3502" y="775"/>
                  </a:lnTo>
                  <a:lnTo>
                    <a:pt x="3771" y="809"/>
                  </a:lnTo>
                  <a:lnTo>
                    <a:pt x="4007" y="876"/>
                  </a:lnTo>
                  <a:lnTo>
                    <a:pt x="4276" y="943"/>
                  </a:lnTo>
                  <a:lnTo>
                    <a:pt x="4512" y="1044"/>
                  </a:lnTo>
                  <a:lnTo>
                    <a:pt x="4748" y="1179"/>
                  </a:lnTo>
                  <a:lnTo>
                    <a:pt x="4815" y="1213"/>
                  </a:lnTo>
                  <a:lnTo>
                    <a:pt x="4815" y="1280"/>
                  </a:lnTo>
                  <a:lnTo>
                    <a:pt x="4882" y="1348"/>
                  </a:lnTo>
                  <a:lnTo>
                    <a:pt x="4983" y="1348"/>
                  </a:lnTo>
                  <a:lnTo>
                    <a:pt x="5152" y="1583"/>
                  </a:lnTo>
                  <a:lnTo>
                    <a:pt x="5320" y="1819"/>
                  </a:lnTo>
                  <a:lnTo>
                    <a:pt x="5421" y="2088"/>
                  </a:lnTo>
                  <a:lnTo>
                    <a:pt x="5522" y="2358"/>
                  </a:lnTo>
                  <a:lnTo>
                    <a:pt x="5589" y="2661"/>
                  </a:lnTo>
                  <a:lnTo>
                    <a:pt x="5623" y="2930"/>
                  </a:lnTo>
                  <a:lnTo>
                    <a:pt x="5690" y="3502"/>
                  </a:lnTo>
                  <a:lnTo>
                    <a:pt x="5690" y="3805"/>
                  </a:lnTo>
                  <a:lnTo>
                    <a:pt x="5657" y="4108"/>
                  </a:lnTo>
                  <a:lnTo>
                    <a:pt x="5623" y="4411"/>
                  </a:lnTo>
                  <a:lnTo>
                    <a:pt x="5522" y="4681"/>
                  </a:lnTo>
                  <a:lnTo>
                    <a:pt x="5421" y="4950"/>
                  </a:lnTo>
                  <a:lnTo>
                    <a:pt x="5253" y="5186"/>
                  </a:lnTo>
                  <a:lnTo>
                    <a:pt x="5051" y="5421"/>
                  </a:lnTo>
                  <a:lnTo>
                    <a:pt x="4815" y="5590"/>
                  </a:lnTo>
                  <a:lnTo>
                    <a:pt x="4613" y="5724"/>
                  </a:lnTo>
                  <a:lnTo>
                    <a:pt x="4377" y="5825"/>
                  </a:lnTo>
                  <a:lnTo>
                    <a:pt x="4108" y="5893"/>
                  </a:lnTo>
                  <a:lnTo>
                    <a:pt x="3872" y="5960"/>
                  </a:lnTo>
                  <a:lnTo>
                    <a:pt x="3334" y="5994"/>
                  </a:lnTo>
                  <a:lnTo>
                    <a:pt x="2829" y="5994"/>
                  </a:lnTo>
                  <a:lnTo>
                    <a:pt x="2559" y="5960"/>
                  </a:lnTo>
                  <a:lnTo>
                    <a:pt x="2290" y="5926"/>
                  </a:lnTo>
                  <a:lnTo>
                    <a:pt x="2054" y="5825"/>
                  </a:lnTo>
                  <a:lnTo>
                    <a:pt x="1819" y="5724"/>
                  </a:lnTo>
                  <a:lnTo>
                    <a:pt x="1617" y="5623"/>
                  </a:lnTo>
                  <a:lnTo>
                    <a:pt x="1381" y="5489"/>
                  </a:lnTo>
                  <a:lnTo>
                    <a:pt x="1213" y="5320"/>
                  </a:lnTo>
                  <a:lnTo>
                    <a:pt x="1011" y="5152"/>
                  </a:lnTo>
                  <a:lnTo>
                    <a:pt x="842" y="4950"/>
                  </a:lnTo>
                  <a:lnTo>
                    <a:pt x="708" y="4748"/>
                  </a:lnTo>
                  <a:lnTo>
                    <a:pt x="573" y="4546"/>
                  </a:lnTo>
                  <a:lnTo>
                    <a:pt x="472" y="4310"/>
                  </a:lnTo>
                  <a:lnTo>
                    <a:pt x="371" y="4075"/>
                  </a:lnTo>
                  <a:lnTo>
                    <a:pt x="304" y="3839"/>
                  </a:lnTo>
                  <a:lnTo>
                    <a:pt x="270" y="3570"/>
                  </a:lnTo>
                  <a:lnTo>
                    <a:pt x="236" y="3300"/>
                  </a:lnTo>
                  <a:lnTo>
                    <a:pt x="270" y="3065"/>
                  </a:lnTo>
                  <a:lnTo>
                    <a:pt x="270" y="2829"/>
                  </a:lnTo>
                  <a:lnTo>
                    <a:pt x="337" y="2593"/>
                  </a:lnTo>
                  <a:lnTo>
                    <a:pt x="405" y="2358"/>
                  </a:lnTo>
                  <a:lnTo>
                    <a:pt x="506" y="2156"/>
                  </a:lnTo>
                  <a:lnTo>
                    <a:pt x="640" y="1954"/>
                  </a:lnTo>
                  <a:lnTo>
                    <a:pt x="775" y="1752"/>
                  </a:lnTo>
                  <a:lnTo>
                    <a:pt x="943" y="1583"/>
                  </a:lnTo>
                  <a:lnTo>
                    <a:pt x="1280" y="1280"/>
                  </a:lnTo>
                  <a:lnTo>
                    <a:pt x="1684" y="1011"/>
                  </a:lnTo>
                  <a:lnTo>
                    <a:pt x="2122" y="809"/>
                  </a:lnTo>
                  <a:lnTo>
                    <a:pt x="2559" y="640"/>
                  </a:lnTo>
                  <a:close/>
                  <a:moveTo>
                    <a:pt x="5387" y="1449"/>
                  </a:moveTo>
                  <a:lnTo>
                    <a:pt x="6061" y="1550"/>
                  </a:lnTo>
                  <a:lnTo>
                    <a:pt x="6364" y="1651"/>
                  </a:lnTo>
                  <a:lnTo>
                    <a:pt x="6700" y="1752"/>
                  </a:lnTo>
                  <a:lnTo>
                    <a:pt x="6633" y="2055"/>
                  </a:lnTo>
                  <a:lnTo>
                    <a:pt x="6566" y="2391"/>
                  </a:lnTo>
                  <a:lnTo>
                    <a:pt x="6498" y="3031"/>
                  </a:lnTo>
                  <a:lnTo>
                    <a:pt x="6263" y="3974"/>
                  </a:lnTo>
                  <a:lnTo>
                    <a:pt x="6027" y="4916"/>
                  </a:lnTo>
                  <a:lnTo>
                    <a:pt x="5892" y="5287"/>
                  </a:lnTo>
                  <a:lnTo>
                    <a:pt x="5825" y="5623"/>
                  </a:lnTo>
                  <a:lnTo>
                    <a:pt x="5791" y="5994"/>
                  </a:lnTo>
                  <a:lnTo>
                    <a:pt x="5791" y="6128"/>
                  </a:lnTo>
                  <a:lnTo>
                    <a:pt x="5825" y="6297"/>
                  </a:lnTo>
                  <a:lnTo>
                    <a:pt x="5724" y="6229"/>
                  </a:lnTo>
                  <a:lnTo>
                    <a:pt x="5589" y="6196"/>
                  </a:lnTo>
                  <a:lnTo>
                    <a:pt x="5320" y="6196"/>
                  </a:lnTo>
                  <a:lnTo>
                    <a:pt x="5185" y="6162"/>
                  </a:lnTo>
                  <a:lnTo>
                    <a:pt x="5051" y="6128"/>
                  </a:lnTo>
                  <a:lnTo>
                    <a:pt x="4748" y="5994"/>
                  </a:lnTo>
                  <a:lnTo>
                    <a:pt x="4983" y="5893"/>
                  </a:lnTo>
                  <a:lnTo>
                    <a:pt x="5185" y="5724"/>
                  </a:lnTo>
                  <a:lnTo>
                    <a:pt x="5387" y="5489"/>
                  </a:lnTo>
                  <a:lnTo>
                    <a:pt x="5589" y="5253"/>
                  </a:lnTo>
                  <a:lnTo>
                    <a:pt x="5724" y="4984"/>
                  </a:lnTo>
                  <a:lnTo>
                    <a:pt x="5825" y="4714"/>
                  </a:lnTo>
                  <a:lnTo>
                    <a:pt x="5892" y="4445"/>
                  </a:lnTo>
                  <a:lnTo>
                    <a:pt x="5960" y="4142"/>
                  </a:lnTo>
                  <a:lnTo>
                    <a:pt x="5960" y="3839"/>
                  </a:lnTo>
                  <a:lnTo>
                    <a:pt x="5960" y="3502"/>
                  </a:lnTo>
                  <a:lnTo>
                    <a:pt x="5926" y="2964"/>
                  </a:lnTo>
                  <a:lnTo>
                    <a:pt x="5825" y="2425"/>
                  </a:lnTo>
                  <a:lnTo>
                    <a:pt x="5758" y="2156"/>
                  </a:lnTo>
                  <a:lnTo>
                    <a:pt x="5657" y="1920"/>
                  </a:lnTo>
                  <a:lnTo>
                    <a:pt x="5522" y="1651"/>
                  </a:lnTo>
                  <a:lnTo>
                    <a:pt x="5387" y="1449"/>
                  </a:lnTo>
                  <a:close/>
                  <a:moveTo>
                    <a:pt x="4411" y="6128"/>
                  </a:moveTo>
                  <a:lnTo>
                    <a:pt x="4546" y="6229"/>
                  </a:lnTo>
                  <a:lnTo>
                    <a:pt x="4680" y="6263"/>
                  </a:lnTo>
                  <a:lnTo>
                    <a:pt x="5017" y="6364"/>
                  </a:lnTo>
                  <a:lnTo>
                    <a:pt x="5219" y="6431"/>
                  </a:lnTo>
                  <a:lnTo>
                    <a:pt x="5421" y="6431"/>
                  </a:lnTo>
                  <a:lnTo>
                    <a:pt x="5522" y="6465"/>
                  </a:lnTo>
                  <a:lnTo>
                    <a:pt x="5488" y="6499"/>
                  </a:lnTo>
                  <a:lnTo>
                    <a:pt x="5387" y="6633"/>
                  </a:lnTo>
                  <a:lnTo>
                    <a:pt x="5320" y="6835"/>
                  </a:lnTo>
                  <a:lnTo>
                    <a:pt x="5253" y="6869"/>
                  </a:lnTo>
                  <a:lnTo>
                    <a:pt x="5118" y="6835"/>
                  </a:lnTo>
                  <a:lnTo>
                    <a:pt x="4849" y="6802"/>
                  </a:lnTo>
                  <a:lnTo>
                    <a:pt x="4546" y="6701"/>
                  </a:lnTo>
                  <a:lnTo>
                    <a:pt x="3906" y="6566"/>
                  </a:lnTo>
                  <a:lnTo>
                    <a:pt x="3603" y="6465"/>
                  </a:lnTo>
                  <a:lnTo>
                    <a:pt x="3468" y="6398"/>
                  </a:lnTo>
                  <a:lnTo>
                    <a:pt x="3300" y="6330"/>
                  </a:lnTo>
                  <a:lnTo>
                    <a:pt x="3872" y="6263"/>
                  </a:lnTo>
                  <a:lnTo>
                    <a:pt x="4142" y="6196"/>
                  </a:lnTo>
                  <a:lnTo>
                    <a:pt x="4411" y="6128"/>
                  </a:lnTo>
                  <a:close/>
                  <a:moveTo>
                    <a:pt x="15926" y="8653"/>
                  </a:moveTo>
                  <a:lnTo>
                    <a:pt x="16936" y="8822"/>
                  </a:lnTo>
                  <a:lnTo>
                    <a:pt x="16902" y="8855"/>
                  </a:lnTo>
                  <a:lnTo>
                    <a:pt x="16801" y="8923"/>
                  </a:lnTo>
                  <a:lnTo>
                    <a:pt x="16666" y="8956"/>
                  </a:lnTo>
                  <a:lnTo>
                    <a:pt x="16431" y="8956"/>
                  </a:lnTo>
                  <a:lnTo>
                    <a:pt x="16296" y="8923"/>
                  </a:lnTo>
                  <a:lnTo>
                    <a:pt x="16161" y="8855"/>
                  </a:lnTo>
                  <a:lnTo>
                    <a:pt x="16027" y="8754"/>
                  </a:lnTo>
                  <a:lnTo>
                    <a:pt x="15926" y="8653"/>
                  </a:lnTo>
                  <a:close/>
                  <a:moveTo>
                    <a:pt x="20572" y="5051"/>
                  </a:moveTo>
                  <a:lnTo>
                    <a:pt x="20875" y="5085"/>
                  </a:lnTo>
                  <a:lnTo>
                    <a:pt x="21178" y="5152"/>
                  </a:lnTo>
                  <a:lnTo>
                    <a:pt x="21481" y="5253"/>
                  </a:lnTo>
                  <a:lnTo>
                    <a:pt x="21750" y="5421"/>
                  </a:lnTo>
                  <a:lnTo>
                    <a:pt x="22019" y="5623"/>
                  </a:lnTo>
                  <a:lnTo>
                    <a:pt x="22255" y="5825"/>
                  </a:lnTo>
                  <a:lnTo>
                    <a:pt x="22491" y="6095"/>
                  </a:lnTo>
                  <a:lnTo>
                    <a:pt x="22659" y="6398"/>
                  </a:lnTo>
                  <a:lnTo>
                    <a:pt x="22760" y="6633"/>
                  </a:lnTo>
                  <a:lnTo>
                    <a:pt x="22861" y="6903"/>
                  </a:lnTo>
                  <a:lnTo>
                    <a:pt x="22895" y="7138"/>
                  </a:lnTo>
                  <a:lnTo>
                    <a:pt x="22928" y="7408"/>
                  </a:lnTo>
                  <a:lnTo>
                    <a:pt x="22895" y="7677"/>
                  </a:lnTo>
                  <a:lnTo>
                    <a:pt x="22861" y="7913"/>
                  </a:lnTo>
                  <a:lnTo>
                    <a:pt x="22794" y="8182"/>
                  </a:lnTo>
                  <a:lnTo>
                    <a:pt x="22726" y="8418"/>
                  </a:lnTo>
                  <a:lnTo>
                    <a:pt x="22592" y="8653"/>
                  </a:lnTo>
                  <a:lnTo>
                    <a:pt x="22457" y="8855"/>
                  </a:lnTo>
                  <a:lnTo>
                    <a:pt x="22289" y="9091"/>
                  </a:lnTo>
                  <a:lnTo>
                    <a:pt x="22120" y="9259"/>
                  </a:lnTo>
                  <a:lnTo>
                    <a:pt x="21918" y="9428"/>
                  </a:lnTo>
                  <a:lnTo>
                    <a:pt x="21716" y="9596"/>
                  </a:lnTo>
                  <a:lnTo>
                    <a:pt x="21481" y="9731"/>
                  </a:lnTo>
                  <a:lnTo>
                    <a:pt x="21245" y="9832"/>
                  </a:lnTo>
                  <a:lnTo>
                    <a:pt x="20875" y="9933"/>
                  </a:lnTo>
                  <a:lnTo>
                    <a:pt x="20504" y="9967"/>
                  </a:lnTo>
                  <a:lnTo>
                    <a:pt x="20134" y="9933"/>
                  </a:lnTo>
                  <a:lnTo>
                    <a:pt x="19764" y="9866"/>
                  </a:lnTo>
                  <a:lnTo>
                    <a:pt x="19427" y="9731"/>
                  </a:lnTo>
                  <a:lnTo>
                    <a:pt x="19124" y="9529"/>
                  </a:lnTo>
                  <a:lnTo>
                    <a:pt x="18821" y="9293"/>
                  </a:lnTo>
                  <a:lnTo>
                    <a:pt x="18585" y="9057"/>
                  </a:lnTo>
                  <a:lnTo>
                    <a:pt x="18619" y="8990"/>
                  </a:lnTo>
                  <a:lnTo>
                    <a:pt x="18585" y="8923"/>
                  </a:lnTo>
                  <a:lnTo>
                    <a:pt x="18585" y="8889"/>
                  </a:lnTo>
                  <a:lnTo>
                    <a:pt x="18518" y="8855"/>
                  </a:lnTo>
                  <a:lnTo>
                    <a:pt x="18451" y="8822"/>
                  </a:lnTo>
                  <a:lnTo>
                    <a:pt x="18316" y="8586"/>
                  </a:lnTo>
                  <a:lnTo>
                    <a:pt x="18181" y="8350"/>
                  </a:lnTo>
                  <a:lnTo>
                    <a:pt x="18114" y="8047"/>
                  </a:lnTo>
                  <a:lnTo>
                    <a:pt x="18080" y="7778"/>
                  </a:lnTo>
                  <a:lnTo>
                    <a:pt x="18080" y="7509"/>
                  </a:lnTo>
                  <a:lnTo>
                    <a:pt x="18114" y="7239"/>
                  </a:lnTo>
                  <a:lnTo>
                    <a:pt x="18148" y="7004"/>
                  </a:lnTo>
                  <a:lnTo>
                    <a:pt x="18249" y="6768"/>
                  </a:lnTo>
                  <a:lnTo>
                    <a:pt x="18350" y="6532"/>
                  </a:lnTo>
                  <a:lnTo>
                    <a:pt x="18484" y="6330"/>
                  </a:lnTo>
                  <a:lnTo>
                    <a:pt x="18619" y="6128"/>
                  </a:lnTo>
                  <a:lnTo>
                    <a:pt x="18787" y="5960"/>
                  </a:lnTo>
                  <a:lnTo>
                    <a:pt x="18989" y="5792"/>
                  </a:lnTo>
                  <a:lnTo>
                    <a:pt x="19191" y="5623"/>
                  </a:lnTo>
                  <a:lnTo>
                    <a:pt x="19393" y="5489"/>
                  </a:lnTo>
                  <a:lnTo>
                    <a:pt x="19629" y="5354"/>
                  </a:lnTo>
                  <a:lnTo>
                    <a:pt x="19865" y="5253"/>
                  </a:lnTo>
                  <a:lnTo>
                    <a:pt x="20100" y="5186"/>
                  </a:lnTo>
                  <a:lnTo>
                    <a:pt x="20336" y="5118"/>
                  </a:lnTo>
                  <a:lnTo>
                    <a:pt x="20572" y="5051"/>
                  </a:lnTo>
                  <a:close/>
                  <a:moveTo>
                    <a:pt x="4680" y="1"/>
                  </a:moveTo>
                  <a:lnTo>
                    <a:pt x="4512" y="34"/>
                  </a:lnTo>
                  <a:lnTo>
                    <a:pt x="4377" y="68"/>
                  </a:lnTo>
                  <a:lnTo>
                    <a:pt x="4344" y="135"/>
                  </a:lnTo>
                  <a:lnTo>
                    <a:pt x="4344" y="169"/>
                  </a:lnTo>
                  <a:lnTo>
                    <a:pt x="4377" y="236"/>
                  </a:lnTo>
                  <a:lnTo>
                    <a:pt x="4243" y="236"/>
                  </a:lnTo>
                  <a:lnTo>
                    <a:pt x="3839" y="135"/>
                  </a:lnTo>
                  <a:lnTo>
                    <a:pt x="3536" y="102"/>
                  </a:lnTo>
                  <a:lnTo>
                    <a:pt x="3233" y="68"/>
                  </a:lnTo>
                  <a:lnTo>
                    <a:pt x="2930" y="68"/>
                  </a:lnTo>
                  <a:lnTo>
                    <a:pt x="2829" y="102"/>
                  </a:lnTo>
                  <a:lnTo>
                    <a:pt x="2728" y="135"/>
                  </a:lnTo>
                  <a:lnTo>
                    <a:pt x="2627" y="203"/>
                  </a:lnTo>
                  <a:lnTo>
                    <a:pt x="2559" y="270"/>
                  </a:lnTo>
                  <a:lnTo>
                    <a:pt x="2526" y="371"/>
                  </a:lnTo>
                  <a:lnTo>
                    <a:pt x="2526" y="472"/>
                  </a:lnTo>
                  <a:lnTo>
                    <a:pt x="2256" y="539"/>
                  </a:lnTo>
                  <a:lnTo>
                    <a:pt x="2021" y="573"/>
                  </a:lnTo>
                  <a:lnTo>
                    <a:pt x="1785" y="674"/>
                  </a:lnTo>
                  <a:lnTo>
                    <a:pt x="1549" y="775"/>
                  </a:lnTo>
                  <a:lnTo>
                    <a:pt x="1314" y="910"/>
                  </a:lnTo>
                  <a:lnTo>
                    <a:pt x="1112" y="1078"/>
                  </a:lnTo>
                  <a:lnTo>
                    <a:pt x="910" y="1246"/>
                  </a:lnTo>
                  <a:lnTo>
                    <a:pt x="741" y="1415"/>
                  </a:lnTo>
                  <a:lnTo>
                    <a:pt x="573" y="1617"/>
                  </a:lnTo>
                  <a:lnTo>
                    <a:pt x="438" y="1819"/>
                  </a:lnTo>
                  <a:lnTo>
                    <a:pt x="304" y="2055"/>
                  </a:lnTo>
                  <a:lnTo>
                    <a:pt x="203" y="2290"/>
                  </a:lnTo>
                  <a:lnTo>
                    <a:pt x="135" y="2526"/>
                  </a:lnTo>
                  <a:lnTo>
                    <a:pt x="68" y="2795"/>
                  </a:lnTo>
                  <a:lnTo>
                    <a:pt x="34" y="3065"/>
                  </a:lnTo>
                  <a:lnTo>
                    <a:pt x="1" y="3300"/>
                  </a:lnTo>
                  <a:lnTo>
                    <a:pt x="1" y="3603"/>
                  </a:lnTo>
                  <a:lnTo>
                    <a:pt x="34" y="3906"/>
                  </a:lnTo>
                  <a:lnTo>
                    <a:pt x="102" y="4176"/>
                  </a:lnTo>
                  <a:lnTo>
                    <a:pt x="203" y="4445"/>
                  </a:lnTo>
                  <a:lnTo>
                    <a:pt x="304" y="4681"/>
                  </a:lnTo>
                  <a:lnTo>
                    <a:pt x="472" y="4950"/>
                  </a:lnTo>
                  <a:lnTo>
                    <a:pt x="640" y="5152"/>
                  </a:lnTo>
                  <a:lnTo>
                    <a:pt x="809" y="5354"/>
                  </a:lnTo>
                  <a:lnTo>
                    <a:pt x="1011" y="5556"/>
                  </a:lnTo>
                  <a:lnTo>
                    <a:pt x="1246" y="5724"/>
                  </a:lnTo>
                  <a:lnTo>
                    <a:pt x="1482" y="5859"/>
                  </a:lnTo>
                  <a:lnTo>
                    <a:pt x="1718" y="5994"/>
                  </a:lnTo>
                  <a:lnTo>
                    <a:pt x="1987" y="6095"/>
                  </a:lnTo>
                  <a:lnTo>
                    <a:pt x="2256" y="6196"/>
                  </a:lnTo>
                  <a:lnTo>
                    <a:pt x="2526" y="6263"/>
                  </a:lnTo>
                  <a:lnTo>
                    <a:pt x="2829" y="6297"/>
                  </a:lnTo>
                  <a:lnTo>
                    <a:pt x="3031" y="6330"/>
                  </a:lnTo>
                  <a:lnTo>
                    <a:pt x="2997" y="6330"/>
                  </a:lnTo>
                  <a:lnTo>
                    <a:pt x="2997" y="6398"/>
                  </a:lnTo>
                  <a:lnTo>
                    <a:pt x="3064" y="6465"/>
                  </a:lnTo>
                  <a:lnTo>
                    <a:pt x="3435" y="6667"/>
                  </a:lnTo>
                  <a:lnTo>
                    <a:pt x="3839" y="6802"/>
                  </a:lnTo>
                  <a:lnTo>
                    <a:pt x="4344" y="6936"/>
                  </a:lnTo>
                  <a:lnTo>
                    <a:pt x="4512" y="7004"/>
                  </a:lnTo>
                  <a:lnTo>
                    <a:pt x="4714" y="7071"/>
                  </a:lnTo>
                  <a:lnTo>
                    <a:pt x="4916" y="7105"/>
                  </a:lnTo>
                  <a:lnTo>
                    <a:pt x="5084" y="7138"/>
                  </a:lnTo>
                  <a:lnTo>
                    <a:pt x="5253" y="7138"/>
                  </a:lnTo>
                  <a:lnTo>
                    <a:pt x="5354" y="7105"/>
                  </a:lnTo>
                  <a:lnTo>
                    <a:pt x="5455" y="7037"/>
                  </a:lnTo>
                  <a:lnTo>
                    <a:pt x="5556" y="6903"/>
                  </a:lnTo>
                  <a:lnTo>
                    <a:pt x="5623" y="6768"/>
                  </a:lnTo>
                  <a:lnTo>
                    <a:pt x="5657" y="6566"/>
                  </a:lnTo>
                  <a:lnTo>
                    <a:pt x="5657" y="6499"/>
                  </a:lnTo>
                  <a:lnTo>
                    <a:pt x="5892" y="6600"/>
                  </a:lnTo>
                  <a:lnTo>
                    <a:pt x="5926" y="6600"/>
                  </a:lnTo>
                  <a:lnTo>
                    <a:pt x="5960" y="6566"/>
                  </a:lnTo>
                  <a:lnTo>
                    <a:pt x="5993" y="6532"/>
                  </a:lnTo>
                  <a:lnTo>
                    <a:pt x="5993" y="6499"/>
                  </a:lnTo>
                  <a:lnTo>
                    <a:pt x="6128" y="6600"/>
                  </a:lnTo>
                  <a:lnTo>
                    <a:pt x="6330" y="6701"/>
                  </a:lnTo>
                  <a:lnTo>
                    <a:pt x="6364" y="6701"/>
                  </a:lnTo>
                  <a:lnTo>
                    <a:pt x="7273" y="7004"/>
                  </a:lnTo>
                  <a:lnTo>
                    <a:pt x="8216" y="7273"/>
                  </a:lnTo>
                  <a:lnTo>
                    <a:pt x="9125" y="7509"/>
                  </a:lnTo>
                  <a:lnTo>
                    <a:pt x="10101" y="7711"/>
                  </a:lnTo>
                  <a:lnTo>
                    <a:pt x="11986" y="8081"/>
                  </a:lnTo>
                  <a:lnTo>
                    <a:pt x="13872" y="8384"/>
                  </a:lnTo>
                  <a:lnTo>
                    <a:pt x="13939" y="8384"/>
                  </a:lnTo>
                  <a:lnTo>
                    <a:pt x="13973" y="8350"/>
                  </a:lnTo>
                  <a:lnTo>
                    <a:pt x="14040" y="8283"/>
                  </a:lnTo>
                  <a:lnTo>
                    <a:pt x="14040" y="8216"/>
                  </a:lnTo>
                  <a:lnTo>
                    <a:pt x="14006" y="8182"/>
                  </a:lnTo>
                  <a:lnTo>
                    <a:pt x="13939" y="8148"/>
                  </a:lnTo>
                  <a:lnTo>
                    <a:pt x="12996" y="7980"/>
                  </a:lnTo>
                  <a:lnTo>
                    <a:pt x="12054" y="7812"/>
                  </a:lnTo>
                  <a:lnTo>
                    <a:pt x="10202" y="7408"/>
                  </a:lnTo>
                  <a:lnTo>
                    <a:pt x="8317" y="6970"/>
                  </a:lnTo>
                  <a:lnTo>
                    <a:pt x="6465" y="6532"/>
                  </a:lnTo>
                  <a:lnTo>
                    <a:pt x="6397" y="6499"/>
                  </a:lnTo>
                  <a:lnTo>
                    <a:pt x="6263" y="6398"/>
                  </a:lnTo>
                  <a:lnTo>
                    <a:pt x="6162" y="6297"/>
                  </a:lnTo>
                  <a:lnTo>
                    <a:pt x="6094" y="6162"/>
                  </a:lnTo>
                  <a:lnTo>
                    <a:pt x="6061" y="5960"/>
                  </a:lnTo>
                  <a:lnTo>
                    <a:pt x="6061" y="5792"/>
                  </a:lnTo>
                  <a:lnTo>
                    <a:pt x="6061" y="5556"/>
                  </a:lnTo>
                  <a:lnTo>
                    <a:pt x="6162" y="5118"/>
                  </a:lnTo>
                  <a:lnTo>
                    <a:pt x="6263" y="4647"/>
                  </a:lnTo>
                  <a:lnTo>
                    <a:pt x="6397" y="4209"/>
                  </a:lnTo>
                  <a:lnTo>
                    <a:pt x="6599" y="3570"/>
                  </a:lnTo>
                  <a:lnTo>
                    <a:pt x="6700" y="3132"/>
                  </a:lnTo>
                  <a:lnTo>
                    <a:pt x="6801" y="2661"/>
                  </a:lnTo>
                  <a:lnTo>
                    <a:pt x="6835" y="2156"/>
                  </a:lnTo>
                  <a:lnTo>
                    <a:pt x="6835" y="1920"/>
                  </a:lnTo>
                  <a:lnTo>
                    <a:pt x="6835" y="1718"/>
                  </a:lnTo>
                  <a:lnTo>
                    <a:pt x="6835" y="1651"/>
                  </a:lnTo>
                  <a:lnTo>
                    <a:pt x="6970" y="1785"/>
                  </a:lnTo>
                  <a:lnTo>
                    <a:pt x="7138" y="1886"/>
                  </a:lnTo>
                  <a:lnTo>
                    <a:pt x="7239" y="1886"/>
                  </a:lnTo>
                  <a:lnTo>
                    <a:pt x="7340" y="1920"/>
                  </a:lnTo>
                  <a:lnTo>
                    <a:pt x="7407" y="1886"/>
                  </a:lnTo>
                  <a:lnTo>
                    <a:pt x="7441" y="1819"/>
                  </a:lnTo>
                  <a:lnTo>
                    <a:pt x="7407" y="1752"/>
                  </a:lnTo>
                  <a:lnTo>
                    <a:pt x="7340" y="1718"/>
                  </a:lnTo>
                  <a:lnTo>
                    <a:pt x="7205" y="1684"/>
                  </a:lnTo>
                  <a:lnTo>
                    <a:pt x="7037" y="1651"/>
                  </a:lnTo>
                  <a:lnTo>
                    <a:pt x="6936" y="1583"/>
                  </a:lnTo>
                  <a:lnTo>
                    <a:pt x="7542" y="1280"/>
                  </a:lnTo>
                  <a:lnTo>
                    <a:pt x="7879" y="1145"/>
                  </a:lnTo>
                  <a:lnTo>
                    <a:pt x="8047" y="1112"/>
                  </a:lnTo>
                  <a:lnTo>
                    <a:pt x="8249" y="1112"/>
                  </a:lnTo>
                  <a:lnTo>
                    <a:pt x="8788" y="1145"/>
                  </a:lnTo>
                  <a:lnTo>
                    <a:pt x="9327" y="1246"/>
                  </a:lnTo>
                  <a:lnTo>
                    <a:pt x="10404" y="1449"/>
                  </a:lnTo>
                  <a:lnTo>
                    <a:pt x="11414" y="1651"/>
                  </a:lnTo>
                  <a:lnTo>
                    <a:pt x="12390" y="1886"/>
                  </a:lnTo>
                  <a:lnTo>
                    <a:pt x="14343" y="2358"/>
                  </a:lnTo>
                  <a:lnTo>
                    <a:pt x="14410" y="2492"/>
                  </a:lnTo>
                  <a:lnTo>
                    <a:pt x="14478" y="2627"/>
                  </a:lnTo>
                  <a:lnTo>
                    <a:pt x="14646" y="2896"/>
                  </a:lnTo>
                  <a:lnTo>
                    <a:pt x="14781" y="3098"/>
                  </a:lnTo>
                  <a:lnTo>
                    <a:pt x="14309" y="3065"/>
                  </a:lnTo>
                  <a:lnTo>
                    <a:pt x="14242" y="2863"/>
                  </a:lnTo>
                  <a:lnTo>
                    <a:pt x="14208" y="2795"/>
                  </a:lnTo>
                  <a:lnTo>
                    <a:pt x="14141" y="2728"/>
                  </a:lnTo>
                  <a:lnTo>
                    <a:pt x="14141" y="2627"/>
                  </a:lnTo>
                  <a:lnTo>
                    <a:pt x="14107" y="2593"/>
                  </a:lnTo>
                  <a:lnTo>
                    <a:pt x="14074" y="2593"/>
                  </a:lnTo>
                  <a:lnTo>
                    <a:pt x="12660" y="2290"/>
                  </a:lnTo>
                  <a:lnTo>
                    <a:pt x="11246" y="1987"/>
                  </a:lnTo>
                  <a:lnTo>
                    <a:pt x="10572" y="1785"/>
                  </a:lnTo>
                  <a:lnTo>
                    <a:pt x="9865" y="1583"/>
                  </a:lnTo>
                  <a:lnTo>
                    <a:pt x="9158" y="1415"/>
                  </a:lnTo>
                  <a:lnTo>
                    <a:pt x="8788" y="1348"/>
                  </a:lnTo>
                  <a:lnTo>
                    <a:pt x="8451" y="1314"/>
                  </a:lnTo>
                  <a:lnTo>
                    <a:pt x="8418" y="1314"/>
                  </a:lnTo>
                  <a:lnTo>
                    <a:pt x="8418" y="1348"/>
                  </a:lnTo>
                  <a:lnTo>
                    <a:pt x="8418" y="1381"/>
                  </a:lnTo>
                  <a:lnTo>
                    <a:pt x="8721" y="1516"/>
                  </a:lnTo>
                  <a:lnTo>
                    <a:pt x="9024" y="1651"/>
                  </a:lnTo>
                  <a:lnTo>
                    <a:pt x="9663" y="1853"/>
                  </a:lnTo>
                  <a:lnTo>
                    <a:pt x="10943" y="2122"/>
                  </a:lnTo>
                  <a:lnTo>
                    <a:pt x="12458" y="2492"/>
                  </a:lnTo>
                  <a:lnTo>
                    <a:pt x="14006" y="2795"/>
                  </a:lnTo>
                  <a:lnTo>
                    <a:pt x="14074" y="2964"/>
                  </a:lnTo>
                  <a:lnTo>
                    <a:pt x="14107" y="3166"/>
                  </a:lnTo>
                  <a:lnTo>
                    <a:pt x="14141" y="3233"/>
                  </a:lnTo>
                  <a:lnTo>
                    <a:pt x="14208" y="3267"/>
                  </a:lnTo>
                  <a:lnTo>
                    <a:pt x="14680" y="3334"/>
                  </a:lnTo>
                  <a:lnTo>
                    <a:pt x="15151" y="3401"/>
                  </a:lnTo>
                  <a:lnTo>
                    <a:pt x="15185" y="3435"/>
                  </a:lnTo>
                  <a:lnTo>
                    <a:pt x="15252" y="3469"/>
                  </a:lnTo>
                  <a:lnTo>
                    <a:pt x="15319" y="3435"/>
                  </a:lnTo>
                  <a:lnTo>
                    <a:pt x="15387" y="3469"/>
                  </a:lnTo>
                  <a:lnTo>
                    <a:pt x="15286" y="3704"/>
                  </a:lnTo>
                  <a:lnTo>
                    <a:pt x="15185" y="3940"/>
                  </a:lnTo>
                  <a:lnTo>
                    <a:pt x="15016" y="4479"/>
                  </a:lnTo>
                  <a:lnTo>
                    <a:pt x="14882" y="5017"/>
                  </a:lnTo>
                  <a:lnTo>
                    <a:pt x="14814" y="5556"/>
                  </a:lnTo>
                  <a:lnTo>
                    <a:pt x="14747" y="6095"/>
                  </a:lnTo>
                  <a:lnTo>
                    <a:pt x="14612" y="6970"/>
                  </a:lnTo>
                  <a:lnTo>
                    <a:pt x="14511" y="7408"/>
                  </a:lnTo>
                  <a:lnTo>
                    <a:pt x="14410" y="7778"/>
                  </a:lnTo>
                  <a:lnTo>
                    <a:pt x="14343" y="7913"/>
                  </a:lnTo>
                  <a:lnTo>
                    <a:pt x="14276" y="8014"/>
                  </a:lnTo>
                  <a:lnTo>
                    <a:pt x="14208" y="8081"/>
                  </a:lnTo>
                  <a:lnTo>
                    <a:pt x="14074" y="8081"/>
                  </a:lnTo>
                  <a:lnTo>
                    <a:pt x="14040" y="8115"/>
                  </a:lnTo>
                  <a:lnTo>
                    <a:pt x="14040" y="8148"/>
                  </a:lnTo>
                  <a:lnTo>
                    <a:pt x="14040" y="8182"/>
                  </a:lnTo>
                  <a:lnTo>
                    <a:pt x="14074" y="8283"/>
                  </a:lnTo>
                  <a:lnTo>
                    <a:pt x="14107" y="8317"/>
                  </a:lnTo>
                  <a:lnTo>
                    <a:pt x="14175" y="8317"/>
                  </a:lnTo>
                  <a:lnTo>
                    <a:pt x="14343" y="8283"/>
                  </a:lnTo>
                  <a:lnTo>
                    <a:pt x="14377" y="8317"/>
                  </a:lnTo>
                  <a:lnTo>
                    <a:pt x="14983" y="8485"/>
                  </a:lnTo>
                  <a:lnTo>
                    <a:pt x="15589" y="8586"/>
                  </a:lnTo>
                  <a:lnTo>
                    <a:pt x="15622" y="8721"/>
                  </a:lnTo>
                  <a:lnTo>
                    <a:pt x="15690" y="8855"/>
                  </a:lnTo>
                  <a:lnTo>
                    <a:pt x="15791" y="8956"/>
                  </a:lnTo>
                  <a:lnTo>
                    <a:pt x="15892" y="9057"/>
                  </a:lnTo>
                  <a:lnTo>
                    <a:pt x="16161" y="9226"/>
                  </a:lnTo>
                  <a:lnTo>
                    <a:pt x="16397" y="9293"/>
                  </a:lnTo>
                  <a:lnTo>
                    <a:pt x="16666" y="9293"/>
                  </a:lnTo>
                  <a:lnTo>
                    <a:pt x="16936" y="9226"/>
                  </a:lnTo>
                  <a:lnTo>
                    <a:pt x="17037" y="9158"/>
                  </a:lnTo>
                  <a:lnTo>
                    <a:pt x="17138" y="9057"/>
                  </a:lnTo>
                  <a:lnTo>
                    <a:pt x="17239" y="8990"/>
                  </a:lnTo>
                  <a:lnTo>
                    <a:pt x="17306" y="8855"/>
                  </a:lnTo>
                  <a:lnTo>
                    <a:pt x="18249" y="9057"/>
                  </a:lnTo>
                  <a:lnTo>
                    <a:pt x="18518" y="9360"/>
                  </a:lnTo>
                  <a:lnTo>
                    <a:pt x="18821" y="9630"/>
                  </a:lnTo>
                  <a:lnTo>
                    <a:pt x="19191" y="9832"/>
                  </a:lnTo>
                  <a:lnTo>
                    <a:pt x="19595" y="10000"/>
                  </a:lnTo>
                  <a:lnTo>
                    <a:pt x="20033" y="10101"/>
                  </a:lnTo>
                  <a:lnTo>
                    <a:pt x="20471" y="10135"/>
                  </a:lnTo>
                  <a:lnTo>
                    <a:pt x="20875" y="10135"/>
                  </a:lnTo>
                  <a:lnTo>
                    <a:pt x="21312" y="10068"/>
                  </a:lnTo>
                  <a:lnTo>
                    <a:pt x="21582" y="9967"/>
                  </a:lnTo>
                  <a:lnTo>
                    <a:pt x="21817" y="9832"/>
                  </a:lnTo>
                  <a:lnTo>
                    <a:pt x="22053" y="9697"/>
                  </a:lnTo>
                  <a:lnTo>
                    <a:pt x="22255" y="9495"/>
                  </a:lnTo>
                  <a:lnTo>
                    <a:pt x="22457" y="9293"/>
                  </a:lnTo>
                  <a:lnTo>
                    <a:pt x="22625" y="9091"/>
                  </a:lnTo>
                  <a:lnTo>
                    <a:pt x="22794" y="8855"/>
                  </a:lnTo>
                  <a:lnTo>
                    <a:pt x="22895" y="8586"/>
                  </a:lnTo>
                  <a:lnTo>
                    <a:pt x="22996" y="8350"/>
                  </a:lnTo>
                  <a:lnTo>
                    <a:pt x="23097" y="8081"/>
                  </a:lnTo>
                  <a:lnTo>
                    <a:pt x="23130" y="7778"/>
                  </a:lnTo>
                  <a:lnTo>
                    <a:pt x="23164" y="7509"/>
                  </a:lnTo>
                  <a:lnTo>
                    <a:pt x="23164" y="7239"/>
                  </a:lnTo>
                  <a:lnTo>
                    <a:pt x="23130" y="6970"/>
                  </a:lnTo>
                  <a:lnTo>
                    <a:pt x="23063" y="6701"/>
                  </a:lnTo>
                  <a:lnTo>
                    <a:pt x="22962" y="6431"/>
                  </a:lnTo>
                  <a:lnTo>
                    <a:pt x="22827" y="6196"/>
                  </a:lnTo>
                  <a:lnTo>
                    <a:pt x="22693" y="5960"/>
                  </a:lnTo>
                  <a:lnTo>
                    <a:pt x="22524" y="5758"/>
                  </a:lnTo>
                  <a:lnTo>
                    <a:pt x="22322" y="5556"/>
                  </a:lnTo>
                  <a:lnTo>
                    <a:pt x="22087" y="5354"/>
                  </a:lnTo>
                  <a:lnTo>
                    <a:pt x="21851" y="5186"/>
                  </a:lnTo>
                  <a:lnTo>
                    <a:pt x="21615" y="5051"/>
                  </a:lnTo>
                  <a:lnTo>
                    <a:pt x="21346" y="4916"/>
                  </a:lnTo>
                  <a:lnTo>
                    <a:pt x="21077" y="4849"/>
                  </a:lnTo>
                  <a:lnTo>
                    <a:pt x="20807" y="4782"/>
                  </a:lnTo>
                  <a:lnTo>
                    <a:pt x="20538" y="4748"/>
                  </a:lnTo>
                  <a:lnTo>
                    <a:pt x="20269" y="4748"/>
                  </a:lnTo>
                  <a:lnTo>
                    <a:pt x="20033" y="4815"/>
                  </a:lnTo>
                  <a:lnTo>
                    <a:pt x="19764" y="4916"/>
                  </a:lnTo>
                  <a:lnTo>
                    <a:pt x="19528" y="5085"/>
                  </a:lnTo>
                  <a:lnTo>
                    <a:pt x="19292" y="5287"/>
                  </a:lnTo>
                  <a:lnTo>
                    <a:pt x="18989" y="5489"/>
                  </a:lnTo>
                  <a:lnTo>
                    <a:pt x="18720" y="5724"/>
                  </a:lnTo>
                  <a:lnTo>
                    <a:pt x="18451" y="5994"/>
                  </a:lnTo>
                  <a:lnTo>
                    <a:pt x="18249" y="6297"/>
                  </a:lnTo>
                  <a:lnTo>
                    <a:pt x="18080" y="6633"/>
                  </a:lnTo>
                  <a:lnTo>
                    <a:pt x="17946" y="7004"/>
                  </a:lnTo>
                  <a:lnTo>
                    <a:pt x="17878" y="7374"/>
                  </a:lnTo>
                  <a:lnTo>
                    <a:pt x="17845" y="7778"/>
                  </a:lnTo>
                  <a:lnTo>
                    <a:pt x="17845" y="8047"/>
                  </a:lnTo>
                  <a:lnTo>
                    <a:pt x="17912" y="8283"/>
                  </a:lnTo>
                  <a:lnTo>
                    <a:pt x="17979" y="8519"/>
                  </a:lnTo>
                  <a:lnTo>
                    <a:pt x="18047" y="8754"/>
                  </a:lnTo>
                  <a:lnTo>
                    <a:pt x="17171" y="8552"/>
                  </a:lnTo>
                  <a:lnTo>
                    <a:pt x="16229" y="8384"/>
                  </a:lnTo>
                  <a:lnTo>
                    <a:pt x="15319" y="8249"/>
                  </a:lnTo>
                  <a:lnTo>
                    <a:pt x="14848" y="8216"/>
                  </a:lnTo>
                  <a:lnTo>
                    <a:pt x="14410" y="8216"/>
                  </a:lnTo>
                  <a:lnTo>
                    <a:pt x="14511" y="8081"/>
                  </a:lnTo>
                  <a:lnTo>
                    <a:pt x="14612" y="7913"/>
                  </a:lnTo>
                  <a:lnTo>
                    <a:pt x="14680" y="7744"/>
                  </a:lnTo>
                  <a:lnTo>
                    <a:pt x="14747" y="7509"/>
                  </a:lnTo>
                  <a:lnTo>
                    <a:pt x="14814" y="7105"/>
                  </a:lnTo>
                  <a:lnTo>
                    <a:pt x="14848" y="6768"/>
                  </a:lnTo>
                  <a:lnTo>
                    <a:pt x="14949" y="5960"/>
                  </a:lnTo>
                  <a:lnTo>
                    <a:pt x="15117" y="5118"/>
                  </a:lnTo>
                  <a:lnTo>
                    <a:pt x="15319" y="4310"/>
                  </a:lnTo>
                  <a:lnTo>
                    <a:pt x="15387" y="3906"/>
                  </a:lnTo>
                  <a:lnTo>
                    <a:pt x="15454" y="3469"/>
                  </a:lnTo>
                  <a:lnTo>
                    <a:pt x="15858" y="3603"/>
                  </a:lnTo>
                  <a:lnTo>
                    <a:pt x="16262" y="3671"/>
                  </a:lnTo>
                  <a:lnTo>
                    <a:pt x="17070" y="3839"/>
                  </a:lnTo>
                  <a:lnTo>
                    <a:pt x="18720" y="4075"/>
                  </a:lnTo>
                  <a:lnTo>
                    <a:pt x="22322" y="4714"/>
                  </a:lnTo>
                  <a:lnTo>
                    <a:pt x="22356" y="4782"/>
                  </a:lnTo>
                  <a:lnTo>
                    <a:pt x="22390" y="4815"/>
                  </a:lnTo>
                  <a:lnTo>
                    <a:pt x="22423" y="4849"/>
                  </a:lnTo>
                  <a:lnTo>
                    <a:pt x="22524" y="4849"/>
                  </a:lnTo>
                  <a:lnTo>
                    <a:pt x="22592" y="4815"/>
                  </a:lnTo>
                  <a:lnTo>
                    <a:pt x="22592" y="4748"/>
                  </a:lnTo>
                  <a:lnTo>
                    <a:pt x="22592" y="4714"/>
                  </a:lnTo>
                  <a:lnTo>
                    <a:pt x="22558" y="4613"/>
                  </a:lnTo>
                  <a:lnTo>
                    <a:pt x="22558" y="4546"/>
                  </a:lnTo>
                  <a:lnTo>
                    <a:pt x="22558" y="4512"/>
                  </a:lnTo>
                  <a:lnTo>
                    <a:pt x="22491" y="4479"/>
                  </a:lnTo>
                  <a:lnTo>
                    <a:pt x="22255" y="3772"/>
                  </a:lnTo>
                  <a:lnTo>
                    <a:pt x="22120" y="3435"/>
                  </a:lnTo>
                  <a:lnTo>
                    <a:pt x="22053" y="3267"/>
                  </a:lnTo>
                  <a:lnTo>
                    <a:pt x="21952" y="3132"/>
                  </a:lnTo>
                  <a:lnTo>
                    <a:pt x="21918" y="3065"/>
                  </a:lnTo>
                  <a:lnTo>
                    <a:pt x="21885" y="3031"/>
                  </a:lnTo>
                  <a:lnTo>
                    <a:pt x="20067" y="2627"/>
                  </a:lnTo>
                  <a:lnTo>
                    <a:pt x="18249" y="2257"/>
                  </a:lnTo>
                  <a:lnTo>
                    <a:pt x="16397" y="1920"/>
                  </a:lnTo>
                  <a:lnTo>
                    <a:pt x="15724" y="1785"/>
                  </a:lnTo>
                  <a:lnTo>
                    <a:pt x="15420" y="1752"/>
                  </a:lnTo>
                  <a:lnTo>
                    <a:pt x="15084" y="1785"/>
                  </a:lnTo>
                  <a:lnTo>
                    <a:pt x="15387" y="1920"/>
                  </a:lnTo>
                  <a:lnTo>
                    <a:pt x="15690" y="2021"/>
                  </a:lnTo>
                  <a:lnTo>
                    <a:pt x="16363" y="2122"/>
                  </a:lnTo>
                  <a:lnTo>
                    <a:pt x="18181" y="2459"/>
                  </a:lnTo>
                  <a:lnTo>
                    <a:pt x="19999" y="2829"/>
                  </a:lnTo>
                  <a:lnTo>
                    <a:pt x="21817" y="3233"/>
                  </a:lnTo>
                  <a:lnTo>
                    <a:pt x="21851" y="3401"/>
                  </a:lnTo>
                  <a:lnTo>
                    <a:pt x="21885" y="3536"/>
                  </a:lnTo>
                  <a:lnTo>
                    <a:pt x="22019" y="3839"/>
                  </a:lnTo>
                  <a:lnTo>
                    <a:pt x="22221" y="4411"/>
                  </a:lnTo>
                  <a:lnTo>
                    <a:pt x="18787" y="3839"/>
                  </a:lnTo>
                  <a:lnTo>
                    <a:pt x="17138" y="3502"/>
                  </a:lnTo>
                  <a:lnTo>
                    <a:pt x="16262" y="3368"/>
                  </a:lnTo>
                  <a:lnTo>
                    <a:pt x="15858" y="3334"/>
                  </a:lnTo>
                  <a:lnTo>
                    <a:pt x="15420" y="3300"/>
                  </a:lnTo>
                  <a:lnTo>
                    <a:pt x="15420" y="3267"/>
                  </a:lnTo>
                  <a:lnTo>
                    <a:pt x="15387" y="3233"/>
                  </a:lnTo>
                  <a:lnTo>
                    <a:pt x="15319" y="3199"/>
                  </a:lnTo>
                  <a:lnTo>
                    <a:pt x="15151" y="3098"/>
                  </a:lnTo>
                  <a:lnTo>
                    <a:pt x="15016" y="2964"/>
                  </a:lnTo>
                  <a:lnTo>
                    <a:pt x="14781" y="2661"/>
                  </a:lnTo>
                  <a:lnTo>
                    <a:pt x="14680" y="2492"/>
                  </a:lnTo>
                  <a:lnTo>
                    <a:pt x="14545" y="2324"/>
                  </a:lnTo>
                  <a:lnTo>
                    <a:pt x="14579" y="2290"/>
                  </a:lnTo>
                  <a:lnTo>
                    <a:pt x="14579" y="2223"/>
                  </a:lnTo>
                  <a:lnTo>
                    <a:pt x="14545" y="2189"/>
                  </a:lnTo>
                  <a:lnTo>
                    <a:pt x="14511" y="2156"/>
                  </a:lnTo>
                  <a:lnTo>
                    <a:pt x="12256" y="1617"/>
                  </a:lnTo>
                  <a:lnTo>
                    <a:pt x="11111" y="1348"/>
                  </a:lnTo>
                  <a:lnTo>
                    <a:pt x="9966" y="1145"/>
                  </a:lnTo>
                  <a:lnTo>
                    <a:pt x="9091" y="977"/>
                  </a:lnTo>
                  <a:lnTo>
                    <a:pt x="8653" y="910"/>
                  </a:lnTo>
                  <a:lnTo>
                    <a:pt x="8249" y="876"/>
                  </a:lnTo>
                  <a:lnTo>
                    <a:pt x="8182" y="842"/>
                  </a:lnTo>
                  <a:lnTo>
                    <a:pt x="6229" y="506"/>
                  </a:lnTo>
                  <a:lnTo>
                    <a:pt x="6263" y="438"/>
                  </a:lnTo>
                  <a:lnTo>
                    <a:pt x="6229" y="371"/>
                  </a:lnTo>
                  <a:lnTo>
                    <a:pt x="6195" y="337"/>
                  </a:lnTo>
                  <a:lnTo>
                    <a:pt x="6094" y="304"/>
                  </a:lnTo>
                  <a:lnTo>
                    <a:pt x="5522" y="236"/>
                  </a:lnTo>
                  <a:lnTo>
                    <a:pt x="5219" y="203"/>
                  </a:lnTo>
                  <a:lnTo>
                    <a:pt x="5051" y="169"/>
                  </a:lnTo>
                  <a:lnTo>
                    <a:pt x="4983" y="169"/>
                  </a:lnTo>
                  <a:lnTo>
                    <a:pt x="4950" y="102"/>
                  </a:lnTo>
                  <a:lnTo>
                    <a:pt x="4882" y="68"/>
                  </a:lnTo>
                  <a:lnTo>
                    <a:pt x="4815" y="34"/>
                  </a:lnTo>
                  <a:lnTo>
                    <a:pt x="468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hape 601"/>
            <p:cNvSpPr/>
            <p:nvPr/>
          </p:nvSpPr>
          <p:spPr>
            <a:xfrm>
              <a:off x="428400" y="1820880"/>
              <a:ext cx="142560" cy="156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156" h="2358">
                  <a:moveTo>
                    <a:pt x="943" y="304"/>
                  </a:moveTo>
                  <a:lnTo>
                    <a:pt x="674" y="809"/>
                  </a:lnTo>
                  <a:lnTo>
                    <a:pt x="876" y="337"/>
                  </a:lnTo>
                  <a:lnTo>
                    <a:pt x="943" y="304"/>
                  </a:lnTo>
                  <a:close/>
                  <a:moveTo>
                    <a:pt x="1179" y="304"/>
                  </a:moveTo>
                  <a:lnTo>
                    <a:pt x="1414" y="337"/>
                  </a:lnTo>
                  <a:lnTo>
                    <a:pt x="1583" y="405"/>
                  </a:lnTo>
                  <a:lnTo>
                    <a:pt x="1684" y="472"/>
                  </a:lnTo>
                  <a:lnTo>
                    <a:pt x="1751" y="539"/>
                  </a:lnTo>
                  <a:lnTo>
                    <a:pt x="1886" y="775"/>
                  </a:lnTo>
                  <a:lnTo>
                    <a:pt x="1919" y="842"/>
                  </a:lnTo>
                  <a:lnTo>
                    <a:pt x="1785" y="809"/>
                  </a:lnTo>
                  <a:lnTo>
                    <a:pt x="1751" y="809"/>
                  </a:lnTo>
                  <a:lnTo>
                    <a:pt x="1717" y="876"/>
                  </a:lnTo>
                  <a:lnTo>
                    <a:pt x="1482" y="1213"/>
                  </a:lnTo>
                  <a:lnTo>
                    <a:pt x="1717" y="708"/>
                  </a:lnTo>
                  <a:lnTo>
                    <a:pt x="1717" y="640"/>
                  </a:lnTo>
                  <a:lnTo>
                    <a:pt x="1717" y="607"/>
                  </a:lnTo>
                  <a:lnTo>
                    <a:pt x="1684" y="539"/>
                  </a:lnTo>
                  <a:lnTo>
                    <a:pt x="1583" y="506"/>
                  </a:lnTo>
                  <a:lnTo>
                    <a:pt x="1549" y="539"/>
                  </a:lnTo>
                  <a:lnTo>
                    <a:pt x="1515" y="573"/>
                  </a:lnTo>
                  <a:lnTo>
                    <a:pt x="1078" y="1246"/>
                  </a:lnTo>
                  <a:lnTo>
                    <a:pt x="1145" y="1112"/>
                  </a:lnTo>
                  <a:lnTo>
                    <a:pt x="1145" y="1078"/>
                  </a:lnTo>
                  <a:lnTo>
                    <a:pt x="1482" y="539"/>
                  </a:lnTo>
                  <a:lnTo>
                    <a:pt x="1482" y="472"/>
                  </a:lnTo>
                  <a:lnTo>
                    <a:pt x="1482" y="438"/>
                  </a:lnTo>
                  <a:lnTo>
                    <a:pt x="1414" y="371"/>
                  </a:lnTo>
                  <a:lnTo>
                    <a:pt x="1313" y="371"/>
                  </a:lnTo>
                  <a:lnTo>
                    <a:pt x="1280" y="405"/>
                  </a:lnTo>
                  <a:lnTo>
                    <a:pt x="1078" y="708"/>
                  </a:lnTo>
                  <a:lnTo>
                    <a:pt x="943" y="1011"/>
                  </a:lnTo>
                  <a:lnTo>
                    <a:pt x="741" y="1280"/>
                  </a:lnTo>
                  <a:lnTo>
                    <a:pt x="876" y="1044"/>
                  </a:lnTo>
                  <a:lnTo>
                    <a:pt x="1179" y="337"/>
                  </a:lnTo>
                  <a:lnTo>
                    <a:pt x="1179" y="304"/>
                  </a:lnTo>
                  <a:close/>
                  <a:moveTo>
                    <a:pt x="775" y="371"/>
                  </a:moveTo>
                  <a:lnTo>
                    <a:pt x="606" y="607"/>
                  </a:lnTo>
                  <a:lnTo>
                    <a:pt x="472" y="876"/>
                  </a:lnTo>
                  <a:lnTo>
                    <a:pt x="371" y="1145"/>
                  </a:lnTo>
                  <a:lnTo>
                    <a:pt x="278" y="1423"/>
                  </a:lnTo>
                  <a:lnTo>
                    <a:pt x="270" y="1381"/>
                  </a:lnTo>
                  <a:lnTo>
                    <a:pt x="270" y="1213"/>
                  </a:lnTo>
                  <a:lnTo>
                    <a:pt x="303" y="1044"/>
                  </a:lnTo>
                  <a:lnTo>
                    <a:pt x="438" y="708"/>
                  </a:lnTo>
                  <a:lnTo>
                    <a:pt x="505" y="607"/>
                  </a:lnTo>
                  <a:lnTo>
                    <a:pt x="573" y="506"/>
                  </a:lnTo>
                  <a:lnTo>
                    <a:pt x="775" y="371"/>
                  </a:lnTo>
                  <a:close/>
                  <a:moveTo>
                    <a:pt x="1953" y="977"/>
                  </a:moveTo>
                  <a:lnTo>
                    <a:pt x="1953" y="1145"/>
                  </a:lnTo>
                  <a:lnTo>
                    <a:pt x="1919" y="1314"/>
                  </a:lnTo>
                  <a:lnTo>
                    <a:pt x="1818" y="1482"/>
                  </a:lnTo>
                  <a:lnTo>
                    <a:pt x="1717" y="1650"/>
                  </a:lnTo>
                  <a:lnTo>
                    <a:pt x="1684" y="1583"/>
                  </a:lnTo>
                  <a:lnTo>
                    <a:pt x="1953" y="977"/>
                  </a:lnTo>
                  <a:close/>
                  <a:moveTo>
                    <a:pt x="303" y="1549"/>
                  </a:moveTo>
                  <a:lnTo>
                    <a:pt x="404" y="1583"/>
                  </a:lnTo>
                  <a:lnTo>
                    <a:pt x="337" y="1684"/>
                  </a:lnTo>
                  <a:lnTo>
                    <a:pt x="303" y="1549"/>
                  </a:lnTo>
                  <a:close/>
                  <a:moveTo>
                    <a:pt x="1347" y="1852"/>
                  </a:moveTo>
                  <a:lnTo>
                    <a:pt x="1381" y="1886"/>
                  </a:lnTo>
                  <a:lnTo>
                    <a:pt x="1414" y="1920"/>
                  </a:lnTo>
                  <a:lnTo>
                    <a:pt x="1381" y="1953"/>
                  </a:lnTo>
                  <a:lnTo>
                    <a:pt x="1212" y="2021"/>
                  </a:lnTo>
                  <a:lnTo>
                    <a:pt x="1347" y="1852"/>
                  </a:lnTo>
                  <a:close/>
                  <a:moveTo>
                    <a:pt x="1145" y="1"/>
                  </a:moveTo>
                  <a:lnTo>
                    <a:pt x="943" y="34"/>
                  </a:lnTo>
                  <a:lnTo>
                    <a:pt x="842" y="34"/>
                  </a:lnTo>
                  <a:lnTo>
                    <a:pt x="741" y="68"/>
                  </a:lnTo>
                  <a:lnTo>
                    <a:pt x="573" y="135"/>
                  </a:lnTo>
                  <a:lnTo>
                    <a:pt x="404" y="270"/>
                  </a:lnTo>
                  <a:lnTo>
                    <a:pt x="270" y="472"/>
                  </a:lnTo>
                  <a:lnTo>
                    <a:pt x="169" y="674"/>
                  </a:lnTo>
                  <a:lnTo>
                    <a:pt x="68" y="876"/>
                  </a:lnTo>
                  <a:lnTo>
                    <a:pt x="34" y="1078"/>
                  </a:lnTo>
                  <a:lnTo>
                    <a:pt x="0" y="1246"/>
                  </a:lnTo>
                  <a:lnTo>
                    <a:pt x="0" y="1448"/>
                  </a:lnTo>
                  <a:lnTo>
                    <a:pt x="34" y="1650"/>
                  </a:lnTo>
                  <a:lnTo>
                    <a:pt x="101" y="1819"/>
                  </a:lnTo>
                  <a:lnTo>
                    <a:pt x="169" y="1987"/>
                  </a:lnTo>
                  <a:lnTo>
                    <a:pt x="303" y="2088"/>
                  </a:lnTo>
                  <a:lnTo>
                    <a:pt x="438" y="2189"/>
                  </a:lnTo>
                  <a:lnTo>
                    <a:pt x="606" y="2256"/>
                  </a:lnTo>
                  <a:lnTo>
                    <a:pt x="808" y="2324"/>
                  </a:lnTo>
                  <a:lnTo>
                    <a:pt x="876" y="2357"/>
                  </a:lnTo>
                  <a:lnTo>
                    <a:pt x="943" y="2324"/>
                  </a:lnTo>
                  <a:lnTo>
                    <a:pt x="1179" y="2324"/>
                  </a:lnTo>
                  <a:lnTo>
                    <a:pt x="1381" y="2256"/>
                  </a:lnTo>
                  <a:lnTo>
                    <a:pt x="1583" y="2155"/>
                  </a:lnTo>
                  <a:lnTo>
                    <a:pt x="1751" y="1987"/>
                  </a:lnTo>
                  <a:lnTo>
                    <a:pt x="1919" y="1819"/>
                  </a:lnTo>
                  <a:lnTo>
                    <a:pt x="2054" y="1617"/>
                  </a:lnTo>
                  <a:lnTo>
                    <a:pt x="2121" y="1415"/>
                  </a:lnTo>
                  <a:lnTo>
                    <a:pt x="2155" y="1179"/>
                  </a:lnTo>
                  <a:lnTo>
                    <a:pt x="2155" y="943"/>
                  </a:lnTo>
                  <a:lnTo>
                    <a:pt x="2088" y="775"/>
                  </a:lnTo>
                  <a:lnTo>
                    <a:pt x="2020" y="573"/>
                  </a:lnTo>
                  <a:lnTo>
                    <a:pt x="1886" y="371"/>
                  </a:lnTo>
                  <a:lnTo>
                    <a:pt x="1717" y="236"/>
                  </a:lnTo>
                  <a:lnTo>
                    <a:pt x="1549" y="102"/>
                  </a:lnTo>
                  <a:lnTo>
                    <a:pt x="1347" y="34"/>
                  </a:lnTo>
                  <a:lnTo>
                    <a:pt x="1145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hape 602"/>
            <p:cNvSpPr/>
            <p:nvPr/>
          </p:nvSpPr>
          <p:spPr>
            <a:xfrm>
              <a:off x="1585800" y="2076480"/>
              <a:ext cx="190440" cy="199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863" h="3031">
                  <a:moveTo>
                    <a:pt x="1414" y="203"/>
                  </a:moveTo>
                  <a:lnTo>
                    <a:pt x="1616" y="236"/>
                  </a:lnTo>
                  <a:lnTo>
                    <a:pt x="1818" y="270"/>
                  </a:lnTo>
                  <a:lnTo>
                    <a:pt x="1987" y="337"/>
                  </a:lnTo>
                  <a:lnTo>
                    <a:pt x="2155" y="438"/>
                  </a:lnTo>
                  <a:lnTo>
                    <a:pt x="2323" y="573"/>
                  </a:lnTo>
                  <a:lnTo>
                    <a:pt x="2458" y="741"/>
                  </a:lnTo>
                  <a:lnTo>
                    <a:pt x="2593" y="943"/>
                  </a:lnTo>
                  <a:lnTo>
                    <a:pt x="2694" y="1179"/>
                  </a:lnTo>
                  <a:lnTo>
                    <a:pt x="2727" y="1415"/>
                  </a:lnTo>
                  <a:lnTo>
                    <a:pt x="2694" y="1650"/>
                  </a:lnTo>
                  <a:lnTo>
                    <a:pt x="2626" y="1886"/>
                  </a:lnTo>
                  <a:lnTo>
                    <a:pt x="2525" y="2088"/>
                  </a:lnTo>
                  <a:lnTo>
                    <a:pt x="2391" y="2290"/>
                  </a:lnTo>
                  <a:lnTo>
                    <a:pt x="2222" y="2458"/>
                  </a:lnTo>
                  <a:lnTo>
                    <a:pt x="2020" y="2627"/>
                  </a:lnTo>
                  <a:lnTo>
                    <a:pt x="1852" y="2694"/>
                  </a:lnTo>
                  <a:lnTo>
                    <a:pt x="1684" y="2761"/>
                  </a:lnTo>
                  <a:lnTo>
                    <a:pt x="1549" y="2795"/>
                  </a:lnTo>
                  <a:lnTo>
                    <a:pt x="1381" y="2829"/>
                  </a:lnTo>
                  <a:lnTo>
                    <a:pt x="1246" y="2795"/>
                  </a:lnTo>
                  <a:lnTo>
                    <a:pt x="1111" y="2761"/>
                  </a:lnTo>
                  <a:lnTo>
                    <a:pt x="977" y="2728"/>
                  </a:lnTo>
                  <a:lnTo>
                    <a:pt x="842" y="2627"/>
                  </a:lnTo>
                  <a:lnTo>
                    <a:pt x="606" y="2458"/>
                  </a:lnTo>
                  <a:lnTo>
                    <a:pt x="438" y="2189"/>
                  </a:lnTo>
                  <a:lnTo>
                    <a:pt x="303" y="1920"/>
                  </a:lnTo>
                  <a:lnTo>
                    <a:pt x="236" y="1583"/>
                  </a:lnTo>
                  <a:lnTo>
                    <a:pt x="236" y="1381"/>
                  </a:lnTo>
                  <a:lnTo>
                    <a:pt x="270" y="1145"/>
                  </a:lnTo>
                  <a:lnTo>
                    <a:pt x="337" y="943"/>
                  </a:lnTo>
                  <a:lnTo>
                    <a:pt x="404" y="741"/>
                  </a:lnTo>
                  <a:lnTo>
                    <a:pt x="472" y="607"/>
                  </a:lnTo>
                  <a:lnTo>
                    <a:pt x="573" y="539"/>
                  </a:lnTo>
                  <a:lnTo>
                    <a:pt x="741" y="405"/>
                  </a:lnTo>
                  <a:lnTo>
                    <a:pt x="977" y="304"/>
                  </a:lnTo>
                  <a:lnTo>
                    <a:pt x="1212" y="236"/>
                  </a:lnTo>
                  <a:lnTo>
                    <a:pt x="1414" y="203"/>
                  </a:lnTo>
                  <a:close/>
                  <a:moveTo>
                    <a:pt x="1179" y="1"/>
                  </a:moveTo>
                  <a:lnTo>
                    <a:pt x="842" y="68"/>
                  </a:lnTo>
                  <a:lnTo>
                    <a:pt x="808" y="135"/>
                  </a:lnTo>
                  <a:lnTo>
                    <a:pt x="640" y="236"/>
                  </a:lnTo>
                  <a:lnTo>
                    <a:pt x="472" y="371"/>
                  </a:lnTo>
                  <a:lnTo>
                    <a:pt x="371" y="506"/>
                  </a:lnTo>
                  <a:lnTo>
                    <a:pt x="236" y="674"/>
                  </a:lnTo>
                  <a:lnTo>
                    <a:pt x="169" y="876"/>
                  </a:lnTo>
                  <a:lnTo>
                    <a:pt x="68" y="1078"/>
                  </a:lnTo>
                  <a:lnTo>
                    <a:pt x="34" y="1246"/>
                  </a:lnTo>
                  <a:lnTo>
                    <a:pt x="0" y="1448"/>
                  </a:lnTo>
                  <a:lnTo>
                    <a:pt x="0" y="1751"/>
                  </a:lnTo>
                  <a:lnTo>
                    <a:pt x="101" y="2088"/>
                  </a:lnTo>
                  <a:lnTo>
                    <a:pt x="236" y="2391"/>
                  </a:lnTo>
                  <a:lnTo>
                    <a:pt x="438" y="2627"/>
                  </a:lnTo>
                  <a:lnTo>
                    <a:pt x="674" y="2829"/>
                  </a:lnTo>
                  <a:lnTo>
                    <a:pt x="808" y="2930"/>
                  </a:lnTo>
                  <a:lnTo>
                    <a:pt x="943" y="2963"/>
                  </a:lnTo>
                  <a:lnTo>
                    <a:pt x="1111" y="3031"/>
                  </a:lnTo>
                  <a:lnTo>
                    <a:pt x="1448" y="3031"/>
                  </a:lnTo>
                  <a:lnTo>
                    <a:pt x="1616" y="2997"/>
                  </a:lnTo>
                  <a:lnTo>
                    <a:pt x="1919" y="2896"/>
                  </a:lnTo>
                  <a:lnTo>
                    <a:pt x="2189" y="2761"/>
                  </a:lnTo>
                  <a:lnTo>
                    <a:pt x="2424" y="2559"/>
                  </a:lnTo>
                  <a:lnTo>
                    <a:pt x="2593" y="2357"/>
                  </a:lnTo>
                  <a:lnTo>
                    <a:pt x="2727" y="2088"/>
                  </a:lnTo>
                  <a:lnTo>
                    <a:pt x="2828" y="1819"/>
                  </a:lnTo>
                  <a:lnTo>
                    <a:pt x="2862" y="1482"/>
                  </a:lnTo>
                  <a:lnTo>
                    <a:pt x="2828" y="1179"/>
                  </a:lnTo>
                  <a:lnTo>
                    <a:pt x="2795" y="1011"/>
                  </a:lnTo>
                  <a:lnTo>
                    <a:pt x="2727" y="842"/>
                  </a:lnTo>
                  <a:lnTo>
                    <a:pt x="2660" y="708"/>
                  </a:lnTo>
                  <a:lnTo>
                    <a:pt x="2593" y="573"/>
                  </a:lnTo>
                  <a:lnTo>
                    <a:pt x="2357" y="337"/>
                  </a:lnTo>
                  <a:lnTo>
                    <a:pt x="2088" y="169"/>
                  </a:lnTo>
                  <a:lnTo>
                    <a:pt x="1818" y="68"/>
                  </a:lnTo>
                  <a:lnTo>
                    <a:pt x="148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hape 603"/>
            <p:cNvSpPr/>
            <p:nvPr/>
          </p:nvSpPr>
          <p:spPr>
            <a:xfrm>
              <a:off x="2749320" y="5936040"/>
              <a:ext cx="21960" cy="134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38" h="2021">
                  <a:moveTo>
                    <a:pt x="1" y="1"/>
                  </a:moveTo>
                  <a:lnTo>
                    <a:pt x="1" y="34"/>
                  </a:lnTo>
                  <a:lnTo>
                    <a:pt x="1" y="270"/>
                  </a:lnTo>
                  <a:lnTo>
                    <a:pt x="34" y="472"/>
                  </a:lnTo>
                  <a:lnTo>
                    <a:pt x="102" y="943"/>
                  </a:lnTo>
                  <a:lnTo>
                    <a:pt x="135" y="1448"/>
                  </a:lnTo>
                  <a:lnTo>
                    <a:pt x="169" y="1718"/>
                  </a:lnTo>
                  <a:lnTo>
                    <a:pt x="203" y="1954"/>
                  </a:lnTo>
                  <a:lnTo>
                    <a:pt x="236" y="1987"/>
                  </a:lnTo>
                  <a:lnTo>
                    <a:pt x="270" y="2021"/>
                  </a:lnTo>
                  <a:lnTo>
                    <a:pt x="304" y="1987"/>
                  </a:lnTo>
                  <a:lnTo>
                    <a:pt x="337" y="1954"/>
                  </a:lnTo>
                  <a:lnTo>
                    <a:pt x="337" y="1684"/>
                  </a:lnTo>
                  <a:lnTo>
                    <a:pt x="337" y="1448"/>
                  </a:lnTo>
                  <a:lnTo>
                    <a:pt x="270" y="910"/>
                  </a:lnTo>
                  <a:lnTo>
                    <a:pt x="203" y="472"/>
                  </a:lnTo>
                  <a:lnTo>
                    <a:pt x="169" y="236"/>
                  </a:lnTo>
                  <a:lnTo>
                    <a:pt x="102" y="34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8000" bIns="18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hape 604"/>
            <p:cNvSpPr/>
            <p:nvPr/>
          </p:nvSpPr>
          <p:spPr>
            <a:xfrm>
              <a:off x="3216240" y="568980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223" h="2223">
                  <a:moveTo>
                    <a:pt x="1818" y="0"/>
                  </a:moveTo>
                  <a:lnTo>
                    <a:pt x="1313" y="68"/>
                  </a:lnTo>
                  <a:lnTo>
                    <a:pt x="808" y="135"/>
                  </a:lnTo>
                  <a:lnTo>
                    <a:pt x="404" y="169"/>
                  </a:lnTo>
                  <a:lnTo>
                    <a:pt x="202" y="202"/>
                  </a:lnTo>
                  <a:lnTo>
                    <a:pt x="0" y="270"/>
                  </a:lnTo>
                  <a:lnTo>
                    <a:pt x="0" y="303"/>
                  </a:lnTo>
                  <a:lnTo>
                    <a:pt x="169" y="371"/>
                  </a:lnTo>
                  <a:lnTo>
                    <a:pt x="337" y="404"/>
                  </a:lnTo>
                  <a:lnTo>
                    <a:pt x="707" y="337"/>
                  </a:lnTo>
                  <a:lnTo>
                    <a:pt x="1246" y="270"/>
                  </a:lnTo>
                  <a:lnTo>
                    <a:pt x="1785" y="202"/>
                  </a:lnTo>
                  <a:lnTo>
                    <a:pt x="1785" y="371"/>
                  </a:lnTo>
                  <a:lnTo>
                    <a:pt x="1785" y="539"/>
                  </a:lnTo>
                  <a:lnTo>
                    <a:pt x="1852" y="909"/>
                  </a:lnTo>
                  <a:lnTo>
                    <a:pt x="1919" y="1381"/>
                  </a:lnTo>
                  <a:lnTo>
                    <a:pt x="1953" y="1616"/>
                  </a:lnTo>
                  <a:lnTo>
                    <a:pt x="2020" y="1818"/>
                  </a:lnTo>
                  <a:lnTo>
                    <a:pt x="1044" y="1953"/>
                  </a:lnTo>
                  <a:lnTo>
                    <a:pt x="674" y="1987"/>
                  </a:lnTo>
                  <a:lnTo>
                    <a:pt x="505" y="2020"/>
                  </a:lnTo>
                  <a:lnTo>
                    <a:pt x="371" y="2121"/>
                  </a:lnTo>
                  <a:lnTo>
                    <a:pt x="539" y="2189"/>
                  </a:lnTo>
                  <a:lnTo>
                    <a:pt x="707" y="2222"/>
                  </a:lnTo>
                  <a:lnTo>
                    <a:pt x="1078" y="2155"/>
                  </a:lnTo>
                  <a:lnTo>
                    <a:pt x="2121" y="2020"/>
                  </a:lnTo>
                  <a:lnTo>
                    <a:pt x="2189" y="1987"/>
                  </a:lnTo>
                  <a:lnTo>
                    <a:pt x="2222" y="1953"/>
                  </a:lnTo>
                  <a:lnTo>
                    <a:pt x="2222" y="1886"/>
                  </a:lnTo>
                  <a:lnTo>
                    <a:pt x="2189" y="1852"/>
                  </a:lnTo>
                  <a:lnTo>
                    <a:pt x="2155" y="1616"/>
                  </a:lnTo>
                  <a:lnTo>
                    <a:pt x="2121" y="1347"/>
                  </a:lnTo>
                  <a:lnTo>
                    <a:pt x="2054" y="876"/>
                  </a:lnTo>
                  <a:lnTo>
                    <a:pt x="1987" y="505"/>
                  </a:lnTo>
                  <a:lnTo>
                    <a:pt x="1953" y="337"/>
                  </a:lnTo>
                  <a:lnTo>
                    <a:pt x="1886" y="135"/>
                  </a:lnTo>
                  <a:lnTo>
                    <a:pt x="1919" y="101"/>
                  </a:lnTo>
                  <a:lnTo>
                    <a:pt x="1919" y="34"/>
                  </a:lnTo>
                  <a:lnTo>
                    <a:pt x="1886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hape 605"/>
            <p:cNvSpPr/>
            <p:nvPr/>
          </p:nvSpPr>
          <p:spPr>
            <a:xfrm>
              <a:off x="3417840" y="572148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2" h="641">
                  <a:moveTo>
                    <a:pt x="606" y="135"/>
                  </a:moveTo>
                  <a:lnTo>
                    <a:pt x="539" y="236"/>
                  </a:lnTo>
                  <a:lnTo>
                    <a:pt x="438" y="304"/>
                  </a:lnTo>
                  <a:lnTo>
                    <a:pt x="337" y="337"/>
                  </a:lnTo>
                  <a:lnTo>
                    <a:pt x="202" y="337"/>
                  </a:lnTo>
                  <a:lnTo>
                    <a:pt x="202" y="203"/>
                  </a:lnTo>
                  <a:lnTo>
                    <a:pt x="404" y="135"/>
                  </a:lnTo>
                  <a:close/>
                  <a:moveTo>
                    <a:pt x="371" y="1"/>
                  </a:moveTo>
                  <a:lnTo>
                    <a:pt x="270" y="34"/>
                  </a:lnTo>
                  <a:lnTo>
                    <a:pt x="169" y="102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68" y="102"/>
                  </a:lnTo>
                  <a:lnTo>
                    <a:pt x="68" y="337"/>
                  </a:lnTo>
                  <a:lnTo>
                    <a:pt x="0" y="371"/>
                  </a:lnTo>
                  <a:lnTo>
                    <a:pt x="0" y="405"/>
                  </a:lnTo>
                  <a:lnTo>
                    <a:pt x="0" y="472"/>
                  </a:lnTo>
                  <a:lnTo>
                    <a:pt x="68" y="506"/>
                  </a:lnTo>
                  <a:lnTo>
                    <a:pt x="101" y="573"/>
                  </a:lnTo>
                  <a:lnTo>
                    <a:pt x="135" y="607"/>
                  </a:lnTo>
                  <a:lnTo>
                    <a:pt x="169" y="640"/>
                  </a:lnTo>
                  <a:lnTo>
                    <a:pt x="236" y="607"/>
                  </a:lnTo>
                  <a:lnTo>
                    <a:pt x="236" y="573"/>
                  </a:lnTo>
                  <a:lnTo>
                    <a:pt x="236" y="539"/>
                  </a:lnTo>
                  <a:lnTo>
                    <a:pt x="236" y="506"/>
                  </a:lnTo>
                  <a:lnTo>
                    <a:pt x="438" y="472"/>
                  </a:lnTo>
                  <a:lnTo>
                    <a:pt x="573" y="405"/>
                  </a:lnTo>
                  <a:lnTo>
                    <a:pt x="640" y="337"/>
                  </a:lnTo>
                  <a:lnTo>
                    <a:pt x="707" y="270"/>
                  </a:lnTo>
                  <a:lnTo>
                    <a:pt x="741" y="203"/>
                  </a:lnTo>
                  <a:lnTo>
                    <a:pt x="741" y="102"/>
                  </a:lnTo>
                  <a:lnTo>
                    <a:pt x="741" y="68"/>
                  </a:lnTo>
                  <a:lnTo>
                    <a:pt x="707" y="34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hape 606"/>
            <p:cNvSpPr/>
            <p:nvPr/>
          </p:nvSpPr>
          <p:spPr>
            <a:xfrm>
              <a:off x="3549600" y="5815080"/>
              <a:ext cx="25200" cy="134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72" h="2021">
                  <a:moveTo>
                    <a:pt x="35" y="1"/>
                  </a:moveTo>
                  <a:lnTo>
                    <a:pt x="1" y="34"/>
                  </a:lnTo>
                  <a:lnTo>
                    <a:pt x="1" y="68"/>
                  </a:lnTo>
                  <a:lnTo>
                    <a:pt x="1" y="270"/>
                  </a:lnTo>
                  <a:lnTo>
                    <a:pt x="35" y="506"/>
                  </a:lnTo>
                  <a:lnTo>
                    <a:pt x="102" y="943"/>
                  </a:lnTo>
                  <a:lnTo>
                    <a:pt x="136" y="1482"/>
                  </a:lnTo>
                  <a:lnTo>
                    <a:pt x="169" y="1718"/>
                  </a:lnTo>
                  <a:lnTo>
                    <a:pt x="203" y="1987"/>
                  </a:lnTo>
                  <a:lnTo>
                    <a:pt x="237" y="2021"/>
                  </a:lnTo>
                  <a:lnTo>
                    <a:pt x="304" y="2021"/>
                  </a:lnTo>
                  <a:lnTo>
                    <a:pt x="338" y="1987"/>
                  </a:lnTo>
                  <a:lnTo>
                    <a:pt x="371" y="1718"/>
                  </a:lnTo>
                  <a:lnTo>
                    <a:pt x="338" y="1448"/>
                  </a:lnTo>
                  <a:lnTo>
                    <a:pt x="270" y="910"/>
                  </a:lnTo>
                  <a:lnTo>
                    <a:pt x="203" y="472"/>
                  </a:lnTo>
                  <a:lnTo>
                    <a:pt x="169" y="236"/>
                  </a:lnTo>
                  <a:lnTo>
                    <a:pt x="102" y="34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8000" bIns="18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hape 607"/>
            <p:cNvSpPr/>
            <p:nvPr/>
          </p:nvSpPr>
          <p:spPr>
            <a:xfrm>
              <a:off x="3368520" y="5666040"/>
              <a:ext cx="156960" cy="1476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58" h="2224">
                  <a:moveTo>
                    <a:pt x="1852" y="1"/>
                  </a:moveTo>
                  <a:lnTo>
                    <a:pt x="1684" y="35"/>
                  </a:lnTo>
                  <a:lnTo>
                    <a:pt x="1347" y="102"/>
                  </a:lnTo>
                  <a:lnTo>
                    <a:pt x="708" y="169"/>
                  </a:lnTo>
                  <a:lnTo>
                    <a:pt x="405" y="237"/>
                  </a:lnTo>
                  <a:lnTo>
                    <a:pt x="135" y="304"/>
                  </a:lnTo>
                  <a:lnTo>
                    <a:pt x="102" y="237"/>
                  </a:lnTo>
                  <a:lnTo>
                    <a:pt x="68" y="203"/>
                  </a:lnTo>
                  <a:lnTo>
                    <a:pt x="1" y="237"/>
                  </a:lnTo>
                  <a:lnTo>
                    <a:pt x="1" y="472"/>
                  </a:lnTo>
                  <a:lnTo>
                    <a:pt x="1" y="708"/>
                  </a:lnTo>
                  <a:lnTo>
                    <a:pt x="68" y="1146"/>
                  </a:lnTo>
                  <a:lnTo>
                    <a:pt x="135" y="1684"/>
                  </a:lnTo>
                  <a:lnTo>
                    <a:pt x="203" y="1920"/>
                  </a:lnTo>
                  <a:lnTo>
                    <a:pt x="304" y="2189"/>
                  </a:lnTo>
                  <a:lnTo>
                    <a:pt x="337" y="2223"/>
                  </a:lnTo>
                  <a:lnTo>
                    <a:pt x="371" y="2223"/>
                  </a:lnTo>
                  <a:lnTo>
                    <a:pt x="405" y="2189"/>
                  </a:lnTo>
                  <a:lnTo>
                    <a:pt x="438" y="2156"/>
                  </a:lnTo>
                  <a:lnTo>
                    <a:pt x="405" y="1886"/>
                  </a:lnTo>
                  <a:lnTo>
                    <a:pt x="337" y="1617"/>
                  </a:lnTo>
                  <a:lnTo>
                    <a:pt x="236" y="1112"/>
                  </a:lnTo>
                  <a:lnTo>
                    <a:pt x="203" y="742"/>
                  </a:lnTo>
                  <a:lnTo>
                    <a:pt x="135" y="405"/>
                  </a:lnTo>
                  <a:lnTo>
                    <a:pt x="539" y="371"/>
                  </a:lnTo>
                  <a:lnTo>
                    <a:pt x="943" y="338"/>
                  </a:lnTo>
                  <a:lnTo>
                    <a:pt x="1852" y="169"/>
                  </a:lnTo>
                  <a:lnTo>
                    <a:pt x="1886" y="203"/>
                  </a:lnTo>
                  <a:lnTo>
                    <a:pt x="1987" y="203"/>
                  </a:lnTo>
                  <a:lnTo>
                    <a:pt x="1987" y="472"/>
                  </a:lnTo>
                  <a:lnTo>
                    <a:pt x="2021" y="775"/>
                  </a:lnTo>
                  <a:lnTo>
                    <a:pt x="2155" y="1785"/>
                  </a:lnTo>
                  <a:lnTo>
                    <a:pt x="1953" y="1785"/>
                  </a:lnTo>
                  <a:lnTo>
                    <a:pt x="1751" y="1819"/>
                  </a:lnTo>
                  <a:lnTo>
                    <a:pt x="1347" y="1886"/>
                  </a:lnTo>
                  <a:lnTo>
                    <a:pt x="842" y="1954"/>
                  </a:lnTo>
                  <a:lnTo>
                    <a:pt x="607" y="2021"/>
                  </a:lnTo>
                  <a:lnTo>
                    <a:pt x="506" y="2055"/>
                  </a:lnTo>
                  <a:lnTo>
                    <a:pt x="438" y="2156"/>
                  </a:lnTo>
                  <a:lnTo>
                    <a:pt x="506" y="2189"/>
                  </a:lnTo>
                  <a:lnTo>
                    <a:pt x="607" y="2223"/>
                  </a:lnTo>
                  <a:lnTo>
                    <a:pt x="842" y="2223"/>
                  </a:lnTo>
                  <a:lnTo>
                    <a:pt x="1246" y="2122"/>
                  </a:lnTo>
                  <a:lnTo>
                    <a:pt x="1718" y="2088"/>
                  </a:lnTo>
                  <a:lnTo>
                    <a:pt x="1987" y="2021"/>
                  </a:lnTo>
                  <a:lnTo>
                    <a:pt x="2189" y="1954"/>
                  </a:lnTo>
                  <a:lnTo>
                    <a:pt x="2256" y="1987"/>
                  </a:lnTo>
                  <a:lnTo>
                    <a:pt x="2290" y="1987"/>
                  </a:lnTo>
                  <a:lnTo>
                    <a:pt x="2358" y="1954"/>
                  </a:lnTo>
                  <a:lnTo>
                    <a:pt x="2358" y="1886"/>
                  </a:lnTo>
                  <a:lnTo>
                    <a:pt x="2189" y="876"/>
                  </a:lnTo>
                  <a:lnTo>
                    <a:pt x="2155" y="439"/>
                  </a:lnTo>
                  <a:lnTo>
                    <a:pt x="2122" y="237"/>
                  </a:lnTo>
                  <a:lnTo>
                    <a:pt x="2054" y="35"/>
                  </a:lnTo>
                  <a:lnTo>
                    <a:pt x="2021" y="35"/>
                  </a:lnTo>
                  <a:lnTo>
                    <a:pt x="2021" y="68"/>
                  </a:lnTo>
                  <a:lnTo>
                    <a:pt x="1987" y="68"/>
                  </a:lnTo>
                  <a:lnTo>
                    <a:pt x="1920" y="35"/>
                  </a:lnTo>
                  <a:lnTo>
                    <a:pt x="185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hape 608"/>
            <p:cNvSpPr/>
            <p:nvPr/>
          </p:nvSpPr>
          <p:spPr>
            <a:xfrm>
              <a:off x="3422520" y="5815080"/>
              <a:ext cx="137880" cy="153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089" h="2324">
                  <a:moveTo>
                    <a:pt x="1718" y="1"/>
                  </a:moveTo>
                  <a:lnTo>
                    <a:pt x="1516" y="34"/>
                  </a:lnTo>
                  <a:lnTo>
                    <a:pt x="1112" y="135"/>
                  </a:lnTo>
                  <a:lnTo>
                    <a:pt x="573" y="203"/>
                  </a:lnTo>
                  <a:lnTo>
                    <a:pt x="68" y="304"/>
                  </a:lnTo>
                  <a:lnTo>
                    <a:pt x="1" y="304"/>
                  </a:lnTo>
                  <a:lnTo>
                    <a:pt x="1" y="371"/>
                  </a:lnTo>
                  <a:lnTo>
                    <a:pt x="1" y="405"/>
                  </a:lnTo>
                  <a:lnTo>
                    <a:pt x="34" y="472"/>
                  </a:lnTo>
                  <a:lnTo>
                    <a:pt x="34" y="640"/>
                  </a:lnTo>
                  <a:lnTo>
                    <a:pt x="68" y="842"/>
                  </a:lnTo>
                  <a:lnTo>
                    <a:pt x="135" y="1213"/>
                  </a:lnTo>
                  <a:lnTo>
                    <a:pt x="169" y="1684"/>
                  </a:lnTo>
                  <a:lnTo>
                    <a:pt x="203" y="1920"/>
                  </a:lnTo>
                  <a:lnTo>
                    <a:pt x="270" y="2155"/>
                  </a:lnTo>
                  <a:lnTo>
                    <a:pt x="270" y="2223"/>
                  </a:lnTo>
                  <a:lnTo>
                    <a:pt x="270" y="2256"/>
                  </a:lnTo>
                  <a:lnTo>
                    <a:pt x="304" y="2290"/>
                  </a:lnTo>
                  <a:lnTo>
                    <a:pt x="371" y="2324"/>
                  </a:lnTo>
                  <a:lnTo>
                    <a:pt x="1415" y="2122"/>
                  </a:lnTo>
                  <a:lnTo>
                    <a:pt x="1785" y="2088"/>
                  </a:lnTo>
                  <a:lnTo>
                    <a:pt x="1954" y="2021"/>
                  </a:lnTo>
                  <a:lnTo>
                    <a:pt x="2088" y="1920"/>
                  </a:lnTo>
                  <a:lnTo>
                    <a:pt x="1920" y="1852"/>
                  </a:lnTo>
                  <a:lnTo>
                    <a:pt x="1752" y="1852"/>
                  </a:lnTo>
                  <a:lnTo>
                    <a:pt x="1415" y="1920"/>
                  </a:lnTo>
                  <a:lnTo>
                    <a:pt x="438" y="2088"/>
                  </a:lnTo>
                  <a:lnTo>
                    <a:pt x="405" y="1852"/>
                  </a:lnTo>
                  <a:lnTo>
                    <a:pt x="371" y="1650"/>
                  </a:lnTo>
                  <a:lnTo>
                    <a:pt x="304" y="1179"/>
                  </a:lnTo>
                  <a:lnTo>
                    <a:pt x="270" y="809"/>
                  </a:lnTo>
                  <a:lnTo>
                    <a:pt x="236" y="640"/>
                  </a:lnTo>
                  <a:lnTo>
                    <a:pt x="169" y="472"/>
                  </a:lnTo>
                  <a:lnTo>
                    <a:pt x="708" y="405"/>
                  </a:lnTo>
                  <a:lnTo>
                    <a:pt x="1246" y="304"/>
                  </a:lnTo>
                  <a:lnTo>
                    <a:pt x="1617" y="236"/>
                  </a:lnTo>
                  <a:lnTo>
                    <a:pt x="1785" y="169"/>
                  </a:lnTo>
                  <a:lnTo>
                    <a:pt x="1886" y="68"/>
                  </a:lnTo>
                  <a:lnTo>
                    <a:pt x="1886" y="34"/>
                  </a:lnTo>
                  <a:lnTo>
                    <a:pt x="171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hape 609"/>
            <p:cNvSpPr/>
            <p:nvPr/>
          </p:nvSpPr>
          <p:spPr>
            <a:xfrm>
              <a:off x="3211560" y="6026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39" h="1987">
                  <a:moveTo>
                    <a:pt x="1" y="0"/>
                  </a:moveTo>
                  <a:lnTo>
                    <a:pt x="1" y="34"/>
                  </a:lnTo>
                  <a:lnTo>
                    <a:pt x="1" y="270"/>
                  </a:lnTo>
                  <a:lnTo>
                    <a:pt x="1" y="472"/>
                  </a:lnTo>
                  <a:lnTo>
                    <a:pt x="68" y="943"/>
                  </a:lnTo>
                  <a:lnTo>
                    <a:pt x="169" y="1448"/>
                  </a:lnTo>
                  <a:lnTo>
                    <a:pt x="237" y="1718"/>
                  </a:lnTo>
                  <a:lnTo>
                    <a:pt x="304" y="1953"/>
                  </a:lnTo>
                  <a:lnTo>
                    <a:pt x="338" y="1987"/>
                  </a:lnTo>
                  <a:lnTo>
                    <a:pt x="405" y="1987"/>
                  </a:lnTo>
                  <a:lnTo>
                    <a:pt x="439" y="1953"/>
                  </a:lnTo>
                  <a:lnTo>
                    <a:pt x="439" y="1920"/>
                  </a:lnTo>
                  <a:lnTo>
                    <a:pt x="405" y="1650"/>
                  </a:lnTo>
                  <a:lnTo>
                    <a:pt x="371" y="1415"/>
                  </a:lnTo>
                  <a:lnTo>
                    <a:pt x="270" y="910"/>
                  </a:lnTo>
                  <a:lnTo>
                    <a:pt x="169" y="472"/>
                  </a:lnTo>
                  <a:lnTo>
                    <a:pt x="136" y="23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5120" bIns="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hape 610"/>
            <p:cNvSpPr/>
            <p:nvPr/>
          </p:nvSpPr>
          <p:spPr>
            <a:xfrm>
              <a:off x="3236760" y="6162840"/>
              <a:ext cx="156960" cy="266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358" h="405">
                  <a:moveTo>
                    <a:pt x="2054" y="0"/>
                  </a:moveTo>
                  <a:lnTo>
                    <a:pt x="1751" y="34"/>
                  </a:lnTo>
                  <a:lnTo>
                    <a:pt x="1212" y="101"/>
                  </a:lnTo>
                  <a:lnTo>
                    <a:pt x="573" y="135"/>
                  </a:lnTo>
                  <a:lnTo>
                    <a:pt x="270" y="202"/>
                  </a:lnTo>
                  <a:lnTo>
                    <a:pt x="101" y="236"/>
                  </a:lnTo>
                  <a:lnTo>
                    <a:pt x="0" y="303"/>
                  </a:lnTo>
                  <a:lnTo>
                    <a:pt x="0" y="337"/>
                  </a:lnTo>
                  <a:lnTo>
                    <a:pt x="101" y="371"/>
                  </a:lnTo>
                  <a:lnTo>
                    <a:pt x="236" y="404"/>
                  </a:lnTo>
                  <a:lnTo>
                    <a:pt x="505" y="371"/>
                  </a:lnTo>
                  <a:lnTo>
                    <a:pt x="1044" y="303"/>
                  </a:lnTo>
                  <a:lnTo>
                    <a:pt x="1717" y="236"/>
                  </a:lnTo>
                  <a:lnTo>
                    <a:pt x="2020" y="202"/>
                  </a:lnTo>
                  <a:lnTo>
                    <a:pt x="2323" y="101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05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hape 611"/>
            <p:cNvSpPr/>
            <p:nvPr/>
          </p:nvSpPr>
          <p:spPr>
            <a:xfrm>
              <a:off x="3011400" y="5651640"/>
              <a:ext cx="28440" cy="45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9" h="675">
                  <a:moveTo>
                    <a:pt x="270" y="169"/>
                  </a:moveTo>
                  <a:lnTo>
                    <a:pt x="270" y="270"/>
                  </a:lnTo>
                  <a:lnTo>
                    <a:pt x="270" y="338"/>
                  </a:lnTo>
                  <a:lnTo>
                    <a:pt x="203" y="304"/>
                  </a:lnTo>
                  <a:lnTo>
                    <a:pt x="169" y="237"/>
                  </a:lnTo>
                  <a:lnTo>
                    <a:pt x="169" y="203"/>
                  </a:lnTo>
                  <a:lnTo>
                    <a:pt x="203" y="169"/>
                  </a:lnTo>
                  <a:close/>
                  <a:moveTo>
                    <a:pt x="203" y="1"/>
                  </a:moveTo>
                  <a:lnTo>
                    <a:pt x="136" y="35"/>
                  </a:lnTo>
                  <a:lnTo>
                    <a:pt x="68" y="68"/>
                  </a:lnTo>
                  <a:lnTo>
                    <a:pt x="1" y="169"/>
                  </a:lnTo>
                  <a:lnTo>
                    <a:pt x="1" y="237"/>
                  </a:lnTo>
                  <a:lnTo>
                    <a:pt x="35" y="338"/>
                  </a:lnTo>
                  <a:lnTo>
                    <a:pt x="102" y="371"/>
                  </a:lnTo>
                  <a:lnTo>
                    <a:pt x="169" y="439"/>
                  </a:lnTo>
                  <a:lnTo>
                    <a:pt x="68" y="506"/>
                  </a:lnTo>
                  <a:lnTo>
                    <a:pt x="68" y="573"/>
                  </a:lnTo>
                  <a:lnTo>
                    <a:pt x="68" y="607"/>
                  </a:lnTo>
                  <a:lnTo>
                    <a:pt x="136" y="674"/>
                  </a:lnTo>
                  <a:lnTo>
                    <a:pt x="304" y="674"/>
                  </a:lnTo>
                  <a:lnTo>
                    <a:pt x="371" y="641"/>
                  </a:lnTo>
                  <a:lnTo>
                    <a:pt x="439" y="607"/>
                  </a:lnTo>
                  <a:lnTo>
                    <a:pt x="439" y="540"/>
                  </a:lnTo>
                  <a:lnTo>
                    <a:pt x="439" y="472"/>
                  </a:lnTo>
                  <a:lnTo>
                    <a:pt x="405" y="405"/>
                  </a:lnTo>
                  <a:lnTo>
                    <a:pt x="439" y="371"/>
                  </a:lnTo>
                  <a:lnTo>
                    <a:pt x="439" y="338"/>
                  </a:lnTo>
                  <a:lnTo>
                    <a:pt x="371" y="304"/>
                  </a:lnTo>
                  <a:lnTo>
                    <a:pt x="405" y="237"/>
                  </a:lnTo>
                  <a:lnTo>
                    <a:pt x="405" y="169"/>
                  </a:lnTo>
                  <a:lnTo>
                    <a:pt x="371" y="68"/>
                  </a:lnTo>
                  <a:lnTo>
                    <a:pt x="304" y="35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hape 612"/>
            <p:cNvSpPr/>
            <p:nvPr/>
          </p:nvSpPr>
          <p:spPr>
            <a:xfrm>
              <a:off x="3257640" y="6039000"/>
              <a:ext cx="50760" cy="28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75" h="439">
                  <a:moveTo>
                    <a:pt x="573" y="0"/>
                  </a:moveTo>
                  <a:lnTo>
                    <a:pt x="438" y="34"/>
                  </a:lnTo>
                  <a:lnTo>
                    <a:pt x="303" y="101"/>
                  </a:lnTo>
                  <a:lnTo>
                    <a:pt x="34" y="270"/>
                  </a:lnTo>
                  <a:lnTo>
                    <a:pt x="0" y="304"/>
                  </a:lnTo>
                  <a:lnTo>
                    <a:pt x="0" y="371"/>
                  </a:lnTo>
                  <a:lnTo>
                    <a:pt x="34" y="405"/>
                  </a:lnTo>
                  <a:lnTo>
                    <a:pt x="68" y="438"/>
                  </a:lnTo>
                  <a:lnTo>
                    <a:pt x="674" y="438"/>
                  </a:lnTo>
                  <a:lnTo>
                    <a:pt x="741" y="405"/>
                  </a:lnTo>
                  <a:lnTo>
                    <a:pt x="775" y="337"/>
                  </a:lnTo>
                  <a:lnTo>
                    <a:pt x="741" y="270"/>
                  </a:lnTo>
                  <a:lnTo>
                    <a:pt x="674" y="236"/>
                  </a:lnTo>
                  <a:lnTo>
                    <a:pt x="404" y="236"/>
                  </a:lnTo>
                  <a:lnTo>
                    <a:pt x="539" y="169"/>
                  </a:lnTo>
                  <a:lnTo>
                    <a:pt x="606" y="68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8200" bIns="-88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hape 613"/>
            <p:cNvSpPr/>
            <p:nvPr/>
          </p:nvSpPr>
          <p:spPr>
            <a:xfrm>
              <a:off x="2940120" y="5591520"/>
              <a:ext cx="29880" cy="1332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72" h="1988">
                  <a:moveTo>
                    <a:pt x="34" y="1"/>
                  </a:moveTo>
                  <a:lnTo>
                    <a:pt x="0" y="35"/>
                  </a:lnTo>
                  <a:lnTo>
                    <a:pt x="0" y="237"/>
                  </a:lnTo>
                  <a:lnTo>
                    <a:pt x="34" y="472"/>
                  </a:lnTo>
                  <a:lnTo>
                    <a:pt x="101" y="910"/>
                  </a:lnTo>
                  <a:lnTo>
                    <a:pt x="169" y="1449"/>
                  </a:lnTo>
                  <a:lnTo>
                    <a:pt x="236" y="1718"/>
                  </a:lnTo>
                  <a:lnTo>
                    <a:pt x="337" y="1954"/>
                  </a:lnTo>
                  <a:lnTo>
                    <a:pt x="371" y="1987"/>
                  </a:lnTo>
                  <a:lnTo>
                    <a:pt x="404" y="1987"/>
                  </a:lnTo>
                  <a:lnTo>
                    <a:pt x="438" y="1954"/>
                  </a:lnTo>
                  <a:lnTo>
                    <a:pt x="472" y="1920"/>
                  </a:lnTo>
                  <a:lnTo>
                    <a:pt x="438" y="1651"/>
                  </a:lnTo>
                  <a:lnTo>
                    <a:pt x="404" y="1415"/>
                  </a:lnTo>
                  <a:lnTo>
                    <a:pt x="270" y="910"/>
                  </a:lnTo>
                  <a:lnTo>
                    <a:pt x="202" y="439"/>
                  </a:lnTo>
                  <a:lnTo>
                    <a:pt x="169" y="237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6560" bIns="16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hape 614"/>
            <p:cNvSpPr/>
            <p:nvPr/>
          </p:nvSpPr>
          <p:spPr>
            <a:xfrm>
              <a:off x="3111480" y="5772240"/>
              <a:ext cx="14040" cy="41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3" h="608">
                  <a:moveTo>
                    <a:pt x="68" y="1"/>
                  </a:moveTo>
                  <a:lnTo>
                    <a:pt x="35" y="35"/>
                  </a:lnTo>
                  <a:lnTo>
                    <a:pt x="1" y="169"/>
                  </a:lnTo>
                  <a:lnTo>
                    <a:pt x="1" y="304"/>
                  </a:lnTo>
                  <a:lnTo>
                    <a:pt x="35" y="540"/>
                  </a:lnTo>
                  <a:lnTo>
                    <a:pt x="68" y="573"/>
                  </a:lnTo>
                  <a:lnTo>
                    <a:pt x="102" y="607"/>
                  </a:lnTo>
                  <a:lnTo>
                    <a:pt x="169" y="573"/>
                  </a:lnTo>
                  <a:lnTo>
                    <a:pt x="203" y="540"/>
                  </a:lnTo>
                  <a:lnTo>
                    <a:pt x="203" y="506"/>
                  </a:lnTo>
                  <a:lnTo>
                    <a:pt x="169" y="270"/>
                  </a:lnTo>
                  <a:lnTo>
                    <a:pt x="169" y="35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hape 615"/>
            <p:cNvSpPr/>
            <p:nvPr/>
          </p:nvSpPr>
          <p:spPr>
            <a:xfrm>
              <a:off x="3098880" y="5550120"/>
              <a:ext cx="155520" cy="144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358" h="2189">
                  <a:moveTo>
                    <a:pt x="1684" y="0"/>
                  </a:moveTo>
                  <a:lnTo>
                    <a:pt x="1348" y="68"/>
                  </a:lnTo>
                  <a:lnTo>
                    <a:pt x="742" y="135"/>
                  </a:lnTo>
                  <a:lnTo>
                    <a:pt x="439" y="202"/>
                  </a:lnTo>
                  <a:lnTo>
                    <a:pt x="136" y="270"/>
                  </a:lnTo>
                  <a:lnTo>
                    <a:pt x="102" y="202"/>
                  </a:lnTo>
                  <a:lnTo>
                    <a:pt x="68" y="169"/>
                  </a:lnTo>
                  <a:lnTo>
                    <a:pt x="35" y="236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68" y="1111"/>
                  </a:lnTo>
                  <a:lnTo>
                    <a:pt x="136" y="1650"/>
                  </a:lnTo>
                  <a:lnTo>
                    <a:pt x="203" y="1919"/>
                  </a:lnTo>
                  <a:lnTo>
                    <a:pt x="304" y="2155"/>
                  </a:lnTo>
                  <a:lnTo>
                    <a:pt x="338" y="2189"/>
                  </a:lnTo>
                  <a:lnTo>
                    <a:pt x="371" y="2189"/>
                  </a:lnTo>
                  <a:lnTo>
                    <a:pt x="439" y="2155"/>
                  </a:lnTo>
                  <a:lnTo>
                    <a:pt x="439" y="2121"/>
                  </a:lnTo>
                  <a:lnTo>
                    <a:pt x="405" y="1852"/>
                  </a:lnTo>
                  <a:lnTo>
                    <a:pt x="371" y="1616"/>
                  </a:lnTo>
                  <a:lnTo>
                    <a:pt x="270" y="1111"/>
                  </a:lnTo>
                  <a:lnTo>
                    <a:pt x="203" y="741"/>
                  </a:lnTo>
                  <a:lnTo>
                    <a:pt x="136" y="371"/>
                  </a:lnTo>
                  <a:lnTo>
                    <a:pt x="540" y="337"/>
                  </a:lnTo>
                  <a:lnTo>
                    <a:pt x="944" y="303"/>
                  </a:lnTo>
                  <a:lnTo>
                    <a:pt x="1886" y="135"/>
                  </a:lnTo>
                  <a:lnTo>
                    <a:pt x="1920" y="169"/>
                  </a:lnTo>
                  <a:lnTo>
                    <a:pt x="1954" y="202"/>
                  </a:lnTo>
                  <a:lnTo>
                    <a:pt x="1987" y="169"/>
                  </a:lnTo>
                  <a:lnTo>
                    <a:pt x="1987" y="472"/>
                  </a:lnTo>
                  <a:lnTo>
                    <a:pt x="2021" y="741"/>
                  </a:lnTo>
                  <a:lnTo>
                    <a:pt x="2156" y="1751"/>
                  </a:lnTo>
                  <a:lnTo>
                    <a:pt x="1954" y="1751"/>
                  </a:lnTo>
                  <a:lnTo>
                    <a:pt x="1752" y="1785"/>
                  </a:lnTo>
                  <a:lnTo>
                    <a:pt x="1348" y="1886"/>
                  </a:lnTo>
                  <a:lnTo>
                    <a:pt x="876" y="1919"/>
                  </a:lnTo>
                  <a:lnTo>
                    <a:pt x="607" y="1987"/>
                  </a:lnTo>
                  <a:lnTo>
                    <a:pt x="506" y="2054"/>
                  </a:lnTo>
                  <a:lnTo>
                    <a:pt x="439" y="2121"/>
                  </a:lnTo>
                  <a:lnTo>
                    <a:pt x="540" y="2155"/>
                  </a:lnTo>
                  <a:lnTo>
                    <a:pt x="641" y="2189"/>
                  </a:lnTo>
                  <a:lnTo>
                    <a:pt x="843" y="2189"/>
                  </a:lnTo>
                  <a:lnTo>
                    <a:pt x="1247" y="2088"/>
                  </a:lnTo>
                  <a:lnTo>
                    <a:pt x="1752" y="2054"/>
                  </a:lnTo>
                  <a:lnTo>
                    <a:pt x="1987" y="2020"/>
                  </a:lnTo>
                  <a:lnTo>
                    <a:pt x="2189" y="1953"/>
                  </a:lnTo>
                  <a:lnTo>
                    <a:pt x="2324" y="1953"/>
                  </a:lnTo>
                  <a:lnTo>
                    <a:pt x="2358" y="1919"/>
                  </a:lnTo>
                  <a:lnTo>
                    <a:pt x="2358" y="1886"/>
                  </a:lnTo>
                  <a:lnTo>
                    <a:pt x="2223" y="876"/>
                  </a:lnTo>
                  <a:lnTo>
                    <a:pt x="2156" y="438"/>
                  </a:lnTo>
                  <a:lnTo>
                    <a:pt x="2122" y="202"/>
                  </a:lnTo>
                  <a:lnTo>
                    <a:pt x="2055" y="0"/>
                  </a:lnTo>
                  <a:lnTo>
                    <a:pt x="2021" y="0"/>
                  </a:lnTo>
                  <a:lnTo>
                    <a:pt x="2021" y="34"/>
                  </a:lnTo>
                  <a:lnTo>
                    <a:pt x="1987" y="3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7720" bIns="27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hape 616"/>
            <p:cNvSpPr/>
            <p:nvPr/>
          </p:nvSpPr>
          <p:spPr>
            <a:xfrm>
              <a:off x="3263760" y="5748480"/>
              <a:ext cx="42840" cy="44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41" h="674">
                  <a:moveTo>
                    <a:pt x="236" y="169"/>
                  </a:moveTo>
                  <a:lnTo>
                    <a:pt x="270" y="203"/>
                  </a:lnTo>
                  <a:lnTo>
                    <a:pt x="438" y="203"/>
                  </a:lnTo>
                  <a:lnTo>
                    <a:pt x="472" y="337"/>
                  </a:lnTo>
                  <a:lnTo>
                    <a:pt x="472" y="405"/>
                  </a:lnTo>
                  <a:lnTo>
                    <a:pt x="438" y="472"/>
                  </a:lnTo>
                  <a:lnTo>
                    <a:pt x="371" y="506"/>
                  </a:lnTo>
                  <a:lnTo>
                    <a:pt x="337" y="506"/>
                  </a:lnTo>
                  <a:lnTo>
                    <a:pt x="202" y="472"/>
                  </a:lnTo>
                  <a:lnTo>
                    <a:pt x="169" y="438"/>
                  </a:lnTo>
                  <a:lnTo>
                    <a:pt x="135" y="371"/>
                  </a:lnTo>
                  <a:lnTo>
                    <a:pt x="169" y="236"/>
                  </a:lnTo>
                  <a:lnTo>
                    <a:pt x="236" y="169"/>
                  </a:lnTo>
                  <a:close/>
                  <a:moveTo>
                    <a:pt x="202" y="1"/>
                  </a:moveTo>
                  <a:lnTo>
                    <a:pt x="101" y="68"/>
                  </a:lnTo>
                  <a:lnTo>
                    <a:pt x="34" y="169"/>
                  </a:lnTo>
                  <a:lnTo>
                    <a:pt x="0" y="304"/>
                  </a:lnTo>
                  <a:lnTo>
                    <a:pt x="0" y="405"/>
                  </a:lnTo>
                  <a:lnTo>
                    <a:pt x="34" y="539"/>
                  </a:lnTo>
                  <a:lnTo>
                    <a:pt x="135" y="640"/>
                  </a:lnTo>
                  <a:lnTo>
                    <a:pt x="236" y="674"/>
                  </a:lnTo>
                  <a:lnTo>
                    <a:pt x="337" y="674"/>
                  </a:lnTo>
                  <a:lnTo>
                    <a:pt x="472" y="640"/>
                  </a:lnTo>
                  <a:lnTo>
                    <a:pt x="539" y="573"/>
                  </a:lnTo>
                  <a:lnTo>
                    <a:pt x="606" y="472"/>
                  </a:lnTo>
                  <a:lnTo>
                    <a:pt x="640" y="304"/>
                  </a:lnTo>
                  <a:lnTo>
                    <a:pt x="606" y="169"/>
                  </a:lnTo>
                  <a:lnTo>
                    <a:pt x="539" y="68"/>
                  </a:lnTo>
                  <a:lnTo>
                    <a:pt x="472" y="34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hape 617"/>
            <p:cNvSpPr/>
            <p:nvPr/>
          </p:nvSpPr>
          <p:spPr>
            <a:xfrm>
              <a:off x="3170160" y="5627880"/>
              <a:ext cx="34920" cy="37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39" h="573">
                  <a:moveTo>
                    <a:pt x="236" y="1"/>
                  </a:moveTo>
                  <a:lnTo>
                    <a:pt x="135" y="34"/>
                  </a:lnTo>
                  <a:lnTo>
                    <a:pt x="68" y="68"/>
                  </a:lnTo>
                  <a:lnTo>
                    <a:pt x="34" y="135"/>
                  </a:lnTo>
                  <a:lnTo>
                    <a:pt x="0" y="203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101" y="371"/>
                  </a:lnTo>
                  <a:lnTo>
                    <a:pt x="270" y="371"/>
                  </a:lnTo>
                  <a:lnTo>
                    <a:pt x="404" y="337"/>
                  </a:lnTo>
                  <a:lnTo>
                    <a:pt x="371" y="405"/>
                  </a:lnTo>
                  <a:lnTo>
                    <a:pt x="371" y="472"/>
                  </a:lnTo>
                  <a:lnTo>
                    <a:pt x="404" y="539"/>
                  </a:lnTo>
                  <a:lnTo>
                    <a:pt x="438" y="573"/>
                  </a:lnTo>
                  <a:lnTo>
                    <a:pt x="472" y="573"/>
                  </a:lnTo>
                  <a:lnTo>
                    <a:pt x="505" y="506"/>
                  </a:lnTo>
                  <a:lnTo>
                    <a:pt x="539" y="405"/>
                  </a:lnTo>
                  <a:lnTo>
                    <a:pt x="539" y="203"/>
                  </a:lnTo>
                  <a:lnTo>
                    <a:pt x="505" y="169"/>
                  </a:lnTo>
                  <a:lnTo>
                    <a:pt x="472" y="135"/>
                  </a:lnTo>
                  <a:lnTo>
                    <a:pt x="404" y="169"/>
                  </a:lnTo>
                  <a:lnTo>
                    <a:pt x="303" y="236"/>
                  </a:lnTo>
                  <a:lnTo>
                    <a:pt x="135" y="236"/>
                  </a:lnTo>
                  <a:lnTo>
                    <a:pt x="135" y="169"/>
                  </a:lnTo>
                  <a:lnTo>
                    <a:pt x="169" y="135"/>
                  </a:lnTo>
                  <a:lnTo>
                    <a:pt x="270" y="102"/>
                  </a:lnTo>
                  <a:lnTo>
                    <a:pt x="438" y="102"/>
                  </a:lnTo>
                  <a:lnTo>
                    <a:pt x="438" y="135"/>
                  </a:lnTo>
                  <a:lnTo>
                    <a:pt x="505" y="135"/>
                  </a:lnTo>
                  <a:lnTo>
                    <a:pt x="505" y="102"/>
                  </a:lnTo>
                  <a:lnTo>
                    <a:pt x="438" y="34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8840" bIns="-78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hape 618"/>
            <p:cNvSpPr/>
            <p:nvPr/>
          </p:nvSpPr>
          <p:spPr>
            <a:xfrm>
              <a:off x="2941560" y="5796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08" h="607">
                  <a:moveTo>
                    <a:pt x="539" y="1"/>
                  </a:moveTo>
                  <a:lnTo>
                    <a:pt x="505" y="34"/>
                  </a:lnTo>
                  <a:lnTo>
                    <a:pt x="505" y="102"/>
                  </a:lnTo>
                  <a:lnTo>
                    <a:pt x="539" y="203"/>
                  </a:lnTo>
                  <a:lnTo>
                    <a:pt x="505" y="337"/>
                  </a:lnTo>
                  <a:lnTo>
                    <a:pt x="438" y="405"/>
                  </a:lnTo>
                  <a:lnTo>
                    <a:pt x="337" y="472"/>
                  </a:lnTo>
                  <a:lnTo>
                    <a:pt x="269" y="472"/>
                  </a:lnTo>
                  <a:lnTo>
                    <a:pt x="236" y="438"/>
                  </a:lnTo>
                  <a:lnTo>
                    <a:pt x="168" y="337"/>
                  </a:lnTo>
                  <a:lnTo>
                    <a:pt x="168" y="270"/>
                  </a:lnTo>
                  <a:lnTo>
                    <a:pt x="202" y="169"/>
                  </a:lnTo>
                  <a:lnTo>
                    <a:pt x="202" y="135"/>
                  </a:lnTo>
                  <a:lnTo>
                    <a:pt x="168" y="102"/>
                  </a:lnTo>
                  <a:lnTo>
                    <a:pt x="67" y="135"/>
                  </a:lnTo>
                  <a:lnTo>
                    <a:pt x="34" y="203"/>
                  </a:lnTo>
                  <a:lnTo>
                    <a:pt x="0" y="304"/>
                  </a:lnTo>
                  <a:lnTo>
                    <a:pt x="0" y="371"/>
                  </a:lnTo>
                  <a:lnTo>
                    <a:pt x="34" y="472"/>
                  </a:lnTo>
                  <a:lnTo>
                    <a:pt x="101" y="539"/>
                  </a:lnTo>
                  <a:lnTo>
                    <a:pt x="168" y="607"/>
                  </a:lnTo>
                  <a:lnTo>
                    <a:pt x="404" y="607"/>
                  </a:lnTo>
                  <a:lnTo>
                    <a:pt x="505" y="573"/>
                  </a:lnTo>
                  <a:lnTo>
                    <a:pt x="572" y="506"/>
                  </a:lnTo>
                  <a:lnTo>
                    <a:pt x="640" y="438"/>
                  </a:lnTo>
                  <a:lnTo>
                    <a:pt x="674" y="337"/>
                  </a:lnTo>
                  <a:lnTo>
                    <a:pt x="707" y="203"/>
                  </a:lnTo>
                  <a:lnTo>
                    <a:pt x="674" y="102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7040" bIns="-77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hape 619"/>
            <p:cNvSpPr/>
            <p:nvPr/>
          </p:nvSpPr>
          <p:spPr>
            <a:xfrm>
              <a:off x="3051000" y="571032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4" h="2290">
                  <a:moveTo>
                    <a:pt x="1954" y="0"/>
                  </a:moveTo>
                  <a:lnTo>
                    <a:pt x="1954" y="34"/>
                  </a:lnTo>
                  <a:lnTo>
                    <a:pt x="1954" y="101"/>
                  </a:lnTo>
                  <a:lnTo>
                    <a:pt x="1449" y="135"/>
                  </a:lnTo>
                  <a:lnTo>
                    <a:pt x="944" y="169"/>
                  </a:lnTo>
                  <a:lnTo>
                    <a:pt x="506" y="202"/>
                  </a:lnTo>
                  <a:lnTo>
                    <a:pt x="270" y="236"/>
                  </a:lnTo>
                  <a:lnTo>
                    <a:pt x="169" y="303"/>
                  </a:lnTo>
                  <a:lnTo>
                    <a:pt x="102" y="371"/>
                  </a:lnTo>
                  <a:lnTo>
                    <a:pt x="270" y="404"/>
                  </a:lnTo>
                  <a:lnTo>
                    <a:pt x="439" y="404"/>
                  </a:lnTo>
                  <a:lnTo>
                    <a:pt x="809" y="371"/>
                  </a:lnTo>
                  <a:lnTo>
                    <a:pt x="1381" y="337"/>
                  </a:lnTo>
                  <a:lnTo>
                    <a:pt x="1954" y="303"/>
                  </a:lnTo>
                  <a:lnTo>
                    <a:pt x="1987" y="606"/>
                  </a:lnTo>
                  <a:lnTo>
                    <a:pt x="2021" y="943"/>
                  </a:lnTo>
                  <a:lnTo>
                    <a:pt x="2088" y="1381"/>
                  </a:lnTo>
                  <a:lnTo>
                    <a:pt x="2122" y="1583"/>
                  </a:lnTo>
                  <a:lnTo>
                    <a:pt x="2156" y="1818"/>
                  </a:lnTo>
                  <a:lnTo>
                    <a:pt x="1247" y="1919"/>
                  </a:lnTo>
                  <a:lnTo>
                    <a:pt x="809" y="1987"/>
                  </a:lnTo>
                  <a:lnTo>
                    <a:pt x="405" y="2121"/>
                  </a:lnTo>
                  <a:lnTo>
                    <a:pt x="304" y="1684"/>
                  </a:lnTo>
                  <a:lnTo>
                    <a:pt x="237" y="1246"/>
                  </a:lnTo>
                  <a:lnTo>
                    <a:pt x="203" y="808"/>
                  </a:lnTo>
                  <a:lnTo>
                    <a:pt x="169" y="573"/>
                  </a:lnTo>
                  <a:lnTo>
                    <a:pt x="68" y="371"/>
                  </a:lnTo>
                  <a:lnTo>
                    <a:pt x="1" y="505"/>
                  </a:lnTo>
                  <a:lnTo>
                    <a:pt x="1" y="640"/>
                  </a:lnTo>
                  <a:lnTo>
                    <a:pt x="1" y="977"/>
                  </a:lnTo>
                  <a:lnTo>
                    <a:pt x="102" y="1583"/>
                  </a:lnTo>
                  <a:lnTo>
                    <a:pt x="102" y="1785"/>
                  </a:lnTo>
                  <a:lnTo>
                    <a:pt x="136" y="1987"/>
                  </a:lnTo>
                  <a:lnTo>
                    <a:pt x="169" y="2088"/>
                  </a:lnTo>
                  <a:lnTo>
                    <a:pt x="203" y="2189"/>
                  </a:lnTo>
                  <a:lnTo>
                    <a:pt x="270" y="2256"/>
                  </a:lnTo>
                  <a:lnTo>
                    <a:pt x="371" y="2290"/>
                  </a:lnTo>
                  <a:lnTo>
                    <a:pt x="405" y="2290"/>
                  </a:lnTo>
                  <a:lnTo>
                    <a:pt x="405" y="2256"/>
                  </a:lnTo>
                  <a:lnTo>
                    <a:pt x="405" y="2222"/>
                  </a:lnTo>
                  <a:lnTo>
                    <a:pt x="843" y="2222"/>
                  </a:lnTo>
                  <a:lnTo>
                    <a:pt x="1314" y="2155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324" y="1953"/>
                  </a:lnTo>
                  <a:lnTo>
                    <a:pt x="2324" y="1717"/>
                  </a:lnTo>
                  <a:lnTo>
                    <a:pt x="2290" y="1515"/>
                  </a:lnTo>
                  <a:lnTo>
                    <a:pt x="2223" y="1078"/>
                  </a:lnTo>
                  <a:lnTo>
                    <a:pt x="2156" y="539"/>
                  </a:lnTo>
                  <a:lnTo>
                    <a:pt x="2088" y="270"/>
                  </a:lnTo>
                  <a:lnTo>
                    <a:pt x="2021" y="34"/>
                  </a:lnTo>
                  <a:lnTo>
                    <a:pt x="202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hape 620"/>
            <p:cNvSpPr/>
            <p:nvPr/>
          </p:nvSpPr>
          <p:spPr>
            <a:xfrm>
              <a:off x="2946240" y="6110640"/>
              <a:ext cx="45720" cy="37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574">
                  <a:moveTo>
                    <a:pt x="505" y="1"/>
                  </a:moveTo>
                  <a:lnTo>
                    <a:pt x="472" y="35"/>
                  </a:lnTo>
                  <a:lnTo>
                    <a:pt x="438" y="102"/>
                  </a:lnTo>
                  <a:lnTo>
                    <a:pt x="438" y="203"/>
                  </a:lnTo>
                  <a:lnTo>
                    <a:pt x="505" y="338"/>
                  </a:lnTo>
                  <a:lnTo>
                    <a:pt x="539" y="371"/>
                  </a:lnTo>
                  <a:lnTo>
                    <a:pt x="505" y="371"/>
                  </a:lnTo>
                  <a:lnTo>
                    <a:pt x="472" y="338"/>
                  </a:lnTo>
                  <a:lnTo>
                    <a:pt x="404" y="270"/>
                  </a:lnTo>
                  <a:lnTo>
                    <a:pt x="169" y="68"/>
                  </a:lnTo>
                  <a:lnTo>
                    <a:pt x="135" y="35"/>
                  </a:lnTo>
                  <a:lnTo>
                    <a:pt x="68" y="35"/>
                  </a:lnTo>
                  <a:lnTo>
                    <a:pt x="34" y="68"/>
                  </a:lnTo>
                  <a:lnTo>
                    <a:pt x="34" y="102"/>
                  </a:lnTo>
                  <a:lnTo>
                    <a:pt x="34" y="136"/>
                  </a:lnTo>
                  <a:lnTo>
                    <a:pt x="0" y="270"/>
                  </a:lnTo>
                  <a:lnTo>
                    <a:pt x="34" y="540"/>
                  </a:lnTo>
                  <a:lnTo>
                    <a:pt x="68" y="573"/>
                  </a:lnTo>
                  <a:lnTo>
                    <a:pt x="169" y="573"/>
                  </a:lnTo>
                  <a:lnTo>
                    <a:pt x="202" y="506"/>
                  </a:lnTo>
                  <a:lnTo>
                    <a:pt x="202" y="338"/>
                  </a:lnTo>
                  <a:lnTo>
                    <a:pt x="371" y="472"/>
                  </a:lnTo>
                  <a:lnTo>
                    <a:pt x="472" y="506"/>
                  </a:lnTo>
                  <a:lnTo>
                    <a:pt x="539" y="540"/>
                  </a:lnTo>
                  <a:lnTo>
                    <a:pt x="607" y="506"/>
                  </a:lnTo>
                  <a:lnTo>
                    <a:pt x="674" y="472"/>
                  </a:lnTo>
                  <a:lnTo>
                    <a:pt x="708" y="405"/>
                  </a:lnTo>
                  <a:lnTo>
                    <a:pt x="708" y="338"/>
                  </a:lnTo>
                  <a:lnTo>
                    <a:pt x="640" y="203"/>
                  </a:lnTo>
                  <a:lnTo>
                    <a:pt x="607" y="102"/>
                  </a:lnTo>
                  <a:lnTo>
                    <a:pt x="607" y="35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8840" bIns="-78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hape 621"/>
            <p:cNvSpPr/>
            <p:nvPr/>
          </p:nvSpPr>
          <p:spPr>
            <a:xfrm>
              <a:off x="2943000" y="5886720"/>
              <a:ext cx="147600" cy="1504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23" h="2256">
                  <a:moveTo>
                    <a:pt x="1920" y="168"/>
                  </a:moveTo>
                  <a:lnTo>
                    <a:pt x="1954" y="539"/>
                  </a:lnTo>
                  <a:lnTo>
                    <a:pt x="1987" y="909"/>
                  </a:lnTo>
                  <a:lnTo>
                    <a:pt x="2021" y="1380"/>
                  </a:lnTo>
                  <a:lnTo>
                    <a:pt x="2055" y="1852"/>
                  </a:lnTo>
                  <a:lnTo>
                    <a:pt x="1583" y="1852"/>
                  </a:lnTo>
                  <a:lnTo>
                    <a:pt x="1112" y="1919"/>
                  </a:lnTo>
                  <a:lnTo>
                    <a:pt x="742" y="1986"/>
                  </a:lnTo>
                  <a:lnTo>
                    <a:pt x="573" y="2020"/>
                  </a:lnTo>
                  <a:lnTo>
                    <a:pt x="405" y="2087"/>
                  </a:lnTo>
                  <a:lnTo>
                    <a:pt x="337" y="1650"/>
                  </a:lnTo>
                  <a:lnTo>
                    <a:pt x="236" y="1178"/>
                  </a:lnTo>
                  <a:lnTo>
                    <a:pt x="203" y="808"/>
                  </a:lnTo>
                  <a:lnTo>
                    <a:pt x="135" y="438"/>
                  </a:lnTo>
                  <a:lnTo>
                    <a:pt x="1045" y="337"/>
                  </a:lnTo>
                  <a:lnTo>
                    <a:pt x="1920" y="168"/>
                  </a:lnTo>
                  <a:close/>
                  <a:moveTo>
                    <a:pt x="1920" y="0"/>
                  </a:moveTo>
                  <a:lnTo>
                    <a:pt x="1011" y="101"/>
                  </a:lnTo>
                  <a:lnTo>
                    <a:pt x="102" y="269"/>
                  </a:lnTo>
                  <a:lnTo>
                    <a:pt x="34" y="303"/>
                  </a:lnTo>
                  <a:lnTo>
                    <a:pt x="1" y="337"/>
                  </a:lnTo>
                  <a:lnTo>
                    <a:pt x="1" y="606"/>
                  </a:lnTo>
                  <a:lnTo>
                    <a:pt x="34" y="842"/>
                  </a:lnTo>
                  <a:lnTo>
                    <a:pt x="102" y="1347"/>
                  </a:lnTo>
                  <a:lnTo>
                    <a:pt x="169" y="1818"/>
                  </a:lnTo>
                  <a:lnTo>
                    <a:pt x="203" y="2020"/>
                  </a:lnTo>
                  <a:lnTo>
                    <a:pt x="270" y="2222"/>
                  </a:lnTo>
                  <a:lnTo>
                    <a:pt x="304" y="2256"/>
                  </a:lnTo>
                  <a:lnTo>
                    <a:pt x="371" y="2256"/>
                  </a:lnTo>
                  <a:lnTo>
                    <a:pt x="371" y="2222"/>
                  </a:lnTo>
                  <a:lnTo>
                    <a:pt x="607" y="2222"/>
                  </a:lnTo>
                  <a:lnTo>
                    <a:pt x="843" y="2188"/>
                  </a:lnTo>
                  <a:lnTo>
                    <a:pt x="1280" y="2121"/>
                  </a:lnTo>
                  <a:lnTo>
                    <a:pt x="1684" y="2054"/>
                  </a:lnTo>
                  <a:lnTo>
                    <a:pt x="1886" y="2020"/>
                  </a:lnTo>
                  <a:lnTo>
                    <a:pt x="2088" y="1953"/>
                  </a:lnTo>
                  <a:lnTo>
                    <a:pt x="2156" y="1953"/>
                  </a:lnTo>
                  <a:lnTo>
                    <a:pt x="2223" y="1885"/>
                  </a:lnTo>
                  <a:lnTo>
                    <a:pt x="2223" y="1650"/>
                  </a:lnTo>
                  <a:lnTo>
                    <a:pt x="2223" y="1380"/>
                  </a:lnTo>
                  <a:lnTo>
                    <a:pt x="2189" y="875"/>
                  </a:lnTo>
                  <a:lnTo>
                    <a:pt x="2122" y="471"/>
                  </a:lnTo>
                  <a:lnTo>
                    <a:pt x="2088" y="269"/>
                  </a:lnTo>
                  <a:lnTo>
                    <a:pt x="1987" y="67"/>
                  </a:lnTo>
                  <a:lnTo>
                    <a:pt x="198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3840" bIns="33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hape 622"/>
            <p:cNvSpPr/>
            <p:nvPr/>
          </p:nvSpPr>
          <p:spPr>
            <a:xfrm>
              <a:off x="3000240" y="594396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72" h="675">
                  <a:moveTo>
                    <a:pt x="270" y="1"/>
                  </a:moveTo>
                  <a:lnTo>
                    <a:pt x="337" y="169"/>
                  </a:lnTo>
                  <a:lnTo>
                    <a:pt x="371" y="337"/>
                  </a:lnTo>
                  <a:lnTo>
                    <a:pt x="337" y="405"/>
                  </a:lnTo>
                  <a:lnTo>
                    <a:pt x="304" y="472"/>
                  </a:lnTo>
                  <a:lnTo>
                    <a:pt x="270" y="539"/>
                  </a:lnTo>
                  <a:lnTo>
                    <a:pt x="203" y="539"/>
                  </a:lnTo>
                  <a:lnTo>
                    <a:pt x="169" y="472"/>
                  </a:lnTo>
                  <a:lnTo>
                    <a:pt x="135" y="405"/>
                  </a:lnTo>
                  <a:lnTo>
                    <a:pt x="68" y="371"/>
                  </a:lnTo>
                  <a:lnTo>
                    <a:pt x="34" y="371"/>
                  </a:lnTo>
                  <a:lnTo>
                    <a:pt x="1" y="438"/>
                  </a:lnTo>
                  <a:lnTo>
                    <a:pt x="1" y="472"/>
                  </a:lnTo>
                  <a:lnTo>
                    <a:pt x="34" y="539"/>
                  </a:lnTo>
                  <a:lnTo>
                    <a:pt x="68" y="607"/>
                  </a:lnTo>
                  <a:lnTo>
                    <a:pt x="68" y="640"/>
                  </a:lnTo>
                  <a:lnTo>
                    <a:pt x="102" y="674"/>
                  </a:lnTo>
                  <a:lnTo>
                    <a:pt x="203" y="674"/>
                  </a:lnTo>
                  <a:lnTo>
                    <a:pt x="304" y="640"/>
                  </a:lnTo>
                  <a:lnTo>
                    <a:pt x="371" y="573"/>
                  </a:lnTo>
                  <a:lnTo>
                    <a:pt x="438" y="506"/>
                  </a:lnTo>
                  <a:lnTo>
                    <a:pt x="472" y="371"/>
                  </a:lnTo>
                  <a:lnTo>
                    <a:pt x="438" y="236"/>
                  </a:lnTo>
                  <a:lnTo>
                    <a:pt x="405" y="102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hape 623"/>
            <p:cNvSpPr/>
            <p:nvPr/>
          </p:nvSpPr>
          <p:spPr>
            <a:xfrm>
              <a:off x="2890800" y="6053400"/>
              <a:ext cx="150480" cy="1476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291" h="2223">
                  <a:moveTo>
                    <a:pt x="1886" y="203"/>
                  </a:moveTo>
                  <a:lnTo>
                    <a:pt x="1954" y="573"/>
                  </a:lnTo>
                  <a:lnTo>
                    <a:pt x="2021" y="943"/>
                  </a:lnTo>
                  <a:lnTo>
                    <a:pt x="2055" y="1381"/>
                  </a:lnTo>
                  <a:lnTo>
                    <a:pt x="2122" y="1819"/>
                  </a:lnTo>
                  <a:lnTo>
                    <a:pt x="1954" y="1819"/>
                  </a:lnTo>
                  <a:lnTo>
                    <a:pt x="1752" y="1852"/>
                  </a:lnTo>
                  <a:lnTo>
                    <a:pt x="1381" y="1920"/>
                  </a:lnTo>
                  <a:lnTo>
                    <a:pt x="910" y="1987"/>
                  </a:lnTo>
                  <a:lnTo>
                    <a:pt x="674" y="2021"/>
                  </a:lnTo>
                  <a:lnTo>
                    <a:pt x="472" y="2088"/>
                  </a:lnTo>
                  <a:lnTo>
                    <a:pt x="371" y="1650"/>
                  </a:lnTo>
                  <a:lnTo>
                    <a:pt x="270" y="1179"/>
                  </a:lnTo>
                  <a:lnTo>
                    <a:pt x="203" y="809"/>
                  </a:lnTo>
                  <a:lnTo>
                    <a:pt x="102" y="438"/>
                  </a:lnTo>
                  <a:lnTo>
                    <a:pt x="1011" y="337"/>
                  </a:lnTo>
                  <a:lnTo>
                    <a:pt x="1886" y="203"/>
                  </a:lnTo>
                  <a:close/>
                  <a:moveTo>
                    <a:pt x="1886" y="1"/>
                  </a:moveTo>
                  <a:lnTo>
                    <a:pt x="977" y="135"/>
                  </a:lnTo>
                  <a:lnTo>
                    <a:pt x="68" y="270"/>
                  </a:lnTo>
                  <a:lnTo>
                    <a:pt x="1" y="304"/>
                  </a:lnTo>
                  <a:lnTo>
                    <a:pt x="1" y="371"/>
                  </a:lnTo>
                  <a:lnTo>
                    <a:pt x="1" y="607"/>
                  </a:lnTo>
                  <a:lnTo>
                    <a:pt x="1" y="809"/>
                  </a:lnTo>
                  <a:lnTo>
                    <a:pt x="68" y="1213"/>
                  </a:lnTo>
                  <a:lnTo>
                    <a:pt x="169" y="1718"/>
                  </a:lnTo>
                  <a:lnTo>
                    <a:pt x="236" y="1953"/>
                  </a:lnTo>
                  <a:lnTo>
                    <a:pt x="337" y="2189"/>
                  </a:lnTo>
                  <a:lnTo>
                    <a:pt x="405" y="2223"/>
                  </a:lnTo>
                  <a:lnTo>
                    <a:pt x="674" y="2223"/>
                  </a:lnTo>
                  <a:lnTo>
                    <a:pt x="876" y="2189"/>
                  </a:lnTo>
                  <a:lnTo>
                    <a:pt x="1280" y="2122"/>
                  </a:lnTo>
                  <a:lnTo>
                    <a:pt x="1752" y="2088"/>
                  </a:lnTo>
                  <a:lnTo>
                    <a:pt x="1954" y="2054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290" y="1953"/>
                  </a:lnTo>
                  <a:lnTo>
                    <a:pt x="2290" y="1718"/>
                  </a:lnTo>
                  <a:lnTo>
                    <a:pt x="2290" y="1482"/>
                  </a:lnTo>
                  <a:lnTo>
                    <a:pt x="2223" y="1044"/>
                  </a:lnTo>
                  <a:lnTo>
                    <a:pt x="2122" y="539"/>
                  </a:lnTo>
                  <a:lnTo>
                    <a:pt x="2055" y="304"/>
                  </a:lnTo>
                  <a:lnTo>
                    <a:pt x="1987" y="68"/>
                  </a:lnTo>
                  <a:lnTo>
                    <a:pt x="1954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hape 624"/>
            <p:cNvSpPr/>
            <p:nvPr/>
          </p:nvSpPr>
          <p:spPr>
            <a:xfrm>
              <a:off x="2678040" y="5990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76" h="776">
                  <a:moveTo>
                    <a:pt x="371" y="1"/>
                  </a:moveTo>
                  <a:lnTo>
                    <a:pt x="270" y="34"/>
                  </a:lnTo>
                  <a:lnTo>
                    <a:pt x="169" y="68"/>
                  </a:lnTo>
                  <a:lnTo>
                    <a:pt x="101" y="135"/>
                  </a:lnTo>
                  <a:lnTo>
                    <a:pt x="34" y="236"/>
                  </a:lnTo>
                  <a:lnTo>
                    <a:pt x="0" y="337"/>
                  </a:lnTo>
                  <a:lnTo>
                    <a:pt x="0" y="472"/>
                  </a:lnTo>
                  <a:lnTo>
                    <a:pt x="34" y="539"/>
                  </a:lnTo>
                  <a:lnTo>
                    <a:pt x="68" y="607"/>
                  </a:lnTo>
                  <a:lnTo>
                    <a:pt x="135" y="674"/>
                  </a:lnTo>
                  <a:lnTo>
                    <a:pt x="202" y="741"/>
                  </a:lnTo>
                  <a:lnTo>
                    <a:pt x="303" y="775"/>
                  </a:lnTo>
                  <a:lnTo>
                    <a:pt x="404" y="775"/>
                  </a:lnTo>
                  <a:lnTo>
                    <a:pt x="472" y="741"/>
                  </a:lnTo>
                  <a:lnTo>
                    <a:pt x="539" y="708"/>
                  </a:lnTo>
                  <a:lnTo>
                    <a:pt x="573" y="741"/>
                  </a:lnTo>
                  <a:lnTo>
                    <a:pt x="606" y="775"/>
                  </a:lnTo>
                  <a:lnTo>
                    <a:pt x="640" y="775"/>
                  </a:lnTo>
                  <a:lnTo>
                    <a:pt x="640" y="741"/>
                  </a:lnTo>
                  <a:lnTo>
                    <a:pt x="674" y="708"/>
                  </a:lnTo>
                  <a:lnTo>
                    <a:pt x="640" y="607"/>
                  </a:lnTo>
                  <a:lnTo>
                    <a:pt x="606" y="506"/>
                  </a:lnTo>
                  <a:lnTo>
                    <a:pt x="606" y="472"/>
                  </a:lnTo>
                  <a:lnTo>
                    <a:pt x="808" y="438"/>
                  </a:lnTo>
                  <a:lnTo>
                    <a:pt x="842" y="405"/>
                  </a:lnTo>
                  <a:lnTo>
                    <a:pt x="876" y="337"/>
                  </a:lnTo>
                  <a:lnTo>
                    <a:pt x="842" y="304"/>
                  </a:lnTo>
                  <a:lnTo>
                    <a:pt x="775" y="270"/>
                  </a:lnTo>
                  <a:lnTo>
                    <a:pt x="573" y="304"/>
                  </a:lnTo>
                  <a:lnTo>
                    <a:pt x="472" y="337"/>
                  </a:lnTo>
                  <a:lnTo>
                    <a:pt x="371" y="371"/>
                  </a:lnTo>
                  <a:lnTo>
                    <a:pt x="371" y="405"/>
                  </a:lnTo>
                  <a:lnTo>
                    <a:pt x="371" y="438"/>
                  </a:lnTo>
                  <a:lnTo>
                    <a:pt x="539" y="472"/>
                  </a:lnTo>
                  <a:lnTo>
                    <a:pt x="539" y="506"/>
                  </a:lnTo>
                  <a:lnTo>
                    <a:pt x="539" y="539"/>
                  </a:lnTo>
                  <a:lnTo>
                    <a:pt x="438" y="573"/>
                  </a:lnTo>
                  <a:lnTo>
                    <a:pt x="371" y="607"/>
                  </a:lnTo>
                  <a:lnTo>
                    <a:pt x="303" y="573"/>
                  </a:lnTo>
                  <a:lnTo>
                    <a:pt x="236" y="539"/>
                  </a:lnTo>
                  <a:lnTo>
                    <a:pt x="202" y="506"/>
                  </a:lnTo>
                  <a:lnTo>
                    <a:pt x="169" y="405"/>
                  </a:lnTo>
                  <a:lnTo>
                    <a:pt x="169" y="337"/>
                  </a:lnTo>
                  <a:lnTo>
                    <a:pt x="202" y="270"/>
                  </a:lnTo>
                  <a:lnTo>
                    <a:pt x="270" y="203"/>
                  </a:lnTo>
                  <a:lnTo>
                    <a:pt x="438" y="135"/>
                  </a:lnTo>
                  <a:lnTo>
                    <a:pt x="606" y="102"/>
                  </a:lnTo>
                  <a:lnTo>
                    <a:pt x="606" y="68"/>
                  </a:lnTo>
                  <a:lnTo>
                    <a:pt x="606" y="34"/>
                  </a:lnTo>
                  <a:lnTo>
                    <a:pt x="472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hape 625"/>
            <p:cNvSpPr/>
            <p:nvPr/>
          </p:nvSpPr>
          <p:spPr>
            <a:xfrm>
              <a:off x="2778120" y="5911920"/>
              <a:ext cx="158400" cy="1490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391" h="2257">
                  <a:moveTo>
                    <a:pt x="1515" y="0"/>
                  </a:moveTo>
                  <a:lnTo>
                    <a:pt x="1078" y="101"/>
                  </a:lnTo>
                  <a:lnTo>
                    <a:pt x="606" y="236"/>
                  </a:lnTo>
                  <a:lnTo>
                    <a:pt x="101" y="371"/>
                  </a:lnTo>
                  <a:lnTo>
                    <a:pt x="68" y="270"/>
                  </a:lnTo>
                  <a:lnTo>
                    <a:pt x="0" y="270"/>
                  </a:lnTo>
                  <a:lnTo>
                    <a:pt x="0" y="303"/>
                  </a:lnTo>
                  <a:lnTo>
                    <a:pt x="0" y="573"/>
                  </a:lnTo>
                  <a:lnTo>
                    <a:pt x="34" y="808"/>
                  </a:lnTo>
                  <a:lnTo>
                    <a:pt x="135" y="1347"/>
                  </a:lnTo>
                  <a:lnTo>
                    <a:pt x="169" y="1785"/>
                  </a:lnTo>
                  <a:lnTo>
                    <a:pt x="202" y="2020"/>
                  </a:lnTo>
                  <a:lnTo>
                    <a:pt x="270" y="2223"/>
                  </a:lnTo>
                  <a:lnTo>
                    <a:pt x="337" y="2256"/>
                  </a:lnTo>
                  <a:lnTo>
                    <a:pt x="371" y="2223"/>
                  </a:lnTo>
                  <a:lnTo>
                    <a:pt x="438" y="2223"/>
                  </a:lnTo>
                  <a:lnTo>
                    <a:pt x="1313" y="2122"/>
                  </a:lnTo>
                  <a:lnTo>
                    <a:pt x="1751" y="2054"/>
                  </a:lnTo>
                  <a:lnTo>
                    <a:pt x="2189" y="1919"/>
                  </a:lnTo>
                  <a:lnTo>
                    <a:pt x="2189" y="1953"/>
                  </a:lnTo>
                  <a:lnTo>
                    <a:pt x="2222" y="1987"/>
                  </a:lnTo>
                  <a:lnTo>
                    <a:pt x="2256" y="1987"/>
                  </a:lnTo>
                  <a:lnTo>
                    <a:pt x="2323" y="1919"/>
                  </a:lnTo>
                  <a:lnTo>
                    <a:pt x="2357" y="1818"/>
                  </a:lnTo>
                  <a:lnTo>
                    <a:pt x="2391" y="1751"/>
                  </a:lnTo>
                  <a:lnTo>
                    <a:pt x="2391" y="1616"/>
                  </a:lnTo>
                  <a:lnTo>
                    <a:pt x="2357" y="1414"/>
                  </a:lnTo>
                  <a:lnTo>
                    <a:pt x="2290" y="1212"/>
                  </a:lnTo>
                  <a:lnTo>
                    <a:pt x="2222" y="606"/>
                  </a:lnTo>
                  <a:lnTo>
                    <a:pt x="2121" y="303"/>
                  </a:lnTo>
                  <a:lnTo>
                    <a:pt x="2054" y="169"/>
                  </a:lnTo>
                  <a:lnTo>
                    <a:pt x="1987" y="68"/>
                  </a:lnTo>
                  <a:lnTo>
                    <a:pt x="1953" y="68"/>
                  </a:lnTo>
                  <a:lnTo>
                    <a:pt x="1953" y="270"/>
                  </a:lnTo>
                  <a:lnTo>
                    <a:pt x="1953" y="505"/>
                  </a:lnTo>
                  <a:lnTo>
                    <a:pt x="2054" y="943"/>
                  </a:lnTo>
                  <a:lnTo>
                    <a:pt x="2121" y="1381"/>
                  </a:lnTo>
                  <a:lnTo>
                    <a:pt x="2189" y="1818"/>
                  </a:lnTo>
                  <a:lnTo>
                    <a:pt x="1751" y="1818"/>
                  </a:lnTo>
                  <a:lnTo>
                    <a:pt x="1280" y="1886"/>
                  </a:lnTo>
                  <a:lnTo>
                    <a:pt x="404" y="2054"/>
                  </a:lnTo>
                  <a:lnTo>
                    <a:pt x="371" y="2054"/>
                  </a:lnTo>
                  <a:lnTo>
                    <a:pt x="371" y="1818"/>
                  </a:lnTo>
                  <a:lnTo>
                    <a:pt x="337" y="1616"/>
                  </a:lnTo>
                  <a:lnTo>
                    <a:pt x="270" y="1179"/>
                  </a:lnTo>
                  <a:lnTo>
                    <a:pt x="236" y="842"/>
                  </a:lnTo>
                  <a:lnTo>
                    <a:pt x="169" y="539"/>
                  </a:lnTo>
                  <a:lnTo>
                    <a:pt x="707" y="404"/>
                  </a:lnTo>
                  <a:lnTo>
                    <a:pt x="1246" y="270"/>
                  </a:lnTo>
                  <a:lnTo>
                    <a:pt x="1616" y="202"/>
                  </a:lnTo>
                  <a:lnTo>
                    <a:pt x="1785" y="169"/>
                  </a:lnTo>
                  <a:lnTo>
                    <a:pt x="1953" y="68"/>
                  </a:lnTo>
                  <a:lnTo>
                    <a:pt x="1953" y="34"/>
                  </a:lnTo>
                  <a:lnTo>
                    <a:pt x="1852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hape 626"/>
            <p:cNvSpPr/>
            <p:nvPr/>
          </p:nvSpPr>
          <p:spPr>
            <a:xfrm>
              <a:off x="2847960" y="5969160"/>
              <a:ext cx="42840" cy="42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40" h="641">
                  <a:moveTo>
                    <a:pt x="471" y="1"/>
                  </a:moveTo>
                  <a:lnTo>
                    <a:pt x="438" y="34"/>
                  </a:lnTo>
                  <a:lnTo>
                    <a:pt x="404" y="68"/>
                  </a:lnTo>
                  <a:lnTo>
                    <a:pt x="370" y="102"/>
                  </a:lnTo>
                  <a:lnTo>
                    <a:pt x="370" y="236"/>
                  </a:lnTo>
                  <a:lnTo>
                    <a:pt x="370" y="270"/>
                  </a:lnTo>
                  <a:lnTo>
                    <a:pt x="135" y="337"/>
                  </a:lnTo>
                  <a:lnTo>
                    <a:pt x="101" y="203"/>
                  </a:lnTo>
                  <a:lnTo>
                    <a:pt x="101" y="169"/>
                  </a:lnTo>
                  <a:lnTo>
                    <a:pt x="67" y="169"/>
                  </a:lnTo>
                  <a:lnTo>
                    <a:pt x="0" y="203"/>
                  </a:lnTo>
                  <a:lnTo>
                    <a:pt x="0" y="371"/>
                  </a:lnTo>
                  <a:lnTo>
                    <a:pt x="0" y="405"/>
                  </a:lnTo>
                  <a:lnTo>
                    <a:pt x="34" y="438"/>
                  </a:lnTo>
                  <a:lnTo>
                    <a:pt x="67" y="607"/>
                  </a:lnTo>
                  <a:lnTo>
                    <a:pt x="135" y="640"/>
                  </a:lnTo>
                  <a:lnTo>
                    <a:pt x="168" y="640"/>
                  </a:lnTo>
                  <a:lnTo>
                    <a:pt x="202" y="607"/>
                  </a:lnTo>
                  <a:lnTo>
                    <a:pt x="202" y="539"/>
                  </a:lnTo>
                  <a:lnTo>
                    <a:pt x="168" y="472"/>
                  </a:lnTo>
                  <a:lnTo>
                    <a:pt x="404" y="438"/>
                  </a:lnTo>
                  <a:lnTo>
                    <a:pt x="438" y="539"/>
                  </a:lnTo>
                  <a:lnTo>
                    <a:pt x="505" y="640"/>
                  </a:lnTo>
                  <a:lnTo>
                    <a:pt x="539" y="640"/>
                  </a:lnTo>
                  <a:lnTo>
                    <a:pt x="572" y="607"/>
                  </a:lnTo>
                  <a:lnTo>
                    <a:pt x="572" y="506"/>
                  </a:lnTo>
                  <a:lnTo>
                    <a:pt x="539" y="371"/>
                  </a:lnTo>
                  <a:lnTo>
                    <a:pt x="640" y="337"/>
                  </a:lnTo>
                  <a:lnTo>
                    <a:pt x="640" y="270"/>
                  </a:lnTo>
                  <a:lnTo>
                    <a:pt x="640" y="236"/>
                  </a:lnTo>
                  <a:lnTo>
                    <a:pt x="640" y="203"/>
                  </a:lnTo>
                  <a:lnTo>
                    <a:pt x="572" y="203"/>
                  </a:lnTo>
                  <a:lnTo>
                    <a:pt x="505" y="236"/>
                  </a:lnTo>
                  <a:lnTo>
                    <a:pt x="505" y="169"/>
                  </a:lnTo>
                  <a:lnTo>
                    <a:pt x="505" y="102"/>
                  </a:lnTo>
                  <a:lnTo>
                    <a:pt x="539" y="34"/>
                  </a:lnTo>
                  <a:lnTo>
                    <a:pt x="505" y="34"/>
                  </a:lnTo>
                  <a:lnTo>
                    <a:pt x="47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hape 627"/>
            <p:cNvSpPr/>
            <p:nvPr/>
          </p:nvSpPr>
          <p:spPr>
            <a:xfrm>
              <a:off x="3219480" y="6005880"/>
              <a:ext cx="144360" cy="14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190" h="2223">
                  <a:moveTo>
                    <a:pt x="1819" y="0"/>
                  </a:moveTo>
                  <a:lnTo>
                    <a:pt x="1314" y="68"/>
                  </a:lnTo>
                  <a:lnTo>
                    <a:pt x="775" y="169"/>
                  </a:lnTo>
                  <a:lnTo>
                    <a:pt x="371" y="202"/>
                  </a:lnTo>
                  <a:lnTo>
                    <a:pt x="169" y="236"/>
                  </a:lnTo>
                  <a:lnTo>
                    <a:pt x="1" y="303"/>
                  </a:lnTo>
                  <a:lnTo>
                    <a:pt x="169" y="404"/>
                  </a:lnTo>
                  <a:lnTo>
                    <a:pt x="338" y="404"/>
                  </a:lnTo>
                  <a:lnTo>
                    <a:pt x="674" y="371"/>
                  </a:lnTo>
                  <a:lnTo>
                    <a:pt x="1213" y="303"/>
                  </a:lnTo>
                  <a:lnTo>
                    <a:pt x="1752" y="202"/>
                  </a:lnTo>
                  <a:lnTo>
                    <a:pt x="1752" y="371"/>
                  </a:lnTo>
                  <a:lnTo>
                    <a:pt x="1785" y="573"/>
                  </a:lnTo>
                  <a:lnTo>
                    <a:pt x="1853" y="943"/>
                  </a:lnTo>
                  <a:lnTo>
                    <a:pt x="1920" y="1381"/>
                  </a:lnTo>
                  <a:lnTo>
                    <a:pt x="1954" y="1617"/>
                  </a:lnTo>
                  <a:lnTo>
                    <a:pt x="2021" y="1852"/>
                  </a:lnTo>
                  <a:lnTo>
                    <a:pt x="1011" y="1953"/>
                  </a:lnTo>
                  <a:lnTo>
                    <a:pt x="674" y="1987"/>
                  </a:lnTo>
                  <a:lnTo>
                    <a:pt x="506" y="2054"/>
                  </a:lnTo>
                  <a:lnTo>
                    <a:pt x="371" y="2155"/>
                  </a:lnTo>
                  <a:lnTo>
                    <a:pt x="540" y="2223"/>
                  </a:lnTo>
                  <a:lnTo>
                    <a:pt x="708" y="2223"/>
                  </a:lnTo>
                  <a:lnTo>
                    <a:pt x="1045" y="2155"/>
                  </a:lnTo>
                  <a:lnTo>
                    <a:pt x="2122" y="2021"/>
                  </a:lnTo>
                  <a:lnTo>
                    <a:pt x="2189" y="1987"/>
                  </a:lnTo>
                  <a:lnTo>
                    <a:pt x="2189" y="1953"/>
                  </a:lnTo>
                  <a:lnTo>
                    <a:pt x="2189" y="1886"/>
                  </a:lnTo>
                  <a:lnTo>
                    <a:pt x="2156" y="1852"/>
                  </a:lnTo>
                  <a:lnTo>
                    <a:pt x="2156" y="1617"/>
                  </a:lnTo>
                  <a:lnTo>
                    <a:pt x="2122" y="1381"/>
                  </a:lnTo>
                  <a:lnTo>
                    <a:pt x="2055" y="910"/>
                  </a:lnTo>
                  <a:lnTo>
                    <a:pt x="1987" y="539"/>
                  </a:lnTo>
                  <a:lnTo>
                    <a:pt x="1954" y="337"/>
                  </a:lnTo>
                  <a:lnTo>
                    <a:pt x="1886" y="169"/>
                  </a:lnTo>
                  <a:lnTo>
                    <a:pt x="1920" y="101"/>
                  </a:lnTo>
                  <a:lnTo>
                    <a:pt x="1920" y="68"/>
                  </a:lnTo>
                  <a:lnTo>
                    <a:pt x="1886" y="34"/>
                  </a:lnTo>
                  <a:lnTo>
                    <a:pt x="1819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hape 628"/>
            <p:cNvSpPr/>
            <p:nvPr/>
          </p:nvSpPr>
          <p:spPr>
            <a:xfrm>
              <a:off x="3260520" y="5835960"/>
              <a:ext cx="155520" cy="15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324" h="2358">
                  <a:moveTo>
                    <a:pt x="1920" y="1"/>
                  </a:moveTo>
                  <a:lnTo>
                    <a:pt x="1920" y="34"/>
                  </a:lnTo>
                  <a:lnTo>
                    <a:pt x="1920" y="102"/>
                  </a:lnTo>
                  <a:lnTo>
                    <a:pt x="1617" y="102"/>
                  </a:lnTo>
                  <a:lnTo>
                    <a:pt x="1314" y="135"/>
                  </a:lnTo>
                  <a:lnTo>
                    <a:pt x="708" y="270"/>
                  </a:lnTo>
                  <a:lnTo>
                    <a:pt x="371" y="304"/>
                  </a:lnTo>
                  <a:lnTo>
                    <a:pt x="169" y="337"/>
                  </a:lnTo>
                  <a:lnTo>
                    <a:pt x="102" y="371"/>
                  </a:lnTo>
                  <a:lnTo>
                    <a:pt x="68" y="405"/>
                  </a:lnTo>
                  <a:lnTo>
                    <a:pt x="68" y="438"/>
                  </a:lnTo>
                  <a:lnTo>
                    <a:pt x="34" y="405"/>
                  </a:lnTo>
                  <a:lnTo>
                    <a:pt x="1" y="405"/>
                  </a:lnTo>
                  <a:lnTo>
                    <a:pt x="1" y="607"/>
                  </a:lnTo>
                  <a:lnTo>
                    <a:pt x="1" y="842"/>
                  </a:lnTo>
                  <a:lnTo>
                    <a:pt x="102" y="1280"/>
                  </a:lnTo>
                  <a:lnTo>
                    <a:pt x="236" y="2290"/>
                  </a:lnTo>
                  <a:lnTo>
                    <a:pt x="270" y="2324"/>
                  </a:lnTo>
                  <a:lnTo>
                    <a:pt x="337" y="2357"/>
                  </a:lnTo>
                  <a:lnTo>
                    <a:pt x="371" y="2324"/>
                  </a:lnTo>
                  <a:lnTo>
                    <a:pt x="405" y="2290"/>
                  </a:lnTo>
                  <a:lnTo>
                    <a:pt x="640" y="2290"/>
                  </a:lnTo>
                  <a:lnTo>
                    <a:pt x="910" y="2256"/>
                  </a:lnTo>
                  <a:lnTo>
                    <a:pt x="1381" y="2189"/>
                  </a:lnTo>
                  <a:lnTo>
                    <a:pt x="1785" y="2122"/>
                  </a:lnTo>
                  <a:lnTo>
                    <a:pt x="2021" y="2088"/>
                  </a:lnTo>
                  <a:lnTo>
                    <a:pt x="2088" y="2021"/>
                  </a:lnTo>
                  <a:lnTo>
                    <a:pt x="2155" y="1953"/>
                  </a:lnTo>
                  <a:lnTo>
                    <a:pt x="2054" y="1886"/>
                  </a:lnTo>
                  <a:lnTo>
                    <a:pt x="1684" y="1886"/>
                  </a:lnTo>
                  <a:lnTo>
                    <a:pt x="1213" y="1987"/>
                  </a:lnTo>
                  <a:lnTo>
                    <a:pt x="809" y="2021"/>
                  </a:lnTo>
                  <a:lnTo>
                    <a:pt x="607" y="2054"/>
                  </a:lnTo>
                  <a:lnTo>
                    <a:pt x="405" y="2122"/>
                  </a:lnTo>
                  <a:lnTo>
                    <a:pt x="236" y="1112"/>
                  </a:lnTo>
                  <a:lnTo>
                    <a:pt x="203" y="809"/>
                  </a:lnTo>
                  <a:lnTo>
                    <a:pt x="102" y="539"/>
                  </a:lnTo>
                  <a:lnTo>
                    <a:pt x="203" y="539"/>
                  </a:lnTo>
                  <a:lnTo>
                    <a:pt x="203" y="472"/>
                  </a:lnTo>
                  <a:lnTo>
                    <a:pt x="1145" y="371"/>
                  </a:lnTo>
                  <a:lnTo>
                    <a:pt x="1549" y="304"/>
                  </a:lnTo>
                  <a:lnTo>
                    <a:pt x="1920" y="203"/>
                  </a:lnTo>
                  <a:lnTo>
                    <a:pt x="1987" y="539"/>
                  </a:lnTo>
                  <a:lnTo>
                    <a:pt x="2054" y="910"/>
                  </a:lnTo>
                  <a:lnTo>
                    <a:pt x="2088" y="1448"/>
                  </a:lnTo>
                  <a:lnTo>
                    <a:pt x="2122" y="1684"/>
                  </a:lnTo>
                  <a:lnTo>
                    <a:pt x="2155" y="1953"/>
                  </a:lnTo>
                  <a:lnTo>
                    <a:pt x="2189" y="1987"/>
                  </a:lnTo>
                  <a:lnTo>
                    <a:pt x="2223" y="2021"/>
                  </a:lnTo>
                  <a:lnTo>
                    <a:pt x="2290" y="1987"/>
                  </a:lnTo>
                  <a:lnTo>
                    <a:pt x="2324" y="1953"/>
                  </a:lnTo>
                  <a:lnTo>
                    <a:pt x="2324" y="1684"/>
                  </a:lnTo>
                  <a:lnTo>
                    <a:pt x="2324" y="1415"/>
                  </a:lnTo>
                  <a:lnTo>
                    <a:pt x="2223" y="876"/>
                  </a:lnTo>
                  <a:lnTo>
                    <a:pt x="2155" y="438"/>
                  </a:lnTo>
                  <a:lnTo>
                    <a:pt x="2088" y="236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hape 629"/>
            <p:cNvSpPr/>
            <p:nvPr/>
          </p:nvSpPr>
          <p:spPr>
            <a:xfrm>
              <a:off x="3328920" y="5896080"/>
              <a:ext cx="42840" cy="48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41" h="742">
                  <a:moveTo>
                    <a:pt x="135" y="1"/>
                  </a:moveTo>
                  <a:lnTo>
                    <a:pt x="68" y="68"/>
                  </a:lnTo>
                  <a:lnTo>
                    <a:pt x="34" y="135"/>
                  </a:lnTo>
                  <a:lnTo>
                    <a:pt x="1" y="304"/>
                  </a:lnTo>
                  <a:lnTo>
                    <a:pt x="1" y="506"/>
                  </a:lnTo>
                  <a:lnTo>
                    <a:pt x="34" y="674"/>
                  </a:lnTo>
                  <a:lnTo>
                    <a:pt x="68" y="741"/>
                  </a:lnTo>
                  <a:lnTo>
                    <a:pt x="135" y="741"/>
                  </a:lnTo>
                  <a:lnTo>
                    <a:pt x="405" y="708"/>
                  </a:lnTo>
                  <a:lnTo>
                    <a:pt x="506" y="640"/>
                  </a:lnTo>
                  <a:lnTo>
                    <a:pt x="607" y="573"/>
                  </a:lnTo>
                  <a:lnTo>
                    <a:pt x="640" y="506"/>
                  </a:lnTo>
                  <a:lnTo>
                    <a:pt x="607" y="472"/>
                  </a:lnTo>
                  <a:lnTo>
                    <a:pt x="405" y="472"/>
                  </a:lnTo>
                  <a:lnTo>
                    <a:pt x="203" y="539"/>
                  </a:lnTo>
                  <a:lnTo>
                    <a:pt x="203" y="270"/>
                  </a:lnTo>
                  <a:lnTo>
                    <a:pt x="203" y="135"/>
                  </a:lnTo>
                  <a:lnTo>
                    <a:pt x="203" y="68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hape 630"/>
            <p:cNvSpPr/>
            <p:nvPr/>
          </p:nvSpPr>
          <p:spPr>
            <a:xfrm>
              <a:off x="3209760" y="5708880"/>
              <a:ext cx="28440" cy="1332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38" h="2021">
                  <a:moveTo>
                    <a:pt x="34" y="1"/>
                  </a:moveTo>
                  <a:lnTo>
                    <a:pt x="0" y="34"/>
                  </a:lnTo>
                  <a:lnTo>
                    <a:pt x="0" y="270"/>
                  </a:lnTo>
                  <a:lnTo>
                    <a:pt x="0" y="506"/>
                  </a:lnTo>
                  <a:lnTo>
                    <a:pt x="101" y="943"/>
                  </a:lnTo>
                  <a:lnTo>
                    <a:pt x="169" y="1482"/>
                  </a:lnTo>
                  <a:lnTo>
                    <a:pt x="236" y="1718"/>
                  </a:lnTo>
                  <a:lnTo>
                    <a:pt x="337" y="1987"/>
                  </a:lnTo>
                  <a:lnTo>
                    <a:pt x="371" y="2021"/>
                  </a:lnTo>
                  <a:lnTo>
                    <a:pt x="404" y="2021"/>
                  </a:lnTo>
                  <a:lnTo>
                    <a:pt x="438" y="1987"/>
                  </a:lnTo>
                  <a:lnTo>
                    <a:pt x="438" y="1953"/>
                  </a:lnTo>
                  <a:lnTo>
                    <a:pt x="438" y="1684"/>
                  </a:lnTo>
                  <a:lnTo>
                    <a:pt x="371" y="1415"/>
                  </a:lnTo>
                  <a:lnTo>
                    <a:pt x="270" y="910"/>
                  </a:lnTo>
                  <a:lnTo>
                    <a:pt x="202" y="472"/>
                  </a:lnTo>
                  <a:lnTo>
                    <a:pt x="169" y="270"/>
                  </a:lnTo>
                  <a:lnTo>
                    <a:pt x="101" y="34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6560" bIns="16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hape 631"/>
            <p:cNvSpPr/>
            <p:nvPr/>
          </p:nvSpPr>
          <p:spPr>
            <a:xfrm>
              <a:off x="3160800" y="59230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08" h="675">
                  <a:moveTo>
                    <a:pt x="1" y="1"/>
                  </a:moveTo>
                  <a:lnTo>
                    <a:pt x="1" y="102"/>
                  </a:lnTo>
                  <a:lnTo>
                    <a:pt x="1" y="236"/>
                  </a:lnTo>
                  <a:lnTo>
                    <a:pt x="68" y="573"/>
                  </a:lnTo>
                  <a:lnTo>
                    <a:pt x="102" y="607"/>
                  </a:lnTo>
                  <a:lnTo>
                    <a:pt x="135" y="640"/>
                  </a:lnTo>
                  <a:lnTo>
                    <a:pt x="169" y="640"/>
                  </a:lnTo>
                  <a:lnTo>
                    <a:pt x="203" y="607"/>
                  </a:lnTo>
                  <a:lnTo>
                    <a:pt x="371" y="405"/>
                  </a:lnTo>
                  <a:lnTo>
                    <a:pt x="371" y="438"/>
                  </a:lnTo>
                  <a:lnTo>
                    <a:pt x="405" y="472"/>
                  </a:lnTo>
                  <a:lnTo>
                    <a:pt x="472" y="573"/>
                  </a:lnTo>
                  <a:lnTo>
                    <a:pt x="573" y="674"/>
                  </a:lnTo>
                  <a:lnTo>
                    <a:pt x="674" y="674"/>
                  </a:lnTo>
                  <a:lnTo>
                    <a:pt x="674" y="640"/>
                  </a:lnTo>
                  <a:lnTo>
                    <a:pt x="674" y="573"/>
                  </a:lnTo>
                  <a:lnTo>
                    <a:pt x="607" y="506"/>
                  </a:lnTo>
                  <a:lnTo>
                    <a:pt x="506" y="405"/>
                  </a:lnTo>
                  <a:lnTo>
                    <a:pt x="472" y="371"/>
                  </a:lnTo>
                  <a:lnTo>
                    <a:pt x="405" y="371"/>
                  </a:lnTo>
                  <a:lnTo>
                    <a:pt x="472" y="304"/>
                  </a:lnTo>
                  <a:lnTo>
                    <a:pt x="573" y="203"/>
                  </a:lnTo>
                  <a:lnTo>
                    <a:pt x="607" y="203"/>
                  </a:lnTo>
                  <a:lnTo>
                    <a:pt x="640" y="169"/>
                  </a:lnTo>
                  <a:lnTo>
                    <a:pt x="708" y="102"/>
                  </a:lnTo>
                  <a:lnTo>
                    <a:pt x="708" y="68"/>
                  </a:lnTo>
                  <a:lnTo>
                    <a:pt x="674" y="34"/>
                  </a:lnTo>
                  <a:lnTo>
                    <a:pt x="607" y="1"/>
                  </a:lnTo>
                  <a:lnTo>
                    <a:pt x="506" y="1"/>
                  </a:lnTo>
                  <a:lnTo>
                    <a:pt x="405" y="135"/>
                  </a:lnTo>
                  <a:lnTo>
                    <a:pt x="304" y="236"/>
                  </a:lnTo>
                  <a:lnTo>
                    <a:pt x="203" y="405"/>
                  </a:lnTo>
                  <a:lnTo>
                    <a:pt x="169" y="270"/>
                  </a:lnTo>
                  <a:lnTo>
                    <a:pt x="135" y="135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hape 632"/>
            <p:cNvSpPr/>
            <p:nvPr/>
          </p:nvSpPr>
          <p:spPr>
            <a:xfrm>
              <a:off x="3093840" y="6081840"/>
              <a:ext cx="56880" cy="44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76" h="674">
                  <a:moveTo>
                    <a:pt x="640" y="0"/>
                  </a:moveTo>
                  <a:lnTo>
                    <a:pt x="607" y="34"/>
                  </a:lnTo>
                  <a:lnTo>
                    <a:pt x="371" y="337"/>
                  </a:lnTo>
                  <a:lnTo>
                    <a:pt x="169" y="68"/>
                  </a:lnTo>
                  <a:lnTo>
                    <a:pt x="102" y="34"/>
                  </a:lnTo>
                  <a:lnTo>
                    <a:pt x="68" y="34"/>
                  </a:lnTo>
                  <a:lnTo>
                    <a:pt x="34" y="68"/>
                  </a:lnTo>
                  <a:lnTo>
                    <a:pt x="1" y="135"/>
                  </a:lnTo>
                  <a:lnTo>
                    <a:pt x="102" y="606"/>
                  </a:lnTo>
                  <a:lnTo>
                    <a:pt x="102" y="674"/>
                  </a:lnTo>
                  <a:lnTo>
                    <a:pt x="236" y="674"/>
                  </a:lnTo>
                  <a:lnTo>
                    <a:pt x="236" y="606"/>
                  </a:lnTo>
                  <a:lnTo>
                    <a:pt x="203" y="404"/>
                  </a:lnTo>
                  <a:lnTo>
                    <a:pt x="337" y="539"/>
                  </a:lnTo>
                  <a:lnTo>
                    <a:pt x="405" y="573"/>
                  </a:lnTo>
                  <a:lnTo>
                    <a:pt x="472" y="539"/>
                  </a:lnTo>
                  <a:lnTo>
                    <a:pt x="607" y="337"/>
                  </a:lnTo>
                  <a:lnTo>
                    <a:pt x="640" y="472"/>
                  </a:lnTo>
                  <a:lnTo>
                    <a:pt x="741" y="606"/>
                  </a:lnTo>
                  <a:lnTo>
                    <a:pt x="775" y="640"/>
                  </a:lnTo>
                  <a:lnTo>
                    <a:pt x="842" y="606"/>
                  </a:lnTo>
                  <a:lnTo>
                    <a:pt x="876" y="573"/>
                  </a:lnTo>
                  <a:lnTo>
                    <a:pt x="876" y="505"/>
                  </a:lnTo>
                  <a:lnTo>
                    <a:pt x="775" y="303"/>
                  </a:lnTo>
                  <a:lnTo>
                    <a:pt x="741" y="101"/>
                  </a:lnTo>
                  <a:lnTo>
                    <a:pt x="741" y="34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hape 633"/>
            <p:cNvSpPr/>
            <p:nvPr/>
          </p:nvSpPr>
          <p:spPr>
            <a:xfrm>
              <a:off x="3100320" y="5859720"/>
              <a:ext cx="153720" cy="1587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324" h="2391">
                  <a:moveTo>
                    <a:pt x="1920" y="135"/>
                  </a:moveTo>
                  <a:lnTo>
                    <a:pt x="2021" y="1044"/>
                  </a:lnTo>
                  <a:lnTo>
                    <a:pt x="2122" y="1953"/>
                  </a:lnTo>
                  <a:lnTo>
                    <a:pt x="1684" y="2020"/>
                  </a:lnTo>
                  <a:lnTo>
                    <a:pt x="1280" y="2121"/>
                  </a:lnTo>
                  <a:lnTo>
                    <a:pt x="876" y="2188"/>
                  </a:lnTo>
                  <a:lnTo>
                    <a:pt x="506" y="2256"/>
                  </a:lnTo>
                  <a:lnTo>
                    <a:pt x="472" y="2256"/>
                  </a:lnTo>
                  <a:lnTo>
                    <a:pt x="472" y="2222"/>
                  </a:lnTo>
                  <a:lnTo>
                    <a:pt x="438" y="1784"/>
                  </a:lnTo>
                  <a:lnTo>
                    <a:pt x="371" y="1313"/>
                  </a:lnTo>
                  <a:lnTo>
                    <a:pt x="270" y="875"/>
                  </a:lnTo>
                  <a:lnTo>
                    <a:pt x="135" y="438"/>
                  </a:lnTo>
                  <a:lnTo>
                    <a:pt x="1044" y="337"/>
                  </a:lnTo>
                  <a:lnTo>
                    <a:pt x="1482" y="236"/>
                  </a:lnTo>
                  <a:lnTo>
                    <a:pt x="1920" y="135"/>
                  </a:lnTo>
                  <a:close/>
                  <a:moveTo>
                    <a:pt x="1920" y="0"/>
                  </a:moveTo>
                  <a:lnTo>
                    <a:pt x="1482" y="34"/>
                  </a:lnTo>
                  <a:lnTo>
                    <a:pt x="1011" y="101"/>
                  </a:lnTo>
                  <a:lnTo>
                    <a:pt x="68" y="269"/>
                  </a:lnTo>
                  <a:lnTo>
                    <a:pt x="34" y="269"/>
                  </a:lnTo>
                  <a:lnTo>
                    <a:pt x="1" y="337"/>
                  </a:lnTo>
                  <a:lnTo>
                    <a:pt x="1" y="370"/>
                  </a:lnTo>
                  <a:lnTo>
                    <a:pt x="68" y="404"/>
                  </a:lnTo>
                  <a:lnTo>
                    <a:pt x="102" y="875"/>
                  </a:lnTo>
                  <a:lnTo>
                    <a:pt x="135" y="1347"/>
                  </a:lnTo>
                  <a:lnTo>
                    <a:pt x="236" y="1818"/>
                  </a:lnTo>
                  <a:lnTo>
                    <a:pt x="337" y="2256"/>
                  </a:lnTo>
                  <a:lnTo>
                    <a:pt x="337" y="2289"/>
                  </a:lnTo>
                  <a:lnTo>
                    <a:pt x="371" y="2323"/>
                  </a:lnTo>
                  <a:lnTo>
                    <a:pt x="438" y="2289"/>
                  </a:lnTo>
                  <a:lnTo>
                    <a:pt x="472" y="2357"/>
                  </a:lnTo>
                  <a:lnTo>
                    <a:pt x="506" y="2390"/>
                  </a:lnTo>
                  <a:lnTo>
                    <a:pt x="910" y="2390"/>
                  </a:lnTo>
                  <a:lnTo>
                    <a:pt x="1314" y="2323"/>
                  </a:lnTo>
                  <a:lnTo>
                    <a:pt x="1751" y="2222"/>
                  </a:lnTo>
                  <a:lnTo>
                    <a:pt x="2122" y="2087"/>
                  </a:lnTo>
                  <a:lnTo>
                    <a:pt x="2122" y="2155"/>
                  </a:lnTo>
                  <a:lnTo>
                    <a:pt x="2155" y="2222"/>
                  </a:lnTo>
                  <a:lnTo>
                    <a:pt x="2290" y="2222"/>
                  </a:lnTo>
                  <a:lnTo>
                    <a:pt x="2324" y="2155"/>
                  </a:lnTo>
                  <a:lnTo>
                    <a:pt x="2324" y="1616"/>
                  </a:lnTo>
                  <a:lnTo>
                    <a:pt x="2256" y="1111"/>
                  </a:lnTo>
                  <a:lnTo>
                    <a:pt x="2189" y="572"/>
                  </a:lnTo>
                  <a:lnTo>
                    <a:pt x="2054" y="67"/>
                  </a:lnTo>
                  <a:lnTo>
                    <a:pt x="2054" y="34"/>
                  </a:lnTo>
                  <a:lnTo>
                    <a:pt x="1987" y="34"/>
                  </a:lnTo>
                  <a:lnTo>
                    <a:pt x="198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2120" bIns="42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hape 634"/>
            <p:cNvSpPr/>
            <p:nvPr/>
          </p:nvSpPr>
          <p:spPr>
            <a:xfrm>
              <a:off x="3421080" y="6162840"/>
              <a:ext cx="23760" cy="149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71" h="2256">
                  <a:moveTo>
                    <a:pt x="34" y="0"/>
                  </a:moveTo>
                  <a:lnTo>
                    <a:pt x="0" y="202"/>
                  </a:lnTo>
                  <a:lnTo>
                    <a:pt x="0" y="438"/>
                  </a:lnTo>
                  <a:lnTo>
                    <a:pt x="67" y="876"/>
                  </a:lnTo>
                  <a:lnTo>
                    <a:pt x="135" y="1549"/>
                  </a:lnTo>
                  <a:lnTo>
                    <a:pt x="168" y="1886"/>
                  </a:lnTo>
                  <a:lnTo>
                    <a:pt x="236" y="2222"/>
                  </a:lnTo>
                  <a:lnTo>
                    <a:pt x="269" y="2256"/>
                  </a:lnTo>
                  <a:lnTo>
                    <a:pt x="370" y="2256"/>
                  </a:lnTo>
                  <a:lnTo>
                    <a:pt x="370" y="2189"/>
                  </a:lnTo>
                  <a:lnTo>
                    <a:pt x="370" y="1953"/>
                  </a:lnTo>
                  <a:lnTo>
                    <a:pt x="370" y="1684"/>
                  </a:lnTo>
                  <a:lnTo>
                    <a:pt x="303" y="1179"/>
                  </a:lnTo>
                  <a:lnTo>
                    <a:pt x="236" y="573"/>
                  </a:lnTo>
                  <a:lnTo>
                    <a:pt x="168" y="27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hape 635"/>
            <p:cNvSpPr/>
            <p:nvPr/>
          </p:nvSpPr>
          <p:spPr>
            <a:xfrm>
              <a:off x="2138400" y="5710320"/>
              <a:ext cx="31680" cy="13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72" h="2021">
                  <a:moveTo>
                    <a:pt x="34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0" y="270"/>
                  </a:lnTo>
                  <a:lnTo>
                    <a:pt x="34" y="505"/>
                  </a:lnTo>
                  <a:lnTo>
                    <a:pt x="101" y="943"/>
                  </a:lnTo>
                  <a:lnTo>
                    <a:pt x="169" y="1482"/>
                  </a:lnTo>
                  <a:lnTo>
                    <a:pt x="236" y="1717"/>
                  </a:lnTo>
                  <a:lnTo>
                    <a:pt x="337" y="1987"/>
                  </a:lnTo>
                  <a:lnTo>
                    <a:pt x="371" y="2020"/>
                  </a:lnTo>
                  <a:lnTo>
                    <a:pt x="404" y="2020"/>
                  </a:lnTo>
                  <a:lnTo>
                    <a:pt x="438" y="1987"/>
                  </a:lnTo>
                  <a:lnTo>
                    <a:pt x="472" y="1953"/>
                  </a:lnTo>
                  <a:lnTo>
                    <a:pt x="438" y="1684"/>
                  </a:lnTo>
                  <a:lnTo>
                    <a:pt x="371" y="1414"/>
                  </a:lnTo>
                  <a:lnTo>
                    <a:pt x="270" y="909"/>
                  </a:lnTo>
                  <a:lnTo>
                    <a:pt x="202" y="472"/>
                  </a:lnTo>
                  <a:lnTo>
                    <a:pt x="169" y="236"/>
                  </a:lnTo>
                  <a:lnTo>
                    <a:pt x="101" y="3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8000" bIns="18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hape 636"/>
            <p:cNvSpPr/>
            <p:nvPr/>
          </p:nvSpPr>
          <p:spPr>
            <a:xfrm>
              <a:off x="2201760" y="5759640"/>
              <a:ext cx="44280" cy="601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74" h="911">
                  <a:moveTo>
                    <a:pt x="370" y="1"/>
                  </a:moveTo>
                  <a:lnTo>
                    <a:pt x="236" y="35"/>
                  </a:lnTo>
                  <a:lnTo>
                    <a:pt x="168" y="68"/>
                  </a:lnTo>
                  <a:lnTo>
                    <a:pt x="101" y="136"/>
                  </a:lnTo>
                  <a:lnTo>
                    <a:pt x="34" y="203"/>
                  </a:lnTo>
                  <a:lnTo>
                    <a:pt x="0" y="237"/>
                  </a:lnTo>
                  <a:lnTo>
                    <a:pt x="34" y="304"/>
                  </a:lnTo>
                  <a:lnTo>
                    <a:pt x="135" y="304"/>
                  </a:lnTo>
                  <a:lnTo>
                    <a:pt x="202" y="237"/>
                  </a:lnTo>
                  <a:lnTo>
                    <a:pt x="269" y="169"/>
                  </a:lnTo>
                  <a:lnTo>
                    <a:pt x="337" y="169"/>
                  </a:lnTo>
                  <a:lnTo>
                    <a:pt x="404" y="237"/>
                  </a:lnTo>
                  <a:lnTo>
                    <a:pt x="337" y="338"/>
                  </a:lnTo>
                  <a:lnTo>
                    <a:pt x="269" y="439"/>
                  </a:lnTo>
                  <a:lnTo>
                    <a:pt x="202" y="573"/>
                  </a:lnTo>
                  <a:lnTo>
                    <a:pt x="202" y="641"/>
                  </a:lnTo>
                  <a:lnTo>
                    <a:pt x="236" y="674"/>
                  </a:lnTo>
                  <a:lnTo>
                    <a:pt x="303" y="674"/>
                  </a:lnTo>
                  <a:lnTo>
                    <a:pt x="370" y="641"/>
                  </a:lnTo>
                  <a:lnTo>
                    <a:pt x="471" y="641"/>
                  </a:lnTo>
                  <a:lnTo>
                    <a:pt x="471" y="742"/>
                  </a:lnTo>
                  <a:lnTo>
                    <a:pt x="370" y="742"/>
                  </a:lnTo>
                  <a:lnTo>
                    <a:pt x="236" y="775"/>
                  </a:lnTo>
                  <a:lnTo>
                    <a:pt x="236" y="809"/>
                  </a:lnTo>
                  <a:lnTo>
                    <a:pt x="236" y="843"/>
                  </a:lnTo>
                  <a:lnTo>
                    <a:pt x="303" y="876"/>
                  </a:lnTo>
                  <a:lnTo>
                    <a:pt x="370" y="910"/>
                  </a:lnTo>
                  <a:lnTo>
                    <a:pt x="539" y="876"/>
                  </a:lnTo>
                  <a:lnTo>
                    <a:pt x="606" y="843"/>
                  </a:lnTo>
                  <a:lnTo>
                    <a:pt x="640" y="775"/>
                  </a:lnTo>
                  <a:lnTo>
                    <a:pt x="673" y="708"/>
                  </a:lnTo>
                  <a:lnTo>
                    <a:pt x="673" y="641"/>
                  </a:lnTo>
                  <a:lnTo>
                    <a:pt x="640" y="540"/>
                  </a:lnTo>
                  <a:lnTo>
                    <a:pt x="572" y="506"/>
                  </a:lnTo>
                  <a:lnTo>
                    <a:pt x="505" y="472"/>
                  </a:lnTo>
                  <a:lnTo>
                    <a:pt x="404" y="472"/>
                  </a:lnTo>
                  <a:lnTo>
                    <a:pt x="539" y="304"/>
                  </a:lnTo>
                  <a:lnTo>
                    <a:pt x="539" y="203"/>
                  </a:lnTo>
                  <a:lnTo>
                    <a:pt x="505" y="68"/>
                  </a:lnTo>
                  <a:lnTo>
                    <a:pt x="438" y="35"/>
                  </a:lnTo>
                  <a:lnTo>
                    <a:pt x="370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hape 637"/>
            <p:cNvSpPr/>
            <p:nvPr/>
          </p:nvSpPr>
          <p:spPr>
            <a:xfrm>
              <a:off x="2050920" y="6078600"/>
              <a:ext cx="34920" cy="50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06" h="742">
                  <a:moveTo>
                    <a:pt x="169" y="1"/>
                  </a:moveTo>
                  <a:lnTo>
                    <a:pt x="135" y="34"/>
                  </a:lnTo>
                  <a:lnTo>
                    <a:pt x="101" y="68"/>
                  </a:lnTo>
                  <a:lnTo>
                    <a:pt x="34" y="438"/>
                  </a:lnTo>
                  <a:lnTo>
                    <a:pt x="0" y="573"/>
                  </a:lnTo>
                  <a:lnTo>
                    <a:pt x="0" y="640"/>
                  </a:lnTo>
                  <a:lnTo>
                    <a:pt x="0" y="708"/>
                  </a:lnTo>
                  <a:lnTo>
                    <a:pt x="34" y="741"/>
                  </a:lnTo>
                  <a:lnTo>
                    <a:pt x="68" y="741"/>
                  </a:lnTo>
                  <a:lnTo>
                    <a:pt x="135" y="674"/>
                  </a:lnTo>
                  <a:lnTo>
                    <a:pt x="169" y="607"/>
                  </a:lnTo>
                  <a:lnTo>
                    <a:pt x="303" y="607"/>
                  </a:lnTo>
                  <a:lnTo>
                    <a:pt x="371" y="708"/>
                  </a:lnTo>
                  <a:lnTo>
                    <a:pt x="404" y="741"/>
                  </a:lnTo>
                  <a:lnTo>
                    <a:pt x="438" y="741"/>
                  </a:lnTo>
                  <a:lnTo>
                    <a:pt x="472" y="708"/>
                  </a:lnTo>
                  <a:lnTo>
                    <a:pt x="505" y="674"/>
                  </a:lnTo>
                  <a:lnTo>
                    <a:pt x="472" y="539"/>
                  </a:lnTo>
                  <a:lnTo>
                    <a:pt x="505" y="506"/>
                  </a:lnTo>
                  <a:lnTo>
                    <a:pt x="472" y="472"/>
                  </a:lnTo>
                  <a:lnTo>
                    <a:pt x="438" y="472"/>
                  </a:lnTo>
                  <a:lnTo>
                    <a:pt x="404" y="371"/>
                  </a:lnTo>
                  <a:lnTo>
                    <a:pt x="270" y="34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hape 638"/>
            <p:cNvSpPr/>
            <p:nvPr/>
          </p:nvSpPr>
          <p:spPr>
            <a:xfrm>
              <a:off x="1928880" y="619164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290" h="2527">
                  <a:moveTo>
                    <a:pt x="1953" y="203"/>
                  </a:moveTo>
                  <a:lnTo>
                    <a:pt x="1953" y="641"/>
                  </a:lnTo>
                  <a:lnTo>
                    <a:pt x="1987" y="1112"/>
                  </a:lnTo>
                  <a:lnTo>
                    <a:pt x="2054" y="1583"/>
                  </a:lnTo>
                  <a:lnTo>
                    <a:pt x="2155" y="2021"/>
                  </a:lnTo>
                  <a:lnTo>
                    <a:pt x="2155" y="2055"/>
                  </a:lnTo>
                  <a:lnTo>
                    <a:pt x="2122" y="2055"/>
                  </a:lnTo>
                  <a:lnTo>
                    <a:pt x="1751" y="2088"/>
                  </a:lnTo>
                  <a:lnTo>
                    <a:pt x="1347" y="2156"/>
                  </a:lnTo>
                  <a:lnTo>
                    <a:pt x="910" y="2189"/>
                  </a:lnTo>
                  <a:lnTo>
                    <a:pt x="506" y="2257"/>
                  </a:lnTo>
                  <a:lnTo>
                    <a:pt x="304" y="1348"/>
                  </a:lnTo>
                  <a:lnTo>
                    <a:pt x="135" y="439"/>
                  </a:lnTo>
                  <a:lnTo>
                    <a:pt x="573" y="405"/>
                  </a:lnTo>
                  <a:lnTo>
                    <a:pt x="1044" y="371"/>
                  </a:lnTo>
                  <a:lnTo>
                    <a:pt x="1953" y="203"/>
                  </a:lnTo>
                  <a:close/>
                  <a:moveTo>
                    <a:pt x="1953" y="1"/>
                  </a:moveTo>
                  <a:lnTo>
                    <a:pt x="1011" y="169"/>
                  </a:lnTo>
                  <a:lnTo>
                    <a:pt x="539" y="203"/>
                  </a:lnTo>
                  <a:lnTo>
                    <a:pt x="102" y="304"/>
                  </a:lnTo>
                  <a:lnTo>
                    <a:pt x="68" y="338"/>
                  </a:lnTo>
                  <a:lnTo>
                    <a:pt x="34" y="371"/>
                  </a:lnTo>
                  <a:lnTo>
                    <a:pt x="1" y="371"/>
                  </a:lnTo>
                  <a:lnTo>
                    <a:pt x="1" y="439"/>
                  </a:lnTo>
                  <a:lnTo>
                    <a:pt x="34" y="944"/>
                  </a:lnTo>
                  <a:lnTo>
                    <a:pt x="102" y="1449"/>
                  </a:lnTo>
                  <a:lnTo>
                    <a:pt x="203" y="1987"/>
                  </a:lnTo>
                  <a:lnTo>
                    <a:pt x="371" y="2492"/>
                  </a:lnTo>
                  <a:lnTo>
                    <a:pt x="405" y="2526"/>
                  </a:lnTo>
                  <a:lnTo>
                    <a:pt x="472" y="2526"/>
                  </a:lnTo>
                  <a:lnTo>
                    <a:pt x="539" y="2492"/>
                  </a:lnTo>
                  <a:lnTo>
                    <a:pt x="539" y="2425"/>
                  </a:lnTo>
                  <a:lnTo>
                    <a:pt x="539" y="2358"/>
                  </a:lnTo>
                  <a:lnTo>
                    <a:pt x="943" y="2391"/>
                  </a:lnTo>
                  <a:lnTo>
                    <a:pt x="1347" y="2358"/>
                  </a:lnTo>
                  <a:lnTo>
                    <a:pt x="1785" y="2290"/>
                  </a:lnTo>
                  <a:lnTo>
                    <a:pt x="2155" y="2189"/>
                  </a:lnTo>
                  <a:lnTo>
                    <a:pt x="2189" y="2122"/>
                  </a:lnTo>
                  <a:lnTo>
                    <a:pt x="2189" y="2088"/>
                  </a:lnTo>
                  <a:lnTo>
                    <a:pt x="2256" y="2088"/>
                  </a:lnTo>
                  <a:lnTo>
                    <a:pt x="2290" y="2055"/>
                  </a:lnTo>
                  <a:lnTo>
                    <a:pt x="2290" y="1987"/>
                  </a:lnTo>
                  <a:lnTo>
                    <a:pt x="2256" y="1550"/>
                  </a:lnTo>
                  <a:lnTo>
                    <a:pt x="2189" y="1078"/>
                  </a:lnTo>
                  <a:lnTo>
                    <a:pt x="2122" y="607"/>
                  </a:lnTo>
                  <a:lnTo>
                    <a:pt x="2021" y="169"/>
                  </a:lnTo>
                  <a:lnTo>
                    <a:pt x="2054" y="102"/>
                  </a:lnTo>
                  <a:lnTo>
                    <a:pt x="2021" y="68"/>
                  </a:lnTo>
                  <a:lnTo>
                    <a:pt x="1987" y="35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120" bIns="51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hape 639"/>
            <p:cNvSpPr/>
            <p:nvPr/>
          </p:nvSpPr>
          <p:spPr>
            <a:xfrm>
              <a:off x="2317680" y="5886720"/>
              <a:ext cx="31680" cy="14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73" h="203">
                  <a:moveTo>
                    <a:pt x="405" y="0"/>
                  </a:moveTo>
                  <a:lnTo>
                    <a:pt x="337" y="34"/>
                  </a:lnTo>
                  <a:lnTo>
                    <a:pt x="270" y="34"/>
                  </a:lnTo>
                  <a:lnTo>
                    <a:pt x="102" y="67"/>
                  </a:lnTo>
                  <a:lnTo>
                    <a:pt x="68" y="67"/>
                  </a:lnTo>
                  <a:lnTo>
                    <a:pt x="1" y="101"/>
                  </a:lnTo>
                  <a:lnTo>
                    <a:pt x="1" y="135"/>
                  </a:lnTo>
                  <a:lnTo>
                    <a:pt x="1" y="168"/>
                  </a:lnTo>
                  <a:lnTo>
                    <a:pt x="68" y="168"/>
                  </a:lnTo>
                  <a:lnTo>
                    <a:pt x="169" y="202"/>
                  </a:lnTo>
                  <a:lnTo>
                    <a:pt x="304" y="168"/>
                  </a:lnTo>
                  <a:lnTo>
                    <a:pt x="371" y="168"/>
                  </a:lnTo>
                  <a:lnTo>
                    <a:pt x="438" y="135"/>
                  </a:lnTo>
                  <a:lnTo>
                    <a:pt x="472" y="101"/>
                  </a:lnTo>
                  <a:lnTo>
                    <a:pt x="472" y="6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2600" bIns="-102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hape 640"/>
            <p:cNvSpPr/>
            <p:nvPr/>
          </p:nvSpPr>
          <p:spPr>
            <a:xfrm>
              <a:off x="2251080" y="583128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24" h="2290">
                  <a:moveTo>
                    <a:pt x="1953" y="0"/>
                  </a:moveTo>
                  <a:lnTo>
                    <a:pt x="1953" y="34"/>
                  </a:lnTo>
                  <a:lnTo>
                    <a:pt x="1953" y="101"/>
                  </a:lnTo>
                  <a:lnTo>
                    <a:pt x="1448" y="101"/>
                  </a:lnTo>
                  <a:lnTo>
                    <a:pt x="943" y="169"/>
                  </a:lnTo>
                  <a:lnTo>
                    <a:pt x="472" y="169"/>
                  </a:lnTo>
                  <a:lnTo>
                    <a:pt x="270" y="236"/>
                  </a:lnTo>
                  <a:lnTo>
                    <a:pt x="169" y="270"/>
                  </a:lnTo>
                  <a:lnTo>
                    <a:pt x="102" y="337"/>
                  </a:lnTo>
                  <a:lnTo>
                    <a:pt x="270" y="404"/>
                  </a:lnTo>
                  <a:lnTo>
                    <a:pt x="438" y="404"/>
                  </a:lnTo>
                  <a:lnTo>
                    <a:pt x="809" y="371"/>
                  </a:lnTo>
                  <a:lnTo>
                    <a:pt x="1381" y="303"/>
                  </a:lnTo>
                  <a:lnTo>
                    <a:pt x="1953" y="270"/>
                  </a:lnTo>
                  <a:lnTo>
                    <a:pt x="1953" y="606"/>
                  </a:lnTo>
                  <a:lnTo>
                    <a:pt x="2021" y="909"/>
                  </a:lnTo>
                  <a:lnTo>
                    <a:pt x="2088" y="1347"/>
                  </a:lnTo>
                  <a:lnTo>
                    <a:pt x="2122" y="1583"/>
                  </a:lnTo>
                  <a:lnTo>
                    <a:pt x="2155" y="1785"/>
                  </a:lnTo>
                  <a:lnTo>
                    <a:pt x="1246" y="1919"/>
                  </a:lnTo>
                  <a:lnTo>
                    <a:pt x="809" y="1987"/>
                  </a:lnTo>
                  <a:lnTo>
                    <a:pt x="405" y="2121"/>
                  </a:lnTo>
                  <a:lnTo>
                    <a:pt x="304" y="1684"/>
                  </a:lnTo>
                  <a:lnTo>
                    <a:pt x="236" y="1246"/>
                  </a:lnTo>
                  <a:lnTo>
                    <a:pt x="203" y="775"/>
                  </a:lnTo>
                  <a:lnTo>
                    <a:pt x="169" y="573"/>
                  </a:lnTo>
                  <a:lnTo>
                    <a:pt x="68" y="371"/>
                  </a:lnTo>
                  <a:lnTo>
                    <a:pt x="1" y="505"/>
                  </a:lnTo>
                  <a:lnTo>
                    <a:pt x="1" y="640"/>
                  </a:lnTo>
                  <a:lnTo>
                    <a:pt x="1" y="943"/>
                  </a:lnTo>
                  <a:lnTo>
                    <a:pt x="102" y="1583"/>
                  </a:lnTo>
                  <a:lnTo>
                    <a:pt x="102" y="1751"/>
                  </a:lnTo>
                  <a:lnTo>
                    <a:pt x="135" y="1987"/>
                  </a:lnTo>
                  <a:lnTo>
                    <a:pt x="169" y="2088"/>
                  </a:lnTo>
                  <a:lnTo>
                    <a:pt x="203" y="2189"/>
                  </a:lnTo>
                  <a:lnTo>
                    <a:pt x="270" y="2256"/>
                  </a:lnTo>
                  <a:lnTo>
                    <a:pt x="371" y="2290"/>
                  </a:lnTo>
                  <a:lnTo>
                    <a:pt x="405" y="2256"/>
                  </a:lnTo>
                  <a:lnTo>
                    <a:pt x="405" y="2222"/>
                  </a:lnTo>
                  <a:lnTo>
                    <a:pt x="842" y="2222"/>
                  </a:lnTo>
                  <a:lnTo>
                    <a:pt x="1314" y="2155"/>
                  </a:lnTo>
                  <a:lnTo>
                    <a:pt x="2189" y="1987"/>
                  </a:lnTo>
                  <a:lnTo>
                    <a:pt x="2223" y="1953"/>
                  </a:lnTo>
                  <a:lnTo>
                    <a:pt x="2290" y="1987"/>
                  </a:lnTo>
                  <a:lnTo>
                    <a:pt x="2324" y="1953"/>
                  </a:lnTo>
                  <a:lnTo>
                    <a:pt x="2324" y="1717"/>
                  </a:lnTo>
                  <a:lnTo>
                    <a:pt x="2290" y="1482"/>
                  </a:lnTo>
                  <a:lnTo>
                    <a:pt x="2223" y="1044"/>
                  </a:lnTo>
                  <a:lnTo>
                    <a:pt x="2155" y="539"/>
                  </a:lnTo>
                  <a:lnTo>
                    <a:pt x="2088" y="270"/>
                  </a:lnTo>
                  <a:lnTo>
                    <a:pt x="202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hape 641"/>
            <p:cNvSpPr/>
            <p:nvPr/>
          </p:nvSpPr>
          <p:spPr>
            <a:xfrm>
              <a:off x="2313000" y="5896080"/>
              <a:ext cx="36360" cy="42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0" h="641">
                  <a:moveTo>
                    <a:pt x="0" y="1"/>
                  </a:moveTo>
                  <a:lnTo>
                    <a:pt x="0" y="270"/>
                  </a:lnTo>
                  <a:lnTo>
                    <a:pt x="34" y="506"/>
                  </a:lnTo>
                  <a:lnTo>
                    <a:pt x="34" y="539"/>
                  </a:lnTo>
                  <a:lnTo>
                    <a:pt x="68" y="539"/>
                  </a:lnTo>
                  <a:lnTo>
                    <a:pt x="34" y="573"/>
                  </a:lnTo>
                  <a:lnTo>
                    <a:pt x="34" y="607"/>
                  </a:lnTo>
                  <a:lnTo>
                    <a:pt x="169" y="640"/>
                  </a:lnTo>
                  <a:lnTo>
                    <a:pt x="303" y="607"/>
                  </a:lnTo>
                  <a:lnTo>
                    <a:pt x="438" y="573"/>
                  </a:lnTo>
                  <a:lnTo>
                    <a:pt x="505" y="539"/>
                  </a:lnTo>
                  <a:lnTo>
                    <a:pt x="539" y="506"/>
                  </a:lnTo>
                  <a:lnTo>
                    <a:pt x="539" y="472"/>
                  </a:lnTo>
                  <a:lnTo>
                    <a:pt x="539" y="438"/>
                  </a:lnTo>
                  <a:lnTo>
                    <a:pt x="404" y="438"/>
                  </a:lnTo>
                  <a:lnTo>
                    <a:pt x="303" y="472"/>
                  </a:lnTo>
                  <a:lnTo>
                    <a:pt x="135" y="539"/>
                  </a:lnTo>
                  <a:lnTo>
                    <a:pt x="169" y="506"/>
                  </a:lnTo>
                  <a:lnTo>
                    <a:pt x="135" y="304"/>
                  </a:lnTo>
                  <a:lnTo>
                    <a:pt x="337" y="304"/>
                  </a:lnTo>
                  <a:lnTo>
                    <a:pt x="371" y="270"/>
                  </a:lnTo>
                  <a:lnTo>
                    <a:pt x="404" y="236"/>
                  </a:lnTo>
                  <a:lnTo>
                    <a:pt x="404" y="169"/>
                  </a:lnTo>
                  <a:lnTo>
                    <a:pt x="371" y="135"/>
                  </a:lnTo>
                  <a:lnTo>
                    <a:pt x="303" y="135"/>
                  </a:lnTo>
                  <a:lnTo>
                    <a:pt x="202" y="169"/>
                  </a:lnTo>
                  <a:lnTo>
                    <a:pt x="169" y="169"/>
                  </a:lnTo>
                  <a:lnTo>
                    <a:pt x="101" y="203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hape 642"/>
            <p:cNvSpPr/>
            <p:nvPr/>
          </p:nvSpPr>
          <p:spPr>
            <a:xfrm>
              <a:off x="2066760" y="6334560"/>
              <a:ext cx="156960" cy="1695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358" h="2560">
                  <a:moveTo>
                    <a:pt x="1886" y="203"/>
                  </a:moveTo>
                  <a:lnTo>
                    <a:pt x="1954" y="573"/>
                  </a:lnTo>
                  <a:lnTo>
                    <a:pt x="2021" y="943"/>
                  </a:lnTo>
                  <a:lnTo>
                    <a:pt x="2088" y="1549"/>
                  </a:lnTo>
                  <a:lnTo>
                    <a:pt x="2189" y="2155"/>
                  </a:lnTo>
                  <a:lnTo>
                    <a:pt x="1987" y="2155"/>
                  </a:lnTo>
                  <a:lnTo>
                    <a:pt x="1819" y="2189"/>
                  </a:lnTo>
                  <a:lnTo>
                    <a:pt x="1449" y="2223"/>
                  </a:lnTo>
                  <a:lnTo>
                    <a:pt x="977" y="2290"/>
                  </a:lnTo>
                  <a:lnTo>
                    <a:pt x="742" y="2357"/>
                  </a:lnTo>
                  <a:lnTo>
                    <a:pt x="540" y="2425"/>
                  </a:lnTo>
                  <a:lnTo>
                    <a:pt x="405" y="1785"/>
                  </a:lnTo>
                  <a:lnTo>
                    <a:pt x="270" y="1179"/>
                  </a:lnTo>
                  <a:lnTo>
                    <a:pt x="203" y="809"/>
                  </a:lnTo>
                  <a:lnTo>
                    <a:pt x="102" y="438"/>
                  </a:lnTo>
                  <a:lnTo>
                    <a:pt x="1011" y="337"/>
                  </a:lnTo>
                  <a:lnTo>
                    <a:pt x="1886" y="203"/>
                  </a:lnTo>
                  <a:close/>
                  <a:moveTo>
                    <a:pt x="1886" y="1"/>
                  </a:moveTo>
                  <a:lnTo>
                    <a:pt x="977" y="135"/>
                  </a:lnTo>
                  <a:lnTo>
                    <a:pt x="68" y="270"/>
                  </a:lnTo>
                  <a:lnTo>
                    <a:pt x="1" y="304"/>
                  </a:lnTo>
                  <a:lnTo>
                    <a:pt x="1" y="371"/>
                  </a:lnTo>
                  <a:lnTo>
                    <a:pt x="1" y="573"/>
                  </a:lnTo>
                  <a:lnTo>
                    <a:pt x="1" y="775"/>
                  </a:lnTo>
                  <a:lnTo>
                    <a:pt x="68" y="1213"/>
                  </a:lnTo>
                  <a:lnTo>
                    <a:pt x="203" y="1886"/>
                  </a:lnTo>
                  <a:lnTo>
                    <a:pt x="304" y="2223"/>
                  </a:lnTo>
                  <a:lnTo>
                    <a:pt x="405" y="2526"/>
                  </a:lnTo>
                  <a:lnTo>
                    <a:pt x="439" y="2559"/>
                  </a:lnTo>
                  <a:lnTo>
                    <a:pt x="506" y="2526"/>
                  </a:lnTo>
                  <a:lnTo>
                    <a:pt x="506" y="2559"/>
                  </a:lnTo>
                  <a:lnTo>
                    <a:pt x="742" y="2559"/>
                  </a:lnTo>
                  <a:lnTo>
                    <a:pt x="944" y="2526"/>
                  </a:lnTo>
                  <a:lnTo>
                    <a:pt x="1348" y="2458"/>
                  </a:lnTo>
                  <a:lnTo>
                    <a:pt x="1785" y="2391"/>
                  </a:lnTo>
                  <a:lnTo>
                    <a:pt x="2021" y="2357"/>
                  </a:lnTo>
                  <a:lnTo>
                    <a:pt x="2223" y="2324"/>
                  </a:lnTo>
                  <a:lnTo>
                    <a:pt x="2290" y="2324"/>
                  </a:lnTo>
                  <a:lnTo>
                    <a:pt x="2324" y="2290"/>
                  </a:lnTo>
                  <a:lnTo>
                    <a:pt x="2358" y="2256"/>
                  </a:lnTo>
                  <a:lnTo>
                    <a:pt x="2358" y="1987"/>
                  </a:lnTo>
                  <a:lnTo>
                    <a:pt x="2324" y="1650"/>
                  </a:lnTo>
                  <a:lnTo>
                    <a:pt x="2223" y="1044"/>
                  </a:lnTo>
                  <a:lnTo>
                    <a:pt x="2122" y="539"/>
                  </a:lnTo>
                  <a:lnTo>
                    <a:pt x="2088" y="304"/>
                  </a:lnTo>
                  <a:lnTo>
                    <a:pt x="1987" y="34"/>
                  </a:lnTo>
                  <a:lnTo>
                    <a:pt x="1954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2920" bIns="52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hape 643"/>
            <p:cNvSpPr/>
            <p:nvPr/>
          </p:nvSpPr>
          <p:spPr>
            <a:xfrm>
              <a:off x="3530520" y="5951880"/>
              <a:ext cx="150480" cy="168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291" h="2526">
                  <a:moveTo>
                    <a:pt x="1954" y="202"/>
                  </a:moveTo>
                  <a:lnTo>
                    <a:pt x="1954" y="640"/>
                  </a:lnTo>
                  <a:lnTo>
                    <a:pt x="1987" y="1111"/>
                  </a:lnTo>
                  <a:lnTo>
                    <a:pt x="2055" y="1583"/>
                  </a:lnTo>
                  <a:lnTo>
                    <a:pt x="2156" y="2021"/>
                  </a:lnTo>
                  <a:lnTo>
                    <a:pt x="2156" y="2054"/>
                  </a:lnTo>
                  <a:lnTo>
                    <a:pt x="1752" y="2088"/>
                  </a:lnTo>
                  <a:lnTo>
                    <a:pt x="1348" y="2155"/>
                  </a:lnTo>
                  <a:lnTo>
                    <a:pt x="910" y="2189"/>
                  </a:lnTo>
                  <a:lnTo>
                    <a:pt x="506" y="2223"/>
                  </a:lnTo>
                  <a:lnTo>
                    <a:pt x="304" y="1347"/>
                  </a:lnTo>
                  <a:lnTo>
                    <a:pt x="136" y="404"/>
                  </a:lnTo>
                  <a:lnTo>
                    <a:pt x="607" y="404"/>
                  </a:lnTo>
                  <a:lnTo>
                    <a:pt x="1045" y="371"/>
                  </a:lnTo>
                  <a:lnTo>
                    <a:pt x="1954" y="202"/>
                  </a:lnTo>
                  <a:close/>
                  <a:moveTo>
                    <a:pt x="1954" y="0"/>
                  </a:moveTo>
                  <a:lnTo>
                    <a:pt x="1011" y="135"/>
                  </a:lnTo>
                  <a:lnTo>
                    <a:pt x="573" y="202"/>
                  </a:lnTo>
                  <a:lnTo>
                    <a:pt x="102" y="303"/>
                  </a:lnTo>
                  <a:lnTo>
                    <a:pt x="68" y="303"/>
                  </a:lnTo>
                  <a:lnTo>
                    <a:pt x="35" y="371"/>
                  </a:lnTo>
                  <a:lnTo>
                    <a:pt x="1" y="371"/>
                  </a:lnTo>
                  <a:lnTo>
                    <a:pt x="1" y="404"/>
                  </a:lnTo>
                  <a:lnTo>
                    <a:pt x="35" y="943"/>
                  </a:lnTo>
                  <a:lnTo>
                    <a:pt x="102" y="1448"/>
                  </a:lnTo>
                  <a:lnTo>
                    <a:pt x="237" y="1987"/>
                  </a:lnTo>
                  <a:lnTo>
                    <a:pt x="371" y="2458"/>
                  </a:lnTo>
                  <a:lnTo>
                    <a:pt x="405" y="2526"/>
                  </a:lnTo>
                  <a:lnTo>
                    <a:pt x="472" y="2526"/>
                  </a:lnTo>
                  <a:lnTo>
                    <a:pt x="540" y="2492"/>
                  </a:lnTo>
                  <a:lnTo>
                    <a:pt x="540" y="2425"/>
                  </a:lnTo>
                  <a:lnTo>
                    <a:pt x="540" y="2357"/>
                  </a:lnTo>
                  <a:lnTo>
                    <a:pt x="944" y="2391"/>
                  </a:lnTo>
                  <a:lnTo>
                    <a:pt x="1381" y="2357"/>
                  </a:lnTo>
                  <a:lnTo>
                    <a:pt x="1785" y="2290"/>
                  </a:lnTo>
                  <a:lnTo>
                    <a:pt x="2156" y="2189"/>
                  </a:lnTo>
                  <a:lnTo>
                    <a:pt x="2189" y="2122"/>
                  </a:lnTo>
                  <a:lnTo>
                    <a:pt x="2189" y="2088"/>
                  </a:lnTo>
                  <a:lnTo>
                    <a:pt x="2257" y="2054"/>
                  </a:lnTo>
                  <a:lnTo>
                    <a:pt x="2290" y="2054"/>
                  </a:lnTo>
                  <a:lnTo>
                    <a:pt x="2290" y="1987"/>
                  </a:lnTo>
                  <a:lnTo>
                    <a:pt x="2257" y="1549"/>
                  </a:lnTo>
                  <a:lnTo>
                    <a:pt x="2189" y="1078"/>
                  </a:lnTo>
                  <a:lnTo>
                    <a:pt x="2122" y="606"/>
                  </a:lnTo>
                  <a:lnTo>
                    <a:pt x="2021" y="169"/>
                  </a:lnTo>
                  <a:lnTo>
                    <a:pt x="2055" y="101"/>
                  </a:lnTo>
                  <a:lnTo>
                    <a:pt x="2055" y="68"/>
                  </a:lnTo>
                  <a:lnTo>
                    <a:pt x="2021" y="34"/>
                  </a:lnTo>
                  <a:lnTo>
                    <a:pt x="1954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hape 644"/>
            <p:cNvSpPr/>
            <p:nvPr/>
          </p:nvSpPr>
          <p:spPr>
            <a:xfrm>
              <a:off x="3424320" y="6126480"/>
              <a:ext cx="161640" cy="185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425" h="2795">
                  <a:moveTo>
                    <a:pt x="2021" y="1"/>
                  </a:moveTo>
                  <a:lnTo>
                    <a:pt x="2021" y="68"/>
                  </a:lnTo>
                  <a:lnTo>
                    <a:pt x="1751" y="102"/>
                  </a:lnTo>
                  <a:lnTo>
                    <a:pt x="1516" y="135"/>
                  </a:lnTo>
                  <a:lnTo>
                    <a:pt x="1010" y="270"/>
                  </a:lnTo>
                  <a:lnTo>
                    <a:pt x="775" y="304"/>
                  </a:lnTo>
                  <a:lnTo>
                    <a:pt x="236" y="304"/>
                  </a:lnTo>
                  <a:lnTo>
                    <a:pt x="135" y="337"/>
                  </a:lnTo>
                  <a:lnTo>
                    <a:pt x="34" y="405"/>
                  </a:lnTo>
                  <a:lnTo>
                    <a:pt x="0" y="472"/>
                  </a:lnTo>
                  <a:lnTo>
                    <a:pt x="34" y="506"/>
                  </a:lnTo>
                  <a:lnTo>
                    <a:pt x="909" y="506"/>
                  </a:lnTo>
                  <a:lnTo>
                    <a:pt x="1179" y="472"/>
                  </a:lnTo>
                  <a:lnTo>
                    <a:pt x="1448" y="371"/>
                  </a:lnTo>
                  <a:lnTo>
                    <a:pt x="1718" y="304"/>
                  </a:lnTo>
                  <a:lnTo>
                    <a:pt x="2021" y="270"/>
                  </a:lnTo>
                  <a:lnTo>
                    <a:pt x="2054" y="708"/>
                  </a:lnTo>
                  <a:lnTo>
                    <a:pt x="2122" y="1112"/>
                  </a:lnTo>
                  <a:lnTo>
                    <a:pt x="2189" y="1684"/>
                  </a:lnTo>
                  <a:lnTo>
                    <a:pt x="2223" y="1987"/>
                  </a:lnTo>
                  <a:lnTo>
                    <a:pt x="2290" y="2256"/>
                  </a:lnTo>
                  <a:lnTo>
                    <a:pt x="2256" y="2223"/>
                  </a:lnTo>
                  <a:lnTo>
                    <a:pt x="1718" y="2357"/>
                  </a:lnTo>
                  <a:lnTo>
                    <a:pt x="1179" y="2492"/>
                  </a:lnTo>
                  <a:lnTo>
                    <a:pt x="741" y="2593"/>
                  </a:lnTo>
                  <a:lnTo>
                    <a:pt x="539" y="2660"/>
                  </a:lnTo>
                  <a:lnTo>
                    <a:pt x="337" y="2761"/>
                  </a:lnTo>
                  <a:lnTo>
                    <a:pt x="573" y="2795"/>
                  </a:lnTo>
                  <a:lnTo>
                    <a:pt x="775" y="2761"/>
                  </a:lnTo>
                  <a:lnTo>
                    <a:pt x="1212" y="2627"/>
                  </a:lnTo>
                  <a:lnTo>
                    <a:pt x="1718" y="2526"/>
                  </a:lnTo>
                  <a:lnTo>
                    <a:pt x="2256" y="2391"/>
                  </a:lnTo>
                  <a:lnTo>
                    <a:pt x="2324" y="2391"/>
                  </a:lnTo>
                  <a:lnTo>
                    <a:pt x="2324" y="2357"/>
                  </a:lnTo>
                  <a:lnTo>
                    <a:pt x="2391" y="2391"/>
                  </a:lnTo>
                  <a:lnTo>
                    <a:pt x="2425" y="2357"/>
                  </a:lnTo>
                  <a:lnTo>
                    <a:pt x="2425" y="2088"/>
                  </a:lnTo>
                  <a:lnTo>
                    <a:pt x="2391" y="1819"/>
                  </a:lnTo>
                  <a:lnTo>
                    <a:pt x="2324" y="1280"/>
                  </a:lnTo>
                  <a:lnTo>
                    <a:pt x="2256" y="674"/>
                  </a:lnTo>
                  <a:lnTo>
                    <a:pt x="2189" y="371"/>
                  </a:lnTo>
                  <a:lnTo>
                    <a:pt x="2122" y="68"/>
                  </a:lnTo>
                  <a:lnTo>
                    <a:pt x="2122" y="34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8760" bIns="68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hape 645"/>
            <p:cNvSpPr/>
            <p:nvPr/>
          </p:nvSpPr>
          <p:spPr>
            <a:xfrm>
              <a:off x="2311200" y="6201000"/>
              <a:ext cx="42840" cy="457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1" h="708">
                  <a:moveTo>
                    <a:pt x="506" y="1"/>
                  </a:moveTo>
                  <a:lnTo>
                    <a:pt x="371" y="135"/>
                  </a:lnTo>
                  <a:lnTo>
                    <a:pt x="270" y="236"/>
                  </a:lnTo>
                  <a:lnTo>
                    <a:pt x="102" y="169"/>
                  </a:lnTo>
                  <a:lnTo>
                    <a:pt x="34" y="169"/>
                  </a:lnTo>
                  <a:lnTo>
                    <a:pt x="34" y="203"/>
                  </a:lnTo>
                  <a:lnTo>
                    <a:pt x="1" y="236"/>
                  </a:lnTo>
                  <a:lnTo>
                    <a:pt x="34" y="270"/>
                  </a:lnTo>
                  <a:lnTo>
                    <a:pt x="169" y="371"/>
                  </a:lnTo>
                  <a:lnTo>
                    <a:pt x="102" y="472"/>
                  </a:lnTo>
                  <a:lnTo>
                    <a:pt x="34" y="573"/>
                  </a:lnTo>
                  <a:lnTo>
                    <a:pt x="1" y="674"/>
                  </a:lnTo>
                  <a:lnTo>
                    <a:pt x="34" y="708"/>
                  </a:lnTo>
                  <a:lnTo>
                    <a:pt x="102" y="708"/>
                  </a:lnTo>
                  <a:lnTo>
                    <a:pt x="169" y="674"/>
                  </a:lnTo>
                  <a:lnTo>
                    <a:pt x="236" y="607"/>
                  </a:lnTo>
                  <a:lnTo>
                    <a:pt x="337" y="438"/>
                  </a:lnTo>
                  <a:lnTo>
                    <a:pt x="539" y="506"/>
                  </a:lnTo>
                  <a:lnTo>
                    <a:pt x="607" y="472"/>
                  </a:lnTo>
                  <a:lnTo>
                    <a:pt x="640" y="438"/>
                  </a:lnTo>
                  <a:lnTo>
                    <a:pt x="607" y="371"/>
                  </a:lnTo>
                  <a:lnTo>
                    <a:pt x="573" y="337"/>
                  </a:lnTo>
                  <a:lnTo>
                    <a:pt x="438" y="304"/>
                  </a:lnTo>
                  <a:lnTo>
                    <a:pt x="472" y="236"/>
                  </a:lnTo>
                  <a:lnTo>
                    <a:pt x="539" y="34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hape 646"/>
            <p:cNvSpPr/>
            <p:nvPr/>
          </p:nvSpPr>
          <p:spPr>
            <a:xfrm>
              <a:off x="3227400" y="6151680"/>
              <a:ext cx="195120" cy="17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930" h="2695">
                  <a:moveTo>
                    <a:pt x="2526" y="1"/>
                  </a:moveTo>
                  <a:lnTo>
                    <a:pt x="2492" y="35"/>
                  </a:lnTo>
                  <a:lnTo>
                    <a:pt x="2492" y="304"/>
                  </a:lnTo>
                  <a:lnTo>
                    <a:pt x="2526" y="573"/>
                  </a:lnTo>
                  <a:lnTo>
                    <a:pt x="2627" y="1078"/>
                  </a:lnTo>
                  <a:lnTo>
                    <a:pt x="2694" y="1684"/>
                  </a:lnTo>
                  <a:lnTo>
                    <a:pt x="2795" y="2257"/>
                  </a:lnTo>
                  <a:lnTo>
                    <a:pt x="2189" y="2324"/>
                  </a:lnTo>
                  <a:lnTo>
                    <a:pt x="1617" y="2391"/>
                  </a:lnTo>
                  <a:lnTo>
                    <a:pt x="1044" y="2492"/>
                  </a:lnTo>
                  <a:lnTo>
                    <a:pt x="775" y="2560"/>
                  </a:lnTo>
                  <a:lnTo>
                    <a:pt x="607" y="2560"/>
                  </a:lnTo>
                  <a:lnTo>
                    <a:pt x="438" y="2593"/>
                  </a:lnTo>
                  <a:lnTo>
                    <a:pt x="438" y="2290"/>
                  </a:lnTo>
                  <a:lnTo>
                    <a:pt x="405" y="1987"/>
                  </a:lnTo>
                  <a:lnTo>
                    <a:pt x="304" y="1415"/>
                  </a:lnTo>
                  <a:lnTo>
                    <a:pt x="236" y="876"/>
                  </a:lnTo>
                  <a:lnTo>
                    <a:pt x="169" y="641"/>
                  </a:lnTo>
                  <a:lnTo>
                    <a:pt x="34" y="405"/>
                  </a:lnTo>
                  <a:lnTo>
                    <a:pt x="1" y="641"/>
                  </a:lnTo>
                  <a:lnTo>
                    <a:pt x="1" y="910"/>
                  </a:lnTo>
                  <a:lnTo>
                    <a:pt x="102" y="1449"/>
                  </a:lnTo>
                  <a:lnTo>
                    <a:pt x="203" y="2055"/>
                  </a:lnTo>
                  <a:lnTo>
                    <a:pt x="270" y="2358"/>
                  </a:lnTo>
                  <a:lnTo>
                    <a:pt x="371" y="2661"/>
                  </a:lnTo>
                  <a:lnTo>
                    <a:pt x="405" y="2694"/>
                  </a:lnTo>
                  <a:lnTo>
                    <a:pt x="438" y="2694"/>
                  </a:lnTo>
                  <a:lnTo>
                    <a:pt x="573" y="2627"/>
                  </a:lnTo>
                  <a:lnTo>
                    <a:pt x="640" y="2661"/>
                  </a:lnTo>
                  <a:lnTo>
                    <a:pt x="708" y="2694"/>
                  </a:lnTo>
                  <a:lnTo>
                    <a:pt x="910" y="2694"/>
                  </a:lnTo>
                  <a:lnTo>
                    <a:pt x="1314" y="2593"/>
                  </a:lnTo>
                  <a:lnTo>
                    <a:pt x="2088" y="2492"/>
                  </a:lnTo>
                  <a:lnTo>
                    <a:pt x="2829" y="2391"/>
                  </a:lnTo>
                  <a:lnTo>
                    <a:pt x="2862" y="2358"/>
                  </a:lnTo>
                  <a:lnTo>
                    <a:pt x="2896" y="2324"/>
                  </a:lnTo>
                  <a:lnTo>
                    <a:pt x="2930" y="2290"/>
                  </a:lnTo>
                  <a:lnTo>
                    <a:pt x="2930" y="2021"/>
                  </a:lnTo>
                  <a:lnTo>
                    <a:pt x="2896" y="1752"/>
                  </a:lnTo>
                  <a:lnTo>
                    <a:pt x="2829" y="1247"/>
                  </a:lnTo>
                  <a:lnTo>
                    <a:pt x="2761" y="607"/>
                  </a:lnTo>
                  <a:lnTo>
                    <a:pt x="2660" y="304"/>
                  </a:lnTo>
                  <a:lnTo>
                    <a:pt x="2559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hape 647"/>
            <p:cNvSpPr/>
            <p:nvPr/>
          </p:nvSpPr>
          <p:spPr>
            <a:xfrm>
              <a:off x="2428920" y="6191640"/>
              <a:ext cx="798480" cy="26964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2020" h="4075">
                  <a:moveTo>
                    <a:pt x="11481" y="304"/>
                  </a:moveTo>
                  <a:lnTo>
                    <a:pt x="11515" y="573"/>
                  </a:lnTo>
                  <a:lnTo>
                    <a:pt x="11582" y="876"/>
                  </a:lnTo>
                  <a:lnTo>
                    <a:pt x="11784" y="2223"/>
                  </a:lnTo>
                  <a:lnTo>
                    <a:pt x="11717" y="2223"/>
                  </a:lnTo>
                  <a:lnTo>
                    <a:pt x="11414" y="2189"/>
                  </a:lnTo>
                  <a:lnTo>
                    <a:pt x="11111" y="2189"/>
                  </a:lnTo>
                  <a:lnTo>
                    <a:pt x="10505" y="2257"/>
                  </a:lnTo>
                  <a:lnTo>
                    <a:pt x="9899" y="2391"/>
                  </a:lnTo>
                  <a:lnTo>
                    <a:pt x="9293" y="2526"/>
                  </a:lnTo>
                  <a:lnTo>
                    <a:pt x="8586" y="2694"/>
                  </a:lnTo>
                  <a:lnTo>
                    <a:pt x="7845" y="2829"/>
                  </a:lnTo>
                  <a:lnTo>
                    <a:pt x="6397" y="3065"/>
                  </a:lnTo>
                  <a:lnTo>
                    <a:pt x="4949" y="3233"/>
                  </a:lnTo>
                  <a:lnTo>
                    <a:pt x="3502" y="3401"/>
                  </a:lnTo>
                  <a:lnTo>
                    <a:pt x="2054" y="3603"/>
                  </a:lnTo>
                  <a:lnTo>
                    <a:pt x="1313" y="3738"/>
                  </a:lnTo>
                  <a:lnTo>
                    <a:pt x="606" y="3873"/>
                  </a:lnTo>
                  <a:lnTo>
                    <a:pt x="573" y="3570"/>
                  </a:lnTo>
                  <a:lnTo>
                    <a:pt x="505" y="3300"/>
                  </a:lnTo>
                  <a:lnTo>
                    <a:pt x="371" y="2728"/>
                  </a:lnTo>
                  <a:lnTo>
                    <a:pt x="236" y="2223"/>
                  </a:lnTo>
                  <a:lnTo>
                    <a:pt x="67" y="1718"/>
                  </a:lnTo>
                  <a:lnTo>
                    <a:pt x="1515" y="1583"/>
                  </a:lnTo>
                  <a:lnTo>
                    <a:pt x="2963" y="1415"/>
                  </a:lnTo>
                  <a:lnTo>
                    <a:pt x="5858" y="1011"/>
                  </a:lnTo>
                  <a:lnTo>
                    <a:pt x="11481" y="304"/>
                  </a:lnTo>
                  <a:close/>
                  <a:moveTo>
                    <a:pt x="11548" y="1"/>
                  </a:moveTo>
                  <a:lnTo>
                    <a:pt x="11515" y="68"/>
                  </a:lnTo>
                  <a:lnTo>
                    <a:pt x="5825" y="809"/>
                  </a:lnTo>
                  <a:lnTo>
                    <a:pt x="2929" y="1146"/>
                  </a:lnTo>
                  <a:lnTo>
                    <a:pt x="1482" y="1348"/>
                  </a:lnTo>
                  <a:lnTo>
                    <a:pt x="67" y="1583"/>
                  </a:lnTo>
                  <a:lnTo>
                    <a:pt x="0" y="1583"/>
                  </a:lnTo>
                  <a:lnTo>
                    <a:pt x="0" y="1617"/>
                  </a:lnTo>
                  <a:lnTo>
                    <a:pt x="0" y="1684"/>
                  </a:lnTo>
                  <a:lnTo>
                    <a:pt x="34" y="1954"/>
                  </a:lnTo>
                  <a:lnTo>
                    <a:pt x="67" y="2223"/>
                  </a:lnTo>
                  <a:lnTo>
                    <a:pt x="169" y="2762"/>
                  </a:lnTo>
                  <a:lnTo>
                    <a:pt x="303" y="3401"/>
                  </a:lnTo>
                  <a:lnTo>
                    <a:pt x="371" y="3738"/>
                  </a:lnTo>
                  <a:lnTo>
                    <a:pt x="472" y="4041"/>
                  </a:lnTo>
                  <a:lnTo>
                    <a:pt x="505" y="4075"/>
                  </a:lnTo>
                  <a:lnTo>
                    <a:pt x="573" y="4075"/>
                  </a:lnTo>
                  <a:lnTo>
                    <a:pt x="606" y="4041"/>
                  </a:lnTo>
                  <a:lnTo>
                    <a:pt x="606" y="4007"/>
                  </a:lnTo>
                  <a:lnTo>
                    <a:pt x="2020" y="3873"/>
                  </a:lnTo>
                  <a:lnTo>
                    <a:pt x="3434" y="3671"/>
                  </a:lnTo>
                  <a:lnTo>
                    <a:pt x="6229" y="3267"/>
                  </a:lnTo>
                  <a:lnTo>
                    <a:pt x="7575" y="3065"/>
                  </a:lnTo>
                  <a:lnTo>
                    <a:pt x="8249" y="2964"/>
                  </a:lnTo>
                  <a:lnTo>
                    <a:pt x="8922" y="2829"/>
                  </a:lnTo>
                  <a:lnTo>
                    <a:pt x="9629" y="2661"/>
                  </a:lnTo>
                  <a:lnTo>
                    <a:pt x="10303" y="2526"/>
                  </a:lnTo>
                  <a:lnTo>
                    <a:pt x="10639" y="2459"/>
                  </a:lnTo>
                  <a:lnTo>
                    <a:pt x="11010" y="2425"/>
                  </a:lnTo>
                  <a:lnTo>
                    <a:pt x="11750" y="2425"/>
                  </a:lnTo>
                  <a:lnTo>
                    <a:pt x="11784" y="2391"/>
                  </a:lnTo>
                  <a:lnTo>
                    <a:pt x="11818" y="2324"/>
                  </a:lnTo>
                  <a:lnTo>
                    <a:pt x="11952" y="2324"/>
                  </a:lnTo>
                  <a:lnTo>
                    <a:pt x="11986" y="2257"/>
                  </a:lnTo>
                  <a:lnTo>
                    <a:pt x="12020" y="2189"/>
                  </a:lnTo>
                  <a:lnTo>
                    <a:pt x="11818" y="1011"/>
                  </a:lnTo>
                  <a:lnTo>
                    <a:pt x="11784" y="641"/>
                  </a:lnTo>
                  <a:lnTo>
                    <a:pt x="11750" y="439"/>
                  </a:lnTo>
                  <a:lnTo>
                    <a:pt x="11683" y="270"/>
                  </a:lnTo>
                  <a:lnTo>
                    <a:pt x="11750" y="203"/>
                  </a:lnTo>
                  <a:lnTo>
                    <a:pt x="11750" y="136"/>
                  </a:lnTo>
                  <a:lnTo>
                    <a:pt x="11717" y="68"/>
                  </a:lnTo>
                  <a:lnTo>
                    <a:pt x="11616" y="68"/>
                  </a:lnTo>
                  <a:lnTo>
                    <a:pt x="1154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hape 648"/>
            <p:cNvSpPr/>
            <p:nvPr/>
          </p:nvSpPr>
          <p:spPr>
            <a:xfrm>
              <a:off x="2225520" y="6302520"/>
              <a:ext cx="212400" cy="1854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199" h="2795">
                  <a:moveTo>
                    <a:pt x="2795" y="0"/>
                  </a:moveTo>
                  <a:lnTo>
                    <a:pt x="2761" y="34"/>
                  </a:lnTo>
                  <a:lnTo>
                    <a:pt x="2761" y="135"/>
                  </a:lnTo>
                  <a:lnTo>
                    <a:pt x="2727" y="101"/>
                  </a:lnTo>
                  <a:lnTo>
                    <a:pt x="2424" y="68"/>
                  </a:lnTo>
                  <a:lnTo>
                    <a:pt x="2121" y="34"/>
                  </a:lnTo>
                  <a:lnTo>
                    <a:pt x="1785" y="34"/>
                  </a:lnTo>
                  <a:lnTo>
                    <a:pt x="1448" y="68"/>
                  </a:lnTo>
                  <a:lnTo>
                    <a:pt x="1111" y="101"/>
                  </a:lnTo>
                  <a:lnTo>
                    <a:pt x="808" y="169"/>
                  </a:lnTo>
                  <a:lnTo>
                    <a:pt x="202" y="371"/>
                  </a:lnTo>
                  <a:lnTo>
                    <a:pt x="101" y="303"/>
                  </a:lnTo>
                  <a:lnTo>
                    <a:pt x="68" y="337"/>
                  </a:lnTo>
                  <a:lnTo>
                    <a:pt x="34" y="371"/>
                  </a:lnTo>
                  <a:lnTo>
                    <a:pt x="0" y="438"/>
                  </a:lnTo>
                  <a:lnTo>
                    <a:pt x="34" y="472"/>
                  </a:lnTo>
                  <a:lnTo>
                    <a:pt x="101" y="472"/>
                  </a:lnTo>
                  <a:lnTo>
                    <a:pt x="135" y="943"/>
                  </a:lnTo>
                  <a:lnTo>
                    <a:pt x="236" y="1684"/>
                  </a:lnTo>
                  <a:lnTo>
                    <a:pt x="404" y="2694"/>
                  </a:lnTo>
                  <a:lnTo>
                    <a:pt x="438" y="2761"/>
                  </a:lnTo>
                  <a:lnTo>
                    <a:pt x="505" y="2795"/>
                  </a:lnTo>
                  <a:lnTo>
                    <a:pt x="573" y="2761"/>
                  </a:lnTo>
                  <a:lnTo>
                    <a:pt x="573" y="2694"/>
                  </a:lnTo>
                  <a:lnTo>
                    <a:pt x="438" y="1852"/>
                  </a:lnTo>
                  <a:lnTo>
                    <a:pt x="303" y="1010"/>
                  </a:lnTo>
                  <a:lnTo>
                    <a:pt x="303" y="775"/>
                  </a:lnTo>
                  <a:lnTo>
                    <a:pt x="270" y="539"/>
                  </a:lnTo>
                  <a:lnTo>
                    <a:pt x="842" y="371"/>
                  </a:lnTo>
                  <a:lnTo>
                    <a:pt x="1448" y="270"/>
                  </a:lnTo>
                  <a:lnTo>
                    <a:pt x="2391" y="270"/>
                  </a:lnTo>
                  <a:lnTo>
                    <a:pt x="2694" y="236"/>
                  </a:lnTo>
                  <a:lnTo>
                    <a:pt x="2727" y="236"/>
                  </a:lnTo>
                  <a:lnTo>
                    <a:pt x="2727" y="438"/>
                  </a:lnTo>
                  <a:lnTo>
                    <a:pt x="2761" y="606"/>
                  </a:lnTo>
                  <a:lnTo>
                    <a:pt x="2795" y="1010"/>
                  </a:lnTo>
                  <a:lnTo>
                    <a:pt x="2862" y="1684"/>
                  </a:lnTo>
                  <a:lnTo>
                    <a:pt x="2929" y="2020"/>
                  </a:lnTo>
                  <a:lnTo>
                    <a:pt x="3030" y="2323"/>
                  </a:lnTo>
                  <a:lnTo>
                    <a:pt x="2323" y="2323"/>
                  </a:lnTo>
                  <a:lnTo>
                    <a:pt x="1583" y="2391"/>
                  </a:lnTo>
                  <a:lnTo>
                    <a:pt x="1347" y="2424"/>
                  </a:lnTo>
                  <a:lnTo>
                    <a:pt x="1044" y="2458"/>
                  </a:lnTo>
                  <a:lnTo>
                    <a:pt x="808" y="2525"/>
                  </a:lnTo>
                  <a:lnTo>
                    <a:pt x="674" y="2593"/>
                  </a:lnTo>
                  <a:lnTo>
                    <a:pt x="606" y="2694"/>
                  </a:lnTo>
                  <a:lnTo>
                    <a:pt x="876" y="2694"/>
                  </a:lnTo>
                  <a:lnTo>
                    <a:pt x="1179" y="2660"/>
                  </a:lnTo>
                  <a:lnTo>
                    <a:pt x="1515" y="2626"/>
                  </a:lnTo>
                  <a:lnTo>
                    <a:pt x="1818" y="2593"/>
                  </a:lnTo>
                  <a:lnTo>
                    <a:pt x="2458" y="2559"/>
                  </a:lnTo>
                  <a:lnTo>
                    <a:pt x="2795" y="2525"/>
                  </a:lnTo>
                  <a:lnTo>
                    <a:pt x="3131" y="2458"/>
                  </a:lnTo>
                  <a:lnTo>
                    <a:pt x="3165" y="2424"/>
                  </a:lnTo>
                  <a:lnTo>
                    <a:pt x="3199" y="2391"/>
                  </a:lnTo>
                  <a:lnTo>
                    <a:pt x="3199" y="2290"/>
                  </a:lnTo>
                  <a:lnTo>
                    <a:pt x="3131" y="1987"/>
                  </a:lnTo>
                  <a:lnTo>
                    <a:pt x="3064" y="1650"/>
                  </a:lnTo>
                  <a:lnTo>
                    <a:pt x="2963" y="977"/>
                  </a:lnTo>
                  <a:lnTo>
                    <a:pt x="2929" y="505"/>
                  </a:lnTo>
                  <a:lnTo>
                    <a:pt x="2896" y="236"/>
                  </a:lnTo>
                  <a:lnTo>
                    <a:pt x="2828" y="34"/>
                  </a:lnTo>
                  <a:lnTo>
                    <a:pt x="279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8760" bIns="68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hape 649"/>
            <p:cNvSpPr/>
            <p:nvPr/>
          </p:nvSpPr>
          <p:spPr>
            <a:xfrm>
              <a:off x="2887560" y="5737320"/>
              <a:ext cx="153720" cy="147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24" h="2223">
                  <a:moveTo>
                    <a:pt x="1919" y="202"/>
                  </a:moveTo>
                  <a:lnTo>
                    <a:pt x="1953" y="573"/>
                  </a:lnTo>
                  <a:lnTo>
                    <a:pt x="2020" y="943"/>
                  </a:lnTo>
                  <a:lnTo>
                    <a:pt x="2088" y="1381"/>
                  </a:lnTo>
                  <a:lnTo>
                    <a:pt x="2155" y="1818"/>
                  </a:lnTo>
                  <a:lnTo>
                    <a:pt x="1785" y="1818"/>
                  </a:lnTo>
                  <a:lnTo>
                    <a:pt x="1414" y="1886"/>
                  </a:lnTo>
                  <a:lnTo>
                    <a:pt x="943" y="1953"/>
                  </a:lnTo>
                  <a:lnTo>
                    <a:pt x="707" y="2020"/>
                  </a:lnTo>
                  <a:lnTo>
                    <a:pt x="471" y="2088"/>
                  </a:lnTo>
                  <a:lnTo>
                    <a:pt x="370" y="1616"/>
                  </a:lnTo>
                  <a:lnTo>
                    <a:pt x="269" y="1179"/>
                  </a:lnTo>
                  <a:lnTo>
                    <a:pt x="202" y="808"/>
                  </a:lnTo>
                  <a:lnTo>
                    <a:pt x="101" y="438"/>
                  </a:lnTo>
                  <a:lnTo>
                    <a:pt x="1010" y="337"/>
                  </a:lnTo>
                  <a:lnTo>
                    <a:pt x="1919" y="202"/>
                  </a:lnTo>
                  <a:close/>
                  <a:moveTo>
                    <a:pt x="1886" y="0"/>
                  </a:moveTo>
                  <a:lnTo>
                    <a:pt x="976" y="101"/>
                  </a:lnTo>
                  <a:lnTo>
                    <a:pt x="67" y="270"/>
                  </a:lnTo>
                  <a:lnTo>
                    <a:pt x="34" y="303"/>
                  </a:lnTo>
                  <a:lnTo>
                    <a:pt x="0" y="371"/>
                  </a:lnTo>
                  <a:lnTo>
                    <a:pt x="0" y="573"/>
                  </a:lnTo>
                  <a:lnTo>
                    <a:pt x="34" y="775"/>
                  </a:lnTo>
                  <a:lnTo>
                    <a:pt x="101" y="1212"/>
                  </a:lnTo>
                  <a:lnTo>
                    <a:pt x="202" y="1684"/>
                  </a:lnTo>
                  <a:lnTo>
                    <a:pt x="269" y="1953"/>
                  </a:lnTo>
                  <a:lnTo>
                    <a:pt x="337" y="2189"/>
                  </a:lnTo>
                  <a:lnTo>
                    <a:pt x="404" y="2222"/>
                  </a:lnTo>
                  <a:lnTo>
                    <a:pt x="471" y="2189"/>
                  </a:lnTo>
                  <a:lnTo>
                    <a:pt x="875" y="2189"/>
                  </a:lnTo>
                  <a:lnTo>
                    <a:pt x="1279" y="2121"/>
                  </a:lnTo>
                  <a:lnTo>
                    <a:pt x="1751" y="2054"/>
                  </a:lnTo>
                  <a:lnTo>
                    <a:pt x="1987" y="2020"/>
                  </a:lnTo>
                  <a:lnTo>
                    <a:pt x="2189" y="1953"/>
                  </a:lnTo>
                  <a:lnTo>
                    <a:pt x="2222" y="1987"/>
                  </a:lnTo>
                  <a:lnTo>
                    <a:pt x="2256" y="1987"/>
                  </a:lnTo>
                  <a:lnTo>
                    <a:pt x="2290" y="1953"/>
                  </a:lnTo>
                  <a:lnTo>
                    <a:pt x="2323" y="1919"/>
                  </a:lnTo>
                  <a:lnTo>
                    <a:pt x="2323" y="1717"/>
                  </a:lnTo>
                  <a:lnTo>
                    <a:pt x="2290" y="1482"/>
                  </a:lnTo>
                  <a:lnTo>
                    <a:pt x="2222" y="1044"/>
                  </a:lnTo>
                  <a:lnTo>
                    <a:pt x="2121" y="539"/>
                  </a:lnTo>
                  <a:lnTo>
                    <a:pt x="2088" y="270"/>
                  </a:lnTo>
                  <a:lnTo>
                    <a:pt x="1987" y="34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hape 650"/>
            <p:cNvSpPr/>
            <p:nvPr/>
          </p:nvSpPr>
          <p:spPr>
            <a:xfrm>
              <a:off x="2415960" y="58089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223" h="2223">
                  <a:moveTo>
                    <a:pt x="1818" y="1"/>
                  </a:moveTo>
                  <a:lnTo>
                    <a:pt x="1313" y="68"/>
                  </a:lnTo>
                  <a:lnTo>
                    <a:pt x="808" y="169"/>
                  </a:lnTo>
                  <a:lnTo>
                    <a:pt x="371" y="203"/>
                  </a:lnTo>
                  <a:lnTo>
                    <a:pt x="168" y="236"/>
                  </a:lnTo>
                  <a:lnTo>
                    <a:pt x="0" y="304"/>
                  </a:lnTo>
                  <a:lnTo>
                    <a:pt x="0" y="337"/>
                  </a:lnTo>
                  <a:lnTo>
                    <a:pt x="168" y="405"/>
                  </a:lnTo>
                  <a:lnTo>
                    <a:pt x="337" y="405"/>
                  </a:lnTo>
                  <a:lnTo>
                    <a:pt x="707" y="371"/>
                  </a:lnTo>
                  <a:lnTo>
                    <a:pt x="1246" y="304"/>
                  </a:lnTo>
                  <a:lnTo>
                    <a:pt x="1785" y="203"/>
                  </a:lnTo>
                  <a:lnTo>
                    <a:pt x="1751" y="405"/>
                  </a:lnTo>
                  <a:lnTo>
                    <a:pt x="1785" y="573"/>
                  </a:lnTo>
                  <a:lnTo>
                    <a:pt x="1852" y="943"/>
                  </a:lnTo>
                  <a:lnTo>
                    <a:pt x="1919" y="1381"/>
                  </a:lnTo>
                  <a:lnTo>
                    <a:pt x="1953" y="1617"/>
                  </a:lnTo>
                  <a:lnTo>
                    <a:pt x="2020" y="1852"/>
                  </a:lnTo>
                  <a:lnTo>
                    <a:pt x="1044" y="1953"/>
                  </a:lnTo>
                  <a:lnTo>
                    <a:pt x="674" y="1987"/>
                  </a:lnTo>
                  <a:lnTo>
                    <a:pt x="505" y="2054"/>
                  </a:lnTo>
                  <a:lnTo>
                    <a:pt x="371" y="2155"/>
                  </a:lnTo>
                  <a:lnTo>
                    <a:pt x="539" y="2223"/>
                  </a:lnTo>
                  <a:lnTo>
                    <a:pt x="707" y="2223"/>
                  </a:lnTo>
                  <a:lnTo>
                    <a:pt x="1078" y="2155"/>
                  </a:lnTo>
                  <a:lnTo>
                    <a:pt x="2121" y="2021"/>
                  </a:lnTo>
                  <a:lnTo>
                    <a:pt x="2189" y="2021"/>
                  </a:lnTo>
                  <a:lnTo>
                    <a:pt x="2222" y="1953"/>
                  </a:lnTo>
                  <a:lnTo>
                    <a:pt x="2222" y="1920"/>
                  </a:lnTo>
                  <a:lnTo>
                    <a:pt x="2189" y="1852"/>
                  </a:lnTo>
                  <a:lnTo>
                    <a:pt x="2155" y="1617"/>
                  </a:lnTo>
                  <a:lnTo>
                    <a:pt x="2121" y="1381"/>
                  </a:lnTo>
                  <a:lnTo>
                    <a:pt x="2054" y="910"/>
                  </a:lnTo>
                  <a:lnTo>
                    <a:pt x="1987" y="539"/>
                  </a:lnTo>
                  <a:lnTo>
                    <a:pt x="1953" y="337"/>
                  </a:lnTo>
                  <a:lnTo>
                    <a:pt x="1886" y="169"/>
                  </a:lnTo>
                  <a:lnTo>
                    <a:pt x="1919" y="102"/>
                  </a:lnTo>
                  <a:lnTo>
                    <a:pt x="1919" y="68"/>
                  </a:lnTo>
                  <a:lnTo>
                    <a:pt x="1886" y="34"/>
                  </a:lnTo>
                  <a:lnTo>
                    <a:pt x="181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hape 651"/>
            <p:cNvSpPr/>
            <p:nvPr/>
          </p:nvSpPr>
          <p:spPr>
            <a:xfrm>
              <a:off x="2622600" y="584208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2" h="641">
                  <a:moveTo>
                    <a:pt x="405" y="1"/>
                  </a:moveTo>
                  <a:lnTo>
                    <a:pt x="236" y="34"/>
                  </a:lnTo>
                  <a:lnTo>
                    <a:pt x="34" y="34"/>
                  </a:lnTo>
                  <a:lnTo>
                    <a:pt x="1" y="102"/>
                  </a:lnTo>
                  <a:lnTo>
                    <a:pt x="1" y="135"/>
                  </a:lnTo>
                  <a:lnTo>
                    <a:pt x="34" y="135"/>
                  </a:lnTo>
                  <a:lnTo>
                    <a:pt x="135" y="169"/>
                  </a:lnTo>
                  <a:lnTo>
                    <a:pt x="236" y="203"/>
                  </a:lnTo>
                  <a:lnTo>
                    <a:pt x="203" y="371"/>
                  </a:lnTo>
                  <a:lnTo>
                    <a:pt x="203" y="539"/>
                  </a:lnTo>
                  <a:lnTo>
                    <a:pt x="203" y="607"/>
                  </a:lnTo>
                  <a:lnTo>
                    <a:pt x="270" y="640"/>
                  </a:lnTo>
                  <a:lnTo>
                    <a:pt x="304" y="640"/>
                  </a:lnTo>
                  <a:lnTo>
                    <a:pt x="337" y="607"/>
                  </a:lnTo>
                  <a:lnTo>
                    <a:pt x="337" y="438"/>
                  </a:lnTo>
                  <a:lnTo>
                    <a:pt x="337" y="270"/>
                  </a:lnTo>
                  <a:lnTo>
                    <a:pt x="371" y="270"/>
                  </a:lnTo>
                  <a:lnTo>
                    <a:pt x="573" y="236"/>
                  </a:lnTo>
                  <a:lnTo>
                    <a:pt x="640" y="203"/>
                  </a:lnTo>
                  <a:lnTo>
                    <a:pt x="741" y="169"/>
                  </a:lnTo>
                  <a:lnTo>
                    <a:pt x="741" y="68"/>
                  </a:lnTo>
                  <a:lnTo>
                    <a:pt x="741" y="34"/>
                  </a:lnTo>
                  <a:lnTo>
                    <a:pt x="708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hape 652"/>
            <p:cNvSpPr/>
            <p:nvPr/>
          </p:nvSpPr>
          <p:spPr>
            <a:xfrm>
              <a:off x="2143080" y="6005880"/>
              <a:ext cx="147600" cy="152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223" h="2290">
                  <a:moveTo>
                    <a:pt x="1920" y="169"/>
                  </a:moveTo>
                  <a:lnTo>
                    <a:pt x="1953" y="539"/>
                  </a:lnTo>
                  <a:lnTo>
                    <a:pt x="1987" y="943"/>
                  </a:lnTo>
                  <a:lnTo>
                    <a:pt x="2021" y="1415"/>
                  </a:lnTo>
                  <a:lnTo>
                    <a:pt x="2054" y="1886"/>
                  </a:lnTo>
                  <a:lnTo>
                    <a:pt x="1819" y="1852"/>
                  </a:lnTo>
                  <a:lnTo>
                    <a:pt x="1583" y="1886"/>
                  </a:lnTo>
                  <a:lnTo>
                    <a:pt x="1112" y="1953"/>
                  </a:lnTo>
                  <a:lnTo>
                    <a:pt x="741" y="2021"/>
                  </a:lnTo>
                  <a:lnTo>
                    <a:pt x="573" y="2054"/>
                  </a:lnTo>
                  <a:lnTo>
                    <a:pt x="371" y="2088"/>
                  </a:lnTo>
                  <a:lnTo>
                    <a:pt x="337" y="1650"/>
                  </a:lnTo>
                  <a:lnTo>
                    <a:pt x="236" y="1213"/>
                  </a:lnTo>
                  <a:lnTo>
                    <a:pt x="203" y="842"/>
                  </a:lnTo>
                  <a:lnTo>
                    <a:pt x="135" y="472"/>
                  </a:lnTo>
                  <a:lnTo>
                    <a:pt x="1044" y="337"/>
                  </a:lnTo>
                  <a:lnTo>
                    <a:pt x="1920" y="169"/>
                  </a:lnTo>
                  <a:close/>
                  <a:moveTo>
                    <a:pt x="1920" y="0"/>
                  </a:moveTo>
                  <a:lnTo>
                    <a:pt x="1011" y="135"/>
                  </a:lnTo>
                  <a:lnTo>
                    <a:pt x="102" y="270"/>
                  </a:lnTo>
                  <a:lnTo>
                    <a:pt x="34" y="337"/>
                  </a:lnTo>
                  <a:lnTo>
                    <a:pt x="1" y="371"/>
                  </a:lnTo>
                  <a:lnTo>
                    <a:pt x="1" y="606"/>
                  </a:lnTo>
                  <a:lnTo>
                    <a:pt x="34" y="876"/>
                  </a:lnTo>
                  <a:lnTo>
                    <a:pt x="102" y="1381"/>
                  </a:lnTo>
                  <a:lnTo>
                    <a:pt x="135" y="1819"/>
                  </a:lnTo>
                  <a:lnTo>
                    <a:pt x="203" y="2054"/>
                  </a:lnTo>
                  <a:lnTo>
                    <a:pt x="270" y="2256"/>
                  </a:lnTo>
                  <a:lnTo>
                    <a:pt x="270" y="2290"/>
                  </a:lnTo>
                  <a:lnTo>
                    <a:pt x="371" y="2290"/>
                  </a:lnTo>
                  <a:lnTo>
                    <a:pt x="371" y="2256"/>
                  </a:lnTo>
                  <a:lnTo>
                    <a:pt x="607" y="2256"/>
                  </a:lnTo>
                  <a:lnTo>
                    <a:pt x="842" y="2223"/>
                  </a:lnTo>
                  <a:lnTo>
                    <a:pt x="1280" y="2122"/>
                  </a:lnTo>
                  <a:lnTo>
                    <a:pt x="1684" y="2088"/>
                  </a:lnTo>
                  <a:lnTo>
                    <a:pt x="1886" y="2054"/>
                  </a:lnTo>
                  <a:lnTo>
                    <a:pt x="2088" y="1987"/>
                  </a:lnTo>
                  <a:lnTo>
                    <a:pt x="2155" y="1987"/>
                  </a:lnTo>
                  <a:lnTo>
                    <a:pt x="2189" y="1920"/>
                  </a:lnTo>
                  <a:lnTo>
                    <a:pt x="2223" y="1650"/>
                  </a:lnTo>
                  <a:lnTo>
                    <a:pt x="2223" y="1415"/>
                  </a:lnTo>
                  <a:lnTo>
                    <a:pt x="2155" y="910"/>
                  </a:lnTo>
                  <a:lnTo>
                    <a:pt x="2122" y="505"/>
                  </a:lnTo>
                  <a:lnTo>
                    <a:pt x="2054" y="303"/>
                  </a:lnTo>
                  <a:lnTo>
                    <a:pt x="1987" y="101"/>
                  </a:lnTo>
                  <a:lnTo>
                    <a:pt x="1987" y="3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hape 653"/>
            <p:cNvSpPr/>
            <p:nvPr/>
          </p:nvSpPr>
          <p:spPr>
            <a:xfrm>
              <a:off x="2409840" y="5829480"/>
              <a:ext cx="28440" cy="131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38" h="1988">
                  <a:moveTo>
                    <a:pt x="0" y="1"/>
                  </a:moveTo>
                  <a:lnTo>
                    <a:pt x="0" y="34"/>
                  </a:lnTo>
                  <a:lnTo>
                    <a:pt x="0" y="270"/>
                  </a:lnTo>
                  <a:lnTo>
                    <a:pt x="0" y="472"/>
                  </a:lnTo>
                  <a:lnTo>
                    <a:pt x="67" y="943"/>
                  </a:lnTo>
                  <a:lnTo>
                    <a:pt x="168" y="1448"/>
                  </a:lnTo>
                  <a:lnTo>
                    <a:pt x="236" y="1718"/>
                  </a:lnTo>
                  <a:lnTo>
                    <a:pt x="337" y="1953"/>
                  </a:lnTo>
                  <a:lnTo>
                    <a:pt x="370" y="1987"/>
                  </a:lnTo>
                  <a:lnTo>
                    <a:pt x="438" y="1987"/>
                  </a:lnTo>
                  <a:lnTo>
                    <a:pt x="438" y="1920"/>
                  </a:lnTo>
                  <a:lnTo>
                    <a:pt x="438" y="1684"/>
                  </a:lnTo>
                  <a:lnTo>
                    <a:pt x="370" y="1415"/>
                  </a:lnTo>
                  <a:lnTo>
                    <a:pt x="269" y="910"/>
                  </a:lnTo>
                  <a:lnTo>
                    <a:pt x="202" y="472"/>
                  </a:lnTo>
                  <a:lnTo>
                    <a:pt x="135" y="236"/>
                  </a:lnTo>
                  <a:lnTo>
                    <a:pt x="101" y="3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5120" bIns="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hape 654"/>
            <p:cNvSpPr/>
            <p:nvPr/>
          </p:nvSpPr>
          <p:spPr>
            <a:xfrm>
              <a:off x="2792520" y="5818320"/>
              <a:ext cx="33120" cy="41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06" h="641">
                  <a:moveTo>
                    <a:pt x="472" y="0"/>
                  </a:moveTo>
                  <a:lnTo>
                    <a:pt x="371" y="101"/>
                  </a:lnTo>
                  <a:lnTo>
                    <a:pt x="270" y="202"/>
                  </a:lnTo>
                  <a:lnTo>
                    <a:pt x="202" y="169"/>
                  </a:lnTo>
                  <a:lnTo>
                    <a:pt x="68" y="68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34" y="202"/>
                  </a:lnTo>
                  <a:lnTo>
                    <a:pt x="135" y="270"/>
                  </a:lnTo>
                  <a:lnTo>
                    <a:pt x="169" y="303"/>
                  </a:lnTo>
                  <a:lnTo>
                    <a:pt x="68" y="539"/>
                  </a:lnTo>
                  <a:lnTo>
                    <a:pt x="68" y="606"/>
                  </a:lnTo>
                  <a:lnTo>
                    <a:pt x="101" y="640"/>
                  </a:lnTo>
                  <a:lnTo>
                    <a:pt x="169" y="640"/>
                  </a:lnTo>
                  <a:lnTo>
                    <a:pt x="236" y="606"/>
                  </a:lnTo>
                  <a:lnTo>
                    <a:pt x="337" y="337"/>
                  </a:lnTo>
                  <a:lnTo>
                    <a:pt x="371" y="337"/>
                  </a:lnTo>
                  <a:lnTo>
                    <a:pt x="404" y="303"/>
                  </a:lnTo>
                  <a:lnTo>
                    <a:pt x="404" y="236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hape 655"/>
            <p:cNvSpPr/>
            <p:nvPr/>
          </p:nvSpPr>
          <p:spPr>
            <a:xfrm>
              <a:off x="2568600" y="5786640"/>
              <a:ext cx="155520" cy="1476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58" h="2223">
                  <a:moveTo>
                    <a:pt x="1650" y="0"/>
                  </a:moveTo>
                  <a:lnTo>
                    <a:pt x="1314" y="101"/>
                  </a:lnTo>
                  <a:lnTo>
                    <a:pt x="708" y="168"/>
                  </a:lnTo>
                  <a:lnTo>
                    <a:pt x="405" y="202"/>
                  </a:lnTo>
                  <a:lnTo>
                    <a:pt x="102" y="303"/>
                  </a:lnTo>
                  <a:lnTo>
                    <a:pt x="102" y="202"/>
                  </a:lnTo>
                  <a:lnTo>
                    <a:pt x="34" y="202"/>
                  </a:lnTo>
                  <a:lnTo>
                    <a:pt x="1" y="236"/>
                  </a:lnTo>
                  <a:lnTo>
                    <a:pt x="1" y="471"/>
                  </a:lnTo>
                  <a:lnTo>
                    <a:pt x="1" y="673"/>
                  </a:lnTo>
                  <a:lnTo>
                    <a:pt x="34" y="1145"/>
                  </a:lnTo>
                  <a:lnTo>
                    <a:pt x="135" y="1650"/>
                  </a:lnTo>
                  <a:lnTo>
                    <a:pt x="203" y="1919"/>
                  </a:lnTo>
                  <a:lnTo>
                    <a:pt x="304" y="2155"/>
                  </a:lnTo>
                  <a:lnTo>
                    <a:pt x="337" y="2222"/>
                  </a:lnTo>
                  <a:lnTo>
                    <a:pt x="371" y="2222"/>
                  </a:lnTo>
                  <a:lnTo>
                    <a:pt x="405" y="2188"/>
                  </a:lnTo>
                  <a:lnTo>
                    <a:pt x="438" y="2121"/>
                  </a:lnTo>
                  <a:lnTo>
                    <a:pt x="405" y="1885"/>
                  </a:lnTo>
                  <a:lnTo>
                    <a:pt x="337" y="1616"/>
                  </a:lnTo>
                  <a:lnTo>
                    <a:pt x="236" y="1111"/>
                  </a:lnTo>
                  <a:lnTo>
                    <a:pt x="203" y="741"/>
                  </a:lnTo>
                  <a:lnTo>
                    <a:pt x="135" y="370"/>
                  </a:lnTo>
                  <a:lnTo>
                    <a:pt x="539" y="370"/>
                  </a:lnTo>
                  <a:lnTo>
                    <a:pt x="943" y="303"/>
                  </a:lnTo>
                  <a:lnTo>
                    <a:pt x="1852" y="168"/>
                  </a:lnTo>
                  <a:lnTo>
                    <a:pt x="1886" y="202"/>
                  </a:lnTo>
                  <a:lnTo>
                    <a:pt x="1987" y="202"/>
                  </a:lnTo>
                  <a:lnTo>
                    <a:pt x="1987" y="471"/>
                  </a:lnTo>
                  <a:lnTo>
                    <a:pt x="2021" y="774"/>
                  </a:lnTo>
                  <a:lnTo>
                    <a:pt x="2155" y="1784"/>
                  </a:lnTo>
                  <a:lnTo>
                    <a:pt x="1751" y="1784"/>
                  </a:lnTo>
                  <a:lnTo>
                    <a:pt x="1347" y="1885"/>
                  </a:lnTo>
                  <a:lnTo>
                    <a:pt x="842" y="1919"/>
                  </a:lnTo>
                  <a:lnTo>
                    <a:pt x="607" y="1986"/>
                  </a:lnTo>
                  <a:lnTo>
                    <a:pt x="506" y="2054"/>
                  </a:lnTo>
                  <a:lnTo>
                    <a:pt x="438" y="2121"/>
                  </a:lnTo>
                  <a:lnTo>
                    <a:pt x="506" y="2188"/>
                  </a:lnTo>
                  <a:lnTo>
                    <a:pt x="842" y="2188"/>
                  </a:lnTo>
                  <a:lnTo>
                    <a:pt x="1246" y="2121"/>
                  </a:lnTo>
                  <a:lnTo>
                    <a:pt x="1718" y="2054"/>
                  </a:lnTo>
                  <a:lnTo>
                    <a:pt x="1987" y="2020"/>
                  </a:lnTo>
                  <a:lnTo>
                    <a:pt x="2189" y="1953"/>
                  </a:lnTo>
                  <a:lnTo>
                    <a:pt x="2256" y="1986"/>
                  </a:lnTo>
                  <a:lnTo>
                    <a:pt x="2290" y="1986"/>
                  </a:lnTo>
                  <a:lnTo>
                    <a:pt x="2357" y="1953"/>
                  </a:lnTo>
                  <a:lnTo>
                    <a:pt x="2357" y="1885"/>
                  </a:lnTo>
                  <a:lnTo>
                    <a:pt x="2189" y="875"/>
                  </a:lnTo>
                  <a:lnTo>
                    <a:pt x="2155" y="438"/>
                  </a:lnTo>
                  <a:lnTo>
                    <a:pt x="2122" y="236"/>
                  </a:lnTo>
                  <a:lnTo>
                    <a:pt x="2054" y="34"/>
                  </a:lnTo>
                  <a:lnTo>
                    <a:pt x="2021" y="34"/>
                  </a:lnTo>
                  <a:lnTo>
                    <a:pt x="1987" y="67"/>
                  </a:lnTo>
                  <a:lnTo>
                    <a:pt x="1987" y="3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hape 656"/>
            <p:cNvSpPr/>
            <p:nvPr/>
          </p:nvSpPr>
          <p:spPr>
            <a:xfrm>
              <a:off x="2727360" y="5754960"/>
              <a:ext cx="153720" cy="1681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324" h="2526">
                  <a:moveTo>
                    <a:pt x="1953" y="203"/>
                  </a:moveTo>
                  <a:lnTo>
                    <a:pt x="1953" y="640"/>
                  </a:lnTo>
                  <a:lnTo>
                    <a:pt x="1986" y="1112"/>
                  </a:lnTo>
                  <a:lnTo>
                    <a:pt x="2054" y="1583"/>
                  </a:lnTo>
                  <a:lnTo>
                    <a:pt x="2155" y="2021"/>
                  </a:lnTo>
                  <a:lnTo>
                    <a:pt x="2188" y="2054"/>
                  </a:lnTo>
                  <a:lnTo>
                    <a:pt x="2155" y="2054"/>
                  </a:lnTo>
                  <a:lnTo>
                    <a:pt x="1751" y="2088"/>
                  </a:lnTo>
                  <a:lnTo>
                    <a:pt x="1347" y="2155"/>
                  </a:lnTo>
                  <a:lnTo>
                    <a:pt x="943" y="2189"/>
                  </a:lnTo>
                  <a:lnTo>
                    <a:pt x="505" y="2256"/>
                  </a:lnTo>
                  <a:lnTo>
                    <a:pt x="337" y="1347"/>
                  </a:lnTo>
                  <a:lnTo>
                    <a:pt x="168" y="438"/>
                  </a:lnTo>
                  <a:lnTo>
                    <a:pt x="606" y="405"/>
                  </a:lnTo>
                  <a:lnTo>
                    <a:pt x="1044" y="371"/>
                  </a:lnTo>
                  <a:lnTo>
                    <a:pt x="1953" y="203"/>
                  </a:lnTo>
                  <a:close/>
                  <a:moveTo>
                    <a:pt x="1953" y="1"/>
                  </a:moveTo>
                  <a:lnTo>
                    <a:pt x="1044" y="169"/>
                  </a:lnTo>
                  <a:lnTo>
                    <a:pt x="572" y="203"/>
                  </a:lnTo>
                  <a:lnTo>
                    <a:pt x="101" y="304"/>
                  </a:lnTo>
                  <a:lnTo>
                    <a:pt x="67" y="337"/>
                  </a:lnTo>
                  <a:lnTo>
                    <a:pt x="67" y="371"/>
                  </a:lnTo>
                  <a:lnTo>
                    <a:pt x="34" y="371"/>
                  </a:lnTo>
                  <a:lnTo>
                    <a:pt x="0" y="438"/>
                  </a:lnTo>
                  <a:lnTo>
                    <a:pt x="34" y="943"/>
                  </a:lnTo>
                  <a:lnTo>
                    <a:pt x="101" y="1448"/>
                  </a:lnTo>
                  <a:lnTo>
                    <a:pt x="236" y="1987"/>
                  </a:lnTo>
                  <a:lnTo>
                    <a:pt x="370" y="2492"/>
                  </a:lnTo>
                  <a:lnTo>
                    <a:pt x="404" y="2526"/>
                  </a:lnTo>
                  <a:lnTo>
                    <a:pt x="471" y="2526"/>
                  </a:lnTo>
                  <a:lnTo>
                    <a:pt x="539" y="2492"/>
                  </a:lnTo>
                  <a:lnTo>
                    <a:pt x="539" y="2425"/>
                  </a:lnTo>
                  <a:lnTo>
                    <a:pt x="539" y="2357"/>
                  </a:lnTo>
                  <a:lnTo>
                    <a:pt x="943" y="2391"/>
                  </a:lnTo>
                  <a:lnTo>
                    <a:pt x="1380" y="2357"/>
                  </a:lnTo>
                  <a:lnTo>
                    <a:pt x="1784" y="2290"/>
                  </a:lnTo>
                  <a:lnTo>
                    <a:pt x="2188" y="2189"/>
                  </a:lnTo>
                  <a:lnTo>
                    <a:pt x="2222" y="2122"/>
                  </a:lnTo>
                  <a:lnTo>
                    <a:pt x="2188" y="2088"/>
                  </a:lnTo>
                  <a:lnTo>
                    <a:pt x="2289" y="2088"/>
                  </a:lnTo>
                  <a:lnTo>
                    <a:pt x="2289" y="2054"/>
                  </a:lnTo>
                  <a:lnTo>
                    <a:pt x="2323" y="1987"/>
                  </a:lnTo>
                  <a:lnTo>
                    <a:pt x="2289" y="1549"/>
                  </a:lnTo>
                  <a:lnTo>
                    <a:pt x="2222" y="1078"/>
                  </a:lnTo>
                  <a:lnTo>
                    <a:pt x="2121" y="607"/>
                  </a:lnTo>
                  <a:lnTo>
                    <a:pt x="2020" y="169"/>
                  </a:lnTo>
                  <a:lnTo>
                    <a:pt x="2054" y="102"/>
                  </a:lnTo>
                  <a:lnTo>
                    <a:pt x="2054" y="68"/>
                  </a:lnTo>
                  <a:lnTo>
                    <a:pt x="2020" y="34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480" bIns="51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hape 657"/>
            <p:cNvSpPr/>
            <p:nvPr/>
          </p:nvSpPr>
          <p:spPr>
            <a:xfrm>
              <a:off x="2471760" y="5864400"/>
              <a:ext cx="36360" cy="47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40" h="708">
                  <a:moveTo>
                    <a:pt x="304" y="135"/>
                  </a:moveTo>
                  <a:lnTo>
                    <a:pt x="270" y="270"/>
                  </a:lnTo>
                  <a:lnTo>
                    <a:pt x="203" y="371"/>
                  </a:lnTo>
                  <a:lnTo>
                    <a:pt x="136" y="404"/>
                  </a:lnTo>
                  <a:lnTo>
                    <a:pt x="136" y="371"/>
                  </a:lnTo>
                  <a:lnTo>
                    <a:pt x="136" y="303"/>
                  </a:lnTo>
                  <a:lnTo>
                    <a:pt x="203" y="202"/>
                  </a:lnTo>
                  <a:lnTo>
                    <a:pt x="237" y="169"/>
                  </a:lnTo>
                  <a:lnTo>
                    <a:pt x="304" y="135"/>
                  </a:lnTo>
                  <a:close/>
                  <a:moveTo>
                    <a:pt x="304" y="0"/>
                  </a:moveTo>
                  <a:lnTo>
                    <a:pt x="169" y="34"/>
                  </a:lnTo>
                  <a:lnTo>
                    <a:pt x="68" y="135"/>
                  </a:lnTo>
                  <a:lnTo>
                    <a:pt x="35" y="135"/>
                  </a:lnTo>
                  <a:lnTo>
                    <a:pt x="35" y="169"/>
                  </a:lnTo>
                  <a:lnTo>
                    <a:pt x="35" y="202"/>
                  </a:lnTo>
                  <a:lnTo>
                    <a:pt x="1" y="337"/>
                  </a:lnTo>
                  <a:lnTo>
                    <a:pt x="1" y="438"/>
                  </a:lnTo>
                  <a:lnTo>
                    <a:pt x="102" y="674"/>
                  </a:lnTo>
                  <a:lnTo>
                    <a:pt x="102" y="707"/>
                  </a:lnTo>
                  <a:lnTo>
                    <a:pt x="169" y="707"/>
                  </a:lnTo>
                  <a:lnTo>
                    <a:pt x="203" y="674"/>
                  </a:lnTo>
                  <a:lnTo>
                    <a:pt x="203" y="640"/>
                  </a:lnTo>
                  <a:lnTo>
                    <a:pt x="169" y="505"/>
                  </a:lnTo>
                  <a:lnTo>
                    <a:pt x="237" y="573"/>
                  </a:lnTo>
                  <a:lnTo>
                    <a:pt x="304" y="640"/>
                  </a:lnTo>
                  <a:lnTo>
                    <a:pt x="371" y="674"/>
                  </a:lnTo>
                  <a:lnTo>
                    <a:pt x="472" y="707"/>
                  </a:lnTo>
                  <a:lnTo>
                    <a:pt x="506" y="674"/>
                  </a:lnTo>
                  <a:lnTo>
                    <a:pt x="540" y="640"/>
                  </a:lnTo>
                  <a:lnTo>
                    <a:pt x="540" y="573"/>
                  </a:lnTo>
                  <a:lnTo>
                    <a:pt x="472" y="539"/>
                  </a:lnTo>
                  <a:lnTo>
                    <a:pt x="371" y="505"/>
                  </a:lnTo>
                  <a:lnTo>
                    <a:pt x="304" y="438"/>
                  </a:lnTo>
                  <a:lnTo>
                    <a:pt x="405" y="337"/>
                  </a:lnTo>
                  <a:lnTo>
                    <a:pt x="472" y="202"/>
                  </a:lnTo>
                  <a:lnTo>
                    <a:pt x="472" y="101"/>
                  </a:lnTo>
                  <a:lnTo>
                    <a:pt x="439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hape 658"/>
            <p:cNvSpPr/>
            <p:nvPr/>
          </p:nvSpPr>
          <p:spPr>
            <a:xfrm>
              <a:off x="2089080" y="6174000"/>
              <a:ext cx="152280" cy="147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291" h="2223">
                  <a:moveTo>
                    <a:pt x="1886" y="203"/>
                  </a:moveTo>
                  <a:lnTo>
                    <a:pt x="1953" y="573"/>
                  </a:lnTo>
                  <a:lnTo>
                    <a:pt x="1987" y="943"/>
                  </a:lnTo>
                  <a:lnTo>
                    <a:pt x="2054" y="1381"/>
                  </a:lnTo>
                  <a:lnTo>
                    <a:pt x="2122" y="1819"/>
                  </a:lnTo>
                  <a:lnTo>
                    <a:pt x="1953" y="1819"/>
                  </a:lnTo>
                  <a:lnTo>
                    <a:pt x="1751" y="1852"/>
                  </a:lnTo>
                  <a:lnTo>
                    <a:pt x="1381" y="1886"/>
                  </a:lnTo>
                  <a:lnTo>
                    <a:pt x="910" y="1953"/>
                  </a:lnTo>
                  <a:lnTo>
                    <a:pt x="674" y="2021"/>
                  </a:lnTo>
                  <a:lnTo>
                    <a:pt x="472" y="2088"/>
                  </a:lnTo>
                  <a:lnTo>
                    <a:pt x="371" y="1617"/>
                  </a:lnTo>
                  <a:lnTo>
                    <a:pt x="270" y="1179"/>
                  </a:lnTo>
                  <a:lnTo>
                    <a:pt x="169" y="809"/>
                  </a:lnTo>
                  <a:lnTo>
                    <a:pt x="102" y="438"/>
                  </a:lnTo>
                  <a:lnTo>
                    <a:pt x="1011" y="337"/>
                  </a:lnTo>
                  <a:lnTo>
                    <a:pt x="1886" y="203"/>
                  </a:lnTo>
                  <a:close/>
                  <a:moveTo>
                    <a:pt x="1886" y="1"/>
                  </a:moveTo>
                  <a:lnTo>
                    <a:pt x="977" y="102"/>
                  </a:lnTo>
                  <a:lnTo>
                    <a:pt x="68" y="270"/>
                  </a:lnTo>
                  <a:lnTo>
                    <a:pt x="1" y="304"/>
                  </a:lnTo>
                  <a:lnTo>
                    <a:pt x="1" y="371"/>
                  </a:lnTo>
                  <a:lnTo>
                    <a:pt x="1" y="573"/>
                  </a:lnTo>
                  <a:lnTo>
                    <a:pt x="1" y="775"/>
                  </a:lnTo>
                  <a:lnTo>
                    <a:pt x="68" y="1213"/>
                  </a:lnTo>
                  <a:lnTo>
                    <a:pt x="169" y="1684"/>
                  </a:lnTo>
                  <a:lnTo>
                    <a:pt x="236" y="1953"/>
                  </a:lnTo>
                  <a:lnTo>
                    <a:pt x="337" y="2189"/>
                  </a:lnTo>
                  <a:lnTo>
                    <a:pt x="405" y="2223"/>
                  </a:lnTo>
                  <a:lnTo>
                    <a:pt x="438" y="2189"/>
                  </a:lnTo>
                  <a:lnTo>
                    <a:pt x="876" y="2189"/>
                  </a:lnTo>
                  <a:lnTo>
                    <a:pt x="1280" y="2122"/>
                  </a:lnTo>
                  <a:lnTo>
                    <a:pt x="1718" y="2054"/>
                  </a:lnTo>
                  <a:lnTo>
                    <a:pt x="1953" y="2021"/>
                  </a:lnTo>
                  <a:lnTo>
                    <a:pt x="2189" y="1953"/>
                  </a:lnTo>
                  <a:lnTo>
                    <a:pt x="2223" y="1987"/>
                  </a:lnTo>
                  <a:lnTo>
                    <a:pt x="2256" y="1987"/>
                  </a:lnTo>
                  <a:lnTo>
                    <a:pt x="2290" y="1953"/>
                  </a:lnTo>
                  <a:lnTo>
                    <a:pt x="2290" y="1920"/>
                  </a:lnTo>
                  <a:lnTo>
                    <a:pt x="2290" y="1718"/>
                  </a:lnTo>
                  <a:lnTo>
                    <a:pt x="2256" y="1482"/>
                  </a:lnTo>
                  <a:lnTo>
                    <a:pt x="2189" y="1044"/>
                  </a:lnTo>
                  <a:lnTo>
                    <a:pt x="2122" y="539"/>
                  </a:lnTo>
                  <a:lnTo>
                    <a:pt x="2054" y="270"/>
                  </a:lnTo>
                  <a:lnTo>
                    <a:pt x="1987" y="34"/>
                  </a:lnTo>
                  <a:lnTo>
                    <a:pt x="195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hape 659"/>
            <p:cNvSpPr/>
            <p:nvPr/>
          </p:nvSpPr>
          <p:spPr>
            <a:xfrm>
              <a:off x="2206440" y="6066000"/>
              <a:ext cx="33120" cy="48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06" h="742">
                  <a:moveTo>
                    <a:pt x="169" y="1"/>
                  </a:moveTo>
                  <a:lnTo>
                    <a:pt x="68" y="68"/>
                  </a:lnTo>
                  <a:lnTo>
                    <a:pt x="34" y="169"/>
                  </a:lnTo>
                  <a:lnTo>
                    <a:pt x="34" y="270"/>
                  </a:lnTo>
                  <a:lnTo>
                    <a:pt x="101" y="371"/>
                  </a:lnTo>
                  <a:lnTo>
                    <a:pt x="202" y="438"/>
                  </a:lnTo>
                  <a:lnTo>
                    <a:pt x="337" y="438"/>
                  </a:lnTo>
                  <a:lnTo>
                    <a:pt x="337" y="506"/>
                  </a:lnTo>
                  <a:lnTo>
                    <a:pt x="303" y="539"/>
                  </a:lnTo>
                  <a:lnTo>
                    <a:pt x="236" y="573"/>
                  </a:lnTo>
                  <a:lnTo>
                    <a:pt x="101" y="573"/>
                  </a:lnTo>
                  <a:lnTo>
                    <a:pt x="68" y="539"/>
                  </a:lnTo>
                  <a:lnTo>
                    <a:pt x="0" y="573"/>
                  </a:lnTo>
                  <a:lnTo>
                    <a:pt x="0" y="607"/>
                  </a:lnTo>
                  <a:lnTo>
                    <a:pt x="0" y="640"/>
                  </a:lnTo>
                  <a:lnTo>
                    <a:pt x="34" y="674"/>
                  </a:lnTo>
                  <a:lnTo>
                    <a:pt x="101" y="708"/>
                  </a:lnTo>
                  <a:lnTo>
                    <a:pt x="202" y="741"/>
                  </a:lnTo>
                  <a:lnTo>
                    <a:pt x="303" y="708"/>
                  </a:lnTo>
                  <a:lnTo>
                    <a:pt x="404" y="674"/>
                  </a:lnTo>
                  <a:lnTo>
                    <a:pt x="472" y="607"/>
                  </a:lnTo>
                  <a:lnTo>
                    <a:pt x="505" y="506"/>
                  </a:lnTo>
                  <a:lnTo>
                    <a:pt x="505" y="405"/>
                  </a:lnTo>
                  <a:lnTo>
                    <a:pt x="472" y="337"/>
                  </a:lnTo>
                  <a:lnTo>
                    <a:pt x="438" y="304"/>
                  </a:lnTo>
                  <a:lnTo>
                    <a:pt x="371" y="270"/>
                  </a:lnTo>
                  <a:lnTo>
                    <a:pt x="202" y="270"/>
                  </a:lnTo>
                  <a:lnTo>
                    <a:pt x="169" y="203"/>
                  </a:lnTo>
                  <a:lnTo>
                    <a:pt x="202" y="169"/>
                  </a:lnTo>
                  <a:lnTo>
                    <a:pt x="236" y="135"/>
                  </a:lnTo>
                  <a:lnTo>
                    <a:pt x="337" y="102"/>
                  </a:lnTo>
                  <a:lnTo>
                    <a:pt x="371" y="102"/>
                  </a:lnTo>
                  <a:lnTo>
                    <a:pt x="371" y="68"/>
                  </a:lnTo>
                  <a:lnTo>
                    <a:pt x="337" y="34"/>
                  </a:lnTo>
                  <a:lnTo>
                    <a:pt x="303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hape 660"/>
            <p:cNvSpPr/>
            <p:nvPr/>
          </p:nvSpPr>
          <p:spPr>
            <a:xfrm>
              <a:off x="2357280" y="6034320"/>
              <a:ext cx="42840" cy="60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41" h="910">
                  <a:moveTo>
                    <a:pt x="438" y="236"/>
                  </a:moveTo>
                  <a:lnTo>
                    <a:pt x="472" y="270"/>
                  </a:lnTo>
                  <a:lnTo>
                    <a:pt x="506" y="337"/>
                  </a:lnTo>
                  <a:lnTo>
                    <a:pt x="506" y="505"/>
                  </a:lnTo>
                  <a:lnTo>
                    <a:pt x="472" y="573"/>
                  </a:lnTo>
                  <a:lnTo>
                    <a:pt x="438" y="640"/>
                  </a:lnTo>
                  <a:lnTo>
                    <a:pt x="304" y="707"/>
                  </a:lnTo>
                  <a:lnTo>
                    <a:pt x="270" y="741"/>
                  </a:lnTo>
                  <a:lnTo>
                    <a:pt x="236" y="404"/>
                  </a:lnTo>
                  <a:lnTo>
                    <a:pt x="236" y="236"/>
                  </a:lnTo>
                  <a:close/>
                  <a:moveTo>
                    <a:pt x="169" y="0"/>
                  </a:moveTo>
                  <a:lnTo>
                    <a:pt x="135" y="101"/>
                  </a:lnTo>
                  <a:lnTo>
                    <a:pt x="102" y="168"/>
                  </a:lnTo>
                  <a:lnTo>
                    <a:pt x="68" y="371"/>
                  </a:lnTo>
                  <a:lnTo>
                    <a:pt x="68" y="573"/>
                  </a:lnTo>
                  <a:lnTo>
                    <a:pt x="135" y="775"/>
                  </a:lnTo>
                  <a:lnTo>
                    <a:pt x="68" y="775"/>
                  </a:lnTo>
                  <a:lnTo>
                    <a:pt x="1" y="842"/>
                  </a:lnTo>
                  <a:lnTo>
                    <a:pt x="34" y="876"/>
                  </a:lnTo>
                  <a:lnTo>
                    <a:pt x="68" y="909"/>
                  </a:lnTo>
                  <a:lnTo>
                    <a:pt x="236" y="909"/>
                  </a:lnTo>
                  <a:lnTo>
                    <a:pt x="405" y="808"/>
                  </a:lnTo>
                  <a:lnTo>
                    <a:pt x="539" y="674"/>
                  </a:lnTo>
                  <a:lnTo>
                    <a:pt x="607" y="505"/>
                  </a:lnTo>
                  <a:lnTo>
                    <a:pt x="640" y="404"/>
                  </a:lnTo>
                  <a:lnTo>
                    <a:pt x="607" y="337"/>
                  </a:lnTo>
                  <a:lnTo>
                    <a:pt x="539" y="168"/>
                  </a:lnTo>
                  <a:lnTo>
                    <a:pt x="472" y="135"/>
                  </a:lnTo>
                  <a:lnTo>
                    <a:pt x="371" y="101"/>
                  </a:lnTo>
                  <a:lnTo>
                    <a:pt x="236" y="135"/>
                  </a:lnTo>
                  <a:lnTo>
                    <a:pt x="203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hape 661"/>
            <p:cNvSpPr/>
            <p:nvPr/>
          </p:nvSpPr>
          <p:spPr>
            <a:xfrm>
              <a:off x="2147760" y="6226560"/>
              <a:ext cx="44280" cy="50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75" h="742">
                  <a:moveTo>
                    <a:pt x="68" y="1"/>
                  </a:moveTo>
                  <a:lnTo>
                    <a:pt x="1" y="34"/>
                  </a:lnTo>
                  <a:lnTo>
                    <a:pt x="1" y="68"/>
                  </a:lnTo>
                  <a:lnTo>
                    <a:pt x="35" y="135"/>
                  </a:lnTo>
                  <a:lnTo>
                    <a:pt x="102" y="169"/>
                  </a:lnTo>
                  <a:lnTo>
                    <a:pt x="304" y="169"/>
                  </a:lnTo>
                  <a:lnTo>
                    <a:pt x="68" y="607"/>
                  </a:lnTo>
                  <a:lnTo>
                    <a:pt x="68" y="674"/>
                  </a:lnTo>
                  <a:lnTo>
                    <a:pt x="102" y="708"/>
                  </a:lnTo>
                  <a:lnTo>
                    <a:pt x="136" y="741"/>
                  </a:lnTo>
                  <a:lnTo>
                    <a:pt x="203" y="741"/>
                  </a:lnTo>
                  <a:lnTo>
                    <a:pt x="506" y="607"/>
                  </a:lnTo>
                  <a:lnTo>
                    <a:pt x="607" y="573"/>
                  </a:lnTo>
                  <a:lnTo>
                    <a:pt x="674" y="539"/>
                  </a:lnTo>
                  <a:lnTo>
                    <a:pt x="674" y="472"/>
                  </a:lnTo>
                  <a:lnTo>
                    <a:pt x="674" y="438"/>
                  </a:lnTo>
                  <a:lnTo>
                    <a:pt x="607" y="405"/>
                  </a:lnTo>
                  <a:lnTo>
                    <a:pt x="573" y="405"/>
                  </a:lnTo>
                  <a:lnTo>
                    <a:pt x="472" y="438"/>
                  </a:lnTo>
                  <a:lnTo>
                    <a:pt x="338" y="472"/>
                  </a:lnTo>
                  <a:lnTo>
                    <a:pt x="540" y="135"/>
                  </a:lnTo>
                  <a:lnTo>
                    <a:pt x="573" y="102"/>
                  </a:lnTo>
                  <a:lnTo>
                    <a:pt x="540" y="34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hape 662"/>
            <p:cNvSpPr/>
            <p:nvPr/>
          </p:nvSpPr>
          <p:spPr>
            <a:xfrm>
              <a:off x="2300040" y="5978880"/>
              <a:ext cx="153720" cy="1616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24" h="2425">
                  <a:moveTo>
                    <a:pt x="1919" y="135"/>
                  </a:moveTo>
                  <a:lnTo>
                    <a:pt x="2020" y="1044"/>
                  </a:lnTo>
                  <a:lnTo>
                    <a:pt x="2122" y="1987"/>
                  </a:lnTo>
                  <a:lnTo>
                    <a:pt x="1684" y="2054"/>
                  </a:lnTo>
                  <a:lnTo>
                    <a:pt x="1280" y="2122"/>
                  </a:lnTo>
                  <a:lnTo>
                    <a:pt x="876" y="2189"/>
                  </a:lnTo>
                  <a:lnTo>
                    <a:pt x="472" y="2290"/>
                  </a:lnTo>
                  <a:lnTo>
                    <a:pt x="472" y="2256"/>
                  </a:lnTo>
                  <a:lnTo>
                    <a:pt x="438" y="1819"/>
                  </a:lnTo>
                  <a:lnTo>
                    <a:pt x="371" y="1347"/>
                  </a:lnTo>
                  <a:lnTo>
                    <a:pt x="270" y="876"/>
                  </a:lnTo>
                  <a:lnTo>
                    <a:pt x="135" y="438"/>
                  </a:lnTo>
                  <a:lnTo>
                    <a:pt x="1044" y="337"/>
                  </a:lnTo>
                  <a:lnTo>
                    <a:pt x="1482" y="270"/>
                  </a:lnTo>
                  <a:lnTo>
                    <a:pt x="1919" y="135"/>
                  </a:lnTo>
                  <a:close/>
                  <a:moveTo>
                    <a:pt x="1919" y="0"/>
                  </a:moveTo>
                  <a:lnTo>
                    <a:pt x="1482" y="68"/>
                  </a:lnTo>
                  <a:lnTo>
                    <a:pt x="1010" y="135"/>
                  </a:lnTo>
                  <a:lnTo>
                    <a:pt x="68" y="270"/>
                  </a:lnTo>
                  <a:lnTo>
                    <a:pt x="34" y="303"/>
                  </a:lnTo>
                  <a:lnTo>
                    <a:pt x="0" y="337"/>
                  </a:lnTo>
                  <a:lnTo>
                    <a:pt x="0" y="404"/>
                  </a:lnTo>
                  <a:lnTo>
                    <a:pt x="34" y="438"/>
                  </a:lnTo>
                  <a:lnTo>
                    <a:pt x="68" y="909"/>
                  </a:lnTo>
                  <a:lnTo>
                    <a:pt x="135" y="1381"/>
                  </a:lnTo>
                  <a:lnTo>
                    <a:pt x="236" y="1819"/>
                  </a:lnTo>
                  <a:lnTo>
                    <a:pt x="337" y="2290"/>
                  </a:lnTo>
                  <a:lnTo>
                    <a:pt x="337" y="2324"/>
                  </a:lnTo>
                  <a:lnTo>
                    <a:pt x="438" y="2324"/>
                  </a:lnTo>
                  <a:lnTo>
                    <a:pt x="472" y="2391"/>
                  </a:lnTo>
                  <a:lnTo>
                    <a:pt x="505" y="2425"/>
                  </a:lnTo>
                  <a:lnTo>
                    <a:pt x="909" y="2425"/>
                  </a:lnTo>
                  <a:lnTo>
                    <a:pt x="1313" y="2357"/>
                  </a:lnTo>
                  <a:lnTo>
                    <a:pt x="1751" y="2256"/>
                  </a:lnTo>
                  <a:lnTo>
                    <a:pt x="2122" y="2088"/>
                  </a:lnTo>
                  <a:lnTo>
                    <a:pt x="2122" y="2155"/>
                  </a:lnTo>
                  <a:lnTo>
                    <a:pt x="2155" y="2223"/>
                  </a:lnTo>
                  <a:lnTo>
                    <a:pt x="2223" y="2256"/>
                  </a:lnTo>
                  <a:lnTo>
                    <a:pt x="2290" y="2223"/>
                  </a:lnTo>
                  <a:lnTo>
                    <a:pt x="2324" y="2155"/>
                  </a:lnTo>
                  <a:lnTo>
                    <a:pt x="2290" y="1650"/>
                  </a:lnTo>
                  <a:lnTo>
                    <a:pt x="2256" y="1112"/>
                  </a:lnTo>
                  <a:lnTo>
                    <a:pt x="2189" y="606"/>
                  </a:lnTo>
                  <a:lnTo>
                    <a:pt x="2054" y="101"/>
                  </a:lnTo>
                  <a:lnTo>
                    <a:pt x="2020" y="68"/>
                  </a:lnTo>
                  <a:lnTo>
                    <a:pt x="1987" y="68"/>
                  </a:lnTo>
                  <a:lnTo>
                    <a:pt x="1987" y="34"/>
                  </a:lnTo>
                  <a:lnTo>
                    <a:pt x="1919" y="0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hape 663"/>
            <p:cNvSpPr/>
            <p:nvPr/>
          </p:nvSpPr>
          <p:spPr>
            <a:xfrm>
              <a:off x="2251080" y="6147000"/>
              <a:ext cx="155520" cy="152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58" h="2290">
                  <a:moveTo>
                    <a:pt x="1953" y="304"/>
                  </a:moveTo>
                  <a:lnTo>
                    <a:pt x="1987" y="607"/>
                  </a:lnTo>
                  <a:lnTo>
                    <a:pt x="2054" y="943"/>
                  </a:lnTo>
                  <a:lnTo>
                    <a:pt x="2088" y="1381"/>
                  </a:lnTo>
                  <a:lnTo>
                    <a:pt x="2122" y="1583"/>
                  </a:lnTo>
                  <a:lnTo>
                    <a:pt x="2189" y="1819"/>
                  </a:lnTo>
                  <a:lnTo>
                    <a:pt x="1280" y="1920"/>
                  </a:lnTo>
                  <a:lnTo>
                    <a:pt x="842" y="1987"/>
                  </a:lnTo>
                  <a:lnTo>
                    <a:pt x="405" y="2122"/>
                  </a:lnTo>
                  <a:lnTo>
                    <a:pt x="337" y="1684"/>
                  </a:lnTo>
                  <a:lnTo>
                    <a:pt x="270" y="1246"/>
                  </a:lnTo>
                  <a:lnTo>
                    <a:pt x="236" y="809"/>
                  </a:lnTo>
                  <a:lnTo>
                    <a:pt x="169" y="573"/>
                  </a:lnTo>
                  <a:lnTo>
                    <a:pt x="102" y="371"/>
                  </a:lnTo>
                  <a:lnTo>
                    <a:pt x="270" y="405"/>
                  </a:lnTo>
                  <a:lnTo>
                    <a:pt x="472" y="405"/>
                  </a:lnTo>
                  <a:lnTo>
                    <a:pt x="842" y="371"/>
                  </a:lnTo>
                  <a:lnTo>
                    <a:pt x="1415" y="337"/>
                  </a:lnTo>
                  <a:lnTo>
                    <a:pt x="1953" y="304"/>
                  </a:lnTo>
                  <a:close/>
                  <a:moveTo>
                    <a:pt x="1987" y="1"/>
                  </a:moveTo>
                  <a:lnTo>
                    <a:pt x="1953" y="34"/>
                  </a:lnTo>
                  <a:lnTo>
                    <a:pt x="1953" y="102"/>
                  </a:lnTo>
                  <a:lnTo>
                    <a:pt x="1448" y="135"/>
                  </a:lnTo>
                  <a:lnTo>
                    <a:pt x="943" y="169"/>
                  </a:lnTo>
                  <a:lnTo>
                    <a:pt x="506" y="203"/>
                  </a:lnTo>
                  <a:lnTo>
                    <a:pt x="304" y="236"/>
                  </a:lnTo>
                  <a:lnTo>
                    <a:pt x="203" y="304"/>
                  </a:lnTo>
                  <a:lnTo>
                    <a:pt x="102" y="371"/>
                  </a:lnTo>
                  <a:lnTo>
                    <a:pt x="68" y="371"/>
                  </a:lnTo>
                  <a:lnTo>
                    <a:pt x="34" y="506"/>
                  </a:lnTo>
                  <a:lnTo>
                    <a:pt x="1" y="640"/>
                  </a:lnTo>
                  <a:lnTo>
                    <a:pt x="34" y="977"/>
                  </a:lnTo>
                  <a:lnTo>
                    <a:pt x="102" y="1583"/>
                  </a:lnTo>
                  <a:lnTo>
                    <a:pt x="135" y="1785"/>
                  </a:lnTo>
                  <a:lnTo>
                    <a:pt x="169" y="1987"/>
                  </a:lnTo>
                  <a:lnTo>
                    <a:pt x="169" y="2088"/>
                  </a:lnTo>
                  <a:lnTo>
                    <a:pt x="236" y="2189"/>
                  </a:lnTo>
                  <a:lnTo>
                    <a:pt x="304" y="2256"/>
                  </a:lnTo>
                  <a:lnTo>
                    <a:pt x="371" y="2290"/>
                  </a:lnTo>
                  <a:lnTo>
                    <a:pt x="438" y="2290"/>
                  </a:lnTo>
                  <a:lnTo>
                    <a:pt x="438" y="2256"/>
                  </a:lnTo>
                  <a:lnTo>
                    <a:pt x="438" y="2223"/>
                  </a:lnTo>
                  <a:lnTo>
                    <a:pt x="876" y="2223"/>
                  </a:lnTo>
                  <a:lnTo>
                    <a:pt x="1314" y="2155"/>
                  </a:lnTo>
                  <a:lnTo>
                    <a:pt x="2189" y="1987"/>
                  </a:lnTo>
                  <a:lnTo>
                    <a:pt x="2290" y="1987"/>
                  </a:lnTo>
                  <a:lnTo>
                    <a:pt x="2324" y="1953"/>
                  </a:lnTo>
                  <a:lnTo>
                    <a:pt x="2357" y="1718"/>
                  </a:lnTo>
                  <a:lnTo>
                    <a:pt x="2324" y="1516"/>
                  </a:lnTo>
                  <a:lnTo>
                    <a:pt x="2223" y="1078"/>
                  </a:lnTo>
                  <a:lnTo>
                    <a:pt x="2155" y="539"/>
                  </a:lnTo>
                  <a:lnTo>
                    <a:pt x="2122" y="270"/>
                  </a:lnTo>
                  <a:lnTo>
                    <a:pt x="2054" y="34"/>
                  </a:lnTo>
                  <a:lnTo>
                    <a:pt x="2021" y="1"/>
                  </a:lnTo>
                  <a:close/>
                </a:path>
              </a:pathLst>
            </a:custGeom>
            <a:solidFill>
              <a:srgbClr val="95a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Shape 666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3" name="Shape 667"/>
            <p:cNvSpPr/>
            <p:nvPr/>
          </p:nvSpPr>
          <p:spPr>
            <a:xfrm>
              <a:off x="8151840" y="136440"/>
              <a:ext cx="149040" cy="126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57" h="203">
                  <a:moveTo>
                    <a:pt x="304" y="0"/>
                  </a:moveTo>
                  <a:lnTo>
                    <a:pt x="34" y="68"/>
                  </a:lnTo>
                  <a:lnTo>
                    <a:pt x="1" y="101"/>
                  </a:lnTo>
                  <a:lnTo>
                    <a:pt x="34" y="135"/>
                  </a:lnTo>
                  <a:lnTo>
                    <a:pt x="270" y="202"/>
                  </a:lnTo>
                  <a:lnTo>
                    <a:pt x="1920" y="202"/>
                  </a:lnTo>
                  <a:lnTo>
                    <a:pt x="2189" y="169"/>
                  </a:lnTo>
                  <a:lnTo>
                    <a:pt x="2223" y="135"/>
                  </a:lnTo>
                  <a:lnTo>
                    <a:pt x="2256" y="101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4040" bIns="-104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hape 668"/>
            <p:cNvSpPr/>
            <p:nvPr/>
          </p:nvSpPr>
          <p:spPr>
            <a:xfrm>
              <a:off x="1420560" y="234720"/>
              <a:ext cx="52200" cy="47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09" h="708">
                  <a:moveTo>
                    <a:pt x="641" y="1"/>
                  </a:moveTo>
                  <a:lnTo>
                    <a:pt x="573" y="35"/>
                  </a:lnTo>
                  <a:lnTo>
                    <a:pt x="573" y="102"/>
                  </a:lnTo>
                  <a:lnTo>
                    <a:pt x="607" y="237"/>
                  </a:lnTo>
                  <a:lnTo>
                    <a:pt x="573" y="371"/>
                  </a:lnTo>
                  <a:lnTo>
                    <a:pt x="540" y="439"/>
                  </a:lnTo>
                  <a:lnTo>
                    <a:pt x="472" y="472"/>
                  </a:lnTo>
                  <a:lnTo>
                    <a:pt x="338" y="506"/>
                  </a:lnTo>
                  <a:lnTo>
                    <a:pt x="270" y="506"/>
                  </a:lnTo>
                  <a:lnTo>
                    <a:pt x="237" y="472"/>
                  </a:lnTo>
                  <a:lnTo>
                    <a:pt x="203" y="405"/>
                  </a:lnTo>
                  <a:lnTo>
                    <a:pt x="169" y="371"/>
                  </a:lnTo>
                  <a:lnTo>
                    <a:pt x="169" y="304"/>
                  </a:lnTo>
                  <a:lnTo>
                    <a:pt x="203" y="270"/>
                  </a:lnTo>
                  <a:lnTo>
                    <a:pt x="237" y="169"/>
                  </a:lnTo>
                  <a:lnTo>
                    <a:pt x="237" y="102"/>
                  </a:lnTo>
                  <a:lnTo>
                    <a:pt x="102" y="102"/>
                  </a:lnTo>
                  <a:lnTo>
                    <a:pt x="35" y="169"/>
                  </a:lnTo>
                  <a:lnTo>
                    <a:pt x="1" y="270"/>
                  </a:lnTo>
                  <a:lnTo>
                    <a:pt x="1" y="371"/>
                  </a:lnTo>
                  <a:lnTo>
                    <a:pt x="1" y="472"/>
                  </a:lnTo>
                  <a:lnTo>
                    <a:pt x="68" y="573"/>
                  </a:lnTo>
                  <a:lnTo>
                    <a:pt x="169" y="641"/>
                  </a:lnTo>
                  <a:lnTo>
                    <a:pt x="270" y="674"/>
                  </a:lnTo>
                  <a:lnTo>
                    <a:pt x="405" y="708"/>
                  </a:lnTo>
                  <a:lnTo>
                    <a:pt x="506" y="674"/>
                  </a:lnTo>
                  <a:lnTo>
                    <a:pt x="641" y="607"/>
                  </a:lnTo>
                  <a:lnTo>
                    <a:pt x="708" y="506"/>
                  </a:lnTo>
                  <a:lnTo>
                    <a:pt x="775" y="405"/>
                  </a:lnTo>
                  <a:lnTo>
                    <a:pt x="809" y="270"/>
                  </a:lnTo>
                  <a:lnTo>
                    <a:pt x="809" y="136"/>
                  </a:lnTo>
                  <a:lnTo>
                    <a:pt x="742" y="35"/>
                  </a:lnTo>
                  <a:lnTo>
                    <a:pt x="6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hape 669"/>
            <p:cNvSpPr/>
            <p:nvPr/>
          </p:nvSpPr>
          <p:spPr>
            <a:xfrm>
              <a:off x="1361880" y="17280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1">
                  <a:moveTo>
                    <a:pt x="2256" y="236"/>
                  </a:moveTo>
                  <a:lnTo>
                    <a:pt x="2256" y="674"/>
                  </a:lnTo>
                  <a:lnTo>
                    <a:pt x="2290" y="1078"/>
                  </a:lnTo>
                  <a:lnTo>
                    <a:pt x="2290" y="1616"/>
                  </a:lnTo>
                  <a:lnTo>
                    <a:pt x="2324" y="2121"/>
                  </a:lnTo>
                  <a:lnTo>
                    <a:pt x="2088" y="2088"/>
                  </a:lnTo>
                  <a:lnTo>
                    <a:pt x="1886" y="2088"/>
                  </a:lnTo>
                  <a:lnTo>
                    <a:pt x="1448" y="2121"/>
                  </a:lnTo>
                  <a:lnTo>
                    <a:pt x="910" y="2121"/>
                  </a:lnTo>
                  <a:lnTo>
                    <a:pt x="640" y="2155"/>
                  </a:lnTo>
                  <a:lnTo>
                    <a:pt x="371" y="2222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7"/>
                  </a:lnTo>
                  <a:lnTo>
                    <a:pt x="169" y="270"/>
                  </a:lnTo>
                  <a:lnTo>
                    <a:pt x="1213" y="270"/>
                  </a:lnTo>
                  <a:lnTo>
                    <a:pt x="2256" y="236"/>
                  </a:lnTo>
                  <a:close/>
                  <a:moveTo>
                    <a:pt x="2256" y="0"/>
                  </a:moveTo>
                  <a:lnTo>
                    <a:pt x="1179" y="34"/>
                  </a:lnTo>
                  <a:lnTo>
                    <a:pt x="674" y="34"/>
                  </a:lnTo>
                  <a:lnTo>
                    <a:pt x="135" y="101"/>
                  </a:lnTo>
                  <a:lnTo>
                    <a:pt x="68" y="135"/>
                  </a:lnTo>
                  <a:lnTo>
                    <a:pt x="68" y="202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45"/>
                  </a:lnTo>
                  <a:lnTo>
                    <a:pt x="102" y="1751"/>
                  </a:lnTo>
                  <a:lnTo>
                    <a:pt x="135" y="2020"/>
                  </a:lnTo>
                  <a:lnTo>
                    <a:pt x="203" y="2323"/>
                  </a:lnTo>
                  <a:lnTo>
                    <a:pt x="236" y="2357"/>
                  </a:lnTo>
                  <a:lnTo>
                    <a:pt x="371" y="2357"/>
                  </a:lnTo>
                  <a:lnTo>
                    <a:pt x="607" y="2391"/>
                  </a:lnTo>
                  <a:lnTo>
                    <a:pt x="842" y="2391"/>
                  </a:lnTo>
                  <a:lnTo>
                    <a:pt x="1314" y="2357"/>
                  </a:lnTo>
                  <a:lnTo>
                    <a:pt x="2088" y="2357"/>
                  </a:lnTo>
                  <a:lnTo>
                    <a:pt x="2357" y="2290"/>
                  </a:lnTo>
                  <a:lnTo>
                    <a:pt x="2391" y="2323"/>
                  </a:lnTo>
                  <a:lnTo>
                    <a:pt x="2458" y="2323"/>
                  </a:lnTo>
                  <a:lnTo>
                    <a:pt x="2492" y="2256"/>
                  </a:lnTo>
                  <a:lnTo>
                    <a:pt x="2526" y="2020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5" y="371"/>
                  </a:lnTo>
                  <a:lnTo>
                    <a:pt x="2357" y="68"/>
                  </a:lnTo>
                  <a:lnTo>
                    <a:pt x="2324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hape 670"/>
            <p:cNvSpPr/>
            <p:nvPr/>
          </p:nvSpPr>
          <p:spPr>
            <a:xfrm>
              <a:off x="1793880" y="2188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42" h="775">
                  <a:moveTo>
                    <a:pt x="304" y="169"/>
                  </a:moveTo>
                  <a:lnTo>
                    <a:pt x="337" y="202"/>
                  </a:lnTo>
                  <a:lnTo>
                    <a:pt x="371" y="236"/>
                  </a:lnTo>
                  <a:lnTo>
                    <a:pt x="506" y="236"/>
                  </a:lnTo>
                  <a:lnTo>
                    <a:pt x="539" y="404"/>
                  </a:lnTo>
                  <a:lnTo>
                    <a:pt x="506" y="472"/>
                  </a:lnTo>
                  <a:lnTo>
                    <a:pt x="472" y="539"/>
                  </a:lnTo>
                  <a:lnTo>
                    <a:pt x="438" y="573"/>
                  </a:lnTo>
                  <a:lnTo>
                    <a:pt x="371" y="606"/>
                  </a:lnTo>
                  <a:lnTo>
                    <a:pt x="304" y="573"/>
                  </a:lnTo>
                  <a:lnTo>
                    <a:pt x="236" y="539"/>
                  </a:lnTo>
                  <a:lnTo>
                    <a:pt x="203" y="472"/>
                  </a:lnTo>
                  <a:lnTo>
                    <a:pt x="169" y="404"/>
                  </a:lnTo>
                  <a:lnTo>
                    <a:pt x="203" y="270"/>
                  </a:lnTo>
                  <a:lnTo>
                    <a:pt x="304" y="169"/>
                  </a:lnTo>
                  <a:close/>
                  <a:moveTo>
                    <a:pt x="304" y="0"/>
                  </a:moveTo>
                  <a:lnTo>
                    <a:pt x="169" y="68"/>
                  </a:lnTo>
                  <a:lnTo>
                    <a:pt x="68" y="169"/>
                  </a:lnTo>
                  <a:lnTo>
                    <a:pt x="0" y="303"/>
                  </a:lnTo>
                  <a:lnTo>
                    <a:pt x="0" y="438"/>
                  </a:lnTo>
                  <a:lnTo>
                    <a:pt x="34" y="573"/>
                  </a:lnTo>
                  <a:lnTo>
                    <a:pt x="101" y="707"/>
                  </a:lnTo>
                  <a:lnTo>
                    <a:pt x="236" y="775"/>
                  </a:lnTo>
                  <a:lnTo>
                    <a:pt x="506" y="775"/>
                  </a:lnTo>
                  <a:lnTo>
                    <a:pt x="607" y="707"/>
                  </a:lnTo>
                  <a:lnTo>
                    <a:pt x="708" y="573"/>
                  </a:lnTo>
                  <a:lnTo>
                    <a:pt x="741" y="404"/>
                  </a:lnTo>
                  <a:lnTo>
                    <a:pt x="708" y="236"/>
                  </a:lnTo>
                  <a:lnTo>
                    <a:pt x="674" y="101"/>
                  </a:lnTo>
                  <a:lnTo>
                    <a:pt x="607" y="68"/>
                  </a:lnTo>
                  <a:lnTo>
                    <a:pt x="573" y="3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hape 671"/>
            <p:cNvSpPr/>
            <p:nvPr/>
          </p:nvSpPr>
          <p:spPr>
            <a:xfrm>
              <a:off x="1442880" y="0"/>
              <a:ext cx="21960" cy="152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38" h="2291">
                  <a:moveTo>
                    <a:pt x="34" y="1"/>
                  </a:moveTo>
                  <a:lnTo>
                    <a:pt x="1" y="270"/>
                  </a:lnTo>
                  <a:lnTo>
                    <a:pt x="1" y="506"/>
                  </a:lnTo>
                  <a:lnTo>
                    <a:pt x="34" y="1044"/>
                  </a:lnTo>
                  <a:lnTo>
                    <a:pt x="68" y="1650"/>
                  </a:lnTo>
                  <a:lnTo>
                    <a:pt x="102" y="1953"/>
                  </a:lnTo>
                  <a:lnTo>
                    <a:pt x="169" y="2223"/>
                  </a:lnTo>
                  <a:lnTo>
                    <a:pt x="203" y="2290"/>
                  </a:lnTo>
                  <a:lnTo>
                    <a:pt x="270" y="2290"/>
                  </a:lnTo>
                  <a:lnTo>
                    <a:pt x="304" y="2256"/>
                  </a:lnTo>
                  <a:lnTo>
                    <a:pt x="304" y="2223"/>
                  </a:lnTo>
                  <a:lnTo>
                    <a:pt x="337" y="1920"/>
                  </a:lnTo>
                  <a:lnTo>
                    <a:pt x="304" y="1617"/>
                  </a:lnTo>
                  <a:lnTo>
                    <a:pt x="236" y="1011"/>
                  </a:lnTo>
                  <a:lnTo>
                    <a:pt x="203" y="506"/>
                  </a:lnTo>
                  <a:lnTo>
                    <a:pt x="203" y="236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hape 672"/>
            <p:cNvSpPr/>
            <p:nvPr/>
          </p:nvSpPr>
          <p:spPr>
            <a:xfrm>
              <a:off x="1812960" y="0"/>
              <a:ext cx="166680" cy="147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92" h="2223">
                  <a:moveTo>
                    <a:pt x="1" y="1"/>
                  </a:moveTo>
                  <a:lnTo>
                    <a:pt x="1" y="539"/>
                  </a:lnTo>
                  <a:lnTo>
                    <a:pt x="34" y="1078"/>
                  </a:lnTo>
                  <a:lnTo>
                    <a:pt x="102" y="1617"/>
                  </a:lnTo>
                  <a:lnTo>
                    <a:pt x="203" y="2155"/>
                  </a:lnTo>
                  <a:lnTo>
                    <a:pt x="236" y="2223"/>
                  </a:lnTo>
                  <a:lnTo>
                    <a:pt x="304" y="2223"/>
                  </a:lnTo>
                  <a:lnTo>
                    <a:pt x="371" y="2189"/>
                  </a:lnTo>
                  <a:lnTo>
                    <a:pt x="405" y="2122"/>
                  </a:lnTo>
                  <a:lnTo>
                    <a:pt x="405" y="2054"/>
                  </a:lnTo>
                  <a:lnTo>
                    <a:pt x="876" y="2122"/>
                  </a:lnTo>
                  <a:lnTo>
                    <a:pt x="1347" y="2155"/>
                  </a:lnTo>
                  <a:lnTo>
                    <a:pt x="1852" y="2122"/>
                  </a:lnTo>
                  <a:lnTo>
                    <a:pt x="2088" y="2088"/>
                  </a:lnTo>
                  <a:lnTo>
                    <a:pt x="2290" y="2054"/>
                  </a:lnTo>
                  <a:lnTo>
                    <a:pt x="2357" y="1987"/>
                  </a:lnTo>
                  <a:lnTo>
                    <a:pt x="2357" y="1920"/>
                  </a:lnTo>
                  <a:lnTo>
                    <a:pt x="2425" y="1920"/>
                  </a:lnTo>
                  <a:lnTo>
                    <a:pt x="2458" y="1886"/>
                  </a:lnTo>
                  <a:lnTo>
                    <a:pt x="2458" y="1852"/>
                  </a:lnTo>
                  <a:lnTo>
                    <a:pt x="2492" y="943"/>
                  </a:lnTo>
                  <a:lnTo>
                    <a:pt x="2425" y="1"/>
                  </a:lnTo>
                  <a:lnTo>
                    <a:pt x="2256" y="1"/>
                  </a:lnTo>
                  <a:lnTo>
                    <a:pt x="2223" y="472"/>
                  </a:lnTo>
                  <a:lnTo>
                    <a:pt x="2223" y="943"/>
                  </a:lnTo>
                  <a:lnTo>
                    <a:pt x="2256" y="1415"/>
                  </a:lnTo>
                  <a:lnTo>
                    <a:pt x="2290" y="1852"/>
                  </a:lnTo>
                  <a:lnTo>
                    <a:pt x="2324" y="1886"/>
                  </a:lnTo>
                  <a:lnTo>
                    <a:pt x="2290" y="1886"/>
                  </a:lnTo>
                  <a:lnTo>
                    <a:pt x="2054" y="1852"/>
                  </a:lnTo>
                  <a:lnTo>
                    <a:pt x="1819" y="1886"/>
                  </a:lnTo>
                  <a:lnTo>
                    <a:pt x="371" y="1886"/>
                  </a:lnTo>
                  <a:lnTo>
                    <a:pt x="270" y="943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hape 673"/>
            <p:cNvSpPr/>
            <p:nvPr/>
          </p:nvSpPr>
          <p:spPr>
            <a:xfrm>
              <a:off x="141120" y="0"/>
              <a:ext cx="164880" cy="31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93" h="473">
                  <a:moveTo>
                    <a:pt x="1" y="1"/>
                  </a:moveTo>
                  <a:lnTo>
                    <a:pt x="34" y="337"/>
                  </a:lnTo>
                  <a:lnTo>
                    <a:pt x="68" y="405"/>
                  </a:lnTo>
                  <a:lnTo>
                    <a:pt x="169" y="405"/>
                  </a:lnTo>
                  <a:lnTo>
                    <a:pt x="203" y="371"/>
                  </a:lnTo>
                  <a:lnTo>
                    <a:pt x="439" y="438"/>
                  </a:lnTo>
                  <a:lnTo>
                    <a:pt x="674" y="472"/>
                  </a:lnTo>
                  <a:lnTo>
                    <a:pt x="1213" y="472"/>
                  </a:lnTo>
                  <a:lnTo>
                    <a:pt x="1752" y="405"/>
                  </a:lnTo>
                  <a:lnTo>
                    <a:pt x="2257" y="304"/>
                  </a:lnTo>
                  <a:lnTo>
                    <a:pt x="2257" y="337"/>
                  </a:lnTo>
                  <a:lnTo>
                    <a:pt x="2324" y="405"/>
                  </a:lnTo>
                  <a:lnTo>
                    <a:pt x="2391" y="438"/>
                  </a:lnTo>
                  <a:lnTo>
                    <a:pt x="2459" y="405"/>
                  </a:lnTo>
                  <a:lnTo>
                    <a:pt x="2492" y="371"/>
                  </a:lnTo>
                  <a:lnTo>
                    <a:pt x="2492" y="304"/>
                  </a:lnTo>
                  <a:lnTo>
                    <a:pt x="2425" y="1"/>
                  </a:lnTo>
                  <a:lnTo>
                    <a:pt x="2223" y="1"/>
                  </a:lnTo>
                  <a:lnTo>
                    <a:pt x="2257" y="135"/>
                  </a:lnTo>
                  <a:lnTo>
                    <a:pt x="1179" y="236"/>
                  </a:lnTo>
                  <a:lnTo>
                    <a:pt x="708" y="270"/>
                  </a:lnTo>
                  <a:lnTo>
                    <a:pt x="439" y="270"/>
                  </a:lnTo>
                  <a:lnTo>
                    <a:pt x="203" y="30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4960" bIns="-84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hape 674"/>
            <p:cNvSpPr/>
            <p:nvPr/>
          </p:nvSpPr>
          <p:spPr>
            <a:xfrm>
              <a:off x="1749240" y="158400"/>
              <a:ext cx="153720" cy="15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24" h="2391">
                  <a:moveTo>
                    <a:pt x="1515" y="0"/>
                  </a:moveTo>
                  <a:lnTo>
                    <a:pt x="909" y="34"/>
                  </a:lnTo>
                  <a:lnTo>
                    <a:pt x="202" y="34"/>
                  </a:lnTo>
                  <a:lnTo>
                    <a:pt x="0" y="101"/>
                  </a:lnTo>
                  <a:lnTo>
                    <a:pt x="0" y="135"/>
                  </a:lnTo>
                  <a:lnTo>
                    <a:pt x="67" y="202"/>
                  </a:lnTo>
                  <a:lnTo>
                    <a:pt x="168" y="236"/>
                  </a:lnTo>
                  <a:lnTo>
                    <a:pt x="370" y="270"/>
                  </a:lnTo>
                  <a:lnTo>
                    <a:pt x="1414" y="270"/>
                  </a:lnTo>
                  <a:lnTo>
                    <a:pt x="2020" y="202"/>
                  </a:lnTo>
                  <a:lnTo>
                    <a:pt x="1987" y="438"/>
                  </a:lnTo>
                  <a:lnTo>
                    <a:pt x="2020" y="640"/>
                  </a:lnTo>
                  <a:lnTo>
                    <a:pt x="2054" y="1078"/>
                  </a:lnTo>
                  <a:lnTo>
                    <a:pt x="2054" y="1583"/>
                  </a:lnTo>
                  <a:lnTo>
                    <a:pt x="2088" y="1852"/>
                  </a:lnTo>
                  <a:lnTo>
                    <a:pt x="2121" y="2121"/>
                  </a:lnTo>
                  <a:lnTo>
                    <a:pt x="977" y="2155"/>
                  </a:lnTo>
                  <a:lnTo>
                    <a:pt x="539" y="2121"/>
                  </a:lnTo>
                  <a:lnTo>
                    <a:pt x="370" y="2155"/>
                  </a:lnTo>
                  <a:lnTo>
                    <a:pt x="269" y="2222"/>
                  </a:lnTo>
                  <a:lnTo>
                    <a:pt x="202" y="2256"/>
                  </a:lnTo>
                  <a:lnTo>
                    <a:pt x="202" y="2290"/>
                  </a:lnTo>
                  <a:lnTo>
                    <a:pt x="269" y="2323"/>
                  </a:lnTo>
                  <a:lnTo>
                    <a:pt x="370" y="2357"/>
                  </a:lnTo>
                  <a:lnTo>
                    <a:pt x="572" y="2391"/>
                  </a:lnTo>
                  <a:lnTo>
                    <a:pt x="1583" y="2391"/>
                  </a:lnTo>
                  <a:lnTo>
                    <a:pt x="2222" y="2357"/>
                  </a:lnTo>
                  <a:lnTo>
                    <a:pt x="2290" y="2323"/>
                  </a:lnTo>
                  <a:lnTo>
                    <a:pt x="2323" y="2290"/>
                  </a:lnTo>
                  <a:lnTo>
                    <a:pt x="2323" y="2222"/>
                  </a:lnTo>
                  <a:lnTo>
                    <a:pt x="2290" y="2155"/>
                  </a:lnTo>
                  <a:lnTo>
                    <a:pt x="2323" y="1886"/>
                  </a:lnTo>
                  <a:lnTo>
                    <a:pt x="2290" y="1616"/>
                  </a:lnTo>
                  <a:lnTo>
                    <a:pt x="2256" y="1044"/>
                  </a:lnTo>
                  <a:lnTo>
                    <a:pt x="2256" y="606"/>
                  </a:lnTo>
                  <a:lnTo>
                    <a:pt x="2222" y="404"/>
                  </a:lnTo>
                  <a:lnTo>
                    <a:pt x="2189" y="202"/>
                  </a:lnTo>
                  <a:lnTo>
                    <a:pt x="2222" y="135"/>
                  </a:lnTo>
                  <a:lnTo>
                    <a:pt x="2222" y="67"/>
                  </a:lnTo>
                  <a:lnTo>
                    <a:pt x="2189" y="34"/>
                  </a:lnTo>
                  <a:lnTo>
                    <a:pt x="212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hape 675"/>
            <p:cNvSpPr/>
            <p:nvPr/>
          </p:nvSpPr>
          <p:spPr>
            <a:xfrm>
              <a:off x="1701720" y="69840"/>
              <a:ext cx="39600" cy="44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07" h="674">
                  <a:moveTo>
                    <a:pt x="202" y="0"/>
                  </a:moveTo>
                  <a:lnTo>
                    <a:pt x="101" y="34"/>
                  </a:lnTo>
                  <a:lnTo>
                    <a:pt x="34" y="101"/>
                  </a:lnTo>
                  <a:lnTo>
                    <a:pt x="0" y="202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101" y="371"/>
                  </a:lnTo>
                  <a:lnTo>
                    <a:pt x="202" y="404"/>
                  </a:lnTo>
                  <a:lnTo>
                    <a:pt x="438" y="404"/>
                  </a:lnTo>
                  <a:lnTo>
                    <a:pt x="438" y="472"/>
                  </a:lnTo>
                  <a:lnTo>
                    <a:pt x="404" y="573"/>
                  </a:lnTo>
                  <a:lnTo>
                    <a:pt x="438" y="640"/>
                  </a:lnTo>
                  <a:lnTo>
                    <a:pt x="471" y="674"/>
                  </a:lnTo>
                  <a:lnTo>
                    <a:pt x="505" y="674"/>
                  </a:lnTo>
                  <a:lnTo>
                    <a:pt x="572" y="573"/>
                  </a:lnTo>
                  <a:lnTo>
                    <a:pt x="606" y="472"/>
                  </a:lnTo>
                  <a:lnTo>
                    <a:pt x="606" y="270"/>
                  </a:lnTo>
                  <a:lnTo>
                    <a:pt x="606" y="202"/>
                  </a:lnTo>
                  <a:lnTo>
                    <a:pt x="539" y="169"/>
                  </a:lnTo>
                  <a:lnTo>
                    <a:pt x="505" y="202"/>
                  </a:lnTo>
                  <a:lnTo>
                    <a:pt x="337" y="270"/>
                  </a:lnTo>
                  <a:lnTo>
                    <a:pt x="168" y="270"/>
                  </a:lnTo>
                  <a:lnTo>
                    <a:pt x="135" y="236"/>
                  </a:lnTo>
                  <a:lnTo>
                    <a:pt x="168" y="169"/>
                  </a:lnTo>
                  <a:lnTo>
                    <a:pt x="202" y="135"/>
                  </a:lnTo>
                  <a:lnTo>
                    <a:pt x="505" y="135"/>
                  </a:lnTo>
                  <a:lnTo>
                    <a:pt x="505" y="169"/>
                  </a:lnTo>
                  <a:lnTo>
                    <a:pt x="572" y="169"/>
                  </a:lnTo>
                  <a:lnTo>
                    <a:pt x="606" y="135"/>
                  </a:lnTo>
                  <a:lnTo>
                    <a:pt x="539" y="68"/>
                  </a:lnTo>
                  <a:lnTo>
                    <a:pt x="471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hape 676"/>
            <p:cNvSpPr/>
            <p:nvPr/>
          </p:nvSpPr>
          <p:spPr>
            <a:xfrm>
              <a:off x="1454040" y="0"/>
              <a:ext cx="153720" cy="1490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325" h="2257">
                  <a:moveTo>
                    <a:pt x="1" y="1"/>
                  </a:moveTo>
                  <a:lnTo>
                    <a:pt x="169" y="102"/>
                  </a:lnTo>
                  <a:lnTo>
                    <a:pt x="371" y="135"/>
                  </a:lnTo>
                  <a:lnTo>
                    <a:pt x="775" y="135"/>
                  </a:lnTo>
                  <a:lnTo>
                    <a:pt x="1415" y="102"/>
                  </a:lnTo>
                  <a:lnTo>
                    <a:pt x="2021" y="68"/>
                  </a:lnTo>
                  <a:lnTo>
                    <a:pt x="1987" y="270"/>
                  </a:lnTo>
                  <a:lnTo>
                    <a:pt x="2021" y="506"/>
                  </a:lnTo>
                  <a:lnTo>
                    <a:pt x="2055" y="910"/>
                  </a:lnTo>
                  <a:lnTo>
                    <a:pt x="2055" y="1448"/>
                  </a:lnTo>
                  <a:lnTo>
                    <a:pt x="2088" y="1718"/>
                  </a:lnTo>
                  <a:lnTo>
                    <a:pt x="2122" y="1987"/>
                  </a:lnTo>
                  <a:lnTo>
                    <a:pt x="573" y="1987"/>
                  </a:lnTo>
                  <a:lnTo>
                    <a:pt x="371" y="2021"/>
                  </a:lnTo>
                  <a:lnTo>
                    <a:pt x="270" y="2054"/>
                  </a:lnTo>
                  <a:lnTo>
                    <a:pt x="203" y="2122"/>
                  </a:lnTo>
                  <a:lnTo>
                    <a:pt x="270" y="2189"/>
                  </a:lnTo>
                  <a:lnTo>
                    <a:pt x="371" y="2223"/>
                  </a:lnTo>
                  <a:lnTo>
                    <a:pt x="573" y="2256"/>
                  </a:lnTo>
                  <a:lnTo>
                    <a:pt x="977" y="2223"/>
                  </a:lnTo>
                  <a:lnTo>
                    <a:pt x="2223" y="2223"/>
                  </a:lnTo>
                  <a:lnTo>
                    <a:pt x="2290" y="2189"/>
                  </a:lnTo>
                  <a:lnTo>
                    <a:pt x="2324" y="2122"/>
                  </a:lnTo>
                  <a:lnTo>
                    <a:pt x="2324" y="2088"/>
                  </a:lnTo>
                  <a:lnTo>
                    <a:pt x="2290" y="2021"/>
                  </a:lnTo>
                  <a:lnTo>
                    <a:pt x="2324" y="1751"/>
                  </a:lnTo>
                  <a:lnTo>
                    <a:pt x="2290" y="1448"/>
                  </a:lnTo>
                  <a:lnTo>
                    <a:pt x="2257" y="910"/>
                  </a:lnTo>
                  <a:lnTo>
                    <a:pt x="2257" y="472"/>
                  </a:lnTo>
                  <a:lnTo>
                    <a:pt x="2223" y="236"/>
                  </a:lnTo>
                  <a:lnTo>
                    <a:pt x="2189" y="34"/>
                  </a:lnTo>
                  <a:lnTo>
                    <a:pt x="22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hape 677"/>
            <p:cNvSpPr/>
            <p:nvPr/>
          </p:nvSpPr>
          <p:spPr>
            <a:xfrm>
              <a:off x="1625400" y="0"/>
              <a:ext cx="21960" cy="137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38" h="2089">
                  <a:moveTo>
                    <a:pt x="34" y="1"/>
                  </a:moveTo>
                  <a:lnTo>
                    <a:pt x="0" y="405"/>
                  </a:lnTo>
                  <a:lnTo>
                    <a:pt x="0" y="809"/>
                  </a:lnTo>
                  <a:lnTo>
                    <a:pt x="34" y="1448"/>
                  </a:lnTo>
                  <a:lnTo>
                    <a:pt x="101" y="1751"/>
                  </a:lnTo>
                  <a:lnTo>
                    <a:pt x="169" y="2021"/>
                  </a:lnTo>
                  <a:lnTo>
                    <a:pt x="202" y="2088"/>
                  </a:lnTo>
                  <a:lnTo>
                    <a:pt x="270" y="2088"/>
                  </a:lnTo>
                  <a:lnTo>
                    <a:pt x="303" y="2054"/>
                  </a:lnTo>
                  <a:lnTo>
                    <a:pt x="337" y="1987"/>
                  </a:lnTo>
                  <a:lnTo>
                    <a:pt x="337" y="1718"/>
                  </a:lnTo>
                  <a:lnTo>
                    <a:pt x="303" y="1415"/>
                  </a:lnTo>
                  <a:lnTo>
                    <a:pt x="236" y="809"/>
                  </a:lnTo>
                  <a:lnTo>
                    <a:pt x="236" y="405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1240" bIns="21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hape 678"/>
            <p:cNvSpPr/>
            <p:nvPr/>
          </p:nvSpPr>
          <p:spPr>
            <a:xfrm>
              <a:off x="2001600" y="0"/>
              <a:ext cx="164880" cy="125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493" h="1887">
                  <a:moveTo>
                    <a:pt x="1" y="1"/>
                  </a:moveTo>
                  <a:lnTo>
                    <a:pt x="1" y="304"/>
                  </a:lnTo>
                  <a:lnTo>
                    <a:pt x="1" y="640"/>
                  </a:lnTo>
                  <a:lnTo>
                    <a:pt x="68" y="1213"/>
                  </a:lnTo>
                  <a:lnTo>
                    <a:pt x="102" y="1516"/>
                  </a:lnTo>
                  <a:lnTo>
                    <a:pt x="203" y="1785"/>
                  </a:lnTo>
                  <a:lnTo>
                    <a:pt x="203" y="1819"/>
                  </a:lnTo>
                  <a:lnTo>
                    <a:pt x="236" y="1852"/>
                  </a:lnTo>
                  <a:lnTo>
                    <a:pt x="304" y="1819"/>
                  </a:lnTo>
                  <a:lnTo>
                    <a:pt x="337" y="1852"/>
                  </a:lnTo>
                  <a:lnTo>
                    <a:pt x="573" y="1886"/>
                  </a:lnTo>
                  <a:lnTo>
                    <a:pt x="809" y="1852"/>
                  </a:lnTo>
                  <a:lnTo>
                    <a:pt x="1280" y="1852"/>
                  </a:lnTo>
                  <a:lnTo>
                    <a:pt x="1819" y="1819"/>
                  </a:lnTo>
                  <a:lnTo>
                    <a:pt x="2054" y="1819"/>
                  </a:lnTo>
                  <a:lnTo>
                    <a:pt x="2324" y="1785"/>
                  </a:lnTo>
                  <a:lnTo>
                    <a:pt x="2357" y="1819"/>
                  </a:lnTo>
                  <a:lnTo>
                    <a:pt x="2391" y="1819"/>
                  </a:lnTo>
                  <a:lnTo>
                    <a:pt x="2458" y="1785"/>
                  </a:lnTo>
                  <a:lnTo>
                    <a:pt x="2458" y="1751"/>
                  </a:lnTo>
                  <a:lnTo>
                    <a:pt x="2492" y="1516"/>
                  </a:lnTo>
                  <a:lnTo>
                    <a:pt x="2492" y="1246"/>
                  </a:lnTo>
                  <a:lnTo>
                    <a:pt x="2458" y="741"/>
                  </a:lnTo>
                  <a:lnTo>
                    <a:pt x="2425" y="1"/>
                  </a:lnTo>
                  <a:lnTo>
                    <a:pt x="2223" y="1"/>
                  </a:lnTo>
                  <a:lnTo>
                    <a:pt x="2256" y="573"/>
                  </a:lnTo>
                  <a:lnTo>
                    <a:pt x="2256" y="1078"/>
                  </a:lnTo>
                  <a:lnTo>
                    <a:pt x="2290" y="1617"/>
                  </a:lnTo>
                  <a:lnTo>
                    <a:pt x="2088" y="1583"/>
                  </a:lnTo>
                  <a:lnTo>
                    <a:pt x="1852" y="1583"/>
                  </a:lnTo>
                  <a:lnTo>
                    <a:pt x="1415" y="1617"/>
                  </a:lnTo>
                  <a:lnTo>
                    <a:pt x="876" y="1617"/>
                  </a:lnTo>
                  <a:lnTo>
                    <a:pt x="607" y="1650"/>
                  </a:lnTo>
                  <a:lnTo>
                    <a:pt x="337" y="1718"/>
                  </a:lnTo>
                  <a:lnTo>
                    <a:pt x="304" y="1179"/>
                  </a:lnTo>
                  <a:lnTo>
                    <a:pt x="236" y="640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640" bIns="8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hape 679"/>
            <p:cNvSpPr/>
            <p:nvPr/>
          </p:nvSpPr>
          <p:spPr>
            <a:xfrm>
              <a:off x="1066680" y="4680"/>
              <a:ext cx="168120" cy="155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26" h="2357">
                  <a:moveTo>
                    <a:pt x="2256" y="202"/>
                  </a:moveTo>
                  <a:lnTo>
                    <a:pt x="2256" y="640"/>
                  </a:lnTo>
                  <a:lnTo>
                    <a:pt x="2290" y="1077"/>
                  </a:lnTo>
                  <a:lnTo>
                    <a:pt x="2290" y="1582"/>
                  </a:lnTo>
                  <a:lnTo>
                    <a:pt x="2323" y="2121"/>
                  </a:lnTo>
                  <a:lnTo>
                    <a:pt x="2088" y="2087"/>
                  </a:lnTo>
                  <a:lnTo>
                    <a:pt x="1886" y="2087"/>
                  </a:lnTo>
                  <a:lnTo>
                    <a:pt x="1448" y="2121"/>
                  </a:lnTo>
                  <a:lnTo>
                    <a:pt x="909" y="2121"/>
                  </a:lnTo>
                  <a:lnTo>
                    <a:pt x="640" y="2155"/>
                  </a:lnTo>
                  <a:lnTo>
                    <a:pt x="371" y="2222"/>
                  </a:lnTo>
                  <a:lnTo>
                    <a:pt x="337" y="1683"/>
                  </a:lnTo>
                  <a:lnTo>
                    <a:pt x="236" y="1145"/>
                  </a:lnTo>
                  <a:lnTo>
                    <a:pt x="202" y="707"/>
                  </a:lnTo>
                  <a:lnTo>
                    <a:pt x="169" y="269"/>
                  </a:lnTo>
                  <a:lnTo>
                    <a:pt x="1212" y="269"/>
                  </a:lnTo>
                  <a:lnTo>
                    <a:pt x="2256" y="202"/>
                  </a:lnTo>
                  <a:close/>
                  <a:moveTo>
                    <a:pt x="1179" y="0"/>
                  </a:moveTo>
                  <a:lnTo>
                    <a:pt x="674" y="34"/>
                  </a:lnTo>
                  <a:lnTo>
                    <a:pt x="135" y="67"/>
                  </a:lnTo>
                  <a:lnTo>
                    <a:pt x="68" y="101"/>
                  </a:lnTo>
                  <a:lnTo>
                    <a:pt x="68" y="168"/>
                  </a:lnTo>
                  <a:lnTo>
                    <a:pt x="34" y="438"/>
                  </a:lnTo>
                  <a:lnTo>
                    <a:pt x="0" y="673"/>
                  </a:lnTo>
                  <a:lnTo>
                    <a:pt x="34" y="1145"/>
                  </a:lnTo>
                  <a:lnTo>
                    <a:pt x="101" y="1717"/>
                  </a:lnTo>
                  <a:lnTo>
                    <a:pt x="135" y="2020"/>
                  </a:lnTo>
                  <a:lnTo>
                    <a:pt x="202" y="2289"/>
                  </a:lnTo>
                  <a:lnTo>
                    <a:pt x="236" y="2323"/>
                  </a:lnTo>
                  <a:lnTo>
                    <a:pt x="270" y="2357"/>
                  </a:lnTo>
                  <a:lnTo>
                    <a:pt x="337" y="2323"/>
                  </a:lnTo>
                  <a:lnTo>
                    <a:pt x="371" y="2357"/>
                  </a:lnTo>
                  <a:lnTo>
                    <a:pt x="1313" y="2357"/>
                  </a:lnTo>
                  <a:lnTo>
                    <a:pt x="1818" y="2323"/>
                  </a:lnTo>
                  <a:lnTo>
                    <a:pt x="2088" y="2323"/>
                  </a:lnTo>
                  <a:lnTo>
                    <a:pt x="2357" y="2289"/>
                  </a:lnTo>
                  <a:lnTo>
                    <a:pt x="2391" y="2323"/>
                  </a:lnTo>
                  <a:lnTo>
                    <a:pt x="2424" y="2323"/>
                  </a:lnTo>
                  <a:lnTo>
                    <a:pt x="2458" y="2289"/>
                  </a:lnTo>
                  <a:lnTo>
                    <a:pt x="2492" y="2256"/>
                  </a:lnTo>
                  <a:lnTo>
                    <a:pt x="2525" y="2020"/>
                  </a:lnTo>
                  <a:lnTo>
                    <a:pt x="2525" y="1751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4" y="337"/>
                  </a:lnTo>
                  <a:lnTo>
                    <a:pt x="2357" y="67"/>
                  </a:lnTo>
                  <a:lnTo>
                    <a:pt x="2323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hape 680"/>
            <p:cNvSpPr/>
            <p:nvPr/>
          </p:nvSpPr>
          <p:spPr>
            <a:xfrm>
              <a:off x="1323720" y="85680"/>
              <a:ext cx="28440" cy="45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8" h="708">
                  <a:moveTo>
                    <a:pt x="303" y="0"/>
                  </a:moveTo>
                  <a:lnTo>
                    <a:pt x="169" y="34"/>
                  </a:lnTo>
                  <a:lnTo>
                    <a:pt x="34" y="101"/>
                  </a:lnTo>
                  <a:lnTo>
                    <a:pt x="0" y="135"/>
                  </a:lnTo>
                  <a:lnTo>
                    <a:pt x="0" y="168"/>
                  </a:lnTo>
                  <a:lnTo>
                    <a:pt x="0" y="202"/>
                  </a:lnTo>
                  <a:lnTo>
                    <a:pt x="270" y="202"/>
                  </a:lnTo>
                  <a:lnTo>
                    <a:pt x="236" y="404"/>
                  </a:lnTo>
                  <a:lnTo>
                    <a:pt x="169" y="572"/>
                  </a:lnTo>
                  <a:lnTo>
                    <a:pt x="135" y="640"/>
                  </a:lnTo>
                  <a:lnTo>
                    <a:pt x="202" y="707"/>
                  </a:lnTo>
                  <a:lnTo>
                    <a:pt x="270" y="707"/>
                  </a:lnTo>
                  <a:lnTo>
                    <a:pt x="337" y="673"/>
                  </a:lnTo>
                  <a:lnTo>
                    <a:pt x="404" y="539"/>
                  </a:lnTo>
                  <a:lnTo>
                    <a:pt x="438" y="370"/>
                  </a:lnTo>
                  <a:lnTo>
                    <a:pt x="438" y="236"/>
                  </a:lnTo>
                  <a:lnTo>
                    <a:pt x="438" y="67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hape 681"/>
            <p:cNvSpPr/>
            <p:nvPr/>
          </p:nvSpPr>
          <p:spPr>
            <a:xfrm>
              <a:off x="1137960" y="93600"/>
              <a:ext cx="37800" cy="4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4" h="708">
                  <a:moveTo>
                    <a:pt x="337" y="1"/>
                  </a:moveTo>
                  <a:lnTo>
                    <a:pt x="270" y="34"/>
                  </a:lnTo>
                  <a:lnTo>
                    <a:pt x="169" y="68"/>
                  </a:lnTo>
                  <a:lnTo>
                    <a:pt x="68" y="203"/>
                  </a:lnTo>
                  <a:lnTo>
                    <a:pt x="34" y="270"/>
                  </a:lnTo>
                  <a:lnTo>
                    <a:pt x="1" y="371"/>
                  </a:lnTo>
                  <a:lnTo>
                    <a:pt x="1" y="438"/>
                  </a:lnTo>
                  <a:lnTo>
                    <a:pt x="34" y="539"/>
                  </a:lnTo>
                  <a:lnTo>
                    <a:pt x="135" y="640"/>
                  </a:lnTo>
                  <a:lnTo>
                    <a:pt x="270" y="708"/>
                  </a:lnTo>
                  <a:lnTo>
                    <a:pt x="371" y="708"/>
                  </a:lnTo>
                  <a:lnTo>
                    <a:pt x="438" y="640"/>
                  </a:lnTo>
                  <a:lnTo>
                    <a:pt x="573" y="506"/>
                  </a:lnTo>
                  <a:lnTo>
                    <a:pt x="573" y="472"/>
                  </a:lnTo>
                  <a:lnTo>
                    <a:pt x="573" y="405"/>
                  </a:lnTo>
                  <a:lnTo>
                    <a:pt x="539" y="371"/>
                  </a:lnTo>
                  <a:lnTo>
                    <a:pt x="135" y="371"/>
                  </a:lnTo>
                  <a:lnTo>
                    <a:pt x="169" y="270"/>
                  </a:lnTo>
                  <a:lnTo>
                    <a:pt x="236" y="203"/>
                  </a:lnTo>
                  <a:lnTo>
                    <a:pt x="304" y="135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hape 682"/>
            <p:cNvSpPr/>
            <p:nvPr/>
          </p:nvSpPr>
          <p:spPr>
            <a:xfrm>
              <a:off x="745920" y="0"/>
              <a:ext cx="26640" cy="360"/>
            </a:xfrm>
            <a:custGeom>
              <a:avLst/>
              <a:gdLst/>
              <a:ahLst/>
              <a:rect l="l" t="t" r="r" b="b"/>
              <a:pathLst>
                <a:path w="405" h="1">
                  <a:moveTo>
                    <a:pt x="405" y="1"/>
                  </a:moveTo>
                  <a:lnTo>
                    <a:pt x="1" y="1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6640" bIns="-11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hape 683"/>
            <p:cNvSpPr/>
            <p:nvPr/>
          </p:nvSpPr>
          <p:spPr>
            <a:xfrm>
              <a:off x="0" y="1711080"/>
              <a:ext cx="520560" cy="799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846" h="12054">
                  <a:moveTo>
                    <a:pt x="1" y="1"/>
                  </a:moveTo>
                  <a:lnTo>
                    <a:pt x="1" y="203"/>
                  </a:lnTo>
                  <a:lnTo>
                    <a:pt x="405" y="304"/>
                  </a:lnTo>
                  <a:lnTo>
                    <a:pt x="842" y="371"/>
                  </a:lnTo>
                  <a:lnTo>
                    <a:pt x="1953" y="438"/>
                  </a:lnTo>
                  <a:lnTo>
                    <a:pt x="3065" y="539"/>
                  </a:lnTo>
                  <a:lnTo>
                    <a:pt x="4209" y="640"/>
                  </a:lnTo>
                  <a:lnTo>
                    <a:pt x="5354" y="809"/>
                  </a:lnTo>
                  <a:lnTo>
                    <a:pt x="6499" y="977"/>
                  </a:lnTo>
                  <a:lnTo>
                    <a:pt x="7643" y="1179"/>
                  </a:lnTo>
                  <a:lnTo>
                    <a:pt x="7542" y="1684"/>
                  </a:lnTo>
                  <a:lnTo>
                    <a:pt x="7441" y="2223"/>
                  </a:lnTo>
                  <a:lnTo>
                    <a:pt x="7340" y="3334"/>
                  </a:lnTo>
                  <a:lnTo>
                    <a:pt x="6903" y="6431"/>
                  </a:lnTo>
                  <a:lnTo>
                    <a:pt x="6532" y="9091"/>
                  </a:lnTo>
                  <a:lnTo>
                    <a:pt x="6128" y="11751"/>
                  </a:lnTo>
                  <a:lnTo>
                    <a:pt x="6095" y="11751"/>
                  </a:lnTo>
                  <a:lnTo>
                    <a:pt x="5691" y="11650"/>
                  </a:lnTo>
                  <a:lnTo>
                    <a:pt x="5320" y="11583"/>
                  </a:lnTo>
                  <a:lnTo>
                    <a:pt x="4546" y="11482"/>
                  </a:lnTo>
                  <a:lnTo>
                    <a:pt x="2964" y="11381"/>
                  </a:lnTo>
                  <a:lnTo>
                    <a:pt x="2593" y="11313"/>
                  </a:lnTo>
                  <a:lnTo>
                    <a:pt x="2223" y="11280"/>
                  </a:lnTo>
                  <a:lnTo>
                    <a:pt x="1482" y="11111"/>
                  </a:lnTo>
                  <a:lnTo>
                    <a:pt x="741" y="10943"/>
                  </a:lnTo>
                  <a:lnTo>
                    <a:pt x="371" y="10876"/>
                  </a:lnTo>
                  <a:lnTo>
                    <a:pt x="1" y="10842"/>
                  </a:lnTo>
                  <a:lnTo>
                    <a:pt x="1" y="11111"/>
                  </a:lnTo>
                  <a:lnTo>
                    <a:pt x="607" y="11212"/>
                  </a:lnTo>
                  <a:lnTo>
                    <a:pt x="1246" y="11347"/>
                  </a:lnTo>
                  <a:lnTo>
                    <a:pt x="1852" y="11482"/>
                  </a:lnTo>
                  <a:lnTo>
                    <a:pt x="2458" y="11583"/>
                  </a:lnTo>
                  <a:lnTo>
                    <a:pt x="3368" y="11650"/>
                  </a:lnTo>
                  <a:lnTo>
                    <a:pt x="4243" y="11717"/>
                  </a:lnTo>
                  <a:lnTo>
                    <a:pt x="5152" y="11818"/>
                  </a:lnTo>
                  <a:lnTo>
                    <a:pt x="5590" y="11886"/>
                  </a:lnTo>
                  <a:lnTo>
                    <a:pt x="6027" y="12020"/>
                  </a:lnTo>
                  <a:lnTo>
                    <a:pt x="6095" y="11987"/>
                  </a:lnTo>
                  <a:lnTo>
                    <a:pt x="6162" y="12054"/>
                  </a:lnTo>
                  <a:lnTo>
                    <a:pt x="6229" y="12054"/>
                  </a:lnTo>
                  <a:lnTo>
                    <a:pt x="6263" y="12020"/>
                  </a:lnTo>
                  <a:lnTo>
                    <a:pt x="6297" y="11987"/>
                  </a:lnTo>
                  <a:lnTo>
                    <a:pt x="6734" y="9226"/>
                  </a:lnTo>
                  <a:lnTo>
                    <a:pt x="7138" y="6499"/>
                  </a:lnTo>
                  <a:lnTo>
                    <a:pt x="7475" y="3839"/>
                  </a:lnTo>
                  <a:lnTo>
                    <a:pt x="7677" y="2492"/>
                  </a:lnTo>
                  <a:lnTo>
                    <a:pt x="7778" y="1819"/>
                  </a:lnTo>
                  <a:lnTo>
                    <a:pt x="7778" y="1146"/>
                  </a:lnTo>
                  <a:lnTo>
                    <a:pt x="7812" y="1112"/>
                  </a:lnTo>
                  <a:lnTo>
                    <a:pt x="7845" y="1078"/>
                  </a:lnTo>
                  <a:lnTo>
                    <a:pt x="7812" y="1011"/>
                  </a:lnTo>
                  <a:lnTo>
                    <a:pt x="7778" y="977"/>
                  </a:lnTo>
                  <a:lnTo>
                    <a:pt x="7778" y="944"/>
                  </a:lnTo>
                  <a:lnTo>
                    <a:pt x="7744" y="910"/>
                  </a:lnTo>
                  <a:lnTo>
                    <a:pt x="7711" y="910"/>
                  </a:lnTo>
                  <a:lnTo>
                    <a:pt x="7711" y="944"/>
                  </a:lnTo>
                  <a:lnTo>
                    <a:pt x="7677" y="977"/>
                  </a:lnTo>
                  <a:lnTo>
                    <a:pt x="6734" y="775"/>
                  </a:lnTo>
                  <a:lnTo>
                    <a:pt x="5792" y="640"/>
                  </a:lnTo>
                  <a:lnTo>
                    <a:pt x="3873" y="405"/>
                  </a:lnTo>
                  <a:lnTo>
                    <a:pt x="2896" y="304"/>
                  </a:lnTo>
                  <a:lnTo>
                    <a:pt x="1920" y="270"/>
                  </a:lnTo>
                  <a:lnTo>
                    <a:pt x="943" y="169"/>
                  </a:lnTo>
                  <a:lnTo>
                    <a:pt x="472" y="10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hape 684"/>
            <p:cNvSpPr/>
            <p:nvPr/>
          </p:nvSpPr>
          <p:spPr>
            <a:xfrm>
              <a:off x="509400" y="33120"/>
              <a:ext cx="20520" cy="156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4" h="2358">
                  <a:moveTo>
                    <a:pt x="67" y="1"/>
                  </a:moveTo>
                  <a:lnTo>
                    <a:pt x="34" y="34"/>
                  </a:lnTo>
                  <a:lnTo>
                    <a:pt x="34" y="68"/>
                  </a:lnTo>
                  <a:lnTo>
                    <a:pt x="0" y="304"/>
                  </a:lnTo>
                  <a:lnTo>
                    <a:pt x="0" y="573"/>
                  </a:lnTo>
                  <a:lnTo>
                    <a:pt x="0" y="1078"/>
                  </a:lnTo>
                  <a:lnTo>
                    <a:pt x="34" y="1718"/>
                  </a:lnTo>
                  <a:lnTo>
                    <a:pt x="101" y="2021"/>
                  </a:lnTo>
                  <a:lnTo>
                    <a:pt x="168" y="2290"/>
                  </a:lnTo>
                  <a:lnTo>
                    <a:pt x="202" y="2358"/>
                  </a:lnTo>
                  <a:lnTo>
                    <a:pt x="236" y="2358"/>
                  </a:lnTo>
                  <a:lnTo>
                    <a:pt x="303" y="2324"/>
                  </a:lnTo>
                  <a:lnTo>
                    <a:pt x="303" y="2290"/>
                  </a:lnTo>
                  <a:lnTo>
                    <a:pt x="303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02" y="573"/>
                  </a:lnTo>
                  <a:lnTo>
                    <a:pt x="168" y="304"/>
                  </a:lnTo>
                  <a:lnTo>
                    <a:pt x="135" y="34"/>
                  </a:lnTo>
                  <a:lnTo>
                    <a:pt x="101" y="3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hape 685"/>
            <p:cNvSpPr/>
            <p:nvPr/>
          </p:nvSpPr>
          <p:spPr>
            <a:xfrm>
              <a:off x="1515960" y="77760"/>
              <a:ext cx="33120" cy="5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06" h="775">
                  <a:moveTo>
                    <a:pt x="270" y="168"/>
                  </a:moveTo>
                  <a:lnTo>
                    <a:pt x="304" y="202"/>
                  </a:lnTo>
                  <a:lnTo>
                    <a:pt x="337" y="269"/>
                  </a:lnTo>
                  <a:lnTo>
                    <a:pt x="304" y="370"/>
                  </a:lnTo>
                  <a:lnTo>
                    <a:pt x="236" y="303"/>
                  </a:lnTo>
                  <a:lnTo>
                    <a:pt x="203" y="236"/>
                  </a:lnTo>
                  <a:lnTo>
                    <a:pt x="203" y="202"/>
                  </a:lnTo>
                  <a:lnTo>
                    <a:pt x="236" y="168"/>
                  </a:lnTo>
                  <a:close/>
                  <a:moveTo>
                    <a:pt x="203" y="0"/>
                  </a:moveTo>
                  <a:lnTo>
                    <a:pt x="102" y="67"/>
                  </a:lnTo>
                  <a:lnTo>
                    <a:pt x="34" y="135"/>
                  </a:lnTo>
                  <a:lnTo>
                    <a:pt x="1" y="236"/>
                  </a:lnTo>
                  <a:lnTo>
                    <a:pt x="34" y="337"/>
                  </a:lnTo>
                  <a:lnTo>
                    <a:pt x="102" y="404"/>
                  </a:lnTo>
                  <a:lnTo>
                    <a:pt x="169" y="471"/>
                  </a:lnTo>
                  <a:lnTo>
                    <a:pt x="68" y="539"/>
                  </a:lnTo>
                  <a:lnTo>
                    <a:pt x="34" y="606"/>
                  </a:lnTo>
                  <a:lnTo>
                    <a:pt x="68" y="673"/>
                  </a:lnTo>
                  <a:lnTo>
                    <a:pt x="135" y="741"/>
                  </a:lnTo>
                  <a:lnTo>
                    <a:pt x="203" y="774"/>
                  </a:lnTo>
                  <a:lnTo>
                    <a:pt x="304" y="774"/>
                  </a:lnTo>
                  <a:lnTo>
                    <a:pt x="371" y="741"/>
                  </a:lnTo>
                  <a:lnTo>
                    <a:pt x="438" y="707"/>
                  </a:lnTo>
                  <a:lnTo>
                    <a:pt x="506" y="640"/>
                  </a:lnTo>
                  <a:lnTo>
                    <a:pt x="506" y="572"/>
                  </a:lnTo>
                  <a:lnTo>
                    <a:pt x="438" y="471"/>
                  </a:lnTo>
                  <a:lnTo>
                    <a:pt x="472" y="471"/>
                  </a:lnTo>
                  <a:lnTo>
                    <a:pt x="472" y="438"/>
                  </a:lnTo>
                  <a:lnTo>
                    <a:pt x="472" y="404"/>
                  </a:lnTo>
                  <a:lnTo>
                    <a:pt x="438" y="337"/>
                  </a:lnTo>
                  <a:lnTo>
                    <a:pt x="472" y="269"/>
                  </a:lnTo>
                  <a:lnTo>
                    <a:pt x="472" y="168"/>
                  </a:lnTo>
                  <a:lnTo>
                    <a:pt x="472" y="101"/>
                  </a:lnTo>
                  <a:lnTo>
                    <a:pt x="371" y="3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hape 686"/>
            <p:cNvSpPr/>
            <p:nvPr/>
          </p:nvSpPr>
          <p:spPr>
            <a:xfrm>
              <a:off x="545760" y="0"/>
              <a:ext cx="149040" cy="10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57" h="170">
                  <a:moveTo>
                    <a:pt x="304" y="1"/>
                  </a:moveTo>
                  <a:lnTo>
                    <a:pt x="1" y="68"/>
                  </a:lnTo>
                  <a:lnTo>
                    <a:pt x="1" y="102"/>
                  </a:lnTo>
                  <a:lnTo>
                    <a:pt x="236" y="135"/>
                  </a:lnTo>
                  <a:lnTo>
                    <a:pt x="472" y="169"/>
                  </a:lnTo>
                  <a:lnTo>
                    <a:pt x="977" y="135"/>
                  </a:lnTo>
                  <a:lnTo>
                    <a:pt x="1549" y="135"/>
                  </a:lnTo>
                  <a:lnTo>
                    <a:pt x="2021" y="102"/>
                  </a:lnTo>
                  <a:lnTo>
                    <a:pt x="2054" y="135"/>
                  </a:lnTo>
                  <a:lnTo>
                    <a:pt x="2122" y="169"/>
                  </a:lnTo>
                  <a:lnTo>
                    <a:pt x="2189" y="135"/>
                  </a:lnTo>
                  <a:lnTo>
                    <a:pt x="2223" y="68"/>
                  </a:lnTo>
                  <a:lnTo>
                    <a:pt x="2256" y="34"/>
                  </a:lnTo>
                  <a:lnTo>
                    <a:pt x="22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5840" bIns="-105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hape 687"/>
            <p:cNvSpPr/>
            <p:nvPr/>
          </p:nvSpPr>
          <p:spPr>
            <a:xfrm>
              <a:off x="880920" y="6120"/>
              <a:ext cx="164880" cy="179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93" h="2695">
                  <a:moveTo>
                    <a:pt x="2290" y="203"/>
                  </a:moveTo>
                  <a:lnTo>
                    <a:pt x="2223" y="741"/>
                  </a:lnTo>
                  <a:lnTo>
                    <a:pt x="2223" y="1280"/>
                  </a:lnTo>
                  <a:lnTo>
                    <a:pt x="2223" y="1819"/>
                  </a:lnTo>
                  <a:lnTo>
                    <a:pt x="2290" y="2324"/>
                  </a:lnTo>
                  <a:lnTo>
                    <a:pt x="2290" y="2357"/>
                  </a:lnTo>
                  <a:lnTo>
                    <a:pt x="2055" y="2324"/>
                  </a:lnTo>
                  <a:lnTo>
                    <a:pt x="1819" y="2357"/>
                  </a:lnTo>
                  <a:lnTo>
                    <a:pt x="371" y="2357"/>
                  </a:lnTo>
                  <a:lnTo>
                    <a:pt x="270" y="1314"/>
                  </a:lnTo>
                  <a:lnTo>
                    <a:pt x="203" y="236"/>
                  </a:lnTo>
                  <a:lnTo>
                    <a:pt x="708" y="270"/>
                  </a:lnTo>
                  <a:lnTo>
                    <a:pt x="1247" y="270"/>
                  </a:lnTo>
                  <a:lnTo>
                    <a:pt x="2290" y="203"/>
                  </a:lnTo>
                  <a:close/>
                  <a:moveTo>
                    <a:pt x="2324" y="1"/>
                  </a:moveTo>
                  <a:lnTo>
                    <a:pt x="1785" y="34"/>
                  </a:lnTo>
                  <a:lnTo>
                    <a:pt x="1213" y="34"/>
                  </a:lnTo>
                  <a:lnTo>
                    <a:pt x="674" y="68"/>
                  </a:lnTo>
                  <a:lnTo>
                    <a:pt x="169" y="102"/>
                  </a:lnTo>
                  <a:lnTo>
                    <a:pt x="102" y="102"/>
                  </a:lnTo>
                  <a:lnTo>
                    <a:pt x="68" y="169"/>
                  </a:lnTo>
                  <a:lnTo>
                    <a:pt x="35" y="169"/>
                  </a:lnTo>
                  <a:lnTo>
                    <a:pt x="35" y="236"/>
                  </a:lnTo>
                  <a:lnTo>
                    <a:pt x="1" y="809"/>
                  </a:lnTo>
                  <a:lnTo>
                    <a:pt x="1" y="1415"/>
                  </a:lnTo>
                  <a:lnTo>
                    <a:pt x="68" y="2021"/>
                  </a:lnTo>
                  <a:lnTo>
                    <a:pt x="169" y="2627"/>
                  </a:lnTo>
                  <a:lnTo>
                    <a:pt x="237" y="2694"/>
                  </a:lnTo>
                  <a:lnTo>
                    <a:pt x="304" y="2694"/>
                  </a:lnTo>
                  <a:lnTo>
                    <a:pt x="371" y="2661"/>
                  </a:lnTo>
                  <a:lnTo>
                    <a:pt x="405" y="2593"/>
                  </a:lnTo>
                  <a:lnTo>
                    <a:pt x="405" y="2492"/>
                  </a:lnTo>
                  <a:lnTo>
                    <a:pt x="843" y="2593"/>
                  </a:lnTo>
                  <a:lnTo>
                    <a:pt x="1348" y="2627"/>
                  </a:lnTo>
                  <a:lnTo>
                    <a:pt x="1853" y="2593"/>
                  </a:lnTo>
                  <a:lnTo>
                    <a:pt x="2055" y="2560"/>
                  </a:lnTo>
                  <a:lnTo>
                    <a:pt x="2290" y="2492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425" y="2391"/>
                  </a:lnTo>
                  <a:lnTo>
                    <a:pt x="2459" y="2357"/>
                  </a:lnTo>
                  <a:lnTo>
                    <a:pt x="2459" y="2324"/>
                  </a:lnTo>
                  <a:lnTo>
                    <a:pt x="2492" y="1785"/>
                  </a:lnTo>
                  <a:lnTo>
                    <a:pt x="2459" y="1246"/>
                  </a:lnTo>
                  <a:lnTo>
                    <a:pt x="2425" y="708"/>
                  </a:lnTo>
                  <a:lnTo>
                    <a:pt x="2391" y="169"/>
                  </a:lnTo>
                  <a:lnTo>
                    <a:pt x="2425" y="135"/>
                  </a:lnTo>
                  <a:lnTo>
                    <a:pt x="2391" y="68"/>
                  </a:lnTo>
                  <a:lnTo>
                    <a:pt x="235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hape 688"/>
            <p:cNvSpPr/>
            <p:nvPr/>
          </p:nvSpPr>
          <p:spPr>
            <a:xfrm>
              <a:off x="576000" y="997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8" h="1045">
                  <a:moveTo>
                    <a:pt x="269" y="1"/>
                  </a:moveTo>
                  <a:lnTo>
                    <a:pt x="202" y="68"/>
                  </a:lnTo>
                  <a:lnTo>
                    <a:pt x="101" y="10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0" y="304"/>
                  </a:lnTo>
                  <a:lnTo>
                    <a:pt x="34" y="337"/>
                  </a:lnTo>
                  <a:lnTo>
                    <a:pt x="101" y="304"/>
                  </a:lnTo>
                  <a:lnTo>
                    <a:pt x="202" y="236"/>
                  </a:lnTo>
                  <a:lnTo>
                    <a:pt x="303" y="169"/>
                  </a:lnTo>
                  <a:lnTo>
                    <a:pt x="337" y="169"/>
                  </a:lnTo>
                  <a:lnTo>
                    <a:pt x="404" y="203"/>
                  </a:lnTo>
                  <a:lnTo>
                    <a:pt x="404" y="236"/>
                  </a:lnTo>
                  <a:lnTo>
                    <a:pt x="438" y="270"/>
                  </a:lnTo>
                  <a:lnTo>
                    <a:pt x="370" y="371"/>
                  </a:lnTo>
                  <a:lnTo>
                    <a:pt x="236" y="506"/>
                  </a:lnTo>
                  <a:lnTo>
                    <a:pt x="168" y="640"/>
                  </a:lnTo>
                  <a:lnTo>
                    <a:pt x="168" y="708"/>
                  </a:lnTo>
                  <a:lnTo>
                    <a:pt x="168" y="741"/>
                  </a:lnTo>
                  <a:lnTo>
                    <a:pt x="236" y="775"/>
                  </a:lnTo>
                  <a:lnTo>
                    <a:pt x="269" y="775"/>
                  </a:lnTo>
                  <a:lnTo>
                    <a:pt x="337" y="741"/>
                  </a:lnTo>
                  <a:lnTo>
                    <a:pt x="471" y="741"/>
                  </a:lnTo>
                  <a:lnTo>
                    <a:pt x="438" y="842"/>
                  </a:lnTo>
                  <a:lnTo>
                    <a:pt x="404" y="876"/>
                  </a:lnTo>
                  <a:lnTo>
                    <a:pt x="202" y="876"/>
                  </a:lnTo>
                  <a:lnTo>
                    <a:pt x="168" y="910"/>
                  </a:lnTo>
                  <a:lnTo>
                    <a:pt x="168" y="977"/>
                  </a:lnTo>
                  <a:lnTo>
                    <a:pt x="236" y="1011"/>
                  </a:lnTo>
                  <a:lnTo>
                    <a:pt x="337" y="1044"/>
                  </a:lnTo>
                  <a:lnTo>
                    <a:pt x="505" y="1011"/>
                  </a:lnTo>
                  <a:lnTo>
                    <a:pt x="606" y="977"/>
                  </a:lnTo>
                  <a:lnTo>
                    <a:pt x="673" y="943"/>
                  </a:lnTo>
                  <a:lnTo>
                    <a:pt x="707" y="876"/>
                  </a:lnTo>
                  <a:lnTo>
                    <a:pt x="707" y="775"/>
                  </a:lnTo>
                  <a:lnTo>
                    <a:pt x="673" y="674"/>
                  </a:lnTo>
                  <a:lnTo>
                    <a:pt x="606" y="607"/>
                  </a:lnTo>
                  <a:lnTo>
                    <a:pt x="539" y="573"/>
                  </a:lnTo>
                  <a:lnTo>
                    <a:pt x="438" y="539"/>
                  </a:lnTo>
                  <a:lnTo>
                    <a:pt x="505" y="472"/>
                  </a:lnTo>
                  <a:lnTo>
                    <a:pt x="572" y="371"/>
                  </a:lnTo>
                  <a:lnTo>
                    <a:pt x="606" y="236"/>
                  </a:lnTo>
                  <a:lnTo>
                    <a:pt x="572" y="102"/>
                  </a:lnTo>
                  <a:lnTo>
                    <a:pt x="505" y="68"/>
                  </a:lnTo>
                  <a:lnTo>
                    <a:pt x="438" y="34"/>
                  </a:lnTo>
                  <a:lnTo>
                    <a:pt x="37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hape 689"/>
            <p:cNvSpPr/>
            <p:nvPr/>
          </p:nvSpPr>
          <p:spPr>
            <a:xfrm>
              <a:off x="520560" y="26640"/>
              <a:ext cx="153720" cy="160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324" h="2425">
                  <a:moveTo>
                    <a:pt x="2121" y="1"/>
                  </a:moveTo>
                  <a:lnTo>
                    <a:pt x="1515" y="34"/>
                  </a:lnTo>
                  <a:lnTo>
                    <a:pt x="909" y="68"/>
                  </a:lnTo>
                  <a:lnTo>
                    <a:pt x="438" y="34"/>
                  </a:lnTo>
                  <a:lnTo>
                    <a:pt x="202" y="68"/>
                  </a:lnTo>
                  <a:lnTo>
                    <a:pt x="0" y="135"/>
                  </a:lnTo>
                  <a:lnTo>
                    <a:pt x="68" y="203"/>
                  </a:lnTo>
                  <a:lnTo>
                    <a:pt x="169" y="236"/>
                  </a:lnTo>
                  <a:lnTo>
                    <a:pt x="337" y="304"/>
                  </a:lnTo>
                  <a:lnTo>
                    <a:pt x="775" y="304"/>
                  </a:lnTo>
                  <a:lnTo>
                    <a:pt x="1381" y="270"/>
                  </a:lnTo>
                  <a:lnTo>
                    <a:pt x="2020" y="236"/>
                  </a:lnTo>
                  <a:lnTo>
                    <a:pt x="1987" y="438"/>
                  </a:lnTo>
                  <a:lnTo>
                    <a:pt x="1987" y="674"/>
                  </a:lnTo>
                  <a:lnTo>
                    <a:pt x="2020" y="1078"/>
                  </a:lnTo>
                  <a:lnTo>
                    <a:pt x="2054" y="1617"/>
                  </a:lnTo>
                  <a:lnTo>
                    <a:pt x="2054" y="1886"/>
                  </a:lnTo>
                  <a:lnTo>
                    <a:pt x="2088" y="2155"/>
                  </a:lnTo>
                  <a:lnTo>
                    <a:pt x="539" y="2155"/>
                  </a:lnTo>
                  <a:lnTo>
                    <a:pt x="371" y="2189"/>
                  </a:lnTo>
                  <a:lnTo>
                    <a:pt x="270" y="2223"/>
                  </a:lnTo>
                  <a:lnTo>
                    <a:pt x="169" y="2290"/>
                  </a:lnTo>
                  <a:lnTo>
                    <a:pt x="202" y="2290"/>
                  </a:lnTo>
                  <a:lnTo>
                    <a:pt x="270" y="2358"/>
                  </a:lnTo>
                  <a:lnTo>
                    <a:pt x="371" y="2391"/>
                  </a:lnTo>
                  <a:lnTo>
                    <a:pt x="573" y="2425"/>
                  </a:lnTo>
                  <a:lnTo>
                    <a:pt x="977" y="2391"/>
                  </a:lnTo>
                  <a:lnTo>
                    <a:pt x="2222" y="2391"/>
                  </a:lnTo>
                  <a:lnTo>
                    <a:pt x="2290" y="2358"/>
                  </a:lnTo>
                  <a:lnTo>
                    <a:pt x="2323" y="2290"/>
                  </a:lnTo>
                  <a:lnTo>
                    <a:pt x="2323" y="2223"/>
                  </a:lnTo>
                  <a:lnTo>
                    <a:pt x="2290" y="2189"/>
                  </a:lnTo>
                  <a:lnTo>
                    <a:pt x="2290" y="1920"/>
                  </a:lnTo>
                  <a:lnTo>
                    <a:pt x="2290" y="1617"/>
                  </a:lnTo>
                  <a:lnTo>
                    <a:pt x="2256" y="1078"/>
                  </a:lnTo>
                  <a:lnTo>
                    <a:pt x="2256" y="640"/>
                  </a:lnTo>
                  <a:lnTo>
                    <a:pt x="2222" y="405"/>
                  </a:lnTo>
                  <a:lnTo>
                    <a:pt x="2189" y="203"/>
                  </a:lnTo>
                  <a:lnTo>
                    <a:pt x="2222" y="169"/>
                  </a:lnTo>
                  <a:lnTo>
                    <a:pt x="2222" y="102"/>
                  </a:lnTo>
                  <a:lnTo>
                    <a:pt x="2189" y="34"/>
                  </a:lnTo>
                  <a:lnTo>
                    <a:pt x="212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hape 690"/>
            <p:cNvSpPr/>
            <p:nvPr/>
          </p:nvSpPr>
          <p:spPr>
            <a:xfrm>
              <a:off x="720720" y="0"/>
              <a:ext cx="10800" cy="14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0" h="35">
                  <a:moveTo>
                    <a:pt x="1" y="1"/>
                  </a:moveTo>
                  <a:lnTo>
                    <a:pt x="35" y="34"/>
                  </a:lnTo>
                  <a:lnTo>
                    <a:pt x="136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5200" bIns="-115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hape 691"/>
            <p:cNvSpPr/>
            <p:nvPr/>
          </p:nvSpPr>
          <p:spPr>
            <a:xfrm>
              <a:off x="1176120" y="174600"/>
              <a:ext cx="164880" cy="179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92" h="2695">
                  <a:moveTo>
                    <a:pt x="2290" y="237"/>
                  </a:moveTo>
                  <a:lnTo>
                    <a:pt x="2222" y="742"/>
                  </a:lnTo>
                  <a:lnTo>
                    <a:pt x="2189" y="1280"/>
                  </a:lnTo>
                  <a:lnTo>
                    <a:pt x="2222" y="1819"/>
                  </a:lnTo>
                  <a:lnTo>
                    <a:pt x="2290" y="2324"/>
                  </a:lnTo>
                  <a:lnTo>
                    <a:pt x="2290" y="2358"/>
                  </a:lnTo>
                  <a:lnTo>
                    <a:pt x="1818" y="2358"/>
                  </a:lnTo>
                  <a:lnTo>
                    <a:pt x="1347" y="2391"/>
                  </a:lnTo>
                  <a:lnTo>
                    <a:pt x="370" y="2391"/>
                  </a:lnTo>
                  <a:lnTo>
                    <a:pt x="269" y="1314"/>
                  </a:lnTo>
                  <a:lnTo>
                    <a:pt x="202" y="270"/>
                  </a:lnTo>
                  <a:lnTo>
                    <a:pt x="707" y="304"/>
                  </a:lnTo>
                  <a:lnTo>
                    <a:pt x="1246" y="304"/>
                  </a:lnTo>
                  <a:lnTo>
                    <a:pt x="2290" y="237"/>
                  </a:lnTo>
                  <a:close/>
                  <a:moveTo>
                    <a:pt x="2323" y="1"/>
                  </a:moveTo>
                  <a:lnTo>
                    <a:pt x="1785" y="35"/>
                  </a:lnTo>
                  <a:lnTo>
                    <a:pt x="1212" y="68"/>
                  </a:lnTo>
                  <a:lnTo>
                    <a:pt x="673" y="68"/>
                  </a:lnTo>
                  <a:lnTo>
                    <a:pt x="135" y="102"/>
                  </a:lnTo>
                  <a:lnTo>
                    <a:pt x="101" y="136"/>
                  </a:lnTo>
                  <a:lnTo>
                    <a:pt x="67" y="169"/>
                  </a:lnTo>
                  <a:lnTo>
                    <a:pt x="34" y="203"/>
                  </a:lnTo>
                  <a:lnTo>
                    <a:pt x="34" y="237"/>
                  </a:lnTo>
                  <a:lnTo>
                    <a:pt x="0" y="843"/>
                  </a:lnTo>
                  <a:lnTo>
                    <a:pt x="0" y="1449"/>
                  </a:lnTo>
                  <a:lnTo>
                    <a:pt x="67" y="2055"/>
                  </a:lnTo>
                  <a:lnTo>
                    <a:pt x="168" y="2627"/>
                  </a:lnTo>
                  <a:lnTo>
                    <a:pt x="236" y="2694"/>
                  </a:lnTo>
                  <a:lnTo>
                    <a:pt x="303" y="2694"/>
                  </a:lnTo>
                  <a:lnTo>
                    <a:pt x="370" y="2661"/>
                  </a:lnTo>
                  <a:lnTo>
                    <a:pt x="404" y="2593"/>
                  </a:lnTo>
                  <a:lnTo>
                    <a:pt x="404" y="2526"/>
                  </a:lnTo>
                  <a:lnTo>
                    <a:pt x="842" y="2593"/>
                  </a:lnTo>
                  <a:lnTo>
                    <a:pt x="1347" y="2627"/>
                  </a:lnTo>
                  <a:lnTo>
                    <a:pt x="1852" y="2627"/>
                  </a:lnTo>
                  <a:lnTo>
                    <a:pt x="2054" y="2560"/>
                  </a:lnTo>
                  <a:lnTo>
                    <a:pt x="2290" y="2526"/>
                  </a:lnTo>
                  <a:lnTo>
                    <a:pt x="2323" y="2459"/>
                  </a:lnTo>
                  <a:lnTo>
                    <a:pt x="2323" y="2391"/>
                  </a:lnTo>
                  <a:lnTo>
                    <a:pt x="2357" y="2425"/>
                  </a:lnTo>
                  <a:lnTo>
                    <a:pt x="2424" y="2425"/>
                  </a:lnTo>
                  <a:lnTo>
                    <a:pt x="2458" y="2391"/>
                  </a:lnTo>
                  <a:lnTo>
                    <a:pt x="2458" y="2324"/>
                  </a:lnTo>
                  <a:lnTo>
                    <a:pt x="2492" y="1819"/>
                  </a:lnTo>
                  <a:lnTo>
                    <a:pt x="2458" y="1280"/>
                  </a:lnTo>
                  <a:lnTo>
                    <a:pt x="2424" y="708"/>
                  </a:lnTo>
                  <a:lnTo>
                    <a:pt x="2391" y="203"/>
                  </a:lnTo>
                  <a:lnTo>
                    <a:pt x="2391" y="136"/>
                  </a:lnTo>
                  <a:lnTo>
                    <a:pt x="2391" y="68"/>
                  </a:lnTo>
                  <a:lnTo>
                    <a:pt x="2357" y="35"/>
                  </a:lnTo>
                  <a:lnTo>
                    <a:pt x="23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hape 692"/>
            <p:cNvSpPr/>
            <p:nvPr/>
          </p:nvSpPr>
          <p:spPr>
            <a:xfrm>
              <a:off x="1180800" y="368280"/>
              <a:ext cx="17280" cy="155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70" h="2325">
                  <a:moveTo>
                    <a:pt x="68" y="1"/>
                  </a:moveTo>
                  <a:lnTo>
                    <a:pt x="34" y="35"/>
                  </a:lnTo>
                  <a:lnTo>
                    <a:pt x="0" y="304"/>
                  </a:lnTo>
                  <a:lnTo>
                    <a:pt x="0" y="540"/>
                  </a:lnTo>
                  <a:lnTo>
                    <a:pt x="34" y="1078"/>
                  </a:lnTo>
                  <a:lnTo>
                    <a:pt x="0" y="1684"/>
                  </a:lnTo>
                  <a:lnTo>
                    <a:pt x="0" y="1987"/>
                  </a:lnTo>
                  <a:lnTo>
                    <a:pt x="34" y="2257"/>
                  </a:lnTo>
                  <a:lnTo>
                    <a:pt x="68" y="2324"/>
                  </a:lnTo>
                  <a:lnTo>
                    <a:pt x="169" y="2324"/>
                  </a:lnTo>
                  <a:lnTo>
                    <a:pt x="169" y="2290"/>
                  </a:lnTo>
                  <a:lnTo>
                    <a:pt x="236" y="1987"/>
                  </a:lnTo>
                  <a:lnTo>
                    <a:pt x="270" y="1684"/>
                  </a:lnTo>
                  <a:lnTo>
                    <a:pt x="236" y="1078"/>
                  </a:lnTo>
                  <a:lnTo>
                    <a:pt x="236" y="540"/>
                  </a:lnTo>
                  <a:lnTo>
                    <a:pt x="202" y="270"/>
                  </a:lnTo>
                  <a:lnTo>
                    <a:pt x="135" y="35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hape 693"/>
            <p:cNvSpPr/>
            <p:nvPr/>
          </p:nvSpPr>
          <p:spPr>
            <a:xfrm>
              <a:off x="1245960" y="241200"/>
              <a:ext cx="39600" cy="47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7" h="708">
                  <a:moveTo>
                    <a:pt x="573" y="1"/>
                  </a:moveTo>
                  <a:lnTo>
                    <a:pt x="439" y="102"/>
                  </a:lnTo>
                  <a:lnTo>
                    <a:pt x="304" y="203"/>
                  </a:lnTo>
                  <a:lnTo>
                    <a:pt x="237" y="169"/>
                  </a:lnTo>
                  <a:lnTo>
                    <a:pt x="169" y="102"/>
                  </a:lnTo>
                  <a:lnTo>
                    <a:pt x="68" y="35"/>
                  </a:lnTo>
                  <a:lnTo>
                    <a:pt x="1" y="35"/>
                  </a:lnTo>
                  <a:lnTo>
                    <a:pt x="1" y="68"/>
                  </a:lnTo>
                  <a:lnTo>
                    <a:pt x="34" y="169"/>
                  </a:lnTo>
                  <a:lnTo>
                    <a:pt x="135" y="304"/>
                  </a:lnTo>
                  <a:lnTo>
                    <a:pt x="169" y="338"/>
                  </a:lnTo>
                  <a:lnTo>
                    <a:pt x="34" y="573"/>
                  </a:lnTo>
                  <a:lnTo>
                    <a:pt x="34" y="641"/>
                  </a:lnTo>
                  <a:lnTo>
                    <a:pt x="68" y="708"/>
                  </a:lnTo>
                  <a:lnTo>
                    <a:pt x="169" y="708"/>
                  </a:lnTo>
                  <a:lnTo>
                    <a:pt x="203" y="674"/>
                  </a:lnTo>
                  <a:lnTo>
                    <a:pt x="371" y="371"/>
                  </a:lnTo>
                  <a:lnTo>
                    <a:pt x="439" y="371"/>
                  </a:lnTo>
                  <a:lnTo>
                    <a:pt x="472" y="338"/>
                  </a:lnTo>
                  <a:lnTo>
                    <a:pt x="439" y="270"/>
                  </a:lnTo>
                  <a:lnTo>
                    <a:pt x="60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hape 694"/>
            <p:cNvSpPr/>
            <p:nvPr/>
          </p:nvSpPr>
          <p:spPr>
            <a:xfrm>
              <a:off x="1253880" y="0"/>
              <a:ext cx="169560" cy="15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60" h="2358">
                  <a:moveTo>
                    <a:pt x="169" y="102"/>
                  </a:moveTo>
                  <a:lnTo>
                    <a:pt x="371" y="169"/>
                  </a:lnTo>
                  <a:lnTo>
                    <a:pt x="573" y="203"/>
                  </a:lnTo>
                  <a:lnTo>
                    <a:pt x="1011" y="203"/>
                  </a:lnTo>
                  <a:lnTo>
                    <a:pt x="1650" y="236"/>
                  </a:lnTo>
                  <a:lnTo>
                    <a:pt x="2324" y="236"/>
                  </a:lnTo>
                  <a:lnTo>
                    <a:pt x="2324" y="607"/>
                  </a:lnTo>
                  <a:lnTo>
                    <a:pt x="2324" y="1011"/>
                  </a:lnTo>
                  <a:lnTo>
                    <a:pt x="2324" y="1516"/>
                  </a:lnTo>
                  <a:lnTo>
                    <a:pt x="2357" y="1751"/>
                  </a:lnTo>
                  <a:lnTo>
                    <a:pt x="2391" y="2021"/>
                  </a:lnTo>
                  <a:lnTo>
                    <a:pt x="1347" y="2021"/>
                  </a:lnTo>
                  <a:lnTo>
                    <a:pt x="809" y="2054"/>
                  </a:lnTo>
                  <a:lnTo>
                    <a:pt x="539" y="2088"/>
                  </a:lnTo>
                  <a:lnTo>
                    <a:pt x="304" y="2155"/>
                  </a:lnTo>
                  <a:lnTo>
                    <a:pt x="270" y="1650"/>
                  </a:lnTo>
                  <a:lnTo>
                    <a:pt x="236" y="1145"/>
                  </a:lnTo>
                  <a:lnTo>
                    <a:pt x="270" y="607"/>
                  </a:lnTo>
                  <a:lnTo>
                    <a:pt x="236" y="337"/>
                  </a:lnTo>
                  <a:lnTo>
                    <a:pt x="203" y="236"/>
                  </a:lnTo>
                  <a:lnTo>
                    <a:pt x="169" y="102"/>
                  </a:lnTo>
                  <a:close/>
                  <a:moveTo>
                    <a:pt x="371" y="1"/>
                  </a:moveTo>
                  <a:lnTo>
                    <a:pt x="270" y="34"/>
                  </a:lnTo>
                  <a:lnTo>
                    <a:pt x="169" y="102"/>
                  </a:lnTo>
                  <a:lnTo>
                    <a:pt x="135" y="102"/>
                  </a:lnTo>
                  <a:lnTo>
                    <a:pt x="68" y="270"/>
                  </a:lnTo>
                  <a:lnTo>
                    <a:pt x="34" y="405"/>
                  </a:lnTo>
                  <a:lnTo>
                    <a:pt x="0" y="775"/>
                  </a:lnTo>
                  <a:lnTo>
                    <a:pt x="34" y="1516"/>
                  </a:lnTo>
                  <a:lnTo>
                    <a:pt x="34" y="1718"/>
                  </a:lnTo>
                  <a:lnTo>
                    <a:pt x="34" y="1987"/>
                  </a:lnTo>
                  <a:lnTo>
                    <a:pt x="68" y="2088"/>
                  </a:lnTo>
                  <a:lnTo>
                    <a:pt x="102" y="2223"/>
                  </a:lnTo>
                  <a:lnTo>
                    <a:pt x="169" y="2290"/>
                  </a:lnTo>
                  <a:lnTo>
                    <a:pt x="270" y="2357"/>
                  </a:lnTo>
                  <a:lnTo>
                    <a:pt x="304" y="2324"/>
                  </a:lnTo>
                  <a:lnTo>
                    <a:pt x="337" y="2290"/>
                  </a:lnTo>
                  <a:lnTo>
                    <a:pt x="573" y="2324"/>
                  </a:lnTo>
                  <a:lnTo>
                    <a:pt x="1347" y="2324"/>
                  </a:lnTo>
                  <a:lnTo>
                    <a:pt x="2391" y="2223"/>
                  </a:lnTo>
                  <a:lnTo>
                    <a:pt x="2526" y="2223"/>
                  </a:lnTo>
                  <a:lnTo>
                    <a:pt x="2526" y="2189"/>
                  </a:lnTo>
                  <a:lnTo>
                    <a:pt x="2559" y="1953"/>
                  </a:lnTo>
                  <a:lnTo>
                    <a:pt x="2559" y="1684"/>
                  </a:lnTo>
                  <a:lnTo>
                    <a:pt x="2526" y="1179"/>
                  </a:lnTo>
                  <a:lnTo>
                    <a:pt x="2526" y="573"/>
                  </a:lnTo>
                  <a:lnTo>
                    <a:pt x="2492" y="304"/>
                  </a:lnTo>
                  <a:lnTo>
                    <a:pt x="2458" y="1"/>
                  </a:lnTo>
                  <a:lnTo>
                    <a:pt x="2357" y="1"/>
                  </a:lnTo>
                  <a:lnTo>
                    <a:pt x="2324" y="34"/>
                  </a:lnTo>
                  <a:lnTo>
                    <a:pt x="181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hape 695"/>
            <p:cNvSpPr/>
            <p:nvPr/>
          </p:nvSpPr>
          <p:spPr>
            <a:xfrm>
              <a:off x="1882800" y="64800"/>
              <a:ext cx="41040" cy="47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7" h="708">
                  <a:moveTo>
                    <a:pt x="371" y="370"/>
                  </a:moveTo>
                  <a:lnTo>
                    <a:pt x="371" y="438"/>
                  </a:lnTo>
                  <a:lnTo>
                    <a:pt x="337" y="471"/>
                  </a:lnTo>
                  <a:lnTo>
                    <a:pt x="270" y="505"/>
                  </a:lnTo>
                  <a:lnTo>
                    <a:pt x="169" y="505"/>
                  </a:lnTo>
                  <a:lnTo>
                    <a:pt x="202" y="438"/>
                  </a:lnTo>
                  <a:lnTo>
                    <a:pt x="236" y="404"/>
                  </a:lnTo>
                  <a:lnTo>
                    <a:pt x="337" y="370"/>
                  </a:lnTo>
                  <a:close/>
                  <a:moveTo>
                    <a:pt x="371" y="0"/>
                  </a:moveTo>
                  <a:lnTo>
                    <a:pt x="236" y="34"/>
                  </a:lnTo>
                  <a:lnTo>
                    <a:pt x="202" y="67"/>
                  </a:lnTo>
                  <a:lnTo>
                    <a:pt x="169" y="135"/>
                  </a:lnTo>
                  <a:lnTo>
                    <a:pt x="169" y="168"/>
                  </a:lnTo>
                  <a:lnTo>
                    <a:pt x="169" y="236"/>
                  </a:lnTo>
                  <a:lnTo>
                    <a:pt x="202" y="236"/>
                  </a:lnTo>
                  <a:lnTo>
                    <a:pt x="135" y="269"/>
                  </a:lnTo>
                  <a:lnTo>
                    <a:pt x="34" y="337"/>
                  </a:lnTo>
                  <a:lnTo>
                    <a:pt x="0" y="471"/>
                  </a:lnTo>
                  <a:lnTo>
                    <a:pt x="0" y="572"/>
                  </a:lnTo>
                  <a:lnTo>
                    <a:pt x="34" y="673"/>
                  </a:lnTo>
                  <a:lnTo>
                    <a:pt x="135" y="707"/>
                  </a:lnTo>
                  <a:lnTo>
                    <a:pt x="371" y="707"/>
                  </a:lnTo>
                  <a:lnTo>
                    <a:pt x="472" y="640"/>
                  </a:lnTo>
                  <a:lnTo>
                    <a:pt x="573" y="505"/>
                  </a:lnTo>
                  <a:lnTo>
                    <a:pt x="606" y="370"/>
                  </a:lnTo>
                  <a:lnTo>
                    <a:pt x="606" y="236"/>
                  </a:lnTo>
                  <a:lnTo>
                    <a:pt x="573" y="101"/>
                  </a:lnTo>
                  <a:lnTo>
                    <a:pt x="539" y="34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hape 696"/>
            <p:cNvSpPr/>
            <p:nvPr/>
          </p:nvSpPr>
          <p:spPr>
            <a:xfrm>
              <a:off x="871560" y="252360"/>
              <a:ext cx="37800" cy="55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3" h="842">
                  <a:moveTo>
                    <a:pt x="371" y="202"/>
                  </a:moveTo>
                  <a:lnTo>
                    <a:pt x="337" y="337"/>
                  </a:lnTo>
                  <a:lnTo>
                    <a:pt x="270" y="371"/>
                  </a:lnTo>
                  <a:lnTo>
                    <a:pt x="202" y="404"/>
                  </a:lnTo>
                  <a:lnTo>
                    <a:pt x="169" y="472"/>
                  </a:lnTo>
                  <a:lnTo>
                    <a:pt x="169" y="438"/>
                  </a:lnTo>
                  <a:lnTo>
                    <a:pt x="169" y="371"/>
                  </a:lnTo>
                  <a:lnTo>
                    <a:pt x="202" y="303"/>
                  </a:lnTo>
                  <a:lnTo>
                    <a:pt x="236" y="236"/>
                  </a:lnTo>
                  <a:lnTo>
                    <a:pt x="303" y="202"/>
                  </a:lnTo>
                  <a:close/>
                  <a:moveTo>
                    <a:pt x="371" y="0"/>
                  </a:moveTo>
                  <a:lnTo>
                    <a:pt x="236" y="68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34" y="169"/>
                  </a:lnTo>
                  <a:lnTo>
                    <a:pt x="34" y="236"/>
                  </a:lnTo>
                  <a:lnTo>
                    <a:pt x="0" y="371"/>
                  </a:lnTo>
                  <a:lnTo>
                    <a:pt x="0" y="505"/>
                  </a:lnTo>
                  <a:lnTo>
                    <a:pt x="68" y="775"/>
                  </a:lnTo>
                  <a:lnTo>
                    <a:pt x="68" y="808"/>
                  </a:lnTo>
                  <a:lnTo>
                    <a:pt x="135" y="808"/>
                  </a:lnTo>
                  <a:lnTo>
                    <a:pt x="169" y="775"/>
                  </a:lnTo>
                  <a:lnTo>
                    <a:pt x="169" y="741"/>
                  </a:lnTo>
                  <a:lnTo>
                    <a:pt x="169" y="606"/>
                  </a:lnTo>
                  <a:lnTo>
                    <a:pt x="236" y="674"/>
                  </a:lnTo>
                  <a:lnTo>
                    <a:pt x="303" y="775"/>
                  </a:lnTo>
                  <a:lnTo>
                    <a:pt x="371" y="808"/>
                  </a:lnTo>
                  <a:lnTo>
                    <a:pt x="472" y="842"/>
                  </a:lnTo>
                  <a:lnTo>
                    <a:pt x="539" y="842"/>
                  </a:lnTo>
                  <a:lnTo>
                    <a:pt x="573" y="775"/>
                  </a:lnTo>
                  <a:lnTo>
                    <a:pt x="573" y="741"/>
                  </a:lnTo>
                  <a:lnTo>
                    <a:pt x="505" y="674"/>
                  </a:lnTo>
                  <a:lnTo>
                    <a:pt x="404" y="640"/>
                  </a:lnTo>
                  <a:lnTo>
                    <a:pt x="337" y="539"/>
                  </a:lnTo>
                  <a:lnTo>
                    <a:pt x="472" y="438"/>
                  </a:lnTo>
                  <a:lnTo>
                    <a:pt x="539" y="270"/>
                  </a:lnTo>
                  <a:lnTo>
                    <a:pt x="573" y="169"/>
                  </a:lnTo>
                  <a:lnTo>
                    <a:pt x="539" y="101"/>
                  </a:lnTo>
                  <a:lnTo>
                    <a:pt x="472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hape 697"/>
            <p:cNvSpPr/>
            <p:nvPr/>
          </p:nvSpPr>
          <p:spPr>
            <a:xfrm>
              <a:off x="814320" y="196560"/>
              <a:ext cx="155520" cy="158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58" h="2391">
                  <a:moveTo>
                    <a:pt x="1550" y="1"/>
                  </a:moveTo>
                  <a:lnTo>
                    <a:pt x="944" y="34"/>
                  </a:lnTo>
                  <a:lnTo>
                    <a:pt x="237" y="34"/>
                  </a:lnTo>
                  <a:lnTo>
                    <a:pt x="35" y="102"/>
                  </a:lnTo>
                  <a:lnTo>
                    <a:pt x="1" y="135"/>
                  </a:lnTo>
                  <a:lnTo>
                    <a:pt x="102" y="203"/>
                  </a:lnTo>
                  <a:lnTo>
                    <a:pt x="203" y="236"/>
                  </a:lnTo>
                  <a:lnTo>
                    <a:pt x="371" y="270"/>
                  </a:lnTo>
                  <a:lnTo>
                    <a:pt x="1415" y="270"/>
                  </a:lnTo>
                  <a:lnTo>
                    <a:pt x="2055" y="203"/>
                  </a:lnTo>
                  <a:lnTo>
                    <a:pt x="2021" y="438"/>
                  </a:lnTo>
                  <a:lnTo>
                    <a:pt x="2021" y="640"/>
                  </a:lnTo>
                  <a:lnTo>
                    <a:pt x="2055" y="1078"/>
                  </a:lnTo>
                  <a:lnTo>
                    <a:pt x="2088" y="1583"/>
                  </a:lnTo>
                  <a:lnTo>
                    <a:pt x="2088" y="1852"/>
                  </a:lnTo>
                  <a:lnTo>
                    <a:pt x="2122" y="2122"/>
                  </a:lnTo>
                  <a:lnTo>
                    <a:pt x="977" y="2155"/>
                  </a:lnTo>
                  <a:lnTo>
                    <a:pt x="573" y="2122"/>
                  </a:lnTo>
                  <a:lnTo>
                    <a:pt x="371" y="2155"/>
                  </a:lnTo>
                  <a:lnTo>
                    <a:pt x="304" y="2223"/>
                  </a:lnTo>
                  <a:lnTo>
                    <a:pt x="203" y="2256"/>
                  </a:lnTo>
                  <a:lnTo>
                    <a:pt x="203" y="2290"/>
                  </a:lnTo>
                  <a:lnTo>
                    <a:pt x="304" y="2324"/>
                  </a:lnTo>
                  <a:lnTo>
                    <a:pt x="405" y="2357"/>
                  </a:lnTo>
                  <a:lnTo>
                    <a:pt x="573" y="2391"/>
                  </a:lnTo>
                  <a:lnTo>
                    <a:pt x="1617" y="2391"/>
                  </a:lnTo>
                  <a:lnTo>
                    <a:pt x="2257" y="2357"/>
                  </a:lnTo>
                  <a:lnTo>
                    <a:pt x="2324" y="2324"/>
                  </a:lnTo>
                  <a:lnTo>
                    <a:pt x="2358" y="2290"/>
                  </a:lnTo>
                  <a:lnTo>
                    <a:pt x="2358" y="2223"/>
                  </a:lnTo>
                  <a:lnTo>
                    <a:pt x="2324" y="2155"/>
                  </a:lnTo>
                  <a:lnTo>
                    <a:pt x="2324" y="1886"/>
                  </a:lnTo>
                  <a:lnTo>
                    <a:pt x="2324" y="1617"/>
                  </a:lnTo>
                  <a:lnTo>
                    <a:pt x="2290" y="1044"/>
                  </a:lnTo>
                  <a:lnTo>
                    <a:pt x="2290" y="607"/>
                  </a:lnTo>
                  <a:lnTo>
                    <a:pt x="2257" y="405"/>
                  </a:lnTo>
                  <a:lnTo>
                    <a:pt x="2223" y="169"/>
                  </a:lnTo>
                  <a:lnTo>
                    <a:pt x="2257" y="135"/>
                  </a:lnTo>
                  <a:lnTo>
                    <a:pt x="2257" y="68"/>
                  </a:lnTo>
                  <a:lnTo>
                    <a:pt x="2223" y="34"/>
                  </a:lnTo>
                  <a:lnTo>
                    <a:pt x="21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hape 698"/>
            <p:cNvSpPr/>
            <p:nvPr/>
          </p:nvSpPr>
          <p:spPr>
            <a:xfrm>
              <a:off x="1049040" y="247320"/>
              <a:ext cx="55440" cy="48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42" h="742">
                  <a:moveTo>
                    <a:pt x="34" y="1"/>
                  </a:moveTo>
                  <a:lnTo>
                    <a:pt x="0" y="35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34" y="102"/>
                  </a:lnTo>
                  <a:lnTo>
                    <a:pt x="135" y="169"/>
                  </a:lnTo>
                  <a:lnTo>
                    <a:pt x="236" y="203"/>
                  </a:lnTo>
                  <a:lnTo>
                    <a:pt x="168" y="405"/>
                  </a:lnTo>
                  <a:lnTo>
                    <a:pt x="135" y="607"/>
                  </a:lnTo>
                  <a:lnTo>
                    <a:pt x="168" y="674"/>
                  </a:lnTo>
                  <a:lnTo>
                    <a:pt x="236" y="708"/>
                  </a:lnTo>
                  <a:lnTo>
                    <a:pt x="269" y="742"/>
                  </a:lnTo>
                  <a:lnTo>
                    <a:pt x="303" y="674"/>
                  </a:lnTo>
                  <a:lnTo>
                    <a:pt x="337" y="506"/>
                  </a:lnTo>
                  <a:lnTo>
                    <a:pt x="370" y="304"/>
                  </a:lnTo>
                  <a:lnTo>
                    <a:pt x="606" y="304"/>
                  </a:lnTo>
                  <a:lnTo>
                    <a:pt x="741" y="270"/>
                  </a:lnTo>
                  <a:lnTo>
                    <a:pt x="808" y="203"/>
                  </a:lnTo>
                  <a:lnTo>
                    <a:pt x="842" y="169"/>
                  </a:lnTo>
                  <a:lnTo>
                    <a:pt x="842" y="136"/>
                  </a:lnTo>
                  <a:lnTo>
                    <a:pt x="842" y="68"/>
                  </a:lnTo>
                  <a:lnTo>
                    <a:pt x="808" y="35"/>
                  </a:lnTo>
                  <a:lnTo>
                    <a:pt x="74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hape 699"/>
            <p:cNvSpPr/>
            <p:nvPr/>
          </p:nvSpPr>
          <p:spPr>
            <a:xfrm>
              <a:off x="946080" y="96840"/>
              <a:ext cx="47520" cy="63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8" h="977">
                  <a:moveTo>
                    <a:pt x="505" y="0"/>
                  </a:moveTo>
                  <a:lnTo>
                    <a:pt x="371" y="34"/>
                  </a:lnTo>
                  <a:lnTo>
                    <a:pt x="68" y="135"/>
                  </a:lnTo>
                  <a:lnTo>
                    <a:pt x="34" y="202"/>
                  </a:lnTo>
                  <a:lnTo>
                    <a:pt x="34" y="236"/>
                  </a:lnTo>
                  <a:lnTo>
                    <a:pt x="135" y="539"/>
                  </a:lnTo>
                  <a:lnTo>
                    <a:pt x="202" y="606"/>
                  </a:lnTo>
                  <a:lnTo>
                    <a:pt x="270" y="573"/>
                  </a:lnTo>
                  <a:lnTo>
                    <a:pt x="404" y="539"/>
                  </a:lnTo>
                  <a:lnTo>
                    <a:pt x="505" y="539"/>
                  </a:lnTo>
                  <a:lnTo>
                    <a:pt x="573" y="606"/>
                  </a:lnTo>
                  <a:lnTo>
                    <a:pt x="539" y="640"/>
                  </a:lnTo>
                  <a:lnTo>
                    <a:pt x="438" y="674"/>
                  </a:lnTo>
                  <a:lnTo>
                    <a:pt x="236" y="707"/>
                  </a:lnTo>
                  <a:lnTo>
                    <a:pt x="101" y="741"/>
                  </a:lnTo>
                  <a:lnTo>
                    <a:pt x="34" y="808"/>
                  </a:lnTo>
                  <a:lnTo>
                    <a:pt x="0" y="876"/>
                  </a:lnTo>
                  <a:lnTo>
                    <a:pt x="0" y="909"/>
                  </a:lnTo>
                  <a:lnTo>
                    <a:pt x="34" y="943"/>
                  </a:lnTo>
                  <a:lnTo>
                    <a:pt x="68" y="977"/>
                  </a:lnTo>
                  <a:lnTo>
                    <a:pt x="101" y="943"/>
                  </a:lnTo>
                  <a:lnTo>
                    <a:pt x="169" y="909"/>
                  </a:lnTo>
                  <a:lnTo>
                    <a:pt x="270" y="876"/>
                  </a:lnTo>
                  <a:lnTo>
                    <a:pt x="438" y="876"/>
                  </a:lnTo>
                  <a:lnTo>
                    <a:pt x="573" y="808"/>
                  </a:lnTo>
                  <a:lnTo>
                    <a:pt x="640" y="775"/>
                  </a:lnTo>
                  <a:lnTo>
                    <a:pt x="707" y="707"/>
                  </a:lnTo>
                  <a:lnTo>
                    <a:pt x="707" y="640"/>
                  </a:lnTo>
                  <a:lnTo>
                    <a:pt x="707" y="539"/>
                  </a:lnTo>
                  <a:lnTo>
                    <a:pt x="674" y="472"/>
                  </a:lnTo>
                  <a:lnTo>
                    <a:pt x="606" y="404"/>
                  </a:lnTo>
                  <a:lnTo>
                    <a:pt x="539" y="371"/>
                  </a:lnTo>
                  <a:lnTo>
                    <a:pt x="438" y="371"/>
                  </a:lnTo>
                  <a:lnTo>
                    <a:pt x="270" y="404"/>
                  </a:lnTo>
                  <a:lnTo>
                    <a:pt x="236" y="270"/>
                  </a:lnTo>
                  <a:lnTo>
                    <a:pt x="472" y="169"/>
                  </a:lnTo>
                  <a:lnTo>
                    <a:pt x="674" y="101"/>
                  </a:lnTo>
                  <a:lnTo>
                    <a:pt x="674" y="3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3280" bIns="-53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hape 700"/>
            <p:cNvSpPr/>
            <p:nvPr/>
          </p:nvSpPr>
          <p:spPr>
            <a:xfrm>
              <a:off x="0" y="1643040"/>
              <a:ext cx="585720" cy="9180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8822" h="1382">
                  <a:moveTo>
                    <a:pt x="1" y="1"/>
                  </a:moveTo>
                  <a:lnTo>
                    <a:pt x="1" y="270"/>
                  </a:lnTo>
                  <a:lnTo>
                    <a:pt x="1078" y="472"/>
                  </a:lnTo>
                  <a:lnTo>
                    <a:pt x="2155" y="607"/>
                  </a:lnTo>
                  <a:lnTo>
                    <a:pt x="3233" y="708"/>
                  </a:lnTo>
                  <a:lnTo>
                    <a:pt x="4344" y="775"/>
                  </a:lnTo>
                  <a:lnTo>
                    <a:pt x="5421" y="876"/>
                  </a:lnTo>
                  <a:lnTo>
                    <a:pt x="6499" y="977"/>
                  </a:lnTo>
                  <a:lnTo>
                    <a:pt x="7576" y="1145"/>
                  </a:lnTo>
                  <a:lnTo>
                    <a:pt x="8115" y="1246"/>
                  </a:lnTo>
                  <a:lnTo>
                    <a:pt x="8653" y="1381"/>
                  </a:lnTo>
                  <a:lnTo>
                    <a:pt x="8754" y="1381"/>
                  </a:lnTo>
                  <a:lnTo>
                    <a:pt x="8822" y="1280"/>
                  </a:lnTo>
                  <a:lnTo>
                    <a:pt x="8788" y="1179"/>
                  </a:lnTo>
                  <a:lnTo>
                    <a:pt x="8754" y="1145"/>
                  </a:lnTo>
                  <a:lnTo>
                    <a:pt x="8721" y="1112"/>
                  </a:lnTo>
                  <a:lnTo>
                    <a:pt x="8182" y="1011"/>
                  </a:lnTo>
                  <a:lnTo>
                    <a:pt x="7643" y="876"/>
                  </a:lnTo>
                  <a:lnTo>
                    <a:pt x="6566" y="741"/>
                  </a:lnTo>
                  <a:lnTo>
                    <a:pt x="5455" y="607"/>
                  </a:lnTo>
                  <a:lnTo>
                    <a:pt x="4378" y="539"/>
                  </a:lnTo>
                  <a:lnTo>
                    <a:pt x="3267" y="438"/>
                  </a:lnTo>
                  <a:lnTo>
                    <a:pt x="2155" y="337"/>
                  </a:lnTo>
                  <a:lnTo>
                    <a:pt x="1078" y="203"/>
                  </a:lnTo>
                  <a:lnTo>
                    <a:pt x="539" y="10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5200" bIns="-25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hape 701"/>
            <p:cNvSpPr/>
            <p:nvPr/>
          </p:nvSpPr>
          <p:spPr>
            <a:xfrm>
              <a:off x="988920" y="18720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59" h="2425">
                  <a:moveTo>
                    <a:pt x="1986" y="1"/>
                  </a:moveTo>
                  <a:lnTo>
                    <a:pt x="1616" y="68"/>
                  </a:lnTo>
                  <a:lnTo>
                    <a:pt x="909" y="68"/>
                  </a:lnTo>
                  <a:lnTo>
                    <a:pt x="539" y="102"/>
                  </a:lnTo>
                  <a:lnTo>
                    <a:pt x="202" y="136"/>
                  </a:lnTo>
                  <a:lnTo>
                    <a:pt x="168" y="68"/>
                  </a:lnTo>
                  <a:lnTo>
                    <a:pt x="168" y="35"/>
                  </a:lnTo>
                  <a:lnTo>
                    <a:pt x="101" y="35"/>
                  </a:lnTo>
                  <a:lnTo>
                    <a:pt x="67" y="68"/>
                  </a:lnTo>
                  <a:lnTo>
                    <a:pt x="34" y="304"/>
                  </a:lnTo>
                  <a:lnTo>
                    <a:pt x="0" y="573"/>
                  </a:lnTo>
                  <a:lnTo>
                    <a:pt x="0" y="1112"/>
                  </a:lnTo>
                  <a:lnTo>
                    <a:pt x="34" y="1718"/>
                  </a:lnTo>
                  <a:lnTo>
                    <a:pt x="67" y="2021"/>
                  </a:lnTo>
                  <a:lnTo>
                    <a:pt x="168" y="2324"/>
                  </a:lnTo>
                  <a:lnTo>
                    <a:pt x="202" y="2358"/>
                  </a:lnTo>
                  <a:lnTo>
                    <a:pt x="303" y="2358"/>
                  </a:lnTo>
                  <a:lnTo>
                    <a:pt x="337" y="2290"/>
                  </a:lnTo>
                  <a:lnTo>
                    <a:pt x="303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36" y="674"/>
                  </a:lnTo>
                  <a:lnTo>
                    <a:pt x="202" y="237"/>
                  </a:lnTo>
                  <a:lnTo>
                    <a:pt x="438" y="270"/>
                  </a:lnTo>
                  <a:lnTo>
                    <a:pt x="1145" y="270"/>
                  </a:lnTo>
                  <a:lnTo>
                    <a:pt x="2222" y="203"/>
                  </a:lnTo>
                  <a:lnTo>
                    <a:pt x="2256" y="237"/>
                  </a:lnTo>
                  <a:lnTo>
                    <a:pt x="2289" y="270"/>
                  </a:lnTo>
                  <a:lnTo>
                    <a:pt x="2323" y="270"/>
                  </a:lnTo>
                  <a:lnTo>
                    <a:pt x="2289" y="573"/>
                  </a:lnTo>
                  <a:lnTo>
                    <a:pt x="2323" y="910"/>
                  </a:lnTo>
                  <a:lnTo>
                    <a:pt x="2357" y="2088"/>
                  </a:lnTo>
                  <a:lnTo>
                    <a:pt x="2121" y="2055"/>
                  </a:lnTo>
                  <a:lnTo>
                    <a:pt x="1885" y="2088"/>
                  </a:lnTo>
                  <a:lnTo>
                    <a:pt x="1414" y="2122"/>
                  </a:lnTo>
                  <a:lnTo>
                    <a:pt x="673" y="2122"/>
                  </a:lnTo>
                  <a:lnTo>
                    <a:pt x="539" y="2156"/>
                  </a:lnTo>
                  <a:lnTo>
                    <a:pt x="404" y="2189"/>
                  </a:lnTo>
                  <a:lnTo>
                    <a:pt x="337" y="2290"/>
                  </a:lnTo>
                  <a:lnTo>
                    <a:pt x="404" y="2358"/>
                  </a:lnTo>
                  <a:lnTo>
                    <a:pt x="505" y="2391"/>
                  </a:lnTo>
                  <a:lnTo>
                    <a:pt x="774" y="2425"/>
                  </a:lnTo>
                  <a:lnTo>
                    <a:pt x="1279" y="2358"/>
                  </a:lnTo>
                  <a:lnTo>
                    <a:pt x="2087" y="2358"/>
                  </a:lnTo>
                  <a:lnTo>
                    <a:pt x="2357" y="2290"/>
                  </a:lnTo>
                  <a:lnTo>
                    <a:pt x="2424" y="2324"/>
                  </a:lnTo>
                  <a:lnTo>
                    <a:pt x="2525" y="2324"/>
                  </a:lnTo>
                  <a:lnTo>
                    <a:pt x="2559" y="2257"/>
                  </a:lnTo>
                  <a:lnTo>
                    <a:pt x="2491" y="1078"/>
                  </a:lnTo>
                  <a:lnTo>
                    <a:pt x="2525" y="573"/>
                  </a:lnTo>
                  <a:lnTo>
                    <a:pt x="2491" y="304"/>
                  </a:lnTo>
                  <a:lnTo>
                    <a:pt x="2424" y="68"/>
                  </a:lnTo>
                  <a:lnTo>
                    <a:pt x="2390" y="68"/>
                  </a:lnTo>
                  <a:lnTo>
                    <a:pt x="2390" y="102"/>
                  </a:lnTo>
                  <a:lnTo>
                    <a:pt x="2357" y="102"/>
                  </a:lnTo>
                  <a:lnTo>
                    <a:pt x="2289" y="35"/>
                  </a:lnTo>
                  <a:lnTo>
                    <a:pt x="2222" y="35"/>
                  </a:lnTo>
                  <a:lnTo>
                    <a:pt x="198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hape 702"/>
            <p:cNvSpPr/>
            <p:nvPr/>
          </p:nvSpPr>
          <p:spPr>
            <a:xfrm>
              <a:off x="1336680" y="6054840"/>
              <a:ext cx="1481040" cy="81576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2289" h="12289">
                  <a:moveTo>
                    <a:pt x="472" y="5757"/>
                  </a:moveTo>
                  <a:lnTo>
                    <a:pt x="674" y="6262"/>
                  </a:lnTo>
                  <a:lnTo>
                    <a:pt x="943" y="6734"/>
                  </a:lnTo>
                  <a:lnTo>
                    <a:pt x="606" y="6734"/>
                  </a:lnTo>
                  <a:lnTo>
                    <a:pt x="438" y="6666"/>
                  </a:lnTo>
                  <a:lnTo>
                    <a:pt x="270" y="6565"/>
                  </a:lnTo>
                  <a:lnTo>
                    <a:pt x="169" y="6464"/>
                  </a:lnTo>
                  <a:lnTo>
                    <a:pt x="135" y="6363"/>
                  </a:lnTo>
                  <a:lnTo>
                    <a:pt x="135" y="6262"/>
                  </a:lnTo>
                  <a:lnTo>
                    <a:pt x="169" y="6128"/>
                  </a:lnTo>
                  <a:lnTo>
                    <a:pt x="303" y="5926"/>
                  </a:lnTo>
                  <a:lnTo>
                    <a:pt x="472" y="5757"/>
                  </a:lnTo>
                  <a:close/>
                  <a:moveTo>
                    <a:pt x="11414" y="6094"/>
                  </a:moveTo>
                  <a:lnTo>
                    <a:pt x="11548" y="6161"/>
                  </a:lnTo>
                  <a:lnTo>
                    <a:pt x="11717" y="6565"/>
                  </a:lnTo>
                  <a:lnTo>
                    <a:pt x="11784" y="6969"/>
                  </a:lnTo>
                  <a:lnTo>
                    <a:pt x="11548" y="6835"/>
                  </a:lnTo>
                  <a:lnTo>
                    <a:pt x="11245" y="6734"/>
                  </a:lnTo>
                  <a:lnTo>
                    <a:pt x="10976" y="6633"/>
                  </a:lnTo>
                  <a:lnTo>
                    <a:pt x="10673" y="6565"/>
                  </a:lnTo>
                  <a:lnTo>
                    <a:pt x="10875" y="6363"/>
                  </a:lnTo>
                  <a:lnTo>
                    <a:pt x="11077" y="6195"/>
                  </a:lnTo>
                  <a:lnTo>
                    <a:pt x="11178" y="6128"/>
                  </a:lnTo>
                  <a:lnTo>
                    <a:pt x="11279" y="6094"/>
                  </a:lnTo>
                  <a:close/>
                  <a:moveTo>
                    <a:pt x="1852" y="0"/>
                  </a:moveTo>
                  <a:lnTo>
                    <a:pt x="1785" y="34"/>
                  </a:lnTo>
                  <a:lnTo>
                    <a:pt x="1751" y="101"/>
                  </a:lnTo>
                  <a:lnTo>
                    <a:pt x="1549" y="741"/>
                  </a:lnTo>
                  <a:lnTo>
                    <a:pt x="1280" y="1347"/>
                  </a:lnTo>
                  <a:lnTo>
                    <a:pt x="775" y="2559"/>
                  </a:lnTo>
                  <a:lnTo>
                    <a:pt x="573" y="3199"/>
                  </a:lnTo>
                  <a:lnTo>
                    <a:pt x="404" y="3805"/>
                  </a:lnTo>
                  <a:lnTo>
                    <a:pt x="337" y="4141"/>
                  </a:lnTo>
                  <a:lnTo>
                    <a:pt x="303" y="4478"/>
                  </a:lnTo>
                  <a:lnTo>
                    <a:pt x="303" y="4781"/>
                  </a:lnTo>
                  <a:lnTo>
                    <a:pt x="303" y="5151"/>
                  </a:lnTo>
                  <a:lnTo>
                    <a:pt x="371" y="5421"/>
                  </a:lnTo>
                  <a:lnTo>
                    <a:pt x="438" y="5690"/>
                  </a:lnTo>
                  <a:lnTo>
                    <a:pt x="202" y="5825"/>
                  </a:lnTo>
                  <a:lnTo>
                    <a:pt x="135" y="5926"/>
                  </a:lnTo>
                  <a:lnTo>
                    <a:pt x="68" y="6027"/>
                  </a:lnTo>
                  <a:lnTo>
                    <a:pt x="0" y="6128"/>
                  </a:lnTo>
                  <a:lnTo>
                    <a:pt x="0" y="6262"/>
                  </a:lnTo>
                  <a:lnTo>
                    <a:pt x="0" y="6363"/>
                  </a:lnTo>
                  <a:lnTo>
                    <a:pt x="34" y="6498"/>
                  </a:lnTo>
                  <a:lnTo>
                    <a:pt x="101" y="6633"/>
                  </a:lnTo>
                  <a:lnTo>
                    <a:pt x="202" y="6734"/>
                  </a:lnTo>
                  <a:lnTo>
                    <a:pt x="337" y="6801"/>
                  </a:lnTo>
                  <a:lnTo>
                    <a:pt x="472" y="6868"/>
                  </a:lnTo>
                  <a:lnTo>
                    <a:pt x="775" y="6902"/>
                  </a:lnTo>
                  <a:lnTo>
                    <a:pt x="1078" y="6902"/>
                  </a:lnTo>
                  <a:lnTo>
                    <a:pt x="1414" y="7340"/>
                  </a:lnTo>
                  <a:lnTo>
                    <a:pt x="1818" y="7744"/>
                  </a:lnTo>
                  <a:lnTo>
                    <a:pt x="2256" y="8047"/>
                  </a:lnTo>
                  <a:lnTo>
                    <a:pt x="2458" y="8182"/>
                  </a:lnTo>
                  <a:lnTo>
                    <a:pt x="2694" y="8283"/>
                  </a:lnTo>
                  <a:lnTo>
                    <a:pt x="3300" y="8485"/>
                  </a:lnTo>
                  <a:lnTo>
                    <a:pt x="3939" y="8653"/>
                  </a:lnTo>
                  <a:lnTo>
                    <a:pt x="5252" y="8956"/>
                  </a:lnTo>
                  <a:lnTo>
                    <a:pt x="5825" y="9057"/>
                  </a:lnTo>
                  <a:lnTo>
                    <a:pt x="6397" y="9091"/>
                  </a:lnTo>
                  <a:lnTo>
                    <a:pt x="6700" y="9091"/>
                  </a:lnTo>
                  <a:lnTo>
                    <a:pt x="6969" y="9057"/>
                  </a:lnTo>
                  <a:lnTo>
                    <a:pt x="7273" y="9023"/>
                  </a:lnTo>
                  <a:lnTo>
                    <a:pt x="7542" y="8922"/>
                  </a:lnTo>
                  <a:lnTo>
                    <a:pt x="7845" y="8821"/>
                  </a:lnTo>
                  <a:lnTo>
                    <a:pt x="8081" y="8720"/>
                  </a:lnTo>
                  <a:lnTo>
                    <a:pt x="8586" y="8417"/>
                  </a:lnTo>
                  <a:lnTo>
                    <a:pt x="9091" y="8081"/>
                  </a:lnTo>
                  <a:lnTo>
                    <a:pt x="9528" y="7710"/>
                  </a:lnTo>
                  <a:lnTo>
                    <a:pt x="10067" y="7205"/>
                  </a:lnTo>
                  <a:lnTo>
                    <a:pt x="10572" y="6700"/>
                  </a:lnTo>
                  <a:lnTo>
                    <a:pt x="11178" y="6902"/>
                  </a:lnTo>
                  <a:lnTo>
                    <a:pt x="11515" y="7070"/>
                  </a:lnTo>
                  <a:lnTo>
                    <a:pt x="11818" y="7205"/>
                  </a:lnTo>
                  <a:lnTo>
                    <a:pt x="11851" y="7609"/>
                  </a:lnTo>
                  <a:lnTo>
                    <a:pt x="11851" y="8013"/>
                  </a:lnTo>
                  <a:lnTo>
                    <a:pt x="11818" y="8855"/>
                  </a:lnTo>
                  <a:lnTo>
                    <a:pt x="11851" y="9326"/>
                  </a:lnTo>
                  <a:lnTo>
                    <a:pt x="11986" y="9798"/>
                  </a:lnTo>
                  <a:lnTo>
                    <a:pt x="12121" y="10269"/>
                  </a:lnTo>
                  <a:lnTo>
                    <a:pt x="12323" y="10707"/>
                  </a:lnTo>
                  <a:lnTo>
                    <a:pt x="12592" y="11144"/>
                  </a:lnTo>
                  <a:lnTo>
                    <a:pt x="12895" y="11515"/>
                  </a:lnTo>
                  <a:lnTo>
                    <a:pt x="13232" y="11885"/>
                  </a:lnTo>
                  <a:lnTo>
                    <a:pt x="13636" y="12188"/>
                  </a:lnTo>
                  <a:lnTo>
                    <a:pt x="13737" y="12289"/>
                  </a:lnTo>
                  <a:lnTo>
                    <a:pt x="14073" y="12289"/>
                  </a:lnTo>
                  <a:lnTo>
                    <a:pt x="13501" y="11818"/>
                  </a:lnTo>
                  <a:lnTo>
                    <a:pt x="13265" y="11548"/>
                  </a:lnTo>
                  <a:lnTo>
                    <a:pt x="12996" y="11279"/>
                  </a:lnTo>
                  <a:lnTo>
                    <a:pt x="12794" y="11010"/>
                  </a:lnTo>
                  <a:lnTo>
                    <a:pt x="12592" y="10707"/>
                  </a:lnTo>
                  <a:lnTo>
                    <a:pt x="12424" y="10404"/>
                  </a:lnTo>
                  <a:lnTo>
                    <a:pt x="12255" y="10067"/>
                  </a:lnTo>
                  <a:lnTo>
                    <a:pt x="12188" y="9798"/>
                  </a:lnTo>
                  <a:lnTo>
                    <a:pt x="12121" y="9562"/>
                  </a:lnTo>
                  <a:lnTo>
                    <a:pt x="12087" y="9023"/>
                  </a:lnTo>
                  <a:lnTo>
                    <a:pt x="12087" y="8451"/>
                  </a:lnTo>
                  <a:lnTo>
                    <a:pt x="12087" y="7912"/>
                  </a:lnTo>
                  <a:lnTo>
                    <a:pt x="12087" y="7340"/>
                  </a:lnTo>
                  <a:lnTo>
                    <a:pt x="12053" y="7070"/>
                  </a:lnTo>
                  <a:lnTo>
                    <a:pt x="11986" y="6835"/>
                  </a:lnTo>
                  <a:lnTo>
                    <a:pt x="11919" y="6565"/>
                  </a:lnTo>
                  <a:lnTo>
                    <a:pt x="11818" y="6363"/>
                  </a:lnTo>
                  <a:lnTo>
                    <a:pt x="11683" y="6128"/>
                  </a:lnTo>
                  <a:lnTo>
                    <a:pt x="11481" y="5926"/>
                  </a:lnTo>
                  <a:lnTo>
                    <a:pt x="11346" y="5825"/>
                  </a:lnTo>
                  <a:lnTo>
                    <a:pt x="11279" y="5791"/>
                  </a:lnTo>
                  <a:lnTo>
                    <a:pt x="11245" y="5825"/>
                  </a:lnTo>
                  <a:lnTo>
                    <a:pt x="10437" y="6565"/>
                  </a:lnTo>
                  <a:lnTo>
                    <a:pt x="9663" y="7306"/>
                  </a:lnTo>
                  <a:lnTo>
                    <a:pt x="9225" y="7676"/>
                  </a:lnTo>
                  <a:lnTo>
                    <a:pt x="8788" y="7979"/>
                  </a:lnTo>
                  <a:lnTo>
                    <a:pt x="8350" y="8283"/>
                  </a:lnTo>
                  <a:lnTo>
                    <a:pt x="7879" y="8552"/>
                  </a:lnTo>
                  <a:lnTo>
                    <a:pt x="7576" y="8687"/>
                  </a:lnTo>
                  <a:lnTo>
                    <a:pt x="7306" y="8754"/>
                  </a:lnTo>
                  <a:lnTo>
                    <a:pt x="7003" y="8821"/>
                  </a:lnTo>
                  <a:lnTo>
                    <a:pt x="6734" y="8855"/>
                  </a:lnTo>
                  <a:lnTo>
                    <a:pt x="6128" y="8855"/>
                  </a:lnTo>
                  <a:lnTo>
                    <a:pt x="5522" y="8788"/>
                  </a:lnTo>
                  <a:lnTo>
                    <a:pt x="4916" y="8687"/>
                  </a:lnTo>
                  <a:lnTo>
                    <a:pt x="4310" y="8518"/>
                  </a:lnTo>
                  <a:lnTo>
                    <a:pt x="3165" y="8215"/>
                  </a:lnTo>
                  <a:lnTo>
                    <a:pt x="2896" y="8114"/>
                  </a:lnTo>
                  <a:lnTo>
                    <a:pt x="2593" y="7979"/>
                  </a:lnTo>
                  <a:lnTo>
                    <a:pt x="2357" y="7845"/>
                  </a:lnTo>
                  <a:lnTo>
                    <a:pt x="2088" y="7643"/>
                  </a:lnTo>
                  <a:lnTo>
                    <a:pt x="1852" y="7441"/>
                  </a:lnTo>
                  <a:lnTo>
                    <a:pt x="1650" y="7239"/>
                  </a:lnTo>
                  <a:lnTo>
                    <a:pt x="1448" y="6969"/>
                  </a:lnTo>
                  <a:lnTo>
                    <a:pt x="1246" y="6734"/>
                  </a:lnTo>
                  <a:lnTo>
                    <a:pt x="1078" y="6464"/>
                  </a:lnTo>
                  <a:lnTo>
                    <a:pt x="943" y="6161"/>
                  </a:lnTo>
                  <a:lnTo>
                    <a:pt x="808" y="5892"/>
                  </a:lnTo>
                  <a:lnTo>
                    <a:pt x="707" y="5589"/>
                  </a:lnTo>
                  <a:lnTo>
                    <a:pt x="606" y="5286"/>
                  </a:lnTo>
                  <a:lnTo>
                    <a:pt x="573" y="5017"/>
                  </a:lnTo>
                  <a:lnTo>
                    <a:pt x="539" y="4714"/>
                  </a:lnTo>
                  <a:lnTo>
                    <a:pt x="539" y="4411"/>
                  </a:lnTo>
                  <a:lnTo>
                    <a:pt x="606" y="3872"/>
                  </a:lnTo>
                  <a:lnTo>
                    <a:pt x="707" y="3333"/>
                  </a:lnTo>
                  <a:lnTo>
                    <a:pt x="909" y="2828"/>
                  </a:lnTo>
                  <a:lnTo>
                    <a:pt x="1111" y="2290"/>
                  </a:lnTo>
                  <a:lnTo>
                    <a:pt x="1549" y="1280"/>
                  </a:lnTo>
                  <a:lnTo>
                    <a:pt x="1751" y="775"/>
                  </a:lnTo>
                  <a:lnTo>
                    <a:pt x="1953" y="236"/>
                  </a:lnTo>
                  <a:lnTo>
                    <a:pt x="3266" y="472"/>
                  </a:lnTo>
                  <a:lnTo>
                    <a:pt x="4545" y="741"/>
                  </a:lnTo>
                  <a:lnTo>
                    <a:pt x="5858" y="1044"/>
                  </a:lnTo>
                  <a:lnTo>
                    <a:pt x="7138" y="1381"/>
                  </a:lnTo>
                  <a:lnTo>
                    <a:pt x="8417" y="1751"/>
                  </a:lnTo>
                  <a:lnTo>
                    <a:pt x="9663" y="2189"/>
                  </a:lnTo>
                  <a:lnTo>
                    <a:pt x="10909" y="2626"/>
                  </a:lnTo>
                  <a:lnTo>
                    <a:pt x="12154" y="3098"/>
                  </a:lnTo>
                  <a:lnTo>
                    <a:pt x="13434" y="3636"/>
                  </a:lnTo>
                  <a:lnTo>
                    <a:pt x="14713" y="4209"/>
                  </a:lnTo>
                  <a:lnTo>
                    <a:pt x="17238" y="5387"/>
                  </a:lnTo>
                  <a:lnTo>
                    <a:pt x="19763" y="6633"/>
                  </a:lnTo>
                  <a:lnTo>
                    <a:pt x="20336" y="6902"/>
                  </a:lnTo>
                  <a:lnTo>
                    <a:pt x="20706" y="7070"/>
                  </a:lnTo>
                  <a:lnTo>
                    <a:pt x="21076" y="7272"/>
                  </a:lnTo>
                  <a:lnTo>
                    <a:pt x="21413" y="7508"/>
                  </a:lnTo>
                  <a:lnTo>
                    <a:pt x="21716" y="7744"/>
                  </a:lnTo>
                  <a:lnTo>
                    <a:pt x="21851" y="7878"/>
                  </a:lnTo>
                  <a:lnTo>
                    <a:pt x="21952" y="8013"/>
                  </a:lnTo>
                  <a:lnTo>
                    <a:pt x="22019" y="8148"/>
                  </a:lnTo>
                  <a:lnTo>
                    <a:pt x="22053" y="8316"/>
                  </a:lnTo>
                  <a:lnTo>
                    <a:pt x="21548" y="9461"/>
                  </a:lnTo>
                  <a:lnTo>
                    <a:pt x="21009" y="10606"/>
                  </a:lnTo>
                  <a:lnTo>
                    <a:pt x="20605" y="11447"/>
                  </a:lnTo>
                  <a:lnTo>
                    <a:pt x="20167" y="12289"/>
                  </a:lnTo>
                  <a:lnTo>
                    <a:pt x="20470" y="12289"/>
                  </a:lnTo>
                  <a:lnTo>
                    <a:pt x="20773" y="11582"/>
                  </a:lnTo>
                  <a:lnTo>
                    <a:pt x="21076" y="10942"/>
                  </a:lnTo>
                  <a:lnTo>
                    <a:pt x="21649" y="9764"/>
                  </a:lnTo>
                  <a:lnTo>
                    <a:pt x="21884" y="9158"/>
                  </a:lnTo>
                  <a:lnTo>
                    <a:pt x="22019" y="8855"/>
                  </a:lnTo>
                  <a:lnTo>
                    <a:pt x="22086" y="8518"/>
                  </a:lnTo>
                  <a:lnTo>
                    <a:pt x="22154" y="8552"/>
                  </a:lnTo>
                  <a:lnTo>
                    <a:pt x="22221" y="8552"/>
                  </a:lnTo>
                  <a:lnTo>
                    <a:pt x="22255" y="8518"/>
                  </a:lnTo>
                  <a:lnTo>
                    <a:pt x="22288" y="8451"/>
                  </a:lnTo>
                  <a:lnTo>
                    <a:pt x="22255" y="8215"/>
                  </a:lnTo>
                  <a:lnTo>
                    <a:pt x="22187" y="8047"/>
                  </a:lnTo>
                  <a:lnTo>
                    <a:pt x="22086" y="7845"/>
                  </a:lnTo>
                  <a:lnTo>
                    <a:pt x="21952" y="7710"/>
                  </a:lnTo>
                  <a:lnTo>
                    <a:pt x="21581" y="7407"/>
                  </a:lnTo>
                  <a:lnTo>
                    <a:pt x="21245" y="7171"/>
                  </a:lnTo>
                  <a:lnTo>
                    <a:pt x="20639" y="6801"/>
                  </a:lnTo>
                  <a:lnTo>
                    <a:pt x="19999" y="6498"/>
                  </a:lnTo>
                  <a:lnTo>
                    <a:pt x="18720" y="5858"/>
                  </a:lnTo>
                  <a:lnTo>
                    <a:pt x="17339" y="5185"/>
                  </a:lnTo>
                  <a:lnTo>
                    <a:pt x="15959" y="4545"/>
                  </a:lnTo>
                  <a:lnTo>
                    <a:pt x="14578" y="3906"/>
                  </a:lnTo>
                  <a:lnTo>
                    <a:pt x="13164" y="3300"/>
                  </a:lnTo>
                  <a:lnTo>
                    <a:pt x="11851" y="2761"/>
                  </a:lnTo>
                  <a:lnTo>
                    <a:pt x="10538" y="2256"/>
                  </a:lnTo>
                  <a:lnTo>
                    <a:pt x="9192" y="1785"/>
                  </a:lnTo>
                  <a:lnTo>
                    <a:pt x="7845" y="1381"/>
                  </a:lnTo>
                  <a:lnTo>
                    <a:pt x="6397" y="943"/>
                  </a:lnTo>
                  <a:lnTo>
                    <a:pt x="4949" y="573"/>
                  </a:lnTo>
                  <a:lnTo>
                    <a:pt x="4209" y="438"/>
                  </a:lnTo>
                  <a:lnTo>
                    <a:pt x="3468" y="270"/>
                  </a:lnTo>
                  <a:lnTo>
                    <a:pt x="2727" y="169"/>
                  </a:lnTo>
                  <a:lnTo>
                    <a:pt x="1987" y="101"/>
                  </a:lnTo>
                  <a:lnTo>
                    <a:pt x="1919" y="34"/>
                  </a:lnTo>
                  <a:lnTo>
                    <a:pt x="185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hape 703"/>
            <p:cNvSpPr/>
            <p:nvPr/>
          </p:nvSpPr>
          <p:spPr>
            <a:xfrm>
              <a:off x="280800" y="395280"/>
              <a:ext cx="174600" cy="161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2627" h="2426">
                  <a:moveTo>
                    <a:pt x="1819" y="1"/>
                  </a:moveTo>
                  <a:lnTo>
                    <a:pt x="1314" y="68"/>
                  </a:lnTo>
                  <a:lnTo>
                    <a:pt x="742" y="102"/>
                  </a:lnTo>
                  <a:lnTo>
                    <a:pt x="169" y="203"/>
                  </a:lnTo>
                  <a:lnTo>
                    <a:pt x="136" y="136"/>
                  </a:lnTo>
                  <a:lnTo>
                    <a:pt x="102" y="102"/>
                  </a:lnTo>
                  <a:lnTo>
                    <a:pt x="68" y="102"/>
                  </a:lnTo>
                  <a:lnTo>
                    <a:pt x="35" y="136"/>
                  </a:lnTo>
                  <a:lnTo>
                    <a:pt x="1" y="439"/>
                  </a:lnTo>
                  <a:lnTo>
                    <a:pt x="35" y="742"/>
                  </a:lnTo>
                  <a:lnTo>
                    <a:pt x="68" y="1348"/>
                  </a:lnTo>
                  <a:lnTo>
                    <a:pt x="68" y="1853"/>
                  </a:lnTo>
                  <a:lnTo>
                    <a:pt x="68" y="2122"/>
                  </a:lnTo>
                  <a:lnTo>
                    <a:pt x="136" y="2391"/>
                  </a:lnTo>
                  <a:lnTo>
                    <a:pt x="169" y="2425"/>
                  </a:lnTo>
                  <a:lnTo>
                    <a:pt x="237" y="2391"/>
                  </a:lnTo>
                  <a:lnTo>
                    <a:pt x="1314" y="2391"/>
                  </a:lnTo>
                  <a:lnTo>
                    <a:pt x="1853" y="2358"/>
                  </a:lnTo>
                  <a:lnTo>
                    <a:pt x="2088" y="2324"/>
                  </a:lnTo>
                  <a:lnTo>
                    <a:pt x="2358" y="2290"/>
                  </a:lnTo>
                  <a:lnTo>
                    <a:pt x="2358" y="2324"/>
                  </a:lnTo>
                  <a:lnTo>
                    <a:pt x="2425" y="2324"/>
                  </a:lnTo>
                  <a:lnTo>
                    <a:pt x="2526" y="2257"/>
                  </a:lnTo>
                  <a:lnTo>
                    <a:pt x="2560" y="2189"/>
                  </a:lnTo>
                  <a:lnTo>
                    <a:pt x="2593" y="2088"/>
                  </a:lnTo>
                  <a:lnTo>
                    <a:pt x="2627" y="1954"/>
                  </a:lnTo>
                  <a:lnTo>
                    <a:pt x="2593" y="1684"/>
                  </a:lnTo>
                  <a:lnTo>
                    <a:pt x="2560" y="1482"/>
                  </a:lnTo>
                  <a:lnTo>
                    <a:pt x="2560" y="742"/>
                  </a:lnTo>
                  <a:lnTo>
                    <a:pt x="2492" y="405"/>
                  </a:lnTo>
                  <a:lnTo>
                    <a:pt x="2425" y="237"/>
                  </a:lnTo>
                  <a:lnTo>
                    <a:pt x="2358" y="102"/>
                  </a:lnTo>
                  <a:lnTo>
                    <a:pt x="2324" y="102"/>
                  </a:lnTo>
                  <a:lnTo>
                    <a:pt x="2290" y="203"/>
                  </a:lnTo>
                  <a:lnTo>
                    <a:pt x="2257" y="338"/>
                  </a:lnTo>
                  <a:lnTo>
                    <a:pt x="2257" y="607"/>
                  </a:lnTo>
                  <a:lnTo>
                    <a:pt x="2324" y="1146"/>
                  </a:lnTo>
                  <a:lnTo>
                    <a:pt x="2358" y="1651"/>
                  </a:lnTo>
                  <a:lnTo>
                    <a:pt x="2358" y="2156"/>
                  </a:lnTo>
                  <a:lnTo>
                    <a:pt x="2088" y="2122"/>
                  </a:lnTo>
                  <a:lnTo>
                    <a:pt x="1853" y="2088"/>
                  </a:lnTo>
                  <a:lnTo>
                    <a:pt x="1314" y="2088"/>
                  </a:lnTo>
                  <a:lnTo>
                    <a:pt x="270" y="2189"/>
                  </a:lnTo>
                  <a:lnTo>
                    <a:pt x="270" y="1920"/>
                  </a:lnTo>
                  <a:lnTo>
                    <a:pt x="270" y="1684"/>
                  </a:lnTo>
                  <a:lnTo>
                    <a:pt x="237" y="1146"/>
                  </a:lnTo>
                  <a:lnTo>
                    <a:pt x="237" y="775"/>
                  </a:lnTo>
                  <a:lnTo>
                    <a:pt x="203" y="405"/>
                  </a:lnTo>
                  <a:lnTo>
                    <a:pt x="843" y="338"/>
                  </a:lnTo>
                  <a:lnTo>
                    <a:pt x="1482" y="270"/>
                  </a:lnTo>
                  <a:lnTo>
                    <a:pt x="1920" y="237"/>
                  </a:lnTo>
                  <a:lnTo>
                    <a:pt x="2122" y="203"/>
                  </a:lnTo>
                  <a:lnTo>
                    <a:pt x="2324" y="102"/>
                  </a:lnTo>
                  <a:lnTo>
                    <a:pt x="2324" y="68"/>
                  </a:lnTo>
                  <a:lnTo>
                    <a:pt x="2189" y="35"/>
                  </a:lnTo>
                  <a:lnTo>
                    <a:pt x="208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hape 704"/>
            <p:cNvSpPr/>
            <p:nvPr/>
          </p:nvSpPr>
          <p:spPr>
            <a:xfrm>
              <a:off x="2313000" y="672840"/>
              <a:ext cx="161640" cy="19656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459" h="2964">
                  <a:moveTo>
                    <a:pt x="270" y="1516"/>
                  </a:moveTo>
                  <a:lnTo>
                    <a:pt x="472" y="1583"/>
                  </a:lnTo>
                  <a:lnTo>
                    <a:pt x="708" y="1617"/>
                  </a:lnTo>
                  <a:lnTo>
                    <a:pt x="1953" y="1617"/>
                  </a:lnTo>
                  <a:lnTo>
                    <a:pt x="2223" y="1583"/>
                  </a:lnTo>
                  <a:lnTo>
                    <a:pt x="2223" y="2088"/>
                  </a:lnTo>
                  <a:lnTo>
                    <a:pt x="2223" y="2324"/>
                  </a:lnTo>
                  <a:lnTo>
                    <a:pt x="2256" y="2593"/>
                  </a:lnTo>
                  <a:lnTo>
                    <a:pt x="1785" y="2593"/>
                  </a:lnTo>
                  <a:lnTo>
                    <a:pt x="1347" y="2661"/>
                  </a:lnTo>
                  <a:lnTo>
                    <a:pt x="842" y="2694"/>
                  </a:lnTo>
                  <a:lnTo>
                    <a:pt x="573" y="2728"/>
                  </a:lnTo>
                  <a:lnTo>
                    <a:pt x="337" y="2795"/>
                  </a:lnTo>
                  <a:lnTo>
                    <a:pt x="311" y="2821"/>
                  </a:lnTo>
                  <a:lnTo>
                    <a:pt x="337" y="2560"/>
                  </a:lnTo>
                  <a:lnTo>
                    <a:pt x="303" y="2189"/>
                  </a:lnTo>
                  <a:lnTo>
                    <a:pt x="270" y="1516"/>
                  </a:lnTo>
                  <a:close/>
                  <a:moveTo>
                    <a:pt x="2155" y="1"/>
                  </a:moveTo>
                  <a:lnTo>
                    <a:pt x="1886" y="34"/>
                  </a:lnTo>
                  <a:lnTo>
                    <a:pt x="1583" y="34"/>
                  </a:lnTo>
                  <a:lnTo>
                    <a:pt x="1044" y="102"/>
                  </a:lnTo>
                  <a:lnTo>
                    <a:pt x="607" y="169"/>
                  </a:lnTo>
                  <a:lnTo>
                    <a:pt x="135" y="236"/>
                  </a:lnTo>
                  <a:lnTo>
                    <a:pt x="101" y="169"/>
                  </a:lnTo>
                  <a:lnTo>
                    <a:pt x="68" y="203"/>
                  </a:lnTo>
                  <a:lnTo>
                    <a:pt x="0" y="506"/>
                  </a:lnTo>
                  <a:lnTo>
                    <a:pt x="0" y="809"/>
                  </a:lnTo>
                  <a:lnTo>
                    <a:pt x="34" y="1449"/>
                  </a:lnTo>
                  <a:lnTo>
                    <a:pt x="34" y="2189"/>
                  </a:lnTo>
                  <a:lnTo>
                    <a:pt x="68" y="2560"/>
                  </a:lnTo>
                  <a:lnTo>
                    <a:pt x="135" y="2896"/>
                  </a:lnTo>
                  <a:lnTo>
                    <a:pt x="169" y="2964"/>
                  </a:lnTo>
                  <a:lnTo>
                    <a:pt x="236" y="2964"/>
                  </a:lnTo>
                  <a:lnTo>
                    <a:pt x="270" y="2930"/>
                  </a:lnTo>
                  <a:lnTo>
                    <a:pt x="303" y="2896"/>
                  </a:lnTo>
                  <a:lnTo>
                    <a:pt x="310" y="2835"/>
                  </a:lnTo>
                  <a:lnTo>
                    <a:pt x="337" y="2863"/>
                  </a:lnTo>
                  <a:lnTo>
                    <a:pt x="842" y="2863"/>
                  </a:lnTo>
                  <a:lnTo>
                    <a:pt x="1347" y="2829"/>
                  </a:lnTo>
                  <a:lnTo>
                    <a:pt x="1819" y="2795"/>
                  </a:lnTo>
                  <a:lnTo>
                    <a:pt x="2290" y="2728"/>
                  </a:lnTo>
                  <a:lnTo>
                    <a:pt x="2324" y="2795"/>
                  </a:lnTo>
                  <a:lnTo>
                    <a:pt x="2357" y="2829"/>
                  </a:lnTo>
                  <a:lnTo>
                    <a:pt x="2391" y="2795"/>
                  </a:lnTo>
                  <a:lnTo>
                    <a:pt x="2391" y="2728"/>
                  </a:lnTo>
                  <a:lnTo>
                    <a:pt x="2425" y="2661"/>
                  </a:lnTo>
                  <a:lnTo>
                    <a:pt x="2425" y="2627"/>
                  </a:lnTo>
                  <a:lnTo>
                    <a:pt x="2458" y="2358"/>
                  </a:lnTo>
                  <a:lnTo>
                    <a:pt x="2458" y="2088"/>
                  </a:lnTo>
                  <a:lnTo>
                    <a:pt x="2425" y="1583"/>
                  </a:lnTo>
                  <a:lnTo>
                    <a:pt x="2391" y="843"/>
                  </a:lnTo>
                  <a:lnTo>
                    <a:pt x="2357" y="506"/>
                  </a:lnTo>
                  <a:lnTo>
                    <a:pt x="2290" y="135"/>
                  </a:lnTo>
                  <a:lnTo>
                    <a:pt x="2256" y="135"/>
                  </a:lnTo>
                  <a:lnTo>
                    <a:pt x="2223" y="438"/>
                  </a:lnTo>
                  <a:lnTo>
                    <a:pt x="2189" y="775"/>
                  </a:lnTo>
                  <a:lnTo>
                    <a:pt x="2223" y="1381"/>
                  </a:lnTo>
                  <a:lnTo>
                    <a:pt x="2223" y="1415"/>
                  </a:lnTo>
                  <a:lnTo>
                    <a:pt x="1953" y="1381"/>
                  </a:lnTo>
                  <a:lnTo>
                    <a:pt x="472" y="1381"/>
                  </a:lnTo>
                  <a:lnTo>
                    <a:pt x="236" y="1449"/>
                  </a:lnTo>
                  <a:lnTo>
                    <a:pt x="236" y="910"/>
                  </a:lnTo>
                  <a:lnTo>
                    <a:pt x="202" y="641"/>
                  </a:lnTo>
                  <a:lnTo>
                    <a:pt x="169" y="371"/>
                  </a:lnTo>
                  <a:lnTo>
                    <a:pt x="674" y="371"/>
                  </a:lnTo>
                  <a:lnTo>
                    <a:pt x="1213" y="304"/>
                  </a:lnTo>
                  <a:lnTo>
                    <a:pt x="1684" y="236"/>
                  </a:lnTo>
                  <a:lnTo>
                    <a:pt x="2189" y="169"/>
                  </a:lnTo>
                  <a:lnTo>
                    <a:pt x="2223" y="135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215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9920" bIns="79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hape 705"/>
            <p:cNvSpPr/>
            <p:nvPr/>
          </p:nvSpPr>
          <p:spPr>
            <a:xfrm>
              <a:off x="2496960" y="75564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560" h="1617">
                  <a:moveTo>
                    <a:pt x="1314" y="1"/>
                  </a:moveTo>
                  <a:lnTo>
                    <a:pt x="674" y="34"/>
                  </a:lnTo>
                  <a:lnTo>
                    <a:pt x="371" y="68"/>
                  </a:lnTo>
                  <a:lnTo>
                    <a:pt x="68" y="135"/>
                  </a:lnTo>
                  <a:lnTo>
                    <a:pt x="35" y="169"/>
                  </a:lnTo>
                  <a:lnTo>
                    <a:pt x="1" y="203"/>
                  </a:lnTo>
                  <a:lnTo>
                    <a:pt x="35" y="236"/>
                  </a:lnTo>
                  <a:lnTo>
                    <a:pt x="102" y="270"/>
                  </a:lnTo>
                  <a:lnTo>
                    <a:pt x="708" y="270"/>
                  </a:lnTo>
                  <a:lnTo>
                    <a:pt x="1314" y="236"/>
                  </a:lnTo>
                  <a:lnTo>
                    <a:pt x="2290" y="236"/>
                  </a:lnTo>
                  <a:lnTo>
                    <a:pt x="2358" y="506"/>
                  </a:lnTo>
                  <a:lnTo>
                    <a:pt x="2391" y="775"/>
                  </a:lnTo>
                  <a:lnTo>
                    <a:pt x="2358" y="1347"/>
                  </a:lnTo>
                  <a:lnTo>
                    <a:pt x="1247" y="1381"/>
                  </a:lnTo>
                  <a:lnTo>
                    <a:pt x="742" y="1415"/>
                  </a:lnTo>
                  <a:lnTo>
                    <a:pt x="472" y="1415"/>
                  </a:lnTo>
                  <a:lnTo>
                    <a:pt x="237" y="1482"/>
                  </a:lnTo>
                  <a:lnTo>
                    <a:pt x="203" y="1516"/>
                  </a:lnTo>
                  <a:lnTo>
                    <a:pt x="237" y="1549"/>
                  </a:lnTo>
                  <a:lnTo>
                    <a:pt x="472" y="1617"/>
                  </a:lnTo>
                  <a:lnTo>
                    <a:pt x="742" y="1617"/>
                  </a:lnTo>
                  <a:lnTo>
                    <a:pt x="1280" y="1583"/>
                  </a:lnTo>
                  <a:lnTo>
                    <a:pt x="2459" y="1549"/>
                  </a:lnTo>
                  <a:lnTo>
                    <a:pt x="2526" y="1516"/>
                  </a:lnTo>
                  <a:lnTo>
                    <a:pt x="2560" y="1448"/>
                  </a:lnTo>
                  <a:lnTo>
                    <a:pt x="2560" y="1145"/>
                  </a:lnTo>
                  <a:lnTo>
                    <a:pt x="2492" y="842"/>
                  </a:lnTo>
                  <a:lnTo>
                    <a:pt x="2358" y="236"/>
                  </a:lnTo>
                  <a:lnTo>
                    <a:pt x="2391" y="203"/>
                  </a:lnTo>
                  <a:lnTo>
                    <a:pt x="2425" y="203"/>
                  </a:lnTo>
                  <a:lnTo>
                    <a:pt x="2459" y="135"/>
                  </a:lnTo>
                  <a:lnTo>
                    <a:pt x="2425" y="102"/>
                  </a:lnTo>
                  <a:lnTo>
                    <a:pt x="2391" y="102"/>
                  </a:lnTo>
                  <a:lnTo>
                    <a:pt x="2324" y="68"/>
                  </a:lnTo>
                  <a:lnTo>
                    <a:pt x="2324" y="1"/>
                  </a:lnTo>
                  <a:lnTo>
                    <a:pt x="2257" y="1"/>
                  </a:lnTo>
                  <a:lnTo>
                    <a:pt x="2257" y="34"/>
                  </a:lnTo>
                  <a:lnTo>
                    <a:pt x="2021" y="34"/>
                  </a:lnTo>
                  <a:lnTo>
                    <a:pt x="178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hape 706"/>
            <p:cNvSpPr/>
            <p:nvPr/>
          </p:nvSpPr>
          <p:spPr>
            <a:xfrm>
              <a:off x="2565360" y="787320"/>
              <a:ext cx="34920" cy="48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40" h="742">
                  <a:moveTo>
                    <a:pt x="136" y="1"/>
                  </a:moveTo>
                  <a:lnTo>
                    <a:pt x="68" y="35"/>
                  </a:lnTo>
                  <a:lnTo>
                    <a:pt x="68" y="102"/>
                  </a:lnTo>
                  <a:lnTo>
                    <a:pt x="102" y="203"/>
                  </a:lnTo>
                  <a:lnTo>
                    <a:pt x="169" y="237"/>
                  </a:lnTo>
                  <a:lnTo>
                    <a:pt x="270" y="304"/>
                  </a:lnTo>
                  <a:lnTo>
                    <a:pt x="203" y="338"/>
                  </a:lnTo>
                  <a:lnTo>
                    <a:pt x="35" y="540"/>
                  </a:lnTo>
                  <a:lnTo>
                    <a:pt x="1" y="573"/>
                  </a:lnTo>
                  <a:lnTo>
                    <a:pt x="1" y="641"/>
                  </a:lnTo>
                  <a:lnTo>
                    <a:pt x="35" y="708"/>
                  </a:lnTo>
                  <a:lnTo>
                    <a:pt x="102" y="742"/>
                  </a:lnTo>
                  <a:lnTo>
                    <a:pt x="136" y="708"/>
                  </a:lnTo>
                  <a:lnTo>
                    <a:pt x="203" y="708"/>
                  </a:lnTo>
                  <a:lnTo>
                    <a:pt x="371" y="472"/>
                  </a:lnTo>
                  <a:lnTo>
                    <a:pt x="439" y="371"/>
                  </a:lnTo>
                  <a:lnTo>
                    <a:pt x="506" y="338"/>
                  </a:lnTo>
                  <a:lnTo>
                    <a:pt x="540" y="304"/>
                  </a:lnTo>
                  <a:lnTo>
                    <a:pt x="540" y="237"/>
                  </a:lnTo>
                  <a:lnTo>
                    <a:pt x="506" y="203"/>
                  </a:lnTo>
                  <a:lnTo>
                    <a:pt x="371" y="102"/>
                  </a:lnTo>
                  <a:lnTo>
                    <a:pt x="304" y="68"/>
                  </a:lnTo>
                  <a:lnTo>
                    <a:pt x="237" y="35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hape 707"/>
            <p:cNvSpPr/>
            <p:nvPr/>
          </p:nvSpPr>
          <p:spPr>
            <a:xfrm>
              <a:off x="2368440" y="70452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6" h="573">
                  <a:moveTo>
                    <a:pt x="404" y="0"/>
                  </a:moveTo>
                  <a:lnTo>
                    <a:pt x="270" y="101"/>
                  </a:lnTo>
                  <a:lnTo>
                    <a:pt x="169" y="202"/>
                  </a:lnTo>
                  <a:lnTo>
                    <a:pt x="68" y="303"/>
                  </a:lnTo>
                  <a:lnTo>
                    <a:pt x="34" y="371"/>
                  </a:lnTo>
                  <a:lnTo>
                    <a:pt x="0" y="438"/>
                  </a:lnTo>
                  <a:lnTo>
                    <a:pt x="0" y="505"/>
                  </a:lnTo>
                  <a:lnTo>
                    <a:pt x="68" y="505"/>
                  </a:lnTo>
                  <a:lnTo>
                    <a:pt x="202" y="472"/>
                  </a:lnTo>
                  <a:lnTo>
                    <a:pt x="303" y="371"/>
                  </a:lnTo>
                  <a:lnTo>
                    <a:pt x="438" y="236"/>
                  </a:lnTo>
                  <a:lnTo>
                    <a:pt x="573" y="404"/>
                  </a:lnTo>
                  <a:lnTo>
                    <a:pt x="741" y="539"/>
                  </a:lnTo>
                  <a:lnTo>
                    <a:pt x="775" y="573"/>
                  </a:lnTo>
                  <a:lnTo>
                    <a:pt x="842" y="573"/>
                  </a:lnTo>
                  <a:lnTo>
                    <a:pt x="842" y="539"/>
                  </a:lnTo>
                  <a:lnTo>
                    <a:pt x="876" y="505"/>
                  </a:lnTo>
                  <a:lnTo>
                    <a:pt x="842" y="472"/>
                  </a:lnTo>
                  <a:lnTo>
                    <a:pt x="707" y="303"/>
                  </a:lnTo>
                  <a:lnTo>
                    <a:pt x="505" y="135"/>
                  </a:lnTo>
                  <a:lnTo>
                    <a:pt x="505" y="101"/>
                  </a:lnTo>
                  <a:lnTo>
                    <a:pt x="505" y="34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8840" bIns="-78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hape 708"/>
            <p:cNvSpPr/>
            <p:nvPr/>
          </p:nvSpPr>
          <p:spPr>
            <a:xfrm>
              <a:off x="2252520" y="477720"/>
              <a:ext cx="404640" cy="188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95" h="2829">
                  <a:moveTo>
                    <a:pt x="5522" y="1"/>
                  </a:moveTo>
                  <a:lnTo>
                    <a:pt x="3704" y="68"/>
                  </a:lnTo>
                  <a:lnTo>
                    <a:pt x="1886" y="169"/>
                  </a:lnTo>
                  <a:lnTo>
                    <a:pt x="977" y="236"/>
                  </a:lnTo>
                  <a:lnTo>
                    <a:pt x="505" y="304"/>
                  </a:lnTo>
                  <a:lnTo>
                    <a:pt x="68" y="405"/>
                  </a:lnTo>
                  <a:lnTo>
                    <a:pt x="34" y="438"/>
                  </a:lnTo>
                  <a:lnTo>
                    <a:pt x="68" y="472"/>
                  </a:lnTo>
                  <a:lnTo>
                    <a:pt x="101" y="472"/>
                  </a:lnTo>
                  <a:lnTo>
                    <a:pt x="34" y="708"/>
                  </a:lnTo>
                  <a:lnTo>
                    <a:pt x="0" y="977"/>
                  </a:lnTo>
                  <a:lnTo>
                    <a:pt x="34" y="1482"/>
                  </a:lnTo>
                  <a:lnTo>
                    <a:pt x="101" y="2088"/>
                  </a:lnTo>
                  <a:lnTo>
                    <a:pt x="202" y="2728"/>
                  </a:lnTo>
                  <a:lnTo>
                    <a:pt x="236" y="2761"/>
                  </a:lnTo>
                  <a:lnTo>
                    <a:pt x="270" y="2795"/>
                  </a:lnTo>
                  <a:lnTo>
                    <a:pt x="371" y="2761"/>
                  </a:lnTo>
                  <a:lnTo>
                    <a:pt x="1044" y="2829"/>
                  </a:lnTo>
                  <a:lnTo>
                    <a:pt x="1718" y="2829"/>
                  </a:lnTo>
                  <a:lnTo>
                    <a:pt x="2425" y="2795"/>
                  </a:lnTo>
                  <a:lnTo>
                    <a:pt x="3098" y="2728"/>
                  </a:lnTo>
                  <a:lnTo>
                    <a:pt x="4445" y="2593"/>
                  </a:lnTo>
                  <a:lnTo>
                    <a:pt x="5152" y="2559"/>
                  </a:lnTo>
                  <a:lnTo>
                    <a:pt x="5825" y="2559"/>
                  </a:lnTo>
                  <a:lnTo>
                    <a:pt x="5892" y="2593"/>
                  </a:lnTo>
                  <a:lnTo>
                    <a:pt x="5960" y="2593"/>
                  </a:lnTo>
                  <a:lnTo>
                    <a:pt x="6027" y="2559"/>
                  </a:lnTo>
                  <a:lnTo>
                    <a:pt x="6061" y="2492"/>
                  </a:lnTo>
                  <a:lnTo>
                    <a:pt x="6094" y="1280"/>
                  </a:lnTo>
                  <a:lnTo>
                    <a:pt x="6061" y="674"/>
                  </a:lnTo>
                  <a:lnTo>
                    <a:pt x="6061" y="371"/>
                  </a:lnTo>
                  <a:lnTo>
                    <a:pt x="6027" y="68"/>
                  </a:lnTo>
                  <a:lnTo>
                    <a:pt x="5993" y="34"/>
                  </a:lnTo>
                  <a:lnTo>
                    <a:pt x="5926" y="34"/>
                  </a:lnTo>
                  <a:lnTo>
                    <a:pt x="5892" y="68"/>
                  </a:lnTo>
                  <a:lnTo>
                    <a:pt x="5825" y="607"/>
                  </a:lnTo>
                  <a:lnTo>
                    <a:pt x="5791" y="1179"/>
                  </a:lnTo>
                  <a:lnTo>
                    <a:pt x="5825" y="2290"/>
                  </a:lnTo>
                  <a:lnTo>
                    <a:pt x="5152" y="2324"/>
                  </a:lnTo>
                  <a:lnTo>
                    <a:pt x="4478" y="2357"/>
                  </a:lnTo>
                  <a:lnTo>
                    <a:pt x="3132" y="2458"/>
                  </a:lnTo>
                  <a:lnTo>
                    <a:pt x="1785" y="2593"/>
                  </a:lnTo>
                  <a:lnTo>
                    <a:pt x="1111" y="2627"/>
                  </a:lnTo>
                  <a:lnTo>
                    <a:pt x="438" y="2627"/>
                  </a:lnTo>
                  <a:lnTo>
                    <a:pt x="303" y="2054"/>
                  </a:lnTo>
                  <a:lnTo>
                    <a:pt x="236" y="1448"/>
                  </a:lnTo>
                  <a:lnTo>
                    <a:pt x="236" y="977"/>
                  </a:lnTo>
                  <a:lnTo>
                    <a:pt x="236" y="708"/>
                  </a:lnTo>
                  <a:lnTo>
                    <a:pt x="169" y="472"/>
                  </a:lnTo>
                  <a:lnTo>
                    <a:pt x="472" y="506"/>
                  </a:lnTo>
                  <a:lnTo>
                    <a:pt x="775" y="506"/>
                  </a:lnTo>
                  <a:lnTo>
                    <a:pt x="1414" y="472"/>
                  </a:lnTo>
                  <a:lnTo>
                    <a:pt x="2054" y="405"/>
                  </a:lnTo>
                  <a:lnTo>
                    <a:pt x="2694" y="337"/>
                  </a:lnTo>
                  <a:lnTo>
                    <a:pt x="3973" y="270"/>
                  </a:lnTo>
                  <a:lnTo>
                    <a:pt x="4781" y="236"/>
                  </a:lnTo>
                  <a:lnTo>
                    <a:pt x="5219" y="203"/>
                  </a:lnTo>
                  <a:lnTo>
                    <a:pt x="5455" y="203"/>
                  </a:lnTo>
                  <a:lnTo>
                    <a:pt x="5556" y="236"/>
                  </a:lnTo>
                  <a:lnTo>
                    <a:pt x="5623" y="270"/>
                  </a:lnTo>
                  <a:lnTo>
                    <a:pt x="5690" y="304"/>
                  </a:lnTo>
                  <a:lnTo>
                    <a:pt x="5758" y="270"/>
                  </a:lnTo>
                  <a:lnTo>
                    <a:pt x="5791" y="236"/>
                  </a:lnTo>
                  <a:lnTo>
                    <a:pt x="5791" y="169"/>
                  </a:lnTo>
                  <a:lnTo>
                    <a:pt x="5758" y="102"/>
                  </a:lnTo>
                  <a:lnTo>
                    <a:pt x="5690" y="34"/>
                  </a:lnTo>
                  <a:lnTo>
                    <a:pt x="56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2000" bIns="72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hape 709"/>
            <p:cNvSpPr/>
            <p:nvPr/>
          </p:nvSpPr>
          <p:spPr>
            <a:xfrm>
              <a:off x="160200" y="758520"/>
              <a:ext cx="166680" cy="2044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93" h="3098">
                  <a:moveTo>
                    <a:pt x="2290" y="202"/>
                  </a:moveTo>
                  <a:lnTo>
                    <a:pt x="2223" y="808"/>
                  </a:lnTo>
                  <a:lnTo>
                    <a:pt x="2223" y="1482"/>
                  </a:lnTo>
                  <a:lnTo>
                    <a:pt x="2223" y="2155"/>
                  </a:lnTo>
                  <a:lnTo>
                    <a:pt x="2290" y="2727"/>
                  </a:lnTo>
                  <a:lnTo>
                    <a:pt x="2324" y="2761"/>
                  </a:lnTo>
                  <a:lnTo>
                    <a:pt x="2290" y="2761"/>
                  </a:lnTo>
                  <a:lnTo>
                    <a:pt x="2055" y="2727"/>
                  </a:lnTo>
                  <a:lnTo>
                    <a:pt x="1819" y="2727"/>
                  </a:lnTo>
                  <a:lnTo>
                    <a:pt x="1348" y="2761"/>
                  </a:lnTo>
                  <a:lnTo>
                    <a:pt x="371" y="2761"/>
                  </a:lnTo>
                  <a:lnTo>
                    <a:pt x="270" y="1515"/>
                  </a:lnTo>
                  <a:lnTo>
                    <a:pt x="169" y="236"/>
                  </a:lnTo>
                  <a:lnTo>
                    <a:pt x="708" y="303"/>
                  </a:lnTo>
                  <a:lnTo>
                    <a:pt x="1213" y="270"/>
                  </a:lnTo>
                  <a:lnTo>
                    <a:pt x="2290" y="202"/>
                  </a:lnTo>
                  <a:close/>
                  <a:moveTo>
                    <a:pt x="2290" y="0"/>
                  </a:moveTo>
                  <a:lnTo>
                    <a:pt x="1752" y="34"/>
                  </a:lnTo>
                  <a:lnTo>
                    <a:pt x="1213" y="34"/>
                  </a:lnTo>
                  <a:lnTo>
                    <a:pt x="674" y="68"/>
                  </a:lnTo>
                  <a:lnTo>
                    <a:pt x="136" y="101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34" y="236"/>
                  </a:lnTo>
                  <a:lnTo>
                    <a:pt x="1" y="876"/>
                  </a:lnTo>
                  <a:lnTo>
                    <a:pt x="34" y="1616"/>
                  </a:lnTo>
                  <a:lnTo>
                    <a:pt x="102" y="2357"/>
                  </a:lnTo>
                  <a:lnTo>
                    <a:pt x="203" y="3030"/>
                  </a:lnTo>
                  <a:lnTo>
                    <a:pt x="237" y="3064"/>
                  </a:lnTo>
                  <a:lnTo>
                    <a:pt x="304" y="3098"/>
                  </a:lnTo>
                  <a:lnTo>
                    <a:pt x="371" y="3064"/>
                  </a:lnTo>
                  <a:lnTo>
                    <a:pt x="405" y="2997"/>
                  </a:lnTo>
                  <a:lnTo>
                    <a:pt x="405" y="2896"/>
                  </a:lnTo>
                  <a:lnTo>
                    <a:pt x="876" y="2997"/>
                  </a:lnTo>
                  <a:lnTo>
                    <a:pt x="1348" y="3030"/>
                  </a:lnTo>
                  <a:lnTo>
                    <a:pt x="1853" y="2997"/>
                  </a:lnTo>
                  <a:lnTo>
                    <a:pt x="2088" y="2963"/>
                  </a:lnTo>
                  <a:lnTo>
                    <a:pt x="2290" y="2896"/>
                  </a:lnTo>
                  <a:lnTo>
                    <a:pt x="2358" y="2862"/>
                  </a:lnTo>
                  <a:lnTo>
                    <a:pt x="2358" y="2795"/>
                  </a:lnTo>
                  <a:lnTo>
                    <a:pt x="2425" y="2795"/>
                  </a:lnTo>
                  <a:lnTo>
                    <a:pt x="2459" y="2761"/>
                  </a:lnTo>
                  <a:lnTo>
                    <a:pt x="2459" y="2727"/>
                  </a:lnTo>
                  <a:lnTo>
                    <a:pt x="2492" y="2121"/>
                  </a:lnTo>
                  <a:lnTo>
                    <a:pt x="2459" y="1448"/>
                  </a:lnTo>
                  <a:lnTo>
                    <a:pt x="2425" y="775"/>
                  </a:lnTo>
                  <a:lnTo>
                    <a:pt x="2358" y="169"/>
                  </a:lnTo>
                  <a:lnTo>
                    <a:pt x="2391" y="135"/>
                  </a:lnTo>
                  <a:lnTo>
                    <a:pt x="2391" y="68"/>
                  </a:lnTo>
                  <a:lnTo>
                    <a:pt x="2358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7840" bIns="87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hape 710"/>
            <p:cNvSpPr/>
            <p:nvPr/>
          </p:nvSpPr>
          <p:spPr>
            <a:xfrm>
              <a:off x="0" y="4097160"/>
              <a:ext cx="973080" cy="13953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4647" h="21010">
                  <a:moveTo>
                    <a:pt x="3738" y="1"/>
                  </a:moveTo>
                  <a:lnTo>
                    <a:pt x="3199" y="34"/>
                  </a:lnTo>
                  <a:lnTo>
                    <a:pt x="2661" y="102"/>
                  </a:lnTo>
                  <a:lnTo>
                    <a:pt x="2122" y="203"/>
                  </a:lnTo>
                  <a:lnTo>
                    <a:pt x="1583" y="337"/>
                  </a:lnTo>
                  <a:lnTo>
                    <a:pt x="1044" y="472"/>
                  </a:lnTo>
                  <a:lnTo>
                    <a:pt x="1" y="809"/>
                  </a:lnTo>
                  <a:lnTo>
                    <a:pt x="1" y="1078"/>
                  </a:lnTo>
                  <a:lnTo>
                    <a:pt x="607" y="876"/>
                  </a:lnTo>
                  <a:lnTo>
                    <a:pt x="1213" y="674"/>
                  </a:lnTo>
                  <a:lnTo>
                    <a:pt x="1819" y="539"/>
                  </a:lnTo>
                  <a:lnTo>
                    <a:pt x="2425" y="405"/>
                  </a:lnTo>
                  <a:lnTo>
                    <a:pt x="2829" y="337"/>
                  </a:lnTo>
                  <a:lnTo>
                    <a:pt x="3233" y="304"/>
                  </a:lnTo>
                  <a:lnTo>
                    <a:pt x="3671" y="270"/>
                  </a:lnTo>
                  <a:lnTo>
                    <a:pt x="4075" y="236"/>
                  </a:lnTo>
                  <a:lnTo>
                    <a:pt x="4883" y="304"/>
                  </a:lnTo>
                  <a:lnTo>
                    <a:pt x="5691" y="405"/>
                  </a:lnTo>
                  <a:lnTo>
                    <a:pt x="6499" y="573"/>
                  </a:lnTo>
                  <a:lnTo>
                    <a:pt x="7273" y="809"/>
                  </a:lnTo>
                  <a:lnTo>
                    <a:pt x="8047" y="1112"/>
                  </a:lnTo>
                  <a:lnTo>
                    <a:pt x="8822" y="1448"/>
                  </a:lnTo>
                  <a:lnTo>
                    <a:pt x="9125" y="1583"/>
                  </a:lnTo>
                  <a:lnTo>
                    <a:pt x="9394" y="1751"/>
                  </a:lnTo>
                  <a:lnTo>
                    <a:pt x="9933" y="2122"/>
                  </a:lnTo>
                  <a:lnTo>
                    <a:pt x="10438" y="2559"/>
                  </a:lnTo>
                  <a:lnTo>
                    <a:pt x="10909" y="2997"/>
                  </a:lnTo>
                  <a:lnTo>
                    <a:pt x="11482" y="3502"/>
                  </a:lnTo>
                  <a:lnTo>
                    <a:pt x="11987" y="4041"/>
                  </a:lnTo>
                  <a:lnTo>
                    <a:pt x="12525" y="4613"/>
                  </a:lnTo>
                  <a:lnTo>
                    <a:pt x="12997" y="5185"/>
                  </a:lnTo>
                  <a:lnTo>
                    <a:pt x="13401" y="5792"/>
                  </a:lnTo>
                  <a:lnTo>
                    <a:pt x="13704" y="6431"/>
                  </a:lnTo>
                  <a:lnTo>
                    <a:pt x="13872" y="6734"/>
                  </a:lnTo>
                  <a:lnTo>
                    <a:pt x="13973" y="7071"/>
                  </a:lnTo>
                  <a:lnTo>
                    <a:pt x="14074" y="7408"/>
                  </a:lnTo>
                  <a:lnTo>
                    <a:pt x="14175" y="7778"/>
                  </a:lnTo>
                  <a:lnTo>
                    <a:pt x="14242" y="8182"/>
                  </a:lnTo>
                  <a:lnTo>
                    <a:pt x="14276" y="8620"/>
                  </a:lnTo>
                  <a:lnTo>
                    <a:pt x="14343" y="9461"/>
                  </a:lnTo>
                  <a:lnTo>
                    <a:pt x="14377" y="11212"/>
                  </a:lnTo>
                  <a:lnTo>
                    <a:pt x="14411" y="11953"/>
                  </a:lnTo>
                  <a:lnTo>
                    <a:pt x="14343" y="12727"/>
                  </a:lnTo>
                  <a:lnTo>
                    <a:pt x="14242" y="13468"/>
                  </a:lnTo>
                  <a:lnTo>
                    <a:pt x="14040" y="14209"/>
                  </a:lnTo>
                  <a:lnTo>
                    <a:pt x="13805" y="14916"/>
                  </a:lnTo>
                  <a:lnTo>
                    <a:pt x="13502" y="15589"/>
                  </a:lnTo>
                  <a:lnTo>
                    <a:pt x="13131" y="16229"/>
                  </a:lnTo>
                  <a:lnTo>
                    <a:pt x="12660" y="16868"/>
                  </a:lnTo>
                  <a:lnTo>
                    <a:pt x="12424" y="17138"/>
                  </a:lnTo>
                  <a:lnTo>
                    <a:pt x="12189" y="17373"/>
                  </a:lnTo>
                  <a:lnTo>
                    <a:pt x="11650" y="17878"/>
                  </a:lnTo>
                  <a:lnTo>
                    <a:pt x="11078" y="18316"/>
                  </a:lnTo>
                  <a:lnTo>
                    <a:pt x="10505" y="18754"/>
                  </a:lnTo>
                  <a:lnTo>
                    <a:pt x="10202" y="18989"/>
                  </a:lnTo>
                  <a:lnTo>
                    <a:pt x="9865" y="19191"/>
                  </a:lnTo>
                  <a:lnTo>
                    <a:pt x="9529" y="19360"/>
                  </a:lnTo>
                  <a:lnTo>
                    <a:pt x="9192" y="19528"/>
                  </a:lnTo>
                  <a:lnTo>
                    <a:pt x="8519" y="19797"/>
                  </a:lnTo>
                  <a:lnTo>
                    <a:pt x="7778" y="19999"/>
                  </a:lnTo>
                  <a:lnTo>
                    <a:pt x="6431" y="20370"/>
                  </a:lnTo>
                  <a:lnTo>
                    <a:pt x="5792" y="20538"/>
                  </a:lnTo>
                  <a:lnTo>
                    <a:pt x="5118" y="20673"/>
                  </a:lnTo>
                  <a:lnTo>
                    <a:pt x="4681" y="20740"/>
                  </a:lnTo>
                  <a:lnTo>
                    <a:pt x="4243" y="20774"/>
                  </a:lnTo>
                  <a:lnTo>
                    <a:pt x="3401" y="20774"/>
                  </a:lnTo>
                  <a:lnTo>
                    <a:pt x="2560" y="20706"/>
                  </a:lnTo>
                  <a:lnTo>
                    <a:pt x="1684" y="20605"/>
                  </a:lnTo>
                  <a:lnTo>
                    <a:pt x="842" y="20471"/>
                  </a:lnTo>
                  <a:lnTo>
                    <a:pt x="1" y="20302"/>
                  </a:lnTo>
                  <a:lnTo>
                    <a:pt x="1" y="20572"/>
                  </a:lnTo>
                  <a:lnTo>
                    <a:pt x="169" y="20605"/>
                  </a:lnTo>
                  <a:lnTo>
                    <a:pt x="842" y="20740"/>
                  </a:lnTo>
                  <a:lnTo>
                    <a:pt x="1549" y="20841"/>
                  </a:lnTo>
                  <a:lnTo>
                    <a:pt x="2223" y="20942"/>
                  </a:lnTo>
                  <a:lnTo>
                    <a:pt x="2896" y="21009"/>
                  </a:lnTo>
                  <a:lnTo>
                    <a:pt x="4277" y="21009"/>
                  </a:lnTo>
                  <a:lnTo>
                    <a:pt x="4950" y="20942"/>
                  </a:lnTo>
                  <a:lnTo>
                    <a:pt x="5657" y="20841"/>
                  </a:lnTo>
                  <a:lnTo>
                    <a:pt x="6297" y="20706"/>
                  </a:lnTo>
                  <a:lnTo>
                    <a:pt x="6970" y="20504"/>
                  </a:lnTo>
                  <a:lnTo>
                    <a:pt x="8249" y="20168"/>
                  </a:lnTo>
                  <a:lnTo>
                    <a:pt x="8586" y="20067"/>
                  </a:lnTo>
                  <a:lnTo>
                    <a:pt x="8923" y="19966"/>
                  </a:lnTo>
                  <a:lnTo>
                    <a:pt x="9495" y="19696"/>
                  </a:lnTo>
                  <a:lnTo>
                    <a:pt x="10067" y="19360"/>
                  </a:lnTo>
                  <a:lnTo>
                    <a:pt x="10640" y="18989"/>
                  </a:lnTo>
                  <a:lnTo>
                    <a:pt x="11145" y="18585"/>
                  </a:lnTo>
                  <a:lnTo>
                    <a:pt x="11650" y="18181"/>
                  </a:lnTo>
                  <a:lnTo>
                    <a:pt x="12121" y="17777"/>
                  </a:lnTo>
                  <a:lnTo>
                    <a:pt x="12559" y="17340"/>
                  </a:lnTo>
                  <a:lnTo>
                    <a:pt x="12963" y="16868"/>
                  </a:lnTo>
                  <a:lnTo>
                    <a:pt x="13333" y="16363"/>
                  </a:lnTo>
                  <a:lnTo>
                    <a:pt x="13670" y="15825"/>
                  </a:lnTo>
                  <a:lnTo>
                    <a:pt x="13973" y="15219"/>
                  </a:lnTo>
                  <a:lnTo>
                    <a:pt x="14209" y="14579"/>
                  </a:lnTo>
                  <a:lnTo>
                    <a:pt x="14411" y="13939"/>
                  </a:lnTo>
                  <a:lnTo>
                    <a:pt x="14512" y="13266"/>
                  </a:lnTo>
                  <a:lnTo>
                    <a:pt x="14613" y="12592"/>
                  </a:lnTo>
                  <a:lnTo>
                    <a:pt x="14646" y="11919"/>
                  </a:lnTo>
                  <a:lnTo>
                    <a:pt x="14646" y="11246"/>
                  </a:lnTo>
                  <a:lnTo>
                    <a:pt x="14613" y="10572"/>
                  </a:lnTo>
                  <a:lnTo>
                    <a:pt x="14545" y="9865"/>
                  </a:lnTo>
                  <a:lnTo>
                    <a:pt x="14478" y="8552"/>
                  </a:lnTo>
                  <a:lnTo>
                    <a:pt x="14444" y="7879"/>
                  </a:lnTo>
                  <a:lnTo>
                    <a:pt x="14377" y="7576"/>
                  </a:lnTo>
                  <a:lnTo>
                    <a:pt x="14310" y="7239"/>
                  </a:lnTo>
                  <a:lnTo>
                    <a:pt x="14209" y="6903"/>
                  </a:lnTo>
                  <a:lnTo>
                    <a:pt x="14074" y="6600"/>
                  </a:lnTo>
                  <a:lnTo>
                    <a:pt x="13805" y="5994"/>
                  </a:lnTo>
                  <a:lnTo>
                    <a:pt x="13468" y="5421"/>
                  </a:lnTo>
                  <a:lnTo>
                    <a:pt x="13064" y="4882"/>
                  </a:lnTo>
                  <a:lnTo>
                    <a:pt x="12660" y="4377"/>
                  </a:lnTo>
                  <a:lnTo>
                    <a:pt x="12222" y="3872"/>
                  </a:lnTo>
                  <a:lnTo>
                    <a:pt x="11785" y="3401"/>
                  </a:lnTo>
                  <a:lnTo>
                    <a:pt x="11313" y="2963"/>
                  </a:lnTo>
                  <a:lnTo>
                    <a:pt x="10808" y="2526"/>
                  </a:lnTo>
                  <a:lnTo>
                    <a:pt x="10303" y="2122"/>
                  </a:lnTo>
                  <a:lnTo>
                    <a:pt x="9764" y="1751"/>
                  </a:lnTo>
                  <a:lnTo>
                    <a:pt x="9226" y="1415"/>
                  </a:lnTo>
                  <a:lnTo>
                    <a:pt x="8653" y="1112"/>
                  </a:lnTo>
                  <a:lnTo>
                    <a:pt x="8081" y="842"/>
                  </a:lnTo>
                  <a:lnTo>
                    <a:pt x="7475" y="607"/>
                  </a:lnTo>
                  <a:lnTo>
                    <a:pt x="6869" y="405"/>
                  </a:lnTo>
                  <a:lnTo>
                    <a:pt x="6229" y="236"/>
                  </a:lnTo>
                  <a:lnTo>
                    <a:pt x="5590" y="102"/>
                  </a:lnTo>
                  <a:lnTo>
                    <a:pt x="4950" y="34"/>
                  </a:lnTo>
                  <a:lnTo>
                    <a:pt x="431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hape 711"/>
            <p:cNvSpPr/>
            <p:nvPr/>
          </p:nvSpPr>
          <p:spPr>
            <a:xfrm>
              <a:off x="1699920" y="693720"/>
              <a:ext cx="210960" cy="191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99" h="2897">
                  <a:moveTo>
                    <a:pt x="2963" y="1"/>
                  </a:moveTo>
                  <a:lnTo>
                    <a:pt x="2963" y="34"/>
                  </a:lnTo>
                  <a:lnTo>
                    <a:pt x="2930" y="34"/>
                  </a:lnTo>
                  <a:lnTo>
                    <a:pt x="2896" y="338"/>
                  </a:lnTo>
                  <a:lnTo>
                    <a:pt x="2930" y="674"/>
                  </a:lnTo>
                  <a:lnTo>
                    <a:pt x="2963" y="1280"/>
                  </a:lnTo>
                  <a:lnTo>
                    <a:pt x="2963" y="1954"/>
                  </a:lnTo>
                  <a:lnTo>
                    <a:pt x="2997" y="2290"/>
                  </a:lnTo>
                  <a:lnTo>
                    <a:pt x="3031" y="2627"/>
                  </a:lnTo>
                  <a:lnTo>
                    <a:pt x="2324" y="2627"/>
                  </a:lnTo>
                  <a:lnTo>
                    <a:pt x="1650" y="2661"/>
                  </a:lnTo>
                  <a:lnTo>
                    <a:pt x="977" y="2694"/>
                  </a:lnTo>
                  <a:lnTo>
                    <a:pt x="640" y="2728"/>
                  </a:lnTo>
                  <a:lnTo>
                    <a:pt x="270" y="2728"/>
                  </a:lnTo>
                  <a:lnTo>
                    <a:pt x="303" y="2391"/>
                  </a:lnTo>
                  <a:lnTo>
                    <a:pt x="303" y="2055"/>
                  </a:lnTo>
                  <a:lnTo>
                    <a:pt x="270" y="1348"/>
                  </a:lnTo>
                  <a:lnTo>
                    <a:pt x="236" y="742"/>
                  </a:lnTo>
                  <a:lnTo>
                    <a:pt x="202" y="439"/>
                  </a:lnTo>
                  <a:lnTo>
                    <a:pt x="101" y="169"/>
                  </a:lnTo>
                  <a:lnTo>
                    <a:pt x="68" y="169"/>
                  </a:lnTo>
                  <a:lnTo>
                    <a:pt x="0" y="472"/>
                  </a:lnTo>
                  <a:lnTo>
                    <a:pt x="0" y="775"/>
                  </a:lnTo>
                  <a:lnTo>
                    <a:pt x="34" y="1381"/>
                  </a:lnTo>
                  <a:lnTo>
                    <a:pt x="34" y="1718"/>
                  </a:lnTo>
                  <a:lnTo>
                    <a:pt x="101" y="2088"/>
                  </a:lnTo>
                  <a:lnTo>
                    <a:pt x="236" y="2795"/>
                  </a:lnTo>
                  <a:lnTo>
                    <a:pt x="236" y="2829"/>
                  </a:lnTo>
                  <a:lnTo>
                    <a:pt x="236" y="2863"/>
                  </a:lnTo>
                  <a:lnTo>
                    <a:pt x="539" y="2795"/>
                  </a:lnTo>
                  <a:lnTo>
                    <a:pt x="573" y="2863"/>
                  </a:lnTo>
                  <a:lnTo>
                    <a:pt x="640" y="2896"/>
                  </a:lnTo>
                  <a:lnTo>
                    <a:pt x="842" y="2896"/>
                  </a:lnTo>
                  <a:lnTo>
                    <a:pt x="1347" y="2863"/>
                  </a:lnTo>
                  <a:lnTo>
                    <a:pt x="2223" y="2829"/>
                  </a:lnTo>
                  <a:lnTo>
                    <a:pt x="3064" y="2795"/>
                  </a:lnTo>
                  <a:lnTo>
                    <a:pt x="3098" y="2795"/>
                  </a:lnTo>
                  <a:lnTo>
                    <a:pt x="3098" y="2762"/>
                  </a:lnTo>
                  <a:lnTo>
                    <a:pt x="3132" y="2762"/>
                  </a:lnTo>
                  <a:lnTo>
                    <a:pt x="3165" y="2694"/>
                  </a:lnTo>
                  <a:lnTo>
                    <a:pt x="3199" y="2391"/>
                  </a:lnTo>
                  <a:lnTo>
                    <a:pt x="3199" y="2088"/>
                  </a:lnTo>
                  <a:lnTo>
                    <a:pt x="3199" y="1482"/>
                  </a:lnTo>
                  <a:lnTo>
                    <a:pt x="3165" y="742"/>
                  </a:lnTo>
                  <a:lnTo>
                    <a:pt x="3132" y="371"/>
                  </a:lnTo>
                  <a:lnTo>
                    <a:pt x="3031" y="34"/>
                  </a:lnTo>
                  <a:lnTo>
                    <a:pt x="296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5240" bIns="75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hape 712"/>
            <p:cNvSpPr/>
            <p:nvPr/>
          </p:nvSpPr>
          <p:spPr>
            <a:xfrm>
              <a:off x="536400" y="739800"/>
              <a:ext cx="228600" cy="199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435" h="2998">
                  <a:moveTo>
                    <a:pt x="1279" y="1"/>
                  </a:moveTo>
                  <a:lnTo>
                    <a:pt x="909" y="68"/>
                  </a:lnTo>
                  <a:lnTo>
                    <a:pt x="539" y="136"/>
                  </a:lnTo>
                  <a:lnTo>
                    <a:pt x="202" y="203"/>
                  </a:lnTo>
                  <a:lnTo>
                    <a:pt x="101" y="136"/>
                  </a:lnTo>
                  <a:lnTo>
                    <a:pt x="34" y="136"/>
                  </a:lnTo>
                  <a:lnTo>
                    <a:pt x="0" y="169"/>
                  </a:lnTo>
                  <a:lnTo>
                    <a:pt x="0" y="237"/>
                  </a:lnTo>
                  <a:lnTo>
                    <a:pt x="34" y="304"/>
                  </a:lnTo>
                  <a:lnTo>
                    <a:pt x="67" y="338"/>
                  </a:lnTo>
                  <a:lnTo>
                    <a:pt x="34" y="876"/>
                  </a:lnTo>
                  <a:lnTo>
                    <a:pt x="67" y="1684"/>
                  </a:lnTo>
                  <a:lnTo>
                    <a:pt x="135" y="2896"/>
                  </a:lnTo>
                  <a:lnTo>
                    <a:pt x="168" y="2997"/>
                  </a:lnTo>
                  <a:lnTo>
                    <a:pt x="269" y="2997"/>
                  </a:lnTo>
                  <a:lnTo>
                    <a:pt x="337" y="2964"/>
                  </a:lnTo>
                  <a:lnTo>
                    <a:pt x="337" y="2896"/>
                  </a:lnTo>
                  <a:lnTo>
                    <a:pt x="303" y="1920"/>
                  </a:lnTo>
                  <a:lnTo>
                    <a:pt x="269" y="944"/>
                  </a:lnTo>
                  <a:lnTo>
                    <a:pt x="269" y="674"/>
                  </a:lnTo>
                  <a:lnTo>
                    <a:pt x="269" y="371"/>
                  </a:lnTo>
                  <a:lnTo>
                    <a:pt x="943" y="304"/>
                  </a:lnTo>
                  <a:lnTo>
                    <a:pt x="1616" y="270"/>
                  </a:lnTo>
                  <a:lnTo>
                    <a:pt x="1986" y="270"/>
                  </a:lnTo>
                  <a:lnTo>
                    <a:pt x="2357" y="304"/>
                  </a:lnTo>
                  <a:lnTo>
                    <a:pt x="2727" y="338"/>
                  </a:lnTo>
                  <a:lnTo>
                    <a:pt x="3098" y="371"/>
                  </a:lnTo>
                  <a:lnTo>
                    <a:pt x="3131" y="371"/>
                  </a:lnTo>
                  <a:lnTo>
                    <a:pt x="3098" y="573"/>
                  </a:lnTo>
                  <a:lnTo>
                    <a:pt x="3098" y="809"/>
                  </a:lnTo>
                  <a:lnTo>
                    <a:pt x="3098" y="1247"/>
                  </a:lnTo>
                  <a:lnTo>
                    <a:pt x="3098" y="2055"/>
                  </a:lnTo>
                  <a:lnTo>
                    <a:pt x="3131" y="2425"/>
                  </a:lnTo>
                  <a:lnTo>
                    <a:pt x="3199" y="2795"/>
                  </a:lnTo>
                  <a:lnTo>
                    <a:pt x="2795" y="2728"/>
                  </a:lnTo>
                  <a:lnTo>
                    <a:pt x="2390" y="2728"/>
                  </a:lnTo>
                  <a:lnTo>
                    <a:pt x="1549" y="2694"/>
                  </a:lnTo>
                  <a:lnTo>
                    <a:pt x="774" y="2694"/>
                  </a:lnTo>
                  <a:lnTo>
                    <a:pt x="640" y="2762"/>
                  </a:lnTo>
                  <a:lnTo>
                    <a:pt x="505" y="2795"/>
                  </a:lnTo>
                  <a:lnTo>
                    <a:pt x="370" y="2896"/>
                  </a:lnTo>
                  <a:lnTo>
                    <a:pt x="539" y="2930"/>
                  </a:lnTo>
                  <a:lnTo>
                    <a:pt x="707" y="2964"/>
                  </a:lnTo>
                  <a:lnTo>
                    <a:pt x="1044" y="2964"/>
                  </a:lnTo>
                  <a:lnTo>
                    <a:pt x="1414" y="2930"/>
                  </a:lnTo>
                  <a:lnTo>
                    <a:pt x="1784" y="2930"/>
                  </a:lnTo>
                  <a:lnTo>
                    <a:pt x="2525" y="2997"/>
                  </a:lnTo>
                  <a:lnTo>
                    <a:pt x="2929" y="2997"/>
                  </a:lnTo>
                  <a:lnTo>
                    <a:pt x="3300" y="2930"/>
                  </a:lnTo>
                  <a:lnTo>
                    <a:pt x="3333" y="2930"/>
                  </a:lnTo>
                  <a:lnTo>
                    <a:pt x="3401" y="2896"/>
                  </a:lnTo>
                  <a:lnTo>
                    <a:pt x="3434" y="2829"/>
                  </a:lnTo>
                  <a:lnTo>
                    <a:pt x="3434" y="2795"/>
                  </a:lnTo>
                  <a:lnTo>
                    <a:pt x="3367" y="2425"/>
                  </a:lnTo>
                  <a:lnTo>
                    <a:pt x="3333" y="2021"/>
                  </a:lnTo>
                  <a:lnTo>
                    <a:pt x="3300" y="1247"/>
                  </a:lnTo>
                  <a:lnTo>
                    <a:pt x="3333" y="674"/>
                  </a:lnTo>
                  <a:lnTo>
                    <a:pt x="3300" y="405"/>
                  </a:lnTo>
                  <a:lnTo>
                    <a:pt x="3232" y="136"/>
                  </a:lnTo>
                  <a:lnTo>
                    <a:pt x="3232" y="102"/>
                  </a:lnTo>
                  <a:lnTo>
                    <a:pt x="3199" y="136"/>
                  </a:lnTo>
                  <a:lnTo>
                    <a:pt x="3165" y="270"/>
                  </a:lnTo>
                  <a:lnTo>
                    <a:pt x="3131" y="237"/>
                  </a:lnTo>
                  <a:lnTo>
                    <a:pt x="2795" y="102"/>
                  </a:lnTo>
                  <a:lnTo>
                    <a:pt x="2424" y="35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hape 713"/>
            <p:cNvSpPr/>
            <p:nvPr/>
          </p:nvSpPr>
          <p:spPr>
            <a:xfrm>
              <a:off x="2520720" y="284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12" h="809">
                  <a:moveTo>
                    <a:pt x="371" y="0"/>
                  </a:moveTo>
                  <a:lnTo>
                    <a:pt x="304" y="34"/>
                  </a:lnTo>
                  <a:lnTo>
                    <a:pt x="203" y="101"/>
                  </a:lnTo>
                  <a:lnTo>
                    <a:pt x="102" y="202"/>
                  </a:lnTo>
                  <a:lnTo>
                    <a:pt x="1" y="404"/>
                  </a:lnTo>
                  <a:lnTo>
                    <a:pt x="1" y="472"/>
                  </a:lnTo>
                  <a:lnTo>
                    <a:pt x="34" y="505"/>
                  </a:lnTo>
                  <a:lnTo>
                    <a:pt x="371" y="775"/>
                  </a:lnTo>
                  <a:lnTo>
                    <a:pt x="472" y="808"/>
                  </a:lnTo>
                  <a:lnTo>
                    <a:pt x="539" y="775"/>
                  </a:lnTo>
                  <a:lnTo>
                    <a:pt x="573" y="707"/>
                  </a:lnTo>
                  <a:lnTo>
                    <a:pt x="506" y="606"/>
                  </a:lnTo>
                  <a:lnTo>
                    <a:pt x="337" y="472"/>
                  </a:lnTo>
                  <a:lnTo>
                    <a:pt x="674" y="438"/>
                  </a:lnTo>
                  <a:lnTo>
                    <a:pt x="1044" y="371"/>
                  </a:lnTo>
                  <a:lnTo>
                    <a:pt x="1112" y="337"/>
                  </a:lnTo>
                  <a:lnTo>
                    <a:pt x="1112" y="270"/>
                  </a:lnTo>
                  <a:lnTo>
                    <a:pt x="1112" y="202"/>
                  </a:lnTo>
                  <a:lnTo>
                    <a:pt x="1044" y="169"/>
                  </a:lnTo>
                  <a:lnTo>
                    <a:pt x="674" y="236"/>
                  </a:lnTo>
                  <a:lnTo>
                    <a:pt x="304" y="303"/>
                  </a:lnTo>
                  <a:lnTo>
                    <a:pt x="405" y="169"/>
                  </a:lnTo>
                  <a:lnTo>
                    <a:pt x="438" y="101"/>
                  </a:lnTo>
                  <a:lnTo>
                    <a:pt x="405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hape 714"/>
            <p:cNvSpPr/>
            <p:nvPr/>
          </p:nvSpPr>
          <p:spPr>
            <a:xfrm>
              <a:off x="1411200" y="6120000"/>
              <a:ext cx="628560" cy="5000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9461" h="7543">
                  <a:moveTo>
                    <a:pt x="3805" y="472"/>
                  </a:moveTo>
                  <a:lnTo>
                    <a:pt x="4377" y="573"/>
                  </a:lnTo>
                  <a:lnTo>
                    <a:pt x="4916" y="708"/>
                  </a:lnTo>
                  <a:lnTo>
                    <a:pt x="5488" y="876"/>
                  </a:lnTo>
                  <a:lnTo>
                    <a:pt x="6027" y="1044"/>
                  </a:lnTo>
                  <a:lnTo>
                    <a:pt x="6566" y="1246"/>
                  </a:lnTo>
                  <a:lnTo>
                    <a:pt x="7104" y="1482"/>
                  </a:lnTo>
                  <a:lnTo>
                    <a:pt x="7643" y="1718"/>
                  </a:lnTo>
                  <a:lnTo>
                    <a:pt x="8182" y="1953"/>
                  </a:lnTo>
                  <a:lnTo>
                    <a:pt x="8586" y="2223"/>
                  </a:lnTo>
                  <a:lnTo>
                    <a:pt x="8754" y="2357"/>
                  </a:lnTo>
                  <a:lnTo>
                    <a:pt x="8922" y="2526"/>
                  </a:lnTo>
                  <a:lnTo>
                    <a:pt x="9023" y="2694"/>
                  </a:lnTo>
                  <a:lnTo>
                    <a:pt x="9124" y="2896"/>
                  </a:lnTo>
                  <a:lnTo>
                    <a:pt x="9192" y="3132"/>
                  </a:lnTo>
                  <a:lnTo>
                    <a:pt x="9225" y="3367"/>
                  </a:lnTo>
                  <a:lnTo>
                    <a:pt x="9192" y="3670"/>
                  </a:lnTo>
                  <a:lnTo>
                    <a:pt x="6498" y="2088"/>
                  </a:lnTo>
                  <a:lnTo>
                    <a:pt x="3805" y="472"/>
                  </a:lnTo>
                  <a:close/>
                  <a:moveTo>
                    <a:pt x="2256" y="203"/>
                  </a:moveTo>
                  <a:lnTo>
                    <a:pt x="2290" y="236"/>
                  </a:lnTo>
                  <a:lnTo>
                    <a:pt x="2323" y="270"/>
                  </a:lnTo>
                  <a:lnTo>
                    <a:pt x="2896" y="337"/>
                  </a:lnTo>
                  <a:lnTo>
                    <a:pt x="3502" y="405"/>
                  </a:lnTo>
                  <a:lnTo>
                    <a:pt x="3771" y="708"/>
                  </a:lnTo>
                  <a:lnTo>
                    <a:pt x="4074" y="943"/>
                  </a:lnTo>
                  <a:lnTo>
                    <a:pt x="4377" y="1179"/>
                  </a:lnTo>
                  <a:lnTo>
                    <a:pt x="4747" y="1415"/>
                  </a:lnTo>
                  <a:lnTo>
                    <a:pt x="5454" y="1819"/>
                  </a:lnTo>
                  <a:lnTo>
                    <a:pt x="6128" y="2189"/>
                  </a:lnTo>
                  <a:lnTo>
                    <a:pt x="9124" y="3940"/>
                  </a:lnTo>
                  <a:lnTo>
                    <a:pt x="7879" y="3603"/>
                  </a:lnTo>
                  <a:lnTo>
                    <a:pt x="7205" y="3435"/>
                  </a:lnTo>
                  <a:lnTo>
                    <a:pt x="6498" y="3300"/>
                  </a:lnTo>
                  <a:lnTo>
                    <a:pt x="5825" y="3199"/>
                  </a:lnTo>
                  <a:lnTo>
                    <a:pt x="5084" y="3132"/>
                  </a:lnTo>
                  <a:lnTo>
                    <a:pt x="4377" y="3098"/>
                  </a:lnTo>
                  <a:lnTo>
                    <a:pt x="3670" y="3098"/>
                  </a:lnTo>
                  <a:lnTo>
                    <a:pt x="3670" y="3064"/>
                  </a:lnTo>
                  <a:lnTo>
                    <a:pt x="3636" y="3031"/>
                  </a:lnTo>
                  <a:lnTo>
                    <a:pt x="2896" y="2627"/>
                  </a:lnTo>
                  <a:lnTo>
                    <a:pt x="2121" y="2256"/>
                  </a:lnTo>
                  <a:lnTo>
                    <a:pt x="1414" y="1852"/>
                  </a:lnTo>
                  <a:lnTo>
                    <a:pt x="1010" y="1650"/>
                  </a:lnTo>
                  <a:lnTo>
                    <a:pt x="640" y="1516"/>
                  </a:lnTo>
                  <a:lnTo>
                    <a:pt x="775" y="1280"/>
                  </a:lnTo>
                  <a:lnTo>
                    <a:pt x="943" y="1078"/>
                  </a:lnTo>
                  <a:lnTo>
                    <a:pt x="1111" y="876"/>
                  </a:lnTo>
                  <a:lnTo>
                    <a:pt x="1313" y="708"/>
                  </a:lnTo>
                  <a:lnTo>
                    <a:pt x="1515" y="539"/>
                  </a:lnTo>
                  <a:lnTo>
                    <a:pt x="1751" y="405"/>
                  </a:lnTo>
                  <a:lnTo>
                    <a:pt x="1987" y="304"/>
                  </a:lnTo>
                  <a:lnTo>
                    <a:pt x="2256" y="203"/>
                  </a:lnTo>
                  <a:close/>
                  <a:moveTo>
                    <a:pt x="573" y="1583"/>
                  </a:moveTo>
                  <a:lnTo>
                    <a:pt x="943" y="1819"/>
                  </a:lnTo>
                  <a:lnTo>
                    <a:pt x="1280" y="2021"/>
                  </a:lnTo>
                  <a:lnTo>
                    <a:pt x="2054" y="2425"/>
                  </a:lnTo>
                  <a:lnTo>
                    <a:pt x="2727" y="2795"/>
                  </a:lnTo>
                  <a:lnTo>
                    <a:pt x="3401" y="3132"/>
                  </a:lnTo>
                  <a:lnTo>
                    <a:pt x="2963" y="3165"/>
                  </a:lnTo>
                  <a:lnTo>
                    <a:pt x="2525" y="3266"/>
                  </a:lnTo>
                  <a:lnTo>
                    <a:pt x="2088" y="3367"/>
                  </a:lnTo>
                  <a:lnTo>
                    <a:pt x="1684" y="3502"/>
                  </a:lnTo>
                  <a:lnTo>
                    <a:pt x="1280" y="3637"/>
                  </a:lnTo>
                  <a:lnTo>
                    <a:pt x="876" y="3839"/>
                  </a:lnTo>
                  <a:lnTo>
                    <a:pt x="505" y="4074"/>
                  </a:lnTo>
                  <a:lnTo>
                    <a:pt x="169" y="4344"/>
                  </a:lnTo>
                  <a:lnTo>
                    <a:pt x="135" y="3805"/>
                  </a:lnTo>
                  <a:lnTo>
                    <a:pt x="169" y="3233"/>
                  </a:lnTo>
                  <a:lnTo>
                    <a:pt x="236" y="2728"/>
                  </a:lnTo>
                  <a:lnTo>
                    <a:pt x="337" y="2256"/>
                  </a:lnTo>
                  <a:lnTo>
                    <a:pt x="438" y="1920"/>
                  </a:lnTo>
                  <a:lnTo>
                    <a:pt x="573" y="1583"/>
                  </a:lnTo>
                  <a:close/>
                  <a:moveTo>
                    <a:pt x="4882" y="3334"/>
                  </a:moveTo>
                  <a:lnTo>
                    <a:pt x="5488" y="3401"/>
                  </a:lnTo>
                  <a:lnTo>
                    <a:pt x="6094" y="3468"/>
                  </a:lnTo>
                  <a:lnTo>
                    <a:pt x="6667" y="3569"/>
                  </a:lnTo>
                  <a:lnTo>
                    <a:pt x="7879" y="3839"/>
                  </a:lnTo>
                  <a:lnTo>
                    <a:pt x="9057" y="4108"/>
                  </a:lnTo>
                  <a:lnTo>
                    <a:pt x="8855" y="4512"/>
                  </a:lnTo>
                  <a:lnTo>
                    <a:pt x="8586" y="4916"/>
                  </a:lnTo>
                  <a:lnTo>
                    <a:pt x="8518" y="5017"/>
                  </a:lnTo>
                  <a:lnTo>
                    <a:pt x="8485" y="4983"/>
                  </a:lnTo>
                  <a:lnTo>
                    <a:pt x="8451" y="4983"/>
                  </a:lnTo>
                  <a:lnTo>
                    <a:pt x="7172" y="4647"/>
                  </a:lnTo>
                  <a:lnTo>
                    <a:pt x="5892" y="4344"/>
                  </a:lnTo>
                  <a:lnTo>
                    <a:pt x="5252" y="4209"/>
                  </a:lnTo>
                  <a:lnTo>
                    <a:pt x="4613" y="4074"/>
                  </a:lnTo>
                  <a:lnTo>
                    <a:pt x="4310" y="4007"/>
                  </a:lnTo>
                  <a:lnTo>
                    <a:pt x="3973" y="3973"/>
                  </a:lnTo>
                  <a:lnTo>
                    <a:pt x="3670" y="3940"/>
                  </a:lnTo>
                  <a:lnTo>
                    <a:pt x="3367" y="3973"/>
                  </a:lnTo>
                  <a:lnTo>
                    <a:pt x="3165" y="4007"/>
                  </a:lnTo>
                  <a:lnTo>
                    <a:pt x="2997" y="4074"/>
                  </a:lnTo>
                  <a:lnTo>
                    <a:pt x="2694" y="4209"/>
                  </a:lnTo>
                  <a:lnTo>
                    <a:pt x="2391" y="4411"/>
                  </a:lnTo>
                  <a:lnTo>
                    <a:pt x="2088" y="4613"/>
                  </a:lnTo>
                  <a:lnTo>
                    <a:pt x="1381" y="5118"/>
                  </a:lnTo>
                  <a:lnTo>
                    <a:pt x="640" y="5556"/>
                  </a:lnTo>
                  <a:lnTo>
                    <a:pt x="539" y="5455"/>
                  </a:lnTo>
                  <a:lnTo>
                    <a:pt x="404" y="5219"/>
                  </a:lnTo>
                  <a:lnTo>
                    <a:pt x="303" y="4983"/>
                  </a:lnTo>
                  <a:lnTo>
                    <a:pt x="236" y="4748"/>
                  </a:lnTo>
                  <a:lnTo>
                    <a:pt x="169" y="4478"/>
                  </a:lnTo>
                  <a:lnTo>
                    <a:pt x="674" y="4209"/>
                  </a:lnTo>
                  <a:lnTo>
                    <a:pt x="1145" y="3973"/>
                  </a:lnTo>
                  <a:lnTo>
                    <a:pt x="1650" y="3805"/>
                  </a:lnTo>
                  <a:lnTo>
                    <a:pt x="2155" y="3637"/>
                  </a:lnTo>
                  <a:lnTo>
                    <a:pt x="2660" y="3502"/>
                  </a:lnTo>
                  <a:lnTo>
                    <a:pt x="3165" y="3401"/>
                  </a:lnTo>
                  <a:lnTo>
                    <a:pt x="3704" y="3367"/>
                  </a:lnTo>
                  <a:lnTo>
                    <a:pt x="4276" y="3334"/>
                  </a:lnTo>
                  <a:close/>
                  <a:moveTo>
                    <a:pt x="3838" y="4108"/>
                  </a:moveTo>
                  <a:lnTo>
                    <a:pt x="4175" y="4142"/>
                  </a:lnTo>
                  <a:lnTo>
                    <a:pt x="4512" y="4209"/>
                  </a:lnTo>
                  <a:lnTo>
                    <a:pt x="5219" y="4377"/>
                  </a:lnTo>
                  <a:lnTo>
                    <a:pt x="5825" y="4546"/>
                  </a:lnTo>
                  <a:lnTo>
                    <a:pt x="7104" y="4849"/>
                  </a:lnTo>
                  <a:lnTo>
                    <a:pt x="8417" y="5152"/>
                  </a:lnTo>
                  <a:lnTo>
                    <a:pt x="8013" y="5690"/>
                  </a:lnTo>
                  <a:lnTo>
                    <a:pt x="7542" y="6195"/>
                  </a:lnTo>
                  <a:lnTo>
                    <a:pt x="7003" y="6633"/>
                  </a:lnTo>
                  <a:lnTo>
                    <a:pt x="6465" y="7003"/>
                  </a:lnTo>
                  <a:lnTo>
                    <a:pt x="6263" y="7105"/>
                  </a:lnTo>
                  <a:lnTo>
                    <a:pt x="6094" y="7206"/>
                  </a:lnTo>
                  <a:lnTo>
                    <a:pt x="5690" y="7307"/>
                  </a:lnTo>
                  <a:lnTo>
                    <a:pt x="5252" y="7340"/>
                  </a:lnTo>
                  <a:lnTo>
                    <a:pt x="4848" y="7307"/>
                  </a:lnTo>
                  <a:lnTo>
                    <a:pt x="4411" y="7273"/>
                  </a:lnTo>
                  <a:lnTo>
                    <a:pt x="4007" y="7172"/>
                  </a:lnTo>
                  <a:lnTo>
                    <a:pt x="3199" y="6936"/>
                  </a:lnTo>
                  <a:lnTo>
                    <a:pt x="2525" y="6734"/>
                  </a:lnTo>
                  <a:lnTo>
                    <a:pt x="1886" y="6465"/>
                  </a:lnTo>
                  <a:lnTo>
                    <a:pt x="1549" y="6296"/>
                  </a:lnTo>
                  <a:lnTo>
                    <a:pt x="1246" y="6128"/>
                  </a:lnTo>
                  <a:lnTo>
                    <a:pt x="977" y="5926"/>
                  </a:lnTo>
                  <a:lnTo>
                    <a:pt x="741" y="5657"/>
                  </a:lnTo>
                  <a:lnTo>
                    <a:pt x="1044" y="5589"/>
                  </a:lnTo>
                  <a:lnTo>
                    <a:pt x="1381" y="5421"/>
                  </a:lnTo>
                  <a:lnTo>
                    <a:pt x="1684" y="5219"/>
                  </a:lnTo>
                  <a:lnTo>
                    <a:pt x="1987" y="4983"/>
                  </a:lnTo>
                  <a:lnTo>
                    <a:pt x="2593" y="4512"/>
                  </a:lnTo>
                  <a:lnTo>
                    <a:pt x="2896" y="4344"/>
                  </a:lnTo>
                  <a:lnTo>
                    <a:pt x="3199" y="4209"/>
                  </a:lnTo>
                  <a:lnTo>
                    <a:pt x="3502" y="4142"/>
                  </a:lnTo>
                  <a:lnTo>
                    <a:pt x="3838" y="4108"/>
                  </a:lnTo>
                  <a:close/>
                  <a:moveTo>
                    <a:pt x="2323" y="1"/>
                  </a:moveTo>
                  <a:lnTo>
                    <a:pt x="1953" y="68"/>
                  </a:lnTo>
                  <a:lnTo>
                    <a:pt x="1616" y="169"/>
                  </a:lnTo>
                  <a:lnTo>
                    <a:pt x="1313" y="337"/>
                  </a:lnTo>
                  <a:lnTo>
                    <a:pt x="1044" y="573"/>
                  </a:lnTo>
                  <a:lnTo>
                    <a:pt x="808" y="842"/>
                  </a:lnTo>
                  <a:lnTo>
                    <a:pt x="606" y="1145"/>
                  </a:lnTo>
                  <a:lnTo>
                    <a:pt x="438" y="1482"/>
                  </a:lnTo>
                  <a:lnTo>
                    <a:pt x="303" y="1819"/>
                  </a:lnTo>
                  <a:lnTo>
                    <a:pt x="202" y="2189"/>
                  </a:lnTo>
                  <a:lnTo>
                    <a:pt x="101" y="2593"/>
                  </a:lnTo>
                  <a:lnTo>
                    <a:pt x="34" y="2963"/>
                  </a:lnTo>
                  <a:lnTo>
                    <a:pt x="0" y="3367"/>
                  </a:lnTo>
                  <a:lnTo>
                    <a:pt x="0" y="3738"/>
                  </a:lnTo>
                  <a:lnTo>
                    <a:pt x="0" y="4445"/>
                  </a:lnTo>
                  <a:lnTo>
                    <a:pt x="0" y="4478"/>
                  </a:lnTo>
                  <a:lnTo>
                    <a:pt x="0" y="4512"/>
                  </a:lnTo>
                  <a:lnTo>
                    <a:pt x="0" y="4546"/>
                  </a:lnTo>
                  <a:lnTo>
                    <a:pt x="34" y="4781"/>
                  </a:lnTo>
                  <a:lnTo>
                    <a:pt x="68" y="4950"/>
                  </a:lnTo>
                  <a:lnTo>
                    <a:pt x="135" y="5152"/>
                  </a:lnTo>
                  <a:lnTo>
                    <a:pt x="303" y="5455"/>
                  </a:lnTo>
                  <a:lnTo>
                    <a:pt x="539" y="5758"/>
                  </a:lnTo>
                  <a:lnTo>
                    <a:pt x="808" y="6027"/>
                  </a:lnTo>
                  <a:lnTo>
                    <a:pt x="1111" y="6263"/>
                  </a:lnTo>
                  <a:lnTo>
                    <a:pt x="1414" y="6465"/>
                  </a:lnTo>
                  <a:lnTo>
                    <a:pt x="1751" y="6633"/>
                  </a:lnTo>
                  <a:lnTo>
                    <a:pt x="2088" y="6768"/>
                  </a:lnTo>
                  <a:lnTo>
                    <a:pt x="2929" y="7105"/>
                  </a:lnTo>
                  <a:lnTo>
                    <a:pt x="3401" y="7273"/>
                  </a:lnTo>
                  <a:lnTo>
                    <a:pt x="3872" y="7374"/>
                  </a:lnTo>
                  <a:lnTo>
                    <a:pt x="4343" y="7475"/>
                  </a:lnTo>
                  <a:lnTo>
                    <a:pt x="4815" y="7542"/>
                  </a:lnTo>
                  <a:lnTo>
                    <a:pt x="5286" y="7542"/>
                  </a:lnTo>
                  <a:lnTo>
                    <a:pt x="5724" y="7475"/>
                  </a:lnTo>
                  <a:lnTo>
                    <a:pt x="6162" y="7374"/>
                  </a:lnTo>
                  <a:lnTo>
                    <a:pt x="6532" y="7172"/>
                  </a:lnTo>
                  <a:lnTo>
                    <a:pt x="6936" y="6970"/>
                  </a:lnTo>
                  <a:lnTo>
                    <a:pt x="7273" y="6700"/>
                  </a:lnTo>
                  <a:lnTo>
                    <a:pt x="7609" y="6397"/>
                  </a:lnTo>
                  <a:lnTo>
                    <a:pt x="7912" y="6061"/>
                  </a:lnTo>
                  <a:lnTo>
                    <a:pt x="8485" y="5387"/>
                  </a:lnTo>
                  <a:lnTo>
                    <a:pt x="8720" y="5118"/>
                  </a:lnTo>
                  <a:lnTo>
                    <a:pt x="8922" y="4781"/>
                  </a:lnTo>
                  <a:lnTo>
                    <a:pt x="9124" y="4411"/>
                  </a:lnTo>
                  <a:lnTo>
                    <a:pt x="9293" y="4041"/>
                  </a:lnTo>
                  <a:lnTo>
                    <a:pt x="9394" y="4041"/>
                  </a:lnTo>
                  <a:lnTo>
                    <a:pt x="9461" y="3973"/>
                  </a:lnTo>
                  <a:lnTo>
                    <a:pt x="9461" y="3872"/>
                  </a:lnTo>
                  <a:lnTo>
                    <a:pt x="9461" y="3839"/>
                  </a:lnTo>
                  <a:lnTo>
                    <a:pt x="9427" y="3805"/>
                  </a:lnTo>
                  <a:lnTo>
                    <a:pt x="9394" y="3771"/>
                  </a:lnTo>
                  <a:lnTo>
                    <a:pt x="9427" y="3502"/>
                  </a:lnTo>
                  <a:lnTo>
                    <a:pt x="9427" y="3233"/>
                  </a:lnTo>
                  <a:lnTo>
                    <a:pt x="9394" y="2997"/>
                  </a:lnTo>
                  <a:lnTo>
                    <a:pt x="9293" y="2728"/>
                  </a:lnTo>
                  <a:lnTo>
                    <a:pt x="9192" y="2559"/>
                  </a:lnTo>
                  <a:lnTo>
                    <a:pt x="9091" y="2391"/>
                  </a:lnTo>
                  <a:lnTo>
                    <a:pt x="8788" y="2122"/>
                  </a:lnTo>
                  <a:lnTo>
                    <a:pt x="8451" y="1852"/>
                  </a:lnTo>
                  <a:lnTo>
                    <a:pt x="8081" y="1650"/>
                  </a:lnTo>
                  <a:lnTo>
                    <a:pt x="7677" y="1448"/>
                  </a:lnTo>
                  <a:lnTo>
                    <a:pt x="7273" y="1280"/>
                  </a:lnTo>
                  <a:lnTo>
                    <a:pt x="6498" y="1011"/>
                  </a:lnTo>
                  <a:lnTo>
                    <a:pt x="5589" y="674"/>
                  </a:lnTo>
                  <a:lnTo>
                    <a:pt x="4646" y="438"/>
                  </a:lnTo>
                  <a:lnTo>
                    <a:pt x="3704" y="236"/>
                  </a:lnTo>
                  <a:lnTo>
                    <a:pt x="2761" y="102"/>
                  </a:lnTo>
                  <a:lnTo>
                    <a:pt x="2761" y="34"/>
                  </a:lnTo>
                  <a:lnTo>
                    <a:pt x="272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hape 715"/>
            <p:cNvSpPr/>
            <p:nvPr/>
          </p:nvSpPr>
          <p:spPr>
            <a:xfrm>
              <a:off x="8012160" y="6612120"/>
              <a:ext cx="814320" cy="2584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2256" h="3906">
                  <a:moveTo>
                    <a:pt x="2492" y="775"/>
                  </a:moveTo>
                  <a:lnTo>
                    <a:pt x="2727" y="809"/>
                  </a:lnTo>
                  <a:lnTo>
                    <a:pt x="2963" y="943"/>
                  </a:lnTo>
                  <a:lnTo>
                    <a:pt x="3131" y="1078"/>
                  </a:lnTo>
                  <a:lnTo>
                    <a:pt x="3266" y="1280"/>
                  </a:lnTo>
                  <a:lnTo>
                    <a:pt x="3333" y="1549"/>
                  </a:lnTo>
                  <a:lnTo>
                    <a:pt x="2727" y="2189"/>
                  </a:lnTo>
                  <a:lnTo>
                    <a:pt x="2222" y="2795"/>
                  </a:lnTo>
                  <a:lnTo>
                    <a:pt x="1953" y="3132"/>
                  </a:lnTo>
                  <a:lnTo>
                    <a:pt x="1684" y="3401"/>
                  </a:lnTo>
                  <a:lnTo>
                    <a:pt x="1515" y="3536"/>
                  </a:lnTo>
                  <a:lnTo>
                    <a:pt x="1347" y="3603"/>
                  </a:lnTo>
                  <a:lnTo>
                    <a:pt x="1145" y="3670"/>
                  </a:lnTo>
                  <a:lnTo>
                    <a:pt x="943" y="3670"/>
                  </a:lnTo>
                  <a:lnTo>
                    <a:pt x="808" y="3637"/>
                  </a:lnTo>
                  <a:lnTo>
                    <a:pt x="707" y="3569"/>
                  </a:lnTo>
                  <a:lnTo>
                    <a:pt x="606" y="3502"/>
                  </a:lnTo>
                  <a:lnTo>
                    <a:pt x="539" y="3435"/>
                  </a:lnTo>
                  <a:lnTo>
                    <a:pt x="404" y="3233"/>
                  </a:lnTo>
                  <a:lnTo>
                    <a:pt x="371" y="2997"/>
                  </a:lnTo>
                  <a:lnTo>
                    <a:pt x="371" y="2728"/>
                  </a:lnTo>
                  <a:lnTo>
                    <a:pt x="404" y="2492"/>
                  </a:lnTo>
                  <a:lnTo>
                    <a:pt x="472" y="2256"/>
                  </a:lnTo>
                  <a:lnTo>
                    <a:pt x="539" y="2054"/>
                  </a:lnTo>
                  <a:lnTo>
                    <a:pt x="640" y="1886"/>
                  </a:lnTo>
                  <a:lnTo>
                    <a:pt x="775" y="1751"/>
                  </a:lnTo>
                  <a:lnTo>
                    <a:pt x="1044" y="1482"/>
                  </a:lnTo>
                  <a:lnTo>
                    <a:pt x="1347" y="1213"/>
                  </a:lnTo>
                  <a:lnTo>
                    <a:pt x="1684" y="1011"/>
                  </a:lnTo>
                  <a:lnTo>
                    <a:pt x="1953" y="842"/>
                  </a:lnTo>
                  <a:lnTo>
                    <a:pt x="2256" y="775"/>
                  </a:lnTo>
                  <a:close/>
                  <a:moveTo>
                    <a:pt x="6229" y="1"/>
                  </a:moveTo>
                  <a:lnTo>
                    <a:pt x="5892" y="34"/>
                  </a:lnTo>
                  <a:lnTo>
                    <a:pt x="5556" y="102"/>
                  </a:lnTo>
                  <a:lnTo>
                    <a:pt x="5219" y="203"/>
                  </a:lnTo>
                  <a:lnTo>
                    <a:pt x="4882" y="371"/>
                  </a:lnTo>
                  <a:lnTo>
                    <a:pt x="4579" y="539"/>
                  </a:lnTo>
                  <a:lnTo>
                    <a:pt x="4242" y="775"/>
                  </a:lnTo>
                  <a:lnTo>
                    <a:pt x="3939" y="1011"/>
                  </a:lnTo>
                  <a:lnTo>
                    <a:pt x="3670" y="1246"/>
                  </a:lnTo>
                  <a:lnTo>
                    <a:pt x="3569" y="1078"/>
                  </a:lnTo>
                  <a:lnTo>
                    <a:pt x="3502" y="943"/>
                  </a:lnTo>
                  <a:lnTo>
                    <a:pt x="3401" y="809"/>
                  </a:lnTo>
                  <a:lnTo>
                    <a:pt x="3266" y="674"/>
                  </a:lnTo>
                  <a:lnTo>
                    <a:pt x="3131" y="573"/>
                  </a:lnTo>
                  <a:lnTo>
                    <a:pt x="2997" y="506"/>
                  </a:lnTo>
                  <a:lnTo>
                    <a:pt x="2828" y="438"/>
                  </a:lnTo>
                  <a:lnTo>
                    <a:pt x="2626" y="371"/>
                  </a:lnTo>
                  <a:lnTo>
                    <a:pt x="2391" y="371"/>
                  </a:lnTo>
                  <a:lnTo>
                    <a:pt x="2121" y="405"/>
                  </a:lnTo>
                  <a:lnTo>
                    <a:pt x="1886" y="506"/>
                  </a:lnTo>
                  <a:lnTo>
                    <a:pt x="1616" y="607"/>
                  </a:lnTo>
                  <a:lnTo>
                    <a:pt x="1414" y="741"/>
                  </a:lnTo>
                  <a:lnTo>
                    <a:pt x="1179" y="910"/>
                  </a:lnTo>
                  <a:lnTo>
                    <a:pt x="775" y="1246"/>
                  </a:lnTo>
                  <a:lnTo>
                    <a:pt x="505" y="1516"/>
                  </a:lnTo>
                  <a:lnTo>
                    <a:pt x="270" y="1852"/>
                  </a:lnTo>
                  <a:lnTo>
                    <a:pt x="101" y="2223"/>
                  </a:lnTo>
                  <a:lnTo>
                    <a:pt x="34" y="2627"/>
                  </a:lnTo>
                  <a:lnTo>
                    <a:pt x="0" y="2795"/>
                  </a:lnTo>
                  <a:lnTo>
                    <a:pt x="0" y="2997"/>
                  </a:lnTo>
                  <a:lnTo>
                    <a:pt x="34" y="3165"/>
                  </a:lnTo>
                  <a:lnTo>
                    <a:pt x="101" y="3334"/>
                  </a:lnTo>
                  <a:lnTo>
                    <a:pt x="202" y="3502"/>
                  </a:lnTo>
                  <a:lnTo>
                    <a:pt x="303" y="3670"/>
                  </a:lnTo>
                  <a:lnTo>
                    <a:pt x="438" y="3805"/>
                  </a:lnTo>
                  <a:lnTo>
                    <a:pt x="640" y="3906"/>
                  </a:lnTo>
                  <a:lnTo>
                    <a:pt x="1583" y="3906"/>
                  </a:lnTo>
                  <a:lnTo>
                    <a:pt x="1751" y="3771"/>
                  </a:lnTo>
                  <a:lnTo>
                    <a:pt x="1919" y="3637"/>
                  </a:lnTo>
                  <a:lnTo>
                    <a:pt x="2222" y="3334"/>
                  </a:lnTo>
                  <a:lnTo>
                    <a:pt x="2795" y="2728"/>
                  </a:lnTo>
                  <a:lnTo>
                    <a:pt x="3367" y="2088"/>
                  </a:lnTo>
                  <a:lnTo>
                    <a:pt x="3333" y="2189"/>
                  </a:lnTo>
                  <a:lnTo>
                    <a:pt x="3300" y="2425"/>
                  </a:lnTo>
                  <a:lnTo>
                    <a:pt x="3199" y="2627"/>
                  </a:lnTo>
                  <a:lnTo>
                    <a:pt x="2997" y="3064"/>
                  </a:lnTo>
                  <a:lnTo>
                    <a:pt x="2727" y="3502"/>
                  </a:lnTo>
                  <a:lnTo>
                    <a:pt x="2424" y="3906"/>
                  </a:lnTo>
                  <a:lnTo>
                    <a:pt x="2828" y="3906"/>
                  </a:lnTo>
                  <a:lnTo>
                    <a:pt x="2997" y="3670"/>
                  </a:lnTo>
                  <a:lnTo>
                    <a:pt x="3266" y="3233"/>
                  </a:lnTo>
                  <a:lnTo>
                    <a:pt x="3535" y="2761"/>
                  </a:lnTo>
                  <a:lnTo>
                    <a:pt x="3636" y="2492"/>
                  </a:lnTo>
                  <a:lnTo>
                    <a:pt x="3704" y="2223"/>
                  </a:lnTo>
                  <a:lnTo>
                    <a:pt x="3737" y="1987"/>
                  </a:lnTo>
                  <a:lnTo>
                    <a:pt x="3737" y="1718"/>
                  </a:lnTo>
                  <a:lnTo>
                    <a:pt x="4343" y="1213"/>
                  </a:lnTo>
                  <a:lnTo>
                    <a:pt x="4647" y="1011"/>
                  </a:lnTo>
                  <a:lnTo>
                    <a:pt x="4950" y="775"/>
                  </a:lnTo>
                  <a:lnTo>
                    <a:pt x="5286" y="607"/>
                  </a:lnTo>
                  <a:lnTo>
                    <a:pt x="5623" y="438"/>
                  </a:lnTo>
                  <a:lnTo>
                    <a:pt x="5859" y="371"/>
                  </a:lnTo>
                  <a:lnTo>
                    <a:pt x="6094" y="337"/>
                  </a:lnTo>
                  <a:lnTo>
                    <a:pt x="6330" y="371"/>
                  </a:lnTo>
                  <a:lnTo>
                    <a:pt x="6566" y="405"/>
                  </a:lnTo>
                  <a:lnTo>
                    <a:pt x="7003" y="573"/>
                  </a:lnTo>
                  <a:lnTo>
                    <a:pt x="7441" y="775"/>
                  </a:lnTo>
                  <a:lnTo>
                    <a:pt x="8114" y="1145"/>
                  </a:lnTo>
                  <a:lnTo>
                    <a:pt x="8754" y="1549"/>
                  </a:lnTo>
                  <a:lnTo>
                    <a:pt x="9394" y="1987"/>
                  </a:lnTo>
                  <a:lnTo>
                    <a:pt x="10000" y="2492"/>
                  </a:lnTo>
                  <a:lnTo>
                    <a:pt x="10370" y="2829"/>
                  </a:lnTo>
                  <a:lnTo>
                    <a:pt x="10740" y="3199"/>
                  </a:lnTo>
                  <a:lnTo>
                    <a:pt x="11111" y="3569"/>
                  </a:lnTo>
                  <a:lnTo>
                    <a:pt x="11515" y="3906"/>
                  </a:lnTo>
                  <a:lnTo>
                    <a:pt x="12255" y="3906"/>
                  </a:lnTo>
                  <a:lnTo>
                    <a:pt x="12020" y="3771"/>
                  </a:lnTo>
                  <a:lnTo>
                    <a:pt x="11784" y="3603"/>
                  </a:lnTo>
                  <a:lnTo>
                    <a:pt x="11313" y="3233"/>
                  </a:lnTo>
                  <a:lnTo>
                    <a:pt x="10572" y="2526"/>
                  </a:lnTo>
                  <a:lnTo>
                    <a:pt x="10101" y="2122"/>
                  </a:lnTo>
                  <a:lnTo>
                    <a:pt x="9629" y="1718"/>
                  </a:lnTo>
                  <a:lnTo>
                    <a:pt x="9091" y="1347"/>
                  </a:lnTo>
                  <a:lnTo>
                    <a:pt x="8586" y="1011"/>
                  </a:lnTo>
                  <a:lnTo>
                    <a:pt x="8047" y="674"/>
                  </a:lnTo>
                  <a:lnTo>
                    <a:pt x="7475" y="371"/>
                  </a:lnTo>
                  <a:lnTo>
                    <a:pt x="7172" y="203"/>
                  </a:lnTo>
                  <a:lnTo>
                    <a:pt x="6869" y="102"/>
                  </a:lnTo>
                  <a:lnTo>
                    <a:pt x="6532" y="34"/>
                  </a:lnTo>
                  <a:lnTo>
                    <a:pt x="622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hape 716"/>
            <p:cNvSpPr/>
            <p:nvPr/>
          </p:nvSpPr>
          <p:spPr>
            <a:xfrm>
              <a:off x="2166840" y="6373800"/>
              <a:ext cx="569880" cy="4968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8586" h="7475">
                  <a:moveTo>
                    <a:pt x="1582" y="169"/>
                  </a:moveTo>
                  <a:lnTo>
                    <a:pt x="1986" y="236"/>
                  </a:lnTo>
                  <a:lnTo>
                    <a:pt x="2357" y="337"/>
                  </a:lnTo>
                  <a:lnTo>
                    <a:pt x="2761" y="438"/>
                  </a:lnTo>
                  <a:lnTo>
                    <a:pt x="3535" y="708"/>
                  </a:lnTo>
                  <a:lnTo>
                    <a:pt x="4310" y="1011"/>
                  </a:lnTo>
                  <a:lnTo>
                    <a:pt x="5993" y="1684"/>
                  </a:lnTo>
                  <a:lnTo>
                    <a:pt x="7676" y="2458"/>
                  </a:lnTo>
                  <a:lnTo>
                    <a:pt x="7811" y="2526"/>
                  </a:lnTo>
                  <a:lnTo>
                    <a:pt x="7946" y="2627"/>
                  </a:lnTo>
                  <a:lnTo>
                    <a:pt x="8148" y="2829"/>
                  </a:lnTo>
                  <a:lnTo>
                    <a:pt x="8282" y="3098"/>
                  </a:lnTo>
                  <a:lnTo>
                    <a:pt x="8350" y="3368"/>
                  </a:lnTo>
                  <a:lnTo>
                    <a:pt x="8383" y="3671"/>
                  </a:lnTo>
                  <a:lnTo>
                    <a:pt x="8350" y="4007"/>
                  </a:lnTo>
                  <a:lnTo>
                    <a:pt x="8316" y="4344"/>
                  </a:lnTo>
                  <a:lnTo>
                    <a:pt x="8249" y="4681"/>
                  </a:lnTo>
                  <a:lnTo>
                    <a:pt x="7272" y="4344"/>
                  </a:lnTo>
                  <a:lnTo>
                    <a:pt x="6296" y="4007"/>
                  </a:lnTo>
                  <a:lnTo>
                    <a:pt x="4343" y="3401"/>
                  </a:lnTo>
                  <a:lnTo>
                    <a:pt x="3367" y="3064"/>
                  </a:lnTo>
                  <a:lnTo>
                    <a:pt x="2357" y="2728"/>
                  </a:lnTo>
                  <a:lnTo>
                    <a:pt x="1347" y="2425"/>
                  </a:lnTo>
                  <a:lnTo>
                    <a:pt x="842" y="2290"/>
                  </a:lnTo>
                  <a:lnTo>
                    <a:pt x="337" y="2189"/>
                  </a:lnTo>
                  <a:lnTo>
                    <a:pt x="370" y="1852"/>
                  </a:lnTo>
                  <a:lnTo>
                    <a:pt x="471" y="1549"/>
                  </a:lnTo>
                  <a:lnTo>
                    <a:pt x="572" y="1246"/>
                  </a:lnTo>
                  <a:lnTo>
                    <a:pt x="707" y="943"/>
                  </a:lnTo>
                  <a:lnTo>
                    <a:pt x="1448" y="1213"/>
                  </a:lnTo>
                  <a:lnTo>
                    <a:pt x="2188" y="1482"/>
                  </a:lnTo>
                  <a:lnTo>
                    <a:pt x="2660" y="1650"/>
                  </a:lnTo>
                  <a:lnTo>
                    <a:pt x="3131" y="1751"/>
                  </a:lnTo>
                  <a:lnTo>
                    <a:pt x="4108" y="1920"/>
                  </a:lnTo>
                  <a:lnTo>
                    <a:pt x="5084" y="2122"/>
                  </a:lnTo>
                  <a:lnTo>
                    <a:pt x="5993" y="2324"/>
                  </a:lnTo>
                  <a:lnTo>
                    <a:pt x="7878" y="2795"/>
                  </a:lnTo>
                  <a:lnTo>
                    <a:pt x="7946" y="2795"/>
                  </a:lnTo>
                  <a:lnTo>
                    <a:pt x="7979" y="2728"/>
                  </a:lnTo>
                  <a:lnTo>
                    <a:pt x="7979" y="2694"/>
                  </a:lnTo>
                  <a:lnTo>
                    <a:pt x="7946" y="2627"/>
                  </a:lnTo>
                  <a:lnTo>
                    <a:pt x="7003" y="2357"/>
                  </a:lnTo>
                  <a:lnTo>
                    <a:pt x="6060" y="2122"/>
                  </a:lnTo>
                  <a:lnTo>
                    <a:pt x="5118" y="1920"/>
                  </a:lnTo>
                  <a:lnTo>
                    <a:pt x="4175" y="1751"/>
                  </a:lnTo>
                  <a:lnTo>
                    <a:pt x="3300" y="1583"/>
                  </a:lnTo>
                  <a:lnTo>
                    <a:pt x="2896" y="1516"/>
                  </a:lnTo>
                  <a:lnTo>
                    <a:pt x="2458" y="1381"/>
                  </a:lnTo>
                  <a:lnTo>
                    <a:pt x="2054" y="1246"/>
                  </a:lnTo>
                  <a:lnTo>
                    <a:pt x="1616" y="1078"/>
                  </a:lnTo>
                  <a:lnTo>
                    <a:pt x="1178" y="910"/>
                  </a:lnTo>
                  <a:lnTo>
                    <a:pt x="741" y="809"/>
                  </a:lnTo>
                  <a:lnTo>
                    <a:pt x="943" y="472"/>
                  </a:lnTo>
                  <a:lnTo>
                    <a:pt x="1145" y="169"/>
                  </a:lnTo>
                  <a:close/>
                  <a:moveTo>
                    <a:pt x="1212" y="1"/>
                  </a:moveTo>
                  <a:lnTo>
                    <a:pt x="1178" y="34"/>
                  </a:lnTo>
                  <a:lnTo>
                    <a:pt x="1077" y="34"/>
                  </a:lnTo>
                  <a:lnTo>
                    <a:pt x="1010" y="68"/>
                  </a:lnTo>
                  <a:lnTo>
                    <a:pt x="1044" y="135"/>
                  </a:lnTo>
                  <a:lnTo>
                    <a:pt x="842" y="337"/>
                  </a:lnTo>
                  <a:lnTo>
                    <a:pt x="673" y="539"/>
                  </a:lnTo>
                  <a:lnTo>
                    <a:pt x="539" y="775"/>
                  </a:lnTo>
                  <a:lnTo>
                    <a:pt x="404" y="1044"/>
                  </a:lnTo>
                  <a:lnTo>
                    <a:pt x="303" y="1314"/>
                  </a:lnTo>
                  <a:lnTo>
                    <a:pt x="202" y="1617"/>
                  </a:lnTo>
                  <a:lnTo>
                    <a:pt x="67" y="2189"/>
                  </a:lnTo>
                  <a:lnTo>
                    <a:pt x="0" y="2829"/>
                  </a:lnTo>
                  <a:lnTo>
                    <a:pt x="0" y="3435"/>
                  </a:lnTo>
                  <a:lnTo>
                    <a:pt x="34" y="4007"/>
                  </a:lnTo>
                  <a:lnTo>
                    <a:pt x="101" y="4512"/>
                  </a:lnTo>
                  <a:lnTo>
                    <a:pt x="202" y="4849"/>
                  </a:lnTo>
                  <a:lnTo>
                    <a:pt x="303" y="5186"/>
                  </a:lnTo>
                  <a:lnTo>
                    <a:pt x="438" y="5489"/>
                  </a:lnTo>
                  <a:lnTo>
                    <a:pt x="572" y="5792"/>
                  </a:lnTo>
                  <a:lnTo>
                    <a:pt x="774" y="6061"/>
                  </a:lnTo>
                  <a:lnTo>
                    <a:pt x="976" y="6330"/>
                  </a:lnTo>
                  <a:lnTo>
                    <a:pt x="1212" y="6566"/>
                  </a:lnTo>
                  <a:lnTo>
                    <a:pt x="1481" y="6802"/>
                  </a:lnTo>
                  <a:lnTo>
                    <a:pt x="1919" y="7172"/>
                  </a:lnTo>
                  <a:lnTo>
                    <a:pt x="2390" y="7475"/>
                  </a:lnTo>
                  <a:lnTo>
                    <a:pt x="2896" y="7475"/>
                  </a:lnTo>
                  <a:lnTo>
                    <a:pt x="2559" y="7307"/>
                  </a:lnTo>
                  <a:lnTo>
                    <a:pt x="2256" y="7105"/>
                  </a:lnTo>
                  <a:lnTo>
                    <a:pt x="1919" y="6869"/>
                  </a:lnTo>
                  <a:lnTo>
                    <a:pt x="1616" y="6633"/>
                  </a:lnTo>
                  <a:lnTo>
                    <a:pt x="1347" y="6364"/>
                  </a:lnTo>
                  <a:lnTo>
                    <a:pt x="1111" y="6095"/>
                  </a:lnTo>
                  <a:lnTo>
                    <a:pt x="875" y="5792"/>
                  </a:lnTo>
                  <a:lnTo>
                    <a:pt x="673" y="5455"/>
                  </a:lnTo>
                  <a:lnTo>
                    <a:pt x="539" y="5152"/>
                  </a:lnTo>
                  <a:lnTo>
                    <a:pt x="404" y="4849"/>
                  </a:lnTo>
                  <a:lnTo>
                    <a:pt x="337" y="4546"/>
                  </a:lnTo>
                  <a:lnTo>
                    <a:pt x="303" y="4209"/>
                  </a:lnTo>
                  <a:lnTo>
                    <a:pt x="269" y="3536"/>
                  </a:lnTo>
                  <a:lnTo>
                    <a:pt x="269" y="2862"/>
                  </a:lnTo>
                  <a:lnTo>
                    <a:pt x="640" y="3165"/>
                  </a:lnTo>
                  <a:lnTo>
                    <a:pt x="1010" y="3401"/>
                  </a:lnTo>
                  <a:lnTo>
                    <a:pt x="1818" y="3906"/>
                  </a:lnTo>
                  <a:lnTo>
                    <a:pt x="2626" y="4344"/>
                  </a:lnTo>
                  <a:lnTo>
                    <a:pt x="3401" y="4815"/>
                  </a:lnTo>
                  <a:lnTo>
                    <a:pt x="3838" y="5118"/>
                  </a:lnTo>
                  <a:lnTo>
                    <a:pt x="4242" y="5421"/>
                  </a:lnTo>
                  <a:lnTo>
                    <a:pt x="4411" y="5590"/>
                  </a:lnTo>
                  <a:lnTo>
                    <a:pt x="4545" y="5792"/>
                  </a:lnTo>
                  <a:lnTo>
                    <a:pt x="4680" y="5994"/>
                  </a:lnTo>
                  <a:lnTo>
                    <a:pt x="4781" y="6263"/>
                  </a:lnTo>
                  <a:lnTo>
                    <a:pt x="4882" y="6532"/>
                  </a:lnTo>
                  <a:lnTo>
                    <a:pt x="4916" y="6869"/>
                  </a:lnTo>
                  <a:lnTo>
                    <a:pt x="4949" y="7475"/>
                  </a:lnTo>
                  <a:lnTo>
                    <a:pt x="5219" y="7475"/>
                  </a:lnTo>
                  <a:lnTo>
                    <a:pt x="5219" y="7138"/>
                  </a:lnTo>
                  <a:lnTo>
                    <a:pt x="5185" y="6802"/>
                  </a:lnTo>
                  <a:lnTo>
                    <a:pt x="5118" y="6465"/>
                  </a:lnTo>
                  <a:lnTo>
                    <a:pt x="5017" y="6128"/>
                  </a:lnTo>
                  <a:lnTo>
                    <a:pt x="4882" y="5825"/>
                  </a:lnTo>
                  <a:lnTo>
                    <a:pt x="4714" y="5522"/>
                  </a:lnTo>
                  <a:lnTo>
                    <a:pt x="4512" y="5287"/>
                  </a:lnTo>
                  <a:lnTo>
                    <a:pt x="4242" y="5051"/>
                  </a:lnTo>
                  <a:lnTo>
                    <a:pt x="3300" y="4445"/>
                  </a:lnTo>
                  <a:lnTo>
                    <a:pt x="2323" y="3873"/>
                  </a:lnTo>
                  <a:lnTo>
                    <a:pt x="1347" y="3267"/>
                  </a:lnTo>
                  <a:lnTo>
                    <a:pt x="842" y="2997"/>
                  </a:lnTo>
                  <a:lnTo>
                    <a:pt x="303" y="2761"/>
                  </a:lnTo>
                  <a:lnTo>
                    <a:pt x="269" y="2761"/>
                  </a:lnTo>
                  <a:lnTo>
                    <a:pt x="303" y="2256"/>
                  </a:lnTo>
                  <a:lnTo>
                    <a:pt x="741" y="2492"/>
                  </a:lnTo>
                  <a:lnTo>
                    <a:pt x="1212" y="2660"/>
                  </a:lnTo>
                  <a:lnTo>
                    <a:pt x="2155" y="2963"/>
                  </a:lnTo>
                  <a:lnTo>
                    <a:pt x="3131" y="3267"/>
                  </a:lnTo>
                  <a:lnTo>
                    <a:pt x="4040" y="3536"/>
                  </a:lnTo>
                  <a:lnTo>
                    <a:pt x="4276" y="3603"/>
                  </a:lnTo>
                  <a:lnTo>
                    <a:pt x="4444" y="3772"/>
                  </a:lnTo>
                  <a:lnTo>
                    <a:pt x="4613" y="3974"/>
                  </a:lnTo>
                  <a:lnTo>
                    <a:pt x="4848" y="4277"/>
                  </a:lnTo>
                  <a:lnTo>
                    <a:pt x="5252" y="4782"/>
                  </a:lnTo>
                  <a:lnTo>
                    <a:pt x="5623" y="5320"/>
                  </a:lnTo>
                  <a:lnTo>
                    <a:pt x="5892" y="5825"/>
                  </a:lnTo>
                  <a:lnTo>
                    <a:pt x="6128" y="6364"/>
                  </a:lnTo>
                  <a:lnTo>
                    <a:pt x="6262" y="6903"/>
                  </a:lnTo>
                  <a:lnTo>
                    <a:pt x="6330" y="7475"/>
                  </a:lnTo>
                  <a:lnTo>
                    <a:pt x="6565" y="7475"/>
                  </a:lnTo>
                  <a:lnTo>
                    <a:pt x="6532" y="7138"/>
                  </a:lnTo>
                  <a:lnTo>
                    <a:pt x="6464" y="6835"/>
                  </a:lnTo>
                  <a:lnTo>
                    <a:pt x="6397" y="6499"/>
                  </a:lnTo>
                  <a:lnTo>
                    <a:pt x="6296" y="6196"/>
                  </a:lnTo>
                  <a:lnTo>
                    <a:pt x="6027" y="5590"/>
                  </a:lnTo>
                  <a:lnTo>
                    <a:pt x="5690" y="5017"/>
                  </a:lnTo>
                  <a:lnTo>
                    <a:pt x="5286" y="4411"/>
                  </a:lnTo>
                  <a:lnTo>
                    <a:pt x="5017" y="4075"/>
                  </a:lnTo>
                  <a:lnTo>
                    <a:pt x="4747" y="3772"/>
                  </a:lnTo>
                  <a:lnTo>
                    <a:pt x="6464" y="4344"/>
                  </a:lnTo>
                  <a:lnTo>
                    <a:pt x="7340" y="4613"/>
                  </a:lnTo>
                  <a:lnTo>
                    <a:pt x="8181" y="4883"/>
                  </a:lnTo>
                  <a:lnTo>
                    <a:pt x="8013" y="5489"/>
                  </a:lnTo>
                  <a:lnTo>
                    <a:pt x="7845" y="5994"/>
                  </a:lnTo>
                  <a:lnTo>
                    <a:pt x="7710" y="6364"/>
                  </a:lnTo>
                  <a:lnTo>
                    <a:pt x="7542" y="6768"/>
                  </a:lnTo>
                  <a:lnTo>
                    <a:pt x="7171" y="7475"/>
                  </a:lnTo>
                  <a:lnTo>
                    <a:pt x="7441" y="7475"/>
                  </a:lnTo>
                  <a:lnTo>
                    <a:pt x="7777" y="6633"/>
                  </a:lnTo>
                  <a:lnTo>
                    <a:pt x="8080" y="5825"/>
                  </a:lnTo>
                  <a:lnTo>
                    <a:pt x="8383" y="4883"/>
                  </a:lnTo>
                  <a:lnTo>
                    <a:pt x="8417" y="4849"/>
                  </a:lnTo>
                  <a:lnTo>
                    <a:pt x="8417" y="4748"/>
                  </a:lnTo>
                  <a:lnTo>
                    <a:pt x="8552" y="4209"/>
                  </a:lnTo>
                  <a:lnTo>
                    <a:pt x="8585" y="3906"/>
                  </a:lnTo>
                  <a:lnTo>
                    <a:pt x="8585" y="3637"/>
                  </a:lnTo>
                  <a:lnTo>
                    <a:pt x="8552" y="3368"/>
                  </a:lnTo>
                  <a:lnTo>
                    <a:pt x="8518" y="3132"/>
                  </a:lnTo>
                  <a:lnTo>
                    <a:pt x="8417" y="2862"/>
                  </a:lnTo>
                  <a:lnTo>
                    <a:pt x="8282" y="2660"/>
                  </a:lnTo>
                  <a:lnTo>
                    <a:pt x="8148" y="2492"/>
                  </a:lnTo>
                  <a:lnTo>
                    <a:pt x="8013" y="2391"/>
                  </a:lnTo>
                  <a:lnTo>
                    <a:pt x="7643" y="2189"/>
                  </a:lnTo>
                  <a:lnTo>
                    <a:pt x="6902" y="1886"/>
                  </a:lnTo>
                  <a:lnTo>
                    <a:pt x="5050" y="1078"/>
                  </a:lnTo>
                  <a:lnTo>
                    <a:pt x="4175" y="708"/>
                  </a:lnTo>
                  <a:lnTo>
                    <a:pt x="3704" y="506"/>
                  </a:lnTo>
                  <a:lnTo>
                    <a:pt x="3199" y="304"/>
                  </a:lnTo>
                  <a:lnTo>
                    <a:pt x="2727" y="169"/>
                  </a:lnTo>
                  <a:lnTo>
                    <a:pt x="2222" y="34"/>
                  </a:lnTo>
                  <a:lnTo>
                    <a:pt x="171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hape 717"/>
            <p:cNvSpPr/>
            <p:nvPr/>
          </p:nvSpPr>
          <p:spPr>
            <a:xfrm>
              <a:off x="7108920" y="6256440"/>
              <a:ext cx="152280" cy="142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290" h="2156">
                  <a:moveTo>
                    <a:pt x="0" y="0"/>
                  </a:moveTo>
                  <a:lnTo>
                    <a:pt x="0" y="34"/>
                  </a:lnTo>
                  <a:lnTo>
                    <a:pt x="68" y="202"/>
                  </a:lnTo>
                  <a:lnTo>
                    <a:pt x="202" y="337"/>
                  </a:lnTo>
                  <a:lnTo>
                    <a:pt x="438" y="606"/>
                  </a:lnTo>
                  <a:lnTo>
                    <a:pt x="1010" y="1078"/>
                  </a:lnTo>
                  <a:lnTo>
                    <a:pt x="1549" y="1583"/>
                  </a:lnTo>
                  <a:lnTo>
                    <a:pt x="2088" y="2121"/>
                  </a:lnTo>
                  <a:lnTo>
                    <a:pt x="2155" y="2155"/>
                  </a:lnTo>
                  <a:lnTo>
                    <a:pt x="2223" y="2121"/>
                  </a:lnTo>
                  <a:lnTo>
                    <a:pt x="2290" y="2054"/>
                  </a:lnTo>
                  <a:lnTo>
                    <a:pt x="2290" y="2020"/>
                  </a:lnTo>
                  <a:lnTo>
                    <a:pt x="2256" y="1987"/>
                  </a:lnTo>
                  <a:lnTo>
                    <a:pt x="2021" y="1684"/>
                  </a:lnTo>
                  <a:lnTo>
                    <a:pt x="1751" y="1414"/>
                  </a:lnTo>
                  <a:lnTo>
                    <a:pt x="1179" y="909"/>
                  </a:lnTo>
                  <a:lnTo>
                    <a:pt x="640" y="404"/>
                  </a:lnTo>
                  <a:lnTo>
                    <a:pt x="337" y="169"/>
                  </a:lnTo>
                  <a:lnTo>
                    <a:pt x="202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5920" bIns="25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hape 718"/>
            <p:cNvSpPr/>
            <p:nvPr/>
          </p:nvSpPr>
          <p:spPr>
            <a:xfrm>
              <a:off x="6921720" y="5991120"/>
              <a:ext cx="1041120" cy="8794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5690" h="13232">
                  <a:moveTo>
                    <a:pt x="2929" y="640"/>
                  </a:moveTo>
                  <a:lnTo>
                    <a:pt x="3131" y="943"/>
                  </a:lnTo>
                  <a:lnTo>
                    <a:pt x="3165" y="977"/>
                  </a:lnTo>
                  <a:lnTo>
                    <a:pt x="3098" y="977"/>
                  </a:lnTo>
                  <a:lnTo>
                    <a:pt x="3030" y="909"/>
                  </a:lnTo>
                  <a:lnTo>
                    <a:pt x="2997" y="808"/>
                  </a:lnTo>
                  <a:lnTo>
                    <a:pt x="2929" y="640"/>
                  </a:lnTo>
                  <a:close/>
                  <a:moveTo>
                    <a:pt x="2458" y="270"/>
                  </a:moveTo>
                  <a:lnTo>
                    <a:pt x="2626" y="337"/>
                  </a:lnTo>
                  <a:lnTo>
                    <a:pt x="2593" y="371"/>
                  </a:lnTo>
                  <a:lnTo>
                    <a:pt x="2626" y="573"/>
                  </a:lnTo>
                  <a:lnTo>
                    <a:pt x="2694" y="808"/>
                  </a:lnTo>
                  <a:lnTo>
                    <a:pt x="2761" y="1044"/>
                  </a:lnTo>
                  <a:lnTo>
                    <a:pt x="2828" y="1112"/>
                  </a:lnTo>
                  <a:lnTo>
                    <a:pt x="2896" y="1179"/>
                  </a:lnTo>
                  <a:lnTo>
                    <a:pt x="3064" y="1280"/>
                  </a:lnTo>
                  <a:lnTo>
                    <a:pt x="3266" y="1381"/>
                  </a:lnTo>
                  <a:lnTo>
                    <a:pt x="3502" y="1448"/>
                  </a:lnTo>
                  <a:lnTo>
                    <a:pt x="3603" y="1448"/>
                  </a:lnTo>
                  <a:lnTo>
                    <a:pt x="3670" y="1415"/>
                  </a:lnTo>
                  <a:lnTo>
                    <a:pt x="3704" y="1448"/>
                  </a:lnTo>
                  <a:lnTo>
                    <a:pt x="3737" y="1650"/>
                  </a:lnTo>
                  <a:lnTo>
                    <a:pt x="3737" y="1920"/>
                  </a:lnTo>
                  <a:lnTo>
                    <a:pt x="3704" y="1886"/>
                  </a:lnTo>
                  <a:lnTo>
                    <a:pt x="3434" y="1852"/>
                  </a:lnTo>
                  <a:lnTo>
                    <a:pt x="3300" y="1852"/>
                  </a:lnTo>
                  <a:lnTo>
                    <a:pt x="3165" y="1785"/>
                  </a:lnTo>
                  <a:lnTo>
                    <a:pt x="3064" y="1751"/>
                  </a:lnTo>
                  <a:lnTo>
                    <a:pt x="2963" y="1718"/>
                  </a:lnTo>
                  <a:lnTo>
                    <a:pt x="2862" y="1684"/>
                  </a:lnTo>
                  <a:lnTo>
                    <a:pt x="2761" y="1617"/>
                  </a:lnTo>
                  <a:lnTo>
                    <a:pt x="2593" y="1482"/>
                  </a:lnTo>
                  <a:lnTo>
                    <a:pt x="2391" y="1280"/>
                  </a:lnTo>
                  <a:lnTo>
                    <a:pt x="2189" y="1044"/>
                  </a:lnTo>
                  <a:lnTo>
                    <a:pt x="2121" y="909"/>
                  </a:lnTo>
                  <a:lnTo>
                    <a:pt x="2054" y="741"/>
                  </a:lnTo>
                  <a:lnTo>
                    <a:pt x="1987" y="438"/>
                  </a:lnTo>
                  <a:lnTo>
                    <a:pt x="2054" y="438"/>
                  </a:lnTo>
                  <a:lnTo>
                    <a:pt x="2088" y="404"/>
                  </a:lnTo>
                  <a:lnTo>
                    <a:pt x="2121" y="337"/>
                  </a:lnTo>
                  <a:lnTo>
                    <a:pt x="2189" y="303"/>
                  </a:lnTo>
                  <a:lnTo>
                    <a:pt x="2290" y="270"/>
                  </a:lnTo>
                  <a:close/>
                  <a:moveTo>
                    <a:pt x="1886" y="371"/>
                  </a:moveTo>
                  <a:lnTo>
                    <a:pt x="1919" y="404"/>
                  </a:lnTo>
                  <a:lnTo>
                    <a:pt x="1886" y="573"/>
                  </a:lnTo>
                  <a:lnTo>
                    <a:pt x="1886" y="741"/>
                  </a:lnTo>
                  <a:lnTo>
                    <a:pt x="1919" y="909"/>
                  </a:lnTo>
                  <a:lnTo>
                    <a:pt x="1987" y="1078"/>
                  </a:lnTo>
                  <a:lnTo>
                    <a:pt x="2222" y="1381"/>
                  </a:lnTo>
                  <a:lnTo>
                    <a:pt x="2458" y="1650"/>
                  </a:lnTo>
                  <a:lnTo>
                    <a:pt x="2593" y="1751"/>
                  </a:lnTo>
                  <a:lnTo>
                    <a:pt x="2694" y="1852"/>
                  </a:lnTo>
                  <a:lnTo>
                    <a:pt x="2795" y="1886"/>
                  </a:lnTo>
                  <a:lnTo>
                    <a:pt x="2929" y="1920"/>
                  </a:lnTo>
                  <a:lnTo>
                    <a:pt x="3030" y="1953"/>
                  </a:lnTo>
                  <a:lnTo>
                    <a:pt x="3131" y="1987"/>
                  </a:lnTo>
                  <a:lnTo>
                    <a:pt x="3266" y="2054"/>
                  </a:lnTo>
                  <a:lnTo>
                    <a:pt x="3434" y="2088"/>
                  </a:lnTo>
                  <a:lnTo>
                    <a:pt x="3569" y="2054"/>
                  </a:lnTo>
                  <a:lnTo>
                    <a:pt x="3737" y="1987"/>
                  </a:lnTo>
                  <a:lnTo>
                    <a:pt x="3704" y="2189"/>
                  </a:lnTo>
                  <a:lnTo>
                    <a:pt x="3670" y="2391"/>
                  </a:lnTo>
                  <a:lnTo>
                    <a:pt x="3603" y="2593"/>
                  </a:lnTo>
                  <a:lnTo>
                    <a:pt x="3502" y="2795"/>
                  </a:lnTo>
                  <a:lnTo>
                    <a:pt x="3401" y="2963"/>
                  </a:lnTo>
                  <a:lnTo>
                    <a:pt x="3300" y="3132"/>
                  </a:lnTo>
                  <a:lnTo>
                    <a:pt x="3131" y="3266"/>
                  </a:lnTo>
                  <a:lnTo>
                    <a:pt x="2997" y="3367"/>
                  </a:lnTo>
                  <a:lnTo>
                    <a:pt x="2963" y="3401"/>
                  </a:lnTo>
                  <a:lnTo>
                    <a:pt x="2997" y="3435"/>
                  </a:lnTo>
                  <a:lnTo>
                    <a:pt x="3165" y="3435"/>
                  </a:lnTo>
                  <a:lnTo>
                    <a:pt x="3300" y="3401"/>
                  </a:lnTo>
                  <a:lnTo>
                    <a:pt x="3535" y="3805"/>
                  </a:lnTo>
                  <a:lnTo>
                    <a:pt x="3805" y="4175"/>
                  </a:lnTo>
                  <a:lnTo>
                    <a:pt x="4377" y="4916"/>
                  </a:lnTo>
                  <a:lnTo>
                    <a:pt x="4680" y="5253"/>
                  </a:lnTo>
                  <a:lnTo>
                    <a:pt x="5051" y="5522"/>
                  </a:lnTo>
                  <a:lnTo>
                    <a:pt x="5286" y="5724"/>
                  </a:lnTo>
                  <a:lnTo>
                    <a:pt x="5488" y="5926"/>
                  </a:lnTo>
                  <a:lnTo>
                    <a:pt x="5892" y="6397"/>
                  </a:lnTo>
                  <a:lnTo>
                    <a:pt x="5791" y="6532"/>
                  </a:lnTo>
                  <a:lnTo>
                    <a:pt x="5724" y="6667"/>
                  </a:lnTo>
                  <a:lnTo>
                    <a:pt x="5623" y="6835"/>
                  </a:lnTo>
                  <a:lnTo>
                    <a:pt x="5556" y="7003"/>
                  </a:lnTo>
                  <a:lnTo>
                    <a:pt x="5421" y="6902"/>
                  </a:lnTo>
                  <a:lnTo>
                    <a:pt x="5253" y="6835"/>
                  </a:lnTo>
                  <a:lnTo>
                    <a:pt x="5051" y="6734"/>
                  </a:lnTo>
                  <a:lnTo>
                    <a:pt x="4882" y="6633"/>
                  </a:lnTo>
                  <a:lnTo>
                    <a:pt x="4579" y="6397"/>
                  </a:lnTo>
                  <a:lnTo>
                    <a:pt x="4310" y="6162"/>
                  </a:lnTo>
                  <a:lnTo>
                    <a:pt x="4040" y="5859"/>
                  </a:lnTo>
                  <a:lnTo>
                    <a:pt x="3064" y="4748"/>
                  </a:lnTo>
                  <a:lnTo>
                    <a:pt x="2727" y="4276"/>
                  </a:lnTo>
                  <a:lnTo>
                    <a:pt x="2525" y="4074"/>
                  </a:lnTo>
                  <a:lnTo>
                    <a:pt x="2290" y="3872"/>
                  </a:lnTo>
                  <a:lnTo>
                    <a:pt x="2525" y="3805"/>
                  </a:lnTo>
                  <a:lnTo>
                    <a:pt x="2559" y="3771"/>
                  </a:lnTo>
                  <a:lnTo>
                    <a:pt x="2593" y="3738"/>
                  </a:lnTo>
                  <a:lnTo>
                    <a:pt x="2559" y="3637"/>
                  </a:lnTo>
                  <a:lnTo>
                    <a:pt x="2492" y="3603"/>
                  </a:lnTo>
                  <a:lnTo>
                    <a:pt x="2458" y="3569"/>
                  </a:lnTo>
                  <a:lnTo>
                    <a:pt x="2391" y="3603"/>
                  </a:lnTo>
                  <a:lnTo>
                    <a:pt x="2222" y="3670"/>
                  </a:lnTo>
                  <a:lnTo>
                    <a:pt x="2054" y="3704"/>
                  </a:lnTo>
                  <a:lnTo>
                    <a:pt x="1886" y="3704"/>
                  </a:lnTo>
                  <a:lnTo>
                    <a:pt x="1717" y="3670"/>
                  </a:lnTo>
                  <a:lnTo>
                    <a:pt x="1347" y="3569"/>
                  </a:lnTo>
                  <a:lnTo>
                    <a:pt x="1044" y="3435"/>
                  </a:lnTo>
                  <a:lnTo>
                    <a:pt x="808" y="3300"/>
                  </a:lnTo>
                  <a:lnTo>
                    <a:pt x="606" y="3165"/>
                  </a:lnTo>
                  <a:lnTo>
                    <a:pt x="438" y="2997"/>
                  </a:lnTo>
                  <a:lnTo>
                    <a:pt x="337" y="2795"/>
                  </a:lnTo>
                  <a:lnTo>
                    <a:pt x="270" y="2593"/>
                  </a:lnTo>
                  <a:lnTo>
                    <a:pt x="270" y="2357"/>
                  </a:lnTo>
                  <a:lnTo>
                    <a:pt x="270" y="2122"/>
                  </a:lnTo>
                  <a:lnTo>
                    <a:pt x="303" y="1886"/>
                  </a:lnTo>
                  <a:lnTo>
                    <a:pt x="404" y="1617"/>
                  </a:lnTo>
                  <a:lnTo>
                    <a:pt x="573" y="1381"/>
                  </a:lnTo>
                  <a:lnTo>
                    <a:pt x="741" y="1179"/>
                  </a:lnTo>
                  <a:lnTo>
                    <a:pt x="943" y="977"/>
                  </a:lnTo>
                  <a:lnTo>
                    <a:pt x="1179" y="808"/>
                  </a:lnTo>
                  <a:lnTo>
                    <a:pt x="1414" y="640"/>
                  </a:lnTo>
                  <a:lnTo>
                    <a:pt x="1886" y="371"/>
                  </a:lnTo>
                  <a:close/>
                  <a:moveTo>
                    <a:pt x="2290" y="0"/>
                  </a:moveTo>
                  <a:lnTo>
                    <a:pt x="2189" y="34"/>
                  </a:lnTo>
                  <a:lnTo>
                    <a:pt x="2054" y="68"/>
                  </a:lnTo>
                  <a:lnTo>
                    <a:pt x="1987" y="169"/>
                  </a:lnTo>
                  <a:lnTo>
                    <a:pt x="1616" y="303"/>
                  </a:lnTo>
                  <a:lnTo>
                    <a:pt x="1246" y="505"/>
                  </a:lnTo>
                  <a:lnTo>
                    <a:pt x="909" y="741"/>
                  </a:lnTo>
                  <a:lnTo>
                    <a:pt x="573" y="1011"/>
                  </a:lnTo>
                  <a:lnTo>
                    <a:pt x="303" y="1347"/>
                  </a:lnTo>
                  <a:lnTo>
                    <a:pt x="202" y="1516"/>
                  </a:lnTo>
                  <a:lnTo>
                    <a:pt x="135" y="1684"/>
                  </a:lnTo>
                  <a:lnTo>
                    <a:pt x="68" y="1886"/>
                  </a:lnTo>
                  <a:lnTo>
                    <a:pt x="0" y="2088"/>
                  </a:lnTo>
                  <a:lnTo>
                    <a:pt x="0" y="2256"/>
                  </a:lnTo>
                  <a:lnTo>
                    <a:pt x="0" y="2458"/>
                  </a:lnTo>
                  <a:lnTo>
                    <a:pt x="68" y="2660"/>
                  </a:lnTo>
                  <a:lnTo>
                    <a:pt x="101" y="2829"/>
                  </a:lnTo>
                  <a:lnTo>
                    <a:pt x="202" y="2963"/>
                  </a:lnTo>
                  <a:lnTo>
                    <a:pt x="303" y="3132"/>
                  </a:lnTo>
                  <a:lnTo>
                    <a:pt x="539" y="3401"/>
                  </a:lnTo>
                  <a:lnTo>
                    <a:pt x="842" y="3603"/>
                  </a:lnTo>
                  <a:lnTo>
                    <a:pt x="1145" y="3805"/>
                  </a:lnTo>
                  <a:lnTo>
                    <a:pt x="1515" y="3906"/>
                  </a:lnTo>
                  <a:lnTo>
                    <a:pt x="1886" y="3940"/>
                  </a:lnTo>
                  <a:lnTo>
                    <a:pt x="2054" y="3940"/>
                  </a:lnTo>
                  <a:lnTo>
                    <a:pt x="2222" y="3906"/>
                  </a:lnTo>
                  <a:lnTo>
                    <a:pt x="2357" y="4175"/>
                  </a:lnTo>
                  <a:lnTo>
                    <a:pt x="2492" y="4445"/>
                  </a:lnTo>
                  <a:lnTo>
                    <a:pt x="2660" y="4680"/>
                  </a:lnTo>
                  <a:lnTo>
                    <a:pt x="2862" y="4950"/>
                  </a:lnTo>
                  <a:lnTo>
                    <a:pt x="3300" y="5421"/>
                  </a:lnTo>
                  <a:lnTo>
                    <a:pt x="3737" y="5825"/>
                  </a:lnTo>
                  <a:lnTo>
                    <a:pt x="4175" y="6330"/>
                  </a:lnTo>
                  <a:lnTo>
                    <a:pt x="4680" y="6801"/>
                  </a:lnTo>
                  <a:lnTo>
                    <a:pt x="4882" y="6936"/>
                  </a:lnTo>
                  <a:lnTo>
                    <a:pt x="5084" y="7037"/>
                  </a:lnTo>
                  <a:lnTo>
                    <a:pt x="5320" y="7138"/>
                  </a:lnTo>
                  <a:lnTo>
                    <a:pt x="5522" y="7273"/>
                  </a:lnTo>
                  <a:lnTo>
                    <a:pt x="5589" y="7306"/>
                  </a:lnTo>
                  <a:lnTo>
                    <a:pt x="5657" y="7273"/>
                  </a:lnTo>
                  <a:lnTo>
                    <a:pt x="5690" y="7239"/>
                  </a:lnTo>
                  <a:lnTo>
                    <a:pt x="5724" y="7172"/>
                  </a:lnTo>
                  <a:lnTo>
                    <a:pt x="5791" y="7003"/>
                  </a:lnTo>
                  <a:lnTo>
                    <a:pt x="5892" y="6869"/>
                  </a:lnTo>
                  <a:lnTo>
                    <a:pt x="7003" y="7710"/>
                  </a:lnTo>
                  <a:lnTo>
                    <a:pt x="8148" y="8485"/>
                  </a:lnTo>
                  <a:lnTo>
                    <a:pt x="8720" y="8855"/>
                  </a:lnTo>
                  <a:lnTo>
                    <a:pt x="9326" y="9226"/>
                  </a:lnTo>
                  <a:lnTo>
                    <a:pt x="9932" y="9562"/>
                  </a:lnTo>
                  <a:lnTo>
                    <a:pt x="10572" y="9865"/>
                  </a:lnTo>
                  <a:lnTo>
                    <a:pt x="11279" y="10135"/>
                  </a:lnTo>
                  <a:lnTo>
                    <a:pt x="11986" y="10370"/>
                  </a:lnTo>
                  <a:lnTo>
                    <a:pt x="12727" y="10606"/>
                  </a:lnTo>
                  <a:lnTo>
                    <a:pt x="13400" y="10875"/>
                  </a:lnTo>
                  <a:lnTo>
                    <a:pt x="13737" y="11044"/>
                  </a:lnTo>
                  <a:lnTo>
                    <a:pt x="14040" y="11212"/>
                  </a:lnTo>
                  <a:lnTo>
                    <a:pt x="14309" y="11448"/>
                  </a:lnTo>
                  <a:lnTo>
                    <a:pt x="14579" y="11683"/>
                  </a:lnTo>
                  <a:lnTo>
                    <a:pt x="14814" y="11953"/>
                  </a:lnTo>
                  <a:lnTo>
                    <a:pt x="14983" y="12256"/>
                  </a:lnTo>
                  <a:lnTo>
                    <a:pt x="15151" y="12592"/>
                  </a:lnTo>
                  <a:lnTo>
                    <a:pt x="15286" y="12996"/>
                  </a:lnTo>
                  <a:lnTo>
                    <a:pt x="15353" y="13232"/>
                  </a:lnTo>
                  <a:lnTo>
                    <a:pt x="15690" y="13232"/>
                  </a:lnTo>
                  <a:lnTo>
                    <a:pt x="15622" y="12895"/>
                  </a:lnTo>
                  <a:lnTo>
                    <a:pt x="15521" y="12592"/>
                  </a:lnTo>
                  <a:lnTo>
                    <a:pt x="15420" y="12323"/>
                  </a:lnTo>
                  <a:lnTo>
                    <a:pt x="15286" y="12054"/>
                  </a:lnTo>
                  <a:lnTo>
                    <a:pt x="15151" y="11818"/>
                  </a:lnTo>
                  <a:lnTo>
                    <a:pt x="14983" y="11616"/>
                  </a:lnTo>
                  <a:lnTo>
                    <a:pt x="14814" y="11414"/>
                  </a:lnTo>
                  <a:lnTo>
                    <a:pt x="14612" y="11212"/>
                  </a:lnTo>
                  <a:lnTo>
                    <a:pt x="14377" y="11044"/>
                  </a:lnTo>
                  <a:lnTo>
                    <a:pt x="13939" y="10741"/>
                  </a:lnTo>
                  <a:lnTo>
                    <a:pt x="13400" y="10505"/>
                  </a:lnTo>
                  <a:lnTo>
                    <a:pt x="12862" y="10303"/>
                  </a:lnTo>
                  <a:lnTo>
                    <a:pt x="12289" y="10101"/>
                  </a:lnTo>
                  <a:lnTo>
                    <a:pt x="11548" y="9865"/>
                  </a:lnTo>
                  <a:lnTo>
                    <a:pt x="10841" y="9562"/>
                  </a:lnTo>
                  <a:lnTo>
                    <a:pt x="10168" y="9259"/>
                  </a:lnTo>
                  <a:lnTo>
                    <a:pt x="9495" y="8922"/>
                  </a:lnTo>
                  <a:lnTo>
                    <a:pt x="8855" y="8552"/>
                  </a:lnTo>
                  <a:lnTo>
                    <a:pt x="8182" y="8148"/>
                  </a:lnTo>
                  <a:lnTo>
                    <a:pt x="6936" y="7306"/>
                  </a:lnTo>
                  <a:lnTo>
                    <a:pt x="6027" y="6667"/>
                  </a:lnTo>
                  <a:lnTo>
                    <a:pt x="6094" y="6532"/>
                  </a:lnTo>
                  <a:lnTo>
                    <a:pt x="6162" y="6364"/>
                  </a:lnTo>
                  <a:lnTo>
                    <a:pt x="6162" y="6330"/>
                  </a:lnTo>
                  <a:lnTo>
                    <a:pt x="6128" y="6296"/>
                  </a:lnTo>
                  <a:lnTo>
                    <a:pt x="6027" y="6296"/>
                  </a:lnTo>
                  <a:lnTo>
                    <a:pt x="5926" y="6061"/>
                  </a:lnTo>
                  <a:lnTo>
                    <a:pt x="5825" y="5892"/>
                  </a:lnTo>
                  <a:lnTo>
                    <a:pt x="5657" y="5724"/>
                  </a:lnTo>
                  <a:lnTo>
                    <a:pt x="5488" y="5556"/>
                  </a:lnTo>
                  <a:lnTo>
                    <a:pt x="5152" y="5286"/>
                  </a:lnTo>
                  <a:lnTo>
                    <a:pt x="4781" y="5017"/>
                  </a:lnTo>
                  <a:lnTo>
                    <a:pt x="4108" y="4108"/>
                  </a:lnTo>
                  <a:lnTo>
                    <a:pt x="3670" y="3569"/>
                  </a:lnTo>
                  <a:lnTo>
                    <a:pt x="3502" y="3401"/>
                  </a:lnTo>
                  <a:lnTo>
                    <a:pt x="3434" y="3367"/>
                  </a:lnTo>
                  <a:lnTo>
                    <a:pt x="3401" y="3367"/>
                  </a:lnTo>
                  <a:lnTo>
                    <a:pt x="3502" y="3266"/>
                  </a:lnTo>
                  <a:lnTo>
                    <a:pt x="3603" y="3165"/>
                  </a:lnTo>
                  <a:lnTo>
                    <a:pt x="3737" y="2930"/>
                  </a:lnTo>
                  <a:lnTo>
                    <a:pt x="3838" y="2593"/>
                  </a:lnTo>
                  <a:lnTo>
                    <a:pt x="3906" y="2256"/>
                  </a:lnTo>
                  <a:lnTo>
                    <a:pt x="3906" y="1920"/>
                  </a:lnTo>
                  <a:lnTo>
                    <a:pt x="3906" y="1583"/>
                  </a:lnTo>
                  <a:lnTo>
                    <a:pt x="3838" y="1280"/>
                  </a:lnTo>
                  <a:lnTo>
                    <a:pt x="3805" y="1044"/>
                  </a:lnTo>
                  <a:lnTo>
                    <a:pt x="3670" y="842"/>
                  </a:lnTo>
                  <a:lnTo>
                    <a:pt x="3502" y="640"/>
                  </a:lnTo>
                  <a:lnTo>
                    <a:pt x="3232" y="438"/>
                  </a:lnTo>
                  <a:lnTo>
                    <a:pt x="2963" y="236"/>
                  </a:lnTo>
                  <a:lnTo>
                    <a:pt x="2694" y="101"/>
                  </a:lnTo>
                  <a:lnTo>
                    <a:pt x="24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hape 719"/>
            <p:cNvSpPr/>
            <p:nvPr/>
          </p:nvSpPr>
          <p:spPr>
            <a:xfrm>
              <a:off x="8898120" y="6759720"/>
              <a:ext cx="261720" cy="1108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940" h="1684">
                  <a:moveTo>
                    <a:pt x="1886" y="1"/>
                  </a:moveTo>
                  <a:lnTo>
                    <a:pt x="1583" y="34"/>
                  </a:lnTo>
                  <a:lnTo>
                    <a:pt x="1348" y="102"/>
                  </a:lnTo>
                  <a:lnTo>
                    <a:pt x="1146" y="203"/>
                  </a:lnTo>
                  <a:lnTo>
                    <a:pt x="977" y="337"/>
                  </a:lnTo>
                  <a:lnTo>
                    <a:pt x="843" y="506"/>
                  </a:lnTo>
                  <a:lnTo>
                    <a:pt x="573" y="910"/>
                  </a:lnTo>
                  <a:lnTo>
                    <a:pt x="338" y="1280"/>
                  </a:lnTo>
                  <a:lnTo>
                    <a:pt x="169" y="1516"/>
                  </a:lnTo>
                  <a:lnTo>
                    <a:pt x="1" y="1684"/>
                  </a:lnTo>
                  <a:lnTo>
                    <a:pt x="506" y="1684"/>
                  </a:lnTo>
                  <a:lnTo>
                    <a:pt x="674" y="1516"/>
                  </a:lnTo>
                  <a:lnTo>
                    <a:pt x="775" y="1347"/>
                  </a:lnTo>
                  <a:lnTo>
                    <a:pt x="1078" y="910"/>
                  </a:lnTo>
                  <a:lnTo>
                    <a:pt x="1247" y="708"/>
                  </a:lnTo>
                  <a:lnTo>
                    <a:pt x="1415" y="573"/>
                  </a:lnTo>
                  <a:lnTo>
                    <a:pt x="1617" y="472"/>
                  </a:lnTo>
                  <a:lnTo>
                    <a:pt x="1853" y="405"/>
                  </a:lnTo>
                  <a:lnTo>
                    <a:pt x="2088" y="405"/>
                  </a:lnTo>
                  <a:lnTo>
                    <a:pt x="2391" y="438"/>
                  </a:lnTo>
                  <a:lnTo>
                    <a:pt x="2795" y="539"/>
                  </a:lnTo>
                  <a:lnTo>
                    <a:pt x="3166" y="674"/>
                  </a:lnTo>
                  <a:lnTo>
                    <a:pt x="3570" y="809"/>
                  </a:lnTo>
                  <a:lnTo>
                    <a:pt x="3940" y="943"/>
                  </a:lnTo>
                  <a:lnTo>
                    <a:pt x="3940" y="539"/>
                  </a:lnTo>
                  <a:lnTo>
                    <a:pt x="3368" y="337"/>
                  </a:lnTo>
                  <a:lnTo>
                    <a:pt x="2762" y="135"/>
                  </a:lnTo>
                  <a:lnTo>
                    <a:pt x="2492" y="68"/>
                  </a:lnTo>
                  <a:lnTo>
                    <a:pt x="218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60" bIns="-5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hape 720"/>
            <p:cNvSpPr/>
            <p:nvPr/>
          </p:nvSpPr>
          <p:spPr>
            <a:xfrm>
              <a:off x="6991560" y="6130800"/>
              <a:ext cx="60120" cy="56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0" h="877">
                  <a:moveTo>
                    <a:pt x="673" y="1"/>
                  </a:moveTo>
                  <a:lnTo>
                    <a:pt x="606" y="35"/>
                  </a:lnTo>
                  <a:lnTo>
                    <a:pt x="303" y="338"/>
                  </a:lnTo>
                  <a:lnTo>
                    <a:pt x="168" y="506"/>
                  </a:lnTo>
                  <a:lnTo>
                    <a:pt x="34" y="641"/>
                  </a:lnTo>
                  <a:lnTo>
                    <a:pt x="0" y="708"/>
                  </a:lnTo>
                  <a:lnTo>
                    <a:pt x="0" y="742"/>
                  </a:lnTo>
                  <a:lnTo>
                    <a:pt x="67" y="843"/>
                  </a:lnTo>
                  <a:lnTo>
                    <a:pt x="135" y="876"/>
                  </a:lnTo>
                  <a:lnTo>
                    <a:pt x="236" y="876"/>
                  </a:lnTo>
                  <a:lnTo>
                    <a:pt x="404" y="742"/>
                  </a:lnTo>
                  <a:lnTo>
                    <a:pt x="539" y="607"/>
                  </a:lnTo>
                  <a:lnTo>
                    <a:pt x="842" y="304"/>
                  </a:lnTo>
                  <a:lnTo>
                    <a:pt x="909" y="237"/>
                  </a:lnTo>
                  <a:lnTo>
                    <a:pt x="909" y="169"/>
                  </a:lnTo>
                  <a:lnTo>
                    <a:pt x="875" y="102"/>
                  </a:lnTo>
                  <a:lnTo>
                    <a:pt x="842" y="68"/>
                  </a:lnTo>
                  <a:lnTo>
                    <a:pt x="7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hape 721"/>
            <p:cNvSpPr/>
            <p:nvPr/>
          </p:nvSpPr>
          <p:spPr>
            <a:xfrm>
              <a:off x="514080" y="6256440"/>
              <a:ext cx="102960" cy="280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550" h="4243">
                  <a:moveTo>
                    <a:pt x="1515" y="0"/>
                  </a:moveTo>
                  <a:lnTo>
                    <a:pt x="1515" y="34"/>
                  </a:lnTo>
                  <a:lnTo>
                    <a:pt x="741" y="2088"/>
                  </a:lnTo>
                  <a:lnTo>
                    <a:pt x="337" y="3131"/>
                  </a:lnTo>
                  <a:lnTo>
                    <a:pt x="0" y="4175"/>
                  </a:lnTo>
                  <a:lnTo>
                    <a:pt x="0" y="4209"/>
                  </a:lnTo>
                  <a:lnTo>
                    <a:pt x="34" y="4242"/>
                  </a:lnTo>
                  <a:lnTo>
                    <a:pt x="68" y="4242"/>
                  </a:lnTo>
                  <a:lnTo>
                    <a:pt x="68" y="4209"/>
                  </a:lnTo>
                  <a:lnTo>
                    <a:pt x="505" y="3131"/>
                  </a:lnTo>
                  <a:lnTo>
                    <a:pt x="909" y="2020"/>
                  </a:lnTo>
                  <a:lnTo>
                    <a:pt x="1145" y="1549"/>
                  </a:lnTo>
                  <a:lnTo>
                    <a:pt x="1347" y="1044"/>
                  </a:lnTo>
                  <a:lnTo>
                    <a:pt x="1448" y="775"/>
                  </a:lnTo>
                  <a:lnTo>
                    <a:pt x="1549" y="505"/>
                  </a:lnTo>
                  <a:lnTo>
                    <a:pt x="1549" y="270"/>
                  </a:lnTo>
                  <a:lnTo>
                    <a:pt x="1549" y="34"/>
                  </a:lnTo>
                  <a:lnTo>
                    <a:pt x="151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hape 722"/>
            <p:cNvSpPr/>
            <p:nvPr/>
          </p:nvSpPr>
          <p:spPr>
            <a:xfrm>
              <a:off x="745920" y="5734080"/>
              <a:ext cx="172800" cy="112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594" h="1685">
                  <a:moveTo>
                    <a:pt x="2560" y="1"/>
                  </a:moveTo>
                  <a:lnTo>
                    <a:pt x="2526" y="34"/>
                  </a:lnTo>
                  <a:lnTo>
                    <a:pt x="2391" y="270"/>
                  </a:lnTo>
                  <a:lnTo>
                    <a:pt x="2223" y="539"/>
                  </a:lnTo>
                  <a:lnTo>
                    <a:pt x="2088" y="809"/>
                  </a:lnTo>
                  <a:lnTo>
                    <a:pt x="1886" y="1078"/>
                  </a:lnTo>
                  <a:lnTo>
                    <a:pt x="1651" y="1246"/>
                  </a:lnTo>
                  <a:lnTo>
                    <a:pt x="1381" y="1381"/>
                  </a:lnTo>
                  <a:lnTo>
                    <a:pt x="1146" y="1448"/>
                  </a:lnTo>
                  <a:lnTo>
                    <a:pt x="876" y="1448"/>
                  </a:lnTo>
                  <a:lnTo>
                    <a:pt x="641" y="1381"/>
                  </a:lnTo>
                  <a:lnTo>
                    <a:pt x="405" y="1246"/>
                  </a:lnTo>
                  <a:lnTo>
                    <a:pt x="304" y="1145"/>
                  </a:lnTo>
                  <a:lnTo>
                    <a:pt x="237" y="1044"/>
                  </a:lnTo>
                  <a:lnTo>
                    <a:pt x="169" y="910"/>
                  </a:lnTo>
                  <a:lnTo>
                    <a:pt x="102" y="741"/>
                  </a:lnTo>
                  <a:lnTo>
                    <a:pt x="68" y="708"/>
                  </a:lnTo>
                  <a:lnTo>
                    <a:pt x="35" y="708"/>
                  </a:lnTo>
                  <a:lnTo>
                    <a:pt x="35" y="741"/>
                  </a:lnTo>
                  <a:lnTo>
                    <a:pt x="1" y="876"/>
                  </a:lnTo>
                  <a:lnTo>
                    <a:pt x="1" y="977"/>
                  </a:lnTo>
                  <a:lnTo>
                    <a:pt x="68" y="1179"/>
                  </a:lnTo>
                  <a:lnTo>
                    <a:pt x="203" y="1347"/>
                  </a:lnTo>
                  <a:lnTo>
                    <a:pt x="371" y="1482"/>
                  </a:lnTo>
                  <a:lnTo>
                    <a:pt x="573" y="1583"/>
                  </a:lnTo>
                  <a:lnTo>
                    <a:pt x="775" y="1650"/>
                  </a:lnTo>
                  <a:lnTo>
                    <a:pt x="1011" y="1684"/>
                  </a:lnTo>
                  <a:lnTo>
                    <a:pt x="1213" y="1684"/>
                  </a:lnTo>
                  <a:lnTo>
                    <a:pt x="1449" y="1617"/>
                  </a:lnTo>
                  <a:lnTo>
                    <a:pt x="1684" y="1482"/>
                  </a:lnTo>
                  <a:lnTo>
                    <a:pt x="1954" y="1280"/>
                  </a:lnTo>
                  <a:lnTo>
                    <a:pt x="2156" y="1078"/>
                  </a:lnTo>
                  <a:lnTo>
                    <a:pt x="2358" y="809"/>
                  </a:lnTo>
                  <a:lnTo>
                    <a:pt x="2492" y="573"/>
                  </a:lnTo>
                  <a:lnTo>
                    <a:pt x="2593" y="304"/>
                  </a:lnTo>
                  <a:lnTo>
                    <a:pt x="2593" y="34"/>
                  </a:lnTo>
                  <a:lnTo>
                    <a:pt x="256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hape 723"/>
            <p:cNvSpPr/>
            <p:nvPr/>
          </p:nvSpPr>
          <p:spPr>
            <a:xfrm>
              <a:off x="520560" y="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3" h="237">
                  <a:moveTo>
                    <a:pt x="0" y="1"/>
                  </a:moveTo>
                  <a:lnTo>
                    <a:pt x="0" y="135"/>
                  </a:lnTo>
                  <a:lnTo>
                    <a:pt x="34" y="203"/>
                  </a:lnTo>
                  <a:lnTo>
                    <a:pt x="101" y="236"/>
                  </a:lnTo>
                  <a:lnTo>
                    <a:pt x="169" y="203"/>
                  </a:lnTo>
                  <a:lnTo>
                    <a:pt x="202" y="135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0800" bIns="-100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hape 724"/>
            <p:cNvSpPr/>
            <p:nvPr/>
          </p:nvSpPr>
          <p:spPr>
            <a:xfrm>
              <a:off x="455400" y="5578560"/>
              <a:ext cx="492120" cy="9698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7407" h="14613">
                  <a:moveTo>
                    <a:pt x="5993" y="1"/>
                  </a:moveTo>
                  <a:lnTo>
                    <a:pt x="5825" y="35"/>
                  </a:lnTo>
                  <a:lnTo>
                    <a:pt x="5656" y="102"/>
                  </a:lnTo>
                  <a:lnTo>
                    <a:pt x="5488" y="169"/>
                  </a:lnTo>
                  <a:lnTo>
                    <a:pt x="5185" y="405"/>
                  </a:lnTo>
                  <a:lnTo>
                    <a:pt x="4916" y="674"/>
                  </a:lnTo>
                  <a:lnTo>
                    <a:pt x="4680" y="1011"/>
                  </a:lnTo>
                  <a:lnTo>
                    <a:pt x="4478" y="1348"/>
                  </a:lnTo>
                  <a:lnTo>
                    <a:pt x="4276" y="1651"/>
                  </a:lnTo>
                  <a:lnTo>
                    <a:pt x="4141" y="2021"/>
                  </a:lnTo>
                  <a:lnTo>
                    <a:pt x="4040" y="2391"/>
                  </a:lnTo>
                  <a:lnTo>
                    <a:pt x="3973" y="2762"/>
                  </a:lnTo>
                  <a:lnTo>
                    <a:pt x="3973" y="3132"/>
                  </a:lnTo>
                  <a:lnTo>
                    <a:pt x="4007" y="3368"/>
                  </a:lnTo>
                  <a:lnTo>
                    <a:pt x="4040" y="3570"/>
                  </a:lnTo>
                  <a:lnTo>
                    <a:pt x="4209" y="3974"/>
                  </a:lnTo>
                  <a:lnTo>
                    <a:pt x="4310" y="4344"/>
                  </a:lnTo>
                  <a:lnTo>
                    <a:pt x="4377" y="4681"/>
                  </a:lnTo>
                  <a:lnTo>
                    <a:pt x="4377" y="5051"/>
                  </a:lnTo>
                  <a:lnTo>
                    <a:pt x="4310" y="5421"/>
                  </a:lnTo>
                  <a:lnTo>
                    <a:pt x="4074" y="5960"/>
                  </a:lnTo>
                  <a:lnTo>
                    <a:pt x="3838" y="6532"/>
                  </a:lnTo>
                  <a:lnTo>
                    <a:pt x="3232" y="7576"/>
                  </a:lnTo>
                  <a:lnTo>
                    <a:pt x="2626" y="8687"/>
                  </a:lnTo>
                  <a:lnTo>
                    <a:pt x="1986" y="9798"/>
                  </a:lnTo>
                  <a:lnTo>
                    <a:pt x="640" y="11953"/>
                  </a:lnTo>
                  <a:lnTo>
                    <a:pt x="404" y="12323"/>
                  </a:lnTo>
                  <a:lnTo>
                    <a:pt x="202" y="12727"/>
                  </a:lnTo>
                  <a:lnTo>
                    <a:pt x="101" y="12929"/>
                  </a:lnTo>
                  <a:lnTo>
                    <a:pt x="34" y="13131"/>
                  </a:lnTo>
                  <a:lnTo>
                    <a:pt x="0" y="13367"/>
                  </a:lnTo>
                  <a:lnTo>
                    <a:pt x="0" y="13569"/>
                  </a:lnTo>
                  <a:lnTo>
                    <a:pt x="34" y="13636"/>
                  </a:lnTo>
                  <a:lnTo>
                    <a:pt x="67" y="13670"/>
                  </a:lnTo>
                  <a:lnTo>
                    <a:pt x="135" y="13636"/>
                  </a:lnTo>
                  <a:lnTo>
                    <a:pt x="168" y="13569"/>
                  </a:lnTo>
                  <a:lnTo>
                    <a:pt x="168" y="13333"/>
                  </a:lnTo>
                  <a:lnTo>
                    <a:pt x="202" y="13098"/>
                  </a:lnTo>
                  <a:lnTo>
                    <a:pt x="303" y="12862"/>
                  </a:lnTo>
                  <a:lnTo>
                    <a:pt x="404" y="12660"/>
                  </a:lnTo>
                  <a:lnTo>
                    <a:pt x="640" y="12222"/>
                  </a:lnTo>
                  <a:lnTo>
                    <a:pt x="909" y="11818"/>
                  </a:lnTo>
                  <a:lnTo>
                    <a:pt x="1986" y="10068"/>
                  </a:lnTo>
                  <a:lnTo>
                    <a:pt x="2996" y="8317"/>
                  </a:lnTo>
                  <a:lnTo>
                    <a:pt x="3501" y="7442"/>
                  </a:lnTo>
                  <a:lnTo>
                    <a:pt x="3939" y="6532"/>
                  </a:lnTo>
                  <a:lnTo>
                    <a:pt x="4310" y="5792"/>
                  </a:lnTo>
                  <a:lnTo>
                    <a:pt x="4444" y="5421"/>
                  </a:lnTo>
                  <a:lnTo>
                    <a:pt x="4545" y="5051"/>
                  </a:lnTo>
                  <a:lnTo>
                    <a:pt x="4545" y="4883"/>
                  </a:lnTo>
                  <a:lnTo>
                    <a:pt x="4545" y="4714"/>
                  </a:lnTo>
                  <a:lnTo>
                    <a:pt x="4512" y="4378"/>
                  </a:lnTo>
                  <a:lnTo>
                    <a:pt x="4377" y="4041"/>
                  </a:lnTo>
                  <a:lnTo>
                    <a:pt x="4276" y="3738"/>
                  </a:lnTo>
                  <a:lnTo>
                    <a:pt x="4175" y="3469"/>
                  </a:lnTo>
                  <a:lnTo>
                    <a:pt x="4141" y="3199"/>
                  </a:lnTo>
                  <a:lnTo>
                    <a:pt x="4141" y="2896"/>
                  </a:lnTo>
                  <a:lnTo>
                    <a:pt x="4175" y="2593"/>
                  </a:lnTo>
                  <a:lnTo>
                    <a:pt x="4242" y="2257"/>
                  </a:lnTo>
                  <a:lnTo>
                    <a:pt x="4343" y="1954"/>
                  </a:lnTo>
                  <a:lnTo>
                    <a:pt x="4444" y="1651"/>
                  </a:lnTo>
                  <a:lnTo>
                    <a:pt x="4613" y="1348"/>
                  </a:lnTo>
                  <a:lnTo>
                    <a:pt x="4781" y="1078"/>
                  </a:lnTo>
                  <a:lnTo>
                    <a:pt x="4983" y="809"/>
                  </a:lnTo>
                  <a:lnTo>
                    <a:pt x="5185" y="607"/>
                  </a:lnTo>
                  <a:lnTo>
                    <a:pt x="5421" y="405"/>
                  </a:lnTo>
                  <a:lnTo>
                    <a:pt x="5690" y="270"/>
                  </a:lnTo>
                  <a:lnTo>
                    <a:pt x="5959" y="169"/>
                  </a:lnTo>
                  <a:lnTo>
                    <a:pt x="6262" y="136"/>
                  </a:lnTo>
                  <a:lnTo>
                    <a:pt x="6565" y="169"/>
                  </a:lnTo>
                  <a:lnTo>
                    <a:pt x="6565" y="203"/>
                  </a:lnTo>
                  <a:lnTo>
                    <a:pt x="6599" y="237"/>
                  </a:lnTo>
                  <a:lnTo>
                    <a:pt x="6767" y="439"/>
                  </a:lnTo>
                  <a:lnTo>
                    <a:pt x="6902" y="674"/>
                  </a:lnTo>
                  <a:lnTo>
                    <a:pt x="7003" y="910"/>
                  </a:lnTo>
                  <a:lnTo>
                    <a:pt x="7104" y="1179"/>
                  </a:lnTo>
                  <a:lnTo>
                    <a:pt x="7138" y="1482"/>
                  </a:lnTo>
                  <a:lnTo>
                    <a:pt x="7171" y="1752"/>
                  </a:lnTo>
                  <a:lnTo>
                    <a:pt x="7171" y="2290"/>
                  </a:lnTo>
                  <a:lnTo>
                    <a:pt x="7138" y="2593"/>
                  </a:lnTo>
                  <a:lnTo>
                    <a:pt x="7070" y="2863"/>
                  </a:lnTo>
                  <a:lnTo>
                    <a:pt x="6969" y="3132"/>
                  </a:lnTo>
                  <a:lnTo>
                    <a:pt x="6835" y="3401"/>
                  </a:lnTo>
                  <a:lnTo>
                    <a:pt x="6633" y="3603"/>
                  </a:lnTo>
                  <a:lnTo>
                    <a:pt x="6431" y="3839"/>
                  </a:lnTo>
                  <a:lnTo>
                    <a:pt x="6229" y="4041"/>
                  </a:lnTo>
                  <a:lnTo>
                    <a:pt x="5959" y="4209"/>
                  </a:lnTo>
                  <a:lnTo>
                    <a:pt x="5387" y="4613"/>
                  </a:lnTo>
                  <a:lnTo>
                    <a:pt x="5084" y="4849"/>
                  </a:lnTo>
                  <a:lnTo>
                    <a:pt x="4848" y="5085"/>
                  </a:lnTo>
                  <a:lnTo>
                    <a:pt x="4613" y="5455"/>
                  </a:lnTo>
                  <a:lnTo>
                    <a:pt x="4411" y="5825"/>
                  </a:lnTo>
                  <a:lnTo>
                    <a:pt x="4108" y="6633"/>
                  </a:lnTo>
                  <a:lnTo>
                    <a:pt x="3771" y="7711"/>
                  </a:lnTo>
                  <a:lnTo>
                    <a:pt x="3434" y="8788"/>
                  </a:lnTo>
                  <a:lnTo>
                    <a:pt x="3165" y="9866"/>
                  </a:lnTo>
                  <a:lnTo>
                    <a:pt x="2895" y="10977"/>
                  </a:lnTo>
                  <a:lnTo>
                    <a:pt x="2727" y="12020"/>
                  </a:lnTo>
                  <a:lnTo>
                    <a:pt x="2626" y="12525"/>
                  </a:lnTo>
                  <a:lnTo>
                    <a:pt x="2525" y="13064"/>
                  </a:lnTo>
                  <a:lnTo>
                    <a:pt x="2390" y="13434"/>
                  </a:lnTo>
                  <a:lnTo>
                    <a:pt x="2222" y="13771"/>
                  </a:lnTo>
                  <a:lnTo>
                    <a:pt x="1986" y="14074"/>
                  </a:lnTo>
                  <a:lnTo>
                    <a:pt x="1852" y="14209"/>
                  </a:lnTo>
                  <a:lnTo>
                    <a:pt x="1683" y="14310"/>
                  </a:lnTo>
                  <a:lnTo>
                    <a:pt x="1448" y="14444"/>
                  </a:lnTo>
                  <a:lnTo>
                    <a:pt x="1212" y="14478"/>
                  </a:lnTo>
                  <a:lnTo>
                    <a:pt x="976" y="14478"/>
                  </a:lnTo>
                  <a:lnTo>
                    <a:pt x="774" y="14411"/>
                  </a:lnTo>
                  <a:lnTo>
                    <a:pt x="572" y="14276"/>
                  </a:lnTo>
                  <a:lnTo>
                    <a:pt x="404" y="14108"/>
                  </a:lnTo>
                  <a:lnTo>
                    <a:pt x="303" y="13906"/>
                  </a:lnTo>
                  <a:lnTo>
                    <a:pt x="236" y="13670"/>
                  </a:lnTo>
                  <a:lnTo>
                    <a:pt x="202" y="13636"/>
                  </a:lnTo>
                  <a:lnTo>
                    <a:pt x="135" y="13636"/>
                  </a:lnTo>
                  <a:lnTo>
                    <a:pt x="135" y="13670"/>
                  </a:lnTo>
                  <a:lnTo>
                    <a:pt x="135" y="13906"/>
                  </a:lnTo>
                  <a:lnTo>
                    <a:pt x="168" y="14074"/>
                  </a:lnTo>
                  <a:lnTo>
                    <a:pt x="236" y="14242"/>
                  </a:lnTo>
                  <a:lnTo>
                    <a:pt x="337" y="14377"/>
                  </a:lnTo>
                  <a:lnTo>
                    <a:pt x="471" y="14478"/>
                  </a:lnTo>
                  <a:lnTo>
                    <a:pt x="606" y="14545"/>
                  </a:lnTo>
                  <a:lnTo>
                    <a:pt x="774" y="14579"/>
                  </a:lnTo>
                  <a:lnTo>
                    <a:pt x="943" y="14613"/>
                  </a:lnTo>
                  <a:lnTo>
                    <a:pt x="1111" y="14613"/>
                  </a:lnTo>
                  <a:lnTo>
                    <a:pt x="1313" y="14579"/>
                  </a:lnTo>
                  <a:lnTo>
                    <a:pt x="1481" y="14545"/>
                  </a:lnTo>
                  <a:lnTo>
                    <a:pt x="1650" y="14478"/>
                  </a:lnTo>
                  <a:lnTo>
                    <a:pt x="1818" y="14411"/>
                  </a:lnTo>
                  <a:lnTo>
                    <a:pt x="1953" y="14310"/>
                  </a:lnTo>
                  <a:lnTo>
                    <a:pt x="2087" y="14175"/>
                  </a:lnTo>
                  <a:lnTo>
                    <a:pt x="2222" y="14040"/>
                  </a:lnTo>
                  <a:lnTo>
                    <a:pt x="2390" y="13771"/>
                  </a:lnTo>
                  <a:lnTo>
                    <a:pt x="2525" y="13468"/>
                  </a:lnTo>
                  <a:lnTo>
                    <a:pt x="2626" y="13131"/>
                  </a:lnTo>
                  <a:lnTo>
                    <a:pt x="2727" y="12828"/>
                  </a:lnTo>
                  <a:lnTo>
                    <a:pt x="2828" y="12155"/>
                  </a:lnTo>
                  <a:lnTo>
                    <a:pt x="2963" y="11482"/>
                  </a:lnTo>
                  <a:lnTo>
                    <a:pt x="3131" y="10707"/>
                  </a:lnTo>
                  <a:lnTo>
                    <a:pt x="3299" y="9899"/>
                  </a:lnTo>
                  <a:lnTo>
                    <a:pt x="3737" y="8351"/>
                  </a:lnTo>
                  <a:lnTo>
                    <a:pt x="3973" y="7644"/>
                  </a:lnTo>
                  <a:lnTo>
                    <a:pt x="4209" y="6903"/>
                  </a:lnTo>
                  <a:lnTo>
                    <a:pt x="4478" y="6196"/>
                  </a:lnTo>
                  <a:lnTo>
                    <a:pt x="4781" y="5522"/>
                  </a:lnTo>
                  <a:lnTo>
                    <a:pt x="4983" y="5253"/>
                  </a:lnTo>
                  <a:lnTo>
                    <a:pt x="5219" y="4984"/>
                  </a:lnTo>
                  <a:lnTo>
                    <a:pt x="5488" y="4782"/>
                  </a:lnTo>
                  <a:lnTo>
                    <a:pt x="5757" y="4580"/>
                  </a:lnTo>
                  <a:lnTo>
                    <a:pt x="6330" y="4176"/>
                  </a:lnTo>
                  <a:lnTo>
                    <a:pt x="6599" y="3974"/>
                  </a:lnTo>
                  <a:lnTo>
                    <a:pt x="6835" y="3738"/>
                  </a:lnTo>
                  <a:lnTo>
                    <a:pt x="6969" y="3536"/>
                  </a:lnTo>
                  <a:lnTo>
                    <a:pt x="7104" y="3334"/>
                  </a:lnTo>
                  <a:lnTo>
                    <a:pt x="7205" y="3132"/>
                  </a:lnTo>
                  <a:lnTo>
                    <a:pt x="7272" y="2896"/>
                  </a:lnTo>
                  <a:lnTo>
                    <a:pt x="7340" y="2661"/>
                  </a:lnTo>
                  <a:lnTo>
                    <a:pt x="7373" y="2425"/>
                  </a:lnTo>
                  <a:lnTo>
                    <a:pt x="7407" y="1886"/>
                  </a:lnTo>
                  <a:lnTo>
                    <a:pt x="7340" y="1381"/>
                  </a:lnTo>
                  <a:lnTo>
                    <a:pt x="7306" y="1146"/>
                  </a:lnTo>
                  <a:lnTo>
                    <a:pt x="7239" y="910"/>
                  </a:lnTo>
                  <a:lnTo>
                    <a:pt x="7138" y="674"/>
                  </a:lnTo>
                  <a:lnTo>
                    <a:pt x="7003" y="472"/>
                  </a:lnTo>
                  <a:lnTo>
                    <a:pt x="6868" y="270"/>
                  </a:lnTo>
                  <a:lnTo>
                    <a:pt x="6734" y="136"/>
                  </a:lnTo>
                  <a:lnTo>
                    <a:pt x="6666" y="102"/>
                  </a:lnTo>
                  <a:lnTo>
                    <a:pt x="6633" y="102"/>
                  </a:lnTo>
                  <a:lnTo>
                    <a:pt x="6599" y="68"/>
                  </a:lnTo>
                  <a:lnTo>
                    <a:pt x="639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hape 725"/>
            <p:cNvSpPr/>
            <p:nvPr/>
          </p:nvSpPr>
          <p:spPr>
            <a:xfrm>
              <a:off x="7683480" y="0"/>
              <a:ext cx="717480" cy="42696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808" h="6432">
                  <a:moveTo>
                    <a:pt x="6330" y="438"/>
                  </a:moveTo>
                  <a:lnTo>
                    <a:pt x="6195" y="910"/>
                  </a:lnTo>
                  <a:lnTo>
                    <a:pt x="6027" y="1381"/>
                  </a:lnTo>
                  <a:lnTo>
                    <a:pt x="6027" y="1213"/>
                  </a:lnTo>
                  <a:lnTo>
                    <a:pt x="5959" y="640"/>
                  </a:lnTo>
                  <a:lnTo>
                    <a:pt x="6330" y="438"/>
                  </a:lnTo>
                  <a:close/>
                  <a:moveTo>
                    <a:pt x="4781" y="1583"/>
                  </a:moveTo>
                  <a:lnTo>
                    <a:pt x="4747" y="2054"/>
                  </a:lnTo>
                  <a:lnTo>
                    <a:pt x="4478" y="2155"/>
                  </a:lnTo>
                  <a:lnTo>
                    <a:pt x="4512" y="1987"/>
                  </a:lnTo>
                  <a:lnTo>
                    <a:pt x="4512" y="1920"/>
                  </a:lnTo>
                  <a:lnTo>
                    <a:pt x="4478" y="1886"/>
                  </a:lnTo>
                  <a:lnTo>
                    <a:pt x="4781" y="1583"/>
                  </a:lnTo>
                  <a:close/>
                  <a:moveTo>
                    <a:pt x="5892" y="674"/>
                  </a:moveTo>
                  <a:lnTo>
                    <a:pt x="5892" y="1213"/>
                  </a:lnTo>
                  <a:lnTo>
                    <a:pt x="5926" y="1617"/>
                  </a:lnTo>
                  <a:lnTo>
                    <a:pt x="5791" y="1785"/>
                  </a:lnTo>
                  <a:lnTo>
                    <a:pt x="5656" y="1953"/>
                  </a:lnTo>
                  <a:lnTo>
                    <a:pt x="5656" y="1819"/>
                  </a:lnTo>
                  <a:lnTo>
                    <a:pt x="5589" y="1011"/>
                  </a:lnTo>
                  <a:lnTo>
                    <a:pt x="5522" y="1819"/>
                  </a:lnTo>
                  <a:lnTo>
                    <a:pt x="5488" y="2122"/>
                  </a:lnTo>
                  <a:lnTo>
                    <a:pt x="5151" y="2391"/>
                  </a:lnTo>
                  <a:lnTo>
                    <a:pt x="5118" y="2021"/>
                  </a:lnTo>
                  <a:lnTo>
                    <a:pt x="5118" y="1617"/>
                  </a:lnTo>
                  <a:lnTo>
                    <a:pt x="5151" y="1179"/>
                  </a:lnTo>
                  <a:lnTo>
                    <a:pt x="5522" y="910"/>
                  </a:lnTo>
                  <a:lnTo>
                    <a:pt x="5892" y="674"/>
                  </a:lnTo>
                  <a:close/>
                  <a:moveTo>
                    <a:pt x="5084" y="1280"/>
                  </a:moveTo>
                  <a:lnTo>
                    <a:pt x="5017" y="1583"/>
                  </a:lnTo>
                  <a:lnTo>
                    <a:pt x="4983" y="1886"/>
                  </a:lnTo>
                  <a:lnTo>
                    <a:pt x="4983" y="2189"/>
                  </a:lnTo>
                  <a:lnTo>
                    <a:pt x="5017" y="2492"/>
                  </a:lnTo>
                  <a:lnTo>
                    <a:pt x="4848" y="2593"/>
                  </a:lnTo>
                  <a:lnTo>
                    <a:pt x="4781" y="1549"/>
                  </a:lnTo>
                  <a:lnTo>
                    <a:pt x="4848" y="1482"/>
                  </a:lnTo>
                  <a:lnTo>
                    <a:pt x="5084" y="1280"/>
                  </a:lnTo>
                  <a:close/>
                  <a:moveTo>
                    <a:pt x="4747" y="2122"/>
                  </a:moveTo>
                  <a:lnTo>
                    <a:pt x="4714" y="2661"/>
                  </a:lnTo>
                  <a:lnTo>
                    <a:pt x="4512" y="2762"/>
                  </a:lnTo>
                  <a:lnTo>
                    <a:pt x="4512" y="2627"/>
                  </a:lnTo>
                  <a:lnTo>
                    <a:pt x="4478" y="2492"/>
                  </a:lnTo>
                  <a:lnTo>
                    <a:pt x="4444" y="2290"/>
                  </a:lnTo>
                  <a:lnTo>
                    <a:pt x="4747" y="2122"/>
                  </a:lnTo>
                  <a:close/>
                  <a:moveTo>
                    <a:pt x="4242" y="2425"/>
                  </a:moveTo>
                  <a:lnTo>
                    <a:pt x="4242" y="2458"/>
                  </a:lnTo>
                  <a:lnTo>
                    <a:pt x="4276" y="2661"/>
                  </a:lnTo>
                  <a:lnTo>
                    <a:pt x="4310" y="2762"/>
                  </a:lnTo>
                  <a:lnTo>
                    <a:pt x="4377" y="2829"/>
                  </a:lnTo>
                  <a:lnTo>
                    <a:pt x="4141" y="2896"/>
                  </a:lnTo>
                  <a:lnTo>
                    <a:pt x="3906" y="2964"/>
                  </a:lnTo>
                  <a:lnTo>
                    <a:pt x="4074" y="2559"/>
                  </a:lnTo>
                  <a:lnTo>
                    <a:pt x="4242" y="2425"/>
                  </a:lnTo>
                  <a:close/>
                  <a:moveTo>
                    <a:pt x="3704" y="2829"/>
                  </a:moveTo>
                  <a:lnTo>
                    <a:pt x="3670" y="2997"/>
                  </a:lnTo>
                  <a:lnTo>
                    <a:pt x="3535" y="2997"/>
                  </a:lnTo>
                  <a:lnTo>
                    <a:pt x="3704" y="2829"/>
                  </a:lnTo>
                  <a:close/>
                  <a:moveTo>
                    <a:pt x="67" y="1"/>
                  </a:moveTo>
                  <a:lnTo>
                    <a:pt x="0" y="270"/>
                  </a:lnTo>
                  <a:lnTo>
                    <a:pt x="0" y="539"/>
                  </a:lnTo>
                  <a:lnTo>
                    <a:pt x="34" y="809"/>
                  </a:lnTo>
                  <a:lnTo>
                    <a:pt x="67" y="1078"/>
                  </a:lnTo>
                  <a:lnTo>
                    <a:pt x="168" y="1347"/>
                  </a:lnTo>
                  <a:lnTo>
                    <a:pt x="269" y="1583"/>
                  </a:lnTo>
                  <a:lnTo>
                    <a:pt x="404" y="1819"/>
                  </a:lnTo>
                  <a:lnTo>
                    <a:pt x="539" y="2054"/>
                  </a:lnTo>
                  <a:lnTo>
                    <a:pt x="774" y="2324"/>
                  </a:lnTo>
                  <a:lnTo>
                    <a:pt x="1044" y="2559"/>
                  </a:lnTo>
                  <a:lnTo>
                    <a:pt x="1347" y="2762"/>
                  </a:lnTo>
                  <a:lnTo>
                    <a:pt x="1684" y="2896"/>
                  </a:lnTo>
                  <a:lnTo>
                    <a:pt x="2020" y="2997"/>
                  </a:lnTo>
                  <a:lnTo>
                    <a:pt x="2391" y="3098"/>
                  </a:lnTo>
                  <a:lnTo>
                    <a:pt x="2727" y="3166"/>
                  </a:lnTo>
                  <a:lnTo>
                    <a:pt x="3098" y="3199"/>
                  </a:lnTo>
                  <a:lnTo>
                    <a:pt x="2525" y="3805"/>
                  </a:lnTo>
                  <a:lnTo>
                    <a:pt x="2121" y="4243"/>
                  </a:lnTo>
                  <a:lnTo>
                    <a:pt x="1919" y="4512"/>
                  </a:lnTo>
                  <a:lnTo>
                    <a:pt x="1751" y="4782"/>
                  </a:lnTo>
                  <a:lnTo>
                    <a:pt x="1616" y="5051"/>
                  </a:lnTo>
                  <a:lnTo>
                    <a:pt x="1482" y="5320"/>
                  </a:lnTo>
                  <a:lnTo>
                    <a:pt x="1381" y="5623"/>
                  </a:lnTo>
                  <a:lnTo>
                    <a:pt x="1347" y="5926"/>
                  </a:lnTo>
                  <a:lnTo>
                    <a:pt x="1212" y="5691"/>
                  </a:lnTo>
                  <a:lnTo>
                    <a:pt x="1077" y="5455"/>
                  </a:lnTo>
                  <a:lnTo>
                    <a:pt x="1010" y="5354"/>
                  </a:lnTo>
                  <a:lnTo>
                    <a:pt x="875" y="5253"/>
                  </a:lnTo>
                  <a:lnTo>
                    <a:pt x="875" y="5354"/>
                  </a:lnTo>
                  <a:lnTo>
                    <a:pt x="943" y="5489"/>
                  </a:lnTo>
                  <a:lnTo>
                    <a:pt x="1044" y="5691"/>
                  </a:lnTo>
                  <a:lnTo>
                    <a:pt x="1414" y="6398"/>
                  </a:lnTo>
                  <a:lnTo>
                    <a:pt x="1448" y="6431"/>
                  </a:lnTo>
                  <a:lnTo>
                    <a:pt x="1482" y="6431"/>
                  </a:lnTo>
                  <a:lnTo>
                    <a:pt x="1583" y="6398"/>
                  </a:lnTo>
                  <a:lnTo>
                    <a:pt x="1785" y="6128"/>
                  </a:lnTo>
                  <a:lnTo>
                    <a:pt x="2020" y="5893"/>
                  </a:lnTo>
                  <a:lnTo>
                    <a:pt x="2256" y="5691"/>
                  </a:lnTo>
                  <a:lnTo>
                    <a:pt x="2492" y="5455"/>
                  </a:lnTo>
                  <a:lnTo>
                    <a:pt x="2525" y="5388"/>
                  </a:lnTo>
                  <a:lnTo>
                    <a:pt x="2492" y="5354"/>
                  </a:lnTo>
                  <a:lnTo>
                    <a:pt x="2458" y="5320"/>
                  </a:lnTo>
                  <a:lnTo>
                    <a:pt x="2391" y="5320"/>
                  </a:lnTo>
                  <a:lnTo>
                    <a:pt x="2155" y="5489"/>
                  </a:lnTo>
                  <a:lnTo>
                    <a:pt x="1919" y="5691"/>
                  </a:lnTo>
                  <a:lnTo>
                    <a:pt x="1684" y="5926"/>
                  </a:lnTo>
                  <a:lnTo>
                    <a:pt x="1482" y="6162"/>
                  </a:lnTo>
                  <a:lnTo>
                    <a:pt x="1448" y="6128"/>
                  </a:lnTo>
                  <a:lnTo>
                    <a:pt x="1684" y="5455"/>
                  </a:lnTo>
                  <a:lnTo>
                    <a:pt x="1987" y="4849"/>
                  </a:lnTo>
                  <a:lnTo>
                    <a:pt x="2155" y="4580"/>
                  </a:lnTo>
                  <a:lnTo>
                    <a:pt x="2323" y="4310"/>
                  </a:lnTo>
                  <a:lnTo>
                    <a:pt x="2795" y="3772"/>
                  </a:lnTo>
                  <a:lnTo>
                    <a:pt x="3333" y="3199"/>
                  </a:lnTo>
                  <a:lnTo>
                    <a:pt x="3636" y="3199"/>
                  </a:lnTo>
                  <a:lnTo>
                    <a:pt x="3603" y="3469"/>
                  </a:lnTo>
                  <a:lnTo>
                    <a:pt x="3603" y="3738"/>
                  </a:lnTo>
                  <a:lnTo>
                    <a:pt x="3636" y="3974"/>
                  </a:lnTo>
                  <a:lnTo>
                    <a:pt x="3704" y="4209"/>
                  </a:lnTo>
                  <a:lnTo>
                    <a:pt x="3805" y="4445"/>
                  </a:lnTo>
                  <a:lnTo>
                    <a:pt x="3906" y="4681"/>
                  </a:lnTo>
                  <a:lnTo>
                    <a:pt x="4074" y="4883"/>
                  </a:lnTo>
                  <a:lnTo>
                    <a:pt x="4242" y="5085"/>
                  </a:lnTo>
                  <a:lnTo>
                    <a:pt x="4411" y="5253"/>
                  </a:lnTo>
                  <a:lnTo>
                    <a:pt x="4613" y="5421"/>
                  </a:lnTo>
                  <a:lnTo>
                    <a:pt x="4848" y="5556"/>
                  </a:lnTo>
                  <a:lnTo>
                    <a:pt x="5084" y="5657"/>
                  </a:lnTo>
                  <a:lnTo>
                    <a:pt x="5353" y="5792"/>
                  </a:lnTo>
                  <a:lnTo>
                    <a:pt x="5623" y="5859"/>
                  </a:lnTo>
                  <a:lnTo>
                    <a:pt x="5892" y="5926"/>
                  </a:lnTo>
                  <a:lnTo>
                    <a:pt x="6599" y="5926"/>
                  </a:lnTo>
                  <a:lnTo>
                    <a:pt x="7003" y="5893"/>
                  </a:lnTo>
                  <a:lnTo>
                    <a:pt x="7407" y="5758"/>
                  </a:lnTo>
                  <a:lnTo>
                    <a:pt x="7811" y="5623"/>
                  </a:lnTo>
                  <a:lnTo>
                    <a:pt x="8215" y="5455"/>
                  </a:lnTo>
                  <a:lnTo>
                    <a:pt x="8585" y="5253"/>
                  </a:lnTo>
                  <a:lnTo>
                    <a:pt x="9292" y="4815"/>
                  </a:lnTo>
                  <a:lnTo>
                    <a:pt x="9865" y="4378"/>
                  </a:lnTo>
                  <a:lnTo>
                    <a:pt x="10101" y="4176"/>
                  </a:lnTo>
                  <a:lnTo>
                    <a:pt x="10336" y="3906"/>
                  </a:lnTo>
                  <a:lnTo>
                    <a:pt x="10538" y="3637"/>
                  </a:lnTo>
                  <a:lnTo>
                    <a:pt x="10673" y="3368"/>
                  </a:lnTo>
                  <a:lnTo>
                    <a:pt x="10774" y="3031"/>
                  </a:lnTo>
                  <a:lnTo>
                    <a:pt x="10808" y="2661"/>
                  </a:lnTo>
                  <a:lnTo>
                    <a:pt x="10808" y="2324"/>
                  </a:lnTo>
                  <a:lnTo>
                    <a:pt x="10774" y="1987"/>
                  </a:lnTo>
                  <a:lnTo>
                    <a:pt x="10707" y="1650"/>
                  </a:lnTo>
                  <a:lnTo>
                    <a:pt x="10606" y="1280"/>
                  </a:lnTo>
                  <a:lnTo>
                    <a:pt x="10505" y="943"/>
                  </a:lnTo>
                  <a:lnTo>
                    <a:pt x="10370" y="607"/>
                  </a:lnTo>
                  <a:lnTo>
                    <a:pt x="10202" y="304"/>
                  </a:lnTo>
                  <a:lnTo>
                    <a:pt x="10000" y="1"/>
                  </a:lnTo>
                  <a:lnTo>
                    <a:pt x="9730" y="1"/>
                  </a:lnTo>
                  <a:lnTo>
                    <a:pt x="9865" y="203"/>
                  </a:lnTo>
                  <a:lnTo>
                    <a:pt x="10000" y="405"/>
                  </a:lnTo>
                  <a:lnTo>
                    <a:pt x="10235" y="842"/>
                  </a:lnTo>
                  <a:lnTo>
                    <a:pt x="10404" y="1347"/>
                  </a:lnTo>
                  <a:lnTo>
                    <a:pt x="10505" y="1852"/>
                  </a:lnTo>
                  <a:lnTo>
                    <a:pt x="10572" y="2357"/>
                  </a:lnTo>
                  <a:lnTo>
                    <a:pt x="10572" y="2829"/>
                  </a:lnTo>
                  <a:lnTo>
                    <a:pt x="10471" y="3233"/>
                  </a:lnTo>
                  <a:lnTo>
                    <a:pt x="10437" y="3435"/>
                  </a:lnTo>
                  <a:lnTo>
                    <a:pt x="10336" y="3603"/>
                  </a:lnTo>
                  <a:lnTo>
                    <a:pt x="10168" y="3839"/>
                  </a:lnTo>
                  <a:lnTo>
                    <a:pt x="9966" y="4041"/>
                  </a:lnTo>
                  <a:lnTo>
                    <a:pt x="9730" y="4277"/>
                  </a:lnTo>
                  <a:lnTo>
                    <a:pt x="9461" y="4445"/>
                  </a:lnTo>
                  <a:lnTo>
                    <a:pt x="8922" y="4782"/>
                  </a:lnTo>
                  <a:lnTo>
                    <a:pt x="8417" y="5085"/>
                  </a:lnTo>
                  <a:lnTo>
                    <a:pt x="8080" y="5253"/>
                  </a:lnTo>
                  <a:lnTo>
                    <a:pt x="7777" y="5388"/>
                  </a:lnTo>
                  <a:lnTo>
                    <a:pt x="7441" y="5522"/>
                  </a:lnTo>
                  <a:lnTo>
                    <a:pt x="7104" y="5623"/>
                  </a:lnTo>
                  <a:lnTo>
                    <a:pt x="6734" y="5691"/>
                  </a:lnTo>
                  <a:lnTo>
                    <a:pt x="6397" y="5724"/>
                  </a:lnTo>
                  <a:lnTo>
                    <a:pt x="6027" y="5724"/>
                  </a:lnTo>
                  <a:lnTo>
                    <a:pt x="5690" y="5657"/>
                  </a:lnTo>
                  <a:lnTo>
                    <a:pt x="5387" y="5590"/>
                  </a:lnTo>
                  <a:lnTo>
                    <a:pt x="5118" y="5489"/>
                  </a:lnTo>
                  <a:lnTo>
                    <a:pt x="4848" y="5354"/>
                  </a:lnTo>
                  <a:lnTo>
                    <a:pt x="4613" y="5186"/>
                  </a:lnTo>
                  <a:lnTo>
                    <a:pt x="4377" y="4984"/>
                  </a:lnTo>
                  <a:lnTo>
                    <a:pt x="4209" y="4782"/>
                  </a:lnTo>
                  <a:lnTo>
                    <a:pt x="4040" y="4512"/>
                  </a:lnTo>
                  <a:lnTo>
                    <a:pt x="3906" y="4277"/>
                  </a:lnTo>
                  <a:lnTo>
                    <a:pt x="3805" y="4007"/>
                  </a:lnTo>
                  <a:lnTo>
                    <a:pt x="3771" y="3738"/>
                  </a:lnTo>
                  <a:lnTo>
                    <a:pt x="3771" y="3469"/>
                  </a:lnTo>
                  <a:lnTo>
                    <a:pt x="3838" y="3199"/>
                  </a:lnTo>
                  <a:lnTo>
                    <a:pt x="4074" y="3132"/>
                  </a:lnTo>
                  <a:lnTo>
                    <a:pt x="4276" y="3065"/>
                  </a:lnTo>
                  <a:lnTo>
                    <a:pt x="4747" y="2896"/>
                  </a:lnTo>
                  <a:lnTo>
                    <a:pt x="4747" y="3166"/>
                  </a:lnTo>
                  <a:lnTo>
                    <a:pt x="4781" y="3199"/>
                  </a:lnTo>
                  <a:lnTo>
                    <a:pt x="4815" y="3166"/>
                  </a:lnTo>
                  <a:lnTo>
                    <a:pt x="4848" y="2829"/>
                  </a:lnTo>
                  <a:lnTo>
                    <a:pt x="5084" y="2694"/>
                  </a:lnTo>
                  <a:lnTo>
                    <a:pt x="5118" y="2762"/>
                  </a:lnTo>
                  <a:lnTo>
                    <a:pt x="5151" y="2795"/>
                  </a:lnTo>
                  <a:lnTo>
                    <a:pt x="5185" y="2762"/>
                  </a:lnTo>
                  <a:lnTo>
                    <a:pt x="5185" y="2627"/>
                  </a:lnTo>
                  <a:lnTo>
                    <a:pt x="5522" y="2357"/>
                  </a:lnTo>
                  <a:lnTo>
                    <a:pt x="5555" y="2492"/>
                  </a:lnTo>
                  <a:lnTo>
                    <a:pt x="5555" y="2526"/>
                  </a:lnTo>
                  <a:lnTo>
                    <a:pt x="5623" y="2526"/>
                  </a:lnTo>
                  <a:lnTo>
                    <a:pt x="5623" y="2492"/>
                  </a:lnTo>
                  <a:lnTo>
                    <a:pt x="5656" y="2357"/>
                  </a:lnTo>
                  <a:lnTo>
                    <a:pt x="5690" y="2189"/>
                  </a:lnTo>
                  <a:lnTo>
                    <a:pt x="5993" y="1852"/>
                  </a:lnTo>
                  <a:lnTo>
                    <a:pt x="6027" y="1819"/>
                  </a:lnTo>
                  <a:lnTo>
                    <a:pt x="6128" y="1650"/>
                  </a:lnTo>
                  <a:lnTo>
                    <a:pt x="6229" y="1482"/>
                  </a:lnTo>
                  <a:lnTo>
                    <a:pt x="6363" y="1112"/>
                  </a:lnTo>
                  <a:lnTo>
                    <a:pt x="6565" y="337"/>
                  </a:lnTo>
                  <a:lnTo>
                    <a:pt x="6565" y="304"/>
                  </a:lnTo>
                  <a:lnTo>
                    <a:pt x="6969" y="135"/>
                  </a:lnTo>
                  <a:lnTo>
                    <a:pt x="7407" y="1"/>
                  </a:lnTo>
                  <a:lnTo>
                    <a:pt x="7104" y="1"/>
                  </a:lnTo>
                  <a:lnTo>
                    <a:pt x="6633" y="169"/>
                  </a:lnTo>
                  <a:lnTo>
                    <a:pt x="6666" y="1"/>
                  </a:lnTo>
                  <a:lnTo>
                    <a:pt x="6464" y="1"/>
                  </a:lnTo>
                  <a:lnTo>
                    <a:pt x="6363" y="270"/>
                  </a:lnTo>
                  <a:lnTo>
                    <a:pt x="6027" y="438"/>
                  </a:lnTo>
                  <a:lnTo>
                    <a:pt x="5724" y="607"/>
                  </a:lnTo>
                  <a:lnTo>
                    <a:pt x="5387" y="809"/>
                  </a:lnTo>
                  <a:lnTo>
                    <a:pt x="5084" y="1044"/>
                  </a:lnTo>
                  <a:lnTo>
                    <a:pt x="4815" y="1280"/>
                  </a:lnTo>
                  <a:lnTo>
                    <a:pt x="4545" y="1549"/>
                  </a:lnTo>
                  <a:lnTo>
                    <a:pt x="4276" y="1852"/>
                  </a:lnTo>
                  <a:lnTo>
                    <a:pt x="4040" y="2189"/>
                  </a:lnTo>
                  <a:lnTo>
                    <a:pt x="3838" y="2559"/>
                  </a:lnTo>
                  <a:lnTo>
                    <a:pt x="3569" y="2762"/>
                  </a:lnTo>
                  <a:lnTo>
                    <a:pt x="3300" y="2997"/>
                  </a:lnTo>
                  <a:lnTo>
                    <a:pt x="2963" y="2997"/>
                  </a:lnTo>
                  <a:lnTo>
                    <a:pt x="2626" y="2964"/>
                  </a:lnTo>
                  <a:lnTo>
                    <a:pt x="2290" y="2863"/>
                  </a:lnTo>
                  <a:lnTo>
                    <a:pt x="1953" y="2795"/>
                  </a:lnTo>
                  <a:lnTo>
                    <a:pt x="1650" y="2661"/>
                  </a:lnTo>
                  <a:lnTo>
                    <a:pt x="1347" y="2492"/>
                  </a:lnTo>
                  <a:lnTo>
                    <a:pt x="1077" y="2324"/>
                  </a:lnTo>
                  <a:lnTo>
                    <a:pt x="808" y="2088"/>
                  </a:lnTo>
                  <a:lnTo>
                    <a:pt x="640" y="1886"/>
                  </a:lnTo>
                  <a:lnTo>
                    <a:pt x="471" y="1650"/>
                  </a:lnTo>
                  <a:lnTo>
                    <a:pt x="337" y="1381"/>
                  </a:lnTo>
                  <a:lnTo>
                    <a:pt x="269" y="1112"/>
                  </a:lnTo>
                  <a:lnTo>
                    <a:pt x="202" y="842"/>
                  </a:lnTo>
                  <a:lnTo>
                    <a:pt x="168" y="573"/>
                  </a:lnTo>
                  <a:lnTo>
                    <a:pt x="135" y="270"/>
                  </a:lnTo>
                  <a:lnTo>
                    <a:pt x="1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hape 726"/>
            <p:cNvSpPr/>
            <p:nvPr/>
          </p:nvSpPr>
          <p:spPr>
            <a:xfrm>
              <a:off x="1137960" y="539640"/>
              <a:ext cx="164880" cy="1774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3" h="2695">
                  <a:moveTo>
                    <a:pt x="2290" y="203"/>
                  </a:moveTo>
                  <a:lnTo>
                    <a:pt x="2223" y="708"/>
                  </a:lnTo>
                  <a:lnTo>
                    <a:pt x="2223" y="1246"/>
                  </a:lnTo>
                  <a:lnTo>
                    <a:pt x="2223" y="1785"/>
                  </a:lnTo>
                  <a:lnTo>
                    <a:pt x="2290" y="2324"/>
                  </a:lnTo>
                  <a:lnTo>
                    <a:pt x="2290" y="2357"/>
                  </a:lnTo>
                  <a:lnTo>
                    <a:pt x="2055" y="2324"/>
                  </a:lnTo>
                  <a:lnTo>
                    <a:pt x="1819" y="2324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280"/>
                  </a:lnTo>
                  <a:lnTo>
                    <a:pt x="203" y="236"/>
                  </a:lnTo>
                  <a:lnTo>
                    <a:pt x="708" y="270"/>
                  </a:lnTo>
                  <a:lnTo>
                    <a:pt x="1246" y="270"/>
                  </a:lnTo>
                  <a:lnTo>
                    <a:pt x="2290" y="203"/>
                  </a:lnTo>
                  <a:close/>
                  <a:moveTo>
                    <a:pt x="1785" y="1"/>
                  </a:moveTo>
                  <a:lnTo>
                    <a:pt x="1246" y="34"/>
                  </a:lnTo>
                  <a:lnTo>
                    <a:pt x="708" y="34"/>
                  </a:lnTo>
                  <a:lnTo>
                    <a:pt x="169" y="68"/>
                  </a:lnTo>
                  <a:lnTo>
                    <a:pt x="102" y="102"/>
                  </a:lnTo>
                  <a:lnTo>
                    <a:pt x="102" y="135"/>
                  </a:lnTo>
                  <a:lnTo>
                    <a:pt x="34" y="169"/>
                  </a:lnTo>
                  <a:lnTo>
                    <a:pt x="34" y="203"/>
                  </a:lnTo>
                  <a:lnTo>
                    <a:pt x="1" y="809"/>
                  </a:lnTo>
                  <a:lnTo>
                    <a:pt x="34" y="1415"/>
                  </a:lnTo>
                  <a:lnTo>
                    <a:pt x="102" y="2021"/>
                  </a:lnTo>
                  <a:lnTo>
                    <a:pt x="203" y="2627"/>
                  </a:lnTo>
                  <a:lnTo>
                    <a:pt x="236" y="2661"/>
                  </a:lnTo>
                  <a:lnTo>
                    <a:pt x="304" y="2694"/>
                  </a:lnTo>
                  <a:lnTo>
                    <a:pt x="371" y="2661"/>
                  </a:lnTo>
                  <a:lnTo>
                    <a:pt x="405" y="2560"/>
                  </a:lnTo>
                  <a:lnTo>
                    <a:pt x="405" y="2492"/>
                  </a:lnTo>
                  <a:lnTo>
                    <a:pt x="842" y="2593"/>
                  </a:lnTo>
                  <a:lnTo>
                    <a:pt x="1853" y="2593"/>
                  </a:lnTo>
                  <a:lnTo>
                    <a:pt x="2088" y="2560"/>
                  </a:lnTo>
                  <a:lnTo>
                    <a:pt x="2290" y="2492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425" y="2391"/>
                  </a:lnTo>
                  <a:lnTo>
                    <a:pt x="2459" y="2357"/>
                  </a:lnTo>
                  <a:lnTo>
                    <a:pt x="2459" y="2290"/>
                  </a:lnTo>
                  <a:lnTo>
                    <a:pt x="2492" y="1785"/>
                  </a:lnTo>
                  <a:lnTo>
                    <a:pt x="2459" y="1246"/>
                  </a:lnTo>
                  <a:lnTo>
                    <a:pt x="2425" y="708"/>
                  </a:lnTo>
                  <a:lnTo>
                    <a:pt x="2391" y="169"/>
                  </a:lnTo>
                  <a:lnTo>
                    <a:pt x="2425" y="102"/>
                  </a:lnTo>
                  <a:lnTo>
                    <a:pt x="2425" y="68"/>
                  </a:lnTo>
                  <a:lnTo>
                    <a:pt x="239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hape 727"/>
            <p:cNvSpPr/>
            <p:nvPr/>
          </p:nvSpPr>
          <p:spPr>
            <a:xfrm>
              <a:off x="1778040" y="331560"/>
              <a:ext cx="169560" cy="166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60" h="2526">
                  <a:moveTo>
                    <a:pt x="2324" y="1"/>
                  </a:moveTo>
                  <a:lnTo>
                    <a:pt x="2290" y="34"/>
                  </a:lnTo>
                  <a:lnTo>
                    <a:pt x="2290" y="68"/>
                  </a:lnTo>
                  <a:lnTo>
                    <a:pt x="2257" y="135"/>
                  </a:lnTo>
                  <a:lnTo>
                    <a:pt x="1920" y="102"/>
                  </a:lnTo>
                  <a:lnTo>
                    <a:pt x="1550" y="135"/>
                  </a:lnTo>
                  <a:lnTo>
                    <a:pt x="843" y="169"/>
                  </a:lnTo>
                  <a:lnTo>
                    <a:pt x="236" y="169"/>
                  </a:lnTo>
                  <a:lnTo>
                    <a:pt x="169" y="203"/>
                  </a:lnTo>
                  <a:lnTo>
                    <a:pt x="102" y="270"/>
                  </a:lnTo>
                  <a:lnTo>
                    <a:pt x="68" y="236"/>
                  </a:lnTo>
                  <a:lnTo>
                    <a:pt x="34" y="236"/>
                  </a:lnTo>
                  <a:lnTo>
                    <a:pt x="1" y="506"/>
                  </a:lnTo>
                  <a:lnTo>
                    <a:pt x="1" y="741"/>
                  </a:lnTo>
                  <a:lnTo>
                    <a:pt x="34" y="1246"/>
                  </a:lnTo>
                  <a:lnTo>
                    <a:pt x="68" y="2425"/>
                  </a:lnTo>
                  <a:lnTo>
                    <a:pt x="102" y="2492"/>
                  </a:lnTo>
                  <a:lnTo>
                    <a:pt x="169" y="2526"/>
                  </a:lnTo>
                  <a:lnTo>
                    <a:pt x="236" y="2492"/>
                  </a:lnTo>
                  <a:lnTo>
                    <a:pt x="270" y="2458"/>
                  </a:lnTo>
                  <a:lnTo>
                    <a:pt x="540" y="2492"/>
                  </a:lnTo>
                  <a:lnTo>
                    <a:pt x="843" y="2492"/>
                  </a:lnTo>
                  <a:lnTo>
                    <a:pt x="1381" y="2458"/>
                  </a:lnTo>
                  <a:lnTo>
                    <a:pt x="1886" y="2458"/>
                  </a:lnTo>
                  <a:lnTo>
                    <a:pt x="2122" y="2425"/>
                  </a:lnTo>
                  <a:lnTo>
                    <a:pt x="2223" y="2357"/>
                  </a:lnTo>
                  <a:lnTo>
                    <a:pt x="2324" y="2290"/>
                  </a:lnTo>
                  <a:lnTo>
                    <a:pt x="2223" y="2223"/>
                  </a:lnTo>
                  <a:lnTo>
                    <a:pt x="2088" y="2155"/>
                  </a:lnTo>
                  <a:lnTo>
                    <a:pt x="1785" y="2155"/>
                  </a:lnTo>
                  <a:lnTo>
                    <a:pt x="1213" y="2189"/>
                  </a:lnTo>
                  <a:lnTo>
                    <a:pt x="742" y="2189"/>
                  </a:lnTo>
                  <a:lnTo>
                    <a:pt x="506" y="2223"/>
                  </a:lnTo>
                  <a:lnTo>
                    <a:pt x="270" y="2256"/>
                  </a:lnTo>
                  <a:lnTo>
                    <a:pt x="236" y="1078"/>
                  </a:lnTo>
                  <a:lnTo>
                    <a:pt x="203" y="741"/>
                  </a:lnTo>
                  <a:lnTo>
                    <a:pt x="135" y="438"/>
                  </a:lnTo>
                  <a:lnTo>
                    <a:pt x="203" y="438"/>
                  </a:lnTo>
                  <a:lnTo>
                    <a:pt x="236" y="405"/>
                  </a:lnTo>
                  <a:lnTo>
                    <a:pt x="270" y="371"/>
                  </a:lnTo>
                  <a:lnTo>
                    <a:pt x="1348" y="337"/>
                  </a:lnTo>
                  <a:lnTo>
                    <a:pt x="1819" y="304"/>
                  </a:lnTo>
                  <a:lnTo>
                    <a:pt x="2055" y="270"/>
                  </a:lnTo>
                  <a:lnTo>
                    <a:pt x="2257" y="236"/>
                  </a:lnTo>
                  <a:lnTo>
                    <a:pt x="2290" y="674"/>
                  </a:lnTo>
                  <a:lnTo>
                    <a:pt x="2324" y="1078"/>
                  </a:lnTo>
                  <a:lnTo>
                    <a:pt x="2290" y="1684"/>
                  </a:lnTo>
                  <a:lnTo>
                    <a:pt x="2290" y="1987"/>
                  </a:lnTo>
                  <a:lnTo>
                    <a:pt x="2324" y="2290"/>
                  </a:lnTo>
                  <a:lnTo>
                    <a:pt x="2358" y="2324"/>
                  </a:lnTo>
                  <a:lnTo>
                    <a:pt x="2391" y="2357"/>
                  </a:lnTo>
                  <a:lnTo>
                    <a:pt x="2459" y="2357"/>
                  </a:lnTo>
                  <a:lnTo>
                    <a:pt x="2492" y="2290"/>
                  </a:lnTo>
                  <a:lnTo>
                    <a:pt x="2526" y="1987"/>
                  </a:lnTo>
                  <a:lnTo>
                    <a:pt x="2560" y="1684"/>
                  </a:lnTo>
                  <a:lnTo>
                    <a:pt x="2526" y="1078"/>
                  </a:lnTo>
                  <a:lnTo>
                    <a:pt x="2492" y="573"/>
                  </a:lnTo>
                  <a:lnTo>
                    <a:pt x="2459" y="304"/>
                  </a:lnTo>
                  <a:lnTo>
                    <a:pt x="2391" y="34"/>
                  </a:lnTo>
                  <a:lnTo>
                    <a:pt x="2358" y="34"/>
                  </a:lnTo>
                  <a:lnTo>
                    <a:pt x="23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0040" bIns="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hape 728"/>
            <p:cNvSpPr/>
            <p:nvPr/>
          </p:nvSpPr>
          <p:spPr>
            <a:xfrm>
              <a:off x="950760" y="55224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60" h="2392">
                  <a:moveTo>
                    <a:pt x="102" y="1"/>
                  </a:moveTo>
                  <a:lnTo>
                    <a:pt x="68" y="34"/>
                  </a:lnTo>
                  <a:lnTo>
                    <a:pt x="34" y="304"/>
                  </a:lnTo>
                  <a:lnTo>
                    <a:pt x="1" y="539"/>
                  </a:lnTo>
                  <a:lnTo>
                    <a:pt x="1" y="1078"/>
                  </a:lnTo>
                  <a:lnTo>
                    <a:pt x="34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4"/>
                  </a:lnTo>
                  <a:lnTo>
                    <a:pt x="236" y="2358"/>
                  </a:lnTo>
                  <a:lnTo>
                    <a:pt x="304" y="2324"/>
                  </a:lnTo>
                  <a:lnTo>
                    <a:pt x="337" y="2256"/>
                  </a:lnTo>
                  <a:lnTo>
                    <a:pt x="304" y="1953"/>
                  </a:lnTo>
                  <a:lnTo>
                    <a:pt x="304" y="1650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3" y="203"/>
                  </a:lnTo>
                  <a:lnTo>
                    <a:pt x="438" y="236"/>
                  </a:lnTo>
                  <a:lnTo>
                    <a:pt x="1145" y="236"/>
                  </a:lnTo>
                  <a:lnTo>
                    <a:pt x="2223" y="169"/>
                  </a:lnTo>
                  <a:lnTo>
                    <a:pt x="2256" y="236"/>
                  </a:lnTo>
                  <a:lnTo>
                    <a:pt x="2324" y="236"/>
                  </a:lnTo>
                  <a:lnTo>
                    <a:pt x="2324" y="539"/>
                  </a:lnTo>
                  <a:lnTo>
                    <a:pt x="2324" y="876"/>
                  </a:lnTo>
                  <a:lnTo>
                    <a:pt x="2357" y="2054"/>
                  </a:lnTo>
                  <a:lnTo>
                    <a:pt x="1886" y="2054"/>
                  </a:lnTo>
                  <a:lnTo>
                    <a:pt x="1415" y="2088"/>
                  </a:lnTo>
                  <a:lnTo>
                    <a:pt x="674" y="2088"/>
                  </a:lnTo>
                  <a:lnTo>
                    <a:pt x="539" y="2122"/>
                  </a:lnTo>
                  <a:lnTo>
                    <a:pt x="438" y="2189"/>
                  </a:lnTo>
                  <a:lnTo>
                    <a:pt x="337" y="2256"/>
                  </a:lnTo>
                  <a:lnTo>
                    <a:pt x="405" y="2324"/>
                  </a:lnTo>
                  <a:lnTo>
                    <a:pt x="539" y="2358"/>
                  </a:lnTo>
                  <a:lnTo>
                    <a:pt x="775" y="2391"/>
                  </a:lnTo>
                  <a:lnTo>
                    <a:pt x="1280" y="2358"/>
                  </a:lnTo>
                  <a:lnTo>
                    <a:pt x="1819" y="2358"/>
                  </a:lnTo>
                  <a:lnTo>
                    <a:pt x="2122" y="2324"/>
                  </a:lnTo>
                  <a:lnTo>
                    <a:pt x="2357" y="2256"/>
                  </a:lnTo>
                  <a:lnTo>
                    <a:pt x="2425" y="2324"/>
                  </a:lnTo>
                  <a:lnTo>
                    <a:pt x="2492" y="2324"/>
                  </a:lnTo>
                  <a:lnTo>
                    <a:pt x="2559" y="2290"/>
                  </a:lnTo>
                  <a:lnTo>
                    <a:pt x="2559" y="2223"/>
                  </a:lnTo>
                  <a:lnTo>
                    <a:pt x="2526" y="1044"/>
                  </a:lnTo>
                  <a:lnTo>
                    <a:pt x="2526" y="539"/>
                  </a:lnTo>
                  <a:lnTo>
                    <a:pt x="2492" y="270"/>
                  </a:lnTo>
                  <a:lnTo>
                    <a:pt x="2425" y="34"/>
                  </a:lnTo>
                  <a:lnTo>
                    <a:pt x="2391" y="34"/>
                  </a:lnTo>
                  <a:lnTo>
                    <a:pt x="2391" y="68"/>
                  </a:lnTo>
                  <a:lnTo>
                    <a:pt x="2357" y="68"/>
                  </a:lnTo>
                  <a:lnTo>
                    <a:pt x="2290" y="34"/>
                  </a:lnTo>
                  <a:lnTo>
                    <a:pt x="2223" y="1"/>
                  </a:lnTo>
                  <a:lnTo>
                    <a:pt x="2021" y="1"/>
                  </a:lnTo>
                  <a:lnTo>
                    <a:pt x="1617" y="34"/>
                  </a:lnTo>
                  <a:lnTo>
                    <a:pt x="910" y="34"/>
                  </a:lnTo>
                  <a:lnTo>
                    <a:pt x="539" y="68"/>
                  </a:lnTo>
                  <a:lnTo>
                    <a:pt x="203" y="102"/>
                  </a:lnTo>
                  <a:lnTo>
                    <a:pt x="169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hape 729"/>
            <p:cNvSpPr/>
            <p:nvPr/>
          </p:nvSpPr>
          <p:spPr>
            <a:xfrm>
              <a:off x="1549440" y="163440"/>
              <a:ext cx="169560" cy="160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60" h="2425">
                  <a:moveTo>
                    <a:pt x="2357" y="0"/>
                  </a:moveTo>
                  <a:lnTo>
                    <a:pt x="2357" y="34"/>
                  </a:lnTo>
                  <a:lnTo>
                    <a:pt x="2324" y="135"/>
                  </a:lnTo>
                  <a:lnTo>
                    <a:pt x="1751" y="68"/>
                  </a:lnTo>
                  <a:lnTo>
                    <a:pt x="1179" y="68"/>
                  </a:lnTo>
                  <a:lnTo>
                    <a:pt x="674" y="34"/>
                  </a:lnTo>
                  <a:lnTo>
                    <a:pt x="405" y="68"/>
                  </a:lnTo>
                  <a:lnTo>
                    <a:pt x="304" y="101"/>
                  </a:lnTo>
                  <a:lnTo>
                    <a:pt x="169" y="169"/>
                  </a:lnTo>
                  <a:lnTo>
                    <a:pt x="371" y="270"/>
                  </a:lnTo>
                  <a:lnTo>
                    <a:pt x="573" y="304"/>
                  </a:lnTo>
                  <a:lnTo>
                    <a:pt x="1011" y="270"/>
                  </a:lnTo>
                  <a:lnTo>
                    <a:pt x="1650" y="304"/>
                  </a:lnTo>
                  <a:lnTo>
                    <a:pt x="2324" y="337"/>
                  </a:lnTo>
                  <a:lnTo>
                    <a:pt x="2290" y="708"/>
                  </a:lnTo>
                  <a:lnTo>
                    <a:pt x="2324" y="1078"/>
                  </a:lnTo>
                  <a:lnTo>
                    <a:pt x="2324" y="1583"/>
                  </a:lnTo>
                  <a:lnTo>
                    <a:pt x="2357" y="1852"/>
                  </a:lnTo>
                  <a:lnTo>
                    <a:pt x="2391" y="2088"/>
                  </a:lnTo>
                  <a:lnTo>
                    <a:pt x="2357" y="2088"/>
                  </a:lnTo>
                  <a:lnTo>
                    <a:pt x="1347" y="2122"/>
                  </a:lnTo>
                  <a:lnTo>
                    <a:pt x="809" y="2155"/>
                  </a:lnTo>
                  <a:lnTo>
                    <a:pt x="539" y="2189"/>
                  </a:lnTo>
                  <a:lnTo>
                    <a:pt x="304" y="2223"/>
                  </a:lnTo>
                  <a:lnTo>
                    <a:pt x="270" y="1718"/>
                  </a:lnTo>
                  <a:lnTo>
                    <a:pt x="236" y="1213"/>
                  </a:lnTo>
                  <a:lnTo>
                    <a:pt x="270" y="708"/>
                  </a:lnTo>
                  <a:lnTo>
                    <a:pt x="236" y="438"/>
                  </a:lnTo>
                  <a:lnTo>
                    <a:pt x="203" y="304"/>
                  </a:lnTo>
                  <a:lnTo>
                    <a:pt x="169" y="169"/>
                  </a:lnTo>
                  <a:lnTo>
                    <a:pt x="135" y="203"/>
                  </a:lnTo>
                  <a:lnTo>
                    <a:pt x="68" y="337"/>
                  </a:lnTo>
                  <a:lnTo>
                    <a:pt x="34" y="506"/>
                  </a:lnTo>
                  <a:lnTo>
                    <a:pt x="1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54"/>
                  </a:lnTo>
                  <a:lnTo>
                    <a:pt x="34" y="2189"/>
                  </a:lnTo>
                  <a:lnTo>
                    <a:pt x="102" y="2290"/>
                  </a:lnTo>
                  <a:lnTo>
                    <a:pt x="169" y="2391"/>
                  </a:lnTo>
                  <a:lnTo>
                    <a:pt x="270" y="2425"/>
                  </a:lnTo>
                  <a:lnTo>
                    <a:pt x="304" y="2425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09" y="2425"/>
                  </a:lnTo>
                  <a:lnTo>
                    <a:pt x="1347" y="2391"/>
                  </a:lnTo>
                  <a:lnTo>
                    <a:pt x="2391" y="2324"/>
                  </a:lnTo>
                  <a:lnTo>
                    <a:pt x="2458" y="2290"/>
                  </a:lnTo>
                  <a:lnTo>
                    <a:pt x="2492" y="2324"/>
                  </a:lnTo>
                  <a:lnTo>
                    <a:pt x="2526" y="2324"/>
                  </a:lnTo>
                  <a:lnTo>
                    <a:pt x="2526" y="2290"/>
                  </a:lnTo>
                  <a:lnTo>
                    <a:pt x="2559" y="2021"/>
                  </a:lnTo>
                  <a:lnTo>
                    <a:pt x="2559" y="1751"/>
                  </a:lnTo>
                  <a:lnTo>
                    <a:pt x="2526" y="1246"/>
                  </a:lnTo>
                  <a:lnTo>
                    <a:pt x="2526" y="640"/>
                  </a:lnTo>
                  <a:lnTo>
                    <a:pt x="2492" y="337"/>
                  </a:lnTo>
                  <a:lnTo>
                    <a:pt x="2458" y="34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hape 730"/>
            <p:cNvSpPr/>
            <p:nvPr/>
          </p:nvSpPr>
          <p:spPr>
            <a:xfrm>
              <a:off x="1849320" y="3952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8" h="843">
                  <a:moveTo>
                    <a:pt x="202" y="1"/>
                  </a:moveTo>
                  <a:lnTo>
                    <a:pt x="101" y="35"/>
                  </a:lnTo>
                  <a:lnTo>
                    <a:pt x="68" y="136"/>
                  </a:lnTo>
                  <a:lnTo>
                    <a:pt x="0" y="338"/>
                  </a:lnTo>
                  <a:lnTo>
                    <a:pt x="0" y="573"/>
                  </a:lnTo>
                  <a:lnTo>
                    <a:pt x="0" y="742"/>
                  </a:lnTo>
                  <a:lnTo>
                    <a:pt x="34" y="809"/>
                  </a:lnTo>
                  <a:lnTo>
                    <a:pt x="68" y="843"/>
                  </a:lnTo>
                  <a:lnTo>
                    <a:pt x="101" y="843"/>
                  </a:lnTo>
                  <a:lnTo>
                    <a:pt x="404" y="809"/>
                  </a:lnTo>
                  <a:lnTo>
                    <a:pt x="573" y="775"/>
                  </a:lnTo>
                  <a:lnTo>
                    <a:pt x="707" y="708"/>
                  </a:lnTo>
                  <a:lnTo>
                    <a:pt x="707" y="674"/>
                  </a:lnTo>
                  <a:lnTo>
                    <a:pt x="707" y="641"/>
                  </a:lnTo>
                  <a:lnTo>
                    <a:pt x="674" y="573"/>
                  </a:lnTo>
                  <a:lnTo>
                    <a:pt x="438" y="573"/>
                  </a:lnTo>
                  <a:lnTo>
                    <a:pt x="202" y="607"/>
                  </a:lnTo>
                  <a:lnTo>
                    <a:pt x="236" y="304"/>
                  </a:lnTo>
                  <a:lnTo>
                    <a:pt x="270" y="169"/>
                  </a:lnTo>
                  <a:lnTo>
                    <a:pt x="270" y="68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hape 731"/>
            <p:cNvSpPr/>
            <p:nvPr/>
          </p:nvSpPr>
          <p:spPr>
            <a:xfrm>
              <a:off x="1193760" y="591840"/>
              <a:ext cx="48960" cy="601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42" h="910">
                  <a:moveTo>
                    <a:pt x="573" y="169"/>
                  </a:moveTo>
                  <a:lnTo>
                    <a:pt x="539" y="236"/>
                  </a:lnTo>
                  <a:lnTo>
                    <a:pt x="505" y="304"/>
                  </a:lnTo>
                  <a:lnTo>
                    <a:pt x="472" y="304"/>
                  </a:lnTo>
                  <a:lnTo>
                    <a:pt x="371" y="337"/>
                  </a:lnTo>
                  <a:lnTo>
                    <a:pt x="270" y="371"/>
                  </a:lnTo>
                  <a:lnTo>
                    <a:pt x="202" y="169"/>
                  </a:lnTo>
                  <a:close/>
                  <a:moveTo>
                    <a:pt x="539" y="506"/>
                  </a:moveTo>
                  <a:lnTo>
                    <a:pt x="573" y="573"/>
                  </a:lnTo>
                  <a:lnTo>
                    <a:pt x="505" y="674"/>
                  </a:lnTo>
                  <a:lnTo>
                    <a:pt x="472" y="708"/>
                  </a:lnTo>
                  <a:lnTo>
                    <a:pt x="270" y="708"/>
                  </a:lnTo>
                  <a:lnTo>
                    <a:pt x="270" y="539"/>
                  </a:lnTo>
                  <a:lnTo>
                    <a:pt x="303" y="539"/>
                  </a:lnTo>
                  <a:lnTo>
                    <a:pt x="472" y="506"/>
                  </a:lnTo>
                  <a:close/>
                  <a:moveTo>
                    <a:pt x="472" y="1"/>
                  </a:moveTo>
                  <a:lnTo>
                    <a:pt x="270" y="68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68" y="203"/>
                  </a:lnTo>
                  <a:lnTo>
                    <a:pt x="101" y="506"/>
                  </a:lnTo>
                  <a:lnTo>
                    <a:pt x="101" y="674"/>
                  </a:lnTo>
                  <a:lnTo>
                    <a:pt x="34" y="674"/>
                  </a:lnTo>
                  <a:lnTo>
                    <a:pt x="0" y="741"/>
                  </a:lnTo>
                  <a:lnTo>
                    <a:pt x="0" y="809"/>
                  </a:lnTo>
                  <a:lnTo>
                    <a:pt x="68" y="876"/>
                  </a:lnTo>
                  <a:lnTo>
                    <a:pt x="270" y="910"/>
                  </a:lnTo>
                  <a:lnTo>
                    <a:pt x="472" y="910"/>
                  </a:lnTo>
                  <a:lnTo>
                    <a:pt x="573" y="876"/>
                  </a:lnTo>
                  <a:lnTo>
                    <a:pt x="640" y="809"/>
                  </a:lnTo>
                  <a:lnTo>
                    <a:pt x="707" y="741"/>
                  </a:lnTo>
                  <a:lnTo>
                    <a:pt x="741" y="640"/>
                  </a:lnTo>
                  <a:lnTo>
                    <a:pt x="741" y="506"/>
                  </a:lnTo>
                  <a:lnTo>
                    <a:pt x="707" y="438"/>
                  </a:lnTo>
                  <a:lnTo>
                    <a:pt x="674" y="371"/>
                  </a:lnTo>
                  <a:lnTo>
                    <a:pt x="707" y="304"/>
                  </a:lnTo>
                  <a:lnTo>
                    <a:pt x="707" y="169"/>
                  </a:lnTo>
                  <a:lnTo>
                    <a:pt x="707" y="68"/>
                  </a:lnTo>
                  <a:lnTo>
                    <a:pt x="640" y="34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hape 732"/>
            <p:cNvSpPr/>
            <p:nvPr/>
          </p:nvSpPr>
          <p:spPr>
            <a:xfrm>
              <a:off x="777600" y="558720"/>
              <a:ext cx="153720" cy="15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24" h="2392">
                  <a:moveTo>
                    <a:pt x="1515" y="1"/>
                  </a:moveTo>
                  <a:lnTo>
                    <a:pt x="909" y="34"/>
                  </a:lnTo>
                  <a:lnTo>
                    <a:pt x="202" y="34"/>
                  </a:lnTo>
                  <a:lnTo>
                    <a:pt x="0" y="102"/>
                  </a:lnTo>
                  <a:lnTo>
                    <a:pt x="0" y="135"/>
                  </a:lnTo>
                  <a:lnTo>
                    <a:pt x="68" y="203"/>
                  </a:lnTo>
                  <a:lnTo>
                    <a:pt x="169" y="236"/>
                  </a:lnTo>
                  <a:lnTo>
                    <a:pt x="371" y="270"/>
                  </a:lnTo>
                  <a:lnTo>
                    <a:pt x="1414" y="270"/>
                  </a:lnTo>
                  <a:lnTo>
                    <a:pt x="2020" y="236"/>
                  </a:lnTo>
                  <a:lnTo>
                    <a:pt x="1987" y="438"/>
                  </a:lnTo>
                  <a:lnTo>
                    <a:pt x="2020" y="640"/>
                  </a:lnTo>
                  <a:lnTo>
                    <a:pt x="2054" y="1078"/>
                  </a:lnTo>
                  <a:lnTo>
                    <a:pt x="2054" y="1617"/>
                  </a:lnTo>
                  <a:lnTo>
                    <a:pt x="2054" y="1852"/>
                  </a:lnTo>
                  <a:lnTo>
                    <a:pt x="2088" y="2122"/>
                  </a:lnTo>
                  <a:lnTo>
                    <a:pt x="977" y="2155"/>
                  </a:lnTo>
                  <a:lnTo>
                    <a:pt x="539" y="2155"/>
                  </a:lnTo>
                  <a:lnTo>
                    <a:pt x="371" y="2189"/>
                  </a:lnTo>
                  <a:lnTo>
                    <a:pt x="270" y="2223"/>
                  </a:lnTo>
                  <a:lnTo>
                    <a:pt x="202" y="2290"/>
                  </a:lnTo>
                  <a:lnTo>
                    <a:pt x="270" y="2358"/>
                  </a:lnTo>
                  <a:lnTo>
                    <a:pt x="371" y="2391"/>
                  </a:lnTo>
                  <a:lnTo>
                    <a:pt x="1583" y="2391"/>
                  </a:lnTo>
                  <a:lnTo>
                    <a:pt x="2222" y="2358"/>
                  </a:lnTo>
                  <a:lnTo>
                    <a:pt x="2290" y="2324"/>
                  </a:lnTo>
                  <a:lnTo>
                    <a:pt x="2323" y="2290"/>
                  </a:lnTo>
                  <a:lnTo>
                    <a:pt x="2323" y="2223"/>
                  </a:lnTo>
                  <a:lnTo>
                    <a:pt x="2290" y="2155"/>
                  </a:lnTo>
                  <a:lnTo>
                    <a:pt x="2290" y="1886"/>
                  </a:lnTo>
                  <a:lnTo>
                    <a:pt x="2290" y="1617"/>
                  </a:lnTo>
                  <a:lnTo>
                    <a:pt x="2256" y="1078"/>
                  </a:lnTo>
                  <a:lnTo>
                    <a:pt x="2256" y="607"/>
                  </a:lnTo>
                  <a:lnTo>
                    <a:pt x="2222" y="405"/>
                  </a:lnTo>
                  <a:lnTo>
                    <a:pt x="2189" y="203"/>
                  </a:lnTo>
                  <a:lnTo>
                    <a:pt x="2222" y="135"/>
                  </a:lnTo>
                  <a:lnTo>
                    <a:pt x="2222" y="68"/>
                  </a:lnTo>
                  <a:lnTo>
                    <a:pt x="2189" y="34"/>
                  </a:lnTo>
                  <a:lnTo>
                    <a:pt x="212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hape 733"/>
            <p:cNvSpPr/>
            <p:nvPr/>
          </p:nvSpPr>
          <p:spPr>
            <a:xfrm>
              <a:off x="1015920" y="60300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1" h="640">
                  <a:moveTo>
                    <a:pt x="67" y="0"/>
                  </a:moveTo>
                  <a:lnTo>
                    <a:pt x="0" y="67"/>
                  </a:lnTo>
                  <a:lnTo>
                    <a:pt x="0" y="135"/>
                  </a:lnTo>
                  <a:lnTo>
                    <a:pt x="34" y="168"/>
                  </a:lnTo>
                  <a:lnTo>
                    <a:pt x="67" y="202"/>
                  </a:lnTo>
                  <a:lnTo>
                    <a:pt x="101" y="303"/>
                  </a:lnTo>
                  <a:lnTo>
                    <a:pt x="135" y="438"/>
                  </a:lnTo>
                  <a:lnTo>
                    <a:pt x="202" y="539"/>
                  </a:lnTo>
                  <a:lnTo>
                    <a:pt x="303" y="640"/>
                  </a:lnTo>
                  <a:lnTo>
                    <a:pt x="438" y="640"/>
                  </a:lnTo>
                  <a:lnTo>
                    <a:pt x="471" y="606"/>
                  </a:lnTo>
                  <a:lnTo>
                    <a:pt x="606" y="337"/>
                  </a:lnTo>
                  <a:lnTo>
                    <a:pt x="707" y="236"/>
                  </a:lnTo>
                  <a:lnTo>
                    <a:pt x="741" y="168"/>
                  </a:lnTo>
                  <a:lnTo>
                    <a:pt x="741" y="101"/>
                  </a:lnTo>
                  <a:lnTo>
                    <a:pt x="741" y="67"/>
                  </a:lnTo>
                  <a:lnTo>
                    <a:pt x="707" y="34"/>
                  </a:lnTo>
                  <a:lnTo>
                    <a:pt x="606" y="67"/>
                  </a:lnTo>
                  <a:lnTo>
                    <a:pt x="505" y="135"/>
                  </a:lnTo>
                  <a:lnTo>
                    <a:pt x="404" y="269"/>
                  </a:lnTo>
                  <a:lnTo>
                    <a:pt x="337" y="370"/>
                  </a:lnTo>
                  <a:lnTo>
                    <a:pt x="269" y="236"/>
                  </a:lnTo>
                  <a:lnTo>
                    <a:pt x="236" y="6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hape 734"/>
            <p:cNvSpPr/>
            <p:nvPr/>
          </p:nvSpPr>
          <p:spPr>
            <a:xfrm>
              <a:off x="579240" y="56340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2391" y="0"/>
                  </a:moveTo>
                  <a:lnTo>
                    <a:pt x="2358" y="34"/>
                  </a:lnTo>
                  <a:lnTo>
                    <a:pt x="2324" y="135"/>
                  </a:lnTo>
                  <a:lnTo>
                    <a:pt x="1751" y="67"/>
                  </a:lnTo>
                  <a:lnTo>
                    <a:pt x="1179" y="67"/>
                  </a:lnTo>
                  <a:lnTo>
                    <a:pt x="640" y="34"/>
                  </a:lnTo>
                  <a:lnTo>
                    <a:pt x="405" y="67"/>
                  </a:lnTo>
                  <a:lnTo>
                    <a:pt x="270" y="101"/>
                  </a:lnTo>
                  <a:lnTo>
                    <a:pt x="169" y="168"/>
                  </a:lnTo>
                  <a:lnTo>
                    <a:pt x="169" y="202"/>
                  </a:lnTo>
                  <a:lnTo>
                    <a:pt x="371" y="269"/>
                  </a:lnTo>
                  <a:lnTo>
                    <a:pt x="573" y="303"/>
                  </a:lnTo>
                  <a:lnTo>
                    <a:pt x="1011" y="269"/>
                  </a:lnTo>
                  <a:lnTo>
                    <a:pt x="1650" y="303"/>
                  </a:lnTo>
                  <a:lnTo>
                    <a:pt x="2324" y="337"/>
                  </a:lnTo>
                  <a:lnTo>
                    <a:pt x="2290" y="707"/>
                  </a:lnTo>
                  <a:lnTo>
                    <a:pt x="2324" y="1077"/>
                  </a:lnTo>
                  <a:lnTo>
                    <a:pt x="2324" y="1582"/>
                  </a:lnTo>
                  <a:lnTo>
                    <a:pt x="2358" y="1852"/>
                  </a:lnTo>
                  <a:lnTo>
                    <a:pt x="2391" y="2087"/>
                  </a:lnTo>
                  <a:lnTo>
                    <a:pt x="2358" y="2087"/>
                  </a:lnTo>
                  <a:lnTo>
                    <a:pt x="1314" y="2121"/>
                  </a:lnTo>
                  <a:lnTo>
                    <a:pt x="809" y="2155"/>
                  </a:lnTo>
                  <a:lnTo>
                    <a:pt x="539" y="2189"/>
                  </a:lnTo>
                  <a:lnTo>
                    <a:pt x="304" y="2256"/>
                  </a:lnTo>
                  <a:lnTo>
                    <a:pt x="270" y="1751"/>
                  </a:lnTo>
                  <a:lnTo>
                    <a:pt x="236" y="1246"/>
                  </a:lnTo>
                  <a:lnTo>
                    <a:pt x="270" y="707"/>
                  </a:lnTo>
                  <a:lnTo>
                    <a:pt x="236" y="438"/>
                  </a:lnTo>
                  <a:lnTo>
                    <a:pt x="203" y="303"/>
                  </a:lnTo>
                  <a:lnTo>
                    <a:pt x="169" y="202"/>
                  </a:lnTo>
                  <a:lnTo>
                    <a:pt x="135" y="202"/>
                  </a:lnTo>
                  <a:lnTo>
                    <a:pt x="68" y="337"/>
                  </a:lnTo>
                  <a:lnTo>
                    <a:pt x="34" y="505"/>
                  </a:lnTo>
                  <a:lnTo>
                    <a:pt x="1" y="875"/>
                  </a:lnTo>
                  <a:lnTo>
                    <a:pt x="34" y="1582"/>
                  </a:lnTo>
                  <a:lnTo>
                    <a:pt x="34" y="1818"/>
                  </a:lnTo>
                  <a:lnTo>
                    <a:pt x="34" y="2054"/>
                  </a:lnTo>
                  <a:lnTo>
                    <a:pt x="34" y="2189"/>
                  </a:lnTo>
                  <a:lnTo>
                    <a:pt x="102" y="2290"/>
                  </a:lnTo>
                  <a:lnTo>
                    <a:pt x="169" y="2391"/>
                  </a:lnTo>
                  <a:lnTo>
                    <a:pt x="270" y="2424"/>
                  </a:lnTo>
                  <a:lnTo>
                    <a:pt x="304" y="2424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09" y="2424"/>
                  </a:lnTo>
                  <a:lnTo>
                    <a:pt x="1347" y="2391"/>
                  </a:lnTo>
                  <a:lnTo>
                    <a:pt x="2391" y="2323"/>
                  </a:lnTo>
                  <a:lnTo>
                    <a:pt x="2459" y="2290"/>
                  </a:lnTo>
                  <a:lnTo>
                    <a:pt x="2492" y="2323"/>
                  </a:lnTo>
                  <a:lnTo>
                    <a:pt x="2526" y="2323"/>
                  </a:lnTo>
                  <a:lnTo>
                    <a:pt x="2526" y="2290"/>
                  </a:lnTo>
                  <a:lnTo>
                    <a:pt x="2560" y="2020"/>
                  </a:lnTo>
                  <a:lnTo>
                    <a:pt x="2560" y="1784"/>
                  </a:lnTo>
                  <a:lnTo>
                    <a:pt x="2526" y="1246"/>
                  </a:lnTo>
                  <a:lnTo>
                    <a:pt x="2526" y="640"/>
                  </a:lnTo>
                  <a:lnTo>
                    <a:pt x="2492" y="337"/>
                  </a:lnTo>
                  <a:lnTo>
                    <a:pt x="2459" y="34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hape 735"/>
            <p:cNvSpPr/>
            <p:nvPr/>
          </p:nvSpPr>
          <p:spPr>
            <a:xfrm>
              <a:off x="831600" y="61416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07" h="607">
                  <a:moveTo>
                    <a:pt x="236" y="0"/>
                  </a:moveTo>
                  <a:lnTo>
                    <a:pt x="135" y="68"/>
                  </a:lnTo>
                  <a:lnTo>
                    <a:pt x="68" y="135"/>
                  </a:lnTo>
                  <a:lnTo>
                    <a:pt x="0" y="202"/>
                  </a:lnTo>
                  <a:lnTo>
                    <a:pt x="0" y="303"/>
                  </a:lnTo>
                  <a:lnTo>
                    <a:pt x="0" y="404"/>
                  </a:lnTo>
                  <a:lnTo>
                    <a:pt x="68" y="505"/>
                  </a:lnTo>
                  <a:lnTo>
                    <a:pt x="135" y="573"/>
                  </a:lnTo>
                  <a:lnTo>
                    <a:pt x="236" y="606"/>
                  </a:lnTo>
                  <a:lnTo>
                    <a:pt x="371" y="606"/>
                  </a:lnTo>
                  <a:lnTo>
                    <a:pt x="438" y="573"/>
                  </a:lnTo>
                  <a:lnTo>
                    <a:pt x="539" y="539"/>
                  </a:lnTo>
                  <a:lnTo>
                    <a:pt x="573" y="438"/>
                  </a:lnTo>
                  <a:lnTo>
                    <a:pt x="539" y="404"/>
                  </a:lnTo>
                  <a:lnTo>
                    <a:pt x="505" y="371"/>
                  </a:lnTo>
                  <a:lnTo>
                    <a:pt x="438" y="337"/>
                  </a:lnTo>
                  <a:lnTo>
                    <a:pt x="371" y="371"/>
                  </a:lnTo>
                  <a:lnTo>
                    <a:pt x="303" y="404"/>
                  </a:lnTo>
                  <a:lnTo>
                    <a:pt x="202" y="371"/>
                  </a:lnTo>
                  <a:lnTo>
                    <a:pt x="202" y="337"/>
                  </a:lnTo>
                  <a:lnTo>
                    <a:pt x="202" y="303"/>
                  </a:lnTo>
                  <a:lnTo>
                    <a:pt x="202" y="236"/>
                  </a:lnTo>
                  <a:lnTo>
                    <a:pt x="236" y="202"/>
                  </a:lnTo>
                  <a:lnTo>
                    <a:pt x="337" y="169"/>
                  </a:lnTo>
                  <a:lnTo>
                    <a:pt x="472" y="169"/>
                  </a:lnTo>
                  <a:lnTo>
                    <a:pt x="606" y="135"/>
                  </a:lnTo>
                  <a:lnTo>
                    <a:pt x="606" y="101"/>
                  </a:lnTo>
                  <a:lnTo>
                    <a:pt x="606" y="6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hape 736"/>
            <p:cNvSpPr/>
            <p:nvPr/>
          </p:nvSpPr>
          <p:spPr>
            <a:xfrm>
              <a:off x="1968480" y="32832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23" h="2459">
                  <a:moveTo>
                    <a:pt x="1751" y="1"/>
                  </a:moveTo>
                  <a:lnTo>
                    <a:pt x="1280" y="68"/>
                  </a:lnTo>
                  <a:lnTo>
                    <a:pt x="674" y="68"/>
                  </a:lnTo>
                  <a:lnTo>
                    <a:pt x="68" y="102"/>
                  </a:lnTo>
                  <a:lnTo>
                    <a:pt x="1" y="136"/>
                  </a:lnTo>
                  <a:lnTo>
                    <a:pt x="1" y="203"/>
                  </a:lnTo>
                  <a:lnTo>
                    <a:pt x="1" y="237"/>
                  </a:lnTo>
                  <a:lnTo>
                    <a:pt x="34" y="304"/>
                  </a:lnTo>
                  <a:lnTo>
                    <a:pt x="1" y="506"/>
                  </a:lnTo>
                  <a:lnTo>
                    <a:pt x="1" y="742"/>
                  </a:lnTo>
                  <a:lnTo>
                    <a:pt x="34" y="1179"/>
                  </a:lnTo>
                  <a:lnTo>
                    <a:pt x="34" y="1718"/>
                  </a:lnTo>
                  <a:lnTo>
                    <a:pt x="34" y="2021"/>
                  </a:lnTo>
                  <a:lnTo>
                    <a:pt x="68" y="2290"/>
                  </a:lnTo>
                  <a:lnTo>
                    <a:pt x="68" y="2324"/>
                  </a:lnTo>
                  <a:lnTo>
                    <a:pt x="68" y="2391"/>
                  </a:lnTo>
                  <a:lnTo>
                    <a:pt x="102" y="2459"/>
                  </a:lnTo>
                  <a:lnTo>
                    <a:pt x="169" y="2459"/>
                  </a:lnTo>
                  <a:lnTo>
                    <a:pt x="809" y="2425"/>
                  </a:lnTo>
                  <a:lnTo>
                    <a:pt x="1415" y="2391"/>
                  </a:lnTo>
                  <a:lnTo>
                    <a:pt x="1819" y="2391"/>
                  </a:lnTo>
                  <a:lnTo>
                    <a:pt x="2021" y="2324"/>
                  </a:lnTo>
                  <a:lnTo>
                    <a:pt x="2122" y="2290"/>
                  </a:lnTo>
                  <a:lnTo>
                    <a:pt x="2189" y="2223"/>
                  </a:lnTo>
                  <a:lnTo>
                    <a:pt x="2088" y="2156"/>
                  </a:lnTo>
                  <a:lnTo>
                    <a:pt x="2021" y="2122"/>
                  </a:lnTo>
                  <a:lnTo>
                    <a:pt x="1819" y="2122"/>
                  </a:lnTo>
                  <a:lnTo>
                    <a:pt x="1415" y="2156"/>
                  </a:lnTo>
                  <a:lnTo>
                    <a:pt x="270" y="2223"/>
                  </a:lnTo>
                  <a:lnTo>
                    <a:pt x="270" y="1954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36" y="742"/>
                  </a:lnTo>
                  <a:lnTo>
                    <a:pt x="236" y="540"/>
                  </a:lnTo>
                  <a:lnTo>
                    <a:pt x="203" y="304"/>
                  </a:lnTo>
                  <a:lnTo>
                    <a:pt x="809" y="304"/>
                  </a:lnTo>
                  <a:lnTo>
                    <a:pt x="1448" y="270"/>
                  </a:lnTo>
                  <a:lnTo>
                    <a:pt x="1852" y="237"/>
                  </a:lnTo>
                  <a:lnTo>
                    <a:pt x="2054" y="169"/>
                  </a:lnTo>
                  <a:lnTo>
                    <a:pt x="2122" y="136"/>
                  </a:lnTo>
                  <a:lnTo>
                    <a:pt x="2223" y="68"/>
                  </a:lnTo>
                  <a:lnTo>
                    <a:pt x="2223" y="35"/>
                  </a:lnTo>
                  <a:lnTo>
                    <a:pt x="198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hape 737"/>
            <p:cNvSpPr/>
            <p:nvPr/>
          </p:nvSpPr>
          <p:spPr>
            <a:xfrm>
              <a:off x="2475000" y="125280"/>
              <a:ext cx="182520" cy="3380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728" h="5085">
                  <a:moveTo>
                    <a:pt x="2391" y="202"/>
                  </a:moveTo>
                  <a:lnTo>
                    <a:pt x="2357" y="471"/>
                  </a:lnTo>
                  <a:lnTo>
                    <a:pt x="2323" y="741"/>
                  </a:lnTo>
                  <a:lnTo>
                    <a:pt x="2357" y="1313"/>
                  </a:lnTo>
                  <a:lnTo>
                    <a:pt x="2391" y="1886"/>
                  </a:lnTo>
                  <a:lnTo>
                    <a:pt x="2424" y="2424"/>
                  </a:lnTo>
                  <a:lnTo>
                    <a:pt x="2458" y="3636"/>
                  </a:lnTo>
                  <a:lnTo>
                    <a:pt x="2424" y="4848"/>
                  </a:lnTo>
                  <a:lnTo>
                    <a:pt x="1785" y="4848"/>
                  </a:lnTo>
                  <a:lnTo>
                    <a:pt x="1448" y="4815"/>
                  </a:lnTo>
                  <a:lnTo>
                    <a:pt x="1280" y="4848"/>
                  </a:lnTo>
                  <a:lnTo>
                    <a:pt x="1111" y="4882"/>
                  </a:lnTo>
                  <a:lnTo>
                    <a:pt x="1111" y="4242"/>
                  </a:lnTo>
                  <a:lnTo>
                    <a:pt x="1078" y="3636"/>
                  </a:lnTo>
                  <a:lnTo>
                    <a:pt x="943" y="2391"/>
                  </a:lnTo>
                  <a:lnTo>
                    <a:pt x="977" y="2323"/>
                  </a:lnTo>
                  <a:lnTo>
                    <a:pt x="977" y="2256"/>
                  </a:lnTo>
                  <a:lnTo>
                    <a:pt x="943" y="2222"/>
                  </a:lnTo>
                  <a:lnTo>
                    <a:pt x="842" y="2189"/>
                  </a:lnTo>
                  <a:lnTo>
                    <a:pt x="337" y="2323"/>
                  </a:lnTo>
                  <a:lnTo>
                    <a:pt x="303" y="1751"/>
                  </a:lnTo>
                  <a:lnTo>
                    <a:pt x="236" y="1212"/>
                  </a:lnTo>
                  <a:lnTo>
                    <a:pt x="236" y="741"/>
                  </a:lnTo>
                  <a:lnTo>
                    <a:pt x="202" y="505"/>
                  </a:lnTo>
                  <a:lnTo>
                    <a:pt x="169" y="269"/>
                  </a:lnTo>
                  <a:lnTo>
                    <a:pt x="741" y="303"/>
                  </a:lnTo>
                  <a:lnTo>
                    <a:pt x="1280" y="269"/>
                  </a:lnTo>
                  <a:lnTo>
                    <a:pt x="2391" y="202"/>
                  </a:lnTo>
                  <a:close/>
                  <a:moveTo>
                    <a:pt x="2391" y="0"/>
                  </a:moveTo>
                  <a:lnTo>
                    <a:pt x="1280" y="34"/>
                  </a:lnTo>
                  <a:lnTo>
                    <a:pt x="707" y="67"/>
                  </a:lnTo>
                  <a:lnTo>
                    <a:pt x="169" y="135"/>
                  </a:lnTo>
                  <a:lnTo>
                    <a:pt x="135" y="168"/>
                  </a:lnTo>
                  <a:lnTo>
                    <a:pt x="101" y="168"/>
                  </a:lnTo>
                  <a:lnTo>
                    <a:pt x="68" y="202"/>
                  </a:lnTo>
                  <a:lnTo>
                    <a:pt x="0" y="438"/>
                  </a:lnTo>
                  <a:lnTo>
                    <a:pt x="0" y="707"/>
                  </a:lnTo>
                  <a:lnTo>
                    <a:pt x="0" y="1212"/>
                  </a:lnTo>
                  <a:lnTo>
                    <a:pt x="34" y="1818"/>
                  </a:lnTo>
                  <a:lnTo>
                    <a:pt x="68" y="2121"/>
                  </a:lnTo>
                  <a:lnTo>
                    <a:pt x="135" y="2424"/>
                  </a:lnTo>
                  <a:lnTo>
                    <a:pt x="135" y="2458"/>
                  </a:lnTo>
                  <a:lnTo>
                    <a:pt x="202" y="2492"/>
                  </a:lnTo>
                  <a:lnTo>
                    <a:pt x="303" y="2492"/>
                  </a:lnTo>
                  <a:lnTo>
                    <a:pt x="808" y="2424"/>
                  </a:lnTo>
                  <a:lnTo>
                    <a:pt x="842" y="3704"/>
                  </a:lnTo>
                  <a:lnTo>
                    <a:pt x="876" y="4377"/>
                  </a:lnTo>
                  <a:lnTo>
                    <a:pt x="943" y="5017"/>
                  </a:lnTo>
                  <a:lnTo>
                    <a:pt x="977" y="5050"/>
                  </a:lnTo>
                  <a:lnTo>
                    <a:pt x="1044" y="5084"/>
                  </a:lnTo>
                  <a:lnTo>
                    <a:pt x="1078" y="5050"/>
                  </a:lnTo>
                  <a:lnTo>
                    <a:pt x="1111" y="4983"/>
                  </a:lnTo>
                  <a:lnTo>
                    <a:pt x="1246" y="5017"/>
                  </a:lnTo>
                  <a:lnTo>
                    <a:pt x="1381" y="5050"/>
                  </a:lnTo>
                  <a:lnTo>
                    <a:pt x="1684" y="5050"/>
                  </a:lnTo>
                  <a:lnTo>
                    <a:pt x="2088" y="5084"/>
                  </a:lnTo>
                  <a:lnTo>
                    <a:pt x="2458" y="5050"/>
                  </a:lnTo>
                  <a:lnTo>
                    <a:pt x="2559" y="5084"/>
                  </a:lnTo>
                  <a:lnTo>
                    <a:pt x="2626" y="5050"/>
                  </a:lnTo>
                  <a:lnTo>
                    <a:pt x="2694" y="5017"/>
                  </a:lnTo>
                  <a:lnTo>
                    <a:pt x="2727" y="4949"/>
                  </a:lnTo>
                  <a:lnTo>
                    <a:pt x="2727" y="4882"/>
                  </a:lnTo>
                  <a:lnTo>
                    <a:pt x="2660" y="4848"/>
                  </a:lnTo>
                  <a:lnTo>
                    <a:pt x="2660" y="3636"/>
                  </a:lnTo>
                  <a:lnTo>
                    <a:pt x="2626" y="2424"/>
                  </a:lnTo>
                  <a:lnTo>
                    <a:pt x="2626" y="1280"/>
                  </a:lnTo>
                  <a:lnTo>
                    <a:pt x="2593" y="707"/>
                  </a:lnTo>
                  <a:lnTo>
                    <a:pt x="2525" y="438"/>
                  </a:lnTo>
                  <a:lnTo>
                    <a:pt x="2458" y="168"/>
                  </a:lnTo>
                  <a:lnTo>
                    <a:pt x="2458" y="101"/>
                  </a:lnTo>
                  <a:lnTo>
                    <a:pt x="2458" y="67"/>
                  </a:lnTo>
                  <a:lnTo>
                    <a:pt x="24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hape 738"/>
            <p:cNvSpPr/>
            <p:nvPr/>
          </p:nvSpPr>
          <p:spPr>
            <a:xfrm>
              <a:off x="0" y="4352760"/>
              <a:ext cx="906480" cy="9144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3637" h="13771">
                  <a:moveTo>
                    <a:pt x="12626" y="6095"/>
                  </a:moveTo>
                  <a:lnTo>
                    <a:pt x="12896" y="6162"/>
                  </a:lnTo>
                  <a:lnTo>
                    <a:pt x="12997" y="6196"/>
                  </a:lnTo>
                  <a:lnTo>
                    <a:pt x="13098" y="6263"/>
                  </a:lnTo>
                  <a:lnTo>
                    <a:pt x="13199" y="6364"/>
                  </a:lnTo>
                  <a:lnTo>
                    <a:pt x="13300" y="6465"/>
                  </a:lnTo>
                  <a:lnTo>
                    <a:pt x="13367" y="6600"/>
                  </a:lnTo>
                  <a:lnTo>
                    <a:pt x="13401" y="6768"/>
                  </a:lnTo>
                  <a:lnTo>
                    <a:pt x="13434" y="6903"/>
                  </a:lnTo>
                  <a:lnTo>
                    <a:pt x="13434" y="7071"/>
                  </a:lnTo>
                  <a:lnTo>
                    <a:pt x="13367" y="7206"/>
                  </a:lnTo>
                  <a:lnTo>
                    <a:pt x="13333" y="7340"/>
                  </a:lnTo>
                  <a:lnTo>
                    <a:pt x="13232" y="7475"/>
                  </a:lnTo>
                  <a:lnTo>
                    <a:pt x="13131" y="7576"/>
                  </a:lnTo>
                  <a:lnTo>
                    <a:pt x="12862" y="7711"/>
                  </a:lnTo>
                  <a:lnTo>
                    <a:pt x="12559" y="7812"/>
                  </a:lnTo>
                  <a:lnTo>
                    <a:pt x="12222" y="7845"/>
                  </a:lnTo>
                  <a:lnTo>
                    <a:pt x="11852" y="7845"/>
                  </a:lnTo>
                  <a:lnTo>
                    <a:pt x="11145" y="7812"/>
                  </a:lnTo>
                  <a:lnTo>
                    <a:pt x="10505" y="7778"/>
                  </a:lnTo>
                  <a:lnTo>
                    <a:pt x="10505" y="7542"/>
                  </a:lnTo>
                  <a:lnTo>
                    <a:pt x="10505" y="7307"/>
                  </a:lnTo>
                  <a:lnTo>
                    <a:pt x="10539" y="6734"/>
                  </a:lnTo>
                  <a:lnTo>
                    <a:pt x="10539" y="6196"/>
                  </a:lnTo>
                  <a:lnTo>
                    <a:pt x="10977" y="6128"/>
                  </a:lnTo>
                  <a:lnTo>
                    <a:pt x="11448" y="6095"/>
                  </a:lnTo>
                  <a:close/>
                  <a:moveTo>
                    <a:pt x="3469" y="1"/>
                  </a:moveTo>
                  <a:lnTo>
                    <a:pt x="2795" y="68"/>
                  </a:lnTo>
                  <a:lnTo>
                    <a:pt x="2122" y="203"/>
                  </a:lnTo>
                  <a:lnTo>
                    <a:pt x="1482" y="405"/>
                  </a:lnTo>
                  <a:lnTo>
                    <a:pt x="842" y="640"/>
                  </a:lnTo>
                  <a:lnTo>
                    <a:pt x="270" y="943"/>
                  </a:lnTo>
                  <a:lnTo>
                    <a:pt x="1" y="1112"/>
                  </a:lnTo>
                  <a:lnTo>
                    <a:pt x="1" y="1415"/>
                  </a:lnTo>
                  <a:lnTo>
                    <a:pt x="573" y="1044"/>
                  </a:lnTo>
                  <a:lnTo>
                    <a:pt x="1145" y="741"/>
                  </a:lnTo>
                  <a:lnTo>
                    <a:pt x="1751" y="539"/>
                  </a:lnTo>
                  <a:lnTo>
                    <a:pt x="2357" y="371"/>
                  </a:lnTo>
                  <a:lnTo>
                    <a:pt x="2997" y="270"/>
                  </a:lnTo>
                  <a:lnTo>
                    <a:pt x="3671" y="236"/>
                  </a:lnTo>
                  <a:lnTo>
                    <a:pt x="4310" y="236"/>
                  </a:lnTo>
                  <a:lnTo>
                    <a:pt x="4950" y="304"/>
                  </a:lnTo>
                  <a:lnTo>
                    <a:pt x="5590" y="438"/>
                  </a:lnTo>
                  <a:lnTo>
                    <a:pt x="6128" y="607"/>
                  </a:lnTo>
                  <a:lnTo>
                    <a:pt x="6633" y="809"/>
                  </a:lnTo>
                  <a:lnTo>
                    <a:pt x="7138" y="1078"/>
                  </a:lnTo>
                  <a:lnTo>
                    <a:pt x="7610" y="1381"/>
                  </a:lnTo>
                  <a:lnTo>
                    <a:pt x="8047" y="1752"/>
                  </a:lnTo>
                  <a:lnTo>
                    <a:pt x="8451" y="2122"/>
                  </a:lnTo>
                  <a:lnTo>
                    <a:pt x="8822" y="2560"/>
                  </a:lnTo>
                  <a:lnTo>
                    <a:pt x="9192" y="2997"/>
                  </a:lnTo>
                  <a:lnTo>
                    <a:pt x="9495" y="3536"/>
                  </a:lnTo>
                  <a:lnTo>
                    <a:pt x="9764" y="4075"/>
                  </a:lnTo>
                  <a:lnTo>
                    <a:pt x="9966" y="4647"/>
                  </a:lnTo>
                  <a:lnTo>
                    <a:pt x="10135" y="5219"/>
                  </a:lnTo>
                  <a:lnTo>
                    <a:pt x="10202" y="5792"/>
                  </a:lnTo>
                  <a:lnTo>
                    <a:pt x="10269" y="6398"/>
                  </a:lnTo>
                  <a:lnTo>
                    <a:pt x="10269" y="7004"/>
                  </a:lnTo>
                  <a:lnTo>
                    <a:pt x="10236" y="7610"/>
                  </a:lnTo>
                  <a:lnTo>
                    <a:pt x="10236" y="7677"/>
                  </a:lnTo>
                  <a:lnTo>
                    <a:pt x="10303" y="7711"/>
                  </a:lnTo>
                  <a:lnTo>
                    <a:pt x="10303" y="7778"/>
                  </a:lnTo>
                  <a:lnTo>
                    <a:pt x="10269" y="7845"/>
                  </a:lnTo>
                  <a:lnTo>
                    <a:pt x="10269" y="7913"/>
                  </a:lnTo>
                  <a:lnTo>
                    <a:pt x="10202" y="8384"/>
                  </a:lnTo>
                  <a:lnTo>
                    <a:pt x="10067" y="8822"/>
                  </a:lnTo>
                  <a:lnTo>
                    <a:pt x="9798" y="9664"/>
                  </a:lnTo>
                  <a:lnTo>
                    <a:pt x="9697" y="9967"/>
                  </a:lnTo>
                  <a:lnTo>
                    <a:pt x="9529" y="10270"/>
                  </a:lnTo>
                  <a:lnTo>
                    <a:pt x="9394" y="10573"/>
                  </a:lnTo>
                  <a:lnTo>
                    <a:pt x="9192" y="10842"/>
                  </a:lnTo>
                  <a:lnTo>
                    <a:pt x="8754" y="11381"/>
                  </a:lnTo>
                  <a:lnTo>
                    <a:pt x="8283" y="11852"/>
                  </a:lnTo>
                  <a:lnTo>
                    <a:pt x="8014" y="12088"/>
                  </a:lnTo>
                  <a:lnTo>
                    <a:pt x="7711" y="12323"/>
                  </a:lnTo>
                  <a:lnTo>
                    <a:pt x="7441" y="12525"/>
                  </a:lnTo>
                  <a:lnTo>
                    <a:pt x="7138" y="12694"/>
                  </a:lnTo>
                  <a:lnTo>
                    <a:pt x="6532" y="12963"/>
                  </a:lnTo>
                  <a:lnTo>
                    <a:pt x="5960" y="13165"/>
                  </a:lnTo>
                  <a:lnTo>
                    <a:pt x="5388" y="13300"/>
                  </a:lnTo>
                  <a:lnTo>
                    <a:pt x="4849" y="13401"/>
                  </a:lnTo>
                  <a:lnTo>
                    <a:pt x="3906" y="13535"/>
                  </a:lnTo>
                  <a:lnTo>
                    <a:pt x="2863" y="13535"/>
                  </a:lnTo>
                  <a:lnTo>
                    <a:pt x="2357" y="13468"/>
                  </a:lnTo>
                  <a:lnTo>
                    <a:pt x="1852" y="13367"/>
                  </a:lnTo>
                  <a:lnTo>
                    <a:pt x="1381" y="13232"/>
                  </a:lnTo>
                  <a:lnTo>
                    <a:pt x="910" y="13064"/>
                  </a:lnTo>
                  <a:lnTo>
                    <a:pt x="438" y="12828"/>
                  </a:lnTo>
                  <a:lnTo>
                    <a:pt x="1" y="12593"/>
                  </a:lnTo>
                  <a:lnTo>
                    <a:pt x="1" y="12828"/>
                  </a:lnTo>
                  <a:lnTo>
                    <a:pt x="438" y="13064"/>
                  </a:lnTo>
                  <a:lnTo>
                    <a:pt x="910" y="13300"/>
                  </a:lnTo>
                  <a:lnTo>
                    <a:pt x="1381" y="13468"/>
                  </a:lnTo>
                  <a:lnTo>
                    <a:pt x="1852" y="13603"/>
                  </a:lnTo>
                  <a:lnTo>
                    <a:pt x="2357" y="13704"/>
                  </a:lnTo>
                  <a:lnTo>
                    <a:pt x="2863" y="13737"/>
                  </a:lnTo>
                  <a:lnTo>
                    <a:pt x="3368" y="13771"/>
                  </a:lnTo>
                  <a:lnTo>
                    <a:pt x="3906" y="13737"/>
                  </a:lnTo>
                  <a:lnTo>
                    <a:pt x="4411" y="13704"/>
                  </a:lnTo>
                  <a:lnTo>
                    <a:pt x="4984" y="13636"/>
                  </a:lnTo>
                  <a:lnTo>
                    <a:pt x="5556" y="13502"/>
                  </a:lnTo>
                  <a:lnTo>
                    <a:pt x="6128" y="13333"/>
                  </a:lnTo>
                  <a:lnTo>
                    <a:pt x="6734" y="13098"/>
                  </a:lnTo>
                  <a:lnTo>
                    <a:pt x="7374" y="12795"/>
                  </a:lnTo>
                  <a:lnTo>
                    <a:pt x="7677" y="12626"/>
                  </a:lnTo>
                  <a:lnTo>
                    <a:pt x="7980" y="12391"/>
                  </a:lnTo>
                  <a:lnTo>
                    <a:pt x="8283" y="12155"/>
                  </a:lnTo>
                  <a:lnTo>
                    <a:pt x="8586" y="11886"/>
                  </a:lnTo>
                  <a:lnTo>
                    <a:pt x="9024" y="11414"/>
                  </a:lnTo>
                  <a:lnTo>
                    <a:pt x="9428" y="10876"/>
                  </a:lnTo>
                  <a:lnTo>
                    <a:pt x="9764" y="10303"/>
                  </a:lnTo>
                  <a:lnTo>
                    <a:pt x="9899" y="10000"/>
                  </a:lnTo>
                  <a:lnTo>
                    <a:pt x="10000" y="9697"/>
                  </a:lnTo>
                  <a:lnTo>
                    <a:pt x="10101" y="9360"/>
                  </a:lnTo>
                  <a:lnTo>
                    <a:pt x="10202" y="9024"/>
                  </a:lnTo>
                  <a:lnTo>
                    <a:pt x="10370" y="8317"/>
                  </a:lnTo>
                  <a:lnTo>
                    <a:pt x="10471" y="7980"/>
                  </a:lnTo>
                  <a:lnTo>
                    <a:pt x="11313" y="8047"/>
                  </a:lnTo>
                  <a:lnTo>
                    <a:pt x="12256" y="8047"/>
                  </a:lnTo>
                  <a:lnTo>
                    <a:pt x="12694" y="7980"/>
                  </a:lnTo>
                  <a:lnTo>
                    <a:pt x="12896" y="7913"/>
                  </a:lnTo>
                  <a:lnTo>
                    <a:pt x="13098" y="7845"/>
                  </a:lnTo>
                  <a:lnTo>
                    <a:pt x="13266" y="7711"/>
                  </a:lnTo>
                  <a:lnTo>
                    <a:pt x="13401" y="7576"/>
                  </a:lnTo>
                  <a:lnTo>
                    <a:pt x="13502" y="7408"/>
                  </a:lnTo>
                  <a:lnTo>
                    <a:pt x="13603" y="7239"/>
                  </a:lnTo>
                  <a:lnTo>
                    <a:pt x="13636" y="7004"/>
                  </a:lnTo>
                  <a:lnTo>
                    <a:pt x="13636" y="6768"/>
                  </a:lnTo>
                  <a:lnTo>
                    <a:pt x="13603" y="6566"/>
                  </a:lnTo>
                  <a:lnTo>
                    <a:pt x="13502" y="6398"/>
                  </a:lnTo>
                  <a:lnTo>
                    <a:pt x="13367" y="6229"/>
                  </a:lnTo>
                  <a:lnTo>
                    <a:pt x="13199" y="6061"/>
                  </a:lnTo>
                  <a:lnTo>
                    <a:pt x="13030" y="5960"/>
                  </a:lnTo>
                  <a:lnTo>
                    <a:pt x="12795" y="5893"/>
                  </a:lnTo>
                  <a:lnTo>
                    <a:pt x="12525" y="5859"/>
                  </a:lnTo>
                  <a:lnTo>
                    <a:pt x="12222" y="5859"/>
                  </a:lnTo>
                  <a:lnTo>
                    <a:pt x="11616" y="5926"/>
                  </a:lnTo>
                  <a:lnTo>
                    <a:pt x="10808" y="5926"/>
                  </a:lnTo>
                  <a:lnTo>
                    <a:pt x="10539" y="5994"/>
                  </a:lnTo>
                  <a:lnTo>
                    <a:pt x="10471" y="5489"/>
                  </a:lnTo>
                  <a:lnTo>
                    <a:pt x="10370" y="4984"/>
                  </a:lnTo>
                  <a:lnTo>
                    <a:pt x="10202" y="4512"/>
                  </a:lnTo>
                  <a:lnTo>
                    <a:pt x="10034" y="4041"/>
                  </a:lnTo>
                  <a:lnTo>
                    <a:pt x="9798" y="3570"/>
                  </a:lnTo>
                  <a:lnTo>
                    <a:pt x="9529" y="3132"/>
                  </a:lnTo>
                  <a:lnTo>
                    <a:pt x="9259" y="2694"/>
                  </a:lnTo>
                  <a:lnTo>
                    <a:pt x="8923" y="2324"/>
                  </a:lnTo>
                  <a:lnTo>
                    <a:pt x="8586" y="1920"/>
                  </a:lnTo>
                  <a:lnTo>
                    <a:pt x="8182" y="1583"/>
                  </a:lnTo>
                  <a:lnTo>
                    <a:pt x="7778" y="1280"/>
                  </a:lnTo>
                  <a:lnTo>
                    <a:pt x="7374" y="977"/>
                  </a:lnTo>
                  <a:lnTo>
                    <a:pt x="6903" y="708"/>
                  </a:lnTo>
                  <a:lnTo>
                    <a:pt x="6431" y="506"/>
                  </a:lnTo>
                  <a:lnTo>
                    <a:pt x="5960" y="304"/>
                  </a:lnTo>
                  <a:lnTo>
                    <a:pt x="5455" y="169"/>
                  </a:lnTo>
                  <a:lnTo>
                    <a:pt x="4815" y="68"/>
                  </a:lnTo>
                  <a:lnTo>
                    <a:pt x="414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hape 739"/>
            <p:cNvSpPr/>
            <p:nvPr/>
          </p:nvSpPr>
          <p:spPr>
            <a:xfrm>
              <a:off x="2341440" y="31248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58" h="2425">
                  <a:moveTo>
                    <a:pt x="2256" y="202"/>
                  </a:moveTo>
                  <a:lnTo>
                    <a:pt x="2222" y="640"/>
                  </a:lnTo>
                  <a:lnTo>
                    <a:pt x="2222" y="1078"/>
                  </a:lnTo>
                  <a:lnTo>
                    <a:pt x="2222" y="1616"/>
                  </a:lnTo>
                  <a:lnTo>
                    <a:pt x="2189" y="2155"/>
                  </a:lnTo>
                  <a:lnTo>
                    <a:pt x="1919" y="2121"/>
                  </a:lnTo>
                  <a:lnTo>
                    <a:pt x="1650" y="2088"/>
                  </a:lnTo>
                  <a:lnTo>
                    <a:pt x="1111" y="2121"/>
                  </a:lnTo>
                  <a:lnTo>
                    <a:pt x="674" y="2155"/>
                  </a:lnTo>
                  <a:lnTo>
                    <a:pt x="472" y="2155"/>
                  </a:lnTo>
                  <a:lnTo>
                    <a:pt x="270" y="2222"/>
                  </a:lnTo>
                  <a:lnTo>
                    <a:pt x="236" y="1684"/>
                  </a:lnTo>
                  <a:lnTo>
                    <a:pt x="202" y="1179"/>
                  </a:lnTo>
                  <a:lnTo>
                    <a:pt x="202" y="741"/>
                  </a:lnTo>
                  <a:lnTo>
                    <a:pt x="169" y="303"/>
                  </a:lnTo>
                  <a:lnTo>
                    <a:pt x="1212" y="270"/>
                  </a:lnTo>
                  <a:lnTo>
                    <a:pt x="1751" y="236"/>
                  </a:lnTo>
                  <a:lnTo>
                    <a:pt x="2256" y="202"/>
                  </a:lnTo>
                  <a:close/>
                  <a:moveTo>
                    <a:pt x="1751" y="0"/>
                  </a:moveTo>
                  <a:lnTo>
                    <a:pt x="1212" y="34"/>
                  </a:lnTo>
                  <a:lnTo>
                    <a:pt x="169" y="101"/>
                  </a:lnTo>
                  <a:lnTo>
                    <a:pt x="101" y="101"/>
                  </a:lnTo>
                  <a:lnTo>
                    <a:pt x="67" y="135"/>
                  </a:lnTo>
                  <a:lnTo>
                    <a:pt x="34" y="169"/>
                  </a:lnTo>
                  <a:lnTo>
                    <a:pt x="0" y="472"/>
                  </a:lnTo>
                  <a:lnTo>
                    <a:pt x="0" y="741"/>
                  </a:lnTo>
                  <a:lnTo>
                    <a:pt x="0" y="1347"/>
                  </a:lnTo>
                  <a:lnTo>
                    <a:pt x="34" y="1852"/>
                  </a:lnTo>
                  <a:lnTo>
                    <a:pt x="34" y="2121"/>
                  </a:lnTo>
                  <a:lnTo>
                    <a:pt x="101" y="2357"/>
                  </a:lnTo>
                  <a:lnTo>
                    <a:pt x="101" y="2391"/>
                  </a:lnTo>
                  <a:lnTo>
                    <a:pt x="169" y="2424"/>
                  </a:lnTo>
                  <a:lnTo>
                    <a:pt x="202" y="2424"/>
                  </a:lnTo>
                  <a:lnTo>
                    <a:pt x="236" y="2391"/>
                  </a:lnTo>
                  <a:lnTo>
                    <a:pt x="741" y="2391"/>
                  </a:lnTo>
                  <a:lnTo>
                    <a:pt x="1280" y="2357"/>
                  </a:lnTo>
                  <a:lnTo>
                    <a:pt x="1751" y="2357"/>
                  </a:lnTo>
                  <a:lnTo>
                    <a:pt x="1987" y="2323"/>
                  </a:lnTo>
                  <a:lnTo>
                    <a:pt x="2222" y="2290"/>
                  </a:lnTo>
                  <a:lnTo>
                    <a:pt x="2323" y="2290"/>
                  </a:lnTo>
                  <a:lnTo>
                    <a:pt x="2357" y="2256"/>
                  </a:lnTo>
                  <a:lnTo>
                    <a:pt x="2357" y="2222"/>
                  </a:lnTo>
                  <a:lnTo>
                    <a:pt x="2424" y="1953"/>
                  </a:lnTo>
                  <a:lnTo>
                    <a:pt x="2458" y="1650"/>
                  </a:lnTo>
                  <a:lnTo>
                    <a:pt x="2458" y="1044"/>
                  </a:lnTo>
                  <a:lnTo>
                    <a:pt x="2424" y="573"/>
                  </a:lnTo>
                  <a:lnTo>
                    <a:pt x="2424" y="337"/>
                  </a:lnTo>
                  <a:lnTo>
                    <a:pt x="2357" y="101"/>
                  </a:lnTo>
                  <a:lnTo>
                    <a:pt x="2323" y="34"/>
                  </a:lnTo>
                  <a:lnTo>
                    <a:pt x="22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hape 740"/>
            <p:cNvSpPr/>
            <p:nvPr/>
          </p:nvSpPr>
          <p:spPr>
            <a:xfrm>
              <a:off x="2187360" y="0"/>
              <a:ext cx="171360" cy="118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593" h="1786">
                  <a:moveTo>
                    <a:pt x="34" y="1"/>
                  </a:moveTo>
                  <a:lnTo>
                    <a:pt x="0" y="236"/>
                  </a:lnTo>
                  <a:lnTo>
                    <a:pt x="34" y="472"/>
                  </a:lnTo>
                  <a:lnTo>
                    <a:pt x="34" y="943"/>
                  </a:lnTo>
                  <a:lnTo>
                    <a:pt x="34" y="1145"/>
                  </a:lnTo>
                  <a:lnTo>
                    <a:pt x="34" y="1415"/>
                  </a:lnTo>
                  <a:lnTo>
                    <a:pt x="67" y="1516"/>
                  </a:lnTo>
                  <a:lnTo>
                    <a:pt x="101" y="1650"/>
                  </a:lnTo>
                  <a:lnTo>
                    <a:pt x="168" y="1718"/>
                  </a:lnTo>
                  <a:lnTo>
                    <a:pt x="269" y="1785"/>
                  </a:lnTo>
                  <a:lnTo>
                    <a:pt x="303" y="1751"/>
                  </a:lnTo>
                  <a:lnTo>
                    <a:pt x="337" y="1718"/>
                  </a:lnTo>
                  <a:lnTo>
                    <a:pt x="572" y="1751"/>
                  </a:lnTo>
                  <a:lnTo>
                    <a:pt x="1347" y="1751"/>
                  </a:lnTo>
                  <a:lnTo>
                    <a:pt x="2390" y="1650"/>
                  </a:lnTo>
                  <a:lnTo>
                    <a:pt x="2525" y="1650"/>
                  </a:lnTo>
                  <a:lnTo>
                    <a:pt x="2559" y="1617"/>
                  </a:lnTo>
                  <a:lnTo>
                    <a:pt x="2593" y="1381"/>
                  </a:lnTo>
                  <a:lnTo>
                    <a:pt x="2559" y="1112"/>
                  </a:lnTo>
                  <a:lnTo>
                    <a:pt x="2525" y="607"/>
                  </a:lnTo>
                  <a:lnTo>
                    <a:pt x="2525" y="1"/>
                  </a:lnTo>
                  <a:lnTo>
                    <a:pt x="2323" y="1"/>
                  </a:lnTo>
                  <a:lnTo>
                    <a:pt x="2323" y="438"/>
                  </a:lnTo>
                  <a:lnTo>
                    <a:pt x="2323" y="943"/>
                  </a:lnTo>
                  <a:lnTo>
                    <a:pt x="2357" y="1179"/>
                  </a:lnTo>
                  <a:lnTo>
                    <a:pt x="2390" y="1448"/>
                  </a:lnTo>
                  <a:lnTo>
                    <a:pt x="1347" y="1448"/>
                  </a:lnTo>
                  <a:lnTo>
                    <a:pt x="808" y="1482"/>
                  </a:lnTo>
                  <a:lnTo>
                    <a:pt x="572" y="1516"/>
                  </a:lnTo>
                  <a:lnTo>
                    <a:pt x="303" y="1583"/>
                  </a:lnTo>
                  <a:lnTo>
                    <a:pt x="269" y="1078"/>
                  </a:lnTo>
                  <a:lnTo>
                    <a:pt x="236" y="573"/>
                  </a:lnTo>
                  <a:lnTo>
                    <a:pt x="2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160" bIns="2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hape 741"/>
            <p:cNvSpPr/>
            <p:nvPr/>
          </p:nvSpPr>
          <p:spPr>
            <a:xfrm>
              <a:off x="0" y="1712880"/>
              <a:ext cx="606240" cy="10206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9125" h="15354">
                  <a:moveTo>
                    <a:pt x="8956" y="0"/>
                  </a:moveTo>
                  <a:lnTo>
                    <a:pt x="8889" y="34"/>
                  </a:lnTo>
                  <a:lnTo>
                    <a:pt x="8855" y="68"/>
                  </a:lnTo>
                  <a:lnTo>
                    <a:pt x="8855" y="101"/>
                  </a:lnTo>
                  <a:lnTo>
                    <a:pt x="8855" y="1078"/>
                  </a:lnTo>
                  <a:lnTo>
                    <a:pt x="8788" y="2054"/>
                  </a:lnTo>
                  <a:lnTo>
                    <a:pt x="8687" y="2997"/>
                  </a:lnTo>
                  <a:lnTo>
                    <a:pt x="8552" y="3940"/>
                  </a:lnTo>
                  <a:lnTo>
                    <a:pt x="8216" y="5859"/>
                  </a:lnTo>
                  <a:lnTo>
                    <a:pt x="8047" y="6801"/>
                  </a:lnTo>
                  <a:lnTo>
                    <a:pt x="7879" y="7778"/>
                  </a:lnTo>
                  <a:lnTo>
                    <a:pt x="7778" y="8653"/>
                  </a:lnTo>
                  <a:lnTo>
                    <a:pt x="7677" y="9562"/>
                  </a:lnTo>
                  <a:lnTo>
                    <a:pt x="7542" y="11380"/>
                  </a:lnTo>
                  <a:lnTo>
                    <a:pt x="7441" y="12289"/>
                  </a:lnTo>
                  <a:lnTo>
                    <a:pt x="7340" y="13165"/>
                  </a:lnTo>
                  <a:lnTo>
                    <a:pt x="7172" y="14074"/>
                  </a:lnTo>
                  <a:lnTo>
                    <a:pt x="6936" y="14949"/>
                  </a:lnTo>
                  <a:lnTo>
                    <a:pt x="5186" y="14814"/>
                  </a:lnTo>
                  <a:lnTo>
                    <a:pt x="3469" y="14646"/>
                  </a:lnTo>
                  <a:lnTo>
                    <a:pt x="1718" y="14444"/>
                  </a:lnTo>
                  <a:lnTo>
                    <a:pt x="1" y="14242"/>
                  </a:lnTo>
                  <a:lnTo>
                    <a:pt x="1" y="14511"/>
                  </a:lnTo>
                  <a:lnTo>
                    <a:pt x="1718" y="14713"/>
                  </a:lnTo>
                  <a:lnTo>
                    <a:pt x="3435" y="14915"/>
                  </a:lnTo>
                  <a:lnTo>
                    <a:pt x="5152" y="15084"/>
                  </a:lnTo>
                  <a:lnTo>
                    <a:pt x="6869" y="15218"/>
                  </a:lnTo>
                  <a:lnTo>
                    <a:pt x="6869" y="15252"/>
                  </a:lnTo>
                  <a:lnTo>
                    <a:pt x="6903" y="15319"/>
                  </a:lnTo>
                  <a:lnTo>
                    <a:pt x="6970" y="15353"/>
                  </a:lnTo>
                  <a:lnTo>
                    <a:pt x="7071" y="15353"/>
                  </a:lnTo>
                  <a:lnTo>
                    <a:pt x="7105" y="15319"/>
                  </a:lnTo>
                  <a:lnTo>
                    <a:pt x="7138" y="15252"/>
                  </a:lnTo>
                  <a:lnTo>
                    <a:pt x="7374" y="14309"/>
                  </a:lnTo>
                  <a:lnTo>
                    <a:pt x="7576" y="13367"/>
                  </a:lnTo>
                  <a:lnTo>
                    <a:pt x="7711" y="12424"/>
                  </a:lnTo>
                  <a:lnTo>
                    <a:pt x="7812" y="11448"/>
                  </a:lnTo>
                  <a:lnTo>
                    <a:pt x="7980" y="9529"/>
                  </a:lnTo>
                  <a:lnTo>
                    <a:pt x="8047" y="8552"/>
                  </a:lnTo>
                  <a:lnTo>
                    <a:pt x="8182" y="7576"/>
                  </a:lnTo>
                  <a:lnTo>
                    <a:pt x="8317" y="6667"/>
                  </a:lnTo>
                  <a:lnTo>
                    <a:pt x="8485" y="5724"/>
                  </a:lnTo>
                  <a:lnTo>
                    <a:pt x="8822" y="3872"/>
                  </a:lnTo>
                  <a:lnTo>
                    <a:pt x="8956" y="2930"/>
                  </a:lnTo>
                  <a:lnTo>
                    <a:pt x="9057" y="2021"/>
                  </a:lnTo>
                  <a:lnTo>
                    <a:pt x="9125" y="1078"/>
                  </a:lnTo>
                  <a:lnTo>
                    <a:pt x="9091" y="101"/>
                  </a:lnTo>
                  <a:lnTo>
                    <a:pt x="9091" y="68"/>
                  </a:lnTo>
                  <a:lnTo>
                    <a:pt x="9057" y="34"/>
                  </a:lnTo>
                  <a:lnTo>
                    <a:pt x="89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hape 742"/>
            <p:cNvSpPr/>
            <p:nvPr/>
          </p:nvSpPr>
          <p:spPr>
            <a:xfrm>
              <a:off x="2546280" y="217440"/>
              <a:ext cx="69840" cy="60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45" h="910">
                  <a:moveTo>
                    <a:pt x="876" y="1"/>
                  </a:moveTo>
                  <a:lnTo>
                    <a:pt x="842" y="34"/>
                  </a:lnTo>
                  <a:lnTo>
                    <a:pt x="842" y="102"/>
                  </a:lnTo>
                  <a:lnTo>
                    <a:pt x="842" y="236"/>
                  </a:lnTo>
                  <a:lnTo>
                    <a:pt x="809" y="337"/>
                  </a:lnTo>
                  <a:lnTo>
                    <a:pt x="741" y="405"/>
                  </a:lnTo>
                  <a:lnTo>
                    <a:pt x="607" y="472"/>
                  </a:lnTo>
                  <a:lnTo>
                    <a:pt x="371" y="472"/>
                  </a:lnTo>
                  <a:lnTo>
                    <a:pt x="371" y="405"/>
                  </a:lnTo>
                  <a:lnTo>
                    <a:pt x="371" y="337"/>
                  </a:lnTo>
                  <a:lnTo>
                    <a:pt x="405" y="270"/>
                  </a:lnTo>
                  <a:lnTo>
                    <a:pt x="405" y="236"/>
                  </a:lnTo>
                  <a:lnTo>
                    <a:pt x="371" y="203"/>
                  </a:lnTo>
                  <a:lnTo>
                    <a:pt x="337" y="236"/>
                  </a:lnTo>
                  <a:lnTo>
                    <a:pt x="203" y="304"/>
                  </a:lnTo>
                  <a:lnTo>
                    <a:pt x="68" y="371"/>
                  </a:lnTo>
                  <a:lnTo>
                    <a:pt x="1" y="405"/>
                  </a:lnTo>
                  <a:lnTo>
                    <a:pt x="1" y="472"/>
                  </a:lnTo>
                  <a:lnTo>
                    <a:pt x="169" y="842"/>
                  </a:lnTo>
                  <a:lnTo>
                    <a:pt x="203" y="876"/>
                  </a:lnTo>
                  <a:lnTo>
                    <a:pt x="270" y="910"/>
                  </a:lnTo>
                  <a:lnTo>
                    <a:pt x="337" y="876"/>
                  </a:lnTo>
                  <a:lnTo>
                    <a:pt x="371" y="876"/>
                  </a:lnTo>
                  <a:lnTo>
                    <a:pt x="371" y="809"/>
                  </a:lnTo>
                  <a:lnTo>
                    <a:pt x="371" y="674"/>
                  </a:lnTo>
                  <a:lnTo>
                    <a:pt x="607" y="674"/>
                  </a:lnTo>
                  <a:lnTo>
                    <a:pt x="775" y="607"/>
                  </a:lnTo>
                  <a:lnTo>
                    <a:pt x="910" y="506"/>
                  </a:lnTo>
                  <a:lnTo>
                    <a:pt x="1011" y="371"/>
                  </a:lnTo>
                  <a:lnTo>
                    <a:pt x="1044" y="203"/>
                  </a:lnTo>
                  <a:lnTo>
                    <a:pt x="1011" y="34"/>
                  </a:lnTo>
                  <a:lnTo>
                    <a:pt x="97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hape 743"/>
            <p:cNvSpPr/>
            <p:nvPr/>
          </p:nvSpPr>
          <p:spPr>
            <a:xfrm>
              <a:off x="0" y="4419720"/>
              <a:ext cx="622080" cy="7729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9361" h="11650">
                  <a:moveTo>
                    <a:pt x="4445" y="371"/>
                  </a:moveTo>
                  <a:lnTo>
                    <a:pt x="5051" y="438"/>
                  </a:lnTo>
                  <a:lnTo>
                    <a:pt x="5623" y="607"/>
                  </a:lnTo>
                  <a:lnTo>
                    <a:pt x="6196" y="843"/>
                  </a:lnTo>
                  <a:lnTo>
                    <a:pt x="6701" y="1112"/>
                  </a:lnTo>
                  <a:lnTo>
                    <a:pt x="6398" y="1213"/>
                  </a:lnTo>
                  <a:lnTo>
                    <a:pt x="6398" y="1146"/>
                  </a:lnTo>
                  <a:lnTo>
                    <a:pt x="6330" y="1112"/>
                  </a:lnTo>
                  <a:lnTo>
                    <a:pt x="5758" y="1045"/>
                  </a:lnTo>
                  <a:lnTo>
                    <a:pt x="5219" y="1045"/>
                  </a:lnTo>
                  <a:lnTo>
                    <a:pt x="5421" y="977"/>
                  </a:lnTo>
                  <a:lnTo>
                    <a:pt x="5590" y="843"/>
                  </a:lnTo>
                  <a:lnTo>
                    <a:pt x="5657" y="809"/>
                  </a:lnTo>
                  <a:lnTo>
                    <a:pt x="5657" y="742"/>
                  </a:lnTo>
                  <a:lnTo>
                    <a:pt x="5623" y="674"/>
                  </a:lnTo>
                  <a:lnTo>
                    <a:pt x="5590" y="641"/>
                  </a:lnTo>
                  <a:lnTo>
                    <a:pt x="5287" y="573"/>
                  </a:lnTo>
                  <a:lnTo>
                    <a:pt x="4950" y="573"/>
                  </a:lnTo>
                  <a:lnTo>
                    <a:pt x="4613" y="607"/>
                  </a:lnTo>
                  <a:lnTo>
                    <a:pt x="4277" y="674"/>
                  </a:lnTo>
                  <a:lnTo>
                    <a:pt x="3603" y="809"/>
                  </a:lnTo>
                  <a:lnTo>
                    <a:pt x="2997" y="977"/>
                  </a:lnTo>
                  <a:lnTo>
                    <a:pt x="2554" y="1117"/>
                  </a:lnTo>
                  <a:lnTo>
                    <a:pt x="3098" y="910"/>
                  </a:lnTo>
                  <a:lnTo>
                    <a:pt x="3805" y="674"/>
                  </a:lnTo>
                  <a:lnTo>
                    <a:pt x="4445" y="371"/>
                  </a:lnTo>
                  <a:close/>
                  <a:moveTo>
                    <a:pt x="6835" y="1348"/>
                  </a:moveTo>
                  <a:lnTo>
                    <a:pt x="6633" y="1482"/>
                  </a:lnTo>
                  <a:lnTo>
                    <a:pt x="6364" y="1617"/>
                  </a:lnTo>
                  <a:lnTo>
                    <a:pt x="5859" y="1819"/>
                  </a:lnTo>
                  <a:lnTo>
                    <a:pt x="4849" y="2189"/>
                  </a:lnTo>
                  <a:lnTo>
                    <a:pt x="3637" y="2661"/>
                  </a:lnTo>
                  <a:lnTo>
                    <a:pt x="5017" y="2088"/>
                  </a:lnTo>
                  <a:lnTo>
                    <a:pt x="5893" y="1684"/>
                  </a:lnTo>
                  <a:lnTo>
                    <a:pt x="6364" y="1482"/>
                  </a:lnTo>
                  <a:lnTo>
                    <a:pt x="6835" y="1348"/>
                  </a:lnTo>
                  <a:close/>
                  <a:moveTo>
                    <a:pt x="5960" y="5522"/>
                  </a:moveTo>
                  <a:lnTo>
                    <a:pt x="5522" y="5758"/>
                  </a:lnTo>
                  <a:lnTo>
                    <a:pt x="5085" y="5960"/>
                  </a:lnTo>
                  <a:lnTo>
                    <a:pt x="4176" y="6297"/>
                  </a:lnTo>
                  <a:lnTo>
                    <a:pt x="4613" y="6095"/>
                  </a:lnTo>
                  <a:lnTo>
                    <a:pt x="5051" y="5893"/>
                  </a:lnTo>
                  <a:lnTo>
                    <a:pt x="5960" y="5522"/>
                  </a:lnTo>
                  <a:close/>
                  <a:moveTo>
                    <a:pt x="8485" y="2964"/>
                  </a:moveTo>
                  <a:lnTo>
                    <a:pt x="8620" y="3233"/>
                  </a:lnTo>
                  <a:lnTo>
                    <a:pt x="8519" y="3233"/>
                  </a:lnTo>
                  <a:lnTo>
                    <a:pt x="7879" y="3502"/>
                  </a:lnTo>
                  <a:lnTo>
                    <a:pt x="7239" y="3772"/>
                  </a:lnTo>
                  <a:lnTo>
                    <a:pt x="5960" y="4378"/>
                  </a:lnTo>
                  <a:lnTo>
                    <a:pt x="4714" y="5017"/>
                  </a:lnTo>
                  <a:lnTo>
                    <a:pt x="4075" y="5320"/>
                  </a:lnTo>
                  <a:lnTo>
                    <a:pt x="3435" y="5623"/>
                  </a:lnTo>
                  <a:lnTo>
                    <a:pt x="2088" y="6229"/>
                  </a:lnTo>
                  <a:lnTo>
                    <a:pt x="741" y="6835"/>
                  </a:lnTo>
                  <a:lnTo>
                    <a:pt x="102" y="7138"/>
                  </a:lnTo>
                  <a:lnTo>
                    <a:pt x="809" y="6701"/>
                  </a:lnTo>
                  <a:lnTo>
                    <a:pt x="1516" y="6297"/>
                  </a:lnTo>
                  <a:lnTo>
                    <a:pt x="2256" y="5926"/>
                  </a:lnTo>
                  <a:lnTo>
                    <a:pt x="3031" y="5590"/>
                  </a:lnTo>
                  <a:lnTo>
                    <a:pt x="4209" y="5051"/>
                  </a:lnTo>
                  <a:lnTo>
                    <a:pt x="5388" y="4411"/>
                  </a:lnTo>
                  <a:lnTo>
                    <a:pt x="5893" y="4108"/>
                  </a:lnTo>
                  <a:lnTo>
                    <a:pt x="6532" y="3839"/>
                  </a:lnTo>
                  <a:lnTo>
                    <a:pt x="7172" y="3570"/>
                  </a:lnTo>
                  <a:lnTo>
                    <a:pt x="7778" y="3334"/>
                  </a:lnTo>
                  <a:lnTo>
                    <a:pt x="8418" y="3065"/>
                  </a:lnTo>
                  <a:lnTo>
                    <a:pt x="8451" y="2997"/>
                  </a:lnTo>
                  <a:lnTo>
                    <a:pt x="8485" y="2964"/>
                  </a:lnTo>
                  <a:close/>
                  <a:moveTo>
                    <a:pt x="8687" y="3401"/>
                  </a:moveTo>
                  <a:lnTo>
                    <a:pt x="8889" y="3906"/>
                  </a:lnTo>
                  <a:lnTo>
                    <a:pt x="9024" y="4479"/>
                  </a:lnTo>
                  <a:lnTo>
                    <a:pt x="9091" y="5017"/>
                  </a:lnTo>
                  <a:lnTo>
                    <a:pt x="9125" y="5590"/>
                  </a:lnTo>
                  <a:lnTo>
                    <a:pt x="8552" y="5825"/>
                  </a:lnTo>
                  <a:lnTo>
                    <a:pt x="7576" y="6196"/>
                  </a:lnTo>
                  <a:lnTo>
                    <a:pt x="6633" y="6600"/>
                  </a:lnTo>
                  <a:lnTo>
                    <a:pt x="5691" y="7004"/>
                  </a:lnTo>
                  <a:lnTo>
                    <a:pt x="4782" y="7441"/>
                  </a:lnTo>
                  <a:lnTo>
                    <a:pt x="3738" y="8047"/>
                  </a:lnTo>
                  <a:lnTo>
                    <a:pt x="2661" y="8620"/>
                  </a:lnTo>
                  <a:lnTo>
                    <a:pt x="2357" y="8788"/>
                  </a:lnTo>
                  <a:lnTo>
                    <a:pt x="2021" y="8923"/>
                  </a:lnTo>
                  <a:lnTo>
                    <a:pt x="1347" y="9159"/>
                  </a:lnTo>
                  <a:lnTo>
                    <a:pt x="3368" y="7845"/>
                  </a:lnTo>
                  <a:lnTo>
                    <a:pt x="3839" y="7610"/>
                  </a:lnTo>
                  <a:lnTo>
                    <a:pt x="6229" y="6431"/>
                  </a:lnTo>
                  <a:lnTo>
                    <a:pt x="7441" y="5859"/>
                  </a:lnTo>
                  <a:lnTo>
                    <a:pt x="8081" y="5623"/>
                  </a:lnTo>
                  <a:lnTo>
                    <a:pt x="8721" y="5388"/>
                  </a:lnTo>
                  <a:lnTo>
                    <a:pt x="8754" y="5354"/>
                  </a:lnTo>
                  <a:lnTo>
                    <a:pt x="8788" y="5320"/>
                  </a:lnTo>
                  <a:lnTo>
                    <a:pt x="8788" y="5219"/>
                  </a:lnTo>
                  <a:lnTo>
                    <a:pt x="8754" y="5152"/>
                  </a:lnTo>
                  <a:lnTo>
                    <a:pt x="8687" y="5118"/>
                  </a:lnTo>
                  <a:lnTo>
                    <a:pt x="8620" y="5118"/>
                  </a:lnTo>
                  <a:lnTo>
                    <a:pt x="8047" y="5287"/>
                  </a:lnTo>
                  <a:lnTo>
                    <a:pt x="7509" y="5489"/>
                  </a:lnTo>
                  <a:lnTo>
                    <a:pt x="6398" y="5994"/>
                  </a:lnTo>
                  <a:lnTo>
                    <a:pt x="5388" y="6431"/>
                  </a:lnTo>
                  <a:lnTo>
                    <a:pt x="4378" y="6903"/>
                  </a:lnTo>
                  <a:lnTo>
                    <a:pt x="3738" y="7273"/>
                  </a:lnTo>
                  <a:lnTo>
                    <a:pt x="3098" y="7643"/>
                  </a:lnTo>
                  <a:lnTo>
                    <a:pt x="2088" y="8081"/>
                  </a:lnTo>
                  <a:lnTo>
                    <a:pt x="1044" y="8485"/>
                  </a:lnTo>
                  <a:lnTo>
                    <a:pt x="2088" y="7711"/>
                  </a:lnTo>
                  <a:lnTo>
                    <a:pt x="3098" y="6936"/>
                  </a:lnTo>
                  <a:lnTo>
                    <a:pt x="4108" y="6600"/>
                  </a:lnTo>
                  <a:lnTo>
                    <a:pt x="5118" y="6229"/>
                  </a:lnTo>
                  <a:lnTo>
                    <a:pt x="5590" y="6027"/>
                  </a:lnTo>
                  <a:lnTo>
                    <a:pt x="6061" y="5792"/>
                  </a:lnTo>
                  <a:lnTo>
                    <a:pt x="6802" y="5354"/>
                  </a:lnTo>
                  <a:lnTo>
                    <a:pt x="7138" y="5152"/>
                  </a:lnTo>
                  <a:lnTo>
                    <a:pt x="7509" y="4984"/>
                  </a:lnTo>
                  <a:lnTo>
                    <a:pt x="8317" y="4681"/>
                  </a:lnTo>
                  <a:lnTo>
                    <a:pt x="8350" y="4647"/>
                  </a:lnTo>
                  <a:lnTo>
                    <a:pt x="8384" y="4580"/>
                  </a:lnTo>
                  <a:lnTo>
                    <a:pt x="8384" y="4479"/>
                  </a:lnTo>
                  <a:lnTo>
                    <a:pt x="8350" y="4411"/>
                  </a:lnTo>
                  <a:lnTo>
                    <a:pt x="8249" y="4411"/>
                  </a:lnTo>
                  <a:lnTo>
                    <a:pt x="7778" y="4546"/>
                  </a:lnTo>
                  <a:lnTo>
                    <a:pt x="7374" y="4748"/>
                  </a:lnTo>
                  <a:lnTo>
                    <a:pt x="6330" y="5118"/>
                  </a:lnTo>
                  <a:lnTo>
                    <a:pt x="5354" y="5489"/>
                  </a:lnTo>
                  <a:lnTo>
                    <a:pt x="4849" y="5691"/>
                  </a:lnTo>
                  <a:lnTo>
                    <a:pt x="4344" y="5893"/>
                  </a:lnTo>
                  <a:lnTo>
                    <a:pt x="3873" y="6162"/>
                  </a:lnTo>
                  <a:lnTo>
                    <a:pt x="3401" y="6431"/>
                  </a:lnTo>
                  <a:lnTo>
                    <a:pt x="2930" y="6734"/>
                  </a:lnTo>
                  <a:lnTo>
                    <a:pt x="2155" y="7004"/>
                  </a:lnTo>
                  <a:lnTo>
                    <a:pt x="1381" y="7340"/>
                  </a:lnTo>
                  <a:lnTo>
                    <a:pt x="1145" y="7475"/>
                  </a:lnTo>
                  <a:lnTo>
                    <a:pt x="1516" y="7206"/>
                  </a:lnTo>
                  <a:lnTo>
                    <a:pt x="2122" y="6869"/>
                  </a:lnTo>
                  <a:lnTo>
                    <a:pt x="2728" y="6566"/>
                  </a:lnTo>
                  <a:lnTo>
                    <a:pt x="3974" y="5960"/>
                  </a:lnTo>
                  <a:lnTo>
                    <a:pt x="5118" y="5354"/>
                  </a:lnTo>
                  <a:lnTo>
                    <a:pt x="6196" y="4714"/>
                  </a:lnTo>
                  <a:lnTo>
                    <a:pt x="6802" y="4378"/>
                  </a:lnTo>
                  <a:lnTo>
                    <a:pt x="7408" y="4075"/>
                  </a:lnTo>
                  <a:lnTo>
                    <a:pt x="8653" y="3469"/>
                  </a:lnTo>
                  <a:lnTo>
                    <a:pt x="8687" y="3435"/>
                  </a:lnTo>
                  <a:lnTo>
                    <a:pt x="8687" y="3401"/>
                  </a:lnTo>
                  <a:close/>
                  <a:moveTo>
                    <a:pt x="7643" y="8856"/>
                  </a:moveTo>
                  <a:lnTo>
                    <a:pt x="7475" y="8990"/>
                  </a:lnTo>
                  <a:lnTo>
                    <a:pt x="7071" y="9226"/>
                  </a:lnTo>
                  <a:lnTo>
                    <a:pt x="7206" y="9125"/>
                  </a:lnTo>
                  <a:lnTo>
                    <a:pt x="7576" y="8889"/>
                  </a:lnTo>
                  <a:lnTo>
                    <a:pt x="7643" y="8856"/>
                  </a:lnTo>
                  <a:close/>
                  <a:moveTo>
                    <a:pt x="5152" y="9327"/>
                  </a:moveTo>
                  <a:lnTo>
                    <a:pt x="4647" y="9664"/>
                  </a:lnTo>
                  <a:lnTo>
                    <a:pt x="4142" y="9967"/>
                  </a:lnTo>
                  <a:lnTo>
                    <a:pt x="3772" y="10169"/>
                  </a:lnTo>
                  <a:lnTo>
                    <a:pt x="4108" y="9933"/>
                  </a:lnTo>
                  <a:lnTo>
                    <a:pt x="4613" y="9630"/>
                  </a:lnTo>
                  <a:lnTo>
                    <a:pt x="5152" y="9327"/>
                  </a:lnTo>
                  <a:close/>
                  <a:moveTo>
                    <a:pt x="6768" y="9697"/>
                  </a:moveTo>
                  <a:lnTo>
                    <a:pt x="6633" y="9832"/>
                  </a:lnTo>
                  <a:lnTo>
                    <a:pt x="6229" y="10202"/>
                  </a:lnTo>
                  <a:lnTo>
                    <a:pt x="6027" y="10337"/>
                  </a:lnTo>
                  <a:lnTo>
                    <a:pt x="5825" y="10505"/>
                  </a:lnTo>
                  <a:lnTo>
                    <a:pt x="5455" y="10674"/>
                  </a:lnTo>
                  <a:lnTo>
                    <a:pt x="5051" y="10808"/>
                  </a:lnTo>
                  <a:lnTo>
                    <a:pt x="5152" y="10741"/>
                  </a:lnTo>
                  <a:lnTo>
                    <a:pt x="5522" y="10472"/>
                  </a:lnTo>
                  <a:lnTo>
                    <a:pt x="5893" y="10202"/>
                  </a:lnTo>
                  <a:lnTo>
                    <a:pt x="6768" y="9697"/>
                  </a:lnTo>
                  <a:close/>
                  <a:moveTo>
                    <a:pt x="9125" y="5893"/>
                  </a:moveTo>
                  <a:lnTo>
                    <a:pt x="9091" y="6330"/>
                  </a:lnTo>
                  <a:lnTo>
                    <a:pt x="9024" y="6768"/>
                  </a:lnTo>
                  <a:lnTo>
                    <a:pt x="8889" y="7576"/>
                  </a:lnTo>
                  <a:lnTo>
                    <a:pt x="8754" y="7980"/>
                  </a:lnTo>
                  <a:lnTo>
                    <a:pt x="8620" y="8384"/>
                  </a:lnTo>
                  <a:lnTo>
                    <a:pt x="8451" y="8755"/>
                  </a:lnTo>
                  <a:lnTo>
                    <a:pt x="8249" y="9091"/>
                  </a:lnTo>
                  <a:lnTo>
                    <a:pt x="8014" y="9428"/>
                  </a:lnTo>
                  <a:lnTo>
                    <a:pt x="7778" y="9731"/>
                  </a:lnTo>
                  <a:lnTo>
                    <a:pt x="7509" y="10000"/>
                  </a:lnTo>
                  <a:lnTo>
                    <a:pt x="7239" y="10270"/>
                  </a:lnTo>
                  <a:lnTo>
                    <a:pt x="7172" y="10202"/>
                  </a:lnTo>
                  <a:lnTo>
                    <a:pt x="7105" y="10169"/>
                  </a:lnTo>
                  <a:lnTo>
                    <a:pt x="7037" y="10202"/>
                  </a:lnTo>
                  <a:lnTo>
                    <a:pt x="6701" y="10404"/>
                  </a:lnTo>
                  <a:lnTo>
                    <a:pt x="6532" y="10505"/>
                  </a:lnTo>
                  <a:lnTo>
                    <a:pt x="6364" y="10573"/>
                  </a:lnTo>
                  <a:lnTo>
                    <a:pt x="6734" y="10270"/>
                  </a:lnTo>
                  <a:lnTo>
                    <a:pt x="7138" y="9967"/>
                  </a:lnTo>
                  <a:lnTo>
                    <a:pt x="7576" y="9697"/>
                  </a:lnTo>
                  <a:lnTo>
                    <a:pt x="7980" y="9428"/>
                  </a:lnTo>
                  <a:lnTo>
                    <a:pt x="8014" y="9361"/>
                  </a:lnTo>
                  <a:lnTo>
                    <a:pt x="8014" y="9260"/>
                  </a:lnTo>
                  <a:lnTo>
                    <a:pt x="7946" y="9192"/>
                  </a:lnTo>
                  <a:lnTo>
                    <a:pt x="7643" y="9192"/>
                  </a:lnTo>
                  <a:lnTo>
                    <a:pt x="7845" y="9058"/>
                  </a:lnTo>
                  <a:lnTo>
                    <a:pt x="7980" y="8856"/>
                  </a:lnTo>
                  <a:lnTo>
                    <a:pt x="8014" y="8788"/>
                  </a:lnTo>
                  <a:lnTo>
                    <a:pt x="8014" y="8687"/>
                  </a:lnTo>
                  <a:lnTo>
                    <a:pt x="7980" y="8620"/>
                  </a:lnTo>
                  <a:lnTo>
                    <a:pt x="7879" y="8553"/>
                  </a:lnTo>
                  <a:lnTo>
                    <a:pt x="7812" y="8519"/>
                  </a:lnTo>
                  <a:lnTo>
                    <a:pt x="7711" y="8519"/>
                  </a:lnTo>
                  <a:lnTo>
                    <a:pt x="7542" y="8553"/>
                  </a:lnTo>
                  <a:lnTo>
                    <a:pt x="7307" y="8654"/>
                  </a:lnTo>
                  <a:lnTo>
                    <a:pt x="7105" y="8788"/>
                  </a:lnTo>
                  <a:lnTo>
                    <a:pt x="6734" y="9125"/>
                  </a:lnTo>
                  <a:lnTo>
                    <a:pt x="6465" y="9394"/>
                  </a:lnTo>
                  <a:lnTo>
                    <a:pt x="5960" y="9832"/>
                  </a:lnTo>
                  <a:lnTo>
                    <a:pt x="5421" y="10169"/>
                  </a:lnTo>
                  <a:lnTo>
                    <a:pt x="4916" y="10539"/>
                  </a:lnTo>
                  <a:lnTo>
                    <a:pt x="4512" y="10707"/>
                  </a:lnTo>
                  <a:lnTo>
                    <a:pt x="4075" y="10842"/>
                  </a:lnTo>
                  <a:lnTo>
                    <a:pt x="4546" y="10539"/>
                  </a:lnTo>
                  <a:lnTo>
                    <a:pt x="5017" y="10202"/>
                  </a:lnTo>
                  <a:lnTo>
                    <a:pt x="5994" y="9596"/>
                  </a:lnTo>
                  <a:lnTo>
                    <a:pt x="6465" y="9226"/>
                  </a:lnTo>
                  <a:lnTo>
                    <a:pt x="6936" y="8856"/>
                  </a:lnTo>
                  <a:lnTo>
                    <a:pt x="7206" y="8687"/>
                  </a:lnTo>
                  <a:lnTo>
                    <a:pt x="7441" y="8519"/>
                  </a:lnTo>
                  <a:lnTo>
                    <a:pt x="7711" y="8384"/>
                  </a:lnTo>
                  <a:lnTo>
                    <a:pt x="8014" y="8283"/>
                  </a:lnTo>
                  <a:lnTo>
                    <a:pt x="8317" y="8182"/>
                  </a:lnTo>
                  <a:lnTo>
                    <a:pt x="8384" y="8182"/>
                  </a:lnTo>
                  <a:lnTo>
                    <a:pt x="8418" y="8115"/>
                  </a:lnTo>
                  <a:lnTo>
                    <a:pt x="8418" y="8047"/>
                  </a:lnTo>
                  <a:lnTo>
                    <a:pt x="8384" y="7946"/>
                  </a:lnTo>
                  <a:lnTo>
                    <a:pt x="8249" y="7946"/>
                  </a:lnTo>
                  <a:lnTo>
                    <a:pt x="7913" y="8014"/>
                  </a:lnTo>
                  <a:lnTo>
                    <a:pt x="7408" y="8081"/>
                  </a:lnTo>
                  <a:lnTo>
                    <a:pt x="7138" y="8148"/>
                  </a:lnTo>
                  <a:lnTo>
                    <a:pt x="6869" y="8249"/>
                  </a:lnTo>
                  <a:lnTo>
                    <a:pt x="7172" y="8014"/>
                  </a:lnTo>
                  <a:lnTo>
                    <a:pt x="7576" y="7744"/>
                  </a:lnTo>
                  <a:lnTo>
                    <a:pt x="8014" y="7542"/>
                  </a:lnTo>
                  <a:lnTo>
                    <a:pt x="8889" y="7138"/>
                  </a:lnTo>
                  <a:lnTo>
                    <a:pt x="8956" y="7071"/>
                  </a:lnTo>
                  <a:lnTo>
                    <a:pt x="8956" y="6970"/>
                  </a:lnTo>
                  <a:lnTo>
                    <a:pt x="8889" y="6903"/>
                  </a:lnTo>
                  <a:lnTo>
                    <a:pt x="8822" y="6869"/>
                  </a:lnTo>
                  <a:lnTo>
                    <a:pt x="8620" y="6903"/>
                  </a:lnTo>
                  <a:lnTo>
                    <a:pt x="8418" y="6936"/>
                  </a:lnTo>
                  <a:lnTo>
                    <a:pt x="8081" y="7071"/>
                  </a:lnTo>
                  <a:lnTo>
                    <a:pt x="7744" y="7273"/>
                  </a:lnTo>
                  <a:lnTo>
                    <a:pt x="7408" y="7475"/>
                  </a:lnTo>
                  <a:lnTo>
                    <a:pt x="6330" y="8081"/>
                  </a:lnTo>
                  <a:lnTo>
                    <a:pt x="5287" y="8687"/>
                  </a:lnTo>
                  <a:lnTo>
                    <a:pt x="5085" y="8788"/>
                  </a:lnTo>
                  <a:lnTo>
                    <a:pt x="5455" y="8553"/>
                  </a:lnTo>
                  <a:lnTo>
                    <a:pt x="6162" y="7980"/>
                  </a:lnTo>
                  <a:lnTo>
                    <a:pt x="6869" y="7441"/>
                  </a:lnTo>
                  <a:lnTo>
                    <a:pt x="7239" y="7206"/>
                  </a:lnTo>
                  <a:lnTo>
                    <a:pt x="7610" y="6970"/>
                  </a:lnTo>
                  <a:lnTo>
                    <a:pt x="8014" y="6802"/>
                  </a:lnTo>
                  <a:lnTo>
                    <a:pt x="8451" y="6667"/>
                  </a:lnTo>
                  <a:lnTo>
                    <a:pt x="8519" y="6633"/>
                  </a:lnTo>
                  <a:lnTo>
                    <a:pt x="8552" y="6600"/>
                  </a:lnTo>
                  <a:lnTo>
                    <a:pt x="8552" y="6532"/>
                  </a:lnTo>
                  <a:lnTo>
                    <a:pt x="8519" y="6431"/>
                  </a:lnTo>
                  <a:lnTo>
                    <a:pt x="8485" y="6398"/>
                  </a:lnTo>
                  <a:lnTo>
                    <a:pt x="8418" y="6398"/>
                  </a:lnTo>
                  <a:lnTo>
                    <a:pt x="8081" y="6431"/>
                  </a:lnTo>
                  <a:lnTo>
                    <a:pt x="7744" y="6499"/>
                  </a:lnTo>
                  <a:lnTo>
                    <a:pt x="8216" y="6297"/>
                  </a:lnTo>
                  <a:lnTo>
                    <a:pt x="8687" y="6061"/>
                  </a:lnTo>
                  <a:lnTo>
                    <a:pt x="9125" y="5893"/>
                  </a:lnTo>
                  <a:close/>
                  <a:moveTo>
                    <a:pt x="6734" y="7172"/>
                  </a:moveTo>
                  <a:lnTo>
                    <a:pt x="6263" y="7542"/>
                  </a:lnTo>
                  <a:lnTo>
                    <a:pt x="5758" y="7946"/>
                  </a:lnTo>
                  <a:lnTo>
                    <a:pt x="5186" y="8418"/>
                  </a:lnTo>
                  <a:lnTo>
                    <a:pt x="4613" y="8822"/>
                  </a:lnTo>
                  <a:lnTo>
                    <a:pt x="3401" y="9596"/>
                  </a:lnTo>
                  <a:lnTo>
                    <a:pt x="2997" y="9798"/>
                  </a:lnTo>
                  <a:lnTo>
                    <a:pt x="2627" y="10034"/>
                  </a:lnTo>
                  <a:lnTo>
                    <a:pt x="2256" y="10270"/>
                  </a:lnTo>
                  <a:lnTo>
                    <a:pt x="1886" y="10539"/>
                  </a:lnTo>
                  <a:lnTo>
                    <a:pt x="1852" y="10573"/>
                  </a:lnTo>
                  <a:lnTo>
                    <a:pt x="1852" y="10640"/>
                  </a:lnTo>
                  <a:lnTo>
                    <a:pt x="1886" y="10707"/>
                  </a:lnTo>
                  <a:lnTo>
                    <a:pt x="1953" y="10775"/>
                  </a:lnTo>
                  <a:lnTo>
                    <a:pt x="2054" y="10775"/>
                  </a:lnTo>
                  <a:lnTo>
                    <a:pt x="3502" y="9832"/>
                  </a:lnTo>
                  <a:lnTo>
                    <a:pt x="4512" y="9361"/>
                  </a:lnTo>
                  <a:lnTo>
                    <a:pt x="4142" y="9563"/>
                  </a:lnTo>
                  <a:lnTo>
                    <a:pt x="3738" y="9832"/>
                  </a:lnTo>
                  <a:lnTo>
                    <a:pt x="3334" y="10135"/>
                  </a:lnTo>
                  <a:lnTo>
                    <a:pt x="2964" y="10438"/>
                  </a:lnTo>
                  <a:lnTo>
                    <a:pt x="2560" y="10741"/>
                  </a:lnTo>
                  <a:lnTo>
                    <a:pt x="2492" y="10775"/>
                  </a:lnTo>
                  <a:lnTo>
                    <a:pt x="2492" y="10808"/>
                  </a:lnTo>
                  <a:lnTo>
                    <a:pt x="2492" y="10909"/>
                  </a:lnTo>
                  <a:lnTo>
                    <a:pt x="2560" y="10977"/>
                  </a:lnTo>
                  <a:lnTo>
                    <a:pt x="2694" y="10977"/>
                  </a:lnTo>
                  <a:lnTo>
                    <a:pt x="2997" y="10775"/>
                  </a:lnTo>
                  <a:lnTo>
                    <a:pt x="3368" y="10640"/>
                  </a:lnTo>
                  <a:lnTo>
                    <a:pt x="3704" y="10472"/>
                  </a:lnTo>
                  <a:lnTo>
                    <a:pt x="4041" y="10303"/>
                  </a:lnTo>
                  <a:lnTo>
                    <a:pt x="4782" y="9899"/>
                  </a:lnTo>
                  <a:lnTo>
                    <a:pt x="5489" y="9428"/>
                  </a:lnTo>
                  <a:lnTo>
                    <a:pt x="6128" y="8990"/>
                  </a:lnTo>
                  <a:lnTo>
                    <a:pt x="6802" y="8586"/>
                  </a:lnTo>
                  <a:lnTo>
                    <a:pt x="6936" y="8519"/>
                  </a:lnTo>
                  <a:lnTo>
                    <a:pt x="6465" y="8856"/>
                  </a:lnTo>
                  <a:lnTo>
                    <a:pt x="5994" y="9226"/>
                  </a:lnTo>
                  <a:lnTo>
                    <a:pt x="5388" y="9664"/>
                  </a:lnTo>
                  <a:lnTo>
                    <a:pt x="4748" y="10101"/>
                  </a:lnTo>
                  <a:lnTo>
                    <a:pt x="4108" y="10505"/>
                  </a:lnTo>
                  <a:lnTo>
                    <a:pt x="3502" y="10977"/>
                  </a:lnTo>
                  <a:lnTo>
                    <a:pt x="3435" y="11044"/>
                  </a:lnTo>
                  <a:lnTo>
                    <a:pt x="3469" y="11111"/>
                  </a:lnTo>
                  <a:lnTo>
                    <a:pt x="3502" y="11179"/>
                  </a:lnTo>
                  <a:lnTo>
                    <a:pt x="3603" y="11212"/>
                  </a:lnTo>
                  <a:lnTo>
                    <a:pt x="3974" y="11179"/>
                  </a:lnTo>
                  <a:lnTo>
                    <a:pt x="4310" y="11078"/>
                  </a:lnTo>
                  <a:lnTo>
                    <a:pt x="4310" y="11145"/>
                  </a:lnTo>
                  <a:lnTo>
                    <a:pt x="4344" y="11246"/>
                  </a:lnTo>
                  <a:lnTo>
                    <a:pt x="4378" y="11280"/>
                  </a:lnTo>
                  <a:lnTo>
                    <a:pt x="4479" y="11280"/>
                  </a:lnTo>
                  <a:lnTo>
                    <a:pt x="5152" y="11044"/>
                  </a:lnTo>
                  <a:lnTo>
                    <a:pt x="5489" y="10943"/>
                  </a:lnTo>
                  <a:lnTo>
                    <a:pt x="5825" y="10808"/>
                  </a:lnTo>
                  <a:lnTo>
                    <a:pt x="5859" y="10876"/>
                  </a:lnTo>
                  <a:lnTo>
                    <a:pt x="5926" y="10909"/>
                  </a:lnTo>
                  <a:lnTo>
                    <a:pt x="6128" y="10909"/>
                  </a:lnTo>
                  <a:lnTo>
                    <a:pt x="6263" y="10876"/>
                  </a:lnTo>
                  <a:lnTo>
                    <a:pt x="5859" y="11044"/>
                  </a:lnTo>
                  <a:lnTo>
                    <a:pt x="5421" y="11212"/>
                  </a:lnTo>
                  <a:lnTo>
                    <a:pt x="4984" y="11313"/>
                  </a:lnTo>
                  <a:lnTo>
                    <a:pt x="4512" y="11381"/>
                  </a:lnTo>
                  <a:lnTo>
                    <a:pt x="4041" y="11414"/>
                  </a:lnTo>
                  <a:lnTo>
                    <a:pt x="3570" y="11381"/>
                  </a:lnTo>
                  <a:lnTo>
                    <a:pt x="3098" y="11347"/>
                  </a:lnTo>
                  <a:lnTo>
                    <a:pt x="2593" y="11246"/>
                  </a:lnTo>
                  <a:lnTo>
                    <a:pt x="2088" y="11111"/>
                  </a:lnTo>
                  <a:lnTo>
                    <a:pt x="1617" y="10943"/>
                  </a:lnTo>
                  <a:lnTo>
                    <a:pt x="1179" y="10741"/>
                  </a:lnTo>
                  <a:lnTo>
                    <a:pt x="741" y="10505"/>
                  </a:lnTo>
                  <a:lnTo>
                    <a:pt x="775" y="10505"/>
                  </a:lnTo>
                  <a:lnTo>
                    <a:pt x="1246" y="10236"/>
                  </a:lnTo>
                  <a:lnTo>
                    <a:pt x="1718" y="10034"/>
                  </a:lnTo>
                  <a:lnTo>
                    <a:pt x="2189" y="9832"/>
                  </a:lnTo>
                  <a:lnTo>
                    <a:pt x="2694" y="9630"/>
                  </a:lnTo>
                  <a:lnTo>
                    <a:pt x="3166" y="9394"/>
                  </a:lnTo>
                  <a:lnTo>
                    <a:pt x="3637" y="9125"/>
                  </a:lnTo>
                  <a:lnTo>
                    <a:pt x="4546" y="8586"/>
                  </a:lnTo>
                  <a:lnTo>
                    <a:pt x="5623" y="7845"/>
                  </a:lnTo>
                  <a:lnTo>
                    <a:pt x="6196" y="7475"/>
                  </a:lnTo>
                  <a:lnTo>
                    <a:pt x="6734" y="7172"/>
                  </a:lnTo>
                  <a:close/>
                  <a:moveTo>
                    <a:pt x="3637" y="1"/>
                  </a:moveTo>
                  <a:lnTo>
                    <a:pt x="3031" y="68"/>
                  </a:lnTo>
                  <a:lnTo>
                    <a:pt x="2492" y="203"/>
                  </a:lnTo>
                  <a:lnTo>
                    <a:pt x="1920" y="371"/>
                  </a:lnTo>
                  <a:lnTo>
                    <a:pt x="1415" y="573"/>
                  </a:lnTo>
                  <a:lnTo>
                    <a:pt x="910" y="843"/>
                  </a:lnTo>
                  <a:lnTo>
                    <a:pt x="438" y="1146"/>
                  </a:lnTo>
                  <a:lnTo>
                    <a:pt x="1" y="1516"/>
                  </a:lnTo>
                  <a:lnTo>
                    <a:pt x="1" y="1853"/>
                  </a:lnTo>
                  <a:lnTo>
                    <a:pt x="270" y="1617"/>
                  </a:lnTo>
                  <a:lnTo>
                    <a:pt x="539" y="1381"/>
                  </a:lnTo>
                  <a:lnTo>
                    <a:pt x="842" y="1179"/>
                  </a:lnTo>
                  <a:lnTo>
                    <a:pt x="1145" y="1011"/>
                  </a:lnTo>
                  <a:lnTo>
                    <a:pt x="1448" y="843"/>
                  </a:lnTo>
                  <a:lnTo>
                    <a:pt x="1785" y="674"/>
                  </a:lnTo>
                  <a:lnTo>
                    <a:pt x="2122" y="573"/>
                  </a:lnTo>
                  <a:lnTo>
                    <a:pt x="1953" y="641"/>
                  </a:lnTo>
                  <a:lnTo>
                    <a:pt x="1448" y="876"/>
                  </a:lnTo>
                  <a:lnTo>
                    <a:pt x="977" y="1146"/>
                  </a:lnTo>
                  <a:lnTo>
                    <a:pt x="539" y="1449"/>
                  </a:lnTo>
                  <a:lnTo>
                    <a:pt x="506" y="1516"/>
                  </a:lnTo>
                  <a:lnTo>
                    <a:pt x="506" y="1583"/>
                  </a:lnTo>
                  <a:lnTo>
                    <a:pt x="539" y="1617"/>
                  </a:lnTo>
                  <a:lnTo>
                    <a:pt x="640" y="1617"/>
                  </a:lnTo>
                  <a:lnTo>
                    <a:pt x="1314" y="1213"/>
                  </a:lnTo>
                  <a:lnTo>
                    <a:pt x="2021" y="843"/>
                  </a:lnTo>
                  <a:lnTo>
                    <a:pt x="2492" y="674"/>
                  </a:lnTo>
                  <a:lnTo>
                    <a:pt x="2930" y="540"/>
                  </a:lnTo>
                  <a:lnTo>
                    <a:pt x="3401" y="438"/>
                  </a:lnTo>
                  <a:lnTo>
                    <a:pt x="3873" y="405"/>
                  </a:lnTo>
                  <a:lnTo>
                    <a:pt x="2863" y="775"/>
                  </a:lnTo>
                  <a:lnTo>
                    <a:pt x="1852" y="1146"/>
                  </a:lnTo>
                  <a:lnTo>
                    <a:pt x="1347" y="1348"/>
                  </a:lnTo>
                  <a:lnTo>
                    <a:pt x="876" y="1583"/>
                  </a:lnTo>
                  <a:lnTo>
                    <a:pt x="405" y="1853"/>
                  </a:lnTo>
                  <a:lnTo>
                    <a:pt x="1" y="2156"/>
                  </a:lnTo>
                  <a:lnTo>
                    <a:pt x="1" y="2492"/>
                  </a:lnTo>
                  <a:lnTo>
                    <a:pt x="640" y="2189"/>
                  </a:lnTo>
                  <a:lnTo>
                    <a:pt x="1280" y="1886"/>
                  </a:lnTo>
                  <a:lnTo>
                    <a:pt x="1953" y="1617"/>
                  </a:lnTo>
                  <a:lnTo>
                    <a:pt x="2627" y="1348"/>
                  </a:lnTo>
                  <a:lnTo>
                    <a:pt x="3300" y="1146"/>
                  </a:lnTo>
                  <a:lnTo>
                    <a:pt x="4007" y="1011"/>
                  </a:lnTo>
                  <a:lnTo>
                    <a:pt x="4546" y="876"/>
                  </a:lnTo>
                  <a:lnTo>
                    <a:pt x="4849" y="843"/>
                  </a:lnTo>
                  <a:lnTo>
                    <a:pt x="5152" y="809"/>
                  </a:lnTo>
                  <a:lnTo>
                    <a:pt x="4815" y="944"/>
                  </a:lnTo>
                  <a:lnTo>
                    <a:pt x="4512" y="1011"/>
                  </a:lnTo>
                  <a:lnTo>
                    <a:pt x="3873" y="1179"/>
                  </a:lnTo>
                  <a:lnTo>
                    <a:pt x="3098" y="1415"/>
                  </a:lnTo>
                  <a:lnTo>
                    <a:pt x="2324" y="1684"/>
                  </a:lnTo>
                  <a:lnTo>
                    <a:pt x="1650" y="1920"/>
                  </a:lnTo>
                  <a:lnTo>
                    <a:pt x="842" y="2189"/>
                  </a:lnTo>
                  <a:lnTo>
                    <a:pt x="438" y="2324"/>
                  </a:lnTo>
                  <a:lnTo>
                    <a:pt x="1" y="2526"/>
                  </a:lnTo>
                  <a:lnTo>
                    <a:pt x="1" y="2829"/>
                  </a:lnTo>
                  <a:lnTo>
                    <a:pt x="236" y="2728"/>
                  </a:lnTo>
                  <a:lnTo>
                    <a:pt x="1" y="2863"/>
                  </a:lnTo>
                  <a:lnTo>
                    <a:pt x="1" y="3132"/>
                  </a:lnTo>
                  <a:lnTo>
                    <a:pt x="876" y="2627"/>
                  </a:lnTo>
                  <a:lnTo>
                    <a:pt x="1314" y="2391"/>
                  </a:lnTo>
                  <a:lnTo>
                    <a:pt x="1785" y="2189"/>
                  </a:lnTo>
                  <a:lnTo>
                    <a:pt x="2762" y="1819"/>
                  </a:lnTo>
                  <a:lnTo>
                    <a:pt x="3267" y="1651"/>
                  </a:lnTo>
                  <a:lnTo>
                    <a:pt x="3772" y="1516"/>
                  </a:lnTo>
                  <a:lnTo>
                    <a:pt x="4310" y="1415"/>
                  </a:lnTo>
                  <a:lnTo>
                    <a:pt x="4815" y="1314"/>
                  </a:lnTo>
                  <a:lnTo>
                    <a:pt x="5354" y="1280"/>
                  </a:lnTo>
                  <a:lnTo>
                    <a:pt x="5859" y="1314"/>
                  </a:lnTo>
                  <a:lnTo>
                    <a:pt x="5085" y="1550"/>
                  </a:lnTo>
                  <a:lnTo>
                    <a:pt x="3839" y="1987"/>
                  </a:lnTo>
                  <a:lnTo>
                    <a:pt x="1718" y="2795"/>
                  </a:lnTo>
                  <a:lnTo>
                    <a:pt x="842" y="3166"/>
                  </a:lnTo>
                  <a:lnTo>
                    <a:pt x="405" y="3368"/>
                  </a:lnTo>
                  <a:lnTo>
                    <a:pt x="1" y="3603"/>
                  </a:lnTo>
                  <a:lnTo>
                    <a:pt x="1" y="3906"/>
                  </a:lnTo>
                  <a:lnTo>
                    <a:pt x="539" y="3570"/>
                  </a:lnTo>
                  <a:lnTo>
                    <a:pt x="1145" y="3300"/>
                  </a:lnTo>
                  <a:lnTo>
                    <a:pt x="1718" y="3065"/>
                  </a:lnTo>
                  <a:lnTo>
                    <a:pt x="2290" y="2829"/>
                  </a:lnTo>
                  <a:lnTo>
                    <a:pt x="4411" y="2055"/>
                  </a:lnTo>
                  <a:lnTo>
                    <a:pt x="4512" y="2021"/>
                  </a:lnTo>
                  <a:lnTo>
                    <a:pt x="3300" y="2526"/>
                  </a:lnTo>
                  <a:lnTo>
                    <a:pt x="2155" y="2997"/>
                  </a:lnTo>
                  <a:lnTo>
                    <a:pt x="977" y="3502"/>
                  </a:lnTo>
                  <a:lnTo>
                    <a:pt x="506" y="3772"/>
                  </a:lnTo>
                  <a:lnTo>
                    <a:pt x="1" y="4075"/>
                  </a:lnTo>
                  <a:lnTo>
                    <a:pt x="1" y="4310"/>
                  </a:lnTo>
                  <a:lnTo>
                    <a:pt x="438" y="4041"/>
                  </a:lnTo>
                  <a:lnTo>
                    <a:pt x="977" y="3772"/>
                  </a:lnTo>
                  <a:lnTo>
                    <a:pt x="1516" y="3536"/>
                  </a:lnTo>
                  <a:lnTo>
                    <a:pt x="741" y="4007"/>
                  </a:lnTo>
                  <a:lnTo>
                    <a:pt x="1" y="4512"/>
                  </a:lnTo>
                  <a:lnTo>
                    <a:pt x="1" y="4782"/>
                  </a:lnTo>
                  <a:lnTo>
                    <a:pt x="236" y="4613"/>
                  </a:lnTo>
                  <a:lnTo>
                    <a:pt x="876" y="4209"/>
                  </a:lnTo>
                  <a:lnTo>
                    <a:pt x="1516" y="3839"/>
                  </a:lnTo>
                  <a:lnTo>
                    <a:pt x="2189" y="3502"/>
                  </a:lnTo>
                  <a:lnTo>
                    <a:pt x="2863" y="3199"/>
                  </a:lnTo>
                  <a:lnTo>
                    <a:pt x="4243" y="2694"/>
                  </a:lnTo>
                  <a:lnTo>
                    <a:pt x="5590" y="2189"/>
                  </a:lnTo>
                  <a:lnTo>
                    <a:pt x="6398" y="1853"/>
                  </a:lnTo>
                  <a:lnTo>
                    <a:pt x="6802" y="1684"/>
                  </a:lnTo>
                  <a:lnTo>
                    <a:pt x="7138" y="1415"/>
                  </a:lnTo>
                  <a:lnTo>
                    <a:pt x="7475" y="1718"/>
                  </a:lnTo>
                  <a:lnTo>
                    <a:pt x="7812" y="2055"/>
                  </a:lnTo>
                  <a:lnTo>
                    <a:pt x="8115" y="2425"/>
                  </a:lnTo>
                  <a:lnTo>
                    <a:pt x="8384" y="2795"/>
                  </a:lnTo>
                  <a:lnTo>
                    <a:pt x="8350" y="2795"/>
                  </a:lnTo>
                  <a:lnTo>
                    <a:pt x="8014" y="2829"/>
                  </a:lnTo>
                  <a:lnTo>
                    <a:pt x="7711" y="2896"/>
                  </a:lnTo>
                  <a:lnTo>
                    <a:pt x="7408" y="3031"/>
                  </a:lnTo>
                  <a:lnTo>
                    <a:pt x="7071" y="3166"/>
                  </a:lnTo>
                  <a:lnTo>
                    <a:pt x="6499" y="3469"/>
                  </a:lnTo>
                  <a:lnTo>
                    <a:pt x="5926" y="3805"/>
                  </a:lnTo>
                  <a:lnTo>
                    <a:pt x="5893" y="3805"/>
                  </a:lnTo>
                  <a:lnTo>
                    <a:pt x="3098" y="5118"/>
                  </a:lnTo>
                  <a:lnTo>
                    <a:pt x="2290" y="5455"/>
                  </a:lnTo>
                  <a:lnTo>
                    <a:pt x="2863" y="5118"/>
                  </a:lnTo>
                  <a:lnTo>
                    <a:pt x="4714" y="4007"/>
                  </a:lnTo>
                  <a:lnTo>
                    <a:pt x="5489" y="3772"/>
                  </a:lnTo>
                  <a:lnTo>
                    <a:pt x="6263" y="3469"/>
                  </a:lnTo>
                  <a:lnTo>
                    <a:pt x="7004" y="3166"/>
                  </a:lnTo>
                  <a:lnTo>
                    <a:pt x="7374" y="2964"/>
                  </a:lnTo>
                  <a:lnTo>
                    <a:pt x="7744" y="2762"/>
                  </a:lnTo>
                  <a:lnTo>
                    <a:pt x="7778" y="2694"/>
                  </a:lnTo>
                  <a:lnTo>
                    <a:pt x="7812" y="2627"/>
                  </a:lnTo>
                  <a:lnTo>
                    <a:pt x="7744" y="2560"/>
                  </a:lnTo>
                  <a:lnTo>
                    <a:pt x="7677" y="2526"/>
                  </a:lnTo>
                  <a:lnTo>
                    <a:pt x="7239" y="2593"/>
                  </a:lnTo>
                  <a:lnTo>
                    <a:pt x="6802" y="2694"/>
                  </a:lnTo>
                  <a:lnTo>
                    <a:pt x="6364" y="2829"/>
                  </a:lnTo>
                  <a:lnTo>
                    <a:pt x="5960" y="3031"/>
                  </a:lnTo>
                  <a:lnTo>
                    <a:pt x="5522" y="3199"/>
                  </a:lnTo>
                  <a:lnTo>
                    <a:pt x="5118" y="3435"/>
                  </a:lnTo>
                  <a:lnTo>
                    <a:pt x="4310" y="3906"/>
                  </a:lnTo>
                  <a:lnTo>
                    <a:pt x="3536" y="4176"/>
                  </a:lnTo>
                  <a:lnTo>
                    <a:pt x="2728" y="4445"/>
                  </a:lnTo>
                  <a:lnTo>
                    <a:pt x="4479" y="3502"/>
                  </a:lnTo>
                  <a:lnTo>
                    <a:pt x="5623" y="2896"/>
                  </a:lnTo>
                  <a:lnTo>
                    <a:pt x="6128" y="2627"/>
                  </a:lnTo>
                  <a:lnTo>
                    <a:pt x="6768" y="2425"/>
                  </a:lnTo>
                  <a:lnTo>
                    <a:pt x="7071" y="2290"/>
                  </a:lnTo>
                  <a:lnTo>
                    <a:pt x="7374" y="2156"/>
                  </a:lnTo>
                  <a:lnTo>
                    <a:pt x="7441" y="2122"/>
                  </a:lnTo>
                  <a:lnTo>
                    <a:pt x="7441" y="2021"/>
                  </a:lnTo>
                  <a:lnTo>
                    <a:pt x="7408" y="1954"/>
                  </a:lnTo>
                  <a:lnTo>
                    <a:pt x="7307" y="1920"/>
                  </a:lnTo>
                  <a:lnTo>
                    <a:pt x="6970" y="1987"/>
                  </a:lnTo>
                  <a:lnTo>
                    <a:pt x="6600" y="2088"/>
                  </a:lnTo>
                  <a:lnTo>
                    <a:pt x="6263" y="2257"/>
                  </a:lnTo>
                  <a:lnTo>
                    <a:pt x="5926" y="2425"/>
                  </a:lnTo>
                  <a:lnTo>
                    <a:pt x="5421" y="2593"/>
                  </a:lnTo>
                  <a:lnTo>
                    <a:pt x="4950" y="2762"/>
                  </a:lnTo>
                  <a:lnTo>
                    <a:pt x="3873" y="3199"/>
                  </a:lnTo>
                  <a:lnTo>
                    <a:pt x="2795" y="3671"/>
                  </a:lnTo>
                  <a:lnTo>
                    <a:pt x="472" y="4782"/>
                  </a:lnTo>
                  <a:lnTo>
                    <a:pt x="1" y="5017"/>
                  </a:lnTo>
                  <a:lnTo>
                    <a:pt x="1" y="5320"/>
                  </a:lnTo>
                  <a:lnTo>
                    <a:pt x="169" y="5219"/>
                  </a:lnTo>
                  <a:lnTo>
                    <a:pt x="2694" y="4007"/>
                  </a:lnTo>
                  <a:lnTo>
                    <a:pt x="4209" y="3334"/>
                  </a:lnTo>
                  <a:lnTo>
                    <a:pt x="2728" y="4142"/>
                  </a:lnTo>
                  <a:lnTo>
                    <a:pt x="1650" y="4681"/>
                  </a:lnTo>
                  <a:lnTo>
                    <a:pt x="539" y="5219"/>
                  </a:lnTo>
                  <a:lnTo>
                    <a:pt x="1" y="5556"/>
                  </a:lnTo>
                  <a:lnTo>
                    <a:pt x="1" y="5960"/>
                  </a:lnTo>
                  <a:lnTo>
                    <a:pt x="775" y="5590"/>
                  </a:lnTo>
                  <a:lnTo>
                    <a:pt x="1415" y="5287"/>
                  </a:lnTo>
                  <a:lnTo>
                    <a:pt x="2088" y="4984"/>
                  </a:lnTo>
                  <a:lnTo>
                    <a:pt x="3435" y="4445"/>
                  </a:lnTo>
                  <a:lnTo>
                    <a:pt x="2728" y="4883"/>
                  </a:lnTo>
                  <a:lnTo>
                    <a:pt x="2088" y="5253"/>
                  </a:lnTo>
                  <a:lnTo>
                    <a:pt x="1448" y="5590"/>
                  </a:lnTo>
                  <a:lnTo>
                    <a:pt x="135" y="6263"/>
                  </a:lnTo>
                  <a:lnTo>
                    <a:pt x="1" y="6330"/>
                  </a:lnTo>
                  <a:lnTo>
                    <a:pt x="1" y="6768"/>
                  </a:lnTo>
                  <a:lnTo>
                    <a:pt x="371" y="6566"/>
                  </a:lnTo>
                  <a:lnTo>
                    <a:pt x="842" y="6364"/>
                  </a:lnTo>
                  <a:lnTo>
                    <a:pt x="405" y="6600"/>
                  </a:lnTo>
                  <a:lnTo>
                    <a:pt x="1" y="6903"/>
                  </a:lnTo>
                  <a:lnTo>
                    <a:pt x="1" y="7509"/>
                  </a:lnTo>
                  <a:lnTo>
                    <a:pt x="1112" y="6970"/>
                  </a:lnTo>
                  <a:lnTo>
                    <a:pt x="2290" y="6398"/>
                  </a:lnTo>
                  <a:lnTo>
                    <a:pt x="3300" y="5977"/>
                  </a:lnTo>
                  <a:lnTo>
                    <a:pt x="2189" y="6532"/>
                  </a:lnTo>
                  <a:lnTo>
                    <a:pt x="1617" y="6835"/>
                  </a:lnTo>
                  <a:lnTo>
                    <a:pt x="1011" y="7206"/>
                  </a:lnTo>
                  <a:lnTo>
                    <a:pt x="573" y="7542"/>
                  </a:lnTo>
                  <a:lnTo>
                    <a:pt x="102" y="7879"/>
                  </a:lnTo>
                  <a:lnTo>
                    <a:pt x="1" y="7946"/>
                  </a:lnTo>
                  <a:lnTo>
                    <a:pt x="1" y="8485"/>
                  </a:lnTo>
                  <a:lnTo>
                    <a:pt x="640" y="8081"/>
                  </a:lnTo>
                  <a:lnTo>
                    <a:pt x="1314" y="7677"/>
                  </a:lnTo>
                  <a:lnTo>
                    <a:pt x="1718" y="7475"/>
                  </a:lnTo>
                  <a:lnTo>
                    <a:pt x="2122" y="7307"/>
                  </a:lnTo>
                  <a:lnTo>
                    <a:pt x="1078" y="8115"/>
                  </a:lnTo>
                  <a:lnTo>
                    <a:pt x="34" y="8923"/>
                  </a:lnTo>
                  <a:lnTo>
                    <a:pt x="1" y="8923"/>
                  </a:lnTo>
                  <a:lnTo>
                    <a:pt x="1" y="9293"/>
                  </a:lnTo>
                  <a:lnTo>
                    <a:pt x="236" y="9125"/>
                  </a:lnTo>
                  <a:lnTo>
                    <a:pt x="876" y="8856"/>
                  </a:lnTo>
                  <a:lnTo>
                    <a:pt x="1448" y="8620"/>
                  </a:lnTo>
                  <a:lnTo>
                    <a:pt x="1886" y="8451"/>
                  </a:lnTo>
                  <a:lnTo>
                    <a:pt x="1011" y="9024"/>
                  </a:lnTo>
                  <a:lnTo>
                    <a:pt x="135" y="9563"/>
                  </a:lnTo>
                  <a:lnTo>
                    <a:pt x="102" y="9596"/>
                  </a:lnTo>
                  <a:lnTo>
                    <a:pt x="68" y="9630"/>
                  </a:lnTo>
                  <a:lnTo>
                    <a:pt x="102" y="9731"/>
                  </a:lnTo>
                  <a:lnTo>
                    <a:pt x="135" y="9798"/>
                  </a:lnTo>
                  <a:lnTo>
                    <a:pt x="236" y="9798"/>
                  </a:lnTo>
                  <a:lnTo>
                    <a:pt x="1213" y="9495"/>
                  </a:lnTo>
                  <a:lnTo>
                    <a:pt x="1684" y="9327"/>
                  </a:lnTo>
                  <a:lnTo>
                    <a:pt x="2155" y="9159"/>
                  </a:lnTo>
                  <a:lnTo>
                    <a:pt x="2694" y="8889"/>
                  </a:lnTo>
                  <a:lnTo>
                    <a:pt x="3233" y="8620"/>
                  </a:lnTo>
                  <a:lnTo>
                    <a:pt x="4277" y="8047"/>
                  </a:lnTo>
                  <a:lnTo>
                    <a:pt x="5219" y="7542"/>
                  </a:lnTo>
                  <a:lnTo>
                    <a:pt x="6162" y="7105"/>
                  </a:lnTo>
                  <a:lnTo>
                    <a:pt x="5085" y="7744"/>
                  </a:lnTo>
                  <a:lnTo>
                    <a:pt x="2863" y="8990"/>
                  </a:lnTo>
                  <a:lnTo>
                    <a:pt x="640" y="10236"/>
                  </a:lnTo>
                  <a:lnTo>
                    <a:pt x="573" y="10303"/>
                  </a:lnTo>
                  <a:lnTo>
                    <a:pt x="573" y="10404"/>
                  </a:lnTo>
                  <a:lnTo>
                    <a:pt x="270" y="10169"/>
                  </a:lnTo>
                  <a:lnTo>
                    <a:pt x="1" y="9967"/>
                  </a:lnTo>
                  <a:lnTo>
                    <a:pt x="1" y="10270"/>
                  </a:lnTo>
                  <a:lnTo>
                    <a:pt x="371" y="10573"/>
                  </a:lnTo>
                  <a:lnTo>
                    <a:pt x="809" y="10808"/>
                  </a:lnTo>
                  <a:lnTo>
                    <a:pt x="1179" y="11010"/>
                  </a:lnTo>
                  <a:lnTo>
                    <a:pt x="1583" y="11212"/>
                  </a:lnTo>
                  <a:lnTo>
                    <a:pt x="1987" y="11347"/>
                  </a:lnTo>
                  <a:lnTo>
                    <a:pt x="2425" y="11482"/>
                  </a:lnTo>
                  <a:lnTo>
                    <a:pt x="2863" y="11549"/>
                  </a:lnTo>
                  <a:lnTo>
                    <a:pt x="3267" y="11616"/>
                  </a:lnTo>
                  <a:lnTo>
                    <a:pt x="3704" y="11650"/>
                  </a:lnTo>
                  <a:lnTo>
                    <a:pt x="4142" y="11650"/>
                  </a:lnTo>
                  <a:lnTo>
                    <a:pt x="4580" y="11616"/>
                  </a:lnTo>
                  <a:lnTo>
                    <a:pt x="5017" y="11549"/>
                  </a:lnTo>
                  <a:lnTo>
                    <a:pt x="5421" y="11448"/>
                  </a:lnTo>
                  <a:lnTo>
                    <a:pt x="5825" y="11347"/>
                  </a:lnTo>
                  <a:lnTo>
                    <a:pt x="6229" y="11179"/>
                  </a:lnTo>
                  <a:lnTo>
                    <a:pt x="6633" y="10977"/>
                  </a:lnTo>
                  <a:lnTo>
                    <a:pt x="7004" y="10741"/>
                  </a:lnTo>
                  <a:lnTo>
                    <a:pt x="7374" y="10505"/>
                  </a:lnTo>
                  <a:lnTo>
                    <a:pt x="7744" y="10135"/>
                  </a:lnTo>
                  <a:lnTo>
                    <a:pt x="8081" y="9731"/>
                  </a:lnTo>
                  <a:lnTo>
                    <a:pt x="8418" y="9293"/>
                  </a:lnTo>
                  <a:lnTo>
                    <a:pt x="8653" y="8856"/>
                  </a:lnTo>
                  <a:lnTo>
                    <a:pt x="8889" y="8350"/>
                  </a:lnTo>
                  <a:lnTo>
                    <a:pt x="9057" y="7812"/>
                  </a:lnTo>
                  <a:lnTo>
                    <a:pt x="9226" y="7273"/>
                  </a:lnTo>
                  <a:lnTo>
                    <a:pt x="9293" y="6734"/>
                  </a:lnTo>
                  <a:lnTo>
                    <a:pt x="9360" y="6196"/>
                  </a:lnTo>
                  <a:lnTo>
                    <a:pt x="9360" y="5623"/>
                  </a:lnTo>
                  <a:lnTo>
                    <a:pt x="9327" y="5085"/>
                  </a:lnTo>
                  <a:lnTo>
                    <a:pt x="9259" y="4546"/>
                  </a:lnTo>
                  <a:lnTo>
                    <a:pt x="9158" y="4007"/>
                  </a:lnTo>
                  <a:lnTo>
                    <a:pt x="8990" y="3502"/>
                  </a:lnTo>
                  <a:lnTo>
                    <a:pt x="8788" y="3031"/>
                  </a:lnTo>
                  <a:lnTo>
                    <a:pt x="8519" y="2560"/>
                  </a:lnTo>
                  <a:lnTo>
                    <a:pt x="8283" y="2189"/>
                  </a:lnTo>
                  <a:lnTo>
                    <a:pt x="7980" y="1853"/>
                  </a:lnTo>
                  <a:lnTo>
                    <a:pt x="7677" y="1550"/>
                  </a:lnTo>
                  <a:lnTo>
                    <a:pt x="7340" y="1247"/>
                  </a:lnTo>
                  <a:lnTo>
                    <a:pt x="7374" y="1179"/>
                  </a:lnTo>
                  <a:lnTo>
                    <a:pt x="7374" y="1112"/>
                  </a:lnTo>
                  <a:lnTo>
                    <a:pt x="7307" y="1045"/>
                  </a:lnTo>
                  <a:lnTo>
                    <a:pt x="7071" y="1045"/>
                  </a:lnTo>
                  <a:lnTo>
                    <a:pt x="6768" y="843"/>
                  </a:lnTo>
                  <a:lnTo>
                    <a:pt x="6431" y="674"/>
                  </a:lnTo>
                  <a:lnTo>
                    <a:pt x="6095" y="506"/>
                  </a:lnTo>
                  <a:lnTo>
                    <a:pt x="5758" y="371"/>
                  </a:lnTo>
                  <a:lnTo>
                    <a:pt x="5388" y="270"/>
                  </a:lnTo>
                  <a:lnTo>
                    <a:pt x="5051" y="203"/>
                  </a:lnTo>
                  <a:lnTo>
                    <a:pt x="4681" y="135"/>
                  </a:lnTo>
                  <a:lnTo>
                    <a:pt x="4310" y="102"/>
                  </a:lnTo>
                  <a:lnTo>
                    <a:pt x="4277" y="34"/>
                  </a:lnTo>
                  <a:lnTo>
                    <a:pt x="4209" y="34"/>
                  </a:lnTo>
                  <a:lnTo>
                    <a:pt x="363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hape 744"/>
            <p:cNvSpPr/>
            <p:nvPr/>
          </p:nvSpPr>
          <p:spPr>
            <a:xfrm>
              <a:off x="2293920" y="13464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2">
                  <a:moveTo>
                    <a:pt x="2256" y="236"/>
                  </a:moveTo>
                  <a:lnTo>
                    <a:pt x="2256" y="674"/>
                  </a:lnTo>
                  <a:lnTo>
                    <a:pt x="2290" y="1078"/>
                  </a:lnTo>
                  <a:lnTo>
                    <a:pt x="2290" y="1617"/>
                  </a:lnTo>
                  <a:lnTo>
                    <a:pt x="2323" y="2122"/>
                  </a:lnTo>
                  <a:lnTo>
                    <a:pt x="2121" y="2088"/>
                  </a:lnTo>
                  <a:lnTo>
                    <a:pt x="1886" y="2088"/>
                  </a:lnTo>
                  <a:lnTo>
                    <a:pt x="1448" y="2122"/>
                  </a:lnTo>
                  <a:lnTo>
                    <a:pt x="909" y="2122"/>
                  </a:lnTo>
                  <a:lnTo>
                    <a:pt x="640" y="2156"/>
                  </a:lnTo>
                  <a:lnTo>
                    <a:pt x="370" y="2223"/>
                  </a:lnTo>
                  <a:lnTo>
                    <a:pt x="337" y="1684"/>
                  </a:lnTo>
                  <a:lnTo>
                    <a:pt x="269" y="1146"/>
                  </a:lnTo>
                  <a:lnTo>
                    <a:pt x="236" y="708"/>
                  </a:lnTo>
                  <a:lnTo>
                    <a:pt x="168" y="270"/>
                  </a:lnTo>
                  <a:lnTo>
                    <a:pt x="673" y="304"/>
                  </a:lnTo>
                  <a:lnTo>
                    <a:pt x="1212" y="270"/>
                  </a:lnTo>
                  <a:lnTo>
                    <a:pt x="2256" y="236"/>
                  </a:lnTo>
                  <a:close/>
                  <a:moveTo>
                    <a:pt x="2256" y="1"/>
                  </a:moveTo>
                  <a:lnTo>
                    <a:pt x="1212" y="34"/>
                  </a:lnTo>
                  <a:lnTo>
                    <a:pt x="673" y="34"/>
                  </a:lnTo>
                  <a:lnTo>
                    <a:pt x="135" y="102"/>
                  </a:lnTo>
                  <a:lnTo>
                    <a:pt x="67" y="135"/>
                  </a:lnTo>
                  <a:lnTo>
                    <a:pt x="67" y="203"/>
                  </a:lnTo>
                  <a:lnTo>
                    <a:pt x="34" y="438"/>
                  </a:lnTo>
                  <a:lnTo>
                    <a:pt x="0" y="674"/>
                  </a:lnTo>
                  <a:lnTo>
                    <a:pt x="34" y="1146"/>
                  </a:lnTo>
                  <a:lnTo>
                    <a:pt x="101" y="1752"/>
                  </a:lnTo>
                  <a:lnTo>
                    <a:pt x="135" y="2021"/>
                  </a:lnTo>
                  <a:lnTo>
                    <a:pt x="236" y="2324"/>
                  </a:lnTo>
                  <a:lnTo>
                    <a:pt x="236" y="2358"/>
                  </a:lnTo>
                  <a:lnTo>
                    <a:pt x="370" y="2358"/>
                  </a:lnTo>
                  <a:lnTo>
                    <a:pt x="606" y="2391"/>
                  </a:lnTo>
                  <a:lnTo>
                    <a:pt x="842" y="2391"/>
                  </a:lnTo>
                  <a:lnTo>
                    <a:pt x="1313" y="2358"/>
                  </a:lnTo>
                  <a:lnTo>
                    <a:pt x="2088" y="2358"/>
                  </a:lnTo>
                  <a:lnTo>
                    <a:pt x="2357" y="2290"/>
                  </a:lnTo>
                  <a:lnTo>
                    <a:pt x="2391" y="2324"/>
                  </a:lnTo>
                  <a:lnTo>
                    <a:pt x="2492" y="2324"/>
                  </a:lnTo>
                  <a:lnTo>
                    <a:pt x="2492" y="2290"/>
                  </a:lnTo>
                  <a:lnTo>
                    <a:pt x="2525" y="2021"/>
                  </a:lnTo>
                  <a:lnTo>
                    <a:pt x="2525" y="1752"/>
                  </a:lnTo>
                  <a:lnTo>
                    <a:pt x="2492" y="1247"/>
                  </a:lnTo>
                  <a:lnTo>
                    <a:pt x="2458" y="641"/>
                  </a:lnTo>
                  <a:lnTo>
                    <a:pt x="2424" y="371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hape 745"/>
            <p:cNvSpPr/>
            <p:nvPr/>
          </p:nvSpPr>
          <p:spPr>
            <a:xfrm>
              <a:off x="2108160" y="136440"/>
              <a:ext cx="166680" cy="180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493" h="2728">
                  <a:moveTo>
                    <a:pt x="2290" y="236"/>
                  </a:moveTo>
                  <a:lnTo>
                    <a:pt x="2223" y="741"/>
                  </a:lnTo>
                  <a:lnTo>
                    <a:pt x="2223" y="1280"/>
                  </a:lnTo>
                  <a:lnTo>
                    <a:pt x="2223" y="1819"/>
                  </a:lnTo>
                  <a:lnTo>
                    <a:pt x="2290" y="2324"/>
                  </a:lnTo>
                  <a:lnTo>
                    <a:pt x="2324" y="2391"/>
                  </a:lnTo>
                  <a:lnTo>
                    <a:pt x="2290" y="2357"/>
                  </a:lnTo>
                  <a:lnTo>
                    <a:pt x="1819" y="2357"/>
                  </a:lnTo>
                  <a:lnTo>
                    <a:pt x="1347" y="2391"/>
                  </a:lnTo>
                  <a:lnTo>
                    <a:pt x="371" y="2391"/>
                  </a:lnTo>
                  <a:lnTo>
                    <a:pt x="270" y="1314"/>
                  </a:lnTo>
                  <a:lnTo>
                    <a:pt x="203" y="270"/>
                  </a:lnTo>
                  <a:lnTo>
                    <a:pt x="708" y="303"/>
                  </a:lnTo>
                  <a:lnTo>
                    <a:pt x="1246" y="303"/>
                  </a:lnTo>
                  <a:lnTo>
                    <a:pt x="2290" y="236"/>
                  </a:lnTo>
                  <a:close/>
                  <a:moveTo>
                    <a:pt x="2324" y="0"/>
                  </a:moveTo>
                  <a:lnTo>
                    <a:pt x="1785" y="34"/>
                  </a:lnTo>
                  <a:lnTo>
                    <a:pt x="1246" y="68"/>
                  </a:lnTo>
                  <a:lnTo>
                    <a:pt x="708" y="68"/>
                  </a:lnTo>
                  <a:lnTo>
                    <a:pt x="169" y="101"/>
                  </a:lnTo>
                  <a:lnTo>
                    <a:pt x="102" y="135"/>
                  </a:lnTo>
                  <a:lnTo>
                    <a:pt x="102" y="169"/>
                  </a:lnTo>
                  <a:lnTo>
                    <a:pt x="68" y="202"/>
                  </a:lnTo>
                  <a:lnTo>
                    <a:pt x="34" y="236"/>
                  </a:lnTo>
                  <a:lnTo>
                    <a:pt x="1" y="842"/>
                  </a:lnTo>
                  <a:lnTo>
                    <a:pt x="34" y="1448"/>
                  </a:lnTo>
                  <a:lnTo>
                    <a:pt x="102" y="2054"/>
                  </a:lnTo>
                  <a:lnTo>
                    <a:pt x="203" y="2627"/>
                  </a:lnTo>
                  <a:lnTo>
                    <a:pt x="236" y="2694"/>
                  </a:lnTo>
                  <a:lnTo>
                    <a:pt x="304" y="2728"/>
                  </a:lnTo>
                  <a:lnTo>
                    <a:pt x="371" y="2660"/>
                  </a:lnTo>
                  <a:lnTo>
                    <a:pt x="405" y="2593"/>
                  </a:lnTo>
                  <a:lnTo>
                    <a:pt x="405" y="2526"/>
                  </a:lnTo>
                  <a:lnTo>
                    <a:pt x="876" y="2593"/>
                  </a:lnTo>
                  <a:lnTo>
                    <a:pt x="1347" y="2627"/>
                  </a:lnTo>
                  <a:lnTo>
                    <a:pt x="1852" y="2627"/>
                  </a:lnTo>
                  <a:lnTo>
                    <a:pt x="2088" y="2559"/>
                  </a:lnTo>
                  <a:lnTo>
                    <a:pt x="2290" y="2526"/>
                  </a:lnTo>
                  <a:lnTo>
                    <a:pt x="2357" y="2458"/>
                  </a:lnTo>
                  <a:lnTo>
                    <a:pt x="2324" y="2391"/>
                  </a:lnTo>
                  <a:lnTo>
                    <a:pt x="2391" y="2425"/>
                  </a:lnTo>
                  <a:lnTo>
                    <a:pt x="2425" y="2425"/>
                  </a:lnTo>
                  <a:lnTo>
                    <a:pt x="2458" y="2391"/>
                  </a:lnTo>
                  <a:lnTo>
                    <a:pt x="2458" y="2324"/>
                  </a:lnTo>
                  <a:lnTo>
                    <a:pt x="2492" y="1819"/>
                  </a:lnTo>
                  <a:lnTo>
                    <a:pt x="2492" y="1280"/>
                  </a:lnTo>
                  <a:lnTo>
                    <a:pt x="2458" y="708"/>
                  </a:lnTo>
                  <a:lnTo>
                    <a:pt x="2391" y="202"/>
                  </a:lnTo>
                  <a:lnTo>
                    <a:pt x="2425" y="135"/>
                  </a:lnTo>
                  <a:lnTo>
                    <a:pt x="2425" y="68"/>
                  </a:lnTo>
                  <a:lnTo>
                    <a:pt x="2391" y="34"/>
                  </a:lnTo>
                  <a:lnTo>
                    <a:pt x="23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4080" bIns="64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hape 746"/>
            <p:cNvSpPr/>
            <p:nvPr/>
          </p:nvSpPr>
          <p:spPr>
            <a:xfrm>
              <a:off x="2149200" y="318960"/>
              <a:ext cx="171360" cy="161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4" h="2425">
                  <a:moveTo>
                    <a:pt x="1819" y="0"/>
                  </a:moveTo>
                  <a:lnTo>
                    <a:pt x="1280" y="68"/>
                  </a:lnTo>
                  <a:lnTo>
                    <a:pt x="708" y="101"/>
                  </a:lnTo>
                  <a:lnTo>
                    <a:pt x="135" y="202"/>
                  </a:lnTo>
                  <a:lnTo>
                    <a:pt x="135" y="135"/>
                  </a:lnTo>
                  <a:lnTo>
                    <a:pt x="102" y="101"/>
                  </a:lnTo>
                  <a:lnTo>
                    <a:pt x="34" y="101"/>
                  </a:lnTo>
                  <a:lnTo>
                    <a:pt x="1" y="135"/>
                  </a:lnTo>
                  <a:lnTo>
                    <a:pt x="1" y="438"/>
                  </a:lnTo>
                  <a:lnTo>
                    <a:pt x="1" y="741"/>
                  </a:lnTo>
                  <a:lnTo>
                    <a:pt x="34" y="1347"/>
                  </a:lnTo>
                  <a:lnTo>
                    <a:pt x="34" y="1852"/>
                  </a:lnTo>
                  <a:lnTo>
                    <a:pt x="68" y="2121"/>
                  </a:lnTo>
                  <a:lnTo>
                    <a:pt x="102" y="2391"/>
                  </a:lnTo>
                  <a:lnTo>
                    <a:pt x="135" y="2391"/>
                  </a:lnTo>
                  <a:lnTo>
                    <a:pt x="169" y="2424"/>
                  </a:lnTo>
                  <a:lnTo>
                    <a:pt x="203" y="2391"/>
                  </a:lnTo>
                  <a:lnTo>
                    <a:pt x="1314" y="2391"/>
                  </a:lnTo>
                  <a:lnTo>
                    <a:pt x="1819" y="2357"/>
                  </a:lnTo>
                  <a:lnTo>
                    <a:pt x="2088" y="2323"/>
                  </a:lnTo>
                  <a:lnTo>
                    <a:pt x="2324" y="2290"/>
                  </a:lnTo>
                  <a:lnTo>
                    <a:pt x="2357" y="2323"/>
                  </a:lnTo>
                  <a:lnTo>
                    <a:pt x="2391" y="2323"/>
                  </a:lnTo>
                  <a:lnTo>
                    <a:pt x="2492" y="2290"/>
                  </a:lnTo>
                  <a:lnTo>
                    <a:pt x="2559" y="2189"/>
                  </a:lnTo>
                  <a:lnTo>
                    <a:pt x="2593" y="2088"/>
                  </a:lnTo>
                  <a:lnTo>
                    <a:pt x="2593" y="1953"/>
                  </a:lnTo>
                  <a:lnTo>
                    <a:pt x="2559" y="1717"/>
                  </a:lnTo>
                  <a:lnTo>
                    <a:pt x="2559" y="1482"/>
                  </a:lnTo>
                  <a:lnTo>
                    <a:pt x="2526" y="775"/>
                  </a:lnTo>
                  <a:lnTo>
                    <a:pt x="2458" y="404"/>
                  </a:lnTo>
                  <a:lnTo>
                    <a:pt x="2425" y="236"/>
                  </a:lnTo>
                  <a:lnTo>
                    <a:pt x="2324" y="101"/>
                  </a:lnTo>
                  <a:lnTo>
                    <a:pt x="2256" y="202"/>
                  </a:lnTo>
                  <a:lnTo>
                    <a:pt x="2256" y="337"/>
                  </a:lnTo>
                  <a:lnTo>
                    <a:pt x="2256" y="606"/>
                  </a:lnTo>
                  <a:lnTo>
                    <a:pt x="2324" y="1145"/>
                  </a:lnTo>
                  <a:lnTo>
                    <a:pt x="2324" y="1650"/>
                  </a:lnTo>
                  <a:lnTo>
                    <a:pt x="2324" y="2155"/>
                  </a:lnTo>
                  <a:lnTo>
                    <a:pt x="2088" y="2121"/>
                  </a:lnTo>
                  <a:lnTo>
                    <a:pt x="1819" y="2088"/>
                  </a:lnTo>
                  <a:lnTo>
                    <a:pt x="1314" y="2121"/>
                  </a:lnTo>
                  <a:lnTo>
                    <a:pt x="270" y="2189"/>
                  </a:lnTo>
                  <a:lnTo>
                    <a:pt x="236" y="2189"/>
                  </a:lnTo>
                  <a:lnTo>
                    <a:pt x="270" y="1919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03" y="775"/>
                  </a:lnTo>
                  <a:lnTo>
                    <a:pt x="169" y="404"/>
                  </a:lnTo>
                  <a:lnTo>
                    <a:pt x="809" y="337"/>
                  </a:lnTo>
                  <a:lnTo>
                    <a:pt x="1448" y="270"/>
                  </a:lnTo>
                  <a:lnTo>
                    <a:pt x="1886" y="236"/>
                  </a:lnTo>
                  <a:lnTo>
                    <a:pt x="2088" y="202"/>
                  </a:lnTo>
                  <a:lnTo>
                    <a:pt x="2290" y="101"/>
                  </a:lnTo>
                  <a:lnTo>
                    <a:pt x="2290" y="68"/>
                  </a:lnTo>
                  <a:lnTo>
                    <a:pt x="2189" y="34"/>
                  </a:lnTo>
                  <a:lnTo>
                    <a:pt x="205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hape 747"/>
            <p:cNvSpPr/>
            <p:nvPr/>
          </p:nvSpPr>
          <p:spPr>
            <a:xfrm>
              <a:off x="2374920" y="798480"/>
              <a:ext cx="58680" cy="33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76" h="506">
                  <a:moveTo>
                    <a:pt x="707" y="0"/>
                  </a:moveTo>
                  <a:lnTo>
                    <a:pt x="539" y="169"/>
                  </a:lnTo>
                  <a:lnTo>
                    <a:pt x="404" y="303"/>
                  </a:lnTo>
                  <a:lnTo>
                    <a:pt x="270" y="169"/>
                  </a:lnTo>
                  <a:lnTo>
                    <a:pt x="169" y="34"/>
                  </a:lnTo>
                  <a:lnTo>
                    <a:pt x="34" y="34"/>
                  </a:lnTo>
                  <a:lnTo>
                    <a:pt x="0" y="101"/>
                  </a:lnTo>
                  <a:lnTo>
                    <a:pt x="34" y="169"/>
                  </a:lnTo>
                  <a:lnTo>
                    <a:pt x="135" y="303"/>
                  </a:lnTo>
                  <a:lnTo>
                    <a:pt x="270" y="472"/>
                  </a:lnTo>
                  <a:lnTo>
                    <a:pt x="303" y="505"/>
                  </a:lnTo>
                  <a:lnTo>
                    <a:pt x="337" y="505"/>
                  </a:lnTo>
                  <a:lnTo>
                    <a:pt x="404" y="472"/>
                  </a:lnTo>
                  <a:lnTo>
                    <a:pt x="438" y="472"/>
                  </a:lnTo>
                  <a:lnTo>
                    <a:pt x="472" y="438"/>
                  </a:lnTo>
                  <a:lnTo>
                    <a:pt x="674" y="303"/>
                  </a:lnTo>
                  <a:lnTo>
                    <a:pt x="842" y="169"/>
                  </a:lnTo>
                  <a:lnTo>
                    <a:pt x="876" y="101"/>
                  </a:lnTo>
                  <a:lnTo>
                    <a:pt x="842" y="34"/>
                  </a:lnTo>
                  <a:lnTo>
                    <a:pt x="77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3520" bIns="-83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hape 748"/>
            <p:cNvSpPr/>
            <p:nvPr/>
          </p:nvSpPr>
          <p:spPr>
            <a:xfrm>
              <a:off x="1657080" y="4046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09" h="843">
                  <a:moveTo>
                    <a:pt x="34" y="1"/>
                  </a:moveTo>
                  <a:lnTo>
                    <a:pt x="1" y="135"/>
                  </a:lnTo>
                  <a:lnTo>
                    <a:pt x="1" y="270"/>
                  </a:lnTo>
                  <a:lnTo>
                    <a:pt x="1" y="640"/>
                  </a:lnTo>
                  <a:lnTo>
                    <a:pt x="34" y="708"/>
                  </a:lnTo>
                  <a:lnTo>
                    <a:pt x="68" y="741"/>
                  </a:lnTo>
                  <a:lnTo>
                    <a:pt x="135" y="741"/>
                  </a:lnTo>
                  <a:lnTo>
                    <a:pt x="169" y="708"/>
                  </a:lnTo>
                  <a:lnTo>
                    <a:pt x="371" y="506"/>
                  </a:lnTo>
                  <a:lnTo>
                    <a:pt x="371" y="539"/>
                  </a:lnTo>
                  <a:lnTo>
                    <a:pt x="405" y="607"/>
                  </a:lnTo>
                  <a:lnTo>
                    <a:pt x="472" y="708"/>
                  </a:lnTo>
                  <a:lnTo>
                    <a:pt x="573" y="809"/>
                  </a:lnTo>
                  <a:lnTo>
                    <a:pt x="607" y="842"/>
                  </a:lnTo>
                  <a:lnTo>
                    <a:pt x="674" y="842"/>
                  </a:lnTo>
                  <a:lnTo>
                    <a:pt x="708" y="775"/>
                  </a:lnTo>
                  <a:lnTo>
                    <a:pt x="708" y="741"/>
                  </a:lnTo>
                  <a:lnTo>
                    <a:pt x="640" y="640"/>
                  </a:lnTo>
                  <a:lnTo>
                    <a:pt x="539" y="506"/>
                  </a:lnTo>
                  <a:lnTo>
                    <a:pt x="472" y="472"/>
                  </a:lnTo>
                  <a:lnTo>
                    <a:pt x="438" y="472"/>
                  </a:lnTo>
                  <a:lnTo>
                    <a:pt x="506" y="405"/>
                  </a:lnTo>
                  <a:lnTo>
                    <a:pt x="640" y="270"/>
                  </a:lnTo>
                  <a:lnTo>
                    <a:pt x="674" y="304"/>
                  </a:lnTo>
                  <a:lnTo>
                    <a:pt x="741" y="270"/>
                  </a:lnTo>
                  <a:lnTo>
                    <a:pt x="809" y="203"/>
                  </a:lnTo>
                  <a:lnTo>
                    <a:pt x="809" y="169"/>
                  </a:lnTo>
                  <a:lnTo>
                    <a:pt x="775" y="102"/>
                  </a:lnTo>
                  <a:lnTo>
                    <a:pt x="741" y="68"/>
                  </a:lnTo>
                  <a:lnTo>
                    <a:pt x="573" y="68"/>
                  </a:lnTo>
                  <a:lnTo>
                    <a:pt x="438" y="169"/>
                  </a:lnTo>
                  <a:lnTo>
                    <a:pt x="337" y="304"/>
                  </a:lnTo>
                  <a:lnTo>
                    <a:pt x="169" y="472"/>
                  </a:lnTo>
                  <a:lnTo>
                    <a:pt x="135" y="304"/>
                  </a:lnTo>
                  <a:lnTo>
                    <a:pt x="135" y="135"/>
                  </a:lnTo>
                  <a:lnTo>
                    <a:pt x="102" y="68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hape 749"/>
            <p:cNvSpPr/>
            <p:nvPr/>
          </p:nvSpPr>
          <p:spPr>
            <a:xfrm>
              <a:off x="1593720" y="339480"/>
              <a:ext cx="166680" cy="174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492" h="2627">
                  <a:moveTo>
                    <a:pt x="2222" y="135"/>
                  </a:moveTo>
                  <a:lnTo>
                    <a:pt x="2222" y="1212"/>
                  </a:lnTo>
                  <a:lnTo>
                    <a:pt x="2188" y="2290"/>
                  </a:lnTo>
                  <a:lnTo>
                    <a:pt x="1717" y="2323"/>
                  </a:lnTo>
                  <a:lnTo>
                    <a:pt x="1212" y="2357"/>
                  </a:lnTo>
                  <a:lnTo>
                    <a:pt x="774" y="2357"/>
                  </a:lnTo>
                  <a:lnTo>
                    <a:pt x="539" y="2391"/>
                  </a:lnTo>
                  <a:lnTo>
                    <a:pt x="303" y="2424"/>
                  </a:lnTo>
                  <a:lnTo>
                    <a:pt x="269" y="2424"/>
                  </a:lnTo>
                  <a:lnTo>
                    <a:pt x="269" y="2391"/>
                  </a:lnTo>
                  <a:lnTo>
                    <a:pt x="303" y="1886"/>
                  </a:lnTo>
                  <a:lnTo>
                    <a:pt x="269" y="1347"/>
                  </a:lnTo>
                  <a:lnTo>
                    <a:pt x="236" y="808"/>
                  </a:lnTo>
                  <a:lnTo>
                    <a:pt x="135" y="270"/>
                  </a:lnTo>
                  <a:lnTo>
                    <a:pt x="1178" y="270"/>
                  </a:lnTo>
                  <a:lnTo>
                    <a:pt x="1683" y="236"/>
                  </a:lnTo>
                  <a:lnTo>
                    <a:pt x="2222" y="135"/>
                  </a:lnTo>
                  <a:close/>
                  <a:moveTo>
                    <a:pt x="1683" y="0"/>
                  </a:moveTo>
                  <a:lnTo>
                    <a:pt x="1145" y="34"/>
                  </a:lnTo>
                  <a:lnTo>
                    <a:pt x="606" y="68"/>
                  </a:lnTo>
                  <a:lnTo>
                    <a:pt x="67" y="68"/>
                  </a:lnTo>
                  <a:lnTo>
                    <a:pt x="0" y="101"/>
                  </a:lnTo>
                  <a:lnTo>
                    <a:pt x="0" y="135"/>
                  </a:lnTo>
                  <a:lnTo>
                    <a:pt x="0" y="202"/>
                  </a:lnTo>
                  <a:lnTo>
                    <a:pt x="34" y="270"/>
                  </a:lnTo>
                  <a:lnTo>
                    <a:pt x="0" y="775"/>
                  </a:lnTo>
                  <a:lnTo>
                    <a:pt x="34" y="1347"/>
                  </a:lnTo>
                  <a:lnTo>
                    <a:pt x="67" y="1886"/>
                  </a:lnTo>
                  <a:lnTo>
                    <a:pt x="101" y="2391"/>
                  </a:lnTo>
                  <a:lnTo>
                    <a:pt x="135" y="2458"/>
                  </a:lnTo>
                  <a:lnTo>
                    <a:pt x="168" y="2458"/>
                  </a:lnTo>
                  <a:lnTo>
                    <a:pt x="202" y="2492"/>
                  </a:lnTo>
                  <a:lnTo>
                    <a:pt x="236" y="2458"/>
                  </a:lnTo>
                  <a:lnTo>
                    <a:pt x="236" y="2525"/>
                  </a:lnTo>
                  <a:lnTo>
                    <a:pt x="303" y="2559"/>
                  </a:lnTo>
                  <a:lnTo>
                    <a:pt x="539" y="2593"/>
                  </a:lnTo>
                  <a:lnTo>
                    <a:pt x="774" y="2626"/>
                  </a:lnTo>
                  <a:lnTo>
                    <a:pt x="1246" y="2626"/>
                  </a:lnTo>
                  <a:lnTo>
                    <a:pt x="1751" y="2525"/>
                  </a:lnTo>
                  <a:lnTo>
                    <a:pt x="2188" y="2424"/>
                  </a:lnTo>
                  <a:lnTo>
                    <a:pt x="2188" y="2492"/>
                  </a:lnTo>
                  <a:lnTo>
                    <a:pt x="2222" y="2559"/>
                  </a:lnTo>
                  <a:lnTo>
                    <a:pt x="2289" y="2593"/>
                  </a:lnTo>
                  <a:lnTo>
                    <a:pt x="2357" y="2593"/>
                  </a:lnTo>
                  <a:lnTo>
                    <a:pt x="2424" y="2525"/>
                  </a:lnTo>
                  <a:lnTo>
                    <a:pt x="2458" y="1919"/>
                  </a:lnTo>
                  <a:lnTo>
                    <a:pt x="2491" y="1313"/>
                  </a:lnTo>
                  <a:lnTo>
                    <a:pt x="2458" y="707"/>
                  </a:lnTo>
                  <a:lnTo>
                    <a:pt x="2357" y="101"/>
                  </a:lnTo>
                  <a:lnTo>
                    <a:pt x="2357" y="68"/>
                  </a:lnTo>
                  <a:lnTo>
                    <a:pt x="2323" y="68"/>
                  </a:lnTo>
                  <a:lnTo>
                    <a:pt x="228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hape 750"/>
            <p:cNvSpPr/>
            <p:nvPr/>
          </p:nvSpPr>
          <p:spPr>
            <a:xfrm>
              <a:off x="1560240" y="581040"/>
              <a:ext cx="60120" cy="52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0" h="775">
                  <a:moveTo>
                    <a:pt x="67" y="0"/>
                  </a:moveTo>
                  <a:lnTo>
                    <a:pt x="0" y="34"/>
                  </a:lnTo>
                  <a:lnTo>
                    <a:pt x="0" y="101"/>
                  </a:lnTo>
                  <a:lnTo>
                    <a:pt x="0" y="674"/>
                  </a:lnTo>
                  <a:lnTo>
                    <a:pt x="34" y="741"/>
                  </a:lnTo>
                  <a:lnTo>
                    <a:pt x="168" y="741"/>
                  </a:lnTo>
                  <a:lnTo>
                    <a:pt x="202" y="674"/>
                  </a:lnTo>
                  <a:lnTo>
                    <a:pt x="202" y="438"/>
                  </a:lnTo>
                  <a:lnTo>
                    <a:pt x="303" y="606"/>
                  </a:lnTo>
                  <a:lnTo>
                    <a:pt x="370" y="640"/>
                  </a:lnTo>
                  <a:lnTo>
                    <a:pt x="404" y="640"/>
                  </a:lnTo>
                  <a:lnTo>
                    <a:pt x="438" y="606"/>
                  </a:lnTo>
                  <a:lnTo>
                    <a:pt x="640" y="404"/>
                  </a:lnTo>
                  <a:lnTo>
                    <a:pt x="673" y="573"/>
                  </a:lnTo>
                  <a:lnTo>
                    <a:pt x="741" y="741"/>
                  </a:lnTo>
                  <a:lnTo>
                    <a:pt x="808" y="775"/>
                  </a:lnTo>
                  <a:lnTo>
                    <a:pt x="875" y="741"/>
                  </a:lnTo>
                  <a:lnTo>
                    <a:pt x="909" y="707"/>
                  </a:lnTo>
                  <a:lnTo>
                    <a:pt x="909" y="640"/>
                  </a:lnTo>
                  <a:lnTo>
                    <a:pt x="842" y="404"/>
                  </a:lnTo>
                  <a:lnTo>
                    <a:pt x="842" y="270"/>
                  </a:lnTo>
                  <a:lnTo>
                    <a:pt x="842" y="135"/>
                  </a:lnTo>
                  <a:lnTo>
                    <a:pt x="842" y="68"/>
                  </a:lnTo>
                  <a:lnTo>
                    <a:pt x="808" y="34"/>
                  </a:lnTo>
                  <a:lnTo>
                    <a:pt x="741" y="34"/>
                  </a:lnTo>
                  <a:lnTo>
                    <a:pt x="673" y="68"/>
                  </a:lnTo>
                  <a:lnTo>
                    <a:pt x="404" y="371"/>
                  </a:lnTo>
                  <a:lnTo>
                    <a:pt x="168" y="3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hape 751"/>
            <p:cNvSpPr/>
            <p:nvPr/>
          </p:nvSpPr>
          <p:spPr>
            <a:xfrm>
              <a:off x="1882800" y="51408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59" h="2391">
                  <a:moveTo>
                    <a:pt x="101" y="0"/>
                  </a:moveTo>
                  <a:lnTo>
                    <a:pt x="101" y="34"/>
                  </a:lnTo>
                  <a:lnTo>
                    <a:pt x="34" y="303"/>
                  </a:lnTo>
                  <a:lnTo>
                    <a:pt x="0" y="539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3"/>
                  </a:lnTo>
                  <a:lnTo>
                    <a:pt x="270" y="2357"/>
                  </a:lnTo>
                  <a:lnTo>
                    <a:pt x="303" y="2323"/>
                  </a:lnTo>
                  <a:lnTo>
                    <a:pt x="337" y="2256"/>
                  </a:lnTo>
                  <a:lnTo>
                    <a:pt x="337" y="1953"/>
                  </a:lnTo>
                  <a:lnTo>
                    <a:pt x="303" y="1650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2" y="202"/>
                  </a:lnTo>
                  <a:lnTo>
                    <a:pt x="438" y="236"/>
                  </a:lnTo>
                  <a:lnTo>
                    <a:pt x="1145" y="236"/>
                  </a:lnTo>
                  <a:lnTo>
                    <a:pt x="2222" y="169"/>
                  </a:lnTo>
                  <a:lnTo>
                    <a:pt x="2256" y="236"/>
                  </a:lnTo>
                  <a:lnTo>
                    <a:pt x="2357" y="236"/>
                  </a:lnTo>
                  <a:lnTo>
                    <a:pt x="2323" y="573"/>
                  </a:lnTo>
                  <a:lnTo>
                    <a:pt x="2323" y="876"/>
                  </a:lnTo>
                  <a:lnTo>
                    <a:pt x="2357" y="2054"/>
                  </a:lnTo>
                  <a:lnTo>
                    <a:pt x="1886" y="2054"/>
                  </a:lnTo>
                  <a:lnTo>
                    <a:pt x="1414" y="2088"/>
                  </a:lnTo>
                  <a:lnTo>
                    <a:pt x="707" y="2088"/>
                  </a:lnTo>
                  <a:lnTo>
                    <a:pt x="539" y="2121"/>
                  </a:lnTo>
                  <a:lnTo>
                    <a:pt x="438" y="2189"/>
                  </a:lnTo>
                  <a:lnTo>
                    <a:pt x="337" y="2256"/>
                  </a:lnTo>
                  <a:lnTo>
                    <a:pt x="438" y="2323"/>
                  </a:lnTo>
                  <a:lnTo>
                    <a:pt x="539" y="2357"/>
                  </a:lnTo>
                  <a:lnTo>
                    <a:pt x="775" y="2391"/>
                  </a:lnTo>
                  <a:lnTo>
                    <a:pt x="1280" y="2357"/>
                  </a:lnTo>
                  <a:lnTo>
                    <a:pt x="1818" y="2357"/>
                  </a:lnTo>
                  <a:lnTo>
                    <a:pt x="2121" y="2323"/>
                  </a:lnTo>
                  <a:lnTo>
                    <a:pt x="2391" y="2256"/>
                  </a:lnTo>
                  <a:lnTo>
                    <a:pt x="2424" y="2323"/>
                  </a:lnTo>
                  <a:lnTo>
                    <a:pt x="2492" y="2323"/>
                  </a:lnTo>
                  <a:lnTo>
                    <a:pt x="2559" y="2290"/>
                  </a:lnTo>
                  <a:lnTo>
                    <a:pt x="2559" y="2222"/>
                  </a:lnTo>
                  <a:lnTo>
                    <a:pt x="2525" y="1044"/>
                  </a:lnTo>
                  <a:lnTo>
                    <a:pt x="2525" y="539"/>
                  </a:lnTo>
                  <a:lnTo>
                    <a:pt x="2492" y="270"/>
                  </a:lnTo>
                  <a:lnTo>
                    <a:pt x="2458" y="34"/>
                  </a:lnTo>
                  <a:lnTo>
                    <a:pt x="2424" y="34"/>
                  </a:lnTo>
                  <a:lnTo>
                    <a:pt x="2391" y="68"/>
                  </a:lnTo>
                  <a:lnTo>
                    <a:pt x="2323" y="34"/>
                  </a:lnTo>
                  <a:lnTo>
                    <a:pt x="2222" y="0"/>
                  </a:lnTo>
                  <a:lnTo>
                    <a:pt x="2020" y="0"/>
                  </a:lnTo>
                  <a:lnTo>
                    <a:pt x="1616" y="34"/>
                  </a:lnTo>
                  <a:lnTo>
                    <a:pt x="909" y="34"/>
                  </a:lnTo>
                  <a:lnTo>
                    <a:pt x="539" y="68"/>
                  </a:lnTo>
                  <a:lnTo>
                    <a:pt x="202" y="101"/>
                  </a:lnTo>
                  <a:lnTo>
                    <a:pt x="202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hape 752"/>
            <p:cNvSpPr/>
            <p:nvPr/>
          </p:nvSpPr>
          <p:spPr>
            <a:xfrm>
              <a:off x="1971720" y="207720"/>
              <a:ext cx="61560" cy="475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10" h="708">
                  <a:moveTo>
                    <a:pt x="607" y="169"/>
                  </a:moveTo>
                  <a:lnTo>
                    <a:pt x="742" y="203"/>
                  </a:lnTo>
                  <a:lnTo>
                    <a:pt x="641" y="304"/>
                  </a:lnTo>
                  <a:lnTo>
                    <a:pt x="540" y="371"/>
                  </a:lnTo>
                  <a:lnTo>
                    <a:pt x="270" y="371"/>
                  </a:lnTo>
                  <a:lnTo>
                    <a:pt x="270" y="203"/>
                  </a:lnTo>
                  <a:lnTo>
                    <a:pt x="371" y="169"/>
                  </a:lnTo>
                  <a:close/>
                  <a:moveTo>
                    <a:pt x="506" y="1"/>
                  </a:moveTo>
                  <a:lnTo>
                    <a:pt x="371" y="35"/>
                  </a:lnTo>
                  <a:lnTo>
                    <a:pt x="270" y="102"/>
                  </a:lnTo>
                  <a:lnTo>
                    <a:pt x="203" y="68"/>
                  </a:lnTo>
                  <a:lnTo>
                    <a:pt x="169" y="68"/>
                  </a:lnTo>
                  <a:lnTo>
                    <a:pt x="136" y="102"/>
                  </a:lnTo>
                  <a:lnTo>
                    <a:pt x="102" y="203"/>
                  </a:lnTo>
                  <a:lnTo>
                    <a:pt x="102" y="338"/>
                  </a:lnTo>
                  <a:lnTo>
                    <a:pt x="35" y="371"/>
                  </a:lnTo>
                  <a:lnTo>
                    <a:pt x="1" y="439"/>
                  </a:lnTo>
                  <a:lnTo>
                    <a:pt x="35" y="506"/>
                  </a:lnTo>
                  <a:lnTo>
                    <a:pt x="102" y="540"/>
                  </a:lnTo>
                  <a:lnTo>
                    <a:pt x="102" y="607"/>
                  </a:lnTo>
                  <a:lnTo>
                    <a:pt x="136" y="674"/>
                  </a:lnTo>
                  <a:lnTo>
                    <a:pt x="169" y="708"/>
                  </a:lnTo>
                  <a:lnTo>
                    <a:pt x="203" y="708"/>
                  </a:lnTo>
                  <a:lnTo>
                    <a:pt x="237" y="674"/>
                  </a:lnTo>
                  <a:lnTo>
                    <a:pt x="270" y="641"/>
                  </a:lnTo>
                  <a:lnTo>
                    <a:pt x="304" y="607"/>
                  </a:lnTo>
                  <a:lnTo>
                    <a:pt x="270" y="540"/>
                  </a:lnTo>
                  <a:lnTo>
                    <a:pt x="506" y="540"/>
                  </a:lnTo>
                  <a:lnTo>
                    <a:pt x="708" y="472"/>
                  </a:lnTo>
                  <a:lnTo>
                    <a:pt x="775" y="439"/>
                  </a:lnTo>
                  <a:lnTo>
                    <a:pt x="843" y="371"/>
                  </a:lnTo>
                  <a:lnTo>
                    <a:pt x="876" y="270"/>
                  </a:lnTo>
                  <a:lnTo>
                    <a:pt x="910" y="169"/>
                  </a:lnTo>
                  <a:lnTo>
                    <a:pt x="910" y="102"/>
                  </a:lnTo>
                  <a:lnTo>
                    <a:pt x="876" y="102"/>
                  </a:lnTo>
                  <a:lnTo>
                    <a:pt x="6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hape 753"/>
            <p:cNvSpPr/>
            <p:nvPr/>
          </p:nvSpPr>
          <p:spPr>
            <a:xfrm>
              <a:off x="1922400" y="711000"/>
              <a:ext cx="15840" cy="174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36" h="2627">
                  <a:moveTo>
                    <a:pt x="68" y="0"/>
                  </a:moveTo>
                  <a:lnTo>
                    <a:pt x="0" y="236"/>
                  </a:lnTo>
                  <a:lnTo>
                    <a:pt x="0" y="472"/>
                  </a:lnTo>
                  <a:lnTo>
                    <a:pt x="0" y="977"/>
                  </a:lnTo>
                  <a:lnTo>
                    <a:pt x="0" y="1785"/>
                  </a:lnTo>
                  <a:lnTo>
                    <a:pt x="0" y="2155"/>
                  </a:lnTo>
                  <a:lnTo>
                    <a:pt x="34" y="2559"/>
                  </a:lnTo>
                  <a:lnTo>
                    <a:pt x="68" y="2593"/>
                  </a:lnTo>
                  <a:lnTo>
                    <a:pt x="101" y="2626"/>
                  </a:lnTo>
                  <a:lnTo>
                    <a:pt x="169" y="2626"/>
                  </a:lnTo>
                  <a:lnTo>
                    <a:pt x="202" y="2559"/>
                  </a:lnTo>
                  <a:lnTo>
                    <a:pt x="202" y="2256"/>
                  </a:lnTo>
                  <a:lnTo>
                    <a:pt x="236" y="1953"/>
                  </a:lnTo>
                  <a:lnTo>
                    <a:pt x="202" y="1381"/>
                  </a:lnTo>
                  <a:lnTo>
                    <a:pt x="202" y="674"/>
                  </a:lnTo>
                  <a:lnTo>
                    <a:pt x="202" y="337"/>
                  </a:lnTo>
                  <a:lnTo>
                    <a:pt x="169" y="16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hape 754"/>
            <p:cNvSpPr/>
            <p:nvPr/>
          </p:nvSpPr>
          <p:spPr>
            <a:xfrm>
              <a:off x="2195280" y="79992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9" h="675">
                  <a:moveTo>
                    <a:pt x="270" y="1"/>
                  </a:moveTo>
                  <a:lnTo>
                    <a:pt x="203" y="68"/>
                  </a:lnTo>
                  <a:lnTo>
                    <a:pt x="135" y="136"/>
                  </a:lnTo>
                  <a:lnTo>
                    <a:pt x="34" y="237"/>
                  </a:lnTo>
                  <a:lnTo>
                    <a:pt x="1" y="371"/>
                  </a:lnTo>
                  <a:lnTo>
                    <a:pt x="34" y="405"/>
                  </a:lnTo>
                  <a:lnTo>
                    <a:pt x="34" y="439"/>
                  </a:lnTo>
                  <a:lnTo>
                    <a:pt x="135" y="439"/>
                  </a:lnTo>
                  <a:lnTo>
                    <a:pt x="169" y="506"/>
                  </a:lnTo>
                  <a:lnTo>
                    <a:pt x="304" y="641"/>
                  </a:lnTo>
                  <a:lnTo>
                    <a:pt x="371" y="674"/>
                  </a:lnTo>
                  <a:lnTo>
                    <a:pt x="438" y="641"/>
                  </a:lnTo>
                  <a:lnTo>
                    <a:pt x="438" y="607"/>
                  </a:lnTo>
                  <a:lnTo>
                    <a:pt x="438" y="540"/>
                  </a:lnTo>
                  <a:lnTo>
                    <a:pt x="337" y="439"/>
                  </a:lnTo>
                  <a:lnTo>
                    <a:pt x="236" y="338"/>
                  </a:lnTo>
                  <a:lnTo>
                    <a:pt x="405" y="169"/>
                  </a:lnTo>
                  <a:lnTo>
                    <a:pt x="438" y="136"/>
                  </a:lnTo>
                  <a:lnTo>
                    <a:pt x="438" y="68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hape 755"/>
            <p:cNvSpPr/>
            <p:nvPr/>
          </p:nvSpPr>
          <p:spPr>
            <a:xfrm>
              <a:off x="2070000" y="501480"/>
              <a:ext cx="166680" cy="1774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2" h="2694">
                  <a:moveTo>
                    <a:pt x="2290" y="202"/>
                  </a:moveTo>
                  <a:lnTo>
                    <a:pt x="2222" y="707"/>
                  </a:lnTo>
                  <a:lnTo>
                    <a:pt x="2222" y="1246"/>
                  </a:lnTo>
                  <a:lnTo>
                    <a:pt x="2256" y="1785"/>
                  </a:lnTo>
                  <a:lnTo>
                    <a:pt x="2290" y="2323"/>
                  </a:lnTo>
                  <a:lnTo>
                    <a:pt x="2323" y="2357"/>
                  </a:lnTo>
                  <a:lnTo>
                    <a:pt x="2290" y="2357"/>
                  </a:lnTo>
                  <a:lnTo>
                    <a:pt x="2054" y="2323"/>
                  </a:lnTo>
                  <a:lnTo>
                    <a:pt x="1818" y="2323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313"/>
                  </a:lnTo>
                  <a:lnTo>
                    <a:pt x="202" y="236"/>
                  </a:lnTo>
                  <a:lnTo>
                    <a:pt x="707" y="270"/>
                  </a:lnTo>
                  <a:lnTo>
                    <a:pt x="1246" y="270"/>
                  </a:lnTo>
                  <a:lnTo>
                    <a:pt x="2290" y="202"/>
                  </a:lnTo>
                  <a:close/>
                  <a:moveTo>
                    <a:pt x="2323" y="0"/>
                  </a:moveTo>
                  <a:lnTo>
                    <a:pt x="1785" y="34"/>
                  </a:lnTo>
                  <a:lnTo>
                    <a:pt x="707" y="34"/>
                  </a:lnTo>
                  <a:lnTo>
                    <a:pt x="169" y="68"/>
                  </a:lnTo>
                  <a:lnTo>
                    <a:pt x="101" y="101"/>
                  </a:lnTo>
                  <a:lnTo>
                    <a:pt x="101" y="169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0" y="808"/>
                  </a:lnTo>
                  <a:lnTo>
                    <a:pt x="34" y="1414"/>
                  </a:lnTo>
                  <a:lnTo>
                    <a:pt x="101" y="2020"/>
                  </a:lnTo>
                  <a:lnTo>
                    <a:pt x="202" y="2626"/>
                  </a:lnTo>
                  <a:lnTo>
                    <a:pt x="236" y="2660"/>
                  </a:lnTo>
                  <a:lnTo>
                    <a:pt x="303" y="2694"/>
                  </a:lnTo>
                  <a:lnTo>
                    <a:pt x="404" y="2660"/>
                  </a:lnTo>
                  <a:lnTo>
                    <a:pt x="404" y="2559"/>
                  </a:lnTo>
                  <a:lnTo>
                    <a:pt x="404" y="2492"/>
                  </a:lnTo>
                  <a:lnTo>
                    <a:pt x="876" y="2593"/>
                  </a:lnTo>
                  <a:lnTo>
                    <a:pt x="1852" y="2593"/>
                  </a:lnTo>
                  <a:lnTo>
                    <a:pt x="2088" y="2559"/>
                  </a:lnTo>
                  <a:lnTo>
                    <a:pt x="2290" y="2492"/>
                  </a:lnTo>
                  <a:lnTo>
                    <a:pt x="2357" y="2458"/>
                  </a:lnTo>
                  <a:lnTo>
                    <a:pt x="2357" y="2391"/>
                  </a:lnTo>
                  <a:lnTo>
                    <a:pt x="2424" y="2391"/>
                  </a:lnTo>
                  <a:lnTo>
                    <a:pt x="2458" y="2357"/>
                  </a:lnTo>
                  <a:lnTo>
                    <a:pt x="2492" y="2323"/>
                  </a:lnTo>
                  <a:lnTo>
                    <a:pt x="2492" y="1785"/>
                  </a:lnTo>
                  <a:lnTo>
                    <a:pt x="2492" y="1246"/>
                  </a:lnTo>
                  <a:lnTo>
                    <a:pt x="2458" y="707"/>
                  </a:lnTo>
                  <a:lnTo>
                    <a:pt x="2391" y="169"/>
                  </a:lnTo>
                  <a:lnTo>
                    <a:pt x="2424" y="101"/>
                  </a:lnTo>
                  <a:lnTo>
                    <a:pt x="2424" y="68"/>
                  </a:lnTo>
                  <a:lnTo>
                    <a:pt x="239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hape 756"/>
            <p:cNvSpPr/>
            <p:nvPr/>
          </p:nvSpPr>
          <p:spPr>
            <a:xfrm>
              <a:off x="7925040" y="4454640"/>
              <a:ext cx="792000" cy="7794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919" h="11717">
                  <a:moveTo>
                    <a:pt x="270" y="6532"/>
                  </a:moveTo>
                  <a:lnTo>
                    <a:pt x="303" y="6734"/>
                  </a:lnTo>
                  <a:lnTo>
                    <a:pt x="371" y="6936"/>
                  </a:lnTo>
                  <a:lnTo>
                    <a:pt x="573" y="7273"/>
                  </a:lnTo>
                  <a:lnTo>
                    <a:pt x="808" y="7609"/>
                  </a:lnTo>
                  <a:lnTo>
                    <a:pt x="977" y="7744"/>
                  </a:lnTo>
                  <a:lnTo>
                    <a:pt x="1111" y="7845"/>
                  </a:lnTo>
                  <a:lnTo>
                    <a:pt x="1078" y="8148"/>
                  </a:lnTo>
                  <a:lnTo>
                    <a:pt x="1078" y="8451"/>
                  </a:lnTo>
                  <a:lnTo>
                    <a:pt x="1111" y="8721"/>
                  </a:lnTo>
                  <a:lnTo>
                    <a:pt x="1145" y="9024"/>
                  </a:lnTo>
                  <a:lnTo>
                    <a:pt x="1212" y="9158"/>
                  </a:lnTo>
                  <a:lnTo>
                    <a:pt x="943" y="8956"/>
                  </a:lnTo>
                  <a:lnTo>
                    <a:pt x="707" y="8687"/>
                  </a:lnTo>
                  <a:lnTo>
                    <a:pt x="505" y="8418"/>
                  </a:lnTo>
                  <a:lnTo>
                    <a:pt x="371" y="8115"/>
                  </a:lnTo>
                  <a:lnTo>
                    <a:pt x="270" y="7811"/>
                  </a:lnTo>
                  <a:lnTo>
                    <a:pt x="236" y="7508"/>
                  </a:lnTo>
                  <a:lnTo>
                    <a:pt x="202" y="7205"/>
                  </a:lnTo>
                  <a:lnTo>
                    <a:pt x="236" y="6869"/>
                  </a:lnTo>
                  <a:lnTo>
                    <a:pt x="270" y="6532"/>
                  </a:lnTo>
                  <a:close/>
                  <a:moveTo>
                    <a:pt x="2593" y="1"/>
                  </a:moveTo>
                  <a:lnTo>
                    <a:pt x="2559" y="34"/>
                  </a:lnTo>
                  <a:lnTo>
                    <a:pt x="2222" y="607"/>
                  </a:lnTo>
                  <a:lnTo>
                    <a:pt x="1953" y="1179"/>
                  </a:lnTo>
                  <a:lnTo>
                    <a:pt x="1650" y="1785"/>
                  </a:lnTo>
                  <a:lnTo>
                    <a:pt x="1414" y="2391"/>
                  </a:lnTo>
                  <a:lnTo>
                    <a:pt x="943" y="3637"/>
                  </a:lnTo>
                  <a:lnTo>
                    <a:pt x="539" y="4849"/>
                  </a:lnTo>
                  <a:lnTo>
                    <a:pt x="236" y="5825"/>
                  </a:lnTo>
                  <a:lnTo>
                    <a:pt x="101" y="6364"/>
                  </a:lnTo>
                  <a:lnTo>
                    <a:pt x="0" y="6869"/>
                  </a:lnTo>
                  <a:lnTo>
                    <a:pt x="0" y="7374"/>
                  </a:lnTo>
                  <a:lnTo>
                    <a:pt x="0" y="7643"/>
                  </a:lnTo>
                  <a:lnTo>
                    <a:pt x="68" y="7879"/>
                  </a:lnTo>
                  <a:lnTo>
                    <a:pt x="135" y="8148"/>
                  </a:lnTo>
                  <a:lnTo>
                    <a:pt x="236" y="8384"/>
                  </a:lnTo>
                  <a:lnTo>
                    <a:pt x="371" y="8586"/>
                  </a:lnTo>
                  <a:lnTo>
                    <a:pt x="539" y="8822"/>
                  </a:lnTo>
                  <a:lnTo>
                    <a:pt x="909" y="9192"/>
                  </a:lnTo>
                  <a:lnTo>
                    <a:pt x="1347" y="9562"/>
                  </a:lnTo>
                  <a:lnTo>
                    <a:pt x="1818" y="9865"/>
                  </a:lnTo>
                  <a:lnTo>
                    <a:pt x="2323" y="10135"/>
                  </a:lnTo>
                  <a:lnTo>
                    <a:pt x="2828" y="10370"/>
                  </a:lnTo>
                  <a:lnTo>
                    <a:pt x="3367" y="10572"/>
                  </a:lnTo>
                  <a:lnTo>
                    <a:pt x="4411" y="10909"/>
                  </a:lnTo>
                  <a:lnTo>
                    <a:pt x="5050" y="11077"/>
                  </a:lnTo>
                  <a:lnTo>
                    <a:pt x="5690" y="11212"/>
                  </a:lnTo>
                  <a:lnTo>
                    <a:pt x="6970" y="11414"/>
                  </a:lnTo>
                  <a:lnTo>
                    <a:pt x="8249" y="11582"/>
                  </a:lnTo>
                  <a:lnTo>
                    <a:pt x="9528" y="11717"/>
                  </a:lnTo>
                  <a:lnTo>
                    <a:pt x="9596" y="11717"/>
                  </a:lnTo>
                  <a:lnTo>
                    <a:pt x="9629" y="11650"/>
                  </a:lnTo>
                  <a:lnTo>
                    <a:pt x="9596" y="11549"/>
                  </a:lnTo>
                  <a:lnTo>
                    <a:pt x="9528" y="11515"/>
                  </a:lnTo>
                  <a:lnTo>
                    <a:pt x="7576" y="11313"/>
                  </a:lnTo>
                  <a:lnTo>
                    <a:pt x="6566" y="11178"/>
                  </a:lnTo>
                  <a:lnTo>
                    <a:pt x="5555" y="11010"/>
                  </a:lnTo>
                  <a:lnTo>
                    <a:pt x="4579" y="10774"/>
                  </a:lnTo>
                  <a:lnTo>
                    <a:pt x="4074" y="10640"/>
                  </a:lnTo>
                  <a:lnTo>
                    <a:pt x="3603" y="10471"/>
                  </a:lnTo>
                  <a:lnTo>
                    <a:pt x="3131" y="10303"/>
                  </a:lnTo>
                  <a:lnTo>
                    <a:pt x="2660" y="10067"/>
                  </a:lnTo>
                  <a:lnTo>
                    <a:pt x="2222" y="9865"/>
                  </a:lnTo>
                  <a:lnTo>
                    <a:pt x="1818" y="9596"/>
                  </a:lnTo>
                  <a:lnTo>
                    <a:pt x="1549" y="9226"/>
                  </a:lnTo>
                  <a:lnTo>
                    <a:pt x="1448" y="9057"/>
                  </a:lnTo>
                  <a:lnTo>
                    <a:pt x="1347" y="8822"/>
                  </a:lnTo>
                  <a:lnTo>
                    <a:pt x="1313" y="8620"/>
                  </a:lnTo>
                  <a:lnTo>
                    <a:pt x="1313" y="8384"/>
                  </a:lnTo>
                  <a:lnTo>
                    <a:pt x="1280" y="8148"/>
                  </a:lnTo>
                  <a:lnTo>
                    <a:pt x="1246" y="7912"/>
                  </a:lnTo>
                  <a:lnTo>
                    <a:pt x="1313" y="7879"/>
                  </a:lnTo>
                  <a:lnTo>
                    <a:pt x="1347" y="7811"/>
                  </a:lnTo>
                  <a:lnTo>
                    <a:pt x="1313" y="7744"/>
                  </a:lnTo>
                  <a:lnTo>
                    <a:pt x="1280" y="7710"/>
                  </a:lnTo>
                  <a:lnTo>
                    <a:pt x="1044" y="7542"/>
                  </a:lnTo>
                  <a:lnTo>
                    <a:pt x="876" y="7340"/>
                  </a:lnTo>
                  <a:lnTo>
                    <a:pt x="707" y="7104"/>
                  </a:lnTo>
                  <a:lnTo>
                    <a:pt x="539" y="6869"/>
                  </a:lnTo>
                  <a:lnTo>
                    <a:pt x="472" y="6633"/>
                  </a:lnTo>
                  <a:lnTo>
                    <a:pt x="404" y="6431"/>
                  </a:lnTo>
                  <a:lnTo>
                    <a:pt x="404" y="5960"/>
                  </a:lnTo>
                  <a:lnTo>
                    <a:pt x="640" y="5185"/>
                  </a:lnTo>
                  <a:lnTo>
                    <a:pt x="909" y="4445"/>
                  </a:lnTo>
                  <a:lnTo>
                    <a:pt x="1313" y="3367"/>
                  </a:lnTo>
                  <a:lnTo>
                    <a:pt x="1751" y="2290"/>
                  </a:lnTo>
                  <a:lnTo>
                    <a:pt x="2189" y="1246"/>
                  </a:lnTo>
                  <a:lnTo>
                    <a:pt x="2593" y="169"/>
                  </a:lnTo>
                  <a:lnTo>
                    <a:pt x="2727" y="304"/>
                  </a:lnTo>
                  <a:lnTo>
                    <a:pt x="2896" y="405"/>
                  </a:lnTo>
                  <a:lnTo>
                    <a:pt x="3098" y="506"/>
                  </a:lnTo>
                  <a:lnTo>
                    <a:pt x="3266" y="573"/>
                  </a:lnTo>
                  <a:lnTo>
                    <a:pt x="3670" y="640"/>
                  </a:lnTo>
                  <a:lnTo>
                    <a:pt x="4074" y="708"/>
                  </a:lnTo>
                  <a:lnTo>
                    <a:pt x="4714" y="842"/>
                  </a:lnTo>
                  <a:lnTo>
                    <a:pt x="5353" y="1011"/>
                  </a:lnTo>
                  <a:lnTo>
                    <a:pt x="6599" y="1415"/>
                  </a:lnTo>
                  <a:lnTo>
                    <a:pt x="7879" y="1785"/>
                  </a:lnTo>
                  <a:lnTo>
                    <a:pt x="9192" y="2088"/>
                  </a:lnTo>
                  <a:lnTo>
                    <a:pt x="10505" y="2324"/>
                  </a:lnTo>
                  <a:lnTo>
                    <a:pt x="11818" y="2492"/>
                  </a:lnTo>
                  <a:lnTo>
                    <a:pt x="11885" y="2492"/>
                  </a:lnTo>
                  <a:lnTo>
                    <a:pt x="11919" y="2425"/>
                  </a:lnTo>
                  <a:lnTo>
                    <a:pt x="11885" y="2324"/>
                  </a:lnTo>
                  <a:lnTo>
                    <a:pt x="11818" y="2290"/>
                  </a:lnTo>
                  <a:lnTo>
                    <a:pt x="10572" y="2122"/>
                  </a:lnTo>
                  <a:lnTo>
                    <a:pt x="9326" y="1920"/>
                  </a:lnTo>
                  <a:lnTo>
                    <a:pt x="8114" y="1650"/>
                  </a:lnTo>
                  <a:lnTo>
                    <a:pt x="6902" y="1314"/>
                  </a:lnTo>
                  <a:lnTo>
                    <a:pt x="5825" y="977"/>
                  </a:lnTo>
                  <a:lnTo>
                    <a:pt x="4781" y="674"/>
                  </a:lnTo>
                  <a:lnTo>
                    <a:pt x="4242" y="539"/>
                  </a:lnTo>
                  <a:lnTo>
                    <a:pt x="3670" y="438"/>
                  </a:lnTo>
                  <a:lnTo>
                    <a:pt x="3165" y="304"/>
                  </a:lnTo>
                  <a:lnTo>
                    <a:pt x="2896" y="236"/>
                  </a:lnTo>
                  <a:lnTo>
                    <a:pt x="2626" y="102"/>
                  </a:lnTo>
                  <a:lnTo>
                    <a:pt x="2626" y="68"/>
                  </a:lnTo>
                  <a:lnTo>
                    <a:pt x="2626" y="34"/>
                  </a:lnTo>
                  <a:lnTo>
                    <a:pt x="262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hape 757"/>
            <p:cNvSpPr/>
            <p:nvPr/>
          </p:nvSpPr>
          <p:spPr>
            <a:xfrm>
              <a:off x="1930320" y="687240"/>
              <a:ext cx="171360" cy="199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593" h="3031">
                  <a:moveTo>
                    <a:pt x="2424" y="1"/>
                  </a:moveTo>
                  <a:lnTo>
                    <a:pt x="2391" y="34"/>
                  </a:lnTo>
                  <a:lnTo>
                    <a:pt x="2357" y="68"/>
                  </a:lnTo>
                  <a:lnTo>
                    <a:pt x="2054" y="68"/>
                  </a:lnTo>
                  <a:lnTo>
                    <a:pt x="1785" y="102"/>
                  </a:lnTo>
                  <a:lnTo>
                    <a:pt x="1212" y="203"/>
                  </a:lnTo>
                  <a:lnTo>
                    <a:pt x="909" y="203"/>
                  </a:lnTo>
                  <a:lnTo>
                    <a:pt x="606" y="135"/>
                  </a:lnTo>
                  <a:lnTo>
                    <a:pt x="303" y="135"/>
                  </a:lnTo>
                  <a:lnTo>
                    <a:pt x="169" y="169"/>
                  </a:lnTo>
                  <a:lnTo>
                    <a:pt x="34" y="236"/>
                  </a:lnTo>
                  <a:lnTo>
                    <a:pt x="0" y="270"/>
                  </a:lnTo>
                  <a:lnTo>
                    <a:pt x="0" y="304"/>
                  </a:lnTo>
                  <a:lnTo>
                    <a:pt x="68" y="338"/>
                  </a:lnTo>
                  <a:lnTo>
                    <a:pt x="303" y="371"/>
                  </a:lnTo>
                  <a:lnTo>
                    <a:pt x="539" y="405"/>
                  </a:lnTo>
                  <a:lnTo>
                    <a:pt x="1044" y="439"/>
                  </a:lnTo>
                  <a:lnTo>
                    <a:pt x="1381" y="439"/>
                  </a:lnTo>
                  <a:lnTo>
                    <a:pt x="1684" y="371"/>
                  </a:lnTo>
                  <a:lnTo>
                    <a:pt x="2020" y="304"/>
                  </a:lnTo>
                  <a:lnTo>
                    <a:pt x="2357" y="304"/>
                  </a:lnTo>
                  <a:lnTo>
                    <a:pt x="2323" y="809"/>
                  </a:lnTo>
                  <a:lnTo>
                    <a:pt x="2357" y="1314"/>
                  </a:lnTo>
                  <a:lnTo>
                    <a:pt x="2357" y="1954"/>
                  </a:lnTo>
                  <a:lnTo>
                    <a:pt x="2357" y="2290"/>
                  </a:lnTo>
                  <a:lnTo>
                    <a:pt x="2424" y="2627"/>
                  </a:lnTo>
                  <a:lnTo>
                    <a:pt x="2357" y="2593"/>
                  </a:lnTo>
                  <a:lnTo>
                    <a:pt x="1751" y="2661"/>
                  </a:lnTo>
                  <a:lnTo>
                    <a:pt x="1111" y="2728"/>
                  </a:lnTo>
                  <a:lnTo>
                    <a:pt x="606" y="2795"/>
                  </a:lnTo>
                  <a:lnTo>
                    <a:pt x="337" y="2863"/>
                  </a:lnTo>
                  <a:lnTo>
                    <a:pt x="101" y="2964"/>
                  </a:lnTo>
                  <a:lnTo>
                    <a:pt x="371" y="3031"/>
                  </a:lnTo>
                  <a:lnTo>
                    <a:pt x="606" y="2997"/>
                  </a:lnTo>
                  <a:lnTo>
                    <a:pt x="1111" y="2930"/>
                  </a:lnTo>
                  <a:lnTo>
                    <a:pt x="1751" y="2863"/>
                  </a:lnTo>
                  <a:lnTo>
                    <a:pt x="2357" y="2795"/>
                  </a:lnTo>
                  <a:lnTo>
                    <a:pt x="2424" y="2762"/>
                  </a:lnTo>
                  <a:lnTo>
                    <a:pt x="2458" y="2728"/>
                  </a:lnTo>
                  <a:lnTo>
                    <a:pt x="2458" y="2762"/>
                  </a:lnTo>
                  <a:lnTo>
                    <a:pt x="2525" y="2762"/>
                  </a:lnTo>
                  <a:lnTo>
                    <a:pt x="2559" y="2728"/>
                  </a:lnTo>
                  <a:lnTo>
                    <a:pt x="2593" y="2425"/>
                  </a:lnTo>
                  <a:lnTo>
                    <a:pt x="2593" y="2122"/>
                  </a:lnTo>
                  <a:lnTo>
                    <a:pt x="2593" y="1516"/>
                  </a:lnTo>
                  <a:lnTo>
                    <a:pt x="2559" y="775"/>
                  </a:lnTo>
                  <a:lnTo>
                    <a:pt x="2559" y="439"/>
                  </a:lnTo>
                  <a:lnTo>
                    <a:pt x="2492" y="68"/>
                  </a:lnTo>
                  <a:lnTo>
                    <a:pt x="2492" y="34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hape 758"/>
            <p:cNvSpPr/>
            <p:nvPr/>
          </p:nvSpPr>
          <p:spPr>
            <a:xfrm>
              <a:off x="771480" y="715680"/>
              <a:ext cx="909360" cy="2188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704" h="3300">
                  <a:moveTo>
                    <a:pt x="13366" y="337"/>
                  </a:moveTo>
                  <a:lnTo>
                    <a:pt x="13366" y="674"/>
                  </a:lnTo>
                  <a:lnTo>
                    <a:pt x="13366" y="1011"/>
                  </a:lnTo>
                  <a:lnTo>
                    <a:pt x="13434" y="2593"/>
                  </a:lnTo>
                  <a:lnTo>
                    <a:pt x="13400" y="2559"/>
                  </a:lnTo>
                  <a:lnTo>
                    <a:pt x="13030" y="2492"/>
                  </a:lnTo>
                  <a:lnTo>
                    <a:pt x="12659" y="2458"/>
                  </a:lnTo>
                  <a:lnTo>
                    <a:pt x="11986" y="2458"/>
                  </a:lnTo>
                  <a:lnTo>
                    <a:pt x="11279" y="2526"/>
                  </a:lnTo>
                  <a:lnTo>
                    <a:pt x="10572" y="2627"/>
                  </a:lnTo>
                  <a:lnTo>
                    <a:pt x="9697" y="2728"/>
                  </a:lnTo>
                  <a:lnTo>
                    <a:pt x="8855" y="2795"/>
                  </a:lnTo>
                  <a:lnTo>
                    <a:pt x="7171" y="2862"/>
                  </a:lnTo>
                  <a:lnTo>
                    <a:pt x="5488" y="2896"/>
                  </a:lnTo>
                  <a:lnTo>
                    <a:pt x="3805" y="2930"/>
                  </a:lnTo>
                  <a:lnTo>
                    <a:pt x="2088" y="2963"/>
                  </a:lnTo>
                  <a:lnTo>
                    <a:pt x="1246" y="2997"/>
                  </a:lnTo>
                  <a:lnTo>
                    <a:pt x="438" y="3064"/>
                  </a:lnTo>
                  <a:lnTo>
                    <a:pt x="404" y="2761"/>
                  </a:lnTo>
                  <a:lnTo>
                    <a:pt x="371" y="2425"/>
                  </a:lnTo>
                  <a:lnTo>
                    <a:pt x="270" y="1751"/>
                  </a:lnTo>
                  <a:lnTo>
                    <a:pt x="202" y="1145"/>
                  </a:lnTo>
                  <a:lnTo>
                    <a:pt x="135" y="842"/>
                  </a:lnTo>
                  <a:lnTo>
                    <a:pt x="68" y="573"/>
                  </a:lnTo>
                  <a:lnTo>
                    <a:pt x="1751" y="573"/>
                  </a:lnTo>
                  <a:lnTo>
                    <a:pt x="3434" y="539"/>
                  </a:lnTo>
                  <a:lnTo>
                    <a:pt x="6801" y="438"/>
                  </a:lnTo>
                  <a:lnTo>
                    <a:pt x="13366" y="337"/>
                  </a:lnTo>
                  <a:close/>
                  <a:moveTo>
                    <a:pt x="13467" y="1"/>
                  </a:moveTo>
                  <a:lnTo>
                    <a:pt x="13400" y="68"/>
                  </a:lnTo>
                  <a:lnTo>
                    <a:pt x="6801" y="236"/>
                  </a:lnTo>
                  <a:lnTo>
                    <a:pt x="3434" y="270"/>
                  </a:lnTo>
                  <a:lnTo>
                    <a:pt x="1751" y="304"/>
                  </a:lnTo>
                  <a:lnTo>
                    <a:pt x="68" y="371"/>
                  </a:lnTo>
                  <a:lnTo>
                    <a:pt x="34" y="405"/>
                  </a:lnTo>
                  <a:lnTo>
                    <a:pt x="0" y="438"/>
                  </a:lnTo>
                  <a:lnTo>
                    <a:pt x="0" y="506"/>
                  </a:lnTo>
                  <a:lnTo>
                    <a:pt x="0" y="842"/>
                  </a:lnTo>
                  <a:lnTo>
                    <a:pt x="0" y="1145"/>
                  </a:lnTo>
                  <a:lnTo>
                    <a:pt x="68" y="1751"/>
                  </a:lnTo>
                  <a:lnTo>
                    <a:pt x="135" y="2526"/>
                  </a:lnTo>
                  <a:lnTo>
                    <a:pt x="169" y="2896"/>
                  </a:lnTo>
                  <a:lnTo>
                    <a:pt x="270" y="3266"/>
                  </a:lnTo>
                  <a:lnTo>
                    <a:pt x="303" y="3300"/>
                  </a:lnTo>
                  <a:lnTo>
                    <a:pt x="337" y="3300"/>
                  </a:lnTo>
                  <a:lnTo>
                    <a:pt x="404" y="3266"/>
                  </a:lnTo>
                  <a:lnTo>
                    <a:pt x="404" y="3233"/>
                  </a:lnTo>
                  <a:lnTo>
                    <a:pt x="1212" y="3266"/>
                  </a:lnTo>
                  <a:lnTo>
                    <a:pt x="2054" y="3266"/>
                  </a:lnTo>
                  <a:lnTo>
                    <a:pt x="3670" y="3233"/>
                  </a:lnTo>
                  <a:lnTo>
                    <a:pt x="6936" y="3098"/>
                  </a:lnTo>
                  <a:lnTo>
                    <a:pt x="8518" y="3031"/>
                  </a:lnTo>
                  <a:lnTo>
                    <a:pt x="9326" y="2997"/>
                  </a:lnTo>
                  <a:lnTo>
                    <a:pt x="10101" y="2930"/>
                  </a:lnTo>
                  <a:lnTo>
                    <a:pt x="10909" y="2829"/>
                  </a:lnTo>
                  <a:lnTo>
                    <a:pt x="11717" y="2728"/>
                  </a:lnTo>
                  <a:lnTo>
                    <a:pt x="12525" y="2728"/>
                  </a:lnTo>
                  <a:lnTo>
                    <a:pt x="12929" y="2761"/>
                  </a:lnTo>
                  <a:lnTo>
                    <a:pt x="13333" y="2795"/>
                  </a:lnTo>
                  <a:lnTo>
                    <a:pt x="13434" y="2795"/>
                  </a:lnTo>
                  <a:lnTo>
                    <a:pt x="13467" y="2694"/>
                  </a:lnTo>
                  <a:lnTo>
                    <a:pt x="13535" y="2728"/>
                  </a:lnTo>
                  <a:lnTo>
                    <a:pt x="13602" y="2728"/>
                  </a:lnTo>
                  <a:lnTo>
                    <a:pt x="13669" y="2660"/>
                  </a:lnTo>
                  <a:lnTo>
                    <a:pt x="13703" y="2593"/>
                  </a:lnTo>
                  <a:lnTo>
                    <a:pt x="13636" y="1179"/>
                  </a:lnTo>
                  <a:lnTo>
                    <a:pt x="13636" y="741"/>
                  </a:lnTo>
                  <a:lnTo>
                    <a:pt x="13636" y="539"/>
                  </a:lnTo>
                  <a:lnTo>
                    <a:pt x="13602" y="304"/>
                  </a:lnTo>
                  <a:lnTo>
                    <a:pt x="13636" y="270"/>
                  </a:lnTo>
                  <a:lnTo>
                    <a:pt x="13669" y="169"/>
                  </a:lnTo>
                  <a:lnTo>
                    <a:pt x="13602" y="102"/>
                  </a:lnTo>
                  <a:lnTo>
                    <a:pt x="13535" y="68"/>
                  </a:lnTo>
                  <a:lnTo>
                    <a:pt x="13501" y="68"/>
                  </a:lnTo>
                  <a:lnTo>
                    <a:pt x="1346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02240" bIns="102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hape 759"/>
            <p:cNvSpPr/>
            <p:nvPr/>
          </p:nvSpPr>
          <p:spPr>
            <a:xfrm>
              <a:off x="1938240" y="5461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08" h="641">
                  <a:moveTo>
                    <a:pt x="68" y="1"/>
                  </a:moveTo>
                  <a:lnTo>
                    <a:pt x="1" y="34"/>
                  </a:lnTo>
                  <a:lnTo>
                    <a:pt x="1" y="68"/>
                  </a:lnTo>
                  <a:lnTo>
                    <a:pt x="35" y="102"/>
                  </a:lnTo>
                  <a:lnTo>
                    <a:pt x="169" y="203"/>
                  </a:lnTo>
                  <a:lnTo>
                    <a:pt x="371" y="270"/>
                  </a:lnTo>
                  <a:lnTo>
                    <a:pt x="102" y="472"/>
                  </a:lnTo>
                  <a:lnTo>
                    <a:pt x="68" y="539"/>
                  </a:lnTo>
                  <a:lnTo>
                    <a:pt x="102" y="607"/>
                  </a:lnTo>
                  <a:lnTo>
                    <a:pt x="169" y="640"/>
                  </a:lnTo>
                  <a:lnTo>
                    <a:pt x="237" y="640"/>
                  </a:lnTo>
                  <a:lnTo>
                    <a:pt x="439" y="472"/>
                  </a:lnTo>
                  <a:lnTo>
                    <a:pt x="641" y="304"/>
                  </a:lnTo>
                  <a:lnTo>
                    <a:pt x="674" y="270"/>
                  </a:lnTo>
                  <a:lnTo>
                    <a:pt x="708" y="203"/>
                  </a:lnTo>
                  <a:lnTo>
                    <a:pt x="674" y="169"/>
                  </a:lnTo>
                  <a:lnTo>
                    <a:pt x="607" y="135"/>
                  </a:lnTo>
                  <a:lnTo>
                    <a:pt x="338" y="34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hape 760"/>
            <p:cNvSpPr/>
            <p:nvPr/>
          </p:nvSpPr>
          <p:spPr>
            <a:xfrm>
              <a:off x="0" y="585720"/>
              <a:ext cx="185400" cy="1746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96" h="2627">
                  <a:moveTo>
                    <a:pt x="2627" y="1"/>
                  </a:moveTo>
                  <a:lnTo>
                    <a:pt x="2593" y="34"/>
                  </a:lnTo>
                  <a:lnTo>
                    <a:pt x="2560" y="68"/>
                  </a:lnTo>
                  <a:lnTo>
                    <a:pt x="2492" y="236"/>
                  </a:lnTo>
                  <a:lnTo>
                    <a:pt x="1819" y="169"/>
                  </a:lnTo>
                  <a:lnTo>
                    <a:pt x="1145" y="135"/>
                  </a:lnTo>
                  <a:lnTo>
                    <a:pt x="573" y="135"/>
                  </a:lnTo>
                  <a:lnTo>
                    <a:pt x="1" y="169"/>
                  </a:lnTo>
                  <a:lnTo>
                    <a:pt x="1" y="371"/>
                  </a:lnTo>
                  <a:lnTo>
                    <a:pt x="1684" y="371"/>
                  </a:lnTo>
                  <a:lnTo>
                    <a:pt x="2458" y="405"/>
                  </a:lnTo>
                  <a:lnTo>
                    <a:pt x="2425" y="876"/>
                  </a:lnTo>
                  <a:lnTo>
                    <a:pt x="2458" y="1347"/>
                  </a:lnTo>
                  <a:lnTo>
                    <a:pt x="2526" y="2257"/>
                  </a:lnTo>
                  <a:lnTo>
                    <a:pt x="1953" y="2324"/>
                  </a:lnTo>
                  <a:lnTo>
                    <a:pt x="1179" y="2358"/>
                  </a:lnTo>
                  <a:lnTo>
                    <a:pt x="472" y="2391"/>
                  </a:lnTo>
                  <a:lnTo>
                    <a:pt x="169" y="2358"/>
                  </a:lnTo>
                  <a:lnTo>
                    <a:pt x="1" y="2324"/>
                  </a:lnTo>
                  <a:lnTo>
                    <a:pt x="1" y="2492"/>
                  </a:lnTo>
                  <a:lnTo>
                    <a:pt x="640" y="2593"/>
                  </a:lnTo>
                  <a:lnTo>
                    <a:pt x="1314" y="2627"/>
                  </a:lnTo>
                  <a:lnTo>
                    <a:pt x="1987" y="2560"/>
                  </a:lnTo>
                  <a:lnTo>
                    <a:pt x="2627" y="2459"/>
                  </a:lnTo>
                  <a:lnTo>
                    <a:pt x="2728" y="2459"/>
                  </a:lnTo>
                  <a:lnTo>
                    <a:pt x="2795" y="2391"/>
                  </a:lnTo>
                  <a:lnTo>
                    <a:pt x="2795" y="2324"/>
                  </a:lnTo>
                  <a:lnTo>
                    <a:pt x="2728" y="1718"/>
                  </a:lnTo>
                  <a:lnTo>
                    <a:pt x="2694" y="1112"/>
                  </a:lnTo>
                  <a:lnTo>
                    <a:pt x="2728" y="573"/>
                  </a:lnTo>
                  <a:lnTo>
                    <a:pt x="2728" y="337"/>
                  </a:lnTo>
                  <a:lnTo>
                    <a:pt x="2694" y="68"/>
                  </a:lnTo>
                  <a:lnTo>
                    <a:pt x="2661" y="34"/>
                  </a:lnTo>
                  <a:lnTo>
                    <a:pt x="262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hape 761"/>
            <p:cNvSpPr/>
            <p:nvPr/>
          </p:nvSpPr>
          <p:spPr>
            <a:xfrm>
              <a:off x="349200" y="0"/>
              <a:ext cx="160200" cy="26640"/>
            </a:xfrm>
            <a:custGeom>
              <a:avLst/>
              <a:gdLst>
                <a:gd name="textAreaLeft" fmla="*/ 0 w 160200"/>
                <a:gd name="textAreaRight" fmla="*/ 160200 w 160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26" h="405">
                  <a:moveTo>
                    <a:pt x="2189" y="1"/>
                  </a:moveTo>
                  <a:lnTo>
                    <a:pt x="2223" y="169"/>
                  </a:lnTo>
                  <a:lnTo>
                    <a:pt x="1684" y="169"/>
                  </a:lnTo>
                  <a:lnTo>
                    <a:pt x="1112" y="203"/>
                  </a:lnTo>
                  <a:lnTo>
                    <a:pt x="540" y="169"/>
                  </a:lnTo>
                  <a:lnTo>
                    <a:pt x="270" y="169"/>
                  </a:lnTo>
                  <a:lnTo>
                    <a:pt x="1" y="236"/>
                  </a:lnTo>
                  <a:lnTo>
                    <a:pt x="237" y="304"/>
                  </a:lnTo>
                  <a:lnTo>
                    <a:pt x="472" y="337"/>
                  </a:lnTo>
                  <a:lnTo>
                    <a:pt x="977" y="371"/>
                  </a:lnTo>
                  <a:lnTo>
                    <a:pt x="1651" y="405"/>
                  </a:lnTo>
                  <a:lnTo>
                    <a:pt x="1954" y="371"/>
                  </a:lnTo>
                  <a:lnTo>
                    <a:pt x="2290" y="270"/>
                  </a:lnTo>
                  <a:lnTo>
                    <a:pt x="2358" y="270"/>
                  </a:lnTo>
                  <a:lnTo>
                    <a:pt x="2391" y="236"/>
                  </a:lnTo>
                  <a:lnTo>
                    <a:pt x="2425" y="203"/>
                  </a:lnTo>
                  <a:lnTo>
                    <a:pt x="239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hape 762"/>
            <p:cNvSpPr/>
            <p:nvPr/>
          </p:nvSpPr>
          <p:spPr>
            <a:xfrm>
              <a:off x="0" y="771480"/>
              <a:ext cx="142560" cy="185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156" h="2795">
                  <a:moveTo>
                    <a:pt x="1583" y="0"/>
                  </a:moveTo>
                  <a:lnTo>
                    <a:pt x="1179" y="34"/>
                  </a:lnTo>
                  <a:lnTo>
                    <a:pt x="607" y="68"/>
                  </a:lnTo>
                  <a:lnTo>
                    <a:pt x="304" y="68"/>
                  </a:lnTo>
                  <a:lnTo>
                    <a:pt x="1" y="101"/>
                  </a:lnTo>
                  <a:lnTo>
                    <a:pt x="1" y="270"/>
                  </a:lnTo>
                  <a:lnTo>
                    <a:pt x="741" y="270"/>
                  </a:lnTo>
                  <a:lnTo>
                    <a:pt x="1785" y="202"/>
                  </a:lnTo>
                  <a:lnTo>
                    <a:pt x="1819" y="236"/>
                  </a:lnTo>
                  <a:lnTo>
                    <a:pt x="1886" y="236"/>
                  </a:lnTo>
                  <a:lnTo>
                    <a:pt x="1886" y="270"/>
                  </a:lnTo>
                  <a:lnTo>
                    <a:pt x="1920" y="236"/>
                  </a:lnTo>
                  <a:lnTo>
                    <a:pt x="1886" y="573"/>
                  </a:lnTo>
                  <a:lnTo>
                    <a:pt x="1886" y="909"/>
                  </a:lnTo>
                  <a:lnTo>
                    <a:pt x="1920" y="1684"/>
                  </a:lnTo>
                  <a:lnTo>
                    <a:pt x="1953" y="2458"/>
                  </a:lnTo>
                  <a:lnTo>
                    <a:pt x="1482" y="2458"/>
                  </a:lnTo>
                  <a:lnTo>
                    <a:pt x="1011" y="2492"/>
                  </a:lnTo>
                  <a:lnTo>
                    <a:pt x="506" y="2492"/>
                  </a:lnTo>
                  <a:lnTo>
                    <a:pt x="236" y="2525"/>
                  </a:lnTo>
                  <a:lnTo>
                    <a:pt x="102" y="2559"/>
                  </a:lnTo>
                  <a:lnTo>
                    <a:pt x="1" y="2593"/>
                  </a:lnTo>
                  <a:lnTo>
                    <a:pt x="1" y="2727"/>
                  </a:lnTo>
                  <a:lnTo>
                    <a:pt x="102" y="2761"/>
                  </a:lnTo>
                  <a:lnTo>
                    <a:pt x="203" y="2795"/>
                  </a:lnTo>
                  <a:lnTo>
                    <a:pt x="438" y="2795"/>
                  </a:lnTo>
                  <a:lnTo>
                    <a:pt x="876" y="2761"/>
                  </a:lnTo>
                  <a:lnTo>
                    <a:pt x="1415" y="2761"/>
                  </a:lnTo>
                  <a:lnTo>
                    <a:pt x="1718" y="2727"/>
                  </a:lnTo>
                  <a:lnTo>
                    <a:pt x="1987" y="2694"/>
                  </a:lnTo>
                  <a:lnTo>
                    <a:pt x="2021" y="2727"/>
                  </a:lnTo>
                  <a:lnTo>
                    <a:pt x="2088" y="2727"/>
                  </a:lnTo>
                  <a:lnTo>
                    <a:pt x="2155" y="2694"/>
                  </a:lnTo>
                  <a:lnTo>
                    <a:pt x="2155" y="2626"/>
                  </a:lnTo>
                  <a:lnTo>
                    <a:pt x="2088" y="1078"/>
                  </a:lnTo>
                  <a:lnTo>
                    <a:pt x="2088" y="539"/>
                  </a:lnTo>
                  <a:lnTo>
                    <a:pt x="2088" y="303"/>
                  </a:lnTo>
                  <a:lnTo>
                    <a:pt x="2021" y="68"/>
                  </a:lnTo>
                  <a:lnTo>
                    <a:pt x="2021" y="34"/>
                  </a:lnTo>
                  <a:lnTo>
                    <a:pt x="1987" y="68"/>
                  </a:lnTo>
                  <a:lnTo>
                    <a:pt x="1987" y="101"/>
                  </a:lnTo>
                  <a:lnTo>
                    <a:pt x="1953" y="68"/>
                  </a:lnTo>
                  <a:lnTo>
                    <a:pt x="1886" y="34"/>
                  </a:lnTo>
                  <a:lnTo>
                    <a:pt x="178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8760" bIns="68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hape 763"/>
            <p:cNvSpPr/>
            <p:nvPr/>
          </p:nvSpPr>
          <p:spPr>
            <a:xfrm>
              <a:off x="206280" y="577800"/>
              <a:ext cx="164880" cy="1774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2" h="2694">
                  <a:moveTo>
                    <a:pt x="2290" y="202"/>
                  </a:moveTo>
                  <a:lnTo>
                    <a:pt x="2222" y="707"/>
                  </a:lnTo>
                  <a:lnTo>
                    <a:pt x="2189" y="1246"/>
                  </a:lnTo>
                  <a:lnTo>
                    <a:pt x="2222" y="1784"/>
                  </a:lnTo>
                  <a:lnTo>
                    <a:pt x="2290" y="2323"/>
                  </a:lnTo>
                  <a:lnTo>
                    <a:pt x="1818" y="2323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279"/>
                  </a:lnTo>
                  <a:lnTo>
                    <a:pt x="169" y="236"/>
                  </a:lnTo>
                  <a:lnTo>
                    <a:pt x="707" y="269"/>
                  </a:lnTo>
                  <a:lnTo>
                    <a:pt x="1246" y="269"/>
                  </a:lnTo>
                  <a:lnTo>
                    <a:pt x="2290" y="202"/>
                  </a:lnTo>
                  <a:close/>
                  <a:moveTo>
                    <a:pt x="1751" y="0"/>
                  </a:moveTo>
                  <a:lnTo>
                    <a:pt x="1212" y="34"/>
                  </a:lnTo>
                  <a:lnTo>
                    <a:pt x="674" y="34"/>
                  </a:lnTo>
                  <a:lnTo>
                    <a:pt x="135" y="67"/>
                  </a:lnTo>
                  <a:lnTo>
                    <a:pt x="101" y="101"/>
                  </a:lnTo>
                  <a:lnTo>
                    <a:pt x="68" y="135"/>
                  </a:lnTo>
                  <a:lnTo>
                    <a:pt x="34" y="168"/>
                  </a:lnTo>
                  <a:lnTo>
                    <a:pt x="34" y="202"/>
                  </a:lnTo>
                  <a:lnTo>
                    <a:pt x="0" y="808"/>
                  </a:lnTo>
                  <a:lnTo>
                    <a:pt x="0" y="1414"/>
                  </a:lnTo>
                  <a:lnTo>
                    <a:pt x="68" y="2020"/>
                  </a:lnTo>
                  <a:lnTo>
                    <a:pt x="169" y="2626"/>
                  </a:lnTo>
                  <a:lnTo>
                    <a:pt x="236" y="2660"/>
                  </a:lnTo>
                  <a:lnTo>
                    <a:pt x="303" y="2694"/>
                  </a:lnTo>
                  <a:lnTo>
                    <a:pt x="371" y="2660"/>
                  </a:lnTo>
                  <a:lnTo>
                    <a:pt x="404" y="2559"/>
                  </a:lnTo>
                  <a:lnTo>
                    <a:pt x="371" y="2492"/>
                  </a:lnTo>
                  <a:lnTo>
                    <a:pt x="842" y="2559"/>
                  </a:lnTo>
                  <a:lnTo>
                    <a:pt x="1347" y="2593"/>
                  </a:lnTo>
                  <a:lnTo>
                    <a:pt x="1818" y="2593"/>
                  </a:lnTo>
                  <a:lnTo>
                    <a:pt x="2054" y="2559"/>
                  </a:lnTo>
                  <a:lnTo>
                    <a:pt x="2290" y="2492"/>
                  </a:lnTo>
                  <a:lnTo>
                    <a:pt x="2323" y="2458"/>
                  </a:lnTo>
                  <a:lnTo>
                    <a:pt x="2323" y="2391"/>
                  </a:lnTo>
                  <a:lnTo>
                    <a:pt x="2424" y="2391"/>
                  </a:lnTo>
                  <a:lnTo>
                    <a:pt x="2458" y="2357"/>
                  </a:lnTo>
                  <a:lnTo>
                    <a:pt x="2458" y="2290"/>
                  </a:lnTo>
                  <a:lnTo>
                    <a:pt x="2492" y="1784"/>
                  </a:lnTo>
                  <a:lnTo>
                    <a:pt x="2458" y="1246"/>
                  </a:lnTo>
                  <a:lnTo>
                    <a:pt x="2424" y="707"/>
                  </a:lnTo>
                  <a:lnTo>
                    <a:pt x="2357" y="168"/>
                  </a:lnTo>
                  <a:lnTo>
                    <a:pt x="2391" y="101"/>
                  </a:lnTo>
                  <a:lnTo>
                    <a:pt x="2391" y="67"/>
                  </a:lnTo>
                  <a:lnTo>
                    <a:pt x="235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hape 764"/>
            <p:cNvSpPr/>
            <p:nvPr/>
          </p:nvSpPr>
          <p:spPr>
            <a:xfrm>
              <a:off x="2112840" y="331560"/>
              <a:ext cx="18720" cy="153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70" h="2324">
                  <a:moveTo>
                    <a:pt x="67" y="1"/>
                  </a:moveTo>
                  <a:lnTo>
                    <a:pt x="34" y="34"/>
                  </a:lnTo>
                  <a:lnTo>
                    <a:pt x="34" y="304"/>
                  </a:lnTo>
                  <a:lnTo>
                    <a:pt x="34" y="539"/>
                  </a:lnTo>
                  <a:lnTo>
                    <a:pt x="34" y="1078"/>
                  </a:lnTo>
                  <a:lnTo>
                    <a:pt x="0" y="1684"/>
                  </a:lnTo>
                  <a:lnTo>
                    <a:pt x="0" y="1987"/>
                  </a:lnTo>
                  <a:lnTo>
                    <a:pt x="34" y="2256"/>
                  </a:lnTo>
                  <a:lnTo>
                    <a:pt x="67" y="2324"/>
                  </a:lnTo>
                  <a:lnTo>
                    <a:pt x="168" y="2324"/>
                  </a:lnTo>
                  <a:lnTo>
                    <a:pt x="202" y="2290"/>
                  </a:lnTo>
                  <a:lnTo>
                    <a:pt x="236" y="1987"/>
                  </a:lnTo>
                  <a:lnTo>
                    <a:pt x="269" y="1684"/>
                  </a:lnTo>
                  <a:lnTo>
                    <a:pt x="236" y="1078"/>
                  </a:lnTo>
                  <a:lnTo>
                    <a:pt x="236" y="539"/>
                  </a:lnTo>
                  <a:lnTo>
                    <a:pt x="202" y="270"/>
                  </a:lnTo>
                  <a:lnTo>
                    <a:pt x="135" y="34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hape 765"/>
            <p:cNvSpPr/>
            <p:nvPr/>
          </p:nvSpPr>
          <p:spPr>
            <a:xfrm>
              <a:off x="717480" y="433080"/>
              <a:ext cx="48960" cy="69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41" h="1045">
                  <a:moveTo>
                    <a:pt x="438" y="270"/>
                  </a:moveTo>
                  <a:lnTo>
                    <a:pt x="539" y="303"/>
                  </a:lnTo>
                  <a:lnTo>
                    <a:pt x="573" y="371"/>
                  </a:lnTo>
                  <a:lnTo>
                    <a:pt x="606" y="438"/>
                  </a:lnTo>
                  <a:lnTo>
                    <a:pt x="606" y="606"/>
                  </a:lnTo>
                  <a:lnTo>
                    <a:pt x="539" y="674"/>
                  </a:lnTo>
                  <a:lnTo>
                    <a:pt x="505" y="741"/>
                  </a:lnTo>
                  <a:lnTo>
                    <a:pt x="337" y="842"/>
                  </a:lnTo>
                  <a:lnTo>
                    <a:pt x="303" y="842"/>
                  </a:lnTo>
                  <a:lnTo>
                    <a:pt x="270" y="472"/>
                  </a:lnTo>
                  <a:lnTo>
                    <a:pt x="303" y="270"/>
                  </a:lnTo>
                  <a:lnTo>
                    <a:pt x="337" y="303"/>
                  </a:lnTo>
                  <a:lnTo>
                    <a:pt x="438" y="270"/>
                  </a:lnTo>
                  <a:close/>
                  <a:moveTo>
                    <a:pt x="270" y="0"/>
                  </a:moveTo>
                  <a:lnTo>
                    <a:pt x="270" y="34"/>
                  </a:lnTo>
                  <a:lnTo>
                    <a:pt x="202" y="101"/>
                  </a:lnTo>
                  <a:lnTo>
                    <a:pt x="135" y="202"/>
                  </a:lnTo>
                  <a:lnTo>
                    <a:pt x="101" y="404"/>
                  </a:lnTo>
                  <a:lnTo>
                    <a:pt x="101" y="640"/>
                  </a:lnTo>
                  <a:lnTo>
                    <a:pt x="135" y="876"/>
                  </a:lnTo>
                  <a:lnTo>
                    <a:pt x="34" y="876"/>
                  </a:lnTo>
                  <a:lnTo>
                    <a:pt x="0" y="909"/>
                  </a:lnTo>
                  <a:lnTo>
                    <a:pt x="0" y="943"/>
                  </a:lnTo>
                  <a:lnTo>
                    <a:pt x="0" y="1010"/>
                  </a:lnTo>
                  <a:lnTo>
                    <a:pt x="34" y="1010"/>
                  </a:lnTo>
                  <a:lnTo>
                    <a:pt x="135" y="1044"/>
                  </a:lnTo>
                  <a:lnTo>
                    <a:pt x="236" y="1044"/>
                  </a:lnTo>
                  <a:lnTo>
                    <a:pt x="337" y="1010"/>
                  </a:lnTo>
                  <a:lnTo>
                    <a:pt x="438" y="977"/>
                  </a:lnTo>
                  <a:lnTo>
                    <a:pt x="606" y="808"/>
                  </a:lnTo>
                  <a:lnTo>
                    <a:pt x="741" y="640"/>
                  </a:lnTo>
                  <a:lnTo>
                    <a:pt x="741" y="539"/>
                  </a:lnTo>
                  <a:lnTo>
                    <a:pt x="741" y="438"/>
                  </a:lnTo>
                  <a:lnTo>
                    <a:pt x="707" y="337"/>
                  </a:lnTo>
                  <a:lnTo>
                    <a:pt x="674" y="236"/>
                  </a:lnTo>
                  <a:lnTo>
                    <a:pt x="606" y="169"/>
                  </a:lnTo>
                  <a:lnTo>
                    <a:pt x="303" y="169"/>
                  </a:lnTo>
                  <a:lnTo>
                    <a:pt x="303" y="3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hape 766"/>
            <p:cNvSpPr/>
            <p:nvPr/>
          </p:nvSpPr>
          <p:spPr>
            <a:xfrm>
              <a:off x="345960" y="755640"/>
              <a:ext cx="168120" cy="183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526" h="2762">
                  <a:moveTo>
                    <a:pt x="2256" y="236"/>
                  </a:moveTo>
                  <a:lnTo>
                    <a:pt x="2256" y="640"/>
                  </a:lnTo>
                  <a:lnTo>
                    <a:pt x="2290" y="1078"/>
                  </a:lnTo>
                  <a:lnTo>
                    <a:pt x="2290" y="1785"/>
                  </a:lnTo>
                  <a:lnTo>
                    <a:pt x="2323" y="2492"/>
                  </a:lnTo>
                  <a:lnTo>
                    <a:pt x="1448" y="2492"/>
                  </a:lnTo>
                  <a:lnTo>
                    <a:pt x="909" y="2526"/>
                  </a:lnTo>
                  <a:lnTo>
                    <a:pt x="640" y="2559"/>
                  </a:lnTo>
                  <a:lnTo>
                    <a:pt x="371" y="2593"/>
                  </a:lnTo>
                  <a:lnTo>
                    <a:pt x="337" y="1886"/>
                  </a:lnTo>
                  <a:lnTo>
                    <a:pt x="236" y="1145"/>
                  </a:lnTo>
                  <a:lnTo>
                    <a:pt x="202" y="708"/>
                  </a:lnTo>
                  <a:lnTo>
                    <a:pt x="135" y="270"/>
                  </a:lnTo>
                  <a:lnTo>
                    <a:pt x="1179" y="270"/>
                  </a:lnTo>
                  <a:lnTo>
                    <a:pt x="2256" y="236"/>
                  </a:lnTo>
                  <a:close/>
                  <a:moveTo>
                    <a:pt x="2222" y="1"/>
                  </a:moveTo>
                  <a:lnTo>
                    <a:pt x="1179" y="34"/>
                  </a:lnTo>
                  <a:lnTo>
                    <a:pt x="640" y="34"/>
                  </a:lnTo>
                  <a:lnTo>
                    <a:pt x="135" y="68"/>
                  </a:lnTo>
                  <a:lnTo>
                    <a:pt x="68" y="135"/>
                  </a:lnTo>
                  <a:lnTo>
                    <a:pt x="34" y="203"/>
                  </a:lnTo>
                  <a:lnTo>
                    <a:pt x="0" y="438"/>
                  </a:lnTo>
                  <a:lnTo>
                    <a:pt x="0" y="674"/>
                  </a:lnTo>
                  <a:lnTo>
                    <a:pt x="34" y="1145"/>
                  </a:lnTo>
                  <a:lnTo>
                    <a:pt x="101" y="1920"/>
                  </a:lnTo>
                  <a:lnTo>
                    <a:pt x="135" y="2357"/>
                  </a:lnTo>
                  <a:lnTo>
                    <a:pt x="236" y="2694"/>
                  </a:lnTo>
                  <a:lnTo>
                    <a:pt x="236" y="2728"/>
                  </a:lnTo>
                  <a:lnTo>
                    <a:pt x="270" y="2761"/>
                  </a:lnTo>
                  <a:lnTo>
                    <a:pt x="337" y="2728"/>
                  </a:lnTo>
                  <a:lnTo>
                    <a:pt x="371" y="2728"/>
                  </a:lnTo>
                  <a:lnTo>
                    <a:pt x="606" y="2761"/>
                  </a:lnTo>
                  <a:lnTo>
                    <a:pt x="842" y="2761"/>
                  </a:lnTo>
                  <a:lnTo>
                    <a:pt x="1313" y="2728"/>
                  </a:lnTo>
                  <a:lnTo>
                    <a:pt x="2088" y="2728"/>
                  </a:lnTo>
                  <a:lnTo>
                    <a:pt x="2357" y="2694"/>
                  </a:lnTo>
                  <a:lnTo>
                    <a:pt x="2492" y="2694"/>
                  </a:lnTo>
                  <a:lnTo>
                    <a:pt x="2492" y="2660"/>
                  </a:lnTo>
                  <a:lnTo>
                    <a:pt x="2525" y="2324"/>
                  </a:lnTo>
                  <a:lnTo>
                    <a:pt x="2525" y="1953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4" y="337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6960" bIns="66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hape 767"/>
            <p:cNvSpPr/>
            <p:nvPr/>
          </p:nvSpPr>
          <p:spPr>
            <a:xfrm>
              <a:off x="660240" y="377640"/>
              <a:ext cx="164880" cy="174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493" h="2627">
                  <a:moveTo>
                    <a:pt x="2223" y="135"/>
                  </a:moveTo>
                  <a:lnTo>
                    <a:pt x="2257" y="1213"/>
                  </a:lnTo>
                  <a:lnTo>
                    <a:pt x="2223" y="2290"/>
                  </a:lnTo>
                  <a:lnTo>
                    <a:pt x="1752" y="2324"/>
                  </a:lnTo>
                  <a:lnTo>
                    <a:pt x="1247" y="2357"/>
                  </a:lnTo>
                  <a:lnTo>
                    <a:pt x="775" y="2357"/>
                  </a:lnTo>
                  <a:lnTo>
                    <a:pt x="539" y="2391"/>
                  </a:lnTo>
                  <a:lnTo>
                    <a:pt x="337" y="2425"/>
                  </a:lnTo>
                  <a:lnTo>
                    <a:pt x="304" y="2425"/>
                  </a:lnTo>
                  <a:lnTo>
                    <a:pt x="304" y="2391"/>
                  </a:lnTo>
                  <a:lnTo>
                    <a:pt x="337" y="1886"/>
                  </a:lnTo>
                  <a:lnTo>
                    <a:pt x="304" y="1347"/>
                  </a:lnTo>
                  <a:lnTo>
                    <a:pt x="236" y="809"/>
                  </a:lnTo>
                  <a:lnTo>
                    <a:pt x="135" y="270"/>
                  </a:lnTo>
                  <a:lnTo>
                    <a:pt x="1213" y="270"/>
                  </a:lnTo>
                  <a:lnTo>
                    <a:pt x="1718" y="236"/>
                  </a:lnTo>
                  <a:lnTo>
                    <a:pt x="2223" y="135"/>
                  </a:lnTo>
                  <a:close/>
                  <a:moveTo>
                    <a:pt x="1718" y="1"/>
                  </a:moveTo>
                  <a:lnTo>
                    <a:pt x="1179" y="34"/>
                  </a:lnTo>
                  <a:lnTo>
                    <a:pt x="640" y="68"/>
                  </a:lnTo>
                  <a:lnTo>
                    <a:pt x="102" y="68"/>
                  </a:lnTo>
                  <a:lnTo>
                    <a:pt x="34" y="102"/>
                  </a:lnTo>
                  <a:lnTo>
                    <a:pt x="1" y="135"/>
                  </a:lnTo>
                  <a:lnTo>
                    <a:pt x="1" y="203"/>
                  </a:lnTo>
                  <a:lnTo>
                    <a:pt x="34" y="270"/>
                  </a:lnTo>
                  <a:lnTo>
                    <a:pt x="34" y="775"/>
                  </a:lnTo>
                  <a:lnTo>
                    <a:pt x="34" y="1347"/>
                  </a:lnTo>
                  <a:lnTo>
                    <a:pt x="68" y="1886"/>
                  </a:lnTo>
                  <a:lnTo>
                    <a:pt x="135" y="2391"/>
                  </a:lnTo>
                  <a:lnTo>
                    <a:pt x="169" y="2458"/>
                  </a:lnTo>
                  <a:lnTo>
                    <a:pt x="203" y="2458"/>
                  </a:lnTo>
                  <a:lnTo>
                    <a:pt x="236" y="2492"/>
                  </a:lnTo>
                  <a:lnTo>
                    <a:pt x="270" y="2458"/>
                  </a:lnTo>
                  <a:lnTo>
                    <a:pt x="270" y="2526"/>
                  </a:lnTo>
                  <a:lnTo>
                    <a:pt x="337" y="2559"/>
                  </a:lnTo>
                  <a:lnTo>
                    <a:pt x="539" y="2593"/>
                  </a:lnTo>
                  <a:lnTo>
                    <a:pt x="775" y="2627"/>
                  </a:lnTo>
                  <a:lnTo>
                    <a:pt x="1280" y="2593"/>
                  </a:lnTo>
                  <a:lnTo>
                    <a:pt x="1752" y="2526"/>
                  </a:lnTo>
                  <a:lnTo>
                    <a:pt x="2223" y="2425"/>
                  </a:lnTo>
                  <a:lnTo>
                    <a:pt x="2223" y="2492"/>
                  </a:lnTo>
                  <a:lnTo>
                    <a:pt x="2257" y="2559"/>
                  </a:lnTo>
                  <a:lnTo>
                    <a:pt x="2324" y="2593"/>
                  </a:lnTo>
                  <a:lnTo>
                    <a:pt x="2391" y="2593"/>
                  </a:lnTo>
                  <a:lnTo>
                    <a:pt x="2425" y="2526"/>
                  </a:lnTo>
                  <a:lnTo>
                    <a:pt x="2492" y="1920"/>
                  </a:lnTo>
                  <a:lnTo>
                    <a:pt x="2492" y="1314"/>
                  </a:lnTo>
                  <a:lnTo>
                    <a:pt x="2492" y="708"/>
                  </a:lnTo>
                  <a:lnTo>
                    <a:pt x="2391" y="102"/>
                  </a:lnTo>
                  <a:lnTo>
                    <a:pt x="2391" y="68"/>
                  </a:lnTo>
                  <a:lnTo>
                    <a:pt x="2324" y="68"/>
                  </a:lnTo>
                  <a:lnTo>
                    <a:pt x="23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hape 768"/>
            <p:cNvSpPr/>
            <p:nvPr/>
          </p:nvSpPr>
          <p:spPr>
            <a:xfrm>
              <a:off x="766440" y="56484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24">
                  <a:moveTo>
                    <a:pt x="68" y="1"/>
                  </a:moveTo>
                  <a:lnTo>
                    <a:pt x="35" y="34"/>
                  </a:lnTo>
                  <a:lnTo>
                    <a:pt x="1" y="304"/>
                  </a:lnTo>
                  <a:lnTo>
                    <a:pt x="1" y="573"/>
                  </a:lnTo>
                  <a:lnTo>
                    <a:pt x="35" y="1078"/>
                  </a:lnTo>
                  <a:lnTo>
                    <a:pt x="68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4"/>
                  </a:lnTo>
                  <a:lnTo>
                    <a:pt x="304" y="2324"/>
                  </a:lnTo>
                  <a:lnTo>
                    <a:pt x="304" y="2257"/>
                  </a:lnTo>
                  <a:lnTo>
                    <a:pt x="338" y="1987"/>
                  </a:lnTo>
                  <a:lnTo>
                    <a:pt x="304" y="1684"/>
                  </a:lnTo>
                  <a:lnTo>
                    <a:pt x="237" y="1078"/>
                  </a:lnTo>
                  <a:lnTo>
                    <a:pt x="203" y="539"/>
                  </a:lnTo>
                  <a:lnTo>
                    <a:pt x="169" y="304"/>
                  </a:lnTo>
                  <a:lnTo>
                    <a:pt x="136" y="34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hape 769"/>
            <p:cNvSpPr/>
            <p:nvPr/>
          </p:nvSpPr>
          <p:spPr>
            <a:xfrm>
              <a:off x="455400" y="625320"/>
              <a:ext cx="48960" cy="586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41" h="877">
                  <a:moveTo>
                    <a:pt x="101" y="1"/>
                  </a:moveTo>
                  <a:lnTo>
                    <a:pt x="34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34" y="169"/>
                  </a:lnTo>
                  <a:lnTo>
                    <a:pt x="135" y="203"/>
                  </a:lnTo>
                  <a:lnTo>
                    <a:pt x="337" y="270"/>
                  </a:lnTo>
                  <a:lnTo>
                    <a:pt x="168" y="472"/>
                  </a:lnTo>
                  <a:lnTo>
                    <a:pt x="34" y="708"/>
                  </a:lnTo>
                  <a:lnTo>
                    <a:pt x="0" y="775"/>
                  </a:lnTo>
                  <a:lnTo>
                    <a:pt x="34" y="842"/>
                  </a:lnTo>
                  <a:lnTo>
                    <a:pt x="101" y="876"/>
                  </a:lnTo>
                  <a:lnTo>
                    <a:pt x="168" y="876"/>
                  </a:lnTo>
                  <a:lnTo>
                    <a:pt x="505" y="775"/>
                  </a:lnTo>
                  <a:lnTo>
                    <a:pt x="673" y="741"/>
                  </a:lnTo>
                  <a:lnTo>
                    <a:pt x="707" y="708"/>
                  </a:lnTo>
                  <a:lnTo>
                    <a:pt x="741" y="640"/>
                  </a:lnTo>
                  <a:lnTo>
                    <a:pt x="741" y="573"/>
                  </a:lnTo>
                  <a:lnTo>
                    <a:pt x="673" y="539"/>
                  </a:lnTo>
                  <a:lnTo>
                    <a:pt x="640" y="539"/>
                  </a:lnTo>
                  <a:lnTo>
                    <a:pt x="505" y="573"/>
                  </a:lnTo>
                  <a:lnTo>
                    <a:pt x="370" y="607"/>
                  </a:lnTo>
                  <a:lnTo>
                    <a:pt x="640" y="236"/>
                  </a:lnTo>
                  <a:lnTo>
                    <a:pt x="673" y="169"/>
                  </a:lnTo>
                  <a:lnTo>
                    <a:pt x="640" y="135"/>
                  </a:lnTo>
                  <a:lnTo>
                    <a:pt x="606" y="102"/>
                  </a:lnTo>
                  <a:lnTo>
                    <a:pt x="539" y="68"/>
                  </a:lnTo>
                  <a:lnTo>
                    <a:pt x="236" y="34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hape 770"/>
            <p:cNvSpPr/>
            <p:nvPr/>
          </p:nvSpPr>
          <p:spPr>
            <a:xfrm>
              <a:off x="392040" y="572760"/>
              <a:ext cx="166680" cy="158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2">
                  <a:moveTo>
                    <a:pt x="2256" y="236"/>
                  </a:moveTo>
                  <a:lnTo>
                    <a:pt x="2256" y="674"/>
                  </a:lnTo>
                  <a:lnTo>
                    <a:pt x="2290" y="1112"/>
                  </a:lnTo>
                  <a:lnTo>
                    <a:pt x="2290" y="1617"/>
                  </a:lnTo>
                  <a:lnTo>
                    <a:pt x="2324" y="2122"/>
                  </a:lnTo>
                  <a:lnTo>
                    <a:pt x="1448" y="2122"/>
                  </a:lnTo>
                  <a:lnTo>
                    <a:pt x="910" y="2156"/>
                  </a:lnTo>
                  <a:lnTo>
                    <a:pt x="640" y="2156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8"/>
                  </a:lnTo>
                  <a:lnTo>
                    <a:pt x="169" y="270"/>
                  </a:lnTo>
                  <a:lnTo>
                    <a:pt x="674" y="304"/>
                  </a:lnTo>
                  <a:lnTo>
                    <a:pt x="1213" y="270"/>
                  </a:lnTo>
                  <a:lnTo>
                    <a:pt x="2256" y="236"/>
                  </a:lnTo>
                  <a:close/>
                  <a:moveTo>
                    <a:pt x="2256" y="1"/>
                  </a:moveTo>
                  <a:lnTo>
                    <a:pt x="1179" y="34"/>
                  </a:lnTo>
                  <a:lnTo>
                    <a:pt x="674" y="68"/>
                  </a:lnTo>
                  <a:lnTo>
                    <a:pt x="135" y="102"/>
                  </a:lnTo>
                  <a:lnTo>
                    <a:pt x="68" y="135"/>
                  </a:lnTo>
                  <a:lnTo>
                    <a:pt x="34" y="203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79"/>
                  </a:lnTo>
                  <a:lnTo>
                    <a:pt x="102" y="1751"/>
                  </a:lnTo>
                  <a:lnTo>
                    <a:pt x="135" y="2055"/>
                  </a:lnTo>
                  <a:lnTo>
                    <a:pt x="203" y="2324"/>
                  </a:lnTo>
                  <a:lnTo>
                    <a:pt x="236" y="2358"/>
                  </a:lnTo>
                  <a:lnTo>
                    <a:pt x="371" y="2358"/>
                  </a:lnTo>
                  <a:lnTo>
                    <a:pt x="573" y="2391"/>
                  </a:lnTo>
                  <a:lnTo>
                    <a:pt x="842" y="2391"/>
                  </a:lnTo>
                  <a:lnTo>
                    <a:pt x="1314" y="2358"/>
                  </a:lnTo>
                  <a:lnTo>
                    <a:pt x="2088" y="2358"/>
                  </a:lnTo>
                  <a:lnTo>
                    <a:pt x="2357" y="2324"/>
                  </a:lnTo>
                  <a:lnTo>
                    <a:pt x="2458" y="2324"/>
                  </a:lnTo>
                  <a:lnTo>
                    <a:pt x="2492" y="2290"/>
                  </a:lnTo>
                  <a:lnTo>
                    <a:pt x="2526" y="2021"/>
                  </a:lnTo>
                  <a:lnTo>
                    <a:pt x="2526" y="1785"/>
                  </a:lnTo>
                  <a:lnTo>
                    <a:pt x="2492" y="1246"/>
                  </a:lnTo>
                  <a:lnTo>
                    <a:pt x="2458" y="674"/>
                  </a:lnTo>
                  <a:lnTo>
                    <a:pt x="2425" y="371"/>
                  </a:lnTo>
                  <a:lnTo>
                    <a:pt x="2357" y="68"/>
                  </a:lnTo>
                  <a:lnTo>
                    <a:pt x="2324" y="34"/>
                  </a:lnTo>
                  <a:lnTo>
                    <a:pt x="2290" y="34"/>
                  </a:lnTo>
                  <a:lnTo>
                    <a:pt x="22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hape 771"/>
            <p:cNvSpPr/>
            <p:nvPr/>
          </p:nvSpPr>
          <p:spPr>
            <a:xfrm>
              <a:off x="1511280" y="525240"/>
              <a:ext cx="172800" cy="161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3" h="2425">
                  <a:moveTo>
                    <a:pt x="2391" y="1"/>
                  </a:moveTo>
                  <a:lnTo>
                    <a:pt x="2357" y="34"/>
                  </a:lnTo>
                  <a:lnTo>
                    <a:pt x="2323" y="135"/>
                  </a:lnTo>
                  <a:lnTo>
                    <a:pt x="1751" y="102"/>
                  </a:lnTo>
                  <a:lnTo>
                    <a:pt x="1179" y="68"/>
                  </a:lnTo>
                  <a:lnTo>
                    <a:pt x="674" y="34"/>
                  </a:lnTo>
                  <a:lnTo>
                    <a:pt x="404" y="68"/>
                  </a:lnTo>
                  <a:lnTo>
                    <a:pt x="303" y="135"/>
                  </a:lnTo>
                  <a:lnTo>
                    <a:pt x="202" y="169"/>
                  </a:lnTo>
                  <a:lnTo>
                    <a:pt x="202" y="203"/>
                  </a:lnTo>
                  <a:lnTo>
                    <a:pt x="371" y="270"/>
                  </a:lnTo>
                  <a:lnTo>
                    <a:pt x="573" y="304"/>
                  </a:lnTo>
                  <a:lnTo>
                    <a:pt x="1684" y="304"/>
                  </a:lnTo>
                  <a:lnTo>
                    <a:pt x="2323" y="337"/>
                  </a:lnTo>
                  <a:lnTo>
                    <a:pt x="2323" y="708"/>
                  </a:lnTo>
                  <a:lnTo>
                    <a:pt x="2323" y="1078"/>
                  </a:lnTo>
                  <a:lnTo>
                    <a:pt x="2323" y="1583"/>
                  </a:lnTo>
                  <a:lnTo>
                    <a:pt x="2357" y="1852"/>
                  </a:lnTo>
                  <a:lnTo>
                    <a:pt x="2387" y="2088"/>
                  </a:lnTo>
                  <a:lnTo>
                    <a:pt x="1347" y="2122"/>
                  </a:lnTo>
                  <a:lnTo>
                    <a:pt x="808" y="2155"/>
                  </a:lnTo>
                  <a:lnTo>
                    <a:pt x="539" y="2189"/>
                  </a:lnTo>
                  <a:lnTo>
                    <a:pt x="303" y="2256"/>
                  </a:lnTo>
                  <a:lnTo>
                    <a:pt x="270" y="1751"/>
                  </a:lnTo>
                  <a:lnTo>
                    <a:pt x="236" y="1246"/>
                  </a:lnTo>
                  <a:lnTo>
                    <a:pt x="270" y="708"/>
                  </a:lnTo>
                  <a:lnTo>
                    <a:pt x="236" y="438"/>
                  </a:lnTo>
                  <a:lnTo>
                    <a:pt x="202" y="304"/>
                  </a:lnTo>
                  <a:lnTo>
                    <a:pt x="169" y="203"/>
                  </a:lnTo>
                  <a:lnTo>
                    <a:pt x="68" y="337"/>
                  </a:lnTo>
                  <a:lnTo>
                    <a:pt x="34" y="506"/>
                  </a:lnTo>
                  <a:lnTo>
                    <a:pt x="0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88"/>
                  </a:lnTo>
                  <a:lnTo>
                    <a:pt x="68" y="2189"/>
                  </a:lnTo>
                  <a:lnTo>
                    <a:pt x="101" y="2290"/>
                  </a:lnTo>
                  <a:lnTo>
                    <a:pt x="169" y="2391"/>
                  </a:lnTo>
                  <a:lnTo>
                    <a:pt x="270" y="2425"/>
                  </a:lnTo>
                  <a:lnTo>
                    <a:pt x="303" y="2425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42" y="2425"/>
                  </a:lnTo>
                  <a:lnTo>
                    <a:pt x="1347" y="2391"/>
                  </a:lnTo>
                  <a:lnTo>
                    <a:pt x="2391" y="2324"/>
                  </a:lnTo>
                  <a:lnTo>
                    <a:pt x="2458" y="2290"/>
                  </a:lnTo>
                  <a:lnTo>
                    <a:pt x="2492" y="2324"/>
                  </a:lnTo>
                  <a:lnTo>
                    <a:pt x="2525" y="2324"/>
                  </a:lnTo>
                  <a:lnTo>
                    <a:pt x="2559" y="2290"/>
                  </a:lnTo>
                  <a:lnTo>
                    <a:pt x="2593" y="2021"/>
                  </a:lnTo>
                  <a:lnTo>
                    <a:pt x="2559" y="1785"/>
                  </a:lnTo>
                  <a:lnTo>
                    <a:pt x="2525" y="1246"/>
                  </a:lnTo>
                  <a:lnTo>
                    <a:pt x="2525" y="640"/>
                  </a:lnTo>
                  <a:lnTo>
                    <a:pt x="2492" y="337"/>
                  </a:lnTo>
                  <a:lnTo>
                    <a:pt x="2458" y="34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hape 772"/>
            <p:cNvSpPr/>
            <p:nvPr/>
          </p:nvSpPr>
          <p:spPr>
            <a:xfrm>
              <a:off x="8372520" y="2843280"/>
              <a:ext cx="787320" cy="11998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1852" h="18081">
                  <a:moveTo>
                    <a:pt x="8721" y="1"/>
                  </a:moveTo>
                  <a:lnTo>
                    <a:pt x="6431" y="506"/>
                  </a:lnTo>
                  <a:lnTo>
                    <a:pt x="4142" y="1045"/>
                  </a:lnTo>
                  <a:lnTo>
                    <a:pt x="1886" y="1651"/>
                  </a:lnTo>
                  <a:lnTo>
                    <a:pt x="977" y="1886"/>
                  </a:lnTo>
                  <a:lnTo>
                    <a:pt x="742" y="1954"/>
                  </a:lnTo>
                  <a:lnTo>
                    <a:pt x="540" y="2055"/>
                  </a:lnTo>
                  <a:lnTo>
                    <a:pt x="338" y="2156"/>
                  </a:lnTo>
                  <a:lnTo>
                    <a:pt x="169" y="2290"/>
                  </a:lnTo>
                  <a:lnTo>
                    <a:pt x="169" y="2324"/>
                  </a:lnTo>
                  <a:lnTo>
                    <a:pt x="136" y="2257"/>
                  </a:lnTo>
                  <a:lnTo>
                    <a:pt x="68" y="2223"/>
                  </a:lnTo>
                  <a:lnTo>
                    <a:pt x="1" y="2223"/>
                  </a:lnTo>
                  <a:lnTo>
                    <a:pt x="1" y="2290"/>
                  </a:lnTo>
                  <a:lnTo>
                    <a:pt x="35" y="2762"/>
                  </a:lnTo>
                  <a:lnTo>
                    <a:pt x="136" y="3233"/>
                  </a:lnTo>
                  <a:lnTo>
                    <a:pt x="371" y="4176"/>
                  </a:lnTo>
                  <a:lnTo>
                    <a:pt x="641" y="5118"/>
                  </a:lnTo>
                  <a:lnTo>
                    <a:pt x="876" y="6061"/>
                  </a:lnTo>
                  <a:lnTo>
                    <a:pt x="1785" y="10068"/>
                  </a:lnTo>
                  <a:lnTo>
                    <a:pt x="2223" y="12054"/>
                  </a:lnTo>
                  <a:lnTo>
                    <a:pt x="2728" y="14040"/>
                  </a:lnTo>
                  <a:lnTo>
                    <a:pt x="3267" y="16027"/>
                  </a:lnTo>
                  <a:lnTo>
                    <a:pt x="3536" y="17037"/>
                  </a:lnTo>
                  <a:lnTo>
                    <a:pt x="3873" y="17980"/>
                  </a:lnTo>
                  <a:lnTo>
                    <a:pt x="3940" y="18081"/>
                  </a:lnTo>
                  <a:lnTo>
                    <a:pt x="4007" y="18081"/>
                  </a:lnTo>
                  <a:lnTo>
                    <a:pt x="4075" y="18047"/>
                  </a:lnTo>
                  <a:lnTo>
                    <a:pt x="4142" y="17980"/>
                  </a:lnTo>
                  <a:lnTo>
                    <a:pt x="4681" y="17879"/>
                  </a:lnTo>
                  <a:lnTo>
                    <a:pt x="5253" y="17710"/>
                  </a:lnTo>
                  <a:lnTo>
                    <a:pt x="6330" y="17374"/>
                  </a:lnTo>
                  <a:lnTo>
                    <a:pt x="7576" y="17003"/>
                  </a:lnTo>
                  <a:lnTo>
                    <a:pt x="8856" y="16667"/>
                  </a:lnTo>
                  <a:lnTo>
                    <a:pt x="10337" y="16296"/>
                  </a:lnTo>
                  <a:lnTo>
                    <a:pt x="11111" y="16128"/>
                  </a:lnTo>
                  <a:lnTo>
                    <a:pt x="11852" y="15892"/>
                  </a:lnTo>
                  <a:lnTo>
                    <a:pt x="11852" y="15656"/>
                  </a:lnTo>
                  <a:lnTo>
                    <a:pt x="11044" y="15892"/>
                  </a:lnTo>
                  <a:lnTo>
                    <a:pt x="10202" y="16094"/>
                  </a:lnTo>
                  <a:lnTo>
                    <a:pt x="8519" y="16532"/>
                  </a:lnTo>
                  <a:lnTo>
                    <a:pt x="6263" y="17172"/>
                  </a:lnTo>
                  <a:lnTo>
                    <a:pt x="5152" y="17475"/>
                  </a:lnTo>
                  <a:lnTo>
                    <a:pt x="4613" y="17643"/>
                  </a:lnTo>
                  <a:lnTo>
                    <a:pt x="4108" y="17879"/>
                  </a:lnTo>
                  <a:lnTo>
                    <a:pt x="3536" y="15926"/>
                  </a:lnTo>
                  <a:lnTo>
                    <a:pt x="2997" y="13939"/>
                  </a:lnTo>
                  <a:lnTo>
                    <a:pt x="2526" y="11987"/>
                  </a:lnTo>
                  <a:lnTo>
                    <a:pt x="2055" y="9967"/>
                  </a:lnTo>
                  <a:lnTo>
                    <a:pt x="1146" y="5960"/>
                  </a:lnTo>
                  <a:lnTo>
                    <a:pt x="742" y="4108"/>
                  </a:lnTo>
                  <a:lnTo>
                    <a:pt x="506" y="3199"/>
                  </a:lnTo>
                  <a:lnTo>
                    <a:pt x="338" y="2762"/>
                  </a:lnTo>
                  <a:lnTo>
                    <a:pt x="182" y="2358"/>
                  </a:lnTo>
                  <a:lnTo>
                    <a:pt x="405" y="2358"/>
                  </a:lnTo>
                  <a:lnTo>
                    <a:pt x="641" y="2324"/>
                  </a:lnTo>
                  <a:lnTo>
                    <a:pt x="1078" y="2223"/>
                  </a:lnTo>
                  <a:lnTo>
                    <a:pt x="1954" y="1920"/>
                  </a:lnTo>
                  <a:lnTo>
                    <a:pt x="4209" y="1314"/>
                  </a:lnTo>
                  <a:lnTo>
                    <a:pt x="6465" y="775"/>
                  </a:lnTo>
                  <a:lnTo>
                    <a:pt x="8755" y="304"/>
                  </a:lnTo>
                  <a:lnTo>
                    <a:pt x="8889" y="977"/>
                  </a:lnTo>
                  <a:lnTo>
                    <a:pt x="9024" y="1651"/>
                  </a:lnTo>
                  <a:lnTo>
                    <a:pt x="9394" y="3031"/>
                  </a:lnTo>
                  <a:lnTo>
                    <a:pt x="10303" y="6330"/>
                  </a:lnTo>
                  <a:lnTo>
                    <a:pt x="11280" y="9664"/>
                  </a:lnTo>
                  <a:lnTo>
                    <a:pt x="11549" y="10674"/>
                  </a:lnTo>
                  <a:lnTo>
                    <a:pt x="11852" y="11717"/>
                  </a:lnTo>
                  <a:lnTo>
                    <a:pt x="11852" y="10640"/>
                  </a:lnTo>
                  <a:lnTo>
                    <a:pt x="11583" y="9832"/>
                  </a:lnTo>
                  <a:lnTo>
                    <a:pt x="10640" y="6532"/>
                  </a:lnTo>
                  <a:lnTo>
                    <a:pt x="9798" y="3469"/>
                  </a:lnTo>
                  <a:lnTo>
                    <a:pt x="9394" y="1785"/>
                  </a:lnTo>
                  <a:lnTo>
                    <a:pt x="9159" y="944"/>
                  </a:lnTo>
                  <a:lnTo>
                    <a:pt x="8923" y="136"/>
                  </a:lnTo>
                  <a:lnTo>
                    <a:pt x="8889" y="102"/>
                  </a:lnTo>
                  <a:lnTo>
                    <a:pt x="8822" y="35"/>
                  </a:lnTo>
                  <a:lnTo>
                    <a:pt x="878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hape 773"/>
            <p:cNvSpPr/>
            <p:nvPr/>
          </p:nvSpPr>
          <p:spPr>
            <a:xfrm>
              <a:off x="5349960" y="0"/>
              <a:ext cx="3365280" cy="1012680"/>
            </a:xfrm>
            <a:custGeom>
              <a:avLst/>
              <a:gdLst>
                <a:gd name="textAreaLeft" fmla="*/ 0 w 3365280"/>
                <a:gd name="textAreaRight" fmla="*/ 3365640 w 336528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50672" h="15253">
                  <a:moveTo>
                    <a:pt x="22592" y="5219"/>
                  </a:moveTo>
                  <a:lnTo>
                    <a:pt x="22558" y="5859"/>
                  </a:lnTo>
                  <a:lnTo>
                    <a:pt x="22154" y="5893"/>
                  </a:lnTo>
                  <a:lnTo>
                    <a:pt x="22188" y="5825"/>
                  </a:lnTo>
                  <a:lnTo>
                    <a:pt x="22188" y="5758"/>
                  </a:lnTo>
                  <a:lnTo>
                    <a:pt x="22154" y="5623"/>
                  </a:lnTo>
                  <a:lnTo>
                    <a:pt x="22121" y="5421"/>
                  </a:lnTo>
                  <a:lnTo>
                    <a:pt x="22087" y="5253"/>
                  </a:lnTo>
                  <a:lnTo>
                    <a:pt x="22558" y="5219"/>
                  </a:lnTo>
                  <a:close/>
                  <a:moveTo>
                    <a:pt x="21919" y="5253"/>
                  </a:moveTo>
                  <a:lnTo>
                    <a:pt x="21919" y="5590"/>
                  </a:lnTo>
                  <a:lnTo>
                    <a:pt x="21952" y="5758"/>
                  </a:lnTo>
                  <a:lnTo>
                    <a:pt x="21952" y="5859"/>
                  </a:lnTo>
                  <a:lnTo>
                    <a:pt x="21986" y="5926"/>
                  </a:lnTo>
                  <a:lnTo>
                    <a:pt x="21750" y="5960"/>
                  </a:lnTo>
                  <a:lnTo>
                    <a:pt x="21717" y="5792"/>
                  </a:lnTo>
                  <a:lnTo>
                    <a:pt x="21649" y="5623"/>
                  </a:lnTo>
                  <a:lnTo>
                    <a:pt x="21616" y="5455"/>
                  </a:lnTo>
                  <a:lnTo>
                    <a:pt x="21515" y="5287"/>
                  </a:lnTo>
                  <a:lnTo>
                    <a:pt x="21919" y="5253"/>
                  </a:lnTo>
                  <a:close/>
                  <a:moveTo>
                    <a:pt x="21447" y="5287"/>
                  </a:moveTo>
                  <a:lnTo>
                    <a:pt x="21447" y="5455"/>
                  </a:lnTo>
                  <a:lnTo>
                    <a:pt x="21481" y="5623"/>
                  </a:lnTo>
                  <a:lnTo>
                    <a:pt x="21515" y="5792"/>
                  </a:lnTo>
                  <a:lnTo>
                    <a:pt x="21548" y="5960"/>
                  </a:lnTo>
                  <a:lnTo>
                    <a:pt x="21313" y="5994"/>
                  </a:lnTo>
                  <a:lnTo>
                    <a:pt x="21313" y="5859"/>
                  </a:lnTo>
                  <a:lnTo>
                    <a:pt x="21279" y="5724"/>
                  </a:lnTo>
                  <a:lnTo>
                    <a:pt x="21178" y="5287"/>
                  </a:lnTo>
                  <a:close/>
                  <a:moveTo>
                    <a:pt x="21111" y="5287"/>
                  </a:moveTo>
                  <a:lnTo>
                    <a:pt x="21144" y="5691"/>
                  </a:lnTo>
                  <a:lnTo>
                    <a:pt x="21178" y="5859"/>
                  </a:lnTo>
                  <a:lnTo>
                    <a:pt x="21212" y="5994"/>
                  </a:lnTo>
                  <a:lnTo>
                    <a:pt x="20909" y="6027"/>
                  </a:lnTo>
                  <a:lnTo>
                    <a:pt x="20909" y="5960"/>
                  </a:lnTo>
                  <a:lnTo>
                    <a:pt x="20909" y="5859"/>
                  </a:lnTo>
                  <a:lnTo>
                    <a:pt x="20841" y="5724"/>
                  </a:lnTo>
                  <a:lnTo>
                    <a:pt x="20774" y="5320"/>
                  </a:lnTo>
                  <a:lnTo>
                    <a:pt x="21111" y="5287"/>
                  </a:lnTo>
                  <a:close/>
                  <a:moveTo>
                    <a:pt x="20673" y="5320"/>
                  </a:moveTo>
                  <a:lnTo>
                    <a:pt x="20673" y="5724"/>
                  </a:lnTo>
                  <a:lnTo>
                    <a:pt x="20673" y="5893"/>
                  </a:lnTo>
                  <a:lnTo>
                    <a:pt x="20707" y="5994"/>
                  </a:lnTo>
                  <a:lnTo>
                    <a:pt x="20740" y="6061"/>
                  </a:lnTo>
                  <a:lnTo>
                    <a:pt x="20471" y="6061"/>
                  </a:lnTo>
                  <a:lnTo>
                    <a:pt x="20471" y="5926"/>
                  </a:lnTo>
                  <a:lnTo>
                    <a:pt x="20437" y="5758"/>
                  </a:lnTo>
                  <a:lnTo>
                    <a:pt x="20404" y="5522"/>
                  </a:lnTo>
                  <a:lnTo>
                    <a:pt x="20370" y="5320"/>
                  </a:lnTo>
                  <a:close/>
                  <a:moveTo>
                    <a:pt x="20201" y="5320"/>
                  </a:moveTo>
                  <a:lnTo>
                    <a:pt x="20201" y="5522"/>
                  </a:lnTo>
                  <a:lnTo>
                    <a:pt x="20235" y="5691"/>
                  </a:lnTo>
                  <a:lnTo>
                    <a:pt x="20269" y="5893"/>
                  </a:lnTo>
                  <a:lnTo>
                    <a:pt x="20269" y="5994"/>
                  </a:lnTo>
                  <a:lnTo>
                    <a:pt x="20302" y="6095"/>
                  </a:lnTo>
                  <a:lnTo>
                    <a:pt x="20033" y="6128"/>
                  </a:lnTo>
                  <a:lnTo>
                    <a:pt x="19999" y="5893"/>
                  </a:lnTo>
                  <a:lnTo>
                    <a:pt x="19966" y="5623"/>
                  </a:lnTo>
                  <a:lnTo>
                    <a:pt x="19898" y="5354"/>
                  </a:lnTo>
                  <a:lnTo>
                    <a:pt x="20201" y="5320"/>
                  </a:lnTo>
                  <a:close/>
                  <a:moveTo>
                    <a:pt x="19730" y="5354"/>
                  </a:moveTo>
                  <a:lnTo>
                    <a:pt x="19764" y="5623"/>
                  </a:lnTo>
                  <a:lnTo>
                    <a:pt x="19764" y="5859"/>
                  </a:lnTo>
                  <a:lnTo>
                    <a:pt x="19797" y="5994"/>
                  </a:lnTo>
                  <a:lnTo>
                    <a:pt x="19831" y="6162"/>
                  </a:lnTo>
                  <a:lnTo>
                    <a:pt x="19528" y="6196"/>
                  </a:lnTo>
                  <a:lnTo>
                    <a:pt x="19494" y="5994"/>
                  </a:lnTo>
                  <a:lnTo>
                    <a:pt x="19461" y="5825"/>
                  </a:lnTo>
                  <a:lnTo>
                    <a:pt x="19427" y="5590"/>
                  </a:lnTo>
                  <a:lnTo>
                    <a:pt x="19360" y="5388"/>
                  </a:lnTo>
                  <a:lnTo>
                    <a:pt x="19730" y="5354"/>
                  </a:lnTo>
                  <a:close/>
                  <a:moveTo>
                    <a:pt x="22592" y="6095"/>
                  </a:moveTo>
                  <a:lnTo>
                    <a:pt x="22626" y="7071"/>
                  </a:lnTo>
                  <a:lnTo>
                    <a:pt x="22693" y="7778"/>
                  </a:lnTo>
                  <a:lnTo>
                    <a:pt x="22121" y="7778"/>
                  </a:lnTo>
                  <a:lnTo>
                    <a:pt x="21582" y="7845"/>
                  </a:lnTo>
                  <a:lnTo>
                    <a:pt x="20505" y="8014"/>
                  </a:lnTo>
                  <a:lnTo>
                    <a:pt x="19427" y="8115"/>
                  </a:lnTo>
                  <a:lnTo>
                    <a:pt x="18888" y="8182"/>
                  </a:lnTo>
                  <a:lnTo>
                    <a:pt x="18350" y="8317"/>
                  </a:lnTo>
                  <a:lnTo>
                    <a:pt x="18249" y="7441"/>
                  </a:lnTo>
                  <a:lnTo>
                    <a:pt x="18181" y="7037"/>
                  </a:lnTo>
                  <a:lnTo>
                    <a:pt x="18114" y="6633"/>
                  </a:lnTo>
                  <a:lnTo>
                    <a:pt x="18653" y="6600"/>
                  </a:lnTo>
                  <a:lnTo>
                    <a:pt x="19225" y="6532"/>
                  </a:lnTo>
                  <a:lnTo>
                    <a:pt x="20336" y="6398"/>
                  </a:lnTo>
                  <a:lnTo>
                    <a:pt x="21481" y="6229"/>
                  </a:lnTo>
                  <a:lnTo>
                    <a:pt x="22592" y="6095"/>
                  </a:lnTo>
                  <a:close/>
                  <a:moveTo>
                    <a:pt x="22693" y="7946"/>
                  </a:moveTo>
                  <a:lnTo>
                    <a:pt x="22760" y="8283"/>
                  </a:lnTo>
                  <a:lnTo>
                    <a:pt x="22828" y="8653"/>
                  </a:lnTo>
                  <a:lnTo>
                    <a:pt x="22356" y="8721"/>
                  </a:lnTo>
                  <a:lnTo>
                    <a:pt x="22289" y="8485"/>
                  </a:lnTo>
                  <a:lnTo>
                    <a:pt x="22222" y="8047"/>
                  </a:lnTo>
                  <a:lnTo>
                    <a:pt x="22693" y="7946"/>
                  </a:lnTo>
                  <a:close/>
                  <a:moveTo>
                    <a:pt x="22121" y="8047"/>
                  </a:moveTo>
                  <a:lnTo>
                    <a:pt x="22121" y="8249"/>
                  </a:lnTo>
                  <a:lnTo>
                    <a:pt x="22121" y="8451"/>
                  </a:lnTo>
                  <a:lnTo>
                    <a:pt x="22154" y="8721"/>
                  </a:lnTo>
                  <a:lnTo>
                    <a:pt x="21784" y="8788"/>
                  </a:lnTo>
                  <a:lnTo>
                    <a:pt x="21750" y="8586"/>
                  </a:lnTo>
                  <a:lnTo>
                    <a:pt x="21717" y="8418"/>
                  </a:lnTo>
                  <a:lnTo>
                    <a:pt x="21683" y="8249"/>
                  </a:lnTo>
                  <a:lnTo>
                    <a:pt x="21616" y="8115"/>
                  </a:lnTo>
                  <a:lnTo>
                    <a:pt x="22121" y="8047"/>
                  </a:lnTo>
                  <a:close/>
                  <a:moveTo>
                    <a:pt x="21481" y="8115"/>
                  </a:moveTo>
                  <a:lnTo>
                    <a:pt x="21481" y="8283"/>
                  </a:lnTo>
                  <a:lnTo>
                    <a:pt x="21515" y="8418"/>
                  </a:lnTo>
                  <a:lnTo>
                    <a:pt x="21548" y="8620"/>
                  </a:lnTo>
                  <a:lnTo>
                    <a:pt x="21582" y="8788"/>
                  </a:lnTo>
                  <a:lnTo>
                    <a:pt x="21313" y="8822"/>
                  </a:lnTo>
                  <a:lnTo>
                    <a:pt x="21245" y="8350"/>
                  </a:lnTo>
                  <a:lnTo>
                    <a:pt x="21178" y="8148"/>
                  </a:lnTo>
                  <a:lnTo>
                    <a:pt x="21481" y="8115"/>
                  </a:lnTo>
                  <a:close/>
                  <a:moveTo>
                    <a:pt x="20976" y="8182"/>
                  </a:moveTo>
                  <a:lnTo>
                    <a:pt x="21010" y="8384"/>
                  </a:lnTo>
                  <a:lnTo>
                    <a:pt x="21077" y="8855"/>
                  </a:lnTo>
                  <a:lnTo>
                    <a:pt x="20774" y="8889"/>
                  </a:lnTo>
                  <a:lnTo>
                    <a:pt x="20774" y="8721"/>
                  </a:lnTo>
                  <a:lnTo>
                    <a:pt x="20740" y="8552"/>
                  </a:lnTo>
                  <a:lnTo>
                    <a:pt x="20707" y="8384"/>
                  </a:lnTo>
                  <a:lnTo>
                    <a:pt x="20639" y="8216"/>
                  </a:lnTo>
                  <a:lnTo>
                    <a:pt x="20976" y="8182"/>
                  </a:lnTo>
                  <a:close/>
                  <a:moveTo>
                    <a:pt x="20505" y="8216"/>
                  </a:moveTo>
                  <a:lnTo>
                    <a:pt x="20505" y="8418"/>
                  </a:lnTo>
                  <a:lnTo>
                    <a:pt x="20538" y="8586"/>
                  </a:lnTo>
                  <a:lnTo>
                    <a:pt x="20538" y="8754"/>
                  </a:lnTo>
                  <a:lnTo>
                    <a:pt x="20606" y="8923"/>
                  </a:lnTo>
                  <a:lnTo>
                    <a:pt x="20336" y="8956"/>
                  </a:lnTo>
                  <a:lnTo>
                    <a:pt x="20336" y="8889"/>
                  </a:lnTo>
                  <a:lnTo>
                    <a:pt x="20336" y="8788"/>
                  </a:lnTo>
                  <a:lnTo>
                    <a:pt x="20302" y="8653"/>
                  </a:lnTo>
                  <a:lnTo>
                    <a:pt x="20235" y="8249"/>
                  </a:lnTo>
                  <a:lnTo>
                    <a:pt x="20505" y="8216"/>
                  </a:lnTo>
                  <a:close/>
                  <a:moveTo>
                    <a:pt x="20134" y="8283"/>
                  </a:moveTo>
                  <a:lnTo>
                    <a:pt x="20100" y="8451"/>
                  </a:lnTo>
                  <a:lnTo>
                    <a:pt x="20100" y="8620"/>
                  </a:lnTo>
                  <a:lnTo>
                    <a:pt x="20134" y="8822"/>
                  </a:lnTo>
                  <a:lnTo>
                    <a:pt x="20168" y="8889"/>
                  </a:lnTo>
                  <a:lnTo>
                    <a:pt x="20235" y="8956"/>
                  </a:lnTo>
                  <a:lnTo>
                    <a:pt x="19865" y="8990"/>
                  </a:lnTo>
                  <a:lnTo>
                    <a:pt x="19831" y="8788"/>
                  </a:lnTo>
                  <a:lnTo>
                    <a:pt x="19764" y="8552"/>
                  </a:lnTo>
                  <a:lnTo>
                    <a:pt x="19730" y="8350"/>
                  </a:lnTo>
                  <a:lnTo>
                    <a:pt x="20134" y="8283"/>
                  </a:lnTo>
                  <a:close/>
                  <a:moveTo>
                    <a:pt x="19629" y="8350"/>
                  </a:moveTo>
                  <a:lnTo>
                    <a:pt x="19595" y="8552"/>
                  </a:lnTo>
                  <a:lnTo>
                    <a:pt x="19595" y="8754"/>
                  </a:lnTo>
                  <a:lnTo>
                    <a:pt x="19629" y="9024"/>
                  </a:lnTo>
                  <a:lnTo>
                    <a:pt x="19292" y="9024"/>
                  </a:lnTo>
                  <a:lnTo>
                    <a:pt x="19326" y="8956"/>
                  </a:lnTo>
                  <a:lnTo>
                    <a:pt x="19326" y="8889"/>
                  </a:lnTo>
                  <a:lnTo>
                    <a:pt x="19292" y="8754"/>
                  </a:lnTo>
                  <a:lnTo>
                    <a:pt x="19259" y="8586"/>
                  </a:lnTo>
                  <a:lnTo>
                    <a:pt x="19191" y="8418"/>
                  </a:lnTo>
                  <a:lnTo>
                    <a:pt x="19629" y="8350"/>
                  </a:lnTo>
                  <a:close/>
                  <a:moveTo>
                    <a:pt x="809" y="8855"/>
                  </a:moveTo>
                  <a:lnTo>
                    <a:pt x="842" y="9024"/>
                  </a:lnTo>
                  <a:lnTo>
                    <a:pt x="842" y="9226"/>
                  </a:lnTo>
                  <a:lnTo>
                    <a:pt x="640" y="9259"/>
                  </a:lnTo>
                  <a:lnTo>
                    <a:pt x="438" y="9327"/>
                  </a:lnTo>
                  <a:lnTo>
                    <a:pt x="337" y="9091"/>
                  </a:lnTo>
                  <a:lnTo>
                    <a:pt x="203" y="8855"/>
                  </a:lnTo>
                  <a:lnTo>
                    <a:pt x="405" y="8855"/>
                  </a:lnTo>
                  <a:lnTo>
                    <a:pt x="607" y="8889"/>
                  </a:lnTo>
                  <a:lnTo>
                    <a:pt x="708" y="8889"/>
                  </a:lnTo>
                  <a:lnTo>
                    <a:pt x="809" y="8855"/>
                  </a:lnTo>
                  <a:close/>
                  <a:moveTo>
                    <a:pt x="876" y="8586"/>
                  </a:moveTo>
                  <a:lnTo>
                    <a:pt x="1078" y="8620"/>
                  </a:lnTo>
                  <a:lnTo>
                    <a:pt x="1448" y="8620"/>
                  </a:lnTo>
                  <a:lnTo>
                    <a:pt x="1482" y="8855"/>
                  </a:lnTo>
                  <a:lnTo>
                    <a:pt x="1516" y="9091"/>
                  </a:lnTo>
                  <a:lnTo>
                    <a:pt x="1516" y="9293"/>
                  </a:lnTo>
                  <a:lnTo>
                    <a:pt x="1213" y="9360"/>
                  </a:lnTo>
                  <a:lnTo>
                    <a:pt x="1044" y="9360"/>
                  </a:lnTo>
                  <a:lnTo>
                    <a:pt x="1044" y="9259"/>
                  </a:lnTo>
                  <a:lnTo>
                    <a:pt x="1044" y="9226"/>
                  </a:lnTo>
                  <a:lnTo>
                    <a:pt x="1011" y="9024"/>
                  </a:lnTo>
                  <a:lnTo>
                    <a:pt x="977" y="8788"/>
                  </a:lnTo>
                  <a:lnTo>
                    <a:pt x="876" y="8586"/>
                  </a:lnTo>
                  <a:close/>
                  <a:moveTo>
                    <a:pt x="19191" y="5388"/>
                  </a:moveTo>
                  <a:lnTo>
                    <a:pt x="19191" y="5590"/>
                  </a:lnTo>
                  <a:lnTo>
                    <a:pt x="19225" y="5825"/>
                  </a:lnTo>
                  <a:lnTo>
                    <a:pt x="19259" y="6027"/>
                  </a:lnTo>
                  <a:lnTo>
                    <a:pt x="19326" y="6229"/>
                  </a:lnTo>
                  <a:lnTo>
                    <a:pt x="18686" y="6330"/>
                  </a:lnTo>
                  <a:lnTo>
                    <a:pt x="18047" y="6465"/>
                  </a:lnTo>
                  <a:lnTo>
                    <a:pt x="18013" y="6465"/>
                  </a:lnTo>
                  <a:lnTo>
                    <a:pt x="17979" y="6499"/>
                  </a:lnTo>
                  <a:lnTo>
                    <a:pt x="17946" y="6532"/>
                  </a:lnTo>
                  <a:lnTo>
                    <a:pt x="17946" y="6566"/>
                  </a:lnTo>
                  <a:lnTo>
                    <a:pt x="17979" y="6600"/>
                  </a:lnTo>
                  <a:lnTo>
                    <a:pt x="17979" y="7105"/>
                  </a:lnTo>
                  <a:lnTo>
                    <a:pt x="18013" y="7576"/>
                  </a:lnTo>
                  <a:lnTo>
                    <a:pt x="18181" y="8552"/>
                  </a:lnTo>
                  <a:lnTo>
                    <a:pt x="18215" y="8586"/>
                  </a:lnTo>
                  <a:lnTo>
                    <a:pt x="18249" y="8620"/>
                  </a:lnTo>
                  <a:lnTo>
                    <a:pt x="18316" y="8620"/>
                  </a:lnTo>
                  <a:lnTo>
                    <a:pt x="18383" y="8586"/>
                  </a:lnTo>
                  <a:lnTo>
                    <a:pt x="18383" y="8485"/>
                  </a:lnTo>
                  <a:lnTo>
                    <a:pt x="18383" y="8418"/>
                  </a:lnTo>
                  <a:lnTo>
                    <a:pt x="18754" y="8451"/>
                  </a:lnTo>
                  <a:lnTo>
                    <a:pt x="19124" y="8418"/>
                  </a:lnTo>
                  <a:lnTo>
                    <a:pt x="19124" y="8552"/>
                  </a:lnTo>
                  <a:lnTo>
                    <a:pt x="19124" y="8721"/>
                  </a:lnTo>
                  <a:lnTo>
                    <a:pt x="19124" y="8889"/>
                  </a:lnTo>
                  <a:lnTo>
                    <a:pt x="19158" y="8990"/>
                  </a:lnTo>
                  <a:lnTo>
                    <a:pt x="19191" y="9057"/>
                  </a:lnTo>
                  <a:lnTo>
                    <a:pt x="18855" y="9091"/>
                  </a:lnTo>
                  <a:lnTo>
                    <a:pt x="18552" y="9158"/>
                  </a:lnTo>
                  <a:lnTo>
                    <a:pt x="18249" y="9226"/>
                  </a:lnTo>
                  <a:lnTo>
                    <a:pt x="17979" y="9360"/>
                  </a:lnTo>
                  <a:lnTo>
                    <a:pt x="17946" y="9327"/>
                  </a:lnTo>
                  <a:lnTo>
                    <a:pt x="17744" y="8182"/>
                  </a:lnTo>
                  <a:lnTo>
                    <a:pt x="17676" y="7576"/>
                  </a:lnTo>
                  <a:lnTo>
                    <a:pt x="17643" y="7004"/>
                  </a:lnTo>
                  <a:lnTo>
                    <a:pt x="17643" y="6667"/>
                  </a:lnTo>
                  <a:lnTo>
                    <a:pt x="17643" y="6297"/>
                  </a:lnTo>
                  <a:lnTo>
                    <a:pt x="17643" y="5893"/>
                  </a:lnTo>
                  <a:lnTo>
                    <a:pt x="17575" y="5556"/>
                  </a:lnTo>
                  <a:lnTo>
                    <a:pt x="18215" y="5489"/>
                  </a:lnTo>
                  <a:lnTo>
                    <a:pt x="18821" y="5421"/>
                  </a:lnTo>
                  <a:lnTo>
                    <a:pt x="18821" y="5590"/>
                  </a:lnTo>
                  <a:lnTo>
                    <a:pt x="18821" y="6128"/>
                  </a:lnTo>
                  <a:lnTo>
                    <a:pt x="18821" y="6196"/>
                  </a:lnTo>
                  <a:lnTo>
                    <a:pt x="18888" y="6229"/>
                  </a:lnTo>
                  <a:lnTo>
                    <a:pt x="18922" y="6263"/>
                  </a:lnTo>
                  <a:lnTo>
                    <a:pt x="18989" y="6229"/>
                  </a:lnTo>
                  <a:lnTo>
                    <a:pt x="19023" y="6196"/>
                  </a:lnTo>
                  <a:lnTo>
                    <a:pt x="19023" y="6128"/>
                  </a:lnTo>
                  <a:lnTo>
                    <a:pt x="19023" y="5792"/>
                  </a:lnTo>
                  <a:lnTo>
                    <a:pt x="18989" y="5421"/>
                  </a:lnTo>
                  <a:lnTo>
                    <a:pt x="19191" y="5388"/>
                  </a:lnTo>
                  <a:close/>
                  <a:moveTo>
                    <a:pt x="3401" y="7441"/>
                  </a:moveTo>
                  <a:lnTo>
                    <a:pt x="3367" y="7744"/>
                  </a:lnTo>
                  <a:lnTo>
                    <a:pt x="3334" y="8047"/>
                  </a:lnTo>
                  <a:lnTo>
                    <a:pt x="3300" y="8687"/>
                  </a:lnTo>
                  <a:lnTo>
                    <a:pt x="3334" y="9360"/>
                  </a:lnTo>
                  <a:lnTo>
                    <a:pt x="3401" y="10000"/>
                  </a:lnTo>
                  <a:lnTo>
                    <a:pt x="2862" y="9865"/>
                  </a:lnTo>
                  <a:lnTo>
                    <a:pt x="2627" y="9764"/>
                  </a:lnTo>
                  <a:lnTo>
                    <a:pt x="2391" y="9663"/>
                  </a:lnTo>
                  <a:lnTo>
                    <a:pt x="2189" y="9529"/>
                  </a:lnTo>
                  <a:lnTo>
                    <a:pt x="1953" y="9394"/>
                  </a:lnTo>
                  <a:lnTo>
                    <a:pt x="1785" y="9360"/>
                  </a:lnTo>
                  <a:lnTo>
                    <a:pt x="1785" y="9327"/>
                  </a:lnTo>
                  <a:lnTo>
                    <a:pt x="1751" y="9293"/>
                  </a:lnTo>
                  <a:lnTo>
                    <a:pt x="1718" y="9091"/>
                  </a:lnTo>
                  <a:lnTo>
                    <a:pt x="1718" y="8923"/>
                  </a:lnTo>
                  <a:lnTo>
                    <a:pt x="1684" y="8586"/>
                  </a:lnTo>
                  <a:lnTo>
                    <a:pt x="1785" y="8586"/>
                  </a:lnTo>
                  <a:lnTo>
                    <a:pt x="1852" y="8552"/>
                  </a:lnTo>
                  <a:lnTo>
                    <a:pt x="1852" y="8485"/>
                  </a:lnTo>
                  <a:lnTo>
                    <a:pt x="1819" y="8451"/>
                  </a:lnTo>
                  <a:lnTo>
                    <a:pt x="1785" y="8418"/>
                  </a:lnTo>
                  <a:lnTo>
                    <a:pt x="1617" y="8451"/>
                  </a:lnTo>
                  <a:lnTo>
                    <a:pt x="1852" y="8317"/>
                  </a:lnTo>
                  <a:lnTo>
                    <a:pt x="2054" y="8216"/>
                  </a:lnTo>
                  <a:lnTo>
                    <a:pt x="2458" y="7946"/>
                  </a:lnTo>
                  <a:lnTo>
                    <a:pt x="3401" y="7441"/>
                  </a:lnTo>
                  <a:close/>
                  <a:moveTo>
                    <a:pt x="4176" y="6970"/>
                  </a:moveTo>
                  <a:lnTo>
                    <a:pt x="4176" y="7845"/>
                  </a:lnTo>
                  <a:lnTo>
                    <a:pt x="4209" y="8721"/>
                  </a:lnTo>
                  <a:lnTo>
                    <a:pt x="4209" y="9394"/>
                  </a:lnTo>
                  <a:lnTo>
                    <a:pt x="4243" y="9731"/>
                  </a:lnTo>
                  <a:lnTo>
                    <a:pt x="4277" y="10067"/>
                  </a:lnTo>
                  <a:lnTo>
                    <a:pt x="4176" y="9966"/>
                  </a:lnTo>
                  <a:lnTo>
                    <a:pt x="4142" y="9798"/>
                  </a:lnTo>
                  <a:lnTo>
                    <a:pt x="4108" y="9630"/>
                  </a:lnTo>
                  <a:lnTo>
                    <a:pt x="4108" y="9428"/>
                  </a:lnTo>
                  <a:lnTo>
                    <a:pt x="4108" y="8721"/>
                  </a:lnTo>
                  <a:lnTo>
                    <a:pt x="4075" y="8014"/>
                  </a:lnTo>
                  <a:lnTo>
                    <a:pt x="4041" y="7307"/>
                  </a:lnTo>
                  <a:lnTo>
                    <a:pt x="4075" y="7307"/>
                  </a:lnTo>
                  <a:lnTo>
                    <a:pt x="4108" y="7273"/>
                  </a:lnTo>
                  <a:lnTo>
                    <a:pt x="4075" y="7239"/>
                  </a:lnTo>
                  <a:lnTo>
                    <a:pt x="4041" y="7172"/>
                  </a:lnTo>
                  <a:lnTo>
                    <a:pt x="4007" y="6970"/>
                  </a:lnTo>
                  <a:close/>
                  <a:moveTo>
                    <a:pt x="3637" y="7307"/>
                  </a:moveTo>
                  <a:lnTo>
                    <a:pt x="3872" y="7340"/>
                  </a:lnTo>
                  <a:lnTo>
                    <a:pt x="3839" y="8014"/>
                  </a:lnTo>
                  <a:lnTo>
                    <a:pt x="3872" y="8721"/>
                  </a:lnTo>
                  <a:lnTo>
                    <a:pt x="3974" y="10135"/>
                  </a:lnTo>
                  <a:lnTo>
                    <a:pt x="3805" y="10168"/>
                  </a:lnTo>
                  <a:lnTo>
                    <a:pt x="3771" y="10168"/>
                  </a:lnTo>
                  <a:lnTo>
                    <a:pt x="3771" y="10101"/>
                  </a:lnTo>
                  <a:lnTo>
                    <a:pt x="3738" y="10067"/>
                  </a:lnTo>
                  <a:lnTo>
                    <a:pt x="3704" y="10034"/>
                  </a:lnTo>
                  <a:lnTo>
                    <a:pt x="3637" y="10034"/>
                  </a:lnTo>
                  <a:lnTo>
                    <a:pt x="3603" y="9360"/>
                  </a:lnTo>
                  <a:lnTo>
                    <a:pt x="3569" y="8687"/>
                  </a:lnTo>
                  <a:lnTo>
                    <a:pt x="3569" y="8014"/>
                  </a:lnTo>
                  <a:lnTo>
                    <a:pt x="3536" y="7374"/>
                  </a:lnTo>
                  <a:lnTo>
                    <a:pt x="3569" y="7340"/>
                  </a:lnTo>
                  <a:lnTo>
                    <a:pt x="3603" y="7307"/>
                  </a:lnTo>
                  <a:close/>
                  <a:moveTo>
                    <a:pt x="17340" y="5556"/>
                  </a:moveTo>
                  <a:lnTo>
                    <a:pt x="17340" y="6532"/>
                  </a:lnTo>
                  <a:lnTo>
                    <a:pt x="17373" y="7475"/>
                  </a:lnTo>
                  <a:lnTo>
                    <a:pt x="17508" y="8418"/>
                  </a:lnTo>
                  <a:lnTo>
                    <a:pt x="17676" y="9360"/>
                  </a:lnTo>
                  <a:lnTo>
                    <a:pt x="16027" y="9596"/>
                  </a:lnTo>
                  <a:lnTo>
                    <a:pt x="14377" y="9764"/>
                  </a:lnTo>
                  <a:lnTo>
                    <a:pt x="12727" y="9899"/>
                  </a:lnTo>
                  <a:lnTo>
                    <a:pt x="11077" y="10000"/>
                  </a:lnTo>
                  <a:lnTo>
                    <a:pt x="7610" y="10236"/>
                  </a:lnTo>
                  <a:lnTo>
                    <a:pt x="6869" y="10236"/>
                  </a:lnTo>
                  <a:lnTo>
                    <a:pt x="6095" y="10269"/>
                  </a:lnTo>
                  <a:lnTo>
                    <a:pt x="5320" y="10303"/>
                  </a:lnTo>
                  <a:lnTo>
                    <a:pt x="4916" y="10370"/>
                  </a:lnTo>
                  <a:lnTo>
                    <a:pt x="4546" y="10438"/>
                  </a:lnTo>
                  <a:lnTo>
                    <a:pt x="4546" y="10404"/>
                  </a:lnTo>
                  <a:lnTo>
                    <a:pt x="4546" y="10303"/>
                  </a:lnTo>
                  <a:lnTo>
                    <a:pt x="4580" y="10236"/>
                  </a:lnTo>
                  <a:lnTo>
                    <a:pt x="4546" y="10168"/>
                  </a:lnTo>
                  <a:lnTo>
                    <a:pt x="4479" y="9360"/>
                  </a:lnTo>
                  <a:lnTo>
                    <a:pt x="4445" y="8552"/>
                  </a:lnTo>
                  <a:lnTo>
                    <a:pt x="4411" y="7744"/>
                  </a:lnTo>
                  <a:lnTo>
                    <a:pt x="4344" y="6936"/>
                  </a:lnTo>
                  <a:lnTo>
                    <a:pt x="4378" y="6936"/>
                  </a:lnTo>
                  <a:lnTo>
                    <a:pt x="4411" y="6903"/>
                  </a:lnTo>
                  <a:lnTo>
                    <a:pt x="4411" y="6869"/>
                  </a:lnTo>
                  <a:lnTo>
                    <a:pt x="4411" y="6802"/>
                  </a:lnTo>
                  <a:lnTo>
                    <a:pt x="5152" y="6734"/>
                  </a:lnTo>
                  <a:lnTo>
                    <a:pt x="5859" y="6667"/>
                  </a:lnTo>
                  <a:lnTo>
                    <a:pt x="7307" y="6465"/>
                  </a:lnTo>
                  <a:lnTo>
                    <a:pt x="9024" y="6229"/>
                  </a:lnTo>
                  <a:lnTo>
                    <a:pt x="10741" y="6061"/>
                  </a:lnTo>
                  <a:lnTo>
                    <a:pt x="12391" y="5893"/>
                  </a:lnTo>
                  <a:lnTo>
                    <a:pt x="14040" y="5758"/>
                  </a:lnTo>
                  <a:lnTo>
                    <a:pt x="15690" y="5657"/>
                  </a:lnTo>
                  <a:lnTo>
                    <a:pt x="17340" y="5556"/>
                  </a:lnTo>
                  <a:close/>
                  <a:moveTo>
                    <a:pt x="10606" y="1"/>
                  </a:moveTo>
                  <a:lnTo>
                    <a:pt x="10471" y="674"/>
                  </a:lnTo>
                  <a:lnTo>
                    <a:pt x="10370" y="1347"/>
                  </a:lnTo>
                  <a:lnTo>
                    <a:pt x="10202" y="2661"/>
                  </a:lnTo>
                  <a:lnTo>
                    <a:pt x="10067" y="3671"/>
                  </a:lnTo>
                  <a:lnTo>
                    <a:pt x="9933" y="4647"/>
                  </a:lnTo>
                  <a:lnTo>
                    <a:pt x="9798" y="5287"/>
                  </a:lnTo>
                  <a:lnTo>
                    <a:pt x="9731" y="5623"/>
                  </a:lnTo>
                  <a:lnTo>
                    <a:pt x="9697" y="5960"/>
                  </a:lnTo>
                  <a:lnTo>
                    <a:pt x="8350" y="6095"/>
                  </a:lnTo>
                  <a:lnTo>
                    <a:pt x="7004" y="6229"/>
                  </a:lnTo>
                  <a:lnTo>
                    <a:pt x="5657" y="6431"/>
                  </a:lnTo>
                  <a:lnTo>
                    <a:pt x="4984" y="6566"/>
                  </a:lnTo>
                  <a:lnTo>
                    <a:pt x="4344" y="6701"/>
                  </a:lnTo>
                  <a:lnTo>
                    <a:pt x="4310" y="6667"/>
                  </a:lnTo>
                  <a:lnTo>
                    <a:pt x="4310" y="6633"/>
                  </a:lnTo>
                  <a:lnTo>
                    <a:pt x="4243" y="6600"/>
                  </a:lnTo>
                  <a:lnTo>
                    <a:pt x="4209" y="6633"/>
                  </a:lnTo>
                  <a:lnTo>
                    <a:pt x="4209" y="6667"/>
                  </a:lnTo>
                  <a:lnTo>
                    <a:pt x="4209" y="6734"/>
                  </a:lnTo>
                  <a:lnTo>
                    <a:pt x="4142" y="6734"/>
                  </a:lnTo>
                  <a:lnTo>
                    <a:pt x="4108" y="6768"/>
                  </a:lnTo>
                  <a:lnTo>
                    <a:pt x="4108" y="6802"/>
                  </a:lnTo>
                  <a:lnTo>
                    <a:pt x="4007" y="6835"/>
                  </a:lnTo>
                  <a:lnTo>
                    <a:pt x="3940" y="6903"/>
                  </a:lnTo>
                  <a:lnTo>
                    <a:pt x="3906" y="6936"/>
                  </a:lnTo>
                  <a:lnTo>
                    <a:pt x="3940" y="6970"/>
                  </a:lnTo>
                  <a:lnTo>
                    <a:pt x="3906" y="7138"/>
                  </a:lnTo>
                  <a:lnTo>
                    <a:pt x="3502" y="7138"/>
                  </a:lnTo>
                  <a:lnTo>
                    <a:pt x="3435" y="7172"/>
                  </a:lnTo>
                  <a:lnTo>
                    <a:pt x="3435" y="7206"/>
                  </a:lnTo>
                  <a:lnTo>
                    <a:pt x="2357" y="7778"/>
                  </a:lnTo>
                  <a:lnTo>
                    <a:pt x="1920" y="8047"/>
                  </a:lnTo>
                  <a:lnTo>
                    <a:pt x="1718" y="8216"/>
                  </a:lnTo>
                  <a:lnTo>
                    <a:pt x="1549" y="8418"/>
                  </a:lnTo>
                  <a:lnTo>
                    <a:pt x="1482" y="8451"/>
                  </a:lnTo>
                  <a:lnTo>
                    <a:pt x="1280" y="8485"/>
                  </a:lnTo>
                  <a:lnTo>
                    <a:pt x="1078" y="8485"/>
                  </a:lnTo>
                  <a:lnTo>
                    <a:pt x="977" y="8519"/>
                  </a:lnTo>
                  <a:lnTo>
                    <a:pt x="876" y="8552"/>
                  </a:lnTo>
                  <a:lnTo>
                    <a:pt x="842" y="8519"/>
                  </a:lnTo>
                  <a:lnTo>
                    <a:pt x="809" y="8519"/>
                  </a:lnTo>
                  <a:lnTo>
                    <a:pt x="809" y="8721"/>
                  </a:lnTo>
                  <a:lnTo>
                    <a:pt x="472" y="8721"/>
                  </a:lnTo>
                  <a:lnTo>
                    <a:pt x="270" y="8687"/>
                  </a:lnTo>
                  <a:lnTo>
                    <a:pt x="68" y="8721"/>
                  </a:lnTo>
                  <a:lnTo>
                    <a:pt x="68" y="8687"/>
                  </a:lnTo>
                  <a:lnTo>
                    <a:pt x="34" y="8721"/>
                  </a:lnTo>
                  <a:lnTo>
                    <a:pt x="1" y="8721"/>
                  </a:lnTo>
                  <a:lnTo>
                    <a:pt x="1" y="8754"/>
                  </a:lnTo>
                  <a:lnTo>
                    <a:pt x="34" y="8788"/>
                  </a:lnTo>
                  <a:lnTo>
                    <a:pt x="68" y="8956"/>
                  </a:lnTo>
                  <a:lnTo>
                    <a:pt x="135" y="9158"/>
                  </a:lnTo>
                  <a:lnTo>
                    <a:pt x="304" y="9495"/>
                  </a:lnTo>
                  <a:lnTo>
                    <a:pt x="371" y="9529"/>
                  </a:lnTo>
                  <a:lnTo>
                    <a:pt x="405" y="9529"/>
                  </a:lnTo>
                  <a:lnTo>
                    <a:pt x="640" y="9461"/>
                  </a:lnTo>
                  <a:lnTo>
                    <a:pt x="876" y="9394"/>
                  </a:lnTo>
                  <a:lnTo>
                    <a:pt x="910" y="9428"/>
                  </a:lnTo>
                  <a:lnTo>
                    <a:pt x="876" y="9461"/>
                  </a:lnTo>
                  <a:lnTo>
                    <a:pt x="943" y="9529"/>
                  </a:lnTo>
                  <a:lnTo>
                    <a:pt x="1011" y="9562"/>
                  </a:lnTo>
                  <a:lnTo>
                    <a:pt x="1246" y="9596"/>
                  </a:lnTo>
                  <a:lnTo>
                    <a:pt x="1448" y="9562"/>
                  </a:lnTo>
                  <a:lnTo>
                    <a:pt x="1650" y="9495"/>
                  </a:lnTo>
                  <a:lnTo>
                    <a:pt x="1718" y="9495"/>
                  </a:lnTo>
                  <a:lnTo>
                    <a:pt x="2122" y="9731"/>
                  </a:lnTo>
                  <a:lnTo>
                    <a:pt x="2559" y="9933"/>
                  </a:lnTo>
                  <a:lnTo>
                    <a:pt x="2997" y="10101"/>
                  </a:lnTo>
                  <a:lnTo>
                    <a:pt x="3435" y="10202"/>
                  </a:lnTo>
                  <a:lnTo>
                    <a:pt x="3468" y="10370"/>
                  </a:lnTo>
                  <a:lnTo>
                    <a:pt x="3502" y="10438"/>
                  </a:lnTo>
                  <a:lnTo>
                    <a:pt x="3603" y="10438"/>
                  </a:lnTo>
                  <a:lnTo>
                    <a:pt x="3637" y="10370"/>
                  </a:lnTo>
                  <a:lnTo>
                    <a:pt x="3738" y="10404"/>
                  </a:lnTo>
                  <a:lnTo>
                    <a:pt x="3872" y="10404"/>
                  </a:lnTo>
                  <a:lnTo>
                    <a:pt x="4075" y="10370"/>
                  </a:lnTo>
                  <a:lnTo>
                    <a:pt x="4310" y="10337"/>
                  </a:lnTo>
                  <a:lnTo>
                    <a:pt x="4344" y="10438"/>
                  </a:lnTo>
                  <a:lnTo>
                    <a:pt x="4378" y="10471"/>
                  </a:lnTo>
                  <a:lnTo>
                    <a:pt x="4378" y="10505"/>
                  </a:lnTo>
                  <a:lnTo>
                    <a:pt x="4411" y="10539"/>
                  </a:lnTo>
                  <a:lnTo>
                    <a:pt x="4782" y="10572"/>
                  </a:lnTo>
                  <a:lnTo>
                    <a:pt x="5186" y="10606"/>
                  </a:lnTo>
                  <a:lnTo>
                    <a:pt x="5994" y="10572"/>
                  </a:lnTo>
                  <a:lnTo>
                    <a:pt x="7610" y="10438"/>
                  </a:lnTo>
                  <a:lnTo>
                    <a:pt x="11077" y="10202"/>
                  </a:lnTo>
                  <a:lnTo>
                    <a:pt x="12828" y="10101"/>
                  </a:lnTo>
                  <a:lnTo>
                    <a:pt x="14545" y="9966"/>
                  </a:lnTo>
                  <a:lnTo>
                    <a:pt x="14579" y="9966"/>
                  </a:lnTo>
                  <a:lnTo>
                    <a:pt x="14949" y="10135"/>
                  </a:lnTo>
                  <a:lnTo>
                    <a:pt x="15387" y="10303"/>
                  </a:lnTo>
                  <a:lnTo>
                    <a:pt x="15791" y="10438"/>
                  </a:lnTo>
                  <a:lnTo>
                    <a:pt x="16229" y="10539"/>
                  </a:lnTo>
                  <a:lnTo>
                    <a:pt x="17104" y="10707"/>
                  </a:lnTo>
                  <a:lnTo>
                    <a:pt x="18013" y="10808"/>
                  </a:lnTo>
                  <a:lnTo>
                    <a:pt x="18922" y="10876"/>
                  </a:lnTo>
                  <a:lnTo>
                    <a:pt x="19831" y="10943"/>
                  </a:lnTo>
                  <a:lnTo>
                    <a:pt x="20707" y="11010"/>
                  </a:lnTo>
                  <a:lnTo>
                    <a:pt x="21582" y="11078"/>
                  </a:lnTo>
                  <a:lnTo>
                    <a:pt x="22626" y="11212"/>
                  </a:lnTo>
                  <a:lnTo>
                    <a:pt x="23636" y="11347"/>
                  </a:lnTo>
                  <a:lnTo>
                    <a:pt x="25689" y="11684"/>
                  </a:lnTo>
                  <a:lnTo>
                    <a:pt x="27743" y="12054"/>
                  </a:lnTo>
                  <a:lnTo>
                    <a:pt x="29797" y="12391"/>
                  </a:lnTo>
                  <a:lnTo>
                    <a:pt x="29427" y="14882"/>
                  </a:lnTo>
                  <a:lnTo>
                    <a:pt x="29460" y="14949"/>
                  </a:lnTo>
                  <a:lnTo>
                    <a:pt x="29460" y="14983"/>
                  </a:lnTo>
                  <a:lnTo>
                    <a:pt x="29528" y="15017"/>
                  </a:lnTo>
                  <a:lnTo>
                    <a:pt x="29629" y="14983"/>
                  </a:lnTo>
                  <a:lnTo>
                    <a:pt x="29629" y="14949"/>
                  </a:lnTo>
                  <a:lnTo>
                    <a:pt x="29662" y="14916"/>
                  </a:lnTo>
                  <a:lnTo>
                    <a:pt x="29797" y="14815"/>
                  </a:lnTo>
                  <a:lnTo>
                    <a:pt x="29932" y="14680"/>
                  </a:lnTo>
                  <a:lnTo>
                    <a:pt x="30066" y="14545"/>
                  </a:lnTo>
                  <a:lnTo>
                    <a:pt x="30201" y="14444"/>
                  </a:lnTo>
                  <a:lnTo>
                    <a:pt x="30268" y="14613"/>
                  </a:lnTo>
                  <a:lnTo>
                    <a:pt x="30369" y="14747"/>
                  </a:lnTo>
                  <a:lnTo>
                    <a:pt x="30470" y="14882"/>
                  </a:lnTo>
                  <a:lnTo>
                    <a:pt x="30605" y="15017"/>
                  </a:lnTo>
                  <a:lnTo>
                    <a:pt x="30571" y="15151"/>
                  </a:lnTo>
                  <a:lnTo>
                    <a:pt x="30571" y="15219"/>
                  </a:lnTo>
                  <a:lnTo>
                    <a:pt x="30605" y="15252"/>
                  </a:lnTo>
                  <a:lnTo>
                    <a:pt x="30740" y="15252"/>
                  </a:lnTo>
                  <a:lnTo>
                    <a:pt x="30773" y="15219"/>
                  </a:lnTo>
                  <a:lnTo>
                    <a:pt x="30807" y="15151"/>
                  </a:lnTo>
                  <a:lnTo>
                    <a:pt x="30807" y="14949"/>
                  </a:lnTo>
                  <a:lnTo>
                    <a:pt x="31076" y="12492"/>
                  </a:lnTo>
                  <a:lnTo>
                    <a:pt x="31682" y="12593"/>
                  </a:lnTo>
                  <a:lnTo>
                    <a:pt x="32288" y="12694"/>
                  </a:lnTo>
                  <a:lnTo>
                    <a:pt x="-32069" y="12795"/>
                  </a:lnTo>
                  <a:lnTo>
                    <a:pt x="-31295" y="12896"/>
                  </a:lnTo>
                  <a:lnTo>
                    <a:pt x="-30925" y="12963"/>
                  </a:lnTo>
                  <a:lnTo>
                    <a:pt x="-30554" y="13064"/>
                  </a:lnTo>
                  <a:lnTo>
                    <a:pt x="-30285" y="13131"/>
                  </a:lnTo>
                  <a:lnTo>
                    <a:pt x="-30016" y="13165"/>
                  </a:lnTo>
                  <a:lnTo>
                    <a:pt x="-29780" y="13199"/>
                  </a:lnTo>
                  <a:lnTo>
                    <a:pt x="-29511" y="13165"/>
                  </a:lnTo>
                  <a:lnTo>
                    <a:pt x="-28871" y="13165"/>
                  </a:lnTo>
                  <a:lnTo>
                    <a:pt x="-28568" y="13232"/>
                  </a:lnTo>
                  <a:lnTo>
                    <a:pt x="-28298" y="13300"/>
                  </a:lnTo>
                  <a:lnTo>
                    <a:pt x="-27692" y="13434"/>
                  </a:lnTo>
                  <a:lnTo>
                    <a:pt x="-27389" y="13502"/>
                  </a:lnTo>
                  <a:lnTo>
                    <a:pt x="-27086" y="13502"/>
                  </a:lnTo>
                  <a:lnTo>
                    <a:pt x="-26346" y="13569"/>
                  </a:lnTo>
                  <a:lnTo>
                    <a:pt x="-25571" y="13670"/>
                  </a:lnTo>
                  <a:lnTo>
                    <a:pt x="-24090" y="13872"/>
                  </a:lnTo>
                  <a:lnTo>
                    <a:pt x="-21262" y="14377"/>
                  </a:lnTo>
                  <a:lnTo>
                    <a:pt x="-20016" y="14646"/>
                  </a:lnTo>
                  <a:lnTo>
                    <a:pt x="-19376" y="14714"/>
                  </a:lnTo>
                  <a:lnTo>
                    <a:pt x="-18737" y="14747"/>
                  </a:lnTo>
                  <a:lnTo>
                    <a:pt x="-18467" y="14714"/>
                  </a:lnTo>
                  <a:lnTo>
                    <a:pt x="-18198" y="14646"/>
                  </a:lnTo>
                  <a:lnTo>
                    <a:pt x="-17996" y="14579"/>
                  </a:lnTo>
                  <a:lnTo>
                    <a:pt x="-17794" y="14444"/>
                  </a:lnTo>
                  <a:lnTo>
                    <a:pt x="-17626" y="14310"/>
                  </a:lnTo>
                  <a:lnTo>
                    <a:pt x="-17457" y="14141"/>
                  </a:lnTo>
                  <a:lnTo>
                    <a:pt x="-17323" y="13939"/>
                  </a:lnTo>
                  <a:lnTo>
                    <a:pt x="-17222" y="13737"/>
                  </a:lnTo>
                  <a:lnTo>
                    <a:pt x="-17154" y="13535"/>
                  </a:lnTo>
                  <a:lnTo>
                    <a:pt x="-17087" y="13300"/>
                  </a:lnTo>
                  <a:lnTo>
                    <a:pt x="-16986" y="12828"/>
                  </a:lnTo>
                  <a:lnTo>
                    <a:pt x="-16952" y="12323"/>
                  </a:lnTo>
                  <a:lnTo>
                    <a:pt x="-16952" y="11852"/>
                  </a:lnTo>
                  <a:lnTo>
                    <a:pt x="-16784" y="11111"/>
                  </a:lnTo>
                  <a:lnTo>
                    <a:pt x="-16649" y="10404"/>
                  </a:lnTo>
                  <a:lnTo>
                    <a:pt x="-16414" y="8956"/>
                  </a:lnTo>
                  <a:lnTo>
                    <a:pt x="-15841" y="5522"/>
                  </a:lnTo>
                  <a:lnTo>
                    <a:pt x="-14865" y="1"/>
                  </a:lnTo>
                  <a:lnTo>
                    <a:pt x="-15134" y="1"/>
                  </a:lnTo>
                  <a:lnTo>
                    <a:pt x="-16111" y="5455"/>
                  </a:lnTo>
                  <a:lnTo>
                    <a:pt x="-16683" y="8855"/>
                  </a:lnTo>
                  <a:lnTo>
                    <a:pt x="-16885" y="10269"/>
                  </a:lnTo>
                  <a:lnTo>
                    <a:pt x="-16986" y="10977"/>
                  </a:lnTo>
                  <a:lnTo>
                    <a:pt x="-17053" y="11684"/>
                  </a:lnTo>
                  <a:lnTo>
                    <a:pt x="-17121" y="11684"/>
                  </a:lnTo>
                  <a:lnTo>
                    <a:pt x="-17154" y="11785"/>
                  </a:lnTo>
                  <a:lnTo>
                    <a:pt x="-17154" y="12492"/>
                  </a:lnTo>
                  <a:lnTo>
                    <a:pt x="-17188" y="12828"/>
                  </a:lnTo>
                  <a:lnTo>
                    <a:pt x="-17255" y="13199"/>
                  </a:lnTo>
                  <a:lnTo>
                    <a:pt x="-17356" y="13502"/>
                  </a:lnTo>
                  <a:lnTo>
                    <a:pt x="-17525" y="13805"/>
                  </a:lnTo>
                  <a:lnTo>
                    <a:pt x="-17760" y="14074"/>
                  </a:lnTo>
                  <a:lnTo>
                    <a:pt x="-17895" y="14209"/>
                  </a:lnTo>
                  <a:lnTo>
                    <a:pt x="-18063" y="14310"/>
                  </a:lnTo>
                  <a:lnTo>
                    <a:pt x="-18198" y="14377"/>
                  </a:lnTo>
                  <a:lnTo>
                    <a:pt x="-18333" y="14444"/>
                  </a:lnTo>
                  <a:lnTo>
                    <a:pt x="-18669" y="14512"/>
                  </a:lnTo>
                  <a:lnTo>
                    <a:pt x="-19006" y="14512"/>
                  </a:lnTo>
                  <a:lnTo>
                    <a:pt x="-19376" y="14478"/>
                  </a:lnTo>
                  <a:lnTo>
                    <a:pt x="-20050" y="14377"/>
                  </a:lnTo>
                  <a:lnTo>
                    <a:pt x="-20689" y="14242"/>
                  </a:lnTo>
                  <a:lnTo>
                    <a:pt x="-23248" y="13771"/>
                  </a:lnTo>
                  <a:lnTo>
                    <a:pt x="-25807" y="13367"/>
                  </a:lnTo>
                  <a:lnTo>
                    <a:pt x="-26312" y="13300"/>
                  </a:lnTo>
                  <a:lnTo>
                    <a:pt x="-26851" y="13266"/>
                  </a:lnTo>
                  <a:lnTo>
                    <a:pt x="-27356" y="13232"/>
                  </a:lnTo>
                  <a:lnTo>
                    <a:pt x="-27625" y="13199"/>
                  </a:lnTo>
                  <a:lnTo>
                    <a:pt x="-27894" y="13098"/>
                  </a:lnTo>
                  <a:lnTo>
                    <a:pt x="-28130" y="13030"/>
                  </a:lnTo>
                  <a:lnTo>
                    <a:pt x="-28366" y="12997"/>
                  </a:lnTo>
                  <a:lnTo>
                    <a:pt x="-28871" y="12963"/>
                  </a:lnTo>
                  <a:lnTo>
                    <a:pt x="-29376" y="12963"/>
                  </a:lnTo>
                  <a:lnTo>
                    <a:pt x="-29881" y="12997"/>
                  </a:lnTo>
                  <a:lnTo>
                    <a:pt x="-30049" y="12997"/>
                  </a:lnTo>
                  <a:lnTo>
                    <a:pt x="-30184" y="12963"/>
                  </a:lnTo>
                  <a:lnTo>
                    <a:pt x="-30521" y="12862"/>
                  </a:lnTo>
                  <a:lnTo>
                    <a:pt x="-30824" y="12761"/>
                  </a:lnTo>
                  <a:lnTo>
                    <a:pt x="-31127" y="12694"/>
                  </a:lnTo>
                  <a:lnTo>
                    <a:pt x="-31598" y="12626"/>
                  </a:lnTo>
                  <a:lnTo>
                    <a:pt x="-32069" y="12559"/>
                  </a:lnTo>
                  <a:lnTo>
                    <a:pt x="32288" y="12424"/>
                  </a:lnTo>
                  <a:lnTo>
                    <a:pt x="31682" y="12391"/>
                  </a:lnTo>
                  <a:lnTo>
                    <a:pt x="31110" y="12357"/>
                  </a:lnTo>
                  <a:lnTo>
                    <a:pt x="31211" y="11482"/>
                  </a:lnTo>
                  <a:lnTo>
                    <a:pt x="31783" y="11650"/>
                  </a:lnTo>
                  <a:lnTo>
                    <a:pt x="32389" y="11785"/>
                  </a:lnTo>
                  <a:lnTo>
                    <a:pt x="-31935" y="12020"/>
                  </a:lnTo>
                  <a:lnTo>
                    <a:pt x="-29511" y="12424"/>
                  </a:lnTo>
                  <a:lnTo>
                    <a:pt x="-27053" y="12828"/>
                  </a:lnTo>
                  <a:lnTo>
                    <a:pt x="-24595" y="13165"/>
                  </a:lnTo>
                  <a:lnTo>
                    <a:pt x="-22003" y="13502"/>
                  </a:lnTo>
                  <a:lnTo>
                    <a:pt x="-20892" y="13603"/>
                  </a:lnTo>
                  <a:lnTo>
                    <a:pt x="-20319" y="13636"/>
                  </a:lnTo>
                  <a:lnTo>
                    <a:pt x="-20050" y="13636"/>
                  </a:lnTo>
                  <a:lnTo>
                    <a:pt x="-19747" y="13603"/>
                  </a:lnTo>
                  <a:lnTo>
                    <a:pt x="-19343" y="13502"/>
                  </a:lnTo>
                  <a:lnTo>
                    <a:pt x="-19006" y="13333"/>
                  </a:lnTo>
                  <a:lnTo>
                    <a:pt x="-18703" y="13131"/>
                  </a:lnTo>
                  <a:lnTo>
                    <a:pt x="-18467" y="12896"/>
                  </a:lnTo>
                  <a:lnTo>
                    <a:pt x="-18265" y="12593"/>
                  </a:lnTo>
                  <a:lnTo>
                    <a:pt x="-18131" y="12256"/>
                  </a:lnTo>
                  <a:lnTo>
                    <a:pt x="-18063" y="11886"/>
                  </a:lnTo>
                  <a:lnTo>
                    <a:pt x="-18030" y="11448"/>
                  </a:lnTo>
                  <a:lnTo>
                    <a:pt x="-18063" y="11414"/>
                  </a:lnTo>
                  <a:lnTo>
                    <a:pt x="-17828" y="10707"/>
                  </a:lnTo>
                  <a:lnTo>
                    <a:pt x="-17693" y="10000"/>
                  </a:lnTo>
                  <a:lnTo>
                    <a:pt x="-17424" y="8552"/>
                  </a:lnTo>
                  <a:lnTo>
                    <a:pt x="-17154" y="6970"/>
                  </a:lnTo>
                  <a:lnTo>
                    <a:pt x="-16919" y="5388"/>
                  </a:lnTo>
                  <a:lnTo>
                    <a:pt x="-16582" y="2694"/>
                  </a:lnTo>
                  <a:lnTo>
                    <a:pt x="-16279" y="1"/>
                  </a:lnTo>
                  <a:lnTo>
                    <a:pt x="-16548" y="1"/>
                  </a:lnTo>
                  <a:lnTo>
                    <a:pt x="-16851" y="2795"/>
                  </a:lnTo>
                  <a:lnTo>
                    <a:pt x="-17222" y="5590"/>
                  </a:lnTo>
                  <a:lnTo>
                    <a:pt x="-17457" y="7172"/>
                  </a:lnTo>
                  <a:lnTo>
                    <a:pt x="-17693" y="8721"/>
                  </a:lnTo>
                  <a:lnTo>
                    <a:pt x="-17962" y="10034"/>
                  </a:lnTo>
                  <a:lnTo>
                    <a:pt x="-18063" y="10707"/>
                  </a:lnTo>
                  <a:lnTo>
                    <a:pt x="-18131" y="11381"/>
                  </a:lnTo>
                  <a:lnTo>
                    <a:pt x="-18198" y="11381"/>
                  </a:lnTo>
                  <a:lnTo>
                    <a:pt x="-18232" y="11448"/>
                  </a:lnTo>
                  <a:lnTo>
                    <a:pt x="-18232" y="11785"/>
                  </a:lnTo>
                  <a:lnTo>
                    <a:pt x="-18299" y="12088"/>
                  </a:lnTo>
                  <a:lnTo>
                    <a:pt x="-18366" y="12357"/>
                  </a:lnTo>
                  <a:lnTo>
                    <a:pt x="-18501" y="12593"/>
                  </a:lnTo>
                  <a:lnTo>
                    <a:pt x="-18636" y="12828"/>
                  </a:lnTo>
                  <a:lnTo>
                    <a:pt x="-18838" y="12997"/>
                  </a:lnTo>
                  <a:lnTo>
                    <a:pt x="-19107" y="13165"/>
                  </a:lnTo>
                  <a:lnTo>
                    <a:pt x="-19410" y="13300"/>
                  </a:lnTo>
                  <a:lnTo>
                    <a:pt x="-19646" y="13367"/>
                  </a:lnTo>
                  <a:lnTo>
                    <a:pt x="-19915" y="13434"/>
                  </a:lnTo>
                  <a:lnTo>
                    <a:pt x="-20420" y="13434"/>
                  </a:lnTo>
                  <a:lnTo>
                    <a:pt x="-20959" y="13401"/>
                  </a:lnTo>
                  <a:lnTo>
                    <a:pt x="-21464" y="13333"/>
                  </a:lnTo>
                  <a:lnTo>
                    <a:pt x="-23787" y="13064"/>
                  </a:lnTo>
                  <a:lnTo>
                    <a:pt x="-26110" y="12761"/>
                  </a:lnTo>
                  <a:lnTo>
                    <a:pt x="-28197" y="12458"/>
                  </a:lnTo>
                  <a:lnTo>
                    <a:pt x="-30251" y="12121"/>
                  </a:lnTo>
                  <a:lnTo>
                    <a:pt x="-31261" y="11919"/>
                  </a:lnTo>
                  <a:lnTo>
                    <a:pt x="-32271" y="11717"/>
                  </a:lnTo>
                  <a:lnTo>
                    <a:pt x="32221" y="11515"/>
                  </a:lnTo>
                  <a:lnTo>
                    <a:pt x="31211" y="11347"/>
                  </a:lnTo>
                  <a:lnTo>
                    <a:pt x="31480" y="9192"/>
                  </a:lnTo>
                  <a:lnTo>
                    <a:pt x="31750" y="7037"/>
                  </a:lnTo>
                  <a:lnTo>
                    <a:pt x="32322" y="3132"/>
                  </a:lnTo>
                  <a:lnTo>
                    <a:pt x="32457" y="2357"/>
                  </a:lnTo>
                  <a:lnTo>
                    <a:pt x="32591" y="1583"/>
                  </a:lnTo>
                  <a:lnTo>
                    <a:pt x="32726" y="775"/>
                  </a:lnTo>
                  <a:lnTo>
                    <a:pt x="-32709" y="1"/>
                  </a:lnTo>
                  <a:lnTo>
                    <a:pt x="32625" y="1"/>
                  </a:lnTo>
                  <a:lnTo>
                    <a:pt x="32457" y="809"/>
                  </a:lnTo>
                  <a:lnTo>
                    <a:pt x="32322" y="1650"/>
                  </a:lnTo>
                  <a:lnTo>
                    <a:pt x="32086" y="3334"/>
                  </a:lnTo>
                  <a:lnTo>
                    <a:pt x="31783" y="5287"/>
                  </a:lnTo>
                  <a:lnTo>
                    <a:pt x="31514" y="7273"/>
                  </a:lnTo>
                  <a:lnTo>
                    <a:pt x="31043" y="10977"/>
                  </a:lnTo>
                  <a:lnTo>
                    <a:pt x="30639" y="14680"/>
                  </a:lnTo>
                  <a:lnTo>
                    <a:pt x="30504" y="14478"/>
                  </a:lnTo>
                  <a:lnTo>
                    <a:pt x="30403" y="14242"/>
                  </a:lnTo>
                  <a:lnTo>
                    <a:pt x="30336" y="14175"/>
                  </a:lnTo>
                  <a:lnTo>
                    <a:pt x="30235" y="14175"/>
                  </a:lnTo>
                  <a:lnTo>
                    <a:pt x="30134" y="14209"/>
                  </a:lnTo>
                  <a:lnTo>
                    <a:pt x="30033" y="14276"/>
                  </a:lnTo>
                  <a:lnTo>
                    <a:pt x="29831" y="14444"/>
                  </a:lnTo>
                  <a:lnTo>
                    <a:pt x="29696" y="14613"/>
                  </a:lnTo>
                  <a:lnTo>
                    <a:pt x="29999" y="12424"/>
                  </a:lnTo>
                  <a:lnTo>
                    <a:pt x="30066" y="12391"/>
                  </a:lnTo>
                  <a:lnTo>
                    <a:pt x="30066" y="12323"/>
                  </a:lnTo>
                  <a:lnTo>
                    <a:pt x="30066" y="12256"/>
                  </a:lnTo>
                  <a:lnTo>
                    <a:pt x="30033" y="12222"/>
                  </a:lnTo>
                  <a:lnTo>
                    <a:pt x="30740" y="7206"/>
                  </a:lnTo>
                  <a:lnTo>
                    <a:pt x="31009" y="5421"/>
                  </a:lnTo>
                  <a:lnTo>
                    <a:pt x="31312" y="3603"/>
                  </a:lnTo>
                  <a:lnTo>
                    <a:pt x="31581" y="1819"/>
                  </a:lnTo>
                  <a:lnTo>
                    <a:pt x="31682" y="910"/>
                  </a:lnTo>
                  <a:lnTo>
                    <a:pt x="31783" y="1"/>
                  </a:lnTo>
                  <a:lnTo>
                    <a:pt x="31615" y="1"/>
                  </a:lnTo>
                  <a:lnTo>
                    <a:pt x="31413" y="876"/>
                  </a:lnTo>
                  <a:lnTo>
                    <a:pt x="31278" y="1785"/>
                  </a:lnTo>
                  <a:lnTo>
                    <a:pt x="31009" y="3570"/>
                  </a:lnTo>
                  <a:lnTo>
                    <a:pt x="30773" y="5354"/>
                  </a:lnTo>
                  <a:lnTo>
                    <a:pt x="30538" y="7138"/>
                  </a:lnTo>
                  <a:lnTo>
                    <a:pt x="29965" y="11145"/>
                  </a:lnTo>
                  <a:lnTo>
                    <a:pt x="29427" y="11111"/>
                  </a:lnTo>
                  <a:lnTo>
                    <a:pt x="30033" y="5421"/>
                  </a:lnTo>
                  <a:lnTo>
                    <a:pt x="30201" y="4075"/>
                  </a:lnTo>
                  <a:lnTo>
                    <a:pt x="30369" y="2728"/>
                  </a:lnTo>
                  <a:lnTo>
                    <a:pt x="30571" y="1347"/>
                  </a:lnTo>
                  <a:lnTo>
                    <a:pt x="30706" y="1"/>
                  </a:lnTo>
                  <a:lnTo>
                    <a:pt x="30470" y="1"/>
                  </a:lnTo>
                  <a:lnTo>
                    <a:pt x="30268" y="1280"/>
                  </a:lnTo>
                  <a:lnTo>
                    <a:pt x="30100" y="2593"/>
                  </a:lnTo>
                  <a:lnTo>
                    <a:pt x="29965" y="3873"/>
                  </a:lnTo>
                  <a:lnTo>
                    <a:pt x="29831" y="5152"/>
                  </a:lnTo>
                  <a:lnTo>
                    <a:pt x="29494" y="8115"/>
                  </a:lnTo>
                  <a:lnTo>
                    <a:pt x="29157" y="11111"/>
                  </a:lnTo>
                  <a:lnTo>
                    <a:pt x="27709" y="11010"/>
                  </a:lnTo>
                  <a:lnTo>
                    <a:pt x="26228" y="10909"/>
                  </a:lnTo>
                  <a:lnTo>
                    <a:pt x="25487" y="10808"/>
                  </a:lnTo>
                  <a:lnTo>
                    <a:pt x="24780" y="10741"/>
                  </a:lnTo>
                  <a:lnTo>
                    <a:pt x="24040" y="10606"/>
                  </a:lnTo>
                  <a:lnTo>
                    <a:pt x="23333" y="10438"/>
                  </a:lnTo>
                  <a:lnTo>
                    <a:pt x="21750" y="10101"/>
                  </a:lnTo>
                  <a:lnTo>
                    <a:pt x="20942" y="9933"/>
                  </a:lnTo>
                  <a:lnTo>
                    <a:pt x="20134" y="9798"/>
                  </a:lnTo>
                  <a:lnTo>
                    <a:pt x="19562" y="9731"/>
                  </a:lnTo>
                  <a:lnTo>
                    <a:pt x="19259" y="9697"/>
                  </a:lnTo>
                  <a:lnTo>
                    <a:pt x="18989" y="9596"/>
                  </a:lnTo>
                  <a:lnTo>
                    <a:pt x="18754" y="9529"/>
                  </a:lnTo>
                  <a:lnTo>
                    <a:pt x="18518" y="9495"/>
                  </a:lnTo>
                  <a:lnTo>
                    <a:pt x="18282" y="9495"/>
                  </a:lnTo>
                  <a:lnTo>
                    <a:pt x="18047" y="9562"/>
                  </a:lnTo>
                  <a:lnTo>
                    <a:pt x="18013" y="9596"/>
                  </a:lnTo>
                  <a:lnTo>
                    <a:pt x="17979" y="9663"/>
                  </a:lnTo>
                  <a:lnTo>
                    <a:pt x="18013" y="9697"/>
                  </a:lnTo>
                  <a:lnTo>
                    <a:pt x="18417" y="9697"/>
                  </a:lnTo>
                  <a:lnTo>
                    <a:pt x="18754" y="9731"/>
                  </a:lnTo>
                  <a:lnTo>
                    <a:pt x="18922" y="9832"/>
                  </a:lnTo>
                  <a:lnTo>
                    <a:pt x="19023" y="9865"/>
                  </a:lnTo>
                  <a:lnTo>
                    <a:pt x="19124" y="9899"/>
                  </a:lnTo>
                  <a:lnTo>
                    <a:pt x="19966" y="10034"/>
                  </a:lnTo>
                  <a:lnTo>
                    <a:pt x="20841" y="10135"/>
                  </a:lnTo>
                  <a:lnTo>
                    <a:pt x="21616" y="10303"/>
                  </a:lnTo>
                  <a:lnTo>
                    <a:pt x="22424" y="10471"/>
                  </a:lnTo>
                  <a:lnTo>
                    <a:pt x="23972" y="10842"/>
                  </a:lnTo>
                  <a:lnTo>
                    <a:pt x="24612" y="10977"/>
                  </a:lnTo>
                  <a:lnTo>
                    <a:pt x="25252" y="11078"/>
                  </a:lnTo>
                  <a:lnTo>
                    <a:pt x="26531" y="11212"/>
                  </a:lnTo>
                  <a:lnTo>
                    <a:pt x="27844" y="11280"/>
                  </a:lnTo>
                  <a:lnTo>
                    <a:pt x="29124" y="11347"/>
                  </a:lnTo>
                  <a:lnTo>
                    <a:pt x="29124" y="11482"/>
                  </a:lnTo>
                  <a:lnTo>
                    <a:pt x="29124" y="11549"/>
                  </a:lnTo>
                  <a:lnTo>
                    <a:pt x="29157" y="11583"/>
                  </a:lnTo>
                  <a:lnTo>
                    <a:pt x="29225" y="11616"/>
                  </a:lnTo>
                  <a:lnTo>
                    <a:pt x="29326" y="11583"/>
                  </a:lnTo>
                  <a:lnTo>
                    <a:pt x="29359" y="11549"/>
                  </a:lnTo>
                  <a:lnTo>
                    <a:pt x="29359" y="11482"/>
                  </a:lnTo>
                  <a:lnTo>
                    <a:pt x="29393" y="11381"/>
                  </a:lnTo>
                  <a:lnTo>
                    <a:pt x="29932" y="11414"/>
                  </a:lnTo>
                  <a:lnTo>
                    <a:pt x="29797" y="12189"/>
                  </a:lnTo>
                  <a:lnTo>
                    <a:pt x="27945" y="11818"/>
                  </a:lnTo>
                  <a:lnTo>
                    <a:pt x="26093" y="11515"/>
                  </a:lnTo>
                  <a:lnTo>
                    <a:pt x="24242" y="11246"/>
                  </a:lnTo>
                  <a:lnTo>
                    <a:pt x="22356" y="10977"/>
                  </a:lnTo>
                  <a:lnTo>
                    <a:pt x="21414" y="10876"/>
                  </a:lnTo>
                  <a:lnTo>
                    <a:pt x="20471" y="10775"/>
                  </a:lnTo>
                  <a:lnTo>
                    <a:pt x="18585" y="10606"/>
                  </a:lnTo>
                  <a:lnTo>
                    <a:pt x="17643" y="10505"/>
                  </a:lnTo>
                  <a:lnTo>
                    <a:pt x="16734" y="10337"/>
                  </a:lnTo>
                  <a:lnTo>
                    <a:pt x="15825" y="10168"/>
                  </a:lnTo>
                  <a:lnTo>
                    <a:pt x="14916" y="9933"/>
                  </a:lnTo>
                  <a:lnTo>
                    <a:pt x="16330" y="9764"/>
                  </a:lnTo>
                  <a:lnTo>
                    <a:pt x="17744" y="9562"/>
                  </a:lnTo>
                  <a:lnTo>
                    <a:pt x="17777" y="9596"/>
                  </a:lnTo>
                  <a:lnTo>
                    <a:pt x="17845" y="9630"/>
                  </a:lnTo>
                  <a:lnTo>
                    <a:pt x="17912" y="9596"/>
                  </a:lnTo>
                  <a:lnTo>
                    <a:pt x="17946" y="9529"/>
                  </a:lnTo>
                  <a:lnTo>
                    <a:pt x="17979" y="9529"/>
                  </a:lnTo>
                  <a:lnTo>
                    <a:pt x="18013" y="9495"/>
                  </a:lnTo>
                  <a:lnTo>
                    <a:pt x="18047" y="9461"/>
                  </a:lnTo>
                  <a:lnTo>
                    <a:pt x="18282" y="9428"/>
                  </a:lnTo>
                  <a:lnTo>
                    <a:pt x="18552" y="9394"/>
                  </a:lnTo>
                  <a:lnTo>
                    <a:pt x="19023" y="9327"/>
                  </a:lnTo>
                  <a:lnTo>
                    <a:pt x="20505" y="9158"/>
                  </a:lnTo>
                  <a:lnTo>
                    <a:pt x="22289" y="8956"/>
                  </a:lnTo>
                  <a:lnTo>
                    <a:pt x="22323" y="8956"/>
                  </a:lnTo>
                  <a:lnTo>
                    <a:pt x="22356" y="8923"/>
                  </a:lnTo>
                  <a:lnTo>
                    <a:pt x="23030" y="8855"/>
                  </a:lnTo>
                  <a:lnTo>
                    <a:pt x="23097" y="8822"/>
                  </a:lnTo>
                  <a:lnTo>
                    <a:pt x="23097" y="8754"/>
                  </a:lnTo>
                  <a:lnTo>
                    <a:pt x="23097" y="8721"/>
                  </a:lnTo>
                  <a:lnTo>
                    <a:pt x="23063" y="8653"/>
                  </a:lnTo>
                  <a:lnTo>
                    <a:pt x="22962" y="8216"/>
                  </a:lnTo>
                  <a:lnTo>
                    <a:pt x="22895" y="7744"/>
                  </a:lnTo>
                  <a:lnTo>
                    <a:pt x="22828" y="6835"/>
                  </a:lnTo>
                  <a:lnTo>
                    <a:pt x="22794" y="5893"/>
                  </a:lnTo>
                  <a:lnTo>
                    <a:pt x="22760" y="5421"/>
                  </a:lnTo>
                  <a:lnTo>
                    <a:pt x="22659" y="4984"/>
                  </a:lnTo>
                  <a:lnTo>
                    <a:pt x="22659" y="4950"/>
                  </a:lnTo>
                  <a:lnTo>
                    <a:pt x="22626" y="4950"/>
                  </a:lnTo>
                  <a:lnTo>
                    <a:pt x="22592" y="4984"/>
                  </a:lnTo>
                  <a:lnTo>
                    <a:pt x="22592" y="5017"/>
                  </a:lnTo>
                  <a:lnTo>
                    <a:pt x="22558" y="5017"/>
                  </a:lnTo>
                  <a:lnTo>
                    <a:pt x="19764" y="5152"/>
                  </a:lnTo>
                  <a:lnTo>
                    <a:pt x="19191" y="5152"/>
                  </a:lnTo>
                  <a:lnTo>
                    <a:pt x="18653" y="5186"/>
                  </a:lnTo>
                  <a:lnTo>
                    <a:pt x="18080" y="5287"/>
                  </a:lnTo>
                  <a:lnTo>
                    <a:pt x="17811" y="5354"/>
                  </a:lnTo>
                  <a:lnTo>
                    <a:pt x="17542" y="5455"/>
                  </a:lnTo>
                  <a:lnTo>
                    <a:pt x="17542" y="5421"/>
                  </a:lnTo>
                  <a:lnTo>
                    <a:pt x="17508" y="5388"/>
                  </a:lnTo>
                  <a:lnTo>
                    <a:pt x="17474" y="5388"/>
                  </a:lnTo>
                  <a:lnTo>
                    <a:pt x="17441" y="5354"/>
                  </a:lnTo>
                  <a:lnTo>
                    <a:pt x="17373" y="5354"/>
                  </a:lnTo>
                  <a:lnTo>
                    <a:pt x="14040" y="5556"/>
                  </a:lnTo>
                  <a:lnTo>
                    <a:pt x="12391" y="5691"/>
                  </a:lnTo>
                  <a:lnTo>
                    <a:pt x="10741" y="5859"/>
                  </a:lnTo>
                  <a:lnTo>
                    <a:pt x="9865" y="5926"/>
                  </a:lnTo>
                  <a:lnTo>
                    <a:pt x="10000" y="5657"/>
                  </a:lnTo>
                  <a:lnTo>
                    <a:pt x="10067" y="5320"/>
                  </a:lnTo>
                  <a:lnTo>
                    <a:pt x="10168" y="4714"/>
                  </a:lnTo>
                  <a:lnTo>
                    <a:pt x="10303" y="3940"/>
                  </a:lnTo>
                  <a:lnTo>
                    <a:pt x="10404" y="3166"/>
                  </a:lnTo>
                  <a:lnTo>
                    <a:pt x="10505" y="2391"/>
                  </a:lnTo>
                  <a:lnTo>
                    <a:pt x="10640" y="1583"/>
                  </a:lnTo>
                  <a:lnTo>
                    <a:pt x="10774" y="809"/>
                  </a:lnTo>
                  <a:lnTo>
                    <a:pt x="1090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hape 774"/>
            <p:cNvSpPr/>
            <p:nvPr/>
          </p:nvSpPr>
          <p:spPr>
            <a:xfrm>
              <a:off x="8721720" y="4059360"/>
              <a:ext cx="87120" cy="63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14" h="943">
                  <a:moveTo>
                    <a:pt x="943" y="0"/>
                  </a:moveTo>
                  <a:lnTo>
                    <a:pt x="471" y="169"/>
                  </a:lnTo>
                  <a:lnTo>
                    <a:pt x="236" y="236"/>
                  </a:lnTo>
                  <a:lnTo>
                    <a:pt x="168" y="270"/>
                  </a:lnTo>
                  <a:lnTo>
                    <a:pt x="101" y="270"/>
                  </a:lnTo>
                  <a:lnTo>
                    <a:pt x="101" y="236"/>
                  </a:lnTo>
                  <a:lnTo>
                    <a:pt x="34" y="236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67" y="404"/>
                  </a:lnTo>
                  <a:lnTo>
                    <a:pt x="101" y="404"/>
                  </a:lnTo>
                  <a:lnTo>
                    <a:pt x="168" y="438"/>
                  </a:lnTo>
                  <a:lnTo>
                    <a:pt x="269" y="438"/>
                  </a:lnTo>
                  <a:lnTo>
                    <a:pt x="572" y="404"/>
                  </a:lnTo>
                  <a:lnTo>
                    <a:pt x="875" y="303"/>
                  </a:lnTo>
                  <a:lnTo>
                    <a:pt x="909" y="472"/>
                  </a:lnTo>
                  <a:lnTo>
                    <a:pt x="976" y="606"/>
                  </a:lnTo>
                  <a:lnTo>
                    <a:pt x="875" y="606"/>
                  </a:lnTo>
                  <a:lnTo>
                    <a:pt x="808" y="674"/>
                  </a:lnTo>
                  <a:lnTo>
                    <a:pt x="640" y="741"/>
                  </a:lnTo>
                  <a:lnTo>
                    <a:pt x="572" y="775"/>
                  </a:lnTo>
                  <a:lnTo>
                    <a:pt x="539" y="775"/>
                  </a:lnTo>
                  <a:lnTo>
                    <a:pt x="572" y="741"/>
                  </a:lnTo>
                  <a:lnTo>
                    <a:pt x="707" y="674"/>
                  </a:lnTo>
                  <a:lnTo>
                    <a:pt x="842" y="573"/>
                  </a:lnTo>
                  <a:lnTo>
                    <a:pt x="842" y="539"/>
                  </a:lnTo>
                  <a:lnTo>
                    <a:pt x="842" y="505"/>
                  </a:lnTo>
                  <a:lnTo>
                    <a:pt x="808" y="472"/>
                  </a:lnTo>
                  <a:lnTo>
                    <a:pt x="741" y="438"/>
                  </a:lnTo>
                  <a:lnTo>
                    <a:pt x="572" y="539"/>
                  </a:lnTo>
                  <a:lnTo>
                    <a:pt x="370" y="640"/>
                  </a:lnTo>
                  <a:lnTo>
                    <a:pt x="269" y="741"/>
                  </a:lnTo>
                  <a:lnTo>
                    <a:pt x="236" y="775"/>
                  </a:lnTo>
                  <a:lnTo>
                    <a:pt x="269" y="842"/>
                  </a:lnTo>
                  <a:lnTo>
                    <a:pt x="303" y="876"/>
                  </a:lnTo>
                  <a:lnTo>
                    <a:pt x="337" y="876"/>
                  </a:lnTo>
                  <a:lnTo>
                    <a:pt x="438" y="808"/>
                  </a:lnTo>
                  <a:lnTo>
                    <a:pt x="438" y="876"/>
                  </a:lnTo>
                  <a:lnTo>
                    <a:pt x="471" y="909"/>
                  </a:lnTo>
                  <a:lnTo>
                    <a:pt x="539" y="943"/>
                  </a:lnTo>
                  <a:lnTo>
                    <a:pt x="707" y="909"/>
                  </a:lnTo>
                  <a:lnTo>
                    <a:pt x="875" y="808"/>
                  </a:lnTo>
                  <a:lnTo>
                    <a:pt x="976" y="741"/>
                  </a:lnTo>
                  <a:lnTo>
                    <a:pt x="1044" y="674"/>
                  </a:lnTo>
                  <a:lnTo>
                    <a:pt x="1111" y="741"/>
                  </a:lnTo>
                  <a:lnTo>
                    <a:pt x="1212" y="741"/>
                  </a:lnTo>
                  <a:lnTo>
                    <a:pt x="1279" y="707"/>
                  </a:lnTo>
                  <a:lnTo>
                    <a:pt x="1313" y="640"/>
                  </a:lnTo>
                  <a:lnTo>
                    <a:pt x="1279" y="573"/>
                  </a:lnTo>
                  <a:lnTo>
                    <a:pt x="1246" y="505"/>
                  </a:lnTo>
                  <a:lnTo>
                    <a:pt x="1145" y="303"/>
                  </a:lnTo>
                  <a:lnTo>
                    <a:pt x="1111" y="135"/>
                  </a:lnTo>
                  <a:lnTo>
                    <a:pt x="1111" y="6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3280" bIns="-53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hape 775"/>
            <p:cNvSpPr/>
            <p:nvPr/>
          </p:nvSpPr>
          <p:spPr>
            <a:xfrm>
              <a:off x="8388360" y="2851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8" h="708">
                  <a:moveTo>
                    <a:pt x="438" y="203"/>
                  </a:moveTo>
                  <a:lnTo>
                    <a:pt x="506" y="236"/>
                  </a:lnTo>
                  <a:lnTo>
                    <a:pt x="539" y="304"/>
                  </a:lnTo>
                  <a:lnTo>
                    <a:pt x="539" y="405"/>
                  </a:lnTo>
                  <a:lnTo>
                    <a:pt x="506" y="472"/>
                  </a:lnTo>
                  <a:lnTo>
                    <a:pt x="438" y="539"/>
                  </a:lnTo>
                  <a:lnTo>
                    <a:pt x="270" y="539"/>
                  </a:lnTo>
                  <a:lnTo>
                    <a:pt x="203" y="506"/>
                  </a:lnTo>
                  <a:lnTo>
                    <a:pt x="169" y="405"/>
                  </a:lnTo>
                  <a:lnTo>
                    <a:pt x="236" y="304"/>
                  </a:lnTo>
                  <a:lnTo>
                    <a:pt x="270" y="270"/>
                  </a:lnTo>
                  <a:lnTo>
                    <a:pt x="337" y="236"/>
                  </a:lnTo>
                  <a:lnTo>
                    <a:pt x="371" y="203"/>
                  </a:lnTo>
                  <a:close/>
                  <a:moveTo>
                    <a:pt x="337" y="1"/>
                  </a:moveTo>
                  <a:lnTo>
                    <a:pt x="270" y="34"/>
                  </a:lnTo>
                  <a:lnTo>
                    <a:pt x="203" y="68"/>
                  </a:lnTo>
                  <a:lnTo>
                    <a:pt x="135" y="135"/>
                  </a:lnTo>
                  <a:lnTo>
                    <a:pt x="102" y="203"/>
                  </a:lnTo>
                  <a:lnTo>
                    <a:pt x="102" y="236"/>
                  </a:lnTo>
                  <a:lnTo>
                    <a:pt x="34" y="337"/>
                  </a:lnTo>
                  <a:lnTo>
                    <a:pt x="1" y="438"/>
                  </a:lnTo>
                  <a:lnTo>
                    <a:pt x="34" y="539"/>
                  </a:lnTo>
                  <a:lnTo>
                    <a:pt x="68" y="607"/>
                  </a:lnTo>
                  <a:lnTo>
                    <a:pt x="135" y="674"/>
                  </a:lnTo>
                  <a:lnTo>
                    <a:pt x="203" y="708"/>
                  </a:lnTo>
                  <a:lnTo>
                    <a:pt x="371" y="708"/>
                  </a:lnTo>
                  <a:lnTo>
                    <a:pt x="506" y="674"/>
                  </a:lnTo>
                  <a:lnTo>
                    <a:pt x="607" y="640"/>
                  </a:lnTo>
                  <a:lnTo>
                    <a:pt x="640" y="573"/>
                  </a:lnTo>
                  <a:lnTo>
                    <a:pt x="708" y="438"/>
                  </a:lnTo>
                  <a:lnTo>
                    <a:pt x="708" y="270"/>
                  </a:lnTo>
                  <a:lnTo>
                    <a:pt x="674" y="169"/>
                  </a:lnTo>
                  <a:lnTo>
                    <a:pt x="640" y="102"/>
                  </a:lnTo>
                  <a:lnTo>
                    <a:pt x="573" y="68"/>
                  </a:lnTo>
                  <a:lnTo>
                    <a:pt x="506" y="34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hape 776"/>
            <p:cNvSpPr/>
            <p:nvPr/>
          </p:nvSpPr>
          <p:spPr>
            <a:xfrm>
              <a:off x="8717040" y="40878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38" h="607">
                  <a:moveTo>
                    <a:pt x="34" y="1"/>
                  </a:moveTo>
                  <a:lnTo>
                    <a:pt x="1" y="35"/>
                  </a:lnTo>
                  <a:lnTo>
                    <a:pt x="1" y="270"/>
                  </a:lnTo>
                  <a:lnTo>
                    <a:pt x="1" y="472"/>
                  </a:lnTo>
                  <a:lnTo>
                    <a:pt x="34" y="540"/>
                  </a:lnTo>
                  <a:lnTo>
                    <a:pt x="102" y="607"/>
                  </a:lnTo>
                  <a:lnTo>
                    <a:pt x="304" y="607"/>
                  </a:lnTo>
                  <a:lnTo>
                    <a:pt x="337" y="540"/>
                  </a:lnTo>
                  <a:lnTo>
                    <a:pt x="337" y="472"/>
                  </a:lnTo>
                  <a:lnTo>
                    <a:pt x="270" y="405"/>
                  </a:lnTo>
                  <a:lnTo>
                    <a:pt x="236" y="405"/>
                  </a:lnTo>
                  <a:lnTo>
                    <a:pt x="203" y="169"/>
                  </a:lnTo>
                  <a:lnTo>
                    <a:pt x="135" y="102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hape 777"/>
            <p:cNvSpPr/>
            <p:nvPr/>
          </p:nvSpPr>
          <p:spPr>
            <a:xfrm>
              <a:off x="8121600" y="217440"/>
              <a:ext cx="156960" cy="23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357" h="371">
                  <a:moveTo>
                    <a:pt x="1448" y="1"/>
                  </a:moveTo>
                  <a:lnTo>
                    <a:pt x="741" y="34"/>
                  </a:lnTo>
                  <a:lnTo>
                    <a:pt x="370" y="68"/>
                  </a:lnTo>
                  <a:lnTo>
                    <a:pt x="34" y="135"/>
                  </a:lnTo>
                  <a:lnTo>
                    <a:pt x="0" y="169"/>
                  </a:lnTo>
                  <a:lnTo>
                    <a:pt x="34" y="169"/>
                  </a:lnTo>
                  <a:lnTo>
                    <a:pt x="303" y="203"/>
                  </a:lnTo>
                  <a:lnTo>
                    <a:pt x="606" y="203"/>
                  </a:lnTo>
                  <a:lnTo>
                    <a:pt x="1178" y="169"/>
                  </a:lnTo>
                  <a:lnTo>
                    <a:pt x="1448" y="169"/>
                  </a:lnTo>
                  <a:lnTo>
                    <a:pt x="1717" y="203"/>
                  </a:lnTo>
                  <a:lnTo>
                    <a:pt x="1986" y="236"/>
                  </a:lnTo>
                  <a:lnTo>
                    <a:pt x="2256" y="371"/>
                  </a:lnTo>
                  <a:lnTo>
                    <a:pt x="2323" y="371"/>
                  </a:lnTo>
                  <a:lnTo>
                    <a:pt x="2357" y="337"/>
                  </a:lnTo>
                  <a:lnTo>
                    <a:pt x="2357" y="304"/>
                  </a:lnTo>
                  <a:lnTo>
                    <a:pt x="2357" y="236"/>
                  </a:lnTo>
                  <a:lnTo>
                    <a:pt x="2256" y="169"/>
                  </a:lnTo>
                  <a:lnTo>
                    <a:pt x="2155" y="102"/>
                  </a:lnTo>
                  <a:lnTo>
                    <a:pt x="1919" y="34"/>
                  </a:lnTo>
                  <a:lnTo>
                    <a:pt x="168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2880" bIns="-92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hape 778"/>
            <p:cNvSpPr/>
            <p:nvPr/>
          </p:nvSpPr>
          <p:spPr>
            <a:xfrm>
              <a:off x="7716960" y="482400"/>
              <a:ext cx="284040" cy="968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276" h="1448">
                  <a:moveTo>
                    <a:pt x="4108" y="0"/>
                  </a:moveTo>
                  <a:lnTo>
                    <a:pt x="3872" y="67"/>
                  </a:lnTo>
                  <a:lnTo>
                    <a:pt x="3502" y="168"/>
                  </a:lnTo>
                  <a:lnTo>
                    <a:pt x="3131" y="303"/>
                  </a:lnTo>
                  <a:lnTo>
                    <a:pt x="2424" y="539"/>
                  </a:lnTo>
                  <a:lnTo>
                    <a:pt x="1212" y="943"/>
                  </a:lnTo>
                  <a:lnTo>
                    <a:pt x="606" y="1145"/>
                  </a:lnTo>
                  <a:lnTo>
                    <a:pt x="34" y="1380"/>
                  </a:lnTo>
                  <a:lnTo>
                    <a:pt x="0" y="1414"/>
                  </a:lnTo>
                  <a:lnTo>
                    <a:pt x="0" y="1448"/>
                  </a:lnTo>
                  <a:lnTo>
                    <a:pt x="34" y="1448"/>
                  </a:lnTo>
                  <a:lnTo>
                    <a:pt x="606" y="1347"/>
                  </a:lnTo>
                  <a:lnTo>
                    <a:pt x="1145" y="1178"/>
                  </a:lnTo>
                  <a:lnTo>
                    <a:pt x="2222" y="842"/>
                  </a:lnTo>
                  <a:lnTo>
                    <a:pt x="3266" y="539"/>
                  </a:lnTo>
                  <a:lnTo>
                    <a:pt x="3805" y="337"/>
                  </a:lnTo>
                  <a:lnTo>
                    <a:pt x="4040" y="236"/>
                  </a:lnTo>
                  <a:lnTo>
                    <a:pt x="4242" y="101"/>
                  </a:lnTo>
                  <a:lnTo>
                    <a:pt x="4276" y="67"/>
                  </a:lnTo>
                  <a:lnTo>
                    <a:pt x="4242" y="34"/>
                  </a:lnTo>
                  <a:lnTo>
                    <a:pt x="417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9800" bIns="-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hape 779"/>
            <p:cNvSpPr/>
            <p:nvPr/>
          </p:nvSpPr>
          <p:spPr>
            <a:xfrm>
              <a:off x="8560080" y="2789280"/>
              <a:ext cx="141120" cy="53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23" h="809">
                  <a:moveTo>
                    <a:pt x="1920" y="1"/>
                  </a:moveTo>
                  <a:lnTo>
                    <a:pt x="1853" y="34"/>
                  </a:lnTo>
                  <a:lnTo>
                    <a:pt x="1617" y="102"/>
                  </a:lnTo>
                  <a:lnTo>
                    <a:pt x="1381" y="169"/>
                  </a:lnTo>
                  <a:lnTo>
                    <a:pt x="944" y="270"/>
                  </a:lnTo>
                  <a:lnTo>
                    <a:pt x="472" y="371"/>
                  </a:lnTo>
                  <a:lnTo>
                    <a:pt x="270" y="472"/>
                  </a:lnTo>
                  <a:lnTo>
                    <a:pt x="35" y="573"/>
                  </a:lnTo>
                  <a:lnTo>
                    <a:pt x="1" y="674"/>
                  </a:lnTo>
                  <a:lnTo>
                    <a:pt x="1" y="741"/>
                  </a:lnTo>
                  <a:lnTo>
                    <a:pt x="68" y="809"/>
                  </a:lnTo>
                  <a:lnTo>
                    <a:pt x="136" y="809"/>
                  </a:lnTo>
                  <a:lnTo>
                    <a:pt x="1112" y="640"/>
                  </a:lnTo>
                  <a:lnTo>
                    <a:pt x="1583" y="506"/>
                  </a:lnTo>
                  <a:lnTo>
                    <a:pt x="2021" y="337"/>
                  </a:lnTo>
                  <a:lnTo>
                    <a:pt x="2088" y="304"/>
                  </a:lnTo>
                  <a:lnTo>
                    <a:pt x="2122" y="236"/>
                  </a:lnTo>
                  <a:lnTo>
                    <a:pt x="2122" y="169"/>
                  </a:lnTo>
                  <a:lnTo>
                    <a:pt x="2088" y="102"/>
                  </a:lnTo>
                  <a:lnTo>
                    <a:pt x="2055" y="68"/>
                  </a:lnTo>
                  <a:lnTo>
                    <a:pt x="1987" y="34"/>
                  </a:lnTo>
                  <a:lnTo>
                    <a:pt x="192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hape 780"/>
            <p:cNvSpPr/>
            <p:nvPr/>
          </p:nvSpPr>
          <p:spPr>
            <a:xfrm>
              <a:off x="2130480" y="761760"/>
              <a:ext cx="172800" cy="1126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593" h="1684">
                  <a:moveTo>
                    <a:pt x="2222" y="304"/>
                  </a:moveTo>
                  <a:lnTo>
                    <a:pt x="2290" y="910"/>
                  </a:lnTo>
                  <a:lnTo>
                    <a:pt x="2357" y="1381"/>
                  </a:lnTo>
                  <a:lnTo>
                    <a:pt x="2121" y="1347"/>
                  </a:lnTo>
                  <a:lnTo>
                    <a:pt x="1886" y="1347"/>
                  </a:lnTo>
                  <a:lnTo>
                    <a:pt x="1414" y="1381"/>
                  </a:lnTo>
                  <a:lnTo>
                    <a:pt x="808" y="1381"/>
                  </a:lnTo>
                  <a:lnTo>
                    <a:pt x="539" y="1415"/>
                  </a:lnTo>
                  <a:lnTo>
                    <a:pt x="270" y="1482"/>
                  </a:lnTo>
                  <a:lnTo>
                    <a:pt x="236" y="876"/>
                  </a:lnTo>
                  <a:lnTo>
                    <a:pt x="202" y="573"/>
                  </a:lnTo>
                  <a:lnTo>
                    <a:pt x="202" y="438"/>
                  </a:lnTo>
                  <a:lnTo>
                    <a:pt x="169" y="304"/>
                  </a:lnTo>
                  <a:lnTo>
                    <a:pt x="404" y="371"/>
                  </a:lnTo>
                  <a:lnTo>
                    <a:pt x="674" y="405"/>
                  </a:lnTo>
                  <a:lnTo>
                    <a:pt x="1684" y="405"/>
                  </a:lnTo>
                  <a:lnTo>
                    <a:pt x="1953" y="371"/>
                  </a:lnTo>
                  <a:lnTo>
                    <a:pt x="2222" y="304"/>
                  </a:lnTo>
                  <a:close/>
                  <a:moveTo>
                    <a:pt x="2256" y="1"/>
                  </a:moveTo>
                  <a:lnTo>
                    <a:pt x="2222" y="34"/>
                  </a:lnTo>
                  <a:lnTo>
                    <a:pt x="2222" y="68"/>
                  </a:lnTo>
                  <a:lnTo>
                    <a:pt x="2222" y="169"/>
                  </a:lnTo>
                  <a:lnTo>
                    <a:pt x="1785" y="169"/>
                  </a:lnTo>
                  <a:lnTo>
                    <a:pt x="1347" y="203"/>
                  </a:lnTo>
                  <a:lnTo>
                    <a:pt x="438" y="203"/>
                  </a:lnTo>
                  <a:lnTo>
                    <a:pt x="135" y="236"/>
                  </a:lnTo>
                  <a:lnTo>
                    <a:pt x="101" y="236"/>
                  </a:lnTo>
                  <a:lnTo>
                    <a:pt x="68" y="270"/>
                  </a:lnTo>
                  <a:lnTo>
                    <a:pt x="34" y="371"/>
                  </a:lnTo>
                  <a:lnTo>
                    <a:pt x="0" y="506"/>
                  </a:lnTo>
                  <a:lnTo>
                    <a:pt x="34" y="775"/>
                  </a:lnTo>
                  <a:lnTo>
                    <a:pt x="34" y="1549"/>
                  </a:lnTo>
                  <a:lnTo>
                    <a:pt x="68" y="1617"/>
                  </a:lnTo>
                  <a:lnTo>
                    <a:pt x="135" y="1650"/>
                  </a:lnTo>
                  <a:lnTo>
                    <a:pt x="202" y="1617"/>
                  </a:lnTo>
                  <a:lnTo>
                    <a:pt x="236" y="1583"/>
                  </a:lnTo>
                  <a:lnTo>
                    <a:pt x="505" y="1617"/>
                  </a:lnTo>
                  <a:lnTo>
                    <a:pt x="741" y="1617"/>
                  </a:lnTo>
                  <a:lnTo>
                    <a:pt x="1246" y="1583"/>
                  </a:lnTo>
                  <a:lnTo>
                    <a:pt x="1818" y="1583"/>
                  </a:lnTo>
                  <a:lnTo>
                    <a:pt x="2121" y="1549"/>
                  </a:lnTo>
                  <a:lnTo>
                    <a:pt x="2391" y="1482"/>
                  </a:lnTo>
                  <a:lnTo>
                    <a:pt x="2458" y="1684"/>
                  </a:lnTo>
                  <a:lnTo>
                    <a:pt x="2525" y="1684"/>
                  </a:lnTo>
                  <a:lnTo>
                    <a:pt x="2559" y="1650"/>
                  </a:lnTo>
                  <a:lnTo>
                    <a:pt x="2593" y="1482"/>
                  </a:lnTo>
                  <a:lnTo>
                    <a:pt x="2559" y="1280"/>
                  </a:lnTo>
                  <a:lnTo>
                    <a:pt x="2492" y="910"/>
                  </a:lnTo>
                  <a:lnTo>
                    <a:pt x="2391" y="270"/>
                  </a:lnTo>
                  <a:lnTo>
                    <a:pt x="2424" y="236"/>
                  </a:lnTo>
                  <a:lnTo>
                    <a:pt x="2424" y="203"/>
                  </a:lnTo>
                  <a:lnTo>
                    <a:pt x="2391" y="169"/>
                  </a:lnTo>
                  <a:lnTo>
                    <a:pt x="2357" y="169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hape 781"/>
            <p:cNvSpPr/>
            <p:nvPr/>
          </p:nvSpPr>
          <p:spPr>
            <a:xfrm>
              <a:off x="7716960" y="577800"/>
              <a:ext cx="195120" cy="66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30" h="1011">
                  <a:moveTo>
                    <a:pt x="2862" y="0"/>
                  </a:moveTo>
                  <a:lnTo>
                    <a:pt x="2492" y="67"/>
                  </a:lnTo>
                  <a:lnTo>
                    <a:pt x="2121" y="168"/>
                  </a:lnTo>
                  <a:lnTo>
                    <a:pt x="1414" y="404"/>
                  </a:lnTo>
                  <a:lnTo>
                    <a:pt x="707" y="640"/>
                  </a:lnTo>
                  <a:lnTo>
                    <a:pt x="337" y="774"/>
                  </a:lnTo>
                  <a:lnTo>
                    <a:pt x="34" y="976"/>
                  </a:lnTo>
                  <a:lnTo>
                    <a:pt x="0" y="1010"/>
                  </a:lnTo>
                  <a:lnTo>
                    <a:pt x="34" y="1010"/>
                  </a:lnTo>
                  <a:lnTo>
                    <a:pt x="404" y="943"/>
                  </a:lnTo>
                  <a:lnTo>
                    <a:pt x="774" y="842"/>
                  </a:lnTo>
                  <a:lnTo>
                    <a:pt x="1448" y="572"/>
                  </a:lnTo>
                  <a:lnTo>
                    <a:pt x="2189" y="370"/>
                  </a:lnTo>
                  <a:lnTo>
                    <a:pt x="2559" y="269"/>
                  </a:lnTo>
                  <a:lnTo>
                    <a:pt x="2896" y="135"/>
                  </a:lnTo>
                  <a:lnTo>
                    <a:pt x="2896" y="101"/>
                  </a:lnTo>
                  <a:lnTo>
                    <a:pt x="2929" y="67"/>
                  </a:lnTo>
                  <a:lnTo>
                    <a:pt x="2896" y="34"/>
                  </a:lnTo>
                  <a:lnTo>
                    <a:pt x="286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hape 782"/>
            <p:cNvSpPr/>
            <p:nvPr/>
          </p:nvSpPr>
          <p:spPr>
            <a:xfrm>
              <a:off x="7704360" y="449280"/>
              <a:ext cx="247320" cy="586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38" h="876">
                  <a:moveTo>
                    <a:pt x="3266" y="0"/>
                  </a:moveTo>
                  <a:lnTo>
                    <a:pt x="3098" y="34"/>
                  </a:lnTo>
                  <a:lnTo>
                    <a:pt x="2795" y="168"/>
                  </a:lnTo>
                  <a:lnTo>
                    <a:pt x="2492" y="269"/>
                  </a:lnTo>
                  <a:lnTo>
                    <a:pt x="1886" y="471"/>
                  </a:lnTo>
                  <a:lnTo>
                    <a:pt x="1280" y="572"/>
                  </a:lnTo>
                  <a:lnTo>
                    <a:pt x="34" y="741"/>
                  </a:lnTo>
                  <a:lnTo>
                    <a:pt x="0" y="774"/>
                  </a:lnTo>
                  <a:lnTo>
                    <a:pt x="34" y="808"/>
                  </a:lnTo>
                  <a:lnTo>
                    <a:pt x="269" y="842"/>
                  </a:lnTo>
                  <a:lnTo>
                    <a:pt x="505" y="875"/>
                  </a:lnTo>
                  <a:lnTo>
                    <a:pt x="976" y="875"/>
                  </a:lnTo>
                  <a:lnTo>
                    <a:pt x="1414" y="774"/>
                  </a:lnTo>
                  <a:lnTo>
                    <a:pt x="1886" y="640"/>
                  </a:lnTo>
                  <a:lnTo>
                    <a:pt x="2761" y="337"/>
                  </a:lnTo>
                  <a:lnTo>
                    <a:pt x="3232" y="236"/>
                  </a:lnTo>
                  <a:lnTo>
                    <a:pt x="3704" y="202"/>
                  </a:lnTo>
                  <a:lnTo>
                    <a:pt x="3737" y="168"/>
                  </a:lnTo>
                  <a:lnTo>
                    <a:pt x="3737" y="135"/>
                  </a:lnTo>
                  <a:lnTo>
                    <a:pt x="3704" y="101"/>
                  </a:lnTo>
                  <a:lnTo>
                    <a:pt x="3569" y="34"/>
                  </a:lnTo>
                  <a:lnTo>
                    <a:pt x="34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hape 783"/>
            <p:cNvSpPr/>
            <p:nvPr/>
          </p:nvSpPr>
          <p:spPr>
            <a:xfrm>
              <a:off x="8871120" y="3989520"/>
              <a:ext cx="203040" cy="107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65" h="1617">
                  <a:moveTo>
                    <a:pt x="2896" y="1"/>
                  </a:moveTo>
                  <a:lnTo>
                    <a:pt x="1482" y="371"/>
                  </a:lnTo>
                  <a:lnTo>
                    <a:pt x="68" y="809"/>
                  </a:lnTo>
                  <a:lnTo>
                    <a:pt x="1" y="842"/>
                  </a:lnTo>
                  <a:lnTo>
                    <a:pt x="1" y="910"/>
                  </a:lnTo>
                  <a:lnTo>
                    <a:pt x="35" y="977"/>
                  </a:lnTo>
                  <a:lnTo>
                    <a:pt x="102" y="977"/>
                  </a:lnTo>
                  <a:lnTo>
                    <a:pt x="775" y="842"/>
                  </a:lnTo>
                  <a:lnTo>
                    <a:pt x="1449" y="674"/>
                  </a:lnTo>
                  <a:lnTo>
                    <a:pt x="2762" y="304"/>
                  </a:lnTo>
                  <a:lnTo>
                    <a:pt x="2762" y="405"/>
                  </a:lnTo>
                  <a:lnTo>
                    <a:pt x="2762" y="506"/>
                  </a:lnTo>
                  <a:lnTo>
                    <a:pt x="2728" y="607"/>
                  </a:lnTo>
                  <a:lnTo>
                    <a:pt x="2694" y="708"/>
                  </a:lnTo>
                  <a:lnTo>
                    <a:pt x="2526" y="842"/>
                  </a:lnTo>
                  <a:lnTo>
                    <a:pt x="2290" y="977"/>
                  </a:lnTo>
                  <a:lnTo>
                    <a:pt x="2021" y="1078"/>
                  </a:lnTo>
                  <a:lnTo>
                    <a:pt x="1785" y="1145"/>
                  </a:lnTo>
                  <a:lnTo>
                    <a:pt x="1348" y="1246"/>
                  </a:lnTo>
                  <a:lnTo>
                    <a:pt x="573" y="1381"/>
                  </a:lnTo>
                  <a:lnTo>
                    <a:pt x="439" y="1347"/>
                  </a:lnTo>
                  <a:lnTo>
                    <a:pt x="338" y="1280"/>
                  </a:lnTo>
                  <a:lnTo>
                    <a:pt x="237" y="1213"/>
                  </a:lnTo>
                  <a:lnTo>
                    <a:pt x="136" y="1145"/>
                  </a:lnTo>
                  <a:lnTo>
                    <a:pt x="102" y="1179"/>
                  </a:lnTo>
                  <a:lnTo>
                    <a:pt x="136" y="1280"/>
                  </a:lnTo>
                  <a:lnTo>
                    <a:pt x="169" y="1381"/>
                  </a:lnTo>
                  <a:lnTo>
                    <a:pt x="304" y="1583"/>
                  </a:lnTo>
                  <a:lnTo>
                    <a:pt x="371" y="1617"/>
                  </a:lnTo>
                  <a:lnTo>
                    <a:pt x="439" y="1617"/>
                  </a:lnTo>
                  <a:lnTo>
                    <a:pt x="1550" y="1448"/>
                  </a:lnTo>
                  <a:lnTo>
                    <a:pt x="2088" y="1314"/>
                  </a:lnTo>
                  <a:lnTo>
                    <a:pt x="2358" y="1213"/>
                  </a:lnTo>
                  <a:lnTo>
                    <a:pt x="2627" y="1112"/>
                  </a:lnTo>
                  <a:lnTo>
                    <a:pt x="2728" y="1044"/>
                  </a:lnTo>
                  <a:lnTo>
                    <a:pt x="2795" y="943"/>
                  </a:lnTo>
                  <a:lnTo>
                    <a:pt x="2930" y="741"/>
                  </a:lnTo>
                  <a:lnTo>
                    <a:pt x="2997" y="472"/>
                  </a:lnTo>
                  <a:lnTo>
                    <a:pt x="2997" y="337"/>
                  </a:lnTo>
                  <a:lnTo>
                    <a:pt x="2964" y="236"/>
                  </a:lnTo>
                  <a:lnTo>
                    <a:pt x="3031" y="203"/>
                  </a:lnTo>
                  <a:lnTo>
                    <a:pt x="3065" y="169"/>
                  </a:lnTo>
                  <a:lnTo>
                    <a:pt x="3065" y="68"/>
                  </a:lnTo>
                  <a:lnTo>
                    <a:pt x="299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hape 784"/>
            <p:cNvSpPr/>
            <p:nvPr/>
          </p:nvSpPr>
          <p:spPr>
            <a:xfrm>
              <a:off x="6089760" y="0"/>
              <a:ext cx="71280" cy="387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079" h="5826">
                  <a:moveTo>
                    <a:pt x="842" y="1"/>
                  </a:moveTo>
                  <a:lnTo>
                    <a:pt x="405" y="2896"/>
                  </a:lnTo>
                  <a:lnTo>
                    <a:pt x="135" y="4479"/>
                  </a:lnTo>
                  <a:lnTo>
                    <a:pt x="34" y="5152"/>
                  </a:lnTo>
                  <a:lnTo>
                    <a:pt x="1" y="5489"/>
                  </a:lnTo>
                  <a:lnTo>
                    <a:pt x="34" y="5792"/>
                  </a:lnTo>
                  <a:lnTo>
                    <a:pt x="68" y="5825"/>
                  </a:lnTo>
                  <a:lnTo>
                    <a:pt x="203" y="5522"/>
                  </a:lnTo>
                  <a:lnTo>
                    <a:pt x="270" y="5186"/>
                  </a:lnTo>
                  <a:lnTo>
                    <a:pt x="371" y="4546"/>
                  </a:lnTo>
                  <a:lnTo>
                    <a:pt x="640" y="2964"/>
                  </a:lnTo>
                  <a:lnTo>
                    <a:pt x="107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hape 785"/>
            <p:cNvSpPr/>
            <p:nvPr/>
          </p:nvSpPr>
          <p:spPr>
            <a:xfrm>
              <a:off x="0" y="0"/>
              <a:ext cx="2732040" cy="1031760"/>
            </a:xfrm>
            <a:custGeom>
              <a:avLst/>
              <a:gdLst>
                <a:gd name="textAreaLeft" fmla="*/ 0 w 2732040"/>
                <a:gd name="textAreaRight" fmla="*/ 2732400 w 27320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1144" h="15522">
                  <a:moveTo>
                    <a:pt x="-24932" y="1"/>
                  </a:moveTo>
                  <a:lnTo>
                    <a:pt x="-24831" y="2425"/>
                  </a:lnTo>
                  <a:lnTo>
                    <a:pt x="-24763" y="4849"/>
                  </a:lnTo>
                  <a:lnTo>
                    <a:pt x="-24730" y="7374"/>
                  </a:lnTo>
                  <a:lnTo>
                    <a:pt x="-24730" y="9899"/>
                  </a:lnTo>
                  <a:lnTo>
                    <a:pt x="-24763" y="11078"/>
                  </a:lnTo>
                  <a:lnTo>
                    <a:pt x="-24831" y="12256"/>
                  </a:lnTo>
                  <a:lnTo>
                    <a:pt x="-24831" y="12626"/>
                  </a:lnTo>
                  <a:lnTo>
                    <a:pt x="-24898" y="12997"/>
                  </a:lnTo>
                  <a:lnTo>
                    <a:pt x="-24932" y="13199"/>
                  </a:lnTo>
                  <a:lnTo>
                    <a:pt x="-25033" y="13367"/>
                  </a:lnTo>
                  <a:lnTo>
                    <a:pt x="-25167" y="13468"/>
                  </a:lnTo>
                  <a:lnTo>
                    <a:pt x="-25336" y="13535"/>
                  </a:lnTo>
                  <a:lnTo>
                    <a:pt x="-25538" y="13569"/>
                  </a:lnTo>
                  <a:lnTo>
                    <a:pt x="-25706" y="13603"/>
                  </a:lnTo>
                  <a:lnTo>
                    <a:pt x="29629" y="13939"/>
                  </a:lnTo>
                  <a:lnTo>
                    <a:pt x="19461" y="14276"/>
                  </a:lnTo>
                  <a:lnTo>
                    <a:pt x="14276" y="14478"/>
                  </a:lnTo>
                  <a:lnTo>
                    <a:pt x="9091" y="14714"/>
                  </a:lnTo>
                  <a:lnTo>
                    <a:pt x="6499" y="14882"/>
                  </a:lnTo>
                  <a:lnTo>
                    <a:pt x="3940" y="15050"/>
                  </a:lnTo>
                  <a:lnTo>
                    <a:pt x="1179" y="15252"/>
                  </a:lnTo>
                  <a:lnTo>
                    <a:pt x="607" y="15286"/>
                  </a:lnTo>
                  <a:lnTo>
                    <a:pt x="304" y="15320"/>
                  </a:lnTo>
                  <a:lnTo>
                    <a:pt x="1" y="15286"/>
                  </a:lnTo>
                  <a:lnTo>
                    <a:pt x="1" y="15522"/>
                  </a:lnTo>
                  <a:lnTo>
                    <a:pt x="910" y="15522"/>
                  </a:lnTo>
                  <a:lnTo>
                    <a:pt x="3671" y="15320"/>
                  </a:lnTo>
                  <a:lnTo>
                    <a:pt x="6398" y="15118"/>
                  </a:lnTo>
                  <a:lnTo>
                    <a:pt x="9226" y="14949"/>
                  </a:lnTo>
                  <a:lnTo>
                    <a:pt x="12020" y="14815"/>
                  </a:lnTo>
                  <a:lnTo>
                    <a:pt x="17676" y="14579"/>
                  </a:lnTo>
                  <a:lnTo>
                    <a:pt x="23164" y="14377"/>
                  </a:lnTo>
                  <a:lnTo>
                    <a:pt x="28619" y="14209"/>
                  </a:lnTo>
                  <a:lnTo>
                    <a:pt x="-25942" y="13872"/>
                  </a:lnTo>
                  <a:lnTo>
                    <a:pt x="-25874" y="13939"/>
                  </a:lnTo>
                  <a:lnTo>
                    <a:pt x="-25807" y="13973"/>
                  </a:lnTo>
                  <a:lnTo>
                    <a:pt x="-25773" y="13939"/>
                  </a:lnTo>
                  <a:lnTo>
                    <a:pt x="-25639" y="13906"/>
                  </a:lnTo>
                  <a:lnTo>
                    <a:pt x="-25470" y="13872"/>
                  </a:lnTo>
                  <a:lnTo>
                    <a:pt x="-25369" y="13872"/>
                  </a:lnTo>
                  <a:lnTo>
                    <a:pt x="-25302" y="13838"/>
                  </a:lnTo>
                  <a:lnTo>
                    <a:pt x="-25134" y="13805"/>
                  </a:lnTo>
                  <a:lnTo>
                    <a:pt x="-24965" y="13737"/>
                  </a:lnTo>
                  <a:lnTo>
                    <a:pt x="-24831" y="13636"/>
                  </a:lnTo>
                  <a:lnTo>
                    <a:pt x="-24730" y="13468"/>
                  </a:lnTo>
                  <a:lnTo>
                    <a:pt x="-24629" y="13232"/>
                  </a:lnTo>
                  <a:lnTo>
                    <a:pt x="-24561" y="12997"/>
                  </a:lnTo>
                  <a:lnTo>
                    <a:pt x="-24494" y="12458"/>
                  </a:lnTo>
                  <a:lnTo>
                    <a:pt x="-24460" y="11414"/>
                  </a:lnTo>
                  <a:lnTo>
                    <a:pt x="-24427" y="10000"/>
                  </a:lnTo>
                  <a:lnTo>
                    <a:pt x="-24393" y="8586"/>
                  </a:lnTo>
                  <a:lnTo>
                    <a:pt x="-24427" y="5758"/>
                  </a:lnTo>
                  <a:lnTo>
                    <a:pt x="-24494" y="3065"/>
                  </a:lnTo>
                  <a:lnTo>
                    <a:pt x="-24629" y="337"/>
                  </a:lnTo>
                  <a:lnTo>
                    <a:pt x="-2462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hape 786"/>
            <p:cNvSpPr/>
            <p:nvPr/>
          </p:nvSpPr>
          <p:spPr>
            <a:xfrm>
              <a:off x="7278840" y="5423040"/>
              <a:ext cx="1881000" cy="1158840"/>
            </a:xfrm>
            <a:custGeom>
              <a:avLst/>
              <a:gdLst>
                <a:gd name="textAreaLeft" fmla="*/ 0 w 1881000"/>
                <a:gd name="textAreaRight" fmla="*/ 1881360 w 1881000"/>
                <a:gd name="textAreaTop" fmla="*/ 0 h 1158840"/>
                <a:gd name="textAreaBottom" fmla="*/ 1158840 h 1158840"/>
              </a:gdLst>
              <a:ahLst/>
              <a:rect l="textAreaLeft" t="textAreaTop" r="textAreaRight" b="textAreaBottom"/>
              <a:pathLst>
                <a:path w="28315" h="17441">
                  <a:moveTo>
                    <a:pt x="2929" y="1011"/>
                  </a:moveTo>
                  <a:lnTo>
                    <a:pt x="2997" y="1112"/>
                  </a:lnTo>
                  <a:lnTo>
                    <a:pt x="3064" y="1145"/>
                  </a:lnTo>
                  <a:lnTo>
                    <a:pt x="3098" y="1179"/>
                  </a:lnTo>
                  <a:lnTo>
                    <a:pt x="3199" y="1145"/>
                  </a:lnTo>
                  <a:lnTo>
                    <a:pt x="3199" y="1213"/>
                  </a:lnTo>
                  <a:lnTo>
                    <a:pt x="3232" y="1280"/>
                  </a:lnTo>
                  <a:lnTo>
                    <a:pt x="3098" y="1213"/>
                  </a:lnTo>
                  <a:lnTo>
                    <a:pt x="2997" y="1145"/>
                  </a:lnTo>
                  <a:lnTo>
                    <a:pt x="2929" y="1011"/>
                  </a:lnTo>
                  <a:close/>
                  <a:moveTo>
                    <a:pt x="2088" y="236"/>
                  </a:moveTo>
                  <a:lnTo>
                    <a:pt x="2492" y="304"/>
                  </a:lnTo>
                  <a:lnTo>
                    <a:pt x="2492" y="371"/>
                  </a:lnTo>
                  <a:lnTo>
                    <a:pt x="2458" y="472"/>
                  </a:lnTo>
                  <a:lnTo>
                    <a:pt x="2458" y="573"/>
                  </a:lnTo>
                  <a:lnTo>
                    <a:pt x="2492" y="842"/>
                  </a:lnTo>
                  <a:lnTo>
                    <a:pt x="2593" y="1044"/>
                  </a:lnTo>
                  <a:lnTo>
                    <a:pt x="2727" y="1246"/>
                  </a:lnTo>
                  <a:lnTo>
                    <a:pt x="2896" y="1415"/>
                  </a:lnTo>
                  <a:lnTo>
                    <a:pt x="2997" y="1482"/>
                  </a:lnTo>
                  <a:lnTo>
                    <a:pt x="3098" y="1550"/>
                  </a:lnTo>
                  <a:lnTo>
                    <a:pt x="3199" y="1550"/>
                  </a:lnTo>
                  <a:lnTo>
                    <a:pt x="3333" y="1583"/>
                  </a:lnTo>
                  <a:lnTo>
                    <a:pt x="3434" y="1550"/>
                  </a:lnTo>
                  <a:lnTo>
                    <a:pt x="3468" y="1516"/>
                  </a:lnTo>
                  <a:lnTo>
                    <a:pt x="3502" y="1482"/>
                  </a:lnTo>
                  <a:lnTo>
                    <a:pt x="3468" y="1886"/>
                  </a:lnTo>
                  <a:lnTo>
                    <a:pt x="3367" y="2257"/>
                  </a:lnTo>
                  <a:lnTo>
                    <a:pt x="3030" y="2156"/>
                  </a:lnTo>
                  <a:lnTo>
                    <a:pt x="2727" y="2055"/>
                  </a:lnTo>
                  <a:lnTo>
                    <a:pt x="2458" y="1853"/>
                  </a:lnTo>
                  <a:lnTo>
                    <a:pt x="2189" y="1617"/>
                  </a:lnTo>
                  <a:lnTo>
                    <a:pt x="2088" y="1482"/>
                  </a:lnTo>
                  <a:lnTo>
                    <a:pt x="1987" y="1314"/>
                  </a:lnTo>
                  <a:lnTo>
                    <a:pt x="1852" y="977"/>
                  </a:lnTo>
                  <a:lnTo>
                    <a:pt x="1751" y="640"/>
                  </a:lnTo>
                  <a:lnTo>
                    <a:pt x="1684" y="270"/>
                  </a:lnTo>
                  <a:lnTo>
                    <a:pt x="2088" y="236"/>
                  </a:lnTo>
                  <a:close/>
                  <a:moveTo>
                    <a:pt x="1583" y="304"/>
                  </a:moveTo>
                  <a:lnTo>
                    <a:pt x="1583" y="674"/>
                  </a:lnTo>
                  <a:lnTo>
                    <a:pt x="1650" y="1078"/>
                  </a:lnTo>
                  <a:lnTo>
                    <a:pt x="1818" y="1449"/>
                  </a:lnTo>
                  <a:lnTo>
                    <a:pt x="2020" y="1785"/>
                  </a:lnTo>
                  <a:lnTo>
                    <a:pt x="2290" y="2055"/>
                  </a:lnTo>
                  <a:lnTo>
                    <a:pt x="2626" y="2324"/>
                  </a:lnTo>
                  <a:lnTo>
                    <a:pt x="2761" y="2391"/>
                  </a:lnTo>
                  <a:lnTo>
                    <a:pt x="2929" y="2425"/>
                  </a:lnTo>
                  <a:lnTo>
                    <a:pt x="3232" y="2459"/>
                  </a:lnTo>
                  <a:lnTo>
                    <a:pt x="3064" y="2728"/>
                  </a:lnTo>
                  <a:lnTo>
                    <a:pt x="2896" y="2896"/>
                  </a:lnTo>
                  <a:lnTo>
                    <a:pt x="2727" y="2997"/>
                  </a:lnTo>
                  <a:lnTo>
                    <a:pt x="2525" y="3065"/>
                  </a:lnTo>
                  <a:lnTo>
                    <a:pt x="2290" y="3132"/>
                  </a:lnTo>
                  <a:lnTo>
                    <a:pt x="1987" y="3166"/>
                  </a:lnTo>
                  <a:lnTo>
                    <a:pt x="1785" y="3166"/>
                  </a:lnTo>
                  <a:lnTo>
                    <a:pt x="1684" y="3132"/>
                  </a:lnTo>
                  <a:lnTo>
                    <a:pt x="1650" y="3098"/>
                  </a:lnTo>
                  <a:lnTo>
                    <a:pt x="1616" y="3098"/>
                  </a:lnTo>
                  <a:lnTo>
                    <a:pt x="1616" y="3132"/>
                  </a:lnTo>
                  <a:lnTo>
                    <a:pt x="1616" y="3199"/>
                  </a:lnTo>
                  <a:lnTo>
                    <a:pt x="1650" y="3267"/>
                  </a:lnTo>
                  <a:lnTo>
                    <a:pt x="1751" y="3334"/>
                  </a:lnTo>
                  <a:lnTo>
                    <a:pt x="2189" y="3334"/>
                  </a:lnTo>
                  <a:lnTo>
                    <a:pt x="2525" y="3267"/>
                  </a:lnTo>
                  <a:lnTo>
                    <a:pt x="2525" y="3300"/>
                  </a:lnTo>
                  <a:lnTo>
                    <a:pt x="2694" y="3502"/>
                  </a:lnTo>
                  <a:lnTo>
                    <a:pt x="2896" y="3738"/>
                  </a:lnTo>
                  <a:lnTo>
                    <a:pt x="3367" y="4108"/>
                  </a:lnTo>
                  <a:lnTo>
                    <a:pt x="3771" y="4479"/>
                  </a:lnTo>
                  <a:lnTo>
                    <a:pt x="3973" y="4681"/>
                  </a:lnTo>
                  <a:lnTo>
                    <a:pt x="4141" y="4950"/>
                  </a:lnTo>
                  <a:lnTo>
                    <a:pt x="4276" y="5152"/>
                  </a:lnTo>
                  <a:lnTo>
                    <a:pt x="4444" y="5354"/>
                  </a:lnTo>
                  <a:lnTo>
                    <a:pt x="4781" y="5758"/>
                  </a:lnTo>
                  <a:lnTo>
                    <a:pt x="5185" y="6128"/>
                  </a:lnTo>
                  <a:lnTo>
                    <a:pt x="5589" y="6499"/>
                  </a:lnTo>
                  <a:lnTo>
                    <a:pt x="5421" y="6701"/>
                  </a:lnTo>
                  <a:lnTo>
                    <a:pt x="5252" y="6936"/>
                  </a:lnTo>
                  <a:lnTo>
                    <a:pt x="5118" y="7138"/>
                  </a:lnTo>
                  <a:lnTo>
                    <a:pt x="3300" y="5388"/>
                  </a:lnTo>
                  <a:lnTo>
                    <a:pt x="2424" y="4546"/>
                  </a:lnTo>
                  <a:lnTo>
                    <a:pt x="1953" y="4142"/>
                  </a:lnTo>
                  <a:lnTo>
                    <a:pt x="1482" y="3805"/>
                  </a:lnTo>
                  <a:lnTo>
                    <a:pt x="909" y="3469"/>
                  </a:lnTo>
                  <a:lnTo>
                    <a:pt x="674" y="3267"/>
                  </a:lnTo>
                  <a:lnTo>
                    <a:pt x="573" y="3132"/>
                  </a:lnTo>
                  <a:lnTo>
                    <a:pt x="472" y="2997"/>
                  </a:lnTo>
                  <a:lnTo>
                    <a:pt x="371" y="2829"/>
                  </a:lnTo>
                  <a:lnTo>
                    <a:pt x="337" y="2661"/>
                  </a:lnTo>
                  <a:lnTo>
                    <a:pt x="270" y="2290"/>
                  </a:lnTo>
                  <a:lnTo>
                    <a:pt x="270" y="1954"/>
                  </a:lnTo>
                  <a:lnTo>
                    <a:pt x="303" y="1583"/>
                  </a:lnTo>
                  <a:lnTo>
                    <a:pt x="371" y="1314"/>
                  </a:lnTo>
                  <a:lnTo>
                    <a:pt x="472" y="1078"/>
                  </a:lnTo>
                  <a:lnTo>
                    <a:pt x="606" y="876"/>
                  </a:lnTo>
                  <a:lnTo>
                    <a:pt x="775" y="708"/>
                  </a:lnTo>
                  <a:lnTo>
                    <a:pt x="943" y="573"/>
                  </a:lnTo>
                  <a:lnTo>
                    <a:pt x="1145" y="438"/>
                  </a:lnTo>
                  <a:lnTo>
                    <a:pt x="1347" y="337"/>
                  </a:lnTo>
                  <a:lnTo>
                    <a:pt x="1583" y="304"/>
                  </a:lnTo>
                  <a:close/>
                  <a:moveTo>
                    <a:pt x="21548" y="6701"/>
                  </a:moveTo>
                  <a:lnTo>
                    <a:pt x="21682" y="6903"/>
                  </a:lnTo>
                  <a:lnTo>
                    <a:pt x="21548" y="7037"/>
                  </a:lnTo>
                  <a:lnTo>
                    <a:pt x="21447" y="7206"/>
                  </a:lnTo>
                  <a:lnTo>
                    <a:pt x="21346" y="7071"/>
                  </a:lnTo>
                  <a:lnTo>
                    <a:pt x="21278" y="7004"/>
                  </a:lnTo>
                  <a:lnTo>
                    <a:pt x="21413" y="6869"/>
                  </a:lnTo>
                  <a:lnTo>
                    <a:pt x="21480" y="6802"/>
                  </a:lnTo>
                  <a:lnTo>
                    <a:pt x="21514" y="6734"/>
                  </a:lnTo>
                  <a:lnTo>
                    <a:pt x="21548" y="6701"/>
                  </a:lnTo>
                  <a:close/>
                  <a:moveTo>
                    <a:pt x="22086" y="7004"/>
                  </a:moveTo>
                  <a:lnTo>
                    <a:pt x="22288" y="7037"/>
                  </a:lnTo>
                  <a:lnTo>
                    <a:pt x="22490" y="7105"/>
                  </a:lnTo>
                  <a:lnTo>
                    <a:pt x="22692" y="7206"/>
                  </a:lnTo>
                  <a:lnTo>
                    <a:pt x="22894" y="7307"/>
                  </a:lnTo>
                  <a:lnTo>
                    <a:pt x="23063" y="7475"/>
                  </a:lnTo>
                  <a:lnTo>
                    <a:pt x="23770" y="8115"/>
                  </a:lnTo>
                  <a:lnTo>
                    <a:pt x="24477" y="8754"/>
                  </a:lnTo>
                  <a:lnTo>
                    <a:pt x="25117" y="9428"/>
                  </a:lnTo>
                  <a:lnTo>
                    <a:pt x="25723" y="10101"/>
                  </a:lnTo>
                  <a:lnTo>
                    <a:pt x="26295" y="10842"/>
                  </a:lnTo>
                  <a:lnTo>
                    <a:pt x="26800" y="11549"/>
                  </a:lnTo>
                  <a:lnTo>
                    <a:pt x="26733" y="11583"/>
                  </a:lnTo>
                  <a:lnTo>
                    <a:pt x="26699" y="11616"/>
                  </a:lnTo>
                  <a:lnTo>
                    <a:pt x="26665" y="11684"/>
                  </a:lnTo>
                  <a:lnTo>
                    <a:pt x="26665" y="11751"/>
                  </a:lnTo>
                  <a:lnTo>
                    <a:pt x="26699" y="11785"/>
                  </a:lnTo>
                  <a:lnTo>
                    <a:pt x="26733" y="11852"/>
                  </a:lnTo>
                  <a:lnTo>
                    <a:pt x="26800" y="11987"/>
                  </a:lnTo>
                  <a:lnTo>
                    <a:pt x="26564" y="12290"/>
                  </a:lnTo>
                  <a:lnTo>
                    <a:pt x="26531" y="12357"/>
                  </a:lnTo>
                  <a:lnTo>
                    <a:pt x="26463" y="12391"/>
                  </a:lnTo>
                  <a:lnTo>
                    <a:pt x="26329" y="12391"/>
                  </a:lnTo>
                  <a:lnTo>
                    <a:pt x="26160" y="12357"/>
                  </a:lnTo>
                  <a:lnTo>
                    <a:pt x="25992" y="12256"/>
                  </a:lnTo>
                  <a:lnTo>
                    <a:pt x="25655" y="12020"/>
                  </a:lnTo>
                  <a:lnTo>
                    <a:pt x="25453" y="11852"/>
                  </a:lnTo>
                  <a:lnTo>
                    <a:pt x="25083" y="11549"/>
                  </a:lnTo>
                  <a:lnTo>
                    <a:pt x="24746" y="11246"/>
                  </a:lnTo>
                  <a:lnTo>
                    <a:pt x="24107" y="10573"/>
                  </a:lnTo>
                  <a:lnTo>
                    <a:pt x="23433" y="9832"/>
                  </a:lnTo>
                  <a:lnTo>
                    <a:pt x="22793" y="9057"/>
                  </a:lnTo>
                  <a:lnTo>
                    <a:pt x="22120" y="8317"/>
                  </a:lnTo>
                  <a:lnTo>
                    <a:pt x="21783" y="7946"/>
                  </a:lnTo>
                  <a:lnTo>
                    <a:pt x="21413" y="7610"/>
                  </a:lnTo>
                  <a:lnTo>
                    <a:pt x="21548" y="7408"/>
                  </a:lnTo>
                  <a:lnTo>
                    <a:pt x="21716" y="7206"/>
                  </a:lnTo>
                  <a:lnTo>
                    <a:pt x="21884" y="7071"/>
                  </a:lnTo>
                  <a:lnTo>
                    <a:pt x="22086" y="7004"/>
                  </a:lnTo>
                  <a:close/>
                  <a:moveTo>
                    <a:pt x="26935" y="12088"/>
                  </a:moveTo>
                  <a:lnTo>
                    <a:pt x="27271" y="12222"/>
                  </a:lnTo>
                  <a:lnTo>
                    <a:pt x="27406" y="12323"/>
                  </a:lnTo>
                  <a:lnTo>
                    <a:pt x="27507" y="12424"/>
                  </a:lnTo>
                  <a:lnTo>
                    <a:pt x="27339" y="12694"/>
                  </a:lnTo>
                  <a:lnTo>
                    <a:pt x="27137" y="12896"/>
                  </a:lnTo>
                  <a:lnTo>
                    <a:pt x="26800" y="12424"/>
                  </a:lnTo>
                  <a:lnTo>
                    <a:pt x="26867" y="12256"/>
                  </a:lnTo>
                  <a:lnTo>
                    <a:pt x="26935" y="12088"/>
                  </a:lnTo>
                  <a:close/>
                  <a:moveTo>
                    <a:pt x="1650" y="1"/>
                  </a:moveTo>
                  <a:lnTo>
                    <a:pt x="1414" y="68"/>
                  </a:lnTo>
                  <a:lnTo>
                    <a:pt x="1179" y="135"/>
                  </a:lnTo>
                  <a:lnTo>
                    <a:pt x="977" y="236"/>
                  </a:lnTo>
                  <a:lnTo>
                    <a:pt x="775" y="371"/>
                  </a:lnTo>
                  <a:lnTo>
                    <a:pt x="539" y="607"/>
                  </a:lnTo>
                  <a:lnTo>
                    <a:pt x="371" y="842"/>
                  </a:lnTo>
                  <a:lnTo>
                    <a:pt x="236" y="1078"/>
                  </a:lnTo>
                  <a:lnTo>
                    <a:pt x="101" y="1347"/>
                  </a:lnTo>
                  <a:lnTo>
                    <a:pt x="34" y="1651"/>
                  </a:lnTo>
                  <a:lnTo>
                    <a:pt x="0" y="1920"/>
                  </a:lnTo>
                  <a:lnTo>
                    <a:pt x="0" y="2223"/>
                  </a:lnTo>
                  <a:lnTo>
                    <a:pt x="34" y="2526"/>
                  </a:lnTo>
                  <a:lnTo>
                    <a:pt x="101" y="2728"/>
                  </a:lnTo>
                  <a:lnTo>
                    <a:pt x="135" y="2930"/>
                  </a:lnTo>
                  <a:lnTo>
                    <a:pt x="236" y="3098"/>
                  </a:lnTo>
                  <a:lnTo>
                    <a:pt x="337" y="3233"/>
                  </a:lnTo>
                  <a:lnTo>
                    <a:pt x="573" y="3502"/>
                  </a:lnTo>
                  <a:lnTo>
                    <a:pt x="842" y="3738"/>
                  </a:lnTo>
                  <a:lnTo>
                    <a:pt x="1482" y="4142"/>
                  </a:lnTo>
                  <a:lnTo>
                    <a:pt x="1785" y="4378"/>
                  </a:lnTo>
                  <a:lnTo>
                    <a:pt x="2088" y="4613"/>
                  </a:lnTo>
                  <a:lnTo>
                    <a:pt x="3535" y="5994"/>
                  </a:lnTo>
                  <a:lnTo>
                    <a:pt x="4949" y="7374"/>
                  </a:lnTo>
                  <a:lnTo>
                    <a:pt x="5017" y="7408"/>
                  </a:lnTo>
                  <a:lnTo>
                    <a:pt x="5084" y="7408"/>
                  </a:lnTo>
                  <a:lnTo>
                    <a:pt x="5151" y="7340"/>
                  </a:lnTo>
                  <a:lnTo>
                    <a:pt x="5185" y="7307"/>
                  </a:lnTo>
                  <a:lnTo>
                    <a:pt x="5320" y="7172"/>
                  </a:lnTo>
                  <a:lnTo>
                    <a:pt x="5421" y="7037"/>
                  </a:lnTo>
                  <a:lnTo>
                    <a:pt x="5488" y="7037"/>
                  </a:lnTo>
                  <a:lnTo>
                    <a:pt x="5757" y="7374"/>
                  </a:lnTo>
                  <a:lnTo>
                    <a:pt x="5993" y="7643"/>
                  </a:lnTo>
                  <a:lnTo>
                    <a:pt x="6363" y="8014"/>
                  </a:lnTo>
                  <a:lnTo>
                    <a:pt x="6801" y="8384"/>
                  </a:lnTo>
                  <a:lnTo>
                    <a:pt x="7205" y="8687"/>
                  </a:lnTo>
                  <a:lnTo>
                    <a:pt x="7643" y="8956"/>
                  </a:lnTo>
                  <a:lnTo>
                    <a:pt x="8114" y="9192"/>
                  </a:lnTo>
                  <a:lnTo>
                    <a:pt x="8619" y="9360"/>
                  </a:lnTo>
                  <a:lnTo>
                    <a:pt x="8922" y="9428"/>
                  </a:lnTo>
                  <a:lnTo>
                    <a:pt x="9259" y="9461"/>
                  </a:lnTo>
                  <a:lnTo>
                    <a:pt x="9899" y="9529"/>
                  </a:lnTo>
                  <a:lnTo>
                    <a:pt x="10202" y="9563"/>
                  </a:lnTo>
                  <a:lnTo>
                    <a:pt x="10505" y="9664"/>
                  </a:lnTo>
                  <a:lnTo>
                    <a:pt x="10774" y="9832"/>
                  </a:lnTo>
                  <a:lnTo>
                    <a:pt x="11043" y="10034"/>
                  </a:lnTo>
                  <a:lnTo>
                    <a:pt x="11245" y="10303"/>
                  </a:lnTo>
                  <a:lnTo>
                    <a:pt x="11414" y="10606"/>
                  </a:lnTo>
                  <a:lnTo>
                    <a:pt x="11515" y="10977"/>
                  </a:lnTo>
                  <a:lnTo>
                    <a:pt x="11616" y="11347"/>
                  </a:lnTo>
                  <a:lnTo>
                    <a:pt x="11717" y="12088"/>
                  </a:lnTo>
                  <a:lnTo>
                    <a:pt x="11784" y="12761"/>
                  </a:lnTo>
                  <a:lnTo>
                    <a:pt x="11885" y="13805"/>
                  </a:lnTo>
                  <a:lnTo>
                    <a:pt x="11919" y="14310"/>
                  </a:lnTo>
                  <a:lnTo>
                    <a:pt x="11986" y="14781"/>
                  </a:lnTo>
                  <a:lnTo>
                    <a:pt x="12121" y="15252"/>
                  </a:lnTo>
                  <a:lnTo>
                    <a:pt x="12188" y="15488"/>
                  </a:lnTo>
                  <a:lnTo>
                    <a:pt x="12289" y="15690"/>
                  </a:lnTo>
                  <a:lnTo>
                    <a:pt x="12424" y="15892"/>
                  </a:lnTo>
                  <a:lnTo>
                    <a:pt x="12592" y="16094"/>
                  </a:lnTo>
                  <a:lnTo>
                    <a:pt x="12760" y="16296"/>
                  </a:lnTo>
                  <a:lnTo>
                    <a:pt x="12962" y="16464"/>
                  </a:lnTo>
                  <a:lnTo>
                    <a:pt x="13164" y="16599"/>
                  </a:lnTo>
                  <a:lnTo>
                    <a:pt x="13400" y="16734"/>
                  </a:lnTo>
                  <a:lnTo>
                    <a:pt x="13838" y="16936"/>
                  </a:lnTo>
                  <a:lnTo>
                    <a:pt x="14309" y="17070"/>
                  </a:lnTo>
                  <a:lnTo>
                    <a:pt x="14780" y="17205"/>
                  </a:lnTo>
                  <a:lnTo>
                    <a:pt x="15252" y="17306"/>
                  </a:lnTo>
                  <a:lnTo>
                    <a:pt x="15757" y="17373"/>
                  </a:lnTo>
                  <a:lnTo>
                    <a:pt x="16296" y="17441"/>
                  </a:lnTo>
                  <a:lnTo>
                    <a:pt x="16531" y="17407"/>
                  </a:lnTo>
                  <a:lnTo>
                    <a:pt x="16767" y="17407"/>
                  </a:lnTo>
                  <a:lnTo>
                    <a:pt x="17205" y="17340"/>
                  </a:lnTo>
                  <a:lnTo>
                    <a:pt x="17609" y="17239"/>
                  </a:lnTo>
                  <a:lnTo>
                    <a:pt x="18013" y="17070"/>
                  </a:lnTo>
                  <a:lnTo>
                    <a:pt x="18383" y="16902"/>
                  </a:lnTo>
                  <a:lnTo>
                    <a:pt x="18753" y="16700"/>
                  </a:lnTo>
                  <a:lnTo>
                    <a:pt x="19090" y="16464"/>
                  </a:lnTo>
                  <a:lnTo>
                    <a:pt x="19393" y="16161"/>
                  </a:lnTo>
                  <a:lnTo>
                    <a:pt x="19629" y="15791"/>
                  </a:lnTo>
                  <a:lnTo>
                    <a:pt x="19763" y="15555"/>
                  </a:lnTo>
                  <a:lnTo>
                    <a:pt x="19831" y="15320"/>
                  </a:lnTo>
                  <a:lnTo>
                    <a:pt x="19898" y="15084"/>
                  </a:lnTo>
                  <a:lnTo>
                    <a:pt x="19898" y="14815"/>
                  </a:lnTo>
                  <a:lnTo>
                    <a:pt x="19898" y="14579"/>
                  </a:lnTo>
                  <a:lnTo>
                    <a:pt x="19831" y="14343"/>
                  </a:lnTo>
                  <a:lnTo>
                    <a:pt x="19763" y="14108"/>
                  </a:lnTo>
                  <a:lnTo>
                    <a:pt x="19696" y="13872"/>
                  </a:lnTo>
                  <a:lnTo>
                    <a:pt x="19460" y="13367"/>
                  </a:lnTo>
                  <a:lnTo>
                    <a:pt x="19225" y="12929"/>
                  </a:lnTo>
                  <a:lnTo>
                    <a:pt x="18922" y="12492"/>
                  </a:lnTo>
                  <a:lnTo>
                    <a:pt x="18652" y="12121"/>
                  </a:lnTo>
                  <a:lnTo>
                    <a:pt x="18248" y="11549"/>
                  </a:lnTo>
                  <a:lnTo>
                    <a:pt x="17878" y="10909"/>
                  </a:lnTo>
                  <a:lnTo>
                    <a:pt x="17575" y="10202"/>
                  </a:lnTo>
                  <a:lnTo>
                    <a:pt x="17339" y="9529"/>
                  </a:lnTo>
                  <a:lnTo>
                    <a:pt x="17238" y="9158"/>
                  </a:lnTo>
                  <a:lnTo>
                    <a:pt x="17171" y="8788"/>
                  </a:lnTo>
                  <a:lnTo>
                    <a:pt x="17104" y="8418"/>
                  </a:lnTo>
                  <a:lnTo>
                    <a:pt x="17070" y="8047"/>
                  </a:lnTo>
                  <a:lnTo>
                    <a:pt x="17070" y="7711"/>
                  </a:lnTo>
                  <a:lnTo>
                    <a:pt x="17104" y="7340"/>
                  </a:lnTo>
                  <a:lnTo>
                    <a:pt x="17137" y="6970"/>
                  </a:lnTo>
                  <a:lnTo>
                    <a:pt x="17238" y="6633"/>
                  </a:lnTo>
                  <a:lnTo>
                    <a:pt x="17339" y="6297"/>
                  </a:lnTo>
                  <a:lnTo>
                    <a:pt x="17541" y="5960"/>
                  </a:lnTo>
                  <a:lnTo>
                    <a:pt x="17777" y="5691"/>
                  </a:lnTo>
                  <a:lnTo>
                    <a:pt x="18046" y="5455"/>
                  </a:lnTo>
                  <a:lnTo>
                    <a:pt x="18349" y="5253"/>
                  </a:lnTo>
                  <a:lnTo>
                    <a:pt x="18686" y="5152"/>
                  </a:lnTo>
                  <a:lnTo>
                    <a:pt x="19023" y="5085"/>
                  </a:lnTo>
                  <a:lnTo>
                    <a:pt x="19393" y="5085"/>
                  </a:lnTo>
                  <a:lnTo>
                    <a:pt x="19696" y="5186"/>
                  </a:lnTo>
                  <a:lnTo>
                    <a:pt x="19965" y="5320"/>
                  </a:lnTo>
                  <a:lnTo>
                    <a:pt x="20235" y="5489"/>
                  </a:lnTo>
                  <a:lnTo>
                    <a:pt x="20470" y="5724"/>
                  </a:lnTo>
                  <a:lnTo>
                    <a:pt x="20672" y="5960"/>
                  </a:lnTo>
                  <a:lnTo>
                    <a:pt x="20874" y="6196"/>
                  </a:lnTo>
                  <a:lnTo>
                    <a:pt x="21211" y="6734"/>
                  </a:lnTo>
                  <a:lnTo>
                    <a:pt x="21076" y="6936"/>
                  </a:lnTo>
                  <a:lnTo>
                    <a:pt x="21043" y="6936"/>
                  </a:lnTo>
                  <a:lnTo>
                    <a:pt x="21043" y="7037"/>
                  </a:lnTo>
                  <a:lnTo>
                    <a:pt x="21076" y="7071"/>
                  </a:lnTo>
                  <a:lnTo>
                    <a:pt x="21144" y="7071"/>
                  </a:lnTo>
                  <a:lnTo>
                    <a:pt x="21177" y="7138"/>
                  </a:lnTo>
                  <a:lnTo>
                    <a:pt x="21245" y="7273"/>
                  </a:lnTo>
                  <a:lnTo>
                    <a:pt x="21278" y="7340"/>
                  </a:lnTo>
                  <a:lnTo>
                    <a:pt x="21346" y="7374"/>
                  </a:lnTo>
                  <a:lnTo>
                    <a:pt x="21312" y="7542"/>
                  </a:lnTo>
                  <a:lnTo>
                    <a:pt x="21245" y="7576"/>
                  </a:lnTo>
                  <a:lnTo>
                    <a:pt x="21211" y="7643"/>
                  </a:lnTo>
                  <a:lnTo>
                    <a:pt x="21245" y="7677"/>
                  </a:lnTo>
                  <a:lnTo>
                    <a:pt x="21649" y="8216"/>
                  </a:lnTo>
                  <a:lnTo>
                    <a:pt x="22086" y="8721"/>
                  </a:lnTo>
                  <a:lnTo>
                    <a:pt x="22962" y="9697"/>
                  </a:lnTo>
                  <a:lnTo>
                    <a:pt x="23837" y="10674"/>
                  </a:lnTo>
                  <a:lnTo>
                    <a:pt x="24275" y="11145"/>
                  </a:lnTo>
                  <a:lnTo>
                    <a:pt x="24746" y="11583"/>
                  </a:lnTo>
                  <a:lnTo>
                    <a:pt x="25049" y="11886"/>
                  </a:lnTo>
                  <a:lnTo>
                    <a:pt x="25453" y="12256"/>
                  </a:lnTo>
                  <a:lnTo>
                    <a:pt x="25689" y="12424"/>
                  </a:lnTo>
                  <a:lnTo>
                    <a:pt x="25925" y="12593"/>
                  </a:lnTo>
                  <a:lnTo>
                    <a:pt x="26127" y="12660"/>
                  </a:lnTo>
                  <a:lnTo>
                    <a:pt x="26295" y="12694"/>
                  </a:lnTo>
                  <a:lnTo>
                    <a:pt x="26497" y="12660"/>
                  </a:lnTo>
                  <a:lnTo>
                    <a:pt x="26665" y="12593"/>
                  </a:lnTo>
                  <a:lnTo>
                    <a:pt x="26699" y="12559"/>
                  </a:lnTo>
                  <a:lnTo>
                    <a:pt x="27036" y="13064"/>
                  </a:lnTo>
                  <a:lnTo>
                    <a:pt x="27103" y="13098"/>
                  </a:lnTo>
                  <a:lnTo>
                    <a:pt x="27170" y="13098"/>
                  </a:lnTo>
                  <a:lnTo>
                    <a:pt x="27440" y="12862"/>
                  </a:lnTo>
                  <a:lnTo>
                    <a:pt x="27608" y="13030"/>
                  </a:lnTo>
                  <a:lnTo>
                    <a:pt x="27810" y="13165"/>
                  </a:lnTo>
                  <a:lnTo>
                    <a:pt x="28046" y="13232"/>
                  </a:lnTo>
                  <a:lnTo>
                    <a:pt x="28315" y="13266"/>
                  </a:lnTo>
                  <a:lnTo>
                    <a:pt x="28315" y="12862"/>
                  </a:lnTo>
                  <a:lnTo>
                    <a:pt x="27978" y="12795"/>
                  </a:lnTo>
                  <a:lnTo>
                    <a:pt x="27608" y="12660"/>
                  </a:lnTo>
                  <a:lnTo>
                    <a:pt x="27709" y="12525"/>
                  </a:lnTo>
                  <a:lnTo>
                    <a:pt x="27743" y="12458"/>
                  </a:lnTo>
                  <a:lnTo>
                    <a:pt x="27709" y="12357"/>
                  </a:lnTo>
                  <a:lnTo>
                    <a:pt x="27574" y="12189"/>
                  </a:lnTo>
                  <a:lnTo>
                    <a:pt x="27372" y="12020"/>
                  </a:lnTo>
                  <a:lnTo>
                    <a:pt x="27170" y="11919"/>
                  </a:lnTo>
                  <a:lnTo>
                    <a:pt x="27204" y="11852"/>
                  </a:lnTo>
                  <a:lnTo>
                    <a:pt x="27204" y="11751"/>
                  </a:lnTo>
                  <a:lnTo>
                    <a:pt x="27137" y="11650"/>
                  </a:lnTo>
                  <a:lnTo>
                    <a:pt x="27137" y="11616"/>
                  </a:lnTo>
                  <a:lnTo>
                    <a:pt x="27137" y="11583"/>
                  </a:lnTo>
                  <a:lnTo>
                    <a:pt x="27137" y="11549"/>
                  </a:lnTo>
                  <a:lnTo>
                    <a:pt x="27069" y="11549"/>
                  </a:lnTo>
                  <a:lnTo>
                    <a:pt x="26733" y="10977"/>
                  </a:lnTo>
                  <a:lnTo>
                    <a:pt x="26362" y="10438"/>
                  </a:lnTo>
                  <a:lnTo>
                    <a:pt x="25958" y="9933"/>
                  </a:lnTo>
                  <a:lnTo>
                    <a:pt x="25521" y="9428"/>
                  </a:lnTo>
                  <a:lnTo>
                    <a:pt x="25049" y="8956"/>
                  </a:lnTo>
                  <a:lnTo>
                    <a:pt x="24578" y="8519"/>
                  </a:lnTo>
                  <a:lnTo>
                    <a:pt x="23601" y="7610"/>
                  </a:lnTo>
                  <a:lnTo>
                    <a:pt x="23298" y="7307"/>
                  </a:lnTo>
                  <a:lnTo>
                    <a:pt x="22928" y="6970"/>
                  </a:lnTo>
                  <a:lnTo>
                    <a:pt x="22726" y="6835"/>
                  </a:lnTo>
                  <a:lnTo>
                    <a:pt x="22524" y="6734"/>
                  </a:lnTo>
                  <a:lnTo>
                    <a:pt x="22288" y="6667"/>
                  </a:lnTo>
                  <a:lnTo>
                    <a:pt x="22086" y="6701"/>
                  </a:lnTo>
                  <a:lnTo>
                    <a:pt x="21884" y="6768"/>
                  </a:lnTo>
                  <a:lnTo>
                    <a:pt x="21783" y="6600"/>
                  </a:lnTo>
                  <a:lnTo>
                    <a:pt x="21682" y="6431"/>
                  </a:lnTo>
                  <a:lnTo>
                    <a:pt x="21649" y="6398"/>
                  </a:lnTo>
                  <a:lnTo>
                    <a:pt x="21581" y="6364"/>
                  </a:lnTo>
                  <a:lnTo>
                    <a:pt x="21514" y="6364"/>
                  </a:lnTo>
                  <a:lnTo>
                    <a:pt x="21480" y="6398"/>
                  </a:lnTo>
                  <a:lnTo>
                    <a:pt x="21413" y="6499"/>
                  </a:lnTo>
                  <a:lnTo>
                    <a:pt x="21177" y="6162"/>
                  </a:lnTo>
                  <a:lnTo>
                    <a:pt x="20942" y="5825"/>
                  </a:lnTo>
                  <a:lnTo>
                    <a:pt x="20639" y="5522"/>
                  </a:lnTo>
                  <a:lnTo>
                    <a:pt x="20336" y="5219"/>
                  </a:lnTo>
                  <a:lnTo>
                    <a:pt x="19999" y="4984"/>
                  </a:lnTo>
                  <a:lnTo>
                    <a:pt x="19831" y="4916"/>
                  </a:lnTo>
                  <a:lnTo>
                    <a:pt x="19662" y="4849"/>
                  </a:lnTo>
                  <a:lnTo>
                    <a:pt x="19460" y="4782"/>
                  </a:lnTo>
                  <a:lnTo>
                    <a:pt x="19258" y="4748"/>
                  </a:lnTo>
                  <a:lnTo>
                    <a:pt x="19056" y="4748"/>
                  </a:lnTo>
                  <a:lnTo>
                    <a:pt x="18854" y="4782"/>
                  </a:lnTo>
                  <a:lnTo>
                    <a:pt x="18585" y="4849"/>
                  </a:lnTo>
                  <a:lnTo>
                    <a:pt x="18383" y="4916"/>
                  </a:lnTo>
                  <a:lnTo>
                    <a:pt x="18147" y="5017"/>
                  </a:lnTo>
                  <a:lnTo>
                    <a:pt x="17945" y="5152"/>
                  </a:lnTo>
                  <a:lnTo>
                    <a:pt x="17777" y="5287"/>
                  </a:lnTo>
                  <a:lnTo>
                    <a:pt x="17609" y="5421"/>
                  </a:lnTo>
                  <a:lnTo>
                    <a:pt x="17474" y="5590"/>
                  </a:lnTo>
                  <a:lnTo>
                    <a:pt x="17339" y="5792"/>
                  </a:lnTo>
                  <a:lnTo>
                    <a:pt x="17104" y="6162"/>
                  </a:lnTo>
                  <a:lnTo>
                    <a:pt x="16935" y="6600"/>
                  </a:lnTo>
                  <a:lnTo>
                    <a:pt x="16834" y="7071"/>
                  </a:lnTo>
                  <a:lnTo>
                    <a:pt x="16767" y="7542"/>
                  </a:lnTo>
                  <a:lnTo>
                    <a:pt x="16767" y="8148"/>
                  </a:lnTo>
                  <a:lnTo>
                    <a:pt x="16834" y="8754"/>
                  </a:lnTo>
                  <a:lnTo>
                    <a:pt x="16969" y="9360"/>
                  </a:lnTo>
                  <a:lnTo>
                    <a:pt x="17137" y="9933"/>
                  </a:lnTo>
                  <a:lnTo>
                    <a:pt x="17339" y="10505"/>
                  </a:lnTo>
                  <a:lnTo>
                    <a:pt x="17609" y="11078"/>
                  </a:lnTo>
                  <a:lnTo>
                    <a:pt x="17912" y="11616"/>
                  </a:lnTo>
                  <a:lnTo>
                    <a:pt x="18248" y="12088"/>
                  </a:lnTo>
                  <a:lnTo>
                    <a:pt x="18652" y="12626"/>
                  </a:lnTo>
                  <a:lnTo>
                    <a:pt x="18989" y="13165"/>
                  </a:lnTo>
                  <a:lnTo>
                    <a:pt x="19157" y="13434"/>
                  </a:lnTo>
                  <a:lnTo>
                    <a:pt x="19292" y="13737"/>
                  </a:lnTo>
                  <a:lnTo>
                    <a:pt x="19427" y="14040"/>
                  </a:lnTo>
                  <a:lnTo>
                    <a:pt x="19528" y="14377"/>
                  </a:lnTo>
                  <a:lnTo>
                    <a:pt x="19561" y="14579"/>
                  </a:lnTo>
                  <a:lnTo>
                    <a:pt x="19595" y="14781"/>
                  </a:lnTo>
                  <a:lnTo>
                    <a:pt x="19561" y="14983"/>
                  </a:lnTo>
                  <a:lnTo>
                    <a:pt x="19528" y="15185"/>
                  </a:lnTo>
                  <a:lnTo>
                    <a:pt x="19494" y="15353"/>
                  </a:lnTo>
                  <a:lnTo>
                    <a:pt x="19427" y="15522"/>
                  </a:lnTo>
                  <a:lnTo>
                    <a:pt x="19225" y="15858"/>
                  </a:lnTo>
                  <a:lnTo>
                    <a:pt x="18955" y="16161"/>
                  </a:lnTo>
                  <a:lnTo>
                    <a:pt x="18652" y="16397"/>
                  </a:lnTo>
                  <a:lnTo>
                    <a:pt x="18316" y="16599"/>
                  </a:lnTo>
                  <a:lnTo>
                    <a:pt x="17945" y="16767"/>
                  </a:lnTo>
                  <a:lnTo>
                    <a:pt x="17676" y="16902"/>
                  </a:lnTo>
                  <a:lnTo>
                    <a:pt x="17373" y="16969"/>
                  </a:lnTo>
                  <a:lnTo>
                    <a:pt x="17070" y="17037"/>
                  </a:lnTo>
                  <a:lnTo>
                    <a:pt x="16733" y="17070"/>
                  </a:lnTo>
                  <a:lnTo>
                    <a:pt x="16094" y="17104"/>
                  </a:lnTo>
                  <a:lnTo>
                    <a:pt x="15420" y="17070"/>
                  </a:lnTo>
                  <a:lnTo>
                    <a:pt x="14747" y="16936"/>
                  </a:lnTo>
                  <a:lnTo>
                    <a:pt x="14444" y="16868"/>
                  </a:lnTo>
                  <a:lnTo>
                    <a:pt x="14141" y="16734"/>
                  </a:lnTo>
                  <a:lnTo>
                    <a:pt x="13838" y="16633"/>
                  </a:lnTo>
                  <a:lnTo>
                    <a:pt x="13535" y="16464"/>
                  </a:lnTo>
                  <a:lnTo>
                    <a:pt x="13299" y="16330"/>
                  </a:lnTo>
                  <a:lnTo>
                    <a:pt x="13030" y="16128"/>
                  </a:lnTo>
                  <a:lnTo>
                    <a:pt x="12760" y="15892"/>
                  </a:lnTo>
                  <a:lnTo>
                    <a:pt x="12558" y="15589"/>
                  </a:lnTo>
                  <a:lnTo>
                    <a:pt x="12390" y="15286"/>
                  </a:lnTo>
                  <a:lnTo>
                    <a:pt x="12323" y="14949"/>
                  </a:lnTo>
                  <a:lnTo>
                    <a:pt x="12255" y="14613"/>
                  </a:lnTo>
                  <a:lnTo>
                    <a:pt x="12188" y="14276"/>
                  </a:lnTo>
                  <a:lnTo>
                    <a:pt x="12154" y="13535"/>
                  </a:lnTo>
                  <a:lnTo>
                    <a:pt x="12087" y="12862"/>
                  </a:lnTo>
                  <a:lnTo>
                    <a:pt x="12020" y="12222"/>
                  </a:lnTo>
                  <a:lnTo>
                    <a:pt x="11919" y="11549"/>
                  </a:lnTo>
                  <a:lnTo>
                    <a:pt x="11784" y="10909"/>
                  </a:lnTo>
                  <a:lnTo>
                    <a:pt x="11649" y="10539"/>
                  </a:lnTo>
                  <a:lnTo>
                    <a:pt x="11481" y="10135"/>
                  </a:lnTo>
                  <a:lnTo>
                    <a:pt x="11380" y="9967"/>
                  </a:lnTo>
                  <a:lnTo>
                    <a:pt x="11245" y="9798"/>
                  </a:lnTo>
                  <a:lnTo>
                    <a:pt x="11111" y="9664"/>
                  </a:lnTo>
                  <a:lnTo>
                    <a:pt x="10942" y="9563"/>
                  </a:lnTo>
                  <a:lnTo>
                    <a:pt x="10673" y="9428"/>
                  </a:lnTo>
                  <a:lnTo>
                    <a:pt x="10404" y="9327"/>
                  </a:lnTo>
                  <a:lnTo>
                    <a:pt x="10134" y="9259"/>
                  </a:lnTo>
                  <a:lnTo>
                    <a:pt x="9831" y="9192"/>
                  </a:lnTo>
                  <a:lnTo>
                    <a:pt x="9259" y="9158"/>
                  </a:lnTo>
                  <a:lnTo>
                    <a:pt x="8687" y="9057"/>
                  </a:lnTo>
                  <a:lnTo>
                    <a:pt x="8350" y="8990"/>
                  </a:lnTo>
                  <a:lnTo>
                    <a:pt x="8013" y="8855"/>
                  </a:lnTo>
                  <a:lnTo>
                    <a:pt x="7710" y="8687"/>
                  </a:lnTo>
                  <a:lnTo>
                    <a:pt x="7407" y="8485"/>
                  </a:lnTo>
                  <a:lnTo>
                    <a:pt x="6835" y="8047"/>
                  </a:lnTo>
                  <a:lnTo>
                    <a:pt x="6296" y="7576"/>
                  </a:lnTo>
                  <a:lnTo>
                    <a:pt x="6128" y="7408"/>
                  </a:lnTo>
                  <a:lnTo>
                    <a:pt x="5993" y="7206"/>
                  </a:lnTo>
                  <a:lnTo>
                    <a:pt x="5825" y="7004"/>
                  </a:lnTo>
                  <a:lnTo>
                    <a:pt x="5656" y="6869"/>
                  </a:lnTo>
                  <a:lnTo>
                    <a:pt x="5589" y="6835"/>
                  </a:lnTo>
                  <a:lnTo>
                    <a:pt x="5724" y="6667"/>
                  </a:lnTo>
                  <a:lnTo>
                    <a:pt x="5757" y="6600"/>
                  </a:lnTo>
                  <a:lnTo>
                    <a:pt x="5825" y="6600"/>
                  </a:lnTo>
                  <a:lnTo>
                    <a:pt x="5892" y="6566"/>
                  </a:lnTo>
                  <a:lnTo>
                    <a:pt x="5892" y="6499"/>
                  </a:lnTo>
                  <a:lnTo>
                    <a:pt x="5858" y="6431"/>
                  </a:lnTo>
                  <a:lnTo>
                    <a:pt x="4983" y="5590"/>
                  </a:lnTo>
                  <a:lnTo>
                    <a:pt x="4579" y="5152"/>
                  </a:lnTo>
                  <a:lnTo>
                    <a:pt x="4411" y="4916"/>
                  </a:lnTo>
                  <a:lnTo>
                    <a:pt x="4242" y="4681"/>
                  </a:lnTo>
                  <a:lnTo>
                    <a:pt x="4108" y="4445"/>
                  </a:lnTo>
                  <a:lnTo>
                    <a:pt x="3939" y="4243"/>
                  </a:lnTo>
                  <a:lnTo>
                    <a:pt x="3737" y="4041"/>
                  </a:lnTo>
                  <a:lnTo>
                    <a:pt x="3502" y="3873"/>
                  </a:lnTo>
                  <a:lnTo>
                    <a:pt x="3064" y="3536"/>
                  </a:lnTo>
                  <a:lnTo>
                    <a:pt x="2626" y="3233"/>
                  </a:lnTo>
                  <a:lnTo>
                    <a:pt x="2896" y="3132"/>
                  </a:lnTo>
                  <a:lnTo>
                    <a:pt x="3030" y="3065"/>
                  </a:lnTo>
                  <a:lnTo>
                    <a:pt x="3165" y="2964"/>
                  </a:lnTo>
                  <a:lnTo>
                    <a:pt x="3367" y="2728"/>
                  </a:lnTo>
                  <a:lnTo>
                    <a:pt x="3502" y="2459"/>
                  </a:lnTo>
                  <a:lnTo>
                    <a:pt x="3636" y="2156"/>
                  </a:lnTo>
                  <a:lnTo>
                    <a:pt x="3704" y="1819"/>
                  </a:lnTo>
                  <a:lnTo>
                    <a:pt x="3737" y="1516"/>
                  </a:lnTo>
                  <a:lnTo>
                    <a:pt x="3737" y="1179"/>
                  </a:lnTo>
                  <a:lnTo>
                    <a:pt x="3704" y="876"/>
                  </a:lnTo>
                  <a:lnTo>
                    <a:pt x="3670" y="775"/>
                  </a:lnTo>
                  <a:lnTo>
                    <a:pt x="3535" y="775"/>
                  </a:lnTo>
                  <a:lnTo>
                    <a:pt x="3502" y="809"/>
                  </a:lnTo>
                  <a:lnTo>
                    <a:pt x="3502" y="876"/>
                  </a:lnTo>
                  <a:lnTo>
                    <a:pt x="3502" y="1145"/>
                  </a:lnTo>
                  <a:lnTo>
                    <a:pt x="3401" y="876"/>
                  </a:lnTo>
                  <a:lnTo>
                    <a:pt x="3232" y="674"/>
                  </a:lnTo>
                  <a:lnTo>
                    <a:pt x="3030" y="539"/>
                  </a:lnTo>
                  <a:lnTo>
                    <a:pt x="2963" y="472"/>
                  </a:lnTo>
                  <a:lnTo>
                    <a:pt x="2896" y="337"/>
                  </a:lnTo>
                  <a:lnTo>
                    <a:pt x="2862" y="236"/>
                  </a:lnTo>
                  <a:lnTo>
                    <a:pt x="2761" y="203"/>
                  </a:lnTo>
                  <a:lnTo>
                    <a:pt x="2694" y="169"/>
                  </a:lnTo>
                  <a:lnTo>
                    <a:pt x="2593" y="169"/>
                  </a:lnTo>
                  <a:lnTo>
                    <a:pt x="2559" y="203"/>
                  </a:lnTo>
                  <a:lnTo>
                    <a:pt x="2357" y="102"/>
                  </a:lnTo>
                  <a:lnTo>
                    <a:pt x="2121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hape 787"/>
            <p:cNvSpPr/>
            <p:nvPr/>
          </p:nvSpPr>
          <p:spPr>
            <a:xfrm>
              <a:off x="2495520" y="776160"/>
              <a:ext cx="14040" cy="88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03" h="1348">
                  <a:moveTo>
                    <a:pt x="101" y="1"/>
                  </a:moveTo>
                  <a:lnTo>
                    <a:pt x="34" y="102"/>
                  </a:lnTo>
                  <a:lnTo>
                    <a:pt x="0" y="236"/>
                  </a:lnTo>
                  <a:lnTo>
                    <a:pt x="34" y="506"/>
                  </a:lnTo>
                  <a:lnTo>
                    <a:pt x="34" y="1280"/>
                  </a:lnTo>
                  <a:lnTo>
                    <a:pt x="68" y="1347"/>
                  </a:lnTo>
                  <a:lnTo>
                    <a:pt x="135" y="1347"/>
                  </a:lnTo>
                  <a:lnTo>
                    <a:pt x="169" y="1314"/>
                  </a:lnTo>
                  <a:lnTo>
                    <a:pt x="202" y="1280"/>
                  </a:lnTo>
                  <a:lnTo>
                    <a:pt x="169" y="472"/>
                  </a:lnTo>
                  <a:lnTo>
                    <a:pt x="169" y="236"/>
                  </a:lnTo>
                  <a:lnTo>
                    <a:pt x="169" y="102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8080" bIns="-28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hape 788"/>
            <p:cNvSpPr/>
            <p:nvPr/>
          </p:nvSpPr>
          <p:spPr>
            <a:xfrm>
              <a:off x="2368440" y="0"/>
              <a:ext cx="264960" cy="112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007" h="1685">
                  <a:moveTo>
                    <a:pt x="0" y="1"/>
                  </a:moveTo>
                  <a:lnTo>
                    <a:pt x="0" y="539"/>
                  </a:lnTo>
                  <a:lnTo>
                    <a:pt x="0" y="1011"/>
                  </a:lnTo>
                  <a:lnTo>
                    <a:pt x="68" y="1246"/>
                  </a:lnTo>
                  <a:lnTo>
                    <a:pt x="135" y="1448"/>
                  </a:lnTo>
                  <a:lnTo>
                    <a:pt x="202" y="1482"/>
                  </a:lnTo>
                  <a:lnTo>
                    <a:pt x="202" y="1516"/>
                  </a:lnTo>
                  <a:lnTo>
                    <a:pt x="236" y="1549"/>
                  </a:lnTo>
                  <a:lnTo>
                    <a:pt x="674" y="1617"/>
                  </a:lnTo>
                  <a:lnTo>
                    <a:pt x="1111" y="1650"/>
                  </a:lnTo>
                  <a:lnTo>
                    <a:pt x="2020" y="1684"/>
                  </a:lnTo>
                  <a:lnTo>
                    <a:pt x="2929" y="1650"/>
                  </a:lnTo>
                  <a:lnTo>
                    <a:pt x="3805" y="1549"/>
                  </a:lnTo>
                  <a:lnTo>
                    <a:pt x="3872" y="1583"/>
                  </a:lnTo>
                  <a:lnTo>
                    <a:pt x="3906" y="1583"/>
                  </a:lnTo>
                  <a:lnTo>
                    <a:pt x="3973" y="1549"/>
                  </a:lnTo>
                  <a:lnTo>
                    <a:pt x="4007" y="1482"/>
                  </a:lnTo>
                  <a:lnTo>
                    <a:pt x="3906" y="1"/>
                  </a:lnTo>
                  <a:lnTo>
                    <a:pt x="3704" y="1"/>
                  </a:lnTo>
                  <a:lnTo>
                    <a:pt x="3771" y="1347"/>
                  </a:lnTo>
                  <a:lnTo>
                    <a:pt x="2020" y="1381"/>
                  </a:lnTo>
                  <a:lnTo>
                    <a:pt x="1111" y="1381"/>
                  </a:lnTo>
                  <a:lnTo>
                    <a:pt x="236" y="1448"/>
                  </a:lnTo>
                  <a:lnTo>
                    <a:pt x="236" y="1415"/>
                  </a:lnTo>
                  <a:lnTo>
                    <a:pt x="270" y="1213"/>
                  </a:lnTo>
                  <a:lnTo>
                    <a:pt x="236" y="977"/>
                  </a:lnTo>
                  <a:lnTo>
                    <a:pt x="169" y="539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hape 789"/>
            <p:cNvSpPr/>
            <p:nvPr/>
          </p:nvSpPr>
          <p:spPr>
            <a:xfrm>
              <a:off x="7358040" y="553572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3" h="607">
                  <a:moveTo>
                    <a:pt x="405" y="0"/>
                  </a:moveTo>
                  <a:lnTo>
                    <a:pt x="337" y="34"/>
                  </a:lnTo>
                  <a:lnTo>
                    <a:pt x="270" y="68"/>
                  </a:lnTo>
                  <a:lnTo>
                    <a:pt x="102" y="303"/>
                  </a:lnTo>
                  <a:lnTo>
                    <a:pt x="34" y="438"/>
                  </a:lnTo>
                  <a:lnTo>
                    <a:pt x="1" y="573"/>
                  </a:lnTo>
                  <a:lnTo>
                    <a:pt x="34" y="606"/>
                  </a:lnTo>
                  <a:lnTo>
                    <a:pt x="169" y="573"/>
                  </a:lnTo>
                  <a:lnTo>
                    <a:pt x="304" y="505"/>
                  </a:lnTo>
                  <a:lnTo>
                    <a:pt x="506" y="303"/>
                  </a:lnTo>
                  <a:lnTo>
                    <a:pt x="539" y="236"/>
                  </a:lnTo>
                  <a:lnTo>
                    <a:pt x="573" y="169"/>
                  </a:lnTo>
                  <a:lnTo>
                    <a:pt x="539" y="135"/>
                  </a:lnTo>
                  <a:lnTo>
                    <a:pt x="506" y="68"/>
                  </a:lnTo>
                  <a:lnTo>
                    <a:pt x="438" y="34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7040" bIns="-77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hape 790"/>
            <p:cNvSpPr/>
            <p:nvPr/>
          </p:nvSpPr>
          <p:spPr>
            <a:xfrm>
              <a:off x="8310600" y="2695320"/>
              <a:ext cx="849240" cy="150624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1506240"/>
                <a:gd name="textAreaBottom" fmla="*/ 1506600 h 1506240"/>
              </a:gdLst>
              <a:ahLst/>
              <a:rect l="textAreaLeft" t="textAreaTop" r="textAreaRight" b="textAreaBottom"/>
              <a:pathLst>
                <a:path w="12794" h="22693">
                  <a:moveTo>
                    <a:pt x="10774" y="3334"/>
                  </a:moveTo>
                  <a:lnTo>
                    <a:pt x="10841" y="3368"/>
                  </a:lnTo>
                  <a:lnTo>
                    <a:pt x="11178" y="4209"/>
                  </a:lnTo>
                  <a:lnTo>
                    <a:pt x="11245" y="4378"/>
                  </a:lnTo>
                  <a:lnTo>
                    <a:pt x="11346" y="4580"/>
                  </a:lnTo>
                  <a:lnTo>
                    <a:pt x="11346" y="4681"/>
                  </a:lnTo>
                  <a:lnTo>
                    <a:pt x="11346" y="4748"/>
                  </a:lnTo>
                  <a:lnTo>
                    <a:pt x="11313" y="4815"/>
                  </a:lnTo>
                  <a:lnTo>
                    <a:pt x="11212" y="4849"/>
                  </a:lnTo>
                  <a:lnTo>
                    <a:pt x="11111" y="4546"/>
                  </a:lnTo>
                  <a:lnTo>
                    <a:pt x="10774" y="3334"/>
                  </a:lnTo>
                  <a:close/>
                  <a:moveTo>
                    <a:pt x="6868" y="1"/>
                  </a:moveTo>
                  <a:lnTo>
                    <a:pt x="6363" y="34"/>
                  </a:lnTo>
                  <a:lnTo>
                    <a:pt x="5892" y="102"/>
                  </a:lnTo>
                  <a:lnTo>
                    <a:pt x="5387" y="169"/>
                  </a:lnTo>
                  <a:lnTo>
                    <a:pt x="4882" y="270"/>
                  </a:lnTo>
                  <a:lnTo>
                    <a:pt x="3939" y="506"/>
                  </a:lnTo>
                  <a:lnTo>
                    <a:pt x="2963" y="809"/>
                  </a:lnTo>
                  <a:lnTo>
                    <a:pt x="2492" y="977"/>
                  </a:lnTo>
                  <a:lnTo>
                    <a:pt x="2020" y="1145"/>
                  </a:lnTo>
                  <a:lnTo>
                    <a:pt x="1583" y="1381"/>
                  </a:lnTo>
                  <a:lnTo>
                    <a:pt x="1145" y="1617"/>
                  </a:lnTo>
                  <a:lnTo>
                    <a:pt x="876" y="1819"/>
                  </a:lnTo>
                  <a:lnTo>
                    <a:pt x="640" y="2021"/>
                  </a:lnTo>
                  <a:lnTo>
                    <a:pt x="438" y="2257"/>
                  </a:lnTo>
                  <a:lnTo>
                    <a:pt x="236" y="2560"/>
                  </a:lnTo>
                  <a:lnTo>
                    <a:pt x="101" y="2829"/>
                  </a:lnTo>
                  <a:lnTo>
                    <a:pt x="0" y="3132"/>
                  </a:lnTo>
                  <a:lnTo>
                    <a:pt x="0" y="3469"/>
                  </a:lnTo>
                  <a:lnTo>
                    <a:pt x="34" y="3772"/>
                  </a:lnTo>
                  <a:lnTo>
                    <a:pt x="34" y="3805"/>
                  </a:lnTo>
                  <a:lnTo>
                    <a:pt x="34" y="3839"/>
                  </a:lnTo>
                  <a:lnTo>
                    <a:pt x="101" y="4378"/>
                  </a:lnTo>
                  <a:lnTo>
                    <a:pt x="236" y="4883"/>
                  </a:lnTo>
                  <a:lnTo>
                    <a:pt x="505" y="5893"/>
                  </a:lnTo>
                  <a:lnTo>
                    <a:pt x="808" y="6903"/>
                  </a:lnTo>
                  <a:lnTo>
                    <a:pt x="1111" y="7946"/>
                  </a:lnTo>
                  <a:lnTo>
                    <a:pt x="1583" y="10101"/>
                  </a:lnTo>
                  <a:lnTo>
                    <a:pt x="2020" y="12256"/>
                  </a:lnTo>
                  <a:lnTo>
                    <a:pt x="2559" y="14478"/>
                  </a:lnTo>
                  <a:lnTo>
                    <a:pt x="3131" y="16700"/>
                  </a:lnTo>
                  <a:lnTo>
                    <a:pt x="3704" y="18889"/>
                  </a:lnTo>
                  <a:lnTo>
                    <a:pt x="4377" y="21077"/>
                  </a:lnTo>
                  <a:lnTo>
                    <a:pt x="4411" y="21144"/>
                  </a:lnTo>
                  <a:lnTo>
                    <a:pt x="4411" y="21346"/>
                  </a:lnTo>
                  <a:lnTo>
                    <a:pt x="4478" y="21481"/>
                  </a:lnTo>
                  <a:lnTo>
                    <a:pt x="4613" y="21649"/>
                  </a:lnTo>
                  <a:lnTo>
                    <a:pt x="4747" y="21818"/>
                  </a:lnTo>
                  <a:lnTo>
                    <a:pt x="5084" y="22087"/>
                  </a:lnTo>
                  <a:lnTo>
                    <a:pt x="5421" y="22255"/>
                  </a:lnTo>
                  <a:lnTo>
                    <a:pt x="5724" y="22424"/>
                  </a:lnTo>
                  <a:lnTo>
                    <a:pt x="6027" y="22525"/>
                  </a:lnTo>
                  <a:lnTo>
                    <a:pt x="6363" y="22626"/>
                  </a:lnTo>
                  <a:lnTo>
                    <a:pt x="6734" y="22659"/>
                  </a:lnTo>
                  <a:lnTo>
                    <a:pt x="7070" y="22693"/>
                  </a:lnTo>
                  <a:lnTo>
                    <a:pt x="7407" y="22693"/>
                  </a:lnTo>
                  <a:lnTo>
                    <a:pt x="8114" y="22659"/>
                  </a:lnTo>
                  <a:lnTo>
                    <a:pt x="8720" y="22592"/>
                  </a:lnTo>
                  <a:lnTo>
                    <a:pt x="9293" y="22491"/>
                  </a:lnTo>
                  <a:lnTo>
                    <a:pt x="9899" y="22390"/>
                  </a:lnTo>
                  <a:lnTo>
                    <a:pt x="10471" y="22255"/>
                  </a:lnTo>
                  <a:lnTo>
                    <a:pt x="11649" y="21919"/>
                  </a:lnTo>
                  <a:lnTo>
                    <a:pt x="12794" y="21515"/>
                  </a:lnTo>
                  <a:lnTo>
                    <a:pt x="12794" y="21212"/>
                  </a:lnTo>
                  <a:lnTo>
                    <a:pt x="11313" y="21717"/>
                  </a:lnTo>
                  <a:lnTo>
                    <a:pt x="10538" y="21919"/>
                  </a:lnTo>
                  <a:lnTo>
                    <a:pt x="9798" y="22121"/>
                  </a:lnTo>
                  <a:lnTo>
                    <a:pt x="9124" y="22255"/>
                  </a:lnTo>
                  <a:lnTo>
                    <a:pt x="8485" y="22390"/>
                  </a:lnTo>
                  <a:lnTo>
                    <a:pt x="7811" y="22424"/>
                  </a:lnTo>
                  <a:lnTo>
                    <a:pt x="7138" y="22457"/>
                  </a:lnTo>
                  <a:lnTo>
                    <a:pt x="6801" y="22424"/>
                  </a:lnTo>
                  <a:lnTo>
                    <a:pt x="6498" y="22390"/>
                  </a:lnTo>
                  <a:lnTo>
                    <a:pt x="6195" y="22289"/>
                  </a:lnTo>
                  <a:lnTo>
                    <a:pt x="5858" y="22188"/>
                  </a:lnTo>
                  <a:lnTo>
                    <a:pt x="5522" y="22053"/>
                  </a:lnTo>
                  <a:lnTo>
                    <a:pt x="5320" y="21919"/>
                  </a:lnTo>
                  <a:lnTo>
                    <a:pt x="5084" y="21784"/>
                  </a:lnTo>
                  <a:lnTo>
                    <a:pt x="4916" y="21616"/>
                  </a:lnTo>
                  <a:lnTo>
                    <a:pt x="4747" y="21447"/>
                  </a:lnTo>
                  <a:lnTo>
                    <a:pt x="4646" y="21279"/>
                  </a:lnTo>
                  <a:lnTo>
                    <a:pt x="4613" y="21077"/>
                  </a:lnTo>
                  <a:lnTo>
                    <a:pt x="4613" y="21043"/>
                  </a:lnTo>
                  <a:lnTo>
                    <a:pt x="4007" y="18889"/>
                  </a:lnTo>
                  <a:lnTo>
                    <a:pt x="3434" y="16734"/>
                  </a:lnTo>
                  <a:lnTo>
                    <a:pt x="2862" y="14579"/>
                  </a:lnTo>
                  <a:lnTo>
                    <a:pt x="2323" y="12424"/>
                  </a:lnTo>
                  <a:lnTo>
                    <a:pt x="1852" y="10269"/>
                  </a:lnTo>
                  <a:lnTo>
                    <a:pt x="1414" y="8115"/>
                  </a:lnTo>
                  <a:lnTo>
                    <a:pt x="1280" y="7576"/>
                  </a:lnTo>
                  <a:lnTo>
                    <a:pt x="1145" y="7037"/>
                  </a:lnTo>
                  <a:lnTo>
                    <a:pt x="808" y="5960"/>
                  </a:lnTo>
                  <a:lnTo>
                    <a:pt x="472" y="4883"/>
                  </a:lnTo>
                  <a:lnTo>
                    <a:pt x="303" y="4344"/>
                  </a:lnTo>
                  <a:lnTo>
                    <a:pt x="169" y="3805"/>
                  </a:lnTo>
                  <a:lnTo>
                    <a:pt x="135" y="3772"/>
                  </a:lnTo>
                  <a:lnTo>
                    <a:pt x="202" y="3368"/>
                  </a:lnTo>
                  <a:lnTo>
                    <a:pt x="303" y="2997"/>
                  </a:lnTo>
                  <a:lnTo>
                    <a:pt x="472" y="2694"/>
                  </a:lnTo>
                  <a:lnTo>
                    <a:pt x="674" y="2391"/>
                  </a:lnTo>
                  <a:lnTo>
                    <a:pt x="909" y="2122"/>
                  </a:lnTo>
                  <a:lnTo>
                    <a:pt x="1179" y="1920"/>
                  </a:lnTo>
                  <a:lnTo>
                    <a:pt x="1482" y="1684"/>
                  </a:lnTo>
                  <a:lnTo>
                    <a:pt x="1818" y="1516"/>
                  </a:lnTo>
                  <a:lnTo>
                    <a:pt x="2155" y="1347"/>
                  </a:lnTo>
                  <a:lnTo>
                    <a:pt x="2525" y="1213"/>
                  </a:lnTo>
                  <a:lnTo>
                    <a:pt x="3266" y="943"/>
                  </a:lnTo>
                  <a:lnTo>
                    <a:pt x="4007" y="741"/>
                  </a:lnTo>
                  <a:lnTo>
                    <a:pt x="4714" y="573"/>
                  </a:lnTo>
                  <a:lnTo>
                    <a:pt x="5555" y="405"/>
                  </a:lnTo>
                  <a:lnTo>
                    <a:pt x="5959" y="337"/>
                  </a:lnTo>
                  <a:lnTo>
                    <a:pt x="6397" y="304"/>
                  </a:lnTo>
                  <a:lnTo>
                    <a:pt x="6801" y="270"/>
                  </a:lnTo>
                  <a:lnTo>
                    <a:pt x="7239" y="304"/>
                  </a:lnTo>
                  <a:lnTo>
                    <a:pt x="7643" y="304"/>
                  </a:lnTo>
                  <a:lnTo>
                    <a:pt x="8080" y="371"/>
                  </a:lnTo>
                  <a:lnTo>
                    <a:pt x="8518" y="472"/>
                  </a:lnTo>
                  <a:lnTo>
                    <a:pt x="8922" y="607"/>
                  </a:lnTo>
                  <a:lnTo>
                    <a:pt x="9326" y="809"/>
                  </a:lnTo>
                  <a:lnTo>
                    <a:pt x="9495" y="943"/>
                  </a:lnTo>
                  <a:lnTo>
                    <a:pt x="9697" y="1078"/>
                  </a:lnTo>
                  <a:lnTo>
                    <a:pt x="9831" y="1246"/>
                  </a:lnTo>
                  <a:lnTo>
                    <a:pt x="9966" y="1448"/>
                  </a:lnTo>
                  <a:lnTo>
                    <a:pt x="10101" y="1650"/>
                  </a:lnTo>
                  <a:lnTo>
                    <a:pt x="10202" y="1852"/>
                  </a:lnTo>
                  <a:lnTo>
                    <a:pt x="10168" y="1886"/>
                  </a:lnTo>
                  <a:lnTo>
                    <a:pt x="10168" y="2088"/>
                  </a:lnTo>
                  <a:lnTo>
                    <a:pt x="10202" y="2223"/>
                  </a:lnTo>
                  <a:lnTo>
                    <a:pt x="10303" y="2593"/>
                  </a:lnTo>
                  <a:lnTo>
                    <a:pt x="10707" y="4108"/>
                  </a:lnTo>
                  <a:lnTo>
                    <a:pt x="11616" y="7138"/>
                  </a:lnTo>
                  <a:lnTo>
                    <a:pt x="12491" y="10168"/>
                  </a:lnTo>
                  <a:lnTo>
                    <a:pt x="12794" y="11347"/>
                  </a:lnTo>
                  <a:lnTo>
                    <a:pt x="12794" y="10337"/>
                  </a:lnTo>
                  <a:lnTo>
                    <a:pt x="12727" y="10101"/>
                  </a:lnTo>
                  <a:lnTo>
                    <a:pt x="11919" y="7340"/>
                  </a:lnTo>
                  <a:lnTo>
                    <a:pt x="11582" y="6196"/>
                  </a:lnTo>
                  <a:lnTo>
                    <a:pt x="11279" y="5085"/>
                  </a:lnTo>
                  <a:lnTo>
                    <a:pt x="11346" y="5085"/>
                  </a:lnTo>
                  <a:lnTo>
                    <a:pt x="11414" y="5051"/>
                  </a:lnTo>
                  <a:lnTo>
                    <a:pt x="11447" y="5017"/>
                  </a:lnTo>
                  <a:lnTo>
                    <a:pt x="11515" y="4916"/>
                  </a:lnTo>
                  <a:lnTo>
                    <a:pt x="11582" y="4849"/>
                  </a:lnTo>
                  <a:lnTo>
                    <a:pt x="11616" y="4815"/>
                  </a:lnTo>
                  <a:lnTo>
                    <a:pt x="11616" y="4748"/>
                  </a:lnTo>
                  <a:lnTo>
                    <a:pt x="11346" y="3974"/>
                  </a:lnTo>
                  <a:lnTo>
                    <a:pt x="11043" y="3233"/>
                  </a:lnTo>
                  <a:lnTo>
                    <a:pt x="10976" y="3166"/>
                  </a:lnTo>
                  <a:lnTo>
                    <a:pt x="10707" y="3166"/>
                  </a:lnTo>
                  <a:lnTo>
                    <a:pt x="10471" y="2560"/>
                  </a:lnTo>
                  <a:lnTo>
                    <a:pt x="10639" y="2560"/>
                  </a:lnTo>
                  <a:lnTo>
                    <a:pt x="10673" y="2492"/>
                  </a:lnTo>
                  <a:lnTo>
                    <a:pt x="10673" y="2425"/>
                  </a:lnTo>
                  <a:lnTo>
                    <a:pt x="10538" y="2054"/>
                  </a:lnTo>
                  <a:lnTo>
                    <a:pt x="10404" y="1718"/>
                  </a:lnTo>
                  <a:lnTo>
                    <a:pt x="10235" y="1415"/>
                  </a:lnTo>
                  <a:lnTo>
                    <a:pt x="10033" y="1112"/>
                  </a:lnTo>
                  <a:lnTo>
                    <a:pt x="9798" y="876"/>
                  </a:lnTo>
                  <a:lnTo>
                    <a:pt x="9528" y="640"/>
                  </a:lnTo>
                  <a:lnTo>
                    <a:pt x="9225" y="472"/>
                  </a:lnTo>
                  <a:lnTo>
                    <a:pt x="8855" y="304"/>
                  </a:lnTo>
                  <a:lnTo>
                    <a:pt x="8384" y="169"/>
                  </a:lnTo>
                  <a:lnTo>
                    <a:pt x="7878" y="68"/>
                  </a:lnTo>
                  <a:lnTo>
                    <a:pt x="7373" y="34"/>
                  </a:lnTo>
                  <a:lnTo>
                    <a:pt x="68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hape 791"/>
            <p:cNvSpPr/>
            <p:nvPr/>
          </p:nvSpPr>
          <p:spPr>
            <a:xfrm>
              <a:off x="8810640" y="275724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39" h="405">
                  <a:moveTo>
                    <a:pt x="135" y="0"/>
                  </a:moveTo>
                  <a:lnTo>
                    <a:pt x="34" y="101"/>
                  </a:lnTo>
                  <a:lnTo>
                    <a:pt x="34" y="169"/>
                  </a:lnTo>
                  <a:lnTo>
                    <a:pt x="1" y="236"/>
                  </a:lnTo>
                  <a:lnTo>
                    <a:pt x="34" y="337"/>
                  </a:lnTo>
                  <a:lnTo>
                    <a:pt x="68" y="371"/>
                  </a:lnTo>
                  <a:lnTo>
                    <a:pt x="135" y="404"/>
                  </a:lnTo>
                  <a:lnTo>
                    <a:pt x="203" y="404"/>
                  </a:lnTo>
                  <a:lnTo>
                    <a:pt x="270" y="371"/>
                  </a:lnTo>
                  <a:lnTo>
                    <a:pt x="371" y="337"/>
                  </a:lnTo>
                  <a:lnTo>
                    <a:pt x="405" y="270"/>
                  </a:lnTo>
                  <a:lnTo>
                    <a:pt x="438" y="169"/>
                  </a:lnTo>
                  <a:lnTo>
                    <a:pt x="405" y="101"/>
                  </a:lnTo>
                  <a:lnTo>
                    <a:pt x="337" y="34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hape 792"/>
            <p:cNvSpPr/>
            <p:nvPr/>
          </p:nvSpPr>
          <p:spPr>
            <a:xfrm>
              <a:off x="8805960" y="5973840"/>
              <a:ext cx="179280" cy="1746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694" h="2627">
                  <a:moveTo>
                    <a:pt x="505" y="337"/>
                  </a:moveTo>
                  <a:lnTo>
                    <a:pt x="775" y="539"/>
                  </a:lnTo>
                  <a:lnTo>
                    <a:pt x="1044" y="741"/>
                  </a:lnTo>
                  <a:lnTo>
                    <a:pt x="977" y="842"/>
                  </a:lnTo>
                  <a:lnTo>
                    <a:pt x="910" y="943"/>
                  </a:lnTo>
                  <a:lnTo>
                    <a:pt x="842" y="1077"/>
                  </a:lnTo>
                  <a:lnTo>
                    <a:pt x="606" y="842"/>
                  </a:lnTo>
                  <a:lnTo>
                    <a:pt x="674" y="741"/>
                  </a:lnTo>
                  <a:lnTo>
                    <a:pt x="707" y="539"/>
                  </a:lnTo>
                  <a:lnTo>
                    <a:pt x="707" y="505"/>
                  </a:lnTo>
                  <a:lnTo>
                    <a:pt x="573" y="640"/>
                  </a:lnTo>
                  <a:lnTo>
                    <a:pt x="505" y="774"/>
                  </a:lnTo>
                  <a:lnTo>
                    <a:pt x="135" y="471"/>
                  </a:lnTo>
                  <a:lnTo>
                    <a:pt x="337" y="370"/>
                  </a:lnTo>
                  <a:lnTo>
                    <a:pt x="438" y="337"/>
                  </a:lnTo>
                  <a:close/>
                  <a:moveTo>
                    <a:pt x="1179" y="875"/>
                  </a:moveTo>
                  <a:lnTo>
                    <a:pt x="1415" y="1077"/>
                  </a:lnTo>
                  <a:lnTo>
                    <a:pt x="1482" y="1178"/>
                  </a:lnTo>
                  <a:lnTo>
                    <a:pt x="1381" y="1313"/>
                  </a:lnTo>
                  <a:lnTo>
                    <a:pt x="1280" y="1515"/>
                  </a:lnTo>
                  <a:lnTo>
                    <a:pt x="1145" y="1381"/>
                  </a:lnTo>
                  <a:lnTo>
                    <a:pt x="977" y="1212"/>
                  </a:lnTo>
                  <a:lnTo>
                    <a:pt x="1044" y="1111"/>
                  </a:lnTo>
                  <a:lnTo>
                    <a:pt x="1112" y="976"/>
                  </a:lnTo>
                  <a:lnTo>
                    <a:pt x="1179" y="875"/>
                  </a:lnTo>
                  <a:close/>
                  <a:moveTo>
                    <a:pt x="1583" y="1246"/>
                  </a:moveTo>
                  <a:lnTo>
                    <a:pt x="1852" y="1583"/>
                  </a:lnTo>
                  <a:lnTo>
                    <a:pt x="1751" y="1717"/>
                  </a:lnTo>
                  <a:lnTo>
                    <a:pt x="1684" y="1886"/>
                  </a:lnTo>
                  <a:lnTo>
                    <a:pt x="1448" y="1650"/>
                  </a:lnTo>
                  <a:lnTo>
                    <a:pt x="1516" y="1414"/>
                  </a:lnTo>
                  <a:lnTo>
                    <a:pt x="1583" y="1246"/>
                  </a:lnTo>
                  <a:close/>
                  <a:moveTo>
                    <a:pt x="1920" y="1684"/>
                  </a:moveTo>
                  <a:lnTo>
                    <a:pt x="2122" y="1919"/>
                  </a:lnTo>
                  <a:lnTo>
                    <a:pt x="2021" y="2020"/>
                  </a:lnTo>
                  <a:lnTo>
                    <a:pt x="2021" y="2088"/>
                  </a:lnTo>
                  <a:lnTo>
                    <a:pt x="2021" y="2155"/>
                  </a:lnTo>
                  <a:lnTo>
                    <a:pt x="1819" y="1987"/>
                  </a:lnTo>
                  <a:lnTo>
                    <a:pt x="1852" y="1919"/>
                  </a:lnTo>
                  <a:lnTo>
                    <a:pt x="1886" y="1818"/>
                  </a:lnTo>
                  <a:lnTo>
                    <a:pt x="1920" y="1684"/>
                  </a:lnTo>
                  <a:close/>
                  <a:moveTo>
                    <a:pt x="2122" y="1953"/>
                  </a:moveTo>
                  <a:lnTo>
                    <a:pt x="2324" y="2155"/>
                  </a:lnTo>
                  <a:lnTo>
                    <a:pt x="2223" y="2357"/>
                  </a:lnTo>
                  <a:lnTo>
                    <a:pt x="2054" y="2189"/>
                  </a:lnTo>
                  <a:lnTo>
                    <a:pt x="2054" y="2054"/>
                  </a:lnTo>
                  <a:lnTo>
                    <a:pt x="2088" y="1987"/>
                  </a:lnTo>
                  <a:lnTo>
                    <a:pt x="2122" y="1953"/>
                  </a:lnTo>
                  <a:close/>
                  <a:moveTo>
                    <a:pt x="404" y="0"/>
                  </a:moveTo>
                  <a:lnTo>
                    <a:pt x="303" y="34"/>
                  </a:lnTo>
                  <a:lnTo>
                    <a:pt x="135" y="202"/>
                  </a:lnTo>
                  <a:lnTo>
                    <a:pt x="68" y="337"/>
                  </a:lnTo>
                  <a:lnTo>
                    <a:pt x="34" y="438"/>
                  </a:lnTo>
                  <a:lnTo>
                    <a:pt x="0" y="471"/>
                  </a:lnTo>
                  <a:lnTo>
                    <a:pt x="34" y="505"/>
                  </a:lnTo>
                  <a:lnTo>
                    <a:pt x="236" y="808"/>
                  </a:lnTo>
                  <a:lnTo>
                    <a:pt x="472" y="1077"/>
                  </a:lnTo>
                  <a:lnTo>
                    <a:pt x="1011" y="1616"/>
                  </a:lnTo>
                  <a:lnTo>
                    <a:pt x="1617" y="2121"/>
                  </a:lnTo>
                  <a:lnTo>
                    <a:pt x="2189" y="2593"/>
                  </a:lnTo>
                  <a:lnTo>
                    <a:pt x="2223" y="2626"/>
                  </a:lnTo>
                  <a:lnTo>
                    <a:pt x="2290" y="2626"/>
                  </a:lnTo>
                  <a:lnTo>
                    <a:pt x="2324" y="2593"/>
                  </a:lnTo>
                  <a:lnTo>
                    <a:pt x="2357" y="2559"/>
                  </a:lnTo>
                  <a:lnTo>
                    <a:pt x="2458" y="2290"/>
                  </a:lnTo>
                  <a:lnTo>
                    <a:pt x="2593" y="2391"/>
                  </a:lnTo>
                  <a:lnTo>
                    <a:pt x="2627" y="2424"/>
                  </a:lnTo>
                  <a:lnTo>
                    <a:pt x="2694" y="2391"/>
                  </a:lnTo>
                  <a:lnTo>
                    <a:pt x="2694" y="2357"/>
                  </a:lnTo>
                  <a:lnTo>
                    <a:pt x="2694" y="2290"/>
                  </a:lnTo>
                  <a:lnTo>
                    <a:pt x="2559" y="1987"/>
                  </a:lnTo>
                  <a:lnTo>
                    <a:pt x="2324" y="1717"/>
                  </a:lnTo>
                  <a:lnTo>
                    <a:pt x="1852" y="1145"/>
                  </a:lnTo>
                  <a:lnTo>
                    <a:pt x="1583" y="875"/>
                  </a:lnTo>
                  <a:lnTo>
                    <a:pt x="1280" y="606"/>
                  </a:lnTo>
                  <a:lnTo>
                    <a:pt x="1280" y="539"/>
                  </a:lnTo>
                  <a:lnTo>
                    <a:pt x="1246" y="539"/>
                  </a:lnTo>
                  <a:lnTo>
                    <a:pt x="1213" y="572"/>
                  </a:lnTo>
                  <a:lnTo>
                    <a:pt x="842" y="269"/>
                  </a:lnTo>
                  <a:lnTo>
                    <a:pt x="472" y="3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hape 793"/>
            <p:cNvSpPr/>
            <p:nvPr/>
          </p:nvSpPr>
          <p:spPr>
            <a:xfrm>
              <a:off x="7421760" y="5667480"/>
              <a:ext cx="133200" cy="1317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88" h="1987">
                  <a:moveTo>
                    <a:pt x="35" y="1"/>
                  </a:moveTo>
                  <a:lnTo>
                    <a:pt x="1" y="34"/>
                  </a:lnTo>
                  <a:lnTo>
                    <a:pt x="68" y="203"/>
                  </a:lnTo>
                  <a:lnTo>
                    <a:pt x="169" y="371"/>
                  </a:lnTo>
                  <a:lnTo>
                    <a:pt x="439" y="640"/>
                  </a:lnTo>
                  <a:lnTo>
                    <a:pt x="1112" y="1314"/>
                  </a:lnTo>
                  <a:lnTo>
                    <a:pt x="1348" y="1583"/>
                  </a:lnTo>
                  <a:lnTo>
                    <a:pt x="1583" y="1852"/>
                  </a:lnTo>
                  <a:lnTo>
                    <a:pt x="1651" y="1920"/>
                  </a:lnTo>
                  <a:lnTo>
                    <a:pt x="1752" y="1953"/>
                  </a:lnTo>
                  <a:lnTo>
                    <a:pt x="1819" y="1987"/>
                  </a:lnTo>
                  <a:lnTo>
                    <a:pt x="1920" y="1953"/>
                  </a:lnTo>
                  <a:lnTo>
                    <a:pt x="1987" y="1886"/>
                  </a:lnTo>
                  <a:lnTo>
                    <a:pt x="1954" y="1819"/>
                  </a:lnTo>
                  <a:lnTo>
                    <a:pt x="1954" y="1785"/>
                  </a:lnTo>
                  <a:lnTo>
                    <a:pt x="1718" y="1583"/>
                  </a:lnTo>
                  <a:lnTo>
                    <a:pt x="1516" y="1381"/>
                  </a:lnTo>
                  <a:lnTo>
                    <a:pt x="1112" y="943"/>
                  </a:lnTo>
                  <a:lnTo>
                    <a:pt x="540" y="371"/>
                  </a:lnTo>
                  <a:lnTo>
                    <a:pt x="304" y="135"/>
                  </a:lnTo>
                  <a:lnTo>
                    <a:pt x="169" y="68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5120" bIns="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hape 794"/>
            <p:cNvSpPr/>
            <p:nvPr/>
          </p:nvSpPr>
          <p:spPr>
            <a:xfrm>
              <a:off x="8707680" y="4824360"/>
              <a:ext cx="452160" cy="11174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6801" h="16835">
                  <a:moveTo>
                    <a:pt x="6195" y="472"/>
                  </a:moveTo>
                  <a:lnTo>
                    <a:pt x="5892" y="943"/>
                  </a:lnTo>
                  <a:lnTo>
                    <a:pt x="5825" y="910"/>
                  </a:lnTo>
                  <a:lnTo>
                    <a:pt x="5791" y="842"/>
                  </a:lnTo>
                  <a:lnTo>
                    <a:pt x="5757" y="809"/>
                  </a:lnTo>
                  <a:lnTo>
                    <a:pt x="6195" y="472"/>
                  </a:lnTo>
                  <a:close/>
                  <a:moveTo>
                    <a:pt x="5589" y="977"/>
                  </a:moveTo>
                  <a:lnTo>
                    <a:pt x="5656" y="1078"/>
                  </a:lnTo>
                  <a:lnTo>
                    <a:pt x="5724" y="1145"/>
                  </a:lnTo>
                  <a:lnTo>
                    <a:pt x="5589" y="1381"/>
                  </a:lnTo>
                  <a:lnTo>
                    <a:pt x="5387" y="1246"/>
                  </a:lnTo>
                  <a:lnTo>
                    <a:pt x="5488" y="1112"/>
                  </a:lnTo>
                  <a:lnTo>
                    <a:pt x="5589" y="977"/>
                  </a:lnTo>
                  <a:close/>
                  <a:moveTo>
                    <a:pt x="5252" y="1381"/>
                  </a:moveTo>
                  <a:lnTo>
                    <a:pt x="5353" y="1482"/>
                  </a:lnTo>
                  <a:lnTo>
                    <a:pt x="5454" y="1549"/>
                  </a:lnTo>
                  <a:lnTo>
                    <a:pt x="5320" y="1819"/>
                  </a:lnTo>
                  <a:lnTo>
                    <a:pt x="5286" y="1785"/>
                  </a:lnTo>
                  <a:lnTo>
                    <a:pt x="5084" y="1684"/>
                  </a:lnTo>
                  <a:lnTo>
                    <a:pt x="5050" y="1684"/>
                  </a:lnTo>
                  <a:lnTo>
                    <a:pt x="5252" y="1381"/>
                  </a:lnTo>
                  <a:close/>
                  <a:moveTo>
                    <a:pt x="4949" y="1886"/>
                  </a:moveTo>
                  <a:lnTo>
                    <a:pt x="5084" y="1920"/>
                  </a:lnTo>
                  <a:lnTo>
                    <a:pt x="5219" y="1987"/>
                  </a:lnTo>
                  <a:lnTo>
                    <a:pt x="5084" y="2223"/>
                  </a:lnTo>
                  <a:lnTo>
                    <a:pt x="4815" y="1987"/>
                  </a:lnTo>
                  <a:lnTo>
                    <a:pt x="4882" y="1886"/>
                  </a:lnTo>
                  <a:close/>
                  <a:moveTo>
                    <a:pt x="4411" y="1920"/>
                  </a:moveTo>
                  <a:lnTo>
                    <a:pt x="4680" y="2189"/>
                  </a:lnTo>
                  <a:lnTo>
                    <a:pt x="4815" y="2324"/>
                  </a:lnTo>
                  <a:lnTo>
                    <a:pt x="4983" y="2459"/>
                  </a:lnTo>
                  <a:lnTo>
                    <a:pt x="4949" y="2459"/>
                  </a:lnTo>
                  <a:lnTo>
                    <a:pt x="4949" y="2526"/>
                  </a:lnTo>
                  <a:lnTo>
                    <a:pt x="4983" y="2593"/>
                  </a:lnTo>
                  <a:lnTo>
                    <a:pt x="5050" y="2593"/>
                  </a:lnTo>
                  <a:lnTo>
                    <a:pt x="5084" y="2560"/>
                  </a:lnTo>
                  <a:lnTo>
                    <a:pt x="5118" y="2526"/>
                  </a:lnTo>
                  <a:lnTo>
                    <a:pt x="4040" y="3704"/>
                  </a:lnTo>
                  <a:lnTo>
                    <a:pt x="3973" y="3839"/>
                  </a:lnTo>
                  <a:lnTo>
                    <a:pt x="3872" y="4041"/>
                  </a:lnTo>
                  <a:lnTo>
                    <a:pt x="3737" y="4176"/>
                  </a:lnTo>
                  <a:lnTo>
                    <a:pt x="3670" y="4209"/>
                  </a:lnTo>
                  <a:lnTo>
                    <a:pt x="3603" y="4209"/>
                  </a:lnTo>
                  <a:lnTo>
                    <a:pt x="3266" y="3940"/>
                  </a:lnTo>
                  <a:lnTo>
                    <a:pt x="2862" y="3570"/>
                  </a:lnTo>
                  <a:lnTo>
                    <a:pt x="3098" y="3401"/>
                  </a:lnTo>
                  <a:lnTo>
                    <a:pt x="3300" y="3199"/>
                  </a:lnTo>
                  <a:lnTo>
                    <a:pt x="3704" y="2762"/>
                  </a:lnTo>
                  <a:lnTo>
                    <a:pt x="4074" y="2357"/>
                  </a:lnTo>
                  <a:lnTo>
                    <a:pt x="4242" y="2155"/>
                  </a:lnTo>
                  <a:lnTo>
                    <a:pt x="4411" y="1920"/>
                  </a:lnTo>
                  <a:close/>
                  <a:moveTo>
                    <a:pt x="2963" y="4041"/>
                  </a:moveTo>
                  <a:lnTo>
                    <a:pt x="3030" y="4108"/>
                  </a:lnTo>
                  <a:lnTo>
                    <a:pt x="2997" y="4142"/>
                  </a:lnTo>
                  <a:lnTo>
                    <a:pt x="2862" y="4277"/>
                  </a:lnTo>
                  <a:lnTo>
                    <a:pt x="2694" y="4479"/>
                  </a:lnTo>
                  <a:lnTo>
                    <a:pt x="2593" y="4647"/>
                  </a:lnTo>
                  <a:lnTo>
                    <a:pt x="2559" y="4782"/>
                  </a:lnTo>
                  <a:lnTo>
                    <a:pt x="2525" y="4883"/>
                  </a:lnTo>
                  <a:lnTo>
                    <a:pt x="2391" y="4748"/>
                  </a:lnTo>
                  <a:lnTo>
                    <a:pt x="2256" y="4647"/>
                  </a:lnTo>
                  <a:lnTo>
                    <a:pt x="2424" y="4512"/>
                  </a:lnTo>
                  <a:lnTo>
                    <a:pt x="2559" y="4344"/>
                  </a:lnTo>
                  <a:lnTo>
                    <a:pt x="2761" y="4176"/>
                  </a:lnTo>
                  <a:lnTo>
                    <a:pt x="2963" y="4041"/>
                  </a:lnTo>
                  <a:close/>
                  <a:moveTo>
                    <a:pt x="6565" y="1"/>
                  </a:moveTo>
                  <a:lnTo>
                    <a:pt x="6498" y="34"/>
                  </a:lnTo>
                  <a:lnTo>
                    <a:pt x="5959" y="371"/>
                  </a:lnTo>
                  <a:lnTo>
                    <a:pt x="5690" y="573"/>
                  </a:lnTo>
                  <a:lnTo>
                    <a:pt x="5454" y="809"/>
                  </a:lnTo>
                  <a:lnTo>
                    <a:pt x="5219" y="1078"/>
                  </a:lnTo>
                  <a:lnTo>
                    <a:pt x="5017" y="1347"/>
                  </a:lnTo>
                  <a:lnTo>
                    <a:pt x="4848" y="1650"/>
                  </a:lnTo>
                  <a:lnTo>
                    <a:pt x="4747" y="1953"/>
                  </a:lnTo>
                  <a:lnTo>
                    <a:pt x="4613" y="1785"/>
                  </a:lnTo>
                  <a:lnTo>
                    <a:pt x="4444" y="1650"/>
                  </a:lnTo>
                  <a:lnTo>
                    <a:pt x="4377" y="1617"/>
                  </a:lnTo>
                  <a:lnTo>
                    <a:pt x="4343" y="1650"/>
                  </a:lnTo>
                  <a:lnTo>
                    <a:pt x="4276" y="1684"/>
                  </a:lnTo>
                  <a:lnTo>
                    <a:pt x="4108" y="1953"/>
                  </a:lnTo>
                  <a:lnTo>
                    <a:pt x="3939" y="2189"/>
                  </a:lnTo>
                  <a:lnTo>
                    <a:pt x="3535" y="2627"/>
                  </a:lnTo>
                  <a:lnTo>
                    <a:pt x="3131" y="3031"/>
                  </a:lnTo>
                  <a:lnTo>
                    <a:pt x="2929" y="3267"/>
                  </a:lnTo>
                  <a:lnTo>
                    <a:pt x="2795" y="3536"/>
                  </a:lnTo>
                  <a:lnTo>
                    <a:pt x="2761" y="3536"/>
                  </a:lnTo>
                  <a:lnTo>
                    <a:pt x="2761" y="3570"/>
                  </a:lnTo>
                  <a:lnTo>
                    <a:pt x="2795" y="3704"/>
                  </a:lnTo>
                  <a:lnTo>
                    <a:pt x="2862" y="3839"/>
                  </a:lnTo>
                  <a:lnTo>
                    <a:pt x="2626" y="3974"/>
                  </a:lnTo>
                  <a:lnTo>
                    <a:pt x="2458" y="4142"/>
                  </a:lnTo>
                  <a:lnTo>
                    <a:pt x="2222" y="4378"/>
                  </a:lnTo>
                  <a:lnTo>
                    <a:pt x="2155" y="4479"/>
                  </a:lnTo>
                  <a:lnTo>
                    <a:pt x="2087" y="4613"/>
                  </a:lnTo>
                  <a:lnTo>
                    <a:pt x="2087" y="4681"/>
                  </a:lnTo>
                  <a:lnTo>
                    <a:pt x="2121" y="4714"/>
                  </a:lnTo>
                  <a:lnTo>
                    <a:pt x="2188" y="4849"/>
                  </a:lnTo>
                  <a:lnTo>
                    <a:pt x="2256" y="4984"/>
                  </a:lnTo>
                  <a:lnTo>
                    <a:pt x="2188" y="5017"/>
                  </a:lnTo>
                  <a:lnTo>
                    <a:pt x="1953" y="5186"/>
                  </a:lnTo>
                  <a:lnTo>
                    <a:pt x="1717" y="5388"/>
                  </a:lnTo>
                  <a:lnTo>
                    <a:pt x="1515" y="5590"/>
                  </a:lnTo>
                  <a:lnTo>
                    <a:pt x="1313" y="5792"/>
                  </a:lnTo>
                  <a:lnTo>
                    <a:pt x="976" y="6263"/>
                  </a:lnTo>
                  <a:lnTo>
                    <a:pt x="707" y="6768"/>
                  </a:lnTo>
                  <a:lnTo>
                    <a:pt x="505" y="7307"/>
                  </a:lnTo>
                  <a:lnTo>
                    <a:pt x="337" y="7879"/>
                  </a:lnTo>
                  <a:lnTo>
                    <a:pt x="202" y="8451"/>
                  </a:lnTo>
                  <a:lnTo>
                    <a:pt x="101" y="9024"/>
                  </a:lnTo>
                  <a:lnTo>
                    <a:pt x="34" y="9663"/>
                  </a:lnTo>
                  <a:lnTo>
                    <a:pt x="0" y="10303"/>
                  </a:lnTo>
                  <a:lnTo>
                    <a:pt x="0" y="10943"/>
                  </a:lnTo>
                  <a:lnTo>
                    <a:pt x="34" y="11583"/>
                  </a:lnTo>
                  <a:lnTo>
                    <a:pt x="135" y="12189"/>
                  </a:lnTo>
                  <a:lnTo>
                    <a:pt x="202" y="12492"/>
                  </a:lnTo>
                  <a:lnTo>
                    <a:pt x="303" y="12795"/>
                  </a:lnTo>
                  <a:lnTo>
                    <a:pt x="404" y="13064"/>
                  </a:lnTo>
                  <a:lnTo>
                    <a:pt x="572" y="13367"/>
                  </a:lnTo>
                  <a:lnTo>
                    <a:pt x="741" y="13636"/>
                  </a:lnTo>
                  <a:lnTo>
                    <a:pt x="909" y="13906"/>
                  </a:lnTo>
                  <a:lnTo>
                    <a:pt x="1347" y="14377"/>
                  </a:lnTo>
                  <a:lnTo>
                    <a:pt x="1784" y="14848"/>
                  </a:lnTo>
                  <a:lnTo>
                    <a:pt x="2289" y="15286"/>
                  </a:lnTo>
                  <a:lnTo>
                    <a:pt x="2761" y="15690"/>
                  </a:lnTo>
                  <a:lnTo>
                    <a:pt x="3266" y="16027"/>
                  </a:lnTo>
                  <a:lnTo>
                    <a:pt x="3535" y="16161"/>
                  </a:lnTo>
                  <a:lnTo>
                    <a:pt x="3805" y="16296"/>
                  </a:lnTo>
                  <a:lnTo>
                    <a:pt x="4108" y="16363"/>
                  </a:lnTo>
                  <a:lnTo>
                    <a:pt x="4377" y="16431"/>
                  </a:lnTo>
                  <a:lnTo>
                    <a:pt x="4680" y="16397"/>
                  </a:lnTo>
                  <a:lnTo>
                    <a:pt x="4983" y="16330"/>
                  </a:lnTo>
                  <a:lnTo>
                    <a:pt x="5151" y="16262"/>
                  </a:lnTo>
                  <a:lnTo>
                    <a:pt x="5320" y="16195"/>
                  </a:lnTo>
                  <a:lnTo>
                    <a:pt x="5623" y="15926"/>
                  </a:lnTo>
                  <a:lnTo>
                    <a:pt x="5858" y="16161"/>
                  </a:lnTo>
                  <a:lnTo>
                    <a:pt x="6094" y="16397"/>
                  </a:lnTo>
                  <a:lnTo>
                    <a:pt x="6229" y="16532"/>
                  </a:lnTo>
                  <a:lnTo>
                    <a:pt x="6431" y="16633"/>
                  </a:lnTo>
                  <a:lnTo>
                    <a:pt x="6801" y="16835"/>
                  </a:lnTo>
                  <a:lnTo>
                    <a:pt x="6801" y="16532"/>
                  </a:lnTo>
                  <a:lnTo>
                    <a:pt x="6532" y="16330"/>
                  </a:lnTo>
                  <a:lnTo>
                    <a:pt x="6296" y="16128"/>
                  </a:lnTo>
                  <a:lnTo>
                    <a:pt x="6060" y="15926"/>
                  </a:lnTo>
                  <a:lnTo>
                    <a:pt x="5858" y="15690"/>
                  </a:lnTo>
                  <a:lnTo>
                    <a:pt x="6262" y="15151"/>
                  </a:lnTo>
                  <a:lnTo>
                    <a:pt x="6599" y="14714"/>
                  </a:lnTo>
                  <a:lnTo>
                    <a:pt x="6801" y="14411"/>
                  </a:lnTo>
                  <a:lnTo>
                    <a:pt x="6801" y="13906"/>
                  </a:lnTo>
                  <a:lnTo>
                    <a:pt x="6229" y="14680"/>
                  </a:lnTo>
                  <a:lnTo>
                    <a:pt x="5623" y="15387"/>
                  </a:lnTo>
                  <a:lnTo>
                    <a:pt x="5252" y="14815"/>
                  </a:lnTo>
                  <a:lnTo>
                    <a:pt x="4882" y="14175"/>
                  </a:lnTo>
                  <a:lnTo>
                    <a:pt x="4613" y="13636"/>
                  </a:lnTo>
                  <a:lnTo>
                    <a:pt x="4343" y="13064"/>
                  </a:lnTo>
                  <a:lnTo>
                    <a:pt x="4141" y="12525"/>
                  </a:lnTo>
                  <a:lnTo>
                    <a:pt x="3973" y="11987"/>
                  </a:lnTo>
                  <a:lnTo>
                    <a:pt x="3838" y="11414"/>
                  </a:lnTo>
                  <a:lnTo>
                    <a:pt x="3771" y="10842"/>
                  </a:lnTo>
                  <a:lnTo>
                    <a:pt x="3771" y="10236"/>
                  </a:lnTo>
                  <a:lnTo>
                    <a:pt x="3838" y="9630"/>
                  </a:lnTo>
                  <a:lnTo>
                    <a:pt x="3939" y="9057"/>
                  </a:lnTo>
                  <a:lnTo>
                    <a:pt x="4007" y="8754"/>
                  </a:lnTo>
                  <a:lnTo>
                    <a:pt x="4108" y="8519"/>
                  </a:lnTo>
                  <a:lnTo>
                    <a:pt x="4242" y="8249"/>
                  </a:lnTo>
                  <a:lnTo>
                    <a:pt x="4411" y="8047"/>
                  </a:lnTo>
                  <a:lnTo>
                    <a:pt x="4613" y="7845"/>
                  </a:lnTo>
                  <a:lnTo>
                    <a:pt x="4882" y="7677"/>
                  </a:lnTo>
                  <a:lnTo>
                    <a:pt x="5084" y="7576"/>
                  </a:lnTo>
                  <a:lnTo>
                    <a:pt x="5320" y="7509"/>
                  </a:lnTo>
                  <a:lnTo>
                    <a:pt x="5555" y="7441"/>
                  </a:lnTo>
                  <a:lnTo>
                    <a:pt x="5791" y="7408"/>
                  </a:lnTo>
                  <a:lnTo>
                    <a:pt x="6262" y="7374"/>
                  </a:lnTo>
                  <a:lnTo>
                    <a:pt x="6734" y="7374"/>
                  </a:lnTo>
                  <a:lnTo>
                    <a:pt x="6801" y="7408"/>
                  </a:lnTo>
                  <a:lnTo>
                    <a:pt x="6801" y="7004"/>
                  </a:lnTo>
                  <a:lnTo>
                    <a:pt x="6128" y="7004"/>
                  </a:lnTo>
                  <a:lnTo>
                    <a:pt x="5791" y="7037"/>
                  </a:lnTo>
                  <a:lnTo>
                    <a:pt x="5454" y="7105"/>
                  </a:lnTo>
                  <a:lnTo>
                    <a:pt x="5151" y="7206"/>
                  </a:lnTo>
                  <a:lnTo>
                    <a:pt x="4848" y="7340"/>
                  </a:lnTo>
                  <a:lnTo>
                    <a:pt x="4579" y="7475"/>
                  </a:lnTo>
                  <a:lnTo>
                    <a:pt x="4377" y="7610"/>
                  </a:lnTo>
                  <a:lnTo>
                    <a:pt x="4175" y="7812"/>
                  </a:lnTo>
                  <a:lnTo>
                    <a:pt x="4007" y="8014"/>
                  </a:lnTo>
                  <a:lnTo>
                    <a:pt x="3872" y="8249"/>
                  </a:lnTo>
                  <a:lnTo>
                    <a:pt x="3771" y="8485"/>
                  </a:lnTo>
                  <a:lnTo>
                    <a:pt x="3704" y="8721"/>
                  </a:lnTo>
                  <a:lnTo>
                    <a:pt x="3636" y="8990"/>
                  </a:lnTo>
                  <a:lnTo>
                    <a:pt x="3502" y="9529"/>
                  </a:lnTo>
                  <a:lnTo>
                    <a:pt x="3434" y="10202"/>
                  </a:lnTo>
                  <a:lnTo>
                    <a:pt x="3434" y="10876"/>
                  </a:lnTo>
                  <a:lnTo>
                    <a:pt x="3434" y="11212"/>
                  </a:lnTo>
                  <a:lnTo>
                    <a:pt x="3502" y="11549"/>
                  </a:lnTo>
                  <a:lnTo>
                    <a:pt x="3569" y="11886"/>
                  </a:lnTo>
                  <a:lnTo>
                    <a:pt x="3636" y="12222"/>
                  </a:lnTo>
                  <a:lnTo>
                    <a:pt x="3872" y="12795"/>
                  </a:lnTo>
                  <a:lnTo>
                    <a:pt x="4108" y="13401"/>
                  </a:lnTo>
                  <a:lnTo>
                    <a:pt x="4714" y="14512"/>
                  </a:lnTo>
                  <a:lnTo>
                    <a:pt x="5017" y="15084"/>
                  </a:lnTo>
                  <a:lnTo>
                    <a:pt x="5387" y="15623"/>
                  </a:lnTo>
                  <a:lnTo>
                    <a:pt x="5320" y="15690"/>
                  </a:lnTo>
                  <a:lnTo>
                    <a:pt x="5084" y="15926"/>
                  </a:lnTo>
                  <a:lnTo>
                    <a:pt x="4815" y="16027"/>
                  </a:lnTo>
                  <a:lnTo>
                    <a:pt x="4545" y="16094"/>
                  </a:lnTo>
                  <a:lnTo>
                    <a:pt x="4276" y="16094"/>
                  </a:lnTo>
                  <a:lnTo>
                    <a:pt x="3973" y="16027"/>
                  </a:lnTo>
                  <a:lnTo>
                    <a:pt x="3670" y="15892"/>
                  </a:lnTo>
                  <a:lnTo>
                    <a:pt x="3367" y="15724"/>
                  </a:lnTo>
                  <a:lnTo>
                    <a:pt x="3098" y="15522"/>
                  </a:lnTo>
                  <a:lnTo>
                    <a:pt x="2795" y="15286"/>
                  </a:lnTo>
                  <a:lnTo>
                    <a:pt x="2525" y="15050"/>
                  </a:lnTo>
                  <a:lnTo>
                    <a:pt x="1986" y="14545"/>
                  </a:lnTo>
                  <a:lnTo>
                    <a:pt x="1549" y="14040"/>
                  </a:lnTo>
                  <a:lnTo>
                    <a:pt x="1178" y="13636"/>
                  </a:lnTo>
                  <a:lnTo>
                    <a:pt x="1010" y="13401"/>
                  </a:lnTo>
                  <a:lnTo>
                    <a:pt x="842" y="13165"/>
                  </a:lnTo>
                  <a:lnTo>
                    <a:pt x="741" y="12929"/>
                  </a:lnTo>
                  <a:lnTo>
                    <a:pt x="606" y="12660"/>
                  </a:lnTo>
                  <a:lnTo>
                    <a:pt x="539" y="12391"/>
                  </a:lnTo>
                  <a:lnTo>
                    <a:pt x="471" y="12121"/>
                  </a:lnTo>
                  <a:lnTo>
                    <a:pt x="370" y="11549"/>
                  </a:lnTo>
                  <a:lnTo>
                    <a:pt x="337" y="10977"/>
                  </a:lnTo>
                  <a:lnTo>
                    <a:pt x="370" y="10404"/>
                  </a:lnTo>
                  <a:lnTo>
                    <a:pt x="471" y="9259"/>
                  </a:lnTo>
                  <a:lnTo>
                    <a:pt x="539" y="8687"/>
                  </a:lnTo>
                  <a:lnTo>
                    <a:pt x="640" y="8148"/>
                  </a:lnTo>
                  <a:lnTo>
                    <a:pt x="808" y="7610"/>
                  </a:lnTo>
                  <a:lnTo>
                    <a:pt x="976" y="7071"/>
                  </a:lnTo>
                  <a:lnTo>
                    <a:pt x="1246" y="6566"/>
                  </a:lnTo>
                  <a:lnTo>
                    <a:pt x="1549" y="6095"/>
                  </a:lnTo>
                  <a:lnTo>
                    <a:pt x="1717" y="5893"/>
                  </a:lnTo>
                  <a:lnTo>
                    <a:pt x="1919" y="5691"/>
                  </a:lnTo>
                  <a:lnTo>
                    <a:pt x="2155" y="5489"/>
                  </a:lnTo>
                  <a:lnTo>
                    <a:pt x="2391" y="5320"/>
                  </a:lnTo>
                  <a:lnTo>
                    <a:pt x="2458" y="5253"/>
                  </a:lnTo>
                  <a:lnTo>
                    <a:pt x="2458" y="5186"/>
                  </a:lnTo>
                  <a:lnTo>
                    <a:pt x="2593" y="5287"/>
                  </a:lnTo>
                  <a:lnTo>
                    <a:pt x="2626" y="5320"/>
                  </a:lnTo>
                  <a:lnTo>
                    <a:pt x="2660" y="5320"/>
                  </a:lnTo>
                  <a:lnTo>
                    <a:pt x="2727" y="5287"/>
                  </a:lnTo>
                  <a:lnTo>
                    <a:pt x="3199" y="4883"/>
                  </a:lnTo>
                  <a:lnTo>
                    <a:pt x="3333" y="4748"/>
                  </a:lnTo>
                  <a:lnTo>
                    <a:pt x="3401" y="4681"/>
                  </a:lnTo>
                  <a:lnTo>
                    <a:pt x="3434" y="4580"/>
                  </a:lnTo>
                  <a:lnTo>
                    <a:pt x="3401" y="4512"/>
                  </a:lnTo>
                  <a:lnTo>
                    <a:pt x="3266" y="4512"/>
                  </a:lnTo>
                  <a:lnTo>
                    <a:pt x="3165" y="4580"/>
                  </a:lnTo>
                  <a:lnTo>
                    <a:pt x="3030" y="4714"/>
                  </a:lnTo>
                  <a:lnTo>
                    <a:pt x="2660" y="5051"/>
                  </a:lnTo>
                  <a:lnTo>
                    <a:pt x="2559" y="4916"/>
                  </a:lnTo>
                  <a:lnTo>
                    <a:pt x="2727" y="4782"/>
                  </a:lnTo>
                  <a:lnTo>
                    <a:pt x="2828" y="4613"/>
                  </a:lnTo>
                  <a:lnTo>
                    <a:pt x="2997" y="4445"/>
                  </a:lnTo>
                  <a:lnTo>
                    <a:pt x="3131" y="4277"/>
                  </a:lnTo>
                  <a:lnTo>
                    <a:pt x="3165" y="4243"/>
                  </a:lnTo>
                  <a:lnTo>
                    <a:pt x="3333" y="4411"/>
                  </a:lnTo>
                  <a:lnTo>
                    <a:pt x="3502" y="4512"/>
                  </a:lnTo>
                  <a:lnTo>
                    <a:pt x="3670" y="4546"/>
                  </a:lnTo>
                  <a:lnTo>
                    <a:pt x="3838" y="4546"/>
                  </a:lnTo>
                  <a:lnTo>
                    <a:pt x="3939" y="4479"/>
                  </a:lnTo>
                  <a:lnTo>
                    <a:pt x="3973" y="4445"/>
                  </a:lnTo>
                  <a:lnTo>
                    <a:pt x="4007" y="4411"/>
                  </a:lnTo>
                  <a:lnTo>
                    <a:pt x="4108" y="4176"/>
                  </a:lnTo>
                  <a:lnTo>
                    <a:pt x="4242" y="3974"/>
                  </a:lnTo>
                  <a:lnTo>
                    <a:pt x="4411" y="3772"/>
                  </a:lnTo>
                  <a:lnTo>
                    <a:pt x="4613" y="3603"/>
                  </a:lnTo>
                  <a:lnTo>
                    <a:pt x="4882" y="3334"/>
                  </a:lnTo>
                  <a:lnTo>
                    <a:pt x="5118" y="3031"/>
                  </a:lnTo>
                  <a:lnTo>
                    <a:pt x="5353" y="2762"/>
                  </a:lnTo>
                  <a:lnTo>
                    <a:pt x="5555" y="2425"/>
                  </a:lnTo>
                  <a:lnTo>
                    <a:pt x="5589" y="2324"/>
                  </a:lnTo>
                  <a:lnTo>
                    <a:pt x="5522" y="2256"/>
                  </a:lnTo>
                  <a:lnTo>
                    <a:pt x="5454" y="2256"/>
                  </a:lnTo>
                  <a:lnTo>
                    <a:pt x="5387" y="2290"/>
                  </a:lnTo>
                  <a:lnTo>
                    <a:pt x="5286" y="2391"/>
                  </a:lnTo>
                  <a:lnTo>
                    <a:pt x="5252" y="2357"/>
                  </a:lnTo>
                  <a:lnTo>
                    <a:pt x="5623" y="1852"/>
                  </a:lnTo>
                  <a:lnTo>
                    <a:pt x="5993" y="1280"/>
                  </a:lnTo>
                  <a:lnTo>
                    <a:pt x="6666" y="169"/>
                  </a:lnTo>
                  <a:lnTo>
                    <a:pt x="6666" y="102"/>
                  </a:lnTo>
                  <a:lnTo>
                    <a:pt x="6633" y="34"/>
                  </a:lnTo>
                  <a:lnTo>
                    <a:pt x="656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hape 795"/>
            <p:cNvSpPr/>
            <p:nvPr/>
          </p:nvSpPr>
          <p:spPr>
            <a:xfrm>
              <a:off x="487080" y="27288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4" h="674">
                  <a:moveTo>
                    <a:pt x="876" y="0"/>
                  </a:moveTo>
                  <a:lnTo>
                    <a:pt x="808" y="34"/>
                  </a:lnTo>
                  <a:lnTo>
                    <a:pt x="741" y="135"/>
                  </a:lnTo>
                  <a:lnTo>
                    <a:pt x="707" y="236"/>
                  </a:lnTo>
                  <a:lnTo>
                    <a:pt x="640" y="505"/>
                  </a:lnTo>
                  <a:lnTo>
                    <a:pt x="539" y="371"/>
                  </a:lnTo>
                  <a:lnTo>
                    <a:pt x="472" y="270"/>
                  </a:lnTo>
                  <a:lnTo>
                    <a:pt x="539" y="169"/>
                  </a:lnTo>
                  <a:lnTo>
                    <a:pt x="539" y="101"/>
                  </a:lnTo>
                  <a:lnTo>
                    <a:pt x="505" y="68"/>
                  </a:lnTo>
                  <a:lnTo>
                    <a:pt x="438" y="68"/>
                  </a:lnTo>
                  <a:lnTo>
                    <a:pt x="371" y="101"/>
                  </a:lnTo>
                  <a:lnTo>
                    <a:pt x="202" y="404"/>
                  </a:lnTo>
                  <a:lnTo>
                    <a:pt x="202" y="371"/>
                  </a:lnTo>
                  <a:lnTo>
                    <a:pt x="169" y="236"/>
                  </a:lnTo>
                  <a:lnTo>
                    <a:pt x="135" y="202"/>
                  </a:lnTo>
                  <a:lnTo>
                    <a:pt x="101" y="169"/>
                  </a:lnTo>
                  <a:lnTo>
                    <a:pt x="68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0" y="270"/>
                  </a:lnTo>
                  <a:lnTo>
                    <a:pt x="34" y="371"/>
                  </a:lnTo>
                  <a:lnTo>
                    <a:pt x="101" y="606"/>
                  </a:lnTo>
                  <a:lnTo>
                    <a:pt x="135" y="674"/>
                  </a:lnTo>
                  <a:lnTo>
                    <a:pt x="202" y="674"/>
                  </a:lnTo>
                  <a:lnTo>
                    <a:pt x="270" y="640"/>
                  </a:lnTo>
                  <a:lnTo>
                    <a:pt x="404" y="404"/>
                  </a:lnTo>
                  <a:lnTo>
                    <a:pt x="438" y="472"/>
                  </a:lnTo>
                  <a:lnTo>
                    <a:pt x="505" y="606"/>
                  </a:lnTo>
                  <a:lnTo>
                    <a:pt x="640" y="674"/>
                  </a:lnTo>
                  <a:lnTo>
                    <a:pt x="707" y="674"/>
                  </a:lnTo>
                  <a:lnTo>
                    <a:pt x="741" y="640"/>
                  </a:lnTo>
                  <a:lnTo>
                    <a:pt x="842" y="371"/>
                  </a:lnTo>
                  <a:lnTo>
                    <a:pt x="943" y="101"/>
                  </a:lnTo>
                  <a:lnTo>
                    <a:pt x="943" y="34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hape 796"/>
            <p:cNvSpPr/>
            <p:nvPr/>
          </p:nvSpPr>
          <p:spPr>
            <a:xfrm>
              <a:off x="428400" y="209520"/>
              <a:ext cx="168120" cy="15840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7" h="2391">
                  <a:moveTo>
                    <a:pt x="2257" y="236"/>
                  </a:moveTo>
                  <a:lnTo>
                    <a:pt x="2257" y="674"/>
                  </a:lnTo>
                  <a:lnTo>
                    <a:pt x="2257" y="1078"/>
                  </a:lnTo>
                  <a:lnTo>
                    <a:pt x="2290" y="1617"/>
                  </a:lnTo>
                  <a:lnTo>
                    <a:pt x="2324" y="2122"/>
                  </a:lnTo>
                  <a:lnTo>
                    <a:pt x="2088" y="2088"/>
                  </a:lnTo>
                  <a:lnTo>
                    <a:pt x="1886" y="2088"/>
                  </a:lnTo>
                  <a:lnTo>
                    <a:pt x="1449" y="2122"/>
                  </a:lnTo>
                  <a:lnTo>
                    <a:pt x="910" y="2122"/>
                  </a:lnTo>
                  <a:lnTo>
                    <a:pt x="641" y="2155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7" y="1145"/>
                  </a:lnTo>
                  <a:lnTo>
                    <a:pt x="203" y="708"/>
                  </a:lnTo>
                  <a:lnTo>
                    <a:pt x="136" y="270"/>
                  </a:lnTo>
                  <a:lnTo>
                    <a:pt x="1179" y="270"/>
                  </a:lnTo>
                  <a:lnTo>
                    <a:pt x="2257" y="236"/>
                  </a:lnTo>
                  <a:close/>
                  <a:moveTo>
                    <a:pt x="2223" y="1"/>
                  </a:moveTo>
                  <a:lnTo>
                    <a:pt x="1179" y="34"/>
                  </a:lnTo>
                  <a:lnTo>
                    <a:pt x="641" y="34"/>
                  </a:lnTo>
                  <a:lnTo>
                    <a:pt x="136" y="102"/>
                  </a:lnTo>
                  <a:lnTo>
                    <a:pt x="68" y="135"/>
                  </a:lnTo>
                  <a:lnTo>
                    <a:pt x="35" y="203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5" y="1145"/>
                  </a:lnTo>
                  <a:lnTo>
                    <a:pt x="68" y="1751"/>
                  </a:lnTo>
                  <a:lnTo>
                    <a:pt x="136" y="2021"/>
                  </a:lnTo>
                  <a:lnTo>
                    <a:pt x="203" y="2324"/>
                  </a:lnTo>
                  <a:lnTo>
                    <a:pt x="237" y="2357"/>
                  </a:lnTo>
                  <a:lnTo>
                    <a:pt x="338" y="2357"/>
                  </a:lnTo>
                  <a:lnTo>
                    <a:pt x="573" y="2391"/>
                  </a:lnTo>
                  <a:lnTo>
                    <a:pt x="809" y="2391"/>
                  </a:lnTo>
                  <a:lnTo>
                    <a:pt x="1280" y="2357"/>
                  </a:lnTo>
                  <a:lnTo>
                    <a:pt x="2088" y="2357"/>
                  </a:lnTo>
                  <a:lnTo>
                    <a:pt x="2358" y="2290"/>
                  </a:lnTo>
                  <a:lnTo>
                    <a:pt x="2391" y="2324"/>
                  </a:lnTo>
                  <a:lnTo>
                    <a:pt x="2459" y="2324"/>
                  </a:lnTo>
                  <a:lnTo>
                    <a:pt x="2492" y="2256"/>
                  </a:lnTo>
                  <a:lnTo>
                    <a:pt x="2526" y="2021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9" y="640"/>
                  </a:lnTo>
                  <a:lnTo>
                    <a:pt x="2425" y="371"/>
                  </a:lnTo>
                  <a:lnTo>
                    <a:pt x="2358" y="68"/>
                  </a:lnTo>
                  <a:lnTo>
                    <a:pt x="2324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hape 797"/>
            <p:cNvSpPr/>
            <p:nvPr/>
          </p:nvSpPr>
          <p:spPr>
            <a:xfrm>
              <a:off x="2989080" y="282240"/>
              <a:ext cx="45720" cy="25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75" h="405">
                  <a:moveTo>
                    <a:pt x="68" y="1"/>
                  </a:moveTo>
                  <a:lnTo>
                    <a:pt x="35" y="35"/>
                  </a:lnTo>
                  <a:lnTo>
                    <a:pt x="1" y="68"/>
                  </a:lnTo>
                  <a:lnTo>
                    <a:pt x="1" y="102"/>
                  </a:lnTo>
                  <a:lnTo>
                    <a:pt x="35" y="136"/>
                  </a:lnTo>
                  <a:lnTo>
                    <a:pt x="102" y="237"/>
                  </a:lnTo>
                  <a:lnTo>
                    <a:pt x="237" y="304"/>
                  </a:lnTo>
                  <a:lnTo>
                    <a:pt x="371" y="371"/>
                  </a:lnTo>
                  <a:lnTo>
                    <a:pt x="506" y="405"/>
                  </a:lnTo>
                  <a:lnTo>
                    <a:pt x="607" y="405"/>
                  </a:lnTo>
                  <a:lnTo>
                    <a:pt x="674" y="338"/>
                  </a:lnTo>
                  <a:lnTo>
                    <a:pt x="674" y="237"/>
                  </a:lnTo>
                  <a:lnTo>
                    <a:pt x="607" y="136"/>
                  </a:lnTo>
                  <a:lnTo>
                    <a:pt x="472" y="68"/>
                  </a:lnTo>
                  <a:lnTo>
                    <a:pt x="338" y="35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1440" bIns="-91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hape 798"/>
            <p:cNvSpPr/>
            <p:nvPr/>
          </p:nvSpPr>
          <p:spPr>
            <a:xfrm>
              <a:off x="360360" y="447480"/>
              <a:ext cx="39600" cy="56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7" h="876">
                  <a:moveTo>
                    <a:pt x="303" y="0"/>
                  </a:moveTo>
                  <a:lnTo>
                    <a:pt x="236" y="34"/>
                  </a:lnTo>
                  <a:lnTo>
                    <a:pt x="202" y="68"/>
                  </a:lnTo>
                  <a:lnTo>
                    <a:pt x="101" y="472"/>
                  </a:lnTo>
                  <a:lnTo>
                    <a:pt x="34" y="640"/>
                  </a:lnTo>
                  <a:lnTo>
                    <a:pt x="0" y="741"/>
                  </a:lnTo>
                  <a:lnTo>
                    <a:pt x="0" y="808"/>
                  </a:lnTo>
                  <a:lnTo>
                    <a:pt x="34" y="842"/>
                  </a:lnTo>
                  <a:lnTo>
                    <a:pt x="68" y="842"/>
                  </a:lnTo>
                  <a:lnTo>
                    <a:pt x="169" y="775"/>
                  </a:lnTo>
                  <a:lnTo>
                    <a:pt x="202" y="707"/>
                  </a:lnTo>
                  <a:lnTo>
                    <a:pt x="371" y="707"/>
                  </a:lnTo>
                  <a:lnTo>
                    <a:pt x="438" y="842"/>
                  </a:lnTo>
                  <a:lnTo>
                    <a:pt x="472" y="876"/>
                  </a:lnTo>
                  <a:lnTo>
                    <a:pt x="505" y="876"/>
                  </a:lnTo>
                  <a:lnTo>
                    <a:pt x="573" y="842"/>
                  </a:lnTo>
                  <a:lnTo>
                    <a:pt x="573" y="808"/>
                  </a:lnTo>
                  <a:lnTo>
                    <a:pt x="573" y="674"/>
                  </a:lnTo>
                  <a:lnTo>
                    <a:pt x="573" y="640"/>
                  </a:lnTo>
                  <a:lnTo>
                    <a:pt x="606" y="606"/>
                  </a:lnTo>
                  <a:lnTo>
                    <a:pt x="573" y="573"/>
                  </a:lnTo>
                  <a:lnTo>
                    <a:pt x="539" y="573"/>
                  </a:lnTo>
                  <a:lnTo>
                    <a:pt x="505" y="438"/>
                  </a:lnTo>
                  <a:lnTo>
                    <a:pt x="371" y="68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hape 799"/>
            <p:cNvSpPr/>
            <p:nvPr/>
          </p:nvSpPr>
          <p:spPr>
            <a:xfrm>
              <a:off x="244440" y="212400"/>
              <a:ext cx="161640" cy="17928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59" h="2694">
                  <a:moveTo>
                    <a:pt x="2290" y="236"/>
                  </a:moveTo>
                  <a:lnTo>
                    <a:pt x="2223" y="741"/>
                  </a:lnTo>
                  <a:lnTo>
                    <a:pt x="2189" y="1280"/>
                  </a:lnTo>
                  <a:lnTo>
                    <a:pt x="2223" y="1818"/>
                  </a:lnTo>
                  <a:lnTo>
                    <a:pt x="2290" y="2323"/>
                  </a:lnTo>
                  <a:lnTo>
                    <a:pt x="2290" y="2357"/>
                  </a:lnTo>
                  <a:lnTo>
                    <a:pt x="1819" y="2357"/>
                  </a:lnTo>
                  <a:lnTo>
                    <a:pt x="1347" y="2391"/>
                  </a:lnTo>
                  <a:lnTo>
                    <a:pt x="371" y="2391"/>
                  </a:lnTo>
                  <a:lnTo>
                    <a:pt x="270" y="1313"/>
                  </a:lnTo>
                  <a:lnTo>
                    <a:pt x="169" y="270"/>
                  </a:lnTo>
                  <a:lnTo>
                    <a:pt x="708" y="303"/>
                  </a:lnTo>
                  <a:lnTo>
                    <a:pt x="1213" y="303"/>
                  </a:lnTo>
                  <a:lnTo>
                    <a:pt x="2290" y="236"/>
                  </a:lnTo>
                  <a:close/>
                  <a:moveTo>
                    <a:pt x="2290" y="0"/>
                  </a:moveTo>
                  <a:lnTo>
                    <a:pt x="1751" y="34"/>
                  </a:lnTo>
                  <a:lnTo>
                    <a:pt x="1213" y="68"/>
                  </a:lnTo>
                  <a:lnTo>
                    <a:pt x="674" y="68"/>
                  </a:lnTo>
                  <a:lnTo>
                    <a:pt x="135" y="101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1" y="236"/>
                  </a:lnTo>
                  <a:lnTo>
                    <a:pt x="1" y="842"/>
                  </a:lnTo>
                  <a:lnTo>
                    <a:pt x="1" y="1448"/>
                  </a:lnTo>
                  <a:lnTo>
                    <a:pt x="68" y="2054"/>
                  </a:lnTo>
                  <a:lnTo>
                    <a:pt x="169" y="2626"/>
                  </a:lnTo>
                  <a:lnTo>
                    <a:pt x="236" y="2694"/>
                  </a:lnTo>
                  <a:lnTo>
                    <a:pt x="304" y="2694"/>
                  </a:lnTo>
                  <a:lnTo>
                    <a:pt x="371" y="2660"/>
                  </a:lnTo>
                  <a:lnTo>
                    <a:pt x="405" y="2593"/>
                  </a:lnTo>
                  <a:lnTo>
                    <a:pt x="371" y="2525"/>
                  </a:lnTo>
                  <a:lnTo>
                    <a:pt x="842" y="2593"/>
                  </a:lnTo>
                  <a:lnTo>
                    <a:pt x="1347" y="2626"/>
                  </a:lnTo>
                  <a:lnTo>
                    <a:pt x="1819" y="2593"/>
                  </a:lnTo>
                  <a:lnTo>
                    <a:pt x="2054" y="2559"/>
                  </a:lnTo>
                  <a:lnTo>
                    <a:pt x="2290" y="2525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357" y="2424"/>
                  </a:lnTo>
                  <a:lnTo>
                    <a:pt x="2391" y="2424"/>
                  </a:lnTo>
                  <a:lnTo>
                    <a:pt x="2425" y="2391"/>
                  </a:lnTo>
                  <a:lnTo>
                    <a:pt x="2458" y="2323"/>
                  </a:lnTo>
                  <a:lnTo>
                    <a:pt x="2458" y="1818"/>
                  </a:lnTo>
                  <a:lnTo>
                    <a:pt x="2458" y="1246"/>
                  </a:lnTo>
                  <a:lnTo>
                    <a:pt x="2425" y="707"/>
                  </a:lnTo>
                  <a:lnTo>
                    <a:pt x="2357" y="202"/>
                  </a:lnTo>
                  <a:lnTo>
                    <a:pt x="2391" y="135"/>
                  </a:lnTo>
                  <a:lnTo>
                    <a:pt x="2391" y="68"/>
                  </a:lnTo>
                  <a:lnTo>
                    <a:pt x="2357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hape 800"/>
            <p:cNvSpPr/>
            <p:nvPr/>
          </p:nvSpPr>
          <p:spPr>
            <a:xfrm>
              <a:off x="641160" y="622080"/>
              <a:ext cx="52200" cy="50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75" h="775">
                  <a:moveTo>
                    <a:pt x="674" y="0"/>
                  </a:moveTo>
                  <a:lnTo>
                    <a:pt x="505" y="135"/>
                  </a:lnTo>
                  <a:lnTo>
                    <a:pt x="371" y="236"/>
                  </a:lnTo>
                  <a:lnTo>
                    <a:pt x="169" y="135"/>
                  </a:lnTo>
                  <a:lnTo>
                    <a:pt x="135" y="101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101" y="236"/>
                  </a:lnTo>
                  <a:lnTo>
                    <a:pt x="236" y="371"/>
                  </a:lnTo>
                  <a:lnTo>
                    <a:pt x="135" y="472"/>
                  </a:lnTo>
                  <a:lnTo>
                    <a:pt x="68" y="573"/>
                  </a:lnTo>
                  <a:lnTo>
                    <a:pt x="34" y="606"/>
                  </a:lnTo>
                  <a:lnTo>
                    <a:pt x="0" y="674"/>
                  </a:lnTo>
                  <a:lnTo>
                    <a:pt x="34" y="741"/>
                  </a:lnTo>
                  <a:lnTo>
                    <a:pt x="101" y="775"/>
                  </a:lnTo>
                  <a:lnTo>
                    <a:pt x="202" y="707"/>
                  </a:lnTo>
                  <a:lnTo>
                    <a:pt x="270" y="640"/>
                  </a:lnTo>
                  <a:lnTo>
                    <a:pt x="404" y="472"/>
                  </a:lnTo>
                  <a:lnTo>
                    <a:pt x="640" y="573"/>
                  </a:lnTo>
                  <a:lnTo>
                    <a:pt x="741" y="539"/>
                  </a:lnTo>
                  <a:lnTo>
                    <a:pt x="775" y="472"/>
                  </a:lnTo>
                  <a:lnTo>
                    <a:pt x="775" y="404"/>
                  </a:lnTo>
                  <a:lnTo>
                    <a:pt x="707" y="371"/>
                  </a:lnTo>
                  <a:lnTo>
                    <a:pt x="539" y="337"/>
                  </a:lnTo>
                  <a:lnTo>
                    <a:pt x="606" y="270"/>
                  </a:lnTo>
                  <a:lnTo>
                    <a:pt x="707" y="34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Shape 801"/>
            <p:cNvSpPr/>
            <p:nvPr/>
          </p:nvSpPr>
          <p:spPr>
            <a:xfrm>
              <a:off x="617400" y="201600"/>
              <a:ext cx="169560" cy="160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59" h="2425">
                  <a:moveTo>
                    <a:pt x="168" y="169"/>
                  </a:moveTo>
                  <a:lnTo>
                    <a:pt x="370" y="270"/>
                  </a:lnTo>
                  <a:lnTo>
                    <a:pt x="572" y="304"/>
                  </a:lnTo>
                  <a:lnTo>
                    <a:pt x="1010" y="270"/>
                  </a:lnTo>
                  <a:lnTo>
                    <a:pt x="1650" y="304"/>
                  </a:lnTo>
                  <a:lnTo>
                    <a:pt x="2290" y="338"/>
                  </a:lnTo>
                  <a:lnTo>
                    <a:pt x="2290" y="708"/>
                  </a:lnTo>
                  <a:lnTo>
                    <a:pt x="2323" y="1078"/>
                  </a:lnTo>
                  <a:lnTo>
                    <a:pt x="2323" y="1583"/>
                  </a:lnTo>
                  <a:lnTo>
                    <a:pt x="2323" y="1853"/>
                  </a:lnTo>
                  <a:lnTo>
                    <a:pt x="2391" y="2088"/>
                  </a:lnTo>
                  <a:lnTo>
                    <a:pt x="2357" y="2088"/>
                  </a:lnTo>
                  <a:lnTo>
                    <a:pt x="1313" y="2122"/>
                  </a:lnTo>
                  <a:lnTo>
                    <a:pt x="808" y="2156"/>
                  </a:lnTo>
                  <a:lnTo>
                    <a:pt x="539" y="2189"/>
                  </a:lnTo>
                  <a:lnTo>
                    <a:pt x="303" y="2223"/>
                  </a:lnTo>
                  <a:lnTo>
                    <a:pt x="236" y="1718"/>
                  </a:lnTo>
                  <a:lnTo>
                    <a:pt x="236" y="1213"/>
                  </a:lnTo>
                  <a:lnTo>
                    <a:pt x="269" y="708"/>
                  </a:lnTo>
                  <a:lnTo>
                    <a:pt x="236" y="439"/>
                  </a:lnTo>
                  <a:lnTo>
                    <a:pt x="202" y="304"/>
                  </a:lnTo>
                  <a:lnTo>
                    <a:pt x="168" y="169"/>
                  </a:lnTo>
                  <a:close/>
                  <a:moveTo>
                    <a:pt x="2357" y="1"/>
                  </a:moveTo>
                  <a:lnTo>
                    <a:pt x="2357" y="35"/>
                  </a:lnTo>
                  <a:lnTo>
                    <a:pt x="2323" y="136"/>
                  </a:lnTo>
                  <a:lnTo>
                    <a:pt x="1751" y="68"/>
                  </a:lnTo>
                  <a:lnTo>
                    <a:pt x="1178" y="68"/>
                  </a:lnTo>
                  <a:lnTo>
                    <a:pt x="640" y="35"/>
                  </a:lnTo>
                  <a:lnTo>
                    <a:pt x="404" y="68"/>
                  </a:lnTo>
                  <a:lnTo>
                    <a:pt x="269" y="102"/>
                  </a:lnTo>
                  <a:lnTo>
                    <a:pt x="168" y="169"/>
                  </a:lnTo>
                  <a:lnTo>
                    <a:pt x="135" y="169"/>
                  </a:lnTo>
                  <a:lnTo>
                    <a:pt x="67" y="338"/>
                  </a:lnTo>
                  <a:lnTo>
                    <a:pt x="34" y="506"/>
                  </a:lnTo>
                  <a:lnTo>
                    <a:pt x="0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55"/>
                  </a:lnTo>
                  <a:lnTo>
                    <a:pt x="34" y="2189"/>
                  </a:lnTo>
                  <a:lnTo>
                    <a:pt x="67" y="2290"/>
                  </a:lnTo>
                  <a:lnTo>
                    <a:pt x="135" y="2358"/>
                  </a:lnTo>
                  <a:lnTo>
                    <a:pt x="236" y="2425"/>
                  </a:lnTo>
                  <a:lnTo>
                    <a:pt x="303" y="2425"/>
                  </a:lnTo>
                  <a:lnTo>
                    <a:pt x="303" y="2358"/>
                  </a:lnTo>
                  <a:lnTo>
                    <a:pt x="572" y="2391"/>
                  </a:lnTo>
                  <a:lnTo>
                    <a:pt x="808" y="2425"/>
                  </a:lnTo>
                  <a:lnTo>
                    <a:pt x="1347" y="2391"/>
                  </a:lnTo>
                  <a:lnTo>
                    <a:pt x="2357" y="2324"/>
                  </a:lnTo>
                  <a:lnTo>
                    <a:pt x="2424" y="2290"/>
                  </a:lnTo>
                  <a:lnTo>
                    <a:pt x="2492" y="2324"/>
                  </a:lnTo>
                  <a:lnTo>
                    <a:pt x="2525" y="2324"/>
                  </a:lnTo>
                  <a:lnTo>
                    <a:pt x="2525" y="2290"/>
                  </a:lnTo>
                  <a:lnTo>
                    <a:pt x="2559" y="2021"/>
                  </a:lnTo>
                  <a:lnTo>
                    <a:pt x="2559" y="1752"/>
                  </a:lnTo>
                  <a:lnTo>
                    <a:pt x="2525" y="1247"/>
                  </a:lnTo>
                  <a:lnTo>
                    <a:pt x="2492" y="641"/>
                  </a:lnTo>
                  <a:lnTo>
                    <a:pt x="2492" y="338"/>
                  </a:lnTo>
                  <a:lnTo>
                    <a:pt x="2458" y="35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hape 802"/>
            <p:cNvSpPr/>
            <p:nvPr/>
          </p:nvSpPr>
          <p:spPr>
            <a:xfrm>
              <a:off x="684000" y="26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40" h="775">
                  <a:moveTo>
                    <a:pt x="101" y="0"/>
                  </a:moveTo>
                  <a:lnTo>
                    <a:pt x="67" y="34"/>
                  </a:lnTo>
                  <a:lnTo>
                    <a:pt x="34" y="337"/>
                  </a:lnTo>
                  <a:lnTo>
                    <a:pt x="34" y="606"/>
                  </a:lnTo>
                  <a:lnTo>
                    <a:pt x="67" y="640"/>
                  </a:lnTo>
                  <a:lnTo>
                    <a:pt x="67" y="674"/>
                  </a:lnTo>
                  <a:lnTo>
                    <a:pt x="0" y="674"/>
                  </a:lnTo>
                  <a:lnTo>
                    <a:pt x="0" y="707"/>
                  </a:lnTo>
                  <a:lnTo>
                    <a:pt x="168" y="775"/>
                  </a:lnTo>
                  <a:lnTo>
                    <a:pt x="370" y="775"/>
                  </a:lnTo>
                  <a:lnTo>
                    <a:pt x="505" y="741"/>
                  </a:lnTo>
                  <a:lnTo>
                    <a:pt x="573" y="707"/>
                  </a:lnTo>
                  <a:lnTo>
                    <a:pt x="640" y="674"/>
                  </a:lnTo>
                  <a:lnTo>
                    <a:pt x="640" y="640"/>
                  </a:lnTo>
                  <a:lnTo>
                    <a:pt x="606" y="606"/>
                  </a:lnTo>
                  <a:lnTo>
                    <a:pt x="539" y="573"/>
                  </a:lnTo>
                  <a:lnTo>
                    <a:pt x="472" y="606"/>
                  </a:lnTo>
                  <a:lnTo>
                    <a:pt x="337" y="640"/>
                  </a:lnTo>
                  <a:lnTo>
                    <a:pt x="168" y="674"/>
                  </a:lnTo>
                  <a:lnTo>
                    <a:pt x="168" y="606"/>
                  </a:lnTo>
                  <a:lnTo>
                    <a:pt x="168" y="371"/>
                  </a:lnTo>
                  <a:lnTo>
                    <a:pt x="236" y="404"/>
                  </a:lnTo>
                  <a:lnTo>
                    <a:pt x="472" y="404"/>
                  </a:lnTo>
                  <a:lnTo>
                    <a:pt x="505" y="337"/>
                  </a:lnTo>
                  <a:lnTo>
                    <a:pt x="505" y="303"/>
                  </a:lnTo>
                  <a:lnTo>
                    <a:pt x="472" y="236"/>
                  </a:lnTo>
                  <a:lnTo>
                    <a:pt x="202" y="236"/>
                  </a:lnTo>
                  <a:lnTo>
                    <a:pt x="168" y="270"/>
                  </a:lnTo>
                  <a:lnTo>
                    <a:pt x="135" y="34"/>
                  </a:lnTo>
                  <a:lnTo>
                    <a:pt x="101" y="3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hape 803"/>
            <p:cNvSpPr/>
            <p:nvPr/>
          </p:nvSpPr>
          <p:spPr>
            <a:xfrm>
              <a:off x="537840" y="44928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7" h="876">
                  <a:moveTo>
                    <a:pt x="371" y="0"/>
                  </a:moveTo>
                  <a:lnTo>
                    <a:pt x="304" y="34"/>
                  </a:lnTo>
                  <a:lnTo>
                    <a:pt x="169" y="67"/>
                  </a:lnTo>
                  <a:lnTo>
                    <a:pt x="102" y="135"/>
                  </a:lnTo>
                  <a:lnTo>
                    <a:pt x="102" y="168"/>
                  </a:lnTo>
                  <a:lnTo>
                    <a:pt x="68" y="269"/>
                  </a:lnTo>
                  <a:lnTo>
                    <a:pt x="68" y="337"/>
                  </a:lnTo>
                  <a:lnTo>
                    <a:pt x="135" y="438"/>
                  </a:lnTo>
                  <a:lnTo>
                    <a:pt x="270" y="505"/>
                  </a:lnTo>
                  <a:lnTo>
                    <a:pt x="405" y="539"/>
                  </a:lnTo>
                  <a:lnTo>
                    <a:pt x="405" y="606"/>
                  </a:lnTo>
                  <a:lnTo>
                    <a:pt x="337" y="673"/>
                  </a:lnTo>
                  <a:lnTo>
                    <a:pt x="304" y="707"/>
                  </a:lnTo>
                  <a:lnTo>
                    <a:pt x="236" y="673"/>
                  </a:lnTo>
                  <a:lnTo>
                    <a:pt x="135" y="640"/>
                  </a:lnTo>
                  <a:lnTo>
                    <a:pt x="34" y="640"/>
                  </a:lnTo>
                  <a:lnTo>
                    <a:pt x="1" y="673"/>
                  </a:lnTo>
                  <a:lnTo>
                    <a:pt x="1" y="741"/>
                  </a:lnTo>
                  <a:lnTo>
                    <a:pt x="34" y="774"/>
                  </a:lnTo>
                  <a:lnTo>
                    <a:pt x="135" y="842"/>
                  </a:lnTo>
                  <a:lnTo>
                    <a:pt x="236" y="875"/>
                  </a:lnTo>
                  <a:lnTo>
                    <a:pt x="337" y="875"/>
                  </a:lnTo>
                  <a:lnTo>
                    <a:pt x="438" y="808"/>
                  </a:lnTo>
                  <a:lnTo>
                    <a:pt x="539" y="741"/>
                  </a:lnTo>
                  <a:lnTo>
                    <a:pt x="573" y="640"/>
                  </a:lnTo>
                  <a:lnTo>
                    <a:pt x="607" y="539"/>
                  </a:lnTo>
                  <a:lnTo>
                    <a:pt x="573" y="438"/>
                  </a:lnTo>
                  <a:lnTo>
                    <a:pt x="539" y="404"/>
                  </a:lnTo>
                  <a:lnTo>
                    <a:pt x="472" y="370"/>
                  </a:lnTo>
                  <a:lnTo>
                    <a:pt x="337" y="337"/>
                  </a:lnTo>
                  <a:lnTo>
                    <a:pt x="304" y="303"/>
                  </a:lnTo>
                  <a:lnTo>
                    <a:pt x="270" y="269"/>
                  </a:lnTo>
                  <a:lnTo>
                    <a:pt x="270" y="202"/>
                  </a:lnTo>
                  <a:lnTo>
                    <a:pt x="337" y="168"/>
                  </a:lnTo>
                  <a:lnTo>
                    <a:pt x="506" y="168"/>
                  </a:lnTo>
                  <a:lnTo>
                    <a:pt x="506" y="135"/>
                  </a:lnTo>
                  <a:lnTo>
                    <a:pt x="472" y="67"/>
                  </a:lnTo>
                  <a:lnTo>
                    <a:pt x="438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hape 804"/>
            <p:cNvSpPr/>
            <p:nvPr/>
          </p:nvSpPr>
          <p:spPr>
            <a:xfrm>
              <a:off x="474480" y="38880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2459" h="2426">
                  <a:moveTo>
                    <a:pt x="2290" y="203"/>
                  </a:moveTo>
                  <a:lnTo>
                    <a:pt x="2256" y="641"/>
                  </a:lnTo>
                  <a:lnTo>
                    <a:pt x="2256" y="1078"/>
                  </a:lnTo>
                  <a:lnTo>
                    <a:pt x="2222" y="1617"/>
                  </a:lnTo>
                  <a:lnTo>
                    <a:pt x="2222" y="2156"/>
                  </a:lnTo>
                  <a:lnTo>
                    <a:pt x="1953" y="2122"/>
                  </a:lnTo>
                  <a:lnTo>
                    <a:pt x="1684" y="2088"/>
                  </a:lnTo>
                  <a:lnTo>
                    <a:pt x="1145" y="2122"/>
                  </a:lnTo>
                  <a:lnTo>
                    <a:pt x="707" y="2156"/>
                  </a:lnTo>
                  <a:lnTo>
                    <a:pt x="472" y="2156"/>
                  </a:lnTo>
                  <a:lnTo>
                    <a:pt x="270" y="2223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02" y="742"/>
                  </a:lnTo>
                  <a:lnTo>
                    <a:pt x="202" y="304"/>
                  </a:lnTo>
                  <a:lnTo>
                    <a:pt x="1246" y="270"/>
                  </a:lnTo>
                  <a:lnTo>
                    <a:pt x="1751" y="237"/>
                  </a:lnTo>
                  <a:lnTo>
                    <a:pt x="2290" y="203"/>
                  </a:lnTo>
                  <a:close/>
                  <a:moveTo>
                    <a:pt x="1751" y="1"/>
                  </a:moveTo>
                  <a:lnTo>
                    <a:pt x="1212" y="35"/>
                  </a:lnTo>
                  <a:lnTo>
                    <a:pt x="169" y="102"/>
                  </a:lnTo>
                  <a:lnTo>
                    <a:pt x="135" y="102"/>
                  </a:lnTo>
                  <a:lnTo>
                    <a:pt x="101" y="136"/>
                  </a:lnTo>
                  <a:lnTo>
                    <a:pt x="68" y="169"/>
                  </a:lnTo>
                  <a:lnTo>
                    <a:pt x="0" y="439"/>
                  </a:lnTo>
                  <a:lnTo>
                    <a:pt x="0" y="742"/>
                  </a:lnTo>
                  <a:lnTo>
                    <a:pt x="34" y="1348"/>
                  </a:lnTo>
                  <a:lnTo>
                    <a:pt x="34" y="1853"/>
                  </a:lnTo>
                  <a:lnTo>
                    <a:pt x="68" y="2122"/>
                  </a:lnTo>
                  <a:lnTo>
                    <a:pt x="101" y="2358"/>
                  </a:lnTo>
                  <a:lnTo>
                    <a:pt x="135" y="2391"/>
                  </a:lnTo>
                  <a:lnTo>
                    <a:pt x="169" y="2425"/>
                  </a:lnTo>
                  <a:lnTo>
                    <a:pt x="202" y="2425"/>
                  </a:lnTo>
                  <a:lnTo>
                    <a:pt x="236" y="2391"/>
                  </a:lnTo>
                  <a:lnTo>
                    <a:pt x="775" y="2391"/>
                  </a:lnTo>
                  <a:lnTo>
                    <a:pt x="1313" y="2358"/>
                  </a:lnTo>
                  <a:lnTo>
                    <a:pt x="1785" y="2358"/>
                  </a:lnTo>
                  <a:lnTo>
                    <a:pt x="2020" y="2324"/>
                  </a:lnTo>
                  <a:lnTo>
                    <a:pt x="2256" y="2290"/>
                  </a:lnTo>
                  <a:lnTo>
                    <a:pt x="2256" y="2257"/>
                  </a:lnTo>
                  <a:lnTo>
                    <a:pt x="2323" y="2290"/>
                  </a:lnTo>
                  <a:lnTo>
                    <a:pt x="2357" y="2257"/>
                  </a:lnTo>
                  <a:lnTo>
                    <a:pt x="2391" y="2223"/>
                  </a:lnTo>
                  <a:lnTo>
                    <a:pt x="2424" y="1954"/>
                  </a:lnTo>
                  <a:lnTo>
                    <a:pt x="2458" y="1651"/>
                  </a:lnTo>
                  <a:lnTo>
                    <a:pt x="2458" y="1045"/>
                  </a:lnTo>
                  <a:lnTo>
                    <a:pt x="2458" y="573"/>
                  </a:lnTo>
                  <a:lnTo>
                    <a:pt x="2424" y="338"/>
                  </a:lnTo>
                  <a:lnTo>
                    <a:pt x="2357" y="102"/>
                  </a:lnTo>
                  <a:lnTo>
                    <a:pt x="2357" y="35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hape 805"/>
            <p:cNvSpPr/>
            <p:nvPr/>
          </p:nvSpPr>
          <p:spPr>
            <a:xfrm>
              <a:off x="2998800" y="234720"/>
              <a:ext cx="47520" cy="23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08" h="372">
                  <a:moveTo>
                    <a:pt x="169" y="1"/>
                  </a:moveTo>
                  <a:lnTo>
                    <a:pt x="34" y="35"/>
                  </a:lnTo>
                  <a:lnTo>
                    <a:pt x="1" y="68"/>
                  </a:lnTo>
                  <a:lnTo>
                    <a:pt x="1" y="102"/>
                  </a:lnTo>
                  <a:lnTo>
                    <a:pt x="34" y="203"/>
                  </a:lnTo>
                  <a:lnTo>
                    <a:pt x="135" y="270"/>
                  </a:lnTo>
                  <a:lnTo>
                    <a:pt x="236" y="304"/>
                  </a:lnTo>
                  <a:lnTo>
                    <a:pt x="506" y="371"/>
                  </a:lnTo>
                  <a:lnTo>
                    <a:pt x="640" y="371"/>
                  </a:lnTo>
                  <a:lnTo>
                    <a:pt x="674" y="338"/>
                  </a:lnTo>
                  <a:lnTo>
                    <a:pt x="708" y="270"/>
                  </a:lnTo>
                  <a:lnTo>
                    <a:pt x="708" y="203"/>
                  </a:lnTo>
                  <a:lnTo>
                    <a:pt x="674" y="169"/>
                  </a:lnTo>
                  <a:lnTo>
                    <a:pt x="640" y="102"/>
                  </a:lnTo>
                  <a:lnTo>
                    <a:pt x="573" y="68"/>
                  </a:lnTo>
                  <a:lnTo>
                    <a:pt x="30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2880" bIns="-92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hape 806"/>
            <p:cNvSpPr/>
            <p:nvPr/>
          </p:nvSpPr>
          <p:spPr>
            <a:xfrm>
              <a:off x="2938320" y="141120"/>
              <a:ext cx="728640" cy="31428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0977" h="4749">
                  <a:moveTo>
                    <a:pt x="438" y="843"/>
                  </a:moveTo>
                  <a:lnTo>
                    <a:pt x="674" y="910"/>
                  </a:lnTo>
                  <a:lnTo>
                    <a:pt x="876" y="977"/>
                  </a:lnTo>
                  <a:lnTo>
                    <a:pt x="1145" y="944"/>
                  </a:lnTo>
                  <a:lnTo>
                    <a:pt x="1415" y="944"/>
                  </a:lnTo>
                  <a:lnTo>
                    <a:pt x="1684" y="977"/>
                  </a:lnTo>
                  <a:lnTo>
                    <a:pt x="1920" y="1078"/>
                  </a:lnTo>
                  <a:lnTo>
                    <a:pt x="1852" y="1651"/>
                  </a:lnTo>
                  <a:lnTo>
                    <a:pt x="1718" y="2829"/>
                  </a:lnTo>
                  <a:lnTo>
                    <a:pt x="1482" y="2762"/>
                  </a:lnTo>
                  <a:lnTo>
                    <a:pt x="1280" y="2694"/>
                  </a:lnTo>
                  <a:lnTo>
                    <a:pt x="1044" y="2627"/>
                  </a:lnTo>
                  <a:lnTo>
                    <a:pt x="809" y="2560"/>
                  </a:lnTo>
                  <a:lnTo>
                    <a:pt x="573" y="2560"/>
                  </a:lnTo>
                  <a:lnTo>
                    <a:pt x="304" y="2526"/>
                  </a:lnTo>
                  <a:lnTo>
                    <a:pt x="236" y="2526"/>
                  </a:lnTo>
                  <a:lnTo>
                    <a:pt x="270" y="2257"/>
                  </a:lnTo>
                  <a:lnTo>
                    <a:pt x="304" y="1987"/>
                  </a:lnTo>
                  <a:lnTo>
                    <a:pt x="371" y="1449"/>
                  </a:lnTo>
                  <a:lnTo>
                    <a:pt x="438" y="1146"/>
                  </a:lnTo>
                  <a:lnTo>
                    <a:pt x="438" y="977"/>
                  </a:lnTo>
                  <a:lnTo>
                    <a:pt x="438" y="843"/>
                  </a:lnTo>
                  <a:close/>
                  <a:moveTo>
                    <a:pt x="3031" y="236"/>
                  </a:moveTo>
                  <a:lnTo>
                    <a:pt x="3367" y="337"/>
                  </a:lnTo>
                  <a:lnTo>
                    <a:pt x="3704" y="405"/>
                  </a:lnTo>
                  <a:lnTo>
                    <a:pt x="4377" y="438"/>
                  </a:lnTo>
                  <a:lnTo>
                    <a:pt x="6229" y="607"/>
                  </a:lnTo>
                  <a:lnTo>
                    <a:pt x="7980" y="775"/>
                  </a:lnTo>
                  <a:lnTo>
                    <a:pt x="9697" y="977"/>
                  </a:lnTo>
                  <a:lnTo>
                    <a:pt x="9764" y="977"/>
                  </a:lnTo>
                  <a:lnTo>
                    <a:pt x="9933" y="1045"/>
                  </a:lnTo>
                  <a:lnTo>
                    <a:pt x="10067" y="1146"/>
                  </a:lnTo>
                  <a:lnTo>
                    <a:pt x="10303" y="1381"/>
                  </a:lnTo>
                  <a:lnTo>
                    <a:pt x="10471" y="1583"/>
                  </a:lnTo>
                  <a:lnTo>
                    <a:pt x="10572" y="1752"/>
                  </a:lnTo>
                  <a:lnTo>
                    <a:pt x="10640" y="1920"/>
                  </a:lnTo>
                  <a:lnTo>
                    <a:pt x="10707" y="2088"/>
                  </a:lnTo>
                  <a:lnTo>
                    <a:pt x="10741" y="2290"/>
                  </a:lnTo>
                  <a:lnTo>
                    <a:pt x="10741" y="2492"/>
                  </a:lnTo>
                  <a:lnTo>
                    <a:pt x="10673" y="2964"/>
                  </a:lnTo>
                  <a:lnTo>
                    <a:pt x="10640" y="3199"/>
                  </a:lnTo>
                  <a:lnTo>
                    <a:pt x="10572" y="3435"/>
                  </a:lnTo>
                  <a:lnTo>
                    <a:pt x="10471" y="3671"/>
                  </a:lnTo>
                  <a:lnTo>
                    <a:pt x="10337" y="3873"/>
                  </a:lnTo>
                  <a:lnTo>
                    <a:pt x="10202" y="4041"/>
                  </a:lnTo>
                  <a:lnTo>
                    <a:pt x="10067" y="4209"/>
                  </a:lnTo>
                  <a:lnTo>
                    <a:pt x="9865" y="4344"/>
                  </a:lnTo>
                  <a:lnTo>
                    <a:pt x="9663" y="4445"/>
                  </a:lnTo>
                  <a:lnTo>
                    <a:pt x="8687" y="4445"/>
                  </a:lnTo>
                  <a:lnTo>
                    <a:pt x="8249" y="4378"/>
                  </a:lnTo>
                  <a:lnTo>
                    <a:pt x="7778" y="4310"/>
                  </a:lnTo>
                  <a:lnTo>
                    <a:pt x="6902" y="4176"/>
                  </a:lnTo>
                  <a:lnTo>
                    <a:pt x="5993" y="4041"/>
                  </a:lnTo>
                  <a:lnTo>
                    <a:pt x="5118" y="3940"/>
                  </a:lnTo>
                  <a:lnTo>
                    <a:pt x="4243" y="3839"/>
                  </a:lnTo>
                  <a:lnTo>
                    <a:pt x="2896" y="3839"/>
                  </a:lnTo>
                  <a:lnTo>
                    <a:pt x="2492" y="3873"/>
                  </a:lnTo>
                  <a:lnTo>
                    <a:pt x="2458" y="3805"/>
                  </a:lnTo>
                  <a:lnTo>
                    <a:pt x="2391" y="3704"/>
                  </a:lnTo>
                  <a:lnTo>
                    <a:pt x="2256" y="3570"/>
                  </a:lnTo>
                  <a:lnTo>
                    <a:pt x="2088" y="3368"/>
                  </a:lnTo>
                  <a:lnTo>
                    <a:pt x="1987" y="3267"/>
                  </a:lnTo>
                  <a:lnTo>
                    <a:pt x="1920" y="3132"/>
                  </a:lnTo>
                  <a:lnTo>
                    <a:pt x="1886" y="3132"/>
                  </a:lnTo>
                  <a:lnTo>
                    <a:pt x="2021" y="1853"/>
                  </a:lnTo>
                  <a:lnTo>
                    <a:pt x="2054" y="1482"/>
                  </a:lnTo>
                  <a:lnTo>
                    <a:pt x="2122" y="1078"/>
                  </a:lnTo>
                  <a:lnTo>
                    <a:pt x="2122" y="1011"/>
                  </a:lnTo>
                  <a:lnTo>
                    <a:pt x="2122" y="910"/>
                  </a:lnTo>
                  <a:lnTo>
                    <a:pt x="2088" y="843"/>
                  </a:lnTo>
                  <a:lnTo>
                    <a:pt x="2256" y="775"/>
                  </a:lnTo>
                  <a:lnTo>
                    <a:pt x="2391" y="708"/>
                  </a:lnTo>
                  <a:lnTo>
                    <a:pt x="2660" y="506"/>
                  </a:lnTo>
                  <a:lnTo>
                    <a:pt x="3031" y="270"/>
                  </a:lnTo>
                  <a:lnTo>
                    <a:pt x="3031" y="236"/>
                  </a:lnTo>
                  <a:close/>
                  <a:moveTo>
                    <a:pt x="2930" y="1"/>
                  </a:moveTo>
                  <a:lnTo>
                    <a:pt x="2862" y="34"/>
                  </a:lnTo>
                  <a:lnTo>
                    <a:pt x="2324" y="405"/>
                  </a:lnTo>
                  <a:lnTo>
                    <a:pt x="2088" y="573"/>
                  </a:lnTo>
                  <a:lnTo>
                    <a:pt x="2021" y="641"/>
                  </a:lnTo>
                  <a:lnTo>
                    <a:pt x="1953" y="775"/>
                  </a:lnTo>
                  <a:lnTo>
                    <a:pt x="1987" y="809"/>
                  </a:lnTo>
                  <a:lnTo>
                    <a:pt x="1987" y="843"/>
                  </a:lnTo>
                  <a:lnTo>
                    <a:pt x="1785" y="742"/>
                  </a:lnTo>
                  <a:lnTo>
                    <a:pt x="1549" y="708"/>
                  </a:lnTo>
                  <a:lnTo>
                    <a:pt x="910" y="708"/>
                  </a:lnTo>
                  <a:lnTo>
                    <a:pt x="741" y="674"/>
                  </a:lnTo>
                  <a:lnTo>
                    <a:pt x="573" y="641"/>
                  </a:lnTo>
                  <a:lnTo>
                    <a:pt x="405" y="674"/>
                  </a:lnTo>
                  <a:lnTo>
                    <a:pt x="405" y="641"/>
                  </a:lnTo>
                  <a:lnTo>
                    <a:pt x="371" y="607"/>
                  </a:lnTo>
                  <a:lnTo>
                    <a:pt x="371" y="641"/>
                  </a:lnTo>
                  <a:lnTo>
                    <a:pt x="270" y="843"/>
                  </a:lnTo>
                  <a:lnTo>
                    <a:pt x="203" y="1078"/>
                  </a:lnTo>
                  <a:lnTo>
                    <a:pt x="102" y="1516"/>
                  </a:lnTo>
                  <a:lnTo>
                    <a:pt x="34" y="2021"/>
                  </a:lnTo>
                  <a:lnTo>
                    <a:pt x="1" y="2290"/>
                  </a:lnTo>
                  <a:lnTo>
                    <a:pt x="1" y="2560"/>
                  </a:lnTo>
                  <a:lnTo>
                    <a:pt x="68" y="2627"/>
                  </a:lnTo>
                  <a:lnTo>
                    <a:pt x="135" y="2661"/>
                  </a:lnTo>
                  <a:lnTo>
                    <a:pt x="203" y="2728"/>
                  </a:lnTo>
                  <a:lnTo>
                    <a:pt x="337" y="2762"/>
                  </a:lnTo>
                  <a:lnTo>
                    <a:pt x="607" y="2795"/>
                  </a:lnTo>
                  <a:lnTo>
                    <a:pt x="876" y="2829"/>
                  </a:lnTo>
                  <a:lnTo>
                    <a:pt x="1145" y="2930"/>
                  </a:lnTo>
                  <a:lnTo>
                    <a:pt x="1415" y="2997"/>
                  </a:lnTo>
                  <a:lnTo>
                    <a:pt x="1718" y="3065"/>
                  </a:lnTo>
                  <a:lnTo>
                    <a:pt x="1684" y="3267"/>
                  </a:lnTo>
                  <a:lnTo>
                    <a:pt x="1684" y="3334"/>
                  </a:lnTo>
                  <a:lnTo>
                    <a:pt x="1718" y="3334"/>
                  </a:lnTo>
                  <a:lnTo>
                    <a:pt x="1785" y="3368"/>
                  </a:lnTo>
                  <a:lnTo>
                    <a:pt x="1920" y="3536"/>
                  </a:lnTo>
                  <a:lnTo>
                    <a:pt x="2155" y="3839"/>
                  </a:lnTo>
                  <a:lnTo>
                    <a:pt x="2256" y="3974"/>
                  </a:lnTo>
                  <a:lnTo>
                    <a:pt x="2324" y="4007"/>
                  </a:lnTo>
                  <a:lnTo>
                    <a:pt x="2458" y="4007"/>
                  </a:lnTo>
                  <a:lnTo>
                    <a:pt x="2930" y="4075"/>
                  </a:lnTo>
                  <a:lnTo>
                    <a:pt x="3401" y="4142"/>
                  </a:lnTo>
                  <a:lnTo>
                    <a:pt x="4344" y="4176"/>
                  </a:lnTo>
                  <a:lnTo>
                    <a:pt x="5253" y="4209"/>
                  </a:lnTo>
                  <a:lnTo>
                    <a:pt x="5724" y="4243"/>
                  </a:lnTo>
                  <a:lnTo>
                    <a:pt x="6195" y="4277"/>
                  </a:lnTo>
                  <a:lnTo>
                    <a:pt x="7711" y="4546"/>
                  </a:lnTo>
                  <a:lnTo>
                    <a:pt x="8451" y="4647"/>
                  </a:lnTo>
                  <a:lnTo>
                    <a:pt x="9192" y="4681"/>
                  </a:lnTo>
                  <a:lnTo>
                    <a:pt x="9226" y="4748"/>
                  </a:lnTo>
                  <a:lnTo>
                    <a:pt x="9495" y="4748"/>
                  </a:lnTo>
                  <a:lnTo>
                    <a:pt x="9697" y="4714"/>
                  </a:lnTo>
                  <a:lnTo>
                    <a:pt x="9865" y="4647"/>
                  </a:lnTo>
                  <a:lnTo>
                    <a:pt x="10034" y="4580"/>
                  </a:lnTo>
                  <a:lnTo>
                    <a:pt x="10168" y="4445"/>
                  </a:lnTo>
                  <a:lnTo>
                    <a:pt x="10303" y="4344"/>
                  </a:lnTo>
                  <a:lnTo>
                    <a:pt x="10505" y="4007"/>
                  </a:lnTo>
                  <a:lnTo>
                    <a:pt x="10707" y="3671"/>
                  </a:lnTo>
                  <a:lnTo>
                    <a:pt x="10808" y="3267"/>
                  </a:lnTo>
                  <a:lnTo>
                    <a:pt x="10909" y="2896"/>
                  </a:lnTo>
                  <a:lnTo>
                    <a:pt x="10976" y="2560"/>
                  </a:lnTo>
                  <a:lnTo>
                    <a:pt x="10976" y="2290"/>
                  </a:lnTo>
                  <a:lnTo>
                    <a:pt x="10943" y="2021"/>
                  </a:lnTo>
                  <a:lnTo>
                    <a:pt x="10842" y="1752"/>
                  </a:lnTo>
                  <a:lnTo>
                    <a:pt x="10673" y="1482"/>
                  </a:lnTo>
                  <a:lnTo>
                    <a:pt x="10505" y="1213"/>
                  </a:lnTo>
                  <a:lnTo>
                    <a:pt x="10303" y="1045"/>
                  </a:lnTo>
                  <a:lnTo>
                    <a:pt x="10168" y="944"/>
                  </a:lnTo>
                  <a:lnTo>
                    <a:pt x="10067" y="910"/>
                  </a:lnTo>
                  <a:lnTo>
                    <a:pt x="9933" y="876"/>
                  </a:lnTo>
                  <a:lnTo>
                    <a:pt x="9798" y="876"/>
                  </a:lnTo>
                  <a:lnTo>
                    <a:pt x="9798" y="775"/>
                  </a:lnTo>
                  <a:lnTo>
                    <a:pt x="9697" y="742"/>
                  </a:lnTo>
                  <a:lnTo>
                    <a:pt x="6229" y="405"/>
                  </a:lnTo>
                  <a:lnTo>
                    <a:pt x="5455" y="304"/>
                  </a:lnTo>
                  <a:lnTo>
                    <a:pt x="4647" y="203"/>
                  </a:lnTo>
                  <a:lnTo>
                    <a:pt x="4243" y="169"/>
                  </a:lnTo>
                  <a:lnTo>
                    <a:pt x="3839" y="135"/>
                  </a:lnTo>
                  <a:lnTo>
                    <a:pt x="3468" y="169"/>
                  </a:lnTo>
                  <a:lnTo>
                    <a:pt x="3098" y="203"/>
                  </a:lnTo>
                  <a:lnTo>
                    <a:pt x="3098" y="102"/>
                  </a:lnTo>
                  <a:lnTo>
                    <a:pt x="3098" y="34"/>
                  </a:lnTo>
                  <a:lnTo>
                    <a:pt x="303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hape 807"/>
            <p:cNvSpPr/>
            <p:nvPr/>
          </p:nvSpPr>
          <p:spPr>
            <a:xfrm>
              <a:off x="333360" y="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3" h="338">
                  <a:moveTo>
                    <a:pt x="0" y="1"/>
                  </a:moveTo>
                  <a:lnTo>
                    <a:pt x="68" y="270"/>
                  </a:lnTo>
                  <a:lnTo>
                    <a:pt x="101" y="304"/>
                  </a:lnTo>
                  <a:lnTo>
                    <a:pt x="135" y="337"/>
                  </a:lnTo>
                  <a:lnTo>
                    <a:pt x="202" y="304"/>
                  </a:lnTo>
                  <a:lnTo>
                    <a:pt x="202" y="236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4680" bIns="-94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hape 808"/>
            <p:cNvSpPr/>
            <p:nvPr/>
          </p:nvSpPr>
          <p:spPr>
            <a:xfrm>
              <a:off x="0" y="44280"/>
              <a:ext cx="112680" cy="174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85" h="2627">
                  <a:moveTo>
                    <a:pt x="1516" y="0"/>
                  </a:moveTo>
                  <a:lnTo>
                    <a:pt x="775" y="34"/>
                  </a:lnTo>
                  <a:lnTo>
                    <a:pt x="1" y="67"/>
                  </a:lnTo>
                  <a:lnTo>
                    <a:pt x="1" y="269"/>
                  </a:lnTo>
                  <a:lnTo>
                    <a:pt x="741" y="269"/>
                  </a:lnTo>
                  <a:lnTo>
                    <a:pt x="1516" y="202"/>
                  </a:lnTo>
                  <a:lnTo>
                    <a:pt x="1448" y="741"/>
                  </a:lnTo>
                  <a:lnTo>
                    <a:pt x="1415" y="1279"/>
                  </a:lnTo>
                  <a:lnTo>
                    <a:pt x="1448" y="1818"/>
                  </a:lnTo>
                  <a:lnTo>
                    <a:pt x="1516" y="2323"/>
                  </a:lnTo>
                  <a:lnTo>
                    <a:pt x="1516" y="2357"/>
                  </a:lnTo>
                  <a:lnTo>
                    <a:pt x="1482" y="2357"/>
                  </a:lnTo>
                  <a:lnTo>
                    <a:pt x="1280" y="2323"/>
                  </a:lnTo>
                  <a:lnTo>
                    <a:pt x="1044" y="2357"/>
                  </a:lnTo>
                  <a:lnTo>
                    <a:pt x="1" y="2357"/>
                  </a:lnTo>
                  <a:lnTo>
                    <a:pt x="1" y="2593"/>
                  </a:lnTo>
                  <a:lnTo>
                    <a:pt x="371" y="2626"/>
                  </a:lnTo>
                  <a:lnTo>
                    <a:pt x="775" y="2626"/>
                  </a:lnTo>
                  <a:lnTo>
                    <a:pt x="1145" y="2593"/>
                  </a:lnTo>
                  <a:lnTo>
                    <a:pt x="1516" y="2492"/>
                  </a:lnTo>
                  <a:lnTo>
                    <a:pt x="1549" y="2458"/>
                  </a:lnTo>
                  <a:lnTo>
                    <a:pt x="1549" y="2391"/>
                  </a:lnTo>
                  <a:lnTo>
                    <a:pt x="1650" y="2391"/>
                  </a:lnTo>
                  <a:lnTo>
                    <a:pt x="1684" y="2357"/>
                  </a:lnTo>
                  <a:lnTo>
                    <a:pt x="1684" y="2323"/>
                  </a:lnTo>
                  <a:lnTo>
                    <a:pt x="1684" y="1784"/>
                  </a:lnTo>
                  <a:lnTo>
                    <a:pt x="1684" y="1246"/>
                  </a:lnTo>
                  <a:lnTo>
                    <a:pt x="1650" y="707"/>
                  </a:lnTo>
                  <a:lnTo>
                    <a:pt x="1583" y="168"/>
                  </a:lnTo>
                  <a:lnTo>
                    <a:pt x="1617" y="135"/>
                  </a:lnTo>
                  <a:lnTo>
                    <a:pt x="1617" y="67"/>
                  </a:lnTo>
                  <a:lnTo>
                    <a:pt x="158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hape 809"/>
            <p:cNvSpPr/>
            <p:nvPr/>
          </p:nvSpPr>
          <p:spPr>
            <a:xfrm>
              <a:off x="0" y="311040"/>
              <a:ext cx="71280" cy="568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79" h="876">
                  <a:moveTo>
                    <a:pt x="943" y="1"/>
                  </a:moveTo>
                  <a:lnTo>
                    <a:pt x="910" y="34"/>
                  </a:lnTo>
                  <a:lnTo>
                    <a:pt x="910" y="203"/>
                  </a:lnTo>
                  <a:lnTo>
                    <a:pt x="910" y="405"/>
                  </a:lnTo>
                  <a:lnTo>
                    <a:pt x="910" y="472"/>
                  </a:lnTo>
                  <a:lnTo>
                    <a:pt x="876" y="438"/>
                  </a:lnTo>
                  <a:lnTo>
                    <a:pt x="708" y="337"/>
                  </a:lnTo>
                  <a:lnTo>
                    <a:pt x="573" y="169"/>
                  </a:lnTo>
                  <a:lnTo>
                    <a:pt x="438" y="169"/>
                  </a:lnTo>
                  <a:lnTo>
                    <a:pt x="405" y="236"/>
                  </a:lnTo>
                  <a:lnTo>
                    <a:pt x="405" y="304"/>
                  </a:lnTo>
                  <a:lnTo>
                    <a:pt x="438" y="337"/>
                  </a:lnTo>
                  <a:lnTo>
                    <a:pt x="539" y="472"/>
                  </a:lnTo>
                  <a:lnTo>
                    <a:pt x="337" y="438"/>
                  </a:lnTo>
                  <a:lnTo>
                    <a:pt x="68" y="438"/>
                  </a:lnTo>
                  <a:lnTo>
                    <a:pt x="1" y="472"/>
                  </a:lnTo>
                  <a:lnTo>
                    <a:pt x="1" y="539"/>
                  </a:lnTo>
                  <a:lnTo>
                    <a:pt x="135" y="607"/>
                  </a:lnTo>
                  <a:lnTo>
                    <a:pt x="270" y="607"/>
                  </a:lnTo>
                  <a:lnTo>
                    <a:pt x="573" y="640"/>
                  </a:lnTo>
                  <a:lnTo>
                    <a:pt x="438" y="708"/>
                  </a:lnTo>
                  <a:lnTo>
                    <a:pt x="371" y="741"/>
                  </a:lnTo>
                  <a:lnTo>
                    <a:pt x="405" y="809"/>
                  </a:lnTo>
                  <a:lnTo>
                    <a:pt x="438" y="876"/>
                  </a:lnTo>
                  <a:lnTo>
                    <a:pt x="506" y="876"/>
                  </a:lnTo>
                  <a:lnTo>
                    <a:pt x="708" y="775"/>
                  </a:lnTo>
                  <a:lnTo>
                    <a:pt x="910" y="607"/>
                  </a:lnTo>
                  <a:lnTo>
                    <a:pt x="910" y="809"/>
                  </a:lnTo>
                  <a:lnTo>
                    <a:pt x="943" y="842"/>
                  </a:lnTo>
                  <a:lnTo>
                    <a:pt x="1011" y="876"/>
                  </a:lnTo>
                  <a:lnTo>
                    <a:pt x="1078" y="842"/>
                  </a:lnTo>
                  <a:lnTo>
                    <a:pt x="1078" y="775"/>
                  </a:lnTo>
                  <a:lnTo>
                    <a:pt x="1078" y="371"/>
                  </a:lnTo>
                  <a:lnTo>
                    <a:pt x="1044" y="203"/>
                  </a:lnTo>
                  <a:lnTo>
                    <a:pt x="1011" y="34"/>
                  </a:lnTo>
                  <a:lnTo>
                    <a:pt x="101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hape 810"/>
            <p:cNvSpPr/>
            <p:nvPr/>
          </p:nvSpPr>
          <p:spPr>
            <a:xfrm>
              <a:off x="392040" y="107640"/>
              <a:ext cx="50760" cy="60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75" h="910">
                  <a:moveTo>
                    <a:pt x="371" y="1"/>
                  </a:moveTo>
                  <a:lnTo>
                    <a:pt x="270" y="34"/>
                  </a:lnTo>
                  <a:lnTo>
                    <a:pt x="135" y="102"/>
                  </a:lnTo>
                  <a:lnTo>
                    <a:pt x="102" y="135"/>
                  </a:lnTo>
                  <a:lnTo>
                    <a:pt x="102" y="203"/>
                  </a:lnTo>
                  <a:lnTo>
                    <a:pt x="102" y="270"/>
                  </a:lnTo>
                  <a:lnTo>
                    <a:pt x="169" y="270"/>
                  </a:lnTo>
                  <a:lnTo>
                    <a:pt x="371" y="203"/>
                  </a:lnTo>
                  <a:lnTo>
                    <a:pt x="203" y="472"/>
                  </a:lnTo>
                  <a:lnTo>
                    <a:pt x="34" y="741"/>
                  </a:lnTo>
                  <a:lnTo>
                    <a:pt x="1" y="775"/>
                  </a:lnTo>
                  <a:lnTo>
                    <a:pt x="34" y="842"/>
                  </a:lnTo>
                  <a:lnTo>
                    <a:pt x="68" y="876"/>
                  </a:lnTo>
                  <a:lnTo>
                    <a:pt x="102" y="910"/>
                  </a:lnTo>
                  <a:lnTo>
                    <a:pt x="438" y="842"/>
                  </a:lnTo>
                  <a:lnTo>
                    <a:pt x="573" y="842"/>
                  </a:lnTo>
                  <a:lnTo>
                    <a:pt x="741" y="775"/>
                  </a:lnTo>
                  <a:lnTo>
                    <a:pt x="775" y="741"/>
                  </a:lnTo>
                  <a:lnTo>
                    <a:pt x="775" y="708"/>
                  </a:lnTo>
                  <a:lnTo>
                    <a:pt x="741" y="674"/>
                  </a:lnTo>
                  <a:lnTo>
                    <a:pt x="708" y="640"/>
                  </a:lnTo>
                  <a:lnTo>
                    <a:pt x="573" y="640"/>
                  </a:lnTo>
                  <a:lnTo>
                    <a:pt x="405" y="674"/>
                  </a:lnTo>
                  <a:lnTo>
                    <a:pt x="304" y="674"/>
                  </a:lnTo>
                  <a:lnTo>
                    <a:pt x="472" y="405"/>
                  </a:lnTo>
                  <a:lnTo>
                    <a:pt x="573" y="135"/>
                  </a:lnTo>
                  <a:lnTo>
                    <a:pt x="573" y="68"/>
                  </a:lnTo>
                  <a:lnTo>
                    <a:pt x="506" y="34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hape 811"/>
            <p:cNvSpPr/>
            <p:nvPr/>
          </p:nvSpPr>
          <p:spPr>
            <a:xfrm>
              <a:off x="322200" y="3312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169" y="169"/>
                  </a:moveTo>
                  <a:lnTo>
                    <a:pt x="371" y="236"/>
                  </a:lnTo>
                  <a:lnTo>
                    <a:pt x="573" y="270"/>
                  </a:lnTo>
                  <a:lnTo>
                    <a:pt x="1011" y="270"/>
                  </a:lnTo>
                  <a:lnTo>
                    <a:pt x="1651" y="304"/>
                  </a:lnTo>
                  <a:lnTo>
                    <a:pt x="2290" y="304"/>
                  </a:lnTo>
                  <a:lnTo>
                    <a:pt x="2290" y="674"/>
                  </a:lnTo>
                  <a:lnTo>
                    <a:pt x="2324" y="1078"/>
                  </a:lnTo>
                  <a:lnTo>
                    <a:pt x="2324" y="1583"/>
                  </a:lnTo>
                  <a:lnTo>
                    <a:pt x="2358" y="1819"/>
                  </a:lnTo>
                  <a:lnTo>
                    <a:pt x="2391" y="2088"/>
                  </a:lnTo>
                  <a:lnTo>
                    <a:pt x="1314" y="2088"/>
                  </a:lnTo>
                  <a:lnTo>
                    <a:pt x="809" y="2122"/>
                  </a:lnTo>
                  <a:lnTo>
                    <a:pt x="540" y="2156"/>
                  </a:lnTo>
                  <a:lnTo>
                    <a:pt x="304" y="2223"/>
                  </a:lnTo>
                  <a:lnTo>
                    <a:pt x="270" y="1718"/>
                  </a:lnTo>
                  <a:lnTo>
                    <a:pt x="237" y="1213"/>
                  </a:lnTo>
                  <a:lnTo>
                    <a:pt x="270" y="674"/>
                  </a:lnTo>
                  <a:lnTo>
                    <a:pt x="237" y="405"/>
                  </a:lnTo>
                  <a:lnTo>
                    <a:pt x="203" y="304"/>
                  </a:lnTo>
                  <a:lnTo>
                    <a:pt x="169" y="169"/>
                  </a:lnTo>
                  <a:close/>
                  <a:moveTo>
                    <a:pt x="2358" y="1"/>
                  </a:moveTo>
                  <a:lnTo>
                    <a:pt x="2358" y="34"/>
                  </a:lnTo>
                  <a:lnTo>
                    <a:pt x="2324" y="102"/>
                  </a:lnTo>
                  <a:lnTo>
                    <a:pt x="1752" y="68"/>
                  </a:lnTo>
                  <a:lnTo>
                    <a:pt x="1179" y="34"/>
                  </a:lnTo>
                  <a:lnTo>
                    <a:pt x="641" y="34"/>
                  </a:lnTo>
                  <a:lnTo>
                    <a:pt x="405" y="68"/>
                  </a:lnTo>
                  <a:lnTo>
                    <a:pt x="270" y="102"/>
                  </a:lnTo>
                  <a:lnTo>
                    <a:pt x="169" y="169"/>
                  </a:lnTo>
                  <a:lnTo>
                    <a:pt x="136" y="169"/>
                  </a:lnTo>
                  <a:lnTo>
                    <a:pt x="68" y="304"/>
                  </a:lnTo>
                  <a:lnTo>
                    <a:pt x="35" y="472"/>
                  </a:lnTo>
                  <a:lnTo>
                    <a:pt x="1" y="842"/>
                  </a:lnTo>
                  <a:lnTo>
                    <a:pt x="35" y="1583"/>
                  </a:lnTo>
                  <a:lnTo>
                    <a:pt x="35" y="1785"/>
                  </a:lnTo>
                  <a:lnTo>
                    <a:pt x="35" y="2054"/>
                  </a:lnTo>
                  <a:lnTo>
                    <a:pt x="35" y="2156"/>
                  </a:lnTo>
                  <a:lnTo>
                    <a:pt x="68" y="2290"/>
                  </a:lnTo>
                  <a:lnTo>
                    <a:pt x="136" y="2358"/>
                  </a:lnTo>
                  <a:lnTo>
                    <a:pt x="237" y="2425"/>
                  </a:lnTo>
                  <a:lnTo>
                    <a:pt x="304" y="2391"/>
                  </a:lnTo>
                  <a:lnTo>
                    <a:pt x="304" y="2358"/>
                  </a:lnTo>
                  <a:lnTo>
                    <a:pt x="573" y="2391"/>
                  </a:lnTo>
                  <a:lnTo>
                    <a:pt x="1348" y="2391"/>
                  </a:lnTo>
                  <a:lnTo>
                    <a:pt x="2391" y="2290"/>
                  </a:lnTo>
                  <a:lnTo>
                    <a:pt x="2526" y="2290"/>
                  </a:lnTo>
                  <a:lnTo>
                    <a:pt x="2526" y="2257"/>
                  </a:lnTo>
                  <a:lnTo>
                    <a:pt x="2560" y="2021"/>
                  </a:lnTo>
                  <a:lnTo>
                    <a:pt x="2560" y="1751"/>
                  </a:lnTo>
                  <a:lnTo>
                    <a:pt x="2526" y="1213"/>
                  </a:lnTo>
                  <a:lnTo>
                    <a:pt x="2492" y="607"/>
                  </a:lnTo>
                  <a:lnTo>
                    <a:pt x="2492" y="304"/>
                  </a:lnTo>
                  <a:lnTo>
                    <a:pt x="2459" y="34"/>
                  </a:lnTo>
                  <a:lnTo>
                    <a:pt x="242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hape 812"/>
            <p:cNvSpPr/>
            <p:nvPr/>
          </p:nvSpPr>
          <p:spPr>
            <a:xfrm>
              <a:off x="693720" y="2617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40" h="203">
                  <a:moveTo>
                    <a:pt x="405" y="1"/>
                  </a:moveTo>
                  <a:lnTo>
                    <a:pt x="338" y="35"/>
                  </a:lnTo>
                  <a:lnTo>
                    <a:pt x="68" y="35"/>
                  </a:lnTo>
                  <a:lnTo>
                    <a:pt x="34" y="68"/>
                  </a:lnTo>
                  <a:lnTo>
                    <a:pt x="1" y="102"/>
                  </a:lnTo>
                  <a:lnTo>
                    <a:pt x="34" y="136"/>
                  </a:lnTo>
                  <a:lnTo>
                    <a:pt x="68" y="169"/>
                  </a:lnTo>
                  <a:lnTo>
                    <a:pt x="169" y="203"/>
                  </a:lnTo>
                  <a:lnTo>
                    <a:pt x="371" y="203"/>
                  </a:lnTo>
                  <a:lnTo>
                    <a:pt x="439" y="169"/>
                  </a:lnTo>
                  <a:lnTo>
                    <a:pt x="506" y="136"/>
                  </a:lnTo>
                  <a:lnTo>
                    <a:pt x="540" y="102"/>
                  </a:lnTo>
                  <a:lnTo>
                    <a:pt x="540" y="68"/>
                  </a:lnTo>
                  <a:lnTo>
                    <a:pt x="540" y="35"/>
                  </a:lnTo>
                  <a:lnTo>
                    <a:pt x="506" y="35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4040" bIns="-104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hape 813"/>
            <p:cNvSpPr/>
            <p:nvPr/>
          </p:nvSpPr>
          <p:spPr>
            <a:xfrm>
              <a:off x="0" y="0"/>
              <a:ext cx="123480" cy="36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53" h="540">
                  <a:moveTo>
                    <a:pt x="1583" y="1"/>
                  </a:moveTo>
                  <a:lnTo>
                    <a:pt x="1617" y="236"/>
                  </a:lnTo>
                  <a:lnTo>
                    <a:pt x="809" y="270"/>
                  </a:lnTo>
                  <a:lnTo>
                    <a:pt x="1" y="304"/>
                  </a:lnTo>
                  <a:lnTo>
                    <a:pt x="1" y="539"/>
                  </a:lnTo>
                  <a:lnTo>
                    <a:pt x="842" y="472"/>
                  </a:lnTo>
                  <a:lnTo>
                    <a:pt x="1684" y="405"/>
                  </a:lnTo>
                  <a:lnTo>
                    <a:pt x="1718" y="438"/>
                  </a:lnTo>
                  <a:lnTo>
                    <a:pt x="1751" y="405"/>
                  </a:lnTo>
                  <a:lnTo>
                    <a:pt x="1819" y="371"/>
                  </a:lnTo>
                  <a:lnTo>
                    <a:pt x="1852" y="337"/>
                  </a:lnTo>
                  <a:lnTo>
                    <a:pt x="1819" y="270"/>
                  </a:lnTo>
                  <a:lnTo>
                    <a:pt x="1785" y="236"/>
                  </a:lnTo>
                  <a:lnTo>
                    <a:pt x="178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0280" bIns="-80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hape 814"/>
            <p:cNvSpPr/>
            <p:nvPr/>
          </p:nvSpPr>
          <p:spPr>
            <a:xfrm>
              <a:off x="0" y="406080"/>
              <a:ext cx="269640" cy="161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075" h="2425">
                  <a:moveTo>
                    <a:pt x="2694" y="0"/>
                  </a:moveTo>
                  <a:lnTo>
                    <a:pt x="1448" y="34"/>
                  </a:lnTo>
                  <a:lnTo>
                    <a:pt x="371" y="34"/>
                  </a:lnTo>
                  <a:lnTo>
                    <a:pt x="1" y="101"/>
                  </a:lnTo>
                  <a:lnTo>
                    <a:pt x="1" y="303"/>
                  </a:lnTo>
                  <a:lnTo>
                    <a:pt x="943" y="270"/>
                  </a:lnTo>
                  <a:lnTo>
                    <a:pt x="1920" y="270"/>
                  </a:lnTo>
                  <a:lnTo>
                    <a:pt x="3805" y="236"/>
                  </a:lnTo>
                  <a:lnTo>
                    <a:pt x="3772" y="404"/>
                  </a:lnTo>
                  <a:lnTo>
                    <a:pt x="3772" y="606"/>
                  </a:lnTo>
                  <a:lnTo>
                    <a:pt x="3805" y="977"/>
                  </a:lnTo>
                  <a:lnTo>
                    <a:pt x="3805" y="1515"/>
                  </a:lnTo>
                  <a:lnTo>
                    <a:pt x="3839" y="2088"/>
                  </a:lnTo>
                  <a:lnTo>
                    <a:pt x="1852" y="2088"/>
                  </a:lnTo>
                  <a:lnTo>
                    <a:pt x="910" y="2155"/>
                  </a:lnTo>
                  <a:lnTo>
                    <a:pt x="438" y="2189"/>
                  </a:lnTo>
                  <a:lnTo>
                    <a:pt x="1" y="2290"/>
                  </a:lnTo>
                  <a:lnTo>
                    <a:pt x="1" y="2391"/>
                  </a:lnTo>
                  <a:lnTo>
                    <a:pt x="405" y="2424"/>
                  </a:lnTo>
                  <a:lnTo>
                    <a:pt x="809" y="2391"/>
                  </a:lnTo>
                  <a:lnTo>
                    <a:pt x="1617" y="2323"/>
                  </a:lnTo>
                  <a:lnTo>
                    <a:pt x="2728" y="2290"/>
                  </a:lnTo>
                  <a:lnTo>
                    <a:pt x="3873" y="2290"/>
                  </a:lnTo>
                  <a:lnTo>
                    <a:pt x="3873" y="2357"/>
                  </a:lnTo>
                  <a:lnTo>
                    <a:pt x="3906" y="2424"/>
                  </a:lnTo>
                  <a:lnTo>
                    <a:pt x="4041" y="2424"/>
                  </a:lnTo>
                  <a:lnTo>
                    <a:pt x="4075" y="2323"/>
                  </a:lnTo>
                  <a:lnTo>
                    <a:pt x="4075" y="1751"/>
                  </a:lnTo>
                  <a:lnTo>
                    <a:pt x="4041" y="1145"/>
                  </a:lnTo>
                  <a:lnTo>
                    <a:pt x="4041" y="674"/>
                  </a:lnTo>
                  <a:lnTo>
                    <a:pt x="4007" y="438"/>
                  </a:lnTo>
                  <a:lnTo>
                    <a:pt x="3974" y="236"/>
                  </a:lnTo>
                  <a:lnTo>
                    <a:pt x="4007" y="202"/>
                  </a:lnTo>
                  <a:lnTo>
                    <a:pt x="4007" y="135"/>
                  </a:lnTo>
                  <a:lnTo>
                    <a:pt x="3974" y="68"/>
                  </a:lnTo>
                  <a:lnTo>
                    <a:pt x="3906" y="34"/>
                  </a:lnTo>
                  <a:lnTo>
                    <a:pt x="330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hape 815"/>
            <p:cNvSpPr/>
            <p:nvPr/>
          </p:nvSpPr>
          <p:spPr>
            <a:xfrm>
              <a:off x="134640" y="4284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26" h="2358">
                  <a:moveTo>
                    <a:pt x="2257" y="202"/>
                  </a:moveTo>
                  <a:lnTo>
                    <a:pt x="2257" y="640"/>
                  </a:lnTo>
                  <a:lnTo>
                    <a:pt x="2290" y="1078"/>
                  </a:lnTo>
                  <a:lnTo>
                    <a:pt x="2290" y="1616"/>
                  </a:lnTo>
                  <a:lnTo>
                    <a:pt x="2324" y="2155"/>
                  </a:lnTo>
                  <a:lnTo>
                    <a:pt x="2088" y="2122"/>
                  </a:lnTo>
                  <a:lnTo>
                    <a:pt x="1886" y="2155"/>
                  </a:lnTo>
                  <a:lnTo>
                    <a:pt x="1449" y="2189"/>
                  </a:lnTo>
                  <a:lnTo>
                    <a:pt x="1449" y="2122"/>
                  </a:lnTo>
                  <a:lnTo>
                    <a:pt x="1449" y="1919"/>
                  </a:lnTo>
                  <a:lnTo>
                    <a:pt x="1449" y="1717"/>
                  </a:lnTo>
                  <a:lnTo>
                    <a:pt x="1415" y="1313"/>
                  </a:lnTo>
                  <a:lnTo>
                    <a:pt x="1381" y="1246"/>
                  </a:lnTo>
                  <a:lnTo>
                    <a:pt x="1348" y="1212"/>
                  </a:lnTo>
                  <a:lnTo>
                    <a:pt x="1280" y="1246"/>
                  </a:lnTo>
                  <a:lnTo>
                    <a:pt x="1247" y="1313"/>
                  </a:lnTo>
                  <a:lnTo>
                    <a:pt x="1247" y="1717"/>
                  </a:lnTo>
                  <a:lnTo>
                    <a:pt x="1247" y="1919"/>
                  </a:lnTo>
                  <a:lnTo>
                    <a:pt x="1314" y="2088"/>
                  </a:lnTo>
                  <a:lnTo>
                    <a:pt x="1348" y="2122"/>
                  </a:lnTo>
                  <a:lnTo>
                    <a:pt x="843" y="2122"/>
                  </a:lnTo>
                  <a:lnTo>
                    <a:pt x="607" y="2155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7"/>
                  </a:lnTo>
                  <a:lnTo>
                    <a:pt x="135" y="270"/>
                  </a:lnTo>
                  <a:lnTo>
                    <a:pt x="1179" y="270"/>
                  </a:lnTo>
                  <a:lnTo>
                    <a:pt x="2257" y="202"/>
                  </a:lnTo>
                  <a:close/>
                  <a:moveTo>
                    <a:pt x="1179" y="0"/>
                  </a:moveTo>
                  <a:lnTo>
                    <a:pt x="641" y="34"/>
                  </a:lnTo>
                  <a:lnTo>
                    <a:pt x="135" y="68"/>
                  </a:lnTo>
                  <a:lnTo>
                    <a:pt x="68" y="101"/>
                  </a:lnTo>
                  <a:lnTo>
                    <a:pt x="34" y="169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45"/>
                  </a:lnTo>
                  <a:lnTo>
                    <a:pt x="102" y="1717"/>
                  </a:lnTo>
                  <a:lnTo>
                    <a:pt x="135" y="2021"/>
                  </a:lnTo>
                  <a:lnTo>
                    <a:pt x="203" y="2290"/>
                  </a:lnTo>
                  <a:lnTo>
                    <a:pt x="236" y="2324"/>
                  </a:lnTo>
                  <a:lnTo>
                    <a:pt x="270" y="2357"/>
                  </a:lnTo>
                  <a:lnTo>
                    <a:pt x="337" y="2324"/>
                  </a:lnTo>
                  <a:lnTo>
                    <a:pt x="337" y="2357"/>
                  </a:lnTo>
                  <a:lnTo>
                    <a:pt x="1314" y="2357"/>
                  </a:lnTo>
                  <a:lnTo>
                    <a:pt x="1819" y="2324"/>
                  </a:lnTo>
                  <a:lnTo>
                    <a:pt x="2088" y="2324"/>
                  </a:lnTo>
                  <a:lnTo>
                    <a:pt x="2358" y="2290"/>
                  </a:lnTo>
                  <a:lnTo>
                    <a:pt x="2391" y="2324"/>
                  </a:lnTo>
                  <a:lnTo>
                    <a:pt x="2425" y="2324"/>
                  </a:lnTo>
                  <a:lnTo>
                    <a:pt x="2459" y="2290"/>
                  </a:lnTo>
                  <a:lnTo>
                    <a:pt x="2492" y="2256"/>
                  </a:lnTo>
                  <a:lnTo>
                    <a:pt x="2526" y="1987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9" y="640"/>
                  </a:lnTo>
                  <a:lnTo>
                    <a:pt x="2425" y="337"/>
                  </a:lnTo>
                  <a:lnTo>
                    <a:pt x="2358" y="68"/>
                  </a:lnTo>
                  <a:lnTo>
                    <a:pt x="2324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hape 816"/>
            <p:cNvSpPr/>
            <p:nvPr/>
          </p:nvSpPr>
          <p:spPr>
            <a:xfrm>
              <a:off x="301320" y="268200"/>
              <a:ext cx="53640" cy="66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9" h="1011">
                  <a:moveTo>
                    <a:pt x="439" y="237"/>
                  </a:moveTo>
                  <a:lnTo>
                    <a:pt x="472" y="270"/>
                  </a:lnTo>
                  <a:lnTo>
                    <a:pt x="472" y="338"/>
                  </a:lnTo>
                  <a:lnTo>
                    <a:pt x="439" y="439"/>
                  </a:lnTo>
                  <a:lnTo>
                    <a:pt x="338" y="540"/>
                  </a:lnTo>
                  <a:lnTo>
                    <a:pt x="203" y="573"/>
                  </a:lnTo>
                  <a:lnTo>
                    <a:pt x="237" y="439"/>
                  </a:lnTo>
                  <a:lnTo>
                    <a:pt x="270" y="338"/>
                  </a:lnTo>
                  <a:lnTo>
                    <a:pt x="338" y="270"/>
                  </a:lnTo>
                  <a:lnTo>
                    <a:pt x="371" y="270"/>
                  </a:lnTo>
                  <a:lnTo>
                    <a:pt x="439" y="237"/>
                  </a:lnTo>
                  <a:close/>
                  <a:moveTo>
                    <a:pt x="405" y="1"/>
                  </a:moveTo>
                  <a:lnTo>
                    <a:pt x="304" y="35"/>
                  </a:lnTo>
                  <a:lnTo>
                    <a:pt x="237" y="102"/>
                  </a:lnTo>
                  <a:lnTo>
                    <a:pt x="136" y="169"/>
                  </a:lnTo>
                  <a:lnTo>
                    <a:pt x="35" y="338"/>
                  </a:lnTo>
                  <a:lnTo>
                    <a:pt x="1" y="506"/>
                  </a:lnTo>
                  <a:lnTo>
                    <a:pt x="1" y="674"/>
                  </a:lnTo>
                  <a:lnTo>
                    <a:pt x="68" y="742"/>
                  </a:lnTo>
                  <a:lnTo>
                    <a:pt x="136" y="775"/>
                  </a:lnTo>
                  <a:lnTo>
                    <a:pt x="304" y="775"/>
                  </a:lnTo>
                  <a:lnTo>
                    <a:pt x="439" y="742"/>
                  </a:lnTo>
                  <a:lnTo>
                    <a:pt x="439" y="775"/>
                  </a:lnTo>
                  <a:lnTo>
                    <a:pt x="506" y="843"/>
                  </a:lnTo>
                  <a:lnTo>
                    <a:pt x="540" y="910"/>
                  </a:lnTo>
                  <a:lnTo>
                    <a:pt x="708" y="1011"/>
                  </a:lnTo>
                  <a:lnTo>
                    <a:pt x="742" y="1011"/>
                  </a:lnTo>
                  <a:lnTo>
                    <a:pt x="775" y="977"/>
                  </a:lnTo>
                  <a:lnTo>
                    <a:pt x="809" y="944"/>
                  </a:lnTo>
                  <a:lnTo>
                    <a:pt x="775" y="876"/>
                  </a:lnTo>
                  <a:lnTo>
                    <a:pt x="641" y="809"/>
                  </a:lnTo>
                  <a:lnTo>
                    <a:pt x="607" y="742"/>
                  </a:lnTo>
                  <a:lnTo>
                    <a:pt x="540" y="674"/>
                  </a:lnTo>
                  <a:lnTo>
                    <a:pt x="607" y="573"/>
                  </a:lnTo>
                  <a:lnTo>
                    <a:pt x="674" y="472"/>
                  </a:lnTo>
                  <a:lnTo>
                    <a:pt x="708" y="371"/>
                  </a:lnTo>
                  <a:lnTo>
                    <a:pt x="708" y="270"/>
                  </a:lnTo>
                  <a:lnTo>
                    <a:pt x="708" y="203"/>
                  </a:lnTo>
                  <a:lnTo>
                    <a:pt x="641" y="102"/>
                  </a:lnTo>
                  <a:lnTo>
                    <a:pt x="607" y="35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hape 817"/>
            <p:cNvSpPr/>
            <p:nvPr/>
          </p:nvSpPr>
          <p:spPr>
            <a:xfrm>
              <a:off x="0" y="218880"/>
              <a:ext cx="218880" cy="169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301" h="2559">
                  <a:moveTo>
                    <a:pt x="3098" y="0"/>
                  </a:moveTo>
                  <a:lnTo>
                    <a:pt x="3031" y="34"/>
                  </a:lnTo>
                  <a:lnTo>
                    <a:pt x="2997" y="101"/>
                  </a:lnTo>
                  <a:lnTo>
                    <a:pt x="2997" y="169"/>
                  </a:lnTo>
                  <a:lnTo>
                    <a:pt x="2189" y="101"/>
                  </a:lnTo>
                  <a:lnTo>
                    <a:pt x="337" y="101"/>
                  </a:lnTo>
                  <a:lnTo>
                    <a:pt x="1" y="135"/>
                  </a:lnTo>
                  <a:lnTo>
                    <a:pt x="1" y="337"/>
                  </a:lnTo>
                  <a:lnTo>
                    <a:pt x="573" y="303"/>
                  </a:lnTo>
                  <a:lnTo>
                    <a:pt x="2088" y="303"/>
                  </a:lnTo>
                  <a:lnTo>
                    <a:pt x="2997" y="371"/>
                  </a:lnTo>
                  <a:lnTo>
                    <a:pt x="3065" y="1381"/>
                  </a:lnTo>
                  <a:lnTo>
                    <a:pt x="3031" y="1818"/>
                  </a:lnTo>
                  <a:lnTo>
                    <a:pt x="3031" y="2256"/>
                  </a:lnTo>
                  <a:lnTo>
                    <a:pt x="2930" y="2222"/>
                  </a:lnTo>
                  <a:lnTo>
                    <a:pt x="2795" y="2155"/>
                  </a:lnTo>
                  <a:lnTo>
                    <a:pt x="2155" y="2155"/>
                  </a:lnTo>
                  <a:lnTo>
                    <a:pt x="1920" y="2189"/>
                  </a:lnTo>
                  <a:lnTo>
                    <a:pt x="1381" y="2256"/>
                  </a:lnTo>
                  <a:lnTo>
                    <a:pt x="842" y="2357"/>
                  </a:lnTo>
                  <a:lnTo>
                    <a:pt x="1" y="2357"/>
                  </a:lnTo>
                  <a:lnTo>
                    <a:pt x="1" y="2525"/>
                  </a:lnTo>
                  <a:lnTo>
                    <a:pt x="304" y="2559"/>
                  </a:lnTo>
                  <a:lnTo>
                    <a:pt x="640" y="2559"/>
                  </a:lnTo>
                  <a:lnTo>
                    <a:pt x="1280" y="2492"/>
                  </a:lnTo>
                  <a:lnTo>
                    <a:pt x="1718" y="2458"/>
                  </a:lnTo>
                  <a:lnTo>
                    <a:pt x="2155" y="2424"/>
                  </a:lnTo>
                  <a:lnTo>
                    <a:pt x="2593" y="2458"/>
                  </a:lnTo>
                  <a:lnTo>
                    <a:pt x="3065" y="2458"/>
                  </a:lnTo>
                  <a:lnTo>
                    <a:pt x="3065" y="2492"/>
                  </a:lnTo>
                  <a:lnTo>
                    <a:pt x="3098" y="2525"/>
                  </a:lnTo>
                  <a:lnTo>
                    <a:pt x="3132" y="2559"/>
                  </a:lnTo>
                  <a:lnTo>
                    <a:pt x="3199" y="2525"/>
                  </a:lnTo>
                  <a:lnTo>
                    <a:pt x="3233" y="2492"/>
                  </a:lnTo>
                  <a:lnTo>
                    <a:pt x="3300" y="2222"/>
                  </a:lnTo>
                  <a:lnTo>
                    <a:pt x="3300" y="1919"/>
                  </a:lnTo>
                  <a:lnTo>
                    <a:pt x="3300" y="1381"/>
                  </a:lnTo>
                  <a:lnTo>
                    <a:pt x="3300" y="707"/>
                  </a:lnTo>
                  <a:lnTo>
                    <a:pt x="3267" y="404"/>
                  </a:lnTo>
                  <a:lnTo>
                    <a:pt x="3233" y="68"/>
                  </a:lnTo>
                  <a:lnTo>
                    <a:pt x="316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2920" bIns="52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hape 818"/>
            <p:cNvSpPr/>
            <p:nvPr/>
          </p:nvSpPr>
          <p:spPr>
            <a:xfrm>
              <a:off x="1465200" y="40932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776">
                  <a:moveTo>
                    <a:pt x="404" y="1"/>
                  </a:moveTo>
                  <a:lnTo>
                    <a:pt x="438" y="203"/>
                  </a:lnTo>
                  <a:lnTo>
                    <a:pt x="438" y="405"/>
                  </a:lnTo>
                  <a:lnTo>
                    <a:pt x="438" y="472"/>
                  </a:lnTo>
                  <a:lnTo>
                    <a:pt x="371" y="540"/>
                  </a:lnTo>
                  <a:lnTo>
                    <a:pt x="303" y="607"/>
                  </a:lnTo>
                  <a:lnTo>
                    <a:pt x="236" y="607"/>
                  </a:lnTo>
                  <a:lnTo>
                    <a:pt x="236" y="506"/>
                  </a:lnTo>
                  <a:lnTo>
                    <a:pt x="169" y="439"/>
                  </a:lnTo>
                  <a:lnTo>
                    <a:pt x="101" y="405"/>
                  </a:lnTo>
                  <a:lnTo>
                    <a:pt x="68" y="405"/>
                  </a:lnTo>
                  <a:lnTo>
                    <a:pt x="0" y="472"/>
                  </a:lnTo>
                  <a:lnTo>
                    <a:pt x="34" y="540"/>
                  </a:lnTo>
                  <a:lnTo>
                    <a:pt x="68" y="573"/>
                  </a:lnTo>
                  <a:lnTo>
                    <a:pt x="68" y="641"/>
                  </a:lnTo>
                  <a:lnTo>
                    <a:pt x="68" y="708"/>
                  </a:lnTo>
                  <a:lnTo>
                    <a:pt x="135" y="742"/>
                  </a:lnTo>
                  <a:lnTo>
                    <a:pt x="236" y="775"/>
                  </a:lnTo>
                  <a:lnTo>
                    <a:pt x="337" y="742"/>
                  </a:lnTo>
                  <a:lnTo>
                    <a:pt x="438" y="674"/>
                  </a:lnTo>
                  <a:lnTo>
                    <a:pt x="505" y="573"/>
                  </a:lnTo>
                  <a:lnTo>
                    <a:pt x="573" y="439"/>
                  </a:lnTo>
                  <a:lnTo>
                    <a:pt x="573" y="270"/>
                  </a:lnTo>
                  <a:lnTo>
                    <a:pt x="539" y="136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hape 819"/>
            <p:cNvSpPr/>
            <p:nvPr/>
          </p:nvSpPr>
          <p:spPr>
            <a:xfrm>
              <a:off x="1647720" y="0"/>
              <a:ext cx="147600" cy="141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223" h="2122">
                  <a:moveTo>
                    <a:pt x="1986" y="1"/>
                  </a:moveTo>
                  <a:lnTo>
                    <a:pt x="1986" y="304"/>
                  </a:lnTo>
                  <a:lnTo>
                    <a:pt x="1986" y="640"/>
                  </a:lnTo>
                  <a:lnTo>
                    <a:pt x="2020" y="1819"/>
                  </a:lnTo>
                  <a:lnTo>
                    <a:pt x="1784" y="1785"/>
                  </a:lnTo>
                  <a:lnTo>
                    <a:pt x="1549" y="1785"/>
                  </a:lnTo>
                  <a:lnTo>
                    <a:pt x="1077" y="1819"/>
                  </a:lnTo>
                  <a:lnTo>
                    <a:pt x="505" y="1819"/>
                  </a:lnTo>
                  <a:lnTo>
                    <a:pt x="337" y="1852"/>
                  </a:lnTo>
                  <a:lnTo>
                    <a:pt x="202" y="1852"/>
                  </a:lnTo>
                  <a:lnTo>
                    <a:pt x="101" y="1920"/>
                  </a:lnTo>
                  <a:lnTo>
                    <a:pt x="0" y="1987"/>
                  </a:lnTo>
                  <a:lnTo>
                    <a:pt x="0" y="2021"/>
                  </a:lnTo>
                  <a:lnTo>
                    <a:pt x="101" y="2088"/>
                  </a:lnTo>
                  <a:lnTo>
                    <a:pt x="202" y="2122"/>
                  </a:lnTo>
                  <a:lnTo>
                    <a:pt x="438" y="2122"/>
                  </a:lnTo>
                  <a:lnTo>
                    <a:pt x="943" y="2088"/>
                  </a:lnTo>
                  <a:lnTo>
                    <a:pt x="1784" y="2088"/>
                  </a:lnTo>
                  <a:lnTo>
                    <a:pt x="2054" y="2021"/>
                  </a:lnTo>
                  <a:lnTo>
                    <a:pt x="2087" y="2054"/>
                  </a:lnTo>
                  <a:lnTo>
                    <a:pt x="2155" y="2054"/>
                  </a:lnTo>
                  <a:lnTo>
                    <a:pt x="2222" y="2021"/>
                  </a:lnTo>
                  <a:lnTo>
                    <a:pt x="2222" y="1953"/>
                  </a:lnTo>
                  <a:lnTo>
                    <a:pt x="2188" y="775"/>
                  </a:lnTo>
                  <a:lnTo>
                    <a:pt x="2188" y="405"/>
                  </a:lnTo>
                  <a:lnTo>
                    <a:pt x="2188" y="203"/>
                  </a:lnTo>
                  <a:lnTo>
                    <a:pt x="215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4480" bIns="24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hape 820"/>
            <p:cNvSpPr/>
            <p:nvPr/>
          </p:nvSpPr>
          <p:spPr>
            <a:xfrm>
              <a:off x="1616040" y="225360"/>
              <a:ext cx="15840" cy="47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37" h="708">
                  <a:moveTo>
                    <a:pt x="102" y="0"/>
                  </a:moveTo>
                  <a:lnTo>
                    <a:pt x="68" y="34"/>
                  </a:lnTo>
                  <a:lnTo>
                    <a:pt x="1" y="202"/>
                  </a:lnTo>
                  <a:lnTo>
                    <a:pt x="1" y="337"/>
                  </a:lnTo>
                  <a:lnTo>
                    <a:pt x="1" y="505"/>
                  </a:lnTo>
                  <a:lnTo>
                    <a:pt x="1" y="640"/>
                  </a:lnTo>
                  <a:lnTo>
                    <a:pt x="34" y="674"/>
                  </a:lnTo>
                  <a:lnTo>
                    <a:pt x="102" y="707"/>
                  </a:lnTo>
                  <a:lnTo>
                    <a:pt x="169" y="707"/>
                  </a:lnTo>
                  <a:lnTo>
                    <a:pt x="203" y="640"/>
                  </a:lnTo>
                  <a:lnTo>
                    <a:pt x="203" y="606"/>
                  </a:lnTo>
                  <a:lnTo>
                    <a:pt x="203" y="337"/>
                  </a:lnTo>
                  <a:lnTo>
                    <a:pt x="236" y="68"/>
                  </a:lnTo>
                  <a:lnTo>
                    <a:pt x="203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hape 821"/>
            <p:cNvSpPr/>
            <p:nvPr/>
          </p:nvSpPr>
          <p:spPr>
            <a:xfrm>
              <a:off x="1406520" y="3506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59" h="2425">
                  <a:moveTo>
                    <a:pt x="2290" y="203"/>
                  </a:moveTo>
                  <a:lnTo>
                    <a:pt x="2257" y="640"/>
                  </a:lnTo>
                  <a:lnTo>
                    <a:pt x="2257" y="1078"/>
                  </a:lnTo>
                  <a:lnTo>
                    <a:pt x="2223" y="1617"/>
                  </a:lnTo>
                  <a:lnTo>
                    <a:pt x="2223" y="2155"/>
                  </a:lnTo>
                  <a:lnTo>
                    <a:pt x="1954" y="2122"/>
                  </a:lnTo>
                  <a:lnTo>
                    <a:pt x="1684" y="2088"/>
                  </a:lnTo>
                  <a:lnTo>
                    <a:pt x="1146" y="2122"/>
                  </a:lnTo>
                  <a:lnTo>
                    <a:pt x="708" y="2155"/>
                  </a:lnTo>
                  <a:lnTo>
                    <a:pt x="506" y="2155"/>
                  </a:lnTo>
                  <a:lnTo>
                    <a:pt x="270" y="2223"/>
                  </a:lnTo>
                  <a:lnTo>
                    <a:pt x="270" y="1684"/>
                  </a:lnTo>
                  <a:lnTo>
                    <a:pt x="237" y="1179"/>
                  </a:lnTo>
                  <a:lnTo>
                    <a:pt x="237" y="741"/>
                  </a:lnTo>
                  <a:lnTo>
                    <a:pt x="203" y="304"/>
                  </a:lnTo>
                  <a:lnTo>
                    <a:pt x="1247" y="270"/>
                  </a:lnTo>
                  <a:lnTo>
                    <a:pt x="1752" y="236"/>
                  </a:lnTo>
                  <a:lnTo>
                    <a:pt x="2290" y="203"/>
                  </a:lnTo>
                  <a:close/>
                  <a:moveTo>
                    <a:pt x="1752" y="1"/>
                  </a:moveTo>
                  <a:lnTo>
                    <a:pt x="1247" y="34"/>
                  </a:lnTo>
                  <a:lnTo>
                    <a:pt x="169" y="102"/>
                  </a:lnTo>
                  <a:lnTo>
                    <a:pt x="136" y="102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5" y="472"/>
                  </a:lnTo>
                  <a:lnTo>
                    <a:pt x="1" y="741"/>
                  </a:lnTo>
                  <a:lnTo>
                    <a:pt x="35" y="1347"/>
                  </a:lnTo>
                  <a:lnTo>
                    <a:pt x="35" y="1852"/>
                  </a:lnTo>
                  <a:lnTo>
                    <a:pt x="68" y="2122"/>
                  </a:lnTo>
                  <a:lnTo>
                    <a:pt x="136" y="2357"/>
                  </a:lnTo>
                  <a:lnTo>
                    <a:pt x="136" y="2391"/>
                  </a:lnTo>
                  <a:lnTo>
                    <a:pt x="169" y="2425"/>
                  </a:lnTo>
                  <a:lnTo>
                    <a:pt x="237" y="2425"/>
                  </a:lnTo>
                  <a:lnTo>
                    <a:pt x="270" y="2391"/>
                  </a:lnTo>
                  <a:lnTo>
                    <a:pt x="775" y="2391"/>
                  </a:lnTo>
                  <a:lnTo>
                    <a:pt x="1314" y="2357"/>
                  </a:lnTo>
                  <a:lnTo>
                    <a:pt x="1785" y="2357"/>
                  </a:lnTo>
                  <a:lnTo>
                    <a:pt x="2021" y="2324"/>
                  </a:lnTo>
                  <a:lnTo>
                    <a:pt x="2257" y="2290"/>
                  </a:lnTo>
                  <a:lnTo>
                    <a:pt x="2324" y="2290"/>
                  </a:lnTo>
                  <a:lnTo>
                    <a:pt x="2358" y="2256"/>
                  </a:lnTo>
                  <a:lnTo>
                    <a:pt x="2391" y="2223"/>
                  </a:lnTo>
                  <a:lnTo>
                    <a:pt x="2459" y="1953"/>
                  </a:lnTo>
                  <a:lnTo>
                    <a:pt x="2459" y="1650"/>
                  </a:lnTo>
                  <a:lnTo>
                    <a:pt x="2459" y="1044"/>
                  </a:lnTo>
                  <a:lnTo>
                    <a:pt x="2459" y="573"/>
                  </a:lnTo>
                  <a:lnTo>
                    <a:pt x="2425" y="337"/>
                  </a:lnTo>
                  <a:lnTo>
                    <a:pt x="2391" y="102"/>
                  </a:lnTo>
                  <a:lnTo>
                    <a:pt x="2358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hape 822"/>
            <p:cNvSpPr/>
            <p:nvPr/>
          </p:nvSpPr>
          <p:spPr>
            <a:xfrm>
              <a:off x="8564760" y="4611600"/>
              <a:ext cx="158400" cy="6379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391" h="9596">
                  <a:moveTo>
                    <a:pt x="2323" y="0"/>
                  </a:moveTo>
                  <a:lnTo>
                    <a:pt x="2323" y="34"/>
                  </a:lnTo>
                  <a:lnTo>
                    <a:pt x="2155" y="606"/>
                  </a:lnTo>
                  <a:lnTo>
                    <a:pt x="1987" y="1179"/>
                  </a:lnTo>
                  <a:lnTo>
                    <a:pt x="1751" y="2323"/>
                  </a:lnTo>
                  <a:lnTo>
                    <a:pt x="1515" y="3502"/>
                  </a:lnTo>
                  <a:lnTo>
                    <a:pt x="1246" y="4646"/>
                  </a:lnTo>
                  <a:lnTo>
                    <a:pt x="640" y="7071"/>
                  </a:lnTo>
                  <a:lnTo>
                    <a:pt x="0" y="9495"/>
                  </a:lnTo>
                  <a:lnTo>
                    <a:pt x="0" y="9562"/>
                  </a:lnTo>
                  <a:lnTo>
                    <a:pt x="68" y="9596"/>
                  </a:lnTo>
                  <a:lnTo>
                    <a:pt x="135" y="9596"/>
                  </a:lnTo>
                  <a:lnTo>
                    <a:pt x="169" y="9528"/>
                  </a:lnTo>
                  <a:lnTo>
                    <a:pt x="842" y="7138"/>
                  </a:lnTo>
                  <a:lnTo>
                    <a:pt x="1414" y="4680"/>
                  </a:lnTo>
                  <a:lnTo>
                    <a:pt x="1987" y="2391"/>
                  </a:lnTo>
                  <a:lnTo>
                    <a:pt x="2256" y="1212"/>
                  </a:lnTo>
                  <a:lnTo>
                    <a:pt x="2323" y="640"/>
                  </a:lnTo>
                  <a:lnTo>
                    <a:pt x="2391" y="34"/>
                  </a:lnTo>
                  <a:lnTo>
                    <a:pt x="239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hape 823"/>
            <p:cNvSpPr/>
            <p:nvPr/>
          </p:nvSpPr>
          <p:spPr>
            <a:xfrm>
              <a:off x="1738080" y="16488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24">
                  <a:moveTo>
                    <a:pt x="68" y="0"/>
                  </a:moveTo>
                  <a:lnTo>
                    <a:pt x="34" y="34"/>
                  </a:lnTo>
                  <a:lnTo>
                    <a:pt x="1" y="303"/>
                  </a:lnTo>
                  <a:lnTo>
                    <a:pt x="1" y="539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3"/>
                  </a:lnTo>
                  <a:lnTo>
                    <a:pt x="304" y="2323"/>
                  </a:lnTo>
                  <a:lnTo>
                    <a:pt x="304" y="2256"/>
                  </a:lnTo>
                  <a:lnTo>
                    <a:pt x="337" y="1953"/>
                  </a:lnTo>
                  <a:lnTo>
                    <a:pt x="304" y="1650"/>
                  </a:lnTo>
                  <a:lnTo>
                    <a:pt x="236" y="1078"/>
                  </a:lnTo>
                  <a:lnTo>
                    <a:pt x="203" y="539"/>
                  </a:lnTo>
                  <a:lnTo>
                    <a:pt x="169" y="303"/>
                  </a:lnTo>
                  <a:lnTo>
                    <a:pt x="135" y="3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hape 824"/>
            <p:cNvSpPr/>
            <p:nvPr/>
          </p:nvSpPr>
          <p:spPr>
            <a:xfrm>
              <a:off x="1711080" y="701640"/>
              <a:ext cx="180720" cy="205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728" h="304">
                  <a:moveTo>
                    <a:pt x="708" y="0"/>
                  </a:moveTo>
                  <a:lnTo>
                    <a:pt x="337" y="34"/>
                  </a:lnTo>
                  <a:lnTo>
                    <a:pt x="169" y="68"/>
                  </a:lnTo>
                  <a:lnTo>
                    <a:pt x="1" y="135"/>
                  </a:lnTo>
                  <a:lnTo>
                    <a:pt x="1" y="169"/>
                  </a:lnTo>
                  <a:lnTo>
                    <a:pt x="135" y="236"/>
                  </a:lnTo>
                  <a:lnTo>
                    <a:pt x="304" y="270"/>
                  </a:lnTo>
                  <a:lnTo>
                    <a:pt x="607" y="304"/>
                  </a:lnTo>
                  <a:lnTo>
                    <a:pt x="1246" y="270"/>
                  </a:lnTo>
                  <a:lnTo>
                    <a:pt x="2358" y="270"/>
                  </a:lnTo>
                  <a:lnTo>
                    <a:pt x="2694" y="169"/>
                  </a:lnTo>
                  <a:lnTo>
                    <a:pt x="2728" y="135"/>
                  </a:lnTo>
                  <a:lnTo>
                    <a:pt x="2694" y="102"/>
                  </a:lnTo>
                  <a:lnTo>
                    <a:pt x="2391" y="34"/>
                  </a:lnTo>
                  <a:lnTo>
                    <a:pt x="1415" y="34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6120" bIns="-96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hape 825"/>
            <p:cNvSpPr/>
            <p:nvPr/>
          </p:nvSpPr>
          <p:spPr>
            <a:xfrm>
              <a:off x="1711080" y="520560"/>
              <a:ext cx="153720" cy="1616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24" h="2425">
                  <a:moveTo>
                    <a:pt x="2122" y="0"/>
                  </a:moveTo>
                  <a:lnTo>
                    <a:pt x="1516" y="34"/>
                  </a:lnTo>
                  <a:lnTo>
                    <a:pt x="203" y="34"/>
                  </a:lnTo>
                  <a:lnTo>
                    <a:pt x="1" y="135"/>
                  </a:lnTo>
                  <a:lnTo>
                    <a:pt x="68" y="202"/>
                  </a:lnTo>
                  <a:lnTo>
                    <a:pt x="169" y="236"/>
                  </a:lnTo>
                  <a:lnTo>
                    <a:pt x="371" y="270"/>
                  </a:lnTo>
                  <a:lnTo>
                    <a:pt x="1415" y="270"/>
                  </a:lnTo>
                  <a:lnTo>
                    <a:pt x="2021" y="236"/>
                  </a:lnTo>
                  <a:lnTo>
                    <a:pt x="2021" y="438"/>
                  </a:lnTo>
                  <a:lnTo>
                    <a:pt x="2021" y="640"/>
                  </a:lnTo>
                  <a:lnTo>
                    <a:pt x="2055" y="1078"/>
                  </a:lnTo>
                  <a:lnTo>
                    <a:pt x="2055" y="1616"/>
                  </a:lnTo>
                  <a:lnTo>
                    <a:pt x="2088" y="1852"/>
                  </a:lnTo>
                  <a:lnTo>
                    <a:pt x="2122" y="2121"/>
                  </a:lnTo>
                  <a:lnTo>
                    <a:pt x="977" y="2155"/>
                  </a:lnTo>
                  <a:lnTo>
                    <a:pt x="573" y="2155"/>
                  </a:lnTo>
                  <a:lnTo>
                    <a:pt x="371" y="2189"/>
                  </a:lnTo>
                  <a:lnTo>
                    <a:pt x="270" y="2222"/>
                  </a:lnTo>
                  <a:lnTo>
                    <a:pt x="203" y="2290"/>
                  </a:lnTo>
                  <a:lnTo>
                    <a:pt x="270" y="2357"/>
                  </a:lnTo>
                  <a:lnTo>
                    <a:pt x="371" y="2391"/>
                  </a:lnTo>
                  <a:lnTo>
                    <a:pt x="573" y="2424"/>
                  </a:lnTo>
                  <a:lnTo>
                    <a:pt x="977" y="2391"/>
                  </a:lnTo>
                  <a:lnTo>
                    <a:pt x="1617" y="2391"/>
                  </a:lnTo>
                  <a:lnTo>
                    <a:pt x="2223" y="2357"/>
                  </a:lnTo>
                  <a:lnTo>
                    <a:pt x="2290" y="2357"/>
                  </a:lnTo>
                  <a:lnTo>
                    <a:pt x="2324" y="2290"/>
                  </a:lnTo>
                  <a:lnTo>
                    <a:pt x="2324" y="2222"/>
                  </a:lnTo>
                  <a:lnTo>
                    <a:pt x="2290" y="2155"/>
                  </a:lnTo>
                  <a:lnTo>
                    <a:pt x="2324" y="1886"/>
                  </a:lnTo>
                  <a:lnTo>
                    <a:pt x="2290" y="1616"/>
                  </a:lnTo>
                  <a:lnTo>
                    <a:pt x="2257" y="1078"/>
                  </a:lnTo>
                  <a:lnTo>
                    <a:pt x="2257" y="640"/>
                  </a:lnTo>
                  <a:lnTo>
                    <a:pt x="2223" y="404"/>
                  </a:lnTo>
                  <a:lnTo>
                    <a:pt x="2189" y="202"/>
                  </a:lnTo>
                  <a:lnTo>
                    <a:pt x="2223" y="135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212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hape 826"/>
            <p:cNvSpPr/>
            <p:nvPr/>
          </p:nvSpPr>
          <p:spPr>
            <a:xfrm>
              <a:off x="1323720" y="53496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1">
                  <a:moveTo>
                    <a:pt x="2256" y="236"/>
                  </a:moveTo>
                  <a:lnTo>
                    <a:pt x="2256" y="674"/>
                  </a:lnTo>
                  <a:lnTo>
                    <a:pt x="2290" y="1111"/>
                  </a:lnTo>
                  <a:lnTo>
                    <a:pt x="2290" y="1616"/>
                  </a:lnTo>
                  <a:lnTo>
                    <a:pt x="2323" y="2121"/>
                  </a:lnTo>
                  <a:lnTo>
                    <a:pt x="1448" y="2121"/>
                  </a:lnTo>
                  <a:lnTo>
                    <a:pt x="909" y="2155"/>
                  </a:lnTo>
                  <a:lnTo>
                    <a:pt x="640" y="2189"/>
                  </a:lnTo>
                  <a:lnTo>
                    <a:pt x="371" y="2222"/>
                  </a:lnTo>
                  <a:lnTo>
                    <a:pt x="337" y="1684"/>
                  </a:lnTo>
                  <a:lnTo>
                    <a:pt x="270" y="1145"/>
                  </a:lnTo>
                  <a:lnTo>
                    <a:pt x="202" y="707"/>
                  </a:lnTo>
                  <a:lnTo>
                    <a:pt x="169" y="303"/>
                  </a:lnTo>
                  <a:lnTo>
                    <a:pt x="674" y="303"/>
                  </a:lnTo>
                  <a:lnTo>
                    <a:pt x="1212" y="270"/>
                  </a:lnTo>
                  <a:lnTo>
                    <a:pt x="2256" y="236"/>
                  </a:lnTo>
                  <a:close/>
                  <a:moveTo>
                    <a:pt x="2256" y="0"/>
                  </a:moveTo>
                  <a:lnTo>
                    <a:pt x="1179" y="34"/>
                  </a:lnTo>
                  <a:lnTo>
                    <a:pt x="674" y="68"/>
                  </a:lnTo>
                  <a:lnTo>
                    <a:pt x="135" y="101"/>
                  </a:lnTo>
                  <a:lnTo>
                    <a:pt x="68" y="135"/>
                  </a:lnTo>
                  <a:lnTo>
                    <a:pt x="68" y="202"/>
                  </a:lnTo>
                  <a:lnTo>
                    <a:pt x="34" y="438"/>
                  </a:lnTo>
                  <a:lnTo>
                    <a:pt x="0" y="674"/>
                  </a:lnTo>
                  <a:lnTo>
                    <a:pt x="34" y="1179"/>
                  </a:lnTo>
                  <a:lnTo>
                    <a:pt x="101" y="1751"/>
                  </a:lnTo>
                  <a:lnTo>
                    <a:pt x="135" y="2054"/>
                  </a:lnTo>
                  <a:lnTo>
                    <a:pt x="236" y="2323"/>
                  </a:lnTo>
                  <a:lnTo>
                    <a:pt x="236" y="2357"/>
                  </a:lnTo>
                  <a:lnTo>
                    <a:pt x="371" y="2357"/>
                  </a:lnTo>
                  <a:lnTo>
                    <a:pt x="606" y="2391"/>
                  </a:lnTo>
                  <a:lnTo>
                    <a:pt x="842" y="2391"/>
                  </a:lnTo>
                  <a:lnTo>
                    <a:pt x="1313" y="2357"/>
                  </a:lnTo>
                  <a:lnTo>
                    <a:pt x="2088" y="2357"/>
                  </a:lnTo>
                  <a:lnTo>
                    <a:pt x="2357" y="2323"/>
                  </a:lnTo>
                  <a:lnTo>
                    <a:pt x="2458" y="2323"/>
                  </a:lnTo>
                  <a:lnTo>
                    <a:pt x="2492" y="2290"/>
                  </a:lnTo>
                  <a:lnTo>
                    <a:pt x="2525" y="2020"/>
                  </a:lnTo>
                  <a:lnTo>
                    <a:pt x="2525" y="1785"/>
                  </a:lnTo>
                  <a:lnTo>
                    <a:pt x="2492" y="1246"/>
                  </a:lnTo>
                  <a:lnTo>
                    <a:pt x="2458" y="674"/>
                  </a:lnTo>
                  <a:lnTo>
                    <a:pt x="2424" y="371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34"/>
                  </a:lnTo>
                  <a:lnTo>
                    <a:pt x="22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hape 827"/>
            <p:cNvSpPr/>
            <p:nvPr/>
          </p:nvSpPr>
          <p:spPr>
            <a:xfrm>
              <a:off x="1920600" y="14904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2021" y="0"/>
                  </a:moveTo>
                  <a:lnTo>
                    <a:pt x="1617" y="68"/>
                  </a:lnTo>
                  <a:lnTo>
                    <a:pt x="910" y="68"/>
                  </a:lnTo>
                  <a:lnTo>
                    <a:pt x="539" y="101"/>
                  </a:lnTo>
                  <a:lnTo>
                    <a:pt x="203" y="135"/>
                  </a:lnTo>
                  <a:lnTo>
                    <a:pt x="169" y="68"/>
                  </a:lnTo>
                  <a:lnTo>
                    <a:pt x="169" y="34"/>
                  </a:lnTo>
                  <a:lnTo>
                    <a:pt x="102" y="34"/>
                  </a:lnTo>
                  <a:lnTo>
                    <a:pt x="68" y="68"/>
                  </a:lnTo>
                  <a:lnTo>
                    <a:pt x="34" y="303"/>
                  </a:lnTo>
                  <a:lnTo>
                    <a:pt x="1" y="573"/>
                  </a:lnTo>
                  <a:lnTo>
                    <a:pt x="1" y="1112"/>
                  </a:lnTo>
                  <a:lnTo>
                    <a:pt x="34" y="1718"/>
                  </a:lnTo>
                  <a:lnTo>
                    <a:pt x="102" y="2021"/>
                  </a:lnTo>
                  <a:lnTo>
                    <a:pt x="169" y="2324"/>
                  </a:lnTo>
                  <a:lnTo>
                    <a:pt x="203" y="2357"/>
                  </a:lnTo>
                  <a:lnTo>
                    <a:pt x="304" y="2357"/>
                  </a:lnTo>
                  <a:lnTo>
                    <a:pt x="337" y="2290"/>
                  </a:lnTo>
                  <a:lnTo>
                    <a:pt x="337" y="1987"/>
                  </a:lnTo>
                  <a:lnTo>
                    <a:pt x="304" y="1684"/>
                  </a:lnTo>
                  <a:lnTo>
                    <a:pt x="236" y="1078"/>
                  </a:lnTo>
                  <a:lnTo>
                    <a:pt x="236" y="674"/>
                  </a:lnTo>
                  <a:lnTo>
                    <a:pt x="203" y="236"/>
                  </a:lnTo>
                  <a:lnTo>
                    <a:pt x="438" y="270"/>
                  </a:lnTo>
                  <a:lnTo>
                    <a:pt x="1145" y="270"/>
                  </a:lnTo>
                  <a:lnTo>
                    <a:pt x="2223" y="202"/>
                  </a:lnTo>
                  <a:lnTo>
                    <a:pt x="2256" y="236"/>
                  </a:lnTo>
                  <a:lnTo>
                    <a:pt x="2290" y="270"/>
                  </a:lnTo>
                  <a:lnTo>
                    <a:pt x="2357" y="270"/>
                  </a:lnTo>
                  <a:lnTo>
                    <a:pt x="2324" y="573"/>
                  </a:lnTo>
                  <a:lnTo>
                    <a:pt x="2324" y="910"/>
                  </a:lnTo>
                  <a:lnTo>
                    <a:pt x="2357" y="2088"/>
                  </a:lnTo>
                  <a:lnTo>
                    <a:pt x="2122" y="2054"/>
                  </a:lnTo>
                  <a:lnTo>
                    <a:pt x="1886" y="2088"/>
                  </a:lnTo>
                  <a:lnTo>
                    <a:pt x="1415" y="2122"/>
                  </a:lnTo>
                  <a:lnTo>
                    <a:pt x="674" y="2122"/>
                  </a:lnTo>
                  <a:lnTo>
                    <a:pt x="539" y="2155"/>
                  </a:lnTo>
                  <a:lnTo>
                    <a:pt x="438" y="2189"/>
                  </a:lnTo>
                  <a:lnTo>
                    <a:pt x="337" y="2290"/>
                  </a:lnTo>
                  <a:lnTo>
                    <a:pt x="438" y="2357"/>
                  </a:lnTo>
                  <a:lnTo>
                    <a:pt x="539" y="2391"/>
                  </a:lnTo>
                  <a:lnTo>
                    <a:pt x="775" y="2425"/>
                  </a:lnTo>
                  <a:lnTo>
                    <a:pt x="1280" y="2357"/>
                  </a:lnTo>
                  <a:lnTo>
                    <a:pt x="2122" y="2357"/>
                  </a:lnTo>
                  <a:lnTo>
                    <a:pt x="2391" y="2290"/>
                  </a:lnTo>
                  <a:lnTo>
                    <a:pt x="2425" y="2324"/>
                  </a:lnTo>
                  <a:lnTo>
                    <a:pt x="2492" y="2357"/>
                  </a:lnTo>
                  <a:lnTo>
                    <a:pt x="2559" y="2324"/>
                  </a:lnTo>
                  <a:lnTo>
                    <a:pt x="2559" y="2256"/>
                  </a:lnTo>
                  <a:lnTo>
                    <a:pt x="2526" y="1078"/>
                  </a:lnTo>
                  <a:lnTo>
                    <a:pt x="2526" y="573"/>
                  </a:lnTo>
                  <a:lnTo>
                    <a:pt x="2492" y="303"/>
                  </a:lnTo>
                  <a:lnTo>
                    <a:pt x="2425" y="68"/>
                  </a:lnTo>
                  <a:lnTo>
                    <a:pt x="2391" y="68"/>
                  </a:lnTo>
                  <a:lnTo>
                    <a:pt x="2391" y="101"/>
                  </a:lnTo>
                  <a:lnTo>
                    <a:pt x="2324" y="34"/>
                  </a:lnTo>
                  <a:lnTo>
                    <a:pt x="2223" y="34"/>
                  </a:lnTo>
                  <a:lnTo>
                    <a:pt x="202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hape 828"/>
            <p:cNvSpPr/>
            <p:nvPr/>
          </p:nvSpPr>
          <p:spPr>
            <a:xfrm>
              <a:off x="1699920" y="52848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58">
                  <a:moveTo>
                    <a:pt x="68" y="0"/>
                  </a:moveTo>
                  <a:lnTo>
                    <a:pt x="34" y="34"/>
                  </a:lnTo>
                  <a:lnTo>
                    <a:pt x="0" y="303"/>
                  </a:lnTo>
                  <a:lnTo>
                    <a:pt x="0" y="573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3"/>
                  </a:lnTo>
                  <a:lnTo>
                    <a:pt x="270" y="2357"/>
                  </a:lnTo>
                  <a:lnTo>
                    <a:pt x="303" y="2323"/>
                  </a:lnTo>
                  <a:lnTo>
                    <a:pt x="337" y="2256"/>
                  </a:lnTo>
                  <a:lnTo>
                    <a:pt x="337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02" y="539"/>
                  </a:lnTo>
                  <a:lnTo>
                    <a:pt x="202" y="303"/>
                  </a:lnTo>
                  <a:lnTo>
                    <a:pt x="135" y="3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hape 829"/>
            <p:cNvSpPr/>
            <p:nvPr/>
          </p:nvSpPr>
          <p:spPr>
            <a:xfrm>
              <a:off x="693720" y="2052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60" h="2392">
                  <a:moveTo>
                    <a:pt x="135" y="1"/>
                  </a:moveTo>
                  <a:lnTo>
                    <a:pt x="102" y="34"/>
                  </a:lnTo>
                  <a:lnTo>
                    <a:pt x="68" y="34"/>
                  </a:lnTo>
                  <a:lnTo>
                    <a:pt x="34" y="304"/>
                  </a:lnTo>
                  <a:lnTo>
                    <a:pt x="1" y="573"/>
                  </a:lnTo>
                  <a:lnTo>
                    <a:pt x="1" y="1078"/>
                  </a:lnTo>
                  <a:lnTo>
                    <a:pt x="34" y="1684"/>
                  </a:lnTo>
                  <a:lnTo>
                    <a:pt x="68" y="2021"/>
                  </a:lnTo>
                  <a:lnTo>
                    <a:pt x="169" y="2290"/>
                  </a:lnTo>
                  <a:lnTo>
                    <a:pt x="203" y="2358"/>
                  </a:lnTo>
                  <a:lnTo>
                    <a:pt x="236" y="2358"/>
                  </a:lnTo>
                  <a:lnTo>
                    <a:pt x="304" y="2324"/>
                  </a:lnTo>
                  <a:lnTo>
                    <a:pt x="338" y="2256"/>
                  </a:lnTo>
                  <a:lnTo>
                    <a:pt x="304" y="1987"/>
                  </a:lnTo>
                  <a:lnTo>
                    <a:pt x="304" y="1684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3" y="236"/>
                  </a:lnTo>
                  <a:lnTo>
                    <a:pt x="439" y="236"/>
                  </a:lnTo>
                  <a:lnTo>
                    <a:pt x="674" y="270"/>
                  </a:lnTo>
                  <a:lnTo>
                    <a:pt x="1146" y="236"/>
                  </a:lnTo>
                  <a:lnTo>
                    <a:pt x="2223" y="203"/>
                  </a:lnTo>
                  <a:lnTo>
                    <a:pt x="2257" y="236"/>
                  </a:lnTo>
                  <a:lnTo>
                    <a:pt x="2324" y="236"/>
                  </a:lnTo>
                  <a:lnTo>
                    <a:pt x="2290" y="573"/>
                  </a:lnTo>
                  <a:lnTo>
                    <a:pt x="2324" y="910"/>
                  </a:lnTo>
                  <a:lnTo>
                    <a:pt x="2358" y="2088"/>
                  </a:lnTo>
                  <a:lnTo>
                    <a:pt x="2122" y="2054"/>
                  </a:lnTo>
                  <a:lnTo>
                    <a:pt x="1886" y="2054"/>
                  </a:lnTo>
                  <a:lnTo>
                    <a:pt x="1415" y="2088"/>
                  </a:lnTo>
                  <a:lnTo>
                    <a:pt x="843" y="2088"/>
                  </a:lnTo>
                  <a:lnTo>
                    <a:pt x="674" y="2122"/>
                  </a:lnTo>
                  <a:lnTo>
                    <a:pt x="540" y="2122"/>
                  </a:lnTo>
                  <a:lnTo>
                    <a:pt x="405" y="2189"/>
                  </a:lnTo>
                  <a:lnTo>
                    <a:pt x="338" y="2256"/>
                  </a:lnTo>
                  <a:lnTo>
                    <a:pt x="338" y="2290"/>
                  </a:lnTo>
                  <a:lnTo>
                    <a:pt x="405" y="2358"/>
                  </a:lnTo>
                  <a:lnTo>
                    <a:pt x="540" y="2391"/>
                  </a:lnTo>
                  <a:lnTo>
                    <a:pt x="775" y="2391"/>
                  </a:lnTo>
                  <a:lnTo>
                    <a:pt x="1280" y="2358"/>
                  </a:lnTo>
                  <a:lnTo>
                    <a:pt x="2088" y="2358"/>
                  </a:lnTo>
                  <a:lnTo>
                    <a:pt x="2358" y="2290"/>
                  </a:lnTo>
                  <a:lnTo>
                    <a:pt x="2425" y="2324"/>
                  </a:lnTo>
                  <a:lnTo>
                    <a:pt x="2492" y="2324"/>
                  </a:lnTo>
                  <a:lnTo>
                    <a:pt x="2526" y="2290"/>
                  </a:lnTo>
                  <a:lnTo>
                    <a:pt x="2560" y="2223"/>
                  </a:lnTo>
                  <a:lnTo>
                    <a:pt x="2526" y="1044"/>
                  </a:lnTo>
                  <a:lnTo>
                    <a:pt x="2526" y="539"/>
                  </a:lnTo>
                  <a:lnTo>
                    <a:pt x="2492" y="304"/>
                  </a:lnTo>
                  <a:lnTo>
                    <a:pt x="2425" y="68"/>
                  </a:lnTo>
                  <a:lnTo>
                    <a:pt x="2425" y="34"/>
                  </a:lnTo>
                  <a:lnTo>
                    <a:pt x="2391" y="34"/>
                  </a:lnTo>
                  <a:lnTo>
                    <a:pt x="2391" y="102"/>
                  </a:lnTo>
                  <a:lnTo>
                    <a:pt x="2358" y="68"/>
                  </a:lnTo>
                  <a:lnTo>
                    <a:pt x="2290" y="34"/>
                  </a:lnTo>
                  <a:lnTo>
                    <a:pt x="2223" y="1"/>
                  </a:lnTo>
                  <a:lnTo>
                    <a:pt x="1987" y="1"/>
                  </a:lnTo>
                  <a:lnTo>
                    <a:pt x="1617" y="34"/>
                  </a:lnTo>
                  <a:lnTo>
                    <a:pt x="910" y="34"/>
                  </a:lnTo>
                  <a:lnTo>
                    <a:pt x="540" y="68"/>
                  </a:lnTo>
                  <a:lnTo>
                    <a:pt x="203" y="135"/>
                  </a:lnTo>
                  <a:lnTo>
                    <a:pt x="169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hape 830"/>
            <p:cNvSpPr/>
            <p:nvPr/>
          </p:nvSpPr>
          <p:spPr>
            <a:xfrm>
              <a:off x="1749240" y="55404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10" h="506">
                  <a:moveTo>
                    <a:pt x="572" y="0"/>
                  </a:moveTo>
                  <a:lnTo>
                    <a:pt x="404" y="68"/>
                  </a:lnTo>
                  <a:lnTo>
                    <a:pt x="101" y="236"/>
                  </a:lnTo>
                  <a:lnTo>
                    <a:pt x="34" y="270"/>
                  </a:lnTo>
                  <a:lnTo>
                    <a:pt x="0" y="337"/>
                  </a:lnTo>
                  <a:lnTo>
                    <a:pt x="34" y="371"/>
                  </a:lnTo>
                  <a:lnTo>
                    <a:pt x="101" y="404"/>
                  </a:lnTo>
                  <a:lnTo>
                    <a:pt x="774" y="505"/>
                  </a:lnTo>
                  <a:lnTo>
                    <a:pt x="842" y="472"/>
                  </a:lnTo>
                  <a:lnTo>
                    <a:pt x="909" y="404"/>
                  </a:lnTo>
                  <a:lnTo>
                    <a:pt x="876" y="337"/>
                  </a:lnTo>
                  <a:lnTo>
                    <a:pt x="808" y="303"/>
                  </a:lnTo>
                  <a:lnTo>
                    <a:pt x="505" y="270"/>
                  </a:lnTo>
                  <a:lnTo>
                    <a:pt x="640" y="169"/>
                  </a:lnTo>
                  <a:lnTo>
                    <a:pt x="774" y="68"/>
                  </a:lnTo>
                  <a:lnTo>
                    <a:pt x="77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1720" bIns="-81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Shape 831"/>
            <p:cNvSpPr/>
            <p:nvPr/>
          </p:nvSpPr>
          <p:spPr>
            <a:xfrm>
              <a:off x="3457440" y="23328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257" h="2256">
                  <a:moveTo>
                    <a:pt x="1213" y="169"/>
                  </a:moveTo>
                  <a:lnTo>
                    <a:pt x="1179" y="202"/>
                  </a:lnTo>
                  <a:lnTo>
                    <a:pt x="1179" y="270"/>
                  </a:lnTo>
                  <a:lnTo>
                    <a:pt x="1213" y="337"/>
                  </a:lnTo>
                  <a:lnTo>
                    <a:pt x="1516" y="337"/>
                  </a:lnTo>
                  <a:lnTo>
                    <a:pt x="1684" y="371"/>
                  </a:lnTo>
                  <a:lnTo>
                    <a:pt x="1819" y="505"/>
                  </a:lnTo>
                  <a:lnTo>
                    <a:pt x="1920" y="640"/>
                  </a:lnTo>
                  <a:lnTo>
                    <a:pt x="1987" y="842"/>
                  </a:lnTo>
                  <a:lnTo>
                    <a:pt x="2021" y="1044"/>
                  </a:lnTo>
                  <a:lnTo>
                    <a:pt x="2021" y="1212"/>
                  </a:lnTo>
                  <a:lnTo>
                    <a:pt x="1987" y="1414"/>
                  </a:lnTo>
                  <a:lnTo>
                    <a:pt x="1920" y="1616"/>
                  </a:lnTo>
                  <a:lnTo>
                    <a:pt x="1819" y="1785"/>
                  </a:lnTo>
                  <a:lnTo>
                    <a:pt x="1650" y="1886"/>
                  </a:lnTo>
                  <a:lnTo>
                    <a:pt x="1482" y="1987"/>
                  </a:lnTo>
                  <a:lnTo>
                    <a:pt x="1314" y="2020"/>
                  </a:lnTo>
                  <a:lnTo>
                    <a:pt x="1112" y="2020"/>
                  </a:lnTo>
                  <a:lnTo>
                    <a:pt x="943" y="1987"/>
                  </a:lnTo>
                  <a:lnTo>
                    <a:pt x="741" y="1886"/>
                  </a:lnTo>
                  <a:lnTo>
                    <a:pt x="573" y="1751"/>
                  </a:lnTo>
                  <a:lnTo>
                    <a:pt x="438" y="1616"/>
                  </a:lnTo>
                  <a:lnTo>
                    <a:pt x="337" y="1448"/>
                  </a:lnTo>
                  <a:lnTo>
                    <a:pt x="270" y="1280"/>
                  </a:lnTo>
                  <a:lnTo>
                    <a:pt x="236" y="1111"/>
                  </a:lnTo>
                  <a:lnTo>
                    <a:pt x="270" y="909"/>
                  </a:lnTo>
                  <a:lnTo>
                    <a:pt x="337" y="741"/>
                  </a:lnTo>
                  <a:lnTo>
                    <a:pt x="472" y="539"/>
                  </a:lnTo>
                  <a:lnTo>
                    <a:pt x="640" y="371"/>
                  </a:lnTo>
                  <a:lnTo>
                    <a:pt x="809" y="270"/>
                  </a:lnTo>
                  <a:lnTo>
                    <a:pt x="1011" y="202"/>
                  </a:lnTo>
                  <a:lnTo>
                    <a:pt x="1213" y="169"/>
                  </a:lnTo>
                  <a:close/>
                  <a:moveTo>
                    <a:pt x="1179" y="0"/>
                  </a:moveTo>
                  <a:lnTo>
                    <a:pt x="1011" y="34"/>
                  </a:lnTo>
                  <a:lnTo>
                    <a:pt x="842" y="101"/>
                  </a:lnTo>
                  <a:lnTo>
                    <a:pt x="674" y="169"/>
                  </a:lnTo>
                  <a:lnTo>
                    <a:pt x="506" y="270"/>
                  </a:lnTo>
                  <a:lnTo>
                    <a:pt x="371" y="404"/>
                  </a:lnTo>
                  <a:lnTo>
                    <a:pt x="270" y="539"/>
                  </a:lnTo>
                  <a:lnTo>
                    <a:pt x="135" y="741"/>
                  </a:lnTo>
                  <a:lnTo>
                    <a:pt x="34" y="943"/>
                  </a:lnTo>
                  <a:lnTo>
                    <a:pt x="1" y="1179"/>
                  </a:lnTo>
                  <a:lnTo>
                    <a:pt x="1" y="1313"/>
                  </a:lnTo>
                  <a:lnTo>
                    <a:pt x="68" y="1414"/>
                  </a:lnTo>
                  <a:lnTo>
                    <a:pt x="203" y="1650"/>
                  </a:lnTo>
                  <a:lnTo>
                    <a:pt x="371" y="1886"/>
                  </a:lnTo>
                  <a:lnTo>
                    <a:pt x="607" y="2088"/>
                  </a:lnTo>
                  <a:lnTo>
                    <a:pt x="876" y="2222"/>
                  </a:lnTo>
                  <a:lnTo>
                    <a:pt x="1112" y="2256"/>
                  </a:lnTo>
                  <a:lnTo>
                    <a:pt x="1347" y="2256"/>
                  </a:lnTo>
                  <a:lnTo>
                    <a:pt x="1549" y="2222"/>
                  </a:lnTo>
                  <a:lnTo>
                    <a:pt x="1785" y="2121"/>
                  </a:lnTo>
                  <a:lnTo>
                    <a:pt x="1953" y="1953"/>
                  </a:lnTo>
                  <a:lnTo>
                    <a:pt x="2088" y="1785"/>
                  </a:lnTo>
                  <a:lnTo>
                    <a:pt x="2189" y="1583"/>
                  </a:lnTo>
                  <a:lnTo>
                    <a:pt x="2256" y="1313"/>
                  </a:lnTo>
                  <a:lnTo>
                    <a:pt x="2256" y="1145"/>
                  </a:lnTo>
                  <a:lnTo>
                    <a:pt x="2223" y="943"/>
                  </a:lnTo>
                  <a:lnTo>
                    <a:pt x="2189" y="707"/>
                  </a:lnTo>
                  <a:lnTo>
                    <a:pt x="2088" y="505"/>
                  </a:lnTo>
                  <a:lnTo>
                    <a:pt x="1987" y="303"/>
                  </a:lnTo>
                  <a:lnTo>
                    <a:pt x="1852" y="169"/>
                  </a:lnTo>
                  <a:lnTo>
                    <a:pt x="1684" y="68"/>
                  </a:lnTo>
                  <a:lnTo>
                    <a:pt x="1516" y="68"/>
                  </a:lnTo>
                  <a:lnTo>
                    <a:pt x="1347" y="34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hape 832"/>
            <p:cNvSpPr/>
            <p:nvPr/>
          </p:nvSpPr>
          <p:spPr>
            <a:xfrm>
              <a:off x="909360" y="43164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8" h="1045">
                  <a:moveTo>
                    <a:pt x="506" y="1"/>
                  </a:moveTo>
                  <a:lnTo>
                    <a:pt x="371" y="34"/>
                  </a:lnTo>
                  <a:lnTo>
                    <a:pt x="135" y="34"/>
                  </a:lnTo>
                  <a:lnTo>
                    <a:pt x="102" y="68"/>
                  </a:lnTo>
                  <a:lnTo>
                    <a:pt x="34" y="68"/>
                  </a:lnTo>
                  <a:lnTo>
                    <a:pt x="1" y="135"/>
                  </a:lnTo>
                  <a:lnTo>
                    <a:pt x="1" y="169"/>
                  </a:lnTo>
                  <a:lnTo>
                    <a:pt x="34" y="203"/>
                  </a:lnTo>
                  <a:lnTo>
                    <a:pt x="68" y="203"/>
                  </a:lnTo>
                  <a:lnTo>
                    <a:pt x="68" y="607"/>
                  </a:lnTo>
                  <a:lnTo>
                    <a:pt x="169" y="977"/>
                  </a:lnTo>
                  <a:lnTo>
                    <a:pt x="203" y="1044"/>
                  </a:lnTo>
                  <a:lnTo>
                    <a:pt x="270" y="1044"/>
                  </a:lnTo>
                  <a:lnTo>
                    <a:pt x="337" y="1011"/>
                  </a:lnTo>
                  <a:lnTo>
                    <a:pt x="337" y="943"/>
                  </a:lnTo>
                  <a:lnTo>
                    <a:pt x="304" y="573"/>
                  </a:lnTo>
                  <a:lnTo>
                    <a:pt x="371" y="607"/>
                  </a:lnTo>
                  <a:lnTo>
                    <a:pt x="472" y="573"/>
                  </a:lnTo>
                  <a:lnTo>
                    <a:pt x="573" y="539"/>
                  </a:lnTo>
                  <a:lnTo>
                    <a:pt x="607" y="506"/>
                  </a:lnTo>
                  <a:lnTo>
                    <a:pt x="607" y="472"/>
                  </a:lnTo>
                  <a:lnTo>
                    <a:pt x="573" y="405"/>
                  </a:lnTo>
                  <a:lnTo>
                    <a:pt x="506" y="405"/>
                  </a:lnTo>
                  <a:lnTo>
                    <a:pt x="337" y="438"/>
                  </a:lnTo>
                  <a:lnTo>
                    <a:pt x="270" y="472"/>
                  </a:lnTo>
                  <a:lnTo>
                    <a:pt x="236" y="236"/>
                  </a:lnTo>
                  <a:lnTo>
                    <a:pt x="371" y="236"/>
                  </a:lnTo>
                  <a:lnTo>
                    <a:pt x="539" y="203"/>
                  </a:lnTo>
                  <a:lnTo>
                    <a:pt x="607" y="169"/>
                  </a:lnTo>
                  <a:lnTo>
                    <a:pt x="674" y="135"/>
                  </a:lnTo>
                  <a:lnTo>
                    <a:pt x="708" y="102"/>
                  </a:lnTo>
                  <a:lnTo>
                    <a:pt x="708" y="68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hape 833"/>
            <p:cNvSpPr/>
            <p:nvPr/>
          </p:nvSpPr>
          <p:spPr>
            <a:xfrm>
              <a:off x="753840" y="9684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76" h="876">
                  <a:moveTo>
                    <a:pt x="405" y="0"/>
                  </a:moveTo>
                  <a:lnTo>
                    <a:pt x="270" y="135"/>
                  </a:lnTo>
                  <a:lnTo>
                    <a:pt x="169" y="270"/>
                  </a:lnTo>
                  <a:lnTo>
                    <a:pt x="1" y="606"/>
                  </a:lnTo>
                  <a:lnTo>
                    <a:pt x="1" y="640"/>
                  </a:lnTo>
                  <a:lnTo>
                    <a:pt x="1" y="674"/>
                  </a:lnTo>
                  <a:lnTo>
                    <a:pt x="35" y="707"/>
                  </a:lnTo>
                  <a:lnTo>
                    <a:pt x="102" y="741"/>
                  </a:lnTo>
                  <a:lnTo>
                    <a:pt x="338" y="741"/>
                  </a:lnTo>
                  <a:lnTo>
                    <a:pt x="573" y="707"/>
                  </a:lnTo>
                  <a:lnTo>
                    <a:pt x="573" y="808"/>
                  </a:lnTo>
                  <a:lnTo>
                    <a:pt x="607" y="876"/>
                  </a:lnTo>
                  <a:lnTo>
                    <a:pt x="708" y="876"/>
                  </a:lnTo>
                  <a:lnTo>
                    <a:pt x="708" y="775"/>
                  </a:lnTo>
                  <a:lnTo>
                    <a:pt x="708" y="674"/>
                  </a:lnTo>
                  <a:lnTo>
                    <a:pt x="775" y="674"/>
                  </a:lnTo>
                  <a:lnTo>
                    <a:pt x="775" y="606"/>
                  </a:lnTo>
                  <a:lnTo>
                    <a:pt x="775" y="539"/>
                  </a:lnTo>
                  <a:lnTo>
                    <a:pt x="708" y="505"/>
                  </a:lnTo>
                  <a:lnTo>
                    <a:pt x="742" y="337"/>
                  </a:lnTo>
                  <a:lnTo>
                    <a:pt x="742" y="270"/>
                  </a:lnTo>
                  <a:lnTo>
                    <a:pt x="708" y="303"/>
                  </a:lnTo>
                  <a:lnTo>
                    <a:pt x="607" y="505"/>
                  </a:lnTo>
                  <a:lnTo>
                    <a:pt x="237" y="539"/>
                  </a:lnTo>
                  <a:lnTo>
                    <a:pt x="371" y="303"/>
                  </a:lnTo>
                  <a:lnTo>
                    <a:pt x="472" y="68"/>
                  </a:lnTo>
                  <a:lnTo>
                    <a:pt x="472" y="34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hape 834"/>
            <p:cNvSpPr/>
            <p:nvPr/>
          </p:nvSpPr>
          <p:spPr>
            <a:xfrm>
              <a:off x="1033200" y="36648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23" h="2459">
                  <a:moveTo>
                    <a:pt x="1785" y="0"/>
                  </a:moveTo>
                  <a:lnTo>
                    <a:pt x="1313" y="68"/>
                  </a:lnTo>
                  <a:lnTo>
                    <a:pt x="707" y="68"/>
                  </a:lnTo>
                  <a:lnTo>
                    <a:pt x="101" y="101"/>
                  </a:lnTo>
                  <a:lnTo>
                    <a:pt x="34" y="135"/>
                  </a:lnTo>
                  <a:lnTo>
                    <a:pt x="0" y="202"/>
                  </a:lnTo>
                  <a:lnTo>
                    <a:pt x="34" y="236"/>
                  </a:lnTo>
                  <a:lnTo>
                    <a:pt x="68" y="303"/>
                  </a:lnTo>
                  <a:lnTo>
                    <a:pt x="34" y="505"/>
                  </a:lnTo>
                  <a:lnTo>
                    <a:pt x="34" y="741"/>
                  </a:lnTo>
                  <a:lnTo>
                    <a:pt x="68" y="1179"/>
                  </a:lnTo>
                  <a:lnTo>
                    <a:pt x="68" y="1717"/>
                  </a:lnTo>
                  <a:lnTo>
                    <a:pt x="68" y="2020"/>
                  </a:lnTo>
                  <a:lnTo>
                    <a:pt x="101" y="2290"/>
                  </a:lnTo>
                  <a:lnTo>
                    <a:pt x="68" y="2323"/>
                  </a:lnTo>
                  <a:lnTo>
                    <a:pt x="101" y="2391"/>
                  </a:lnTo>
                  <a:lnTo>
                    <a:pt x="135" y="2458"/>
                  </a:lnTo>
                  <a:lnTo>
                    <a:pt x="202" y="2458"/>
                  </a:lnTo>
                  <a:lnTo>
                    <a:pt x="808" y="2424"/>
                  </a:lnTo>
                  <a:lnTo>
                    <a:pt x="1448" y="2391"/>
                  </a:lnTo>
                  <a:lnTo>
                    <a:pt x="1852" y="2391"/>
                  </a:lnTo>
                  <a:lnTo>
                    <a:pt x="2054" y="2323"/>
                  </a:lnTo>
                  <a:lnTo>
                    <a:pt x="2121" y="2290"/>
                  </a:lnTo>
                  <a:lnTo>
                    <a:pt x="2222" y="2222"/>
                  </a:lnTo>
                  <a:lnTo>
                    <a:pt x="2121" y="2155"/>
                  </a:lnTo>
                  <a:lnTo>
                    <a:pt x="2020" y="2121"/>
                  </a:lnTo>
                  <a:lnTo>
                    <a:pt x="1852" y="2121"/>
                  </a:lnTo>
                  <a:lnTo>
                    <a:pt x="1414" y="2155"/>
                  </a:lnTo>
                  <a:lnTo>
                    <a:pt x="303" y="2222"/>
                  </a:lnTo>
                  <a:lnTo>
                    <a:pt x="303" y="1953"/>
                  </a:lnTo>
                  <a:lnTo>
                    <a:pt x="303" y="1684"/>
                  </a:lnTo>
                  <a:lnTo>
                    <a:pt x="270" y="1179"/>
                  </a:lnTo>
                  <a:lnTo>
                    <a:pt x="270" y="741"/>
                  </a:lnTo>
                  <a:lnTo>
                    <a:pt x="270" y="505"/>
                  </a:lnTo>
                  <a:lnTo>
                    <a:pt x="202" y="303"/>
                  </a:lnTo>
                  <a:lnTo>
                    <a:pt x="842" y="303"/>
                  </a:lnTo>
                  <a:lnTo>
                    <a:pt x="1482" y="270"/>
                  </a:lnTo>
                  <a:lnTo>
                    <a:pt x="1886" y="236"/>
                  </a:lnTo>
                  <a:lnTo>
                    <a:pt x="2088" y="169"/>
                  </a:lnTo>
                  <a:lnTo>
                    <a:pt x="2155" y="135"/>
                  </a:lnTo>
                  <a:lnTo>
                    <a:pt x="2222" y="68"/>
                  </a:lnTo>
                  <a:lnTo>
                    <a:pt x="2222" y="34"/>
                  </a:lnTo>
                  <a:lnTo>
                    <a:pt x="202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hape 835"/>
            <p:cNvSpPr/>
            <p:nvPr/>
          </p:nvSpPr>
          <p:spPr>
            <a:xfrm>
              <a:off x="804600" y="203040"/>
              <a:ext cx="20520" cy="153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04" h="2324">
                  <a:moveTo>
                    <a:pt x="34" y="1"/>
                  </a:moveTo>
                  <a:lnTo>
                    <a:pt x="34" y="34"/>
                  </a:lnTo>
                  <a:lnTo>
                    <a:pt x="0" y="304"/>
                  </a:lnTo>
                  <a:lnTo>
                    <a:pt x="0" y="539"/>
                  </a:lnTo>
                  <a:lnTo>
                    <a:pt x="0" y="1078"/>
                  </a:lnTo>
                  <a:lnTo>
                    <a:pt x="34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4"/>
                  </a:lnTo>
                  <a:lnTo>
                    <a:pt x="303" y="2324"/>
                  </a:lnTo>
                  <a:lnTo>
                    <a:pt x="303" y="2256"/>
                  </a:lnTo>
                  <a:lnTo>
                    <a:pt x="303" y="1953"/>
                  </a:lnTo>
                  <a:lnTo>
                    <a:pt x="303" y="1650"/>
                  </a:lnTo>
                  <a:lnTo>
                    <a:pt x="236" y="1078"/>
                  </a:lnTo>
                  <a:lnTo>
                    <a:pt x="202" y="539"/>
                  </a:lnTo>
                  <a:lnTo>
                    <a:pt x="169" y="270"/>
                  </a:lnTo>
                  <a:lnTo>
                    <a:pt x="135" y="34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hape 836"/>
            <p:cNvSpPr/>
            <p:nvPr/>
          </p:nvSpPr>
          <p:spPr>
            <a:xfrm>
              <a:off x="842760" y="368280"/>
              <a:ext cx="172800" cy="168120"/>
            </a:xfrm>
            <a:custGeom>
              <a:avLst/>
              <a:gdLst/>
              <a:ahLst/>
              <a:rect l="l" t="t" r="r" b="b"/>
              <a:pathLst>
                <a:path w="2594" h="2527">
                  <a:moveTo>
                    <a:pt x="2290" y="237"/>
                  </a:moveTo>
                  <a:lnTo>
                    <a:pt x="2324" y="674"/>
                  </a:lnTo>
                  <a:lnTo>
                    <a:pt x="2324" y="1078"/>
                  </a:lnTo>
                  <a:lnTo>
                    <a:pt x="2324" y="1684"/>
                  </a:lnTo>
                  <a:lnTo>
                    <a:pt x="2324" y="1987"/>
                  </a:lnTo>
                  <a:lnTo>
                    <a:pt x="2357" y="2290"/>
                  </a:lnTo>
                  <a:lnTo>
                    <a:pt x="2223" y="2223"/>
                  </a:lnTo>
                  <a:lnTo>
                    <a:pt x="2122" y="2156"/>
                  </a:lnTo>
                  <a:lnTo>
                    <a:pt x="1819" y="2156"/>
                  </a:lnTo>
                  <a:lnTo>
                    <a:pt x="1246" y="2189"/>
                  </a:lnTo>
                  <a:lnTo>
                    <a:pt x="775" y="2189"/>
                  </a:lnTo>
                  <a:lnTo>
                    <a:pt x="539" y="2223"/>
                  </a:lnTo>
                  <a:lnTo>
                    <a:pt x="304" y="2257"/>
                  </a:lnTo>
                  <a:lnTo>
                    <a:pt x="236" y="1078"/>
                  </a:lnTo>
                  <a:lnTo>
                    <a:pt x="236" y="742"/>
                  </a:lnTo>
                  <a:lnTo>
                    <a:pt x="169" y="439"/>
                  </a:lnTo>
                  <a:lnTo>
                    <a:pt x="236" y="439"/>
                  </a:lnTo>
                  <a:lnTo>
                    <a:pt x="270" y="405"/>
                  </a:lnTo>
                  <a:lnTo>
                    <a:pt x="304" y="371"/>
                  </a:lnTo>
                  <a:lnTo>
                    <a:pt x="1347" y="338"/>
                  </a:lnTo>
                  <a:lnTo>
                    <a:pt x="1819" y="304"/>
                  </a:lnTo>
                  <a:lnTo>
                    <a:pt x="2054" y="270"/>
                  </a:lnTo>
                  <a:lnTo>
                    <a:pt x="2290" y="237"/>
                  </a:lnTo>
                  <a:close/>
                  <a:moveTo>
                    <a:pt x="2357" y="1"/>
                  </a:moveTo>
                  <a:lnTo>
                    <a:pt x="2324" y="35"/>
                  </a:lnTo>
                  <a:lnTo>
                    <a:pt x="2290" y="35"/>
                  </a:lnTo>
                  <a:lnTo>
                    <a:pt x="2290" y="136"/>
                  </a:lnTo>
                  <a:lnTo>
                    <a:pt x="1953" y="102"/>
                  </a:lnTo>
                  <a:lnTo>
                    <a:pt x="1583" y="102"/>
                  </a:lnTo>
                  <a:lnTo>
                    <a:pt x="876" y="169"/>
                  </a:lnTo>
                  <a:lnTo>
                    <a:pt x="270" y="169"/>
                  </a:lnTo>
                  <a:lnTo>
                    <a:pt x="203" y="203"/>
                  </a:lnTo>
                  <a:lnTo>
                    <a:pt x="135" y="270"/>
                  </a:lnTo>
                  <a:lnTo>
                    <a:pt x="102" y="270"/>
                  </a:lnTo>
                  <a:lnTo>
                    <a:pt x="102" y="237"/>
                  </a:lnTo>
                  <a:lnTo>
                    <a:pt x="68" y="237"/>
                  </a:lnTo>
                  <a:lnTo>
                    <a:pt x="1" y="506"/>
                  </a:lnTo>
                  <a:lnTo>
                    <a:pt x="1" y="742"/>
                  </a:lnTo>
                  <a:lnTo>
                    <a:pt x="68" y="1247"/>
                  </a:lnTo>
                  <a:lnTo>
                    <a:pt x="102" y="2425"/>
                  </a:lnTo>
                  <a:lnTo>
                    <a:pt x="135" y="2492"/>
                  </a:lnTo>
                  <a:lnTo>
                    <a:pt x="203" y="2526"/>
                  </a:lnTo>
                  <a:lnTo>
                    <a:pt x="270" y="2492"/>
                  </a:lnTo>
                  <a:lnTo>
                    <a:pt x="304" y="2459"/>
                  </a:lnTo>
                  <a:lnTo>
                    <a:pt x="573" y="2492"/>
                  </a:lnTo>
                  <a:lnTo>
                    <a:pt x="842" y="2492"/>
                  </a:lnTo>
                  <a:lnTo>
                    <a:pt x="1415" y="2459"/>
                  </a:lnTo>
                  <a:lnTo>
                    <a:pt x="1920" y="2459"/>
                  </a:lnTo>
                  <a:lnTo>
                    <a:pt x="2155" y="2425"/>
                  </a:lnTo>
                  <a:lnTo>
                    <a:pt x="2256" y="2358"/>
                  </a:lnTo>
                  <a:lnTo>
                    <a:pt x="2357" y="2290"/>
                  </a:lnTo>
                  <a:lnTo>
                    <a:pt x="2357" y="2324"/>
                  </a:lnTo>
                  <a:lnTo>
                    <a:pt x="2425" y="2358"/>
                  </a:lnTo>
                  <a:lnTo>
                    <a:pt x="2492" y="2358"/>
                  </a:lnTo>
                  <a:lnTo>
                    <a:pt x="2526" y="2290"/>
                  </a:lnTo>
                  <a:lnTo>
                    <a:pt x="2559" y="1987"/>
                  </a:lnTo>
                  <a:lnTo>
                    <a:pt x="2593" y="1684"/>
                  </a:lnTo>
                  <a:lnTo>
                    <a:pt x="2559" y="1078"/>
                  </a:lnTo>
                  <a:lnTo>
                    <a:pt x="2526" y="540"/>
                  </a:lnTo>
                  <a:lnTo>
                    <a:pt x="2492" y="304"/>
                  </a:lnTo>
                  <a:lnTo>
                    <a:pt x="2425" y="35"/>
                  </a:lnTo>
                  <a:lnTo>
                    <a:pt x="2391" y="35"/>
                  </a:lnTo>
                  <a:lnTo>
                    <a:pt x="235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120" bIns="51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hape 837"/>
            <p:cNvSpPr/>
            <p:nvPr/>
          </p:nvSpPr>
          <p:spPr>
            <a:xfrm>
              <a:off x="1287360" y="425160"/>
              <a:ext cx="52200" cy="45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75" h="708">
                  <a:moveTo>
                    <a:pt x="573" y="1"/>
                  </a:moveTo>
                  <a:lnTo>
                    <a:pt x="506" y="34"/>
                  </a:lnTo>
                  <a:lnTo>
                    <a:pt x="472" y="102"/>
                  </a:lnTo>
                  <a:lnTo>
                    <a:pt x="438" y="236"/>
                  </a:lnTo>
                  <a:lnTo>
                    <a:pt x="438" y="270"/>
                  </a:lnTo>
                  <a:lnTo>
                    <a:pt x="203" y="304"/>
                  </a:lnTo>
                  <a:lnTo>
                    <a:pt x="169" y="135"/>
                  </a:lnTo>
                  <a:lnTo>
                    <a:pt x="135" y="102"/>
                  </a:lnTo>
                  <a:lnTo>
                    <a:pt x="68" y="102"/>
                  </a:lnTo>
                  <a:lnTo>
                    <a:pt x="68" y="135"/>
                  </a:lnTo>
                  <a:lnTo>
                    <a:pt x="34" y="337"/>
                  </a:lnTo>
                  <a:lnTo>
                    <a:pt x="1" y="371"/>
                  </a:lnTo>
                  <a:lnTo>
                    <a:pt x="34" y="438"/>
                  </a:lnTo>
                  <a:lnTo>
                    <a:pt x="68" y="640"/>
                  </a:lnTo>
                  <a:lnTo>
                    <a:pt x="102" y="674"/>
                  </a:lnTo>
                  <a:lnTo>
                    <a:pt x="169" y="674"/>
                  </a:lnTo>
                  <a:lnTo>
                    <a:pt x="203" y="640"/>
                  </a:lnTo>
                  <a:lnTo>
                    <a:pt x="236" y="573"/>
                  </a:lnTo>
                  <a:lnTo>
                    <a:pt x="203" y="472"/>
                  </a:lnTo>
                  <a:lnTo>
                    <a:pt x="472" y="472"/>
                  </a:lnTo>
                  <a:lnTo>
                    <a:pt x="506" y="607"/>
                  </a:lnTo>
                  <a:lnTo>
                    <a:pt x="506" y="640"/>
                  </a:lnTo>
                  <a:lnTo>
                    <a:pt x="573" y="708"/>
                  </a:lnTo>
                  <a:lnTo>
                    <a:pt x="607" y="708"/>
                  </a:lnTo>
                  <a:lnTo>
                    <a:pt x="640" y="674"/>
                  </a:lnTo>
                  <a:lnTo>
                    <a:pt x="640" y="640"/>
                  </a:lnTo>
                  <a:lnTo>
                    <a:pt x="674" y="573"/>
                  </a:lnTo>
                  <a:lnTo>
                    <a:pt x="640" y="438"/>
                  </a:lnTo>
                  <a:lnTo>
                    <a:pt x="741" y="371"/>
                  </a:lnTo>
                  <a:lnTo>
                    <a:pt x="775" y="304"/>
                  </a:lnTo>
                  <a:lnTo>
                    <a:pt x="775" y="270"/>
                  </a:lnTo>
                  <a:lnTo>
                    <a:pt x="741" y="236"/>
                  </a:lnTo>
                  <a:lnTo>
                    <a:pt x="674" y="203"/>
                  </a:lnTo>
                  <a:lnTo>
                    <a:pt x="607" y="236"/>
                  </a:lnTo>
                  <a:lnTo>
                    <a:pt x="607" y="135"/>
                  </a:lnTo>
                  <a:lnTo>
                    <a:pt x="640" y="68"/>
                  </a:lnTo>
                  <a:lnTo>
                    <a:pt x="640" y="34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hape 838"/>
            <p:cNvSpPr/>
            <p:nvPr/>
          </p:nvSpPr>
          <p:spPr>
            <a:xfrm>
              <a:off x="1090440" y="42516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1" h="910">
                  <a:moveTo>
                    <a:pt x="371" y="1"/>
                  </a:moveTo>
                  <a:lnTo>
                    <a:pt x="270" y="34"/>
                  </a:lnTo>
                  <a:lnTo>
                    <a:pt x="169" y="135"/>
                  </a:lnTo>
                  <a:lnTo>
                    <a:pt x="68" y="203"/>
                  </a:lnTo>
                  <a:lnTo>
                    <a:pt x="34" y="337"/>
                  </a:lnTo>
                  <a:lnTo>
                    <a:pt x="1" y="472"/>
                  </a:lnTo>
                  <a:lnTo>
                    <a:pt x="34" y="573"/>
                  </a:lnTo>
                  <a:lnTo>
                    <a:pt x="68" y="674"/>
                  </a:lnTo>
                  <a:lnTo>
                    <a:pt x="135" y="741"/>
                  </a:lnTo>
                  <a:lnTo>
                    <a:pt x="203" y="809"/>
                  </a:lnTo>
                  <a:lnTo>
                    <a:pt x="304" y="842"/>
                  </a:lnTo>
                  <a:lnTo>
                    <a:pt x="405" y="876"/>
                  </a:lnTo>
                  <a:lnTo>
                    <a:pt x="506" y="876"/>
                  </a:lnTo>
                  <a:lnTo>
                    <a:pt x="607" y="809"/>
                  </a:lnTo>
                  <a:lnTo>
                    <a:pt x="607" y="876"/>
                  </a:lnTo>
                  <a:lnTo>
                    <a:pt x="640" y="910"/>
                  </a:lnTo>
                  <a:lnTo>
                    <a:pt x="674" y="910"/>
                  </a:lnTo>
                  <a:lnTo>
                    <a:pt x="708" y="876"/>
                  </a:lnTo>
                  <a:lnTo>
                    <a:pt x="708" y="842"/>
                  </a:lnTo>
                  <a:lnTo>
                    <a:pt x="708" y="741"/>
                  </a:lnTo>
                  <a:lnTo>
                    <a:pt x="708" y="607"/>
                  </a:lnTo>
                  <a:lnTo>
                    <a:pt x="708" y="573"/>
                  </a:lnTo>
                  <a:lnTo>
                    <a:pt x="943" y="539"/>
                  </a:lnTo>
                  <a:lnTo>
                    <a:pt x="977" y="506"/>
                  </a:lnTo>
                  <a:lnTo>
                    <a:pt x="1011" y="438"/>
                  </a:lnTo>
                  <a:lnTo>
                    <a:pt x="977" y="371"/>
                  </a:lnTo>
                  <a:lnTo>
                    <a:pt x="910" y="337"/>
                  </a:lnTo>
                  <a:lnTo>
                    <a:pt x="674" y="337"/>
                  </a:lnTo>
                  <a:lnTo>
                    <a:pt x="539" y="371"/>
                  </a:lnTo>
                  <a:lnTo>
                    <a:pt x="438" y="438"/>
                  </a:lnTo>
                  <a:lnTo>
                    <a:pt x="405" y="472"/>
                  </a:lnTo>
                  <a:lnTo>
                    <a:pt x="438" y="506"/>
                  </a:lnTo>
                  <a:lnTo>
                    <a:pt x="607" y="539"/>
                  </a:lnTo>
                  <a:lnTo>
                    <a:pt x="607" y="573"/>
                  </a:lnTo>
                  <a:lnTo>
                    <a:pt x="607" y="640"/>
                  </a:lnTo>
                  <a:lnTo>
                    <a:pt x="506" y="674"/>
                  </a:lnTo>
                  <a:lnTo>
                    <a:pt x="405" y="674"/>
                  </a:lnTo>
                  <a:lnTo>
                    <a:pt x="304" y="640"/>
                  </a:lnTo>
                  <a:lnTo>
                    <a:pt x="236" y="607"/>
                  </a:lnTo>
                  <a:lnTo>
                    <a:pt x="203" y="539"/>
                  </a:lnTo>
                  <a:lnTo>
                    <a:pt x="203" y="438"/>
                  </a:lnTo>
                  <a:lnTo>
                    <a:pt x="203" y="337"/>
                  </a:lnTo>
                  <a:lnTo>
                    <a:pt x="270" y="270"/>
                  </a:lnTo>
                  <a:lnTo>
                    <a:pt x="337" y="203"/>
                  </a:lnTo>
                  <a:lnTo>
                    <a:pt x="539" y="135"/>
                  </a:lnTo>
                  <a:lnTo>
                    <a:pt x="741" y="102"/>
                  </a:lnTo>
                  <a:lnTo>
                    <a:pt x="741" y="68"/>
                  </a:lnTo>
                  <a:lnTo>
                    <a:pt x="60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hape 839"/>
            <p:cNvSpPr/>
            <p:nvPr/>
          </p:nvSpPr>
          <p:spPr>
            <a:xfrm>
              <a:off x="1385640" y="59508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76" h="674">
                  <a:moveTo>
                    <a:pt x="102" y="0"/>
                  </a:moveTo>
                  <a:lnTo>
                    <a:pt x="35" y="34"/>
                  </a:lnTo>
                  <a:lnTo>
                    <a:pt x="35" y="101"/>
                  </a:lnTo>
                  <a:lnTo>
                    <a:pt x="35" y="135"/>
                  </a:lnTo>
                  <a:lnTo>
                    <a:pt x="1" y="270"/>
                  </a:lnTo>
                  <a:lnTo>
                    <a:pt x="1" y="573"/>
                  </a:lnTo>
                  <a:lnTo>
                    <a:pt x="35" y="640"/>
                  </a:lnTo>
                  <a:lnTo>
                    <a:pt x="102" y="674"/>
                  </a:lnTo>
                  <a:lnTo>
                    <a:pt x="136" y="640"/>
                  </a:lnTo>
                  <a:lnTo>
                    <a:pt x="203" y="606"/>
                  </a:lnTo>
                  <a:lnTo>
                    <a:pt x="203" y="371"/>
                  </a:lnTo>
                  <a:lnTo>
                    <a:pt x="405" y="573"/>
                  </a:lnTo>
                  <a:lnTo>
                    <a:pt x="472" y="606"/>
                  </a:lnTo>
                  <a:lnTo>
                    <a:pt x="573" y="640"/>
                  </a:lnTo>
                  <a:lnTo>
                    <a:pt x="674" y="640"/>
                  </a:lnTo>
                  <a:lnTo>
                    <a:pt x="742" y="573"/>
                  </a:lnTo>
                  <a:lnTo>
                    <a:pt x="775" y="505"/>
                  </a:lnTo>
                  <a:lnTo>
                    <a:pt x="775" y="438"/>
                  </a:lnTo>
                  <a:lnTo>
                    <a:pt x="742" y="270"/>
                  </a:lnTo>
                  <a:lnTo>
                    <a:pt x="708" y="135"/>
                  </a:lnTo>
                  <a:lnTo>
                    <a:pt x="708" y="68"/>
                  </a:lnTo>
                  <a:lnTo>
                    <a:pt x="641" y="34"/>
                  </a:lnTo>
                  <a:lnTo>
                    <a:pt x="607" y="34"/>
                  </a:lnTo>
                  <a:lnTo>
                    <a:pt x="540" y="68"/>
                  </a:lnTo>
                  <a:lnTo>
                    <a:pt x="506" y="169"/>
                  </a:lnTo>
                  <a:lnTo>
                    <a:pt x="506" y="236"/>
                  </a:lnTo>
                  <a:lnTo>
                    <a:pt x="573" y="438"/>
                  </a:lnTo>
                  <a:lnTo>
                    <a:pt x="506" y="404"/>
                  </a:lnTo>
                  <a:lnTo>
                    <a:pt x="439" y="337"/>
                  </a:lnTo>
                  <a:lnTo>
                    <a:pt x="203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hape 840"/>
            <p:cNvSpPr/>
            <p:nvPr/>
          </p:nvSpPr>
          <p:spPr>
            <a:xfrm>
              <a:off x="1215720" y="357120"/>
              <a:ext cx="172800" cy="161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3" h="2425">
                  <a:moveTo>
                    <a:pt x="1785" y="1"/>
                  </a:moveTo>
                  <a:lnTo>
                    <a:pt x="1280" y="68"/>
                  </a:lnTo>
                  <a:lnTo>
                    <a:pt x="707" y="102"/>
                  </a:lnTo>
                  <a:lnTo>
                    <a:pt x="135" y="203"/>
                  </a:lnTo>
                  <a:lnTo>
                    <a:pt x="101" y="135"/>
                  </a:lnTo>
                  <a:lnTo>
                    <a:pt x="101" y="102"/>
                  </a:lnTo>
                  <a:lnTo>
                    <a:pt x="34" y="102"/>
                  </a:lnTo>
                  <a:lnTo>
                    <a:pt x="0" y="135"/>
                  </a:lnTo>
                  <a:lnTo>
                    <a:pt x="0" y="438"/>
                  </a:lnTo>
                  <a:lnTo>
                    <a:pt x="0" y="741"/>
                  </a:lnTo>
                  <a:lnTo>
                    <a:pt x="34" y="1347"/>
                  </a:lnTo>
                  <a:lnTo>
                    <a:pt x="34" y="1852"/>
                  </a:lnTo>
                  <a:lnTo>
                    <a:pt x="67" y="2122"/>
                  </a:lnTo>
                  <a:lnTo>
                    <a:pt x="101" y="2391"/>
                  </a:lnTo>
                  <a:lnTo>
                    <a:pt x="135" y="2391"/>
                  </a:lnTo>
                  <a:lnTo>
                    <a:pt x="135" y="2425"/>
                  </a:lnTo>
                  <a:lnTo>
                    <a:pt x="202" y="2391"/>
                  </a:lnTo>
                  <a:lnTo>
                    <a:pt x="1313" y="2391"/>
                  </a:lnTo>
                  <a:lnTo>
                    <a:pt x="1818" y="2357"/>
                  </a:lnTo>
                  <a:lnTo>
                    <a:pt x="2088" y="2324"/>
                  </a:lnTo>
                  <a:lnTo>
                    <a:pt x="2323" y="2290"/>
                  </a:lnTo>
                  <a:lnTo>
                    <a:pt x="2357" y="2324"/>
                  </a:lnTo>
                  <a:lnTo>
                    <a:pt x="2391" y="2324"/>
                  </a:lnTo>
                  <a:lnTo>
                    <a:pt x="2492" y="2290"/>
                  </a:lnTo>
                  <a:lnTo>
                    <a:pt x="2559" y="2189"/>
                  </a:lnTo>
                  <a:lnTo>
                    <a:pt x="2559" y="2088"/>
                  </a:lnTo>
                  <a:lnTo>
                    <a:pt x="2593" y="1953"/>
                  </a:lnTo>
                  <a:lnTo>
                    <a:pt x="2559" y="1718"/>
                  </a:lnTo>
                  <a:lnTo>
                    <a:pt x="2525" y="1482"/>
                  </a:lnTo>
                  <a:lnTo>
                    <a:pt x="2525" y="741"/>
                  </a:lnTo>
                  <a:lnTo>
                    <a:pt x="2458" y="405"/>
                  </a:lnTo>
                  <a:lnTo>
                    <a:pt x="2391" y="236"/>
                  </a:lnTo>
                  <a:lnTo>
                    <a:pt x="2323" y="102"/>
                  </a:lnTo>
                  <a:lnTo>
                    <a:pt x="2290" y="102"/>
                  </a:lnTo>
                  <a:lnTo>
                    <a:pt x="2256" y="203"/>
                  </a:lnTo>
                  <a:lnTo>
                    <a:pt x="2256" y="337"/>
                  </a:lnTo>
                  <a:lnTo>
                    <a:pt x="2256" y="607"/>
                  </a:lnTo>
                  <a:lnTo>
                    <a:pt x="2290" y="1145"/>
                  </a:lnTo>
                  <a:lnTo>
                    <a:pt x="2323" y="1650"/>
                  </a:lnTo>
                  <a:lnTo>
                    <a:pt x="2323" y="2155"/>
                  </a:lnTo>
                  <a:lnTo>
                    <a:pt x="2088" y="2122"/>
                  </a:lnTo>
                  <a:lnTo>
                    <a:pt x="1818" y="2088"/>
                  </a:lnTo>
                  <a:lnTo>
                    <a:pt x="1280" y="2088"/>
                  </a:lnTo>
                  <a:lnTo>
                    <a:pt x="269" y="2189"/>
                  </a:lnTo>
                  <a:lnTo>
                    <a:pt x="236" y="2189"/>
                  </a:lnTo>
                  <a:lnTo>
                    <a:pt x="269" y="1920"/>
                  </a:lnTo>
                  <a:lnTo>
                    <a:pt x="269" y="1684"/>
                  </a:lnTo>
                  <a:lnTo>
                    <a:pt x="236" y="1145"/>
                  </a:lnTo>
                  <a:lnTo>
                    <a:pt x="202" y="775"/>
                  </a:lnTo>
                  <a:lnTo>
                    <a:pt x="168" y="405"/>
                  </a:lnTo>
                  <a:lnTo>
                    <a:pt x="808" y="337"/>
                  </a:lnTo>
                  <a:lnTo>
                    <a:pt x="1448" y="270"/>
                  </a:lnTo>
                  <a:lnTo>
                    <a:pt x="1886" y="236"/>
                  </a:lnTo>
                  <a:lnTo>
                    <a:pt x="2088" y="203"/>
                  </a:lnTo>
                  <a:lnTo>
                    <a:pt x="2290" y="102"/>
                  </a:lnTo>
                  <a:lnTo>
                    <a:pt x="2290" y="68"/>
                  </a:lnTo>
                  <a:lnTo>
                    <a:pt x="2155" y="34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Shape 844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6" name="Shape 845"/>
            <p:cNvSpPr/>
            <p:nvPr/>
          </p:nvSpPr>
          <p:spPr>
            <a:xfrm>
              <a:off x="8151840" y="136440"/>
              <a:ext cx="149040" cy="126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257" h="203">
                  <a:moveTo>
                    <a:pt x="304" y="0"/>
                  </a:moveTo>
                  <a:lnTo>
                    <a:pt x="34" y="68"/>
                  </a:lnTo>
                  <a:lnTo>
                    <a:pt x="1" y="101"/>
                  </a:lnTo>
                  <a:lnTo>
                    <a:pt x="34" y="135"/>
                  </a:lnTo>
                  <a:lnTo>
                    <a:pt x="270" y="202"/>
                  </a:lnTo>
                  <a:lnTo>
                    <a:pt x="1920" y="202"/>
                  </a:lnTo>
                  <a:lnTo>
                    <a:pt x="2189" y="169"/>
                  </a:lnTo>
                  <a:lnTo>
                    <a:pt x="2223" y="135"/>
                  </a:lnTo>
                  <a:lnTo>
                    <a:pt x="2256" y="101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4040" bIns="-104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hape 846"/>
            <p:cNvSpPr/>
            <p:nvPr/>
          </p:nvSpPr>
          <p:spPr>
            <a:xfrm>
              <a:off x="1420560" y="234720"/>
              <a:ext cx="52200" cy="47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09" h="708">
                  <a:moveTo>
                    <a:pt x="641" y="1"/>
                  </a:moveTo>
                  <a:lnTo>
                    <a:pt x="573" y="35"/>
                  </a:lnTo>
                  <a:lnTo>
                    <a:pt x="573" y="102"/>
                  </a:lnTo>
                  <a:lnTo>
                    <a:pt x="607" y="237"/>
                  </a:lnTo>
                  <a:lnTo>
                    <a:pt x="573" y="371"/>
                  </a:lnTo>
                  <a:lnTo>
                    <a:pt x="540" y="439"/>
                  </a:lnTo>
                  <a:lnTo>
                    <a:pt x="472" y="472"/>
                  </a:lnTo>
                  <a:lnTo>
                    <a:pt x="338" y="506"/>
                  </a:lnTo>
                  <a:lnTo>
                    <a:pt x="270" y="506"/>
                  </a:lnTo>
                  <a:lnTo>
                    <a:pt x="237" y="472"/>
                  </a:lnTo>
                  <a:lnTo>
                    <a:pt x="203" y="405"/>
                  </a:lnTo>
                  <a:lnTo>
                    <a:pt x="169" y="371"/>
                  </a:lnTo>
                  <a:lnTo>
                    <a:pt x="169" y="304"/>
                  </a:lnTo>
                  <a:lnTo>
                    <a:pt x="203" y="270"/>
                  </a:lnTo>
                  <a:lnTo>
                    <a:pt x="237" y="169"/>
                  </a:lnTo>
                  <a:lnTo>
                    <a:pt x="237" y="102"/>
                  </a:lnTo>
                  <a:lnTo>
                    <a:pt x="102" y="102"/>
                  </a:lnTo>
                  <a:lnTo>
                    <a:pt x="35" y="169"/>
                  </a:lnTo>
                  <a:lnTo>
                    <a:pt x="1" y="270"/>
                  </a:lnTo>
                  <a:lnTo>
                    <a:pt x="1" y="371"/>
                  </a:lnTo>
                  <a:lnTo>
                    <a:pt x="1" y="472"/>
                  </a:lnTo>
                  <a:lnTo>
                    <a:pt x="68" y="573"/>
                  </a:lnTo>
                  <a:lnTo>
                    <a:pt x="169" y="641"/>
                  </a:lnTo>
                  <a:lnTo>
                    <a:pt x="270" y="674"/>
                  </a:lnTo>
                  <a:lnTo>
                    <a:pt x="405" y="708"/>
                  </a:lnTo>
                  <a:lnTo>
                    <a:pt x="506" y="674"/>
                  </a:lnTo>
                  <a:lnTo>
                    <a:pt x="641" y="607"/>
                  </a:lnTo>
                  <a:lnTo>
                    <a:pt x="708" y="506"/>
                  </a:lnTo>
                  <a:lnTo>
                    <a:pt x="775" y="405"/>
                  </a:lnTo>
                  <a:lnTo>
                    <a:pt x="809" y="270"/>
                  </a:lnTo>
                  <a:lnTo>
                    <a:pt x="809" y="136"/>
                  </a:lnTo>
                  <a:lnTo>
                    <a:pt x="742" y="35"/>
                  </a:lnTo>
                  <a:lnTo>
                    <a:pt x="6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hape 847"/>
            <p:cNvSpPr/>
            <p:nvPr/>
          </p:nvSpPr>
          <p:spPr>
            <a:xfrm>
              <a:off x="1361880" y="17280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1">
                  <a:moveTo>
                    <a:pt x="2256" y="236"/>
                  </a:moveTo>
                  <a:lnTo>
                    <a:pt x="2256" y="674"/>
                  </a:lnTo>
                  <a:lnTo>
                    <a:pt x="2290" y="1078"/>
                  </a:lnTo>
                  <a:lnTo>
                    <a:pt x="2290" y="1616"/>
                  </a:lnTo>
                  <a:lnTo>
                    <a:pt x="2324" y="2121"/>
                  </a:lnTo>
                  <a:lnTo>
                    <a:pt x="2088" y="2088"/>
                  </a:lnTo>
                  <a:lnTo>
                    <a:pt x="1886" y="2088"/>
                  </a:lnTo>
                  <a:lnTo>
                    <a:pt x="1448" y="2121"/>
                  </a:lnTo>
                  <a:lnTo>
                    <a:pt x="910" y="2121"/>
                  </a:lnTo>
                  <a:lnTo>
                    <a:pt x="640" y="2155"/>
                  </a:lnTo>
                  <a:lnTo>
                    <a:pt x="371" y="2222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7"/>
                  </a:lnTo>
                  <a:lnTo>
                    <a:pt x="169" y="270"/>
                  </a:lnTo>
                  <a:lnTo>
                    <a:pt x="1213" y="270"/>
                  </a:lnTo>
                  <a:lnTo>
                    <a:pt x="2256" y="236"/>
                  </a:lnTo>
                  <a:close/>
                  <a:moveTo>
                    <a:pt x="2256" y="0"/>
                  </a:moveTo>
                  <a:lnTo>
                    <a:pt x="1179" y="34"/>
                  </a:lnTo>
                  <a:lnTo>
                    <a:pt x="674" y="34"/>
                  </a:lnTo>
                  <a:lnTo>
                    <a:pt x="135" y="101"/>
                  </a:lnTo>
                  <a:lnTo>
                    <a:pt x="68" y="135"/>
                  </a:lnTo>
                  <a:lnTo>
                    <a:pt x="68" y="202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45"/>
                  </a:lnTo>
                  <a:lnTo>
                    <a:pt x="102" y="1751"/>
                  </a:lnTo>
                  <a:lnTo>
                    <a:pt x="135" y="2020"/>
                  </a:lnTo>
                  <a:lnTo>
                    <a:pt x="203" y="2323"/>
                  </a:lnTo>
                  <a:lnTo>
                    <a:pt x="236" y="2357"/>
                  </a:lnTo>
                  <a:lnTo>
                    <a:pt x="371" y="2357"/>
                  </a:lnTo>
                  <a:lnTo>
                    <a:pt x="607" y="2391"/>
                  </a:lnTo>
                  <a:lnTo>
                    <a:pt x="842" y="2391"/>
                  </a:lnTo>
                  <a:lnTo>
                    <a:pt x="1314" y="2357"/>
                  </a:lnTo>
                  <a:lnTo>
                    <a:pt x="2088" y="2357"/>
                  </a:lnTo>
                  <a:lnTo>
                    <a:pt x="2357" y="2290"/>
                  </a:lnTo>
                  <a:lnTo>
                    <a:pt x="2391" y="2323"/>
                  </a:lnTo>
                  <a:lnTo>
                    <a:pt x="2458" y="2323"/>
                  </a:lnTo>
                  <a:lnTo>
                    <a:pt x="2492" y="2256"/>
                  </a:lnTo>
                  <a:lnTo>
                    <a:pt x="2526" y="2020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5" y="371"/>
                  </a:lnTo>
                  <a:lnTo>
                    <a:pt x="2357" y="68"/>
                  </a:lnTo>
                  <a:lnTo>
                    <a:pt x="2324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hape 848"/>
            <p:cNvSpPr/>
            <p:nvPr/>
          </p:nvSpPr>
          <p:spPr>
            <a:xfrm>
              <a:off x="1793880" y="2188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42" h="775">
                  <a:moveTo>
                    <a:pt x="304" y="169"/>
                  </a:moveTo>
                  <a:lnTo>
                    <a:pt x="337" y="202"/>
                  </a:lnTo>
                  <a:lnTo>
                    <a:pt x="371" y="236"/>
                  </a:lnTo>
                  <a:lnTo>
                    <a:pt x="506" y="236"/>
                  </a:lnTo>
                  <a:lnTo>
                    <a:pt x="539" y="404"/>
                  </a:lnTo>
                  <a:lnTo>
                    <a:pt x="506" y="472"/>
                  </a:lnTo>
                  <a:lnTo>
                    <a:pt x="472" y="539"/>
                  </a:lnTo>
                  <a:lnTo>
                    <a:pt x="438" y="573"/>
                  </a:lnTo>
                  <a:lnTo>
                    <a:pt x="371" y="606"/>
                  </a:lnTo>
                  <a:lnTo>
                    <a:pt x="304" y="573"/>
                  </a:lnTo>
                  <a:lnTo>
                    <a:pt x="236" y="539"/>
                  </a:lnTo>
                  <a:lnTo>
                    <a:pt x="203" y="472"/>
                  </a:lnTo>
                  <a:lnTo>
                    <a:pt x="169" y="404"/>
                  </a:lnTo>
                  <a:lnTo>
                    <a:pt x="203" y="270"/>
                  </a:lnTo>
                  <a:lnTo>
                    <a:pt x="304" y="169"/>
                  </a:lnTo>
                  <a:close/>
                  <a:moveTo>
                    <a:pt x="304" y="0"/>
                  </a:moveTo>
                  <a:lnTo>
                    <a:pt x="169" y="68"/>
                  </a:lnTo>
                  <a:lnTo>
                    <a:pt x="68" y="169"/>
                  </a:lnTo>
                  <a:lnTo>
                    <a:pt x="0" y="303"/>
                  </a:lnTo>
                  <a:lnTo>
                    <a:pt x="0" y="438"/>
                  </a:lnTo>
                  <a:lnTo>
                    <a:pt x="34" y="573"/>
                  </a:lnTo>
                  <a:lnTo>
                    <a:pt x="101" y="707"/>
                  </a:lnTo>
                  <a:lnTo>
                    <a:pt x="236" y="775"/>
                  </a:lnTo>
                  <a:lnTo>
                    <a:pt x="506" y="775"/>
                  </a:lnTo>
                  <a:lnTo>
                    <a:pt x="607" y="707"/>
                  </a:lnTo>
                  <a:lnTo>
                    <a:pt x="708" y="573"/>
                  </a:lnTo>
                  <a:lnTo>
                    <a:pt x="741" y="404"/>
                  </a:lnTo>
                  <a:lnTo>
                    <a:pt x="708" y="236"/>
                  </a:lnTo>
                  <a:lnTo>
                    <a:pt x="674" y="101"/>
                  </a:lnTo>
                  <a:lnTo>
                    <a:pt x="607" y="68"/>
                  </a:lnTo>
                  <a:lnTo>
                    <a:pt x="573" y="3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hape 849"/>
            <p:cNvSpPr/>
            <p:nvPr/>
          </p:nvSpPr>
          <p:spPr>
            <a:xfrm>
              <a:off x="1442880" y="0"/>
              <a:ext cx="21960" cy="152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38" h="2291">
                  <a:moveTo>
                    <a:pt x="34" y="1"/>
                  </a:moveTo>
                  <a:lnTo>
                    <a:pt x="1" y="270"/>
                  </a:lnTo>
                  <a:lnTo>
                    <a:pt x="1" y="506"/>
                  </a:lnTo>
                  <a:lnTo>
                    <a:pt x="34" y="1044"/>
                  </a:lnTo>
                  <a:lnTo>
                    <a:pt x="68" y="1650"/>
                  </a:lnTo>
                  <a:lnTo>
                    <a:pt x="102" y="1953"/>
                  </a:lnTo>
                  <a:lnTo>
                    <a:pt x="169" y="2223"/>
                  </a:lnTo>
                  <a:lnTo>
                    <a:pt x="203" y="2290"/>
                  </a:lnTo>
                  <a:lnTo>
                    <a:pt x="270" y="2290"/>
                  </a:lnTo>
                  <a:lnTo>
                    <a:pt x="304" y="2256"/>
                  </a:lnTo>
                  <a:lnTo>
                    <a:pt x="304" y="2223"/>
                  </a:lnTo>
                  <a:lnTo>
                    <a:pt x="337" y="1920"/>
                  </a:lnTo>
                  <a:lnTo>
                    <a:pt x="304" y="1617"/>
                  </a:lnTo>
                  <a:lnTo>
                    <a:pt x="236" y="1011"/>
                  </a:lnTo>
                  <a:lnTo>
                    <a:pt x="203" y="506"/>
                  </a:lnTo>
                  <a:lnTo>
                    <a:pt x="203" y="236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5640" bIns="35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hape 850"/>
            <p:cNvSpPr/>
            <p:nvPr/>
          </p:nvSpPr>
          <p:spPr>
            <a:xfrm>
              <a:off x="1812960" y="0"/>
              <a:ext cx="166680" cy="147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92" h="2223">
                  <a:moveTo>
                    <a:pt x="1" y="1"/>
                  </a:moveTo>
                  <a:lnTo>
                    <a:pt x="1" y="539"/>
                  </a:lnTo>
                  <a:lnTo>
                    <a:pt x="34" y="1078"/>
                  </a:lnTo>
                  <a:lnTo>
                    <a:pt x="102" y="1617"/>
                  </a:lnTo>
                  <a:lnTo>
                    <a:pt x="203" y="2155"/>
                  </a:lnTo>
                  <a:lnTo>
                    <a:pt x="236" y="2223"/>
                  </a:lnTo>
                  <a:lnTo>
                    <a:pt x="304" y="2223"/>
                  </a:lnTo>
                  <a:lnTo>
                    <a:pt x="371" y="2189"/>
                  </a:lnTo>
                  <a:lnTo>
                    <a:pt x="405" y="2122"/>
                  </a:lnTo>
                  <a:lnTo>
                    <a:pt x="405" y="2054"/>
                  </a:lnTo>
                  <a:lnTo>
                    <a:pt x="876" y="2122"/>
                  </a:lnTo>
                  <a:lnTo>
                    <a:pt x="1347" y="2155"/>
                  </a:lnTo>
                  <a:lnTo>
                    <a:pt x="1852" y="2122"/>
                  </a:lnTo>
                  <a:lnTo>
                    <a:pt x="2088" y="2088"/>
                  </a:lnTo>
                  <a:lnTo>
                    <a:pt x="2290" y="2054"/>
                  </a:lnTo>
                  <a:lnTo>
                    <a:pt x="2357" y="1987"/>
                  </a:lnTo>
                  <a:lnTo>
                    <a:pt x="2357" y="1920"/>
                  </a:lnTo>
                  <a:lnTo>
                    <a:pt x="2425" y="1920"/>
                  </a:lnTo>
                  <a:lnTo>
                    <a:pt x="2458" y="1886"/>
                  </a:lnTo>
                  <a:lnTo>
                    <a:pt x="2458" y="1852"/>
                  </a:lnTo>
                  <a:lnTo>
                    <a:pt x="2492" y="943"/>
                  </a:lnTo>
                  <a:lnTo>
                    <a:pt x="2425" y="1"/>
                  </a:lnTo>
                  <a:lnTo>
                    <a:pt x="2256" y="1"/>
                  </a:lnTo>
                  <a:lnTo>
                    <a:pt x="2223" y="472"/>
                  </a:lnTo>
                  <a:lnTo>
                    <a:pt x="2223" y="943"/>
                  </a:lnTo>
                  <a:lnTo>
                    <a:pt x="2256" y="1415"/>
                  </a:lnTo>
                  <a:lnTo>
                    <a:pt x="2290" y="1852"/>
                  </a:lnTo>
                  <a:lnTo>
                    <a:pt x="2324" y="1886"/>
                  </a:lnTo>
                  <a:lnTo>
                    <a:pt x="2290" y="1886"/>
                  </a:lnTo>
                  <a:lnTo>
                    <a:pt x="2054" y="1852"/>
                  </a:lnTo>
                  <a:lnTo>
                    <a:pt x="1819" y="1886"/>
                  </a:lnTo>
                  <a:lnTo>
                    <a:pt x="371" y="1886"/>
                  </a:lnTo>
                  <a:lnTo>
                    <a:pt x="270" y="943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0960" bIns="30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hape 851"/>
            <p:cNvSpPr/>
            <p:nvPr/>
          </p:nvSpPr>
          <p:spPr>
            <a:xfrm>
              <a:off x="141120" y="0"/>
              <a:ext cx="164880" cy="31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93" h="473">
                  <a:moveTo>
                    <a:pt x="1" y="1"/>
                  </a:moveTo>
                  <a:lnTo>
                    <a:pt x="34" y="337"/>
                  </a:lnTo>
                  <a:lnTo>
                    <a:pt x="68" y="405"/>
                  </a:lnTo>
                  <a:lnTo>
                    <a:pt x="169" y="405"/>
                  </a:lnTo>
                  <a:lnTo>
                    <a:pt x="203" y="371"/>
                  </a:lnTo>
                  <a:lnTo>
                    <a:pt x="439" y="438"/>
                  </a:lnTo>
                  <a:lnTo>
                    <a:pt x="674" y="472"/>
                  </a:lnTo>
                  <a:lnTo>
                    <a:pt x="1213" y="472"/>
                  </a:lnTo>
                  <a:lnTo>
                    <a:pt x="1752" y="405"/>
                  </a:lnTo>
                  <a:lnTo>
                    <a:pt x="2257" y="304"/>
                  </a:lnTo>
                  <a:lnTo>
                    <a:pt x="2257" y="337"/>
                  </a:lnTo>
                  <a:lnTo>
                    <a:pt x="2324" y="405"/>
                  </a:lnTo>
                  <a:lnTo>
                    <a:pt x="2391" y="438"/>
                  </a:lnTo>
                  <a:lnTo>
                    <a:pt x="2459" y="405"/>
                  </a:lnTo>
                  <a:lnTo>
                    <a:pt x="2492" y="371"/>
                  </a:lnTo>
                  <a:lnTo>
                    <a:pt x="2492" y="304"/>
                  </a:lnTo>
                  <a:lnTo>
                    <a:pt x="2425" y="1"/>
                  </a:lnTo>
                  <a:lnTo>
                    <a:pt x="2223" y="1"/>
                  </a:lnTo>
                  <a:lnTo>
                    <a:pt x="2257" y="135"/>
                  </a:lnTo>
                  <a:lnTo>
                    <a:pt x="1179" y="236"/>
                  </a:lnTo>
                  <a:lnTo>
                    <a:pt x="708" y="270"/>
                  </a:lnTo>
                  <a:lnTo>
                    <a:pt x="439" y="270"/>
                  </a:lnTo>
                  <a:lnTo>
                    <a:pt x="203" y="30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4960" bIns="-84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hape 852"/>
            <p:cNvSpPr/>
            <p:nvPr/>
          </p:nvSpPr>
          <p:spPr>
            <a:xfrm>
              <a:off x="1749240" y="158400"/>
              <a:ext cx="153720" cy="15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24" h="2391">
                  <a:moveTo>
                    <a:pt x="1515" y="0"/>
                  </a:moveTo>
                  <a:lnTo>
                    <a:pt x="909" y="34"/>
                  </a:lnTo>
                  <a:lnTo>
                    <a:pt x="202" y="34"/>
                  </a:lnTo>
                  <a:lnTo>
                    <a:pt x="0" y="101"/>
                  </a:lnTo>
                  <a:lnTo>
                    <a:pt x="0" y="135"/>
                  </a:lnTo>
                  <a:lnTo>
                    <a:pt x="67" y="202"/>
                  </a:lnTo>
                  <a:lnTo>
                    <a:pt x="168" y="236"/>
                  </a:lnTo>
                  <a:lnTo>
                    <a:pt x="370" y="270"/>
                  </a:lnTo>
                  <a:lnTo>
                    <a:pt x="1414" y="270"/>
                  </a:lnTo>
                  <a:lnTo>
                    <a:pt x="2020" y="202"/>
                  </a:lnTo>
                  <a:lnTo>
                    <a:pt x="1987" y="438"/>
                  </a:lnTo>
                  <a:lnTo>
                    <a:pt x="2020" y="640"/>
                  </a:lnTo>
                  <a:lnTo>
                    <a:pt x="2054" y="1078"/>
                  </a:lnTo>
                  <a:lnTo>
                    <a:pt x="2054" y="1583"/>
                  </a:lnTo>
                  <a:lnTo>
                    <a:pt x="2088" y="1852"/>
                  </a:lnTo>
                  <a:lnTo>
                    <a:pt x="2121" y="2121"/>
                  </a:lnTo>
                  <a:lnTo>
                    <a:pt x="977" y="2155"/>
                  </a:lnTo>
                  <a:lnTo>
                    <a:pt x="539" y="2121"/>
                  </a:lnTo>
                  <a:lnTo>
                    <a:pt x="370" y="2155"/>
                  </a:lnTo>
                  <a:lnTo>
                    <a:pt x="269" y="2222"/>
                  </a:lnTo>
                  <a:lnTo>
                    <a:pt x="202" y="2256"/>
                  </a:lnTo>
                  <a:lnTo>
                    <a:pt x="202" y="2290"/>
                  </a:lnTo>
                  <a:lnTo>
                    <a:pt x="269" y="2323"/>
                  </a:lnTo>
                  <a:lnTo>
                    <a:pt x="370" y="2357"/>
                  </a:lnTo>
                  <a:lnTo>
                    <a:pt x="572" y="2391"/>
                  </a:lnTo>
                  <a:lnTo>
                    <a:pt x="1583" y="2391"/>
                  </a:lnTo>
                  <a:lnTo>
                    <a:pt x="2222" y="2357"/>
                  </a:lnTo>
                  <a:lnTo>
                    <a:pt x="2290" y="2323"/>
                  </a:lnTo>
                  <a:lnTo>
                    <a:pt x="2323" y="2290"/>
                  </a:lnTo>
                  <a:lnTo>
                    <a:pt x="2323" y="2222"/>
                  </a:lnTo>
                  <a:lnTo>
                    <a:pt x="2290" y="2155"/>
                  </a:lnTo>
                  <a:lnTo>
                    <a:pt x="2323" y="1886"/>
                  </a:lnTo>
                  <a:lnTo>
                    <a:pt x="2290" y="1616"/>
                  </a:lnTo>
                  <a:lnTo>
                    <a:pt x="2256" y="1044"/>
                  </a:lnTo>
                  <a:lnTo>
                    <a:pt x="2256" y="606"/>
                  </a:lnTo>
                  <a:lnTo>
                    <a:pt x="2222" y="404"/>
                  </a:lnTo>
                  <a:lnTo>
                    <a:pt x="2189" y="202"/>
                  </a:lnTo>
                  <a:lnTo>
                    <a:pt x="2222" y="135"/>
                  </a:lnTo>
                  <a:lnTo>
                    <a:pt x="2222" y="67"/>
                  </a:lnTo>
                  <a:lnTo>
                    <a:pt x="2189" y="34"/>
                  </a:lnTo>
                  <a:lnTo>
                    <a:pt x="212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hape 853"/>
            <p:cNvSpPr/>
            <p:nvPr/>
          </p:nvSpPr>
          <p:spPr>
            <a:xfrm>
              <a:off x="1701720" y="69840"/>
              <a:ext cx="39600" cy="44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07" h="674">
                  <a:moveTo>
                    <a:pt x="202" y="0"/>
                  </a:moveTo>
                  <a:lnTo>
                    <a:pt x="101" y="34"/>
                  </a:lnTo>
                  <a:lnTo>
                    <a:pt x="34" y="101"/>
                  </a:lnTo>
                  <a:lnTo>
                    <a:pt x="0" y="202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101" y="371"/>
                  </a:lnTo>
                  <a:lnTo>
                    <a:pt x="202" y="404"/>
                  </a:lnTo>
                  <a:lnTo>
                    <a:pt x="438" y="404"/>
                  </a:lnTo>
                  <a:lnTo>
                    <a:pt x="438" y="472"/>
                  </a:lnTo>
                  <a:lnTo>
                    <a:pt x="404" y="573"/>
                  </a:lnTo>
                  <a:lnTo>
                    <a:pt x="438" y="640"/>
                  </a:lnTo>
                  <a:lnTo>
                    <a:pt x="471" y="674"/>
                  </a:lnTo>
                  <a:lnTo>
                    <a:pt x="505" y="674"/>
                  </a:lnTo>
                  <a:lnTo>
                    <a:pt x="572" y="573"/>
                  </a:lnTo>
                  <a:lnTo>
                    <a:pt x="606" y="472"/>
                  </a:lnTo>
                  <a:lnTo>
                    <a:pt x="606" y="270"/>
                  </a:lnTo>
                  <a:lnTo>
                    <a:pt x="606" y="202"/>
                  </a:lnTo>
                  <a:lnTo>
                    <a:pt x="539" y="169"/>
                  </a:lnTo>
                  <a:lnTo>
                    <a:pt x="505" y="202"/>
                  </a:lnTo>
                  <a:lnTo>
                    <a:pt x="337" y="270"/>
                  </a:lnTo>
                  <a:lnTo>
                    <a:pt x="168" y="270"/>
                  </a:lnTo>
                  <a:lnTo>
                    <a:pt x="135" y="236"/>
                  </a:lnTo>
                  <a:lnTo>
                    <a:pt x="168" y="169"/>
                  </a:lnTo>
                  <a:lnTo>
                    <a:pt x="202" y="135"/>
                  </a:lnTo>
                  <a:lnTo>
                    <a:pt x="505" y="135"/>
                  </a:lnTo>
                  <a:lnTo>
                    <a:pt x="505" y="169"/>
                  </a:lnTo>
                  <a:lnTo>
                    <a:pt x="572" y="169"/>
                  </a:lnTo>
                  <a:lnTo>
                    <a:pt x="606" y="135"/>
                  </a:lnTo>
                  <a:lnTo>
                    <a:pt x="539" y="68"/>
                  </a:lnTo>
                  <a:lnTo>
                    <a:pt x="471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hape 854"/>
            <p:cNvSpPr/>
            <p:nvPr/>
          </p:nvSpPr>
          <p:spPr>
            <a:xfrm>
              <a:off x="1454040" y="0"/>
              <a:ext cx="153720" cy="1490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325" h="2257">
                  <a:moveTo>
                    <a:pt x="1" y="1"/>
                  </a:moveTo>
                  <a:lnTo>
                    <a:pt x="169" y="102"/>
                  </a:lnTo>
                  <a:lnTo>
                    <a:pt x="371" y="135"/>
                  </a:lnTo>
                  <a:lnTo>
                    <a:pt x="775" y="135"/>
                  </a:lnTo>
                  <a:lnTo>
                    <a:pt x="1415" y="102"/>
                  </a:lnTo>
                  <a:lnTo>
                    <a:pt x="2021" y="68"/>
                  </a:lnTo>
                  <a:lnTo>
                    <a:pt x="1987" y="270"/>
                  </a:lnTo>
                  <a:lnTo>
                    <a:pt x="2021" y="506"/>
                  </a:lnTo>
                  <a:lnTo>
                    <a:pt x="2055" y="910"/>
                  </a:lnTo>
                  <a:lnTo>
                    <a:pt x="2055" y="1448"/>
                  </a:lnTo>
                  <a:lnTo>
                    <a:pt x="2088" y="1718"/>
                  </a:lnTo>
                  <a:lnTo>
                    <a:pt x="2122" y="1987"/>
                  </a:lnTo>
                  <a:lnTo>
                    <a:pt x="573" y="1987"/>
                  </a:lnTo>
                  <a:lnTo>
                    <a:pt x="371" y="2021"/>
                  </a:lnTo>
                  <a:lnTo>
                    <a:pt x="270" y="2054"/>
                  </a:lnTo>
                  <a:lnTo>
                    <a:pt x="203" y="2122"/>
                  </a:lnTo>
                  <a:lnTo>
                    <a:pt x="270" y="2189"/>
                  </a:lnTo>
                  <a:lnTo>
                    <a:pt x="371" y="2223"/>
                  </a:lnTo>
                  <a:lnTo>
                    <a:pt x="573" y="2256"/>
                  </a:lnTo>
                  <a:lnTo>
                    <a:pt x="977" y="2223"/>
                  </a:lnTo>
                  <a:lnTo>
                    <a:pt x="2223" y="2223"/>
                  </a:lnTo>
                  <a:lnTo>
                    <a:pt x="2290" y="2189"/>
                  </a:lnTo>
                  <a:lnTo>
                    <a:pt x="2324" y="2122"/>
                  </a:lnTo>
                  <a:lnTo>
                    <a:pt x="2324" y="2088"/>
                  </a:lnTo>
                  <a:lnTo>
                    <a:pt x="2290" y="2021"/>
                  </a:lnTo>
                  <a:lnTo>
                    <a:pt x="2324" y="1751"/>
                  </a:lnTo>
                  <a:lnTo>
                    <a:pt x="2290" y="1448"/>
                  </a:lnTo>
                  <a:lnTo>
                    <a:pt x="2257" y="910"/>
                  </a:lnTo>
                  <a:lnTo>
                    <a:pt x="2257" y="472"/>
                  </a:lnTo>
                  <a:lnTo>
                    <a:pt x="2223" y="236"/>
                  </a:lnTo>
                  <a:lnTo>
                    <a:pt x="2189" y="34"/>
                  </a:lnTo>
                  <a:lnTo>
                    <a:pt x="22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hape 855"/>
            <p:cNvSpPr/>
            <p:nvPr/>
          </p:nvSpPr>
          <p:spPr>
            <a:xfrm>
              <a:off x="1625400" y="0"/>
              <a:ext cx="21960" cy="137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38" h="2089">
                  <a:moveTo>
                    <a:pt x="34" y="1"/>
                  </a:moveTo>
                  <a:lnTo>
                    <a:pt x="0" y="405"/>
                  </a:lnTo>
                  <a:lnTo>
                    <a:pt x="0" y="809"/>
                  </a:lnTo>
                  <a:lnTo>
                    <a:pt x="34" y="1448"/>
                  </a:lnTo>
                  <a:lnTo>
                    <a:pt x="101" y="1751"/>
                  </a:lnTo>
                  <a:lnTo>
                    <a:pt x="169" y="2021"/>
                  </a:lnTo>
                  <a:lnTo>
                    <a:pt x="202" y="2088"/>
                  </a:lnTo>
                  <a:lnTo>
                    <a:pt x="270" y="2088"/>
                  </a:lnTo>
                  <a:lnTo>
                    <a:pt x="303" y="2054"/>
                  </a:lnTo>
                  <a:lnTo>
                    <a:pt x="337" y="1987"/>
                  </a:lnTo>
                  <a:lnTo>
                    <a:pt x="337" y="1718"/>
                  </a:lnTo>
                  <a:lnTo>
                    <a:pt x="303" y="1415"/>
                  </a:lnTo>
                  <a:lnTo>
                    <a:pt x="236" y="809"/>
                  </a:lnTo>
                  <a:lnTo>
                    <a:pt x="236" y="405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1240" bIns="21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hape 856"/>
            <p:cNvSpPr/>
            <p:nvPr/>
          </p:nvSpPr>
          <p:spPr>
            <a:xfrm>
              <a:off x="2001600" y="0"/>
              <a:ext cx="164880" cy="125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493" h="1887">
                  <a:moveTo>
                    <a:pt x="1" y="1"/>
                  </a:moveTo>
                  <a:lnTo>
                    <a:pt x="1" y="304"/>
                  </a:lnTo>
                  <a:lnTo>
                    <a:pt x="1" y="640"/>
                  </a:lnTo>
                  <a:lnTo>
                    <a:pt x="68" y="1213"/>
                  </a:lnTo>
                  <a:lnTo>
                    <a:pt x="102" y="1516"/>
                  </a:lnTo>
                  <a:lnTo>
                    <a:pt x="203" y="1785"/>
                  </a:lnTo>
                  <a:lnTo>
                    <a:pt x="203" y="1819"/>
                  </a:lnTo>
                  <a:lnTo>
                    <a:pt x="236" y="1852"/>
                  </a:lnTo>
                  <a:lnTo>
                    <a:pt x="304" y="1819"/>
                  </a:lnTo>
                  <a:lnTo>
                    <a:pt x="337" y="1852"/>
                  </a:lnTo>
                  <a:lnTo>
                    <a:pt x="573" y="1886"/>
                  </a:lnTo>
                  <a:lnTo>
                    <a:pt x="809" y="1852"/>
                  </a:lnTo>
                  <a:lnTo>
                    <a:pt x="1280" y="1852"/>
                  </a:lnTo>
                  <a:lnTo>
                    <a:pt x="1819" y="1819"/>
                  </a:lnTo>
                  <a:lnTo>
                    <a:pt x="2054" y="1819"/>
                  </a:lnTo>
                  <a:lnTo>
                    <a:pt x="2324" y="1785"/>
                  </a:lnTo>
                  <a:lnTo>
                    <a:pt x="2357" y="1819"/>
                  </a:lnTo>
                  <a:lnTo>
                    <a:pt x="2391" y="1819"/>
                  </a:lnTo>
                  <a:lnTo>
                    <a:pt x="2458" y="1785"/>
                  </a:lnTo>
                  <a:lnTo>
                    <a:pt x="2458" y="1751"/>
                  </a:lnTo>
                  <a:lnTo>
                    <a:pt x="2492" y="1516"/>
                  </a:lnTo>
                  <a:lnTo>
                    <a:pt x="2492" y="1246"/>
                  </a:lnTo>
                  <a:lnTo>
                    <a:pt x="2458" y="741"/>
                  </a:lnTo>
                  <a:lnTo>
                    <a:pt x="2425" y="1"/>
                  </a:lnTo>
                  <a:lnTo>
                    <a:pt x="2223" y="1"/>
                  </a:lnTo>
                  <a:lnTo>
                    <a:pt x="2256" y="573"/>
                  </a:lnTo>
                  <a:lnTo>
                    <a:pt x="2256" y="1078"/>
                  </a:lnTo>
                  <a:lnTo>
                    <a:pt x="2290" y="1617"/>
                  </a:lnTo>
                  <a:lnTo>
                    <a:pt x="2088" y="1583"/>
                  </a:lnTo>
                  <a:lnTo>
                    <a:pt x="1852" y="1583"/>
                  </a:lnTo>
                  <a:lnTo>
                    <a:pt x="1415" y="1617"/>
                  </a:lnTo>
                  <a:lnTo>
                    <a:pt x="876" y="1617"/>
                  </a:lnTo>
                  <a:lnTo>
                    <a:pt x="607" y="1650"/>
                  </a:lnTo>
                  <a:lnTo>
                    <a:pt x="337" y="1718"/>
                  </a:lnTo>
                  <a:lnTo>
                    <a:pt x="304" y="1179"/>
                  </a:lnTo>
                  <a:lnTo>
                    <a:pt x="236" y="640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640" bIns="8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hape 857"/>
            <p:cNvSpPr/>
            <p:nvPr/>
          </p:nvSpPr>
          <p:spPr>
            <a:xfrm>
              <a:off x="1066680" y="4680"/>
              <a:ext cx="168120" cy="155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26" h="2357">
                  <a:moveTo>
                    <a:pt x="2256" y="202"/>
                  </a:moveTo>
                  <a:lnTo>
                    <a:pt x="2256" y="640"/>
                  </a:lnTo>
                  <a:lnTo>
                    <a:pt x="2290" y="1077"/>
                  </a:lnTo>
                  <a:lnTo>
                    <a:pt x="2290" y="1582"/>
                  </a:lnTo>
                  <a:lnTo>
                    <a:pt x="2323" y="2121"/>
                  </a:lnTo>
                  <a:lnTo>
                    <a:pt x="2088" y="2087"/>
                  </a:lnTo>
                  <a:lnTo>
                    <a:pt x="1886" y="2087"/>
                  </a:lnTo>
                  <a:lnTo>
                    <a:pt x="1448" y="2121"/>
                  </a:lnTo>
                  <a:lnTo>
                    <a:pt x="909" y="2121"/>
                  </a:lnTo>
                  <a:lnTo>
                    <a:pt x="640" y="2155"/>
                  </a:lnTo>
                  <a:lnTo>
                    <a:pt x="371" y="2222"/>
                  </a:lnTo>
                  <a:lnTo>
                    <a:pt x="337" y="1683"/>
                  </a:lnTo>
                  <a:lnTo>
                    <a:pt x="236" y="1145"/>
                  </a:lnTo>
                  <a:lnTo>
                    <a:pt x="202" y="707"/>
                  </a:lnTo>
                  <a:lnTo>
                    <a:pt x="169" y="269"/>
                  </a:lnTo>
                  <a:lnTo>
                    <a:pt x="1212" y="269"/>
                  </a:lnTo>
                  <a:lnTo>
                    <a:pt x="2256" y="202"/>
                  </a:lnTo>
                  <a:close/>
                  <a:moveTo>
                    <a:pt x="1179" y="0"/>
                  </a:moveTo>
                  <a:lnTo>
                    <a:pt x="674" y="34"/>
                  </a:lnTo>
                  <a:lnTo>
                    <a:pt x="135" y="67"/>
                  </a:lnTo>
                  <a:lnTo>
                    <a:pt x="68" y="101"/>
                  </a:lnTo>
                  <a:lnTo>
                    <a:pt x="68" y="168"/>
                  </a:lnTo>
                  <a:lnTo>
                    <a:pt x="34" y="438"/>
                  </a:lnTo>
                  <a:lnTo>
                    <a:pt x="0" y="673"/>
                  </a:lnTo>
                  <a:lnTo>
                    <a:pt x="34" y="1145"/>
                  </a:lnTo>
                  <a:lnTo>
                    <a:pt x="101" y="1717"/>
                  </a:lnTo>
                  <a:lnTo>
                    <a:pt x="135" y="2020"/>
                  </a:lnTo>
                  <a:lnTo>
                    <a:pt x="202" y="2289"/>
                  </a:lnTo>
                  <a:lnTo>
                    <a:pt x="236" y="2323"/>
                  </a:lnTo>
                  <a:lnTo>
                    <a:pt x="270" y="2357"/>
                  </a:lnTo>
                  <a:lnTo>
                    <a:pt x="337" y="2323"/>
                  </a:lnTo>
                  <a:lnTo>
                    <a:pt x="371" y="2357"/>
                  </a:lnTo>
                  <a:lnTo>
                    <a:pt x="1313" y="2357"/>
                  </a:lnTo>
                  <a:lnTo>
                    <a:pt x="1818" y="2323"/>
                  </a:lnTo>
                  <a:lnTo>
                    <a:pt x="2088" y="2323"/>
                  </a:lnTo>
                  <a:lnTo>
                    <a:pt x="2357" y="2289"/>
                  </a:lnTo>
                  <a:lnTo>
                    <a:pt x="2391" y="2323"/>
                  </a:lnTo>
                  <a:lnTo>
                    <a:pt x="2424" y="2323"/>
                  </a:lnTo>
                  <a:lnTo>
                    <a:pt x="2458" y="2289"/>
                  </a:lnTo>
                  <a:lnTo>
                    <a:pt x="2492" y="2256"/>
                  </a:lnTo>
                  <a:lnTo>
                    <a:pt x="2525" y="2020"/>
                  </a:lnTo>
                  <a:lnTo>
                    <a:pt x="2525" y="1751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4" y="337"/>
                  </a:lnTo>
                  <a:lnTo>
                    <a:pt x="2357" y="67"/>
                  </a:lnTo>
                  <a:lnTo>
                    <a:pt x="2323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hape 858"/>
            <p:cNvSpPr/>
            <p:nvPr/>
          </p:nvSpPr>
          <p:spPr>
            <a:xfrm>
              <a:off x="1323720" y="85680"/>
              <a:ext cx="28440" cy="45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8" h="708">
                  <a:moveTo>
                    <a:pt x="303" y="0"/>
                  </a:moveTo>
                  <a:lnTo>
                    <a:pt x="169" y="34"/>
                  </a:lnTo>
                  <a:lnTo>
                    <a:pt x="34" y="101"/>
                  </a:lnTo>
                  <a:lnTo>
                    <a:pt x="0" y="135"/>
                  </a:lnTo>
                  <a:lnTo>
                    <a:pt x="0" y="168"/>
                  </a:lnTo>
                  <a:lnTo>
                    <a:pt x="0" y="202"/>
                  </a:lnTo>
                  <a:lnTo>
                    <a:pt x="270" y="202"/>
                  </a:lnTo>
                  <a:lnTo>
                    <a:pt x="236" y="404"/>
                  </a:lnTo>
                  <a:lnTo>
                    <a:pt x="169" y="572"/>
                  </a:lnTo>
                  <a:lnTo>
                    <a:pt x="135" y="640"/>
                  </a:lnTo>
                  <a:lnTo>
                    <a:pt x="202" y="707"/>
                  </a:lnTo>
                  <a:lnTo>
                    <a:pt x="270" y="707"/>
                  </a:lnTo>
                  <a:lnTo>
                    <a:pt x="337" y="673"/>
                  </a:lnTo>
                  <a:lnTo>
                    <a:pt x="404" y="539"/>
                  </a:lnTo>
                  <a:lnTo>
                    <a:pt x="438" y="370"/>
                  </a:lnTo>
                  <a:lnTo>
                    <a:pt x="438" y="236"/>
                  </a:lnTo>
                  <a:lnTo>
                    <a:pt x="438" y="67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hape 859"/>
            <p:cNvSpPr/>
            <p:nvPr/>
          </p:nvSpPr>
          <p:spPr>
            <a:xfrm>
              <a:off x="1137960" y="93600"/>
              <a:ext cx="37800" cy="4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4" h="708">
                  <a:moveTo>
                    <a:pt x="337" y="1"/>
                  </a:moveTo>
                  <a:lnTo>
                    <a:pt x="270" y="34"/>
                  </a:lnTo>
                  <a:lnTo>
                    <a:pt x="169" y="68"/>
                  </a:lnTo>
                  <a:lnTo>
                    <a:pt x="68" y="203"/>
                  </a:lnTo>
                  <a:lnTo>
                    <a:pt x="34" y="270"/>
                  </a:lnTo>
                  <a:lnTo>
                    <a:pt x="1" y="371"/>
                  </a:lnTo>
                  <a:lnTo>
                    <a:pt x="1" y="438"/>
                  </a:lnTo>
                  <a:lnTo>
                    <a:pt x="34" y="539"/>
                  </a:lnTo>
                  <a:lnTo>
                    <a:pt x="135" y="640"/>
                  </a:lnTo>
                  <a:lnTo>
                    <a:pt x="270" y="708"/>
                  </a:lnTo>
                  <a:lnTo>
                    <a:pt x="371" y="708"/>
                  </a:lnTo>
                  <a:lnTo>
                    <a:pt x="438" y="640"/>
                  </a:lnTo>
                  <a:lnTo>
                    <a:pt x="573" y="506"/>
                  </a:lnTo>
                  <a:lnTo>
                    <a:pt x="573" y="472"/>
                  </a:lnTo>
                  <a:lnTo>
                    <a:pt x="573" y="405"/>
                  </a:lnTo>
                  <a:lnTo>
                    <a:pt x="539" y="371"/>
                  </a:lnTo>
                  <a:lnTo>
                    <a:pt x="135" y="371"/>
                  </a:lnTo>
                  <a:lnTo>
                    <a:pt x="169" y="270"/>
                  </a:lnTo>
                  <a:lnTo>
                    <a:pt x="236" y="203"/>
                  </a:lnTo>
                  <a:lnTo>
                    <a:pt x="304" y="135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hape 860"/>
            <p:cNvSpPr/>
            <p:nvPr/>
          </p:nvSpPr>
          <p:spPr>
            <a:xfrm>
              <a:off x="745920" y="0"/>
              <a:ext cx="26640" cy="360"/>
            </a:xfrm>
            <a:custGeom>
              <a:avLst/>
              <a:gdLst/>
              <a:ahLst/>
              <a:rect l="l" t="t" r="r" b="b"/>
              <a:pathLst>
                <a:path w="405" h="1">
                  <a:moveTo>
                    <a:pt x="405" y="1"/>
                  </a:moveTo>
                  <a:lnTo>
                    <a:pt x="1" y="1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6640" bIns="-116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hape 861"/>
            <p:cNvSpPr/>
            <p:nvPr/>
          </p:nvSpPr>
          <p:spPr>
            <a:xfrm>
              <a:off x="0" y="1711080"/>
              <a:ext cx="520560" cy="799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846" h="12054">
                  <a:moveTo>
                    <a:pt x="1" y="1"/>
                  </a:moveTo>
                  <a:lnTo>
                    <a:pt x="1" y="203"/>
                  </a:lnTo>
                  <a:lnTo>
                    <a:pt x="405" y="304"/>
                  </a:lnTo>
                  <a:lnTo>
                    <a:pt x="842" y="371"/>
                  </a:lnTo>
                  <a:lnTo>
                    <a:pt x="1953" y="438"/>
                  </a:lnTo>
                  <a:lnTo>
                    <a:pt x="3065" y="539"/>
                  </a:lnTo>
                  <a:lnTo>
                    <a:pt x="4209" y="640"/>
                  </a:lnTo>
                  <a:lnTo>
                    <a:pt x="5354" y="809"/>
                  </a:lnTo>
                  <a:lnTo>
                    <a:pt x="6499" y="977"/>
                  </a:lnTo>
                  <a:lnTo>
                    <a:pt x="7643" y="1179"/>
                  </a:lnTo>
                  <a:lnTo>
                    <a:pt x="7542" y="1684"/>
                  </a:lnTo>
                  <a:lnTo>
                    <a:pt x="7441" y="2223"/>
                  </a:lnTo>
                  <a:lnTo>
                    <a:pt x="7340" y="3334"/>
                  </a:lnTo>
                  <a:lnTo>
                    <a:pt x="6903" y="6431"/>
                  </a:lnTo>
                  <a:lnTo>
                    <a:pt x="6532" y="9091"/>
                  </a:lnTo>
                  <a:lnTo>
                    <a:pt x="6128" y="11751"/>
                  </a:lnTo>
                  <a:lnTo>
                    <a:pt x="6095" y="11751"/>
                  </a:lnTo>
                  <a:lnTo>
                    <a:pt x="5691" y="11650"/>
                  </a:lnTo>
                  <a:lnTo>
                    <a:pt x="5320" y="11583"/>
                  </a:lnTo>
                  <a:lnTo>
                    <a:pt x="4546" y="11482"/>
                  </a:lnTo>
                  <a:lnTo>
                    <a:pt x="2964" y="11381"/>
                  </a:lnTo>
                  <a:lnTo>
                    <a:pt x="2593" y="11313"/>
                  </a:lnTo>
                  <a:lnTo>
                    <a:pt x="2223" y="11280"/>
                  </a:lnTo>
                  <a:lnTo>
                    <a:pt x="1482" y="11111"/>
                  </a:lnTo>
                  <a:lnTo>
                    <a:pt x="741" y="10943"/>
                  </a:lnTo>
                  <a:lnTo>
                    <a:pt x="371" y="10876"/>
                  </a:lnTo>
                  <a:lnTo>
                    <a:pt x="1" y="10842"/>
                  </a:lnTo>
                  <a:lnTo>
                    <a:pt x="1" y="11111"/>
                  </a:lnTo>
                  <a:lnTo>
                    <a:pt x="607" y="11212"/>
                  </a:lnTo>
                  <a:lnTo>
                    <a:pt x="1246" y="11347"/>
                  </a:lnTo>
                  <a:lnTo>
                    <a:pt x="1852" y="11482"/>
                  </a:lnTo>
                  <a:lnTo>
                    <a:pt x="2458" y="11583"/>
                  </a:lnTo>
                  <a:lnTo>
                    <a:pt x="3368" y="11650"/>
                  </a:lnTo>
                  <a:lnTo>
                    <a:pt x="4243" y="11717"/>
                  </a:lnTo>
                  <a:lnTo>
                    <a:pt x="5152" y="11818"/>
                  </a:lnTo>
                  <a:lnTo>
                    <a:pt x="5590" y="11886"/>
                  </a:lnTo>
                  <a:lnTo>
                    <a:pt x="6027" y="12020"/>
                  </a:lnTo>
                  <a:lnTo>
                    <a:pt x="6095" y="11987"/>
                  </a:lnTo>
                  <a:lnTo>
                    <a:pt x="6162" y="12054"/>
                  </a:lnTo>
                  <a:lnTo>
                    <a:pt x="6229" y="12054"/>
                  </a:lnTo>
                  <a:lnTo>
                    <a:pt x="6263" y="12020"/>
                  </a:lnTo>
                  <a:lnTo>
                    <a:pt x="6297" y="11987"/>
                  </a:lnTo>
                  <a:lnTo>
                    <a:pt x="6734" y="9226"/>
                  </a:lnTo>
                  <a:lnTo>
                    <a:pt x="7138" y="6499"/>
                  </a:lnTo>
                  <a:lnTo>
                    <a:pt x="7475" y="3839"/>
                  </a:lnTo>
                  <a:lnTo>
                    <a:pt x="7677" y="2492"/>
                  </a:lnTo>
                  <a:lnTo>
                    <a:pt x="7778" y="1819"/>
                  </a:lnTo>
                  <a:lnTo>
                    <a:pt x="7778" y="1146"/>
                  </a:lnTo>
                  <a:lnTo>
                    <a:pt x="7812" y="1112"/>
                  </a:lnTo>
                  <a:lnTo>
                    <a:pt x="7845" y="1078"/>
                  </a:lnTo>
                  <a:lnTo>
                    <a:pt x="7812" y="1011"/>
                  </a:lnTo>
                  <a:lnTo>
                    <a:pt x="7778" y="977"/>
                  </a:lnTo>
                  <a:lnTo>
                    <a:pt x="7778" y="944"/>
                  </a:lnTo>
                  <a:lnTo>
                    <a:pt x="7744" y="910"/>
                  </a:lnTo>
                  <a:lnTo>
                    <a:pt x="7711" y="910"/>
                  </a:lnTo>
                  <a:lnTo>
                    <a:pt x="7711" y="944"/>
                  </a:lnTo>
                  <a:lnTo>
                    <a:pt x="7677" y="977"/>
                  </a:lnTo>
                  <a:lnTo>
                    <a:pt x="6734" y="775"/>
                  </a:lnTo>
                  <a:lnTo>
                    <a:pt x="5792" y="640"/>
                  </a:lnTo>
                  <a:lnTo>
                    <a:pt x="3873" y="405"/>
                  </a:lnTo>
                  <a:lnTo>
                    <a:pt x="2896" y="304"/>
                  </a:lnTo>
                  <a:lnTo>
                    <a:pt x="1920" y="270"/>
                  </a:lnTo>
                  <a:lnTo>
                    <a:pt x="943" y="169"/>
                  </a:lnTo>
                  <a:lnTo>
                    <a:pt x="472" y="10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hape 862"/>
            <p:cNvSpPr/>
            <p:nvPr/>
          </p:nvSpPr>
          <p:spPr>
            <a:xfrm>
              <a:off x="509400" y="33120"/>
              <a:ext cx="20520" cy="156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04" h="2358">
                  <a:moveTo>
                    <a:pt x="67" y="1"/>
                  </a:moveTo>
                  <a:lnTo>
                    <a:pt x="34" y="34"/>
                  </a:lnTo>
                  <a:lnTo>
                    <a:pt x="34" y="68"/>
                  </a:lnTo>
                  <a:lnTo>
                    <a:pt x="0" y="304"/>
                  </a:lnTo>
                  <a:lnTo>
                    <a:pt x="0" y="573"/>
                  </a:lnTo>
                  <a:lnTo>
                    <a:pt x="0" y="1078"/>
                  </a:lnTo>
                  <a:lnTo>
                    <a:pt x="34" y="1718"/>
                  </a:lnTo>
                  <a:lnTo>
                    <a:pt x="101" y="2021"/>
                  </a:lnTo>
                  <a:lnTo>
                    <a:pt x="168" y="2290"/>
                  </a:lnTo>
                  <a:lnTo>
                    <a:pt x="202" y="2358"/>
                  </a:lnTo>
                  <a:lnTo>
                    <a:pt x="236" y="2358"/>
                  </a:lnTo>
                  <a:lnTo>
                    <a:pt x="303" y="2324"/>
                  </a:lnTo>
                  <a:lnTo>
                    <a:pt x="303" y="2290"/>
                  </a:lnTo>
                  <a:lnTo>
                    <a:pt x="303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02" y="573"/>
                  </a:lnTo>
                  <a:lnTo>
                    <a:pt x="168" y="304"/>
                  </a:lnTo>
                  <a:lnTo>
                    <a:pt x="135" y="34"/>
                  </a:lnTo>
                  <a:lnTo>
                    <a:pt x="101" y="34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hape 863"/>
            <p:cNvSpPr/>
            <p:nvPr/>
          </p:nvSpPr>
          <p:spPr>
            <a:xfrm>
              <a:off x="1515960" y="77760"/>
              <a:ext cx="33120" cy="5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06" h="775">
                  <a:moveTo>
                    <a:pt x="270" y="168"/>
                  </a:moveTo>
                  <a:lnTo>
                    <a:pt x="304" y="202"/>
                  </a:lnTo>
                  <a:lnTo>
                    <a:pt x="337" y="269"/>
                  </a:lnTo>
                  <a:lnTo>
                    <a:pt x="304" y="370"/>
                  </a:lnTo>
                  <a:lnTo>
                    <a:pt x="236" y="303"/>
                  </a:lnTo>
                  <a:lnTo>
                    <a:pt x="203" y="236"/>
                  </a:lnTo>
                  <a:lnTo>
                    <a:pt x="203" y="202"/>
                  </a:lnTo>
                  <a:lnTo>
                    <a:pt x="236" y="168"/>
                  </a:lnTo>
                  <a:close/>
                  <a:moveTo>
                    <a:pt x="203" y="0"/>
                  </a:moveTo>
                  <a:lnTo>
                    <a:pt x="102" y="67"/>
                  </a:lnTo>
                  <a:lnTo>
                    <a:pt x="34" y="135"/>
                  </a:lnTo>
                  <a:lnTo>
                    <a:pt x="1" y="236"/>
                  </a:lnTo>
                  <a:lnTo>
                    <a:pt x="34" y="337"/>
                  </a:lnTo>
                  <a:lnTo>
                    <a:pt x="102" y="404"/>
                  </a:lnTo>
                  <a:lnTo>
                    <a:pt x="169" y="471"/>
                  </a:lnTo>
                  <a:lnTo>
                    <a:pt x="68" y="539"/>
                  </a:lnTo>
                  <a:lnTo>
                    <a:pt x="34" y="606"/>
                  </a:lnTo>
                  <a:lnTo>
                    <a:pt x="68" y="673"/>
                  </a:lnTo>
                  <a:lnTo>
                    <a:pt x="135" y="741"/>
                  </a:lnTo>
                  <a:lnTo>
                    <a:pt x="203" y="774"/>
                  </a:lnTo>
                  <a:lnTo>
                    <a:pt x="304" y="774"/>
                  </a:lnTo>
                  <a:lnTo>
                    <a:pt x="371" y="741"/>
                  </a:lnTo>
                  <a:lnTo>
                    <a:pt x="438" y="707"/>
                  </a:lnTo>
                  <a:lnTo>
                    <a:pt x="506" y="640"/>
                  </a:lnTo>
                  <a:lnTo>
                    <a:pt x="506" y="572"/>
                  </a:lnTo>
                  <a:lnTo>
                    <a:pt x="438" y="471"/>
                  </a:lnTo>
                  <a:lnTo>
                    <a:pt x="472" y="471"/>
                  </a:lnTo>
                  <a:lnTo>
                    <a:pt x="472" y="438"/>
                  </a:lnTo>
                  <a:lnTo>
                    <a:pt x="472" y="404"/>
                  </a:lnTo>
                  <a:lnTo>
                    <a:pt x="438" y="337"/>
                  </a:lnTo>
                  <a:lnTo>
                    <a:pt x="472" y="269"/>
                  </a:lnTo>
                  <a:lnTo>
                    <a:pt x="472" y="168"/>
                  </a:lnTo>
                  <a:lnTo>
                    <a:pt x="472" y="101"/>
                  </a:lnTo>
                  <a:lnTo>
                    <a:pt x="371" y="3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hape 864"/>
            <p:cNvSpPr/>
            <p:nvPr/>
          </p:nvSpPr>
          <p:spPr>
            <a:xfrm>
              <a:off x="545760" y="0"/>
              <a:ext cx="149040" cy="10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257" h="170">
                  <a:moveTo>
                    <a:pt x="304" y="1"/>
                  </a:moveTo>
                  <a:lnTo>
                    <a:pt x="1" y="68"/>
                  </a:lnTo>
                  <a:lnTo>
                    <a:pt x="1" y="102"/>
                  </a:lnTo>
                  <a:lnTo>
                    <a:pt x="236" y="135"/>
                  </a:lnTo>
                  <a:lnTo>
                    <a:pt x="472" y="169"/>
                  </a:lnTo>
                  <a:lnTo>
                    <a:pt x="977" y="135"/>
                  </a:lnTo>
                  <a:lnTo>
                    <a:pt x="1549" y="135"/>
                  </a:lnTo>
                  <a:lnTo>
                    <a:pt x="2021" y="102"/>
                  </a:lnTo>
                  <a:lnTo>
                    <a:pt x="2054" y="135"/>
                  </a:lnTo>
                  <a:lnTo>
                    <a:pt x="2122" y="169"/>
                  </a:lnTo>
                  <a:lnTo>
                    <a:pt x="2189" y="135"/>
                  </a:lnTo>
                  <a:lnTo>
                    <a:pt x="2223" y="68"/>
                  </a:lnTo>
                  <a:lnTo>
                    <a:pt x="2256" y="34"/>
                  </a:lnTo>
                  <a:lnTo>
                    <a:pt x="22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5840" bIns="-105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hape 865"/>
            <p:cNvSpPr/>
            <p:nvPr/>
          </p:nvSpPr>
          <p:spPr>
            <a:xfrm>
              <a:off x="880920" y="6120"/>
              <a:ext cx="164880" cy="179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93" h="2695">
                  <a:moveTo>
                    <a:pt x="2290" y="203"/>
                  </a:moveTo>
                  <a:lnTo>
                    <a:pt x="2223" y="741"/>
                  </a:lnTo>
                  <a:lnTo>
                    <a:pt x="2223" y="1280"/>
                  </a:lnTo>
                  <a:lnTo>
                    <a:pt x="2223" y="1819"/>
                  </a:lnTo>
                  <a:lnTo>
                    <a:pt x="2290" y="2324"/>
                  </a:lnTo>
                  <a:lnTo>
                    <a:pt x="2290" y="2357"/>
                  </a:lnTo>
                  <a:lnTo>
                    <a:pt x="2055" y="2324"/>
                  </a:lnTo>
                  <a:lnTo>
                    <a:pt x="1819" y="2357"/>
                  </a:lnTo>
                  <a:lnTo>
                    <a:pt x="371" y="2357"/>
                  </a:lnTo>
                  <a:lnTo>
                    <a:pt x="270" y="1314"/>
                  </a:lnTo>
                  <a:lnTo>
                    <a:pt x="203" y="236"/>
                  </a:lnTo>
                  <a:lnTo>
                    <a:pt x="708" y="270"/>
                  </a:lnTo>
                  <a:lnTo>
                    <a:pt x="1247" y="270"/>
                  </a:lnTo>
                  <a:lnTo>
                    <a:pt x="2290" y="203"/>
                  </a:lnTo>
                  <a:close/>
                  <a:moveTo>
                    <a:pt x="2324" y="1"/>
                  </a:moveTo>
                  <a:lnTo>
                    <a:pt x="1785" y="34"/>
                  </a:lnTo>
                  <a:lnTo>
                    <a:pt x="1213" y="34"/>
                  </a:lnTo>
                  <a:lnTo>
                    <a:pt x="674" y="68"/>
                  </a:lnTo>
                  <a:lnTo>
                    <a:pt x="169" y="102"/>
                  </a:lnTo>
                  <a:lnTo>
                    <a:pt x="102" y="102"/>
                  </a:lnTo>
                  <a:lnTo>
                    <a:pt x="68" y="169"/>
                  </a:lnTo>
                  <a:lnTo>
                    <a:pt x="35" y="169"/>
                  </a:lnTo>
                  <a:lnTo>
                    <a:pt x="35" y="236"/>
                  </a:lnTo>
                  <a:lnTo>
                    <a:pt x="1" y="809"/>
                  </a:lnTo>
                  <a:lnTo>
                    <a:pt x="1" y="1415"/>
                  </a:lnTo>
                  <a:lnTo>
                    <a:pt x="68" y="2021"/>
                  </a:lnTo>
                  <a:lnTo>
                    <a:pt x="169" y="2627"/>
                  </a:lnTo>
                  <a:lnTo>
                    <a:pt x="237" y="2694"/>
                  </a:lnTo>
                  <a:lnTo>
                    <a:pt x="304" y="2694"/>
                  </a:lnTo>
                  <a:lnTo>
                    <a:pt x="371" y="2661"/>
                  </a:lnTo>
                  <a:lnTo>
                    <a:pt x="405" y="2593"/>
                  </a:lnTo>
                  <a:lnTo>
                    <a:pt x="405" y="2492"/>
                  </a:lnTo>
                  <a:lnTo>
                    <a:pt x="843" y="2593"/>
                  </a:lnTo>
                  <a:lnTo>
                    <a:pt x="1348" y="2627"/>
                  </a:lnTo>
                  <a:lnTo>
                    <a:pt x="1853" y="2593"/>
                  </a:lnTo>
                  <a:lnTo>
                    <a:pt x="2055" y="2560"/>
                  </a:lnTo>
                  <a:lnTo>
                    <a:pt x="2290" y="2492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425" y="2391"/>
                  </a:lnTo>
                  <a:lnTo>
                    <a:pt x="2459" y="2357"/>
                  </a:lnTo>
                  <a:lnTo>
                    <a:pt x="2459" y="2324"/>
                  </a:lnTo>
                  <a:lnTo>
                    <a:pt x="2492" y="1785"/>
                  </a:lnTo>
                  <a:lnTo>
                    <a:pt x="2459" y="1246"/>
                  </a:lnTo>
                  <a:lnTo>
                    <a:pt x="2425" y="708"/>
                  </a:lnTo>
                  <a:lnTo>
                    <a:pt x="2391" y="169"/>
                  </a:lnTo>
                  <a:lnTo>
                    <a:pt x="2425" y="135"/>
                  </a:lnTo>
                  <a:lnTo>
                    <a:pt x="2391" y="68"/>
                  </a:lnTo>
                  <a:lnTo>
                    <a:pt x="235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hape 866"/>
            <p:cNvSpPr/>
            <p:nvPr/>
          </p:nvSpPr>
          <p:spPr>
            <a:xfrm>
              <a:off x="576000" y="997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8" h="1045">
                  <a:moveTo>
                    <a:pt x="269" y="1"/>
                  </a:moveTo>
                  <a:lnTo>
                    <a:pt x="202" y="68"/>
                  </a:lnTo>
                  <a:lnTo>
                    <a:pt x="101" y="10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0" y="304"/>
                  </a:lnTo>
                  <a:lnTo>
                    <a:pt x="34" y="337"/>
                  </a:lnTo>
                  <a:lnTo>
                    <a:pt x="101" y="304"/>
                  </a:lnTo>
                  <a:lnTo>
                    <a:pt x="202" y="236"/>
                  </a:lnTo>
                  <a:lnTo>
                    <a:pt x="303" y="169"/>
                  </a:lnTo>
                  <a:lnTo>
                    <a:pt x="337" y="169"/>
                  </a:lnTo>
                  <a:lnTo>
                    <a:pt x="404" y="203"/>
                  </a:lnTo>
                  <a:lnTo>
                    <a:pt x="404" y="236"/>
                  </a:lnTo>
                  <a:lnTo>
                    <a:pt x="438" y="270"/>
                  </a:lnTo>
                  <a:lnTo>
                    <a:pt x="370" y="371"/>
                  </a:lnTo>
                  <a:lnTo>
                    <a:pt x="236" y="506"/>
                  </a:lnTo>
                  <a:lnTo>
                    <a:pt x="168" y="640"/>
                  </a:lnTo>
                  <a:lnTo>
                    <a:pt x="168" y="708"/>
                  </a:lnTo>
                  <a:lnTo>
                    <a:pt x="168" y="741"/>
                  </a:lnTo>
                  <a:lnTo>
                    <a:pt x="236" y="775"/>
                  </a:lnTo>
                  <a:lnTo>
                    <a:pt x="269" y="775"/>
                  </a:lnTo>
                  <a:lnTo>
                    <a:pt x="337" y="741"/>
                  </a:lnTo>
                  <a:lnTo>
                    <a:pt x="471" y="741"/>
                  </a:lnTo>
                  <a:lnTo>
                    <a:pt x="438" y="842"/>
                  </a:lnTo>
                  <a:lnTo>
                    <a:pt x="404" y="876"/>
                  </a:lnTo>
                  <a:lnTo>
                    <a:pt x="202" y="876"/>
                  </a:lnTo>
                  <a:lnTo>
                    <a:pt x="168" y="910"/>
                  </a:lnTo>
                  <a:lnTo>
                    <a:pt x="168" y="977"/>
                  </a:lnTo>
                  <a:lnTo>
                    <a:pt x="236" y="1011"/>
                  </a:lnTo>
                  <a:lnTo>
                    <a:pt x="337" y="1044"/>
                  </a:lnTo>
                  <a:lnTo>
                    <a:pt x="505" y="1011"/>
                  </a:lnTo>
                  <a:lnTo>
                    <a:pt x="606" y="977"/>
                  </a:lnTo>
                  <a:lnTo>
                    <a:pt x="673" y="943"/>
                  </a:lnTo>
                  <a:lnTo>
                    <a:pt x="707" y="876"/>
                  </a:lnTo>
                  <a:lnTo>
                    <a:pt x="707" y="775"/>
                  </a:lnTo>
                  <a:lnTo>
                    <a:pt x="673" y="674"/>
                  </a:lnTo>
                  <a:lnTo>
                    <a:pt x="606" y="607"/>
                  </a:lnTo>
                  <a:lnTo>
                    <a:pt x="539" y="573"/>
                  </a:lnTo>
                  <a:lnTo>
                    <a:pt x="438" y="539"/>
                  </a:lnTo>
                  <a:lnTo>
                    <a:pt x="505" y="472"/>
                  </a:lnTo>
                  <a:lnTo>
                    <a:pt x="572" y="371"/>
                  </a:lnTo>
                  <a:lnTo>
                    <a:pt x="606" y="236"/>
                  </a:lnTo>
                  <a:lnTo>
                    <a:pt x="572" y="102"/>
                  </a:lnTo>
                  <a:lnTo>
                    <a:pt x="505" y="68"/>
                  </a:lnTo>
                  <a:lnTo>
                    <a:pt x="438" y="34"/>
                  </a:lnTo>
                  <a:lnTo>
                    <a:pt x="37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hape 867"/>
            <p:cNvSpPr/>
            <p:nvPr/>
          </p:nvSpPr>
          <p:spPr>
            <a:xfrm>
              <a:off x="520560" y="26640"/>
              <a:ext cx="153720" cy="160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324" h="2425">
                  <a:moveTo>
                    <a:pt x="2121" y="1"/>
                  </a:moveTo>
                  <a:lnTo>
                    <a:pt x="1515" y="34"/>
                  </a:lnTo>
                  <a:lnTo>
                    <a:pt x="909" y="68"/>
                  </a:lnTo>
                  <a:lnTo>
                    <a:pt x="438" y="34"/>
                  </a:lnTo>
                  <a:lnTo>
                    <a:pt x="202" y="68"/>
                  </a:lnTo>
                  <a:lnTo>
                    <a:pt x="0" y="135"/>
                  </a:lnTo>
                  <a:lnTo>
                    <a:pt x="68" y="203"/>
                  </a:lnTo>
                  <a:lnTo>
                    <a:pt x="169" y="236"/>
                  </a:lnTo>
                  <a:lnTo>
                    <a:pt x="337" y="304"/>
                  </a:lnTo>
                  <a:lnTo>
                    <a:pt x="775" y="304"/>
                  </a:lnTo>
                  <a:lnTo>
                    <a:pt x="1381" y="270"/>
                  </a:lnTo>
                  <a:lnTo>
                    <a:pt x="2020" y="236"/>
                  </a:lnTo>
                  <a:lnTo>
                    <a:pt x="1987" y="438"/>
                  </a:lnTo>
                  <a:lnTo>
                    <a:pt x="1987" y="674"/>
                  </a:lnTo>
                  <a:lnTo>
                    <a:pt x="2020" y="1078"/>
                  </a:lnTo>
                  <a:lnTo>
                    <a:pt x="2054" y="1617"/>
                  </a:lnTo>
                  <a:lnTo>
                    <a:pt x="2054" y="1886"/>
                  </a:lnTo>
                  <a:lnTo>
                    <a:pt x="2088" y="2155"/>
                  </a:lnTo>
                  <a:lnTo>
                    <a:pt x="539" y="2155"/>
                  </a:lnTo>
                  <a:lnTo>
                    <a:pt x="371" y="2189"/>
                  </a:lnTo>
                  <a:lnTo>
                    <a:pt x="270" y="2223"/>
                  </a:lnTo>
                  <a:lnTo>
                    <a:pt x="169" y="2290"/>
                  </a:lnTo>
                  <a:lnTo>
                    <a:pt x="202" y="2290"/>
                  </a:lnTo>
                  <a:lnTo>
                    <a:pt x="270" y="2358"/>
                  </a:lnTo>
                  <a:lnTo>
                    <a:pt x="371" y="2391"/>
                  </a:lnTo>
                  <a:lnTo>
                    <a:pt x="573" y="2425"/>
                  </a:lnTo>
                  <a:lnTo>
                    <a:pt x="977" y="2391"/>
                  </a:lnTo>
                  <a:lnTo>
                    <a:pt x="2222" y="2391"/>
                  </a:lnTo>
                  <a:lnTo>
                    <a:pt x="2290" y="2358"/>
                  </a:lnTo>
                  <a:lnTo>
                    <a:pt x="2323" y="2290"/>
                  </a:lnTo>
                  <a:lnTo>
                    <a:pt x="2323" y="2223"/>
                  </a:lnTo>
                  <a:lnTo>
                    <a:pt x="2290" y="2189"/>
                  </a:lnTo>
                  <a:lnTo>
                    <a:pt x="2290" y="1920"/>
                  </a:lnTo>
                  <a:lnTo>
                    <a:pt x="2290" y="1617"/>
                  </a:lnTo>
                  <a:lnTo>
                    <a:pt x="2256" y="1078"/>
                  </a:lnTo>
                  <a:lnTo>
                    <a:pt x="2256" y="640"/>
                  </a:lnTo>
                  <a:lnTo>
                    <a:pt x="2222" y="405"/>
                  </a:lnTo>
                  <a:lnTo>
                    <a:pt x="2189" y="203"/>
                  </a:lnTo>
                  <a:lnTo>
                    <a:pt x="2222" y="169"/>
                  </a:lnTo>
                  <a:lnTo>
                    <a:pt x="2222" y="102"/>
                  </a:lnTo>
                  <a:lnTo>
                    <a:pt x="2189" y="34"/>
                  </a:lnTo>
                  <a:lnTo>
                    <a:pt x="212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Shape 868"/>
            <p:cNvSpPr/>
            <p:nvPr/>
          </p:nvSpPr>
          <p:spPr>
            <a:xfrm>
              <a:off x="720720" y="0"/>
              <a:ext cx="10800" cy="14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0" h="35">
                  <a:moveTo>
                    <a:pt x="1" y="1"/>
                  </a:moveTo>
                  <a:lnTo>
                    <a:pt x="35" y="34"/>
                  </a:lnTo>
                  <a:lnTo>
                    <a:pt x="136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15200" bIns="-115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Shape 869"/>
            <p:cNvSpPr/>
            <p:nvPr/>
          </p:nvSpPr>
          <p:spPr>
            <a:xfrm>
              <a:off x="1176120" y="174600"/>
              <a:ext cx="164880" cy="1792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92" h="2695">
                  <a:moveTo>
                    <a:pt x="2290" y="237"/>
                  </a:moveTo>
                  <a:lnTo>
                    <a:pt x="2222" y="742"/>
                  </a:lnTo>
                  <a:lnTo>
                    <a:pt x="2189" y="1280"/>
                  </a:lnTo>
                  <a:lnTo>
                    <a:pt x="2222" y="1819"/>
                  </a:lnTo>
                  <a:lnTo>
                    <a:pt x="2290" y="2324"/>
                  </a:lnTo>
                  <a:lnTo>
                    <a:pt x="2290" y="2358"/>
                  </a:lnTo>
                  <a:lnTo>
                    <a:pt x="1818" y="2358"/>
                  </a:lnTo>
                  <a:lnTo>
                    <a:pt x="1347" y="2391"/>
                  </a:lnTo>
                  <a:lnTo>
                    <a:pt x="370" y="2391"/>
                  </a:lnTo>
                  <a:lnTo>
                    <a:pt x="269" y="1314"/>
                  </a:lnTo>
                  <a:lnTo>
                    <a:pt x="202" y="270"/>
                  </a:lnTo>
                  <a:lnTo>
                    <a:pt x="707" y="304"/>
                  </a:lnTo>
                  <a:lnTo>
                    <a:pt x="1246" y="304"/>
                  </a:lnTo>
                  <a:lnTo>
                    <a:pt x="2290" y="237"/>
                  </a:lnTo>
                  <a:close/>
                  <a:moveTo>
                    <a:pt x="2323" y="1"/>
                  </a:moveTo>
                  <a:lnTo>
                    <a:pt x="1785" y="35"/>
                  </a:lnTo>
                  <a:lnTo>
                    <a:pt x="1212" y="68"/>
                  </a:lnTo>
                  <a:lnTo>
                    <a:pt x="673" y="68"/>
                  </a:lnTo>
                  <a:lnTo>
                    <a:pt x="135" y="102"/>
                  </a:lnTo>
                  <a:lnTo>
                    <a:pt x="101" y="136"/>
                  </a:lnTo>
                  <a:lnTo>
                    <a:pt x="67" y="169"/>
                  </a:lnTo>
                  <a:lnTo>
                    <a:pt x="34" y="203"/>
                  </a:lnTo>
                  <a:lnTo>
                    <a:pt x="34" y="237"/>
                  </a:lnTo>
                  <a:lnTo>
                    <a:pt x="0" y="843"/>
                  </a:lnTo>
                  <a:lnTo>
                    <a:pt x="0" y="1449"/>
                  </a:lnTo>
                  <a:lnTo>
                    <a:pt x="67" y="2055"/>
                  </a:lnTo>
                  <a:lnTo>
                    <a:pt x="168" y="2627"/>
                  </a:lnTo>
                  <a:lnTo>
                    <a:pt x="236" y="2694"/>
                  </a:lnTo>
                  <a:lnTo>
                    <a:pt x="303" y="2694"/>
                  </a:lnTo>
                  <a:lnTo>
                    <a:pt x="370" y="2661"/>
                  </a:lnTo>
                  <a:lnTo>
                    <a:pt x="404" y="2593"/>
                  </a:lnTo>
                  <a:lnTo>
                    <a:pt x="404" y="2526"/>
                  </a:lnTo>
                  <a:lnTo>
                    <a:pt x="842" y="2593"/>
                  </a:lnTo>
                  <a:lnTo>
                    <a:pt x="1347" y="2627"/>
                  </a:lnTo>
                  <a:lnTo>
                    <a:pt x="1852" y="2627"/>
                  </a:lnTo>
                  <a:lnTo>
                    <a:pt x="2054" y="2560"/>
                  </a:lnTo>
                  <a:lnTo>
                    <a:pt x="2290" y="2526"/>
                  </a:lnTo>
                  <a:lnTo>
                    <a:pt x="2323" y="2459"/>
                  </a:lnTo>
                  <a:lnTo>
                    <a:pt x="2323" y="2391"/>
                  </a:lnTo>
                  <a:lnTo>
                    <a:pt x="2357" y="2425"/>
                  </a:lnTo>
                  <a:lnTo>
                    <a:pt x="2424" y="2425"/>
                  </a:lnTo>
                  <a:lnTo>
                    <a:pt x="2458" y="2391"/>
                  </a:lnTo>
                  <a:lnTo>
                    <a:pt x="2458" y="2324"/>
                  </a:lnTo>
                  <a:lnTo>
                    <a:pt x="2492" y="1819"/>
                  </a:lnTo>
                  <a:lnTo>
                    <a:pt x="2458" y="1280"/>
                  </a:lnTo>
                  <a:lnTo>
                    <a:pt x="2424" y="708"/>
                  </a:lnTo>
                  <a:lnTo>
                    <a:pt x="2391" y="203"/>
                  </a:lnTo>
                  <a:lnTo>
                    <a:pt x="2391" y="136"/>
                  </a:lnTo>
                  <a:lnTo>
                    <a:pt x="2391" y="68"/>
                  </a:lnTo>
                  <a:lnTo>
                    <a:pt x="2357" y="35"/>
                  </a:lnTo>
                  <a:lnTo>
                    <a:pt x="23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hape 870"/>
            <p:cNvSpPr/>
            <p:nvPr/>
          </p:nvSpPr>
          <p:spPr>
            <a:xfrm>
              <a:off x="1180800" y="368280"/>
              <a:ext cx="17280" cy="155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70" h="2325">
                  <a:moveTo>
                    <a:pt x="68" y="1"/>
                  </a:moveTo>
                  <a:lnTo>
                    <a:pt x="34" y="35"/>
                  </a:lnTo>
                  <a:lnTo>
                    <a:pt x="0" y="304"/>
                  </a:lnTo>
                  <a:lnTo>
                    <a:pt x="0" y="540"/>
                  </a:lnTo>
                  <a:lnTo>
                    <a:pt x="34" y="1078"/>
                  </a:lnTo>
                  <a:lnTo>
                    <a:pt x="0" y="1684"/>
                  </a:lnTo>
                  <a:lnTo>
                    <a:pt x="0" y="1987"/>
                  </a:lnTo>
                  <a:lnTo>
                    <a:pt x="34" y="2257"/>
                  </a:lnTo>
                  <a:lnTo>
                    <a:pt x="68" y="2324"/>
                  </a:lnTo>
                  <a:lnTo>
                    <a:pt x="169" y="2324"/>
                  </a:lnTo>
                  <a:lnTo>
                    <a:pt x="169" y="2290"/>
                  </a:lnTo>
                  <a:lnTo>
                    <a:pt x="236" y="1987"/>
                  </a:lnTo>
                  <a:lnTo>
                    <a:pt x="270" y="1684"/>
                  </a:lnTo>
                  <a:lnTo>
                    <a:pt x="236" y="1078"/>
                  </a:lnTo>
                  <a:lnTo>
                    <a:pt x="236" y="540"/>
                  </a:lnTo>
                  <a:lnTo>
                    <a:pt x="202" y="270"/>
                  </a:lnTo>
                  <a:lnTo>
                    <a:pt x="135" y="35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hape 871"/>
            <p:cNvSpPr/>
            <p:nvPr/>
          </p:nvSpPr>
          <p:spPr>
            <a:xfrm>
              <a:off x="1245960" y="241200"/>
              <a:ext cx="39600" cy="47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7" h="708">
                  <a:moveTo>
                    <a:pt x="573" y="1"/>
                  </a:moveTo>
                  <a:lnTo>
                    <a:pt x="439" y="102"/>
                  </a:lnTo>
                  <a:lnTo>
                    <a:pt x="304" y="203"/>
                  </a:lnTo>
                  <a:lnTo>
                    <a:pt x="237" y="169"/>
                  </a:lnTo>
                  <a:lnTo>
                    <a:pt x="169" y="102"/>
                  </a:lnTo>
                  <a:lnTo>
                    <a:pt x="68" y="35"/>
                  </a:lnTo>
                  <a:lnTo>
                    <a:pt x="1" y="35"/>
                  </a:lnTo>
                  <a:lnTo>
                    <a:pt x="1" y="68"/>
                  </a:lnTo>
                  <a:lnTo>
                    <a:pt x="34" y="169"/>
                  </a:lnTo>
                  <a:lnTo>
                    <a:pt x="135" y="304"/>
                  </a:lnTo>
                  <a:lnTo>
                    <a:pt x="169" y="338"/>
                  </a:lnTo>
                  <a:lnTo>
                    <a:pt x="34" y="573"/>
                  </a:lnTo>
                  <a:lnTo>
                    <a:pt x="34" y="641"/>
                  </a:lnTo>
                  <a:lnTo>
                    <a:pt x="68" y="708"/>
                  </a:lnTo>
                  <a:lnTo>
                    <a:pt x="169" y="708"/>
                  </a:lnTo>
                  <a:lnTo>
                    <a:pt x="203" y="674"/>
                  </a:lnTo>
                  <a:lnTo>
                    <a:pt x="371" y="371"/>
                  </a:lnTo>
                  <a:lnTo>
                    <a:pt x="439" y="371"/>
                  </a:lnTo>
                  <a:lnTo>
                    <a:pt x="472" y="338"/>
                  </a:lnTo>
                  <a:lnTo>
                    <a:pt x="439" y="270"/>
                  </a:lnTo>
                  <a:lnTo>
                    <a:pt x="60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hape 872"/>
            <p:cNvSpPr/>
            <p:nvPr/>
          </p:nvSpPr>
          <p:spPr>
            <a:xfrm>
              <a:off x="1253880" y="0"/>
              <a:ext cx="169560" cy="1569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60" h="2358">
                  <a:moveTo>
                    <a:pt x="169" y="102"/>
                  </a:moveTo>
                  <a:lnTo>
                    <a:pt x="371" y="169"/>
                  </a:lnTo>
                  <a:lnTo>
                    <a:pt x="573" y="203"/>
                  </a:lnTo>
                  <a:lnTo>
                    <a:pt x="1011" y="203"/>
                  </a:lnTo>
                  <a:lnTo>
                    <a:pt x="1650" y="236"/>
                  </a:lnTo>
                  <a:lnTo>
                    <a:pt x="2324" y="236"/>
                  </a:lnTo>
                  <a:lnTo>
                    <a:pt x="2324" y="607"/>
                  </a:lnTo>
                  <a:lnTo>
                    <a:pt x="2324" y="1011"/>
                  </a:lnTo>
                  <a:lnTo>
                    <a:pt x="2324" y="1516"/>
                  </a:lnTo>
                  <a:lnTo>
                    <a:pt x="2357" y="1751"/>
                  </a:lnTo>
                  <a:lnTo>
                    <a:pt x="2391" y="2021"/>
                  </a:lnTo>
                  <a:lnTo>
                    <a:pt x="1347" y="2021"/>
                  </a:lnTo>
                  <a:lnTo>
                    <a:pt x="809" y="2054"/>
                  </a:lnTo>
                  <a:lnTo>
                    <a:pt x="539" y="2088"/>
                  </a:lnTo>
                  <a:lnTo>
                    <a:pt x="304" y="2155"/>
                  </a:lnTo>
                  <a:lnTo>
                    <a:pt x="270" y="1650"/>
                  </a:lnTo>
                  <a:lnTo>
                    <a:pt x="236" y="1145"/>
                  </a:lnTo>
                  <a:lnTo>
                    <a:pt x="270" y="607"/>
                  </a:lnTo>
                  <a:lnTo>
                    <a:pt x="236" y="337"/>
                  </a:lnTo>
                  <a:lnTo>
                    <a:pt x="203" y="236"/>
                  </a:lnTo>
                  <a:lnTo>
                    <a:pt x="169" y="102"/>
                  </a:lnTo>
                  <a:close/>
                  <a:moveTo>
                    <a:pt x="371" y="1"/>
                  </a:moveTo>
                  <a:lnTo>
                    <a:pt x="270" y="34"/>
                  </a:lnTo>
                  <a:lnTo>
                    <a:pt x="169" y="102"/>
                  </a:lnTo>
                  <a:lnTo>
                    <a:pt x="135" y="102"/>
                  </a:lnTo>
                  <a:lnTo>
                    <a:pt x="68" y="270"/>
                  </a:lnTo>
                  <a:lnTo>
                    <a:pt x="34" y="405"/>
                  </a:lnTo>
                  <a:lnTo>
                    <a:pt x="0" y="775"/>
                  </a:lnTo>
                  <a:lnTo>
                    <a:pt x="34" y="1516"/>
                  </a:lnTo>
                  <a:lnTo>
                    <a:pt x="34" y="1718"/>
                  </a:lnTo>
                  <a:lnTo>
                    <a:pt x="34" y="1987"/>
                  </a:lnTo>
                  <a:lnTo>
                    <a:pt x="68" y="2088"/>
                  </a:lnTo>
                  <a:lnTo>
                    <a:pt x="102" y="2223"/>
                  </a:lnTo>
                  <a:lnTo>
                    <a:pt x="169" y="2290"/>
                  </a:lnTo>
                  <a:lnTo>
                    <a:pt x="270" y="2357"/>
                  </a:lnTo>
                  <a:lnTo>
                    <a:pt x="304" y="2324"/>
                  </a:lnTo>
                  <a:lnTo>
                    <a:pt x="337" y="2290"/>
                  </a:lnTo>
                  <a:lnTo>
                    <a:pt x="573" y="2324"/>
                  </a:lnTo>
                  <a:lnTo>
                    <a:pt x="1347" y="2324"/>
                  </a:lnTo>
                  <a:lnTo>
                    <a:pt x="2391" y="2223"/>
                  </a:lnTo>
                  <a:lnTo>
                    <a:pt x="2526" y="2223"/>
                  </a:lnTo>
                  <a:lnTo>
                    <a:pt x="2526" y="2189"/>
                  </a:lnTo>
                  <a:lnTo>
                    <a:pt x="2559" y="1953"/>
                  </a:lnTo>
                  <a:lnTo>
                    <a:pt x="2559" y="1684"/>
                  </a:lnTo>
                  <a:lnTo>
                    <a:pt x="2526" y="1179"/>
                  </a:lnTo>
                  <a:lnTo>
                    <a:pt x="2526" y="573"/>
                  </a:lnTo>
                  <a:lnTo>
                    <a:pt x="2492" y="304"/>
                  </a:lnTo>
                  <a:lnTo>
                    <a:pt x="2458" y="1"/>
                  </a:lnTo>
                  <a:lnTo>
                    <a:pt x="2357" y="1"/>
                  </a:lnTo>
                  <a:lnTo>
                    <a:pt x="2324" y="34"/>
                  </a:lnTo>
                  <a:lnTo>
                    <a:pt x="181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0320" bIns="403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hape 873"/>
            <p:cNvSpPr/>
            <p:nvPr/>
          </p:nvSpPr>
          <p:spPr>
            <a:xfrm>
              <a:off x="1882800" y="64800"/>
              <a:ext cx="41040" cy="47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07" h="708">
                  <a:moveTo>
                    <a:pt x="371" y="370"/>
                  </a:moveTo>
                  <a:lnTo>
                    <a:pt x="371" y="438"/>
                  </a:lnTo>
                  <a:lnTo>
                    <a:pt x="337" y="471"/>
                  </a:lnTo>
                  <a:lnTo>
                    <a:pt x="270" y="505"/>
                  </a:lnTo>
                  <a:lnTo>
                    <a:pt x="169" y="505"/>
                  </a:lnTo>
                  <a:lnTo>
                    <a:pt x="202" y="438"/>
                  </a:lnTo>
                  <a:lnTo>
                    <a:pt x="236" y="404"/>
                  </a:lnTo>
                  <a:lnTo>
                    <a:pt x="337" y="370"/>
                  </a:lnTo>
                  <a:close/>
                  <a:moveTo>
                    <a:pt x="371" y="0"/>
                  </a:moveTo>
                  <a:lnTo>
                    <a:pt x="236" y="34"/>
                  </a:lnTo>
                  <a:lnTo>
                    <a:pt x="202" y="67"/>
                  </a:lnTo>
                  <a:lnTo>
                    <a:pt x="169" y="135"/>
                  </a:lnTo>
                  <a:lnTo>
                    <a:pt x="169" y="168"/>
                  </a:lnTo>
                  <a:lnTo>
                    <a:pt x="169" y="236"/>
                  </a:lnTo>
                  <a:lnTo>
                    <a:pt x="202" y="236"/>
                  </a:lnTo>
                  <a:lnTo>
                    <a:pt x="135" y="269"/>
                  </a:lnTo>
                  <a:lnTo>
                    <a:pt x="34" y="337"/>
                  </a:lnTo>
                  <a:lnTo>
                    <a:pt x="0" y="471"/>
                  </a:lnTo>
                  <a:lnTo>
                    <a:pt x="0" y="572"/>
                  </a:lnTo>
                  <a:lnTo>
                    <a:pt x="34" y="673"/>
                  </a:lnTo>
                  <a:lnTo>
                    <a:pt x="135" y="707"/>
                  </a:lnTo>
                  <a:lnTo>
                    <a:pt x="371" y="707"/>
                  </a:lnTo>
                  <a:lnTo>
                    <a:pt x="472" y="640"/>
                  </a:lnTo>
                  <a:lnTo>
                    <a:pt x="573" y="505"/>
                  </a:lnTo>
                  <a:lnTo>
                    <a:pt x="606" y="370"/>
                  </a:lnTo>
                  <a:lnTo>
                    <a:pt x="606" y="236"/>
                  </a:lnTo>
                  <a:lnTo>
                    <a:pt x="573" y="101"/>
                  </a:lnTo>
                  <a:lnTo>
                    <a:pt x="539" y="34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hape 874"/>
            <p:cNvSpPr/>
            <p:nvPr/>
          </p:nvSpPr>
          <p:spPr>
            <a:xfrm>
              <a:off x="871560" y="252360"/>
              <a:ext cx="37800" cy="55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3" h="842">
                  <a:moveTo>
                    <a:pt x="371" y="202"/>
                  </a:moveTo>
                  <a:lnTo>
                    <a:pt x="337" y="337"/>
                  </a:lnTo>
                  <a:lnTo>
                    <a:pt x="270" y="371"/>
                  </a:lnTo>
                  <a:lnTo>
                    <a:pt x="202" y="404"/>
                  </a:lnTo>
                  <a:lnTo>
                    <a:pt x="169" y="472"/>
                  </a:lnTo>
                  <a:lnTo>
                    <a:pt x="169" y="438"/>
                  </a:lnTo>
                  <a:lnTo>
                    <a:pt x="169" y="371"/>
                  </a:lnTo>
                  <a:lnTo>
                    <a:pt x="202" y="303"/>
                  </a:lnTo>
                  <a:lnTo>
                    <a:pt x="236" y="236"/>
                  </a:lnTo>
                  <a:lnTo>
                    <a:pt x="303" y="202"/>
                  </a:lnTo>
                  <a:close/>
                  <a:moveTo>
                    <a:pt x="371" y="0"/>
                  </a:moveTo>
                  <a:lnTo>
                    <a:pt x="236" y="68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34" y="169"/>
                  </a:lnTo>
                  <a:lnTo>
                    <a:pt x="34" y="236"/>
                  </a:lnTo>
                  <a:lnTo>
                    <a:pt x="0" y="371"/>
                  </a:lnTo>
                  <a:lnTo>
                    <a:pt x="0" y="505"/>
                  </a:lnTo>
                  <a:lnTo>
                    <a:pt x="68" y="775"/>
                  </a:lnTo>
                  <a:lnTo>
                    <a:pt x="68" y="808"/>
                  </a:lnTo>
                  <a:lnTo>
                    <a:pt x="135" y="808"/>
                  </a:lnTo>
                  <a:lnTo>
                    <a:pt x="169" y="775"/>
                  </a:lnTo>
                  <a:lnTo>
                    <a:pt x="169" y="741"/>
                  </a:lnTo>
                  <a:lnTo>
                    <a:pt x="169" y="606"/>
                  </a:lnTo>
                  <a:lnTo>
                    <a:pt x="236" y="674"/>
                  </a:lnTo>
                  <a:lnTo>
                    <a:pt x="303" y="775"/>
                  </a:lnTo>
                  <a:lnTo>
                    <a:pt x="371" y="808"/>
                  </a:lnTo>
                  <a:lnTo>
                    <a:pt x="472" y="842"/>
                  </a:lnTo>
                  <a:lnTo>
                    <a:pt x="539" y="842"/>
                  </a:lnTo>
                  <a:lnTo>
                    <a:pt x="573" y="775"/>
                  </a:lnTo>
                  <a:lnTo>
                    <a:pt x="573" y="741"/>
                  </a:lnTo>
                  <a:lnTo>
                    <a:pt x="505" y="674"/>
                  </a:lnTo>
                  <a:lnTo>
                    <a:pt x="404" y="640"/>
                  </a:lnTo>
                  <a:lnTo>
                    <a:pt x="337" y="539"/>
                  </a:lnTo>
                  <a:lnTo>
                    <a:pt x="472" y="438"/>
                  </a:lnTo>
                  <a:lnTo>
                    <a:pt x="539" y="270"/>
                  </a:lnTo>
                  <a:lnTo>
                    <a:pt x="573" y="169"/>
                  </a:lnTo>
                  <a:lnTo>
                    <a:pt x="539" y="101"/>
                  </a:lnTo>
                  <a:lnTo>
                    <a:pt x="472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hape 875"/>
            <p:cNvSpPr/>
            <p:nvPr/>
          </p:nvSpPr>
          <p:spPr>
            <a:xfrm>
              <a:off x="814320" y="196560"/>
              <a:ext cx="155520" cy="1584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58" h="2391">
                  <a:moveTo>
                    <a:pt x="1550" y="1"/>
                  </a:moveTo>
                  <a:lnTo>
                    <a:pt x="944" y="34"/>
                  </a:lnTo>
                  <a:lnTo>
                    <a:pt x="237" y="34"/>
                  </a:lnTo>
                  <a:lnTo>
                    <a:pt x="35" y="102"/>
                  </a:lnTo>
                  <a:lnTo>
                    <a:pt x="1" y="135"/>
                  </a:lnTo>
                  <a:lnTo>
                    <a:pt x="102" y="203"/>
                  </a:lnTo>
                  <a:lnTo>
                    <a:pt x="203" y="236"/>
                  </a:lnTo>
                  <a:lnTo>
                    <a:pt x="371" y="270"/>
                  </a:lnTo>
                  <a:lnTo>
                    <a:pt x="1415" y="270"/>
                  </a:lnTo>
                  <a:lnTo>
                    <a:pt x="2055" y="203"/>
                  </a:lnTo>
                  <a:lnTo>
                    <a:pt x="2021" y="438"/>
                  </a:lnTo>
                  <a:lnTo>
                    <a:pt x="2021" y="640"/>
                  </a:lnTo>
                  <a:lnTo>
                    <a:pt x="2055" y="1078"/>
                  </a:lnTo>
                  <a:lnTo>
                    <a:pt x="2088" y="1583"/>
                  </a:lnTo>
                  <a:lnTo>
                    <a:pt x="2088" y="1852"/>
                  </a:lnTo>
                  <a:lnTo>
                    <a:pt x="2122" y="2122"/>
                  </a:lnTo>
                  <a:lnTo>
                    <a:pt x="977" y="2155"/>
                  </a:lnTo>
                  <a:lnTo>
                    <a:pt x="573" y="2122"/>
                  </a:lnTo>
                  <a:lnTo>
                    <a:pt x="371" y="2155"/>
                  </a:lnTo>
                  <a:lnTo>
                    <a:pt x="304" y="2223"/>
                  </a:lnTo>
                  <a:lnTo>
                    <a:pt x="203" y="2256"/>
                  </a:lnTo>
                  <a:lnTo>
                    <a:pt x="203" y="2290"/>
                  </a:lnTo>
                  <a:lnTo>
                    <a:pt x="304" y="2324"/>
                  </a:lnTo>
                  <a:lnTo>
                    <a:pt x="405" y="2357"/>
                  </a:lnTo>
                  <a:lnTo>
                    <a:pt x="573" y="2391"/>
                  </a:lnTo>
                  <a:lnTo>
                    <a:pt x="1617" y="2391"/>
                  </a:lnTo>
                  <a:lnTo>
                    <a:pt x="2257" y="2357"/>
                  </a:lnTo>
                  <a:lnTo>
                    <a:pt x="2324" y="2324"/>
                  </a:lnTo>
                  <a:lnTo>
                    <a:pt x="2358" y="2290"/>
                  </a:lnTo>
                  <a:lnTo>
                    <a:pt x="2358" y="2223"/>
                  </a:lnTo>
                  <a:lnTo>
                    <a:pt x="2324" y="2155"/>
                  </a:lnTo>
                  <a:lnTo>
                    <a:pt x="2324" y="1886"/>
                  </a:lnTo>
                  <a:lnTo>
                    <a:pt x="2324" y="1617"/>
                  </a:lnTo>
                  <a:lnTo>
                    <a:pt x="2290" y="1044"/>
                  </a:lnTo>
                  <a:lnTo>
                    <a:pt x="2290" y="607"/>
                  </a:lnTo>
                  <a:lnTo>
                    <a:pt x="2257" y="405"/>
                  </a:lnTo>
                  <a:lnTo>
                    <a:pt x="2223" y="169"/>
                  </a:lnTo>
                  <a:lnTo>
                    <a:pt x="2257" y="135"/>
                  </a:lnTo>
                  <a:lnTo>
                    <a:pt x="2257" y="68"/>
                  </a:lnTo>
                  <a:lnTo>
                    <a:pt x="2223" y="34"/>
                  </a:lnTo>
                  <a:lnTo>
                    <a:pt x="21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hape 876"/>
            <p:cNvSpPr/>
            <p:nvPr/>
          </p:nvSpPr>
          <p:spPr>
            <a:xfrm>
              <a:off x="1049040" y="247320"/>
              <a:ext cx="55440" cy="48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42" h="742">
                  <a:moveTo>
                    <a:pt x="34" y="1"/>
                  </a:moveTo>
                  <a:lnTo>
                    <a:pt x="0" y="35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34" y="102"/>
                  </a:lnTo>
                  <a:lnTo>
                    <a:pt x="135" y="169"/>
                  </a:lnTo>
                  <a:lnTo>
                    <a:pt x="236" y="203"/>
                  </a:lnTo>
                  <a:lnTo>
                    <a:pt x="168" y="405"/>
                  </a:lnTo>
                  <a:lnTo>
                    <a:pt x="135" y="607"/>
                  </a:lnTo>
                  <a:lnTo>
                    <a:pt x="168" y="674"/>
                  </a:lnTo>
                  <a:lnTo>
                    <a:pt x="236" y="708"/>
                  </a:lnTo>
                  <a:lnTo>
                    <a:pt x="269" y="742"/>
                  </a:lnTo>
                  <a:lnTo>
                    <a:pt x="303" y="674"/>
                  </a:lnTo>
                  <a:lnTo>
                    <a:pt x="337" y="506"/>
                  </a:lnTo>
                  <a:lnTo>
                    <a:pt x="370" y="304"/>
                  </a:lnTo>
                  <a:lnTo>
                    <a:pt x="606" y="304"/>
                  </a:lnTo>
                  <a:lnTo>
                    <a:pt x="741" y="270"/>
                  </a:lnTo>
                  <a:lnTo>
                    <a:pt x="808" y="203"/>
                  </a:lnTo>
                  <a:lnTo>
                    <a:pt x="842" y="169"/>
                  </a:lnTo>
                  <a:lnTo>
                    <a:pt x="842" y="136"/>
                  </a:lnTo>
                  <a:lnTo>
                    <a:pt x="842" y="68"/>
                  </a:lnTo>
                  <a:lnTo>
                    <a:pt x="808" y="35"/>
                  </a:lnTo>
                  <a:lnTo>
                    <a:pt x="74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hape 877"/>
            <p:cNvSpPr/>
            <p:nvPr/>
          </p:nvSpPr>
          <p:spPr>
            <a:xfrm>
              <a:off x="946080" y="96840"/>
              <a:ext cx="47520" cy="63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8" h="977">
                  <a:moveTo>
                    <a:pt x="505" y="0"/>
                  </a:moveTo>
                  <a:lnTo>
                    <a:pt x="371" y="34"/>
                  </a:lnTo>
                  <a:lnTo>
                    <a:pt x="68" y="135"/>
                  </a:lnTo>
                  <a:lnTo>
                    <a:pt x="34" y="202"/>
                  </a:lnTo>
                  <a:lnTo>
                    <a:pt x="34" y="236"/>
                  </a:lnTo>
                  <a:lnTo>
                    <a:pt x="135" y="539"/>
                  </a:lnTo>
                  <a:lnTo>
                    <a:pt x="202" y="606"/>
                  </a:lnTo>
                  <a:lnTo>
                    <a:pt x="270" y="573"/>
                  </a:lnTo>
                  <a:lnTo>
                    <a:pt x="404" y="539"/>
                  </a:lnTo>
                  <a:lnTo>
                    <a:pt x="505" y="539"/>
                  </a:lnTo>
                  <a:lnTo>
                    <a:pt x="573" y="606"/>
                  </a:lnTo>
                  <a:lnTo>
                    <a:pt x="539" y="640"/>
                  </a:lnTo>
                  <a:lnTo>
                    <a:pt x="438" y="674"/>
                  </a:lnTo>
                  <a:lnTo>
                    <a:pt x="236" y="707"/>
                  </a:lnTo>
                  <a:lnTo>
                    <a:pt x="101" y="741"/>
                  </a:lnTo>
                  <a:lnTo>
                    <a:pt x="34" y="808"/>
                  </a:lnTo>
                  <a:lnTo>
                    <a:pt x="0" y="876"/>
                  </a:lnTo>
                  <a:lnTo>
                    <a:pt x="0" y="909"/>
                  </a:lnTo>
                  <a:lnTo>
                    <a:pt x="34" y="943"/>
                  </a:lnTo>
                  <a:lnTo>
                    <a:pt x="68" y="977"/>
                  </a:lnTo>
                  <a:lnTo>
                    <a:pt x="101" y="943"/>
                  </a:lnTo>
                  <a:lnTo>
                    <a:pt x="169" y="909"/>
                  </a:lnTo>
                  <a:lnTo>
                    <a:pt x="270" y="876"/>
                  </a:lnTo>
                  <a:lnTo>
                    <a:pt x="438" y="876"/>
                  </a:lnTo>
                  <a:lnTo>
                    <a:pt x="573" y="808"/>
                  </a:lnTo>
                  <a:lnTo>
                    <a:pt x="640" y="775"/>
                  </a:lnTo>
                  <a:lnTo>
                    <a:pt x="707" y="707"/>
                  </a:lnTo>
                  <a:lnTo>
                    <a:pt x="707" y="640"/>
                  </a:lnTo>
                  <a:lnTo>
                    <a:pt x="707" y="539"/>
                  </a:lnTo>
                  <a:lnTo>
                    <a:pt x="674" y="472"/>
                  </a:lnTo>
                  <a:lnTo>
                    <a:pt x="606" y="404"/>
                  </a:lnTo>
                  <a:lnTo>
                    <a:pt x="539" y="371"/>
                  </a:lnTo>
                  <a:lnTo>
                    <a:pt x="438" y="371"/>
                  </a:lnTo>
                  <a:lnTo>
                    <a:pt x="270" y="404"/>
                  </a:lnTo>
                  <a:lnTo>
                    <a:pt x="236" y="270"/>
                  </a:lnTo>
                  <a:lnTo>
                    <a:pt x="472" y="169"/>
                  </a:lnTo>
                  <a:lnTo>
                    <a:pt x="674" y="101"/>
                  </a:lnTo>
                  <a:lnTo>
                    <a:pt x="674" y="3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3280" bIns="-53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hape 878"/>
            <p:cNvSpPr/>
            <p:nvPr/>
          </p:nvSpPr>
          <p:spPr>
            <a:xfrm>
              <a:off x="0" y="1643040"/>
              <a:ext cx="585720" cy="91800"/>
            </a:xfrm>
            <a:custGeom>
              <a:avLst/>
              <a:gdLst>
                <a:gd name="textAreaLeft" fmla="*/ 0 w 585720"/>
                <a:gd name="textAreaRight" fmla="*/ 586080 w 5857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8822" h="1382">
                  <a:moveTo>
                    <a:pt x="1" y="1"/>
                  </a:moveTo>
                  <a:lnTo>
                    <a:pt x="1" y="270"/>
                  </a:lnTo>
                  <a:lnTo>
                    <a:pt x="1078" y="472"/>
                  </a:lnTo>
                  <a:lnTo>
                    <a:pt x="2155" y="607"/>
                  </a:lnTo>
                  <a:lnTo>
                    <a:pt x="3233" y="708"/>
                  </a:lnTo>
                  <a:lnTo>
                    <a:pt x="4344" y="775"/>
                  </a:lnTo>
                  <a:lnTo>
                    <a:pt x="5421" y="876"/>
                  </a:lnTo>
                  <a:lnTo>
                    <a:pt x="6499" y="977"/>
                  </a:lnTo>
                  <a:lnTo>
                    <a:pt x="7576" y="1145"/>
                  </a:lnTo>
                  <a:lnTo>
                    <a:pt x="8115" y="1246"/>
                  </a:lnTo>
                  <a:lnTo>
                    <a:pt x="8653" y="1381"/>
                  </a:lnTo>
                  <a:lnTo>
                    <a:pt x="8754" y="1381"/>
                  </a:lnTo>
                  <a:lnTo>
                    <a:pt x="8822" y="1280"/>
                  </a:lnTo>
                  <a:lnTo>
                    <a:pt x="8788" y="1179"/>
                  </a:lnTo>
                  <a:lnTo>
                    <a:pt x="8754" y="1145"/>
                  </a:lnTo>
                  <a:lnTo>
                    <a:pt x="8721" y="1112"/>
                  </a:lnTo>
                  <a:lnTo>
                    <a:pt x="8182" y="1011"/>
                  </a:lnTo>
                  <a:lnTo>
                    <a:pt x="7643" y="876"/>
                  </a:lnTo>
                  <a:lnTo>
                    <a:pt x="6566" y="741"/>
                  </a:lnTo>
                  <a:lnTo>
                    <a:pt x="5455" y="607"/>
                  </a:lnTo>
                  <a:lnTo>
                    <a:pt x="4378" y="539"/>
                  </a:lnTo>
                  <a:lnTo>
                    <a:pt x="3267" y="438"/>
                  </a:lnTo>
                  <a:lnTo>
                    <a:pt x="2155" y="337"/>
                  </a:lnTo>
                  <a:lnTo>
                    <a:pt x="1078" y="203"/>
                  </a:lnTo>
                  <a:lnTo>
                    <a:pt x="539" y="10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5200" bIns="-25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hape 879"/>
            <p:cNvSpPr/>
            <p:nvPr/>
          </p:nvSpPr>
          <p:spPr>
            <a:xfrm>
              <a:off x="988920" y="18720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59" h="2425">
                  <a:moveTo>
                    <a:pt x="1986" y="1"/>
                  </a:moveTo>
                  <a:lnTo>
                    <a:pt x="1616" y="68"/>
                  </a:lnTo>
                  <a:lnTo>
                    <a:pt x="909" y="68"/>
                  </a:lnTo>
                  <a:lnTo>
                    <a:pt x="539" y="102"/>
                  </a:lnTo>
                  <a:lnTo>
                    <a:pt x="202" y="136"/>
                  </a:lnTo>
                  <a:lnTo>
                    <a:pt x="168" y="68"/>
                  </a:lnTo>
                  <a:lnTo>
                    <a:pt x="168" y="35"/>
                  </a:lnTo>
                  <a:lnTo>
                    <a:pt x="101" y="35"/>
                  </a:lnTo>
                  <a:lnTo>
                    <a:pt x="67" y="68"/>
                  </a:lnTo>
                  <a:lnTo>
                    <a:pt x="34" y="304"/>
                  </a:lnTo>
                  <a:lnTo>
                    <a:pt x="0" y="573"/>
                  </a:lnTo>
                  <a:lnTo>
                    <a:pt x="0" y="1112"/>
                  </a:lnTo>
                  <a:lnTo>
                    <a:pt x="34" y="1718"/>
                  </a:lnTo>
                  <a:lnTo>
                    <a:pt x="67" y="2021"/>
                  </a:lnTo>
                  <a:lnTo>
                    <a:pt x="168" y="2324"/>
                  </a:lnTo>
                  <a:lnTo>
                    <a:pt x="202" y="2358"/>
                  </a:lnTo>
                  <a:lnTo>
                    <a:pt x="303" y="2358"/>
                  </a:lnTo>
                  <a:lnTo>
                    <a:pt x="337" y="2290"/>
                  </a:lnTo>
                  <a:lnTo>
                    <a:pt x="303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36" y="674"/>
                  </a:lnTo>
                  <a:lnTo>
                    <a:pt x="202" y="237"/>
                  </a:lnTo>
                  <a:lnTo>
                    <a:pt x="438" y="270"/>
                  </a:lnTo>
                  <a:lnTo>
                    <a:pt x="1145" y="270"/>
                  </a:lnTo>
                  <a:lnTo>
                    <a:pt x="2222" y="203"/>
                  </a:lnTo>
                  <a:lnTo>
                    <a:pt x="2256" y="237"/>
                  </a:lnTo>
                  <a:lnTo>
                    <a:pt x="2289" y="270"/>
                  </a:lnTo>
                  <a:lnTo>
                    <a:pt x="2323" y="270"/>
                  </a:lnTo>
                  <a:lnTo>
                    <a:pt x="2289" y="573"/>
                  </a:lnTo>
                  <a:lnTo>
                    <a:pt x="2323" y="910"/>
                  </a:lnTo>
                  <a:lnTo>
                    <a:pt x="2357" y="2088"/>
                  </a:lnTo>
                  <a:lnTo>
                    <a:pt x="2121" y="2055"/>
                  </a:lnTo>
                  <a:lnTo>
                    <a:pt x="1885" y="2088"/>
                  </a:lnTo>
                  <a:lnTo>
                    <a:pt x="1414" y="2122"/>
                  </a:lnTo>
                  <a:lnTo>
                    <a:pt x="673" y="2122"/>
                  </a:lnTo>
                  <a:lnTo>
                    <a:pt x="539" y="2156"/>
                  </a:lnTo>
                  <a:lnTo>
                    <a:pt x="404" y="2189"/>
                  </a:lnTo>
                  <a:lnTo>
                    <a:pt x="337" y="2290"/>
                  </a:lnTo>
                  <a:lnTo>
                    <a:pt x="404" y="2358"/>
                  </a:lnTo>
                  <a:lnTo>
                    <a:pt x="505" y="2391"/>
                  </a:lnTo>
                  <a:lnTo>
                    <a:pt x="774" y="2425"/>
                  </a:lnTo>
                  <a:lnTo>
                    <a:pt x="1279" y="2358"/>
                  </a:lnTo>
                  <a:lnTo>
                    <a:pt x="2087" y="2358"/>
                  </a:lnTo>
                  <a:lnTo>
                    <a:pt x="2357" y="2290"/>
                  </a:lnTo>
                  <a:lnTo>
                    <a:pt x="2424" y="2324"/>
                  </a:lnTo>
                  <a:lnTo>
                    <a:pt x="2525" y="2324"/>
                  </a:lnTo>
                  <a:lnTo>
                    <a:pt x="2559" y="2257"/>
                  </a:lnTo>
                  <a:lnTo>
                    <a:pt x="2491" y="1078"/>
                  </a:lnTo>
                  <a:lnTo>
                    <a:pt x="2525" y="573"/>
                  </a:lnTo>
                  <a:lnTo>
                    <a:pt x="2491" y="304"/>
                  </a:lnTo>
                  <a:lnTo>
                    <a:pt x="2424" y="68"/>
                  </a:lnTo>
                  <a:lnTo>
                    <a:pt x="2390" y="68"/>
                  </a:lnTo>
                  <a:lnTo>
                    <a:pt x="2390" y="102"/>
                  </a:lnTo>
                  <a:lnTo>
                    <a:pt x="2357" y="102"/>
                  </a:lnTo>
                  <a:lnTo>
                    <a:pt x="2289" y="35"/>
                  </a:lnTo>
                  <a:lnTo>
                    <a:pt x="2222" y="35"/>
                  </a:lnTo>
                  <a:lnTo>
                    <a:pt x="198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hape 880"/>
            <p:cNvSpPr/>
            <p:nvPr/>
          </p:nvSpPr>
          <p:spPr>
            <a:xfrm>
              <a:off x="1336680" y="6054840"/>
              <a:ext cx="1481040" cy="81576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2289" h="12289">
                  <a:moveTo>
                    <a:pt x="472" y="5757"/>
                  </a:moveTo>
                  <a:lnTo>
                    <a:pt x="674" y="6262"/>
                  </a:lnTo>
                  <a:lnTo>
                    <a:pt x="943" y="6734"/>
                  </a:lnTo>
                  <a:lnTo>
                    <a:pt x="606" y="6734"/>
                  </a:lnTo>
                  <a:lnTo>
                    <a:pt x="438" y="6666"/>
                  </a:lnTo>
                  <a:lnTo>
                    <a:pt x="270" y="6565"/>
                  </a:lnTo>
                  <a:lnTo>
                    <a:pt x="169" y="6464"/>
                  </a:lnTo>
                  <a:lnTo>
                    <a:pt x="135" y="6363"/>
                  </a:lnTo>
                  <a:lnTo>
                    <a:pt x="135" y="6262"/>
                  </a:lnTo>
                  <a:lnTo>
                    <a:pt x="169" y="6128"/>
                  </a:lnTo>
                  <a:lnTo>
                    <a:pt x="303" y="5926"/>
                  </a:lnTo>
                  <a:lnTo>
                    <a:pt x="472" y="5757"/>
                  </a:lnTo>
                  <a:close/>
                  <a:moveTo>
                    <a:pt x="11414" y="6094"/>
                  </a:moveTo>
                  <a:lnTo>
                    <a:pt x="11548" y="6161"/>
                  </a:lnTo>
                  <a:lnTo>
                    <a:pt x="11717" y="6565"/>
                  </a:lnTo>
                  <a:lnTo>
                    <a:pt x="11784" y="6969"/>
                  </a:lnTo>
                  <a:lnTo>
                    <a:pt x="11548" y="6835"/>
                  </a:lnTo>
                  <a:lnTo>
                    <a:pt x="11245" y="6734"/>
                  </a:lnTo>
                  <a:lnTo>
                    <a:pt x="10976" y="6633"/>
                  </a:lnTo>
                  <a:lnTo>
                    <a:pt x="10673" y="6565"/>
                  </a:lnTo>
                  <a:lnTo>
                    <a:pt x="10875" y="6363"/>
                  </a:lnTo>
                  <a:lnTo>
                    <a:pt x="11077" y="6195"/>
                  </a:lnTo>
                  <a:lnTo>
                    <a:pt x="11178" y="6128"/>
                  </a:lnTo>
                  <a:lnTo>
                    <a:pt x="11279" y="6094"/>
                  </a:lnTo>
                  <a:close/>
                  <a:moveTo>
                    <a:pt x="1852" y="0"/>
                  </a:moveTo>
                  <a:lnTo>
                    <a:pt x="1785" y="34"/>
                  </a:lnTo>
                  <a:lnTo>
                    <a:pt x="1751" y="101"/>
                  </a:lnTo>
                  <a:lnTo>
                    <a:pt x="1549" y="741"/>
                  </a:lnTo>
                  <a:lnTo>
                    <a:pt x="1280" y="1347"/>
                  </a:lnTo>
                  <a:lnTo>
                    <a:pt x="775" y="2559"/>
                  </a:lnTo>
                  <a:lnTo>
                    <a:pt x="573" y="3199"/>
                  </a:lnTo>
                  <a:lnTo>
                    <a:pt x="404" y="3805"/>
                  </a:lnTo>
                  <a:lnTo>
                    <a:pt x="337" y="4141"/>
                  </a:lnTo>
                  <a:lnTo>
                    <a:pt x="303" y="4478"/>
                  </a:lnTo>
                  <a:lnTo>
                    <a:pt x="303" y="4781"/>
                  </a:lnTo>
                  <a:lnTo>
                    <a:pt x="303" y="5151"/>
                  </a:lnTo>
                  <a:lnTo>
                    <a:pt x="371" y="5421"/>
                  </a:lnTo>
                  <a:lnTo>
                    <a:pt x="438" y="5690"/>
                  </a:lnTo>
                  <a:lnTo>
                    <a:pt x="202" y="5825"/>
                  </a:lnTo>
                  <a:lnTo>
                    <a:pt x="135" y="5926"/>
                  </a:lnTo>
                  <a:lnTo>
                    <a:pt x="68" y="6027"/>
                  </a:lnTo>
                  <a:lnTo>
                    <a:pt x="0" y="6128"/>
                  </a:lnTo>
                  <a:lnTo>
                    <a:pt x="0" y="6262"/>
                  </a:lnTo>
                  <a:lnTo>
                    <a:pt x="0" y="6363"/>
                  </a:lnTo>
                  <a:lnTo>
                    <a:pt x="34" y="6498"/>
                  </a:lnTo>
                  <a:lnTo>
                    <a:pt x="101" y="6633"/>
                  </a:lnTo>
                  <a:lnTo>
                    <a:pt x="202" y="6734"/>
                  </a:lnTo>
                  <a:lnTo>
                    <a:pt x="337" y="6801"/>
                  </a:lnTo>
                  <a:lnTo>
                    <a:pt x="472" y="6868"/>
                  </a:lnTo>
                  <a:lnTo>
                    <a:pt x="775" y="6902"/>
                  </a:lnTo>
                  <a:lnTo>
                    <a:pt x="1078" y="6902"/>
                  </a:lnTo>
                  <a:lnTo>
                    <a:pt x="1414" y="7340"/>
                  </a:lnTo>
                  <a:lnTo>
                    <a:pt x="1818" y="7744"/>
                  </a:lnTo>
                  <a:lnTo>
                    <a:pt x="2256" y="8047"/>
                  </a:lnTo>
                  <a:lnTo>
                    <a:pt x="2458" y="8182"/>
                  </a:lnTo>
                  <a:lnTo>
                    <a:pt x="2694" y="8283"/>
                  </a:lnTo>
                  <a:lnTo>
                    <a:pt x="3300" y="8485"/>
                  </a:lnTo>
                  <a:lnTo>
                    <a:pt x="3939" y="8653"/>
                  </a:lnTo>
                  <a:lnTo>
                    <a:pt x="5252" y="8956"/>
                  </a:lnTo>
                  <a:lnTo>
                    <a:pt x="5825" y="9057"/>
                  </a:lnTo>
                  <a:lnTo>
                    <a:pt x="6397" y="9091"/>
                  </a:lnTo>
                  <a:lnTo>
                    <a:pt x="6700" y="9091"/>
                  </a:lnTo>
                  <a:lnTo>
                    <a:pt x="6969" y="9057"/>
                  </a:lnTo>
                  <a:lnTo>
                    <a:pt x="7273" y="9023"/>
                  </a:lnTo>
                  <a:lnTo>
                    <a:pt x="7542" y="8922"/>
                  </a:lnTo>
                  <a:lnTo>
                    <a:pt x="7845" y="8821"/>
                  </a:lnTo>
                  <a:lnTo>
                    <a:pt x="8081" y="8720"/>
                  </a:lnTo>
                  <a:lnTo>
                    <a:pt x="8586" y="8417"/>
                  </a:lnTo>
                  <a:lnTo>
                    <a:pt x="9091" y="8081"/>
                  </a:lnTo>
                  <a:lnTo>
                    <a:pt x="9528" y="7710"/>
                  </a:lnTo>
                  <a:lnTo>
                    <a:pt x="10067" y="7205"/>
                  </a:lnTo>
                  <a:lnTo>
                    <a:pt x="10572" y="6700"/>
                  </a:lnTo>
                  <a:lnTo>
                    <a:pt x="11178" y="6902"/>
                  </a:lnTo>
                  <a:lnTo>
                    <a:pt x="11515" y="7070"/>
                  </a:lnTo>
                  <a:lnTo>
                    <a:pt x="11818" y="7205"/>
                  </a:lnTo>
                  <a:lnTo>
                    <a:pt x="11851" y="7609"/>
                  </a:lnTo>
                  <a:lnTo>
                    <a:pt x="11851" y="8013"/>
                  </a:lnTo>
                  <a:lnTo>
                    <a:pt x="11818" y="8855"/>
                  </a:lnTo>
                  <a:lnTo>
                    <a:pt x="11851" y="9326"/>
                  </a:lnTo>
                  <a:lnTo>
                    <a:pt x="11986" y="9798"/>
                  </a:lnTo>
                  <a:lnTo>
                    <a:pt x="12121" y="10269"/>
                  </a:lnTo>
                  <a:lnTo>
                    <a:pt x="12323" y="10707"/>
                  </a:lnTo>
                  <a:lnTo>
                    <a:pt x="12592" y="11144"/>
                  </a:lnTo>
                  <a:lnTo>
                    <a:pt x="12895" y="11515"/>
                  </a:lnTo>
                  <a:lnTo>
                    <a:pt x="13232" y="11885"/>
                  </a:lnTo>
                  <a:lnTo>
                    <a:pt x="13636" y="12188"/>
                  </a:lnTo>
                  <a:lnTo>
                    <a:pt x="13737" y="12289"/>
                  </a:lnTo>
                  <a:lnTo>
                    <a:pt x="14073" y="12289"/>
                  </a:lnTo>
                  <a:lnTo>
                    <a:pt x="13501" y="11818"/>
                  </a:lnTo>
                  <a:lnTo>
                    <a:pt x="13265" y="11548"/>
                  </a:lnTo>
                  <a:lnTo>
                    <a:pt x="12996" y="11279"/>
                  </a:lnTo>
                  <a:lnTo>
                    <a:pt x="12794" y="11010"/>
                  </a:lnTo>
                  <a:lnTo>
                    <a:pt x="12592" y="10707"/>
                  </a:lnTo>
                  <a:lnTo>
                    <a:pt x="12424" y="10404"/>
                  </a:lnTo>
                  <a:lnTo>
                    <a:pt x="12255" y="10067"/>
                  </a:lnTo>
                  <a:lnTo>
                    <a:pt x="12188" y="9798"/>
                  </a:lnTo>
                  <a:lnTo>
                    <a:pt x="12121" y="9562"/>
                  </a:lnTo>
                  <a:lnTo>
                    <a:pt x="12087" y="9023"/>
                  </a:lnTo>
                  <a:lnTo>
                    <a:pt x="12087" y="8451"/>
                  </a:lnTo>
                  <a:lnTo>
                    <a:pt x="12087" y="7912"/>
                  </a:lnTo>
                  <a:lnTo>
                    <a:pt x="12087" y="7340"/>
                  </a:lnTo>
                  <a:lnTo>
                    <a:pt x="12053" y="7070"/>
                  </a:lnTo>
                  <a:lnTo>
                    <a:pt x="11986" y="6835"/>
                  </a:lnTo>
                  <a:lnTo>
                    <a:pt x="11919" y="6565"/>
                  </a:lnTo>
                  <a:lnTo>
                    <a:pt x="11818" y="6363"/>
                  </a:lnTo>
                  <a:lnTo>
                    <a:pt x="11683" y="6128"/>
                  </a:lnTo>
                  <a:lnTo>
                    <a:pt x="11481" y="5926"/>
                  </a:lnTo>
                  <a:lnTo>
                    <a:pt x="11346" y="5825"/>
                  </a:lnTo>
                  <a:lnTo>
                    <a:pt x="11279" y="5791"/>
                  </a:lnTo>
                  <a:lnTo>
                    <a:pt x="11245" y="5825"/>
                  </a:lnTo>
                  <a:lnTo>
                    <a:pt x="10437" y="6565"/>
                  </a:lnTo>
                  <a:lnTo>
                    <a:pt x="9663" y="7306"/>
                  </a:lnTo>
                  <a:lnTo>
                    <a:pt x="9225" y="7676"/>
                  </a:lnTo>
                  <a:lnTo>
                    <a:pt x="8788" y="7979"/>
                  </a:lnTo>
                  <a:lnTo>
                    <a:pt x="8350" y="8283"/>
                  </a:lnTo>
                  <a:lnTo>
                    <a:pt x="7879" y="8552"/>
                  </a:lnTo>
                  <a:lnTo>
                    <a:pt x="7576" y="8687"/>
                  </a:lnTo>
                  <a:lnTo>
                    <a:pt x="7306" y="8754"/>
                  </a:lnTo>
                  <a:lnTo>
                    <a:pt x="7003" y="8821"/>
                  </a:lnTo>
                  <a:lnTo>
                    <a:pt x="6734" y="8855"/>
                  </a:lnTo>
                  <a:lnTo>
                    <a:pt x="6128" y="8855"/>
                  </a:lnTo>
                  <a:lnTo>
                    <a:pt x="5522" y="8788"/>
                  </a:lnTo>
                  <a:lnTo>
                    <a:pt x="4916" y="8687"/>
                  </a:lnTo>
                  <a:lnTo>
                    <a:pt x="4310" y="8518"/>
                  </a:lnTo>
                  <a:lnTo>
                    <a:pt x="3165" y="8215"/>
                  </a:lnTo>
                  <a:lnTo>
                    <a:pt x="2896" y="8114"/>
                  </a:lnTo>
                  <a:lnTo>
                    <a:pt x="2593" y="7979"/>
                  </a:lnTo>
                  <a:lnTo>
                    <a:pt x="2357" y="7845"/>
                  </a:lnTo>
                  <a:lnTo>
                    <a:pt x="2088" y="7643"/>
                  </a:lnTo>
                  <a:lnTo>
                    <a:pt x="1852" y="7441"/>
                  </a:lnTo>
                  <a:lnTo>
                    <a:pt x="1650" y="7239"/>
                  </a:lnTo>
                  <a:lnTo>
                    <a:pt x="1448" y="6969"/>
                  </a:lnTo>
                  <a:lnTo>
                    <a:pt x="1246" y="6734"/>
                  </a:lnTo>
                  <a:lnTo>
                    <a:pt x="1078" y="6464"/>
                  </a:lnTo>
                  <a:lnTo>
                    <a:pt x="943" y="6161"/>
                  </a:lnTo>
                  <a:lnTo>
                    <a:pt x="808" y="5892"/>
                  </a:lnTo>
                  <a:lnTo>
                    <a:pt x="707" y="5589"/>
                  </a:lnTo>
                  <a:lnTo>
                    <a:pt x="606" y="5286"/>
                  </a:lnTo>
                  <a:lnTo>
                    <a:pt x="573" y="5017"/>
                  </a:lnTo>
                  <a:lnTo>
                    <a:pt x="539" y="4714"/>
                  </a:lnTo>
                  <a:lnTo>
                    <a:pt x="539" y="4411"/>
                  </a:lnTo>
                  <a:lnTo>
                    <a:pt x="606" y="3872"/>
                  </a:lnTo>
                  <a:lnTo>
                    <a:pt x="707" y="3333"/>
                  </a:lnTo>
                  <a:lnTo>
                    <a:pt x="909" y="2828"/>
                  </a:lnTo>
                  <a:lnTo>
                    <a:pt x="1111" y="2290"/>
                  </a:lnTo>
                  <a:lnTo>
                    <a:pt x="1549" y="1280"/>
                  </a:lnTo>
                  <a:lnTo>
                    <a:pt x="1751" y="775"/>
                  </a:lnTo>
                  <a:lnTo>
                    <a:pt x="1953" y="236"/>
                  </a:lnTo>
                  <a:lnTo>
                    <a:pt x="3266" y="472"/>
                  </a:lnTo>
                  <a:lnTo>
                    <a:pt x="4545" y="741"/>
                  </a:lnTo>
                  <a:lnTo>
                    <a:pt x="5858" y="1044"/>
                  </a:lnTo>
                  <a:lnTo>
                    <a:pt x="7138" y="1381"/>
                  </a:lnTo>
                  <a:lnTo>
                    <a:pt x="8417" y="1751"/>
                  </a:lnTo>
                  <a:lnTo>
                    <a:pt x="9663" y="2189"/>
                  </a:lnTo>
                  <a:lnTo>
                    <a:pt x="10909" y="2626"/>
                  </a:lnTo>
                  <a:lnTo>
                    <a:pt x="12154" y="3098"/>
                  </a:lnTo>
                  <a:lnTo>
                    <a:pt x="13434" y="3636"/>
                  </a:lnTo>
                  <a:lnTo>
                    <a:pt x="14713" y="4209"/>
                  </a:lnTo>
                  <a:lnTo>
                    <a:pt x="17238" y="5387"/>
                  </a:lnTo>
                  <a:lnTo>
                    <a:pt x="19763" y="6633"/>
                  </a:lnTo>
                  <a:lnTo>
                    <a:pt x="20336" y="6902"/>
                  </a:lnTo>
                  <a:lnTo>
                    <a:pt x="20706" y="7070"/>
                  </a:lnTo>
                  <a:lnTo>
                    <a:pt x="21076" y="7272"/>
                  </a:lnTo>
                  <a:lnTo>
                    <a:pt x="21413" y="7508"/>
                  </a:lnTo>
                  <a:lnTo>
                    <a:pt x="21716" y="7744"/>
                  </a:lnTo>
                  <a:lnTo>
                    <a:pt x="21851" y="7878"/>
                  </a:lnTo>
                  <a:lnTo>
                    <a:pt x="21952" y="8013"/>
                  </a:lnTo>
                  <a:lnTo>
                    <a:pt x="22019" y="8148"/>
                  </a:lnTo>
                  <a:lnTo>
                    <a:pt x="22053" y="8316"/>
                  </a:lnTo>
                  <a:lnTo>
                    <a:pt x="21548" y="9461"/>
                  </a:lnTo>
                  <a:lnTo>
                    <a:pt x="21009" y="10606"/>
                  </a:lnTo>
                  <a:lnTo>
                    <a:pt x="20605" y="11447"/>
                  </a:lnTo>
                  <a:lnTo>
                    <a:pt x="20167" y="12289"/>
                  </a:lnTo>
                  <a:lnTo>
                    <a:pt x="20470" y="12289"/>
                  </a:lnTo>
                  <a:lnTo>
                    <a:pt x="20773" y="11582"/>
                  </a:lnTo>
                  <a:lnTo>
                    <a:pt x="21076" y="10942"/>
                  </a:lnTo>
                  <a:lnTo>
                    <a:pt x="21649" y="9764"/>
                  </a:lnTo>
                  <a:lnTo>
                    <a:pt x="21884" y="9158"/>
                  </a:lnTo>
                  <a:lnTo>
                    <a:pt x="22019" y="8855"/>
                  </a:lnTo>
                  <a:lnTo>
                    <a:pt x="22086" y="8518"/>
                  </a:lnTo>
                  <a:lnTo>
                    <a:pt x="22154" y="8552"/>
                  </a:lnTo>
                  <a:lnTo>
                    <a:pt x="22221" y="8552"/>
                  </a:lnTo>
                  <a:lnTo>
                    <a:pt x="22255" y="8518"/>
                  </a:lnTo>
                  <a:lnTo>
                    <a:pt x="22288" y="8451"/>
                  </a:lnTo>
                  <a:lnTo>
                    <a:pt x="22255" y="8215"/>
                  </a:lnTo>
                  <a:lnTo>
                    <a:pt x="22187" y="8047"/>
                  </a:lnTo>
                  <a:lnTo>
                    <a:pt x="22086" y="7845"/>
                  </a:lnTo>
                  <a:lnTo>
                    <a:pt x="21952" y="7710"/>
                  </a:lnTo>
                  <a:lnTo>
                    <a:pt x="21581" y="7407"/>
                  </a:lnTo>
                  <a:lnTo>
                    <a:pt x="21245" y="7171"/>
                  </a:lnTo>
                  <a:lnTo>
                    <a:pt x="20639" y="6801"/>
                  </a:lnTo>
                  <a:lnTo>
                    <a:pt x="19999" y="6498"/>
                  </a:lnTo>
                  <a:lnTo>
                    <a:pt x="18720" y="5858"/>
                  </a:lnTo>
                  <a:lnTo>
                    <a:pt x="17339" y="5185"/>
                  </a:lnTo>
                  <a:lnTo>
                    <a:pt x="15959" y="4545"/>
                  </a:lnTo>
                  <a:lnTo>
                    <a:pt x="14578" y="3906"/>
                  </a:lnTo>
                  <a:lnTo>
                    <a:pt x="13164" y="3300"/>
                  </a:lnTo>
                  <a:lnTo>
                    <a:pt x="11851" y="2761"/>
                  </a:lnTo>
                  <a:lnTo>
                    <a:pt x="10538" y="2256"/>
                  </a:lnTo>
                  <a:lnTo>
                    <a:pt x="9192" y="1785"/>
                  </a:lnTo>
                  <a:lnTo>
                    <a:pt x="7845" y="1381"/>
                  </a:lnTo>
                  <a:lnTo>
                    <a:pt x="6397" y="943"/>
                  </a:lnTo>
                  <a:lnTo>
                    <a:pt x="4949" y="573"/>
                  </a:lnTo>
                  <a:lnTo>
                    <a:pt x="4209" y="438"/>
                  </a:lnTo>
                  <a:lnTo>
                    <a:pt x="3468" y="270"/>
                  </a:lnTo>
                  <a:lnTo>
                    <a:pt x="2727" y="169"/>
                  </a:lnTo>
                  <a:lnTo>
                    <a:pt x="1987" y="101"/>
                  </a:lnTo>
                  <a:lnTo>
                    <a:pt x="1919" y="34"/>
                  </a:lnTo>
                  <a:lnTo>
                    <a:pt x="185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hape 881"/>
            <p:cNvSpPr/>
            <p:nvPr/>
          </p:nvSpPr>
          <p:spPr>
            <a:xfrm>
              <a:off x="280800" y="395280"/>
              <a:ext cx="174600" cy="161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2627" h="2426">
                  <a:moveTo>
                    <a:pt x="1819" y="1"/>
                  </a:moveTo>
                  <a:lnTo>
                    <a:pt x="1314" y="68"/>
                  </a:lnTo>
                  <a:lnTo>
                    <a:pt x="742" y="102"/>
                  </a:lnTo>
                  <a:lnTo>
                    <a:pt x="169" y="203"/>
                  </a:lnTo>
                  <a:lnTo>
                    <a:pt x="136" y="136"/>
                  </a:lnTo>
                  <a:lnTo>
                    <a:pt x="102" y="102"/>
                  </a:lnTo>
                  <a:lnTo>
                    <a:pt x="68" y="102"/>
                  </a:lnTo>
                  <a:lnTo>
                    <a:pt x="35" y="136"/>
                  </a:lnTo>
                  <a:lnTo>
                    <a:pt x="1" y="439"/>
                  </a:lnTo>
                  <a:lnTo>
                    <a:pt x="35" y="742"/>
                  </a:lnTo>
                  <a:lnTo>
                    <a:pt x="68" y="1348"/>
                  </a:lnTo>
                  <a:lnTo>
                    <a:pt x="68" y="1853"/>
                  </a:lnTo>
                  <a:lnTo>
                    <a:pt x="68" y="2122"/>
                  </a:lnTo>
                  <a:lnTo>
                    <a:pt x="136" y="2391"/>
                  </a:lnTo>
                  <a:lnTo>
                    <a:pt x="169" y="2425"/>
                  </a:lnTo>
                  <a:lnTo>
                    <a:pt x="237" y="2391"/>
                  </a:lnTo>
                  <a:lnTo>
                    <a:pt x="1314" y="2391"/>
                  </a:lnTo>
                  <a:lnTo>
                    <a:pt x="1853" y="2358"/>
                  </a:lnTo>
                  <a:lnTo>
                    <a:pt x="2088" y="2324"/>
                  </a:lnTo>
                  <a:lnTo>
                    <a:pt x="2358" y="2290"/>
                  </a:lnTo>
                  <a:lnTo>
                    <a:pt x="2358" y="2324"/>
                  </a:lnTo>
                  <a:lnTo>
                    <a:pt x="2425" y="2324"/>
                  </a:lnTo>
                  <a:lnTo>
                    <a:pt x="2526" y="2257"/>
                  </a:lnTo>
                  <a:lnTo>
                    <a:pt x="2560" y="2189"/>
                  </a:lnTo>
                  <a:lnTo>
                    <a:pt x="2593" y="2088"/>
                  </a:lnTo>
                  <a:lnTo>
                    <a:pt x="2627" y="1954"/>
                  </a:lnTo>
                  <a:lnTo>
                    <a:pt x="2593" y="1684"/>
                  </a:lnTo>
                  <a:lnTo>
                    <a:pt x="2560" y="1482"/>
                  </a:lnTo>
                  <a:lnTo>
                    <a:pt x="2560" y="742"/>
                  </a:lnTo>
                  <a:lnTo>
                    <a:pt x="2492" y="405"/>
                  </a:lnTo>
                  <a:lnTo>
                    <a:pt x="2425" y="237"/>
                  </a:lnTo>
                  <a:lnTo>
                    <a:pt x="2358" y="102"/>
                  </a:lnTo>
                  <a:lnTo>
                    <a:pt x="2324" y="102"/>
                  </a:lnTo>
                  <a:lnTo>
                    <a:pt x="2290" y="203"/>
                  </a:lnTo>
                  <a:lnTo>
                    <a:pt x="2257" y="338"/>
                  </a:lnTo>
                  <a:lnTo>
                    <a:pt x="2257" y="607"/>
                  </a:lnTo>
                  <a:lnTo>
                    <a:pt x="2324" y="1146"/>
                  </a:lnTo>
                  <a:lnTo>
                    <a:pt x="2358" y="1651"/>
                  </a:lnTo>
                  <a:lnTo>
                    <a:pt x="2358" y="2156"/>
                  </a:lnTo>
                  <a:lnTo>
                    <a:pt x="2088" y="2122"/>
                  </a:lnTo>
                  <a:lnTo>
                    <a:pt x="1853" y="2088"/>
                  </a:lnTo>
                  <a:lnTo>
                    <a:pt x="1314" y="2088"/>
                  </a:lnTo>
                  <a:lnTo>
                    <a:pt x="270" y="2189"/>
                  </a:lnTo>
                  <a:lnTo>
                    <a:pt x="270" y="1920"/>
                  </a:lnTo>
                  <a:lnTo>
                    <a:pt x="270" y="1684"/>
                  </a:lnTo>
                  <a:lnTo>
                    <a:pt x="237" y="1146"/>
                  </a:lnTo>
                  <a:lnTo>
                    <a:pt x="237" y="775"/>
                  </a:lnTo>
                  <a:lnTo>
                    <a:pt x="203" y="405"/>
                  </a:lnTo>
                  <a:lnTo>
                    <a:pt x="843" y="338"/>
                  </a:lnTo>
                  <a:lnTo>
                    <a:pt x="1482" y="270"/>
                  </a:lnTo>
                  <a:lnTo>
                    <a:pt x="1920" y="237"/>
                  </a:lnTo>
                  <a:lnTo>
                    <a:pt x="2122" y="203"/>
                  </a:lnTo>
                  <a:lnTo>
                    <a:pt x="2324" y="102"/>
                  </a:lnTo>
                  <a:lnTo>
                    <a:pt x="2324" y="68"/>
                  </a:lnTo>
                  <a:lnTo>
                    <a:pt x="2189" y="35"/>
                  </a:lnTo>
                  <a:lnTo>
                    <a:pt x="208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hape 882"/>
            <p:cNvSpPr/>
            <p:nvPr/>
          </p:nvSpPr>
          <p:spPr>
            <a:xfrm>
              <a:off x="2313000" y="672840"/>
              <a:ext cx="161640" cy="19656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459" h="2964">
                  <a:moveTo>
                    <a:pt x="270" y="1516"/>
                  </a:moveTo>
                  <a:lnTo>
                    <a:pt x="472" y="1583"/>
                  </a:lnTo>
                  <a:lnTo>
                    <a:pt x="708" y="1617"/>
                  </a:lnTo>
                  <a:lnTo>
                    <a:pt x="1953" y="1617"/>
                  </a:lnTo>
                  <a:lnTo>
                    <a:pt x="2223" y="1583"/>
                  </a:lnTo>
                  <a:lnTo>
                    <a:pt x="2223" y="2088"/>
                  </a:lnTo>
                  <a:lnTo>
                    <a:pt x="2223" y="2324"/>
                  </a:lnTo>
                  <a:lnTo>
                    <a:pt x="2256" y="2593"/>
                  </a:lnTo>
                  <a:lnTo>
                    <a:pt x="1785" y="2593"/>
                  </a:lnTo>
                  <a:lnTo>
                    <a:pt x="1347" y="2661"/>
                  </a:lnTo>
                  <a:lnTo>
                    <a:pt x="842" y="2694"/>
                  </a:lnTo>
                  <a:lnTo>
                    <a:pt x="573" y="2728"/>
                  </a:lnTo>
                  <a:lnTo>
                    <a:pt x="337" y="2795"/>
                  </a:lnTo>
                  <a:lnTo>
                    <a:pt x="311" y="2821"/>
                  </a:lnTo>
                  <a:lnTo>
                    <a:pt x="337" y="2560"/>
                  </a:lnTo>
                  <a:lnTo>
                    <a:pt x="303" y="2189"/>
                  </a:lnTo>
                  <a:lnTo>
                    <a:pt x="270" y="1516"/>
                  </a:lnTo>
                  <a:close/>
                  <a:moveTo>
                    <a:pt x="2155" y="1"/>
                  </a:moveTo>
                  <a:lnTo>
                    <a:pt x="1886" y="34"/>
                  </a:lnTo>
                  <a:lnTo>
                    <a:pt x="1583" y="34"/>
                  </a:lnTo>
                  <a:lnTo>
                    <a:pt x="1044" y="102"/>
                  </a:lnTo>
                  <a:lnTo>
                    <a:pt x="607" y="169"/>
                  </a:lnTo>
                  <a:lnTo>
                    <a:pt x="135" y="236"/>
                  </a:lnTo>
                  <a:lnTo>
                    <a:pt x="101" y="169"/>
                  </a:lnTo>
                  <a:lnTo>
                    <a:pt x="68" y="203"/>
                  </a:lnTo>
                  <a:lnTo>
                    <a:pt x="0" y="506"/>
                  </a:lnTo>
                  <a:lnTo>
                    <a:pt x="0" y="809"/>
                  </a:lnTo>
                  <a:lnTo>
                    <a:pt x="34" y="1449"/>
                  </a:lnTo>
                  <a:lnTo>
                    <a:pt x="34" y="2189"/>
                  </a:lnTo>
                  <a:lnTo>
                    <a:pt x="68" y="2560"/>
                  </a:lnTo>
                  <a:lnTo>
                    <a:pt x="135" y="2896"/>
                  </a:lnTo>
                  <a:lnTo>
                    <a:pt x="169" y="2964"/>
                  </a:lnTo>
                  <a:lnTo>
                    <a:pt x="236" y="2964"/>
                  </a:lnTo>
                  <a:lnTo>
                    <a:pt x="270" y="2930"/>
                  </a:lnTo>
                  <a:lnTo>
                    <a:pt x="303" y="2896"/>
                  </a:lnTo>
                  <a:lnTo>
                    <a:pt x="310" y="2835"/>
                  </a:lnTo>
                  <a:lnTo>
                    <a:pt x="337" y="2863"/>
                  </a:lnTo>
                  <a:lnTo>
                    <a:pt x="842" y="2863"/>
                  </a:lnTo>
                  <a:lnTo>
                    <a:pt x="1347" y="2829"/>
                  </a:lnTo>
                  <a:lnTo>
                    <a:pt x="1819" y="2795"/>
                  </a:lnTo>
                  <a:lnTo>
                    <a:pt x="2290" y="2728"/>
                  </a:lnTo>
                  <a:lnTo>
                    <a:pt x="2324" y="2795"/>
                  </a:lnTo>
                  <a:lnTo>
                    <a:pt x="2357" y="2829"/>
                  </a:lnTo>
                  <a:lnTo>
                    <a:pt x="2391" y="2795"/>
                  </a:lnTo>
                  <a:lnTo>
                    <a:pt x="2391" y="2728"/>
                  </a:lnTo>
                  <a:lnTo>
                    <a:pt x="2425" y="2661"/>
                  </a:lnTo>
                  <a:lnTo>
                    <a:pt x="2425" y="2627"/>
                  </a:lnTo>
                  <a:lnTo>
                    <a:pt x="2458" y="2358"/>
                  </a:lnTo>
                  <a:lnTo>
                    <a:pt x="2458" y="2088"/>
                  </a:lnTo>
                  <a:lnTo>
                    <a:pt x="2425" y="1583"/>
                  </a:lnTo>
                  <a:lnTo>
                    <a:pt x="2391" y="843"/>
                  </a:lnTo>
                  <a:lnTo>
                    <a:pt x="2357" y="506"/>
                  </a:lnTo>
                  <a:lnTo>
                    <a:pt x="2290" y="135"/>
                  </a:lnTo>
                  <a:lnTo>
                    <a:pt x="2256" y="135"/>
                  </a:lnTo>
                  <a:lnTo>
                    <a:pt x="2223" y="438"/>
                  </a:lnTo>
                  <a:lnTo>
                    <a:pt x="2189" y="775"/>
                  </a:lnTo>
                  <a:lnTo>
                    <a:pt x="2223" y="1381"/>
                  </a:lnTo>
                  <a:lnTo>
                    <a:pt x="2223" y="1415"/>
                  </a:lnTo>
                  <a:lnTo>
                    <a:pt x="1953" y="1381"/>
                  </a:lnTo>
                  <a:lnTo>
                    <a:pt x="472" y="1381"/>
                  </a:lnTo>
                  <a:lnTo>
                    <a:pt x="236" y="1449"/>
                  </a:lnTo>
                  <a:lnTo>
                    <a:pt x="236" y="910"/>
                  </a:lnTo>
                  <a:lnTo>
                    <a:pt x="202" y="641"/>
                  </a:lnTo>
                  <a:lnTo>
                    <a:pt x="169" y="371"/>
                  </a:lnTo>
                  <a:lnTo>
                    <a:pt x="674" y="371"/>
                  </a:lnTo>
                  <a:lnTo>
                    <a:pt x="1213" y="304"/>
                  </a:lnTo>
                  <a:lnTo>
                    <a:pt x="1684" y="236"/>
                  </a:lnTo>
                  <a:lnTo>
                    <a:pt x="2189" y="169"/>
                  </a:lnTo>
                  <a:lnTo>
                    <a:pt x="2223" y="135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215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9920" bIns="79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hape 883"/>
            <p:cNvSpPr/>
            <p:nvPr/>
          </p:nvSpPr>
          <p:spPr>
            <a:xfrm>
              <a:off x="2496960" y="755640"/>
              <a:ext cx="171360" cy="107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560" h="1617">
                  <a:moveTo>
                    <a:pt x="1314" y="1"/>
                  </a:moveTo>
                  <a:lnTo>
                    <a:pt x="674" y="34"/>
                  </a:lnTo>
                  <a:lnTo>
                    <a:pt x="371" y="68"/>
                  </a:lnTo>
                  <a:lnTo>
                    <a:pt x="68" y="135"/>
                  </a:lnTo>
                  <a:lnTo>
                    <a:pt x="35" y="169"/>
                  </a:lnTo>
                  <a:lnTo>
                    <a:pt x="1" y="203"/>
                  </a:lnTo>
                  <a:lnTo>
                    <a:pt x="35" y="236"/>
                  </a:lnTo>
                  <a:lnTo>
                    <a:pt x="102" y="270"/>
                  </a:lnTo>
                  <a:lnTo>
                    <a:pt x="708" y="270"/>
                  </a:lnTo>
                  <a:lnTo>
                    <a:pt x="1314" y="236"/>
                  </a:lnTo>
                  <a:lnTo>
                    <a:pt x="2290" y="236"/>
                  </a:lnTo>
                  <a:lnTo>
                    <a:pt x="2358" y="506"/>
                  </a:lnTo>
                  <a:lnTo>
                    <a:pt x="2391" y="775"/>
                  </a:lnTo>
                  <a:lnTo>
                    <a:pt x="2358" y="1347"/>
                  </a:lnTo>
                  <a:lnTo>
                    <a:pt x="1247" y="1381"/>
                  </a:lnTo>
                  <a:lnTo>
                    <a:pt x="742" y="1415"/>
                  </a:lnTo>
                  <a:lnTo>
                    <a:pt x="472" y="1415"/>
                  </a:lnTo>
                  <a:lnTo>
                    <a:pt x="237" y="1482"/>
                  </a:lnTo>
                  <a:lnTo>
                    <a:pt x="203" y="1516"/>
                  </a:lnTo>
                  <a:lnTo>
                    <a:pt x="237" y="1549"/>
                  </a:lnTo>
                  <a:lnTo>
                    <a:pt x="472" y="1617"/>
                  </a:lnTo>
                  <a:lnTo>
                    <a:pt x="742" y="1617"/>
                  </a:lnTo>
                  <a:lnTo>
                    <a:pt x="1280" y="1583"/>
                  </a:lnTo>
                  <a:lnTo>
                    <a:pt x="2459" y="1549"/>
                  </a:lnTo>
                  <a:lnTo>
                    <a:pt x="2526" y="1516"/>
                  </a:lnTo>
                  <a:lnTo>
                    <a:pt x="2560" y="1448"/>
                  </a:lnTo>
                  <a:lnTo>
                    <a:pt x="2560" y="1145"/>
                  </a:lnTo>
                  <a:lnTo>
                    <a:pt x="2492" y="842"/>
                  </a:lnTo>
                  <a:lnTo>
                    <a:pt x="2358" y="236"/>
                  </a:lnTo>
                  <a:lnTo>
                    <a:pt x="2391" y="203"/>
                  </a:lnTo>
                  <a:lnTo>
                    <a:pt x="2425" y="203"/>
                  </a:lnTo>
                  <a:lnTo>
                    <a:pt x="2459" y="135"/>
                  </a:lnTo>
                  <a:lnTo>
                    <a:pt x="2425" y="102"/>
                  </a:lnTo>
                  <a:lnTo>
                    <a:pt x="2391" y="102"/>
                  </a:lnTo>
                  <a:lnTo>
                    <a:pt x="2324" y="68"/>
                  </a:lnTo>
                  <a:lnTo>
                    <a:pt x="2324" y="1"/>
                  </a:lnTo>
                  <a:lnTo>
                    <a:pt x="2257" y="1"/>
                  </a:lnTo>
                  <a:lnTo>
                    <a:pt x="2257" y="34"/>
                  </a:lnTo>
                  <a:lnTo>
                    <a:pt x="2021" y="34"/>
                  </a:lnTo>
                  <a:lnTo>
                    <a:pt x="178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hape 884"/>
            <p:cNvSpPr/>
            <p:nvPr/>
          </p:nvSpPr>
          <p:spPr>
            <a:xfrm>
              <a:off x="2565360" y="787320"/>
              <a:ext cx="34920" cy="48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40" h="742">
                  <a:moveTo>
                    <a:pt x="136" y="1"/>
                  </a:moveTo>
                  <a:lnTo>
                    <a:pt x="68" y="35"/>
                  </a:lnTo>
                  <a:lnTo>
                    <a:pt x="68" y="102"/>
                  </a:lnTo>
                  <a:lnTo>
                    <a:pt x="102" y="203"/>
                  </a:lnTo>
                  <a:lnTo>
                    <a:pt x="169" y="237"/>
                  </a:lnTo>
                  <a:lnTo>
                    <a:pt x="270" y="304"/>
                  </a:lnTo>
                  <a:lnTo>
                    <a:pt x="203" y="338"/>
                  </a:lnTo>
                  <a:lnTo>
                    <a:pt x="35" y="540"/>
                  </a:lnTo>
                  <a:lnTo>
                    <a:pt x="1" y="573"/>
                  </a:lnTo>
                  <a:lnTo>
                    <a:pt x="1" y="641"/>
                  </a:lnTo>
                  <a:lnTo>
                    <a:pt x="35" y="708"/>
                  </a:lnTo>
                  <a:lnTo>
                    <a:pt x="102" y="742"/>
                  </a:lnTo>
                  <a:lnTo>
                    <a:pt x="136" y="708"/>
                  </a:lnTo>
                  <a:lnTo>
                    <a:pt x="203" y="708"/>
                  </a:lnTo>
                  <a:lnTo>
                    <a:pt x="371" y="472"/>
                  </a:lnTo>
                  <a:lnTo>
                    <a:pt x="439" y="371"/>
                  </a:lnTo>
                  <a:lnTo>
                    <a:pt x="506" y="338"/>
                  </a:lnTo>
                  <a:lnTo>
                    <a:pt x="540" y="304"/>
                  </a:lnTo>
                  <a:lnTo>
                    <a:pt x="540" y="237"/>
                  </a:lnTo>
                  <a:lnTo>
                    <a:pt x="506" y="203"/>
                  </a:lnTo>
                  <a:lnTo>
                    <a:pt x="371" y="102"/>
                  </a:lnTo>
                  <a:lnTo>
                    <a:pt x="304" y="68"/>
                  </a:lnTo>
                  <a:lnTo>
                    <a:pt x="237" y="35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7680" bIns="-67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hape 885"/>
            <p:cNvSpPr/>
            <p:nvPr/>
          </p:nvSpPr>
          <p:spPr>
            <a:xfrm>
              <a:off x="2368440" y="70452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6" h="573">
                  <a:moveTo>
                    <a:pt x="404" y="0"/>
                  </a:moveTo>
                  <a:lnTo>
                    <a:pt x="270" y="101"/>
                  </a:lnTo>
                  <a:lnTo>
                    <a:pt x="169" y="202"/>
                  </a:lnTo>
                  <a:lnTo>
                    <a:pt x="68" y="303"/>
                  </a:lnTo>
                  <a:lnTo>
                    <a:pt x="34" y="371"/>
                  </a:lnTo>
                  <a:lnTo>
                    <a:pt x="0" y="438"/>
                  </a:lnTo>
                  <a:lnTo>
                    <a:pt x="0" y="505"/>
                  </a:lnTo>
                  <a:lnTo>
                    <a:pt x="68" y="505"/>
                  </a:lnTo>
                  <a:lnTo>
                    <a:pt x="202" y="472"/>
                  </a:lnTo>
                  <a:lnTo>
                    <a:pt x="303" y="371"/>
                  </a:lnTo>
                  <a:lnTo>
                    <a:pt x="438" y="236"/>
                  </a:lnTo>
                  <a:lnTo>
                    <a:pt x="573" y="404"/>
                  </a:lnTo>
                  <a:lnTo>
                    <a:pt x="741" y="539"/>
                  </a:lnTo>
                  <a:lnTo>
                    <a:pt x="775" y="573"/>
                  </a:lnTo>
                  <a:lnTo>
                    <a:pt x="842" y="573"/>
                  </a:lnTo>
                  <a:lnTo>
                    <a:pt x="842" y="539"/>
                  </a:lnTo>
                  <a:lnTo>
                    <a:pt x="876" y="505"/>
                  </a:lnTo>
                  <a:lnTo>
                    <a:pt x="842" y="472"/>
                  </a:lnTo>
                  <a:lnTo>
                    <a:pt x="707" y="303"/>
                  </a:lnTo>
                  <a:lnTo>
                    <a:pt x="505" y="135"/>
                  </a:lnTo>
                  <a:lnTo>
                    <a:pt x="505" y="101"/>
                  </a:lnTo>
                  <a:lnTo>
                    <a:pt x="505" y="34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8840" bIns="-78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hape 886"/>
            <p:cNvSpPr/>
            <p:nvPr/>
          </p:nvSpPr>
          <p:spPr>
            <a:xfrm>
              <a:off x="2252520" y="477720"/>
              <a:ext cx="404640" cy="188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95" h="2829">
                  <a:moveTo>
                    <a:pt x="5522" y="1"/>
                  </a:moveTo>
                  <a:lnTo>
                    <a:pt x="3704" y="68"/>
                  </a:lnTo>
                  <a:lnTo>
                    <a:pt x="1886" y="169"/>
                  </a:lnTo>
                  <a:lnTo>
                    <a:pt x="977" y="236"/>
                  </a:lnTo>
                  <a:lnTo>
                    <a:pt x="505" y="304"/>
                  </a:lnTo>
                  <a:lnTo>
                    <a:pt x="68" y="405"/>
                  </a:lnTo>
                  <a:lnTo>
                    <a:pt x="34" y="438"/>
                  </a:lnTo>
                  <a:lnTo>
                    <a:pt x="68" y="472"/>
                  </a:lnTo>
                  <a:lnTo>
                    <a:pt x="101" y="472"/>
                  </a:lnTo>
                  <a:lnTo>
                    <a:pt x="34" y="708"/>
                  </a:lnTo>
                  <a:lnTo>
                    <a:pt x="0" y="977"/>
                  </a:lnTo>
                  <a:lnTo>
                    <a:pt x="34" y="1482"/>
                  </a:lnTo>
                  <a:lnTo>
                    <a:pt x="101" y="2088"/>
                  </a:lnTo>
                  <a:lnTo>
                    <a:pt x="202" y="2728"/>
                  </a:lnTo>
                  <a:lnTo>
                    <a:pt x="236" y="2761"/>
                  </a:lnTo>
                  <a:lnTo>
                    <a:pt x="270" y="2795"/>
                  </a:lnTo>
                  <a:lnTo>
                    <a:pt x="371" y="2761"/>
                  </a:lnTo>
                  <a:lnTo>
                    <a:pt x="1044" y="2829"/>
                  </a:lnTo>
                  <a:lnTo>
                    <a:pt x="1718" y="2829"/>
                  </a:lnTo>
                  <a:lnTo>
                    <a:pt x="2425" y="2795"/>
                  </a:lnTo>
                  <a:lnTo>
                    <a:pt x="3098" y="2728"/>
                  </a:lnTo>
                  <a:lnTo>
                    <a:pt x="4445" y="2593"/>
                  </a:lnTo>
                  <a:lnTo>
                    <a:pt x="5152" y="2559"/>
                  </a:lnTo>
                  <a:lnTo>
                    <a:pt x="5825" y="2559"/>
                  </a:lnTo>
                  <a:lnTo>
                    <a:pt x="5892" y="2593"/>
                  </a:lnTo>
                  <a:lnTo>
                    <a:pt x="5960" y="2593"/>
                  </a:lnTo>
                  <a:lnTo>
                    <a:pt x="6027" y="2559"/>
                  </a:lnTo>
                  <a:lnTo>
                    <a:pt x="6061" y="2492"/>
                  </a:lnTo>
                  <a:lnTo>
                    <a:pt x="6094" y="1280"/>
                  </a:lnTo>
                  <a:lnTo>
                    <a:pt x="6061" y="674"/>
                  </a:lnTo>
                  <a:lnTo>
                    <a:pt x="6061" y="371"/>
                  </a:lnTo>
                  <a:lnTo>
                    <a:pt x="6027" y="68"/>
                  </a:lnTo>
                  <a:lnTo>
                    <a:pt x="5993" y="34"/>
                  </a:lnTo>
                  <a:lnTo>
                    <a:pt x="5926" y="34"/>
                  </a:lnTo>
                  <a:lnTo>
                    <a:pt x="5892" y="68"/>
                  </a:lnTo>
                  <a:lnTo>
                    <a:pt x="5825" y="607"/>
                  </a:lnTo>
                  <a:lnTo>
                    <a:pt x="5791" y="1179"/>
                  </a:lnTo>
                  <a:lnTo>
                    <a:pt x="5825" y="2290"/>
                  </a:lnTo>
                  <a:lnTo>
                    <a:pt x="5152" y="2324"/>
                  </a:lnTo>
                  <a:lnTo>
                    <a:pt x="4478" y="2357"/>
                  </a:lnTo>
                  <a:lnTo>
                    <a:pt x="3132" y="2458"/>
                  </a:lnTo>
                  <a:lnTo>
                    <a:pt x="1785" y="2593"/>
                  </a:lnTo>
                  <a:lnTo>
                    <a:pt x="1111" y="2627"/>
                  </a:lnTo>
                  <a:lnTo>
                    <a:pt x="438" y="2627"/>
                  </a:lnTo>
                  <a:lnTo>
                    <a:pt x="303" y="2054"/>
                  </a:lnTo>
                  <a:lnTo>
                    <a:pt x="236" y="1448"/>
                  </a:lnTo>
                  <a:lnTo>
                    <a:pt x="236" y="977"/>
                  </a:lnTo>
                  <a:lnTo>
                    <a:pt x="236" y="708"/>
                  </a:lnTo>
                  <a:lnTo>
                    <a:pt x="169" y="472"/>
                  </a:lnTo>
                  <a:lnTo>
                    <a:pt x="472" y="506"/>
                  </a:lnTo>
                  <a:lnTo>
                    <a:pt x="775" y="506"/>
                  </a:lnTo>
                  <a:lnTo>
                    <a:pt x="1414" y="472"/>
                  </a:lnTo>
                  <a:lnTo>
                    <a:pt x="2054" y="405"/>
                  </a:lnTo>
                  <a:lnTo>
                    <a:pt x="2694" y="337"/>
                  </a:lnTo>
                  <a:lnTo>
                    <a:pt x="3973" y="270"/>
                  </a:lnTo>
                  <a:lnTo>
                    <a:pt x="4781" y="236"/>
                  </a:lnTo>
                  <a:lnTo>
                    <a:pt x="5219" y="203"/>
                  </a:lnTo>
                  <a:lnTo>
                    <a:pt x="5455" y="203"/>
                  </a:lnTo>
                  <a:lnTo>
                    <a:pt x="5556" y="236"/>
                  </a:lnTo>
                  <a:lnTo>
                    <a:pt x="5623" y="270"/>
                  </a:lnTo>
                  <a:lnTo>
                    <a:pt x="5690" y="304"/>
                  </a:lnTo>
                  <a:lnTo>
                    <a:pt x="5758" y="270"/>
                  </a:lnTo>
                  <a:lnTo>
                    <a:pt x="5791" y="236"/>
                  </a:lnTo>
                  <a:lnTo>
                    <a:pt x="5791" y="169"/>
                  </a:lnTo>
                  <a:lnTo>
                    <a:pt x="5758" y="102"/>
                  </a:lnTo>
                  <a:lnTo>
                    <a:pt x="5690" y="34"/>
                  </a:lnTo>
                  <a:lnTo>
                    <a:pt x="562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2000" bIns="72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hape 887"/>
            <p:cNvSpPr/>
            <p:nvPr/>
          </p:nvSpPr>
          <p:spPr>
            <a:xfrm>
              <a:off x="160200" y="758520"/>
              <a:ext cx="166680" cy="2044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93" h="3098">
                  <a:moveTo>
                    <a:pt x="2290" y="202"/>
                  </a:moveTo>
                  <a:lnTo>
                    <a:pt x="2223" y="808"/>
                  </a:lnTo>
                  <a:lnTo>
                    <a:pt x="2223" y="1482"/>
                  </a:lnTo>
                  <a:lnTo>
                    <a:pt x="2223" y="2155"/>
                  </a:lnTo>
                  <a:lnTo>
                    <a:pt x="2290" y="2727"/>
                  </a:lnTo>
                  <a:lnTo>
                    <a:pt x="2324" y="2761"/>
                  </a:lnTo>
                  <a:lnTo>
                    <a:pt x="2290" y="2761"/>
                  </a:lnTo>
                  <a:lnTo>
                    <a:pt x="2055" y="2727"/>
                  </a:lnTo>
                  <a:lnTo>
                    <a:pt x="1819" y="2727"/>
                  </a:lnTo>
                  <a:lnTo>
                    <a:pt x="1348" y="2761"/>
                  </a:lnTo>
                  <a:lnTo>
                    <a:pt x="371" y="2761"/>
                  </a:lnTo>
                  <a:lnTo>
                    <a:pt x="270" y="1515"/>
                  </a:lnTo>
                  <a:lnTo>
                    <a:pt x="169" y="236"/>
                  </a:lnTo>
                  <a:lnTo>
                    <a:pt x="708" y="303"/>
                  </a:lnTo>
                  <a:lnTo>
                    <a:pt x="1213" y="270"/>
                  </a:lnTo>
                  <a:lnTo>
                    <a:pt x="2290" y="202"/>
                  </a:lnTo>
                  <a:close/>
                  <a:moveTo>
                    <a:pt x="2290" y="0"/>
                  </a:moveTo>
                  <a:lnTo>
                    <a:pt x="1752" y="34"/>
                  </a:lnTo>
                  <a:lnTo>
                    <a:pt x="1213" y="34"/>
                  </a:lnTo>
                  <a:lnTo>
                    <a:pt x="674" y="68"/>
                  </a:lnTo>
                  <a:lnTo>
                    <a:pt x="136" y="101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34" y="236"/>
                  </a:lnTo>
                  <a:lnTo>
                    <a:pt x="1" y="876"/>
                  </a:lnTo>
                  <a:lnTo>
                    <a:pt x="34" y="1616"/>
                  </a:lnTo>
                  <a:lnTo>
                    <a:pt x="102" y="2357"/>
                  </a:lnTo>
                  <a:lnTo>
                    <a:pt x="203" y="3030"/>
                  </a:lnTo>
                  <a:lnTo>
                    <a:pt x="237" y="3064"/>
                  </a:lnTo>
                  <a:lnTo>
                    <a:pt x="304" y="3098"/>
                  </a:lnTo>
                  <a:lnTo>
                    <a:pt x="371" y="3064"/>
                  </a:lnTo>
                  <a:lnTo>
                    <a:pt x="405" y="2997"/>
                  </a:lnTo>
                  <a:lnTo>
                    <a:pt x="405" y="2896"/>
                  </a:lnTo>
                  <a:lnTo>
                    <a:pt x="876" y="2997"/>
                  </a:lnTo>
                  <a:lnTo>
                    <a:pt x="1348" y="3030"/>
                  </a:lnTo>
                  <a:lnTo>
                    <a:pt x="1853" y="2997"/>
                  </a:lnTo>
                  <a:lnTo>
                    <a:pt x="2088" y="2963"/>
                  </a:lnTo>
                  <a:lnTo>
                    <a:pt x="2290" y="2896"/>
                  </a:lnTo>
                  <a:lnTo>
                    <a:pt x="2358" y="2862"/>
                  </a:lnTo>
                  <a:lnTo>
                    <a:pt x="2358" y="2795"/>
                  </a:lnTo>
                  <a:lnTo>
                    <a:pt x="2425" y="2795"/>
                  </a:lnTo>
                  <a:lnTo>
                    <a:pt x="2459" y="2761"/>
                  </a:lnTo>
                  <a:lnTo>
                    <a:pt x="2459" y="2727"/>
                  </a:lnTo>
                  <a:lnTo>
                    <a:pt x="2492" y="2121"/>
                  </a:lnTo>
                  <a:lnTo>
                    <a:pt x="2459" y="1448"/>
                  </a:lnTo>
                  <a:lnTo>
                    <a:pt x="2425" y="775"/>
                  </a:lnTo>
                  <a:lnTo>
                    <a:pt x="2358" y="169"/>
                  </a:lnTo>
                  <a:lnTo>
                    <a:pt x="2391" y="135"/>
                  </a:lnTo>
                  <a:lnTo>
                    <a:pt x="2391" y="68"/>
                  </a:lnTo>
                  <a:lnTo>
                    <a:pt x="2358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7840" bIns="87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hape 888"/>
            <p:cNvSpPr/>
            <p:nvPr/>
          </p:nvSpPr>
          <p:spPr>
            <a:xfrm>
              <a:off x="0" y="4097160"/>
              <a:ext cx="973080" cy="13953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4647" h="21010">
                  <a:moveTo>
                    <a:pt x="3738" y="1"/>
                  </a:moveTo>
                  <a:lnTo>
                    <a:pt x="3199" y="34"/>
                  </a:lnTo>
                  <a:lnTo>
                    <a:pt x="2661" y="102"/>
                  </a:lnTo>
                  <a:lnTo>
                    <a:pt x="2122" y="203"/>
                  </a:lnTo>
                  <a:lnTo>
                    <a:pt x="1583" y="337"/>
                  </a:lnTo>
                  <a:lnTo>
                    <a:pt x="1044" y="472"/>
                  </a:lnTo>
                  <a:lnTo>
                    <a:pt x="1" y="809"/>
                  </a:lnTo>
                  <a:lnTo>
                    <a:pt x="1" y="1078"/>
                  </a:lnTo>
                  <a:lnTo>
                    <a:pt x="607" y="876"/>
                  </a:lnTo>
                  <a:lnTo>
                    <a:pt x="1213" y="674"/>
                  </a:lnTo>
                  <a:lnTo>
                    <a:pt x="1819" y="539"/>
                  </a:lnTo>
                  <a:lnTo>
                    <a:pt x="2425" y="405"/>
                  </a:lnTo>
                  <a:lnTo>
                    <a:pt x="2829" y="337"/>
                  </a:lnTo>
                  <a:lnTo>
                    <a:pt x="3233" y="304"/>
                  </a:lnTo>
                  <a:lnTo>
                    <a:pt x="3671" y="270"/>
                  </a:lnTo>
                  <a:lnTo>
                    <a:pt x="4075" y="236"/>
                  </a:lnTo>
                  <a:lnTo>
                    <a:pt x="4883" y="304"/>
                  </a:lnTo>
                  <a:lnTo>
                    <a:pt x="5691" y="405"/>
                  </a:lnTo>
                  <a:lnTo>
                    <a:pt x="6499" y="573"/>
                  </a:lnTo>
                  <a:lnTo>
                    <a:pt x="7273" y="809"/>
                  </a:lnTo>
                  <a:lnTo>
                    <a:pt x="8047" y="1112"/>
                  </a:lnTo>
                  <a:lnTo>
                    <a:pt x="8822" y="1448"/>
                  </a:lnTo>
                  <a:lnTo>
                    <a:pt x="9125" y="1583"/>
                  </a:lnTo>
                  <a:lnTo>
                    <a:pt x="9394" y="1751"/>
                  </a:lnTo>
                  <a:lnTo>
                    <a:pt x="9933" y="2122"/>
                  </a:lnTo>
                  <a:lnTo>
                    <a:pt x="10438" y="2559"/>
                  </a:lnTo>
                  <a:lnTo>
                    <a:pt x="10909" y="2997"/>
                  </a:lnTo>
                  <a:lnTo>
                    <a:pt x="11482" y="3502"/>
                  </a:lnTo>
                  <a:lnTo>
                    <a:pt x="11987" y="4041"/>
                  </a:lnTo>
                  <a:lnTo>
                    <a:pt x="12525" y="4613"/>
                  </a:lnTo>
                  <a:lnTo>
                    <a:pt x="12997" y="5185"/>
                  </a:lnTo>
                  <a:lnTo>
                    <a:pt x="13401" y="5792"/>
                  </a:lnTo>
                  <a:lnTo>
                    <a:pt x="13704" y="6431"/>
                  </a:lnTo>
                  <a:lnTo>
                    <a:pt x="13872" y="6734"/>
                  </a:lnTo>
                  <a:lnTo>
                    <a:pt x="13973" y="7071"/>
                  </a:lnTo>
                  <a:lnTo>
                    <a:pt x="14074" y="7408"/>
                  </a:lnTo>
                  <a:lnTo>
                    <a:pt x="14175" y="7778"/>
                  </a:lnTo>
                  <a:lnTo>
                    <a:pt x="14242" y="8182"/>
                  </a:lnTo>
                  <a:lnTo>
                    <a:pt x="14276" y="8620"/>
                  </a:lnTo>
                  <a:lnTo>
                    <a:pt x="14343" y="9461"/>
                  </a:lnTo>
                  <a:lnTo>
                    <a:pt x="14377" y="11212"/>
                  </a:lnTo>
                  <a:lnTo>
                    <a:pt x="14411" y="11953"/>
                  </a:lnTo>
                  <a:lnTo>
                    <a:pt x="14343" y="12727"/>
                  </a:lnTo>
                  <a:lnTo>
                    <a:pt x="14242" y="13468"/>
                  </a:lnTo>
                  <a:lnTo>
                    <a:pt x="14040" y="14209"/>
                  </a:lnTo>
                  <a:lnTo>
                    <a:pt x="13805" y="14916"/>
                  </a:lnTo>
                  <a:lnTo>
                    <a:pt x="13502" y="15589"/>
                  </a:lnTo>
                  <a:lnTo>
                    <a:pt x="13131" y="16229"/>
                  </a:lnTo>
                  <a:lnTo>
                    <a:pt x="12660" y="16868"/>
                  </a:lnTo>
                  <a:lnTo>
                    <a:pt x="12424" y="17138"/>
                  </a:lnTo>
                  <a:lnTo>
                    <a:pt x="12189" y="17373"/>
                  </a:lnTo>
                  <a:lnTo>
                    <a:pt x="11650" y="17878"/>
                  </a:lnTo>
                  <a:lnTo>
                    <a:pt x="11078" y="18316"/>
                  </a:lnTo>
                  <a:lnTo>
                    <a:pt x="10505" y="18754"/>
                  </a:lnTo>
                  <a:lnTo>
                    <a:pt x="10202" y="18989"/>
                  </a:lnTo>
                  <a:lnTo>
                    <a:pt x="9865" y="19191"/>
                  </a:lnTo>
                  <a:lnTo>
                    <a:pt x="9529" y="19360"/>
                  </a:lnTo>
                  <a:lnTo>
                    <a:pt x="9192" y="19528"/>
                  </a:lnTo>
                  <a:lnTo>
                    <a:pt x="8519" y="19797"/>
                  </a:lnTo>
                  <a:lnTo>
                    <a:pt x="7778" y="19999"/>
                  </a:lnTo>
                  <a:lnTo>
                    <a:pt x="6431" y="20370"/>
                  </a:lnTo>
                  <a:lnTo>
                    <a:pt x="5792" y="20538"/>
                  </a:lnTo>
                  <a:lnTo>
                    <a:pt x="5118" y="20673"/>
                  </a:lnTo>
                  <a:lnTo>
                    <a:pt x="4681" y="20740"/>
                  </a:lnTo>
                  <a:lnTo>
                    <a:pt x="4243" y="20774"/>
                  </a:lnTo>
                  <a:lnTo>
                    <a:pt x="3401" y="20774"/>
                  </a:lnTo>
                  <a:lnTo>
                    <a:pt x="2560" y="20706"/>
                  </a:lnTo>
                  <a:lnTo>
                    <a:pt x="1684" y="20605"/>
                  </a:lnTo>
                  <a:lnTo>
                    <a:pt x="842" y="20471"/>
                  </a:lnTo>
                  <a:lnTo>
                    <a:pt x="1" y="20302"/>
                  </a:lnTo>
                  <a:lnTo>
                    <a:pt x="1" y="20572"/>
                  </a:lnTo>
                  <a:lnTo>
                    <a:pt x="169" y="20605"/>
                  </a:lnTo>
                  <a:lnTo>
                    <a:pt x="842" y="20740"/>
                  </a:lnTo>
                  <a:lnTo>
                    <a:pt x="1549" y="20841"/>
                  </a:lnTo>
                  <a:lnTo>
                    <a:pt x="2223" y="20942"/>
                  </a:lnTo>
                  <a:lnTo>
                    <a:pt x="2896" y="21009"/>
                  </a:lnTo>
                  <a:lnTo>
                    <a:pt x="4277" y="21009"/>
                  </a:lnTo>
                  <a:lnTo>
                    <a:pt x="4950" y="20942"/>
                  </a:lnTo>
                  <a:lnTo>
                    <a:pt x="5657" y="20841"/>
                  </a:lnTo>
                  <a:lnTo>
                    <a:pt x="6297" y="20706"/>
                  </a:lnTo>
                  <a:lnTo>
                    <a:pt x="6970" y="20504"/>
                  </a:lnTo>
                  <a:lnTo>
                    <a:pt x="8249" y="20168"/>
                  </a:lnTo>
                  <a:lnTo>
                    <a:pt x="8586" y="20067"/>
                  </a:lnTo>
                  <a:lnTo>
                    <a:pt x="8923" y="19966"/>
                  </a:lnTo>
                  <a:lnTo>
                    <a:pt x="9495" y="19696"/>
                  </a:lnTo>
                  <a:lnTo>
                    <a:pt x="10067" y="19360"/>
                  </a:lnTo>
                  <a:lnTo>
                    <a:pt x="10640" y="18989"/>
                  </a:lnTo>
                  <a:lnTo>
                    <a:pt x="11145" y="18585"/>
                  </a:lnTo>
                  <a:lnTo>
                    <a:pt x="11650" y="18181"/>
                  </a:lnTo>
                  <a:lnTo>
                    <a:pt x="12121" y="17777"/>
                  </a:lnTo>
                  <a:lnTo>
                    <a:pt x="12559" y="17340"/>
                  </a:lnTo>
                  <a:lnTo>
                    <a:pt x="12963" y="16868"/>
                  </a:lnTo>
                  <a:lnTo>
                    <a:pt x="13333" y="16363"/>
                  </a:lnTo>
                  <a:lnTo>
                    <a:pt x="13670" y="15825"/>
                  </a:lnTo>
                  <a:lnTo>
                    <a:pt x="13973" y="15219"/>
                  </a:lnTo>
                  <a:lnTo>
                    <a:pt x="14209" y="14579"/>
                  </a:lnTo>
                  <a:lnTo>
                    <a:pt x="14411" y="13939"/>
                  </a:lnTo>
                  <a:lnTo>
                    <a:pt x="14512" y="13266"/>
                  </a:lnTo>
                  <a:lnTo>
                    <a:pt x="14613" y="12592"/>
                  </a:lnTo>
                  <a:lnTo>
                    <a:pt x="14646" y="11919"/>
                  </a:lnTo>
                  <a:lnTo>
                    <a:pt x="14646" y="11246"/>
                  </a:lnTo>
                  <a:lnTo>
                    <a:pt x="14613" y="10572"/>
                  </a:lnTo>
                  <a:lnTo>
                    <a:pt x="14545" y="9865"/>
                  </a:lnTo>
                  <a:lnTo>
                    <a:pt x="14478" y="8552"/>
                  </a:lnTo>
                  <a:lnTo>
                    <a:pt x="14444" y="7879"/>
                  </a:lnTo>
                  <a:lnTo>
                    <a:pt x="14377" y="7576"/>
                  </a:lnTo>
                  <a:lnTo>
                    <a:pt x="14310" y="7239"/>
                  </a:lnTo>
                  <a:lnTo>
                    <a:pt x="14209" y="6903"/>
                  </a:lnTo>
                  <a:lnTo>
                    <a:pt x="14074" y="6600"/>
                  </a:lnTo>
                  <a:lnTo>
                    <a:pt x="13805" y="5994"/>
                  </a:lnTo>
                  <a:lnTo>
                    <a:pt x="13468" y="5421"/>
                  </a:lnTo>
                  <a:lnTo>
                    <a:pt x="13064" y="4882"/>
                  </a:lnTo>
                  <a:lnTo>
                    <a:pt x="12660" y="4377"/>
                  </a:lnTo>
                  <a:lnTo>
                    <a:pt x="12222" y="3872"/>
                  </a:lnTo>
                  <a:lnTo>
                    <a:pt x="11785" y="3401"/>
                  </a:lnTo>
                  <a:lnTo>
                    <a:pt x="11313" y="2963"/>
                  </a:lnTo>
                  <a:lnTo>
                    <a:pt x="10808" y="2526"/>
                  </a:lnTo>
                  <a:lnTo>
                    <a:pt x="10303" y="2122"/>
                  </a:lnTo>
                  <a:lnTo>
                    <a:pt x="9764" y="1751"/>
                  </a:lnTo>
                  <a:lnTo>
                    <a:pt x="9226" y="1415"/>
                  </a:lnTo>
                  <a:lnTo>
                    <a:pt x="8653" y="1112"/>
                  </a:lnTo>
                  <a:lnTo>
                    <a:pt x="8081" y="842"/>
                  </a:lnTo>
                  <a:lnTo>
                    <a:pt x="7475" y="607"/>
                  </a:lnTo>
                  <a:lnTo>
                    <a:pt x="6869" y="405"/>
                  </a:lnTo>
                  <a:lnTo>
                    <a:pt x="6229" y="236"/>
                  </a:lnTo>
                  <a:lnTo>
                    <a:pt x="5590" y="102"/>
                  </a:lnTo>
                  <a:lnTo>
                    <a:pt x="4950" y="34"/>
                  </a:lnTo>
                  <a:lnTo>
                    <a:pt x="431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hape 889"/>
            <p:cNvSpPr/>
            <p:nvPr/>
          </p:nvSpPr>
          <p:spPr>
            <a:xfrm>
              <a:off x="1699920" y="693720"/>
              <a:ext cx="210960" cy="1918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99" h="2897">
                  <a:moveTo>
                    <a:pt x="2963" y="1"/>
                  </a:moveTo>
                  <a:lnTo>
                    <a:pt x="2963" y="34"/>
                  </a:lnTo>
                  <a:lnTo>
                    <a:pt x="2930" y="34"/>
                  </a:lnTo>
                  <a:lnTo>
                    <a:pt x="2896" y="338"/>
                  </a:lnTo>
                  <a:lnTo>
                    <a:pt x="2930" y="674"/>
                  </a:lnTo>
                  <a:lnTo>
                    <a:pt x="2963" y="1280"/>
                  </a:lnTo>
                  <a:lnTo>
                    <a:pt x="2963" y="1954"/>
                  </a:lnTo>
                  <a:lnTo>
                    <a:pt x="2997" y="2290"/>
                  </a:lnTo>
                  <a:lnTo>
                    <a:pt x="3031" y="2627"/>
                  </a:lnTo>
                  <a:lnTo>
                    <a:pt x="2324" y="2627"/>
                  </a:lnTo>
                  <a:lnTo>
                    <a:pt x="1650" y="2661"/>
                  </a:lnTo>
                  <a:lnTo>
                    <a:pt x="977" y="2694"/>
                  </a:lnTo>
                  <a:lnTo>
                    <a:pt x="640" y="2728"/>
                  </a:lnTo>
                  <a:lnTo>
                    <a:pt x="270" y="2728"/>
                  </a:lnTo>
                  <a:lnTo>
                    <a:pt x="303" y="2391"/>
                  </a:lnTo>
                  <a:lnTo>
                    <a:pt x="303" y="2055"/>
                  </a:lnTo>
                  <a:lnTo>
                    <a:pt x="270" y="1348"/>
                  </a:lnTo>
                  <a:lnTo>
                    <a:pt x="236" y="742"/>
                  </a:lnTo>
                  <a:lnTo>
                    <a:pt x="202" y="439"/>
                  </a:lnTo>
                  <a:lnTo>
                    <a:pt x="101" y="169"/>
                  </a:lnTo>
                  <a:lnTo>
                    <a:pt x="68" y="169"/>
                  </a:lnTo>
                  <a:lnTo>
                    <a:pt x="0" y="472"/>
                  </a:lnTo>
                  <a:lnTo>
                    <a:pt x="0" y="775"/>
                  </a:lnTo>
                  <a:lnTo>
                    <a:pt x="34" y="1381"/>
                  </a:lnTo>
                  <a:lnTo>
                    <a:pt x="34" y="1718"/>
                  </a:lnTo>
                  <a:lnTo>
                    <a:pt x="101" y="2088"/>
                  </a:lnTo>
                  <a:lnTo>
                    <a:pt x="236" y="2795"/>
                  </a:lnTo>
                  <a:lnTo>
                    <a:pt x="236" y="2829"/>
                  </a:lnTo>
                  <a:lnTo>
                    <a:pt x="236" y="2863"/>
                  </a:lnTo>
                  <a:lnTo>
                    <a:pt x="539" y="2795"/>
                  </a:lnTo>
                  <a:lnTo>
                    <a:pt x="573" y="2863"/>
                  </a:lnTo>
                  <a:lnTo>
                    <a:pt x="640" y="2896"/>
                  </a:lnTo>
                  <a:lnTo>
                    <a:pt x="842" y="2896"/>
                  </a:lnTo>
                  <a:lnTo>
                    <a:pt x="1347" y="2863"/>
                  </a:lnTo>
                  <a:lnTo>
                    <a:pt x="2223" y="2829"/>
                  </a:lnTo>
                  <a:lnTo>
                    <a:pt x="3064" y="2795"/>
                  </a:lnTo>
                  <a:lnTo>
                    <a:pt x="3098" y="2795"/>
                  </a:lnTo>
                  <a:lnTo>
                    <a:pt x="3098" y="2762"/>
                  </a:lnTo>
                  <a:lnTo>
                    <a:pt x="3132" y="2762"/>
                  </a:lnTo>
                  <a:lnTo>
                    <a:pt x="3165" y="2694"/>
                  </a:lnTo>
                  <a:lnTo>
                    <a:pt x="3199" y="2391"/>
                  </a:lnTo>
                  <a:lnTo>
                    <a:pt x="3199" y="2088"/>
                  </a:lnTo>
                  <a:lnTo>
                    <a:pt x="3199" y="1482"/>
                  </a:lnTo>
                  <a:lnTo>
                    <a:pt x="3165" y="742"/>
                  </a:lnTo>
                  <a:lnTo>
                    <a:pt x="3132" y="371"/>
                  </a:lnTo>
                  <a:lnTo>
                    <a:pt x="3031" y="34"/>
                  </a:lnTo>
                  <a:lnTo>
                    <a:pt x="296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75240" bIns="75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hape 890"/>
            <p:cNvSpPr/>
            <p:nvPr/>
          </p:nvSpPr>
          <p:spPr>
            <a:xfrm>
              <a:off x="536400" y="739800"/>
              <a:ext cx="228600" cy="199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435" h="2998">
                  <a:moveTo>
                    <a:pt x="1279" y="1"/>
                  </a:moveTo>
                  <a:lnTo>
                    <a:pt x="909" y="68"/>
                  </a:lnTo>
                  <a:lnTo>
                    <a:pt x="539" y="136"/>
                  </a:lnTo>
                  <a:lnTo>
                    <a:pt x="202" y="203"/>
                  </a:lnTo>
                  <a:lnTo>
                    <a:pt x="101" y="136"/>
                  </a:lnTo>
                  <a:lnTo>
                    <a:pt x="34" y="136"/>
                  </a:lnTo>
                  <a:lnTo>
                    <a:pt x="0" y="169"/>
                  </a:lnTo>
                  <a:lnTo>
                    <a:pt x="0" y="237"/>
                  </a:lnTo>
                  <a:lnTo>
                    <a:pt x="34" y="304"/>
                  </a:lnTo>
                  <a:lnTo>
                    <a:pt x="67" y="338"/>
                  </a:lnTo>
                  <a:lnTo>
                    <a:pt x="34" y="876"/>
                  </a:lnTo>
                  <a:lnTo>
                    <a:pt x="67" y="1684"/>
                  </a:lnTo>
                  <a:lnTo>
                    <a:pt x="135" y="2896"/>
                  </a:lnTo>
                  <a:lnTo>
                    <a:pt x="168" y="2997"/>
                  </a:lnTo>
                  <a:lnTo>
                    <a:pt x="269" y="2997"/>
                  </a:lnTo>
                  <a:lnTo>
                    <a:pt x="337" y="2964"/>
                  </a:lnTo>
                  <a:lnTo>
                    <a:pt x="337" y="2896"/>
                  </a:lnTo>
                  <a:lnTo>
                    <a:pt x="303" y="1920"/>
                  </a:lnTo>
                  <a:lnTo>
                    <a:pt x="269" y="944"/>
                  </a:lnTo>
                  <a:lnTo>
                    <a:pt x="269" y="674"/>
                  </a:lnTo>
                  <a:lnTo>
                    <a:pt x="269" y="371"/>
                  </a:lnTo>
                  <a:lnTo>
                    <a:pt x="943" y="304"/>
                  </a:lnTo>
                  <a:lnTo>
                    <a:pt x="1616" y="270"/>
                  </a:lnTo>
                  <a:lnTo>
                    <a:pt x="1986" y="270"/>
                  </a:lnTo>
                  <a:lnTo>
                    <a:pt x="2357" y="304"/>
                  </a:lnTo>
                  <a:lnTo>
                    <a:pt x="2727" y="338"/>
                  </a:lnTo>
                  <a:lnTo>
                    <a:pt x="3098" y="371"/>
                  </a:lnTo>
                  <a:lnTo>
                    <a:pt x="3131" y="371"/>
                  </a:lnTo>
                  <a:lnTo>
                    <a:pt x="3098" y="573"/>
                  </a:lnTo>
                  <a:lnTo>
                    <a:pt x="3098" y="809"/>
                  </a:lnTo>
                  <a:lnTo>
                    <a:pt x="3098" y="1247"/>
                  </a:lnTo>
                  <a:lnTo>
                    <a:pt x="3098" y="2055"/>
                  </a:lnTo>
                  <a:lnTo>
                    <a:pt x="3131" y="2425"/>
                  </a:lnTo>
                  <a:lnTo>
                    <a:pt x="3199" y="2795"/>
                  </a:lnTo>
                  <a:lnTo>
                    <a:pt x="2795" y="2728"/>
                  </a:lnTo>
                  <a:lnTo>
                    <a:pt x="2390" y="2728"/>
                  </a:lnTo>
                  <a:lnTo>
                    <a:pt x="1549" y="2694"/>
                  </a:lnTo>
                  <a:lnTo>
                    <a:pt x="774" y="2694"/>
                  </a:lnTo>
                  <a:lnTo>
                    <a:pt x="640" y="2762"/>
                  </a:lnTo>
                  <a:lnTo>
                    <a:pt x="505" y="2795"/>
                  </a:lnTo>
                  <a:lnTo>
                    <a:pt x="370" y="2896"/>
                  </a:lnTo>
                  <a:lnTo>
                    <a:pt x="539" y="2930"/>
                  </a:lnTo>
                  <a:lnTo>
                    <a:pt x="707" y="2964"/>
                  </a:lnTo>
                  <a:lnTo>
                    <a:pt x="1044" y="2964"/>
                  </a:lnTo>
                  <a:lnTo>
                    <a:pt x="1414" y="2930"/>
                  </a:lnTo>
                  <a:lnTo>
                    <a:pt x="1784" y="2930"/>
                  </a:lnTo>
                  <a:lnTo>
                    <a:pt x="2525" y="2997"/>
                  </a:lnTo>
                  <a:lnTo>
                    <a:pt x="2929" y="2997"/>
                  </a:lnTo>
                  <a:lnTo>
                    <a:pt x="3300" y="2930"/>
                  </a:lnTo>
                  <a:lnTo>
                    <a:pt x="3333" y="2930"/>
                  </a:lnTo>
                  <a:lnTo>
                    <a:pt x="3401" y="2896"/>
                  </a:lnTo>
                  <a:lnTo>
                    <a:pt x="3434" y="2829"/>
                  </a:lnTo>
                  <a:lnTo>
                    <a:pt x="3434" y="2795"/>
                  </a:lnTo>
                  <a:lnTo>
                    <a:pt x="3367" y="2425"/>
                  </a:lnTo>
                  <a:lnTo>
                    <a:pt x="3333" y="2021"/>
                  </a:lnTo>
                  <a:lnTo>
                    <a:pt x="3300" y="1247"/>
                  </a:lnTo>
                  <a:lnTo>
                    <a:pt x="3333" y="674"/>
                  </a:lnTo>
                  <a:lnTo>
                    <a:pt x="3300" y="405"/>
                  </a:lnTo>
                  <a:lnTo>
                    <a:pt x="3232" y="136"/>
                  </a:lnTo>
                  <a:lnTo>
                    <a:pt x="3232" y="102"/>
                  </a:lnTo>
                  <a:lnTo>
                    <a:pt x="3199" y="136"/>
                  </a:lnTo>
                  <a:lnTo>
                    <a:pt x="3165" y="270"/>
                  </a:lnTo>
                  <a:lnTo>
                    <a:pt x="3131" y="237"/>
                  </a:lnTo>
                  <a:lnTo>
                    <a:pt x="2795" y="102"/>
                  </a:lnTo>
                  <a:lnTo>
                    <a:pt x="2424" y="35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Shape 891"/>
            <p:cNvSpPr/>
            <p:nvPr/>
          </p:nvSpPr>
          <p:spPr>
            <a:xfrm>
              <a:off x="2520720" y="284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12" h="809">
                  <a:moveTo>
                    <a:pt x="371" y="0"/>
                  </a:moveTo>
                  <a:lnTo>
                    <a:pt x="304" y="34"/>
                  </a:lnTo>
                  <a:lnTo>
                    <a:pt x="203" y="101"/>
                  </a:lnTo>
                  <a:lnTo>
                    <a:pt x="102" y="202"/>
                  </a:lnTo>
                  <a:lnTo>
                    <a:pt x="1" y="404"/>
                  </a:lnTo>
                  <a:lnTo>
                    <a:pt x="1" y="472"/>
                  </a:lnTo>
                  <a:lnTo>
                    <a:pt x="34" y="505"/>
                  </a:lnTo>
                  <a:lnTo>
                    <a:pt x="371" y="775"/>
                  </a:lnTo>
                  <a:lnTo>
                    <a:pt x="472" y="808"/>
                  </a:lnTo>
                  <a:lnTo>
                    <a:pt x="539" y="775"/>
                  </a:lnTo>
                  <a:lnTo>
                    <a:pt x="573" y="707"/>
                  </a:lnTo>
                  <a:lnTo>
                    <a:pt x="506" y="606"/>
                  </a:lnTo>
                  <a:lnTo>
                    <a:pt x="337" y="472"/>
                  </a:lnTo>
                  <a:lnTo>
                    <a:pt x="674" y="438"/>
                  </a:lnTo>
                  <a:lnTo>
                    <a:pt x="1044" y="371"/>
                  </a:lnTo>
                  <a:lnTo>
                    <a:pt x="1112" y="337"/>
                  </a:lnTo>
                  <a:lnTo>
                    <a:pt x="1112" y="270"/>
                  </a:lnTo>
                  <a:lnTo>
                    <a:pt x="1112" y="202"/>
                  </a:lnTo>
                  <a:lnTo>
                    <a:pt x="1044" y="169"/>
                  </a:lnTo>
                  <a:lnTo>
                    <a:pt x="674" y="236"/>
                  </a:lnTo>
                  <a:lnTo>
                    <a:pt x="304" y="303"/>
                  </a:lnTo>
                  <a:lnTo>
                    <a:pt x="405" y="169"/>
                  </a:lnTo>
                  <a:lnTo>
                    <a:pt x="438" y="101"/>
                  </a:lnTo>
                  <a:lnTo>
                    <a:pt x="405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hape 892"/>
            <p:cNvSpPr/>
            <p:nvPr/>
          </p:nvSpPr>
          <p:spPr>
            <a:xfrm>
              <a:off x="1411200" y="6120000"/>
              <a:ext cx="628560" cy="5000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9461" h="7543">
                  <a:moveTo>
                    <a:pt x="3805" y="472"/>
                  </a:moveTo>
                  <a:lnTo>
                    <a:pt x="4377" y="573"/>
                  </a:lnTo>
                  <a:lnTo>
                    <a:pt x="4916" y="708"/>
                  </a:lnTo>
                  <a:lnTo>
                    <a:pt x="5488" y="876"/>
                  </a:lnTo>
                  <a:lnTo>
                    <a:pt x="6027" y="1044"/>
                  </a:lnTo>
                  <a:lnTo>
                    <a:pt x="6566" y="1246"/>
                  </a:lnTo>
                  <a:lnTo>
                    <a:pt x="7104" y="1482"/>
                  </a:lnTo>
                  <a:lnTo>
                    <a:pt x="7643" y="1718"/>
                  </a:lnTo>
                  <a:lnTo>
                    <a:pt x="8182" y="1953"/>
                  </a:lnTo>
                  <a:lnTo>
                    <a:pt x="8586" y="2223"/>
                  </a:lnTo>
                  <a:lnTo>
                    <a:pt x="8754" y="2357"/>
                  </a:lnTo>
                  <a:lnTo>
                    <a:pt x="8922" y="2526"/>
                  </a:lnTo>
                  <a:lnTo>
                    <a:pt x="9023" y="2694"/>
                  </a:lnTo>
                  <a:lnTo>
                    <a:pt x="9124" y="2896"/>
                  </a:lnTo>
                  <a:lnTo>
                    <a:pt x="9192" y="3132"/>
                  </a:lnTo>
                  <a:lnTo>
                    <a:pt x="9225" y="3367"/>
                  </a:lnTo>
                  <a:lnTo>
                    <a:pt x="9192" y="3670"/>
                  </a:lnTo>
                  <a:lnTo>
                    <a:pt x="6498" y="2088"/>
                  </a:lnTo>
                  <a:lnTo>
                    <a:pt x="3805" y="472"/>
                  </a:lnTo>
                  <a:close/>
                  <a:moveTo>
                    <a:pt x="2256" y="203"/>
                  </a:moveTo>
                  <a:lnTo>
                    <a:pt x="2290" y="236"/>
                  </a:lnTo>
                  <a:lnTo>
                    <a:pt x="2323" y="270"/>
                  </a:lnTo>
                  <a:lnTo>
                    <a:pt x="2896" y="337"/>
                  </a:lnTo>
                  <a:lnTo>
                    <a:pt x="3502" y="405"/>
                  </a:lnTo>
                  <a:lnTo>
                    <a:pt x="3771" y="708"/>
                  </a:lnTo>
                  <a:lnTo>
                    <a:pt x="4074" y="943"/>
                  </a:lnTo>
                  <a:lnTo>
                    <a:pt x="4377" y="1179"/>
                  </a:lnTo>
                  <a:lnTo>
                    <a:pt x="4747" y="1415"/>
                  </a:lnTo>
                  <a:lnTo>
                    <a:pt x="5454" y="1819"/>
                  </a:lnTo>
                  <a:lnTo>
                    <a:pt x="6128" y="2189"/>
                  </a:lnTo>
                  <a:lnTo>
                    <a:pt x="9124" y="3940"/>
                  </a:lnTo>
                  <a:lnTo>
                    <a:pt x="7879" y="3603"/>
                  </a:lnTo>
                  <a:lnTo>
                    <a:pt x="7205" y="3435"/>
                  </a:lnTo>
                  <a:lnTo>
                    <a:pt x="6498" y="3300"/>
                  </a:lnTo>
                  <a:lnTo>
                    <a:pt x="5825" y="3199"/>
                  </a:lnTo>
                  <a:lnTo>
                    <a:pt x="5084" y="3132"/>
                  </a:lnTo>
                  <a:lnTo>
                    <a:pt x="4377" y="3098"/>
                  </a:lnTo>
                  <a:lnTo>
                    <a:pt x="3670" y="3098"/>
                  </a:lnTo>
                  <a:lnTo>
                    <a:pt x="3670" y="3064"/>
                  </a:lnTo>
                  <a:lnTo>
                    <a:pt x="3636" y="3031"/>
                  </a:lnTo>
                  <a:lnTo>
                    <a:pt x="2896" y="2627"/>
                  </a:lnTo>
                  <a:lnTo>
                    <a:pt x="2121" y="2256"/>
                  </a:lnTo>
                  <a:lnTo>
                    <a:pt x="1414" y="1852"/>
                  </a:lnTo>
                  <a:lnTo>
                    <a:pt x="1010" y="1650"/>
                  </a:lnTo>
                  <a:lnTo>
                    <a:pt x="640" y="1516"/>
                  </a:lnTo>
                  <a:lnTo>
                    <a:pt x="775" y="1280"/>
                  </a:lnTo>
                  <a:lnTo>
                    <a:pt x="943" y="1078"/>
                  </a:lnTo>
                  <a:lnTo>
                    <a:pt x="1111" y="876"/>
                  </a:lnTo>
                  <a:lnTo>
                    <a:pt x="1313" y="708"/>
                  </a:lnTo>
                  <a:lnTo>
                    <a:pt x="1515" y="539"/>
                  </a:lnTo>
                  <a:lnTo>
                    <a:pt x="1751" y="405"/>
                  </a:lnTo>
                  <a:lnTo>
                    <a:pt x="1987" y="304"/>
                  </a:lnTo>
                  <a:lnTo>
                    <a:pt x="2256" y="203"/>
                  </a:lnTo>
                  <a:close/>
                  <a:moveTo>
                    <a:pt x="573" y="1583"/>
                  </a:moveTo>
                  <a:lnTo>
                    <a:pt x="943" y="1819"/>
                  </a:lnTo>
                  <a:lnTo>
                    <a:pt x="1280" y="2021"/>
                  </a:lnTo>
                  <a:lnTo>
                    <a:pt x="2054" y="2425"/>
                  </a:lnTo>
                  <a:lnTo>
                    <a:pt x="2727" y="2795"/>
                  </a:lnTo>
                  <a:lnTo>
                    <a:pt x="3401" y="3132"/>
                  </a:lnTo>
                  <a:lnTo>
                    <a:pt x="2963" y="3165"/>
                  </a:lnTo>
                  <a:lnTo>
                    <a:pt x="2525" y="3266"/>
                  </a:lnTo>
                  <a:lnTo>
                    <a:pt x="2088" y="3367"/>
                  </a:lnTo>
                  <a:lnTo>
                    <a:pt x="1684" y="3502"/>
                  </a:lnTo>
                  <a:lnTo>
                    <a:pt x="1280" y="3637"/>
                  </a:lnTo>
                  <a:lnTo>
                    <a:pt x="876" y="3839"/>
                  </a:lnTo>
                  <a:lnTo>
                    <a:pt x="505" y="4074"/>
                  </a:lnTo>
                  <a:lnTo>
                    <a:pt x="169" y="4344"/>
                  </a:lnTo>
                  <a:lnTo>
                    <a:pt x="135" y="3805"/>
                  </a:lnTo>
                  <a:lnTo>
                    <a:pt x="169" y="3233"/>
                  </a:lnTo>
                  <a:lnTo>
                    <a:pt x="236" y="2728"/>
                  </a:lnTo>
                  <a:lnTo>
                    <a:pt x="337" y="2256"/>
                  </a:lnTo>
                  <a:lnTo>
                    <a:pt x="438" y="1920"/>
                  </a:lnTo>
                  <a:lnTo>
                    <a:pt x="573" y="1583"/>
                  </a:lnTo>
                  <a:close/>
                  <a:moveTo>
                    <a:pt x="4882" y="3334"/>
                  </a:moveTo>
                  <a:lnTo>
                    <a:pt x="5488" y="3401"/>
                  </a:lnTo>
                  <a:lnTo>
                    <a:pt x="6094" y="3468"/>
                  </a:lnTo>
                  <a:lnTo>
                    <a:pt x="6667" y="3569"/>
                  </a:lnTo>
                  <a:lnTo>
                    <a:pt x="7879" y="3839"/>
                  </a:lnTo>
                  <a:lnTo>
                    <a:pt x="9057" y="4108"/>
                  </a:lnTo>
                  <a:lnTo>
                    <a:pt x="8855" y="4512"/>
                  </a:lnTo>
                  <a:lnTo>
                    <a:pt x="8586" y="4916"/>
                  </a:lnTo>
                  <a:lnTo>
                    <a:pt x="8518" y="5017"/>
                  </a:lnTo>
                  <a:lnTo>
                    <a:pt x="8485" y="4983"/>
                  </a:lnTo>
                  <a:lnTo>
                    <a:pt x="8451" y="4983"/>
                  </a:lnTo>
                  <a:lnTo>
                    <a:pt x="7172" y="4647"/>
                  </a:lnTo>
                  <a:lnTo>
                    <a:pt x="5892" y="4344"/>
                  </a:lnTo>
                  <a:lnTo>
                    <a:pt x="5252" y="4209"/>
                  </a:lnTo>
                  <a:lnTo>
                    <a:pt x="4613" y="4074"/>
                  </a:lnTo>
                  <a:lnTo>
                    <a:pt x="4310" y="4007"/>
                  </a:lnTo>
                  <a:lnTo>
                    <a:pt x="3973" y="3973"/>
                  </a:lnTo>
                  <a:lnTo>
                    <a:pt x="3670" y="3940"/>
                  </a:lnTo>
                  <a:lnTo>
                    <a:pt x="3367" y="3973"/>
                  </a:lnTo>
                  <a:lnTo>
                    <a:pt x="3165" y="4007"/>
                  </a:lnTo>
                  <a:lnTo>
                    <a:pt x="2997" y="4074"/>
                  </a:lnTo>
                  <a:lnTo>
                    <a:pt x="2694" y="4209"/>
                  </a:lnTo>
                  <a:lnTo>
                    <a:pt x="2391" y="4411"/>
                  </a:lnTo>
                  <a:lnTo>
                    <a:pt x="2088" y="4613"/>
                  </a:lnTo>
                  <a:lnTo>
                    <a:pt x="1381" y="5118"/>
                  </a:lnTo>
                  <a:lnTo>
                    <a:pt x="640" y="5556"/>
                  </a:lnTo>
                  <a:lnTo>
                    <a:pt x="539" y="5455"/>
                  </a:lnTo>
                  <a:lnTo>
                    <a:pt x="404" y="5219"/>
                  </a:lnTo>
                  <a:lnTo>
                    <a:pt x="303" y="4983"/>
                  </a:lnTo>
                  <a:lnTo>
                    <a:pt x="236" y="4748"/>
                  </a:lnTo>
                  <a:lnTo>
                    <a:pt x="169" y="4478"/>
                  </a:lnTo>
                  <a:lnTo>
                    <a:pt x="674" y="4209"/>
                  </a:lnTo>
                  <a:lnTo>
                    <a:pt x="1145" y="3973"/>
                  </a:lnTo>
                  <a:lnTo>
                    <a:pt x="1650" y="3805"/>
                  </a:lnTo>
                  <a:lnTo>
                    <a:pt x="2155" y="3637"/>
                  </a:lnTo>
                  <a:lnTo>
                    <a:pt x="2660" y="3502"/>
                  </a:lnTo>
                  <a:lnTo>
                    <a:pt x="3165" y="3401"/>
                  </a:lnTo>
                  <a:lnTo>
                    <a:pt x="3704" y="3367"/>
                  </a:lnTo>
                  <a:lnTo>
                    <a:pt x="4276" y="3334"/>
                  </a:lnTo>
                  <a:close/>
                  <a:moveTo>
                    <a:pt x="3838" y="4108"/>
                  </a:moveTo>
                  <a:lnTo>
                    <a:pt x="4175" y="4142"/>
                  </a:lnTo>
                  <a:lnTo>
                    <a:pt x="4512" y="4209"/>
                  </a:lnTo>
                  <a:lnTo>
                    <a:pt x="5219" y="4377"/>
                  </a:lnTo>
                  <a:lnTo>
                    <a:pt x="5825" y="4546"/>
                  </a:lnTo>
                  <a:lnTo>
                    <a:pt x="7104" y="4849"/>
                  </a:lnTo>
                  <a:lnTo>
                    <a:pt x="8417" y="5152"/>
                  </a:lnTo>
                  <a:lnTo>
                    <a:pt x="8013" y="5690"/>
                  </a:lnTo>
                  <a:lnTo>
                    <a:pt x="7542" y="6195"/>
                  </a:lnTo>
                  <a:lnTo>
                    <a:pt x="7003" y="6633"/>
                  </a:lnTo>
                  <a:lnTo>
                    <a:pt x="6465" y="7003"/>
                  </a:lnTo>
                  <a:lnTo>
                    <a:pt x="6263" y="7105"/>
                  </a:lnTo>
                  <a:lnTo>
                    <a:pt x="6094" y="7206"/>
                  </a:lnTo>
                  <a:lnTo>
                    <a:pt x="5690" y="7307"/>
                  </a:lnTo>
                  <a:lnTo>
                    <a:pt x="5252" y="7340"/>
                  </a:lnTo>
                  <a:lnTo>
                    <a:pt x="4848" y="7307"/>
                  </a:lnTo>
                  <a:lnTo>
                    <a:pt x="4411" y="7273"/>
                  </a:lnTo>
                  <a:lnTo>
                    <a:pt x="4007" y="7172"/>
                  </a:lnTo>
                  <a:lnTo>
                    <a:pt x="3199" y="6936"/>
                  </a:lnTo>
                  <a:lnTo>
                    <a:pt x="2525" y="6734"/>
                  </a:lnTo>
                  <a:lnTo>
                    <a:pt x="1886" y="6465"/>
                  </a:lnTo>
                  <a:lnTo>
                    <a:pt x="1549" y="6296"/>
                  </a:lnTo>
                  <a:lnTo>
                    <a:pt x="1246" y="6128"/>
                  </a:lnTo>
                  <a:lnTo>
                    <a:pt x="977" y="5926"/>
                  </a:lnTo>
                  <a:lnTo>
                    <a:pt x="741" y="5657"/>
                  </a:lnTo>
                  <a:lnTo>
                    <a:pt x="1044" y="5589"/>
                  </a:lnTo>
                  <a:lnTo>
                    <a:pt x="1381" y="5421"/>
                  </a:lnTo>
                  <a:lnTo>
                    <a:pt x="1684" y="5219"/>
                  </a:lnTo>
                  <a:lnTo>
                    <a:pt x="1987" y="4983"/>
                  </a:lnTo>
                  <a:lnTo>
                    <a:pt x="2593" y="4512"/>
                  </a:lnTo>
                  <a:lnTo>
                    <a:pt x="2896" y="4344"/>
                  </a:lnTo>
                  <a:lnTo>
                    <a:pt x="3199" y="4209"/>
                  </a:lnTo>
                  <a:lnTo>
                    <a:pt x="3502" y="4142"/>
                  </a:lnTo>
                  <a:lnTo>
                    <a:pt x="3838" y="4108"/>
                  </a:lnTo>
                  <a:close/>
                  <a:moveTo>
                    <a:pt x="2323" y="1"/>
                  </a:moveTo>
                  <a:lnTo>
                    <a:pt x="1953" y="68"/>
                  </a:lnTo>
                  <a:lnTo>
                    <a:pt x="1616" y="169"/>
                  </a:lnTo>
                  <a:lnTo>
                    <a:pt x="1313" y="337"/>
                  </a:lnTo>
                  <a:lnTo>
                    <a:pt x="1044" y="573"/>
                  </a:lnTo>
                  <a:lnTo>
                    <a:pt x="808" y="842"/>
                  </a:lnTo>
                  <a:lnTo>
                    <a:pt x="606" y="1145"/>
                  </a:lnTo>
                  <a:lnTo>
                    <a:pt x="438" y="1482"/>
                  </a:lnTo>
                  <a:lnTo>
                    <a:pt x="303" y="1819"/>
                  </a:lnTo>
                  <a:lnTo>
                    <a:pt x="202" y="2189"/>
                  </a:lnTo>
                  <a:lnTo>
                    <a:pt x="101" y="2593"/>
                  </a:lnTo>
                  <a:lnTo>
                    <a:pt x="34" y="2963"/>
                  </a:lnTo>
                  <a:lnTo>
                    <a:pt x="0" y="3367"/>
                  </a:lnTo>
                  <a:lnTo>
                    <a:pt x="0" y="3738"/>
                  </a:lnTo>
                  <a:lnTo>
                    <a:pt x="0" y="4445"/>
                  </a:lnTo>
                  <a:lnTo>
                    <a:pt x="0" y="4478"/>
                  </a:lnTo>
                  <a:lnTo>
                    <a:pt x="0" y="4512"/>
                  </a:lnTo>
                  <a:lnTo>
                    <a:pt x="0" y="4546"/>
                  </a:lnTo>
                  <a:lnTo>
                    <a:pt x="34" y="4781"/>
                  </a:lnTo>
                  <a:lnTo>
                    <a:pt x="68" y="4950"/>
                  </a:lnTo>
                  <a:lnTo>
                    <a:pt x="135" y="5152"/>
                  </a:lnTo>
                  <a:lnTo>
                    <a:pt x="303" y="5455"/>
                  </a:lnTo>
                  <a:lnTo>
                    <a:pt x="539" y="5758"/>
                  </a:lnTo>
                  <a:lnTo>
                    <a:pt x="808" y="6027"/>
                  </a:lnTo>
                  <a:lnTo>
                    <a:pt x="1111" y="6263"/>
                  </a:lnTo>
                  <a:lnTo>
                    <a:pt x="1414" y="6465"/>
                  </a:lnTo>
                  <a:lnTo>
                    <a:pt x="1751" y="6633"/>
                  </a:lnTo>
                  <a:lnTo>
                    <a:pt x="2088" y="6768"/>
                  </a:lnTo>
                  <a:lnTo>
                    <a:pt x="2929" y="7105"/>
                  </a:lnTo>
                  <a:lnTo>
                    <a:pt x="3401" y="7273"/>
                  </a:lnTo>
                  <a:lnTo>
                    <a:pt x="3872" y="7374"/>
                  </a:lnTo>
                  <a:lnTo>
                    <a:pt x="4343" y="7475"/>
                  </a:lnTo>
                  <a:lnTo>
                    <a:pt x="4815" y="7542"/>
                  </a:lnTo>
                  <a:lnTo>
                    <a:pt x="5286" y="7542"/>
                  </a:lnTo>
                  <a:lnTo>
                    <a:pt x="5724" y="7475"/>
                  </a:lnTo>
                  <a:lnTo>
                    <a:pt x="6162" y="7374"/>
                  </a:lnTo>
                  <a:lnTo>
                    <a:pt x="6532" y="7172"/>
                  </a:lnTo>
                  <a:lnTo>
                    <a:pt x="6936" y="6970"/>
                  </a:lnTo>
                  <a:lnTo>
                    <a:pt x="7273" y="6700"/>
                  </a:lnTo>
                  <a:lnTo>
                    <a:pt x="7609" y="6397"/>
                  </a:lnTo>
                  <a:lnTo>
                    <a:pt x="7912" y="6061"/>
                  </a:lnTo>
                  <a:lnTo>
                    <a:pt x="8485" y="5387"/>
                  </a:lnTo>
                  <a:lnTo>
                    <a:pt x="8720" y="5118"/>
                  </a:lnTo>
                  <a:lnTo>
                    <a:pt x="8922" y="4781"/>
                  </a:lnTo>
                  <a:lnTo>
                    <a:pt x="9124" y="4411"/>
                  </a:lnTo>
                  <a:lnTo>
                    <a:pt x="9293" y="4041"/>
                  </a:lnTo>
                  <a:lnTo>
                    <a:pt x="9394" y="4041"/>
                  </a:lnTo>
                  <a:lnTo>
                    <a:pt x="9461" y="3973"/>
                  </a:lnTo>
                  <a:lnTo>
                    <a:pt x="9461" y="3872"/>
                  </a:lnTo>
                  <a:lnTo>
                    <a:pt x="9461" y="3839"/>
                  </a:lnTo>
                  <a:lnTo>
                    <a:pt x="9427" y="3805"/>
                  </a:lnTo>
                  <a:lnTo>
                    <a:pt x="9394" y="3771"/>
                  </a:lnTo>
                  <a:lnTo>
                    <a:pt x="9427" y="3502"/>
                  </a:lnTo>
                  <a:lnTo>
                    <a:pt x="9427" y="3233"/>
                  </a:lnTo>
                  <a:lnTo>
                    <a:pt x="9394" y="2997"/>
                  </a:lnTo>
                  <a:lnTo>
                    <a:pt x="9293" y="2728"/>
                  </a:lnTo>
                  <a:lnTo>
                    <a:pt x="9192" y="2559"/>
                  </a:lnTo>
                  <a:lnTo>
                    <a:pt x="9091" y="2391"/>
                  </a:lnTo>
                  <a:lnTo>
                    <a:pt x="8788" y="2122"/>
                  </a:lnTo>
                  <a:lnTo>
                    <a:pt x="8451" y="1852"/>
                  </a:lnTo>
                  <a:lnTo>
                    <a:pt x="8081" y="1650"/>
                  </a:lnTo>
                  <a:lnTo>
                    <a:pt x="7677" y="1448"/>
                  </a:lnTo>
                  <a:lnTo>
                    <a:pt x="7273" y="1280"/>
                  </a:lnTo>
                  <a:lnTo>
                    <a:pt x="6498" y="1011"/>
                  </a:lnTo>
                  <a:lnTo>
                    <a:pt x="5589" y="674"/>
                  </a:lnTo>
                  <a:lnTo>
                    <a:pt x="4646" y="438"/>
                  </a:lnTo>
                  <a:lnTo>
                    <a:pt x="3704" y="236"/>
                  </a:lnTo>
                  <a:lnTo>
                    <a:pt x="2761" y="102"/>
                  </a:lnTo>
                  <a:lnTo>
                    <a:pt x="2761" y="34"/>
                  </a:lnTo>
                  <a:lnTo>
                    <a:pt x="272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hape 893"/>
            <p:cNvSpPr/>
            <p:nvPr/>
          </p:nvSpPr>
          <p:spPr>
            <a:xfrm>
              <a:off x="8012160" y="6612120"/>
              <a:ext cx="814320" cy="25848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2256" h="3906">
                  <a:moveTo>
                    <a:pt x="2492" y="775"/>
                  </a:moveTo>
                  <a:lnTo>
                    <a:pt x="2727" y="809"/>
                  </a:lnTo>
                  <a:lnTo>
                    <a:pt x="2963" y="943"/>
                  </a:lnTo>
                  <a:lnTo>
                    <a:pt x="3131" y="1078"/>
                  </a:lnTo>
                  <a:lnTo>
                    <a:pt x="3266" y="1280"/>
                  </a:lnTo>
                  <a:lnTo>
                    <a:pt x="3333" y="1549"/>
                  </a:lnTo>
                  <a:lnTo>
                    <a:pt x="2727" y="2189"/>
                  </a:lnTo>
                  <a:lnTo>
                    <a:pt x="2222" y="2795"/>
                  </a:lnTo>
                  <a:lnTo>
                    <a:pt x="1953" y="3132"/>
                  </a:lnTo>
                  <a:lnTo>
                    <a:pt x="1684" y="3401"/>
                  </a:lnTo>
                  <a:lnTo>
                    <a:pt x="1515" y="3536"/>
                  </a:lnTo>
                  <a:lnTo>
                    <a:pt x="1347" y="3603"/>
                  </a:lnTo>
                  <a:lnTo>
                    <a:pt x="1145" y="3670"/>
                  </a:lnTo>
                  <a:lnTo>
                    <a:pt x="943" y="3670"/>
                  </a:lnTo>
                  <a:lnTo>
                    <a:pt x="808" y="3637"/>
                  </a:lnTo>
                  <a:lnTo>
                    <a:pt x="707" y="3569"/>
                  </a:lnTo>
                  <a:lnTo>
                    <a:pt x="606" y="3502"/>
                  </a:lnTo>
                  <a:lnTo>
                    <a:pt x="539" y="3435"/>
                  </a:lnTo>
                  <a:lnTo>
                    <a:pt x="404" y="3233"/>
                  </a:lnTo>
                  <a:lnTo>
                    <a:pt x="371" y="2997"/>
                  </a:lnTo>
                  <a:lnTo>
                    <a:pt x="371" y="2728"/>
                  </a:lnTo>
                  <a:lnTo>
                    <a:pt x="404" y="2492"/>
                  </a:lnTo>
                  <a:lnTo>
                    <a:pt x="472" y="2256"/>
                  </a:lnTo>
                  <a:lnTo>
                    <a:pt x="539" y="2054"/>
                  </a:lnTo>
                  <a:lnTo>
                    <a:pt x="640" y="1886"/>
                  </a:lnTo>
                  <a:lnTo>
                    <a:pt x="775" y="1751"/>
                  </a:lnTo>
                  <a:lnTo>
                    <a:pt x="1044" y="1482"/>
                  </a:lnTo>
                  <a:lnTo>
                    <a:pt x="1347" y="1213"/>
                  </a:lnTo>
                  <a:lnTo>
                    <a:pt x="1684" y="1011"/>
                  </a:lnTo>
                  <a:lnTo>
                    <a:pt x="1953" y="842"/>
                  </a:lnTo>
                  <a:lnTo>
                    <a:pt x="2256" y="775"/>
                  </a:lnTo>
                  <a:close/>
                  <a:moveTo>
                    <a:pt x="6229" y="1"/>
                  </a:moveTo>
                  <a:lnTo>
                    <a:pt x="5892" y="34"/>
                  </a:lnTo>
                  <a:lnTo>
                    <a:pt x="5556" y="102"/>
                  </a:lnTo>
                  <a:lnTo>
                    <a:pt x="5219" y="203"/>
                  </a:lnTo>
                  <a:lnTo>
                    <a:pt x="4882" y="371"/>
                  </a:lnTo>
                  <a:lnTo>
                    <a:pt x="4579" y="539"/>
                  </a:lnTo>
                  <a:lnTo>
                    <a:pt x="4242" y="775"/>
                  </a:lnTo>
                  <a:lnTo>
                    <a:pt x="3939" y="1011"/>
                  </a:lnTo>
                  <a:lnTo>
                    <a:pt x="3670" y="1246"/>
                  </a:lnTo>
                  <a:lnTo>
                    <a:pt x="3569" y="1078"/>
                  </a:lnTo>
                  <a:lnTo>
                    <a:pt x="3502" y="943"/>
                  </a:lnTo>
                  <a:lnTo>
                    <a:pt x="3401" y="809"/>
                  </a:lnTo>
                  <a:lnTo>
                    <a:pt x="3266" y="674"/>
                  </a:lnTo>
                  <a:lnTo>
                    <a:pt x="3131" y="573"/>
                  </a:lnTo>
                  <a:lnTo>
                    <a:pt x="2997" y="506"/>
                  </a:lnTo>
                  <a:lnTo>
                    <a:pt x="2828" y="438"/>
                  </a:lnTo>
                  <a:lnTo>
                    <a:pt x="2626" y="371"/>
                  </a:lnTo>
                  <a:lnTo>
                    <a:pt x="2391" y="371"/>
                  </a:lnTo>
                  <a:lnTo>
                    <a:pt x="2121" y="405"/>
                  </a:lnTo>
                  <a:lnTo>
                    <a:pt x="1886" y="506"/>
                  </a:lnTo>
                  <a:lnTo>
                    <a:pt x="1616" y="607"/>
                  </a:lnTo>
                  <a:lnTo>
                    <a:pt x="1414" y="741"/>
                  </a:lnTo>
                  <a:lnTo>
                    <a:pt x="1179" y="910"/>
                  </a:lnTo>
                  <a:lnTo>
                    <a:pt x="775" y="1246"/>
                  </a:lnTo>
                  <a:lnTo>
                    <a:pt x="505" y="1516"/>
                  </a:lnTo>
                  <a:lnTo>
                    <a:pt x="270" y="1852"/>
                  </a:lnTo>
                  <a:lnTo>
                    <a:pt x="101" y="2223"/>
                  </a:lnTo>
                  <a:lnTo>
                    <a:pt x="34" y="2627"/>
                  </a:lnTo>
                  <a:lnTo>
                    <a:pt x="0" y="2795"/>
                  </a:lnTo>
                  <a:lnTo>
                    <a:pt x="0" y="2997"/>
                  </a:lnTo>
                  <a:lnTo>
                    <a:pt x="34" y="3165"/>
                  </a:lnTo>
                  <a:lnTo>
                    <a:pt x="101" y="3334"/>
                  </a:lnTo>
                  <a:lnTo>
                    <a:pt x="202" y="3502"/>
                  </a:lnTo>
                  <a:lnTo>
                    <a:pt x="303" y="3670"/>
                  </a:lnTo>
                  <a:lnTo>
                    <a:pt x="438" y="3805"/>
                  </a:lnTo>
                  <a:lnTo>
                    <a:pt x="640" y="3906"/>
                  </a:lnTo>
                  <a:lnTo>
                    <a:pt x="1583" y="3906"/>
                  </a:lnTo>
                  <a:lnTo>
                    <a:pt x="1751" y="3771"/>
                  </a:lnTo>
                  <a:lnTo>
                    <a:pt x="1919" y="3637"/>
                  </a:lnTo>
                  <a:lnTo>
                    <a:pt x="2222" y="3334"/>
                  </a:lnTo>
                  <a:lnTo>
                    <a:pt x="2795" y="2728"/>
                  </a:lnTo>
                  <a:lnTo>
                    <a:pt x="3367" y="2088"/>
                  </a:lnTo>
                  <a:lnTo>
                    <a:pt x="3333" y="2189"/>
                  </a:lnTo>
                  <a:lnTo>
                    <a:pt x="3300" y="2425"/>
                  </a:lnTo>
                  <a:lnTo>
                    <a:pt x="3199" y="2627"/>
                  </a:lnTo>
                  <a:lnTo>
                    <a:pt x="2997" y="3064"/>
                  </a:lnTo>
                  <a:lnTo>
                    <a:pt x="2727" y="3502"/>
                  </a:lnTo>
                  <a:lnTo>
                    <a:pt x="2424" y="3906"/>
                  </a:lnTo>
                  <a:lnTo>
                    <a:pt x="2828" y="3906"/>
                  </a:lnTo>
                  <a:lnTo>
                    <a:pt x="2997" y="3670"/>
                  </a:lnTo>
                  <a:lnTo>
                    <a:pt x="3266" y="3233"/>
                  </a:lnTo>
                  <a:lnTo>
                    <a:pt x="3535" y="2761"/>
                  </a:lnTo>
                  <a:lnTo>
                    <a:pt x="3636" y="2492"/>
                  </a:lnTo>
                  <a:lnTo>
                    <a:pt x="3704" y="2223"/>
                  </a:lnTo>
                  <a:lnTo>
                    <a:pt x="3737" y="1987"/>
                  </a:lnTo>
                  <a:lnTo>
                    <a:pt x="3737" y="1718"/>
                  </a:lnTo>
                  <a:lnTo>
                    <a:pt x="4343" y="1213"/>
                  </a:lnTo>
                  <a:lnTo>
                    <a:pt x="4647" y="1011"/>
                  </a:lnTo>
                  <a:lnTo>
                    <a:pt x="4950" y="775"/>
                  </a:lnTo>
                  <a:lnTo>
                    <a:pt x="5286" y="607"/>
                  </a:lnTo>
                  <a:lnTo>
                    <a:pt x="5623" y="438"/>
                  </a:lnTo>
                  <a:lnTo>
                    <a:pt x="5859" y="371"/>
                  </a:lnTo>
                  <a:lnTo>
                    <a:pt x="6094" y="337"/>
                  </a:lnTo>
                  <a:lnTo>
                    <a:pt x="6330" y="371"/>
                  </a:lnTo>
                  <a:lnTo>
                    <a:pt x="6566" y="405"/>
                  </a:lnTo>
                  <a:lnTo>
                    <a:pt x="7003" y="573"/>
                  </a:lnTo>
                  <a:lnTo>
                    <a:pt x="7441" y="775"/>
                  </a:lnTo>
                  <a:lnTo>
                    <a:pt x="8114" y="1145"/>
                  </a:lnTo>
                  <a:lnTo>
                    <a:pt x="8754" y="1549"/>
                  </a:lnTo>
                  <a:lnTo>
                    <a:pt x="9394" y="1987"/>
                  </a:lnTo>
                  <a:lnTo>
                    <a:pt x="10000" y="2492"/>
                  </a:lnTo>
                  <a:lnTo>
                    <a:pt x="10370" y="2829"/>
                  </a:lnTo>
                  <a:lnTo>
                    <a:pt x="10740" y="3199"/>
                  </a:lnTo>
                  <a:lnTo>
                    <a:pt x="11111" y="3569"/>
                  </a:lnTo>
                  <a:lnTo>
                    <a:pt x="11515" y="3906"/>
                  </a:lnTo>
                  <a:lnTo>
                    <a:pt x="12255" y="3906"/>
                  </a:lnTo>
                  <a:lnTo>
                    <a:pt x="12020" y="3771"/>
                  </a:lnTo>
                  <a:lnTo>
                    <a:pt x="11784" y="3603"/>
                  </a:lnTo>
                  <a:lnTo>
                    <a:pt x="11313" y="3233"/>
                  </a:lnTo>
                  <a:lnTo>
                    <a:pt x="10572" y="2526"/>
                  </a:lnTo>
                  <a:lnTo>
                    <a:pt x="10101" y="2122"/>
                  </a:lnTo>
                  <a:lnTo>
                    <a:pt x="9629" y="1718"/>
                  </a:lnTo>
                  <a:lnTo>
                    <a:pt x="9091" y="1347"/>
                  </a:lnTo>
                  <a:lnTo>
                    <a:pt x="8586" y="1011"/>
                  </a:lnTo>
                  <a:lnTo>
                    <a:pt x="8047" y="674"/>
                  </a:lnTo>
                  <a:lnTo>
                    <a:pt x="7475" y="371"/>
                  </a:lnTo>
                  <a:lnTo>
                    <a:pt x="7172" y="203"/>
                  </a:lnTo>
                  <a:lnTo>
                    <a:pt x="6869" y="102"/>
                  </a:lnTo>
                  <a:lnTo>
                    <a:pt x="6532" y="34"/>
                  </a:lnTo>
                  <a:lnTo>
                    <a:pt x="622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hape 894"/>
            <p:cNvSpPr/>
            <p:nvPr/>
          </p:nvSpPr>
          <p:spPr>
            <a:xfrm>
              <a:off x="2166840" y="6373800"/>
              <a:ext cx="569880" cy="4968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8586" h="7475">
                  <a:moveTo>
                    <a:pt x="1582" y="169"/>
                  </a:moveTo>
                  <a:lnTo>
                    <a:pt x="1986" y="236"/>
                  </a:lnTo>
                  <a:lnTo>
                    <a:pt x="2357" y="337"/>
                  </a:lnTo>
                  <a:lnTo>
                    <a:pt x="2761" y="438"/>
                  </a:lnTo>
                  <a:lnTo>
                    <a:pt x="3535" y="708"/>
                  </a:lnTo>
                  <a:lnTo>
                    <a:pt x="4310" y="1011"/>
                  </a:lnTo>
                  <a:lnTo>
                    <a:pt x="5993" y="1684"/>
                  </a:lnTo>
                  <a:lnTo>
                    <a:pt x="7676" y="2458"/>
                  </a:lnTo>
                  <a:lnTo>
                    <a:pt x="7811" y="2526"/>
                  </a:lnTo>
                  <a:lnTo>
                    <a:pt x="7946" y="2627"/>
                  </a:lnTo>
                  <a:lnTo>
                    <a:pt x="8148" y="2829"/>
                  </a:lnTo>
                  <a:lnTo>
                    <a:pt x="8282" y="3098"/>
                  </a:lnTo>
                  <a:lnTo>
                    <a:pt x="8350" y="3368"/>
                  </a:lnTo>
                  <a:lnTo>
                    <a:pt x="8383" y="3671"/>
                  </a:lnTo>
                  <a:lnTo>
                    <a:pt x="8350" y="4007"/>
                  </a:lnTo>
                  <a:lnTo>
                    <a:pt x="8316" y="4344"/>
                  </a:lnTo>
                  <a:lnTo>
                    <a:pt x="8249" y="4681"/>
                  </a:lnTo>
                  <a:lnTo>
                    <a:pt x="7272" y="4344"/>
                  </a:lnTo>
                  <a:lnTo>
                    <a:pt x="6296" y="4007"/>
                  </a:lnTo>
                  <a:lnTo>
                    <a:pt x="4343" y="3401"/>
                  </a:lnTo>
                  <a:lnTo>
                    <a:pt x="3367" y="3064"/>
                  </a:lnTo>
                  <a:lnTo>
                    <a:pt x="2357" y="2728"/>
                  </a:lnTo>
                  <a:lnTo>
                    <a:pt x="1347" y="2425"/>
                  </a:lnTo>
                  <a:lnTo>
                    <a:pt x="842" y="2290"/>
                  </a:lnTo>
                  <a:lnTo>
                    <a:pt x="337" y="2189"/>
                  </a:lnTo>
                  <a:lnTo>
                    <a:pt x="370" y="1852"/>
                  </a:lnTo>
                  <a:lnTo>
                    <a:pt x="471" y="1549"/>
                  </a:lnTo>
                  <a:lnTo>
                    <a:pt x="572" y="1246"/>
                  </a:lnTo>
                  <a:lnTo>
                    <a:pt x="707" y="943"/>
                  </a:lnTo>
                  <a:lnTo>
                    <a:pt x="1448" y="1213"/>
                  </a:lnTo>
                  <a:lnTo>
                    <a:pt x="2188" y="1482"/>
                  </a:lnTo>
                  <a:lnTo>
                    <a:pt x="2660" y="1650"/>
                  </a:lnTo>
                  <a:lnTo>
                    <a:pt x="3131" y="1751"/>
                  </a:lnTo>
                  <a:lnTo>
                    <a:pt x="4108" y="1920"/>
                  </a:lnTo>
                  <a:lnTo>
                    <a:pt x="5084" y="2122"/>
                  </a:lnTo>
                  <a:lnTo>
                    <a:pt x="5993" y="2324"/>
                  </a:lnTo>
                  <a:lnTo>
                    <a:pt x="7878" y="2795"/>
                  </a:lnTo>
                  <a:lnTo>
                    <a:pt x="7946" y="2795"/>
                  </a:lnTo>
                  <a:lnTo>
                    <a:pt x="7979" y="2728"/>
                  </a:lnTo>
                  <a:lnTo>
                    <a:pt x="7979" y="2694"/>
                  </a:lnTo>
                  <a:lnTo>
                    <a:pt x="7946" y="2627"/>
                  </a:lnTo>
                  <a:lnTo>
                    <a:pt x="7003" y="2357"/>
                  </a:lnTo>
                  <a:lnTo>
                    <a:pt x="6060" y="2122"/>
                  </a:lnTo>
                  <a:lnTo>
                    <a:pt x="5118" y="1920"/>
                  </a:lnTo>
                  <a:lnTo>
                    <a:pt x="4175" y="1751"/>
                  </a:lnTo>
                  <a:lnTo>
                    <a:pt x="3300" y="1583"/>
                  </a:lnTo>
                  <a:lnTo>
                    <a:pt x="2896" y="1516"/>
                  </a:lnTo>
                  <a:lnTo>
                    <a:pt x="2458" y="1381"/>
                  </a:lnTo>
                  <a:lnTo>
                    <a:pt x="2054" y="1246"/>
                  </a:lnTo>
                  <a:lnTo>
                    <a:pt x="1616" y="1078"/>
                  </a:lnTo>
                  <a:lnTo>
                    <a:pt x="1178" y="910"/>
                  </a:lnTo>
                  <a:lnTo>
                    <a:pt x="741" y="809"/>
                  </a:lnTo>
                  <a:lnTo>
                    <a:pt x="943" y="472"/>
                  </a:lnTo>
                  <a:lnTo>
                    <a:pt x="1145" y="169"/>
                  </a:lnTo>
                  <a:close/>
                  <a:moveTo>
                    <a:pt x="1212" y="1"/>
                  </a:moveTo>
                  <a:lnTo>
                    <a:pt x="1178" y="34"/>
                  </a:lnTo>
                  <a:lnTo>
                    <a:pt x="1077" y="34"/>
                  </a:lnTo>
                  <a:lnTo>
                    <a:pt x="1010" y="68"/>
                  </a:lnTo>
                  <a:lnTo>
                    <a:pt x="1044" y="135"/>
                  </a:lnTo>
                  <a:lnTo>
                    <a:pt x="842" y="337"/>
                  </a:lnTo>
                  <a:lnTo>
                    <a:pt x="673" y="539"/>
                  </a:lnTo>
                  <a:lnTo>
                    <a:pt x="539" y="775"/>
                  </a:lnTo>
                  <a:lnTo>
                    <a:pt x="404" y="1044"/>
                  </a:lnTo>
                  <a:lnTo>
                    <a:pt x="303" y="1314"/>
                  </a:lnTo>
                  <a:lnTo>
                    <a:pt x="202" y="1617"/>
                  </a:lnTo>
                  <a:lnTo>
                    <a:pt x="67" y="2189"/>
                  </a:lnTo>
                  <a:lnTo>
                    <a:pt x="0" y="2829"/>
                  </a:lnTo>
                  <a:lnTo>
                    <a:pt x="0" y="3435"/>
                  </a:lnTo>
                  <a:lnTo>
                    <a:pt x="34" y="4007"/>
                  </a:lnTo>
                  <a:lnTo>
                    <a:pt x="101" y="4512"/>
                  </a:lnTo>
                  <a:lnTo>
                    <a:pt x="202" y="4849"/>
                  </a:lnTo>
                  <a:lnTo>
                    <a:pt x="303" y="5186"/>
                  </a:lnTo>
                  <a:lnTo>
                    <a:pt x="438" y="5489"/>
                  </a:lnTo>
                  <a:lnTo>
                    <a:pt x="572" y="5792"/>
                  </a:lnTo>
                  <a:lnTo>
                    <a:pt x="774" y="6061"/>
                  </a:lnTo>
                  <a:lnTo>
                    <a:pt x="976" y="6330"/>
                  </a:lnTo>
                  <a:lnTo>
                    <a:pt x="1212" y="6566"/>
                  </a:lnTo>
                  <a:lnTo>
                    <a:pt x="1481" y="6802"/>
                  </a:lnTo>
                  <a:lnTo>
                    <a:pt x="1919" y="7172"/>
                  </a:lnTo>
                  <a:lnTo>
                    <a:pt x="2390" y="7475"/>
                  </a:lnTo>
                  <a:lnTo>
                    <a:pt x="2896" y="7475"/>
                  </a:lnTo>
                  <a:lnTo>
                    <a:pt x="2559" y="7307"/>
                  </a:lnTo>
                  <a:lnTo>
                    <a:pt x="2256" y="7105"/>
                  </a:lnTo>
                  <a:lnTo>
                    <a:pt x="1919" y="6869"/>
                  </a:lnTo>
                  <a:lnTo>
                    <a:pt x="1616" y="6633"/>
                  </a:lnTo>
                  <a:lnTo>
                    <a:pt x="1347" y="6364"/>
                  </a:lnTo>
                  <a:lnTo>
                    <a:pt x="1111" y="6095"/>
                  </a:lnTo>
                  <a:lnTo>
                    <a:pt x="875" y="5792"/>
                  </a:lnTo>
                  <a:lnTo>
                    <a:pt x="673" y="5455"/>
                  </a:lnTo>
                  <a:lnTo>
                    <a:pt x="539" y="5152"/>
                  </a:lnTo>
                  <a:lnTo>
                    <a:pt x="404" y="4849"/>
                  </a:lnTo>
                  <a:lnTo>
                    <a:pt x="337" y="4546"/>
                  </a:lnTo>
                  <a:lnTo>
                    <a:pt x="303" y="4209"/>
                  </a:lnTo>
                  <a:lnTo>
                    <a:pt x="269" y="3536"/>
                  </a:lnTo>
                  <a:lnTo>
                    <a:pt x="269" y="2862"/>
                  </a:lnTo>
                  <a:lnTo>
                    <a:pt x="640" y="3165"/>
                  </a:lnTo>
                  <a:lnTo>
                    <a:pt x="1010" y="3401"/>
                  </a:lnTo>
                  <a:lnTo>
                    <a:pt x="1818" y="3906"/>
                  </a:lnTo>
                  <a:lnTo>
                    <a:pt x="2626" y="4344"/>
                  </a:lnTo>
                  <a:lnTo>
                    <a:pt x="3401" y="4815"/>
                  </a:lnTo>
                  <a:lnTo>
                    <a:pt x="3838" y="5118"/>
                  </a:lnTo>
                  <a:lnTo>
                    <a:pt x="4242" y="5421"/>
                  </a:lnTo>
                  <a:lnTo>
                    <a:pt x="4411" y="5590"/>
                  </a:lnTo>
                  <a:lnTo>
                    <a:pt x="4545" y="5792"/>
                  </a:lnTo>
                  <a:lnTo>
                    <a:pt x="4680" y="5994"/>
                  </a:lnTo>
                  <a:lnTo>
                    <a:pt x="4781" y="6263"/>
                  </a:lnTo>
                  <a:lnTo>
                    <a:pt x="4882" y="6532"/>
                  </a:lnTo>
                  <a:lnTo>
                    <a:pt x="4916" y="6869"/>
                  </a:lnTo>
                  <a:lnTo>
                    <a:pt x="4949" y="7475"/>
                  </a:lnTo>
                  <a:lnTo>
                    <a:pt x="5219" y="7475"/>
                  </a:lnTo>
                  <a:lnTo>
                    <a:pt x="5219" y="7138"/>
                  </a:lnTo>
                  <a:lnTo>
                    <a:pt x="5185" y="6802"/>
                  </a:lnTo>
                  <a:lnTo>
                    <a:pt x="5118" y="6465"/>
                  </a:lnTo>
                  <a:lnTo>
                    <a:pt x="5017" y="6128"/>
                  </a:lnTo>
                  <a:lnTo>
                    <a:pt x="4882" y="5825"/>
                  </a:lnTo>
                  <a:lnTo>
                    <a:pt x="4714" y="5522"/>
                  </a:lnTo>
                  <a:lnTo>
                    <a:pt x="4512" y="5287"/>
                  </a:lnTo>
                  <a:lnTo>
                    <a:pt x="4242" y="5051"/>
                  </a:lnTo>
                  <a:lnTo>
                    <a:pt x="3300" y="4445"/>
                  </a:lnTo>
                  <a:lnTo>
                    <a:pt x="2323" y="3873"/>
                  </a:lnTo>
                  <a:lnTo>
                    <a:pt x="1347" y="3267"/>
                  </a:lnTo>
                  <a:lnTo>
                    <a:pt x="842" y="2997"/>
                  </a:lnTo>
                  <a:lnTo>
                    <a:pt x="303" y="2761"/>
                  </a:lnTo>
                  <a:lnTo>
                    <a:pt x="269" y="2761"/>
                  </a:lnTo>
                  <a:lnTo>
                    <a:pt x="303" y="2256"/>
                  </a:lnTo>
                  <a:lnTo>
                    <a:pt x="741" y="2492"/>
                  </a:lnTo>
                  <a:lnTo>
                    <a:pt x="1212" y="2660"/>
                  </a:lnTo>
                  <a:lnTo>
                    <a:pt x="2155" y="2963"/>
                  </a:lnTo>
                  <a:lnTo>
                    <a:pt x="3131" y="3267"/>
                  </a:lnTo>
                  <a:lnTo>
                    <a:pt x="4040" y="3536"/>
                  </a:lnTo>
                  <a:lnTo>
                    <a:pt x="4276" y="3603"/>
                  </a:lnTo>
                  <a:lnTo>
                    <a:pt x="4444" y="3772"/>
                  </a:lnTo>
                  <a:lnTo>
                    <a:pt x="4613" y="3974"/>
                  </a:lnTo>
                  <a:lnTo>
                    <a:pt x="4848" y="4277"/>
                  </a:lnTo>
                  <a:lnTo>
                    <a:pt x="5252" y="4782"/>
                  </a:lnTo>
                  <a:lnTo>
                    <a:pt x="5623" y="5320"/>
                  </a:lnTo>
                  <a:lnTo>
                    <a:pt x="5892" y="5825"/>
                  </a:lnTo>
                  <a:lnTo>
                    <a:pt x="6128" y="6364"/>
                  </a:lnTo>
                  <a:lnTo>
                    <a:pt x="6262" y="6903"/>
                  </a:lnTo>
                  <a:lnTo>
                    <a:pt x="6330" y="7475"/>
                  </a:lnTo>
                  <a:lnTo>
                    <a:pt x="6565" y="7475"/>
                  </a:lnTo>
                  <a:lnTo>
                    <a:pt x="6532" y="7138"/>
                  </a:lnTo>
                  <a:lnTo>
                    <a:pt x="6464" y="6835"/>
                  </a:lnTo>
                  <a:lnTo>
                    <a:pt x="6397" y="6499"/>
                  </a:lnTo>
                  <a:lnTo>
                    <a:pt x="6296" y="6196"/>
                  </a:lnTo>
                  <a:lnTo>
                    <a:pt x="6027" y="5590"/>
                  </a:lnTo>
                  <a:lnTo>
                    <a:pt x="5690" y="5017"/>
                  </a:lnTo>
                  <a:lnTo>
                    <a:pt x="5286" y="4411"/>
                  </a:lnTo>
                  <a:lnTo>
                    <a:pt x="5017" y="4075"/>
                  </a:lnTo>
                  <a:lnTo>
                    <a:pt x="4747" y="3772"/>
                  </a:lnTo>
                  <a:lnTo>
                    <a:pt x="6464" y="4344"/>
                  </a:lnTo>
                  <a:lnTo>
                    <a:pt x="7340" y="4613"/>
                  </a:lnTo>
                  <a:lnTo>
                    <a:pt x="8181" y="4883"/>
                  </a:lnTo>
                  <a:lnTo>
                    <a:pt x="8013" y="5489"/>
                  </a:lnTo>
                  <a:lnTo>
                    <a:pt x="7845" y="5994"/>
                  </a:lnTo>
                  <a:lnTo>
                    <a:pt x="7710" y="6364"/>
                  </a:lnTo>
                  <a:lnTo>
                    <a:pt x="7542" y="6768"/>
                  </a:lnTo>
                  <a:lnTo>
                    <a:pt x="7171" y="7475"/>
                  </a:lnTo>
                  <a:lnTo>
                    <a:pt x="7441" y="7475"/>
                  </a:lnTo>
                  <a:lnTo>
                    <a:pt x="7777" y="6633"/>
                  </a:lnTo>
                  <a:lnTo>
                    <a:pt x="8080" y="5825"/>
                  </a:lnTo>
                  <a:lnTo>
                    <a:pt x="8383" y="4883"/>
                  </a:lnTo>
                  <a:lnTo>
                    <a:pt x="8417" y="4849"/>
                  </a:lnTo>
                  <a:lnTo>
                    <a:pt x="8417" y="4748"/>
                  </a:lnTo>
                  <a:lnTo>
                    <a:pt x="8552" y="4209"/>
                  </a:lnTo>
                  <a:lnTo>
                    <a:pt x="8585" y="3906"/>
                  </a:lnTo>
                  <a:lnTo>
                    <a:pt x="8585" y="3637"/>
                  </a:lnTo>
                  <a:lnTo>
                    <a:pt x="8552" y="3368"/>
                  </a:lnTo>
                  <a:lnTo>
                    <a:pt x="8518" y="3132"/>
                  </a:lnTo>
                  <a:lnTo>
                    <a:pt x="8417" y="2862"/>
                  </a:lnTo>
                  <a:lnTo>
                    <a:pt x="8282" y="2660"/>
                  </a:lnTo>
                  <a:lnTo>
                    <a:pt x="8148" y="2492"/>
                  </a:lnTo>
                  <a:lnTo>
                    <a:pt x="8013" y="2391"/>
                  </a:lnTo>
                  <a:lnTo>
                    <a:pt x="7643" y="2189"/>
                  </a:lnTo>
                  <a:lnTo>
                    <a:pt x="6902" y="1886"/>
                  </a:lnTo>
                  <a:lnTo>
                    <a:pt x="5050" y="1078"/>
                  </a:lnTo>
                  <a:lnTo>
                    <a:pt x="4175" y="708"/>
                  </a:lnTo>
                  <a:lnTo>
                    <a:pt x="3704" y="506"/>
                  </a:lnTo>
                  <a:lnTo>
                    <a:pt x="3199" y="304"/>
                  </a:lnTo>
                  <a:lnTo>
                    <a:pt x="2727" y="169"/>
                  </a:lnTo>
                  <a:lnTo>
                    <a:pt x="2222" y="34"/>
                  </a:lnTo>
                  <a:lnTo>
                    <a:pt x="171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Shape 895"/>
            <p:cNvSpPr/>
            <p:nvPr/>
          </p:nvSpPr>
          <p:spPr>
            <a:xfrm>
              <a:off x="7108920" y="6256440"/>
              <a:ext cx="152280" cy="142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290" h="2156">
                  <a:moveTo>
                    <a:pt x="0" y="0"/>
                  </a:moveTo>
                  <a:lnTo>
                    <a:pt x="0" y="34"/>
                  </a:lnTo>
                  <a:lnTo>
                    <a:pt x="68" y="202"/>
                  </a:lnTo>
                  <a:lnTo>
                    <a:pt x="202" y="337"/>
                  </a:lnTo>
                  <a:lnTo>
                    <a:pt x="438" y="606"/>
                  </a:lnTo>
                  <a:lnTo>
                    <a:pt x="1010" y="1078"/>
                  </a:lnTo>
                  <a:lnTo>
                    <a:pt x="1549" y="1583"/>
                  </a:lnTo>
                  <a:lnTo>
                    <a:pt x="2088" y="2121"/>
                  </a:lnTo>
                  <a:lnTo>
                    <a:pt x="2155" y="2155"/>
                  </a:lnTo>
                  <a:lnTo>
                    <a:pt x="2223" y="2121"/>
                  </a:lnTo>
                  <a:lnTo>
                    <a:pt x="2290" y="2054"/>
                  </a:lnTo>
                  <a:lnTo>
                    <a:pt x="2290" y="2020"/>
                  </a:lnTo>
                  <a:lnTo>
                    <a:pt x="2256" y="1987"/>
                  </a:lnTo>
                  <a:lnTo>
                    <a:pt x="2021" y="1684"/>
                  </a:lnTo>
                  <a:lnTo>
                    <a:pt x="1751" y="1414"/>
                  </a:lnTo>
                  <a:lnTo>
                    <a:pt x="1179" y="909"/>
                  </a:lnTo>
                  <a:lnTo>
                    <a:pt x="640" y="404"/>
                  </a:lnTo>
                  <a:lnTo>
                    <a:pt x="337" y="169"/>
                  </a:lnTo>
                  <a:lnTo>
                    <a:pt x="202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5920" bIns="25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hape 896"/>
            <p:cNvSpPr/>
            <p:nvPr/>
          </p:nvSpPr>
          <p:spPr>
            <a:xfrm>
              <a:off x="6921720" y="5991120"/>
              <a:ext cx="1041120" cy="8794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5690" h="13232">
                  <a:moveTo>
                    <a:pt x="2929" y="640"/>
                  </a:moveTo>
                  <a:lnTo>
                    <a:pt x="3131" y="943"/>
                  </a:lnTo>
                  <a:lnTo>
                    <a:pt x="3165" y="977"/>
                  </a:lnTo>
                  <a:lnTo>
                    <a:pt x="3098" y="977"/>
                  </a:lnTo>
                  <a:lnTo>
                    <a:pt x="3030" y="909"/>
                  </a:lnTo>
                  <a:lnTo>
                    <a:pt x="2997" y="808"/>
                  </a:lnTo>
                  <a:lnTo>
                    <a:pt x="2929" y="640"/>
                  </a:lnTo>
                  <a:close/>
                  <a:moveTo>
                    <a:pt x="2458" y="270"/>
                  </a:moveTo>
                  <a:lnTo>
                    <a:pt x="2626" y="337"/>
                  </a:lnTo>
                  <a:lnTo>
                    <a:pt x="2593" y="371"/>
                  </a:lnTo>
                  <a:lnTo>
                    <a:pt x="2626" y="573"/>
                  </a:lnTo>
                  <a:lnTo>
                    <a:pt x="2694" y="808"/>
                  </a:lnTo>
                  <a:lnTo>
                    <a:pt x="2761" y="1044"/>
                  </a:lnTo>
                  <a:lnTo>
                    <a:pt x="2828" y="1112"/>
                  </a:lnTo>
                  <a:lnTo>
                    <a:pt x="2896" y="1179"/>
                  </a:lnTo>
                  <a:lnTo>
                    <a:pt x="3064" y="1280"/>
                  </a:lnTo>
                  <a:lnTo>
                    <a:pt x="3266" y="1381"/>
                  </a:lnTo>
                  <a:lnTo>
                    <a:pt x="3502" y="1448"/>
                  </a:lnTo>
                  <a:lnTo>
                    <a:pt x="3603" y="1448"/>
                  </a:lnTo>
                  <a:lnTo>
                    <a:pt x="3670" y="1415"/>
                  </a:lnTo>
                  <a:lnTo>
                    <a:pt x="3704" y="1448"/>
                  </a:lnTo>
                  <a:lnTo>
                    <a:pt x="3737" y="1650"/>
                  </a:lnTo>
                  <a:lnTo>
                    <a:pt x="3737" y="1920"/>
                  </a:lnTo>
                  <a:lnTo>
                    <a:pt x="3704" y="1886"/>
                  </a:lnTo>
                  <a:lnTo>
                    <a:pt x="3434" y="1852"/>
                  </a:lnTo>
                  <a:lnTo>
                    <a:pt x="3300" y="1852"/>
                  </a:lnTo>
                  <a:lnTo>
                    <a:pt x="3165" y="1785"/>
                  </a:lnTo>
                  <a:lnTo>
                    <a:pt x="3064" y="1751"/>
                  </a:lnTo>
                  <a:lnTo>
                    <a:pt x="2963" y="1718"/>
                  </a:lnTo>
                  <a:lnTo>
                    <a:pt x="2862" y="1684"/>
                  </a:lnTo>
                  <a:lnTo>
                    <a:pt x="2761" y="1617"/>
                  </a:lnTo>
                  <a:lnTo>
                    <a:pt x="2593" y="1482"/>
                  </a:lnTo>
                  <a:lnTo>
                    <a:pt x="2391" y="1280"/>
                  </a:lnTo>
                  <a:lnTo>
                    <a:pt x="2189" y="1044"/>
                  </a:lnTo>
                  <a:lnTo>
                    <a:pt x="2121" y="909"/>
                  </a:lnTo>
                  <a:lnTo>
                    <a:pt x="2054" y="741"/>
                  </a:lnTo>
                  <a:lnTo>
                    <a:pt x="1987" y="438"/>
                  </a:lnTo>
                  <a:lnTo>
                    <a:pt x="2054" y="438"/>
                  </a:lnTo>
                  <a:lnTo>
                    <a:pt x="2088" y="404"/>
                  </a:lnTo>
                  <a:lnTo>
                    <a:pt x="2121" y="337"/>
                  </a:lnTo>
                  <a:lnTo>
                    <a:pt x="2189" y="303"/>
                  </a:lnTo>
                  <a:lnTo>
                    <a:pt x="2290" y="270"/>
                  </a:lnTo>
                  <a:close/>
                  <a:moveTo>
                    <a:pt x="1886" y="371"/>
                  </a:moveTo>
                  <a:lnTo>
                    <a:pt x="1919" y="404"/>
                  </a:lnTo>
                  <a:lnTo>
                    <a:pt x="1886" y="573"/>
                  </a:lnTo>
                  <a:lnTo>
                    <a:pt x="1886" y="741"/>
                  </a:lnTo>
                  <a:lnTo>
                    <a:pt x="1919" y="909"/>
                  </a:lnTo>
                  <a:lnTo>
                    <a:pt x="1987" y="1078"/>
                  </a:lnTo>
                  <a:lnTo>
                    <a:pt x="2222" y="1381"/>
                  </a:lnTo>
                  <a:lnTo>
                    <a:pt x="2458" y="1650"/>
                  </a:lnTo>
                  <a:lnTo>
                    <a:pt x="2593" y="1751"/>
                  </a:lnTo>
                  <a:lnTo>
                    <a:pt x="2694" y="1852"/>
                  </a:lnTo>
                  <a:lnTo>
                    <a:pt x="2795" y="1886"/>
                  </a:lnTo>
                  <a:lnTo>
                    <a:pt x="2929" y="1920"/>
                  </a:lnTo>
                  <a:lnTo>
                    <a:pt x="3030" y="1953"/>
                  </a:lnTo>
                  <a:lnTo>
                    <a:pt x="3131" y="1987"/>
                  </a:lnTo>
                  <a:lnTo>
                    <a:pt x="3266" y="2054"/>
                  </a:lnTo>
                  <a:lnTo>
                    <a:pt x="3434" y="2088"/>
                  </a:lnTo>
                  <a:lnTo>
                    <a:pt x="3569" y="2054"/>
                  </a:lnTo>
                  <a:lnTo>
                    <a:pt x="3737" y="1987"/>
                  </a:lnTo>
                  <a:lnTo>
                    <a:pt x="3704" y="2189"/>
                  </a:lnTo>
                  <a:lnTo>
                    <a:pt x="3670" y="2391"/>
                  </a:lnTo>
                  <a:lnTo>
                    <a:pt x="3603" y="2593"/>
                  </a:lnTo>
                  <a:lnTo>
                    <a:pt x="3502" y="2795"/>
                  </a:lnTo>
                  <a:lnTo>
                    <a:pt x="3401" y="2963"/>
                  </a:lnTo>
                  <a:lnTo>
                    <a:pt x="3300" y="3132"/>
                  </a:lnTo>
                  <a:lnTo>
                    <a:pt x="3131" y="3266"/>
                  </a:lnTo>
                  <a:lnTo>
                    <a:pt x="2997" y="3367"/>
                  </a:lnTo>
                  <a:lnTo>
                    <a:pt x="2963" y="3401"/>
                  </a:lnTo>
                  <a:lnTo>
                    <a:pt x="2997" y="3435"/>
                  </a:lnTo>
                  <a:lnTo>
                    <a:pt x="3165" y="3435"/>
                  </a:lnTo>
                  <a:lnTo>
                    <a:pt x="3300" y="3401"/>
                  </a:lnTo>
                  <a:lnTo>
                    <a:pt x="3535" y="3805"/>
                  </a:lnTo>
                  <a:lnTo>
                    <a:pt x="3805" y="4175"/>
                  </a:lnTo>
                  <a:lnTo>
                    <a:pt x="4377" y="4916"/>
                  </a:lnTo>
                  <a:lnTo>
                    <a:pt x="4680" y="5253"/>
                  </a:lnTo>
                  <a:lnTo>
                    <a:pt x="5051" y="5522"/>
                  </a:lnTo>
                  <a:lnTo>
                    <a:pt x="5286" y="5724"/>
                  </a:lnTo>
                  <a:lnTo>
                    <a:pt x="5488" y="5926"/>
                  </a:lnTo>
                  <a:lnTo>
                    <a:pt x="5892" y="6397"/>
                  </a:lnTo>
                  <a:lnTo>
                    <a:pt x="5791" y="6532"/>
                  </a:lnTo>
                  <a:lnTo>
                    <a:pt x="5724" y="6667"/>
                  </a:lnTo>
                  <a:lnTo>
                    <a:pt x="5623" y="6835"/>
                  </a:lnTo>
                  <a:lnTo>
                    <a:pt x="5556" y="7003"/>
                  </a:lnTo>
                  <a:lnTo>
                    <a:pt x="5421" y="6902"/>
                  </a:lnTo>
                  <a:lnTo>
                    <a:pt x="5253" y="6835"/>
                  </a:lnTo>
                  <a:lnTo>
                    <a:pt x="5051" y="6734"/>
                  </a:lnTo>
                  <a:lnTo>
                    <a:pt x="4882" y="6633"/>
                  </a:lnTo>
                  <a:lnTo>
                    <a:pt x="4579" y="6397"/>
                  </a:lnTo>
                  <a:lnTo>
                    <a:pt x="4310" y="6162"/>
                  </a:lnTo>
                  <a:lnTo>
                    <a:pt x="4040" y="5859"/>
                  </a:lnTo>
                  <a:lnTo>
                    <a:pt x="3064" y="4748"/>
                  </a:lnTo>
                  <a:lnTo>
                    <a:pt x="2727" y="4276"/>
                  </a:lnTo>
                  <a:lnTo>
                    <a:pt x="2525" y="4074"/>
                  </a:lnTo>
                  <a:lnTo>
                    <a:pt x="2290" y="3872"/>
                  </a:lnTo>
                  <a:lnTo>
                    <a:pt x="2525" y="3805"/>
                  </a:lnTo>
                  <a:lnTo>
                    <a:pt x="2559" y="3771"/>
                  </a:lnTo>
                  <a:lnTo>
                    <a:pt x="2593" y="3738"/>
                  </a:lnTo>
                  <a:lnTo>
                    <a:pt x="2559" y="3637"/>
                  </a:lnTo>
                  <a:lnTo>
                    <a:pt x="2492" y="3603"/>
                  </a:lnTo>
                  <a:lnTo>
                    <a:pt x="2458" y="3569"/>
                  </a:lnTo>
                  <a:lnTo>
                    <a:pt x="2391" y="3603"/>
                  </a:lnTo>
                  <a:lnTo>
                    <a:pt x="2222" y="3670"/>
                  </a:lnTo>
                  <a:lnTo>
                    <a:pt x="2054" y="3704"/>
                  </a:lnTo>
                  <a:lnTo>
                    <a:pt x="1886" y="3704"/>
                  </a:lnTo>
                  <a:lnTo>
                    <a:pt x="1717" y="3670"/>
                  </a:lnTo>
                  <a:lnTo>
                    <a:pt x="1347" y="3569"/>
                  </a:lnTo>
                  <a:lnTo>
                    <a:pt x="1044" y="3435"/>
                  </a:lnTo>
                  <a:lnTo>
                    <a:pt x="808" y="3300"/>
                  </a:lnTo>
                  <a:lnTo>
                    <a:pt x="606" y="3165"/>
                  </a:lnTo>
                  <a:lnTo>
                    <a:pt x="438" y="2997"/>
                  </a:lnTo>
                  <a:lnTo>
                    <a:pt x="337" y="2795"/>
                  </a:lnTo>
                  <a:lnTo>
                    <a:pt x="270" y="2593"/>
                  </a:lnTo>
                  <a:lnTo>
                    <a:pt x="270" y="2357"/>
                  </a:lnTo>
                  <a:lnTo>
                    <a:pt x="270" y="2122"/>
                  </a:lnTo>
                  <a:lnTo>
                    <a:pt x="303" y="1886"/>
                  </a:lnTo>
                  <a:lnTo>
                    <a:pt x="404" y="1617"/>
                  </a:lnTo>
                  <a:lnTo>
                    <a:pt x="573" y="1381"/>
                  </a:lnTo>
                  <a:lnTo>
                    <a:pt x="741" y="1179"/>
                  </a:lnTo>
                  <a:lnTo>
                    <a:pt x="943" y="977"/>
                  </a:lnTo>
                  <a:lnTo>
                    <a:pt x="1179" y="808"/>
                  </a:lnTo>
                  <a:lnTo>
                    <a:pt x="1414" y="640"/>
                  </a:lnTo>
                  <a:lnTo>
                    <a:pt x="1886" y="371"/>
                  </a:lnTo>
                  <a:close/>
                  <a:moveTo>
                    <a:pt x="2290" y="0"/>
                  </a:moveTo>
                  <a:lnTo>
                    <a:pt x="2189" y="34"/>
                  </a:lnTo>
                  <a:lnTo>
                    <a:pt x="2054" y="68"/>
                  </a:lnTo>
                  <a:lnTo>
                    <a:pt x="1987" y="169"/>
                  </a:lnTo>
                  <a:lnTo>
                    <a:pt x="1616" y="303"/>
                  </a:lnTo>
                  <a:lnTo>
                    <a:pt x="1246" y="505"/>
                  </a:lnTo>
                  <a:lnTo>
                    <a:pt x="909" y="741"/>
                  </a:lnTo>
                  <a:lnTo>
                    <a:pt x="573" y="1011"/>
                  </a:lnTo>
                  <a:lnTo>
                    <a:pt x="303" y="1347"/>
                  </a:lnTo>
                  <a:lnTo>
                    <a:pt x="202" y="1516"/>
                  </a:lnTo>
                  <a:lnTo>
                    <a:pt x="135" y="1684"/>
                  </a:lnTo>
                  <a:lnTo>
                    <a:pt x="68" y="1886"/>
                  </a:lnTo>
                  <a:lnTo>
                    <a:pt x="0" y="2088"/>
                  </a:lnTo>
                  <a:lnTo>
                    <a:pt x="0" y="2256"/>
                  </a:lnTo>
                  <a:lnTo>
                    <a:pt x="0" y="2458"/>
                  </a:lnTo>
                  <a:lnTo>
                    <a:pt x="68" y="2660"/>
                  </a:lnTo>
                  <a:lnTo>
                    <a:pt x="101" y="2829"/>
                  </a:lnTo>
                  <a:lnTo>
                    <a:pt x="202" y="2963"/>
                  </a:lnTo>
                  <a:lnTo>
                    <a:pt x="303" y="3132"/>
                  </a:lnTo>
                  <a:lnTo>
                    <a:pt x="539" y="3401"/>
                  </a:lnTo>
                  <a:lnTo>
                    <a:pt x="842" y="3603"/>
                  </a:lnTo>
                  <a:lnTo>
                    <a:pt x="1145" y="3805"/>
                  </a:lnTo>
                  <a:lnTo>
                    <a:pt x="1515" y="3906"/>
                  </a:lnTo>
                  <a:lnTo>
                    <a:pt x="1886" y="3940"/>
                  </a:lnTo>
                  <a:lnTo>
                    <a:pt x="2054" y="3940"/>
                  </a:lnTo>
                  <a:lnTo>
                    <a:pt x="2222" y="3906"/>
                  </a:lnTo>
                  <a:lnTo>
                    <a:pt x="2357" y="4175"/>
                  </a:lnTo>
                  <a:lnTo>
                    <a:pt x="2492" y="4445"/>
                  </a:lnTo>
                  <a:lnTo>
                    <a:pt x="2660" y="4680"/>
                  </a:lnTo>
                  <a:lnTo>
                    <a:pt x="2862" y="4950"/>
                  </a:lnTo>
                  <a:lnTo>
                    <a:pt x="3300" y="5421"/>
                  </a:lnTo>
                  <a:lnTo>
                    <a:pt x="3737" y="5825"/>
                  </a:lnTo>
                  <a:lnTo>
                    <a:pt x="4175" y="6330"/>
                  </a:lnTo>
                  <a:lnTo>
                    <a:pt x="4680" y="6801"/>
                  </a:lnTo>
                  <a:lnTo>
                    <a:pt x="4882" y="6936"/>
                  </a:lnTo>
                  <a:lnTo>
                    <a:pt x="5084" y="7037"/>
                  </a:lnTo>
                  <a:lnTo>
                    <a:pt x="5320" y="7138"/>
                  </a:lnTo>
                  <a:lnTo>
                    <a:pt x="5522" y="7273"/>
                  </a:lnTo>
                  <a:lnTo>
                    <a:pt x="5589" y="7306"/>
                  </a:lnTo>
                  <a:lnTo>
                    <a:pt x="5657" y="7273"/>
                  </a:lnTo>
                  <a:lnTo>
                    <a:pt x="5690" y="7239"/>
                  </a:lnTo>
                  <a:lnTo>
                    <a:pt x="5724" y="7172"/>
                  </a:lnTo>
                  <a:lnTo>
                    <a:pt x="5791" y="7003"/>
                  </a:lnTo>
                  <a:lnTo>
                    <a:pt x="5892" y="6869"/>
                  </a:lnTo>
                  <a:lnTo>
                    <a:pt x="7003" y="7710"/>
                  </a:lnTo>
                  <a:lnTo>
                    <a:pt x="8148" y="8485"/>
                  </a:lnTo>
                  <a:lnTo>
                    <a:pt x="8720" y="8855"/>
                  </a:lnTo>
                  <a:lnTo>
                    <a:pt x="9326" y="9226"/>
                  </a:lnTo>
                  <a:lnTo>
                    <a:pt x="9932" y="9562"/>
                  </a:lnTo>
                  <a:lnTo>
                    <a:pt x="10572" y="9865"/>
                  </a:lnTo>
                  <a:lnTo>
                    <a:pt x="11279" y="10135"/>
                  </a:lnTo>
                  <a:lnTo>
                    <a:pt x="11986" y="10370"/>
                  </a:lnTo>
                  <a:lnTo>
                    <a:pt x="12727" y="10606"/>
                  </a:lnTo>
                  <a:lnTo>
                    <a:pt x="13400" y="10875"/>
                  </a:lnTo>
                  <a:lnTo>
                    <a:pt x="13737" y="11044"/>
                  </a:lnTo>
                  <a:lnTo>
                    <a:pt x="14040" y="11212"/>
                  </a:lnTo>
                  <a:lnTo>
                    <a:pt x="14309" y="11448"/>
                  </a:lnTo>
                  <a:lnTo>
                    <a:pt x="14579" y="11683"/>
                  </a:lnTo>
                  <a:lnTo>
                    <a:pt x="14814" y="11953"/>
                  </a:lnTo>
                  <a:lnTo>
                    <a:pt x="14983" y="12256"/>
                  </a:lnTo>
                  <a:lnTo>
                    <a:pt x="15151" y="12592"/>
                  </a:lnTo>
                  <a:lnTo>
                    <a:pt x="15286" y="12996"/>
                  </a:lnTo>
                  <a:lnTo>
                    <a:pt x="15353" y="13232"/>
                  </a:lnTo>
                  <a:lnTo>
                    <a:pt x="15690" y="13232"/>
                  </a:lnTo>
                  <a:lnTo>
                    <a:pt x="15622" y="12895"/>
                  </a:lnTo>
                  <a:lnTo>
                    <a:pt x="15521" y="12592"/>
                  </a:lnTo>
                  <a:lnTo>
                    <a:pt x="15420" y="12323"/>
                  </a:lnTo>
                  <a:lnTo>
                    <a:pt x="15286" y="12054"/>
                  </a:lnTo>
                  <a:lnTo>
                    <a:pt x="15151" y="11818"/>
                  </a:lnTo>
                  <a:lnTo>
                    <a:pt x="14983" y="11616"/>
                  </a:lnTo>
                  <a:lnTo>
                    <a:pt x="14814" y="11414"/>
                  </a:lnTo>
                  <a:lnTo>
                    <a:pt x="14612" y="11212"/>
                  </a:lnTo>
                  <a:lnTo>
                    <a:pt x="14377" y="11044"/>
                  </a:lnTo>
                  <a:lnTo>
                    <a:pt x="13939" y="10741"/>
                  </a:lnTo>
                  <a:lnTo>
                    <a:pt x="13400" y="10505"/>
                  </a:lnTo>
                  <a:lnTo>
                    <a:pt x="12862" y="10303"/>
                  </a:lnTo>
                  <a:lnTo>
                    <a:pt x="12289" y="10101"/>
                  </a:lnTo>
                  <a:lnTo>
                    <a:pt x="11548" y="9865"/>
                  </a:lnTo>
                  <a:lnTo>
                    <a:pt x="10841" y="9562"/>
                  </a:lnTo>
                  <a:lnTo>
                    <a:pt x="10168" y="9259"/>
                  </a:lnTo>
                  <a:lnTo>
                    <a:pt x="9495" y="8922"/>
                  </a:lnTo>
                  <a:lnTo>
                    <a:pt x="8855" y="8552"/>
                  </a:lnTo>
                  <a:lnTo>
                    <a:pt x="8182" y="8148"/>
                  </a:lnTo>
                  <a:lnTo>
                    <a:pt x="6936" y="7306"/>
                  </a:lnTo>
                  <a:lnTo>
                    <a:pt x="6027" y="6667"/>
                  </a:lnTo>
                  <a:lnTo>
                    <a:pt x="6094" y="6532"/>
                  </a:lnTo>
                  <a:lnTo>
                    <a:pt x="6162" y="6364"/>
                  </a:lnTo>
                  <a:lnTo>
                    <a:pt x="6162" y="6330"/>
                  </a:lnTo>
                  <a:lnTo>
                    <a:pt x="6128" y="6296"/>
                  </a:lnTo>
                  <a:lnTo>
                    <a:pt x="6027" y="6296"/>
                  </a:lnTo>
                  <a:lnTo>
                    <a:pt x="5926" y="6061"/>
                  </a:lnTo>
                  <a:lnTo>
                    <a:pt x="5825" y="5892"/>
                  </a:lnTo>
                  <a:lnTo>
                    <a:pt x="5657" y="5724"/>
                  </a:lnTo>
                  <a:lnTo>
                    <a:pt x="5488" y="5556"/>
                  </a:lnTo>
                  <a:lnTo>
                    <a:pt x="5152" y="5286"/>
                  </a:lnTo>
                  <a:lnTo>
                    <a:pt x="4781" y="5017"/>
                  </a:lnTo>
                  <a:lnTo>
                    <a:pt x="4108" y="4108"/>
                  </a:lnTo>
                  <a:lnTo>
                    <a:pt x="3670" y="3569"/>
                  </a:lnTo>
                  <a:lnTo>
                    <a:pt x="3502" y="3401"/>
                  </a:lnTo>
                  <a:lnTo>
                    <a:pt x="3434" y="3367"/>
                  </a:lnTo>
                  <a:lnTo>
                    <a:pt x="3401" y="3367"/>
                  </a:lnTo>
                  <a:lnTo>
                    <a:pt x="3502" y="3266"/>
                  </a:lnTo>
                  <a:lnTo>
                    <a:pt x="3603" y="3165"/>
                  </a:lnTo>
                  <a:lnTo>
                    <a:pt x="3737" y="2930"/>
                  </a:lnTo>
                  <a:lnTo>
                    <a:pt x="3838" y="2593"/>
                  </a:lnTo>
                  <a:lnTo>
                    <a:pt x="3906" y="2256"/>
                  </a:lnTo>
                  <a:lnTo>
                    <a:pt x="3906" y="1920"/>
                  </a:lnTo>
                  <a:lnTo>
                    <a:pt x="3906" y="1583"/>
                  </a:lnTo>
                  <a:lnTo>
                    <a:pt x="3838" y="1280"/>
                  </a:lnTo>
                  <a:lnTo>
                    <a:pt x="3805" y="1044"/>
                  </a:lnTo>
                  <a:lnTo>
                    <a:pt x="3670" y="842"/>
                  </a:lnTo>
                  <a:lnTo>
                    <a:pt x="3502" y="640"/>
                  </a:lnTo>
                  <a:lnTo>
                    <a:pt x="3232" y="438"/>
                  </a:lnTo>
                  <a:lnTo>
                    <a:pt x="2963" y="236"/>
                  </a:lnTo>
                  <a:lnTo>
                    <a:pt x="2694" y="101"/>
                  </a:lnTo>
                  <a:lnTo>
                    <a:pt x="24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Shape 897"/>
            <p:cNvSpPr/>
            <p:nvPr/>
          </p:nvSpPr>
          <p:spPr>
            <a:xfrm>
              <a:off x="8898120" y="6759720"/>
              <a:ext cx="261720" cy="1108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940" h="1684">
                  <a:moveTo>
                    <a:pt x="1886" y="1"/>
                  </a:moveTo>
                  <a:lnTo>
                    <a:pt x="1583" y="34"/>
                  </a:lnTo>
                  <a:lnTo>
                    <a:pt x="1348" y="102"/>
                  </a:lnTo>
                  <a:lnTo>
                    <a:pt x="1146" y="203"/>
                  </a:lnTo>
                  <a:lnTo>
                    <a:pt x="977" y="337"/>
                  </a:lnTo>
                  <a:lnTo>
                    <a:pt x="843" y="506"/>
                  </a:lnTo>
                  <a:lnTo>
                    <a:pt x="573" y="910"/>
                  </a:lnTo>
                  <a:lnTo>
                    <a:pt x="338" y="1280"/>
                  </a:lnTo>
                  <a:lnTo>
                    <a:pt x="169" y="1516"/>
                  </a:lnTo>
                  <a:lnTo>
                    <a:pt x="1" y="1684"/>
                  </a:lnTo>
                  <a:lnTo>
                    <a:pt x="506" y="1684"/>
                  </a:lnTo>
                  <a:lnTo>
                    <a:pt x="674" y="1516"/>
                  </a:lnTo>
                  <a:lnTo>
                    <a:pt x="775" y="1347"/>
                  </a:lnTo>
                  <a:lnTo>
                    <a:pt x="1078" y="910"/>
                  </a:lnTo>
                  <a:lnTo>
                    <a:pt x="1247" y="708"/>
                  </a:lnTo>
                  <a:lnTo>
                    <a:pt x="1415" y="573"/>
                  </a:lnTo>
                  <a:lnTo>
                    <a:pt x="1617" y="472"/>
                  </a:lnTo>
                  <a:lnTo>
                    <a:pt x="1853" y="405"/>
                  </a:lnTo>
                  <a:lnTo>
                    <a:pt x="2088" y="405"/>
                  </a:lnTo>
                  <a:lnTo>
                    <a:pt x="2391" y="438"/>
                  </a:lnTo>
                  <a:lnTo>
                    <a:pt x="2795" y="539"/>
                  </a:lnTo>
                  <a:lnTo>
                    <a:pt x="3166" y="674"/>
                  </a:lnTo>
                  <a:lnTo>
                    <a:pt x="3570" y="809"/>
                  </a:lnTo>
                  <a:lnTo>
                    <a:pt x="3940" y="943"/>
                  </a:lnTo>
                  <a:lnTo>
                    <a:pt x="3940" y="539"/>
                  </a:lnTo>
                  <a:lnTo>
                    <a:pt x="3368" y="337"/>
                  </a:lnTo>
                  <a:lnTo>
                    <a:pt x="2762" y="135"/>
                  </a:lnTo>
                  <a:lnTo>
                    <a:pt x="2492" y="68"/>
                  </a:lnTo>
                  <a:lnTo>
                    <a:pt x="218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60" bIns="-5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hape 898"/>
            <p:cNvSpPr/>
            <p:nvPr/>
          </p:nvSpPr>
          <p:spPr>
            <a:xfrm>
              <a:off x="6991560" y="6130800"/>
              <a:ext cx="60120" cy="56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0" h="877">
                  <a:moveTo>
                    <a:pt x="673" y="1"/>
                  </a:moveTo>
                  <a:lnTo>
                    <a:pt x="606" y="35"/>
                  </a:lnTo>
                  <a:lnTo>
                    <a:pt x="303" y="338"/>
                  </a:lnTo>
                  <a:lnTo>
                    <a:pt x="168" y="506"/>
                  </a:lnTo>
                  <a:lnTo>
                    <a:pt x="34" y="641"/>
                  </a:lnTo>
                  <a:lnTo>
                    <a:pt x="0" y="708"/>
                  </a:lnTo>
                  <a:lnTo>
                    <a:pt x="0" y="742"/>
                  </a:lnTo>
                  <a:lnTo>
                    <a:pt x="67" y="843"/>
                  </a:lnTo>
                  <a:lnTo>
                    <a:pt x="135" y="876"/>
                  </a:lnTo>
                  <a:lnTo>
                    <a:pt x="236" y="876"/>
                  </a:lnTo>
                  <a:lnTo>
                    <a:pt x="404" y="742"/>
                  </a:lnTo>
                  <a:lnTo>
                    <a:pt x="539" y="607"/>
                  </a:lnTo>
                  <a:lnTo>
                    <a:pt x="842" y="304"/>
                  </a:lnTo>
                  <a:lnTo>
                    <a:pt x="909" y="237"/>
                  </a:lnTo>
                  <a:lnTo>
                    <a:pt x="909" y="169"/>
                  </a:lnTo>
                  <a:lnTo>
                    <a:pt x="875" y="102"/>
                  </a:lnTo>
                  <a:lnTo>
                    <a:pt x="842" y="68"/>
                  </a:lnTo>
                  <a:lnTo>
                    <a:pt x="7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hape 899"/>
            <p:cNvSpPr/>
            <p:nvPr/>
          </p:nvSpPr>
          <p:spPr>
            <a:xfrm>
              <a:off x="514080" y="6256440"/>
              <a:ext cx="102960" cy="280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550" h="4243">
                  <a:moveTo>
                    <a:pt x="1515" y="0"/>
                  </a:moveTo>
                  <a:lnTo>
                    <a:pt x="1515" y="34"/>
                  </a:lnTo>
                  <a:lnTo>
                    <a:pt x="741" y="2088"/>
                  </a:lnTo>
                  <a:lnTo>
                    <a:pt x="337" y="3131"/>
                  </a:lnTo>
                  <a:lnTo>
                    <a:pt x="0" y="4175"/>
                  </a:lnTo>
                  <a:lnTo>
                    <a:pt x="0" y="4209"/>
                  </a:lnTo>
                  <a:lnTo>
                    <a:pt x="34" y="4242"/>
                  </a:lnTo>
                  <a:lnTo>
                    <a:pt x="68" y="4242"/>
                  </a:lnTo>
                  <a:lnTo>
                    <a:pt x="68" y="4209"/>
                  </a:lnTo>
                  <a:lnTo>
                    <a:pt x="505" y="3131"/>
                  </a:lnTo>
                  <a:lnTo>
                    <a:pt x="909" y="2020"/>
                  </a:lnTo>
                  <a:lnTo>
                    <a:pt x="1145" y="1549"/>
                  </a:lnTo>
                  <a:lnTo>
                    <a:pt x="1347" y="1044"/>
                  </a:lnTo>
                  <a:lnTo>
                    <a:pt x="1448" y="775"/>
                  </a:lnTo>
                  <a:lnTo>
                    <a:pt x="1549" y="505"/>
                  </a:lnTo>
                  <a:lnTo>
                    <a:pt x="1549" y="270"/>
                  </a:lnTo>
                  <a:lnTo>
                    <a:pt x="1549" y="34"/>
                  </a:lnTo>
                  <a:lnTo>
                    <a:pt x="151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hape 900"/>
            <p:cNvSpPr/>
            <p:nvPr/>
          </p:nvSpPr>
          <p:spPr>
            <a:xfrm>
              <a:off x="745920" y="5734080"/>
              <a:ext cx="172800" cy="112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594" h="1685">
                  <a:moveTo>
                    <a:pt x="2560" y="1"/>
                  </a:moveTo>
                  <a:lnTo>
                    <a:pt x="2526" y="34"/>
                  </a:lnTo>
                  <a:lnTo>
                    <a:pt x="2391" y="270"/>
                  </a:lnTo>
                  <a:lnTo>
                    <a:pt x="2223" y="539"/>
                  </a:lnTo>
                  <a:lnTo>
                    <a:pt x="2088" y="809"/>
                  </a:lnTo>
                  <a:lnTo>
                    <a:pt x="1886" y="1078"/>
                  </a:lnTo>
                  <a:lnTo>
                    <a:pt x="1651" y="1246"/>
                  </a:lnTo>
                  <a:lnTo>
                    <a:pt x="1381" y="1381"/>
                  </a:lnTo>
                  <a:lnTo>
                    <a:pt x="1146" y="1448"/>
                  </a:lnTo>
                  <a:lnTo>
                    <a:pt x="876" y="1448"/>
                  </a:lnTo>
                  <a:lnTo>
                    <a:pt x="641" y="1381"/>
                  </a:lnTo>
                  <a:lnTo>
                    <a:pt x="405" y="1246"/>
                  </a:lnTo>
                  <a:lnTo>
                    <a:pt x="304" y="1145"/>
                  </a:lnTo>
                  <a:lnTo>
                    <a:pt x="237" y="1044"/>
                  </a:lnTo>
                  <a:lnTo>
                    <a:pt x="169" y="910"/>
                  </a:lnTo>
                  <a:lnTo>
                    <a:pt x="102" y="741"/>
                  </a:lnTo>
                  <a:lnTo>
                    <a:pt x="68" y="708"/>
                  </a:lnTo>
                  <a:lnTo>
                    <a:pt x="35" y="708"/>
                  </a:lnTo>
                  <a:lnTo>
                    <a:pt x="35" y="741"/>
                  </a:lnTo>
                  <a:lnTo>
                    <a:pt x="1" y="876"/>
                  </a:lnTo>
                  <a:lnTo>
                    <a:pt x="1" y="977"/>
                  </a:lnTo>
                  <a:lnTo>
                    <a:pt x="68" y="1179"/>
                  </a:lnTo>
                  <a:lnTo>
                    <a:pt x="203" y="1347"/>
                  </a:lnTo>
                  <a:lnTo>
                    <a:pt x="371" y="1482"/>
                  </a:lnTo>
                  <a:lnTo>
                    <a:pt x="573" y="1583"/>
                  </a:lnTo>
                  <a:lnTo>
                    <a:pt x="775" y="1650"/>
                  </a:lnTo>
                  <a:lnTo>
                    <a:pt x="1011" y="1684"/>
                  </a:lnTo>
                  <a:lnTo>
                    <a:pt x="1213" y="1684"/>
                  </a:lnTo>
                  <a:lnTo>
                    <a:pt x="1449" y="1617"/>
                  </a:lnTo>
                  <a:lnTo>
                    <a:pt x="1684" y="1482"/>
                  </a:lnTo>
                  <a:lnTo>
                    <a:pt x="1954" y="1280"/>
                  </a:lnTo>
                  <a:lnTo>
                    <a:pt x="2156" y="1078"/>
                  </a:lnTo>
                  <a:lnTo>
                    <a:pt x="2358" y="809"/>
                  </a:lnTo>
                  <a:lnTo>
                    <a:pt x="2492" y="573"/>
                  </a:lnTo>
                  <a:lnTo>
                    <a:pt x="2593" y="304"/>
                  </a:lnTo>
                  <a:lnTo>
                    <a:pt x="2593" y="34"/>
                  </a:lnTo>
                  <a:lnTo>
                    <a:pt x="256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Shape 901"/>
            <p:cNvSpPr/>
            <p:nvPr/>
          </p:nvSpPr>
          <p:spPr>
            <a:xfrm>
              <a:off x="520560" y="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3" h="237">
                  <a:moveTo>
                    <a:pt x="0" y="1"/>
                  </a:moveTo>
                  <a:lnTo>
                    <a:pt x="0" y="135"/>
                  </a:lnTo>
                  <a:lnTo>
                    <a:pt x="34" y="203"/>
                  </a:lnTo>
                  <a:lnTo>
                    <a:pt x="101" y="236"/>
                  </a:lnTo>
                  <a:lnTo>
                    <a:pt x="169" y="203"/>
                  </a:lnTo>
                  <a:lnTo>
                    <a:pt x="202" y="135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0800" bIns="-100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Shape 902"/>
            <p:cNvSpPr/>
            <p:nvPr/>
          </p:nvSpPr>
          <p:spPr>
            <a:xfrm>
              <a:off x="455400" y="5578560"/>
              <a:ext cx="492120" cy="9698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7407" h="14613">
                  <a:moveTo>
                    <a:pt x="5993" y="1"/>
                  </a:moveTo>
                  <a:lnTo>
                    <a:pt x="5825" y="35"/>
                  </a:lnTo>
                  <a:lnTo>
                    <a:pt x="5656" y="102"/>
                  </a:lnTo>
                  <a:lnTo>
                    <a:pt x="5488" y="169"/>
                  </a:lnTo>
                  <a:lnTo>
                    <a:pt x="5185" y="405"/>
                  </a:lnTo>
                  <a:lnTo>
                    <a:pt x="4916" y="674"/>
                  </a:lnTo>
                  <a:lnTo>
                    <a:pt x="4680" y="1011"/>
                  </a:lnTo>
                  <a:lnTo>
                    <a:pt x="4478" y="1348"/>
                  </a:lnTo>
                  <a:lnTo>
                    <a:pt x="4276" y="1651"/>
                  </a:lnTo>
                  <a:lnTo>
                    <a:pt x="4141" y="2021"/>
                  </a:lnTo>
                  <a:lnTo>
                    <a:pt x="4040" y="2391"/>
                  </a:lnTo>
                  <a:lnTo>
                    <a:pt x="3973" y="2762"/>
                  </a:lnTo>
                  <a:lnTo>
                    <a:pt x="3973" y="3132"/>
                  </a:lnTo>
                  <a:lnTo>
                    <a:pt x="4007" y="3368"/>
                  </a:lnTo>
                  <a:lnTo>
                    <a:pt x="4040" y="3570"/>
                  </a:lnTo>
                  <a:lnTo>
                    <a:pt x="4209" y="3974"/>
                  </a:lnTo>
                  <a:lnTo>
                    <a:pt x="4310" y="4344"/>
                  </a:lnTo>
                  <a:lnTo>
                    <a:pt x="4377" y="4681"/>
                  </a:lnTo>
                  <a:lnTo>
                    <a:pt x="4377" y="5051"/>
                  </a:lnTo>
                  <a:lnTo>
                    <a:pt x="4310" y="5421"/>
                  </a:lnTo>
                  <a:lnTo>
                    <a:pt x="4074" y="5960"/>
                  </a:lnTo>
                  <a:lnTo>
                    <a:pt x="3838" y="6532"/>
                  </a:lnTo>
                  <a:lnTo>
                    <a:pt x="3232" y="7576"/>
                  </a:lnTo>
                  <a:lnTo>
                    <a:pt x="2626" y="8687"/>
                  </a:lnTo>
                  <a:lnTo>
                    <a:pt x="1986" y="9798"/>
                  </a:lnTo>
                  <a:lnTo>
                    <a:pt x="640" y="11953"/>
                  </a:lnTo>
                  <a:lnTo>
                    <a:pt x="404" y="12323"/>
                  </a:lnTo>
                  <a:lnTo>
                    <a:pt x="202" y="12727"/>
                  </a:lnTo>
                  <a:lnTo>
                    <a:pt x="101" y="12929"/>
                  </a:lnTo>
                  <a:lnTo>
                    <a:pt x="34" y="13131"/>
                  </a:lnTo>
                  <a:lnTo>
                    <a:pt x="0" y="13367"/>
                  </a:lnTo>
                  <a:lnTo>
                    <a:pt x="0" y="13569"/>
                  </a:lnTo>
                  <a:lnTo>
                    <a:pt x="34" y="13636"/>
                  </a:lnTo>
                  <a:lnTo>
                    <a:pt x="67" y="13670"/>
                  </a:lnTo>
                  <a:lnTo>
                    <a:pt x="135" y="13636"/>
                  </a:lnTo>
                  <a:lnTo>
                    <a:pt x="168" y="13569"/>
                  </a:lnTo>
                  <a:lnTo>
                    <a:pt x="168" y="13333"/>
                  </a:lnTo>
                  <a:lnTo>
                    <a:pt x="202" y="13098"/>
                  </a:lnTo>
                  <a:lnTo>
                    <a:pt x="303" y="12862"/>
                  </a:lnTo>
                  <a:lnTo>
                    <a:pt x="404" y="12660"/>
                  </a:lnTo>
                  <a:lnTo>
                    <a:pt x="640" y="12222"/>
                  </a:lnTo>
                  <a:lnTo>
                    <a:pt x="909" y="11818"/>
                  </a:lnTo>
                  <a:lnTo>
                    <a:pt x="1986" y="10068"/>
                  </a:lnTo>
                  <a:lnTo>
                    <a:pt x="2996" y="8317"/>
                  </a:lnTo>
                  <a:lnTo>
                    <a:pt x="3501" y="7442"/>
                  </a:lnTo>
                  <a:lnTo>
                    <a:pt x="3939" y="6532"/>
                  </a:lnTo>
                  <a:lnTo>
                    <a:pt x="4310" y="5792"/>
                  </a:lnTo>
                  <a:lnTo>
                    <a:pt x="4444" y="5421"/>
                  </a:lnTo>
                  <a:lnTo>
                    <a:pt x="4545" y="5051"/>
                  </a:lnTo>
                  <a:lnTo>
                    <a:pt x="4545" y="4883"/>
                  </a:lnTo>
                  <a:lnTo>
                    <a:pt x="4545" y="4714"/>
                  </a:lnTo>
                  <a:lnTo>
                    <a:pt x="4512" y="4378"/>
                  </a:lnTo>
                  <a:lnTo>
                    <a:pt x="4377" y="4041"/>
                  </a:lnTo>
                  <a:lnTo>
                    <a:pt x="4276" y="3738"/>
                  </a:lnTo>
                  <a:lnTo>
                    <a:pt x="4175" y="3469"/>
                  </a:lnTo>
                  <a:lnTo>
                    <a:pt x="4141" y="3199"/>
                  </a:lnTo>
                  <a:lnTo>
                    <a:pt x="4141" y="2896"/>
                  </a:lnTo>
                  <a:lnTo>
                    <a:pt x="4175" y="2593"/>
                  </a:lnTo>
                  <a:lnTo>
                    <a:pt x="4242" y="2257"/>
                  </a:lnTo>
                  <a:lnTo>
                    <a:pt x="4343" y="1954"/>
                  </a:lnTo>
                  <a:lnTo>
                    <a:pt x="4444" y="1651"/>
                  </a:lnTo>
                  <a:lnTo>
                    <a:pt x="4613" y="1348"/>
                  </a:lnTo>
                  <a:lnTo>
                    <a:pt x="4781" y="1078"/>
                  </a:lnTo>
                  <a:lnTo>
                    <a:pt x="4983" y="809"/>
                  </a:lnTo>
                  <a:lnTo>
                    <a:pt x="5185" y="607"/>
                  </a:lnTo>
                  <a:lnTo>
                    <a:pt x="5421" y="405"/>
                  </a:lnTo>
                  <a:lnTo>
                    <a:pt x="5690" y="270"/>
                  </a:lnTo>
                  <a:lnTo>
                    <a:pt x="5959" y="169"/>
                  </a:lnTo>
                  <a:lnTo>
                    <a:pt x="6262" y="136"/>
                  </a:lnTo>
                  <a:lnTo>
                    <a:pt x="6565" y="169"/>
                  </a:lnTo>
                  <a:lnTo>
                    <a:pt x="6565" y="203"/>
                  </a:lnTo>
                  <a:lnTo>
                    <a:pt x="6599" y="237"/>
                  </a:lnTo>
                  <a:lnTo>
                    <a:pt x="6767" y="439"/>
                  </a:lnTo>
                  <a:lnTo>
                    <a:pt x="6902" y="674"/>
                  </a:lnTo>
                  <a:lnTo>
                    <a:pt x="7003" y="910"/>
                  </a:lnTo>
                  <a:lnTo>
                    <a:pt x="7104" y="1179"/>
                  </a:lnTo>
                  <a:lnTo>
                    <a:pt x="7138" y="1482"/>
                  </a:lnTo>
                  <a:lnTo>
                    <a:pt x="7171" y="1752"/>
                  </a:lnTo>
                  <a:lnTo>
                    <a:pt x="7171" y="2290"/>
                  </a:lnTo>
                  <a:lnTo>
                    <a:pt x="7138" y="2593"/>
                  </a:lnTo>
                  <a:lnTo>
                    <a:pt x="7070" y="2863"/>
                  </a:lnTo>
                  <a:lnTo>
                    <a:pt x="6969" y="3132"/>
                  </a:lnTo>
                  <a:lnTo>
                    <a:pt x="6835" y="3401"/>
                  </a:lnTo>
                  <a:lnTo>
                    <a:pt x="6633" y="3603"/>
                  </a:lnTo>
                  <a:lnTo>
                    <a:pt x="6431" y="3839"/>
                  </a:lnTo>
                  <a:lnTo>
                    <a:pt x="6229" y="4041"/>
                  </a:lnTo>
                  <a:lnTo>
                    <a:pt x="5959" y="4209"/>
                  </a:lnTo>
                  <a:lnTo>
                    <a:pt x="5387" y="4613"/>
                  </a:lnTo>
                  <a:lnTo>
                    <a:pt x="5084" y="4849"/>
                  </a:lnTo>
                  <a:lnTo>
                    <a:pt x="4848" y="5085"/>
                  </a:lnTo>
                  <a:lnTo>
                    <a:pt x="4613" y="5455"/>
                  </a:lnTo>
                  <a:lnTo>
                    <a:pt x="4411" y="5825"/>
                  </a:lnTo>
                  <a:lnTo>
                    <a:pt x="4108" y="6633"/>
                  </a:lnTo>
                  <a:lnTo>
                    <a:pt x="3771" y="7711"/>
                  </a:lnTo>
                  <a:lnTo>
                    <a:pt x="3434" y="8788"/>
                  </a:lnTo>
                  <a:lnTo>
                    <a:pt x="3165" y="9866"/>
                  </a:lnTo>
                  <a:lnTo>
                    <a:pt x="2895" y="10977"/>
                  </a:lnTo>
                  <a:lnTo>
                    <a:pt x="2727" y="12020"/>
                  </a:lnTo>
                  <a:lnTo>
                    <a:pt x="2626" y="12525"/>
                  </a:lnTo>
                  <a:lnTo>
                    <a:pt x="2525" y="13064"/>
                  </a:lnTo>
                  <a:lnTo>
                    <a:pt x="2390" y="13434"/>
                  </a:lnTo>
                  <a:lnTo>
                    <a:pt x="2222" y="13771"/>
                  </a:lnTo>
                  <a:lnTo>
                    <a:pt x="1986" y="14074"/>
                  </a:lnTo>
                  <a:lnTo>
                    <a:pt x="1852" y="14209"/>
                  </a:lnTo>
                  <a:lnTo>
                    <a:pt x="1683" y="14310"/>
                  </a:lnTo>
                  <a:lnTo>
                    <a:pt x="1448" y="14444"/>
                  </a:lnTo>
                  <a:lnTo>
                    <a:pt x="1212" y="14478"/>
                  </a:lnTo>
                  <a:lnTo>
                    <a:pt x="976" y="14478"/>
                  </a:lnTo>
                  <a:lnTo>
                    <a:pt x="774" y="14411"/>
                  </a:lnTo>
                  <a:lnTo>
                    <a:pt x="572" y="14276"/>
                  </a:lnTo>
                  <a:lnTo>
                    <a:pt x="404" y="14108"/>
                  </a:lnTo>
                  <a:lnTo>
                    <a:pt x="303" y="13906"/>
                  </a:lnTo>
                  <a:lnTo>
                    <a:pt x="236" y="13670"/>
                  </a:lnTo>
                  <a:lnTo>
                    <a:pt x="202" y="13636"/>
                  </a:lnTo>
                  <a:lnTo>
                    <a:pt x="135" y="13636"/>
                  </a:lnTo>
                  <a:lnTo>
                    <a:pt x="135" y="13670"/>
                  </a:lnTo>
                  <a:lnTo>
                    <a:pt x="135" y="13906"/>
                  </a:lnTo>
                  <a:lnTo>
                    <a:pt x="168" y="14074"/>
                  </a:lnTo>
                  <a:lnTo>
                    <a:pt x="236" y="14242"/>
                  </a:lnTo>
                  <a:lnTo>
                    <a:pt x="337" y="14377"/>
                  </a:lnTo>
                  <a:lnTo>
                    <a:pt x="471" y="14478"/>
                  </a:lnTo>
                  <a:lnTo>
                    <a:pt x="606" y="14545"/>
                  </a:lnTo>
                  <a:lnTo>
                    <a:pt x="774" y="14579"/>
                  </a:lnTo>
                  <a:lnTo>
                    <a:pt x="943" y="14613"/>
                  </a:lnTo>
                  <a:lnTo>
                    <a:pt x="1111" y="14613"/>
                  </a:lnTo>
                  <a:lnTo>
                    <a:pt x="1313" y="14579"/>
                  </a:lnTo>
                  <a:lnTo>
                    <a:pt x="1481" y="14545"/>
                  </a:lnTo>
                  <a:lnTo>
                    <a:pt x="1650" y="14478"/>
                  </a:lnTo>
                  <a:lnTo>
                    <a:pt x="1818" y="14411"/>
                  </a:lnTo>
                  <a:lnTo>
                    <a:pt x="1953" y="14310"/>
                  </a:lnTo>
                  <a:lnTo>
                    <a:pt x="2087" y="14175"/>
                  </a:lnTo>
                  <a:lnTo>
                    <a:pt x="2222" y="14040"/>
                  </a:lnTo>
                  <a:lnTo>
                    <a:pt x="2390" y="13771"/>
                  </a:lnTo>
                  <a:lnTo>
                    <a:pt x="2525" y="13468"/>
                  </a:lnTo>
                  <a:lnTo>
                    <a:pt x="2626" y="13131"/>
                  </a:lnTo>
                  <a:lnTo>
                    <a:pt x="2727" y="12828"/>
                  </a:lnTo>
                  <a:lnTo>
                    <a:pt x="2828" y="12155"/>
                  </a:lnTo>
                  <a:lnTo>
                    <a:pt x="2963" y="11482"/>
                  </a:lnTo>
                  <a:lnTo>
                    <a:pt x="3131" y="10707"/>
                  </a:lnTo>
                  <a:lnTo>
                    <a:pt x="3299" y="9899"/>
                  </a:lnTo>
                  <a:lnTo>
                    <a:pt x="3737" y="8351"/>
                  </a:lnTo>
                  <a:lnTo>
                    <a:pt x="3973" y="7644"/>
                  </a:lnTo>
                  <a:lnTo>
                    <a:pt x="4209" y="6903"/>
                  </a:lnTo>
                  <a:lnTo>
                    <a:pt x="4478" y="6196"/>
                  </a:lnTo>
                  <a:lnTo>
                    <a:pt x="4781" y="5522"/>
                  </a:lnTo>
                  <a:lnTo>
                    <a:pt x="4983" y="5253"/>
                  </a:lnTo>
                  <a:lnTo>
                    <a:pt x="5219" y="4984"/>
                  </a:lnTo>
                  <a:lnTo>
                    <a:pt x="5488" y="4782"/>
                  </a:lnTo>
                  <a:lnTo>
                    <a:pt x="5757" y="4580"/>
                  </a:lnTo>
                  <a:lnTo>
                    <a:pt x="6330" y="4176"/>
                  </a:lnTo>
                  <a:lnTo>
                    <a:pt x="6599" y="3974"/>
                  </a:lnTo>
                  <a:lnTo>
                    <a:pt x="6835" y="3738"/>
                  </a:lnTo>
                  <a:lnTo>
                    <a:pt x="6969" y="3536"/>
                  </a:lnTo>
                  <a:lnTo>
                    <a:pt x="7104" y="3334"/>
                  </a:lnTo>
                  <a:lnTo>
                    <a:pt x="7205" y="3132"/>
                  </a:lnTo>
                  <a:lnTo>
                    <a:pt x="7272" y="2896"/>
                  </a:lnTo>
                  <a:lnTo>
                    <a:pt x="7340" y="2661"/>
                  </a:lnTo>
                  <a:lnTo>
                    <a:pt x="7373" y="2425"/>
                  </a:lnTo>
                  <a:lnTo>
                    <a:pt x="7407" y="1886"/>
                  </a:lnTo>
                  <a:lnTo>
                    <a:pt x="7340" y="1381"/>
                  </a:lnTo>
                  <a:lnTo>
                    <a:pt x="7306" y="1146"/>
                  </a:lnTo>
                  <a:lnTo>
                    <a:pt x="7239" y="910"/>
                  </a:lnTo>
                  <a:lnTo>
                    <a:pt x="7138" y="674"/>
                  </a:lnTo>
                  <a:lnTo>
                    <a:pt x="7003" y="472"/>
                  </a:lnTo>
                  <a:lnTo>
                    <a:pt x="6868" y="270"/>
                  </a:lnTo>
                  <a:lnTo>
                    <a:pt x="6734" y="136"/>
                  </a:lnTo>
                  <a:lnTo>
                    <a:pt x="6666" y="102"/>
                  </a:lnTo>
                  <a:lnTo>
                    <a:pt x="6633" y="102"/>
                  </a:lnTo>
                  <a:lnTo>
                    <a:pt x="6599" y="68"/>
                  </a:lnTo>
                  <a:lnTo>
                    <a:pt x="639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hape 903"/>
            <p:cNvSpPr/>
            <p:nvPr/>
          </p:nvSpPr>
          <p:spPr>
            <a:xfrm>
              <a:off x="7683480" y="0"/>
              <a:ext cx="717480" cy="42696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808" h="6432">
                  <a:moveTo>
                    <a:pt x="6330" y="438"/>
                  </a:moveTo>
                  <a:lnTo>
                    <a:pt x="6195" y="910"/>
                  </a:lnTo>
                  <a:lnTo>
                    <a:pt x="6027" y="1381"/>
                  </a:lnTo>
                  <a:lnTo>
                    <a:pt x="6027" y="1213"/>
                  </a:lnTo>
                  <a:lnTo>
                    <a:pt x="5959" y="640"/>
                  </a:lnTo>
                  <a:lnTo>
                    <a:pt x="6330" y="438"/>
                  </a:lnTo>
                  <a:close/>
                  <a:moveTo>
                    <a:pt x="4781" y="1583"/>
                  </a:moveTo>
                  <a:lnTo>
                    <a:pt x="4747" y="2054"/>
                  </a:lnTo>
                  <a:lnTo>
                    <a:pt x="4478" y="2155"/>
                  </a:lnTo>
                  <a:lnTo>
                    <a:pt x="4512" y="1987"/>
                  </a:lnTo>
                  <a:lnTo>
                    <a:pt x="4512" y="1920"/>
                  </a:lnTo>
                  <a:lnTo>
                    <a:pt x="4478" y="1886"/>
                  </a:lnTo>
                  <a:lnTo>
                    <a:pt x="4781" y="1583"/>
                  </a:lnTo>
                  <a:close/>
                  <a:moveTo>
                    <a:pt x="5892" y="674"/>
                  </a:moveTo>
                  <a:lnTo>
                    <a:pt x="5892" y="1213"/>
                  </a:lnTo>
                  <a:lnTo>
                    <a:pt x="5926" y="1617"/>
                  </a:lnTo>
                  <a:lnTo>
                    <a:pt x="5791" y="1785"/>
                  </a:lnTo>
                  <a:lnTo>
                    <a:pt x="5656" y="1953"/>
                  </a:lnTo>
                  <a:lnTo>
                    <a:pt x="5656" y="1819"/>
                  </a:lnTo>
                  <a:lnTo>
                    <a:pt x="5589" y="1011"/>
                  </a:lnTo>
                  <a:lnTo>
                    <a:pt x="5522" y="1819"/>
                  </a:lnTo>
                  <a:lnTo>
                    <a:pt x="5488" y="2122"/>
                  </a:lnTo>
                  <a:lnTo>
                    <a:pt x="5151" y="2391"/>
                  </a:lnTo>
                  <a:lnTo>
                    <a:pt x="5118" y="2021"/>
                  </a:lnTo>
                  <a:lnTo>
                    <a:pt x="5118" y="1617"/>
                  </a:lnTo>
                  <a:lnTo>
                    <a:pt x="5151" y="1179"/>
                  </a:lnTo>
                  <a:lnTo>
                    <a:pt x="5522" y="910"/>
                  </a:lnTo>
                  <a:lnTo>
                    <a:pt x="5892" y="674"/>
                  </a:lnTo>
                  <a:close/>
                  <a:moveTo>
                    <a:pt x="5084" y="1280"/>
                  </a:moveTo>
                  <a:lnTo>
                    <a:pt x="5017" y="1583"/>
                  </a:lnTo>
                  <a:lnTo>
                    <a:pt x="4983" y="1886"/>
                  </a:lnTo>
                  <a:lnTo>
                    <a:pt x="4983" y="2189"/>
                  </a:lnTo>
                  <a:lnTo>
                    <a:pt x="5017" y="2492"/>
                  </a:lnTo>
                  <a:lnTo>
                    <a:pt x="4848" y="2593"/>
                  </a:lnTo>
                  <a:lnTo>
                    <a:pt x="4781" y="1549"/>
                  </a:lnTo>
                  <a:lnTo>
                    <a:pt x="4848" y="1482"/>
                  </a:lnTo>
                  <a:lnTo>
                    <a:pt x="5084" y="1280"/>
                  </a:lnTo>
                  <a:close/>
                  <a:moveTo>
                    <a:pt x="4747" y="2122"/>
                  </a:moveTo>
                  <a:lnTo>
                    <a:pt x="4714" y="2661"/>
                  </a:lnTo>
                  <a:lnTo>
                    <a:pt x="4512" y="2762"/>
                  </a:lnTo>
                  <a:lnTo>
                    <a:pt x="4512" y="2627"/>
                  </a:lnTo>
                  <a:lnTo>
                    <a:pt x="4478" y="2492"/>
                  </a:lnTo>
                  <a:lnTo>
                    <a:pt x="4444" y="2290"/>
                  </a:lnTo>
                  <a:lnTo>
                    <a:pt x="4747" y="2122"/>
                  </a:lnTo>
                  <a:close/>
                  <a:moveTo>
                    <a:pt x="4242" y="2425"/>
                  </a:moveTo>
                  <a:lnTo>
                    <a:pt x="4242" y="2458"/>
                  </a:lnTo>
                  <a:lnTo>
                    <a:pt x="4276" y="2661"/>
                  </a:lnTo>
                  <a:lnTo>
                    <a:pt x="4310" y="2762"/>
                  </a:lnTo>
                  <a:lnTo>
                    <a:pt x="4377" y="2829"/>
                  </a:lnTo>
                  <a:lnTo>
                    <a:pt x="4141" y="2896"/>
                  </a:lnTo>
                  <a:lnTo>
                    <a:pt x="3906" y="2964"/>
                  </a:lnTo>
                  <a:lnTo>
                    <a:pt x="4074" y="2559"/>
                  </a:lnTo>
                  <a:lnTo>
                    <a:pt x="4242" y="2425"/>
                  </a:lnTo>
                  <a:close/>
                  <a:moveTo>
                    <a:pt x="3704" y="2829"/>
                  </a:moveTo>
                  <a:lnTo>
                    <a:pt x="3670" y="2997"/>
                  </a:lnTo>
                  <a:lnTo>
                    <a:pt x="3535" y="2997"/>
                  </a:lnTo>
                  <a:lnTo>
                    <a:pt x="3704" y="2829"/>
                  </a:lnTo>
                  <a:close/>
                  <a:moveTo>
                    <a:pt x="67" y="1"/>
                  </a:moveTo>
                  <a:lnTo>
                    <a:pt x="0" y="270"/>
                  </a:lnTo>
                  <a:lnTo>
                    <a:pt x="0" y="539"/>
                  </a:lnTo>
                  <a:lnTo>
                    <a:pt x="34" y="809"/>
                  </a:lnTo>
                  <a:lnTo>
                    <a:pt x="67" y="1078"/>
                  </a:lnTo>
                  <a:lnTo>
                    <a:pt x="168" y="1347"/>
                  </a:lnTo>
                  <a:lnTo>
                    <a:pt x="269" y="1583"/>
                  </a:lnTo>
                  <a:lnTo>
                    <a:pt x="404" y="1819"/>
                  </a:lnTo>
                  <a:lnTo>
                    <a:pt x="539" y="2054"/>
                  </a:lnTo>
                  <a:lnTo>
                    <a:pt x="774" y="2324"/>
                  </a:lnTo>
                  <a:lnTo>
                    <a:pt x="1044" y="2559"/>
                  </a:lnTo>
                  <a:lnTo>
                    <a:pt x="1347" y="2762"/>
                  </a:lnTo>
                  <a:lnTo>
                    <a:pt x="1684" y="2896"/>
                  </a:lnTo>
                  <a:lnTo>
                    <a:pt x="2020" y="2997"/>
                  </a:lnTo>
                  <a:lnTo>
                    <a:pt x="2391" y="3098"/>
                  </a:lnTo>
                  <a:lnTo>
                    <a:pt x="2727" y="3166"/>
                  </a:lnTo>
                  <a:lnTo>
                    <a:pt x="3098" y="3199"/>
                  </a:lnTo>
                  <a:lnTo>
                    <a:pt x="2525" y="3805"/>
                  </a:lnTo>
                  <a:lnTo>
                    <a:pt x="2121" y="4243"/>
                  </a:lnTo>
                  <a:lnTo>
                    <a:pt x="1919" y="4512"/>
                  </a:lnTo>
                  <a:lnTo>
                    <a:pt x="1751" y="4782"/>
                  </a:lnTo>
                  <a:lnTo>
                    <a:pt x="1616" y="5051"/>
                  </a:lnTo>
                  <a:lnTo>
                    <a:pt x="1482" y="5320"/>
                  </a:lnTo>
                  <a:lnTo>
                    <a:pt x="1381" y="5623"/>
                  </a:lnTo>
                  <a:lnTo>
                    <a:pt x="1347" y="5926"/>
                  </a:lnTo>
                  <a:lnTo>
                    <a:pt x="1212" y="5691"/>
                  </a:lnTo>
                  <a:lnTo>
                    <a:pt x="1077" y="5455"/>
                  </a:lnTo>
                  <a:lnTo>
                    <a:pt x="1010" y="5354"/>
                  </a:lnTo>
                  <a:lnTo>
                    <a:pt x="875" y="5253"/>
                  </a:lnTo>
                  <a:lnTo>
                    <a:pt x="875" y="5354"/>
                  </a:lnTo>
                  <a:lnTo>
                    <a:pt x="943" y="5489"/>
                  </a:lnTo>
                  <a:lnTo>
                    <a:pt x="1044" y="5691"/>
                  </a:lnTo>
                  <a:lnTo>
                    <a:pt x="1414" y="6398"/>
                  </a:lnTo>
                  <a:lnTo>
                    <a:pt x="1448" y="6431"/>
                  </a:lnTo>
                  <a:lnTo>
                    <a:pt x="1482" y="6431"/>
                  </a:lnTo>
                  <a:lnTo>
                    <a:pt x="1583" y="6398"/>
                  </a:lnTo>
                  <a:lnTo>
                    <a:pt x="1785" y="6128"/>
                  </a:lnTo>
                  <a:lnTo>
                    <a:pt x="2020" y="5893"/>
                  </a:lnTo>
                  <a:lnTo>
                    <a:pt x="2256" y="5691"/>
                  </a:lnTo>
                  <a:lnTo>
                    <a:pt x="2492" y="5455"/>
                  </a:lnTo>
                  <a:lnTo>
                    <a:pt x="2525" y="5388"/>
                  </a:lnTo>
                  <a:lnTo>
                    <a:pt x="2492" y="5354"/>
                  </a:lnTo>
                  <a:lnTo>
                    <a:pt x="2458" y="5320"/>
                  </a:lnTo>
                  <a:lnTo>
                    <a:pt x="2391" y="5320"/>
                  </a:lnTo>
                  <a:lnTo>
                    <a:pt x="2155" y="5489"/>
                  </a:lnTo>
                  <a:lnTo>
                    <a:pt x="1919" y="5691"/>
                  </a:lnTo>
                  <a:lnTo>
                    <a:pt x="1684" y="5926"/>
                  </a:lnTo>
                  <a:lnTo>
                    <a:pt x="1482" y="6162"/>
                  </a:lnTo>
                  <a:lnTo>
                    <a:pt x="1448" y="6128"/>
                  </a:lnTo>
                  <a:lnTo>
                    <a:pt x="1684" y="5455"/>
                  </a:lnTo>
                  <a:lnTo>
                    <a:pt x="1987" y="4849"/>
                  </a:lnTo>
                  <a:lnTo>
                    <a:pt x="2155" y="4580"/>
                  </a:lnTo>
                  <a:lnTo>
                    <a:pt x="2323" y="4310"/>
                  </a:lnTo>
                  <a:lnTo>
                    <a:pt x="2795" y="3772"/>
                  </a:lnTo>
                  <a:lnTo>
                    <a:pt x="3333" y="3199"/>
                  </a:lnTo>
                  <a:lnTo>
                    <a:pt x="3636" y="3199"/>
                  </a:lnTo>
                  <a:lnTo>
                    <a:pt x="3603" y="3469"/>
                  </a:lnTo>
                  <a:lnTo>
                    <a:pt x="3603" y="3738"/>
                  </a:lnTo>
                  <a:lnTo>
                    <a:pt x="3636" y="3974"/>
                  </a:lnTo>
                  <a:lnTo>
                    <a:pt x="3704" y="4209"/>
                  </a:lnTo>
                  <a:lnTo>
                    <a:pt x="3805" y="4445"/>
                  </a:lnTo>
                  <a:lnTo>
                    <a:pt x="3906" y="4681"/>
                  </a:lnTo>
                  <a:lnTo>
                    <a:pt x="4074" y="4883"/>
                  </a:lnTo>
                  <a:lnTo>
                    <a:pt x="4242" y="5085"/>
                  </a:lnTo>
                  <a:lnTo>
                    <a:pt x="4411" y="5253"/>
                  </a:lnTo>
                  <a:lnTo>
                    <a:pt x="4613" y="5421"/>
                  </a:lnTo>
                  <a:lnTo>
                    <a:pt x="4848" y="5556"/>
                  </a:lnTo>
                  <a:lnTo>
                    <a:pt x="5084" y="5657"/>
                  </a:lnTo>
                  <a:lnTo>
                    <a:pt x="5353" y="5792"/>
                  </a:lnTo>
                  <a:lnTo>
                    <a:pt x="5623" y="5859"/>
                  </a:lnTo>
                  <a:lnTo>
                    <a:pt x="5892" y="5926"/>
                  </a:lnTo>
                  <a:lnTo>
                    <a:pt x="6599" y="5926"/>
                  </a:lnTo>
                  <a:lnTo>
                    <a:pt x="7003" y="5893"/>
                  </a:lnTo>
                  <a:lnTo>
                    <a:pt x="7407" y="5758"/>
                  </a:lnTo>
                  <a:lnTo>
                    <a:pt x="7811" y="5623"/>
                  </a:lnTo>
                  <a:lnTo>
                    <a:pt x="8215" y="5455"/>
                  </a:lnTo>
                  <a:lnTo>
                    <a:pt x="8585" y="5253"/>
                  </a:lnTo>
                  <a:lnTo>
                    <a:pt x="9292" y="4815"/>
                  </a:lnTo>
                  <a:lnTo>
                    <a:pt x="9865" y="4378"/>
                  </a:lnTo>
                  <a:lnTo>
                    <a:pt x="10101" y="4176"/>
                  </a:lnTo>
                  <a:lnTo>
                    <a:pt x="10336" y="3906"/>
                  </a:lnTo>
                  <a:lnTo>
                    <a:pt x="10538" y="3637"/>
                  </a:lnTo>
                  <a:lnTo>
                    <a:pt x="10673" y="3368"/>
                  </a:lnTo>
                  <a:lnTo>
                    <a:pt x="10774" y="3031"/>
                  </a:lnTo>
                  <a:lnTo>
                    <a:pt x="10808" y="2661"/>
                  </a:lnTo>
                  <a:lnTo>
                    <a:pt x="10808" y="2324"/>
                  </a:lnTo>
                  <a:lnTo>
                    <a:pt x="10774" y="1987"/>
                  </a:lnTo>
                  <a:lnTo>
                    <a:pt x="10707" y="1650"/>
                  </a:lnTo>
                  <a:lnTo>
                    <a:pt x="10606" y="1280"/>
                  </a:lnTo>
                  <a:lnTo>
                    <a:pt x="10505" y="943"/>
                  </a:lnTo>
                  <a:lnTo>
                    <a:pt x="10370" y="607"/>
                  </a:lnTo>
                  <a:lnTo>
                    <a:pt x="10202" y="304"/>
                  </a:lnTo>
                  <a:lnTo>
                    <a:pt x="10000" y="1"/>
                  </a:lnTo>
                  <a:lnTo>
                    <a:pt x="9730" y="1"/>
                  </a:lnTo>
                  <a:lnTo>
                    <a:pt x="9865" y="203"/>
                  </a:lnTo>
                  <a:lnTo>
                    <a:pt x="10000" y="405"/>
                  </a:lnTo>
                  <a:lnTo>
                    <a:pt x="10235" y="842"/>
                  </a:lnTo>
                  <a:lnTo>
                    <a:pt x="10404" y="1347"/>
                  </a:lnTo>
                  <a:lnTo>
                    <a:pt x="10505" y="1852"/>
                  </a:lnTo>
                  <a:lnTo>
                    <a:pt x="10572" y="2357"/>
                  </a:lnTo>
                  <a:lnTo>
                    <a:pt x="10572" y="2829"/>
                  </a:lnTo>
                  <a:lnTo>
                    <a:pt x="10471" y="3233"/>
                  </a:lnTo>
                  <a:lnTo>
                    <a:pt x="10437" y="3435"/>
                  </a:lnTo>
                  <a:lnTo>
                    <a:pt x="10336" y="3603"/>
                  </a:lnTo>
                  <a:lnTo>
                    <a:pt x="10168" y="3839"/>
                  </a:lnTo>
                  <a:lnTo>
                    <a:pt x="9966" y="4041"/>
                  </a:lnTo>
                  <a:lnTo>
                    <a:pt x="9730" y="4277"/>
                  </a:lnTo>
                  <a:lnTo>
                    <a:pt x="9461" y="4445"/>
                  </a:lnTo>
                  <a:lnTo>
                    <a:pt x="8922" y="4782"/>
                  </a:lnTo>
                  <a:lnTo>
                    <a:pt x="8417" y="5085"/>
                  </a:lnTo>
                  <a:lnTo>
                    <a:pt x="8080" y="5253"/>
                  </a:lnTo>
                  <a:lnTo>
                    <a:pt x="7777" y="5388"/>
                  </a:lnTo>
                  <a:lnTo>
                    <a:pt x="7441" y="5522"/>
                  </a:lnTo>
                  <a:lnTo>
                    <a:pt x="7104" y="5623"/>
                  </a:lnTo>
                  <a:lnTo>
                    <a:pt x="6734" y="5691"/>
                  </a:lnTo>
                  <a:lnTo>
                    <a:pt x="6397" y="5724"/>
                  </a:lnTo>
                  <a:lnTo>
                    <a:pt x="6027" y="5724"/>
                  </a:lnTo>
                  <a:lnTo>
                    <a:pt x="5690" y="5657"/>
                  </a:lnTo>
                  <a:lnTo>
                    <a:pt x="5387" y="5590"/>
                  </a:lnTo>
                  <a:lnTo>
                    <a:pt x="5118" y="5489"/>
                  </a:lnTo>
                  <a:lnTo>
                    <a:pt x="4848" y="5354"/>
                  </a:lnTo>
                  <a:lnTo>
                    <a:pt x="4613" y="5186"/>
                  </a:lnTo>
                  <a:lnTo>
                    <a:pt x="4377" y="4984"/>
                  </a:lnTo>
                  <a:lnTo>
                    <a:pt x="4209" y="4782"/>
                  </a:lnTo>
                  <a:lnTo>
                    <a:pt x="4040" y="4512"/>
                  </a:lnTo>
                  <a:lnTo>
                    <a:pt x="3906" y="4277"/>
                  </a:lnTo>
                  <a:lnTo>
                    <a:pt x="3805" y="4007"/>
                  </a:lnTo>
                  <a:lnTo>
                    <a:pt x="3771" y="3738"/>
                  </a:lnTo>
                  <a:lnTo>
                    <a:pt x="3771" y="3469"/>
                  </a:lnTo>
                  <a:lnTo>
                    <a:pt x="3838" y="3199"/>
                  </a:lnTo>
                  <a:lnTo>
                    <a:pt x="4074" y="3132"/>
                  </a:lnTo>
                  <a:lnTo>
                    <a:pt x="4276" y="3065"/>
                  </a:lnTo>
                  <a:lnTo>
                    <a:pt x="4747" y="2896"/>
                  </a:lnTo>
                  <a:lnTo>
                    <a:pt x="4747" y="3166"/>
                  </a:lnTo>
                  <a:lnTo>
                    <a:pt x="4781" y="3199"/>
                  </a:lnTo>
                  <a:lnTo>
                    <a:pt x="4815" y="3166"/>
                  </a:lnTo>
                  <a:lnTo>
                    <a:pt x="4848" y="2829"/>
                  </a:lnTo>
                  <a:lnTo>
                    <a:pt x="5084" y="2694"/>
                  </a:lnTo>
                  <a:lnTo>
                    <a:pt x="5118" y="2762"/>
                  </a:lnTo>
                  <a:lnTo>
                    <a:pt x="5151" y="2795"/>
                  </a:lnTo>
                  <a:lnTo>
                    <a:pt x="5185" y="2762"/>
                  </a:lnTo>
                  <a:lnTo>
                    <a:pt x="5185" y="2627"/>
                  </a:lnTo>
                  <a:lnTo>
                    <a:pt x="5522" y="2357"/>
                  </a:lnTo>
                  <a:lnTo>
                    <a:pt x="5555" y="2492"/>
                  </a:lnTo>
                  <a:lnTo>
                    <a:pt x="5555" y="2526"/>
                  </a:lnTo>
                  <a:lnTo>
                    <a:pt x="5623" y="2526"/>
                  </a:lnTo>
                  <a:lnTo>
                    <a:pt x="5623" y="2492"/>
                  </a:lnTo>
                  <a:lnTo>
                    <a:pt x="5656" y="2357"/>
                  </a:lnTo>
                  <a:lnTo>
                    <a:pt x="5690" y="2189"/>
                  </a:lnTo>
                  <a:lnTo>
                    <a:pt x="5993" y="1852"/>
                  </a:lnTo>
                  <a:lnTo>
                    <a:pt x="6027" y="1819"/>
                  </a:lnTo>
                  <a:lnTo>
                    <a:pt x="6128" y="1650"/>
                  </a:lnTo>
                  <a:lnTo>
                    <a:pt x="6229" y="1482"/>
                  </a:lnTo>
                  <a:lnTo>
                    <a:pt x="6363" y="1112"/>
                  </a:lnTo>
                  <a:lnTo>
                    <a:pt x="6565" y="337"/>
                  </a:lnTo>
                  <a:lnTo>
                    <a:pt x="6565" y="304"/>
                  </a:lnTo>
                  <a:lnTo>
                    <a:pt x="6969" y="135"/>
                  </a:lnTo>
                  <a:lnTo>
                    <a:pt x="7407" y="1"/>
                  </a:lnTo>
                  <a:lnTo>
                    <a:pt x="7104" y="1"/>
                  </a:lnTo>
                  <a:lnTo>
                    <a:pt x="6633" y="169"/>
                  </a:lnTo>
                  <a:lnTo>
                    <a:pt x="6666" y="1"/>
                  </a:lnTo>
                  <a:lnTo>
                    <a:pt x="6464" y="1"/>
                  </a:lnTo>
                  <a:lnTo>
                    <a:pt x="6363" y="270"/>
                  </a:lnTo>
                  <a:lnTo>
                    <a:pt x="6027" y="438"/>
                  </a:lnTo>
                  <a:lnTo>
                    <a:pt x="5724" y="607"/>
                  </a:lnTo>
                  <a:lnTo>
                    <a:pt x="5387" y="809"/>
                  </a:lnTo>
                  <a:lnTo>
                    <a:pt x="5084" y="1044"/>
                  </a:lnTo>
                  <a:lnTo>
                    <a:pt x="4815" y="1280"/>
                  </a:lnTo>
                  <a:lnTo>
                    <a:pt x="4545" y="1549"/>
                  </a:lnTo>
                  <a:lnTo>
                    <a:pt x="4276" y="1852"/>
                  </a:lnTo>
                  <a:lnTo>
                    <a:pt x="4040" y="2189"/>
                  </a:lnTo>
                  <a:lnTo>
                    <a:pt x="3838" y="2559"/>
                  </a:lnTo>
                  <a:lnTo>
                    <a:pt x="3569" y="2762"/>
                  </a:lnTo>
                  <a:lnTo>
                    <a:pt x="3300" y="2997"/>
                  </a:lnTo>
                  <a:lnTo>
                    <a:pt x="2963" y="2997"/>
                  </a:lnTo>
                  <a:lnTo>
                    <a:pt x="2626" y="2964"/>
                  </a:lnTo>
                  <a:lnTo>
                    <a:pt x="2290" y="2863"/>
                  </a:lnTo>
                  <a:lnTo>
                    <a:pt x="1953" y="2795"/>
                  </a:lnTo>
                  <a:lnTo>
                    <a:pt x="1650" y="2661"/>
                  </a:lnTo>
                  <a:lnTo>
                    <a:pt x="1347" y="2492"/>
                  </a:lnTo>
                  <a:lnTo>
                    <a:pt x="1077" y="2324"/>
                  </a:lnTo>
                  <a:lnTo>
                    <a:pt x="808" y="2088"/>
                  </a:lnTo>
                  <a:lnTo>
                    <a:pt x="640" y="1886"/>
                  </a:lnTo>
                  <a:lnTo>
                    <a:pt x="471" y="1650"/>
                  </a:lnTo>
                  <a:lnTo>
                    <a:pt x="337" y="1381"/>
                  </a:lnTo>
                  <a:lnTo>
                    <a:pt x="269" y="1112"/>
                  </a:lnTo>
                  <a:lnTo>
                    <a:pt x="202" y="842"/>
                  </a:lnTo>
                  <a:lnTo>
                    <a:pt x="168" y="573"/>
                  </a:lnTo>
                  <a:lnTo>
                    <a:pt x="135" y="270"/>
                  </a:lnTo>
                  <a:lnTo>
                    <a:pt x="1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hape 904"/>
            <p:cNvSpPr/>
            <p:nvPr/>
          </p:nvSpPr>
          <p:spPr>
            <a:xfrm>
              <a:off x="1137960" y="539640"/>
              <a:ext cx="164880" cy="1774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3" h="2695">
                  <a:moveTo>
                    <a:pt x="2290" y="203"/>
                  </a:moveTo>
                  <a:lnTo>
                    <a:pt x="2223" y="708"/>
                  </a:lnTo>
                  <a:lnTo>
                    <a:pt x="2223" y="1246"/>
                  </a:lnTo>
                  <a:lnTo>
                    <a:pt x="2223" y="1785"/>
                  </a:lnTo>
                  <a:lnTo>
                    <a:pt x="2290" y="2324"/>
                  </a:lnTo>
                  <a:lnTo>
                    <a:pt x="2290" y="2357"/>
                  </a:lnTo>
                  <a:lnTo>
                    <a:pt x="2055" y="2324"/>
                  </a:lnTo>
                  <a:lnTo>
                    <a:pt x="1819" y="2324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280"/>
                  </a:lnTo>
                  <a:lnTo>
                    <a:pt x="203" y="236"/>
                  </a:lnTo>
                  <a:lnTo>
                    <a:pt x="708" y="270"/>
                  </a:lnTo>
                  <a:lnTo>
                    <a:pt x="1246" y="270"/>
                  </a:lnTo>
                  <a:lnTo>
                    <a:pt x="2290" y="203"/>
                  </a:lnTo>
                  <a:close/>
                  <a:moveTo>
                    <a:pt x="1785" y="1"/>
                  </a:moveTo>
                  <a:lnTo>
                    <a:pt x="1246" y="34"/>
                  </a:lnTo>
                  <a:lnTo>
                    <a:pt x="708" y="34"/>
                  </a:lnTo>
                  <a:lnTo>
                    <a:pt x="169" y="68"/>
                  </a:lnTo>
                  <a:lnTo>
                    <a:pt x="102" y="102"/>
                  </a:lnTo>
                  <a:lnTo>
                    <a:pt x="102" y="135"/>
                  </a:lnTo>
                  <a:lnTo>
                    <a:pt x="34" y="169"/>
                  </a:lnTo>
                  <a:lnTo>
                    <a:pt x="34" y="203"/>
                  </a:lnTo>
                  <a:lnTo>
                    <a:pt x="1" y="809"/>
                  </a:lnTo>
                  <a:lnTo>
                    <a:pt x="34" y="1415"/>
                  </a:lnTo>
                  <a:lnTo>
                    <a:pt x="102" y="2021"/>
                  </a:lnTo>
                  <a:lnTo>
                    <a:pt x="203" y="2627"/>
                  </a:lnTo>
                  <a:lnTo>
                    <a:pt x="236" y="2661"/>
                  </a:lnTo>
                  <a:lnTo>
                    <a:pt x="304" y="2694"/>
                  </a:lnTo>
                  <a:lnTo>
                    <a:pt x="371" y="2661"/>
                  </a:lnTo>
                  <a:lnTo>
                    <a:pt x="405" y="2560"/>
                  </a:lnTo>
                  <a:lnTo>
                    <a:pt x="405" y="2492"/>
                  </a:lnTo>
                  <a:lnTo>
                    <a:pt x="842" y="2593"/>
                  </a:lnTo>
                  <a:lnTo>
                    <a:pt x="1853" y="2593"/>
                  </a:lnTo>
                  <a:lnTo>
                    <a:pt x="2088" y="2560"/>
                  </a:lnTo>
                  <a:lnTo>
                    <a:pt x="2290" y="2492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425" y="2391"/>
                  </a:lnTo>
                  <a:lnTo>
                    <a:pt x="2459" y="2357"/>
                  </a:lnTo>
                  <a:lnTo>
                    <a:pt x="2459" y="2290"/>
                  </a:lnTo>
                  <a:lnTo>
                    <a:pt x="2492" y="1785"/>
                  </a:lnTo>
                  <a:lnTo>
                    <a:pt x="2459" y="1246"/>
                  </a:lnTo>
                  <a:lnTo>
                    <a:pt x="2425" y="708"/>
                  </a:lnTo>
                  <a:lnTo>
                    <a:pt x="2391" y="169"/>
                  </a:lnTo>
                  <a:lnTo>
                    <a:pt x="2425" y="102"/>
                  </a:lnTo>
                  <a:lnTo>
                    <a:pt x="2425" y="68"/>
                  </a:lnTo>
                  <a:lnTo>
                    <a:pt x="239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hape 905"/>
            <p:cNvSpPr/>
            <p:nvPr/>
          </p:nvSpPr>
          <p:spPr>
            <a:xfrm>
              <a:off x="1778040" y="331560"/>
              <a:ext cx="169560" cy="166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560" h="2526">
                  <a:moveTo>
                    <a:pt x="2324" y="1"/>
                  </a:moveTo>
                  <a:lnTo>
                    <a:pt x="2290" y="34"/>
                  </a:lnTo>
                  <a:lnTo>
                    <a:pt x="2290" y="68"/>
                  </a:lnTo>
                  <a:lnTo>
                    <a:pt x="2257" y="135"/>
                  </a:lnTo>
                  <a:lnTo>
                    <a:pt x="1920" y="102"/>
                  </a:lnTo>
                  <a:lnTo>
                    <a:pt x="1550" y="135"/>
                  </a:lnTo>
                  <a:lnTo>
                    <a:pt x="843" y="169"/>
                  </a:lnTo>
                  <a:lnTo>
                    <a:pt x="236" y="169"/>
                  </a:lnTo>
                  <a:lnTo>
                    <a:pt x="169" y="203"/>
                  </a:lnTo>
                  <a:lnTo>
                    <a:pt x="102" y="270"/>
                  </a:lnTo>
                  <a:lnTo>
                    <a:pt x="68" y="236"/>
                  </a:lnTo>
                  <a:lnTo>
                    <a:pt x="34" y="236"/>
                  </a:lnTo>
                  <a:lnTo>
                    <a:pt x="1" y="506"/>
                  </a:lnTo>
                  <a:lnTo>
                    <a:pt x="1" y="741"/>
                  </a:lnTo>
                  <a:lnTo>
                    <a:pt x="34" y="1246"/>
                  </a:lnTo>
                  <a:lnTo>
                    <a:pt x="68" y="2425"/>
                  </a:lnTo>
                  <a:lnTo>
                    <a:pt x="102" y="2492"/>
                  </a:lnTo>
                  <a:lnTo>
                    <a:pt x="169" y="2526"/>
                  </a:lnTo>
                  <a:lnTo>
                    <a:pt x="236" y="2492"/>
                  </a:lnTo>
                  <a:lnTo>
                    <a:pt x="270" y="2458"/>
                  </a:lnTo>
                  <a:lnTo>
                    <a:pt x="540" y="2492"/>
                  </a:lnTo>
                  <a:lnTo>
                    <a:pt x="843" y="2492"/>
                  </a:lnTo>
                  <a:lnTo>
                    <a:pt x="1381" y="2458"/>
                  </a:lnTo>
                  <a:lnTo>
                    <a:pt x="1886" y="2458"/>
                  </a:lnTo>
                  <a:lnTo>
                    <a:pt x="2122" y="2425"/>
                  </a:lnTo>
                  <a:lnTo>
                    <a:pt x="2223" y="2357"/>
                  </a:lnTo>
                  <a:lnTo>
                    <a:pt x="2324" y="2290"/>
                  </a:lnTo>
                  <a:lnTo>
                    <a:pt x="2223" y="2223"/>
                  </a:lnTo>
                  <a:lnTo>
                    <a:pt x="2088" y="2155"/>
                  </a:lnTo>
                  <a:lnTo>
                    <a:pt x="1785" y="2155"/>
                  </a:lnTo>
                  <a:lnTo>
                    <a:pt x="1213" y="2189"/>
                  </a:lnTo>
                  <a:lnTo>
                    <a:pt x="742" y="2189"/>
                  </a:lnTo>
                  <a:lnTo>
                    <a:pt x="506" y="2223"/>
                  </a:lnTo>
                  <a:lnTo>
                    <a:pt x="270" y="2256"/>
                  </a:lnTo>
                  <a:lnTo>
                    <a:pt x="236" y="1078"/>
                  </a:lnTo>
                  <a:lnTo>
                    <a:pt x="203" y="741"/>
                  </a:lnTo>
                  <a:lnTo>
                    <a:pt x="135" y="438"/>
                  </a:lnTo>
                  <a:lnTo>
                    <a:pt x="203" y="438"/>
                  </a:lnTo>
                  <a:lnTo>
                    <a:pt x="236" y="405"/>
                  </a:lnTo>
                  <a:lnTo>
                    <a:pt x="270" y="371"/>
                  </a:lnTo>
                  <a:lnTo>
                    <a:pt x="1348" y="337"/>
                  </a:lnTo>
                  <a:lnTo>
                    <a:pt x="1819" y="304"/>
                  </a:lnTo>
                  <a:lnTo>
                    <a:pt x="2055" y="270"/>
                  </a:lnTo>
                  <a:lnTo>
                    <a:pt x="2257" y="236"/>
                  </a:lnTo>
                  <a:lnTo>
                    <a:pt x="2290" y="674"/>
                  </a:lnTo>
                  <a:lnTo>
                    <a:pt x="2324" y="1078"/>
                  </a:lnTo>
                  <a:lnTo>
                    <a:pt x="2290" y="1684"/>
                  </a:lnTo>
                  <a:lnTo>
                    <a:pt x="2290" y="1987"/>
                  </a:lnTo>
                  <a:lnTo>
                    <a:pt x="2324" y="2290"/>
                  </a:lnTo>
                  <a:lnTo>
                    <a:pt x="2358" y="2324"/>
                  </a:lnTo>
                  <a:lnTo>
                    <a:pt x="2391" y="2357"/>
                  </a:lnTo>
                  <a:lnTo>
                    <a:pt x="2459" y="2357"/>
                  </a:lnTo>
                  <a:lnTo>
                    <a:pt x="2492" y="2290"/>
                  </a:lnTo>
                  <a:lnTo>
                    <a:pt x="2526" y="1987"/>
                  </a:lnTo>
                  <a:lnTo>
                    <a:pt x="2560" y="1684"/>
                  </a:lnTo>
                  <a:lnTo>
                    <a:pt x="2526" y="1078"/>
                  </a:lnTo>
                  <a:lnTo>
                    <a:pt x="2492" y="573"/>
                  </a:lnTo>
                  <a:lnTo>
                    <a:pt x="2459" y="304"/>
                  </a:lnTo>
                  <a:lnTo>
                    <a:pt x="2391" y="34"/>
                  </a:lnTo>
                  <a:lnTo>
                    <a:pt x="2358" y="34"/>
                  </a:lnTo>
                  <a:lnTo>
                    <a:pt x="23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0040" bIns="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Shape 906"/>
            <p:cNvSpPr/>
            <p:nvPr/>
          </p:nvSpPr>
          <p:spPr>
            <a:xfrm>
              <a:off x="950760" y="55224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60" h="2392">
                  <a:moveTo>
                    <a:pt x="102" y="1"/>
                  </a:moveTo>
                  <a:lnTo>
                    <a:pt x="68" y="34"/>
                  </a:lnTo>
                  <a:lnTo>
                    <a:pt x="34" y="304"/>
                  </a:lnTo>
                  <a:lnTo>
                    <a:pt x="1" y="539"/>
                  </a:lnTo>
                  <a:lnTo>
                    <a:pt x="1" y="1078"/>
                  </a:lnTo>
                  <a:lnTo>
                    <a:pt x="34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4"/>
                  </a:lnTo>
                  <a:lnTo>
                    <a:pt x="236" y="2358"/>
                  </a:lnTo>
                  <a:lnTo>
                    <a:pt x="304" y="2324"/>
                  </a:lnTo>
                  <a:lnTo>
                    <a:pt x="337" y="2256"/>
                  </a:lnTo>
                  <a:lnTo>
                    <a:pt x="304" y="1953"/>
                  </a:lnTo>
                  <a:lnTo>
                    <a:pt x="304" y="1650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3" y="203"/>
                  </a:lnTo>
                  <a:lnTo>
                    <a:pt x="438" y="236"/>
                  </a:lnTo>
                  <a:lnTo>
                    <a:pt x="1145" y="236"/>
                  </a:lnTo>
                  <a:lnTo>
                    <a:pt x="2223" y="169"/>
                  </a:lnTo>
                  <a:lnTo>
                    <a:pt x="2256" y="236"/>
                  </a:lnTo>
                  <a:lnTo>
                    <a:pt x="2324" y="236"/>
                  </a:lnTo>
                  <a:lnTo>
                    <a:pt x="2324" y="539"/>
                  </a:lnTo>
                  <a:lnTo>
                    <a:pt x="2324" y="876"/>
                  </a:lnTo>
                  <a:lnTo>
                    <a:pt x="2357" y="2054"/>
                  </a:lnTo>
                  <a:lnTo>
                    <a:pt x="1886" y="2054"/>
                  </a:lnTo>
                  <a:lnTo>
                    <a:pt x="1415" y="2088"/>
                  </a:lnTo>
                  <a:lnTo>
                    <a:pt x="674" y="2088"/>
                  </a:lnTo>
                  <a:lnTo>
                    <a:pt x="539" y="2122"/>
                  </a:lnTo>
                  <a:lnTo>
                    <a:pt x="438" y="2189"/>
                  </a:lnTo>
                  <a:lnTo>
                    <a:pt x="337" y="2256"/>
                  </a:lnTo>
                  <a:lnTo>
                    <a:pt x="405" y="2324"/>
                  </a:lnTo>
                  <a:lnTo>
                    <a:pt x="539" y="2358"/>
                  </a:lnTo>
                  <a:lnTo>
                    <a:pt x="775" y="2391"/>
                  </a:lnTo>
                  <a:lnTo>
                    <a:pt x="1280" y="2358"/>
                  </a:lnTo>
                  <a:lnTo>
                    <a:pt x="1819" y="2358"/>
                  </a:lnTo>
                  <a:lnTo>
                    <a:pt x="2122" y="2324"/>
                  </a:lnTo>
                  <a:lnTo>
                    <a:pt x="2357" y="2256"/>
                  </a:lnTo>
                  <a:lnTo>
                    <a:pt x="2425" y="2324"/>
                  </a:lnTo>
                  <a:lnTo>
                    <a:pt x="2492" y="2324"/>
                  </a:lnTo>
                  <a:lnTo>
                    <a:pt x="2559" y="2290"/>
                  </a:lnTo>
                  <a:lnTo>
                    <a:pt x="2559" y="2223"/>
                  </a:lnTo>
                  <a:lnTo>
                    <a:pt x="2526" y="1044"/>
                  </a:lnTo>
                  <a:lnTo>
                    <a:pt x="2526" y="539"/>
                  </a:lnTo>
                  <a:lnTo>
                    <a:pt x="2492" y="270"/>
                  </a:lnTo>
                  <a:lnTo>
                    <a:pt x="2425" y="34"/>
                  </a:lnTo>
                  <a:lnTo>
                    <a:pt x="2391" y="34"/>
                  </a:lnTo>
                  <a:lnTo>
                    <a:pt x="2391" y="68"/>
                  </a:lnTo>
                  <a:lnTo>
                    <a:pt x="2357" y="68"/>
                  </a:lnTo>
                  <a:lnTo>
                    <a:pt x="2290" y="34"/>
                  </a:lnTo>
                  <a:lnTo>
                    <a:pt x="2223" y="1"/>
                  </a:lnTo>
                  <a:lnTo>
                    <a:pt x="2021" y="1"/>
                  </a:lnTo>
                  <a:lnTo>
                    <a:pt x="1617" y="34"/>
                  </a:lnTo>
                  <a:lnTo>
                    <a:pt x="910" y="34"/>
                  </a:lnTo>
                  <a:lnTo>
                    <a:pt x="539" y="68"/>
                  </a:lnTo>
                  <a:lnTo>
                    <a:pt x="203" y="102"/>
                  </a:lnTo>
                  <a:lnTo>
                    <a:pt x="169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hape 907"/>
            <p:cNvSpPr/>
            <p:nvPr/>
          </p:nvSpPr>
          <p:spPr>
            <a:xfrm>
              <a:off x="1549440" y="163440"/>
              <a:ext cx="169560" cy="160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60" h="2425">
                  <a:moveTo>
                    <a:pt x="2357" y="0"/>
                  </a:moveTo>
                  <a:lnTo>
                    <a:pt x="2357" y="34"/>
                  </a:lnTo>
                  <a:lnTo>
                    <a:pt x="2324" y="135"/>
                  </a:lnTo>
                  <a:lnTo>
                    <a:pt x="1751" y="68"/>
                  </a:lnTo>
                  <a:lnTo>
                    <a:pt x="1179" y="68"/>
                  </a:lnTo>
                  <a:lnTo>
                    <a:pt x="674" y="34"/>
                  </a:lnTo>
                  <a:lnTo>
                    <a:pt x="405" y="68"/>
                  </a:lnTo>
                  <a:lnTo>
                    <a:pt x="304" y="101"/>
                  </a:lnTo>
                  <a:lnTo>
                    <a:pt x="169" y="169"/>
                  </a:lnTo>
                  <a:lnTo>
                    <a:pt x="371" y="270"/>
                  </a:lnTo>
                  <a:lnTo>
                    <a:pt x="573" y="304"/>
                  </a:lnTo>
                  <a:lnTo>
                    <a:pt x="1011" y="270"/>
                  </a:lnTo>
                  <a:lnTo>
                    <a:pt x="1650" y="304"/>
                  </a:lnTo>
                  <a:lnTo>
                    <a:pt x="2324" y="337"/>
                  </a:lnTo>
                  <a:lnTo>
                    <a:pt x="2290" y="708"/>
                  </a:lnTo>
                  <a:lnTo>
                    <a:pt x="2324" y="1078"/>
                  </a:lnTo>
                  <a:lnTo>
                    <a:pt x="2324" y="1583"/>
                  </a:lnTo>
                  <a:lnTo>
                    <a:pt x="2357" y="1852"/>
                  </a:lnTo>
                  <a:lnTo>
                    <a:pt x="2391" y="2088"/>
                  </a:lnTo>
                  <a:lnTo>
                    <a:pt x="2357" y="2088"/>
                  </a:lnTo>
                  <a:lnTo>
                    <a:pt x="1347" y="2122"/>
                  </a:lnTo>
                  <a:lnTo>
                    <a:pt x="809" y="2155"/>
                  </a:lnTo>
                  <a:lnTo>
                    <a:pt x="539" y="2189"/>
                  </a:lnTo>
                  <a:lnTo>
                    <a:pt x="304" y="2223"/>
                  </a:lnTo>
                  <a:lnTo>
                    <a:pt x="270" y="1718"/>
                  </a:lnTo>
                  <a:lnTo>
                    <a:pt x="236" y="1213"/>
                  </a:lnTo>
                  <a:lnTo>
                    <a:pt x="270" y="708"/>
                  </a:lnTo>
                  <a:lnTo>
                    <a:pt x="236" y="438"/>
                  </a:lnTo>
                  <a:lnTo>
                    <a:pt x="203" y="304"/>
                  </a:lnTo>
                  <a:lnTo>
                    <a:pt x="169" y="169"/>
                  </a:lnTo>
                  <a:lnTo>
                    <a:pt x="135" y="203"/>
                  </a:lnTo>
                  <a:lnTo>
                    <a:pt x="68" y="337"/>
                  </a:lnTo>
                  <a:lnTo>
                    <a:pt x="34" y="506"/>
                  </a:lnTo>
                  <a:lnTo>
                    <a:pt x="1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54"/>
                  </a:lnTo>
                  <a:lnTo>
                    <a:pt x="34" y="2189"/>
                  </a:lnTo>
                  <a:lnTo>
                    <a:pt x="102" y="2290"/>
                  </a:lnTo>
                  <a:lnTo>
                    <a:pt x="169" y="2391"/>
                  </a:lnTo>
                  <a:lnTo>
                    <a:pt x="270" y="2425"/>
                  </a:lnTo>
                  <a:lnTo>
                    <a:pt x="304" y="2425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09" y="2425"/>
                  </a:lnTo>
                  <a:lnTo>
                    <a:pt x="1347" y="2391"/>
                  </a:lnTo>
                  <a:lnTo>
                    <a:pt x="2391" y="2324"/>
                  </a:lnTo>
                  <a:lnTo>
                    <a:pt x="2458" y="2290"/>
                  </a:lnTo>
                  <a:lnTo>
                    <a:pt x="2492" y="2324"/>
                  </a:lnTo>
                  <a:lnTo>
                    <a:pt x="2526" y="2324"/>
                  </a:lnTo>
                  <a:lnTo>
                    <a:pt x="2526" y="2290"/>
                  </a:lnTo>
                  <a:lnTo>
                    <a:pt x="2559" y="2021"/>
                  </a:lnTo>
                  <a:lnTo>
                    <a:pt x="2559" y="1751"/>
                  </a:lnTo>
                  <a:lnTo>
                    <a:pt x="2526" y="1246"/>
                  </a:lnTo>
                  <a:lnTo>
                    <a:pt x="2526" y="640"/>
                  </a:lnTo>
                  <a:lnTo>
                    <a:pt x="2492" y="337"/>
                  </a:lnTo>
                  <a:lnTo>
                    <a:pt x="2458" y="34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Shape 908"/>
            <p:cNvSpPr/>
            <p:nvPr/>
          </p:nvSpPr>
          <p:spPr>
            <a:xfrm>
              <a:off x="1849320" y="3952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8" h="843">
                  <a:moveTo>
                    <a:pt x="202" y="1"/>
                  </a:moveTo>
                  <a:lnTo>
                    <a:pt x="101" y="35"/>
                  </a:lnTo>
                  <a:lnTo>
                    <a:pt x="68" y="136"/>
                  </a:lnTo>
                  <a:lnTo>
                    <a:pt x="0" y="338"/>
                  </a:lnTo>
                  <a:lnTo>
                    <a:pt x="0" y="573"/>
                  </a:lnTo>
                  <a:lnTo>
                    <a:pt x="0" y="742"/>
                  </a:lnTo>
                  <a:lnTo>
                    <a:pt x="34" y="809"/>
                  </a:lnTo>
                  <a:lnTo>
                    <a:pt x="68" y="843"/>
                  </a:lnTo>
                  <a:lnTo>
                    <a:pt x="101" y="843"/>
                  </a:lnTo>
                  <a:lnTo>
                    <a:pt x="404" y="809"/>
                  </a:lnTo>
                  <a:lnTo>
                    <a:pt x="573" y="775"/>
                  </a:lnTo>
                  <a:lnTo>
                    <a:pt x="707" y="708"/>
                  </a:lnTo>
                  <a:lnTo>
                    <a:pt x="707" y="674"/>
                  </a:lnTo>
                  <a:lnTo>
                    <a:pt x="707" y="641"/>
                  </a:lnTo>
                  <a:lnTo>
                    <a:pt x="674" y="573"/>
                  </a:lnTo>
                  <a:lnTo>
                    <a:pt x="438" y="573"/>
                  </a:lnTo>
                  <a:lnTo>
                    <a:pt x="202" y="607"/>
                  </a:lnTo>
                  <a:lnTo>
                    <a:pt x="236" y="304"/>
                  </a:lnTo>
                  <a:lnTo>
                    <a:pt x="270" y="169"/>
                  </a:lnTo>
                  <a:lnTo>
                    <a:pt x="270" y="68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hape 909"/>
            <p:cNvSpPr/>
            <p:nvPr/>
          </p:nvSpPr>
          <p:spPr>
            <a:xfrm>
              <a:off x="1193760" y="591840"/>
              <a:ext cx="48960" cy="601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42" h="910">
                  <a:moveTo>
                    <a:pt x="573" y="169"/>
                  </a:moveTo>
                  <a:lnTo>
                    <a:pt x="539" y="236"/>
                  </a:lnTo>
                  <a:lnTo>
                    <a:pt x="505" y="304"/>
                  </a:lnTo>
                  <a:lnTo>
                    <a:pt x="472" y="304"/>
                  </a:lnTo>
                  <a:lnTo>
                    <a:pt x="371" y="337"/>
                  </a:lnTo>
                  <a:lnTo>
                    <a:pt x="270" y="371"/>
                  </a:lnTo>
                  <a:lnTo>
                    <a:pt x="202" y="169"/>
                  </a:lnTo>
                  <a:close/>
                  <a:moveTo>
                    <a:pt x="539" y="506"/>
                  </a:moveTo>
                  <a:lnTo>
                    <a:pt x="573" y="573"/>
                  </a:lnTo>
                  <a:lnTo>
                    <a:pt x="505" y="674"/>
                  </a:lnTo>
                  <a:lnTo>
                    <a:pt x="472" y="708"/>
                  </a:lnTo>
                  <a:lnTo>
                    <a:pt x="270" y="708"/>
                  </a:lnTo>
                  <a:lnTo>
                    <a:pt x="270" y="539"/>
                  </a:lnTo>
                  <a:lnTo>
                    <a:pt x="303" y="539"/>
                  </a:lnTo>
                  <a:lnTo>
                    <a:pt x="472" y="506"/>
                  </a:lnTo>
                  <a:close/>
                  <a:moveTo>
                    <a:pt x="472" y="1"/>
                  </a:moveTo>
                  <a:lnTo>
                    <a:pt x="270" y="68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68" y="203"/>
                  </a:lnTo>
                  <a:lnTo>
                    <a:pt x="101" y="506"/>
                  </a:lnTo>
                  <a:lnTo>
                    <a:pt x="101" y="674"/>
                  </a:lnTo>
                  <a:lnTo>
                    <a:pt x="34" y="674"/>
                  </a:lnTo>
                  <a:lnTo>
                    <a:pt x="0" y="741"/>
                  </a:lnTo>
                  <a:lnTo>
                    <a:pt x="0" y="809"/>
                  </a:lnTo>
                  <a:lnTo>
                    <a:pt x="68" y="876"/>
                  </a:lnTo>
                  <a:lnTo>
                    <a:pt x="270" y="910"/>
                  </a:lnTo>
                  <a:lnTo>
                    <a:pt x="472" y="910"/>
                  </a:lnTo>
                  <a:lnTo>
                    <a:pt x="573" y="876"/>
                  </a:lnTo>
                  <a:lnTo>
                    <a:pt x="640" y="809"/>
                  </a:lnTo>
                  <a:lnTo>
                    <a:pt x="707" y="741"/>
                  </a:lnTo>
                  <a:lnTo>
                    <a:pt x="741" y="640"/>
                  </a:lnTo>
                  <a:lnTo>
                    <a:pt x="741" y="506"/>
                  </a:lnTo>
                  <a:lnTo>
                    <a:pt x="707" y="438"/>
                  </a:lnTo>
                  <a:lnTo>
                    <a:pt x="674" y="371"/>
                  </a:lnTo>
                  <a:lnTo>
                    <a:pt x="707" y="304"/>
                  </a:lnTo>
                  <a:lnTo>
                    <a:pt x="707" y="169"/>
                  </a:lnTo>
                  <a:lnTo>
                    <a:pt x="707" y="68"/>
                  </a:lnTo>
                  <a:lnTo>
                    <a:pt x="640" y="34"/>
                  </a:lnTo>
                  <a:lnTo>
                    <a:pt x="53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hape 910"/>
            <p:cNvSpPr/>
            <p:nvPr/>
          </p:nvSpPr>
          <p:spPr>
            <a:xfrm>
              <a:off x="777600" y="558720"/>
              <a:ext cx="153720" cy="15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324" h="2392">
                  <a:moveTo>
                    <a:pt x="1515" y="1"/>
                  </a:moveTo>
                  <a:lnTo>
                    <a:pt x="909" y="34"/>
                  </a:lnTo>
                  <a:lnTo>
                    <a:pt x="202" y="34"/>
                  </a:lnTo>
                  <a:lnTo>
                    <a:pt x="0" y="102"/>
                  </a:lnTo>
                  <a:lnTo>
                    <a:pt x="0" y="135"/>
                  </a:lnTo>
                  <a:lnTo>
                    <a:pt x="68" y="203"/>
                  </a:lnTo>
                  <a:lnTo>
                    <a:pt x="169" y="236"/>
                  </a:lnTo>
                  <a:lnTo>
                    <a:pt x="371" y="270"/>
                  </a:lnTo>
                  <a:lnTo>
                    <a:pt x="1414" y="270"/>
                  </a:lnTo>
                  <a:lnTo>
                    <a:pt x="2020" y="236"/>
                  </a:lnTo>
                  <a:lnTo>
                    <a:pt x="1987" y="438"/>
                  </a:lnTo>
                  <a:lnTo>
                    <a:pt x="2020" y="640"/>
                  </a:lnTo>
                  <a:lnTo>
                    <a:pt x="2054" y="1078"/>
                  </a:lnTo>
                  <a:lnTo>
                    <a:pt x="2054" y="1617"/>
                  </a:lnTo>
                  <a:lnTo>
                    <a:pt x="2054" y="1852"/>
                  </a:lnTo>
                  <a:lnTo>
                    <a:pt x="2088" y="2122"/>
                  </a:lnTo>
                  <a:lnTo>
                    <a:pt x="977" y="2155"/>
                  </a:lnTo>
                  <a:lnTo>
                    <a:pt x="539" y="2155"/>
                  </a:lnTo>
                  <a:lnTo>
                    <a:pt x="371" y="2189"/>
                  </a:lnTo>
                  <a:lnTo>
                    <a:pt x="270" y="2223"/>
                  </a:lnTo>
                  <a:lnTo>
                    <a:pt x="202" y="2290"/>
                  </a:lnTo>
                  <a:lnTo>
                    <a:pt x="270" y="2358"/>
                  </a:lnTo>
                  <a:lnTo>
                    <a:pt x="371" y="2391"/>
                  </a:lnTo>
                  <a:lnTo>
                    <a:pt x="1583" y="2391"/>
                  </a:lnTo>
                  <a:lnTo>
                    <a:pt x="2222" y="2358"/>
                  </a:lnTo>
                  <a:lnTo>
                    <a:pt x="2290" y="2324"/>
                  </a:lnTo>
                  <a:lnTo>
                    <a:pt x="2323" y="2290"/>
                  </a:lnTo>
                  <a:lnTo>
                    <a:pt x="2323" y="2223"/>
                  </a:lnTo>
                  <a:lnTo>
                    <a:pt x="2290" y="2155"/>
                  </a:lnTo>
                  <a:lnTo>
                    <a:pt x="2290" y="1886"/>
                  </a:lnTo>
                  <a:lnTo>
                    <a:pt x="2290" y="1617"/>
                  </a:lnTo>
                  <a:lnTo>
                    <a:pt x="2256" y="1078"/>
                  </a:lnTo>
                  <a:lnTo>
                    <a:pt x="2256" y="607"/>
                  </a:lnTo>
                  <a:lnTo>
                    <a:pt x="2222" y="405"/>
                  </a:lnTo>
                  <a:lnTo>
                    <a:pt x="2189" y="203"/>
                  </a:lnTo>
                  <a:lnTo>
                    <a:pt x="2222" y="135"/>
                  </a:lnTo>
                  <a:lnTo>
                    <a:pt x="2222" y="68"/>
                  </a:lnTo>
                  <a:lnTo>
                    <a:pt x="2189" y="34"/>
                  </a:lnTo>
                  <a:lnTo>
                    <a:pt x="212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hape 911"/>
            <p:cNvSpPr/>
            <p:nvPr/>
          </p:nvSpPr>
          <p:spPr>
            <a:xfrm>
              <a:off x="1015920" y="603000"/>
              <a:ext cx="48960" cy="42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1" h="640">
                  <a:moveTo>
                    <a:pt x="67" y="0"/>
                  </a:moveTo>
                  <a:lnTo>
                    <a:pt x="0" y="67"/>
                  </a:lnTo>
                  <a:lnTo>
                    <a:pt x="0" y="135"/>
                  </a:lnTo>
                  <a:lnTo>
                    <a:pt x="34" y="168"/>
                  </a:lnTo>
                  <a:lnTo>
                    <a:pt x="67" y="202"/>
                  </a:lnTo>
                  <a:lnTo>
                    <a:pt x="101" y="303"/>
                  </a:lnTo>
                  <a:lnTo>
                    <a:pt x="135" y="438"/>
                  </a:lnTo>
                  <a:lnTo>
                    <a:pt x="202" y="539"/>
                  </a:lnTo>
                  <a:lnTo>
                    <a:pt x="303" y="640"/>
                  </a:lnTo>
                  <a:lnTo>
                    <a:pt x="438" y="640"/>
                  </a:lnTo>
                  <a:lnTo>
                    <a:pt x="471" y="606"/>
                  </a:lnTo>
                  <a:lnTo>
                    <a:pt x="606" y="337"/>
                  </a:lnTo>
                  <a:lnTo>
                    <a:pt x="707" y="236"/>
                  </a:lnTo>
                  <a:lnTo>
                    <a:pt x="741" y="168"/>
                  </a:lnTo>
                  <a:lnTo>
                    <a:pt x="741" y="101"/>
                  </a:lnTo>
                  <a:lnTo>
                    <a:pt x="741" y="67"/>
                  </a:lnTo>
                  <a:lnTo>
                    <a:pt x="707" y="34"/>
                  </a:lnTo>
                  <a:lnTo>
                    <a:pt x="606" y="67"/>
                  </a:lnTo>
                  <a:lnTo>
                    <a:pt x="505" y="135"/>
                  </a:lnTo>
                  <a:lnTo>
                    <a:pt x="404" y="269"/>
                  </a:lnTo>
                  <a:lnTo>
                    <a:pt x="337" y="370"/>
                  </a:lnTo>
                  <a:lnTo>
                    <a:pt x="269" y="236"/>
                  </a:lnTo>
                  <a:lnTo>
                    <a:pt x="236" y="6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Shape 912"/>
            <p:cNvSpPr/>
            <p:nvPr/>
          </p:nvSpPr>
          <p:spPr>
            <a:xfrm>
              <a:off x="579240" y="56340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2391" y="0"/>
                  </a:moveTo>
                  <a:lnTo>
                    <a:pt x="2358" y="34"/>
                  </a:lnTo>
                  <a:lnTo>
                    <a:pt x="2324" y="135"/>
                  </a:lnTo>
                  <a:lnTo>
                    <a:pt x="1751" y="67"/>
                  </a:lnTo>
                  <a:lnTo>
                    <a:pt x="1179" y="67"/>
                  </a:lnTo>
                  <a:lnTo>
                    <a:pt x="640" y="34"/>
                  </a:lnTo>
                  <a:lnTo>
                    <a:pt x="405" y="67"/>
                  </a:lnTo>
                  <a:lnTo>
                    <a:pt x="270" y="101"/>
                  </a:lnTo>
                  <a:lnTo>
                    <a:pt x="169" y="168"/>
                  </a:lnTo>
                  <a:lnTo>
                    <a:pt x="169" y="202"/>
                  </a:lnTo>
                  <a:lnTo>
                    <a:pt x="371" y="269"/>
                  </a:lnTo>
                  <a:lnTo>
                    <a:pt x="573" y="303"/>
                  </a:lnTo>
                  <a:lnTo>
                    <a:pt x="1011" y="269"/>
                  </a:lnTo>
                  <a:lnTo>
                    <a:pt x="1650" y="303"/>
                  </a:lnTo>
                  <a:lnTo>
                    <a:pt x="2324" y="337"/>
                  </a:lnTo>
                  <a:lnTo>
                    <a:pt x="2290" y="707"/>
                  </a:lnTo>
                  <a:lnTo>
                    <a:pt x="2324" y="1077"/>
                  </a:lnTo>
                  <a:lnTo>
                    <a:pt x="2324" y="1582"/>
                  </a:lnTo>
                  <a:lnTo>
                    <a:pt x="2358" y="1852"/>
                  </a:lnTo>
                  <a:lnTo>
                    <a:pt x="2391" y="2087"/>
                  </a:lnTo>
                  <a:lnTo>
                    <a:pt x="2358" y="2087"/>
                  </a:lnTo>
                  <a:lnTo>
                    <a:pt x="1314" y="2121"/>
                  </a:lnTo>
                  <a:lnTo>
                    <a:pt x="809" y="2155"/>
                  </a:lnTo>
                  <a:lnTo>
                    <a:pt x="539" y="2189"/>
                  </a:lnTo>
                  <a:lnTo>
                    <a:pt x="304" y="2256"/>
                  </a:lnTo>
                  <a:lnTo>
                    <a:pt x="270" y="1751"/>
                  </a:lnTo>
                  <a:lnTo>
                    <a:pt x="236" y="1246"/>
                  </a:lnTo>
                  <a:lnTo>
                    <a:pt x="270" y="707"/>
                  </a:lnTo>
                  <a:lnTo>
                    <a:pt x="236" y="438"/>
                  </a:lnTo>
                  <a:lnTo>
                    <a:pt x="203" y="303"/>
                  </a:lnTo>
                  <a:lnTo>
                    <a:pt x="169" y="202"/>
                  </a:lnTo>
                  <a:lnTo>
                    <a:pt x="135" y="202"/>
                  </a:lnTo>
                  <a:lnTo>
                    <a:pt x="68" y="337"/>
                  </a:lnTo>
                  <a:lnTo>
                    <a:pt x="34" y="505"/>
                  </a:lnTo>
                  <a:lnTo>
                    <a:pt x="1" y="875"/>
                  </a:lnTo>
                  <a:lnTo>
                    <a:pt x="34" y="1582"/>
                  </a:lnTo>
                  <a:lnTo>
                    <a:pt x="34" y="1818"/>
                  </a:lnTo>
                  <a:lnTo>
                    <a:pt x="34" y="2054"/>
                  </a:lnTo>
                  <a:lnTo>
                    <a:pt x="34" y="2189"/>
                  </a:lnTo>
                  <a:lnTo>
                    <a:pt x="102" y="2290"/>
                  </a:lnTo>
                  <a:lnTo>
                    <a:pt x="169" y="2391"/>
                  </a:lnTo>
                  <a:lnTo>
                    <a:pt x="270" y="2424"/>
                  </a:lnTo>
                  <a:lnTo>
                    <a:pt x="304" y="2424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09" y="2424"/>
                  </a:lnTo>
                  <a:lnTo>
                    <a:pt x="1347" y="2391"/>
                  </a:lnTo>
                  <a:lnTo>
                    <a:pt x="2391" y="2323"/>
                  </a:lnTo>
                  <a:lnTo>
                    <a:pt x="2459" y="2290"/>
                  </a:lnTo>
                  <a:lnTo>
                    <a:pt x="2492" y="2323"/>
                  </a:lnTo>
                  <a:lnTo>
                    <a:pt x="2526" y="2323"/>
                  </a:lnTo>
                  <a:lnTo>
                    <a:pt x="2526" y="2290"/>
                  </a:lnTo>
                  <a:lnTo>
                    <a:pt x="2560" y="2020"/>
                  </a:lnTo>
                  <a:lnTo>
                    <a:pt x="2560" y="1784"/>
                  </a:lnTo>
                  <a:lnTo>
                    <a:pt x="2526" y="1246"/>
                  </a:lnTo>
                  <a:lnTo>
                    <a:pt x="2526" y="640"/>
                  </a:lnTo>
                  <a:lnTo>
                    <a:pt x="2492" y="337"/>
                  </a:lnTo>
                  <a:lnTo>
                    <a:pt x="2459" y="34"/>
                  </a:lnTo>
                  <a:lnTo>
                    <a:pt x="242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hape 913"/>
            <p:cNvSpPr/>
            <p:nvPr/>
          </p:nvSpPr>
          <p:spPr>
            <a:xfrm>
              <a:off x="831600" y="61416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07" h="607">
                  <a:moveTo>
                    <a:pt x="236" y="0"/>
                  </a:moveTo>
                  <a:lnTo>
                    <a:pt x="135" y="68"/>
                  </a:lnTo>
                  <a:lnTo>
                    <a:pt x="68" y="135"/>
                  </a:lnTo>
                  <a:lnTo>
                    <a:pt x="0" y="202"/>
                  </a:lnTo>
                  <a:lnTo>
                    <a:pt x="0" y="303"/>
                  </a:lnTo>
                  <a:lnTo>
                    <a:pt x="0" y="404"/>
                  </a:lnTo>
                  <a:lnTo>
                    <a:pt x="68" y="505"/>
                  </a:lnTo>
                  <a:lnTo>
                    <a:pt x="135" y="573"/>
                  </a:lnTo>
                  <a:lnTo>
                    <a:pt x="236" y="606"/>
                  </a:lnTo>
                  <a:lnTo>
                    <a:pt x="371" y="606"/>
                  </a:lnTo>
                  <a:lnTo>
                    <a:pt x="438" y="573"/>
                  </a:lnTo>
                  <a:lnTo>
                    <a:pt x="539" y="539"/>
                  </a:lnTo>
                  <a:lnTo>
                    <a:pt x="573" y="438"/>
                  </a:lnTo>
                  <a:lnTo>
                    <a:pt x="539" y="404"/>
                  </a:lnTo>
                  <a:lnTo>
                    <a:pt x="505" y="371"/>
                  </a:lnTo>
                  <a:lnTo>
                    <a:pt x="438" y="337"/>
                  </a:lnTo>
                  <a:lnTo>
                    <a:pt x="371" y="371"/>
                  </a:lnTo>
                  <a:lnTo>
                    <a:pt x="303" y="404"/>
                  </a:lnTo>
                  <a:lnTo>
                    <a:pt x="202" y="371"/>
                  </a:lnTo>
                  <a:lnTo>
                    <a:pt x="202" y="337"/>
                  </a:lnTo>
                  <a:lnTo>
                    <a:pt x="202" y="303"/>
                  </a:lnTo>
                  <a:lnTo>
                    <a:pt x="202" y="236"/>
                  </a:lnTo>
                  <a:lnTo>
                    <a:pt x="236" y="202"/>
                  </a:lnTo>
                  <a:lnTo>
                    <a:pt x="337" y="169"/>
                  </a:lnTo>
                  <a:lnTo>
                    <a:pt x="472" y="169"/>
                  </a:lnTo>
                  <a:lnTo>
                    <a:pt x="606" y="135"/>
                  </a:lnTo>
                  <a:lnTo>
                    <a:pt x="606" y="101"/>
                  </a:lnTo>
                  <a:lnTo>
                    <a:pt x="606" y="6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hape 914"/>
            <p:cNvSpPr/>
            <p:nvPr/>
          </p:nvSpPr>
          <p:spPr>
            <a:xfrm>
              <a:off x="1968480" y="32832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23" h="2459">
                  <a:moveTo>
                    <a:pt x="1751" y="1"/>
                  </a:moveTo>
                  <a:lnTo>
                    <a:pt x="1280" y="68"/>
                  </a:lnTo>
                  <a:lnTo>
                    <a:pt x="674" y="68"/>
                  </a:lnTo>
                  <a:lnTo>
                    <a:pt x="68" y="102"/>
                  </a:lnTo>
                  <a:lnTo>
                    <a:pt x="1" y="136"/>
                  </a:lnTo>
                  <a:lnTo>
                    <a:pt x="1" y="203"/>
                  </a:lnTo>
                  <a:lnTo>
                    <a:pt x="1" y="237"/>
                  </a:lnTo>
                  <a:lnTo>
                    <a:pt x="34" y="304"/>
                  </a:lnTo>
                  <a:lnTo>
                    <a:pt x="1" y="506"/>
                  </a:lnTo>
                  <a:lnTo>
                    <a:pt x="1" y="742"/>
                  </a:lnTo>
                  <a:lnTo>
                    <a:pt x="34" y="1179"/>
                  </a:lnTo>
                  <a:lnTo>
                    <a:pt x="34" y="1718"/>
                  </a:lnTo>
                  <a:lnTo>
                    <a:pt x="34" y="2021"/>
                  </a:lnTo>
                  <a:lnTo>
                    <a:pt x="68" y="2290"/>
                  </a:lnTo>
                  <a:lnTo>
                    <a:pt x="68" y="2324"/>
                  </a:lnTo>
                  <a:lnTo>
                    <a:pt x="68" y="2391"/>
                  </a:lnTo>
                  <a:lnTo>
                    <a:pt x="102" y="2459"/>
                  </a:lnTo>
                  <a:lnTo>
                    <a:pt x="169" y="2459"/>
                  </a:lnTo>
                  <a:lnTo>
                    <a:pt x="809" y="2425"/>
                  </a:lnTo>
                  <a:lnTo>
                    <a:pt x="1415" y="2391"/>
                  </a:lnTo>
                  <a:lnTo>
                    <a:pt x="1819" y="2391"/>
                  </a:lnTo>
                  <a:lnTo>
                    <a:pt x="2021" y="2324"/>
                  </a:lnTo>
                  <a:lnTo>
                    <a:pt x="2122" y="2290"/>
                  </a:lnTo>
                  <a:lnTo>
                    <a:pt x="2189" y="2223"/>
                  </a:lnTo>
                  <a:lnTo>
                    <a:pt x="2088" y="2156"/>
                  </a:lnTo>
                  <a:lnTo>
                    <a:pt x="2021" y="2122"/>
                  </a:lnTo>
                  <a:lnTo>
                    <a:pt x="1819" y="2122"/>
                  </a:lnTo>
                  <a:lnTo>
                    <a:pt x="1415" y="2156"/>
                  </a:lnTo>
                  <a:lnTo>
                    <a:pt x="270" y="2223"/>
                  </a:lnTo>
                  <a:lnTo>
                    <a:pt x="270" y="1954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36" y="742"/>
                  </a:lnTo>
                  <a:lnTo>
                    <a:pt x="236" y="540"/>
                  </a:lnTo>
                  <a:lnTo>
                    <a:pt x="203" y="304"/>
                  </a:lnTo>
                  <a:lnTo>
                    <a:pt x="809" y="304"/>
                  </a:lnTo>
                  <a:lnTo>
                    <a:pt x="1448" y="270"/>
                  </a:lnTo>
                  <a:lnTo>
                    <a:pt x="1852" y="237"/>
                  </a:lnTo>
                  <a:lnTo>
                    <a:pt x="2054" y="169"/>
                  </a:lnTo>
                  <a:lnTo>
                    <a:pt x="2122" y="136"/>
                  </a:lnTo>
                  <a:lnTo>
                    <a:pt x="2223" y="68"/>
                  </a:lnTo>
                  <a:lnTo>
                    <a:pt x="2223" y="35"/>
                  </a:lnTo>
                  <a:lnTo>
                    <a:pt x="198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hape 915"/>
            <p:cNvSpPr/>
            <p:nvPr/>
          </p:nvSpPr>
          <p:spPr>
            <a:xfrm>
              <a:off x="2475000" y="125280"/>
              <a:ext cx="182520" cy="3380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728" h="5085">
                  <a:moveTo>
                    <a:pt x="2391" y="202"/>
                  </a:moveTo>
                  <a:lnTo>
                    <a:pt x="2357" y="471"/>
                  </a:lnTo>
                  <a:lnTo>
                    <a:pt x="2323" y="741"/>
                  </a:lnTo>
                  <a:lnTo>
                    <a:pt x="2357" y="1313"/>
                  </a:lnTo>
                  <a:lnTo>
                    <a:pt x="2391" y="1886"/>
                  </a:lnTo>
                  <a:lnTo>
                    <a:pt x="2424" y="2424"/>
                  </a:lnTo>
                  <a:lnTo>
                    <a:pt x="2458" y="3636"/>
                  </a:lnTo>
                  <a:lnTo>
                    <a:pt x="2424" y="4848"/>
                  </a:lnTo>
                  <a:lnTo>
                    <a:pt x="1785" y="4848"/>
                  </a:lnTo>
                  <a:lnTo>
                    <a:pt x="1448" y="4815"/>
                  </a:lnTo>
                  <a:lnTo>
                    <a:pt x="1280" y="4848"/>
                  </a:lnTo>
                  <a:lnTo>
                    <a:pt x="1111" y="4882"/>
                  </a:lnTo>
                  <a:lnTo>
                    <a:pt x="1111" y="4242"/>
                  </a:lnTo>
                  <a:lnTo>
                    <a:pt x="1078" y="3636"/>
                  </a:lnTo>
                  <a:lnTo>
                    <a:pt x="943" y="2391"/>
                  </a:lnTo>
                  <a:lnTo>
                    <a:pt x="977" y="2323"/>
                  </a:lnTo>
                  <a:lnTo>
                    <a:pt x="977" y="2256"/>
                  </a:lnTo>
                  <a:lnTo>
                    <a:pt x="943" y="2222"/>
                  </a:lnTo>
                  <a:lnTo>
                    <a:pt x="842" y="2189"/>
                  </a:lnTo>
                  <a:lnTo>
                    <a:pt x="337" y="2323"/>
                  </a:lnTo>
                  <a:lnTo>
                    <a:pt x="303" y="1751"/>
                  </a:lnTo>
                  <a:lnTo>
                    <a:pt x="236" y="1212"/>
                  </a:lnTo>
                  <a:lnTo>
                    <a:pt x="236" y="741"/>
                  </a:lnTo>
                  <a:lnTo>
                    <a:pt x="202" y="505"/>
                  </a:lnTo>
                  <a:lnTo>
                    <a:pt x="169" y="269"/>
                  </a:lnTo>
                  <a:lnTo>
                    <a:pt x="741" y="303"/>
                  </a:lnTo>
                  <a:lnTo>
                    <a:pt x="1280" y="269"/>
                  </a:lnTo>
                  <a:lnTo>
                    <a:pt x="2391" y="202"/>
                  </a:lnTo>
                  <a:close/>
                  <a:moveTo>
                    <a:pt x="2391" y="0"/>
                  </a:moveTo>
                  <a:lnTo>
                    <a:pt x="1280" y="34"/>
                  </a:lnTo>
                  <a:lnTo>
                    <a:pt x="707" y="67"/>
                  </a:lnTo>
                  <a:lnTo>
                    <a:pt x="169" y="135"/>
                  </a:lnTo>
                  <a:lnTo>
                    <a:pt x="135" y="168"/>
                  </a:lnTo>
                  <a:lnTo>
                    <a:pt x="101" y="168"/>
                  </a:lnTo>
                  <a:lnTo>
                    <a:pt x="68" y="202"/>
                  </a:lnTo>
                  <a:lnTo>
                    <a:pt x="0" y="438"/>
                  </a:lnTo>
                  <a:lnTo>
                    <a:pt x="0" y="707"/>
                  </a:lnTo>
                  <a:lnTo>
                    <a:pt x="0" y="1212"/>
                  </a:lnTo>
                  <a:lnTo>
                    <a:pt x="34" y="1818"/>
                  </a:lnTo>
                  <a:lnTo>
                    <a:pt x="68" y="2121"/>
                  </a:lnTo>
                  <a:lnTo>
                    <a:pt x="135" y="2424"/>
                  </a:lnTo>
                  <a:lnTo>
                    <a:pt x="135" y="2458"/>
                  </a:lnTo>
                  <a:lnTo>
                    <a:pt x="202" y="2492"/>
                  </a:lnTo>
                  <a:lnTo>
                    <a:pt x="303" y="2492"/>
                  </a:lnTo>
                  <a:lnTo>
                    <a:pt x="808" y="2424"/>
                  </a:lnTo>
                  <a:lnTo>
                    <a:pt x="842" y="3704"/>
                  </a:lnTo>
                  <a:lnTo>
                    <a:pt x="876" y="4377"/>
                  </a:lnTo>
                  <a:lnTo>
                    <a:pt x="943" y="5017"/>
                  </a:lnTo>
                  <a:lnTo>
                    <a:pt x="977" y="5050"/>
                  </a:lnTo>
                  <a:lnTo>
                    <a:pt x="1044" y="5084"/>
                  </a:lnTo>
                  <a:lnTo>
                    <a:pt x="1078" y="5050"/>
                  </a:lnTo>
                  <a:lnTo>
                    <a:pt x="1111" y="4983"/>
                  </a:lnTo>
                  <a:lnTo>
                    <a:pt x="1246" y="5017"/>
                  </a:lnTo>
                  <a:lnTo>
                    <a:pt x="1381" y="5050"/>
                  </a:lnTo>
                  <a:lnTo>
                    <a:pt x="1684" y="5050"/>
                  </a:lnTo>
                  <a:lnTo>
                    <a:pt x="2088" y="5084"/>
                  </a:lnTo>
                  <a:lnTo>
                    <a:pt x="2458" y="5050"/>
                  </a:lnTo>
                  <a:lnTo>
                    <a:pt x="2559" y="5084"/>
                  </a:lnTo>
                  <a:lnTo>
                    <a:pt x="2626" y="5050"/>
                  </a:lnTo>
                  <a:lnTo>
                    <a:pt x="2694" y="5017"/>
                  </a:lnTo>
                  <a:lnTo>
                    <a:pt x="2727" y="4949"/>
                  </a:lnTo>
                  <a:lnTo>
                    <a:pt x="2727" y="4882"/>
                  </a:lnTo>
                  <a:lnTo>
                    <a:pt x="2660" y="4848"/>
                  </a:lnTo>
                  <a:lnTo>
                    <a:pt x="2660" y="3636"/>
                  </a:lnTo>
                  <a:lnTo>
                    <a:pt x="2626" y="2424"/>
                  </a:lnTo>
                  <a:lnTo>
                    <a:pt x="2626" y="1280"/>
                  </a:lnTo>
                  <a:lnTo>
                    <a:pt x="2593" y="707"/>
                  </a:lnTo>
                  <a:lnTo>
                    <a:pt x="2525" y="438"/>
                  </a:lnTo>
                  <a:lnTo>
                    <a:pt x="2458" y="168"/>
                  </a:lnTo>
                  <a:lnTo>
                    <a:pt x="2458" y="101"/>
                  </a:lnTo>
                  <a:lnTo>
                    <a:pt x="2458" y="67"/>
                  </a:lnTo>
                  <a:lnTo>
                    <a:pt x="24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hape 916"/>
            <p:cNvSpPr/>
            <p:nvPr/>
          </p:nvSpPr>
          <p:spPr>
            <a:xfrm>
              <a:off x="0" y="4352760"/>
              <a:ext cx="906480" cy="9144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3637" h="13771">
                  <a:moveTo>
                    <a:pt x="12626" y="6095"/>
                  </a:moveTo>
                  <a:lnTo>
                    <a:pt x="12896" y="6162"/>
                  </a:lnTo>
                  <a:lnTo>
                    <a:pt x="12997" y="6196"/>
                  </a:lnTo>
                  <a:lnTo>
                    <a:pt x="13098" y="6263"/>
                  </a:lnTo>
                  <a:lnTo>
                    <a:pt x="13199" y="6364"/>
                  </a:lnTo>
                  <a:lnTo>
                    <a:pt x="13300" y="6465"/>
                  </a:lnTo>
                  <a:lnTo>
                    <a:pt x="13367" y="6600"/>
                  </a:lnTo>
                  <a:lnTo>
                    <a:pt x="13401" y="6768"/>
                  </a:lnTo>
                  <a:lnTo>
                    <a:pt x="13434" y="6903"/>
                  </a:lnTo>
                  <a:lnTo>
                    <a:pt x="13434" y="7071"/>
                  </a:lnTo>
                  <a:lnTo>
                    <a:pt x="13367" y="7206"/>
                  </a:lnTo>
                  <a:lnTo>
                    <a:pt x="13333" y="7340"/>
                  </a:lnTo>
                  <a:lnTo>
                    <a:pt x="13232" y="7475"/>
                  </a:lnTo>
                  <a:lnTo>
                    <a:pt x="13131" y="7576"/>
                  </a:lnTo>
                  <a:lnTo>
                    <a:pt x="12862" y="7711"/>
                  </a:lnTo>
                  <a:lnTo>
                    <a:pt x="12559" y="7812"/>
                  </a:lnTo>
                  <a:lnTo>
                    <a:pt x="12222" y="7845"/>
                  </a:lnTo>
                  <a:lnTo>
                    <a:pt x="11852" y="7845"/>
                  </a:lnTo>
                  <a:lnTo>
                    <a:pt x="11145" y="7812"/>
                  </a:lnTo>
                  <a:lnTo>
                    <a:pt x="10505" y="7778"/>
                  </a:lnTo>
                  <a:lnTo>
                    <a:pt x="10505" y="7542"/>
                  </a:lnTo>
                  <a:lnTo>
                    <a:pt x="10505" y="7307"/>
                  </a:lnTo>
                  <a:lnTo>
                    <a:pt x="10539" y="6734"/>
                  </a:lnTo>
                  <a:lnTo>
                    <a:pt x="10539" y="6196"/>
                  </a:lnTo>
                  <a:lnTo>
                    <a:pt x="10977" y="6128"/>
                  </a:lnTo>
                  <a:lnTo>
                    <a:pt x="11448" y="6095"/>
                  </a:lnTo>
                  <a:close/>
                  <a:moveTo>
                    <a:pt x="3469" y="1"/>
                  </a:moveTo>
                  <a:lnTo>
                    <a:pt x="2795" y="68"/>
                  </a:lnTo>
                  <a:lnTo>
                    <a:pt x="2122" y="203"/>
                  </a:lnTo>
                  <a:lnTo>
                    <a:pt x="1482" y="405"/>
                  </a:lnTo>
                  <a:lnTo>
                    <a:pt x="842" y="640"/>
                  </a:lnTo>
                  <a:lnTo>
                    <a:pt x="270" y="943"/>
                  </a:lnTo>
                  <a:lnTo>
                    <a:pt x="1" y="1112"/>
                  </a:lnTo>
                  <a:lnTo>
                    <a:pt x="1" y="1415"/>
                  </a:lnTo>
                  <a:lnTo>
                    <a:pt x="573" y="1044"/>
                  </a:lnTo>
                  <a:lnTo>
                    <a:pt x="1145" y="741"/>
                  </a:lnTo>
                  <a:lnTo>
                    <a:pt x="1751" y="539"/>
                  </a:lnTo>
                  <a:lnTo>
                    <a:pt x="2357" y="371"/>
                  </a:lnTo>
                  <a:lnTo>
                    <a:pt x="2997" y="270"/>
                  </a:lnTo>
                  <a:lnTo>
                    <a:pt x="3671" y="236"/>
                  </a:lnTo>
                  <a:lnTo>
                    <a:pt x="4310" y="236"/>
                  </a:lnTo>
                  <a:lnTo>
                    <a:pt x="4950" y="304"/>
                  </a:lnTo>
                  <a:lnTo>
                    <a:pt x="5590" y="438"/>
                  </a:lnTo>
                  <a:lnTo>
                    <a:pt x="6128" y="607"/>
                  </a:lnTo>
                  <a:lnTo>
                    <a:pt x="6633" y="809"/>
                  </a:lnTo>
                  <a:lnTo>
                    <a:pt x="7138" y="1078"/>
                  </a:lnTo>
                  <a:lnTo>
                    <a:pt x="7610" y="1381"/>
                  </a:lnTo>
                  <a:lnTo>
                    <a:pt x="8047" y="1752"/>
                  </a:lnTo>
                  <a:lnTo>
                    <a:pt x="8451" y="2122"/>
                  </a:lnTo>
                  <a:lnTo>
                    <a:pt x="8822" y="2560"/>
                  </a:lnTo>
                  <a:lnTo>
                    <a:pt x="9192" y="2997"/>
                  </a:lnTo>
                  <a:lnTo>
                    <a:pt x="9495" y="3536"/>
                  </a:lnTo>
                  <a:lnTo>
                    <a:pt x="9764" y="4075"/>
                  </a:lnTo>
                  <a:lnTo>
                    <a:pt x="9966" y="4647"/>
                  </a:lnTo>
                  <a:lnTo>
                    <a:pt x="10135" y="5219"/>
                  </a:lnTo>
                  <a:lnTo>
                    <a:pt x="10202" y="5792"/>
                  </a:lnTo>
                  <a:lnTo>
                    <a:pt x="10269" y="6398"/>
                  </a:lnTo>
                  <a:lnTo>
                    <a:pt x="10269" y="7004"/>
                  </a:lnTo>
                  <a:lnTo>
                    <a:pt x="10236" y="7610"/>
                  </a:lnTo>
                  <a:lnTo>
                    <a:pt x="10236" y="7677"/>
                  </a:lnTo>
                  <a:lnTo>
                    <a:pt x="10303" y="7711"/>
                  </a:lnTo>
                  <a:lnTo>
                    <a:pt x="10303" y="7778"/>
                  </a:lnTo>
                  <a:lnTo>
                    <a:pt x="10269" y="7845"/>
                  </a:lnTo>
                  <a:lnTo>
                    <a:pt x="10269" y="7913"/>
                  </a:lnTo>
                  <a:lnTo>
                    <a:pt x="10202" y="8384"/>
                  </a:lnTo>
                  <a:lnTo>
                    <a:pt x="10067" y="8822"/>
                  </a:lnTo>
                  <a:lnTo>
                    <a:pt x="9798" y="9664"/>
                  </a:lnTo>
                  <a:lnTo>
                    <a:pt x="9697" y="9967"/>
                  </a:lnTo>
                  <a:lnTo>
                    <a:pt x="9529" y="10270"/>
                  </a:lnTo>
                  <a:lnTo>
                    <a:pt x="9394" y="10573"/>
                  </a:lnTo>
                  <a:lnTo>
                    <a:pt x="9192" y="10842"/>
                  </a:lnTo>
                  <a:lnTo>
                    <a:pt x="8754" y="11381"/>
                  </a:lnTo>
                  <a:lnTo>
                    <a:pt x="8283" y="11852"/>
                  </a:lnTo>
                  <a:lnTo>
                    <a:pt x="8014" y="12088"/>
                  </a:lnTo>
                  <a:lnTo>
                    <a:pt x="7711" y="12323"/>
                  </a:lnTo>
                  <a:lnTo>
                    <a:pt x="7441" y="12525"/>
                  </a:lnTo>
                  <a:lnTo>
                    <a:pt x="7138" y="12694"/>
                  </a:lnTo>
                  <a:lnTo>
                    <a:pt x="6532" y="12963"/>
                  </a:lnTo>
                  <a:lnTo>
                    <a:pt x="5960" y="13165"/>
                  </a:lnTo>
                  <a:lnTo>
                    <a:pt x="5388" y="13300"/>
                  </a:lnTo>
                  <a:lnTo>
                    <a:pt x="4849" y="13401"/>
                  </a:lnTo>
                  <a:lnTo>
                    <a:pt x="3906" y="13535"/>
                  </a:lnTo>
                  <a:lnTo>
                    <a:pt x="2863" y="13535"/>
                  </a:lnTo>
                  <a:lnTo>
                    <a:pt x="2357" y="13468"/>
                  </a:lnTo>
                  <a:lnTo>
                    <a:pt x="1852" y="13367"/>
                  </a:lnTo>
                  <a:lnTo>
                    <a:pt x="1381" y="13232"/>
                  </a:lnTo>
                  <a:lnTo>
                    <a:pt x="910" y="13064"/>
                  </a:lnTo>
                  <a:lnTo>
                    <a:pt x="438" y="12828"/>
                  </a:lnTo>
                  <a:lnTo>
                    <a:pt x="1" y="12593"/>
                  </a:lnTo>
                  <a:lnTo>
                    <a:pt x="1" y="12828"/>
                  </a:lnTo>
                  <a:lnTo>
                    <a:pt x="438" y="13064"/>
                  </a:lnTo>
                  <a:lnTo>
                    <a:pt x="910" y="13300"/>
                  </a:lnTo>
                  <a:lnTo>
                    <a:pt x="1381" y="13468"/>
                  </a:lnTo>
                  <a:lnTo>
                    <a:pt x="1852" y="13603"/>
                  </a:lnTo>
                  <a:lnTo>
                    <a:pt x="2357" y="13704"/>
                  </a:lnTo>
                  <a:lnTo>
                    <a:pt x="2863" y="13737"/>
                  </a:lnTo>
                  <a:lnTo>
                    <a:pt x="3368" y="13771"/>
                  </a:lnTo>
                  <a:lnTo>
                    <a:pt x="3906" y="13737"/>
                  </a:lnTo>
                  <a:lnTo>
                    <a:pt x="4411" y="13704"/>
                  </a:lnTo>
                  <a:lnTo>
                    <a:pt x="4984" y="13636"/>
                  </a:lnTo>
                  <a:lnTo>
                    <a:pt x="5556" y="13502"/>
                  </a:lnTo>
                  <a:lnTo>
                    <a:pt x="6128" y="13333"/>
                  </a:lnTo>
                  <a:lnTo>
                    <a:pt x="6734" y="13098"/>
                  </a:lnTo>
                  <a:lnTo>
                    <a:pt x="7374" y="12795"/>
                  </a:lnTo>
                  <a:lnTo>
                    <a:pt x="7677" y="12626"/>
                  </a:lnTo>
                  <a:lnTo>
                    <a:pt x="7980" y="12391"/>
                  </a:lnTo>
                  <a:lnTo>
                    <a:pt x="8283" y="12155"/>
                  </a:lnTo>
                  <a:lnTo>
                    <a:pt x="8586" y="11886"/>
                  </a:lnTo>
                  <a:lnTo>
                    <a:pt x="9024" y="11414"/>
                  </a:lnTo>
                  <a:lnTo>
                    <a:pt x="9428" y="10876"/>
                  </a:lnTo>
                  <a:lnTo>
                    <a:pt x="9764" y="10303"/>
                  </a:lnTo>
                  <a:lnTo>
                    <a:pt x="9899" y="10000"/>
                  </a:lnTo>
                  <a:lnTo>
                    <a:pt x="10000" y="9697"/>
                  </a:lnTo>
                  <a:lnTo>
                    <a:pt x="10101" y="9360"/>
                  </a:lnTo>
                  <a:lnTo>
                    <a:pt x="10202" y="9024"/>
                  </a:lnTo>
                  <a:lnTo>
                    <a:pt x="10370" y="8317"/>
                  </a:lnTo>
                  <a:lnTo>
                    <a:pt x="10471" y="7980"/>
                  </a:lnTo>
                  <a:lnTo>
                    <a:pt x="11313" y="8047"/>
                  </a:lnTo>
                  <a:lnTo>
                    <a:pt x="12256" y="8047"/>
                  </a:lnTo>
                  <a:lnTo>
                    <a:pt x="12694" y="7980"/>
                  </a:lnTo>
                  <a:lnTo>
                    <a:pt x="12896" y="7913"/>
                  </a:lnTo>
                  <a:lnTo>
                    <a:pt x="13098" y="7845"/>
                  </a:lnTo>
                  <a:lnTo>
                    <a:pt x="13266" y="7711"/>
                  </a:lnTo>
                  <a:lnTo>
                    <a:pt x="13401" y="7576"/>
                  </a:lnTo>
                  <a:lnTo>
                    <a:pt x="13502" y="7408"/>
                  </a:lnTo>
                  <a:lnTo>
                    <a:pt x="13603" y="7239"/>
                  </a:lnTo>
                  <a:lnTo>
                    <a:pt x="13636" y="7004"/>
                  </a:lnTo>
                  <a:lnTo>
                    <a:pt x="13636" y="6768"/>
                  </a:lnTo>
                  <a:lnTo>
                    <a:pt x="13603" y="6566"/>
                  </a:lnTo>
                  <a:lnTo>
                    <a:pt x="13502" y="6398"/>
                  </a:lnTo>
                  <a:lnTo>
                    <a:pt x="13367" y="6229"/>
                  </a:lnTo>
                  <a:lnTo>
                    <a:pt x="13199" y="6061"/>
                  </a:lnTo>
                  <a:lnTo>
                    <a:pt x="13030" y="5960"/>
                  </a:lnTo>
                  <a:lnTo>
                    <a:pt x="12795" y="5893"/>
                  </a:lnTo>
                  <a:lnTo>
                    <a:pt x="12525" y="5859"/>
                  </a:lnTo>
                  <a:lnTo>
                    <a:pt x="12222" y="5859"/>
                  </a:lnTo>
                  <a:lnTo>
                    <a:pt x="11616" y="5926"/>
                  </a:lnTo>
                  <a:lnTo>
                    <a:pt x="10808" y="5926"/>
                  </a:lnTo>
                  <a:lnTo>
                    <a:pt x="10539" y="5994"/>
                  </a:lnTo>
                  <a:lnTo>
                    <a:pt x="10471" y="5489"/>
                  </a:lnTo>
                  <a:lnTo>
                    <a:pt x="10370" y="4984"/>
                  </a:lnTo>
                  <a:lnTo>
                    <a:pt x="10202" y="4512"/>
                  </a:lnTo>
                  <a:lnTo>
                    <a:pt x="10034" y="4041"/>
                  </a:lnTo>
                  <a:lnTo>
                    <a:pt x="9798" y="3570"/>
                  </a:lnTo>
                  <a:lnTo>
                    <a:pt x="9529" y="3132"/>
                  </a:lnTo>
                  <a:lnTo>
                    <a:pt x="9259" y="2694"/>
                  </a:lnTo>
                  <a:lnTo>
                    <a:pt x="8923" y="2324"/>
                  </a:lnTo>
                  <a:lnTo>
                    <a:pt x="8586" y="1920"/>
                  </a:lnTo>
                  <a:lnTo>
                    <a:pt x="8182" y="1583"/>
                  </a:lnTo>
                  <a:lnTo>
                    <a:pt x="7778" y="1280"/>
                  </a:lnTo>
                  <a:lnTo>
                    <a:pt x="7374" y="977"/>
                  </a:lnTo>
                  <a:lnTo>
                    <a:pt x="6903" y="708"/>
                  </a:lnTo>
                  <a:lnTo>
                    <a:pt x="6431" y="506"/>
                  </a:lnTo>
                  <a:lnTo>
                    <a:pt x="5960" y="304"/>
                  </a:lnTo>
                  <a:lnTo>
                    <a:pt x="5455" y="169"/>
                  </a:lnTo>
                  <a:lnTo>
                    <a:pt x="4815" y="68"/>
                  </a:lnTo>
                  <a:lnTo>
                    <a:pt x="414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hape 917"/>
            <p:cNvSpPr/>
            <p:nvPr/>
          </p:nvSpPr>
          <p:spPr>
            <a:xfrm>
              <a:off x="2341440" y="31248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58" h="2425">
                  <a:moveTo>
                    <a:pt x="2256" y="202"/>
                  </a:moveTo>
                  <a:lnTo>
                    <a:pt x="2222" y="640"/>
                  </a:lnTo>
                  <a:lnTo>
                    <a:pt x="2222" y="1078"/>
                  </a:lnTo>
                  <a:lnTo>
                    <a:pt x="2222" y="1616"/>
                  </a:lnTo>
                  <a:lnTo>
                    <a:pt x="2189" y="2155"/>
                  </a:lnTo>
                  <a:lnTo>
                    <a:pt x="1919" y="2121"/>
                  </a:lnTo>
                  <a:lnTo>
                    <a:pt x="1650" y="2088"/>
                  </a:lnTo>
                  <a:lnTo>
                    <a:pt x="1111" y="2121"/>
                  </a:lnTo>
                  <a:lnTo>
                    <a:pt x="674" y="2155"/>
                  </a:lnTo>
                  <a:lnTo>
                    <a:pt x="472" y="2155"/>
                  </a:lnTo>
                  <a:lnTo>
                    <a:pt x="270" y="2222"/>
                  </a:lnTo>
                  <a:lnTo>
                    <a:pt x="236" y="1684"/>
                  </a:lnTo>
                  <a:lnTo>
                    <a:pt x="202" y="1179"/>
                  </a:lnTo>
                  <a:lnTo>
                    <a:pt x="202" y="741"/>
                  </a:lnTo>
                  <a:lnTo>
                    <a:pt x="169" y="303"/>
                  </a:lnTo>
                  <a:lnTo>
                    <a:pt x="1212" y="270"/>
                  </a:lnTo>
                  <a:lnTo>
                    <a:pt x="1751" y="236"/>
                  </a:lnTo>
                  <a:lnTo>
                    <a:pt x="2256" y="202"/>
                  </a:lnTo>
                  <a:close/>
                  <a:moveTo>
                    <a:pt x="1751" y="0"/>
                  </a:moveTo>
                  <a:lnTo>
                    <a:pt x="1212" y="34"/>
                  </a:lnTo>
                  <a:lnTo>
                    <a:pt x="169" y="101"/>
                  </a:lnTo>
                  <a:lnTo>
                    <a:pt x="101" y="101"/>
                  </a:lnTo>
                  <a:lnTo>
                    <a:pt x="67" y="135"/>
                  </a:lnTo>
                  <a:lnTo>
                    <a:pt x="34" y="169"/>
                  </a:lnTo>
                  <a:lnTo>
                    <a:pt x="0" y="472"/>
                  </a:lnTo>
                  <a:lnTo>
                    <a:pt x="0" y="741"/>
                  </a:lnTo>
                  <a:lnTo>
                    <a:pt x="0" y="1347"/>
                  </a:lnTo>
                  <a:lnTo>
                    <a:pt x="34" y="1852"/>
                  </a:lnTo>
                  <a:lnTo>
                    <a:pt x="34" y="2121"/>
                  </a:lnTo>
                  <a:lnTo>
                    <a:pt x="101" y="2357"/>
                  </a:lnTo>
                  <a:lnTo>
                    <a:pt x="101" y="2391"/>
                  </a:lnTo>
                  <a:lnTo>
                    <a:pt x="169" y="2424"/>
                  </a:lnTo>
                  <a:lnTo>
                    <a:pt x="202" y="2424"/>
                  </a:lnTo>
                  <a:lnTo>
                    <a:pt x="236" y="2391"/>
                  </a:lnTo>
                  <a:lnTo>
                    <a:pt x="741" y="2391"/>
                  </a:lnTo>
                  <a:lnTo>
                    <a:pt x="1280" y="2357"/>
                  </a:lnTo>
                  <a:lnTo>
                    <a:pt x="1751" y="2357"/>
                  </a:lnTo>
                  <a:lnTo>
                    <a:pt x="1987" y="2323"/>
                  </a:lnTo>
                  <a:lnTo>
                    <a:pt x="2222" y="2290"/>
                  </a:lnTo>
                  <a:lnTo>
                    <a:pt x="2323" y="2290"/>
                  </a:lnTo>
                  <a:lnTo>
                    <a:pt x="2357" y="2256"/>
                  </a:lnTo>
                  <a:lnTo>
                    <a:pt x="2357" y="2222"/>
                  </a:lnTo>
                  <a:lnTo>
                    <a:pt x="2424" y="1953"/>
                  </a:lnTo>
                  <a:lnTo>
                    <a:pt x="2458" y="1650"/>
                  </a:lnTo>
                  <a:lnTo>
                    <a:pt x="2458" y="1044"/>
                  </a:lnTo>
                  <a:lnTo>
                    <a:pt x="2424" y="573"/>
                  </a:lnTo>
                  <a:lnTo>
                    <a:pt x="2424" y="337"/>
                  </a:lnTo>
                  <a:lnTo>
                    <a:pt x="2357" y="101"/>
                  </a:lnTo>
                  <a:lnTo>
                    <a:pt x="2323" y="34"/>
                  </a:lnTo>
                  <a:lnTo>
                    <a:pt x="22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Shape 918"/>
            <p:cNvSpPr/>
            <p:nvPr/>
          </p:nvSpPr>
          <p:spPr>
            <a:xfrm>
              <a:off x="2187360" y="0"/>
              <a:ext cx="171360" cy="118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593" h="1786">
                  <a:moveTo>
                    <a:pt x="34" y="1"/>
                  </a:moveTo>
                  <a:lnTo>
                    <a:pt x="0" y="236"/>
                  </a:lnTo>
                  <a:lnTo>
                    <a:pt x="34" y="472"/>
                  </a:lnTo>
                  <a:lnTo>
                    <a:pt x="34" y="943"/>
                  </a:lnTo>
                  <a:lnTo>
                    <a:pt x="34" y="1145"/>
                  </a:lnTo>
                  <a:lnTo>
                    <a:pt x="34" y="1415"/>
                  </a:lnTo>
                  <a:lnTo>
                    <a:pt x="67" y="1516"/>
                  </a:lnTo>
                  <a:lnTo>
                    <a:pt x="101" y="1650"/>
                  </a:lnTo>
                  <a:lnTo>
                    <a:pt x="168" y="1718"/>
                  </a:lnTo>
                  <a:lnTo>
                    <a:pt x="269" y="1785"/>
                  </a:lnTo>
                  <a:lnTo>
                    <a:pt x="303" y="1751"/>
                  </a:lnTo>
                  <a:lnTo>
                    <a:pt x="337" y="1718"/>
                  </a:lnTo>
                  <a:lnTo>
                    <a:pt x="572" y="1751"/>
                  </a:lnTo>
                  <a:lnTo>
                    <a:pt x="1347" y="1751"/>
                  </a:lnTo>
                  <a:lnTo>
                    <a:pt x="2390" y="1650"/>
                  </a:lnTo>
                  <a:lnTo>
                    <a:pt x="2525" y="1650"/>
                  </a:lnTo>
                  <a:lnTo>
                    <a:pt x="2559" y="1617"/>
                  </a:lnTo>
                  <a:lnTo>
                    <a:pt x="2593" y="1381"/>
                  </a:lnTo>
                  <a:lnTo>
                    <a:pt x="2559" y="1112"/>
                  </a:lnTo>
                  <a:lnTo>
                    <a:pt x="2525" y="607"/>
                  </a:lnTo>
                  <a:lnTo>
                    <a:pt x="2525" y="1"/>
                  </a:lnTo>
                  <a:lnTo>
                    <a:pt x="2323" y="1"/>
                  </a:lnTo>
                  <a:lnTo>
                    <a:pt x="2323" y="438"/>
                  </a:lnTo>
                  <a:lnTo>
                    <a:pt x="2323" y="943"/>
                  </a:lnTo>
                  <a:lnTo>
                    <a:pt x="2357" y="1179"/>
                  </a:lnTo>
                  <a:lnTo>
                    <a:pt x="2390" y="1448"/>
                  </a:lnTo>
                  <a:lnTo>
                    <a:pt x="1347" y="1448"/>
                  </a:lnTo>
                  <a:lnTo>
                    <a:pt x="808" y="1482"/>
                  </a:lnTo>
                  <a:lnTo>
                    <a:pt x="572" y="1516"/>
                  </a:lnTo>
                  <a:lnTo>
                    <a:pt x="303" y="1583"/>
                  </a:lnTo>
                  <a:lnTo>
                    <a:pt x="269" y="1078"/>
                  </a:lnTo>
                  <a:lnTo>
                    <a:pt x="236" y="573"/>
                  </a:lnTo>
                  <a:lnTo>
                    <a:pt x="2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160" bIns="2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Shape 919"/>
            <p:cNvSpPr/>
            <p:nvPr/>
          </p:nvSpPr>
          <p:spPr>
            <a:xfrm>
              <a:off x="0" y="1712880"/>
              <a:ext cx="606240" cy="10206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9125" h="15354">
                  <a:moveTo>
                    <a:pt x="8956" y="0"/>
                  </a:moveTo>
                  <a:lnTo>
                    <a:pt x="8889" y="34"/>
                  </a:lnTo>
                  <a:lnTo>
                    <a:pt x="8855" y="68"/>
                  </a:lnTo>
                  <a:lnTo>
                    <a:pt x="8855" y="101"/>
                  </a:lnTo>
                  <a:lnTo>
                    <a:pt x="8855" y="1078"/>
                  </a:lnTo>
                  <a:lnTo>
                    <a:pt x="8788" y="2054"/>
                  </a:lnTo>
                  <a:lnTo>
                    <a:pt x="8687" y="2997"/>
                  </a:lnTo>
                  <a:lnTo>
                    <a:pt x="8552" y="3940"/>
                  </a:lnTo>
                  <a:lnTo>
                    <a:pt x="8216" y="5859"/>
                  </a:lnTo>
                  <a:lnTo>
                    <a:pt x="8047" y="6801"/>
                  </a:lnTo>
                  <a:lnTo>
                    <a:pt x="7879" y="7778"/>
                  </a:lnTo>
                  <a:lnTo>
                    <a:pt x="7778" y="8653"/>
                  </a:lnTo>
                  <a:lnTo>
                    <a:pt x="7677" y="9562"/>
                  </a:lnTo>
                  <a:lnTo>
                    <a:pt x="7542" y="11380"/>
                  </a:lnTo>
                  <a:lnTo>
                    <a:pt x="7441" y="12289"/>
                  </a:lnTo>
                  <a:lnTo>
                    <a:pt x="7340" y="13165"/>
                  </a:lnTo>
                  <a:lnTo>
                    <a:pt x="7172" y="14074"/>
                  </a:lnTo>
                  <a:lnTo>
                    <a:pt x="6936" y="14949"/>
                  </a:lnTo>
                  <a:lnTo>
                    <a:pt x="5186" y="14814"/>
                  </a:lnTo>
                  <a:lnTo>
                    <a:pt x="3469" y="14646"/>
                  </a:lnTo>
                  <a:lnTo>
                    <a:pt x="1718" y="14444"/>
                  </a:lnTo>
                  <a:lnTo>
                    <a:pt x="1" y="14242"/>
                  </a:lnTo>
                  <a:lnTo>
                    <a:pt x="1" y="14511"/>
                  </a:lnTo>
                  <a:lnTo>
                    <a:pt x="1718" y="14713"/>
                  </a:lnTo>
                  <a:lnTo>
                    <a:pt x="3435" y="14915"/>
                  </a:lnTo>
                  <a:lnTo>
                    <a:pt x="5152" y="15084"/>
                  </a:lnTo>
                  <a:lnTo>
                    <a:pt x="6869" y="15218"/>
                  </a:lnTo>
                  <a:lnTo>
                    <a:pt x="6869" y="15252"/>
                  </a:lnTo>
                  <a:lnTo>
                    <a:pt x="6903" y="15319"/>
                  </a:lnTo>
                  <a:lnTo>
                    <a:pt x="6970" y="15353"/>
                  </a:lnTo>
                  <a:lnTo>
                    <a:pt x="7071" y="15353"/>
                  </a:lnTo>
                  <a:lnTo>
                    <a:pt x="7105" y="15319"/>
                  </a:lnTo>
                  <a:lnTo>
                    <a:pt x="7138" y="15252"/>
                  </a:lnTo>
                  <a:lnTo>
                    <a:pt x="7374" y="14309"/>
                  </a:lnTo>
                  <a:lnTo>
                    <a:pt x="7576" y="13367"/>
                  </a:lnTo>
                  <a:lnTo>
                    <a:pt x="7711" y="12424"/>
                  </a:lnTo>
                  <a:lnTo>
                    <a:pt x="7812" y="11448"/>
                  </a:lnTo>
                  <a:lnTo>
                    <a:pt x="7980" y="9529"/>
                  </a:lnTo>
                  <a:lnTo>
                    <a:pt x="8047" y="8552"/>
                  </a:lnTo>
                  <a:lnTo>
                    <a:pt x="8182" y="7576"/>
                  </a:lnTo>
                  <a:lnTo>
                    <a:pt x="8317" y="6667"/>
                  </a:lnTo>
                  <a:lnTo>
                    <a:pt x="8485" y="5724"/>
                  </a:lnTo>
                  <a:lnTo>
                    <a:pt x="8822" y="3872"/>
                  </a:lnTo>
                  <a:lnTo>
                    <a:pt x="8956" y="2930"/>
                  </a:lnTo>
                  <a:lnTo>
                    <a:pt x="9057" y="2021"/>
                  </a:lnTo>
                  <a:lnTo>
                    <a:pt x="9125" y="1078"/>
                  </a:lnTo>
                  <a:lnTo>
                    <a:pt x="9091" y="101"/>
                  </a:lnTo>
                  <a:lnTo>
                    <a:pt x="9091" y="68"/>
                  </a:lnTo>
                  <a:lnTo>
                    <a:pt x="9057" y="34"/>
                  </a:lnTo>
                  <a:lnTo>
                    <a:pt x="89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Shape 920"/>
            <p:cNvSpPr/>
            <p:nvPr/>
          </p:nvSpPr>
          <p:spPr>
            <a:xfrm>
              <a:off x="2546280" y="217440"/>
              <a:ext cx="69840" cy="60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45" h="910">
                  <a:moveTo>
                    <a:pt x="876" y="1"/>
                  </a:moveTo>
                  <a:lnTo>
                    <a:pt x="842" y="34"/>
                  </a:lnTo>
                  <a:lnTo>
                    <a:pt x="842" y="102"/>
                  </a:lnTo>
                  <a:lnTo>
                    <a:pt x="842" y="236"/>
                  </a:lnTo>
                  <a:lnTo>
                    <a:pt x="809" y="337"/>
                  </a:lnTo>
                  <a:lnTo>
                    <a:pt x="741" y="405"/>
                  </a:lnTo>
                  <a:lnTo>
                    <a:pt x="607" y="472"/>
                  </a:lnTo>
                  <a:lnTo>
                    <a:pt x="371" y="472"/>
                  </a:lnTo>
                  <a:lnTo>
                    <a:pt x="371" y="405"/>
                  </a:lnTo>
                  <a:lnTo>
                    <a:pt x="371" y="337"/>
                  </a:lnTo>
                  <a:lnTo>
                    <a:pt x="405" y="270"/>
                  </a:lnTo>
                  <a:lnTo>
                    <a:pt x="405" y="236"/>
                  </a:lnTo>
                  <a:lnTo>
                    <a:pt x="371" y="203"/>
                  </a:lnTo>
                  <a:lnTo>
                    <a:pt x="337" y="236"/>
                  </a:lnTo>
                  <a:lnTo>
                    <a:pt x="203" y="304"/>
                  </a:lnTo>
                  <a:lnTo>
                    <a:pt x="68" y="371"/>
                  </a:lnTo>
                  <a:lnTo>
                    <a:pt x="1" y="405"/>
                  </a:lnTo>
                  <a:lnTo>
                    <a:pt x="1" y="472"/>
                  </a:lnTo>
                  <a:lnTo>
                    <a:pt x="169" y="842"/>
                  </a:lnTo>
                  <a:lnTo>
                    <a:pt x="203" y="876"/>
                  </a:lnTo>
                  <a:lnTo>
                    <a:pt x="270" y="910"/>
                  </a:lnTo>
                  <a:lnTo>
                    <a:pt x="337" y="876"/>
                  </a:lnTo>
                  <a:lnTo>
                    <a:pt x="371" y="876"/>
                  </a:lnTo>
                  <a:lnTo>
                    <a:pt x="371" y="809"/>
                  </a:lnTo>
                  <a:lnTo>
                    <a:pt x="371" y="674"/>
                  </a:lnTo>
                  <a:lnTo>
                    <a:pt x="607" y="674"/>
                  </a:lnTo>
                  <a:lnTo>
                    <a:pt x="775" y="607"/>
                  </a:lnTo>
                  <a:lnTo>
                    <a:pt x="910" y="506"/>
                  </a:lnTo>
                  <a:lnTo>
                    <a:pt x="1011" y="371"/>
                  </a:lnTo>
                  <a:lnTo>
                    <a:pt x="1044" y="203"/>
                  </a:lnTo>
                  <a:lnTo>
                    <a:pt x="1011" y="34"/>
                  </a:lnTo>
                  <a:lnTo>
                    <a:pt x="97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hape 921"/>
            <p:cNvSpPr/>
            <p:nvPr/>
          </p:nvSpPr>
          <p:spPr>
            <a:xfrm>
              <a:off x="0" y="4419720"/>
              <a:ext cx="622080" cy="7729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9361" h="11650">
                  <a:moveTo>
                    <a:pt x="4445" y="371"/>
                  </a:moveTo>
                  <a:lnTo>
                    <a:pt x="5051" y="438"/>
                  </a:lnTo>
                  <a:lnTo>
                    <a:pt x="5623" y="607"/>
                  </a:lnTo>
                  <a:lnTo>
                    <a:pt x="6196" y="843"/>
                  </a:lnTo>
                  <a:lnTo>
                    <a:pt x="6701" y="1112"/>
                  </a:lnTo>
                  <a:lnTo>
                    <a:pt x="6398" y="1213"/>
                  </a:lnTo>
                  <a:lnTo>
                    <a:pt x="6398" y="1146"/>
                  </a:lnTo>
                  <a:lnTo>
                    <a:pt x="6330" y="1112"/>
                  </a:lnTo>
                  <a:lnTo>
                    <a:pt x="5758" y="1045"/>
                  </a:lnTo>
                  <a:lnTo>
                    <a:pt x="5219" y="1045"/>
                  </a:lnTo>
                  <a:lnTo>
                    <a:pt x="5421" y="977"/>
                  </a:lnTo>
                  <a:lnTo>
                    <a:pt x="5590" y="843"/>
                  </a:lnTo>
                  <a:lnTo>
                    <a:pt x="5657" y="809"/>
                  </a:lnTo>
                  <a:lnTo>
                    <a:pt x="5657" y="742"/>
                  </a:lnTo>
                  <a:lnTo>
                    <a:pt x="5623" y="674"/>
                  </a:lnTo>
                  <a:lnTo>
                    <a:pt x="5590" y="641"/>
                  </a:lnTo>
                  <a:lnTo>
                    <a:pt x="5287" y="573"/>
                  </a:lnTo>
                  <a:lnTo>
                    <a:pt x="4950" y="573"/>
                  </a:lnTo>
                  <a:lnTo>
                    <a:pt x="4613" y="607"/>
                  </a:lnTo>
                  <a:lnTo>
                    <a:pt x="4277" y="674"/>
                  </a:lnTo>
                  <a:lnTo>
                    <a:pt x="3603" y="809"/>
                  </a:lnTo>
                  <a:lnTo>
                    <a:pt x="2997" y="977"/>
                  </a:lnTo>
                  <a:lnTo>
                    <a:pt x="2554" y="1117"/>
                  </a:lnTo>
                  <a:lnTo>
                    <a:pt x="3098" y="910"/>
                  </a:lnTo>
                  <a:lnTo>
                    <a:pt x="3805" y="674"/>
                  </a:lnTo>
                  <a:lnTo>
                    <a:pt x="4445" y="371"/>
                  </a:lnTo>
                  <a:close/>
                  <a:moveTo>
                    <a:pt x="6835" y="1348"/>
                  </a:moveTo>
                  <a:lnTo>
                    <a:pt x="6633" y="1482"/>
                  </a:lnTo>
                  <a:lnTo>
                    <a:pt x="6364" y="1617"/>
                  </a:lnTo>
                  <a:lnTo>
                    <a:pt x="5859" y="1819"/>
                  </a:lnTo>
                  <a:lnTo>
                    <a:pt x="4849" y="2189"/>
                  </a:lnTo>
                  <a:lnTo>
                    <a:pt x="3637" y="2661"/>
                  </a:lnTo>
                  <a:lnTo>
                    <a:pt x="5017" y="2088"/>
                  </a:lnTo>
                  <a:lnTo>
                    <a:pt x="5893" y="1684"/>
                  </a:lnTo>
                  <a:lnTo>
                    <a:pt x="6364" y="1482"/>
                  </a:lnTo>
                  <a:lnTo>
                    <a:pt x="6835" y="1348"/>
                  </a:lnTo>
                  <a:close/>
                  <a:moveTo>
                    <a:pt x="5960" y="5522"/>
                  </a:moveTo>
                  <a:lnTo>
                    <a:pt x="5522" y="5758"/>
                  </a:lnTo>
                  <a:lnTo>
                    <a:pt x="5085" y="5960"/>
                  </a:lnTo>
                  <a:lnTo>
                    <a:pt x="4176" y="6297"/>
                  </a:lnTo>
                  <a:lnTo>
                    <a:pt x="4613" y="6095"/>
                  </a:lnTo>
                  <a:lnTo>
                    <a:pt x="5051" y="5893"/>
                  </a:lnTo>
                  <a:lnTo>
                    <a:pt x="5960" y="5522"/>
                  </a:lnTo>
                  <a:close/>
                  <a:moveTo>
                    <a:pt x="8485" y="2964"/>
                  </a:moveTo>
                  <a:lnTo>
                    <a:pt x="8620" y="3233"/>
                  </a:lnTo>
                  <a:lnTo>
                    <a:pt x="8519" y="3233"/>
                  </a:lnTo>
                  <a:lnTo>
                    <a:pt x="7879" y="3502"/>
                  </a:lnTo>
                  <a:lnTo>
                    <a:pt x="7239" y="3772"/>
                  </a:lnTo>
                  <a:lnTo>
                    <a:pt x="5960" y="4378"/>
                  </a:lnTo>
                  <a:lnTo>
                    <a:pt x="4714" y="5017"/>
                  </a:lnTo>
                  <a:lnTo>
                    <a:pt x="4075" y="5320"/>
                  </a:lnTo>
                  <a:lnTo>
                    <a:pt x="3435" y="5623"/>
                  </a:lnTo>
                  <a:lnTo>
                    <a:pt x="2088" y="6229"/>
                  </a:lnTo>
                  <a:lnTo>
                    <a:pt x="741" y="6835"/>
                  </a:lnTo>
                  <a:lnTo>
                    <a:pt x="102" y="7138"/>
                  </a:lnTo>
                  <a:lnTo>
                    <a:pt x="809" y="6701"/>
                  </a:lnTo>
                  <a:lnTo>
                    <a:pt x="1516" y="6297"/>
                  </a:lnTo>
                  <a:lnTo>
                    <a:pt x="2256" y="5926"/>
                  </a:lnTo>
                  <a:lnTo>
                    <a:pt x="3031" y="5590"/>
                  </a:lnTo>
                  <a:lnTo>
                    <a:pt x="4209" y="5051"/>
                  </a:lnTo>
                  <a:lnTo>
                    <a:pt x="5388" y="4411"/>
                  </a:lnTo>
                  <a:lnTo>
                    <a:pt x="5893" y="4108"/>
                  </a:lnTo>
                  <a:lnTo>
                    <a:pt x="6532" y="3839"/>
                  </a:lnTo>
                  <a:lnTo>
                    <a:pt x="7172" y="3570"/>
                  </a:lnTo>
                  <a:lnTo>
                    <a:pt x="7778" y="3334"/>
                  </a:lnTo>
                  <a:lnTo>
                    <a:pt x="8418" y="3065"/>
                  </a:lnTo>
                  <a:lnTo>
                    <a:pt x="8451" y="2997"/>
                  </a:lnTo>
                  <a:lnTo>
                    <a:pt x="8485" y="2964"/>
                  </a:lnTo>
                  <a:close/>
                  <a:moveTo>
                    <a:pt x="8687" y="3401"/>
                  </a:moveTo>
                  <a:lnTo>
                    <a:pt x="8889" y="3906"/>
                  </a:lnTo>
                  <a:lnTo>
                    <a:pt x="9024" y="4479"/>
                  </a:lnTo>
                  <a:lnTo>
                    <a:pt x="9091" y="5017"/>
                  </a:lnTo>
                  <a:lnTo>
                    <a:pt x="9125" y="5590"/>
                  </a:lnTo>
                  <a:lnTo>
                    <a:pt x="8552" y="5825"/>
                  </a:lnTo>
                  <a:lnTo>
                    <a:pt x="7576" y="6196"/>
                  </a:lnTo>
                  <a:lnTo>
                    <a:pt x="6633" y="6600"/>
                  </a:lnTo>
                  <a:lnTo>
                    <a:pt x="5691" y="7004"/>
                  </a:lnTo>
                  <a:lnTo>
                    <a:pt x="4782" y="7441"/>
                  </a:lnTo>
                  <a:lnTo>
                    <a:pt x="3738" y="8047"/>
                  </a:lnTo>
                  <a:lnTo>
                    <a:pt x="2661" y="8620"/>
                  </a:lnTo>
                  <a:lnTo>
                    <a:pt x="2357" y="8788"/>
                  </a:lnTo>
                  <a:lnTo>
                    <a:pt x="2021" y="8923"/>
                  </a:lnTo>
                  <a:lnTo>
                    <a:pt x="1347" y="9159"/>
                  </a:lnTo>
                  <a:lnTo>
                    <a:pt x="3368" y="7845"/>
                  </a:lnTo>
                  <a:lnTo>
                    <a:pt x="3839" y="7610"/>
                  </a:lnTo>
                  <a:lnTo>
                    <a:pt x="6229" y="6431"/>
                  </a:lnTo>
                  <a:lnTo>
                    <a:pt x="7441" y="5859"/>
                  </a:lnTo>
                  <a:lnTo>
                    <a:pt x="8081" y="5623"/>
                  </a:lnTo>
                  <a:lnTo>
                    <a:pt x="8721" y="5388"/>
                  </a:lnTo>
                  <a:lnTo>
                    <a:pt x="8754" y="5354"/>
                  </a:lnTo>
                  <a:lnTo>
                    <a:pt x="8788" y="5320"/>
                  </a:lnTo>
                  <a:lnTo>
                    <a:pt x="8788" y="5219"/>
                  </a:lnTo>
                  <a:lnTo>
                    <a:pt x="8754" y="5152"/>
                  </a:lnTo>
                  <a:lnTo>
                    <a:pt x="8687" y="5118"/>
                  </a:lnTo>
                  <a:lnTo>
                    <a:pt x="8620" y="5118"/>
                  </a:lnTo>
                  <a:lnTo>
                    <a:pt x="8047" y="5287"/>
                  </a:lnTo>
                  <a:lnTo>
                    <a:pt x="7509" y="5489"/>
                  </a:lnTo>
                  <a:lnTo>
                    <a:pt x="6398" y="5994"/>
                  </a:lnTo>
                  <a:lnTo>
                    <a:pt x="5388" y="6431"/>
                  </a:lnTo>
                  <a:lnTo>
                    <a:pt x="4378" y="6903"/>
                  </a:lnTo>
                  <a:lnTo>
                    <a:pt x="3738" y="7273"/>
                  </a:lnTo>
                  <a:lnTo>
                    <a:pt x="3098" y="7643"/>
                  </a:lnTo>
                  <a:lnTo>
                    <a:pt x="2088" y="8081"/>
                  </a:lnTo>
                  <a:lnTo>
                    <a:pt x="1044" y="8485"/>
                  </a:lnTo>
                  <a:lnTo>
                    <a:pt x="2088" y="7711"/>
                  </a:lnTo>
                  <a:lnTo>
                    <a:pt x="3098" y="6936"/>
                  </a:lnTo>
                  <a:lnTo>
                    <a:pt x="4108" y="6600"/>
                  </a:lnTo>
                  <a:lnTo>
                    <a:pt x="5118" y="6229"/>
                  </a:lnTo>
                  <a:lnTo>
                    <a:pt x="5590" y="6027"/>
                  </a:lnTo>
                  <a:lnTo>
                    <a:pt x="6061" y="5792"/>
                  </a:lnTo>
                  <a:lnTo>
                    <a:pt x="6802" y="5354"/>
                  </a:lnTo>
                  <a:lnTo>
                    <a:pt x="7138" y="5152"/>
                  </a:lnTo>
                  <a:lnTo>
                    <a:pt x="7509" y="4984"/>
                  </a:lnTo>
                  <a:lnTo>
                    <a:pt x="8317" y="4681"/>
                  </a:lnTo>
                  <a:lnTo>
                    <a:pt x="8350" y="4647"/>
                  </a:lnTo>
                  <a:lnTo>
                    <a:pt x="8384" y="4580"/>
                  </a:lnTo>
                  <a:lnTo>
                    <a:pt x="8384" y="4479"/>
                  </a:lnTo>
                  <a:lnTo>
                    <a:pt x="8350" y="4411"/>
                  </a:lnTo>
                  <a:lnTo>
                    <a:pt x="8249" y="4411"/>
                  </a:lnTo>
                  <a:lnTo>
                    <a:pt x="7778" y="4546"/>
                  </a:lnTo>
                  <a:lnTo>
                    <a:pt x="7374" y="4748"/>
                  </a:lnTo>
                  <a:lnTo>
                    <a:pt x="6330" y="5118"/>
                  </a:lnTo>
                  <a:lnTo>
                    <a:pt x="5354" y="5489"/>
                  </a:lnTo>
                  <a:lnTo>
                    <a:pt x="4849" y="5691"/>
                  </a:lnTo>
                  <a:lnTo>
                    <a:pt x="4344" y="5893"/>
                  </a:lnTo>
                  <a:lnTo>
                    <a:pt x="3873" y="6162"/>
                  </a:lnTo>
                  <a:lnTo>
                    <a:pt x="3401" y="6431"/>
                  </a:lnTo>
                  <a:lnTo>
                    <a:pt x="2930" y="6734"/>
                  </a:lnTo>
                  <a:lnTo>
                    <a:pt x="2155" y="7004"/>
                  </a:lnTo>
                  <a:lnTo>
                    <a:pt x="1381" y="7340"/>
                  </a:lnTo>
                  <a:lnTo>
                    <a:pt x="1145" y="7475"/>
                  </a:lnTo>
                  <a:lnTo>
                    <a:pt x="1516" y="7206"/>
                  </a:lnTo>
                  <a:lnTo>
                    <a:pt x="2122" y="6869"/>
                  </a:lnTo>
                  <a:lnTo>
                    <a:pt x="2728" y="6566"/>
                  </a:lnTo>
                  <a:lnTo>
                    <a:pt x="3974" y="5960"/>
                  </a:lnTo>
                  <a:lnTo>
                    <a:pt x="5118" y="5354"/>
                  </a:lnTo>
                  <a:lnTo>
                    <a:pt x="6196" y="4714"/>
                  </a:lnTo>
                  <a:lnTo>
                    <a:pt x="6802" y="4378"/>
                  </a:lnTo>
                  <a:lnTo>
                    <a:pt x="7408" y="4075"/>
                  </a:lnTo>
                  <a:lnTo>
                    <a:pt x="8653" y="3469"/>
                  </a:lnTo>
                  <a:lnTo>
                    <a:pt x="8687" y="3435"/>
                  </a:lnTo>
                  <a:lnTo>
                    <a:pt x="8687" y="3401"/>
                  </a:lnTo>
                  <a:close/>
                  <a:moveTo>
                    <a:pt x="7643" y="8856"/>
                  </a:moveTo>
                  <a:lnTo>
                    <a:pt x="7475" y="8990"/>
                  </a:lnTo>
                  <a:lnTo>
                    <a:pt x="7071" y="9226"/>
                  </a:lnTo>
                  <a:lnTo>
                    <a:pt x="7206" y="9125"/>
                  </a:lnTo>
                  <a:lnTo>
                    <a:pt x="7576" y="8889"/>
                  </a:lnTo>
                  <a:lnTo>
                    <a:pt x="7643" y="8856"/>
                  </a:lnTo>
                  <a:close/>
                  <a:moveTo>
                    <a:pt x="5152" y="9327"/>
                  </a:moveTo>
                  <a:lnTo>
                    <a:pt x="4647" y="9664"/>
                  </a:lnTo>
                  <a:lnTo>
                    <a:pt x="4142" y="9967"/>
                  </a:lnTo>
                  <a:lnTo>
                    <a:pt x="3772" y="10169"/>
                  </a:lnTo>
                  <a:lnTo>
                    <a:pt x="4108" y="9933"/>
                  </a:lnTo>
                  <a:lnTo>
                    <a:pt x="4613" y="9630"/>
                  </a:lnTo>
                  <a:lnTo>
                    <a:pt x="5152" y="9327"/>
                  </a:lnTo>
                  <a:close/>
                  <a:moveTo>
                    <a:pt x="6768" y="9697"/>
                  </a:moveTo>
                  <a:lnTo>
                    <a:pt x="6633" y="9832"/>
                  </a:lnTo>
                  <a:lnTo>
                    <a:pt x="6229" y="10202"/>
                  </a:lnTo>
                  <a:lnTo>
                    <a:pt x="6027" y="10337"/>
                  </a:lnTo>
                  <a:lnTo>
                    <a:pt x="5825" y="10505"/>
                  </a:lnTo>
                  <a:lnTo>
                    <a:pt x="5455" y="10674"/>
                  </a:lnTo>
                  <a:lnTo>
                    <a:pt x="5051" y="10808"/>
                  </a:lnTo>
                  <a:lnTo>
                    <a:pt x="5152" y="10741"/>
                  </a:lnTo>
                  <a:lnTo>
                    <a:pt x="5522" y="10472"/>
                  </a:lnTo>
                  <a:lnTo>
                    <a:pt x="5893" y="10202"/>
                  </a:lnTo>
                  <a:lnTo>
                    <a:pt x="6768" y="9697"/>
                  </a:lnTo>
                  <a:close/>
                  <a:moveTo>
                    <a:pt x="9125" y="5893"/>
                  </a:moveTo>
                  <a:lnTo>
                    <a:pt x="9091" y="6330"/>
                  </a:lnTo>
                  <a:lnTo>
                    <a:pt x="9024" y="6768"/>
                  </a:lnTo>
                  <a:lnTo>
                    <a:pt x="8889" y="7576"/>
                  </a:lnTo>
                  <a:lnTo>
                    <a:pt x="8754" y="7980"/>
                  </a:lnTo>
                  <a:lnTo>
                    <a:pt x="8620" y="8384"/>
                  </a:lnTo>
                  <a:lnTo>
                    <a:pt x="8451" y="8755"/>
                  </a:lnTo>
                  <a:lnTo>
                    <a:pt x="8249" y="9091"/>
                  </a:lnTo>
                  <a:lnTo>
                    <a:pt x="8014" y="9428"/>
                  </a:lnTo>
                  <a:lnTo>
                    <a:pt x="7778" y="9731"/>
                  </a:lnTo>
                  <a:lnTo>
                    <a:pt x="7509" y="10000"/>
                  </a:lnTo>
                  <a:lnTo>
                    <a:pt x="7239" y="10270"/>
                  </a:lnTo>
                  <a:lnTo>
                    <a:pt x="7172" y="10202"/>
                  </a:lnTo>
                  <a:lnTo>
                    <a:pt x="7105" y="10169"/>
                  </a:lnTo>
                  <a:lnTo>
                    <a:pt x="7037" y="10202"/>
                  </a:lnTo>
                  <a:lnTo>
                    <a:pt x="6701" y="10404"/>
                  </a:lnTo>
                  <a:lnTo>
                    <a:pt x="6532" y="10505"/>
                  </a:lnTo>
                  <a:lnTo>
                    <a:pt x="6364" y="10573"/>
                  </a:lnTo>
                  <a:lnTo>
                    <a:pt x="6734" y="10270"/>
                  </a:lnTo>
                  <a:lnTo>
                    <a:pt x="7138" y="9967"/>
                  </a:lnTo>
                  <a:lnTo>
                    <a:pt x="7576" y="9697"/>
                  </a:lnTo>
                  <a:lnTo>
                    <a:pt x="7980" y="9428"/>
                  </a:lnTo>
                  <a:lnTo>
                    <a:pt x="8014" y="9361"/>
                  </a:lnTo>
                  <a:lnTo>
                    <a:pt x="8014" y="9260"/>
                  </a:lnTo>
                  <a:lnTo>
                    <a:pt x="7946" y="9192"/>
                  </a:lnTo>
                  <a:lnTo>
                    <a:pt x="7643" y="9192"/>
                  </a:lnTo>
                  <a:lnTo>
                    <a:pt x="7845" y="9058"/>
                  </a:lnTo>
                  <a:lnTo>
                    <a:pt x="7980" y="8856"/>
                  </a:lnTo>
                  <a:lnTo>
                    <a:pt x="8014" y="8788"/>
                  </a:lnTo>
                  <a:lnTo>
                    <a:pt x="8014" y="8687"/>
                  </a:lnTo>
                  <a:lnTo>
                    <a:pt x="7980" y="8620"/>
                  </a:lnTo>
                  <a:lnTo>
                    <a:pt x="7879" y="8553"/>
                  </a:lnTo>
                  <a:lnTo>
                    <a:pt x="7812" y="8519"/>
                  </a:lnTo>
                  <a:lnTo>
                    <a:pt x="7711" y="8519"/>
                  </a:lnTo>
                  <a:lnTo>
                    <a:pt x="7542" y="8553"/>
                  </a:lnTo>
                  <a:lnTo>
                    <a:pt x="7307" y="8654"/>
                  </a:lnTo>
                  <a:lnTo>
                    <a:pt x="7105" y="8788"/>
                  </a:lnTo>
                  <a:lnTo>
                    <a:pt x="6734" y="9125"/>
                  </a:lnTo>
                  <a:lnTo>
                    <a:pt x="6465" y="9394"/>
                  </a:lnTo>
                  <a:lnTo>
                    <a:pt x="5960" y="9832"/>
                  </a:lnTo>
                  <a:lnTo>
                    <a:pt x="5421" y="10169"/>
                  </a:lnTo>
                  <a:lnTo>
                    <a:pt x="4916" y="10539"/>
                  </a:lnTo>
                  <a:lnTo>
                    <a:pt x="4512" y="10707"/>
                  </a:lnTo>
                  <a:lnTo>
                    <a:pt x="4075" y="10842"/>
                  </a:lnTo>
                  <a:lnTo>
                    <a:pt x="4546" y="10539"/>
                  </a:lnTo>
                  <a:lnTo>
                    <a:pt x="5017" y="10202"/>
                  </a:lnTo>
                  <a:lnTo>
                    <a:pt x="5994" y="9596"/>
                  </a:lnTo>
                  <a:lnTo>
                    <a:pt x="6465" y="9226"/>
                  </a:lnTo>
                  <a:lnTo>
                    <a:pt x="6936" y="8856"/>
                  </a:lnTo>
                  <a:lnTo>
                    <a:pt x="7206" y="8687"/>
                  </a:lnTo>
                  <a:lnTo>
                    <a:pt x="7441" y="8519"/>
                  </a:lnTo>
                  <a:lnTo>
                    <a:pt x="7711" y="8384"/>
                  </a:lnTo>
                  <a:lnTo>
                    <a:pt x="8014" y="8283"/>
                  </a:lnTo>
                  <a:lnTo>
                    <a:pt x="8317" y="8182"/>
                  </a:lnTo>
                  <a:lnTo>
                    <a:pt x="8384" y="8182"/>
                  </a:lnTo>
                  <a:lnTo>
                    <a:pt x="8418" y="8115"/>
                  </a:lnTo>
                  <a:lnTo>
                    <a:pt x="8418" y="8047"/>
                  </a:lnTo>
                  <a:lnTo>
                    <a:pt x="8384" y="7946"/>
                  </a:lnTo>
                  <a:lnTo>
                    <a:pt x="8249" y="7946"/>
                  </a:lnTo>
                  <a:lnTo>
                    <a:pt x="7913" y="8014"/>
                  </a:lnTo>
                  <a:lnTo>
                    <a:pt x="7408" y="8081"/>
                  </a:lnTo>
                  <a:lnTo>
                    <a:pt x="7138" y="8148"/>
                  </a:lnTo>
                  <a:lnTo>
                    <a:pt x="6869" y="8249"/>
                  </a:lnTo>
                  <a:lnTo>
                    <a:pt x="7172" y="8014"/>
                  </a:lnTo>
                  <a:lnTo>
                    <a:pt x="7576" y="7744"/>
                  </a:lnTo>
                  <a:lnTo>
                    <a:pt x="8014" y="7542"/>
                  </a:lnTo>
                  <a:lnTo>
                    <a:pt x="8889" y="7138"/>
                  </a:lnTo>
                  <a:lnTo>
                    <a:pt x="8956" y="7071"/>
                  </a:lnTo>
                  <a:lnTo>
                    <a:pt x="8956" y="6970"/>
                  </a:lnTo>
                  <a:lnTo>
                    <a:pt x="8889" y="6903"/>
                  </a:lnTo>
                  <a:lnTo>
                    <a:pt x="8822" y="6869"/>
                  </a:lnTo>
                  <a:lnTo>
                    <a:pt x="8620" y="6903"/>
                  </a:lnTo>
                  <a:lnTo>
                    <a:pt x="8418" y="6936"/>
                  </a:lnTo>
                  <a:lnTo>
                    <a:pt x="8081" y="7071"/>
                  </a:lnTo>
                  <a:lnTo>
                    <a:pt x="7744" y="7273"/>
                  </a:lnTo>
                  <a:lnTo>
                    <a:pt x="7408" y="7475"/>
                  </a:lnTo>
                  <a:lnTo>
                    <a:pt x="6330" y="8081"/>
                  </a:lnTo>
                  <a:lnTo>
                    <a:pt x="5287" y="8687"/>
                  </a:lnTo>
                  <a:lnTo>
                    <a:pt x="5085" y="8788"/>
                  </a:lnTo>
                  <a:lnTo>
                    <a:pt x="5455" y="8553"/>
                  </a:lnTo>
                  <a:lnTo>
                    <a:pt x="6162" y="7980"/>
                  </a:lnTo>
                  <a:lnTo>
                    <a:pt x="6869" y="7441"/>
                  </a:lnTo>
                  <a:lnTo>
                    <a:pt x="7239" y="7206"/>
                  </a:lnTo>
                  <a:lnTo>
                    <a:pt x="7610" y="6970"/>
                  </a:lnTo>
                  <a:lnTo>
                    <a:pt x="8014" y="6802"/>
                  </a:lnTo>
                  <a:lnTo>
                    <a:pt x="8451" y="6667"/>
                  </a:lnTo>
                  <a:lnTo>
                    <a:pt x="8519" y="6633"/>
                  </a:lnTo>
                  <a:lnTo>
                    <a:pt x="8552" y="6600"/>
                  </a:lnTo>
                  <a:lnTo>
                    <a:pt x="8552" y="6532"/>
                  </a:lnTo>
                  <a:lnTo>
                    <a:pt x="8519" y="6431"/>
                  </a:lnTo>
                  <a:lnTo>
                    <a:pt x="8485" y="6398"/>
                  </a:lnTo>
                  <a:lnTo>
                    <a:pt x="8418" y="6398"/>
                  </a:lnTo>
                  <a:lnTo>
                    <a:pt x="8081" y="6431"/>
                  </a:lnTo>
                  <a:lnTo>
                    <a:pt x="7744" y="6499"/>
                  </a:lnTo>
                  <a:lnTo>
                    <a:pt x="8216" y="6297"/>
                  </a:lnTo>
                  <a:lnTo>
                    <a:pt x="8687" y="6061"/>
                  </a:lnTo>
                  <a:lnTo>
                    <a:pt x="9125" y="5893"/>
                  </a:lnTo>
                  <a:close/>
                  <a:moveTo>
                    <a:pt x="6734" y="7172"/>
                  </a:moveTo>
                  <a:lnTo>
                    <a:pt x="6263" y="7542"/>
                  </a:lnTo>
                  <a:lnTo>
                    <a:pt x="5758" y="7946"/>
                  </a:lnTo>
                  <a:lnTo>
                    <a:pt x="5186" y="8418"/>
                  </a:lnTo>
                  <a:lnTo>
                    <a:pt x="4613" y="8822"/>
                  </a:lnTo>
                  <a:lnTo>
                    <a:pt x="3401" y="9596"/>
                  </a:lnTo>
                  <a:lnTo>
                    <a:pt x="2997" y="9798"/>
                  </a:lnTo>
                  <a:lnTo>
                    <a:pt x="2627" y="10034"/>
                  </a:lnTo>
                  <a:lnTo>
                    <a:pt x="2256" y="10270"/>
                  </a:lnTo>
                  <a:lnTo>
                    <a:pt x="1886" y="10539"/>
                  </a:lnTo>
                  <a:lnTo>
                    <a:pt x="1852" y="10573"/>
                  </a:lnTo>
                  <a:lnTo>
                    <a:pt x="1852" y="10640"/>
                  </a:lnTo>
                  <a:lnTo>
                    <a:pt x="1886" y="10707"/>
                  </a:lnTo>
                  <a:lnTo>
                    <a:pt x="1953" y="10775"/>
                  </a:lnTo>
                  <a:lnTo>
                    <a:pt x="2054" y="10775"/>
                  </a:lnTo>
                  <a:lnTo>
                    <a:pt x="3502" y="9832"/>
                  </a:lnTo>
                  <a:lnTo>
                    <a:pt x="4512" y="9361"/>
                  </a:lnTo>
                  <a:lnTo>
                    <a:pt x="4142" y="9563"/>
                  </a:lnTo>
                  <a:lnTo>
                    <a:pt x="3738" y="9832"/>
                  </a:lnTo>
                  <a:lnTo>
                    <a:pt x="3334" y="10135"/>
                  </a:lnTo>
                  <a:lnTo>
                    <a:pt x="2964" y="10438"/>
                  </a:lnTo>
                  <a:lnTo>
                    <a:pt x="2560" y="10741"/>
                  </a:lnTo>
                  <a:lnTo>
                    <a:pt x="2492" y="10775"/>
                  </a:lnTo>
                  <a:lnTo>
                    <a:pt x="2492" y="10808"/>
                  </a:lnTo>
                  <a:lnTo>
                    <a:pt x="2492" y="10909"/>
                  </a:lnTo>
                  <a:lnTo>
                    <a:pt x="2560" y="10977"/>
                  </a:lnTo>
                  <a:lnTo>
                    <a:pt x="2694" y="10977"/>
                  </a:lnTo>
                  <a:lnTo>
                    <a:pt x="2997" y="10775"/>
                  </a:lnTo>
                  <a:lnTo>
                    <a:pt x="3368" y="10640"/>
                  </a:lnTo>
                  <a:lnTo>
                    <a:pt x="3704" y="10472"/>
                  </a:lnTo>
                  <a:lnTo>
                    <a:pt x="4041" y="10303"/>
                  </a:lnTo>
                  <a:lnTo>
                    <a:pt x="4782" y="9899"/>
                  </a:lnTo>
                  <a:lnTo>
                    <a:pt x="5489" y="9428"/>
                  </a:lnTo>
                  <a:lnTo>
                    <a:pt x="6128" y="8990"/>
                  </a:lnTo>
                  <a:lnTo>
                    <a:pt x="6802" y="8586"/>
                  </a:lnTo>
                  <a:lnTo>
                    <a:pt x="6936" y="8519"/>
                  </a:lnTo>
                  <a:lnTo>
                    <a:pt x="6465" y="8856"/>
                  </a:lnTo>
                  <a:lnTo>
                    <a:pt x="5994" y="9226"/>
                  </a:lnTo>
                  <a:lnTo>
                    <a:pt x="5388" y="9664"/>
                  </a:lnTo>
                  <a:lnTo>
                    <a:pt x="4748" y="10101"/>
                  </a:lnTo>
                  <a:lnTo>
                    <a:pt x="4108" y="10505"/>
                  </a:lnTo>
                  <a:lnTo>
                    <a:pt x="3502" y="10977"/>
                  </a:lnTo>
                  <a:lnTo>
                    <a:pt x="3435" y="11044"/>
                  </a:lnTo>
                  <a:lnTo>
                    <a:pt x="3469" y="11111"/>
                  </a:lnTo>
                  <a:lnTo>
                    <a:pt x="3502" y="11179"/>
                  </a:lnTo>
                  <a:lnTo>
                    <a:pt x="3603" y="11212"/>
                  </a:lnTo>
                  <a:lnTo>
                    <a:pt x="3974" y="11179"/>
                  </a:lnTo>
                  <a:lnTo>
                    <a:pt x="4310" y="11078"/>
                  </a:lnTo>
                  <a:lnTo>
                    <a:pt x="4310" y="11145"/>
                  </a:lnTo>
                  <a:lnTo>
                    <a:pt x="4344" y="11246"/>
                  </a:lnTo>
                  <a:lnTo>
                    <a:pt x="4378" y="11280"/>
                  </a:lnTo>
                  <a:lnTo>
                    <a:pt x="4479" y="11280"/>
                  </a:lnTo>
                  <a:lnTo>
                    <a:pt x="5152" y="11044"/>
                  </a:lnTo>
                  <a:lnTo>
                    <a:pt x="5489" y="10943"/>
                  </a:lnTo>
                  <a:lnTo>
                    <a:pt x="5825" y="10808"/>
                  </a:lnTo>
                  <a:lnTo>
                    <a:pt x="5859" y="10876"/>
                  </a:lnTo>
                  <a:lnTo>
                    <a:pt x="5926" y="10909"/>
                  </a:lnTo>
                  <a:lnTo>
                    <a:pt x="6128" y="10909"/>
                  </a:lnTo>
                  <a:lnTo>
                    <a:pt x="6263" y="10876"/>
                  </a:lnTo>
                  <a:lnTo>
                    <a:pt x="5859" y="11044"/>
                  </a:lnTo>
                  <a:lnTo>
                    <a:pt x="5421" y="11212"/>
                  </a:lnTo>
                  <a:lnTo>
                    <a:pt x="4984" y="11313"/>
                  </a:lnTo>
                  <a:lnTo>
                    <a:pt x="4512" y="11381"/>
                  </a:lnTo>
                  <a:lnTo>
                    <a:pt x="4041" y="11414"/>
                  </a:lnTo>
                  <a:lnTo>
                    <a:pt x="3570" y="11381"/>
                  </a:lnTo>
                  <a:lnTo>
                    <a:pt x="3098" y="11347"/>
                  </a:lnTo>
                  <a:lnTo>
                    <a:pt x="2593" y="11246"/>
                  </a:lnTo>
                  <a:lnTo>
                    <a:pt x="2088" y="11111"/>
                  </a:lnTo>
                  <a:lnTo>
                    <a:pt x="1617" y="10943"/>
                  </a:lnTo>
                  <a:lnTo>
                    <a:pt x="1179" y="10741"/>
                  </a:lnTo>
                  <a:lnTo>
                    <a:pt x="741" y="10505"/>
                  </a:lnTo>
                  <a:lnTo>
                    <a:pt x="775" y="10505"/>
                  </a:lnTo>
                  <a:lnTo>
                    <a:pt x="1246" y="10236"/>
                  </a:lnTo>
                  <a:lnTo>
                    <a:pt x="1718" y="10034"/>
                  </a:lnTo>
                  <a:lnTo>
                    <a:pt x="2189" y="9832"/>
                  </a:lnTo>
                  <a:lnTo>
                    <a:pt x="2694" y="9630"/>
                  </a:lnTo>
                  <a:lnTo>
                    <a:pt x="3166" y="9394"/>
                  </a:lnTo>
                  <a:lnTo>
                    <a:pt x="3637" y="9125"/>
                  </a:lnTo>
                  <a:lnTo>
                    <a:pt x="4546" y="8586"/>
                  </a:lnTo>
                  <a:lnTo>
                    <a:pt x="5623" y="7845"/>
                  </a:lnTo>
                  <a:lnTo>
                    <a:pt x="6196" y="7475"/>
                  </a:lnTo>
                  <a:lnTo>
                    <a:pt x="6734" y="7172"/>
                  </a:lnTo>
                  <a:close/>
                  <a:moveTo>
                    <a:pt x="3637" y="1"/>
                  </a:moveTo>
                  <a:lnTo>
                    <a:pt x="3031" y="68"/>
                  </a:lnTo>
                  <a:lnTo>
                    <a:pt x="2492" y="203"/>
                  </a:lnTo>
                  <a:lnTo>
                    <a:pt x="1920" y="371"/>
                  </a:lnTo>
                  <a:lnTo>
                    <a:pt x="1415" y="573"/>
                  </a:lnTo>
                  <a:lnTo>
                    <a:pt x="910" y="843"/>
                  </a:lnTo>
                  <a:lnTo>
                    <a:pt x="438" y="1146"/>
                  </a:lnTo>
                  <a:lnTo>
                    <a:pt x="1" y="1516"/>
                  </a:lnTo>
                  <a:lnTo>
                    <a:pt x="1" y="1853"/>
                  </a:lnTo>
                  <a:lnTo>
                    <a:pt x="270" y="1617"/>
                  </a:lnTo>
                  <a:lnTo>
                    <a:pt x="539" y="1381"/>
                  </a:lnTo>
                  <a:lnTo>
                    <a:pt x="842" y="1179"/>
                  </a:lnTo>
                  <a:lnTo>
                    <a:pt x="1145" y="1011"/>
                  </a:lnTo>
                  <a:lnTo>
                    <a:pt x="1448" y="843"/>
                  </a:lnTo>
                  <a:lnTo>
                    <a:pt x="1785" y="674"/>
                  </a:lnTo>
                  <a:lnTo>
                    <a:pt x="2122" y="573"/>
                  </a:lnTo>
                  <a:lnTo>
                    <a:pt x="1953" y="641"/>
                  </a:lnTo>
                  <a:lnTo>
                    <a:pt x="1448" y="876"/>
                  </a:lnTo>
                  <a:lnTo>
                    <a:pt x="977" y="1146"/>
                  </a:lnTo>
                  <a:lnTo>
                    <a:pt x="539" y="1449"/>
                  </a:lnTo>
                  <a:lnTo>
                    <a:pt x="506" y="1516"/>
                  </a:lnTo>
                  <a:lnTo>
                    <a:pt x="506" y="1583"/>
                  </a:lnTo>
                  <a:lnTo>
                    <a:pt x="539" y="1617"/>
                  </a:lnTo>
                  <a:lnTo>
                    <a:pt x="640" y="1617"/>
                  </a:lnTo>
                  <a:lnTo>
                    <a:pt x="1314" y="1213"/>
                  </a:lnTo>
                  <a:lnTo>
                    <a:pt x="2021" y="843"/>
                  </a:lnTo>
                  <a:lnTo>
                    <a:pt x="2492" y="674"/>
                  </a:lnTo>
                  <a:lnTo>
                    <a:pt x="2930" y="540"/>
                  </a:lnTo>
                  <a:lnTo>
                    <a:pt x="3401" y="438"/>
                  </a:lnTo>
                  <a:lnTo>
                    <a:pt x="3873" y="405"/>
                  </a:lnTo>
                  <a:lnTo>
                    <a:pt x="2863" y="775"/>
                  </a:lnTo>
                  <a:lnTo>
                    <a:pt x="1852" y="1146"/>
                  </a:lnTo>
                  <a:lnTo>
                    <a:pt x="1347" y="1348"/>
                  </a:lnTo>
                  <a:lnTo>
                    <a:pt x="876" y="1583"/>
                  </a:lnTo>
                  <a:lnTo>
                    <a:pt x="405" y="1853"/>
                  </a:lnTo>
                  <a:lnTo>
                    <a:pt x="1" y="2156"/>
                  </a:lnTo>
                  <a:lnTo>
                    <a:pt x="1" y="2492"/>
                  </a:lnTo>
                  <a:lnTo>
                    <a:pt x="640" y="2189"/>
                  </a:lnTo>
                  <a:lnTo>
                    <a:pt x="1280" y="1886"/>
                  </a:lnTo>
                  <a:lnTo>
                    <a:pt x="1953" y="1617"/>
                  </a:lnTo>
                  <a:lnTo>
                    <a:pt x="2627" y="1348"/>
                  </a:lnTo>
                  <a:lnTo>
                    <a:pt x="3300" y="1146"/>
                  </a:lnTo>
                  <a:lnTo>
                    <a:pt x="4007" y="1011"/>
                  </a:lnTo>
                  <a:lnTo>
                    <a:pt x="4546" y="876"/>
                  </a:lnTo>
                  <a:lnTo>
                    <a:pt x="4849" y="843"/>
                  </a:lnTo>
                  <a:lnTo>
                    <a:pt x="5152" y="809"/>
                  </a:lnTo>
                  <a:lnTo>
                    <a:pt x="4815" y="944"/>
                  </a:lnTo>
                  <a:lnTo>
                    <a:pt x="4512" y="1011"/>
                  </a:lnTo>
                  <a:lnTo>
                    <a:pt x="3873" y="1179"/>
                  </a:lnTo>
                  <a:lnTo>
                    <a:pt x="3098" y="1415"/>
                  </a:lnTo>
                  <a:lnTo>
                    <a:pt x="2324" y="1684"/>
                  </a:lnTo>
                  <a:lnTo>
                    <a:pt x="1650" y="1920"/>
                  </a:lnTo>
                  <a:lnTo>
                    <a:pt x="842" y="2189"/>
                  </a:lnTo>
                  <a:lnTo>
                    <a:pt x="438" y="2324"/>
                  </a:lnTo>
                  <a:lnTo>
                    <a:pt x="1" y="2526"/>
                  </a:lnTo>
                  <a:lnTo>
                    <a:pt x="1" y="2829"/>
                  </a:lnTo>
                  <a:lnTo>
                    <a:pt x="236" y="2728"/>
                  </a:lnTo>
                  <a:lnTo>
                    <a:pt x="1" y="2863"/>
                  </a:lnTo>
                  <a:lnTo>
                    <a:pt x="1" y="3132"/>
                  </a:lnTo>
                  <a:lnTo>
                    <a:pt x="876" y="2627"/>
                  </a:lnTo>
                  <a:lnTo>
                    <a:pt x="1314" y="2391"/>
                  </a:lnTo>
                  <a:lnTo>
                    <a:pt x="1785" y="2189"/>
                  </a:lnTo>
                  <a:lnTo>
                    <a:pt x="2762" y="1819"/>
                  </a:lnTo>
                  <a:lnTo>
                    <a:pt x="3267" y="1651"/>
                  </a:lnTo>
                  <a:lnTo>
                    <a:pt x="3772" y="1516"/>
                  </a:lnTo>
                  <a:lnTo>
                    <a:pt x="4310" y="1415"/>
                  </a:lnTo>
                  <a:lnTo>
                    <a:pt x="4815" y="1314"/>
                  </a:lnTo>
                  <a:lnTo>
                    <a:pt x="5354" y="1280"/>
                  </a:lnTo>
                  <a:lnTo>
                    <a:pt x="5859" y="1314"/>
                  </a:lnTo>
                  <a:lnTo>
                    <a:pt x="5085" y="1550"/>
                  </a:lnTo>
                  <a:lnTo>
                    <a:pt x="3839" y="1987"/>
                  </a:lnTo>
                  <a:lnTo>
                    <a:pt x="1718" y="2795"/>
                  </a:lnTo>
                  <a:lnTo>
                    <a:pt x="842" y="3166"/>
                  </a:lnTo>
                  <a:lnTo>
                    <a:pt x="405" y="3368"/>
                  </a:lnTo>
                  <a:lnTo>
                    <a:pt x="1" y="3603"/>
                  </a:lnTo>
                  <a:lnTo>
                    <a:pt x="1" y="3906"/>
                  </a:lnTo>
                  <a:lnTo>
                    <a:pt x="539" y="3570"/>
                  </a:lnTo>
                  <a:lnTo>
                    <a:pt x="1145" y="3300"/>
                  </a:lnTo>
                  <a:lnTo>
                    <a:pt x="1718" y="3065"/>
                  </a:lnTo>
                  <a:lnTo>
                    <a:pt x="2290" y="2829"/>
                  </a:lnTo>
                  <a:lnTo>
                    <a:pt x="4411" y="2055"/>
                  </a:lnTo>
                  <a:lnTo>
                    <a:pt x="4512" y="2021"/>
                  </a:lnTo>
                  <a:lnTo>
                    <a:pt x="3300" y="2526"/>
                  </a:lnTo>
                  <a:lnTo>
                    <a:pt x="2155" y="2997"/>
                  </a:lnTo>
                  <a:lnTo>
                    <a:pt x="977" y="3502"/>
                  </a:lnTo>
                  <a:lnTo>
                    <a:pt x="506" y="3772"/>
                  </a:lnTo>
                  <a:lnTo>
                    <a:pt x="1" y="4075"/>
                  </a:lnTo>
                  <a:lnTo>
                    <a:pt x="1" y="4310"/>
                  </a:lnTo>
                  <a:lnTo>
                    <a:pt x="438" y="4041"/>
                  </a:lnTo>
                  <a:lnTo>
                    <a:pt x="977" y="3772"/>
                  </a:lnTo>
                  <a:lnTo>
                    <a:pt x="1516" y="3536"/>
                  </a:lnTo>
                  <a:lnTo>
                    <a:pt x="741" y="4007"/>
                  </a:lnTo>
                  <a:lnTo>
                    <a:pt x="1" y="4512"/>
                  </a:lnTo>
                  <a:lnTo>
                    <a:pt x="1" y="4782"/>
                  </a:lnTo>
                  <a:lnTo>
                    <a:pt x="236" y="4613"/>
                  </a:lnTo>
                  <a:lnTo>
                    <a:pt x="876" y="4209"/>
                  </a:lnTo>
                  <a:lnTo>
                    <a:pt x="1516" y="3839"/>
                  </a:lnTo>
                  <a:lnTo>
                    <a:pt x="2189" y="3502"/>
                  </a:lnTo>
                  <a:lnTo>
                    <a:pt x="2863" y="3199"/>
                  </a:lnTo>
                  <a:lnTo>
                    <a:pt x="4243" y="2694"/>
                  </a:lnTo>
                  <a:lnTo>
                    <a:pt x="5590" y="2189"/>
                  </a:lnTo>
                  <a:lnTo>
                    <a:pt x="6398" y="1853"/>
                  </a:lnTo>
                  <a:lnTo>
                    <a:pt x="6802" y="1684"/>
                  </a:lnTo>
                  <a:lnTo>
                    <a:pt x="7138" y="1415"/>
                  </a:lnTo>
                  <a:lnTo>
                    <a:pt x="7475" y="1718"/>
                  </a:lnTo>
                  <a:lnTo>
                    <a:pt x="7812" y="2055"/>
                  </a:lnTo>
                  <a:lnTo>
                    <a:pt x="8115" y="2425"/>
                  </a:lnTo>
                  <a:lnTo>
                    <a:pt x="8384" y="2795"/>
                  </a:lnTo>
                  <a:lnTo>
                    <a:pt x="8350" y="2795"/>
                  </a:lnTo>
                  <a:lnTo>
                    <a:pt x="8014" y="2829"/>
                  </a:lnTo>
                  <a:lnTo>
                    <a:pt x="7711" y="2896"/>
                  </a:lnTo>
                  <a:lnTo>
                    <a:pt x="7408" y="3031"/>
                  </a:lnTo>
                  <a:lnTo>
                    <a:pt x="7071" y="3166"/>
                  </a:lnTo>
                  <a:lnTo>
                    <a:pt x="6499" y="3469"/>
                  </a:lnTo>
                  <a:lnTo>
                    <a:pt x="5926" y="3805"/>
                  </a:lnTo>
                  <a:lnTo>
                    <a:pt x="5893" y="3805"/>
                  </a:lnTo>
                  <a:lnTo>
                    <a:pt x="3098" y="5118"/>
                  </a:lnTo>
                  <a:lnTo>
                    <a:pt x="2290" y="5455"/>
                  </a:lnTo>
                  <a:lnTo>
                    <a:pt x="2863" y="5118"/>
                  </a:lnTo>
                  <a:lnTo>
                    <a:pt x="4714" y="4007"/>
                  </a:lnTo>
                  <a:lnTo>
                    <a:pt x="5489" y="3772"/>
                  </a:lnTo>
                  <a:lnTo>
                    <a:pt x="6263" y="3469"/>
                  </a:lnTo>
                  <a:lnTo>
                    <a:pt x="7004" y="3166"/>
                  </a:lnTo>
                  <a:lnTo>
                    <a:pt x="7374" y="2964"/>
                  </a:lnTo>
                  <a:lnTo>
                    <a:pt x="7744" y="2762"/>
                  </a:lnTo>
                  <a:lnTo>
                    <a:pt x="7778" y="2694"/>
                  </a:lnTo>
                  <a:lnTo>
                    <a:pt x="7812" y="2627"/>
                  </a:lnTo>
                  <a:lnTo>
                    <a:pt x="7744" y="2560"/>
                  </a:lnTo>
                  <a:lnTo>
                    <a:pt x="7677" y="2526"/>
                  </a:lnTo>
                  <a:lnTo>
                    <a:pt x="7239" y="2593"/>
                  </a:lnTo>
                  <a:lnTo>
                    <a:pt x="6802" y="2694"/>
                  </a:lnTo>
                  <a:lnTo>
                    <a:pt x="6364" y="2829"/>
                  </a:lnTo>
                  <a:lnTo>
                    <a:pt x="5960" y="3031"/>
                  </a:lnTo>
                  <a:lnTo>
                    <a:pt x="5522" y="3199"/>
                  </a:lnTo>
                  <a:lnTo>
                    <a:pt x="5118" y="3435"/>
                  </a:lnTo>
                  <a:lnTo>
                    <a:pt x="4310" y="3906"/>
                  </a:lnTo>
                  <a:lnTo>
                    <a:pt x="3536" y="4176"/>
                  </a:lnTo>
                  <a:lnTo>
                    <a:pt x="2728" y="4445"/>
                  </a:lnTo>
                  <a:lnTo>
                    <a:pt x="4479" y="3502"/>
                  </a:lnTo>
                  <a:lnTo>
                    <a:pt x="5623" y="2896"/>
                  </a:lnTo>
                  <a:lnTo>
                    <a:pt x="6128" y="2627"/>
                  </a:lnTo>
                  <a:lnTo>
                    <a:pt x="6768" y="2425"/>
                  </a:lnTo>
                  <a:lnTo>
                    <a:pt x="7071" y="2290"/>
                  </a:lnTo>
                  <a:lnTo>
                    <a:pt x="7374" y="2156"/>
                  </a:lnTo>
                  <a:lnTo>
                    <a:pt x="7441" y="2122"/>
                  </a:lnTo>
                  <a:lnTo>
                    <a:pt x="7441" y="2021"/>
                  </a:lnTo>
                  <a:lnTo>
                    <a:pt x="7408" y="1954"/>
                  </a:lnTo>
                  <a:lnTo>
                    <a:pt x="7307" y="1920"/>
                  </a:lnTo>
                  <a:lnTo>
                    <a:pt x="6970" y="1987"/>
                  </a:lnTo>
                  <a:lnTo>
                    <a:pt x="6600" y="2088"/>
                  </a:lnTo>
                  <a:lnTo>
                    <a:pt x="6263" y="2257"/>
                  </a:lnTo>
                  <a:lnTo>
                    <a:pt x="5926" y="2425"/>
                  </a:lnTo>
                  <a:lnTo>
                    <a:pt x="5421" y="2593"/>
                  </a:lnTo>
                  <a:lnTo>
                    <a:pt x="4950" y="2762"/>
                  </a:lnTo>
                  <a:lnTo>
                    <a:pt x="3873" y="3199"/>
                  </a:lnTo>
                  <a:lnTo>
                    <a:pt x="2795" y="3671"/>
                  </a:lnTo>
                  <a:lnTo>
                    <a:pt x="472" y="4782"/>
                  </a:lnTo>
                  <a:lnTo>
                    <a:pt x="1" y="5017"/>
                  </a:lnTo>
                  <a:lnTo>
                    <a:pt x="1" y="5320"/>
                  </a:lnTo>
                  <a:lnTo>
                    <a:pt x="169" y="5219"/>
                  </a:lnTo>
                  <a:lnTo>
                    <a:pt x="2694" y="4007"/>
                  </a:lnTo>
                  <a:lnTo>
                    <a:pt x="4209" y="3334"/>
                  </a:lnTo>
                  <a:lnTo>
                    <a:pt x="2728" y="4142"/>
                  </a:lnTo>
                  <a:lnTo>
                    <a:pt x="1650" y="4681"/>
                  </a:lnTo>
                  <a:lnTo>
                    <a:pt x="539" y="5219"/>
                  </a:lnTo>
                  <a:lnTo>
                    <a:pt x="1" y="5556"/>
                  </a:lnTo>
                  <a:lnTo>
                    <a:pt x="1" y="5960"/>
                  </a:lnTo>
                  <a:lnTo>
                    <a:pt x="775" y="5590"/>
                  </a:lnTo>
                  <a:lnTo>
                    <a:pt x="1415" y="5287"/>
                  </a:lnTo>
                  <a:lnTo>
                    <a:pt x="2088" y="4984"/>
                  </a:lnTo>
                  <a:lnTo>
                    <a:pt x="3435" y="4445"/>
                  </a:lnTo>
                  <a:lnTo>
                    <a:pt x="2728" y="4883"/>
                  </a:lnTo>
                  <a:lnTo>
                    <a:pt x="2088" y="5253"/>
                  </a:lnTo>
                  <a:lnTo>
                    <a:pt x="1448" y="5590"/>
                  </a:lnTo>
                  <a:lnTo>
                    <a:pt x="135" y="6263"/>
                  </a:lnTo>
                  <a:lnTo>
                    <a:pt x="1" y="6330"/>
                  </a:lnTo>
                  <a:lnTo>
                    <a:pt x="1" y="6768"/>
                  </a:lnTo>
                  <a:lnTo>
                    <a:pt x="371" y="6566"/>
                  </a:lnTo>
                  <a:lnTo>
                    <a:pt x="842" y="6364"/>
                  </a:lnTo>
                  <a:lnTo>
                    <a:pt x="405" y="6600"/>
                  </a:lnTo>
                  <a:lnTo>
                    <a:pt x="1" y="6903"/>
                  </a:lnTo>
                  <a:lnTo>
                    <a:pt x="1" y="7509"/>
                  </a:lnTo>
                  <a:lnTo>
                    <a:pt x="1112" y="6970"/>
                  </a:lnTo>
                  <a:lnTo>
                    <a:pt x="2290" y="6398"/>
                  </a:lnTo>
                  <a:lnTo>
                    <a:pt x="3300" y="5977"/>
                  </a:lnTo>
                  <a:lnTo>
                    <a:pt x="2189" y="6532"/>
                  </a:lnTo>
                  <a:lnTo>
                    <a:pt x="1617" y="6835"/>
                  </a:lnTo>
                  <a:lnTo>
                    <a:pt x="1011" y="7206"/>
                  </a:lnTo>
                  <a:lnTo>
                    <a:pt x="573" y="7542"/>
                  </a:lnTo>
                  <a:lnTo>
                    <a:pt x="102" y="7879"/>
                  </a:lnTo>
                  <a:lnTo>
                    <a:pt x="1" y="7946"/>
                  </a:lnTo>
                  <a:lnTo>
                    <a:pt x="1" y="8485"/>
                  </a:lnTo>
                  <a:lnTo>
                    <a:pt x="640" y="8081"/>
                  </a:lnTo>
                  <a:lnTo>
                    <a:pt x="1314" y="7677"/>
                  </a:lnTo>
                  <a:lnTo>
                    <a:pt x="1718" y="7475"/>
                  </a:lnTo>
                  <a:lnTo>
                    <a:pt x="2122" y="7307"/>
                  </a:lnTo>
                  <a:lnTo>
                    <a:pt x="1078" y="8115"/>
                  </a:lnTo>
                  <a:lnTo>
                    <a:pt x="34" y="8923"/>
                  </a:lnTo>
                  <a:lnTo>
                    <a:pt x="1" y="8923"/>
                  </a:lnTo>
                  <a:lnTo>
                    <a:pt x="1" y="9293"/>
                  </a:lnTo>
                  <a:lnTo>
                    <a:pt x="236" y="9125"/>
                  </a:lnTo>
                  <a:lnTo>
                    <a:pt x="876" y="8856"/>
                  </a:lnTo>
                  <a:lnTo>
                    <a:pt x="1448" y="8620"/>
                  </a:lnTo>
                  <a:lnTo>
                    <a:pt x="1886" y="8451"/>
                  </a:lnTo>
                  <a:lnTo>
                    <a:pt x="1011" y="9024"/>
                  </a:lnTo>
                  <a:lnTo>
                    <a:pt x="135" y="9563"/>
                  </a:lnTo>
                  <a:lnTo>
                    <a:pt x="102" y="9596"/>
                  </a:lnTo>
                  <a:lnTo>
                    <a:pt x="68" y="9630"/>
                  </a:lnTo>
                  <a:lnTo>
                    <a:pt x="102" y="9731"/>
                  </a:lnTo>
                  <a:lnTo>
                    <a:pt x="135" y="9798"/>
                  </a:lnTo>
                  <a:lnTo>
                    <a:pt x="236" y="9798"/>
                  </a:lnTo>
                  <a:lnTo>
                    <a:pt x="1213" y="9495"/>
                  </a:lnTo>
                  <a:lnTo>
                    <a:pt x="1684" y="9327"/>
                  </a:lnTo>
                  <a:lnTo>
                    <a:pt x="2155" y="9159"/>
                  </a:lnTo>
                  <a:lnTo>
                    <a:pt x="2694" y="8889"/>
                  </a:lnTo>
                  <a:lnTo>
                    <a:pt x="3233" y="8620"/>
                  </a:lnTo>
                  <a:lnTo>
                    <a:pt x="4277" y="8047"/>
                  </a:lnTo>
                  <a:lnTo>
                    <a:pt x="5219" y="7542"/>
                  </a:lnTo>
                  <a:lnTo>
                    <a:pt x="6162" y="7105"/>
                  </a:lnTo>
                  <a:lnTo>
                    <a:pt x="5085" y="7744"/>
                  </a:lnTo>
                  <a:lnTo>
                    <a:pt x="2863" y="8990"/>
                  </a:lnTo>
                  <a:lnTo>
                    <a:pt x="640" y="10236"/>
                  </a:lnTo>
                  <a:lnTo>
                    <a:pt x="573" y="10303"/>
                  </a:lnTo>
                  <a:lnTo>
                    <a:pt x="573" y="10404"/>
                  </a:lnTo>
                  <a:lnTo>
                    <a:pt x="270" y="10169"/>
                  </a:lnTo>
                  <a:lnTo>
                    <a:pt x="1" y="9967"/>
                  </a:lnTo>
                  <a:lnTo>
                    <a:pt x="1" y="10270"/>
                  </a:lnTo>
                  <a:lnTo>
                    <a:pt x="371" y="10573"/>
                  </a:lnTo>
                  <a:lnTo>
                    <a:pt x="809" y="10808"/>
                  </a:lnTo>
                  <a:lnTo>
                    <a:pt x="1179" y="11010"/>
                  </a:lnTo>
                  <a:lnTo>
                    <a:pt x="1583" y="11212"/>
                  </a:lnTo>
                  <a:lnTo>
                    <a:pt x="1987" y="11347"/>
                  </a:lnTo>
                  <a:lnTo>
                    <a:pt x="2425" y="11482"/>
                  </a:lnTo>
                  <a:lnTo>
                    <a:pt x="2863" y="11549"/>
                  </a:lnTo>
                  <a:lnTo>
                    <a:pt x="3267" y="11616"/>
                  </a:lnTo>
                  <a:lnTo>
                    <a:pt x="3704" y="11650"/>
                  </a:lnTo>
                  <a:lnTo>
                    <a:pt x="4142" y="11650"/>
                  </a:lnTo>
                  <a:lnTo>
                    <a:pt x="4580" y="11616"/>
                  </a:lnTo>
                  <a:lnTo>
                    <a:pt x="5017" y="11549"/>
                  </a:lnTo>
                  <a:lnTo>
                    <a:pt x="5421" y="11448"/>
                  </a:lnTo>
                  <a:lnTo>
                    <a:pt x="5825" y="11347"/>
                  </a:lnTo>
                  <a:lnTo>
                    <a:pt x="6229" y="11179"/>
                  </a:lnTo>
                  <a:lnTo>
                    <a:pt x="6633" y="10977"/>
                  </a:lnTo>
                  <a:lnTo>
                    <a:pt x="7004" y="10741"/>
                  </a:lnTo>
                  <a:lnTo>
                    <a:pt x="7374" y="10505"/>
                  </a:lnTo>
                  <a:lnTo>
                    <a:pt x="7744" y="10135"/>
                  </a:lnTo>
                  <a:lnTo>
                    <a:pt x="8081" y="9731"/>
                  </a:lnTo>
                  <a:lnTo>
                    <a:pt x="8418" y="9293"/>
                  </a:lnTo>
                  <a:lnTo>
                    <a:pt x="8653" y="8856"/>
                  </a:lnTo>
                  <a:lnTo>
                    <a:pt x="8889" y="8350"/>
                  </a:lnTo>
                  <a:lnTo>
                    <a:pt x="9057" y="7812"/>
                  </a:lnTo>
                  <a:lnTo>
                    <a:pt x="9226" y="7273"/>
                  </a:lnTo>
                  <a:lnTo>
                    <a:pt x="9293" y="6734"/>
                  </a:lnTo>
                  <a:lnTo>
                    <a:pt x="9360" y="6196"/>
                  </a:lnTo>
                  <a:lnTo>
                    <a:pt x="9360" y="5623"/>
                  </a:lnTo>
                  <a:lnTo>
                    <a:pt x="9327" y="5085"/>
                  </a:lnTo>
                  <a:lnTo>
                    <a:pt x="9259" y="4546"/>
                  </a:lnTo>
                  <a:lnTo>
                    <a:pt x="9158" y="4007"/>
                  </a:lnTo>
                  <a:lnTo>
                    <a:pt x="8990" y="3502"/>
                  </a:lnTo>
                  <a:lnTo>
                    <a:pt x="8788" y="3031"/>
                  </a:lnTo>
                  <a:lnTo>
                    <a:pt x="8519" y="2560"/>
                  </a:lnTo>
                  <a:lnTo>
                    <a:pt x="8283" y="2189"/>
                  </a:lnTo>
                  <a:lnTo>
                    <a:pt x="7980" y="1853"/>
                  </a:lnTo>
                  <a:lnTo>
                    <a:pt x="7677" y="1550"/>
                  </a:lnTo>
                  <a:lnTo>
                    <a:pt x="7340" y="1247"/>
                  </a:lnTo>
                  <a:lnTo>
                    <a:pt x="7374" y="1179"/>
                  </a:lnTo>
                  <a:lnTo>
                    <a:pt x="7374" y="1112"/>
                  </a:lnTo>
                  <a:lnTo>
                    <a:pt x="7307" y="1045"/>
                  </a:lnTo>
                  <a:lnTo>
                    <a:pt x="7071" y="1045"/>
                  </a:lnTo>
                  <a:lnTo>
                    <a:pt x="6768" y="843"/>
                  </a:lnTo>
                  <a:lnTo>
                    <a:pt x="6431" y="674"/>
                  </a:lnTo>
                  <a:lnTo>
                    <a:pt x="6095" y="506"/>
                  </a:lnTo>
                  <a:lnTo>
                    <a:pt x="5758" y="371"/>
                  </a:lnTo>
                  <a:lnTo>
                    <a:pt x="5388" y="270"/>
                  </a:lnTo>
                  <a:lnTo>
                    <a:pt x="5051" y="203"/>
                  </a:lnTo>
                  <a:lnTo>
                    <a:pt x="4681" y="135"/>
                  </a:lnTo>
                  <a:lnTo>
                    <a:pt x="4310" y="102"/>
                  </a:lnTo>
                  <a:lnTo>
                    <a:pt x="4277" y="34"/>
                  </a:lnTo>
                  <a:lnTo>
                    <a:pt x="4209" y="34"/>
                  </a:lnTo>
                  <a:lnTo>
                    <a:pt x="363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hape 922"/>
            <p:cNvSpPr/>
            <p:nvPr/>
          </p:nvSpPr>
          <p:spPr>
            <a:xfrm>
              <a:off x="2293920" y="13464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2">
                  <a:moveTo>
                    <a:pt x="2256" y="236"/>
                  </a:moveTo>
                  <a:lnTo>
                    <a:pt x="2256" y="674"/>
                  </a:lnTo>
                  <a:lnTo>
                    <a:pt x="2290" y="1078"/>
                  </a:lnTo>
                  <a:lnTo>
                    <a:pt x="2290" y="1617"/>
                  </a:lnTo>
                  <a:lnTo>
                    <a:pt x="2323" y="2122"/>
                  </a:lnTo>
                  <a:lnTo>
                    <a:pt x="2121" y="2088"/>
                  </a:lnTo>
                  <a:lnTo>
                    <a:pt x="1886" y="2088"/>
                  </a:lnTo>
                  <a:lnTo>
                    <a:pt x="1448" y="2122"/>
                  </a:lnTo>
                  <a:lnTo>
                    <a:pt x="909" y="2122"/>
                  </a:lnTo>
                  <a:lnTo>
                    <a:pt x="640" y="2156"/>
                  </a:lnTo>
                  <a:lnTo>
                    <a:pt x="370" y="2223"/>
                  </a:lnTo>
                  <a:lnTo>
                    <a:pt x="337" y="1684"/>
                  </a:lnTo>
                  <a:lnTo>
                    <a:pt x="269" y="1146"/>
                  </a:lnTo>
                  <a:lnTo>
                    <a:pt x="236" y="708"/>
                  </a:lnTo>
                  <a:lnTo>
                    <a:pt x="168" y="270"/>
                  </a:lnTo>
                  <a:lnTo>
                    <a:pt x="673" y="304"/>
                  </a:lnTo>
                  <a:lnTo>
                    <a:pt x="1212" y="270"/>
                  </a:lnTo>
                  <a:lnTo>
                    <a:pt x="2256" y="236"/>
                  </a:lnTo>
                  <a:close/>
                  <a:moveTo>
                    <a:pt x="2256" y="1"/>
                  </a:moveTo>
                  <a:lnTo>
                    <a:pt x="1212" y="34"/>
                  </a:lnTo>
                  <a:lnTo>
                    <a:pt x="673" y="34"/>
                  </a:lnTo>
                  <a:lnTo>
                    <a:pt x="135" y="102"/>
                  </a:lnTo>
                  <a:lnTo>
                    <a:pt x="67" y="135"/>
                  </a:lnTo>
                  <a:lnTo>
                    <a:pt x="67" y="203"/>
                  </a:lnTo>
                  <a:lnTo>
                    <a:pt x="34" y="438"/>
                  </a:lnTo>
                  <a:lnTo>
                    <a:pt x="0" y="674"/>
                  </a:lnTo>
                  <a:lnTo>
                    <a:pt x="34" y="1146"/>
                  </a:lnTo>
                  <a:lnTo>
                    <a:pt x="101" y="1752"/>
                  </a:lnTo>
                  <a:lnTo>
                    <a:pt x="135" y="2021"/>
                  </a:lnTo>
                  <a:lnTo>
                    <a:pt x="236" y="2324"/>
                  </a:lnTo>
                  <a:lnTo>
                    <a:pt x="236" y="2358"/>
                  </a:lnTo>
                  <a:lnTo>
                    <a:pt x="370" y="2358"/>
                  </a:lnTo>
                  <a:lnTo>
                    <a:pt x="606" y="2391"/>
                  </a:lnTo>
                  <a:lnTo>
                    <a:pt x="842" y="2391"/>
                  </a:lnTo>
                  <a:lnTo>
                    <a:pt x="1313" y="2358"/>
                  </a:lnTo>
                  <a:lnTo>
                    <a:pt x="2088" y="2358"/>
                  </a:lnTo>
                  <a:lnTo>
                    <a:pt x="2357" y="2290"/>
                  </a:lnTo>
                  <a:lnTo>
                    <a:pt x="2391" y="2324"/>
                  </a:lnTo>
                  <a:lnTo>
                    <a:pt x="2492" y="2324"/>
                  </a:lnTo>
                  <a:lnTo>
                    <a:pt x="2492" y="2290"/>
                  </a:lnTo>
                  <a:lnTo>
                    <a:pt x="2525" y="2021"/>
                  </a:lnTo>
                  <a:lnTo>
                    <a:pt x="2525" y="1752"/>
                  </a:lnTo>
                  <a:lnTo>
                    <a:pt x="2492" y="1247"/>
                  </a:lnTo>
                  <a:lnTo>
                    <a:pt x="2458" y="641"/>
                  </a:lnTo>
                  <a:lnTo>
                    <a:pt x="2424" y="371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hape 923"/>
            <p:cNvSpPr/>
            <p:nvPr/>
          </p:nvSpPr>
          <p:spPr>
            <a:xfrm>
              <a:off x="2108160" y="136440"/>
              <a:ext cx="166680" cy="180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493" h="2728">
                  <a:moveTo>
                    <a:pt x="2290" y="236"/>
                  </a:moveTo>
                  <a:lnTo>
                    <a:pt x="2223" y="741"/>
                  </a:lnTo>
                  <a:lnTo>
                    <a:pt x="2223" y="1280"/>
                  </a:lnTo>
                  <a:lnTo>
                    <a:pt x="2223" y="1819"/>
                  </a:lnTo>
                  <a:lnTo>
                    <a:pt x="2290" y="2324"/>
                  </a:lnTo>
                  <a:lnTo>
                    <a:pt x="2324" y="2391"/>
                  </a:lnTo>
                  <a:lnTo>
                    <a:pt x="2290" y="2357"/>
                  </a:lnTo>
                  <a:lnTo>
                    <a:pt x="1819" y="2357"/>
                  </a:lnTo>
                  <a:lnTo>
                    <a:pt x="1347" y="2391"/>
                  </a:lnTo>
                  <a:lnTo>
                    <a:pt x="371" y="2391"/>
                  </a:lnTo>
                  <a:lnTo>
                    <a:pt x="270" y="1314"/>
                  </a:lnTo>
                  <a:lnTo>
                    <a:pt x="203" y="270"/>
                  </a:lnTo>
                  <a:lnTo>
                    <a:pt x="708" y="303"/>
                  </a:lnTo>
                  <a:lnTo>
                    <a:pt x="1246" y="303"/>
                  </a:lnTo>
                  <a:lnTo>
                    <a:pt x="2290" y="236"/>
                  </a:lnTo>
                  <a:close/>
                  <a:moveTo>
                    <a:pt x="2324" y="0"/>
                  </a:moveTo>
                  <a:lnTo>
                    <a:pt x="1785" y="34"/>
                  </a:lnTo>
                  <a:lnTo>
                    <a:pt x="1246" y="68"/>
                  </a:lnTo>
                  <a:lnTo>
                    <a:pt x="708" y="68"/>
                  </a:lnTo>
                  <a:lnTo>
                    <a:pt x="169" y="101"/>
                  </a:lnTo>
                  <a:lnTo>
                    <a:pt x="102" y="135"/>
                  </a:lnTo>
                  <a:lnTo>
                    <a:pt x="102" y="169"/>
                  </a:lnTo>
                  <a:lnTo>
                    <a:pt x="68" y="202"/>
                  </a:lnTo>
                  <a:lnTo>
                    <a:pt x="34" y="236"/>
                  </a:lnTo>
                  <a:lnTo>
                    <a:pt x="1" y="842"/>
                  </a:lnTo>
                  <a:lnTo>
                    <a:pt x="34" y="1448"/>
                  </a:lnTo>
                  <a:lnTo>
                    <a:pt x="102" y="2054"/>
                  </a:lnTo>
                  <a:lnTo>
                    <a:pt x="203" y="2627"/>
                  </a:lnTo>
                  <a:lnTo>
                    <a:pt x="236" y="2694"/>
                  </a:lnTo>
                  <a:lnTo>
                    <a:pt x="304" y="2728"/>
                  </a:lnTo>
                  <a:lnTo>
                    <a:pt x="371" y="2660"/>
                  </a:lnTo>
                  <a:lnTo>
                    <a:pt x="405" y="2593"/>
                  </a:lnTo>
                  <a:lnTo>
                    <a:pt x="405" y="2526"/>
                  </a:lnTo>
                  <a:lnTo>
                    <a:pt x="876" y="2593"/>
                  </a:lnTo>
                  <a:lnTo>
                    <a:pt x="1347" y="2627"/>
                  </a:lnTo>
                  <a:lnTo>
                    <a:pt x="1852" y="2627"/>
                  </a:lnTo>
                  <a:lnTo>
                    <a:pt x="2088" y="2559"/>
                  </a:lnTo>
                  <a:lnTo>
                    <a:pt x="2290" y="2526"/>
                  </a:lnTo>
                  <a:lnTo>
                    <a:pt x="2357" y="2458"/>
                  </a:lnTo>
                  <a:lnTo>
                    <a:pt x="2324" y="2391"/>
                  </a:lnTo>
                  <a:lnTo>
                    <a:pt x="2391" y="2425"/>
                  </a:lnTo>
                  <a:lnTo>
                    <a:pt x="2425" y="2425"/>
                  </a:lnTo>
                  <a:lnTo>
                    <a:pt x="2458" y="2391"/>
                  </a:lnTo>
                  <a:lnTo>
                    <a:pt x="2458" y="2324"/>
                  </a:lnTo>
                  <a:lnTo>
                    <a:pt x="2492" y="1819"/>
                  </a:lnTo>
                  <a:lnTo>
                    <a:pt x="2492" y="1280"/>
                  </a:lnTo>
                  <a:lnTo>
                    <a:pt x="2458" y="708"/>
                  </a:lnTo>
                  <a:lnTo>
                    <a:pt x="2391" y="202"/>
                  </a:lnTo>
                  <a:lnTo>
                    <a:pt x="2425" y="135"/>
                  </a:lnTo>
                  <a:lnTo>
                    <a:pt x="2425" y="68"/>
                  </a:lnTo>
                  <a:lnTo>
                    <a:pt x="2391" y="34"/>
                  </a:lnTo>
                  <a:lnTo>
                    <a:pt x="232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4080" bIns="64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hape 924"/>
            <p:cNvSpPr/>
            <p:nvPr/>
          </p:nvSpPr>
          <p:spPr>
            <a:xfrm>
              <a:off x="2149200" y="318960"/>
              <a:ext cx="171360" cy="161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4" h="2425">
                  <a:moveTo>
                    <a:pt x="1819" y="0"/>
                  </a:moveTo>
                  <a:lnTo>
                    <a:pt x="1280" y="68"/>
                  </a:lnTo>
                  <a:lnTo>
                    <a:pt x="708" y="101"/>
                  </a:lnTo>
                  <a:lnTo>
                    <a:pt x="135" y="202"/>
                  </a:lnTo>
                  <a:lnTo>
                    <a:pt x="135" y="135"/>
                  </a:lnTo>
                  <a:lnTo>
                    <a:pt x="102" y="101"/>
                  </a:lnTo>
                  <a:lnTo>
                    <a:pt x="34" y="101"/>
                  </a:lnTo>
                  <a:lnTo>
                    <a:pt x="1" y="135"/>
                  </a:lnTo>
                  <a:lnTo>
                    <a:pt x="1" y="438"/>
                  </a:lnTo>
                  <a:lnTo>
                    <a:pt x="1" y="741"/>
                  </a:lnTo>
                  <a:lnTo>
                    <a:pt x="34" y="1347"/>
                  </a:lnTo>
                  <a:lnTo>
                    <a:pt x="34" y="1852"/>
                  </a:lnTo>
                  <a:lnTo>
                    <a:pt x="68" y="2121"/>
                  </a:lnTo>
                  <a:lnTo>
                    <a:pt x="102" y="2391"/>
                  </a:lnTo>
                  <a:lnTo>
                    <a:pt x="135" y="2391"/>
                  </a:lnTo>
                  <a:lnTo>
                    <a:pt x="169" y="2424"/>
                  </a:lnTo>
                  <a:lnTo>
                    <a:pt x="203" y="2391"/>
                  </a:lnTo>
                  <a:lnTo>
                    <a:pt x="1314" y="2391"/>
                  </a:lnTo>
                  <a:lnTo>
                    <a:pt x="1819" y="2357"/>
                  </a:lnTo>
                  <a:lnTo>
                    <a:pt x="2088" y="2323"/>
                  </a:lnTo>
                  <a:lnTo>
                    <a:pt x="2324" y="2290"/>
                  </a:lnTo>
                  <a:lnTo>
                    <a:pt x="2357" y="2323"/>
                  </a:lnTo>
                  <a:lnTo>
                    <a:pt x="2391" y="2323"/>
                  </a:lnTo>
                  <a:lnTo>
                    <a:pt x="2492" y="2290"/>
                  </a:lnTo>
                  <a:lnTo>
                    <a:pt x="2559" y="2189"/>
                  </a:lnTo>
                  <a:lnTo>
                    <a:pt x="2593" y="2088"/>
                  </a:lnTo>
                  <a:lnTo>
                    <a:pt x="2593" y="1953"/>
                  </a:lnTo>
                  <a:lnTo>
                    <a:pt x="2559" y="1717"/>
                  </a:lnTo>
                  <a:lnTo>
                    <a:pt x="2559" y="1482"/>
                  </a:lnTo>
                  <a:lnTo>
                    <a:pt x="2526" y="775"/>
                  </a:lnTo>
                  <a:lnTo>
                    <a:pt x="2458" y="404"/>
                  </a:lnTo>
                  <a:lnTo>
                    <a:pt x="2425" y="236"/>
                  </a:lnTo>
                  <a:lnTo>
                    <a:pt x="2324" y="101"/>
                  </a:lnTo>
                  <a:lnTo>
                    <a:pt x="2256" y="202"/>
                  </a:lnTo>
                  <a:lnTo>
                    <a:pt x="2256" y="337"/>
                  </a:lnTo>
                  <a:lnTo>
                    <a:pt x="2256" y="606"/>
                  </a:lnTo>
                  <a:lnTo>
                    <a:pt x="2324" y="1145"/>
                  </a:lnTo>
                  <a:lnTo>
                    <a:pt x="2324" y="1650"/>
                  </a:lnTo>
                  <a:lnTo>
                    <a:pt x="2324" y="2155"/>
                  </a:lnTo>
                  <a:lnTo>
                    <a:pt x="2088" y="2121"/>
                  </a:lnTo>
                  <a:lnTo>
                    <a:pt x="1819" y="2088"/>
                  </a:lnTo>
                  <a:lnTo>
                    <a:pt x="1314" y="2121"/>
                  </a:lnTo>
                  <a:lnTo>
                    <a:pt x="270" y="2189"/>
                  </a:lnTo>
                  <a:lnTo>
                    <a:pt x="236" y="2189"/>
                  </a:lnTo>
                  <a:lnTo>
                    <a:pt x="270" y="1919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03" y="775"/>
                  </a:lnTo>
                  <a:lnTo>
                    <a:pt x="169" y="404"/>
                  </a:lnTo>
                  <a:lnTo>
                    <a:pt x="809" y="337"/>
                  </a:lnTo>
                  <a:lnTo>
                    <a:pt x="1448" y="270"/>
                  </a:lnTo>
                  <a:lnTo>
                    <a:pt x="1886" y="236"/>
                  </a:lnTo>
                  <a:lnTo>
                    <a:pt x="2088" y="202"/>
                  </a:lnTo>
                  <a:lnTo>
                    <a:pt x="2290" y="101"/>
                  </a:lnTo>
                  <a:lnTo>
                    <a:pt x="2290" y="68"/>
                  </a:lnTo>
                  <a:lnTo>
                    <a:pt x="2189" y="34"/>
                  </a:lnTo>
                  <a:lnTo>
                    <a:pt x="205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hape 925"/>
            <p:cNvSpPr/>
            <p:nvPr/>
          </p:nvSpPr>
          <p:spPr>
            <a:xfrm>
              <a:off x="2374920" y="798480"/>
              <a:ext cx="58680" cy="33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76" h="506">
                  <a:moveTo>
                    <a:pt x="707" y="0"/>
                  </a:moveTo>
                  <a:lnTo>
                    <a:pt x="539" y="169"/>
                  </a:lnTo>
                  <a:lnTo>
                    <a:pt x="404" y="303"/>
                  </a:lnTo>
                  <a:lnTo>
                    <a:pt x="270" y="169"/>
                  </a:lnTo>
                  <a:lnTo>
                    <a:pt x="169" y="34"/>
                  </a:lnTo>
                  <a:lnTo>
                    <a:pt x="34" y="34"/>
                  </a:lnTo>
                  <a:lnTo>
                    <a:pt x="0" y="101"/>
                  </a:lnTo>
                  <a:lnTo>
                    <a:pt x="34" y="169"/>
                  </a:lnTo>
                  <a:lnTo>
                    <a:pt x="135" y="303"/>
                  </a:lnTo>
                  <a:lnTo>
                    <a:pt x="270" y="472"/>
                  </a:lnTo>
                  <a:lnTo>
                    <a:pt x="303" y="505"/>
                  </a:lnTo>
                  <a:lnTo>
                    <a:pt x="337" y="505"/>
                  </a:lnTo>
                  <a:lnTo>
                    <a:pt x="404" y="472"/>
                  </a:lnTo>
                  <a:lnTo>
                    <a:pt x="438" y="472"/>
                  </a:lnTo>
                  <a:lnTo>
                    <a:pt x="472" y="438"/>
                  </a:lnTo>
                  <a:lnTo>
                    <a:pt x="674" y="303"/>
                  </a:lnTo>
                  <a:lnTo>
                    <a:pt x="842" y="169"/>
                  </a:lnTo>
                  <a:lnTo>
                    <a:pt x="876" y="101"/>
                  </a:lnTo>
                  <a:lnTo>
                    <a:pt x="842" y="34"/>
                  </a:lnTo>
                  <a:lnTo>
                    <a:pt x="77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3520" bIns="-83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hape 926"/>
            <p:cNvSpPr/>
            <p:nvPr/>
          </p:nvSpPr>
          <p:spPr>
            <a:xfrm>
              <a:off x="1657080" y="404640"/>
              <a:ext cx="53640" cy="55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09" h="843">
                  <a:moveTo>
                    <a:pt x="34" y="1"/>
                  </a:moveTo>
                  <a:lnTo>
                    <a:pt x="1" y="135"/>
                  </a:lnTo>
                  <a:lnTo>
                    <a:pt x="1" y="270"/>
                  </a:lnTo>
                  <a:lnTo>
                    <a:pt x="1" y="640"/>
                  </a:lnTo>
                  <a:lnTo>
                    <a:pt x="34" y="708"/>
                  </a:lnTo>
                  <a:lnTo>
                    <a:pt x="68" y="741"/>
                  </a:lnTo>
                  <a:lnTo>
                    <a:pt x="135" y="741"/>
                  </a:lnTo>
                  <a:lnTo>
                    <a:pt x="169" y="708"/>
                  </a:lnTo>
                  <a:lnTo>
                    <a:pt x="371" y="506"/>
                  </a:lnTo>
                  <a:lnTo>
                    <a:pt x="371" y="539"/>
                  </a:lnTo>
                  <a:lnTo>
                    <a:pt x="405" y="607"/>
                  </a:lnTo>
                  <a:lnTo>
                    <a:pt x="472" y="708"/>
                  </a:lnTo>
                  <a:lnTo>
                    <a:pt x="573" y="809"/>
                  </a:lnTo>
                  <a:lnTo>
                    <a:pt x="607" y="842"/>
                  </a:lnTo>
                  <a:lnTo>
                    <a:pt x="674" y="842"/>
                  </a:lnTo>
                  <a:lnTo>
                    <a:pt x="708" y="775"/>
                  </a:lnTo>
                  <a:lnTo>
                    <a:pt x="708" y="741"/>
                  </a:lnTo>
                  <a:lnTo>
                    <a:pt x="640" y="640"/>
                  </a:lnTo>
                  <a:lnTo>
                    <a:pt x="539" y="506"/>
                  </a:lnTo>
                  <a:lnTo>
                    <a:pt x="472" y="472"/>
                  </a:lnTo>
                  <a:lnTo>
                    <a:pt x="438" y="472"/>
                  </a:lnTo>
                  <a:lnTo>
                    <a:pt x="506" y="405"/>
                  </a:lnTo>
                  <a:lnTo>
                    <a:pt x="640" y="270"/>
                  </a:lnTo>
                  <a:lnTo>
                    <a:pt x="674" y="304"/>
                  </a:lnTo>
                  <a:lnTo>
                    <a:pt x="741" y="270"/>
                  </a:lnTo>
                  <a:lnTo>
                    <a:pt x="809" y="203"/>
                  </a:lnTo>
                  <a:lnTo>
                    <a:pt x="809" y="169"/>
                  </a:lnTo>
                  <a:lnTo>
                    <a:pt x="775" y="102"/>
                  </a:lnTo>
                  <a:lnTo>
                    <a:pt x="741" y="68"/>
                  </a:lnTo>
                  <a:lnTo>
                    <a:pt x="573" y="68"/>
                  </a:lnTo>
                  <a:lnTo>
                    <a:pt x="438" y="169"/>
                  </a:lnTo>
                  <a:lnTo>
                    <a:pt x="337" y="304"/>
                  </a:lnTo>
                  <a:lnTo>
                    <a:pt x="169" y="472"/>
                  </a:lnTo>
                  <a:lnTo>
                    <a:pt x="135" y="304"/>
                  </a:lnTo>
                  <a:lnTo>
                    <a:pt x="135" y="135"/>
                  </a:lnTo>
                  <a:lnTo>
                    <a:pt x="102" y="68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1200" bIns="-612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Shape 927"/>
            <p:cNvSpPr/>
            <p:nvPr/>
          </p:nvSpPr>
          <p:spPr>
            <a:xfrm>
              <a:off x="1593720" y="339480"/>
              <a:ext cx="166680" cy="174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492" h="2627">
                  <a:moveTo>
                    <a:pt x="2222" y="135"/>
                  </a:moveTo>
                  <a:lnTo>
                    <a:pt x="2222" y="1212"/>
                  </a:lnTo>
                  <a:lnTo>
                    <a:pt x="2188" y="2290"/>
                  </a:lnTo>
                  <a:lnTo>
                    <a:pt x="1717" y="2323"/>
                  </a:lnTo>
                  <a:lnTo>
                    <a:pt x="1212" y="2357"/>
                  </a:lnTo>
                  <a:lnTo>
                    <a:pt x="774" y="2357"/>
                  </a:lnTo>
                  <a:lnTo>
                    <a:pt x="539" y="2391"/>
                  </a:lnTo>
                  <a:lnTo>
                    <a:pt x="303" y="2424"/>
                  </a:lnTo>
                  <a:lnTo>
                    <a:pt x="269" y="2424"/>
                  </a:lnTo>
                  <a:lnTo>
                    <a:pt x="269" y="2391"/>
                  </a:lnTo>
                  <a:lnTo>
                    <a:pt x="303" y="1886"/>
                  </a:lnTo>
                  <a:lnTo>
                    <a:pt x="269" y="1347"/>
                  </a:lnTo>
                  <a:lnTo>
                    <a:pt x="236" y="808"/>
                  </a:lnTo>
                  <a:lnTo>
                    <a:pt x="135" y="270"/>
                  </a:lnTo>
                  <a:lnTo>
                    <a:pt x="1178" y="270"/>
                  </a:lnTo>
                  <a:lnTo>
                    <a:pt x="1683" y="236"/>
                  </a:lnTo>
                  <a:lnTo>
                    <a:pt x="2222" y="135"/>
                  </a:lnTo>
                  <a:close/>
                  <a:moveTo>
                    <a:pt x="1683" y="0"/>
                  </a:moveTo>
                  <a:lnTo>
                    <a:pt x="1145" y="34"/>
                  </a:lnTo>
                  <a:lnTo>
                    <a:pt x="606" y="68"/>
                  </a:lnTo>
                  <a:lnTo>
                    <a:pt x="67" y="68"/>
                  </a:lnTo>
                  <a:lnTo>
                    <a:pt x="0" y="101"/>
                  </a:lnTo>
                  <a:lnTo>
                    <a:pt x="0" y="135"/>
                  </a:lnTo>
                  <a:lnTo>
                    <a:pt x="0" y="202"/>
                  </a:lnTo>
                  <a:lnTo>
                    <a:pt x="34" y="270"/>
                  </a:lnTo>
                  <a:lnTo>
                    <a:pt x="0" y="775"/>
                  </a:lnTo>
                  <a:lnTo>
                    <a:pt x="34" y="1347"/>
                  </a:lnTo>
                  <a:lnTo>
                    <a:pt x="67" y="1886"/>
                  </a:lnTo>
                  <a:lnTo>
                    <a:pt x="101" y="2391"/>
                  </a:lnTo>
                  <a:lnTo>
                    <a:pt x="135" y="2458"/>
                  </a:lnTo>
                  <a:lnTo>
                    <a:pt x="168" y="2458"/>
                  </a:lnTo>
                  <a:lnTo>
                    <a:pt x="202" y="2492"/>
                  </a:lnTo>
                  <a:lnTo>
                    <a:pt x="236" y="2458"/>
                  </a:lnTo>
                  <a:lnTo>
                    <a:pt x="236" y="2525"/>
                  </a:lnTo>
                  <a:lnTo>
                    <a:pt x="303" y="2559"/>
                  </a:lnTo>
                  <a:lnTo>
                    <a:pt x="539" y="2593"/>
                  </a:lnTo>
                  <a:lnTo>
                    <a:pt x="774" y="2626"/>
                  </a:lnTo>
                  <a:lnTo>
                    <a:pt x="1246" y="2626"/>
                  </a:lnTo>
                  <a:lnTo>
                    <a:pt x="1751" y="2525"/>
                  </a:lnTo>
                  <a:lnTo>
                    <a:pt x="2188" y="2424"/>
                  </a:lnTo>
                  <a:lnTo>
                    <a:pt x="2188" y="2492"/>
                  </a:lnTo>
                  <a:lnTo>
                    <a:pt x="2222" y="2559"/>
                  </a:lnTo>
                  <a:lnTo>
                    <a:pt x="2289" y="2593"/>
                  </a:lnTo>
                  <a:lnTo>
                    <a:pt x="2357" y="2593"/>
                  </a:lnTo>
                  <a:lnTo>
                    <a:pt x="2424" y="2525"/>
                  </a:lnTo>
                  <a:lnTo>
                    <a:pt x="2458" y="1919"/>
                  </a:lnTo>
                  <a:lnTo>
                    <a:pt x="2491" y="1313"/>
                  </a:lnTo>
                  <a:lnTo>
                    <a:pt x="2458" y="707"/>
                  </a:lnTo>
                  <a:lnTo>
                    <a:pt x="2357" y="101"/>
                  </a:lnTo>
                  <a:lnTo>
                    <a:pt x="2357" y="68"/>
                  </a:lnTo>
                  <a:lnTo>
                    <a:pt x="2323" y="68"/>
                  </a:lnTo>
                  <a:lnTo>
                    <a:pt x="228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Shape 928"/>
            <p:cNvSpPr/>
            <p:nvPr/>
          </p:nvSpPr>
          <p:spPr>
            <a:xfrm>
              <a:off x="1560240" y="581040"/>
              <a:ext cx="60120" cy="52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0" h="775">
                  <a:moveTo>
                    <a:pt x="67" y="0"/>
                  </a:moveTo>
                  <a:lnTo>
                    <a:pt x="0" y="34"/>
                  </a:lnTo>
                  <a:lnTo>
                    <a:pt x="0" y="101"/>
                  </a:lnTo>
                  <a:lnTo>
                    <a:pt x="0" y="674"/>
                  </a:lnTo>
                  <a:lnTo>
                    <a:pt x="34" y="741"/>
                  </a:lnTo>
                  <a:lnTo>
                    <a:pt x="168" y="741"/>
                  </a:lnTo>
                  <a:lnTo>
                    <a:pt x="202" y="674"/>
                  </a:lnTo>
                  <a:lnTo>
                    <a:pt x="202" y="438"/>
                  </a:lnTo>
                  <a:lnTo>
                    <a:pt x="303" y="606"/>
                  </a:lnTo>
                  <a:lnTo>
                    <a:pt x="370" y="640"/>
                  </a:lnTo>
                  <a:lnTo>
                    <a:pt x="404" y="640"/>
                  </a:lnTo>
                  <a:lnTo>
                    <a:pt x="438" y="606"/>
                  </a:lnTo>
                  <a:lnTo>
                    <a:pt x="640" y="404"/>
                  </a:lnTo>
                  <a:lnTo>
                    <a:pt x="673" y="573"/>
                  </a:lnTo>
                  <a:lnTo>
                    <a:pt x="741" y="741"/>
                  </a:lnTo>
                  <a:lnTo>
                    <a:pt x="808" y="775"/>
                  </a:lnTo>
                  <a:lnTo>
                    <a:pt x="875" y="741"/>
                  </a:lnTo>
                  <a:lnTo>
                    <a:pt x="909" y="707"/>
                  </a:lnTo>
                  <a:lnTo>
                    <a:pt x="909" y="640"/>
                  </a:lnTo>
                  <a:lnTo>
                    <a:pt x="842" y="404"/>
                  </a:lnTo>
                  <a:lnTo>
                    <a:pt x="842" y="270"/>
                  </a:lnTo>
                  <a:lnTo>
                    <a:pt x="842" y="135"/>
                  </a:lnTo>
                  <a:lnTo>
                    <a:pt x="842" y="68"/>
                  </a:lnTo>
                  <a:lnTo>
                    <a:pt x="808" y="34"/>
                  </a:lnTo>
                  <a:lnTo>
                    <a:pt x="741" y="34"/>
                  </a:lnTo>
                  <a:lnTo>
                    <a:pt x="673" y="68"/>
                  </a:lnTo>
                  <a:lnTo>
                    <a:pt x="404" y="371"/>
                  </a:lnTo>
                  <a:lnTo>
                    <a:pt x="168" y="3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4440" bIns="-64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Shape 929"/>
            <p:cNvSpPr/>
            <p:nvPr/>
          </p:nvSpPr>
          <p:spPr>
            <a:xfrm>
              <a:off x="1882800" y="51408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59" h="2391">
                  <a:moveTo>
                    <a:pt x="101" y="0"/>
                  </a:moveTo>
                  <a:lnTo>
                    <a:pt x="101" y="34"/>
                  </a:lnTo>
                  <a:lnTo>
                    <a:pt x="34" y="303"/>
                  </a:lnTo>
                  <a:lnTo>
                    <a:pt x="0" y="539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3"/>
                  </a:lnTo>
                  <a:lnTo>
                    <a:pt x="270" y="2357"/>
                  </a:lnTo>
                  <a:lnTo>
                    <a:pt x="303" y="2323"/>
                  </a:lnTo>
                  <a:lnTo>
                    <a:pt x="337" y="2256"/>
                  </a:lnTo>
                  <a:lnTo>
                    <a:pt x="337" y="1953"/>
                  </a:lnTo>
                  <a:lnTo>
                    <a:pt x="303" y="1650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2" y="202"/>
                  </a:lnTo>
                  <a:lnTo>
                    <a:pt x="438" y="236"/>
                  </a:lnTo>
                  <a:lnTo>
                    <a:pt x="1145" y="236"/>
                  </a:lnTo>
                  <a:lnTo>
                    <a:pt x="2222" y="169"/>
                  </a:lnTo>
                  <a:lnTo>
                    <a:pt x="2256" y="236"/>
                  </a:lnTo>
                  <a:lnTo>
                    <a:pt x="2357" y="236"/>
                  </a:lnTo>
                  <a:lnTo>
                    <a:pt x="2323" y="573"/>
                  </a:lnTo>
                  <a:lnTo>
                    <a:pt x="2323" y="876"/>
                  </a:lnTo>
                  <a:lnTo>
                    <a:pt x="2357" y="2054"/>
                  </a:lnTo>
                  <a:lnTo>
                    <a:pt x="1886" y="2054"/>
                  </a:lnTo>
                  <a:lnTo>
                    <a:pt x="1414" y="2088"/>
                  </a:lnTo>
                  <a:lnTo>
                    <a:pt x="707" y="2088"/>
                  </a:lnTo>
                  <a:lnTo>
                    <a:pt x="539" y="2121"/>
                  </a:lnTo>
                  <a:lnTo>
                    <a:pt x="438" y="2189"/>
                  </a:lnTo>
                  <a:lnTo>
                    <a:pt x="337" y="2256"/>
                  </a:lnTo>
                  <a:lnTo>
                    <a:pt x="438" y="2323"/>
                  </a:lnTo>
                  <a:lnTo>
                    <a:pt x="539" y="2357"/>
                  </a:lnTo>
                  <a:lnTo>
                    <a:pt x="775" y="2391"/>
                  </a:lnTo>
                  <a:lnTo>
                    <a:pt x="1280" y="2357"/>
                  </a:lnTo>
                  <a:lnTo>
                    <a:pt x="1818" y="2357"/>
                  </a:lnTo>
                  <a:lnTo>
                    <a:pt x="2121" y="2323"/>
                  </a:lnTo>
                  <a:lnTo>
                    <a:pt x="2391" y="2256"/>
                  </a:lnTo>
                  <a:lnTo>
                    <a:pt x="2424" y="2323"/>
                  </a:lnTo>
                  <a:lnTo>
                    <a:pt x="2492" y="2323"/>
                  </a:lnTo>
                  <a:lnTo>
                    <a:pt x="2559" y="2290"/>
                  </a:lnTo>
                  <a:lnTo>
                    <a:pt x="2559" y="2222"/>
                  </a:lnTo>
                  <a:lnTo>
                    <a:pt x="2525" y="1044"/>
                  </a:lnTo>
                  <a:lnTo>
                    <a:pt x="2525" y="539"/>
                  </a:lnTo>
                  <a:lnTo>
                    <a:pt x="2492" y="270"/>
                  </a:lnTo>
                  <a:lnTo>
                    <a:pt x="2458" y="34"/>
                  </a:lnTo>
                  <a:lnTo>
                    <a:pt x="2424" y="34"/>
                  </a:lnTo>
                  <a:lnTo>
                    <a:pt x="2391" y="68"/>
                  </a:lnTo>
                  <a:lnTo>
                    <a:pt x="2323" y="34"/>
                  </a:lnTo>
                  <a:lnTo>
                    <a:pt x="2222" y="0"/>
                  </a:lnTo>
                  <a:lnTo>
                    <a:pt x="2020" y="0"/>
                  </a:lnTo>
                  <a:lnTo>
                    <a:pt x="1616" y="34"/>
                  </a:lnTo>
                  <a:lnTo>
                    <a:pt x="909" y="34"/>
                  </a:lnTo>
                  <a:lnTo>
                    <a:pt x="539" y="68"/>
                  </a:lnTo>
                  <a:lnTo>
                    <a:pt x="202" y="101"/>
                  </a:lnTo>
                  <a:lnTo>
                    <a:pt x="202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hape 930"/>
            <p:cNvSpPr/>
            <p:nvPr/>
          </p:nvSpPr>
          <p:spPr>
            <a:xfrm>
              <a:off x="1971720" y="207720"/>
              <a:ext cx="61560" cy="475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10" h="708">
                  <a:moveTo>
                    <a:pt x="607" y="169"/>
                  </a:moveTo>
                  <a:lnTo>
                    <a:pt x="742" y="203"/>
                  </a:lnTo>
                  <a:lnTo>
                    <a:pt x="641" y="304"/>
                  </a:lnTo>
                  <a:lnTo>
                    <a:pt x="540" y="371"/>
                  </a:lnTo>
                  <a:lnTo>
                    <a:pt x="270" y="371"/>
                  </a:lnTo>
                  <a:lnTo>
                    <a:pt x="270" y="203"/>
                  </a:lnTo>
                  <a:lnTo>
                    <a:pt x="371" y="169"/>
                  </a:lnTo>
                  <a:close/>
                  <a:moveTo>
                    <a:pt x="506" y="1"/>
                  </a:moveTo>
                  <a:lnTo>
                    <a:pt x="371" y="35"/>
                  </a:lnTo>
                  <a:lnTo>
                    <a:pt x="270" y="102"/>
                  </a:lnTo>
                  <a:lnTo>
                    <a:pt x="203" y="68"/>
                  </a:lnTo>
                  <a:lnTo>
                    <a:pt x="169" y="68"/>
                  </a:lnTo>
                  <a:lnTo>
                    <a:pt x="136" y="102"/>
                  </a:lnTo>
                  <a:lnTo>
                    <a:pt x="102" y="203"/>
                  </a:lnTo>
                  <a:lnTo>
                    <a:pt x="102" y="338"/>
                  </a:lnTo>
                  <a:lnTo>
                    <a:pt x="35" y="371"/>
                  </a:lnTo>
                  <a:lnTo>
                    <a:pt x="1" y="439"/>
                  </a:lnTo>
                  <a:lnTo>
                    <a:pt x="35" y="506"/>
                  </a:lnTo>
                  <a:lnTo>
                    <a:pt x="102" y="540"/>
                  </a:lnTo>
                  <a:lnTo>
                    <a:pt x="102" y="607"/>
                  </a:lnTo>
                  <a:lnTo>
                    <a:pt x="136" y="674"/>
                  </a:lnTo>
                  <a:lnTo>
                    <a:pt x="169" y="708"/>
                  </a:lnTo>
                  <a:lnTo>
                    <a:pt x="203" y="708"/>
                  </a:lnTo>
                  <a:lnTo>
                    <a:pt x="237" y="674"/>
                  </a:lnTo>
                  <a:lnTo>
                    <a:pt x="270" y="641"/>
                  </a:lnTo>
                  <a:lnTo>
                    <a:pt x="304" y="607"/>
                  </a:lnTo>
                  <a:lnTo>
                    <a:pt x="270" y="540"/>
                  </a:lnTo>
                  <a:lnTo>
                    <a:pt x="506" y="540"/>
                  </a:lnTo>
                  <a:lnTo>
                    <a:pt x="708" y="472"/>
                  </a:lnTo>
                  <a:lnTo>
                    <a:pt x="775" y="439"/>
                  </a:lnTo>
                  <a:lnTo>
                    <a:pt x="843" y="371"/>
                  </a:lnTo>
                  <a:lnTo>
                    <a:pt x="876" y="270"/>
                  </a:lnTo>
                  <a:lnTo>
                    <a:pt x="910" y="169"/>
                  </a:lnTo>
                  <a:lnTo>
                    <a:pt x="910" y="102"/>
                  </a:lnTo>
                  <a:lnTo>
                    <a:pt x="876" y="102"/>
                  </a:lnTo>
                  <a:lnTo>
                    <a:pt x="67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hape 931"/>
            <p:cNvSpPr/>
            <p:nvPr/>
          </p:nvSpPr>
          <p:spPr>
            <a:xfrm>
              <a:off x="1922400" y="711000"/>
              <a:ext cx="15840" cy="174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36" h="2627">
                  <a:moveTo>
                    <a:pt x="68" y="0"/>
                  </a:moveTo>
                  <a:lnTo>
                    <a:pt x="0" y="236"/>
                  </a:lnTo>
                  <a:lnTo>
                    <a:pt x="0" y="472"/>
                  </a:lnTo>
                  <a:lnTo>
                    <a:pt x="0" y="977"/>
                  </a:lnTo>
                  <a:lnTo>
                    <a:pt x="0" y="1785"/>
                  </a:lnTo>
                  <a:lnTo>
                    <a:pt x="0" y="2155"/>
                  </a:lnTo>
                  <a:lnTo>
                    <a:pt x="34" y="2559"/>
                  </a:lnTo>
                  <a:lnTo>
                    <a:pt x="68" y="2593"/>
                  </a:lnTo>
                  <a:lnTo>
                    <a:pt x="101" y="2626"/>
                  </a:lnTo>
                  <a:lnTo>
                    <a:pt x="169" y="2626"/>
                  </a:lnTo>
                  <a:lnTo>
                    <a:pt x="202" y="2559"/>
                  </a:lnTo>
                  <a:lnTo>
                    <a:pt x="202" y="2256"/>
                  </a:lnTo>
                  <a:lnTo>
                    <a:pt x="236" y="1953"/>
                  </a:lnTo>
                  <a:lnTo>
                    <a:pt x="202" y="1381"/>
                  </a:lnTo>
                  <a:lnTo>
                    <a:pt x="202" y="674"/>
                  </a:lnTo>
                  <a:lnTo>
                    <a:pt x="202" y="337"/>
                  </a:lnTo>
                  <a:lnTo>
                    <a:pt x="169" y="16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hape 932"/>
            <p:cNvSpPr/>
            <p:nvPr/>
          </p:nvSpPr>
          <p:spPr>
            <a:xfrm>
              <a:off x="2195280" y="79992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9" h="675">
                  <a:moveTo>
                    <a:pt x="270" y="1"/>
                  </a:moveTo>
                  <a:lnTo>
                    <a:pt x="203" y="68"/>
                  </a:lnTo>
                  <a:lnTo>
                    <a:pt x="135" y="136"/>
                  </a:lnTo>
                  <a:lnTo>
                    <a:pt x="34" y="237"/>
                  </a:lnTo>
                  <a:lnTo>
                    <a:pt x="1" y="371"/>
                  </a:lnTo>
                  <a:lnTo>
                    <a:pt x="34" y="405"/>
                  </a:lnTo>
                  <a:lnTo>
                    <a:pt x="34" y="439"/>
                  </a:lnTo>
                  <a:lnTo>
                    <a:pt x="135" y="439"/>
                  </a:lnTo>
                  <a:lnTo>
                    <a:pt x="169" y="506"/>
                  </a:lnTo>
                  <a:lnTo>
                    <a:pt x="304" y="641"/>
                  </a:lnTo>
                  <a:lnTo>
                    <a:pt x="371" y="674"/>
                  </a:lnTo>
                  <a:lnTo>
                    <a:pt x="438" y="641"/>
                  </a:lnTo>
                  <a:lnTo>
                    <a:pt x="438" y="607"/>
                  </a:lnTo>
                  <a:lnTo>
                    <a:pt x="438" y="540"/>
                  </a:lnTo>
                  <a:lnTo>
                    <a:pt x="337" y="439"/>
                  </a:lnTo>
                  <a:lnTo>
                    <a:pt x="236" y="338"/>
                  </a:lnTo>
                  <a:lnTo>
                    <a:pt x="405" y="169"/>
                  </a:lnTo>
                  <a:lnTo>
                    <a:pt x="438" y="136"/>
                  </a:lnTo>
                  <a:lnTo>
                    <a:pt x="438" y="68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hape 933"/>
            <p:cNvSpPr/>
            <p:nvPr/>
          </p:nvSpPr>
          <p:spPr>
            <a:xfrm>
              <a:off x="2070000" y="501480"/>
              <a:ext cx="166680" cy="1774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2" h="2694">
                  <a:moveTo>
                    <a:pt x="2290" y="202"/>
                  </a:moveTo>
                  <a:lnTo>
                    <a:pt x="2222" y="707"/>
                  </a:lnTo>
                  <a:lnTo>
                    <a:pt x="2222" y="1246"/>
                  </a:lnTo>
                  <a:lnTo>
                    <a:pt x="2256" y="1785"/>
                  </a:lnTo>
                  <a:lnTo>
                    <a:pt x="2290" y="2323"/>
                  </a:lnTo>
                  <a:lnTo>
                    <a:pt x="2323" y="2357"/>
                  </a:lnTo>
                  <a:lnTo>
                    <a:pt x="2290" y="2357"/>
                  </a:lnTo>
                  <a:lnTo>
                    <a:pt x="2054" y="2323"/>
                  </a:lnTo>
                  <a:lnTo>
                    <a:pt x="1818" y="2323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313"/>
                  </a:lnTo>
                  <a:lnTo>
                    <a:pt x="202" y="236"/>
                  </a:lnTo>
                  <a:lnTo>
                    <a:pt x="707" y="270"/>
                  </a:lnTo>
                  <a:lnTo>
                    <a:pt x="1246" y="270"/>
                  </a:lnTo>
                  <a:lnTo>
                    <a:pt x="2290" y="202"/>
                  </a:lnTo>
                  <a:close/>
                  <a:moveTo>
                    <a:pt x="2323" y="0"/>
                  </a:moveTo>
                  <a:lnTo>
                    <a:pt x="1785" y="34"/>
                  </a:lnTo>
                  <a:lnTo>
                    <a:pt x="707" y="34"/>
                  </a:lnTo>
                  <a:lnTo>
                    <a:pt x="169" y="68"/>
                  </a:lnTo>
                  <a:lnTo>
                    <a:pt x="101" y="101"/>
                  </a:lnTo>
                  <a:lnTo>
                    <a:pt x="101" y="169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0" y="808"/>
                  </a:lnTo>
                  <a:lnTo>
                    <a:pt x="34" y="1414"/>
                  </a:lnTo>
                  <a:lnTo>
                    <a:pt x="101" y="2020"/>
                  </a:lnTo>
                  <a:lnTo>
                    <a:pt x="202" y="2626"/>
                  </a:lnTo>
                  <a:lnTo>
                    <a:pt x="236" y="2660"/>
                  </a:lnTo>
                  <a:lnTo>
                    <a:pt x="303" y="2694"/>
                  </a:lnTo>
                  <a:lnTo>
                    <a:pt x="404" y="2660"/>
                  </a:lnTo>
                  <a:lnTo>
                    <a:pt x="404" y="2559"/>
                  </a:lnTo>
                  <a:lnTo>
                    <a:pt x="404" y="2492"/>
                  </a:lnTo>
                  <a:lnTo>
                    <a:pt x="876" y="2593"/>
                  </a:lnTo>
                  <a:lnTo>
                    <a:pt x="1852" y="2593"/>
                  </a:lnTo>
                  <a:lnTo>
                    <a:pt x="2088" y="2559"/>
                  </a:lnTo>
                  <a:lnTo>
                    <a:pt x="2290" y="2492"/>
                  </a:lnTo>
                  <a:lnTo>
                    <a:pt x="2357" y="2458"/>
                  </a:lnTo>
                  <a:lnTo>
                    <a:pt x="2357" y="2391"/>
                  </a:lnTo>
                  <a:lnTo>
                    <a:pt x="2424" y="2391"/>
                  </a:lnTo>
                  <a:lnTo>
                    <a:pt x="2458" y="2357"/>
                  </a:lnTo>
                  <a:lnTo>
                    <a:pt x="2492" y="2323"/>
                  </a:lnTo>
                  <a:lnTo>
                    <a:pt x="2492" y="1785"/>
                  </a:lnTo>
                  <a:lnTo>
                    <a:pt x="2492" y="1246"/>
                  </a:lnTo>
                  <a:lnTo>
                    <a:pt x="2458" y="707"/>
                  </a:lnTo>
                  <a:lnTo>
                    <a:pt x="2391" y="169"/>
                  </a:lnTo>
                  <a:lnTo>
                    <a:pt x="2424" y="101"/>
                  </a:lnTo>
                  <a:lnTo>
                    <a:pt x="2424" y="68"/>
                  </a:lnTo>
                  <a:lnTo>
                    <a:pt x="239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hape 934"/>
            <p:cNvSpPr/>
            <p:nvPr/>
          </p:nvSpPr>
          <p:spPr>
            <a:xfrm>
              <a:off x="7925040" y="4454640"/>
              <a:ext cx="792000" cy="7794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919" h="11717">
                  <a:moveTo>
                    <a:pt x="270" y="6532"/>
                  </a:moveTo>
                  <a:lnTo>
                    <a:pt x="303" y="6734"/>
                  </a:lnTo>
                  <a:lnTo>
                    <a:pt x="371" y="6936"/>
                  </a:lnTo>
                  <a:lnTo>
                    <a:pt x="573" y="7273"/>
                  </a:lnTo>
                  <a:lnTo>
                    <a:pt x="808" y="7609"/>
                  </a:lnTo>
                  <a:lnTo>
                    <a:pt x="977" y="7744"/>
                  </a:lnTo>
                  <a:lnTo>
                    <a:pt x="1111" y="7845"/>
                  </a:lnTo>
                  <a:lnTo>
                    <a:pt x="1078" y="8148"/>
                  </a:lnTo>
                  <a:lnTo>
                    <a:pt x="1078" y="8451"/>
                  </a:lnTo>
                  <a:lnTo>
                    <a:pt x="1111" y="8721"/>
                  </a:lnTo>
                  <a:lnTo>
                    <a:pt x="1145" y="9024"/>
                  </a:lnTo>
                  <a:lnTo>
                    <a:pt x="1212" y="9158"/>
                  </a:lnTo>
                  <a:lnTo>
                    <a:pt x="943" y="8956"/>
                  </a:lnTo>
                  <a:lnTo>
                    <a:pt x="707" y="8687"/>
                  </a:lnTo>
                  <a:lnTo>
                    <a:pt x="505" y="8418"/>
                  </a:lnTo>
                  <a:lnTo>
                    <a:pt x="371" y="8115"/>
                  </a:lnTo>
                  <a:lnTo>
                    <a:pt x="270" y="7811"/>
                  </a:lnTo>
                  <a:lnTo>
                    <a:pt x="236" y="7508"/>
                  </a:lnTo>
                  <a:lnTo>
                    <a:pt x="202" y="7205"/>
                  </a:lnTo>
                  <a:lnTo>
                    <a:pt x="236" y="6869"/>
                  </a:lnTo>
                  <a:lnTo>
                    <a:pt x="270" y="6532"/>
                  </a:lnTo>
                  <a:close/>
                  <a:moveTo>
                    <a:pt x="2593" y="1"/>
                  </a:moveTo>
                  <a:lnTo>
                    <a:pt x="2559" y="34"/>
                  </a:lnTo>
                  <a:lnTo>
                    <a:pt x="2222" y="607"/>
                  </a:lnTo>
                  <a:lnTo>
                    <a:pt x="1953" y="1179"/>
                  </a:lnTo>
                  <a:lnTo>
                    <a:pt x="1650" y="1785"/>
                  </a:lnTo>
                  <a:lnTo>
                    <a:pt x="1414" y="2391"/>
                  </a:lnTo>
                  <a:lnTo>
                    <a:pt x="943" y="3637"/>
                  </a:lnTo>
                  <a:lnTo>
                    <a:pt x="539" y="4849"/>
                  </a:lnTo>
                  <a:lnTo>
                    <a:pt x="236" y="5825"/>
                  </a:lnTo>
                  <a:lnTo>
                    <a:pt x="101" y="6364"/>
                  </a:lnTo>
                  <a:lnTo>
                    <a:pt x="0" y="6869"/>
                  </a:lnTo>
                  <a:lnTo>
                    <a:pt x="0" y="7374"/>
                  </a:lnTo>
                  <a:lnTo>
                    <a:pt x="0" y="7643"/>
                  </a:lnTo>
                  <a:lnTo>
                    <a:pt x="68" y="7879"/>
                  </a:lnTo>
                  <a:lnTo>
                    <a:pt x="135" y="8148"/>
                  </a:lnTo>
                  <a:lnTo>
                    <a:pt x="236" y="8384"/>
                  </a:lnTo>
                  <a:lnTo>
                    <a:pt x="371" y="8586"/>
                  </a:lnTo>
                  <a:lnTo>
                    <a:pt x="539" y="8822"/>
                  </a:lnTo>
                  <a:lnTo>
                    <a:pt x="909" y="9192"/>
                  </a:lnTo>
                  <a:lnTo>
                    <a:pt x="1347" y="9562"/>
                  </a:lnTo>
                  <a:lnTo>
                    <a:pt x="1818" y="9865"/>
                  </a:lnTo>
                  <a:lnTo>
                    <a:pt x="2323" y="10135"/>
                  </a:lnTo>
                  <a:lnTo>
                    <a:pt x="2828" y="10370"/>
                  </a:lnTo>
                  <a:lnTo>
                    <a:pt x="3367" y="10572"/>
                  </a:lnTo>
                  <a:lnTo>
                    <a:pt x="4411" y="10909"/>
                  </a:lnTo>
                  <a:lnTo>
                    <a:pt x="5050" y="11077"/>
                  </a:lnTo>
                  <a:lnTo>
                    <a:pt x="5690" y="11212"/>
                  </a:lnTo>
                  <a:lnTo>
                    <a:pt x="6970" y="11414"/>
                  </a:lnTo>
                  <a:lnTo>
                    <a:pt x="8249" y="11582"/>
                  </a:lnTo>
                  <a:lnTo>
                    <a:pt x="9528" y="11717"/>
                  </a:lnTo>
                  <a:lnTo>
                    <a:pt x="9596" y="11717"/>
                  </a:lnTo>
                  <a:lnTo>
                    <a:pt x="9629" y="11650"/>
                  </a:lnTo>
                  <a:lnTo>
                    <a:pt x="9596" y="11549"/>
                  </a:lnTo>
                  <a:lnTo>
                    <a:pt x="9528" y="11515"/>
                  </a:lnTo>
                  <a:lnTo>
                    <a:pt x="7576" y="11313"/>
                  </a:lnTo>
                  <a:lnTo>
                    <a:pt x="6566" y="11178"/>
                  </a:lnTo>
                  <a:lnTo>
                    <a:pt x="5555" y="11010"/>
                  </a:lnTo>
                  <a:lnTo>
                    <a:pt x="4579" y="10774"/>
                  </a:lnTo>
                  <a:lnTo>
                    <a:pt x="4074" y="10640"/>
                  </a:lnTo>
                  <a:lnTo>
                    <a:pt x="3603" y="10471"/>
                  </a:lnTo>
                  <a:lnTo>
                    <a:pt x="3131" y="10303"/>
                  </a:lnTo>
                  <a:lnTo>
                    <a:pt x="2660" y="10067"/>
                  </a:lnTo>
                  <a:lnTo>
                    <a:pt x="2222" y="9865"/>
                  </a:lnTo>
                  <a:lnTo>
                    <a:pt x="1818" y="9596"/>
                  </a:lnTo>
                  <a:lnTo>
                    <a:pt x="1549" y="9226"/>
                  </a:lnTo>
                  <a:lnTo>
                    <a:pt x="1448" y="9057"/>
                  </a:lnTo>
                  <a:lnTo>
                    <a:pt x="1347" y="8822"/>
                  </a:lnTo>
                  <a:lnTo>
                    <a:pt x="1313" y="8620"/>
                  </a:lnTo>
                  <a:lnTo>
                    <a:pt x="1313" y="8384"/>
                  </a:lnTo>
                  <a:lnTo>
                    <a:pt x="1280" y="8148"/>
                  </a:lnTo>
                  <a:lnTo>
                    <a:pt x="1246" y="7912"/>
                  </a:lnTo>
                  <a:lnTo>
                    <a:pt x="1313" y="7879"/>
                  </a:lnTo>
                  <a:lnTo>
                    <a:pt x="1347" y="7811"/>
                  </a:lnTo>
                  <a:lnTo>
                    <a:pt x="1313" y="7744"/>
                  </a:lnTo>
                  <a:lnTo>
                    <a:pt x="1280" y="7710"/>
                  </a:lnTo>
                  <a:lnTo>
                    <a:pt x="1044" y="7542"/>
                  </a:lnTo>
                  <a:lnTo>
                    <a:pt x="876" y="7340"/>
                  </a:lnTo>
                  <a:lnTo>
                    <a:pt x="707" y="7104"/>
                  </a:lnTo>
                  <a:lnTo>
                    <a:pt x="539" y="6869"/>
                  </a:lnTo>
                  <a:lnTo>
                    <a:pt x="472" y="6633"/>
                  </a:lnTo>
                  <a:lnTo>
                    <a:pt x="404" y="6431"/>
                  </a:lnTo>
                  <a:lnTo>
                    <a:pt x="404" y="5960"/>
                  </a:lnTo>
                  <a:lnTo>
                    <a:pt x="640" y="5185"/>
                  </a:lnTo>
                  <a:lnTo>
                    <a:pt x="909" y="4445"/>
                  </a:lnTo>
                  <a:lnTo>
                    <a:pt x="1313" y="3367"/>
                  </a:lnTo>
                  <a:lnTo>
                    <a:pt x="1751" y="2290"/>
                  </a:lnTo>
                  <a:lnTo>
                    <a:pt x="2189" y="1246"/>
                  </a:lnTo>
                  <a:lnTo>
                    <a:pt x="2593" y="169"/>
                  </a:lnTo>
                  <a:lnTo>
                    <a:pt x="2727" y="304"/>
                  </a:lnTo>
                  <a:lnTo>
                    <a:pt x="2896" y="405"/>
                  </a:lnTo>
                  <a:lnTo>
                    <a:pt x="3098" y="506"/>
                  </a:lnTo>
                  <a:lnTo>
                    <a:pt x="3266" y="573"/>
                  </a:lnTo>
                  <a:lnTo>
                    <a:pt x="3670" y="640"/>
                  </a:lnTo>
                  <a:lnTo>
                    <a:pt x="4074" y="708"/>
                  </a:lnTo>
                  <a:lnTo>
                    <a:pt x="4714" y="842"/>
                  </a:lnTo>
                  <a:lnTo>
                    <a:pt x="5353" y="1011"/>
                  </a:lnTo>
                  <a:lnTo>
                    <a:pt x="6599" y="1415"/>
                  </a:lnTo>
                  <a:lnTo>
                    <a:pt x="7879" y="1785"/>
                  </a:lnTo>
                  <a:lnTo>
                    <a:pt x="9192" y="2088"/>
                  </a:lnTo>
                  <a:lnTo>
                    <a:pt x="10505" y="2324"/>
                  </a:lnTo>
                  <a:lnTo>
                    <a:pt x="11818" y="2492"/>
                  </a:lnTo>
                  <a:lnTo>
                    <a:pt x="11885" y="2492"/>
                  </a:lnTo>
                  <a:lnTo>
                    <a:pt x="11919" y="2425"/>
                  </a:lnTo>
                  <a:lnTo>
                    <a:pt x="11885" y="2324"/>
                  </a:lnTo>
                  <a:lnTo>
                    <a:pt x="11818" y="2290"/>
                  </a:lnTo>
                  <a:lnTo>
                    <a:pt x="10572" y="2122"/>
                  </a:lnTo>
                  <a:lnTo>
                    <a:pt x="9326" y="1920"/>
                  </a:lnTo>
                  <a:lnTo>
                    <a:pt x="8114" y="1650"/>
                  </a:lnTo>
                  <a:lnTo>
                    <a:pt x="6902" y="1314"/>
                  </a:lnTo>
                  <a:lnTo>
                    <a:pt x="5825" y="977"/>
                  </a:lnTo>
                  <a:lnTo>
                    <a:pt x="4781" y="674"/>
                  </a:lnTo>
                  <a:lnTo>
                    <a:pt x="4242" y="539"/>
                  </a:lnTo>
                  <a:lnTo>
                    <a:pt x="3670" y="438"/>
                  </a:lnTo>
                  <a:lnTo>
                    <a:pt x="3165" y="304"/>
                  </a:lnTo>
                  <a:lnTo>
                    <a:pt x="2896" y="236"/>
                  </a:lnTo>
                  <a:lnTo>
                    <a:pt x="2626" y="102"/>
                  </a:lnTo>
                  <a:lnTo>
                    <a:pt x="2626" y="68"/>
                  </a:lnTo>
                  <a:lnTo>
                    <a:pt x="2626" y="34"/>
                  </a:lnTo>
                  <a:lnTo>
                    <a:pt x="262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hape 935"/>
            <p:cNvSpPr/>
            <p:nvPr/>
          </p:nvSpPr>
          <p:spPr>
            <a:xfrm>
              <a:off x="1930320" y="687240"/>
              <a:ext cx="171360" cy="199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593" h="3031">
                  <a:moveTo>
                    <a:pt x="2424" y="1"/>
                  </a:moveTo>
                  <a:lnTo>
                    <a:pt x="2391" y="34"/>
                  </a:lnTo>
                  <a:lnTo>
                    <a:pt x="2357" y="68"/>
                  </a:lnTo>
                  <a:lnTo>
                    <a:pt x="2054" y="68"/>
                  </a:lnTo>
                  <a:lnTo>
                    <a:pt x="1785" y="102"/>
                  </a:lnTo>
                  <a:lnTo>
                    <a:pt x="1212" y="203"/>
                  </a:lnTo>
                  <a:lnTo>
                    <a:pt x="909" y="203"/>
                  </a:lnTo>
                  <a:lnTo>
                    <a:pt x="606" y="135"/>
                  </a:lnTo>
                  <a:lnTo>
                    <a:pt x="303" y="135"/>
                  </a:lnTo>
                  <a:lnTo>
                    <a:pt x="169" y="169"/>
                  </a:lnTo>
                  <a:lnTo>
                    <a:pt x="34" y="236"/>
                  </a:lnTo>
                  <a:lnTo>
                    <a:pt x="0" y="270"/>
                  </a:lnTo>
                  <a:lnTo>
                    <a:pt x="0" y="304"/>
                  </a:lnTo>
                  <a:lnTo>
                    <a:pt x="68" y="338"/>
                  </a:lnTo>
                  <a:lnTo>
                    <a:pt x="303" y="371"/>
                  </a:lnTo>
                  <a:lnTo>
                    <a:pt x="539" y="405"/>
                  </a:lnTo>
                  <a:lnTo>
                    <a:pt x="1044" y="439"/>
                  </a:lnTo>
                  <a:lnTo>
                    <a:pt x="1381" y="439"/>
                  </a:lnTo>
                  <a:lnTo>
                    <a:pt x="1684" y="371"/>
                  </a:lnTo>
                  <a:lnTo>
                    <a:pt x="2020" y="304"/>
                  </a:lnTo>
                  <a:lnTo>
                    <a:pt x="2357" y="304"/>
                  </a:lnTo>
                  <a:lnTo>
                    <a:pt x="2323" y="809"/>
                  </a:lnTo>
                  <a:lnTo>
                    <a:pt x="2357" y="1314"/>
                  </a:lnTo>
                  <a:lnTo>
                    <a:pt x="2357" y="1954"/>
                  </a:lnTo>
                  <a:lnTo>
                    <a:pt x="2357" y="2290"/>
                  </a:lnTo>
                  <a:lnTo>
                    <a:pt x="2424" y="2627"/>
                  </a:lnTo>
                  <a:lnTo>
                    <a:pt x="2357" y="2593"/>
                  </a:lnTo>
                  <a:lnTo>
                    <a:pt x="1751" y="2661"/>
                  </a:lnTo>
                  <a:lnTo>
                    <a:pt x="1111" y="2728"/>
                  </a:lnTo>
                  <a:lnTo>
                    <a:pt x="606" y="2795"/>
                  </a:lnTo>
                  <a:lnTo>
                    <a:pt x="337" y="2863"/>
                  </a:lnTo>
                  <a:lnTo>
                    <a:pt x="101" y="2964"/>
                  </a:lnTo>
                  <a:lnTo>
                    <a:pt x="371" y="3031"/>
                  </a:lnTo>
                  <a:lnTo>
                    <a:pt x="606" y="2997"/>
                  </a:lnTo>
                  <a:lnTo>
                    <a:pt x="1111" y="2930"/>
                  </a:lnTo>
                  <a:lnTo>
                    <a:pt x="1751" y="2863"/>
                  </a:lnTo>
                  <a:lnTo>
                    <a:pt x="2357" y="2795"/>
                  </a:lnTo>
                  <a:lnTo>
                    <a:pt x="2424" y="2762"/>
                  </a:lnTo>
                  <a:lnTo>
                    <a:pt x="2458" y="2728"/>
                  </a:lnTo>
                  <a:lnTo>
                    <a:pt x="2458" y="2762"/>
                  </a:lnTo>
                  <a:lnTo>
                    <a:pt x="2525" y="2762"/>
                  </a:lnTo>
                  <a:lnTo>
                    <a:pt x="2559" y="2728"/>
                  </a:lnTo>
                  <a:lnTo>
                    <a:pt x="2593" y="2425"/>
                  </a:lnTo>
                  <a:lnTo>
                    <a:pt x="2593" y="2122"/>
                  </a:lnTo>
                  <a:lnTo>
                    <a:pt x="2593" y="1516"/>
                  </a:lnTo>
                  <a:lnTo>
                    <a:pt x="2559" y="775"/>
                  </a:lnTo>
                  <a:lnTo>
                    <a:pt x="2559" y="439"/>
                  </a:lnTo>
                  <a:lnTo>
                    <a:pt x="2492" y="68"/>
                  </a:lnTo>
                  <a:lnTo>
                    <a:pt x="2492" y="34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83160" bIns="83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hape 936"/>
            <p:cNvSpPr/>
            <p:nvPr/>
          </p:nvSpPr>
          <p:spPr>
            <a:xfrm>
              <a:off x="771480" y="715680"/>
              <a:ext cx="909360" cy="21888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704" h="3300">
                  <a:moveTo>
                    <a:pt x="13366" y="337"/>
                  </a:moveTo>
                  <a:lnTo>
                    <a:pt x="13366" y="674"/>
                  </a:lnTo>
                  <a:lnTo>
                    <a:pt x="13366" y="1011"/>
                  </a:lnTo>
                  <a:lnTo>
                    <a:pt x="13434" y="2593"/>
                  </a:lnTo>
                  <a:lnTo>
                    <a:pt x="13400" y="2559"/>
                  </a:lnTo>
                  <a:lnTo>
                    <a:pt x="13030" y="2492"/>
                  </a:lnTo>
                  <a:lnTo>
                    <a:pt x="12659" y="2458"/>
                  </a:lnTo>
                  <a:lnTo>
                    <a:pt x="11986" y="2458"/>
                  </a:lnTo>
                  <a:lnTo>
                    <a:pt x="11279" y="2526"/>
                  </a:lnTo>
                  <a:lnTo>
                    <a:pt x="10572" y="2627"/>
                  </a:lnTo>
                  <a:lnTo>
                    <a:pt x="9697" y="2728"/>
                  </a:lnTo>
                  <a:lnTo>
                    <a:pt x="8855" y="2795"/>
                  </a:lnTo>
                  <a:lnTo>
                    <a:pt x="7171" y="2862"/>
                  </a:lnTo>
                  <a:lnTo>
                    <a:pt x="5488" y="2896"/>
                  </a:lnTo>
                  <a:lnTo>
                    <a:pt x="3805" y="2930"/>
                  </a:lnTo>
                  <a:lnTo>
                    <a:pt x="2088" y="2963"/>
                  </a:lnTo>
                  <a:lnTo>
                    <a:pt x="1246" y="2997"/>
                  </a:lnTo>
                  <a:lnTo>
                    <a:pt x="438" y="3064"/>
                  </a:lnTo>
                  <a:lnTo>
                    <a:pt x="404" y="2761"/>
                  </a:lnTo>
                  <a:lnTo>
                    <a:pt x="371" y="2425"/>
                  </a:lnTo>
                  <a:lnTo>
                    <a:pt x="270" y="1751"/>
                  </a:lnTo>
                  <a:lnTo>
                    <a:pt x="202" y="1145"/>
                  </a:lnTo>
                  <a:lnTo>
                    <a:pt x="135" y="842"/>
                  </a:lnTo>
                  <a:lnTo>
                    <a:pt x="68" y="573"/>
                  </a:lnTo>
                  <a:lnTo>
                    <a:pt x="1751" y="573"/>
                  </a:lnTo>
                  <a:lnTo>
                    <a:pt x="3434" y="539"/>
                  </a:lnTo>
                  <a:lnTo>
                    <a:pt x="6801" y="438"/>
                  </a:lnTo>
                  <a:lnTo>
                    <a:pt x="13366" y="337"/>
                  </a:lnTo>
                  <a:close/>
                  <a:moveTo>
                    <a:pt x="13467" y="1"/>
                  </a:moveTo>
                  <a:lnTo>
                    <a:pt x="13400" y="68"/>
                  </a:lnTo>
                  <a:lnTo>
                    <a:pt x="6801" y="236"/>
                  </a:lnTo>
                  <a:lnTo>
                    <a:pt x="3434" y="270"/>
                  </a:lnTo>
                  <a:lnTo>
                    <a:pt x="1751" y="304"/>
                  </a:lnTo>
                  <a:lnTo>
                    <a:pt x="68" y="371"/>
                  </a:lnTo>
                  <a:lnTo>
                    <a:pt x="34" y="405"/>
                  </a:lnTo>
                  <a:lnTo>
                    <a:pt x="0" y="438"/>
                  </a:lnTo>
                  <a:lnTo>
                    <a:pt x="0" y="506"/>
                  </a:lnTo>
                  <a:lnTo>
                    <a:pt x="0" y="842"/>
                  </a:lnTo>
                  <a:lnTo>
                    <a:pt x="0" y="1145"/>
                  </a:lnTo>
                  <a:lnTo>
                    <a:pt x="68" y="1751"/>
                  </a:lnTo>
                  <a:lnTo>
                    <a:pt x="135" y="2526"/>
                  </a:lnTo>
                  <a:lnTo>
                    <a:pt x="169" y="2896"/>
                  </a:lnTo>
                  <a:lnTo>
                    <a:pt x="270" y="3266"/>
                  </a:lnTo>
                  <a:lnTo>
                    <a:pt x="303" y="3300"/>
                  </a:lnTo>
                  <a:lnTo>
                    <a:pt x="337" y="3300"/>
                  </a:lnTo>
                  <a:lnTo>
                    <a:pt x="404" y="3266"/>
                  </a:lnTo>
                  <a:lnTo>
                    <a:pt x="404" y="3233"/>
                  </a:lnTo>
                  <a:lnTo>
                    <a:pt x="1212" y="3266"/>
                  </a:lnTo>
                  <a:lnTo>
                    <a:pt x="2054" y="3266"/>
                  </a:lnTo>
                  <a:lnTo>
                    <a:pt x="3670" y="3233"/>
                  </a:lnTo>
                  <a:lnTo>
                    <a:pt x="6936" y="3098"/>
                  </a:lnTo>
                  <a:lnTo>
                    <a:pt x="8518" y="3031"/>
                  </a:lnTo>
                  <a:lnTo>
                    <a:pt x="9326" y="2997"/>
                  </a:lnTo>
                  <a:lnTo>
                    <a:pt x="10101" y="2930"/>
                  </a:lnTo>
                  <a:lnTo>
                    <a:pt x="10909" y="2829"/>
                  </a:lnTo>
                  <a:lnTo>
                    <a:pt x="11717" y="2728"/>
                  </a:lnTo>
                  <a:lnTo>
                    <a:pt x="12525" y="2728"/>
                  </a:lnTo>
                  <a:lnTo>
                    <a:pt x="12929" y="2761"/>
                  </a:lnTo>
                  <a:lnTo>
                    <a:pt x="13333" y="2795"/>
                  </a:lnTo>
                  <a:lnTo>
                    <a:pt x="13434" y="2795"/>
                  </a:lnTo>
                  <a:lnTo>
                    <a:pt x="13467" y="2694"/>
                  </a:lnTo>
                  <a:lnTo>
                    <a:pt x="13535" y="2728"/>
                  </a:lnTo>
                  <a:lnTo>
                    <a:pt x="13602" y="2728"/>
                  </a:lnTo>
                  <a:lnTo>
                    <a:pt x="13669" y="2660"/>
                  </a:lnTo>
                  <a:lnTo>
                    <a:pt x="13703" y="2593"/>
                  </a:lnTo>
                  <a:lnTo>
                    <a:pt x="13636" y="1179"/>
                  </a:lnTo>
                  <a:lnTo>
                    <a:pt x="13636" y="741"/>
                  </a:lnTo>
                  <a:lnTo>
                    <a:pt x="13636" y="539"/>
                  </a:lnTo>
                  <a:lnTo>
                    <a:pt x="13602" y="304"/>
                  </a:lnTo>
                  <a:lnTo>
                    <a:pt x="13636" y="270"/>
                  </a:lnTo>
                  <a:lnTo>
                    <a:pt x="13669" y="169"/>
                  </a:lnTo>
                  <a:lnTo>
                    <a:pt x="13602" y="102"/>
                  </a:lnTo>
                  <a:lnTo>
                    <a:pt x="13535" y="68"/>
                  </a:lnTo>
                  <a:lnTo>
                    <a:pt x="13501" y="68"/>
                  </a:lnTo>
                  <a:lnTo>
                    <a:pt x="1346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02240" bIns="1022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hape 937"/>
            <p:cNvSpPr/>
            <p:nvPr/>
          </p:nvSpPr>
          <p:spPr>
            <a:xfrm>
              <a:off x="1938240" y="54612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08" h="641">
                  <a:moveTo>
                    <a:pt x="68" y="1"/>
                  </a:moveTo>
                  <a:lnTo>
                    <a:pt x="1" y="34"/>
                  </a:lnTo>
                  <a:lnTo>
                    <a:pt x="1" y="68"/>
                  </a:lnTo>
                  <a:lnTo>
                    <a:pt x="35" y="102"/>
                  </a:lnTo>
                  <a:lnTo>
                    <a:pt x="169" y="203"/>
                  </a:lnTo>
                  <a:lnTo>
                    <a:pt x="371" y="270"/>
                  </a:lnTo>
                  <a:lnTo>
                    <a:pt x="102" y="472"/>
                  </a:lnTo>
                  <a:lnTo>
                    <a:pt x="68" y="539"/>
                  </a:lnTo>
                  <a:lnTo>
                    <a:pt x="102" y="607"/>
                  </a:lnTo>
                  <a:lnTo>
                    <a:pt x="169" y="640"/>
                  </a:lnTo>
                  <a:lnTo>
                    <a:pt x="237" y="640"/>
                  </a:lnTo>
                  <a:lnTo>
                    <a:pt x="439" y="472"/>
                  </a:lnTo>
                  <a:lnTo>
                    <a:pt x="641" y="304"/>
                  </a:lnTo>
                  <a:lnTo>
                    <a:pt x="674" y="270"/>
                  </a:lnTo>
                  <a:lnTo>
                    <a:pt x="708" y="203"/>
                  </a:lnTo>
                  <a:lnTo>
                    <a:pt x="674" y="169"/>
                  </a:lnTo>
                  <a:lnTo>
                    <a:pt x="607" y="135"/>
                  </a:lnTo>
                  <a:lnTo>
                    <a:pt x="338" y="34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3800" bIns="-73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hape 938"/>
            <p:cNvSpPr/>
            <p:nvPr/>
          </p:nvSpPr>
          <p:spPr>
            <a:xfrm>
              <a:off x="0" y="585720"/>
              <a:ext cx="185400" cy="1746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796" h="2627">
                  <a:moveTo>
                    <a:pt x="2627" y="1"/>
                  </a:moveTo>
                  <a:lnTo>
                    <a:pt x="2593" y="34"/>
                  </a:lnTo>
                  <a:lnTo>
                    <a:pt x="2560" y="68"/>
                  </a:lnTo>
                  <a:lnTo>
                    <a:pt x="2492" y="236"/>
                  </a:lnTo>
                  <a:lnTo>
                    <a:pt x="1819" y="169"/>
                  </a:lnTo>
                  <a:lnTo>
                    <a:pt x="1145" y="135"/>
                  </a:lnTo>
                  <a:lnTo>
                    <a:pt x="573" y="135"/>
                  </a:lnTo>
                  <a:lnTo>
                    <a:pt x="1" y="169"/>
                  </a:lnTo>
                  <a:lnTo>
                    <a:pt x="1" y="371"/>
                  </a:lnTo>
                  <a:lnTo>
                    <a:pt x="1684" y="371"/>
                  </a:lnTo>
                  <a:lnTo>
                    <a:pt x="2458" y="405"/>
                  </a:lnTo>
                  <a:lnTo>
                    <a:pt x="2425" y="876"/>
                  </a:lnTo>
                  <a:lnTo>
                    <a:pt x="2458" y="1347"/>
                  </a:lnTo>
                  <a:lnTo>
                    <a:pt x="2526" y="2257"/>
                  </a:lnTo>
                  <a:lnTo>
                    <a:pt x="1953" y="2324"/>
                  </a:lnTo>
                  <a:lnTo>
                    <a:pt x="1179" y="2358"/>
                  </a:lnTo>
                  <a:lnTo>
                    <a:pt x="472" y="2391"/>
                  </a:lnTo>
                  <a:lnTo>
                    <a:pt x="169" y="2358"/>
                  </a:lnTo>
                  <a:lnTo>
                    <a:pt x="1" y="2324"/>
                  </a:lnTo>
                  <a:lnTo>
                    <a:pt x="1" y="2492"/>
                  </a:lnTo>
                  <a:lnTo>
                    <a:pt x="640" y="2593"/>
                  </a:lnTo>
                  <a:lnTo>
                    <a:pt x="1314" y="2627"/>
                  </a:lnTo>
                  <a:lnTo>
                    <a:pt x="1987" y="2560"/>
                  </a:lnTo>
                  <a:lnTo>
                    <a:pt x="2627" y="2459"/>
                  </a:lnTo>
                  <a:lnTo>
                    <a:pt x="2728" y="2459"/>
                  </a:lnTo>
                  <a:lnTo>
                    <a:pt x="2795" y="2391"/>
                  </a:lnTo>
                  <a:lnTo>
                    <a:pt x="2795" y="2324"/>
                  </a:lnTo>
                  <a:lnTo>
                    <a:pt x="2728" y="1718"/>
                  </a:lnTo>
                  <a:lnTo>
                    <a:pt x="2694" y="1112"/>
                  </a:lnTo>
                  <a:lnTo>
                    <a:pt x="2728" y="573"/>
                  </a:lnTo>
                  <a:lnTo>
                    <a:pt x="2728" y="337"/>
                  </a:lnTo>
                  <a:lnTo>
                    <a:pt x="2694" y="68"/>
                  </a:lnTo>
                  <a:lnTo>
                    <a:pt x="2661" y="34"/>
                  </a:lnTo>
                  <a:lnTo>
                    <a:pt x="262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hape 939"/>
            <p:cNvSpPr/>
            <p:nvPr/>
          </p:nvSpPr>
          <p:spPr>
            <a:xfrm>
              <a:off x="349200" y="0"/>
              <a:ext cx="160200" cy="26640"/>
            </a:xfrm>
            <a:custGeom>
              <a:avLst/>
              <a:gdLst>
                <a:gd name="textAreaLeft" fmla="*/ 0 w 160200"/>
                <a:gd name="textAreaRight" fmla="*/ 160200 w 160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26" h="405">
                  <a:moveTo>
                    <a:pt x="2189" y="1"/>
                  </a:moveTo>
                  <a:lnTo>
                    <a:pt x="2223" y="169"/>
                  </a:lnTo>
                  <a:lnTo>
                    <a:pt x="1684" y="169"/>
                  </a:lnTo>
                  <a:lnTo>
                    <a:pt x="1112" y="203"/>
                  </a:lnTo>
                  <a:lnTo>
                    <a:pt x="540" y="169"/>
                  </a:lnTo>
                  <a:lnTo>
                    <a:pt x="270" y="169"/>
                  </a:lnTo>
                  <a:lnTo>
                    <a:pt x="1" y="236"/>
                  </a:lnTo>
                  <a:lnTo>
                    <a:pt x="237" y="304"/>
                  </a:lnTo>
                  <a:lnTo>
                    <a:pt x="472" y="337"/>
                  </a:lnTo>
                  <a:lnTo>
                    <a:pt x="977" y="371"/>
                  </a:lnTo>
                  <a:lnTo>
                    <a:pt x="1651" y="405"/>
                  </a:lnTo>
                  <a:lnTo>
                    <a:pt x="1954" y="371"/>
                  </a:lnTo>
                  <a:lnTo>
                    <a:pt x="2290" y="270"/>
                  </a:lnTo>
                  <a:lnTo>
                    <a:pt x="2358" y="270"/>
                  </a:lnTo>
                  <a:lnTo>
                    <a:pt x="2391" y="236"/>
                  </a:lnTo>
                  <a:lnTo>
                    <a:pt x="2425" y="203"/>
                  </a:lnTo>
                  <a:lnTo>
                    <a:pt x="239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hape 940"/>
            <p:cNvSpPr/>
            <p:nvPr/>
          </p:nvSpPr>
          <p:spPr>
            <a:xfrm>
              <a:off x="0" y="771480"/>
              <a:ext cx="142560" cy="185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156" h="2795">
                  <a:moveTo>
                    <a:pt x="1583" y="0"/>
                  </a:moveTo>
                  <a:lnTo>
                    <a:pt x="1179" y="34"/>
                  </a:lnTo>
                  <a:lnTo>
                    <a:pt x="607" y="68"/>
                  </a:lnTo>
                  <a:lnTo>
                    <a:pt x="304" y="68"/>
                  </a:lnTo>
                  <a:lnTo>
                    <a:pt x="1" y="101"/>
                  </a:lnTo>
                  <a:lnTo>
                    <a:pt x="1" y="270"/>
                  </a:lnTo>
                  <a:lnTo>
                    <a:pt x="741" y="270"/>
                  </a:lnTo>
                  <a:lnTo>
                    <a:pt x="1785" y="202"/>
                  </a:lnTo>
                  <a:lnTo>
                    <a:pt x="1819" y="236"/>
                  </a:lnTo>
                  <a:lnTo>
                    <a:pt x="1886" y="236"/>
                  </a:lnTo>
                  <a:lnTo>
                    <a:pt x="1886" y="270"/>
                  </a:lnTo>
                  <a:lnTo>
                    <a:pt x="1920" y="236"/>
                  </a:lnTo>
                  <a:lnTo>
                    <a:pt x="1886" y="573"/>
                  </a:lnTo>
                  <a:lnTo>
                    <a:pt x="1886" y="909"/>
                  </a:lnTo>
                  <a:lnTo>
                    <a:pt x="1920" y="1684"/>
                  </a:lnTo>
                  <a:lnTo>
                    <a:pt x="1953" y="2458"/>
                  </a:lnTo>
                  <a:lnTo>
                    <a:pt x="1482" y="2458"/>
                  </a:lnTo>
                  <a:lnTo>
                    <a:pt x="1011" y="2492"/>
                  </a:lnTo>
                  <a:lnTo>
                    <a:pt x="506" y="2492"/>
                  </a:lnTo>
                  <a:lnTo>
                    <a:pt x="236" y="2525"/>
                  </a:lnTo>
                  <a:lnTo>
                    <a:pt x="102" y="2559"/>
                  </a:lnTo>
                  <a:lnTo>
                    <a:pt x="1" y="2593"/>
                  </a:lnTo>
                  <a:lnTo>
                    <a:pt x="1" y="2727"/>
                  </a:lnTo>
                  <a:lnTo>
                    <a:pt x="102" y="2761"/>
                  </a:lnTo>
                  <a:lnTo>
                    <a:pt x="203" y="2795"/>
                  </a:lnTo>
                  <a:lnTo>
                    <a:pt x="438" y="2795"/>
                  </a:lnTo>
                  <a:lnTo>
                    <a:pt x="876" y="2761"/>
                  </a:lnTo>
                  <a:lnTo>
                    <a:pt x="1415" y="2761"/>
                  </a:lnTo>
                  <a:lnTo>
                    <a:pt x="1718" y="2727"/>
                  </a:lnTo>
                  <a:lnTo>
                    <a:pt x="1987" y="2694"/>
                  </a:lnTo>
                  <a:lnTo>
                    <a:pt x="2021" y="2727"/>
                  </a:lnTo>
                  <a:lnTo>
                    <a:pt x="2088" y="2727"/>
                  </a:lnTo>
                  <a:lnTo>
                    <a:pt x="2155" y="2694"/>
                  </a:lnTo>
                  <a:lnTo>
                    <a:pt x="2155" y="2626"/>
                  </a:lnTo>
                  <a:lnTo>
                    <a:pt x="2088" y="1078"/>
                  </a:lnTo>
                  <a:lnTo>
                    <a:pt x="2088" y="539"/>
                  </a:lnTo>
                  <a:lnTo>
                    <a:pt x="2088" y="303"/>
                  </a:lnTo>
                  <a:lnTo>
                    <a:pt x="2021" y="68"/>
                  </a:lnTo>
                  <a:lnTo>
                    <a:pt x="2021" y="34"/>
                  </a:lnTo>
                  <a:lnTo>
                    <a:pt x="1987" y="68"/>
                  </a:lnTo>
                  <a:lnTo>
                    <a:pt x="1987" y="101"/>
                  </a:lnTo>
                  <a:lnTo>
                    <a:pt x="1953" y="68"/>
                  </a:lnTo>
                  <a:lnTo>
                    <a:pt x="1886" y="34"/>
                  </a:lnTo>
                  <a:lnTo>
                    <a:pt x="178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8760" bIns="68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hape 941"/>
            <p:cNvSpPr/>
            <p:nvPr/>
          </p:nvSpPr>
          <p:spPr>
            <a:xfrm>
              <a:off x="206280" y="577800"/>
              <a:ext cx="164880" cy="1774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492" h="2694">
                  <a:moveTo>
                    <a:pt x="2290" y="202"/>
                  </a:moveTo>
                  <a:lnTo>
                    <a:pt x="2222" y="707"/>
                  </a:lnTo>
                  <a:lnTo>
                    <a:pt x="2189" y="1246"/>
                  </a:lnTo>
                  <a:lnTo>
                    <a:pt x="2222" y="1784"/>
                  </a:lnTo>
                  <a:lnTo>
                    <a:pt x="2290" y="2323"/>
                  </a:lnTo>
                  <a:lnTo>
                    <a:pt x="1818" y="2323"/>
                  </a:lnTo>
                  <a:lnTo>
                    <a:pt x="1347" y="2357"/>
                  </a:lnTo>
                  <a:lnTo>
                    <a:pt x="371" y="2357"/>
                  </a:lnTo>
                  <a:lnTo>
                    <a:pt x="270" y="1279"/>
                  </a:lnTo>
                  <a:lnTo>
                    <a:pt x="169" y="236"/>
                  </a:lnTo>
                  <a:lnTo>
                    <a:pt x="707" y="269"/>
                  </a:lnTo>
                  <a:lnTo>
                    <a:pt x="1246" y="269"/>
                  </a:lnTo>
                  <a:lnTo>
                    <a:pt x="2290" y="202"/>
                  </a:lnTo>
                  <a:close/>
                  <a:moveTo>
                    <a:pt x="1751" y="0"/>
                  </a:moveTo>
                  <a:lnTo>
                    <a:pt x="1212" y="34"/>
                  </a:lnTo>
                  <a:lnTo>
                    <a:pt x="674" y="34"/>
                  </a:lnTo>
                  <a:lnTo>
                    <a:pt x="135" y="67"/>
                  </a:lnTo>
                  <a:lnTo>
                    <a:pt x="101" y="101"/>
                  </a:lnTo>
                  <a:lnTo>
                    <a:pt x="68" y="135"/>
                  </a:lnTo>
                  <a:lnTo>
                    <a:pt x="34" y="168"/>
                  </a:lnTo>
                  <a:lnTo>
                    <a:pt x="34" y="202"/>
                  </a:lnTo>
                  <a:lnTo>
                    <a:pt x="0" y="808"/>
                  </a:lnTo>
                  <a:lnTo>
                    <a:pt x="0" y="1414"/>
                  </a:lnTo>
                  <a:lnTo>
                    <a:pt x="68" y="2020"/>
                  </a:lnTo>
                  <a:lnTo>
                    <a:pt x="169" y="2626"/>
                  </a:lnTo>
                  <a:lnTo>
                    <a:pt x="236" y="2660"/>
                  </a:lnTo>
                  <a:lnTo>
                    <a:pt x="303" y="2694"/>
                  </a:lnTo>
                  <a:lnTo>
                    <a:pt x="371" y="2660"/>
                  </a:lnTo>
                  <a:lnTo>
                    <a:pt x="404" y="2559"/>
                  </a:lnTo>
                  <a:lnTo>
                    <a:pt x="371" y="2492"/>
                  </a:lnTo>
                  <a:lnTo>
                    <a:pt x="842" y="2559"/>
                  </a:lnTo>
                  <a:lnTo>
                    <a:pt x="1347" y="2593"/>
                  </a:lnTo>
                  <a:lnTo>
                    <a:pt x="1818" y="2593"/>
                  </a:lnTo>
                  <a:lnTo>
                    <a:pt x="2054" y="2559"/>
                  </a:lnTo>
                  <a:lnTo>
                    <a:pt x="2290" y="2492"/>
                  </a:lnTo>
                  <a:lnTo>
                    <a:pt x="2323" y="2458"/>
                  </a:lnTo>
                  <a:lnTo>
                    <a:pt x="2323" y="2391"/>
                  </a:lnTo>
                  <a:lnTo>
                    <a:pt x="2424" y="2391"/>
                  </a:lnTo>
                  <a:lnTo>
                    <a:pt x="2458" y="2357"/>
                  </a:lnTo>
                  <a:lnTo>
                    <a:pt x="2458" y="2290"/>
                  </a:lnTo>
                  <a:lnTo>
                    <a:pt x="2492" y="1784"/>
                  </a:lnTo>
                  <a:lnTo>
                    <a:pt x="2458" y="1246"/>
                  </a:lnTo>
                  <a:lnTo>
                    <a:pt x="2424" y="707"/>
                  </a:lnTo>
                  <a:lnTo>
                    <a:pt x="2357" y="168"/>
                  </a:lnTo>
                  <a:lnTo>
                    <a:pt x="2391" y="101"/>
                  </a:lnTo>
                  <a:lnTo>
                    <a:pt x="2391" y="67"/>
                  </a:lnTo>
                  <a:lnTo>
                    <a:pt x="235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0840" bIns="608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hape 942"/>
            <p:cNvSpPr/>
            <p:nvPr/>
          </p:nvSpPr>
          <p:spPr>
            <a:xfrm>
              <a:off x="2112840" y="331560"/>
              <a:ext cx="18720" cy="153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70" h="2324">
                  <a:moveTo>
                    <a:pt x="67" y="1"/>
                  </a:moveTo>
                  <a:lnTo>
                    <a:pt x="34" y="34"/>
                  </a:lnTo>
                  <a:lnTo>
                    <a:pt x="34" y="304"/>
                  </a:lnTo>
                  <a:lnTo>
                    <a:pt x="34" y="539"/>
                  </a:lnTo>
                  <a:lnTo>
                    <a:pt x="34" y="1078"/>
                  </a:lnTo>
                  <a:lnTo>
                    <a:pt x="0" y="1684"/>
                  </a:lnTo>
                  <a:lnTo>
                    <a:pt x="0" y="1987"/>
                  </a:lnTo>
                  <a:lnTo>
                    <a:pt x="34" y="2256"/>
                  </a:lnTo>
                  <a:lnTo>
                    <a:pt x="67" y="2324"/>
                  </a:lnTo>
                  <a:lnTo>
                    <a:pt x="168" y="2324"/>
                  </a:lnTo>
                  <a:lnTo>
                    <a:pt x="202" y="2290"/>
                  </a:lnTo>
                  <a:lnTo>
                    <a:pt x="236" y="1987"/>
                  </a:lnTo>
                  <a:lnTo>
                    <a:pt x="269" y="1684"/>
                  </a:lnTo>
                  <a:lnTo>
                    <a:pt x="236" y="1078"/>
                  </a:lnTo>
                  <a:lnTo>
                    <a:pt x="236" y="539"/>
                  </a:lnTo>
                  <a:lnTo>
                    <a:pt x="202" y="270"/>
                  </a:lnTo>
                  <a:lnTo>
                    <a:pt x="135" y="34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hape 943"/>
            <p:cNvSpPr/>
            <p:nvPr/>
          </p:nvSpPr>
          <p:spPr>
            <a:xfrm>
              <a:off x="717480" y="433080"/>
              <a:ext cx="48960" cy="69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41" h="1045">
                  <a:moveTo>
                    <a:pt x="438" y="270"/>
                  </a:moveTo>
                  <a:lnTo>
                    <a:pt x="539" y="303"/>
                  </a:lnTo>
                  <a:lnTo>
                    <a:pt x="573" y="371"/>
                  </a:lnTo>
                  <a:lnTo>
                    <a:pt x="606" y="438"/>
                  </a:lnTo>
                  <a:lnTo>
                    <a:pt x="606" y="606"/>
                  </a:lnTo>
                  <a:lnTo>
                    <a:pt x="539" y="674"/>
                  </a:lnTo>
                  <a:lnTo>
                    <a:pt x="505" y="741"/>
                  </a:lnTo>
                  <a:lnTo>
                    <a:pt x="337" y="842"/>
                  </a:lnTo>
                  <a:lnTo>
                    <a:pt x="303" y="842"/>
                  </a:lnTo>
                  <a:lnTo>
                    <a:pt x="270" y="472"/>
                  </a:lnTo>
                  <a:lnTo>
                    <a:pt x="303" y="270"/>
                  </a:lnTo>
                  <a:lnTo>
                    <a:pt x="337" y="303"/>
                  </a:lnTo>
                  <a:lnTo>
                    <a:pt x="438" y="270"/>
                  </a:lnTo>
                  <a:close/>
                  <a:moveTo>
                    <a:pt x="270" y="0"/>
                  </a:moveTo>
                  <a:lnTo>
                    <a:pt x="270" y="34"/>
                  </a:lnTo>
                  <a:lnTo>
                    <a:pt x="202" y="101"/>
                  </a:lnTo>
                  <a:lnTo>
                    <a:pt x="135" y="202"/>
                  </a:lnTo>
                  <a:lnTo>
                    <a:pt x="101" y="404"/>
                  </a:lnTo>
                  <a:lnTo>
                    <a:pt x="101" y="640"/>
                  </a:lnTo>
                  <a:lnTo>
                    <a:pt x="135" y="876"/>
                  </a:lnTo>
                  <a:lnTo>
                    <a:pt x="34" y="876"/>
                  </a:lnTo>
                  <a:lnTo>
                    <a:pt x="0" y="909"/>
                  </a:lnTo>
                  <a:lnTo>
                    <a:pt x="0" y="943"/>
                  </a:lnTo>
                  <a:lnTo>
                    <a:pt x="0" y="1010"/>
                  </a:lnTo>
                  <a:lnTo>
                    <a:pt x="34" y="1010"/>
                  </a:lnTo>
                  <a:lnTo>
                    <a:pt x="135" y="1044"/>
                  </a:lnTo>
                  <a:lnTo>
                    <a:pt x="236" y="1044"/>
                  </a:lnTo>
                  <a:lnTo>
                    <a:pt x="337" y="1010"/>
                  </a:lnTo>
                  <a:lnTo>
                    <a:pt x="438" y="977"/>
                  </a:lnTo>
                  <a:lnTo>
                    <a:pt x="606" y="808"/>
                  </a:lnTo>
                  <a:lnTo>
                    <a:pt x="741" y="640"/>
                  </a:lnTo>
                  <a:lnTo>
                    <a:pt x="741" y="539"/>
                  </a:lnTo>
                  <a:lnTo>
                    <a:pt x="741" y="438"/>
                  </a:lnTo>
                  <a:lnTo>
                    <a:pt x="707" y="337"/>
                  </a:lnTo>
                  <a:lnTo>
                    <a:pt x="674" y="236"/>
                  </a:lnTo>
                  <a:lnTo>
                    <a:pt x="606" y="169"/>
                  </a:lnTo>
                  <a:lnTo>
                    <a:pt x="303" y="169"/>
                  </a:lnTo>
                  <a:lnTo>
                    <a:pt x="303" y="3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hape 944"/>
            <p:cNvSpPr/>
            <p:nvPr/>
          </p:nvSpPr>
          <p:spPr>
            <a:xfrm>
              <a:off x="345960" y="755640"/>
              <a:ext cx="168120" cy="183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526" h="2762">
                  <a:moveTo>
                    <a:pt x="2256" y="236"/>
                  </a:moveTo>
                  <a:lnTo>
                    <a:pt x="2256" y="640"/>
                  </a:lnTo>
                  <a:lnTo>
                    <a:pt x="2290" y="1078"/>
                  </a:lnTo>
                  <a:lnTo>
                    <a:pt x="2290" y="1785"/>
                  </a:lnTo>
                  <a:lnTo>
                    <a:pt x="2323" y="2492"/>
                  </a:lnTo>
                  <a:lnTo>
                    <a:pt x="1448" y="2492"/>
                  </a:lnTo>
                  <a:lnTo>
                    <a:pt x="909" y="2526"/>
                  </a:lnTo>
                  <a:lnTo>
                    <a:pt x="640" y="2559"/>
                  </a:lnTo>
                  <a:lnTo>
                    <a:pt x="371" y="2593"/>
                  </a:lnTo>
                  <a:lnTo>
                    <a:pt x="337" y="1886"/>
                  </a:lnTo>
                  <a:lnTo>
                    <a:pt x="236" y="1145"/>
                  </a:lnTo>
                  <a:lnTo>
                    <a:pt x="202" y="708"/>
                  </a:lnTo>
                  <a:lnTo>
                    <a:pt x="135" y="270"/>
                  </a:lnTo>
                  <a:lnTo>
                    <a:pt x="1179" y="270"/>
                  </a:lnTo>
                  <a:lnTo>
                    <a:pt x="2256" y="236"/>
                  </a:lnTo>
                  <a:close/>
                  <a:moveTo>
                    <a:pt x="2222" y="1"/>
                  </a:moveTo>
                  <a:lnTo>
                    <a:pt x="1179" y="34"/>
                  </a:lnTo>
                  <a:lnTo>
                    <a:pt x="640" y="34"/>
                  </a:lnTo>
                  <a:lnTo>
                    <a:pt x="135" y="68"/>
                  </a:lnTo>
                  <a:lnTo>
                    <a:pt x="68" y="135"/>
                  </a:lnTo>
                  <a:lnTo>
                    <a:pt x="34" y="203"/>
                  </a:lnTo>
                  <a:lnTo>
                    <a:pt x="0" y="438"/>
                  </a:lnTo>
                  <a:lnTo>
                    <a:pt x="0" y="674"/>
                  </a:lnTo>
                  <a:lnTo>
                    <a:pt x="34" y="1145"/>
                  </a:lnTo>
                  <a:lnTo>
                    <a:pt x="101" y="1920"/>
                  </a:lnTo>
                  <a:lnTo>
                    <a:pt x="135" y="2357"/>
                  </a:lnTo>
                  <a:lnTo>
                    <a:pt x="236" y="2694"/>
                  </a:lnTo>
                  <a:lnTo>
                    <a:pt x="236" y="2728"/>
                  </a:lnTo>
                  <a:lnTo>
                    <a:pt x="270" y="2761"/>
                  </a:lnTo>
                  <a:lnTo>
                    <a:pt x="337" y="2728"/>
                  </a:lnTo>
                  <a:lnTo>
                    <a:pt x="371" y="2728"/>
                  </a:lnTo>
                  <a:lnTo>
                    <a:pt x="606" y="2761"/>
                  </a:lnTo>
                  <a:lnTo>
                    <a:pt x="842" y="2761"/>
                  </a:lnTo>
                  <a:lnTo>
                    <a:pt x="1313" y="2728"/>
                  </a:lnTo>
                  <a:lnTo>
                    <a:pt x="2088" y="2728"/>
                  </a:lnTo>
                  <a:lnTo>
                    <a:pt x="2357" y="2694"/>
                  </a:lnTo>
                  <a:lnTo>
                    <a:pt x="2492" y="2694"/>
                  </a:lnTo>
                  <a:lnTo>
                    <a:pt x="2492" y="2660"/>
                  </a:lnTo>
                  <a:lnTo>
                    <a:pt x="2525" y="2324"/>
                  </a:lnTo>
                  <a:lnTo>
                    <a:pt x="2525" y="1953"/>
                  </a:lnTo>
                  <a:lnTo>
                    <a:pt x="2492" y="1246"/>
                  </a:lnTo>
                  <a:lnTo>
                    <a:pt x="2458" y="640"/>
                  </a:lnTo>
                  <a:lnTo>
                    <a:pt x="2424" y="337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6960" bIns="66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hape 945"/>
            <p:cNvSpPr/>
            <p:nvPr/>
          </p:nvSpPr>
          <p:spPr>
            <a:xfrm>
              <a:off x="660240" y="377640"/>
              <a:ext cx="164880" cy="1746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493" h="2627">
                  <a:moveTo>
                    <a:pt x="2223" y="135"/>
                  </a:moveTo>
                  <a:lnTo>
                    <a:pt x="2257" y="1213"/>
                  </a:lnTo>
                  <a:lnTo>
                    <a:pt x="2223" y="2290"/>
                  </a:lnTo>
                  <a:lnTo>
                    <a:pt x="1752" y="2324"/>
                  </a:lnTo>
                  <a:lnTo>
                    <a:pt x="1247" y="2357"/>
                  </a:lnTo>
                  <a:lnTo>
                    <a:pt x="775" y="2357"/>
                  </a:lnTo>
                  <a:lnTo>
                    <a:pt x="539" y="2391"/>
                  </a:lnTo>
                  <a:lnTo>
                    <a:pt x="337" y="2425"/>
                  </a:lnTo>
                  <a:lnTo>
                    <a:pt x="304" y="2425"/>
                  </a:lnTo>
                  <a:lnTo>
                    <a:pt x="304" y="2391"/>
                  </a:lnTo>
                  <a:lnTo>
                    <a:pt x="337" y="1886"/>
                  </a:lnTo>
                  <a:lnTo>
                    <a:pt x="304" y="1347"/>
                  </a:lnTo>
                  <a:lnTo>
                    <a:pt x="236" y="809"/>
                  </a:lnTo>
                  <a:lnTo>
                    <a:pt x="135" y="270"/>
                  </a:lnTo>
                  <a:lnTo>
                    <a:pt x="1213" y="270"/>
                  </a:lnTo>
                  <a:lnTo>
                    <a:pt x="1718" y="236"/>
                  </a:lnTo>
                  <a:lnTo>
                    <a:pt x="2223" y="135"/>
                  </a:lnTo>
                  <a:close/>
                  <a:moveTo>
                    <a:pt x="1718" y="1"/>
                  </a:moveTo>
                  <a:lnTo>
                    <a:pt x="1179" y="34"/>
                  </a:lnTo>
                  <a:lnTo>
                    <a:pt x="640" y="68"/>
                  </a:lnTo>
                  <a:lnTo>
                    <a:pt x="102" y="68"/>
                  </a:lnTo>
                  <a:lnTo>
                    <a:pt x="34" y="102"/>
                  </a:lnTo>
                  <a:lnTo>
                    <a:pt x="1" y="135"/>
                  </a:lnTo>
                  <a:lnTo>
                    <a:pt x="1" y="203"/>
                  </a:lnTo>
                  <a:lnTo>
                    <a:pt x="34" y="270"/>
                  </a:lnTo>
                  <a:lnTo>
                    <a:pt x="34" y="775"/>
                  </a:lnTo>
                  <a:lnTo>
                    <a:pt x="34" y="1347"/>
                  </a:lnTo>
                  <a:lnTo>
                    <a:pt x="68" y="1886"/>
                  </a:lnTo>
                  <a:lnTo>
                    <a:pt x="135" y="2391"/>
                  </a:lnTo>
                  <a:lnTo>
                    <a:pt x="169" y="2458"/>
                  </a:lnTo>
                  <a:lnTo>
                    <a:pt x="203" y="2458"/>
                  </a:lnTo>
                  <a:lnTo>
                    <a:pt x="236" y="2492"/>
                  </a:lnTo>
                  <a:lnTo>
                    <a:pt x="270" y="2458"/>
                  </a:lnTo>
                  <a:lnTo>
                    <a:pt x="270" y="2526"/>
                  </a:lnTo>
                  <a:lnTo>
                    <a:pt x="337" y="2559"/>
                  </a:lnTo>
                  <a:lnTo>
                    <a:pt x="539" y="2593"/>
                  </a:lnTo>
                  <a:lnTo>
                    <a:pt x="775" y="2627"/>
                  </a:lnTo>
                  <a:lnTo>
                    <a:pt x="1280" y="2593"/>
                  </a:lnTo>
                  <a:lnTo>
                    <a:pt x="1752" y="2526"/>
                  </a:lnTo>
                  <a:lnTo>
                    <a:pt x="2223" y="2425"/>
                  </a:lnTo>
                  <a:lnTo>
                    <a:pt x="2223" y="2492"/>
                  </a:lnTo>
                  <a:lnTo>
                    <a:pt x="2257" y="2559"/>
                  </a:lnTo>
                  <a:lnTo>
                    <a:pt x="2324" y="2593"/>
                  </a:lnTo>
                  <a:lnTo>
                    <a:pt x="2391" y="2593"/>
                  </a:lnTo>
                  <a:lnTo>
                    <a:pt x="2425" y="2526"/>
                  </a:lnTo>
                  <a:lnTo>
                    <a:pt x="2492" y="1920"/>
                  </a:lnTo>
                  <a:lnTo>
                    <a:pt x="2492" y="1314"/>
                  </a:lnTo>
                  <a:lnTo>
                    <a:pt x="2492" y="708"/>
                  </a:lnTo>
                  <a:lnTo>
                    <a:pt x="2391" y="102"/>
                  </a:lnTo>
                  <a:lnTo>
                    <a:pt x="2391" y="68"/>
                  </a:lnTo>
                  <a:lnTo>
                    <a:pt x="2324" y="68"/>
                  </a:lnTo>
                  <a:lnTo>
                    <a:pt x="23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hape 946"/>
            <p:cNvSpPr/>
            <p:nvPr/>
          </p:nvSpPr>
          <p:spPr>
            <a:xfrm>
              <a:off x="766440" y="56484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24">
                  <a:moveTo>
                    <a:pt x="68" y="1"/>
                  </a:moveTo>
                  <a:lnTo>
                    <a:pt x="35" y="34"/>
                  </a:lnTo>
                  <a:lnTo>
                    <a:pt x="1" y="304"/>
                  </a:lnTo>
                  <a:lnTo>
                    <a:pt x="1" y="573"/>
                  </a:lnTo>
                  <a:lnTo>
                    <a:pt x="35" y="1078"/>
                  </a:lnTo>
                  <a:lnTo>
                    <a:pt x="68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4"/>
                  </a:lnTo>
                  <a:lnTo>
                    <a:pt x="304" y="2324"/>
                  </a:lnTo>
                  <a:lnTo>
                    <a:pt x="304" y="2257"/>
                  </a:lnTo>
                  <a:lnTo>
                    <a:pt x="338" y="1987"/>
                  </a:lnTo>
                  <a:lnTo>
                    <a:pt x="304" y="1684"/>
                  </a:lnTo>
                  <a:lnTo>
                    <a:pt x="237" y="1078"/>
                  </a:lnTo>
                  <a:lnTo>
                    <a:pt x="203" y="539"/>
                  </a:lnTo>
                  <a:lnTo>
                    <a:pt x="169" y="304"/>
                  </a:lnTo>
                  <a:lnTo>
                    <a:pt x="136" y="34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hape 947"/>
            <p:cNvSpPr/>
            <p:nvPr/>
          </p:nvSpPr>
          <p:spPr>
            <a:xfrm>
              <a:off x="455400" y="625320"/>
              <a:ext cx="48960" cy="586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41" h="877">
                  <a:moveTo>
                    <a:pt x="101" y="1"/>
                  </a:moveTo>
                  <a:lnTo>
                    <a:pt x="34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34" y="169"/>
                  </a:lnTo>
                  <a:lnTo>
                    <a:pt x="135" y="203"/>
                  </a:lnTo>
                  <a:lnTo>
                    <a:pt x="337" y="270"/>
                  </a:lnTo>
                  <a:lnTo>
                    <a:pt x="168" y="472"/>
                  </a:lnTo>
                  <a:lnTo>
                    <a:pt x="34" y="708"/>
                  </a:lnTo>
                  <a:lnTo>
                    <a:pt x="0" y="775"/>
                  </a:lnTo>
                  <a:lnTo>
                    <a:pt x="34" y="842"/>
                  </a:lnTo>
                  <a:lnTo>
                    <a:pt x="101" y="876"/>
                  </a:lnTo>
                  <a:lnTo>
                    <a:pt x="168" y="876"/>
                  </a:lnTo>
                  <a:lnTo>
                    <a:pt x="505" y="775"/>
                  </a:lnTo>
                  <a:lnTo>
                    <a:pt x="673" y="741"/>
                  </a:lnTo>
                  <a:lnTo>
                    <a:pt x="707" y="708"/>
                  </a:lnTo>
                  <a:lnTo>
                    <a:pt x="741" y="640"/>
                  </a:lnTo>
                  <a:lnTo>
                    <a:pt x="741" y="573"/>
                  </a:lnTo>
                  <a:lnTo>
                    <a:pt x="673" y="539"/>
                  </a:lnTo>
                  <a:lnTo>
                    <a:pt x="640" y="539"/>
                  </a:lnTo>
                  <a:lnTo>
                    <a:pt x="505" y="573"/>
                  </a:lnTo>
                  <a:lnTo>
                    <a:pt x="370" y="607"/>
                  </a:lnTo>
                  <a:lnTo>
                    <a:pt x="640" y="236"/>
                  </a:lnTo>
                  <a:lnTo>
                    <a:pt x="673" y="169"/>
                  </a:lnTo>
                  <a:lnTo>
                    <a:pt x="640" y="135"/>
                  </a:lnTo>
                  <a:lnTo>
                    <a:pt x="606" y="102"/>
                  </a:lnTo>
                  <a:lnTo>
                    <a:pt x="539" y="68"/>
                  </a:lnTo>
                  <a:lnTo>
                    <a:pt x="236" y="34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hape 948"/>
            <p:cNvSpPr/>
            <p:nvPr/>
          </p:nvSpPr>
          <p:spPr>
            <a:xfrm>
              <a:off x="392040" y="572760"/>
              <a:ext cx="166680" cy="158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2">
                  <a:moveTo>
                    <a:pt x="2256" y="236"/>
                  </a:moveTo>
                  <a:lnTo>
                    <a:pt x="2256" y="674"/>
                  </a:lnTo>
                  <a:lnTo>
                    <a:pt x="2290" y="1112"/>
                  </a:lnTo>
                  <a:lnTo>
                    <a:pt x="2290" y="1617"/>
                  </a:lnTo>
                  <a:lnTo>
                    <a:pt x="2324" y="2122"/>
                  </a:lnTo>
                  <a:lnTo>
                    <a:pt x="1448" y="2122"/>
                  </a:lnTo>
                  <a:lnTo>
                    <a:pt x="910" y="2156"/>
                  </a:lnTo>
                  <a:lnTo>
                    <a:pt x="640" y="2156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8"/>
                  </a:lnTo>
                  <a:lnTo>
                    <a:pt x="169" y="270"/>
                  </a:lnTo>
                  <a:lnTo>
                    <a:pt x="674" y="304"/>
                  </a:lnTo>
                  <a:lnTo>
                    <a:pt x="1213" y="270"/>
                  </a:lnTo>
                  <a:lnTo>
                    <a:pt x="2256" y="236"/>
                  </a:lnTo>
                  <a:close/>
                  <a:moveTo>
                    <a:pt x="2256" y="1"/>
                  </a:moveTo>
                  <a:lnTo>
                    <a:pt x="1179" y="34"/>
                  </a:lnTo>
                  <a:lnTo>
                    <a:pt x="674" y="68"/>
                  </a:lnTo>
                  <a:lnTo>
                    <a:pt x="135" y="102"/>
                  </a:lnTo>
                  <a:lnTo>
                    <a:pt x="68" y="135"/>
                  </a:lnTo>
                  <a:lnTo>
                    <a:pt x="34" y="203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79"/>
                  </a:lnTo>
                  <a:lnTo>
                    <a:pt x="102" y="1751"/>
                  </a:lnTo>
                  <a:lnTo>
                    <a:pt x="135" y="2055"/>
                  </a:lnTo>
                  <a:lnTo>
                    <a:pt x="203" y="2324"/>
                  </a:lnTo>
                  <a:lnTo>
                    <a:pt x="236" y="2358"/>
                  </a:lnTo>
                  <a:lnTo>
                    <a:pt x="371" y="2358"/>
                  </a:lnTo>
                  <a:lnTo>
                    <a:pt x="573" y="2391"/>
                  </a:lnTo>
                  <a:lnTo>
                    <a:pt x="842" y="2391"/>
                  </a:lnTo>
                  <a:lnTo>
                    <a:pt x="1314" y="2358"/>
                  </a:lnTo>
                  <a:lnTo>
                    <a:pt x="2088" y="2358"/>
                  </a:lnTo>
                  <a:lnTo>
                    <a:pt x="2357" y="2324"/>
                  </a:lnTo>
                  <a:lnTo>
                    <a:pt x="2458" y="2324"/>
                  </a:lnTo>
                  <a:lnTo>
                    <a:pt x="2492" y="2290"/>
                  </a:lnTo>
                  <a:lnTo>
                    <a:pt x="2526" y="2021"/>
                  </a:lnTo>
                  <a:lnTo>
                    <a:pt x="2526" y="1785"/>
                  </a:lnTo>
                  <a:lnTo>
                    <a:pt x="2492" y="1246"/>
                  </a:lnTo>
                  <a:lnTo>
                    <a:pt x="2458" y="674"/>
                  </a:lnTo>
                  <a:lnTo>
                    <a:pt x="2425" y="371"/>
                  </a:lnTo>
                  <a:lnTo>
                    <a:pt x="2357" y="68"/>
                  </a:lnTo>
                  <a:lnTo>
                    <a:pt x="2324" y="34"/>
                  </a:lnTo>
                  <a:lnTo>
                    <a:pt x="2290" y="34"/>
                  </a:lnTo>
                  <a:lnTo>
                    <a:pt x="225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hape 949"/>
            <p:cNvSpPr/>
            <p:nvPr/>
          </p:nvSpPr>
          <p:spPr>
            <a:xfrm>
              <a:off x="1511280" y="525240"/>
              <a:ext cx="172800" cy="161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3" h="2425">
                  <a:moveTo>
                    <a:pt x="2391" y="1"/>
                  </a:moveTo>
                  <a:lnTo>
                    <a:pt x="2357" y="34"/>
                  </a:lnTo>
                  <a:lnTo>
                    <a:pt x="2323" y="135"/>
                  </a:lnTo>
                  <a:lnTo>
                    <a:pt x="1751" y="102"/>
                  </a:lnTo>
                  <a:lnTo>
                    <a:pt x="1179" y="68"/>
                  </a:lnTo>
                  <a:lnTo>
                    <a:pt x="674" y="34"/>
                  </a:lnTo>
                  <a:lnTo>
                    <a:pt x="404" y="68"/>
                  </a:lnTo>
                  <a:lnTo>
                    <a:pt x="303" y="135"/>
                  </a:lnTo>
                  <a:lnTo>
                    <a:pt x="202" y="169"/>
                  </a:lnTo>
                  <a:lnTo>
                    <a:pt x="202" y="203"/>
                  </a:lnTo>
                  <a:lnTo>
                    <a:pt x="371" y="270"/>
                  </a:lnTo>
                  <a:lnTo>
                    <a:pt x="573" y="304"/>
                  </a:lnTo>
                  <a:lnTo>
                    <a:pt x="1684" y="304"/>
                  </a:lnTo>
                  <a:lnTo>
                    <a:pt x="2323" y="337"/>
                  </a:lnTo>
                  <a:lnTo>
                    <a:pt x="2323" y="708"/>
                  </a:lnTo>
                  <a:lnTo>
                    <a:pt x="2323" y="1078"/>
                  </a:lnTo>
                  <a:lnTo>
                    <a:pt x="2323" y="1583"/>
                  </a:lnTo>
                  <a:lnTo>
                    <a:pt x="2357" y="1852"/>
                  </a:lnTo>
                  <a:lnTo>
                    <a:pt x="2387" y="2088"/>
                  </a:lnTo>
                  <a:lnTo>
                    <a:pt x="1347" y="2122"/>
                  </a:lnTo>
                  <a:lnTo>
                    <a:pt x="808" y="2155"/>
                  </a:lnTo>
                  <a:lnTo>
                    <a:pt x="539" y="2189"/>
                  </a:lnTo>
                  <a:lnTo>
                    <a:pt x="303" y="2256"/>
                  </a:lnTo>
                  <a:lnTo>
                    <a:pt x="270" y="1751"/>
                  </a:lnTo>
                  <a:lnTo>
                    <a:pt x="236" y="1246"/>
                  </a:lnTo>
                  <a:lnTo>
                    <a:pt x="270" y="708"/>
                  </a:lnTo>
                  <a:lnTo>
                    <a:pt x="236" y="438"/>
                  </a:lnTo>
                  <a:lnTo>
                    <a:pt x="202" y="304"/>
                  </a:lnTo>
                  <a:lnTo>
                    <a:pt x="169" y="203"/>
                  </a:lnTo>
                  <a:lnTo>
                    <a:pt x="68" y="337"/>
                  </a:lnTo>
                  <a:lnTo>
                    <a:pt x="34" y="506"/>
                  </a:lnTo>
                  <a:lnTo>
                    <a:pt x="0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88"/>
                  </a:lnTo>
                  <a:lnTo>
                    <a:pt x="68" y="2189"/>
                  </a:lnTo>
                  <a:lnTo>
                    <a:pt x="101" y="2290"/>
                  </a:lnTo>
                  <a:lnTo>
                    <a:pt x="169" y="2391"/>
                  </a:lnTo>
                  <a:lnTo>
                    <a:pt x="270" y="2425"/>
                  </a:lnTo>
                  <a:lnTo>
                    <a:pt x="303" y="2425"/>
                  </a:lnTo>
                  <a:lnTo>
                    <a:pt x="337" y="2391"/>
                  </a:lnTo>
                  <a:lnTo>
                    <a:pt x="337" y="2357"/>
                  </a:lnTo>
                  <a:lnTo>
                    <a:pt x="573" y="2391"/>
                  </a:lnTo>
                  <a:lnTo>
                    <a:pt x="842" y="2425"/>
                  </a:lnTo>
                  <a:lnTo>
                    <a:pt x="1347" y="2391"/>
                  </a:lnTo>
                  <a:lnTo>
                    <a:pt x="2391" y="2324"/>
                  </a:lnTo>
                  <a:lnTo>
                    <a:pt x="2458" y="2290"/>
                  </a:lnTo>
                  <a:lnTo>
                    <a:pt x="2492" y="2324"/>
                  </a:lnTo>
                  <a:lnTo>
                    <a:pt x="2525" y="2324"/>
                  </a:lnTo>
                  <a:lnTo>
                    <a:pt x="2559" y="2290"/>
                  </a:lnTo>
                  <a:lnTo>
                    <a:pt x="2593" y="2021"/>
                  </a:lnTo>
                  <a:lnTo>
                    <a:pt x="2559" y="1785"/>
                  </a:lnTo>
                  <a:lnTo>
                    <a:pt x="2525" y="1246"/>
                  </a:lnTo>
                  <a:lnTo>
                    <a:pt x="2525" y="640"/>
                  </a:lnTo>
                  <a:lnTo>
                    <a:pt x="2492" y="337"/>
                  </a:lnTo>
                  <a:lnTo>
                    <a:pt x="2458" y="34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hape 950"/>
            <p:cNvSpPr/>
            <p:nvPr/>
          </p:nvSpPr>
          <p:spPr>
            <a:xfrm>
              <a:off x="8372520" y="2843280"/>
              <a:ext cx="787320" cy="11998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1852" h="18081">
                  <a:moveTo>
                    <a:pt x="8721" y="1"/>
                  </a:moveTo>
                  <a:lnTo>
                    <a:pt x="6431" y="506"/>
                  </a:lnTo>
                  <a:lnTo>
                    <a:pt x="4142" y="1045"/>
                  </a:lnTo>
                  <a:lnTo>
                    <a:pt x="1886" y="1651"/>
                  </a:lnTo>
                  <a:lnTo>
                    <a:pt x="977" y="1886"/>
                  </a:lnTo>
                  <a:lnTo>
                    <a:pt x="742" y="1954"/>
                  </a:lnTo>
                  <a:lnTo>
                    <a:pt x="540" y="2055"/>
                  </a:lnTo>
                  <a:lnTo>
                    <a:pt x="338" y="2156"/>
                  </a:lnTo>
                  <a:lnTo>
                    <a:pt x="169" y="2290"/>
                  </a:lnTo>
                  <a:lnTo>
                    <a:pt x="169" y="2324"/>
                  </a:lnTo>
                  <a:lnTo>
                    <a:pt x="136" y="2257"/>
                  </a:lnTo>
                  <a:lnTo>
                    <a:pt x="68" y="2223"/>
                  </a:lnTo>
                  <a:lnTo>
                    <a:pt x="1" y="2223"/>
                  </a:lnTo>
                  <a:lnTo>
                    <a:pt x="1" y="2290"/>
                  </a:lnTo>
                  <a:lnTo>
                    <a:pt x="35" y="2762"/>
                  </a:lnTo>
                  <a:lnTo>
                    <a:pt x="136" y="3233"/>
                  </a:lnTo>
                  <a:lnTo>
                    <a:pt x="371" y="4176"/>
                  </a:lnTo>
                  <a:lnTo>
                    <a:pt x="641" y="5118"/>
                  </a:lnTo>
                  <a:lnTo>
                    <a:pt x="876" y="6061"/>
                  </a:lnTo>
                  <a:lnTo>
                    <a:pt x="1785" y="10068"/>
                  </a:lnTo>
                  <a:lnTo>
                    <a:pt x="2223" y="12054"/>
                  </a:lnTo>
                  <a:lnTo>
                    <a:pt x="2728" y="14040"/>
                  </a:lnTo>
                  <a:lnTo>
                    <a:pt x="3267" y="16027"/>
                  </a:lnTo>
                  <a:lnTo>
                    <a:pt x="3536" y="17037"/>
                  </a:lnTo>
                  <a:lnTo>
                    <a:pt x="3873" y="17980"/>
                  </a:lnTo>
                  <a:lnTo>
                    <a:pt x="3940" y="18081"/>
                  </a:lnTo>
                  <a:lnTo>
                    <a:pt x="4007" y="18081"/>
                  </a:lnTo>
                  <a:lnTo>
                    <a:pt x="4075" y="18047"/>
                  </a:lnTo>
                  <a:lnTo>
                    <a:pt x="4142" y="17980"/>
                  </a:lnTo>
                  <a:lnTo>
                    <a:pt x="4681" y="17879"/>
                  </a:lnTo>
                  <a:lnTo>
                    <a:pt x="5253" y="17710"/>
                  </a:lnTo>
                  <a:lnTo>
                    <a:pt x="6330" y="17374"/>
                  </a:lnTo>
                  <a:lnTo>
                    <a:pt x="7576" y="17003"/>
                  </a:lnTo>
                  <a:lnTo>
                    <a:pt x="8856" y="16667"/>
                  </a:lnTo>
                  <a:lnTo>
                    <a:pt x="10337" y="16296"/>
                  </a:lnTo>
                  <a:lnTo>
                    <a:pt x="11111" y="16128"/>
                  </a:lnTo>
                  <a:lnTo>
                    <a:pt x="11852" y="15892"/>
                  </a:lnTo>
                  <a:lnTo>
                    <a:pt x="11852" y="15656"/>
                  </a:lnTo>
                  <a:lnTo>
                    <a:pt x="11044" y="15892"/>
                  </a:lnTo>
                  <a:lnTo>
                    <a:pt x="10202" y="16094"/>
                  </a:lnTo>
                  <a:lnTo>
                    <a:pt x="8519" y="16532"/>
                  </a:lnTo>
                  <a:lnTo>
                    <a:pt x="6263" y="17172"/>
                  </a:lnTo>
                  <a:lnTo>
                    <a:pt x="5152" y="17475"/>
                  </a:lnTo>
                  <a:lnTo>
                    <a:pt x="4613" y="17643"/>
                  </a:lnTo>
                  <a:lnTo>
                    <a:pt x="4108" y="17879"/>
                  </a:lnTo>
                  <a:lnTo>
                    <a:pt x="3536" y="15926"/>
                  </a:lnTo>
                  <a:lnTo>
                    <a:pt x="2997" y="13939"/>
                  </a:lnTo>
                  <a:lnTo>
                    <a:pt x="2526" y="11987"/>
                  </a:lnTo>
                  <a:lnTo>
                    <a:pt x="2055" y="9967"/>
                  </a:lnTo>
                  <a:lnTo>
                    <a:pt x="1146" y="5960"/>
                  </a:lnTo>
                  <a:lnTo>
                    <a:pt x="742" y="4108"/>
                  </a:lnTo>
                  <a:lnTo>
                    <a:pt x="506" y="3199"/>
                  </a:lnTo>
                  <a:lnTo>
                    <a:pt x="338" y="2762"/>
                  </a:lnTo>
                  <a:lnTo>
                    <a:pt x="182" y="2358"/>
                  </a:lnTo>
                  <a:lnTo>
                    <a:pt x="405" y="2358"/>
                  </a:lnTo>
                  <a:lnTo>
                    <a:pt x="641" y="2324"/>
                  </a:lnTo>
                  <a:lnTo>
                    <a:pt x="1078" y="2223"/>
                  </a:lnTo>
                  <a:lnTo>
                    <a:pt x="1954" y="1920"/>
                  </a:lnTo>
                  <a:lnTo>
                    <a:pt x="4209" y="1314"/>
                  </a:lnTo>
                  <a:lnTo>
                    <a:pt x="6465" y="775"/>
                  </a:lnTo>
                  <a:lnTo>
                    <a:pt x="8755" y="304"/>
                  </a:lnTo>
                  <a:lnTo>
                    <a:pt x="8889" y="977"/>
                  </a:lnTo>
                  <a:lnTo>
                    <a:pt x="9024" y="1651"/>
                  </a:lnTo>
                  <a:lnTo>
                    <a:pt x="9394" y="3031"/>
                  </a:lnTo>
                  <a:lnTo>
                    <a:pt x="10303" y="6330"/>
                  </a:lnTo>
                  <a:lnTo>
                    <a:pt x="11280" y="9664"/>
                  </a:lnTo>
                  <a:lnTo>
                    <a:pt x="11549" y="10674"/>
                  </a:lnTo>
                  <a:lnTo>
                    <a:pt x="11852" y="11717"/>
                  </a:lnTo>
                  <a:lnTo>
                    <a:pt x="11852" y="10640"/>
                  </a:lnTo>
                  <a:lnTo>
                    <a:pt x="11583" y="9832"/>
                  </a:lnTo>
                  <a:lnTo>
                    <a:pt x="10640" y="6532"/>
                  </a:lnTo>
                  <a:lnTo>
                    <a:pt x="9798" y="3469"/>
                  </a:lnTo>
                  <a:lnTo>
                    <a:pt x="9394" y="1785"/>
                  </a:lnTo>
                  <a:lnTo>
                    <a:pt x="9159" y="944"/>
                  </a:lnTo>
                  <a:lnTo>
                    <a:pt x="8923" y="136"/>
                  </a:lnTo>
                  <a:lnTo>
                    <a:pt x="8889" y="102"/>
                  </a:lnTo>
                  <a:lnTo>
                    <a:pt x="8822" y="35"/>
                  </a:lnTo>
                  <a:lnTo>
                    <a:pt x="878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hape 951"/>
            <p:cNvSpPr/>
            <p:nvPr/>
          </p:nvSpPr>
          <p:spPr>
            <a:xfrm>
              <a:off x="5349960" y="0"/>
              <a:ext cx="3365280" cy="1012680"/>
            </a:xfrm>
            <a:custGeom>
              <a:avLst/>
              <a:gdLst>
                <a:gd name="textAreaLeft" fmla="*/ 0 w 3365280"/>
                <a:gd name="textAreaRight" fmla="*/ 3365640 w 336528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50672" h="15253">
                  <a:moveTo>
                    <a:pt x="22592" y="5219"/>
                  </a:moveTo>
                  <a:lnTo>
                    <a:pt x="22558" y="5859"/>
                  </a:lnTo>
                  <a:lnTo>
                    <a:pt x="22154" y="5893"/>
                  </a:lnTo>
                  <a:lnTo>
                    <a:pt x="22188" y="5825"/>
                  </a:lnTo>
                  <a:lnTo>
                    <a:pt x="22188" y="5758"/>
                  </a:lnTo>
                  <a:lnTo>
                    <a:pt x="22154" y="5623"/>
                  </a:lnTo>
                  <a:lnTo>
                    <a:pt x="22121" y="5421"/>
                  </a:lnTo>
                  <a:lnTo>
                    <a:pt x="22087" y="5253"/>
                  </a:lnTo>
                  <a:lnTo>
                    <a:pt x="22558" y="5219"/>
                  </a:lnTo>
                  <a:close/>
                  <a:moveTo>
                    <a:pt x="21919" y="5253"/>
                  </a:moveTo>
                  <a:lnTo>
                    <a:pt x="21919" y="5590"/>
                  </a:lnTo>
                  <a:lnTo>
                    <a:pt x="21952" y="5758"/>
                  </a:lnTo>
                  <a:lnTo>
                    <a:pt x="21952" y="5859"/>
                  </a:lnTo>
                  <a:lnTo>
                    <a:pt x="21986" y="5926"/>
                  </a:lnTo>
                  <a:lnTo>
                    <a:pt x="21750" y="5960"/>
                  </a:lnTo>
                  <a:lnTo>
                    <a:pt x="21717" y="5792"/>
                  </a:lnTo>
                  <a:lnTo>
                    <a:pt x="21649" y="5623"/>
                  </a:lnTo>
                  <a:lnTo>
                    <a:pt x="21616" y="5455"/>
                  </a:lnTo>
                  <a:lnTo>
                    <a:pt x="21515" y="5287"/>
                  </a:lnTo>
                  <a:lnTo>
                    <a:pt x="21919" y="5253"/>
                  </a:lnTo>
                  <a:close/>
                  <a:moveTo>
                    <a:pt x="21447" y="5287"/>
                  </a:moveTo>
                  <a:lnTo>
                    <a:pt x="21447" y="5455"/>
                  </a:lnTo>
                  <a:lnTo>
                    <a:pt x="21481" y="5623"/>
                  </a:lnTo>
                  <a:lnTo>
                    <a:pt x="21515" y="5792"/>
                  </a:lnTo>
                  <a:lnTo>
                    <a:pt x="21548" y="5960"/>
                  </a:lnTo>
                  <a:lnTo>
                    <a:pt x="21313" y="5994"/>
                  </a:lnTo>
                  <a:lnTo>
                    <a:pt x="21313" y="5859"/>
                  </a:lnTo>
                  <a:lnTo>
                    <a:pt x="21279" y="5724"/>
                  </a:lnTo>
                  <a:lnTo>
                    <a:pt x="21178" y="5287"/>
                  </a:lnTo>
                  <a:close/>
                  <a:moveTo>
                    <a:pt x="21111" y="5287"/>
                  </a:moveTo>
                  <a:lnTo>
                    <a:pt x="21144" y="5691"/>
                  </a:lnTo>
                  <a:lnTo>
                    <a:pt x="21178" y="5859"/>
                  </a:lnTo>
                  <a:lnTo>
                    <a:pt x="21212" y="5994"/>
                  </a:lnTo>
                  <a:lnTo>
                    <a:pt x="20909" y="6027"/>
                  </a:lnTo>
                  <a:lnTo>
                    <a:pt x="20909" y="5960"/>
                  </a:lnTo>
                  <a:lnTo>
                    <a:pt x="20909" y="5859"/>
                  </a:lnTo>
                  <a:lnTo>
                    <a:pt x="20841" y="5724"/>
                  </a:lnTo>
                  <a:lnTo>
                    <a:pt x="20774" y="5320"/>
                  </a:lnTo>
                  <a:lnTo>
                    <a:pt x="21111" y="5287"/>
                  </a:lnTo>
                  <a:close/>
                  <a:moveTo>
                    <a:pt x="20673" y="5320"/>
                  </a:moveTo>
                  <a:lnTo>
                    <a:pt x="20673" y="5724"/>
                  </a:lnTo>
                  <a:lnTo>
                    <a:pt x="20673" y="5893"/>
                  </a:lnTo>
                  <a:lnTo>
                    <a:pt x="20707" y="5994"/>
                  </a:lnTo>
                  <a:lnTo>
                    <a:pt x="20740" y="6061"/>
                  </a:lnTo>
                  <a:lnTo>
                    <a:pt x="20471" y="6061"/>
                  </a:lnTo>
                  <a:lnTo>
                    <a:pt x="20471" y="5926"/>
                  </a:lnTo>
                  <a:lnTo>
                    <a:pt x="20437" y="5758"/>
                  </a:lnTo>
                  <a:lnTo>
                    <a:pt x="20404" y="5522"/>
                  </a:lnTo>
                  <a:lnTo>
                    <a:pt x="20370" y="5320"/>
                  </a:lnTo>
                  <a:close/>
                  <a:moveTo>
                    <a:pt x="20201" y="5320"/>
                  </a:moveTo>
                  <a:lnTo>
                    <a:pt x="20201" y="5522"/>
                  </a:lnTo>
                  <a:lnTo>
                    <a:pt x="20235" y="5691"/>
                  </a:lnTo>
                  <a:lnTo>
                    <a:pt x="20269" y="5893"/>
                  </a:lnTo>
                  <a:lnTo>
                    <a:pt x="20269" y="5994"/>
                  </a:lnTo>
                  <a:lnTo>
                    <a:pt x="20302" y="6095"/>
                  </a:lnTo>
                  <a:lnTo>
                    <a:pt x="20033" y="6128"/>
                  </a:lnTo>
                  <a:lnTo>
                    <a:pt x="19999" y="5893"/>
                  </a:lnTo>
                  <a:lnTo>
                    <a:pt x="19966" y="5623"/>
                  </a:lnTo>
                  <a:lnTo>
                    <a:pt x="19898" y="5354"/>
                  </a:lnTo>
                  <a:lnTo>
                    <a:pt x="20201" y="5320"/>
                  </a:lnTo>
                  <a:close/>
                  <a:moveTo>
                    <a:pt x="19730" y="5354"/>
                  </a:moveTo>
                  <a:lnTo>
                    <a:pt x="19764" y="5623"/>
                  </a:lnTo>
                  <a:lnTo>
                    <a:pt x="19764" y="5859"/>
                  </a:lnTo>
                  <a:lnTo>
                    <a:pt x="19797" y="5994"/>
                  </a:lnTo>
                  <a:lnTo>
                    <a:pt x="19831" y="6162"/>
                  </a:lnTo>
                  <a:lnTo>
                    <a:pt x="19528" y="6196"/>
                  </a:lnTo>
                  <a:lnTo>
                    <a:pt x="19494" y="5994"/>
                  </a:lnTo>
                  <a:lnTo>
                    <a:pt x="19461" y="5825"/>
                  </a:lnTo>
                  <a:lnTo>
                    <a:pt x="19427" y="5590"/>
                  </a:lnTo>
                  <a:lnTo>
                    <a:pt x="19360" y="5388"/>
                  </a:lnTo>
                  <a:lnTo>
                    <a:pt x="19730" y="5354"/>
                  </a:lnTo>
                  <a:close/>
                  <a:moveTo>
                    <a:pt x="22592" y="6095"/>
                  </a:moveTo>
                  <a:lnTo>
                    <a:pt x="22626" y="7071"/>
                  </a:lnTo>
                  <a:lnTo>
                    <a:pt x="22693" y="7778"/>
                  </a:lnTo>
                  <a:lnTo>
                    <a:pt x="22121" y="7778"/>
                  </a:lnTo>
                  <a:lnTo>
                    <a:pt x="21582" y="7845"/>
                  </a:lnTo>
                  <a:lnTo>
                    <a:pt x="20505" y="8014"/>
                  </a:lnTo>
                  <a:lnTo>
                    <a:pt x="19427" y="8115"/>
                  </a:lnTo>
                  <a:lnTo>
                    <a:pt x="18888" y="8182"/>
                  </a:lnTo>
                  <a:lnTo>
                    <a:pt x="18350" y="8317"/>
                  </a:lnTo>
                  <a:lnTo>
                    <a:pt x="18249" y="7441"/>
                  </a:lnTo>
                  <a:lnTo>
                    <a:pt x="18181" y="7037"/>
                  </a:lnTo>
                  <a:lnTo>
                    <a:pt x="18114" y="6633"/>
                  </a:lnTo>
                  <a:lnTo>
                    <a:pt x="18653" y="6600"/>
                  </a:lnTo>
                  <a:lnTo>
                    <a:pt x="19225" y="6532"/>
                  </a:lnTo>
                  <a:lnTo>
                    <a:pt x="20336" y="6398"/>
                  </a:lnTo>
                  <a:lnTo>
                    <a:pt x="21481" y="6229"/>
                  </a:lnTo>
                  <a:lnTo>
                    <a:pt x="22592" y="6095"/>
                  </a:lnTo>
                  <a:close/>
                  <a:moveTo>
                    <a:pt x="22693" y="7946"/>
                  </a:moveTo>
                  <a:lnTo>
                    <a:pt x="22760" y="8283"/>
                  </a:lnTo>
                  <a:lnTo>
                    <a:pt x="22828" y="8653"/>
                  </a:lnTo>
                  <a:lnTo>
                    <a:pt x="22356" y="8721"/>
                  </a:lnTo>
                  <a:lnTo>
                    <a:pt x="22289" y="8485"/>
                  </a:lnTo>
                  <a:lnTo>
                    <a:pt x="22222" y="8047"/>
                  </a:lnTo>
                  <a:lnTo>
                    <a:pt x="22693" y="7946"/>
                  </a:lnTo>
                  <a:close/>
                  <a:moveTo>
                    <a:pt x="22121" y="8047"/>
                  </a:moveTo>
                  <a:lnTo>
                    <a:pt x="22121" y="8249"/>
                  </a:lnTo>
                  <a:lnTo>
                    <a:pt x="22121" y="8451"/>
                  </a:lnTo>
                  <a:lnTo>
                    <a:pt x="22154" y="8721"/>
                  </a:lnTo>
                  <a:lnTo>
                    <a:pt x="21784" y="8788"/>
                  </a:lnTo>
                  <a:lnTo>
                    <a:pt x="21750" y="8586"/>
                  </a:lnTo>
                  <a:lnTo>
                    <a:pt x="21717" y="8418"/>
                  </a:lnTo>
                  <a:lnTo>
                    <a:pt x="21683" y="8249"/>
                  </a:lnTo>
                  <a:lnTo>
                    <a:pt x="21616" y="8115"/>
                  </a:lnTo>
                  <a:lnTo>
                    <a:pt x="22121" y="8047"/>
                  </a:lnTo>
                  <a:close/>
                  <a:moveTo>
                    <a:pt x="21481" y="8115"/>
                  </a:moveTo>
                  <a:lnTo>
                    <a:pt x="21481" y="8283"/>
                  </a:lnTo>
                  <a:lnTo>
                    <a:pt x="21515" y="8418"/>
                  </a:lnTo>
                  <a:lnTo>
                    <a:pt x="21548" y="8620"/>
                  </a:lnTo>
                  <a:lnTo>
                    <a:pt x="21582" y="8788"/>
                  </a:lnTo>
                  <a:lnTo>
                    <a:pt x="21313" y="8822"/>
                  </a:lnTo>
                  <a:lnTo>
                    <a:pt x="21245" y="8350"/>
                  </a:lnTo>
                  <a:lnTo>
                    <a:pt x="21178" y="8148"/>
                  </a:lnTo>
                  <a:lnTo>
                    <a:pt x="21481" y="8115"/>
                  </a:lnTo>
                  <a:close/>
                  <a:moveTo>
                    <a:pt x="20976" y="8182"/>
                  </a:moveTo>
                  <a:lnTo>
                    <a:pt x="21010" y="8384"/>
                  </a:lnTo>
                  <a:lnTo>
                    <a:pt x="21077" y="8855"/>
                  </a:lnTo>
                  <a:lnTo>
                    <a:pt x="20774" y="8889"/>
                  </a:lnTo>
                  <a:lnTo>
                    <a:pt x="20774" y="8721"/>
                  </a:lnTo>
                  <a:lnTo>
                    <a:pt x="20740" y="8552"/>
                  </a:lnTo>
                  <a:lnTo>
                    <a:pt x="20707" y="8384"/>
                  </a:lnTo>
                  <a:lnTo>
                    <a:pt x="20639" y="8216"/>
                  </a:lnTo>
                  <a:lnTo>
                    <a:pt x="20976" y="8182"/>
                  </a:lnTo>
                  <a:close/>
                  <a:moveTo>
                    <a:pt x="20505" y="8216"/>
                  </a:moveTo>
                  <a:lnTo>
                    <a:pt x="20505" y="8418"/>
                  </a:lnTo>
                  <a:lnTo>
                    <a:pt x="20538" y="8586"/>
                  </a:lnTo>
                  <a:lnTo>
                    <a:pt x="20538" y="8754"/>
                  </a:lnTo>
                  <a:lnTo>
                    <a:pt x="20606" y="8923"/>
                  </a:lnTo>
                  <a:lnTo>
                    <a:pt x="20336" y="8956"/>
                  </a:lnTo>
                  <a:lnTo>
                    <a:pt x="20336" y="8889"/>
                  </a:lnTo>
                  <a:lnTo>
                    <a:pt x="20336" y="8788"/>
                  </a:lnTo>
                  <a:lnTo>
                    <a:pt x="20302" y="8653"/>
                  </a:lnTo>
                  <a:lnTo>
                    <a:pt x="20235" y="8249"/>
                  </a:lnTo>
                  <a:lnTo>
                    <a:pt x="20505" y="8216"/>
                  </a:lnTo>
                  <a:close/>
                  <a:moveTo>
                    <a:pt x="20134" y="8283"/>
                  </a:moveTo>
                  <a:lnTo>
                    <a:pt x="20100" y="8451"/>
                  </a:lnTo>
                  <a:lnTo>
                    <a:pt x="20100" y="8620"/>
                  </a:lnTo>
                  <a:lnTo>
                    <a:pt x="20134" y="8822"/>
                  </a:lnTo>
                  <a:lnTo>
                    <a:pt x="20168" y="8889"/>
                  </a:lnTo>
                  <a:lnTo>
                    <a:pt x="20235" y="8956"/>
                  </a:lnTo>
                  <a:lnTo>
                    <a:pt x="19865" y="8990"/>
                  </a:lnTo>
                  <a:lnTo>
                    <a:pt x="19831" y="8788"/>
                  </a:lnTo>
                  <a:lnTo>
                    <a:pt x="19764" y="8552"/>
                  </a:lnTo>
                  <a:lnTo>
                    <a:pt x="19730" y="8350"/>
                  </a:lnTo>
                  <a:lnTo>
                    <a:pt x="20134" y="8283"/>
                  </a:lnTo>
                  <a:close/>
                  <a:moveTo>
                    <a:pt x="19629" y="8350"/>
                  </a:moveTo>
                  <a:lnTo>
                    <a:pt x="19595" y="8552"/>
                  </a:lnTo>
                  <a:lnTo>
                    <a:pt x="19595" y="8754"/>
                  </a:lnTo>
                  <a:lnTo>
                    <a:pt x="19629" y="9024"/>
                  </a:lnTo>
                  <a:lnTo>
                    <a:pt x="19292" y="9024"/>
                  </a:lnTo>
                  <a:lnTo>
                    <a:pt x="19326" y="8956"/>
                  </a:lnTo>
                  <a:lnTo>
                    <a:pt x="19326" y="8889"/>
                  </a:lnTo>
                  <a:lnTo>
                    <a:pt x="19292" y="8754"/>
                  </a:lnTo>
                  <a:lnTo>
                    <a:pt x="19259" y="8586"/>
                  </a:lnTo>
                  <a:lnTo>
                    <a:pt x="19191" y="8418"/>
                  </a:lnTo>
                  <a:lnTo>
                    <a:pt x="19629" y="8350"/>
                  </a:lnTo>
                  <a:close/>
                  <a:moveTo>
                    <a:pt x="809" y="8855"/>
                  </a:moveTo>
                  <a:lnTo>
                    <a:pt x="842" y="9024"/>
                  </a:lnTo>
                  <a:lnTo>
                    <a:pt x="842" y="9226"/>
                  </a:lnTo>
                  <a:lnTo>
                    <a:pt x="640" y="9259"/>
                  </a:lnTo>
                  <a:lnTo>
                    <a:pt x="438" y="9327"/>
                  </a:lnTo>
                  <a:lnTo>
                    <a:pt x="337" y="9091"/>
                  </a:lnTo>
                  <a:lnTo>
                    <a:pt x="203" y="8855"/>
                  </a:lnTo>
                  <a:lnTo>
                    <a:pt x="405" y="8855"/>
                  </a:lnTo>
                  <a:lnTo>
                    <a:pt x="607" y="8889"/>
                  </a:lnTo>
                  <a:lnTo>
                    <a:pt x="708" y="8889"/>
                  </a:lnTo>
                  <a:lnTo>
                    <a:pt x="809" y="8855"/>
                  </a:lnTo>
                  <a:close/>
                  <a:moveTo>
                    <a:pt x="876" y="8586"/>
                  </a:moveTo>
                  <a:lnTo>
                    <a:pt x="1078" y="8620"/>
                  </a:lnTo>
                  <a:lnTo>
                    <a:pt x="1448" y="8620"/>
                  </a:lnTo>
                  <a:lnTo>
                    <a:pt x="1482" y="8855"/>
                  </a:lnTo>
                  <a:lnTo>
                    <a:pt x="1516" y="9091"/>
                  </a:lnTo>
                  <a:lnTo>
                    <a:pt x="1516" y="9293"/>
                  </a:lnTo>
                  <a:lnTo>
                    <a:pt x="1213" y="9360"/>
                  </a:lnTo>
                  <a:lnTo>
                    <a:pt x="1044" y="9360"/>
                  </a:lnTo>
                  <a:lnTo>
                    <a:pt x="1044" y="9259"/>
                  </a:lnTo>
                  <a:lnTo>
                    <a:pt x="1044" y="9226"/>
                  </a:lnTo>
                  <a:lnTo>
                    <a:pt x="1011" y="9024"/>
                  </a:lnTo>
                  <a:lnTo>
                    <a:pt x="977" y="8788"/>
                  </a:lnTo>
                  <a:lnTo>
                    <a:pt x="876" y="8586"/>
                  </a:lnTo>
                  <a:close/>
                  <a:moveTo>
                    <a:pt x="19191" y="5388"/>
                  </a:moveTo>
                  <a:lnTo>
                    <a:pt x="19191" y="5590"/>
                  </a:lnTo>
                  <a:lnTo>
                    <a:pt x="19225" y="5825"/>
                  </a:lnTo>
                  <a:lnTo>
                    <a:pt x="19259" y="6027"/>
                  </a:lnTo>
                  <a:lnTo>
                    <a:pt x="19326" y="6229"/>
                  </a:lnTo>
                  <a:lnTo>
                    <a:pt x="18686" y="6330"/>
                  </a:lnTo>
                  <a:lnTo>
                    <a:pt x="18047" y="6465"/>
                  </a:lnTo>
                  <a:lnTo>
                    <a:pt x="18013" y="6465"/>
                  </a:lnTo>
                  <a:lnTo>
                    <a:pt x="17979" y="6499"/>
                  </a:lnTo>
                  <a:lnTo>
                    <a:pt x="17946" y="6532"/>
                  </a:lnTo>
                  <a:lnTo>
                    <a:pt x="17946" y="6566"/>
                  </a:lnTo>
                  <a:lnTo>
                    <a:pt x="17979" y="6600"/>
                  </a:lnTo>
                  <a:lnTo>
                    <a:pt x="17979" y="7105"/>
                  </a:lnTo>
                  <a:lnTo>
                    <a:pt x="18013" y="7576"/>
                  </a:lnTo>
                  <a:lnTo>
                    <a:pt x="18181" y="8552"/>
                  </a:lnTo>
                  <a:lnTo>
                    <a:pt x="18215" y="8586"/>
                  </a:lnTo>
                  <a:lnTo>
                    <a:pt x="18249" y="8620"/>
                  </a:lnTo>
                  <a:lnTo>
                    <a:pt x="18316" y="8620"/>
                  </a:lnTo>
                  <a:lnTo>
                    <a:pt x="18383" y="8586"/>
                  </a:lnTo>
                  <a:lnTo>
                    <a:pt x="18383" y="8485"/>
                  </a:lnTo>
                  <a:lnTo>
                    <a:pt x="18383" y="8418"/>
                  </a:lnTo>
                  <a:lnTo>
                    <a:pt x="18754" y="8451"/>
                  </a:lnTo>
                  <a:lnTo>
                    <a:pt x="19124" y="8418"/>
                  </a:lnTo>
                  <a:lnTo>
                    <a:pt x="19124" y="8552"/>
                  </a:lnTo>
                  <a:lnTo>
                    <a:pt x="19124" y="8721"/>
                  </a:lnTo>
                  <a:lnTo>
                    <a:pt x="19124" y="8889"/>
                  </a:lnTo>
                  <a:lnTo>
                    <a:pt x="19158" y="8990"/>
                  </a:lnTo>
                  <a:lnTo>
                    <a:pt x="19191" y="9057"/>
                  </a:lnTo>
                  <a:lnTo>
                    <a:pt x="18855" y="9091"/>
                  </a:lnTo>
                  <a:lnTo>
                    <a:pt x="18552" y="9158"/>
                  </a:lnTo>
                  <a:lnTo>
                    <a:pt x="18249" y="9226"/>
                  </a:lnTo>
                  <a:lnTo>
                    <a:pt x="17979" y="9360"/>
                  </a:lnTo>
                  <a:lnTo>
                    <a:pt x="17946" y="9327"/>
                  </a:lnTo>
                  <a:lnTo>
                    <a:pt x="17744" y="8182"/>
                  </a:lnTo>
                  <a:lnTo>
                    <a:pt x="17676" y="7576"/>
                  </a:lnTo>
                  <a:lnTo>
                    <a:pt x="17643" y="7004"/>
                  </a:lnTo>
                  <a:lnTo>
                    <a:pt x="17643" y="6667"/>
                  </a:lnTo>
                  <a:lnTo>
                    <a:pt x="17643" y="6297"/>
                  </a:lnTo>
                  <a:lnTo>
                    <a:pt x="17643" y="5893"/>
                  </a:lnTo>
                  <a:lnTo>
                    <a:pt x="17575" y="5556"/>
                  </a:lnTo>
                  <a:lnTo>
                    <a:pt x="18215" y="5489"/>
                  </a:lnTo>
                  <a:lnTo>
                    <a:pt x="18821" y="5421"/>
                  </a:lnTo>
                  <a:lnTo>
                    <a:pt x="18821" y="5590"/>
                  </a:lnTo>
                  <a:lnTo>
                    <a:pt x="18821" y="6128"/>
                  </a:lnTo>
                  <a:lnTo>
                    <a:pt x="18821" y="6196"/>
                  </a:lnTo>
                  <a:lnTo>
                    <a:pt x="18888" y="6229"/>
                  </a:lnTo>
                  <a:lnTo>
                    <a:pt x="18922" y="6263"/>
                  </a:lnTo>
                  <a:lnTo>
                    <a:pt x="18989" y="6229"/>
                  </a:lnTo>
                  <a:lnTo>
                    <a:pt x="19023" y="6196"/>
                  </a:lnTo>
                  <a:lnTo>
                    <a:pt x="19023" y="6128"/>
                  </a:lnTo>
                  <a:lnTo>
                    <a:pt x="19023" y="5792"/>
                  </a:lnTo>
                  <a:lnTo>
                    <a:pt x="18989" y="5421"/>
                  </a:lnTo>
                  <a:lnTo>
                    <a:pt x="19191" y="5388"/>
                  </a:lnTo>
                  <a:close/>
                  <a:moveTo>
                    <a:pt x="3401" y="7441"/>
                  </a:moveTo>
                  <a:lnTo>
                    <a:pt x="3367" y="7744"/>
                  </a:lnTo>
                  <a:lnTo>
                    <a:pt x="3334" y="8047"/>
                  </a:lnTo>
                  <a:lnTo>
                    <a:pt x="3300" y="8687"/>
                  </a:lnTo>
                  <a:lnTo>
                    <a:pt x="3334" y="9360"/>
                  </a:lnTo>
                  <a:lnTo>
                    <a:pt x="3401" y="10000"/>
                  </a:lnTo>
                  <a:lnTo>
                    <a:pt x="2862" y="9865"/>
                  </a:lnTo>
                  <a:lnTo>
                    <a:pt x="2627" y="9764"/>
                  </a:lnTo>
                  <a:lnTo>
                    <a:pt x="2391" y="9663"/>
                  </a:lnTo>
                  <a:lnTo>
                    <a:pt x="2189" y="9529"/>
                  </a:lnTo>
                  <a:lnTo>
                    <a:pt x="1953" y="9394"/>
                  </a:lnTo>
                  <a:lnTo>
                    <a:pt x="1785" y="9360"/>
                  </a:lnTo>
                  <a:lnTo>
                    <a:pt x="1785" y="9327"/>
                  </a:lnTo>
                  <a:lnTo>
                    <a:pt x="1751" y="9293"/>
                  </a:lnTo>
                  <a:lnTo>
                    <a:pt x="1718" y="9091"/>
                  </a:lnTo>
                  <a:lnTo>
                    <a:pt x="1718" y="8923"/>
                  </a:lnTo>
                  <a:lnTo>
                    <a:pt x="1684" y="8586"/>
                  </a:lnTo>
                  <a:lnTo>
                    <a:pt x="1785" y="8586"/>
                  </a:lnTo>
                  <a:lnTo>
                    <a:pt x="1852" y="8552"/>
                  </a:lnTo>
                  <a:lnTo>
                    <a:pt x="1852" y="8485"/>
                  </a:lnTo>
                  <a:lnTo>
                    <a:pt x="1819" y="8451"/>
                  </a:lnTo>
                  <a:lnTo>
                    <a:pt x="1785" y="8418"/>
                  </a:lnTo>
                  <a:lnTo>
                    <a:pt x="1617" y="8451"/>
                  </a:lnTo>
                  <a:lnTo>
                    <a:pt x="1852" y="8317"/>
                  </a:lnTo>
                  <a:lnTo>
                    <a:pt x="2054" y="8216"/>
                  </a:lnTo>
                  <a:lnTo>
                    <a:pt x="2458" y="7946"/>
                  </a:lnTo>
                  <a:lnTo>
                    <a:pt x="3401" y="7441"/>
                  </a:lnTo>
                  <a:close/>
                  <a:moveTo>
                    <a:pt x="4176" y="6970"/>
                  </a:moveTo>
                  <a:lnTo>
                    <a:pt x="4176" y="7845"/>
                  </a:lnTo>
                  <a:lnTo>
                    <a:pt x="4209" y="8721"/>
                  </a:lnTo>
                  <a:lnTo>
                    <a:pt x="4209" y="9394"/>
                  </a:lnTo>
                  <a:lnTo>
                    <a:pt x="4243" y="9731"/>
                  </a:lnTo>
                  <a:lnTo>
                    <a:pt x="4277" y="10067"/>
                  </a:lnTo>
                  <a:lnTo>
                    <a:pt x="4176" y="9966"/>
                  </a:lnTo>
                  <a:lnTo>
                    <a:pt x="4142" y="9798"/>
                  </a:lnTo>
                  <a:lnTo>
                    <a:pt x="4108" y="9630"/>
                  </a:lnTo>
                  <a:lnTo>
                    <a:pt x="4108" y="9428"/>
                  </a:lnTo>
                  <a:lnTo>
                    <a:pt x="4108" y="8721"/>
                  </a:lnTo>
                  <a:lnTo>
                    <a:pt x="4075" y="8014"/>
                  </a:lnTo>
                  <a:lnTo>
                    <a:pt x="4041" y="7307"/>
                  </a:lnTo>
                  <a:lnTo>
                    <a:pt x="4075" y="7307"/>
                  </a:lnTo>
                  <a:lnTo>
                    <a:pt x="4108" y="7273"/>
                  </a:lnTo>
                  <a:lnTo>
                    <a:pt x="4075" y="7239"/>
                  </a:lnTo>
                  <a:lnTo>
                    <a:pt x="4041" y="7172"/>
                  </a:lnTo>
                  <a:lnTo>
                    <a:pt x="4007" y="6970"/>
                  </a:lnTo>
                  <a:close/>
                  <a:moveTo>
                    <a:pt x="3637" y="7307"/>
                  </a:moveTo>
                  <a:lnTo>
                    <a:pt x="3872" y="7340"/>
                  </a:lnTo>
                  <a:lnTo>
                    <a:pt x="3839" y="8014"/>
                  </a:lnTo>
                  <a:lnTo>
                    <a:pt x="3872" y="8721"/>
                  </a:lnTo>
                  <a:lnTo>
                    <a:pt x="3974" y="10135"/>
                  </a:lnTo>
                  <a:lnTo>
                    <a:pt x="3805" y="10168"/>
                  </a:lnTo>
                  <a:lnTo>
                    <a:pt x="3771" y="10168"/>
                  </a:lnTo>
                  <a:lnTo>
                    <a:pt x="3771" y="10101"/>
                  </a:lnTo>
                  <a:lnTo>
                    <a:pt x="3738" y="10067"/>
                  </a:lnTo>
                  <a:lnTo>
                    <a:pt x="3704" y="10034"/>
                  </a:lnTo>
                  <a:lnTo>
                    <a:pt x="3637" y="10034"/>
                  </a:lnTo>
                  <a:lnTo>
                    <a:pt x="3603" y="9360"/>
                  </a:lnTo>
                  <a:lnTo>
                    <a:pt x="3569" y="8687"/>
                  </a:lnTo>
                  <a:lnTo>
                    <a:pt x="3569" y="8014"/>
                  </a:lnTo>
                  <a:lnTo>
                    <a:pt x="3536" y="7374"/>
                  </a:lnTo>
                  <a:lnTo>
                    <a:pt x="3569" y="7340"/>
                  </a:lnTo>
                  <a:lnTo>
                    <a:pt x="3603" y="7307"/>
                  </a:lnTo>
                  <a:close/>
                  <a:moveTo>
                    <a:pt x="17340" y="5556"/>
                  </a:moveTo>
                  <a:lnTo>
                    <a:pt x="17340" y="6532"/>
                  </a:lnTo>
                  <a:lnTo>
                    <a:pt x="17373" y="7475"/>
                  </a:lnTo>
                  <a:lnTo>
                    <a:pt x="17508" y="8418"/>
                  </a:lnTo>
                  <a:lnTo>
                    <a:pt x="17676" y="9360"/>
                  </a:lnTo>
                  <a:lnTo>
                    <a:pt x="16027" y="9596"/>
                  </a:lnTo>
                  <a:lnTo>
                    <a:pt x="14377" y="9764"/>
                  </a:lnTo>
                  <a:lnTo>
                    <a:pt x="12727" y="9899"/>
                  </a:lnTo>
                  <a:lnTo>
                    <a:pt x="11077" y="10000"/>
                  </a:lnTo>
                  <a:lnTo>
                    <a:pt x="7610" y="10236"/>
                  </a:lnTo>
                  <a:lnTo>
                    <a:pt x="6869" y="10236"/>
                  </a:lnTo>
                  <a:lnTo>
                    <a:pt x="6095" y="10269"/>
                  </a:lnTo>
                  <a:lnTo>
                    <a:pt x="5320" y="10303"/>
                  </a:lnTo>
                  <a:lnTo>
                    <a:pt x="4916" y="10370"/>
                  </a:lnTo>
                  <a:lnTo>
                    <a:pt x="4546" y="10438"/>
                  </a:lnTo>
                  <a:lnTo>
                    <a:pt x="4546" y="10404"/>
                  </a:lnTo>
                  <a:lnTo>
                    <a:pt x="4546" y="10303"/>
                  </a:lnTo>
                  <a:lnTo>
                    <a:pt x="4580" y="10236"/>
                  </a:lnTo>
                  <a:lnTo>
                    <a:pt x="4546" y="10168"/>
                  </a:lnTo>
                  <a:lnTo>
                    <a:pt x="4479" y="9360"/>
                  </a:lnTo>
                  <a:lnTo>
                    <a:pt x="4445" y="8552"/>
                  </a:lnTo>
                  <a:lnTo>
                    <a:pt x="4411" y="7744"/>
                  </a:lnTo>
                  <a:lnTo>
                    <a:pt x="4344" y="6936"/>
                  </a:lnTo>
                  <a:lnTo>
                    <a:pt x="4378" y="6936"/>
                  </a:lnTo>
                  <a:lnTo>
                    <a:pt x="4411" y="6903"/>
                  </a:lnTo>
                  <a:lnTo>
                    <a:pt x="4411" y="6869"/>
                  </a:lnTo>
                  <a:lnTo>
                    <a:pt x="4411" y="6802"/>
                  </a:lnTo>
                  <a:lnTo>
                    <a:pt x="5152" y="6734"/>
                  </a:lnTo>
                  <a:lnTo>
                    <a:pt x="5859" y="6667"/>
                  </a:lnTo>
                  <a:lnTo>
                    <a:pt x="7307" y="6465"/>
                  </a:lnTo>
                  <a:lnTo>
                    <a:pt x="9024" y="6229"/>
                  </a:lnTo>
                  <a:lnTo>
                    <a:pt x="10741" y="6061"/>
                  </a:lnTo>
                  <a:lnTo>
                    <a:pt x="12391" y="5893"/>
                  </a:lnTo>
                  <a:lnTo>
                    <a:pt x="14040" y="5758"/>
                  </a:lnTo>
                  <a:lnTo>
                    <a:pt x="15690" y="5657"/>
                  </a:lnTo>
                  <a:lnTo>
                    <a:pt x="17340" y="5556"/>
                  </a:lnTo>
                  <a:close/>
                  <a:moveTo>
                    <a:pt x="10606" y="1"/>
                  </a:moveTo>
                  <a:lnTo>
                    <a:pt x="10471" y="674"/>
                  </a:lnTo>
                  <a:lnTo>
                    <a:pt x="10370" y="1347"/>
                  </a:lnTo>
                  <a:lnTo>
                    <a:pt x="10202" y="2661"/>
                  </a:lnTo>
                  <a:lnTo>
                    <a:pt x="10067" y="3671"/>
                  </a:lnTo>
                  <a:lnTo>
                    <a:pt x="9933" y="4647"/>
                  </a:lnTo>
                  <a:lnTo>
                    <a:pt x="9798" y="5287"/>
                  </a:lnTo>
                  <a:lnTo>
                    <a:pt x="9731" y="5623"/>
                  </a:lnTo>
                  <a:lnTo>
                    <a:pt x="9697" y="5960"/>
                  </a:lnTo>
                  <a:lnTo>
                    <a:pt x="8350" y="6095"/>
                  </a:lnTo>
                  <a:lnTo>
                    <a:pt x="7004" y="6229"/>
                  </a:lnTo>
                  <a:lnTo>
                    <a:pt x="5657" y="6431"/>
                  </a:lnTo>
                  <a:lnTo>
                    <a:pt x="4984" y="6566"/>
                  </a:lnTo>
                  <a:lnTo>
                    <a:pt x="4344" y="6701"/>
                  </a:lnTo>
                  <a:lnTo>
                    <a:pt x="4310" y="6667"/>
                  </a:lnTo>
                  <a:lnTo>
                    <a:pt x="4310" y="6633"/>
                  </a:lnTo>
                  <a:lnTo>
                    <a:pt x="4243" y="6600"/>
                  </a:lnTo>
                  <a:lnTo>
                    <a:pt x="4209" y="6633"/>
                  </a:lnTo>
                  <a:lnTo>
                    <a:pt x="4209" y="6667"/>
                  </a:lnTo>
                  <a:lnTo>
                    <a:pt x="4209" y="6734"/>
                  </a:lnTo>
                  <a:lnTo>
                    <a:pt x="4142" y="6734"/>
                  </a:lnTo>
                  <a:lnTo>
                    <a:pt x="4108" y="6768"/>
                  </a:lnTo>
                  <a:lnTo>
                    <a:pt x="4108" y="6802"/>
                  </a:lnTo>
                  <a:lnTo>
                    <a:pt x="4007" y="6835"/>
                  </a:lnTo>
                  <a:lnTo>
                    <a:pt x="3940" y="6903"/>
                  </a:lnTo>
                  <a:lnTo>
                    <a:pt x="3906" y="6936"/>
                  </a:lnTo>
                  <a:lnTo>
                    <a:pt x="3940" y="6970"/>
                  </a:lnTo>
                  <a:lnTo>
                    <a:pt x="3906" y="7138"/>
                  </a:lnTo>
                  <a:lnTo>
                    <a:pt x="3502" y="7138"/>
                  </a:lnTo>
                  <a:lnTo>
                    <a:pt x="3435" y="7172"/>
                  </a:lnTo>
                  <a:lnTo>
                    <a:pt x="3435" y="7206"/>
                  </a:lnTo>
                  <a:lnTo>
                    <a:pt x="2357" y="7778"/>
                  </a:lnTo>
                  <a:lnTo>
                    <a:pt x="1920" y="8047"/>
                  </a:lnTo>
                  <a:lnTo>
                    <a:pt x="1718" y="8216"/>
                  </a:lnTo>
                  <a:lnTo>
                    <a:pt x="1549" y="8418"/>
                  </a:lnTo>
                  <a:lnTo>
                    <a:pt x="1482" y="8451"/>
                  </a:lnTo>
                  <a:lnTo>
                    <a:pt x="1280" y="8485"/>
                  </a:lnTo>
                  <a:lnTo>
                    <a:pt x="1078" y="8485"/>
                  </a:lnTo>
                  <a:lnTo>
                    <a:pt x="977" y="8519"/>
                  </a:lnTo>
                  <a:lnTo>
                    <a:pt x="876" y="8552"/>
                  </a:lnTo>
                  <a:lnTo>
                    <a:pt x="842" y="8519"/>
                  </a:lnTo>
                  <a:lnTo>
                    <a:pt x="809" y="8519"/>
                  </a:lnTo>
                  <a:lnTo>
                    <a:pt x="809" y="8721"/>
                  </a:lnTo>
                  <a:lnTo>
                    <a:pt x="472" y="8721"/>
                  </a:lnTo>
                  <a:lnTo>
                    <a:pt x="270" y="8687"/>
                  </a:lnTo>
                  <a:lnTo>
                    <a:pt x="68" y="8721"/>
                  </a:lnTo>
                  <a:lnTo>
                    <a:pt x="68" y="8687"/>
                  </a:lnTo>
                  <a:lnTo>
                    <a:pt x="34" y="8721"/>
                  </a:lnTo>
                  <a:lnTo>
                    <a:pt x="1" y="8721"/>
                  </a:lnTo>
                  <a:lnTo>
                    <a:pt x="1" y="8754"/>
                  </a:lnTo>
                  <a:lnTo>
                    <a:pt x="34" y="8788"/>
                  </a:lnTo>
                  <a:lnTo>
                    <a:pt x="68" y="8956"/>
                  </a:lnTo>
                  <a:lnTo>
                    <a:pt x="135" y="9158"/>
                  </a:lnTo>
                  <a:lnTo>
                    <a:pt x="304" y="9495"/>
                  </a:lnTo>
                  <a:lnTo>
                    <a:pt x="371" y="9529"/>
                  </a:lnTo>
                  <a:lnTo>
                    <a:pt x="405" y="9529"/>
                  </a:lnTo>
                  <a:lnTo>
                    <a:pt x="640" y="9461"/>
                  </a:lnTo>
                  <a:lnTo>
                    <a:pt x="876" y="9394"/>
                  </a:lnTo>
                  <a:lnTo>
                    <a:pt x="910" y="9428"/>
                  </a:lnTo>
                  <a:lnTo>
                    <a:pt x="876" y="9461"/>
                  </a:lnTo>
                  <a:lnTo>
                    <a:pt x="943" y="9529"/>
                  </a:lnTo>
                  <a:lnTo>
                    <a:pt x="1011" y="9562"/>
                  </a:lnTo>
                  <a:lnTo>
                    <a:pt x="1246" y="9596"/>
                  </a:lnTo>
                  <a:lnTo>
                    <a:pt x="1448" y="9562"/>
                  </a:lnTo>
                  <a:lnTo>
                    <a:pt x="1650" y="9495"/>
                  </a:lnTo>
                  <a:lnTo>
                    <a:pt x="1718" y="9495"/>
                  </a:lnTo>
                  <a:lnTo>
                    <a:pt x="2122" y="9731"/>
                  </a:lnTo>
                  <a:lnTo>
                    <a:pt x="2559" y="9933"/>
                  </a:lnTo>
                  <a:lnTo>
                    <a:pt x="2997" y="10101"/>
                  </a:lnTo>
                  <a:lnTo>
                    <a:pt x="3435" y="10202"/>
                  </a:lnTo>
                  <a:lnTo>
                    <a:pt x="3468" y="10370"/>
                  </a:lnTo>
                  <a:lnTo>
                    <a:pt x="3502" y="10438"/>
                  </a:lnTo>
                  <a:lnTo>
                    <a:pt x="3603" y="10438"/>
                  </a:lnTo>
                  <a:lnTo>
                    <a:pt x="3637" y="10370"/>
                  </a:lnTo>
                  <a:lnTo>
                    <a:pt x="3738" y="10404"/>
                  </a:lnTo>
                  <a:lnTo>
                    <a:pt x="3872" y="10404"/>
                  </a:lnTo>
                  <a:lnTo>
                    <a:pt x="4075" y="10370"/>
                  </a:lnTo>
                  <a:lnTo>
                    <a:pt x="4310" y="10337"/>
                  </a:lnTo>
                  <a:lnTo>
                    <a:pt x="4344" y="10438"/>
                  </a:lnTo>
                  <a:lnTo>
                    <a:pt x="4378" y="10471"/>
                  </a:lnTo>
                  <a:lnTo>
                    <a:pt x="4378" y="10505"/>
                  </a:lnTo>
                  <a:lnTo>
                    <a:pt x="4411" y="10539"/>
                  </a:lnTo>
                  <a:lnTo>
                    <a:pt x="4782" y="10572"/>
                  </a:lnTo>
                  <a:lnTo>
                    <a:pt x="5186" y="10606"/>
                  </a:lnTo>
                  <a:lnTo>
                    <a:pt x="5994" y="10572"/>
                  </a:lnTo>
                  <a:lnTo>
                    <a:pt x="7610" y="10438"/>
                  </a:lnTo>
                  <a:lnTo>
                    <a:pt x="11077" y="10202"/>
                  </a:lnTo>
                  <a:lnTo>
                    <a:pt x="12828" y="10101"/>
                  </a:lnTo>
                  <a:lnTo>
                    <a:pt x="14545" y="9966"/>
                  </a:lnTo>
                  <a:lnTo>
                    <a:pt x="14579" y="9966"/>
                  </a:lnTo>
                  <a:lnTo>
                    <a:pt x="14949" y="10135"/>
                  </a:lnTo>
                  <a:lnTo>
                    <a:pt x="15387" y="10303"/>
                  </a:lnTo>
                  <a:lnTo>
                    <a:pt x="15791" y="10438"/>
                  </a:lnTo>
                  <a:lnTo>
                    <a:pt x="16229" y="10539"/>
                  </a:lnTo>
                  <a:lnTo>
                    <a:pt x="17104" y="10707"/>
                  </a:lnTo>
                  <a:lnTo>
                    <a:pt x="18013" y="10808"/>
                  </a:lnTo>
                  <a:lnTo>
                    <a:pt x="18922" y="10876"/>
                  </a:lnTo>
                  <a:lnTo>
                    <a:pt x="19831" y="10943"/>
                  </a:lnTo>
                  <a:lnTo>
                    <a:pt x="20707" y="11010"/>
                  </a:lnTo>
                  <a:lnTo>
                    <a:pt x="21582" y="11078"/>
                  </a:lnTo>
                  <a:lnTo>
                    <a:pt x="22626" y="11212"/>
                  </a:lnTo>
                  <a:lnTo>
                    <a:pt x="23636" y="11347"/>
                  </a:lnTo>
                  <a:lnTo>
                    <a:pt x="25689" y="11684"/>
                  </a:lnTo>
                  <a:lnTo>
                    <a:pt x="27743" y="12054"/>
                  </a:lnTo>
                  <a:lnTo>
                    <a:pt x="29797" y="12391"/>
                  </a:lnTo>
                  <a:lnTo>
                    <a:pt x="29427" y="14882"/>
                  </a:lnTo>
                  <a:lnTo>
                    <a:pt x="29460" y="14949"/>
                  </a:lnTo>
                  <a:lnTo>
                    <a:pt x="29460" y="14983"/>
                  </a:lnTo>
                  <a:lnTo>
                    <a:pt x="29528" y="15017"/>
                  </a:lnTo>
                  <a:lnTo>
                    <a:pt x="29629" y="14983"/>
                  </a:lnTo>
                  <a:lnTo>
                    <a:pt x="29629" y="14949"/>
                  </a:lnTo>
                  <a:lnTo>
                    <a:pt x="29662" y="14916"/>
                  </a:lnTo>
                  <a:lnTo>
                    <a:pt x="29797" y="14815"/>
                  </a:lnTo>
                  <a:lnTo>
                    <a:pt x="29932" y="14680"/>
                  </a:lnTo>
                  <a:lnTo>
                    <a:pt x="30066" y="14545"/>
                  </a:lnTo>
                  <a:lnTo>
                    <a:pt x="30201" y="14444"/>
                  </a:lnTo>
                  <a:lnTo>
                    <a:pt x="30268" y="14613"/>
                  </a:lnTo>
                  <a:lnTo>
                    <a:pt x="30369" y="14747"/>
                  </a:lnTo>
                  <a:lnTo>
                    <a:pt x="30470" y="14882"/>
                  </a:lnTo>
                  <a:lnTo>
                    <a:pt x="30605" y="15017"/>
                  </a:lnTo>
                  <a:lnTo>
                    <a:pt x="30571" y="15151"/>
                  </a:lnTo>
                  <a:lnTo>
                    <a:pt x="30571" y="15219"/>
                  </a:lnTo>
                  <a:lnTo>
                    <a:pt x="30605" y="15252"/>
                  </a:lnTo>
                  <a:lnTo>
                    <a:pt x="30740" y="15252"/>
                  </a:lnTo>
                  <a:lnTo>
                    <a:pt x="30773" y="15219"/>
                  </a:lnTo>
                  <a:lnTo>
                    <a:pt x="30807" y="15151"/>
                  </a:lnTo>
                  <a:lnTo>
                    <a:pt x="30807" y="14949"/>
                  </a:lnTo>
                  <a:lnTo>
                    <a:pt x="31076" y="12492"/>
                  </a:lnTo>
                  <a:lnTo>
                    <a:pt x="31682" y="12593"/>
                  </a:lnTo>
                  <a:lnTo>
                    <a:pt x="32288" y="12694"/>
                  </a:lnTo>
                  <a:lnTo>
                    <a:pt x="-32069" y="12795"/>
                  </a:lnTo>
                  <a:lnTo>
                    <a:pt x="-31295" y="12896"/>
                  </a:lnTo>
                  <a:lnTo>
                    <a:pt x="-30925" y="12963"/>
                  </a:lnTo>
                  <a:lnTo>
                    <a:pt x="-30554" y="13064"/>
                  </a:lnTo>
                  <a:lnTo>
                    <a:pt x="-30285" y="13131"/>
                  </a:lnTo>
                  <a:lnTo>
                    <a:pt x="-30016" y="13165"/>
                  </a:lnTo>
                  <a:lnTo>
                    <a:pt x="-29780" y="13199"/>
                  </a:lnTo>
                  <a:lnTo>
                    <a:pt x="-29511" y="13165"/>
                  </a:lnTo>
                  <a:lnTo>
                    <a:pt x="-28871" y="13165"/>
                  </a:lnTo>
                  <a:lnTo>
                    <a:pt x="-28568" y="13232"/>
                  </a:lnTo>
                  <a:lnTo>
                    <a:pt x="-28298" y="13300"/>
                  </a:lnTo>
                  <a:lnTo>
                    <a:pt x="-27692" y="13434"/>
                  </a:lnTo>
                  <a:lnTo>
                    <a:pt x="-27389" y="13502"/>
                  </a:lnTo>
                  <a:lnTo>
                    <a:pt x="-27086" y="13502"/>
                  </a:lnTo>
                  <a:lnTo>
                    <a:pt x="-26346" y="13569"/>
                  </a:lnTo>
                  <a:lnTo>
                    <a:pt x="-25571" y="13670"/>
                  </a:lnTo>
                  <a:lnTo>
                    <a:pt x="-24090" y="13872"/>
                  </a:lnTo>
                  <a:lnTo>
                    <a:pt x="-21262" y="14377"/>
                  </a:lnTo>
                  <a:lnTo>
                    <a:pt x="-20016" y="14646"/>
                  </a:lnTo>
                  <a:lnTo>
                    <a:pt x="-19376" y="14714"/>
                  </a:lnTo>
                  <a:lnTo>
                    <a:pt x="-18737" y="14747"/>
                  </a:lnTo>
                  <a:lnTo>
                    <a:pt x="-18467" y="14714"/>
                  </a:lnTo>
                  <a:lnTo>
                    <a:pt x="-18198" y="14646"/>
                  </a:lnTo>
                  <a:lnTo>
                    <a:pt x="-17996" y="14579"/>
                  </a:lnTo>
                  <a:lnTo>
                    <a:pt x="-17794" y="14444"/>
                  </a:lnTo>
                  <a:lnTo>
                    <a:pt x="-17626" y="14310"/>
                  </a:lnTo>
                  <a:lnTo>
                    <a:pt x="-17457" y="14141"/>
                  </a:lnTo>
                  <a:lnTo>
                    <a:pt x="-17323" y="13939"/>
                  </a:lnTo>
                  <a:lnTo>
                    <a:pt x="-17222" y="13737"/>
                  </a:lnTo>
                  <a:lnTo>
                    <a:pt x="-17154" y="13535"/>
                  </a:lnTo>
                  <a:lnTo>
                    <a:pt x="-17087" y="13300"/>
                  </a:lnTo>
                  <a:lnTo>
                    <a:pt x="-16986" y="12828"/>
                  </a:lnTo>
                  <a:lnTo>
                    <a:pt x="-16952" y="12323"/>
                  </a:lnTo>
                  <a:lnTo>
                    <a:pt x="-16952" y="11852"/>
                  </a:lnTo>
                  <a:lnTo>
                    <a:pt x="-16784" y="11111"/>
                  </a:lnTo>
                  <a:lnTo>
                    <a:pt x="-16649" y="10404"/>
                  </a:lnTo>
                  <a:lnTo>
                    <a:pt x="-16414" y="8956"/>
                  </a:lnTo>
                  <a:lnTo>
                    <a:pt x="-15841" y="5522"/>
                  </a:lnTo>
                  <a:lnTo>
                    <a:pt x="-14865" y="1"/>
                  </a:lnTo>
                  <a:lnTo>
                    <a:pt x="-15134" y="1"/>
                  </a:lnTo>
                  <a:lnTo>
                    <a:pt x="-16111" y="5455"/>
                  </a:lnTo>
                  <a:lnTo>
                    <a:pt x="-16683" y="8855"/>
                  </a:lnTo>
                  <a:lnTo>
                    <a:pt x="-16885" y="10269"/>
                  </a:lnTo>
                  <a:lnTo>
                    <a:pt x="-16986" y="10977"/>
                  </a:lnTo>
                  <a:lnTo>
                    <a:pt x="-17053" y="11684"/>
                  </a:lnTo>
                  <a:lnTo>
                    <a:pt x="-17121" y="11684"/>
                  </a:lnTo>
                  <a:lnTo>
                    <a:pt x="-17154" y="11785"/>
                  </a:lnTo>
                  <a:lnTo>
                    <a:pt x="-17154" y="12492"/>
                  </a:lnTo>
                  <a:lnTo>
                    <a:pt x="-17188" y="12828"/>
                  </a:lnTo>
                  <a:lnTo>
                    <a:pt x="-17255" y="13199"/>
                  </a:lnTo>
                  <a:lnTo>
                    <a:pt x="-17356" y="13502"/>
                  </a:lnTo>
                  <a:lnTo>
                    <a:pt x="-17525" y="13805"/>
                  </a:lnTo>
                  <a:lnTo>
                    <a:pt x="-17760" y="14074"/>
                  </a:lnTo>
                  <a:lnTo>
                    <a:pt x="-17895" y="14209"/>
                  </a:lnTo>
                  <a:lnTo>
                    <a:pt x="-18063" y="14310"/>
                  </a:lnTo>
                  <a:lnTo>
                    <a:pt x="-18198" y="14377"/>
                  </a:lnTo>
                  <a:lnTo>
                    <a:pt x="-18333" y="14444"/>
                  </a:lnTo>
                  <a:lnTo>
                    <a:pt x="-18669" y="14512"/>
                  </a:lnTo>
                  <a:lnTo>
                    <a:pt x="-19006" y="14512"/>
                  </a:lnTo>
                  <a:lnTo>
                    <a:pt x="-19376" y="14478"/>
                  </a:lnTo>
                  <a:lnTo>
                    <a:pt x="-20050" y="14377"/>
                  </a:lnTo>
                  <a:lnTo>
                    <a:pt x="-20689" y="14242"/>
                  </a:lnTo>
                  <a:lnTo>
                    <a:pt x="-23248" y="13771"/>
                  </a:lnTo>
                  <a:lnTo>
                    <a:pt x="-25807" y="13367"/>
                  </a:lnTo>
                  <a:lnTo>
                    <a:pt x="-26312" y="13300"/>
                  </a:lnTo>
                  <a:lnTo>
                    <a:pt x="-26851" y="13266"/>
                  </a:lnTo>
                  <a:lnTo>
                    <a:pt x="-27356" y="13232"/>
                  </a:lnTo>
                  <a:lnTo>
                    <a:pt x="-27625" y="13199"/>
                  </a:lnTo>
                  <a:lnTo>
                    <a:pt x="-27894" y="13098"/>
                  </a:lnTo>
                  <a:lnTo>
                    <a:pt x="-28130" y="13030"/>
                  </a:lnTo>
                  <a:lnTo>
                    <a:pt x="-28366" y="12997"/>
                  </a:lnTo>
                  <a:lnTo>
                    <a:pt x="-28871" y="12963"/>
                  </a:lnTo>
                  <a:lnTo>
                    <a:pt x="-29376" y="12963"/>
                  </a:lnTo>
                  <a:lnTo>
                    <a:pt x="-29881" y="12997"/>
                  </a:lnTo>
                  <a:lnTo>
                    <a:pt x="-30049" y="12997"/>
                  </a:lnTo>
                  <a:lnTo>
                    <a:pt x="-30184" y="12963"/>
                  </a:lnTo>
                  <a:lnTo>
                    <a:pt x="-30521" y="12862"/>
                  </a:lnTo>
                  <a:lnTo>
                    <a:pt x="-30824" y="12761"/>
                  </a:lnTo>
                  <a:lnTo>
                    <a:pt x="-31127" y="12694"/>
                  </a:lnTo>
                  <a:lnTo>
                    <a:pt x="-31598" y="12626"/>
                  </a:lnTo>
                  <a:lnTo>
                    <a:pt x="-32069" y="12559"/>
                  </a:lnTo>
                  <a:lnTo>
                    <a:pt x="32288" y="12424"/>
                  </a:lnTo>
                  <a:lnTo>
                    <a:pt x="31682" y="12391"/>
                  </a:lnTo>
                  <a:lnTo>
                    <a:pt x="31110" y="12357"/>
                  </a:lnTo>
                  <a:lnTo>
                    <a:pt x="31211" y="11482"/>
                  </a:lnTo>
                  <a:lnTo>
                    <a:pt x="31783" y="11650"/>
                  </a:lnTo>
                  <a:lnTo>
                    <a:pt x="32389" y="11785"/>
                  </a:lnTo>
                  <a:lnTo>
                    <a:pt x="-31935" y="12020"/>
                  </a:lnTo>
                  <a:lnTo>
                    <a:pt x="-29511" y="12424"/>
                  </a:lnTo>
                  <a:lnTo>
                    <a:pt x="-27053" y="12828"/>
                  </a:lnTo>
                  <a:lnTo>
                    <a:pt x="-24595" y="13165"/>
                  </a:lnTo>
                  <a:lnTo>
                    <a:pt x="-22003" y="13502"/>
                  </a:lnTo>
                  <a:lnTo>
                    <a:pt x="-20892" y="13603"/>
                  </a:lnTo>
                  <a:lnTo>
                    <a:pt x="-20319" y="13636"/>
                  </a:lnTo>
                  <a:lnTo>
                    <a:pt x="-20050" y="13636"/>
                  </a:lnTo>
                  <a:lnTo>
                    <a:pt x="-19747" y="13603"/>
                  </a:lnTo>
                  <a:lnTo>
                    <a:pt x="-19343" y="13502"/>
                  </a:lnTo>
                  <a:lnTo>
                    <a:pt x="-19006" y="13333"/>
                  </a:lnTo>
                  <a:lnTo>
                    <a:pt x="-18703" y="13131"/>
                  </a:lnTo>
                  <a:lnTo>
                    <a:pt x="-18467" y="12896"/>
                  </a:lnTo>
                  <a:lnTo>
                    <a:pt x="-18265" y="12593"/>
                  </a:lnTo>
                  <a:lnTo>
                    <a:pt x="-18131" y="12256"/>
                  </a:lnTo>
                  <a:lnTo>
                    <a:pt x="-18063" y="11886"/>
                  </a:lnTo>
                  <a:lnTo>
                    <a:pt x="-18030" y="11448"/>
                  </a:lnTo>
                  <a:lnTo>
                    <a:pt x="-18063" y="11414"/>
                  </a:lnTo>
                  <a:lnTo>
                    <a:pt x="-17828" y="10707"/>
                  </a:lnTo>
                  <a:lnTo>
                    <a:pt x="-17693" y="10000"/>
                  </a:lnTo>
                  <a:lnTo>
                    <a:pt x="-17424" y="8552"/>
                  </a:lnTo>
                  <a:lnTo>
                    <a:pt x="-17154" y="6970"/>
                  </a:lnTo>
                  <a:lnTo>
                    <a:pt x="-16919" y="5388"/>
                  </a:lnTo>
                  <a:lnTo>
                    <a:pt x="-16582" y="2694"/>
                  </a:lnTo>
                  <a:lnTo>
                    <a:pt x="-16279" y="1"/>
                  </a:lnTo>
                  <a:lnTo>
                    <a:pt x="-16548" y="1"/>
                  </a:lnTo>
                  <a:lnTo>
                    <a:pt x="-16851" y="2795"/>
                  </a:lnTo>
                  <a:lnTo>
                    <a:pt x="-17222" y="5590"/>
                  </a:lnTo>
                  <a:lnTo>
                    <a:pt x="-17457" y="7172"/>
                  </a:lnTo>
                  <a:lnTo>
                    <a:pt x="-17693" y="8721"/>
                  </a:lnTo>
                  <a:lnTo>
                    <a:pt x="-17962" y="10034"/>
                  </a:lnTo>
                  <a:lnTo>
                    <a:pt x="-18063" y="10707"/>
                  </a:lnTo>
                  <a:lnTo>
                    <a:pt x="-18131" y="11381"/>
                  </a:lnTo>
                  <a:lnTo>
                    <a:pt x="-18198" y="11381"/>
                  </a:lnTo>
                  <a:lnTo>
                    <a:pt x="-18232" y="11448"/>
                  </a:lnTo>
                  <a:lnTo>
                    <a:pt x="-18232" y="11785"/>
                  </a:lnTo>
                  <a:lnTo>
                    <a:pt x="-18299" y="12088"/>
                  </a:lnTo>
                  <a:lnTo>
                    <a:pt x="-18366" y="12357"/>
                  </a:lnTo>
                  <a:lnTo>
                    <a:pt x="-18501" y="12593"/>
                  </a:lnTo>
                  <a:lnTo>
                    <a:pt x="-18636" y="12828"/>
                  </a:lnTo>
                  <a:lnTo>
                    <a:pt x="-18838" y="12997"/>
                  </a:lnTo>
                  <a:lnTo>
                    <a:pt x="-19107" y="13165"/>
                  </a:lnTo>
                  <a:lnTo>
                    <a:pt x="-19410" y="13300"/>
                  </a:lnTo>
                  <a:lnTo>
                    <a:pt x="-19646" y="13367"/>
                  </a:lnTo>
                  <a:lnTo>
                    <a:pt x="-19915" y="13434"/>
                  </a:lnTo>
                  <a:lnTo>
                    <a:pt x="-20420" y="13434"/>
                  </a:lnTo>
                  <a:lnTo>
                    <a:pt x="-20959" y="13401"/>
                  </a:lnTo>
                  <a:lnTo>
                    <a:pt x="-21464" y="13333"/>
                  </a:lnTo>
                  <a:lnTo>
                    <a:pt x="-23787" y="13064"/>
                  </a:lnTo>
                  <a:lnTo>
                    <a:pt x="-26110" y="12761"/>
                  </a:lnTo>
                  <a:lnTo>
                    <a:pt x="-28197" y="12458"/>
                  </a:lnTo>
                  <a:lnTo>
                    <a:pt x="-30251" y="12121"/>
                  </a:lnTo>
                  <a:lnTo>
                    <a:pt x="-31261" y="11919"/>
                  </a:lnTo>
                  <a:lnTo>
                    <a:pt x="-32271" y="11717"/>
                  </a:lnTo>
                  <a:lnTo>
                    <a:pt x="32221" y="11515"/>
                  </a:lnTo>
                  <a:lnTo>
                    <a:pt x="31211" y="11347"/>
                  </a:lnTo>
                  <a:lnTo>
                    <a:pt x="31480" y="9192"/>
                  </a:lnTo>
                  <a:lnTo>
                    <a:pt x="31750" y="7037"/>
                  </a:lnTo>
                  <a:lnTo>
                    <a:pt x="32322" y="3132"/>
                  </a:lnTo>
                  <a:lnTo>
                    <a:pt x="32457" y="2357"/>
                  </a:lnTo>
                  <a:lnTo>
                    <a:pt x="32591" y="1583"/>
                  </a:lnTo>
                  <a:lnTo>
                    <a:pt x="32726" y="775"/>
                  </a:lnTo>
                  <a:lnTo>
                    <a:pt x="-32709" y="1"/>
                  </a:lnTo>
                  <a:lnTo>
                    <a:pt x="32625" y="1"/>
                  </a:lnTo>
                  <a:lnTo>
                    <a:pt x="32457" y="809"/>
                  </a:lnTo>
                  <a:lnTo>
                    <a:pt x="32322" y="1650"/>
                  </a:lnTo>
                  <a:lnTo>
                    <a:pt x="32086" y="3334"/>
                  </a:lnTo>
                  <a:lnTo>
                    <a:pt x="31783" y="5287"/>
                  </a:lnTo>
                  <a:lnTo>
                    <a:pt x="31514" y="7273"/>
                  </a:lnTo>
                  <a:lnTo>
                    <a:pt x="31043" y="10977"/>
                  </a:lnTo>
                  <a:lnTo>
                    <a:pt x="30639" y="14680"/>
                  </a:lnTo>
                  <a:lnTo>
                    <a:pt x="30504" y="14478"/>
                  </a:lnTo>
                  <a:lnTo>
                    <a:pt x="30403" y="14242"/>
                  </a:lnTo>
                  <a:lnTo>
                    <a:pt x="30336" y="14175"/>
                  </a:lnTo>
                  <a:lnTo>
                    <a:pt x="30235" y="14175"/>
                  </a:lnTo>
                  <a:lnTo>
                    <a:pt x="30134" y="14209"/>
                  </a:lnTo>
                  <a:lnTo>
                    <a:pt x="30033" y="14276"/>
                  </a:lnTo>
                  <a:lnTo>
                    <a:pt x="29831" y="14444"/>
                  </a:lnTo>
                  <a:lnTo>
                    <a:pt x="29696" y="14613"/>
                  </a:lnTo>
                  <a:lnTo>
                    <a:pt x="29999" y="12424"/>
                  </a:lnTo>
                  <a:lnTo>
                    <a:pt x="30066" y="12391"/>
                  </a:lnTo>
                  <a:lnTo>
                    <a:pt x="30066" y="12323"/>
                  </a:lnTo>
                  <a:lnTo>
                    <a:pt x="30066" y="12256"/>
                  </a:lnTo>
                  <a:lnTo>
                    <a:pt x="30033" y="12222"/>
                  </a:lnTo>
                  <a:lnTo>
                    <a:pt x="30740" y="7206"/>
                  </a:lnTo>
                  <a:lnTo>
                    <a:pt x="31009" y="5421"/>
                  </a:lnTo>
                  <a:lnTo>
                    <a:pt x="31312" y="3603"/>
                  </a:lnTo>
                  <a:lnTo>
                    <a:pt x="31581" y="1819"/>
                  </a:lnTo>
                  <a:lnTo>
                    <a:pt x="31682" y="910"/>
                  </a:lnTo>
                  <a:lnTo>
                    <a:pt x="31783" y="1"/>
                  </a:lnTo>
                  <a:lnTo>
                    <a:pt x="31615" y="1"/>
                  </a:lnTo>
                  <a:lnTo>
                    <a:pt x="31413" y="876"/>
                  </a:lnTo>
                  <a:lnTo>
                    <a:pt x="31278" y="1785"/>
                  </a:lnTo>
                  <a:lnTo>
                    <a:pt x="31009" y="3570"/>
                  </a:lnTo>
                  <a:lnTo>
                    <a:pt x="30773" y="5354"/>
                  </a:lnTo>
                  <a:lnTo>
                    <a:pt x="30538" y="7138"/>
                  </a:lnTo>
                  <a:lnTo>
                    <a:pt x="29965" y="11145"/>
                  </a:lnTo>
                  <a:lnTo>
                    <a:pt x="29427" y="11111"/>
                  </a:lnTo>
                  <a:lnTo>
                    <a:pt x="30033" y="5421"/>
                  </a:lnTo>
                  <a:lnTo>
                    <a:pt x="30201" y="4075"/>
                  </a:lnTo>
                  <a:lnTo>
                    <a:pt x="30369" y="2728"/>
                  </a:lnTo>
                  <a:lnTo>
                    <a:pt x="30571" y="1347"/>
                  </a:lnTo>
                  <a:lnTo>
                    <a:pt x="30706" y="1"/>
                  </a:lnTo>
                  <a:lnTo>
                    <a:pt x="30470" y="1"/>
                  </a:lnTo>
                  <a:lnTo>
                    <a:pt x="30268" y="1280"/>
                  </a:lnTo>
                  <a:lnTo>
                    <a:pt x="30100" y="2593"/>
                  </a:lnTo>
                  <a:lnTo>
                    <a:pt x="29965" y="3873"/>
                  </a:lnTo>
                  <a:lnTo>
                    <a:pt x="29831" y="5152"/>
                  </a:lnTo>
                  <a:lnTo>
                    <a:pt x="29494" y="8115"/>
                  </a:lnTo>
                  <a:lnTo>
                    <a:pt x="29157" y="11111"/>
                  </a:lnTo>
                  <a:lnTo>
                    <a:pt x="27709" y="11010"/>
                  </a:lnTo>
                  <a:lnTo>
                    <a:pt x="26228" y="10909"/>
                  </a:lnTo>
                  <a:lnTo>
                    <a:pt x="25487" y="10808"/>
                  </a:lnTo>
                  <a:lnTo>
                    <a:pt x="24780" y="10741"/>
                  </a:lnTo>
                  <a:lnTo>
                    <a:pt x="24040" y="10606"/>
                  </a:lnTo>
                  <a:lnTo>
                    <a:pt x="23333" y="10438"/>
                  </a:lnTo>
                  <a:lnTo>
                    <a:pt x="21750" y="10101"/>
                  </a:lnTo>
                  <a:lnTo>
                    <a:pt x="20942" y="9933"/>
                  </a:lnTo>
                  <a:lnTo>
                    <a:pt x="20134" y="9798"/>
                  </a:lnTo>
                  <a:lnTo>
                    <a:pt x="19562" y="9731"/>
                  </a:lnTo>
                  <a:lnTo>
                    <a:pt x="19259" y="9697"/>
                  </a:lnTo>
                  <a:lnTo>
                    <a:pt x="18989" y="9596"/>
                  </a:lnTo>
                  <a:lnTo>
                    <a:pt x="18754" y="9529"/>
                  </a:lnTo>
                  <a:lnTo>
                    <a:pt x="18518" y="9495"/>
                  </a:lnTo>
                  <a:lnTo>
                    <a:pt x="18282" y="9495"/>
                  </a:lnTo>
                  <a:lnTo>
                    <a:pt x="18047" y="9562"/>
                  </a:lnTo>
                  <a:lnTo>
                    <a:pt x="18013" y="9596"/>
                  </a:lnTo>
                  <a:lnTo>
                    <a:pt x="17979" y="9663"/>
                  </a:lnTo>
                  <a:lnTo>
                    <a:pt x="18013" y="9697"/>
                  </a:lnTo>
                  <a:lnTo>
                    <a:pt x="18417" y="9697"/>
                  </a:lnTo>
                  <a:lnTo>
                    <a:pt x="18754" y="9731"/>
                  </a:lnTo>
                  <a:lnTo>
                    <a:pt x="18922" y="9832"/>
                  </a:lnTo>
                  <a:lnTo>
                    <a:pt x="19023" y="9865"/>
                  </a:lnTo>
                  <a:lnTo>
                    <a:pt x="19124" y="9899"/>
                  </a:lnTo>
                  <a:lnTo>
                    <a:pt x="19966" y="10034"/>
                  </a:lnTo>
                  <a:lnTo>
                    <a:pt x="20841" y="10135"/>
                  </a:lnTo>
                  <a:lnTo>
                    <a:pt x="21616" y="10303"/>
                  </a:lnTo>
                  <a:lnTo>
                    <a:pt x="22424" y="10471"/>
                  </a:lnTo>
                  <a:lnTo>
                    <a:pt x="23972" y="10842"/>
                  </a:lnTo>
                  <a:lnTo>
                    <a:pt x="24612" y="10977"/>
                  </a:lnTo>
                  <a:lnTo>
                    <a:pt x="25252" y="11078"/>
                  </a:lnTo>
                  <a:lnTo>
                    <a:pt x="26531" y="11212"/>
                  </a:lnTo>
                  <a:lnTo>
                    <a:pt x="27844" y="11280"/>
                  </a:lnTo>
                  <a:lnTo>
                    <a:pt x="29124" y="11347"/>
                  </a:lnTo>
                  <a:lnTo>
                    <a:pt x="29124" y="11482"/>
                  </a:lnTo>
                  <a:lnTo>
                    <a:pt x="29124" y="11549"/>
                  </a:lnTo>
                  <a:lnTo>
                    <a:pt x="29157" y="11583"/>
                  </a:lnTo>
                  <a:lnTo>
                    <a:pt x="29225" y="11616"/>
                  </a:lnTo>
                  <a:lnTo>
                    <a:pt x="29326" y="11583"/>
                  </a:lnTo>
                  <a:lnTo>
                    <a:pt x="29359" y="11549"/>
                  </a:lnTo>
                  <a:lnTo>
                    <a:pt x="29359" y="11482"/>
                  </a:lnTo>
                  <a:lnTo>
                    <a:pt x="29393" y="11381"/>
                  </a:lnTo>
                  <a:lnTo>
                    <a:pt x="29932" y="11414"/>
                  </a:lnTo>
                  <a:lnTo>
                    <a:pt x="29797" y="12189"/>
                  </a:lnTo>
                  <a:lnTo>
                    <a:pt x="27945" y="11818"/>
                  </a:lnTo>
                  <a:lnTo>
                    <a:pt x="26093" y="11515"/>
                  </a:lnTo>
                  <a:lnTo>
                    <a:pt x="24242" y="11246"/>
                  </a:lnTo>
                  <a:lnTo>
                    <a:pt x="22356" y="10977"/>
                  </a:lnTo>
                  <a:lnTo>
                    <a:pt x="21414" y="10876"/>
                  </a:lnTo>
                  <a:lnTo>
                    <a:pt x="20471" y="10775"/>
                  </a:lnTo>
                  <a:lnTo>
                    <a:pt x="18585" y="10606"/>
                  </a:lnTo>
                  <a:lnTo>
                    <a:pt x="17643" y="10505"/>
                  </a:lnTo>
                  <a:lnTo>
                    <a:pt x="16734" y="10337"/>
                  </a:lnTo>
                  <a:lnTo>
                    <a:pt x="15825" y="10168"/>
                  </a:lnTo>
                  <a:lnTo>
                    <a:pt x="14916" y="9933"/>
                  </a:lnTo>
                  <a:lnTo>
                    <a:pt x="16330" y="9764"/>
                  </a:lnTo>
                  <a:lnTo>
                    <a:pt x="17744" y="9562"/>
                  </a:lnTo>
                  <a:lnTo>
                    <a:pt x="17777" y="9596"/>
                  </a:lnTo>
                  <a:lnTo>
                    <a:pt x="17845" y="9630"/>
                  </a:lnTo>
                  <a:lnTo>
                    <a:pt x="17912" y="9596"/>
                  </a:lnTo>
                  <a:lnTo>
                    <a:pt x="17946" y="9529"/>
                  </a:lnTo>
                  <a:lnTo>
                    <a:pt x="17979" y="9529"/>
                  </a:lnTo>
                  <a:lnTo>
                    <a:pt x="18013" y="9495"/>
                  </a:lnTo>
                  <a:lnTo>
                    <a:pt x="18047" y="9461"/>
                  </a:lnTo>
                  <a:lnTo>
                    <a:pt x="18282" y="9428"/>
                  </a:lnTo>
                  <a:lnTo>
                    <a:pt x="18552" y="9394"/>
                  </a:lnTo>
                  <a:lnTo>
                    <a:pt x="19023" y="9327"/>
                  </a:lnTo>
                  <a:lnTo>
                    <a:pt x="20505" y="9158"/>
                  </a:lnTo>
                  <a:lnTo>
                    <a:pt x="22289" y="8956"/>
                  </a:lnTo>
                  <a:lnTo>
                    <a:pt x="22323" y="8956"/>
                  </a:lnTo>
                  <a:lnTo>
                    <a:pt x="22356" y="8923"/>
                  </a:lnTo>
                  <a:lnTo>
                    <a:pt x="23030" y="8855"/>
                  </a:lnTo>
                  <a:lnTo>
                    <a:pt x="23097" y="8822"/>
                  </a:lnTo>
                  <a:lnTo>
                    <a:pt x="23097" y="8754"/>
                  </a:lnTo>
                  <a:lnTo>
                    <a:pt x="23097" y="8721"/>
                  </a:lnTo>
                  <a:lnTo>
                    <a:pt x="23063" y="8653"/>
                  </a:lnTo>
                  <a:lnTo>
                    <a:pt x="22962" y="8216"/>
                  </a:lnTo>
                  <a:lnTo>
                    <a:pt x="22895" y="7744"/>
                  </a:lnTo>
                  <a:lnTo>
                    <a:pt x="22828" y="6835"/>
                  </a:lnTo>
                  <a:lnTo>
                    <a:pt x="22794" y="5893"/>
                  </a:lnTo>
                  <a:lnTo>
                    <a:pt x="22760" y="5421"/>
                  </a:lnTo>
                  <a:lnTo>
                    <a:pt x="22659" y="4984"/>
                  </a:lnTo>
                  <a:lnTo>
                    <a:pt x="22659" y="4950"/>
                  </a:lnTo>
                  <a:lnTo>
                    <a:pt x="22626" y="4950"/>
                  </a:lnTo>
                  <a:lnTo>
                    <a:pt x="22592" y="4984"/>
                  </a:lnTo>
                  <a:lnTo>
                    <a:pt x="22592" y="5017"/>
                  </a:lnTo>
                  <a:lnTo>
                    <a:pt x="22558" y="5017"/>
                  </a:lnTo>
                  <a:lnTo>
                    <a:pt x="19764" y="5152"/>
                  </a:lnTo>
                  <a:lnTo>
                    <a:pt x="19191" y="5152"/>
                  </a:lnTo>
                  <a:lnTo>
                    <a:pt x="18653" y="5186"/>
                  </a:lnTo>
                  <a:lnTo>
                    <a:pt x="18080" y="5287"/>
                  </a:lnTo>
                  <a:lnTo>
                    <a:pt x="17811" y="5354"/>
                  </a:lnTo>
                  <a:lnTo>
                    <a:pt x="17542" y="5455"/>
                  </a:lnTo>
                  <a:lnTo>
                    <a:pt x="17542" y="5421"/>
                  </a:lnTo>
                  <a:lnTo>
                    <a:pt x="17508" y="5388"/>
                  </a:lnTo>
                  <a:lnTo>
                    <a:pt x="17474" y="5388"/>
                  </a:lnTo>
                  <a:lnTo>
                    <a:pt x="17441" y="5354"/>
                  </a:lnTo>
                  <a:lnTo>
                    <a:pt x="17373" y="5354"/>
                  </a:lnTo>
                  <a:lnTo>
                    <a:pt x="14040" y="5556"/>
                  </a:lnTo>
                  <a:lnTo>
                    <a:pt x="12391" y="5691"/>
                  </a:lnTo>
                  <a:lnTo>
                    <a:pt x="10741" y="5859"/>
                  </a:lnTo>
                  <a:lnTo>
                    <a:pt x="9865" y="5926"/>
                  </a:lnTo>
                  <a:lnTo>
                    <a:pt x="10000" y="5657"/>
                  </a:lnTo>
                  <a:lnTo>
                    <a:pt x="10067" y="5320"/>
                  </a:lnTo>
                  <a:lnTo>
                    <a:pt x="10168" y="4714"/>
                  </a:lnTo>
                  <a:lnTo>
                    <a:pt x="10303" y="3940"/>
                  </a:lnTo>
                  <a:lnTo>
                    <a:pt x="10404" y="3166"/>
                  </a:lnTo>
                  <a:lnTo>
                    <a:pt x="10505" y="2391"/>
                  </a:lnTo>
                  <a:lnTo>
                    <a:pt x="10640" y="1583"/>
                  </a:lnTo>
                  <a:lnTo>
                    <a:pt x="10774" y="809"/>
                  </a:lnTo>
                  <a:lnTo>
                    <a:pt x="1090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hape 952"/>
            <p:cNvSpPr/>
            <p:nvPr/>
          </p:nvSpPr>
          <p:spPr>
            <a:xfrm>
              <a:off x="8721720" y="4059360"/>
              <a:ext cx="87120" cy="63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14" h="943">
                  <a:moveTo>
                    <a:pt x="943" y="0"/>
                  </a:moveTo>
                  <a:lnTo>
                    <a:pt x="471" y="169"/>
                  </a:lnTo>
                  <a:lnTo>
                    <a:pt x="236" y="236"/>
                  </a:lnTo>
                  <a:lnTo>
                    <a:pt x="168" y="270"/>
                  </a:lnTo>
                  <a:lnTo>
                    <a:pt x="101" y="270"/>
                  </a:lnTo>
                  <a:lnTo>
                    <a:pt x="101" y="236"/>
                  </a:lnTo>
                  <a:lnTo>
                    <a:pt x="34" y="236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34" y="337"/>
                  </a:lnTo>
                  <a:lnTo>
                    <a:pt x="67" y="404"/>
                  </a:lnTo>
                  <a:lnTo>
                    <a:pt x="101" y="404"/>
                  </a:lnTo>
                  <a:lnTo>
                    <a:pt x="168" y="438"/>
                  </a:lnTo>
                  <a:lnTo>
                    <a:pt x="269" y="438"/>
                  </a:lnTo>
                  <a:lnTo>
                    <a:pt x="572" y="404"/>
                  </a:lnTo>
                  <a:lnTo>
                    <a:pt x="875" y="303"/>
                  </a:lnTo>
                  <a:lnTo>
                    <a:pt x="909" y="472"/>
                  </a:lnTo>
                  <a:lnTo>
                    <a:pt x="976" y="606"/>
                  </a:lnTo>
                  <a:lnTo>
                    <a:pt x="875" y="606"/>
                  </a:lnTo>
                  <a:lnTo>
                    <a:pt x="808" y="674"/>
                  </a:lnTo>
                  <a:lnTo>
                    <a:pt x="640" y="741"/>
                  </a:lnTo>
                  <a:lnTo>
                    <a:pt x="572" y="775"/>
                  </a:lnTo>
                  <a:lnTo>
                    <a:pt x="539" y="775"/>
                  </a:lnTo>
                  <a:lnTo>
                    <a:pt x="572" y="741"/>
                  </a:lnTo>
                  <a:lnTo>
                    <a:pt x="707" y="674"/>
                  </a:lnTo>
                  <a:lnTo>
                    <a:pt x="842" y="573"/>
                  </a:lnTo>
                  <a:lnTo>
                    <a:pt x="842" y="539"/>
                  </a:lnTo>
                  <a:lnTo>
                    <a:pt x="842" y="505"/>
                  </a:lnTo>
                  <a:lnTo>
                    <a:pt x="808" y="472"/>
                  </a:lnTo>
                  <a:lnTo>
                    <a:pt x="741" y="438"/>
                  </a:lnTo>
                  <a:lnTo>
                    <a:pt x="572" y="539"/>
                  </a:lnTo>
                  <a:lnTo>
                    <a:pt x="370" y="640"/>
                  </a:lnTo>
                  <a:lnTo>
                    <a:pt x="269" y="741"/>
                  </a:lnTo>
                  <a:lnTo>
                    <a:pt x="236" y="775"/>
                  </a:lnTo>
                  <a:lnTo>
                    <a:pt x="269" y="842"/>
                  </a:lnTo>
                  <a:lnTo>
                    <a:pt x="303" y="876"/>
                  </a:lnTo>
                  <a:lnTo>
                    <a:pt x="337" y="876"/>
                  </a:lnTo>
                  <a:lnTo>
                    <a:pt x="438" y="808"/>
                  </a:lnTo>
                  <a:lnTo>
                    <a:pt x="438" y="876"/>
                  </a:lnTo>
                  <a:lnTo>
                    <a:pt x="471" y="909"/>
                  </a:lnTo>
                  <a:lnTo>
                    <a:pt x="539" y="943"/>
                  </a:lnTo>
                  <a:lnTo>
                    <a:pt x="707" y="909"/>
                  </a:lnTo>
                  <a:lnTo>
                    <a:pt x="875" y="808"/>
                  </a:lnTo>
                  <a:lnTo>
                    <a:pt x="976" y="741"/>
                  </a:lnTo>
                  <a:lnTo>
                    <a:pt x="1044" y="674"/>
                  </a:lnTo>
                  <a:lnTo>
                    <a:pt x="1111" y="741"/>
                  </a:lnTo>
                  <a:lnTo>
                    <a:pt x="1212" y="741"/>
                  </a:lnTo>
                  <a:lnTo>
                    <a:pt x="1279" y="707"/>
                  </a:lnTo>
                  <a:lnTo>
                    <a:pt x="1313" y="640"/>
                  </a:lnTo>
                  <a:lnTo>
                    <a:pt x="1279" y="573"/>
                  </a:lnTo>
                  <a:lnTo>
                    <a:pt x="1246" y="505"/>
                  </a:lnTo>
                  <a:lnTo>
                    <a:pt x="1145" y="303"/>
                  </a:lnTo>
                  <a:lnTo>
                    <a:pt x="1111" y="135"/>
                  </a:lnTo>
                  <a:lnTo>
                    <a:pt x="1111" y="6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3280" bIns="-53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hape 953"/>
            <p:cNvSpPr/>
            <p:nvPr/>
          </p:nvSpPr>
          <p:spPr>
            <a:xfrm>
              <a:off x="8388360" y="285120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8" h="708">
                  <a:moveTo>
                    <a:pt x="438" y="203"/>
                  </a:moveTo>
                  <a:lnTo>
                    <a:pt x="506" y="236"/>
                  </a:lnTo>
                  <a:lnTo>
                    <a:pt x="539" y="304"/>
                  </a:lnTo>
                  <a:lnTo>
                    <a:pt x="539" y="405"/>
                  </a:lnTo>
                  <a:lnTo>
                    <a:pt x="506" y="472"/>
                  </a:lnTo>
                  <a:lnTo>
                    <a:pt x="438" y="539"/>
                  </a:lnTo>
                  <a:lnTo>
                    <a:pt x="270" y="539"/>
                  </a:lnTo>
                  <a:lnTo>
                    <a:pt x="203" y="506"/>
                  </a:lnTo>
                  <a:lnTo>
                    <a:pt x="169" y="405"/>
                  </a:lnTo>
                  <a:lnTo>
                    <a:pt x="236" y="304"/>
                  </a:lnTo>
                  <a:lnTo>
                    <a:pt x="270" y="270"/>
                  </a:lnTo>
                  <a:lnTo>
                    <a:pt x="337" y="236"/>
                  </a:lnTo>
                  <a:lnTo>
                    <a:pt x="371" y="203"/>
                  </a:lnTo>
                  <a:close/>
                  <a:moveTo>
                    <a:pt x="337" y="1"/>
                  </a:moveTo>
                  <a:lnTo>
                    <a:pt x="270" y="34"/>
                  </a:lnTo>
                  <a:lnTo>
                    <a:pt x="203" y="68"/>
                  </a:lnTo>
                  <a:lnTo>
                    <a:pt x="135" y="135"/>
                  </a:lnTo>
                  <a:lnTo>
                    <a:pt x="102" y="203"/>
                  </a:lnTo>
                  <a:lnTo>
                    <a:pt x="102" y="236"/>
                  </a:lnTo>
                  <a:lnTo>
                    <a:pt x="34" y="337"/>
                  </a:lnTo>
                  <a:lnTo>
                    <a:pt x="1" y="438"/>
                  </a:lnTo>
                  <a:lnTo>
                    <a:pt x="34" y="539"/>
                  </a:lnTo>
                  <a:lnTo>
                    <a:pt x="68" y="607"/>
                  </a:lnTo>
                  <a:lnTo>
                    <a:pt x="135" y="674"/>
                  </a:lnTo>
                  <a:lnTo>
                    <a:pt x="203" y="708"/>
                  </a:lnTo>
                  <a:lnTo>
                    <a:pt x="371" y="708"/>
                  </a:lnTo>
                  <a:lnTo>
                    <a:pt x="506" y="674"/>
                  </a:lnTo>
                  <a:lnTo>
                    <a:pt x="607" y="640"/>
                  </a:lnTo>
                  <a:lnTo>
                    <a:pt x="640" y="573"/>
                  </a:lnTo>
                  <a:lnTo>
                    <a:pt x="708" y="438"/>
                  </a:lnTo>
                  <a:lnTo>
                    <a:pt x="708" y="270"/>
                  </a:lnTo>
                  <a:lnTo>
                    <a:pt x="674" y="169"/>
                  </a:lnTo>
                  <a:lnTo>
                    <a:pt x="640" y="102"/>
                  </a:lnTo>
                  <a:lnTo>
                    <a:pt x="573" y="68"/>
                  </a:lnTo>
                  <a:lnTo>
                    <a:pt x="506" y="34"/>
                  </a:lnTo>
                  <a:lnTo>
                    <a:pt x="33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hape 954"/>
            <p:cNvSpPr/>
            <p:nvPr/>
          </p:nvSpPr>
          <p:spPr>
            <a:xfrm>
              <a:off x="8717040" y="40878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38" h="607">
                  <a:moveTo>
                    <a:pt x="34" y="1"/>
                  </a:moveTo>
                  <a:lnTo>
                    <a:pt x="1" y="35"/>
                  </a:lnTo>
                  <a:lnTo>
                    <a:pt x="1" y="270"/>
                  </a:lnTo>
                  <a:lnTo>
                    <a:pt x="1" y="472"/>
                  </a:lnTo>
                  <a:lnTo>
                    <a:pt x="34" y="540"/>
                  </a:lnTo>
                  <a:lnTo>
                    <a:pt x="102" y="607"/>
                  </a:lnTo>
                  <a:lnTo>
                    <a:pt x="304" y="607"/>
                  </a:lnTo>
                  <a:lnTo>
                    <a:pt x="337" y="540"/>
                  </a:lnTo>
                  <a:lnTo>
                    <a:pt x="337" y="472"/>
                  </a:lnTo>
                  <a:lnTo>
                    <a:pt x="270" y="405"/>
                  </a:lnTo>
                  <a:lnTo>
                    <a:pt x="236" y="405"/>
                  </a:lnTo>
                  <a:lnTo>
                    <a:pt x="203" y="169"/>
                  </a:lnTo>
                  <a:lnTo>
                    <a:pt x="135" y="102"/>
                  </a:lnTo>
                  <a:lnTo>
                    <a:pt x="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5600" bIns="-756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hape 955"/>
            <p:cNvSpPr/>
            <p:nvPr/>
          </p:nvSpPr>
          <p:spPr>
            <a:xfrm>
              <a:off x="8121600" y="217440"/>
              <a:ext cx="156960" cy="23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357" h="371">
                  <a:moveTo>
                    <a:pt x="1448" y="1"/>
                  </a:moveTo>
                  <a:lnTo>
                    <a:pt x="741" y="34"/>
                  </a:lnTo>
                  <a:lnTo>
                    <a:pt x="370" y="68"/>
                  </a:lnTo>
                  <a:lnTo>
                    <a:pt x="34" y="135"/>
                  </a:lnTo>
                  <a:lnTo>
                    <a:pt x="0" y="169"/>
                  </a:lnTo>
                  <a:lnTo>
                    <a:pt x="34" y="169"/>
                  </a:lnTo>
                  <a:lnTo>
                    <a:pt x="303" y="203"/>
                  </a:lnTo>
                  <a:lnTo>
                    <a:pt x="606" y="203"/>
                  </a:lnTo>
                  <a:lnTo>
                    <a:pt x="1178" y="169"/>
                  </a:lnTo>
                  <a:lnTo>
                    <a:pt x="1448" y="169"/>
                  </a:lnTo>
                  <a:lnTo>
                    <a:pt x="1717" y="203"/>
                  </a:lnTo>
                  <a:lnTo>
                    <a:pt x="1986" y="236"/>
                  </a:lnTo>
                  <a:lnTo>
                    <a:pt x="2256" y="371"/>
                  </a:lnTo>
                  <a:lnTo>
                    <a:pt x="2323" y="371"/>
                  </a:lnTo>
                  <a:lnTo>
                    <a:pt x="2357" y="337"/>
                  </a:lnTo>
                  <a:lnTo>
                    <a:pt x="2357" y="304"/>
                  </a:lnTo>
                  <a:lnTo>
                    <a:pt x="2357" y="236"/>
                  </a:lnTo>
                  <a:lnTo>
                    <a:pt x="2256" y="169"/>
                  </a:lnTo>
                  <a:lnTo>
                    <a:pt x="2155" y="102"/>
                  </a:lnTo>
                  <a:lnTo>
                    <a:pt x="1919" y="34"/>
                  </a:lnTo>
                  <a:lnTo>
                    <a:pt x="168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2880" bIns="-92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hape 956"/>
            <p:cNvSpPr/>
            <p:nvPr/>
          </p:nvSpPr>
          <p:spPr>
            <a:xfrm>
              <a:off x="7716960" y="482400"/>
              <a:ext cx="284040" cy="968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276" h="1448">
                  <a:moveTo>
                    <a:pt x="4108" y="0"/>
                  </a:moveTo>
                  <a:lnTo>
                    <a:pt x="3872" y="67"/>
                  </a:lnTo>
                  <a:lnTo>
                    <a:pt x="3502" y="168"/>
                  </a:lnTo>
                  <a:lnTo>
                    <a:pt x="3131" y="303"/>
                  </a:lnTo>
                  <a:lnTo>
                    <a:pt x="2424" y="539"/>
                  </a:lnTo>
                  <a:lnTo>
                    <a:pt x="1212" y="943"/>
                  </a:lnTo>
                  <a:lnTo>
                    <a:pt x="606" y="1145"/>
                  </a:lnTo>
                  <a:lnTo>
                    <a:pt x="34" y="1380"/>
                  </a:lnTo>
                  <a:lnTo>
                    <a:pt x="0" y="1414"/>
                  </a:lnTo>
                  <a:lnTo>
                    <a:pt x="0" y="1448"/>
                  </a:lnTo>
                  <a:lnTo>
                    <a:pt x="34" y="1448"/>
                  </a:lnTo>
                  <a:lnTo>
                    <a:pt x="606" y="1347"/>
                  </a:lnTo>
                  <a:lnTo>
                    <a:pt x="1145" y="1178"/>
                  </a:lnTo>
                  <a:lnTo>
                    <a:pt x="2222" y="842"/>
                  </a:lnTo>
                  <a:lnTo>
                    <a:pt x="3266" y="539"/>
                  </a:lnTo>
                  <a:lnTo>
                    <a:pt x="3805" y="337"/>
                  </a:lnTo>
                  <a:lnTo>
                    <a:pt x="4040" y="236"/>
                  </a:lnTo>
                  <a:lnTo>
                    <a:pt x="4242" y="101"/>
                  </a:lnTo>
                  <a:lnTo>
                    <a:pt x="4276" y="67"/>
                  </a:lnTo>
                  <a:lnTo>
                    <a:pt x="4242" y="34"/>
                  </a:lnTo>
                  <a:lnTo>
                    <a:pt x="417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9800" bIns="-19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hape 957"/>
            <p:cNvSpPr/>
            <p:nvPr/>
          </p:nvSpPr>
          <p:spPr>
            <a:xfrm>
              <a:off x="8560080" y="2789280"/>
              <a:ext cx="141120" cy="53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23" h="809">
                  <a:moveTo>
                    <a:pt x="1920" y="1"/>
                  </a:moveTo>
                  <a:lnTo>
                    <a:pt x="1853" y="34"/>
                  </a:lnTo>
                  <a:lnTo>
                    <a:pt x="1617" y="102"/>
                  </a:lnTo>
                  <a:lnTo>
                    <a:pt x="1381" y="169"/>
                  </a:lnTo>
                  <a:lnTo>
                    <a:pt x="944" y="270"/>
                  </a:lnTo>
                  <a:lnTo>
                    <a:pt x="472" y="371"/>
                  </a:lnTo>
                  <a:lnTo>
                    <a:pt x="270" y="472"/>
                  </a:lnTo>
                  <a:lnTo>
                    <a:pt x="35" y="573"/>
                  </a:lnTo>
                  <a:lnTo>
                    <a:pt x="1" y="674"/>
                  </a:lnTo>
                  <a:lnTo>
                    <a:pt x="1" y="741"/>
                  </a:lnTo>
                  <a:lnTo>
                    <a:pt x="68" y="809"/>
                  </a:lnTo>
                  <a:lnTo>
                    <a:pt x="136" y="809"/>
                  </a:lnTo>
                  <a:lnTo>
                    <a:pt x="1112" y="640"/>
                  </a:lnTo>
                  <a:lnTo>
                    <a:pt x="1583" y="506"/>
                  </a:lnTo>
                  <a:lnTo>
                    <a:pt x="2021" y="337"/>
                  </a:lnTo>
                  <a:lnTo>
                    <a:pt x="2088" y="304"/>
                  </a:lnTo>
                  <a:lnTo>
                    <a:pt x="2122" y="236"/>
                  </a:lnTo>
                  <a:lnTo>
                    <a:pt x="2122" y="169"/>
                  </a:lnTo>
                  <a:lnTo>
                    <a:pt x="2088" y="102"/>
                  </a:lnTo>
                  <a:lnTo>
                    <a:pt x="2055" y="68"/>
                  </a:lnTo>
                  <a:lnTo>
                    <a:pt x="1987" y="34"/>
                  </a:lnTo>
                  <a:lnTo>
                    <a:pt x="192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3000" bIns="-63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hape 958"/>
            <p:cNvSpPr/>
            <p:nvPr/>
          </p:nvSpPr>
          <p:spPr>
            <a:xfrm>
              <a:off x="2130480" y="761760"/>
              <a:ext cx="172800" cy="1126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593" h="1684">
                  <a:moveTo>
                    <a:pt x="2222" y="304"/>
                  </a:moveTo>
                  <a:lnTo>
                    <a:pt x="2290" y="910"/>
                  </a:lnTo>
                  <a:lnTo>
                    <a:pt x="2357" y="1381"/>
                  </a:lnTo>
                  <a:lnTo>
                    <a:pt x="2121" y="1347"/>
                  </a:lnTo>
                  <a:lnTo>
                    <a:pt x="1886" y="1347"/>
                  </a:lnTo>
                  <a:lnTo>
                    <a:pt x="1414" y="1381"/>
                  </a:lnTo>
                  <a:lnTo>
                    <a:pt x="808" y="1381"/>
                  </a:lnTo>
                  <a:lnTo>
                    <a:pt x="539" y="1415"/>
                  </a:lnTo>
                  <a:lnTo>
                    <a:pt x="270" y="1482"/>
                  </a:lnTo>
                  <a:lnTo>
                    <a:pt x="236" y="876"/>
                  </a:lnTo>
                  <a:lnTo>
                    <a:pt x="202" y="573"/>
                  </a:lnTo>
                  <a:lnTo>
                    <a:pt x="202" y="438"/>
                  </a:lnTo>
                  <a:lnTo>
                    <a:pt x="169" y="304"/>
                  </a:lnTo>
                  <a:lnTo>
                    <a:pt x="404" y="371"/>
                  </a:lnTo>
                  <a:lnTo>
                    <a:pt x="674" y="405"/>
                  </a:lnTo>
                  <a:lnTo>
                    <a:pt x="1684" y="405"/>
                  </a:lnTo>
                  <a:lnTo>
                    <a:pt x="1953" y="371"/>
                  </a:lnTo>
                  <a:lnTo>
                    <a:pt x="2222" y="304"/>
                  </a:lnTo>
                  <a:close/>
                  <a:moveTo>
                    <a:pt x="2256" y="1"/>
                  </a:moveTo>
                  <a:lnTo>
                    <a:pt x="2222" y="34"/>
                  </a:lnTo>
                  <a:lnTo>
                    <a:pt x="2222" y="68"/>
                  </a:lnTo>
                  <a:lnTo>
                    <a:pt x="2222" y="169"/>
                  </a:lnTo>
                  <a:lnTo>
                    <a:pt x="1785" y="169"/>
                  </a:lnTo>
                  <a:lnTo>
                    <a:pt x="1347" y="203"/>
                  </a:lnTo>
                  <a:lnTo>
                    <a:pt x="438" y="203"/>
                  </a:lnTo>
                  <a:lnTo>
                    <a:pt x="135" y="236"/>
                  </a:lnTo>
                  <a:lnTo>
                    <a:pt x="101" y="236"/>
                  </a:lnTo>
                  <a:lnTo>
                    <a:pt x="68" y="270"/>
                  </a:lnTo>
                  <a:lnTo>
                    <a:pt x="34" y="371"/>
                  </a:lnTo>
                  <a:lnTo>
                    <a:pt x="0" y="506"/>
                  </a:lnTo>
                  <a:lnTo>
                    <a:pt x="34" y="775"/>
                  </a:lnTo>
                  <a:lnTo>
                    <a:pt x="34" y="1549"/>
                  </a:lnTo>
                  <a:lnTo>
                    <a:pt x="68" y="1617"/>
                  </a:lnTo>
                  <a:lnTo>
                    <a:pt x="135" y="1650"/>
                  </a:lnTo>
                  <a:lnTo>
                    <a:pt x="202" y="1617"/>
                  </a:lnTo>
                  <a:lnTo>
                    <a:pt x="236" y="1583"/>
                  </a:lnTo>
                  <a:lnTo>
                    <a:pt x="505" y="1617"/>
                  </a:lnTo>
                  <a:lnTo>
                    <a:pt x="741" y="1617"/>
                  </a:lnTo>
                  <a:lnTo>
                    <a:pt x="1246" y="1583"/>
                  </a:lnTo>
                  <a:lnTo>
                    <a:pt x="1818" y="1583"/>
                  </a:lnTo>
                  <a:lnTo>
                    <a:pt x="2121" y="1549"/>
                  </a:lnTo>
                  <a:lnTo>
                    <a:pt x="2391" y="1482"/>
                  </a:lnTo>
                  <a:lnTo>
                    <a:pt x="2458" y="1684"/>
                  </a:lnTo>
                  <a:lnTo>
                    <a:pt x="2525" y="1684"/>
                  </a:lnTo>
                  <a:lnTo>
                    <a:pt x="2559" y="1650"/>
                  </a:lnTo>
                  <a:lnTo>
                    <a:pt x="2593" y="1482"/>
                  </a:lnTo>
                  <a:lnTo>
                    <a:pt x="2559" y="1280"/>
                  </a:lnTo>
                  <a:lnTo>
                    <a:pt x="2492" y="910"/>
                  </a:lnTo>
                  <a:lnTo>
                    <a:pt x="2391" y="270"/>
                  </a:lnTo>
                  <a:lnTo>
                    <a:pt x="2424" y="236"/>
                  </a:lnTo>
                  <a:lnTo>
                    <a:pt x="2424" y="203"/>
                  </a:lnTo>
                  <a:lnTo>
                    <a:pt x="2391" y="169"/>
                  </a:lnTo>
                  <a:lnTo>
                    <a:pt x="2357" y="169"/>
                  </a:lnTo>
                  <a:lnTo>
                    <a:pt x="2323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hape 959"/>
            <p:cNvSpPr/>
            <p:nvPr/>
          </p:nvSpPr>
          <p:spPr>
            <a:xfrm>
              <a:off x="7716960" y="577800"/>
              <a:ext cx="195120" cy="66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30" h="1011">
                  <a:moveTo>
                    <a:pt x="2862" y="0"/>
                  </a:moveTo>
                  <a:lnTo>
                    <a:pt x="2492" y="67"/>
                  </a:lnTo>
                  <a:lnTo>
                    <a:pt x="2121" y="168"/>
                  </a:lnTo>
                  <a:lnTo>
                    <a:pt x="1414" y="404"/>
                  </a:lnTo>
                  <a:lnTo>
                    <a:pt x="707" y="640"/>
                  </a:lnTo>
                  <a:lnTo>
                    <a:pt x="337" y="774"/>
                  </a:lnTo>
                  <a:lnTo>
                    <a:pt x="34" y="976"/>
                  </a:lnTo>
                  <a:lnTo>
                    <a:pt x="0" y="1010"/>
                  </a:lnTo>
                  <a:lnTo>
                    <a:pt x="34" y="1010"/>
                  </a:lnTo>
                  <a:lnTo>
                    <a:pt x="404" y="943"/>
                  </a:lnTo>
                  <a:lnTo>
                    <a:pt x="774" y="842"/>
                  </a:lnTo>
                  <a:lnTo>
                    <a:pt x="1448" y="572"/>
                  </a:lnTo>
                  <a:lnTo>
                    <a:pt x="2189" y="370"/>
                  </a:lnTo>
                  <a:lnTo>
                    <a:pt x="2559" y="269"/>
                  </a:lnTo>
                  <a:lnTo>
                    <a:pt x="2896" y="135"/>
                  </a:lnTo>
                  <a:lnTo>
                    <a:pt x="2896" y="101"/>
                  </a:lnTo>
                  <a:lnTo>
                    <a:pt x="2929" y="67"/>
                  </a:lnTo>
                  <a:lnTo>
                    <a:pt x="2896" y="34"/>
                  </a:lnTo>
                  <a:lnTo>
                    <a:pt x="286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hape 960"/>
            <p:cNvSpPr/>
            <p:nvPr/>
          </p:nvSpPr>
          <p:spPr>
            <a:xfrm>
              <a:off x="7704360" y="449280"/>
              <a:ext cx="247320" cy="586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38" h="876">
                  <a:moveTo>
                    <a:pt x="3266" y="0"/>
                  </a:moveTo>
                  <a:lnTo>
                    <a:pt x="3098" y="34"/>
                  </a:lnTo>
                  <a:lnTo>
                    <a:pt x="2795" y="168"/>
                  </a:lnTo>
                  <a:lnTo>
                    <a:pt x="2492" y="269"/>
                  </a:lnTo>
                  <a:lnTo>
                    <a:pt x="1886" y="471"/>
                  </a:lnTo>
                  <a:lnTo>
                    <a:pt x="1280" y="572"/>
                  </a:lnTo>
                  <a:lnTo>
                    <a:pt x="34" y="741"/>
                  </a:lnTo>
                  <a:lnTo>
                    <a:pt x="0" y="774"/>
                  </a:lnTo>
                  <a:lnTo>
                    <a:pt x="34" y="808"/>
                  </a:lnTo>
                  <a:lnTo>
                    <a:pt x="269" y="842"/>
                  </a:lnTo>
                  <a:lnTo>
                    <a:pt x="505" y="875"/>
                  </a:lnTo>
                  <a:lnTo>
                    <a:pt x="976" y="875"/>
                  </a:lnTo>
                  <a:lnTo>
                    <a:pt x="1414" y="774"/>
                  </a:lnTo>
                  <a:lnTo>
                    <a:pt x="1886" y="640"/>
                  </a:lnTo>
                  <a:lnTo>
                    <a:pt x="2761" y="337"/>
                  </a:lnTo>
                  <a:lnTo>
                    <a:pt x="3232" y="236"/>
                  </a:lnTo>
                  <a:lnTo>
                    <a:pt x="3704" y="202"/>
                  </a:lnTo>
                  <a:lnTo>
                    <a:pt x="3737" y="168"/>
                  </a:lnTo>
                  <a:lnTo>
                    <a:pt x="3737" y="135"/>
                  </a:lnTo>
                  <a:lnTo>
                    <a:pt x="3704" y="101"/>
                  </a:lnTo>
                  <a:lnTo>
                    <a:pt x="3569" y="34"/>
                  </a:lnTo>
                  <a:lnTo>
                    <a:pt x="34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hape 961"/>
            <p:cNvSpPr/>
            <p:nvPr/>
          </p:nvSpPr>
          <p:spPr>
            <a:xfrm>
              <a:off x="8871120" y="3989520"/>
              <a:ext cx="203040" cy="107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65" h="1617">
                  <a:moveTo>
                    <a:pt x="2896" y="1"/>
                  </a:moveTo>
                  <a:lnTo>
                    <a:pt x="1482" y="371"/>
                  </a:lnTo>
                  <a:lnTo>
                    <a:pt x="68" y="809"/>
                  </a:lnTo>
                  <a:lnTo>
                    <a:pt x="1" y="842"/>
                  </a:lnTo>
                  <a:lnTo>
                    <a:pt x="1" y="910"/>
                  </a:lnTo>
                  <a:lnTo>
                    <a:pt x="35" y="977"/>
                  </a:lnTo>
                  <a:lnTo>
                    <a:pt x="102" y="977"/>
                  </a:lnTo>
                  <a:lnTo>
                    <a:pt x="775" y="842"/>
                  </a:lnTo>
                  <a:lnTo>
                    <a:pt x="1449" y="674"/>
                  </a:lnTo>
                  <a:lnTo>
                    <a:pt x="2762" y="304"/>
                  </a:lnTo>
                  <a:lnTo>
                    <a:pt x="2762" y="405"/>
                  </a:lnTo>
                  <a:lnTo>
                    <a:pt x="2762" y="506"/>
                  </a:lnTo>
                  <a:lnTo>
                    <a:pt x="2728" y="607"/>
                  </a:lnTo>
                  <a:lnTo>
                    <a:pt x="2694" y="708"/>
                  </a:lnTo>
                  <a:lnTo>
                    <a:pt x="2526" y="842"/>
                  </a:lnTo>
                  <a:lnTo>
                    <a:pt x="2290" y="977"/>
                  </a:lnTo>
                  <a:lnTo>
                    <a:pt x="2021" y="1078"/>
                  </a:lnTo>
                  <a:lnTo>
                    <a:pt x="1785" y="1145"/>
                  </a:lnTo>
                  <a:lnTo>
                    <a:pt x="1348" y="1246"/>
                  </a:lnTo>
                  <a:lnTo>
                    <a:pt x="573" y="1381"/>
                  </a:lnTo>
                  <a:lnTo>
                    <a:pt x="439" y="1347"/>
                  </a:lnTo>
                  <a:lnTo>
                    <a:pt x="338" y="1280"/>
                  </a:lnTo>
                  <a:lnTo>
                    <a:pt x="237" y="1213"/>
                  </a:lnTo>
                  <a:lnTo>
                    <a:pt x="136" y="1145"/>
                  </a:lnTo>
                  <a:lnTo>
                    <a:pt x="102" y="1179"/>
                  </a:lnTo>
                  <a:lnTo>
                    <a:pt x="136" y="1280"/>
                  </a:lnTo>
                  <a:lnTo>
                    <a:pt x="169" y="1381"/>
                  </a:lnTo>
                  <a:lnTo>
                    <a:pt x="304" y="1583"/>
                  </a:lnTo>
                  <a:lnTo>
                    <a:pt x="371" y="1617"/>
                  </a:lnTo>
                  <a:lnTo>
                    <a:pt x="439" y="1617"/>
                  </a:lnTo>
                  <a:lnTo>
                    <a:pt x="1550" y="1448"/>
                  </a:lnTo>
                  <a:lnTo>
                    <a:pt x="2088" y="1314"/>
                  </a:lnTo>
                  <a:lnTo>
                    <a:pt x="2358" y="1213"/>
                  </a:lnTo>
                  <a:lnTo>
                    <a:pt x="2627" y="1112"/>
                  </a:lnTo>
                  <a:lnTo>
                    <a:pt x="2728" y="1044"/>
                  </a:lnTo>
                  <a:lnTo>
                    <a:pt x="2795" y="943"/>
                  </a:lnTo>
                  <a:lnTo>
                    <a:pt x="2930" y="741"/>
                  </a:lnTo>
                  <a:lnTo>
                    <a:pt x="2997" y="472"/>
                  </a:lnTo>
                  <a:lnTo>
                    <a:pt x="2997" y="337"/>
                  </a:lnTo>
                  <a:lnTo>
                    <a:pt x="2964" y="236"/>
                  </a:lnTo>
                  <a:lnTo>
                    <a:pt x="3031" y="203"/>
                  </a:lnTo>
                  <a:lnTo>
                    <a:pt x="3065" y="169"/>
                  </a:lnTo>
                  <a:lnTo>
                    <a:pt x="3065" y="68"/>
                  </a:lnTo>
                  <a:lnTo>
                    <a:pt x="299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" bIns="-9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hape 962"/>
            <p:cNvSpPr/>
            <p:nvPr/>
          </p:nvSpPr>
          <p:spPr>
            <a:xfrm>
              <a:off x="6089760" y="0"/>
              <a:ext cx="71280" cy="387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079" h="5826">
                  <a:moveTo>
                    <a:pt x="842" y="1"/>
                  </a:moveTo>
                  <a:lnTo>
                    <a:pt x="405" y="2896"/>
                  </a:lnTo>
                  <a:lnTo>
                    <a:pt x="135" y="4479"/>
                  </a:lnTo>
                  <a:lnTo>
                    <a:pt x="34" y="5152"/>
                  </a:lnTo>
                  <a:lnTo>
                    <a:pt x="1" y="5489"/>
                  </a:lnTo>
                  <a:lnTo>
                    <a:pt x="34" y="5792"/>
                  </a:lnTo>
                  <a:lnTo>
                    <a:pt x="68" y="5825"/>
                  </a:lnTo>
                  <a:lnTo>
                    <a:pt x="203" y="5522"/>
                  </a:lnTo>
                  <a:lnTo>
                    <a:pt x="270" y="5186"/>
                  </a:lnTo>
                  <a:lnTo>
                    <a:pt x="371" y="4546"/>
                  </a:lnTo>
                  <a:lnTo>
                    <a:pt x="640" y="2964"/>
                  </a:lnTo>
                  <a:lnTo>
                    <a:pt x="107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hape 963"/>
            <p:cNvSpPr/>
            <p:nvPr/>
          </p:nvSpPr>
          <p:spPr>
            <a:xfrm>
              <a:off x="0" y="0"/>
              <a:ext cx="2732040" cy="1031760"/>
            </a:xfrm>
            <a:custGeom>
              <a:avLst/>
              <a:gdLst>
                <a:gd name="textAreaLeft" fmla="*/ 0 w 2732040"/>
                <a:gd name="textAreaRight" fmla="*/ 2732400 w 27320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1144" h="15522">
                  <a:moveTo>
                    <a:pt x="-24932" y="1"/>
                  </a:moveTo>
                  <a:lnTo>
                    <a:pt x="-24831" y="2425"/>
                  </a:lnTo>
                  <a:lnTo>
                    <a:pt x="-24763" y="4849"/>
                  </a:lnTo>
                  <a:lnTo>
                    <a:pt x="-24730" y="7374"/>
                  </a:lnTo>
                  <a:lnTo>
                    <a:pt x="-24730" y="9899"/>
                  </a:lnTo>
                  <a:lnTo>
                    <a:pt x="-24763" y="11078"/>
                  </a:lnTo>
                  <a:lnTo>
                    <a:pt x="-24831" y="12256"/>
                  </a:lnTo>
                  <a:lnTo>
                    <a:pt x="-24831" y="12626"/>
                  </a:lnTo>
                  <a:lnTo>
                    <a:pt x="-24898" y="12997"/>
                  </a:lnTo>
                  <a:lnTo>
                    <a:pt x="-24932" y="13199"/>
                  </a:lnTo>
                  <a:lnTo>
                    <a:pt x="-25033" y="13367"/>
                  </a:lnTo>
                  <a:lnTo>
                    <a:pt x="-25167" y="13468"/>
                  </a:lnTo>
                  <a:lnTo>
                    <a:pt x="-25336" y="13535"/>
                  </a:lnTo>
                  <a:lnTo>
                    <a:pt x="-25538" y="13569"/>
                  </a:lnTo>
                  <a:lnTo>
                    <a:pt x="-25706" y="13603"/>
                  </a:lnTo>
                  <a:lnTo>
                    <a:pt x="29629" y="13939"/>
                  </a:lnTo>
                  <a:lnTo>
                    <a:pt x="19461" y="14276"/>
                  </a:lnTo>
                  <a:lnTo>
                    <a:pt x="14276" y="14478"/>
                  </a:lnTo>
                  <a:lnTo>
                    <a:pt x="9091" y="14714"/>
                  </a:lnTo>
                  <a:lnTo>
                    <a:pt x="6499" y="14882"/>
                  </a:lnTo>
                  <a:lnTo>
                    <a:pt x="3940" y="15050"/>
                  </a:lnTo>
                  <a:lnTo>
                    <a:pt x="1179" y="15252"/>
                  </a:lnTo>
                  <a:lnTo>
                    <a:pt x="607" y="15286"/>
                  </a:lnTo>
                  <a:lnTo>
                    <a:pt x="304" y="15320"/>
                  </a:lnTo>
                  <a:lnTo>
                    <a:pt x="1" y="15286"/>
                  </a:lnTo>
                  <a:lnTo>
                    <a:pt x="1" y="15522"/>
                  </a:lnTo>
                  <a:lnTo>
                    <a:pt x="910" y="15522"/>
                  </a:lnTo>
                  <a:lnTo>
                    <a:pt x="3671" y="15320"/>
                  </a:lnTo>
                  <a:lnTo>
                    <a:pt x="6398" y="15118"/>
                  </a:lnTo>
                  <a:lnTo>
                    <a:pt x="9226" y="14949"/>
                  </a:lnTo>
                  <a:lnTo>
                    <a:pt x="12020" y="14815"/>
                  </a:lnTo>
                  <a:lnTo>
                    <a:pt x="17676" y="14579"/>
                  </a:lnTo>
                  <a:lnTo>
                    <a:pt x="23164" y="14377"/>
                  </a:lnTo>
                  <a:lnTo>
                    <a:pt x="28619" y="14209"/>
                  </a:lnTo>
                  <a:lnTo>
                    <a:pt x="-25942" y="13872"/>
                  </a:lnTo>
                  <a:lnTo>
                    <a:pt x="-25874" y="13939"/>
                  </a:lnTo>
                  <a:lnTo>
                    <a:pt x="-25807" y="13973"/>
                  </a:lnTo>
                  <a:lnTo>
                    <a:pt x="-25773" y="13939"/>
                  </a:lnTo>
                  <a:lnTo>
                    <a:pt x="-25639" y="13906"/>
                  </a:lnTo>
                  <a:lnTo>
                    <a:pt x="-25470" y="13872"/>
                  </a:lnTo>
                  <a:lnTo>
                    <a:pt x="-25369" y="13872"/>
                  </a:lnTo>
                  <a:lnTo>
                    <a:pt x="-25302" y="13838"/>
                  </a:lnTo>
                  <a:lnTo>
                    <a:pt x="-25134" y="13805"/>
                  </a:lnTo>
                  <a:lnTo>
                    <a:pt x="-24965" y="13737"/>
                  </a:lnTo>
                  <a:lnTo>
                    <a:pt x="-24831" y="13636"/>
                  </a:lnTo>
                  <a:lnTo>
                    <a:pt x="-24730" y="13468"/>
                  </a:lnTo>
                  <a:lnTo>
                    <a:pt x="-24629" y="13232"/>
                  </a:lnTo>
                  <a:lnTo>
                    <a:pt x="-24561" y="12997"/>
                  </a:lnTo>
                  <a:lnTo>
                    <a:pt x="-24494" y="12458"/>
                  </a:lnTo>
                  <a:lnTo>
                    <a:pt x="-24460" y="11414"/>
                  </a:lnTo>
                  <a:lnTo>
                    <a:pt x="-24427" y="10000"/>
                  </a:lnTo>
                  <a:lnTo>
                    <a:pt x="-24393" y="8586"/>
                  </a:lnTo>
                  <a:lnTo>
                    <a:pt x="-24427" y="5758"/>
                  </a:lnTo>
                  <a:lnTo>
                    <a:pt x="-24494" y="3065"/>
                  </a:lnTo>
                  <a:lnTo>
                    <a:pt x="-24629" y="337"/>
                  </a:lnTo>
                  <a:lnTo>
                    <a:pt x="-2462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hape 964"/>
            <p:cNvSpPr/>
            <p:nvPr/>
          </p:nvSpPr>
          <p:spPr>
            <a:xfrm>
              <a:off x="7278840" y="5423040"/>
              <a:ext cx="1881000" cy="1158840"/>
            </a:xfrm>
            <a:custGeom>
              <a:avLst/>
              <a:gdLst>
                <a:gd name="textAreaLeft" fmla="*/ 0 w 1881000"/>
                <a:gd name="textAreaRight" fmla="*/ 1881360 w 1881000"/>
                <a:gd name="textAreaTop" fmla="*/ 0 h 1158840"/>
                <a:gd name="textAreaBottom" fmla="*/ 1158840 h 1158840"/>
              </a:gdLst>
              <a:ahLst/>
              <a:rect l="textAreaLeft" t="textAreaTop" r="textAreaRight" b="textAreaBottom"/>
              <a:pathLst>
                <a:path w="28315" h="17441">
                  <a:moveTo>
                    <a:pt x="2929" y="1011"/>
                  </a:moveTo>
                  <a:lnTo>
                    <a:pt x="2997" y="1112"/>
                  </a:lnTo>
                  <a:lnTo>
                    <a:pt x="3064" y="1145"/>
                  </a:lnTo>
                  <a:lnTo>
                    <a:pt x="3098" y="1179"/>
                  </a:lnTo>
                  <a:lnTo>
                    <a:pt x="3199" y="1145"/>
                  </a:lnTo>
                  <a:lnTo>
                    <a:pt x="3199" y="1213"/>
                  </a:lnTo>
                  <a:lnTo>
                    <a:pt x="3232" y="1280"/>
                  </a:lnTo>
                  <a:lnTo>
                    <a:pt x="3098" y="1213"/>
                  </a:lnTo>
                  <a:lnTo>
                    <a:pt x="2997" y="1145"/>
                  </a:lnTo>
                  <a:lnTo>
                    <a:pt x="2929" y="1011"/>
                  </a:lnTo>
                  <a:close/>
                  <a:moveTo>
                    <a:pt x="2088" y="236"/>
                  </a:moveTo>
                  <a:lnTo>
                    <a:pt x="2492" y="304"/>
                  </a:lnTo>
                  <a:lnTo>
                    <a:pt x="2492" y="371"/>
                  </a:lnTo>
                  <a:lnTo>
                    <a:pt x="2458" y="472"/>
                  </a:lnTo>
                  <a:lnTo>
                    <a:pt x="2458" y="573"/>
                  </a:lnTo>
                  <a:lnTo>
                    <a:pt x="2492" y="842"/>
                  </a:lnTo>
                  <a:lnTo>
                    <a:pt x="2593" y="1044"/>
                  </a:lnTo>
                  <a:lnTo>
                    <a:pt x="2727" y="1246"/>
                  </a:lnTo>
                  <a:lnTo>
                    <a:pt x="2896" y="1415"/>
                  </a:lnTo>
                  <a:lnTo>
                    <a:pt x="2997" y="1482"/>
                  </a:lnTo>
                  <a:lnTo>
                    <a:pt x="3098" y="1550"/>
                  </a:lnTo>
                  <a:lnTo>
                    <a:pt x="3199" y="1550"/>
                  </a:lnTo>
                  <a:lnTo>
                    <a:pt x="3333" y="1583"/>
                  </a:lnTo>
                  <a:lnTo>
                    <a:pt x="3434" y="1550"/>
                  </a:lnTo>
                  <a:lnTo>
                    <a:pt x="3468" y="1516"/>
                  </a:lnTo>
                  <a:lnTo>
                    <a:pt x="3502" y="1482"/>
                  </a:lnTo>
                  <a:lnTo>
                    <a:pt x="3468" y="1886"/>
                  </a:lnTo>
                  <a:lnTo>
                    <a:pt x="3367" y="2257"/>
                  </a:lnTo>
                  <a:lnTo>
                    <a:pt x="3030" y="2156"/>
                  </a:lnTo>
                  <a:lnTo>
                    <a:pt x="2727" y="2055"/>
                  </a:lnTo>
                  <a:lnTo>
                    <a:pt x="2458" y="1853"/>
                  </a:lnTo>
                  <a:lnTo>
                    <a:pt x="2189" y="1617"/>
                  </a:lnTo>
                  <a:lnTo>
                    <a:pt x="2088" y="1482"/>
                  </a:lnTo>
                  <a:lnTo>
                    <a:pt x="1987" y="1314"/>
                  </a:lnTo>
                  <a:lnTo>
                    <a:pt x="1852" y="977"/>
                  </a:lnTo>
                  <a:lnTo>
                    <a:pt x="1751" y="640"/>
                  </a:lnTo>
                  <a:lnTo>
                    <a:pt x="1684" y="270"/>
                  </a:lnTo>
                  <a:lnTo>
                    <a:pt x="2088" y="236"/>
                  </a:lnTo>
                  <a:close/>
                  <a:moveTo>
                    <a:pt x="1583" y="304"/>
                  </a:moveTo>
                  <a:lnTo>
                    <a:pt x="1583" y="674"/>
                  </a:lnTo>
                  <a:lnTo>
                    <a:pt x="1650" y="1078"/>
                  </a:lnTo>
                  <a:lnTo>
                    <a:pt x="1818" y="1449"/>
                  </a:lnTo>
                  <a:lnTo>
                    <a:pt x="2020" y="1785"/>
                  </a:lnTo>
                  <a:lnTo>
                    <a:pt x="2290" y="2055"/>
                  </a:lnTo>
                  <a:lnTo>
                    <a:pt x="2626" y="2324"/>
                  </a:lnTo>
                  <a:lnTo>
                    <a:pt x="2761" y="2391"/>
                  </a:lnTo>
                  <a:lnTo>
                    <a:pt x="2929" y="2425"/>
                  </a:lnTo>
                  <a:lnTo>
                    <a:pt x="3232" y="2459"/>
                  </a:lnTo>
                  <a:lnTo>
                    <a:pt x="3064" y="2728"/>
                  </a:lnTo>
                  <a:lnTo>
                    <a:pt x="2896" y="2896"/>
                  </a:lnTo>
                  <a:lnTo>
                    <a:pt x="2727" y="2997"/>
                  </a:lnTo>
                  <a:lnTo>
                    <a:pt x="2525" y="3065"/>
                  </a:lnTo>
                  <a:lnTo>
                    <a:pt x="2290" y="3132"/>
                  </a:lnTo>
                  <a:lnTo>
                    <a:pt x="1987" y="3166"/>
                  </a:lnTo>
                  <a:lnTo>
                    <a:pt x="1785" y="3166"/>
                  </a:lnTo>
                  <a:lnTo>
                    <a:pt x="1684" y="3132"/>
                  </a:lnTo>
                  <a:lnTo>
                    <a:pt x="1650" y="3098"/>
                  </a:lnTo>
                  <a:lnTo>
                    <a:pt x="1616" y="3098"/>
                  </a:lnTo>
                  <a:lnTo>
                    <a:pt x="1616" y="3132"/>
                  </a:lnTo>
                  <a:lnTo>
                    <a:pt x="1616" y="3199"/>
                  </a:lnTo>
                  <a:lnTo>
                    <a:pt x="1650" y="3267"/>
                  </a:lnTo>
                  <a:lnTo>
                    <a:pt x="1751" y="3334"/>
                  </a:lnTo>
                  <a:lnTo>
                    <a:pt x="2189" y="3334"/>
                  </a:lnTo>
                  <a:lnTo>
                    <a:pt x="2525" y="3267"/>
                  </a:lnTo>
                  <a:lnTo>
                    <a:pt x="2525" y="3300"/>
                  </a:lnTo>
                  <a:lnTo>
                    <a:pt x="2694" y="3502"/>
                  </a:lnTo>
                  <a:lnTo>
                    <a:pt x="2896" y="3738"/>
                  </a:lnTo>
                  <a:lnTo>
                    <a:pt x="3367" y="4108"/>
                  </a:lnTo>
                  <a:lnTo>
                    <a:pt x="3771" y="4479"/>
                  </a:lnTo>
                  <a:lnTo>
                    <a:pt x="3973" y="4681"/>
                  </a:lnTo>
                  <a:lnTo>
                    <a:pt x="4141" y="4950"/>
                  </a:lnTo>
                  <a:lnTo>
                    <a:pt x="4276" y="5152"/>
                  </a:lnTo>
                  <a:lnTo>
                    <a:pt x="4444" y="5354"/>
                  </a:lnTo>
                  <a:lnTo>
                    <a:pt x="4781" y="5758"/>
                  </a:lnTo>
                  <a:lnTo>
                    <a:pt x="5185" y="6128"/>
                  </a:lnTo>
                  <a:lnTo>
                    <a:pt x="5589" y="6499"/>
                  </a:lnTo>
                  <a:lnTo>
                    <a:pt x="5421" y="6701"/>
                  </a:lnTo>
                  <a:lnTo>
                    <a:pt x="5252" y="6936"/>
                  </a:lnTo>
                  <a:lnTo>
                    <a:pt x="5118" y="7138"/>
                  </a:lnTo>
                  <a:lnTo>
                    <a:pt x="3300" y="5388"/>
                  </a:lnTo>
                  <a:lnTo>
                    <a:pt x="2424" y="4546"/>
                  </a:lnTo>
                  <a:lnTo>
                    <a:pt x="1953" y="4142"/>
                  </a:lnTo>
                  <a:lnTo>
                    <a:pt x="1482" y="3805"/>
                  </a:lnTo>
                  <a:lnTo>
                    <a:pt x="909" y="3469"/>
                  </a:lnTo>
                  <a:lnTo>
                    <a:pt x="674" y="3267"/>
                  </a:lnTo>
                  <a:lnTo>
                    <a:pt x="573" y="3132"/>
                  </a:lnTo>
                  <a:lnTo>
                    <a:pt x="472" y="2997"/>
                  </a:lnTo>
                  <a:lnTo>
                    <a:pt x="371" y="2829"/>
                  </a:lnTo>
                  <a:lnTo>
                    <a:pt x="337" y="2661"/>
                  </a:lnTo>
                  <a:lnTo>
                    <a:pt x="270" y="2290"/>
                  </a:lnTo>
                  <a:lnTo>
                    <a:pt x="270" y="1954"/>
                  </a:lnTo>
                  <a:lnTo>
                    <a:pt x="303" y="1583"/>
                  </a:lnTo>
                  <a:lnTo>
                    <a:pt x="371" y="1314"/>
                  </a:lnTo>
                  <a:lnTo>
                    <a:pt x="472" y="1078"/>
                  </a:lnTo>
                  <a:lnTo>
                    <a:pt x="606" y="876"/>
                  </a:lnTo>
                  <a:lnTo>
                    <a:pt x="775" y="708"/>
                  </a:lnTo>
                  <a:lnTo>
                    <a:pt x="943" y="573"/>
                  </a:lnTo>
                  <a:lnTo>
                    <a:pt x="1145" y="438"/>
                  </a:lnTo>
                  <a:lnTo>
                    <a:pt x="1347" y="337"/>
                  </a:lnTo>
                  <a:lnTo>
                    <a:pt x="1583" y="304"/>
                  </a:lnTo>
                  <a:close/>
                  <a:moveTo>
                    <a:pt x="21548" y="6701"/>
                  </a:moveTo>
                  <a:lnTo>
                    <a:pt x="21682" y="6903"/>
                  </a:lnTo>
                  <a:lnTo>
                    <a:pt x="21548" y="7037"/>
                  </a:lnTo>
                  <a:lnTo>
                    <a:pt x="21447" y="7206"/>
                  </a:lnTo>
                  <a:lnTo>
                    <a:pt x="21346" y="7071"/>
                  </a:lnTo>
                  <a:lnTo>
                    <a:pt x="21278" y="7004"/>
                  </a:lnTo>
                  <a:lnTo>
                    <a:pt x="21413" y="6869"/>
                  </a:lnTo>
                  <a:lnTo>
                    <a:pt x="21480" y="6802"/>
                  </a:lnTo>
                  <a:lnTo>
                    <a:pt x="21514" y="6734"/>
                  </a:lnTo>
                  <a:lnTo>
                    <a:pt x="21548" y="6701"/>
                  </a:lnTo>
                  <a:close/>
                  <a:moveTo>
                    <a:pt x="22086" y="7004"/>
                  </a:moveTo>
                  <a:lnTo>
                    <a:pt x="22288" y="7037"/>
                  </a:lnTo>
                  <a:lnTo>
                    <a:pt x="22490" y="7105"/>
                  </a:lnTo>
                  <a:lnTo>
                    <a:pt x="22692" y="7206"/>
                  </a:lnTo>
                  <a:lnTo>
                    <a:pt x="22894" y="7307"/>
                  </a:lnTo>
                  <a:lnTo>
                    <a:pt x="23063" y="7475"/>
                  </a:lnTo>
                  <a:lnTo>
                    <a:pt x="23770" y="8115"/>
                  </a:lnTo>
                  <a:lnTo>
                    <a:pt x="24477" y="8754"/>
                  </a:lnTo>
                  <a:lnTo>
                    <a:pt x="25117" y="9428"/>
                  </a:lnTo>
                  <a:lnTo>
                    <a:pt x="25723" y="10101"/>
                  </a:lnTo>
                  <a:lnTo>
                    <a:pt x="26295" y="10842"/>
                  </a:lnTo>
                  <a:lnTo>
                    <a:pt x="26800" y="11549"/>
                  </a:lnTo>
                  <a:lnTo>
                    <a:pt x="26733" y="11583"/>
                  </a:lnTo>
                  <a:lnTo>
                    <a:pt x="26699" y="11616"/>
                  </a:lnTo>
                  <a:lnTo>
                    <a:pt x="26665" y="11684"/>
                  </a:lnTo>
                  <a:lnTo>
                    <a:pt x="26665" y="11751"/>
                  </a:lnTo>
                  <a:lnTo>
                    <a:pt x="26699" y="11785"/>
                  </a:lnTo>
                  <a:lnTo>
                    <a:pt x="26733" y="11852"/>
                  </a:lnTo>
                  <a:lnTo>
                    <a:pt x="26800" y="11987"/>
                  </a:lnTo>
                  <a:lnTo>
                    <a:pt x="26564" y="12290"/>
                  </a:lnTo>
                  <a:lnTo>
                    <a:pt x="26531" y="12357"/>
                  </a:lnTo>
                  <a:lnTo>
                    <a:pt x="26463" y="12391"/>
                  </a:lnTo>
                  <a:lnTo>
                    <a:pt x="26329" y="12391"/>
                  </a:lnTo>
                  <a:lnTo>
                    <a:pt x="26160" y="12357"/>
                  </a:lnTo>
                  <a:lnTo>
                    <a:pt x="25992" y="12256"/>
                  </a:lnTo>
                  <a:lnTo>
                    <a:pt x="25655" y="12020"/>
                  </a:lnTo>
                  <a:lnTo>
                    <a:pt x="25453" y="11852"/>
                  </a:lnTo>
                  <a:lnTo>
                    <a:pt x="25083" y="11549"/>
                  </a:lnTo>
                  <a:lnTo>
                    <a:pt x="24746" y="11246"/>
                  </a:lnTo>
                  <a:lnTo>
                    <a:pt x="24107" y="10573"/>
                  </a:lnTo>
                  <a:lnTo>
                    <a:pt x="23433" y="9832"/>
                  </a:lnTo>
                  <a:lnTo>
                    <a:pt x="22793" y="9057"/>
                  </a:lnTo>
                  <a:lnTo>
                    <a:pt x="22120" y="8317"/>
                  </a:lnTo>
                  <a:lnTo>
                    <a:pt x="21783" y="7946"/>
                  </a:lnTo>
                  <a:lnTo>
                    <a:pt x="21413" y="7610"/>
                  </a:lnTo>
                  <a:lnTo>
                    <a:pt x="21548" y="7408"/>
                  </a:lnTo>
                  <a:lnTo>
                    <a:pt x="21716" y="7206"/>
                  </a:lnTo>
                  <a:lnTo>
                    <a:pt x="21884" y="7071"/>
                  </a:lnTo>
                  <a:lnTo>
                    <a:pt x="22086" y="7004"/>
                  </a:lnTo>
                  <a:close/>
                  <a:moveTo>
                    <a:pt x="26935" y="12088"/>
                  </a:moveTo>
                  <a:lnTo>
                    <a:pt x="27271" y="12222"/>
                  </a:lnTo>
                  <a:lnTo>
                    <a:pt x="27406" y="12323"/>
                  </a:lnTo>
                  <a:lnTo>
                    <a:pt x="27507" y="12424"/>
                  </a:lnTo>
                  <a:lnTo>
                    <a:pt x="27339" y="12694"/>
                  </a:lnTo>
                  <a:lnTo>
                    <a:pt x="27137" y="12896"/>
                  </a:lnTo>
                  <a:lnTo>
                    <a:pt x="26800" y="12424"/>
                  </a:lnTo>
                  <a:lnTo>
                    <a:pt x="26867" y="12256"/>
                  </a:lnTo>
                  <a:lnTo>
                    <a:pt x="26935" y="12088"/>
                  </a:lnTo>
                  <a:close/>
                  <a:moveTo>
                    <a:pt x="1650" y="1"/>
                  </a:moveTo>
                  <a:lnTo>
                    <a:pt x="1414" y="68"/>
                  </a:lnTo>
                  <a:lnTo>
                    <a:pt x="1179" y="135"/>
                  </a:lnTo>
                  <a:lnTo>
                    <a:pt x="977" y="236"/>
                  </a:lnTo>
                  <a:lnTo>
                    <a:pt x="775" y="371"/>
                  </a:lnTo>
                  <a:lnTo>
                    <a:pt x="539" y="607"/>
                  </a:lnTo>
                  <a:lnTo>
                    <a:pt x="371" y="842"/>
                  </a:lnTo>
                  <a:lnTo>
                    <a:pt x="236" y="1078"/>
                  </a:lnTo>
                  <a:lnTo>
                    <a:pt x="101" y="1347"/>
                  </a:lnTo>
                  <a:lnTo>
                    <a:pt x="34" y="1651"/>
                  </a:lnTo>
                  <a:lnTo>
                    <a:pt x="0" y="1920"/>
                  </a:lnTo>
                  <a:lnTo>
                    <a:pt x="0" y="2223"/>
                  </a:lnTo>
                  <a:lnTo>
                    <a:pt x="34" y="2526"/>
                  </a:lnTo>
                  <a:lnTo>
                    <a:pt x="101" y="2728"/>
                  </a:lnTo>
                  <a:lnTo>
                    <a:pt x="135" y="2930"/>
                  </a:lnTo>
                  <a:lnTo>
                    <a:pt x="236" y="3098"/>
                  </a:lnTo>
                  <a:lnTo>
                    <a:pt x="337" y="3233"/>
                  </a:lnTo>
                  <a:lnTo>
                    <a:pt x="573" y="3502"/>
                  </a:lnTo>
                  <a:lnTo>
                    <a:pt x="842" y="3738"/>
                  </a:lnTo>
                  <a:lnTo>
                    <a:pt x="1482" y="4142"/>
                  </a:lnTo>
                  <a:lnTo>
                    <a:pt x="1785" y="4378"/>
                  </a:lnTo>
                  <a:lnTo>
                    <a:pt x="2088" y="4613"/>
                  </a:lnTo>
                  <a:lnTo>
                    <a:pt x="3535" y="5994"/>
                  </a:lnTo>
                  <a:lnTo>
                    <a:pt x="4949" y="7374"/>
                  </a:lnTo>
                  <a:lnTo>
                    <a:pt x="5017" y="7408"/>
                  </a:lnTo>
                  <a:lnTo>
                    <a:pt x="5084" y="7408"/>
                  </a:lnTo>
                  <a:lnTo>
                    <a:pt x="5151" y="7340"/>
                  </a:lnTo>
                  <a:lnTo>
                    <a:pt x="5185" y="7307"/>
                  </a:lnTo>
                  <a:lnTo>
                    <a:pt x="5320" y="7172"/>
                  </a:lnTo>
                  <a:lnTo>
                    <a:pt x="5421" y="7037"/>
                  </a:lnTo>
                  <a:lnTo>
                    <a:pt x="5488" y="7037"/>
                  </a:lnTo>
                  <a:lnTo>
                    <a:pt x="5757" y="7374"/>
                  </a:lnTo>
                  <a:lnTo>
                    <a:pt x="5993" y="7643"/>
                  </a:lnTo>
                  <a:lnTo>
                    <a:pt x="6363" y="8014"/>
                  </a:lnTo>
                  <a:lnTo>
                    <a:pt x="6801" y="8384"/>
                  </a:lnTo>
                  <a:lnTo>
                    <a:pt x="7205" y="8687"/>
                  </a:lnTo>
                  <a:lnTo>
                    <a:pt x="7643" y="8956"/>
                  </a:lnTo>
                  <a:lnTo>
                    <a:pt x="8114" y="9192"/>
                  </a:lnTo>
                  <a:lnTo>
                    <a:pt x="8619" y="9360"/>
                  </a:lnTo>
                  <a:lnTo>
                    <a:pt x="8922" y="9428"/>
                  </a:lnTo>
                  <a:lnTo>
                    <a:pt x="9259" y="9461"/>
                  </a:lnTo>
                  <a:lnTo>
                    <a:pt x="9899" y="9529"/>
                  </a:lnTo>
                  <a:lnTo>
                    <a:pt x="10202" y="9563"/>
                  </a:lnTo>
                  <a:lnTo>
                    <a:pt x="10505" y="9664"/>
                  </a:lnTo>
                  <a:lnTo>
                    <a:pt x="10774" y="9832"/>
                  </a:lnTo>
                  <a:lnTo>
                    <a:pt x="11043" y="10034"/>
                  </a:lnTo>
                  <a:lnTo>
                    <a:pt x="11245" y="10303"/>
                  </a:lnTo>
                  <a:lnTo>
                    <a:pt x="11414" y="10606"/>
                  </a:lnTo>
                  <a:lnTo>
                    <a:pt x="11515" y="10977"/>
                  </a:lnTo>
                  <a:lnTo>
                    <a:pt x="11616" y="11347"/>
                  </a:lnTo>
                  <a:lnTo>
                    <a:pt x="11717" y="12088"/>
                  </a:lnTo>
                  <a:lnTo>
                    <a:pt x="11784" y="12761"/>
                  </a:lnTo>
                  <a:lnTo>
                    <a:pt x="11885" y="13805"/>
                  </a:lnTo>
                  <a:lnTo>
                    <a:pt x="11919" y="14310"/>
                  </a:lnTo>
                  <a:lnTo>
                    <a:pt x="11986" y="14781"/>
                  </a:lnTo>
                  <a:lnTo>
                    <a:pt x="12121" y="15252"/>
                  </a:lnTo>
                  <a:lnTo>
                    <a:pt x="12188" y="15488"/>
                  </a:lnTo>
                  <a:lnTo>
                    <a:pt x="12289" y="15690"/>
                  </a:lnTo>
                  <a:lnTo>
                    <a:pt x="12424" y="15892"/>
                  </a:lnTo>
                  <a:lnTo>
                    <a:pt x="12592" y="16094"/>
                  </a:lnTo>
                  <a:lnTo>
                    <a:pt x="12760" y="16296"/>
                  </a:lnTo>
                  <a:lnTo>
                    <a:pt x="12962" y="16464"/>
                  </a:lnTo>
                  <a:lnTo>
                    <a:pt x="13164" y="16599"/>
                  </a:lnTo>
                  <a:lnTo>
                    <a:pt x="13400" y="16734"/>
                  </a:lnTo>
                  <a:lnTo>
                    <a:pt x="13838" y="16936"/>
                  </a:lnTo>
                  <a:lnTo>
                    <a:pt x="14309" y="17070"/>
                  </a:lnTo>
                  <a:lnTo>
                    <a:pt x="14780" y="17205"/>
                  </a:lnTo>
                  <a:lnTo>
                    <a:pt x="15252" y="17306"/>
                  </a:lnTo>
                  <a:lnTo>
                    <a:pt x="15757" y="17373"/>
                  </a:lnTo>
                  <a:lnTo>
                    <a:pt x="16296" y="17441"/>
                  </a:lnTo>
                  <a:lnTo>
                    <a:pt x="16531" y="17407"/>
                  </a:lnTo>
                  <a:lnTo>
                    <a:pt x="16767" y="17407"/>
                  </a:lnTo>
                  <a:lnTo>
                    <a:pt x="17205" y="17340"/>
                  </a:lnTo>
                  <a:lnTo>
                    <a:pt x="17609" y="17239"/>
                  </a:lnTo>
                  <a:lnTo>
                    <a:pt x="18013" y="17070"/>
                  </a:lnTo>
                  <a:lnTo>
                    <a:pt x="18383" y="16902"/>
                  </a:lnTo>
                  <a:lnTo>
                    <a:pt x="18753" y="16700"/>
                  </a:lnTo>
                  <a:lnTo>
                    <a:pt x="19090" y="16464"/>
                  </a:lnTo>
                  <a:lnTo>
                    <a:pt x="19393" y="16161"/>
                  </a:lnTo>
                  <a:lnTo>
                    <a:pt x="19629" y="15791"/>
                  </a:lnTo>
                  <a:lnTo>
                    <a:pt x="19763" y="15555"/>
                  </a:lnTo>
                  <a:lnTo>
                    <a:pt x="19831" y="15320"/>
                  </a:lnTo>
                  <a:lnTo>
                    <a:pt x="19898" y="15084"/>
                  </a:lnTo>
                  <a:lnTo>
                    <a:pt x="19898" y="14815"/>
                  </a:lnTo>
                  <a:lnTo>
                    <a:pt x="19898" y="14579"/>
                  </a:lnTo>
                  <a:lnTo>
                    <a:pt x="19831" y="14343"/>
                  </a:lnTo>
                  <a:lnTo>
                    <a:pt x="19763" y="14108"/>
                  </a:lnTo>
                  <a:lnTo>
                    <a:pt x="19696" y="13872"/>
                  </a:lnTo>
                  <a:lnTo>
                    <a:pt x="19460" y="13367"/>
                  </a:lnTo>
                  <a:lnTo>
                    <a:pt x="19225" y="12929"/>
                  </a:lnTo>
                  <a:lnTo>
                    <a:pt x="18922" y="12492"/>
                  </a:lnTo>
                  <a:lnTo>
                    <a:pt x="18652" y="12121"/>
                  </a:lnTo>
                  <a:lnTo>
                    <a:pt x="18248" y="11549"/>
                  </a:lnTo>
                  <a:lnTo>
                    <a:pt x="17878" y="10909"/>
                  </a:lnTo>
                  <a:lnTo>
                    <a:pt x="17575" y="10202"/>
                  </a:lnTo>
                  <a:lnTo>
                    <a:pt x="17339" y="9529"/>
                  </a:lnTo>
                  <a:lnTo>
                    <a:pt x="17238" y="9158"/>
                  </a:lnTo>
                  <a:lnTo>
                    <a:pt x="17171" y="8788"/>
                  </a:lnTo>
                  <a:lnTo>
                    <a:pt x="17104" y="8418"/>
                  </a:lnTo>
                  <a:lnTo>
                    <a:pt x="17070" y="8047"/>
                  </a:lnTo>
                  <a:lnTo>
                    <a:pt x="17070" y="7711"/>
                  </a:lnTo>
                  <a:lnTo>
                    <a:pt x="17104" y="7340"/>
                  </a:lnTo>
                  <a:lnTo>
                    <a:pt x="17137" y="6970"/>
                  </a:lnTo>
                  <a:lnTo>
                    <a:pt x="17238" y="6633"/>
                  </a:lnTo>
                  <a:lnTo>
                    <a:pt x="17339" y="6297"/>
                  </a:lnTo>
                  <a:lnTo>
                    <a:pt x="17541" y="5960"/>
                  </a:lnTo>
                  <a:lnTo>
                    <a:pt x="17777" y="5691"/>
                  </a:lnTo>
                  <a:lnTo>
                    <a:pt x="18046" y="5455"/>
                  </a:lnTo>
                  <a:lnTo>
                    <a:pt x="18349" y="5253"/>
                  </a:lnTo>
                  <a:lnTo>
                    <a:pt x="18686" y="5152"/>
                  </a:lnTo>
                  <a:lnTo>
                    <a:pt x="19023" y="5085"/>
                  </a:lnTo>
                  <a:lnTo>
                    <a:pt x="19393" y="5085"/>
                  </a:lnTo>
                  <a:lnTo>
                    <a:pt x="19696" y="5186"/>
                  </a:lnTo>
                  <a:lnTo>
                    <a:pt x="19965" y="5320"/>
                  </a:lnTo>
                  <a:lnTo>
                    <a:pt x="20235" y="5489"/>
                  </a:lnTo>
                  <a:lnTo>
                    <a:pt x="20470" y="5724"/>
                  </a:lnTo>
                  <a:lnTo>
                    <a:pt x="20672" y="5960"/>
                  </a:lnTo>
                  <a:lnTo>
                    <a:pt x="20874" y="6196"/>
                  </a:lnTo>
                  <a:lnTo>
                    <a:pt x="21211" y="6734"/>
                  </a:lnTo>
                  <a:lnTo>
                    <a:pt x="21076" y="6936"/>
                  </a:lnTo>
                  <a:lnTo>
                    <a:pt x="21043" y="6936"/>
                  </a:lnTo>
                  <a:lnTo>
                    <a:pt x="21043" y="7037"/>
                  </a:lnTo>
                  <a:lnTo>
                    <a:pt x="21076" y="7071"/>
                  </a:lnTo>
                  <a:lnTo>
                    <a:pt x="21144" y="7071"/>
                  </a:lnTo>
                  <a:lnTo>
                    <a:pt x="21177" y="7138"/>
                  </a:lnTo>
                  <a:lnTo>
                    <a:pt x="21245" y="7273"/>
                  </a:lnTo>
                  <a:lnTo>
                    <a:pt x="21278" y="7340"/>
                  </a:lnTo>
                  <a:lnTo>
                    <a:pt x="21346" y="7374"/>
                  </a:lnTo>
                  <a:lnTo>
                    <a:pt x="21312" y="7542"/>
                  </a:lnTo>
                  <a:lnTo>
                    <a:pt x="21245" y="7576"/>
                  </a:lnTo>
                  <a:lnTo>
                    <a:pt x="21211" y="7643"/>
                  </a:lnTo>
                  <a:lnTo>
                    <a:pt x="21245" y="7677"/>
                  </a:lnTo>
                  <a:lnTo>
                    <a:pt x="21649" y="8216"/>
                  </a:lnTo>
                  <a:lnTo>
                    <a:pt x="22086" y="8721"/>
                  </a:lnTo>
                  <a:lnTo>
                    <a:pt x="22962" y="9697"/>
                  </a:lnTo>
                  <a:lnTo>
                    <a:pt x="23837" y="10674"/>
                  </a:lnTo>
                  <a:lnTo>
                    <a:pt x="24275" y="11145"/>
                  </a:lnTo>
                  <a:lnTo>
                    <a:pt x="24746" y="11583"/>
                  </a:lnTo>
                  <a:lnTo>
                    <a:pt x="25049" y="11886"/>
                  </a:lnTo>
                  <a:lnTo>
                    <a:pt x="25453" y="12256"/>
                  </a:lnTo>
                  <a:lnTo>
                    <a:pt x="25689" y="12424"/>
                  </a:lnTo>
                  <a:lnTo>
                    <a:pt x="25925" y="12593"/>
                  </a:lnTo>
                  <a:lnTo>
                    <a:pt x="26127" y="12660"/>
                  </a:lnTo>
                  <a:lnTo>
                    <a:pt x="26295" y="12694"/>
                  </a:lnTo>
                  <a:lnTo>
                    <a:pt x="26497" y="12660"/>
                  </a:lnTo>
                  <a:lnTo>
                    <a:pt x="26665" y="12593"/>
                  </a:lnTo>
                  <a:lnTo>
                    <a:pt x="26699" y="12559"/>
                  </a:lnTo>
                  <a:lnTo>
                    <a:pt x="27036" y="13064"/>
                  </a:lnTo>
                  <a:lnTo>
                    <a:pt x="27103" y="13098"/>
                  </a:lnTo>
                  <a:lnTo>
                    <a:pt x="27170" y="13098"/>
                  </a:lnTo>
                  <a:lnTo>
                    <a:pt x="27440" y="12862"/>
                  </a:lnTo>
                  <a:lnTo>
                    <a:pt x="27608" y="13030"/>
                  </a:lnTo>
                  <a:lnTo>
                    <a:pt x="27810" y="13165"/>
                  </a:lnTo>
                  <a:lnTo>
                    <a:pt x="28046" y="13232"/>
                  </a:lnTo>
                  <a:lnTo>
                    <a:pt x="28315" y="13266"/>
                  </a:lnTo>
                  <a:lnTo>
                    <a:pt x="28315" y="12862"/>
                  </a:lnTo>
                  <a:lnTo>
                    <a:pt x="27978" y="12795"/>
                  </a:lnTo>
                  <a:lnTo>
                    <a:pt x="27608" y="12660"/>
                  </a:lnTo>
                  <a:lnTo>
                    <a:pt x="27709" y="12525"/>
                  </a:lnTo>
                  <a:lnTo>
                    <a:pt x="27743" y="12458"/>
                  </a:lnTo>
                  <a:lnTo>
                    <a:pt x="27709" y="12357"/>
                  </a:lnTo>
                  <a:lnTo>
                    <a:pt x="27574" y="12189"/>
                  </a:lnTo>
                  <a:lnTo>
                    <a:pt x="27372" y="12020"/>
                  </a:lnTo>
                  <a:lnTo>
                    <a:pt x="27170" y="11919"/>
                  </a:lnTo>
                  <a:lnTo>
                    <a:pt x="27204" y="11852"/>
                  </a:lnTo>
                  <a:lnTo>
                    <a:pt x="27204" y="11751"/>
                  </a:lnTo>
                  <a:lnTo>
                    <a:pt x="27137" y="11650"/>
                  </a:lnTo>
                  <a:lnTo>
                    <a:pt x="27137" y="11616"/>
                  </a:lnTo>
                  <a:lnTo>
                    <a:pt x="27137" y="11583"/>
                  </a:lnTo>
                  <a:lnTo>
                    <a:pt x="27137" y="11549"/>
                  </a:lnTo>
                  <a:lnTo>
                    <a:pt x="27069" y="11549"/>
                  </a:lnTo>
                  <a:lnTo>
                    <a:pt x="26733" y="10977"/>
                  </a:lnTo>
                  <a:lnTo>
                    <a:pt x="26362" y="10438"/>
                  </a:lnTo>
                  <a:lnTo>
                    <a:pt x="25958" y="9933"/>
                  </a:lnTo>
                  <a:lnTo>
                    <a:pt x="25521" y="9428"/>
                  </a:lnTo>
                  <a:lnTo>
                    <a:pt x="25049" y="8956"/>
                  </a:lnTo>
                  <a:lnTo>
                    <a:pt x="24578" y="8519"/>
                  </a:lnTo>
                  <a:lnTo>
                    <a:pt x="23601" y="7610"/>
                  </a:lnTo>
                  <a:lnTo>
                    <a:pt x="23298" y="7307"/>
                  </a:lnTo>
                  <a:lnTo>
                    <a:pt x="22928" y="6970"/>
                  </a:lnTo>
                  <a:lnTo>
                    <a:pt x="22726" y="6835"/>
                  </a:lnTo>
                  <a:lnTo>
                    <a:pt x="22524" y="6734"/>
                  </a:lnTo>
                  <a:lnTo>
                    <a:pt x="22288" y="6667"/>
                  </a:lnTo>
                  <a:lnTo>
                    <a:pt x="22086" y="6701"/>
                  </a:lnTo>
                  <a:lnTo>
                    <a:pt x="21884" y="6768"/>
                  </a:lnTo>
                  <a:lnTo>
                    <a:pt x="21783" y="6600"/>
                  </a:lnTo>
                  <a:lnTo>
                    <a:pt x="21682" y="6431"/>
                  </a:lnTo>
                  <a:lnTo>
                    <a:pt x="21649" y="6398"/>
                  </a:lnTo>
                  <a:lnTo>
                    <a:pt x="21581" y="6364"/>
                  </a:lnTo>
                  <a:lnTo>
                    <a:pt x="21514" y="6364"/>
                  </a:lnTo>
                  <a:lnTo>
                    <a:pt x="21480" y="6398"/>
                  </a:lnTo>
                  <a:lnTo>
                    <a:pt x="21413" y="6499"/>
                  </a:lnTo>
                  <a:lnTo>
                    <a:pt x="21177" y="6162"/>
                  </a:lnTo>
                  <a:lnTo>
                    <a:pt x="20942" y="5825"/>
                  </a:lnTo>
                  <a:lnTo>
                    <a:pt x="20639" y="5522"/>
                  </a:lnTo>
                  <a:lnTo>
                    <a:pt x="20336" y="5219"/>
                  </a:lnTo>
                  <a:lnTo>
                    <a:pt x="19999" y="4984"/>
                  </a:lnTo>
                  <a:lnTo>
                    <a:pt x="19831" y="4916"/>
                  </a:lnTo>
                  <a:lnTo>
                    <a:pt x="19662" y="4849"/>
                  </a:lnTo>
                  <a:lnTo>
                    <a:pt x="19460" y="4782"/>
                  </a:lnTo>
                  <a:lnTo>
                    <a:pt x="19258" y="4748"/>
                  </a:lnTo>
                  <a:lnTo>
                    <a:pt x="19056" y="4748"/>
                  </a:lnTo>
                  <a:lnTo>
                    <a:pt x="18854" y="4782"/>
                  </a:lnTo>
                  <a:lnTo>
                    <a:pt x="18585" y="4849"/>
                  </a:lnTo>
                  <a:lnTo>
                    <a:pt x="18383" y="4916"/>
                  </a:lnTo>
                  <a:lnTo>
                    <a:pt x="18147" y="5017"/>
                  </a:lnTo>
                  <a:lnTo>
                    <a:pt x="17945" y="5152"/>
                  </a:lnTo>
                  <a:lnTo>
                    <a:pt x="17777" y="5287"/>
                  </a:lnTo>
                  <a:lnTo>
                    <a:pt x="17609" y="5421"/>
                  </a:lnTo>
                  <a:lnTo>
                    <a:pt x="17474" y="5590"/>
                  </a:lnTo>
                  <a:lnTo>
                    <a:pt x="17339" y="5792"/>
                  </a:lnTo>
                  <a:lnTo>
                    <a:pt x="17104" y="6162"/>
                  </a:lnTo>
                  <a:lnTo>
                    <a:pt x="16935" y="6600"/>
                  </a:lnTo>
                  <a:lnTo>
                    <a:pt x="16834" y="7071"/>
                  </a:lnTo>
                  <a:lnTo>
                    <a:pt x="16767" y="7542"/>
                  </a:lnTo>
                  <a:lnTo>
                    <a:pt x="16767" y="8148"/>
                  </a:lnTo>
                  <a:lnTo>
                    <a:pt x="16834" y="8754"/>
                  </a:lnTo>
                  <a:lnTo>
                    <a:pt x="16969" y="9360"/>
                  </a:lnTo>
                  <a:lnTo>
                    <a:pt x="17137" y="9933"/>
                  </a:lnTo>
                  <a:lnTo>
                    <a:pt x="17339" y="10505"/>
                  </a:lnTo>
                  <a:lnTo>
                    <a:pt x="17609" y="11078"/>
                  </a:lnTo>
                  <a:lnTo>
                    <a:pt x="17912" y="11616"/>
                  </a:lnTo>
                  <a:lnTo>
                    <a:pt x="18248" y="12088"/>
                  </a:lnTo>
                  <a:lnTo>
                    <a:pt x="18652" y="12626"/>
                  </a:lnTo>
                  <a:lnTo>
                    <a:pt x="18989" y="13165"/>
                  </a:lnTo>
                  <a:lnTo>
                    <a:pt x="19157" y="13434"/>
                  </a:lnTo>
                  <a:lnTo>
                    <a:pt x="19292" y="13737"/>
                  </a:lnTo>
                  <a:lnTo>
                    <a:pt x="19427" y="14040"/>
                  </a:lnTo>
                  <a:lnTo>
                    <a:pt x="19528" y="14377"/>
                  </a:lnTo>
                  <a:lnTo>
                    <a:pt x="19561" y="14579"/>
                  </a:lnTo>
                  <a:lnTo>
                    <a:pt x="19595" y="14781"/>
                  </a:lnTo>
                  <a:lnTo>
                    <a:pt x="19561" y="14983"/>
                  </a:lnTo>
                  <a:lnTo>
                    <a:pt x="19528" y="15185"/>
                  </a:lnTo>
                  <a:lnTo>
                    <a:pt x="19494" y="15353"/>
                  </a:lnTo>
                  <a:lnTo>
                    <a:pt x="19427" y="15522"/>
                  </a:lnTo>
                  <a:lnTo>
                    <a:pt x="19225" y="15858"/>
                  </a:lnTo>
                  <a:lnTo>
                    <a:pt x="18955" y="16161"/>
                  </a:lnTo>
                  <a:lnTo>
                    <a:pt x="18652" y="16397"/>
                  </a:lnTo>
                  <a:lnTo>
                    <a:pt x="18316" y="16599"/>
                  </a:lnTo>
                  <a:lnTo>
                    <a:pt x="17945" y="16767"/>
                  </a:lnTo>
                  <a:lnTo>
                    <a:pt x="17676" y="16902"/>
                  </a:lnTo>
                  <a:lnTo>
                    <a:pt x="17373" y="16969"/>
                  </a:lnTo>
                  <a:lnTo>
                    <a:pt x="17070" y="17037"/>
                  </a:lnTo>
                  <a:lnTo>
                    <a:pt x="16733" y="17070"/>
                  </a:lnTo>
                  <a:lnTo>
                    <a:pt x="16094" y="17104"/>
                  </a:lnTo>
                  <a:lnTo>
                    <a:pt x="15420" y="17070"/>
                  </a:lnTo>
                  <a:lnTo>
                    <a:pt x="14747" y="16936"/>
                  </a:lnTo>
                  <a:lnTo>
                    <a:pt x="14444" y="16868"/>
                  </a:lnTo>
                  <a:lnTo>
                    <a:pt x="14141" y="16734"/>
                  </a:lnTo>
                  <a:lnTo>
                    <a:pt x="13838" y="16633"/>
                  </a:lnTo>
                  <a:lnTo>
                    <a:pt x="13535" y="16464"/>
                  </a:lnTo>
                  <a:lnTo>
                    <a:pt x="13299" y="16330"/>
                  </a:lnTo>
                  <a:lnTo>
                    <a:pt x="13030" y="16128"/>
                  </a:lnTo>
                  <a:lnTo>
                    <a:pt x="12760" y="15892"/>
                  </a:lnTo>
                  <a:lnTo>
                    <a:pt x="12558" y="15589"/>
                  </a:lnTo>
                  <a:lnTo>
                    <a:pt x="12390" y="15286"/>
                  </a:lnTo>
                  <a:lnTo>
                    <a:pt x="12323" y="14949"/>
                  </a:lnTo>
                  <a:lnTo>
                    <a:pt x="12255" y="14613"/>
                  </a:lnTo>
                  <a:lnTo>
                    <a:pt x="12188" y="14276"/>
                  </a:lnTo>
                  <a:lnTo>
                    <a:pt x="12154" y="13535"/>
                  </a:lnTo>
                  <a:lnTo>
                    <a:pt x="12087" y="12862"/>
                  </a:lnTo>
                  <a:lnTo>
                    <a:pt x="12020" y="12222"/>
                  </a:lnTo>
                  <a:lnTo>
                    <a:pt x="11919" y="11549"/>
                  </a:lnTo>
                  <a:lnTo>
                    <a:pt x="11784" y="10909"/>
                  </a:lnTo>
                  <a:lnTo>
                    <a:pt x="11649" y="10539"/>
                  </a:lnTo>
                  <a:lnTo>
                    <a:pt x="11481" y="10135"/>
                  </a:lnTo>
                  <a:lnTo>
                    <a:pt x="11380" y="9967"/>
                  </a:lnTo>
                  <a:lnTo>
                    <a:pt x="11245" y="9798"/>
                  </a:lnTo>
                  <a:lnTo>
                    <a:pt x="11111" y="9664"/>
                  </a:lnTo>
                  <a:lnTo>
                    <a:pt x="10942" y="9563"/>
                  </a:lnTo>
                  <a:lnTo>
                    <a:pt x="10673" y="9428"/>
                  </a:lnTo>
                  <a:lnTo>
                    <a:pt x="10404" y="9327"/>
                  </a:lnTo>
                  <a:lnTo>
                    <a:pt x="10134" y="9259"/>
                  </a:lnTo>
                  <a:lnTo>
                    <a:pt x="9831" y="9192"/>
                  </a:lnTo>
                  <a:lnTo>
                    <a:pt x="9259" y="9158"/>
                  </a:lnTo>
                  <a:lnTo>
                    <a:pt x="8687" y="9057"/>
                  </a:lnTo>
                  <a:lnTo>
                    <a:pt x="8350" y="8990"/>
                  </a:lnTo>
                  <a:lnTo>
                    <a:pt x="8013" y="8855"/>
                  </a:lnTo>
                  <a:lnTo>
                    <a:pt x="7710" y="8687"/>
                  </a:lnTo>
                  <a:lnTo>
                    <a:pt x="7407" y="8485"/>
                  </a:lnTo>
                  <a:lnTo>
                    <a:pt x="6835" y="8047"/>
                  </a:lnTo>
                  <a:lnTo>
                    <a:pt x="6296" y="7576"/>
                  </a:lnTo>
                  <a:lnTo>
                    <a:pt x="6128" y="7408"/>
                  </a:lnTo>
                  <a:lnTo>
                    <a:pt x="5993" y="7206"/>
                  </a:lnTo>
                  <a:lnTo>
                    <a:pt x="5825" y="7004"/>
                  </a:lnTo>
                  <a:lnTo>
                    <a:pt x="5656" y="6869"/>
                  </a:lnTo>
                  <a:lnTo>
                    <a:pt x="5589" y="6835"/>
                  </a:lnTo>
                  <a:lnTo>
                    <a:pt x="5724" y="6667"/>
                  </a:lnTo>
                  <a:lnTo>
                    <a:pt x="5757" y="6600"/>
                  </a:lnTo>
                  <a:lnTo>
                    <a:pt x="5825" y="6600"/>
                  </a:lnTo>
                  <a:lnTo>
                    <a:pt x="5892" y="6566"/>
                  </a:lnTo>
                  <a:lnTo>
                    <a:pt x="5892" y="6499"/>
                  </a:lnTo>
                  <a:lnTo>
                    <a:pt x="5858" y="6431"/>
                  </a:lnTo>
                  <a:lnTo>
                    <a:pt x="4983" y="5590"/>
                  </a:lnTo>
                  <a:lnTo>
                    <a:pt x="4579" y="5152"/>
                  </a:lnTo>
                  <a:lnTo>
                    <a:pt x="4411" y="4916"/>
                  </a:lnTo>
                  <a:lnTo>
                    <a:pt x="4242" y="4681"/>
                  </a:lnTo>
                  <a:lnTo>
                    <a:pt x="4108" y="4445"/>
                  </a:lnTo>
                  <a:lnTo>
                    <a:pt x="3939" y="4243"/>
                  </a:lnTo>
                  <a:lnTo>
                    <a:pt x="3737" y="4041"/>
                  </a:lnTo>
                  <a:lnTo>
                    <a:pt x="3502" y="3873"/>
                  </a:lnTo>
                  <a:lnTo>
                    <a:pt x="3064" y="3536"/>
                  </a:lnTo>
                  <a:lnTo>
                    <a:pt x="2626" y="3233"/>
                  </a:lnTo>
                  <a:lnTo>
                    <a:pt x="2896" y="3132"/>
                  </a:lnTo>
                  <a:lnTo>
                    <a:pt x="3030" y="3065"/>
                  </a:lnTo>
                  <a:lnTo>
                    <a:pt x="3165" y="2964"/>
                  </a:lnTo>
                  <a:lnTo>
                    <a:pt x="3367" y="2728"/>
                  </a:lnTo>
                  <a:lnTo>
                    <a:pt x="3502" y="2459"/>
                  </a:lnTo>
                  <a:lnTo>
                    <a:pt x="3636" y="2156"/>
                  </a:lnTo>
                  <a:lnTo>
                    <a:pt x="3704" y="1819"/>
                  </a:lnTo>
                  <a:lnTo>
                    <a:pt x="3737" y="1516"/>
                  </a:lnTo>
                  <a:lnTo>
                    <a:pt x="3737" y="1179"/>
                  </a:lnTo>
                  <a:lnTo>
                    <a:pt x="3704" y="876"/>
                  </a:lnTo>
                  <a:lnTo>
                    <a:pt x="3670" y="775"/>
                  </a:lnTo>
                  <a:lnTo>
                    <a:pt x="3535" y="775"/>
                  </a:lnTo>
                  <a:lnTo>
                    <a:pt x="3502" y="809"/>
                  </a:lnTo>
                  <a:lnTo>
                    <a:pt x="3502" y="876"/>
                  </a:lnTo>
                  <a:lnTo>
                    <a:pt x="3502" y="1145"/>
                  </a:lnTo>
                  <a:lnTo>
                    <a:pt x="3401" y="876"/>
                  </a:lnTo>
                  <a:lnTo>
                    <a:pt x="3232" y="674"/>
                  </a:lnTo>
                  <a:lnTo>
                    <a:pt x="3030" y="539"/>
                  </a:lnTo>
                  <a:lnTo>
                    <a:pt x="2963" y="472"/>
                  </a:lnTo>
                  <a:lnTo>
                    <a:pt x="2896" y="337"/>
                  </a:lnTo>
                  <a:lnTo>
                    <a:pt x="2862" y="236"/>
                  </a:lnTo>
                  <a:lnTo>
                    <a:pt x="2761" y="203"/>
                  </a:lnTo>
                  <a:lnTo>
                    <a:pt x="2694" y="169"/>
                  </a:lnTo>
                  <a:lnTo>
                    <a:pt x="2593" y="169"/>
                  </a:lnTo>
                  <a:lnTo>
                    <a:pt x="2559" y="203"/>
                  </a:lnTo>
                  <a:lnTo>
                    <a:pt x="2357" y="102"/>
                  </a:lnTo>
                  <a:lnTo>
                    <a:pt x="2121" y="34"/>
                  </a:lnTo>
                  <a:lnTo>
                    <a:pt x="188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hape 965"/>
            <p:cNvSpPr/>
            <p:nvPr/>
          </p:nvSpPr>
          <p:spPr>
            <a:xfrm>
              <a:off x="2495520" y="776160"/>
              <a:ext cx="14040" cy="88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03" h="1348">
                  <a:moveTo>
                    <a:pt x="101" y="1"/>
                  </a:moveTo>
                  <a:lnTo>
                    <a:pt x="34" y="102"/>
                  </a:lnTo>
                  <a:lnTo>
                    <a:pt x="0" y="236"/>
                  </a:lnTo>
                  <a:lnTo>
                    <a:pt x="34" y="506"/>
                  </a:lnTo>
                  <a:lnTo>
                    <a:pt x="34" y="1280"/>
                  </a:lnTo>
                  <a:lnTo>
                    <a:pt x="68" y="1347"/>
                  </a:lnTo>
                  <a:lnTo>
                    <a:pt x="135" y="1347"/>
                  </a:lnTo>
                  <a:lnTo>
                    <a:pt x="169" y="1314"/>
                  </a:lnTo>
                  <a:lnTo>
                    <a:pt x="202" y="1280"/>
                  </a:lnTo>
                  <a:lnTo>
                    <a:pt x="169" y="472"/>
                  </a:lnTo>
                  <a:lnTo>
                    <a:pt x="169" y="236"/>
                  </a:lnTo>
                  <a:lnTo>
                    <a:pt x="169" y="102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28080" bIns="-28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hape 966"/>
            <p:cNvSpPr/>
            <p:nvPr/>
          </p:nvSpPr>
          <p:spPr>
            <a:xfrm>
              <a:off x="2368440" y="0"/>
              <a:ext cx="264960" cy="112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007" h="1685">
                  <a:moveTo>
                    <a:pt x="0" y="1"/>
                  </a:moveTo>
                  <a:lnTo>
                    <a:pt x="0" y="539"/>
                  </a:lnTo>
                  <a:lnTo>
                    <a:pt x="0" y="1011"/>
                  </a:lnTo>
                  <a:lnTo>
                    <a:pt x="68" y="1246"/>
                  </a:lnTo>
                  <a:lnTo>
                    <a:pt x="135" y="1448"/>
                  </a:lnTo>
                  <a:lnTo>
                    <a:pt x="202" y="1482"/>
                  </a:lnTo>
                  <a:lnTo>
                    <a:pt x="202" y="1516"/>
                  </a:lnTo>
                  <a:lnTo>
                    <a:pt x="236" y="1549"/>
                  </a:lnTo>
                  <a:lnTo>
                    <a:pt x="674" y="1617"/>
                  </a:lnTo>
                  <a:lnTo>
                    <a:pt x="1111" y="1650"/>
                  </a:lnTo>
                  <a:lnTo>
                    <a:pt x="2020" y="1684"/>
                  </a:lnTo>
                  <a:lnTo>
                    <a:pt x="2929" y="1650"/>
                  </a:lnTo>
                  <a:lnTo>
                    <a:pt x="3805" y="1549"/>
                  </a:lnTo>
                  <a:lnTo>
                    <a:pt x="3872" y="1583"/>
                  </a:lnTo>
                  <a:lnTo>
                    <a:pt x="3906" y="1583"/>
                  </a:lnTo>
                  <a:lnTo>
                    <a:pt x="3973" y="1549"/>
                  </a:lnTo>
                  <a:lnTo>
                    <a:pt x="4007" y="1482"/>
                  </a:lnTo>
                  <a:lnTo>
                    <a:pt x="3906" y="1"/>
                  </a:lnTo>
                  <a:lnTo>
                    <a:pt x="3704" y="1"/>
                  </a:lnTo>
                  <a:lnTo>
                    <a:pt x="3771" y="1347"/>
                  </a:lnTo>
                  <a:lnTo>
                    <a:pt x="2020" y="1381"/>
                  </a:lnTo>
                  <a:lnTo>
                    <a:pt x="1111" y="1381"/>
                  </a:lnTo>
                  <a:lnTo>
                    <a:pt x="236" y="1448"/>
                  </a:lnTo>
                  <a:lnTo>
                    <a:pt x="236" y="1415"/>
                  </a:lnTo>
                  <a:lnTo>
                    <a:pt x="270" y="1213"/>
                  </a:lnTo>
                  <a:lnTo>
                    <a:pt x="236" y="977"/>
                  </a:lnTo>
                  <a:lnTo>
                    <a:pt x="169" y="539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3960" bIns="-3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hape 967"/>
            <p:cNvSpPr/>
            <p:nvPr/>
          </p:nvSpPr>
          <p:spPr>
            <a:xfrm>
              <a:off x="7358040" y="553572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3" h="607">
                  <a:moveTo>
                    <a:pt x="405" y="0"/>
                  </a:moveTo>
                  <a:lnTo>
                    <a:pt x="337" y="34"/>
                  </a:lnTo>
                  <a:lnTo>
                    <a:pt x="270" y="68"/>
                  </a:lnTo>
                  <a:lnTo>
                    <a:pt x="102" y="303"/>
                  </a:lnTo>
                  <a:lnTo>
                    <a:pt x="34" y="438"/>
                  </a:lnTo>
                  <a:lnTo>
                    <a:pt x="1" y="573"/>
                  </a:lnTo>
                  <a:lnTo>
                    <a:pt x="34" y="606"/>
                  </a:lnTo>
                  <a:lnTo>
                    <a:pt x="169" y="573"/>
                  </a:lnTo>
                  <a:lnTo>
                    <a:pt x="304" y="505"/>
                  </a:lnTo>
                  <a:lnTo>
                    <a:pt x="506" y="303"/>
                  </a:lnTo>
                  <a:lnTo>
                    <a:pt x="539" y="236"/>
                  </a:lnTo>
                  <a:lnTo>
                    <a:pt x="573" y="169"/>
                  </a:lnTo>
                  <a:lnTo>
                    <a:pt x="539" y="135"/>
                  </a:lnTo>
                  <a:lnTo>
                    <a:pt x="506" y="68"/>
                  </a:lnTo>
                  <a:lnTo>
                    <a:pt x="438" y="34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7040" bIns="-77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hape 968"/>
            <p:cNvSpPr/>
            <p:nvPr/>
          </p:nvSpPr>
          <p:spPr>
            <a:xfrm>
              <a:off x="8310600" y="2695320"/>
              <a:ext cx="849240" cy="150624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1506240"/>
                <a:gd name="textAreaBottom" fmla="*/ 1506600 h 1506240"/>
              </a:gdLst>
              <a:ahLst/>
              <a:rect l="textAreaLeft" t="textAreaTop" r="textAreaRight" b="textAreaBottom"/>
              <a:pathLst>
                <a:path w="12794" h="22693">
                  <a:moveTo>
                    <a:pt x="10774" y="3334"/>
                  </a:moveTo>
                  <a:lnTo>
                    <a:pt x="10841" y="3368"/>
                  </a:lnTo>
                  <a:lnTo>
                    <a:pt x="11178" y="4209"/>
                  </a:lnTo>
                  <a:lnTo>
                    <a:pt x="11245" y="4378"/>
                  </a:lnTo>
                  <a:lnTo>
                    <a:pt x="11346" y="4580"/>
                  </a:lnTo>
                  <a:lnTo>
                    <a:pt x="11346" y="4681"/>
                  </a:lnTo>
                  <a:lnTo>
                    <a:pt x="11346" y="4748"/>
                  </a:lnTo>
                  <a:lnTo>
                    <a:pt x="11313" y="4815"/>
                  </a:lnTo>
                  <a:lnTo>
                    <a:pt x="11212" y="4849"/>
                  </a:lnTo>
                  <a:lnTo>
                    <a:pt x="11111" y="4546"/>
                  </a:lnTo>
                  <a:lnTo>
                    <a:pt x="10774" y="3334"/>
                  </a:lnTo>
                  <a:close/>
                  <a:moveTo>
                    <a:pt x="6868" y="1"/>
                  </a:moveTo>
                  <a:lnTo>
                    <a:pt x="6363" y="34"/>
                  </a:lnTo>
                  <a:lnTo>
                    <a:pt x="5892" y="102"/>
                  </a:lnTo>
                  <a:lnTo>
                    <a:pt x="5387" y="169"/>
                  </a:lnTo>
                  <a:lnTo>
                    <a:pt x="4882" y="270"/>
                  </a:lnTo>
                  <a:lnTo>
                    <a:pt x="3939" y="506"/>
                  </a:lnTo>
                  <a:lnTo>
                    <a:pt x="2963" y="809"/>
                  </a:lnTo>
                  <a:lnTo>
                    <a:pt x="2492" y="977"/>
                  </a:lnTo>
                  <a:lnTo>
                    <a:pt x="2020" y="1145"/>
                  </a:lnTo>
                  <a:lnTo>
                    <a:pt x="1583" y="1381"/>
                  </a:lnTo>
                  <a:lnTo>
                    <a:pt x="1145" y="1617"/>
                  </a:lnTo>
                  <a:lnTo>
                    <a:pt x="876" y="1819"/>
                  </a:lnTo>
                  <a:lnTo>
                    <a:pt x="640" y="2021"/>
                  </a:lnTo>
                  <a:lnTo>
                    <a:pt x="438" y="2257"/>
                  </a:lnTo>
                  <a:lnTo>
                    <a:pt x="236" y="2560"/>
                  </a:lnTo>
                  <a:lnTo>
                    <a:pt x="101" y="2829"/>
                  </a:lnTo>
                  <a:lnTo>
                    <a:pt x="0" y="3132"/>
                  </a:lnTo>
                  <a:lnTo>
                    <a:pt x="0" y="3469"/>
                  </a:lnTo>
                  <a:lnTo>
                    <a:pt x="34" y="3772"/>
                  </a:lnTo>
                  <a:lnTo>
                    <a:pt x="34" y="3805"/>
                  </a:lnTo>
                  <a:lnTo>
                    <a:pt x="34" y="3839"/>
                  </a:lnTo>
                  <a:lnTo>
                    <a:pt x="101" y="4378"/>
                  </a:lnTo>
                  <a:lnTo>
                    <a:pt x="236" y="4883"/>
                  </a:lnTo>
                  <a:lnTo>
                    <a:pt x="505" y="5893"/>
                  </a:lnTo>
                  <a:lnTo>
                    <a:pt x="808" y="6903"/>
                  </a:lnTo>
                  <a:lnTo>
                    <a:pt x="1111" y="7946"/>
                  </a:lnTo>
                  <a:lnTo>
                    <a:pt x="1583" y="10101"/>
                  </a:lnTo>
                  <a:lnTo>
                    <a:pt x="2020" y="12256"/>
                  </a:lnTo>
                  <a:lnTo>
                    <a:pt x="2559" y="14478"/>
                  </a:lnTo>
                  <a:lnTo>
                    <a:pt x="3131" y="16700"/>
                  </a:lnTo>
                  <a:lnTo>
                    <a:pt x="3704" y="18889"/>
                  </a:lnTo>
                  <a:lnTo>
                    <a:pt x="4377" y="21077"/>
                  </a:lnTo>
                  <a:lnTo>
                    <a:pt x="4411" y="21144"/>
                  </a:lnTo>
                  <a:lnTo>
                    <a:pt x="4411" y="21346"/>
                  </a:lnTo>
                  <a:lnTo>
                    <a:pt x="4478" y="21481"/>
                  </a:lnTo>
                  <a:lnTo>
                    <a:pt x="4613" y="21649"/>
                  </a:lnTo>
                  <a:lnTo>
                    <a:pt x="4747" y="21818"/>
                  </a:lnTo>
                  <a:lnTo>
                    <a:pt x="5084" y="22087"/>
                  </a:lnTo>
                  <a:lnTo>
                    <a:pt x="5421" y="22255"/>
                  </a:lnTo>
                  <a:lnTo>
                    <a:pt x="5724" y="22424"/>
                  </a:lnTo>
                  <a:lnTo>
                    <a:pt x="6027" y="22525"/>
                  </a:lnTo>
                  <a:lnTo>
                    <a:pt x="6363" y="22626"/>
                  </a:lnTo>
                  <a:lnTo>
                    <a:pt x="6734" y="22659"/>
                  </a:lnTo>
                  <a:lnTo>
                    <a:pt x="7070" y="22693"/>
                  </a:lnTo>
                  <a:lnTo>
                    <a:pt x="7407" y="22693"/>
                  </a:lnTo>
                  <a:lnTo>
                    <a:pt x="8114" y="22659"/>
                  </a:lnTo>
                  <a:lnTo>
                    <a:pt x="8720" y="22592"/>
                  </a:lnTo>
                  <a:lnTo>
                    <a:pt x="9293" y="22491"/>
                  </a:lnTo>
                  <a:lnTo>
                    <a:pt x="9899" y="22390"/>
                  </a:lnTo>
                  <a:lnTo>
                    <a:pt x="10471" y="22255"/>
                  </a:lnTo>
                  <a:lnTo>
                    <a:pt x="11649" y="21919"/>
                  </a:lnTo>
                  <a:lnTo>
                    <a:pt x="12794" y="21515"/>
                  </a:lnTo>
                  <a:lnTo>
                    <a:pt x="12794" y="21212"/>
                  </a:lnTo>
                  <a:lnTo>
                    <a:pt x="11313" y="21717"/>
                  </a:lnTo>
                  <a:lnTo>
                    <a:pt x="10538" y="21919"/>
                  </a:lnTo>
                  <a:lnTo>
                    <a:pt x="9798" y="22121"/>
                  </a:lnTo>
                  <a:lnTo>
                    <a:pt x="9124" y="22255"/>
                  </a:lnTo>
                  <a:lnTo>
                    <a:pt x="8485" y="22390"/>
                  </a:lnTo>
                  <a:lnTo>
                    <a:pt x="7811" y="22424"/>
                  </a:lnTo>
                  <a:lnTo>
                    <a:pt x="7138" y="22457"/>
                  </a:lnTo>
                  <a:lnTo>
                    <a:pt x="6801" y="22424"/>
                  </a:lnTo>
                  <a:lnTo>
                    <a:pt x="6498" y="22390"/>
                  </a:lnTo>
                  <a:lnTo>
                    <a:pt x="6195" y="22289"/>
                  </a:lnTo>
                  <a:lnTo>
                    <a:pt x="5858" y="22188"/>
                  </a:lnTo>
                  <a:lnTo>
                    <a:pt x="5522" y="22053"/>
                  </a:lnTo>
                  <a:lnTo>
                    <a:pt x="5320" y="21919"/>
                  </a:lnTo>
                  <a:lnTo>
                    <a:pt x="5084" y="21784"/>
                  </a:lnTo>
                  <a:lnTo>
                    <a:pt x="4916" y="21616"/>
                  </a:lnTo>
                  <a:lnTo>
                    <a:pt x="4747" y="21447"/>
                  </a:lnTo>
                  <a:lnTo>
                    <a:pt x="4646" y="21279"/>
                  </a:lnTo>
                  <a:lnTo>
                    <a:pt x="4613" y="21077"/>
                  </a:lnTo>
                  <a:lnTo>
                    <a:pt x="4613" y="21043"/>
                  </a:lnTo>
                  <a:lnTo>
                    <a:pt x="4007" y="18889"/>
                  </a:lnTo>
                  <a:lnTo>
                    <a:pt x="3434" y="16734"/>
                  </a:lnTo>
                  <a:lnTo>
                    <a:pt x="2862" y="14579"/>
                  </a:lnTo>
                  <a:lnTo>
                    <a:pt x="2323" y="12424"/>
                  </a:lnTo>
                  <a:lnTo>
                    <a:pt x="1852" y="10269"/>
                  </a:lnTo>
                  <a:lnTo>
                    <a:pt x="1414" y="8115"/>
                  </a:lnTo>
                  <a:lnTo>
                    <a:pt x="1280" y="7576"/>
                  </a:lnTo>
                  <a:lnTo>
                    <a:pt x="1145" y="7037"/>
                  </a:lnTo>
                  <a:lnTo>
                    <a:pt x="808" y="5960"/>
                  </a:lnTo>
                  <a:lnTo>
                    <a:pt x="472" y="4883"/>
                  </a:lnTo>
                  <a:lnTo>
                    <a:pt x="303" y="4344"/>
                  </a:lnTo>
                  <a:lnTo>
                    <a:pt x="169" y="3805"/>
                  </a:lnTo>
                  <a:lnTo>
                    <a:pt x="135" y="3772"/>
                  </a:lnTo>
                  <a:lnTo>
                    <a:pt x="202" y="3368"/>
                  </a:lnTo>
                  <a:lnTo>
                    <a:pt x="303" y="2997"/>
                  </a:lnTo>
                  <a:lnTo>
                    <a:pt x="472" y="2694"/>
                  </a:lnTo>
                  <a:lnTo>
                    <a:pt x="674" y="2391"/>
                  </a:lnTo>
                  <a:lnTo>
                    <a:pt x="909" y="2122"/>
                  </a:lnTo>
                  <a:lnTo>
                    <a:pt x="1179" y="1920"/>
                  </a:lnTo>
                  <a:lnTo>
                    <a:pt x="1482" y="1684"/>
                  </a:lnTo>
                  <a:lnTo>
                    <a:pt x="1818" y="1516"/>
                  </a:lnTo>
                  <a:lnTo>
                    <a:pt x="2155" y="1347"/>
                  </a:lnTo>
                  <a:lnTo>
                    <a:pt x="2525" y="1213"/>
                  </a:lnTo>
                  <a:lnTo>
                    <a:pt x="3266" y="943"/>
                  </a:lnTo>
                  <a:lnTo>
                    <a:pt x="4007" y="741"/>
                  </a:lnTo>
                  <a:lnTo>
                    <a:pt x="4714" y="573"/>
                  </a:lnTo>
                  <a:lnTo>
                    <a:pt x="5555" y="405"/>
                  </a:lnTo>
                  <a:lnTo>
                    <a:pt x="5959" y="337"/>
                  </a:lnTo>
                  <a:lnTo>
                    <a:pt x="6397" y="304"/>
                  </a:lnTo>
                  <a:lnTo>
                    <a:pt x="6801" y="270"/>
                  </a:lnTo>
                  <a:lnTo>
                    <a:pt x="7239" y="304"/>
                  </a:lnTo>
                  <a:lnTo>
                    <a:pt x="7643" y="304"/>
                  </a:lnTo>
                  <a:lnTo>
                    <a:pt x="8080" y="371"/>
                  </a:lnTo>
                  <a:lnTo>
                    <a:pt x="8518" y="472"/>
                  </a:lnTo>
                  <a:lnTo>
                    <a:pt x="8922" y="607"/>
                  </a:lnTo>
                  <a:lnTo>
                    <a:pt x="9326" y="809"/>
                  </a:lnTo>
                  <a:lnTo>
                    <a:pt x="9495" y="943"/>
                  </a:lnTo>
                  <a:lnTo>
                    <a:pt x="9697" y="1078"/>
                  </a:lnTo>
                  <a:lnTo>
                    <a:pt x="9831" y="1246"/>
                  </a:lnTo>
                  <a:lnTo>
                    <a:pt x="9966" y="1448"/>
                  </a:lnTo>
                  <a:lnTo>
                    <a:pt x="10101" y="1650"/>
                  </a:lnTo>
                  <a:lnTo>
                    <a:pt x="10202" y="1852"/>
                  </a:lnTo>
                  <a:lnTo>
                    <a:pt x="10168" y="1886"/>
                  </a:lnTo>
                  <a:lnTo>
                    <a:pt x="10168" y="2088"/>
                  </a:lnTo>
                  <a:lnTo>
                    <a:pt x="10202" y="2223"/>
                  </a:lnTo>
                  <a:lnTo>
                    <a:pt x="10303" y="2593"/>
                  </a:lnTo>
                  <a:lnTo>
                    <a:pt x="10707" y="4108"/>
                  </a:lnTo>
                  <a:lnTo>
                    <a:pt x="11616" y="7138"/>
                  </a:lnTo>
                  <a:lnTo>
                    <a:pt x="12491" y="10168"/>
                  </a:lnTo>
                  <a:lnTo>
                    <a:pt x="12794" y="11347"/>
                  </a:lnTo>
                  <a:lnTo>
                    <a:pt x="12794" y="10337"/>
                  </a:lnTo>
                  <a:lnTo>
                    <a:pt x="12727" y="10101"/>
                  </a:lnTo>
                  <a:lnTo>
                    <a:pt x="11919" y="7340"/>
                  </a:lnTo>
                  <a:lnTo>
                    <a:pt x="11582" y="6196"/>
                  </a:lnTo>
                  <a:lnTo>
                    <a:pt x="11279" y="5085"/>
                  </a:lnTo>
                  <a:lnTo>
                    <a:pt x="11346" y="5085"/>
                  </a:lnTo>
                  <a:lnTo>
                    <a:pt x="11414" y="5051"/>
                  </a:lnTo>
                  <a:lnTo>
                    <a:pt x="11447" y="5017"/>
                  </a:lnTo>
                  <a:lnTo>
                    <a:pt x="11515" y="4916"/>
                  </a:lnTo>
                  <a:lnTo>
                    <a:pt x="11582" y="4849"/>
                  </a:lnTo>
                  <a:lnTo>
                    <a:pt x="11616" y="4815"/>
                  </a:lnTo>
                  <a:lnTo>
                    <a:pt x="11616" y="4748"/>
                  </a:lnTo>
                  <a:lnTo>
                    <a:pt x="11346" y="3974"/>
                  </a:lnTo>
                  <a:lnTo>
                    <a:pt x="11043" y="3233"/>
                  </a:lnTo>
                  <a:lnTo>
                    <a:pt x="10976" y="3166"/>
                  </a:lnTo>
                  <a:lnTo>
                    <a:pt x="10707" y="3166"/>
                  </a:lnTo>
                  <a:lnTo>
                    <a:pt x="10471" y="2560"/>
                  </a:lnTo>
                  <a:lnTo>
                    <a:pt x="10639" y="2560"/>
                  </a:lnTo>
                  <a:lnTo>
                    <a:pt x="10673" y="2492"/>
                  </a:lnTo>
                  <a:lnTo>
                    <a:pt x="10673" y="2425"/>
                  </a:lnTo>
                  <a:lnTo>
                    <a:pt x="10538" y="2054"/>
                  </a:lnTo>
                  <a:lnTo>
                    <a:pt x="10404" y="1718"/>
                  </a:lnTo>
                  <a:lnTo>
                    <a:pt x="10235" y="1415"/>
                  </a:lnTo>
                  <a:lnTo>
                    <a:pt x="10033" y="1112"/>
                  </a:lnTo>
                  <a:lnTo>
                    <a:pt x="9798" y="876"/>
                  </a:lnTo>
                  <a:lnTo>
                    <a:pt x="9528" y="640"/>
                  </a:lnTo>
                  <a:lnTo>
                    <a:pt x="9225" y="472"/>
                  </a:lnTo>
                  <a:lnTo>
                    <a:pt x="8855" y="304"/>
                  </a:lnTo>
                  <a:lnTo>
                    <a:pt x="8384" y="169"/>
                  </a:lnTo>
                  <a:lnTo>
                    <a:pt x="7878" y="68"/>
                  </a:lnTo>
                  <a:lnTo>
                    <a:pt x="7373" y="34"/>
                  </a:lnTo>
                  <a:lnTo>
                    <a:pt x="686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hape 969"/>
            <p:cNvSpPr/>
            <p:nvPr/>
          </p:nvSpPr>
          <p:spPr>
            <a:xfrm>
              <a:off x="8810640" y="275724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39" h="405">
                  <a:moveTo>
                    <a:pt x="135" y="0"/>
                  </a:moveTo>
                  <a:lnTo>
                    <a:pt x="34" y="101"/>
                  </a:lnTo>
                  <a:lnTo>
                    <a:pt x="34" y="169"/>
                  </a:lnTo>
                  <a:lnTo>
                    <a:pt x="1" y="236"/>
                  </a:lnTo>
                  <a:lnTo>
                    <a:pt x="34" y="337"/>
                  </a:lnTo>
                  <a:lnTo>
                    <a:pt x="68" y="371"/>
                  </a:lnTo>
                  <a:lnTo>
                    <a:pt x="135" y="404"/>
                  </a:lnTo>
                  <a:lnTo>
                    <a:pt x="203" y="404"/>
                  </a:lnTo>
                  <a:lnTo>
                    <a:pt x="270" y="371"/>
                  </a:lnTo>
                  <a:lnTo>
                    <a:pt x="371" y="337"/>
                  </a:lnTo>
                  <a:lnTo>
                    <a:pt x="405" y="270"/>
                  </a:lnTo>
                  <a:lnTo>
                    <a:pt x="438" y="169"/>
                  </a:lnTo>
                  <a:lnTo>
                    <a:pt x="405" y="101"/>
                  </a:lnTo>
                  <a:lnTo>
                    <a:pt x="337" y="34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0000" bIns="-90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hape 970"/>
            <p:cNvSpPr/>
            <p:nvPr/>
          </p:nvSpPr>
          <p:spPr>
            <a:xfrm>
              <a:off x="8805960" y="5973840"/>
              <a:ext cx="179280" cy="1746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694" h="2627">
                  <a:moveTo>
                    <a:pt x="505" y="337"/>
                  </a:moveTo>
                  <a:lnTo>
                    <a:pt x="775" y="539"/>
                  </a:lnTo>
                  <a:lnTo>
                    <a:pt x="1044" y="741"/>
                  </a:lnTo>
                  <a:lnTo>
                    <a:pt x="977" y="842"/>
                  </a:lnTo>
                  <a:lnTo>
                    <a:pt x="910" y="943"/>
                  </a:lnTo>
                  <a:lnTo>
                    <a:pt x="842" y="1077"/>
                  </a:lnTo>
                  <a:lnTo>
                    <a:pt x="606" y="842"/>
                  </a:lnTo>
                  <a:lnTo>
                    <a:pt x="674" y="741"/>
                  </a:lnTo>
                  <a:lnTo>
                    <a:pt x="707" y="539"/>
                  </a:lnTo>
                  <a:lnTo>
                    <a:pt x="707" y="505"/>
                  </a:lnTo>
                  <a:lnTo>
                    <a:pt x="573" y="640"/>
                  </a:lnTo>
                  <a:lnTo>
                    <a:pt x="505" y="774"/>
                  </a:lnTo>
                  <a:lnTo>
                    <a:pt x="135" y="471"/>
                  </a:lnTo>
                  <a:lnTo>
                    <a:pt x="337" y="370"/>
                  </a:lnTo>
                  <a:lnTo>
                    <a:pt x="438" y="337"/>
                  </a:lnTo>
                  <a:close/>
                  <a:moveTo>
                    <a:pt x="1179" y="875"/>
                  </a:moveTo>
                  <a:lnTo>
                    <a:pt x="1415" y="1077"/>
                  </a:lnTo>
                  <a:lnTo>
                    <a:pt x="1482" y="1178"/>
                  </a:lnTo>
                  <a:lnTo>
                    <a:pt x="1381" y="1313"/>
                  </a:lnTo>
                  <a:lnTo>
                    <a:pt x="1280" y="1515"/>
                  </a:lnTo>
                  <a:lnTo>
                    <a:pt x="1145" y="1381"/>
                  </a:lnTo>
                  <a:lnTo>
                    <a:pt x="977" y="1212"/>
                  </a:lnTo>
                  <a:lnTo>
                    <a:pt x="1044" y="1111"/>
                  </a:lnTo>
                  <a:lnTo>
                    <a:pt x="1112" y="976"/>
                  </a:lnTo>
                  <a:lnTo>
                    <a:pt x="1179" y="875"/>
                  </a:lnTo>
                  <a:close/>
                  <a:moveTo>
                    <a:pt x="1583" y="1246"/>
                  </a:moveTo>
                  <a:lnTo>
                    <a:pt x="1852" y="1583"/>
                  </a:lnTo>
                  <a:lnTo>
                    <a:pt x="1751" y="1717"/>
                  </a:lnTo>
                  <a:lnTo>
                    <a:pt x="1684" y="1886"/>
                  </a:lnTo>
                  <a:lnTo>
                    <a:pt x="1448" y="1650"/>
                  </a:lnTo>
                  <a:lnTo>
                    <a:pt x="1516" y="1414"/>
                  </a:lnTo>
                  <a:lnTo>
                    <a:pt x="1583" y="1246"/>
                  </a:lnTo>
                  <a:close/>
                  <a:moveTo>
                    <a:pt x="1920" y="1684"/>
                  </a:moveTo>
                  <a:lnTo>
                    <a:pt x="2122" y="1919"/>
                  </a:lnTo>
                  <a:lnTo>
                    <a:pt x="2021" y="2020"/>
                  </a:lnTo>
                  <a:lnTo>
                    <a:pt x="2021" y="2088"/>
                  </a:lnTo>
                  <a:lnTo>
                    <a:pt x="2021" y="2155"/>
                  </a:lnTo>
                  <a:lnTo>
                    <a:pt x="1819" y="1987"/>
                  </a:lnTo>
                  <a:lnTo>
                    <a:pt x="1852" y="1919"/>
                  </a:lnTo>
                  <a:lnTo>
                    <a:pt x="1886" y="1818"/>
                  </a:lnTo>
                  <a:lnTo>
                    <a:pt x="1920" y="1684"/>
                  </a:lnTo>
                  <a:close/>
                  <a:moveTo>
                    <a:pt x="2122" y="1953"/>
                  </a:moveTo>
                  <a:lnTo>
                    <a:pt x="2324" y="2155"/>
                  </a:lnTo>
                  <a:lnTo>
                    <a:pt x="2223" y="2357"/>
                  </a:lnTo>
                  <a:lnTo>
                    <a:pt x="2054" y="2189"/>
                  </a:lnTo>
                  <a:lnTo>
                    <a:pt x="2054" y="2054"/>
                  </a:lnTo>
                  <a:lnTo>
                    <a:pt x="2088" y="1987"/>
                  </a:lnTo>
                  <a:lnTo>
                    <a:pt x="2122" y="1953"/>
                  </a:lnTo>
                  <a:close/>
                  <a:moveTo>
                    <a:pt x="404" y="0"/>
                  </a:moveTo>
                  <a:lnTo>
                    <a:pt x="303" y="34"/>
                  </a:lnTo>
                  <a:lnTo>
                    <a:pt x="135" y="202"/>
                  </a:lnTo>
                  <a:lnTo>
                    <a:pt x="68" y="337"/>
                  </a:lnTo>
                  <a:lnTo>
                    <a:pt x="34" y="438"/>
                  </a:lnTo>
                  <a:lnTo>
                    <a:pt x="0" y="471"/>
                  </a:lnTo>
                  <a:lnTo>
                    <a:pt x="34" y="505"/>
                  </a:lnTo>
                  <a:lnTo>
                    <a:pt x="236" y="808"/>
                  </a:lnTo>
                  <a:lnTo>
                    <a:pt x="472" y="1077"/>
                  </a:lnTo>
                  <a:lnTo>
                    <a:pt x="1011" y="1616"/>
                  </a:lnTo>
                  <a:lnTo>
                    <a:pt x="1617" y="2121"/>
                  </a:lnTo>
                  <a:lnTo>
                    <a:pt x="2189" y="2593"/>
                  </a:lnTo>
                  <a:lnTo>
                    <a:pt x="2223" y="2626"/>
                  </a:lnTo>
                  <a:lnTo>
                    <a:pt x="2290" y="2626"/>
                  </a:lnTo>
                  <a:lnTo>
                    <a:pt x="2324" y="2593"/>
                  </a:lnTo>
                  <a:lnTo>
                    <a:pt x="2357" y="2559"/>
                  </a:lnTo>
                  <a:lnTo>
                    <a:pt x="2458" y="2290"/>
                  </a:lnTo>
                  <a:lnTo>
                    <a:pt x="2593" y="2391"/>
                  </a:lnTo>
                  <a:lnTo>
                    <a:pt x="2627" y="2424"/>
                  </a:lnTo>
                  <a:lnTo>
                    <a:pt x="2694" y="2391"/>
                  </a:lnTo>
                  <a:lnTo>
                    <a:pt x="2694" y="2357"/>
                  </a:lnTo>
                  <a:lnTo>
                    <a:pt x="2694" y="2290"/>
                  </a:lnTo>
                  <a:lnTo>
                    <a:pt x="2559" y="1987"/>
                  </a:lnTo>
                  <a:lnTo>
                    <a:pt x="2324" y="1717"/>
                  </a:lnTo>
                  <a:lnTo>
                    <a:pt x="1852" y="1145"/>
                  </a:lnTo>
                  <a:lnTo>
                    <a:pt x="1583" y="875"/>
                  </a:lnTo>
                  <a:lnTo>
                    <a:pt x="1280" y="606"/>
                  </a:lnTo>
                  <a:lnTo>
                    <a:pt x="1280" y="539"/>
                  </a:lnTo>
                  <a:lnTo>
                    <a:pt x="1246" y="539"/>
                  </a:lnTo>
                  <a:lnTo>
                    <a:pt x="1213" y="572"/>
                  </a:lnTo>
                  <a:lnTo>
                    <a:pt x="842" y="269"/>
                  </a:lnTo>
                  <a:lnTo>
                    <a:pt x="472" y="34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hape 971"/>
            <p:cNvSpPr/>
            <p:nvPr/>
          </p:nvSpPr>
          <p:spPr>
            <a:xfrm>
              <a:off x="7421760" y="5667480"/>
              <a:ext cx="133200" cy="1317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88" h="1987">
                  <a:moveTo>
                    <a:pt x="35" y="1"/>
                  </a:moveTo>
                  <a:lnTo>
                    <a:pt x="1" y="34"/>
                  </a:lnTo>
                  <a:lnTo>
                    <a:pt x="68" y="203"/>
                  </a:lnTo>
                  <a:lnTo>
                    <a:pt x="169" y="371"/>
                  </a:lnTo>
                  <a:lnTo>
                    <a:pt x="439" y="640"/>
                  </a:lnTo>
                  <a:lnTo>
                    <a:pt x="1112" y="1314"/>
                  </a:lnTo>
                  <a:lnTo>
                    <a:pt x="1348" y="1583"/>
                  </a:lnTo>
                  <a:lnTo>
                    <a:pt x="1583" y="1852"/>
                  </a:lnTo>
                  <a:lnTo>
                    <a:pt x="1651" y="1920"/>
                  </a:lnTo>
                  <a:lnTo>
                    <a:pt x="1752" y="1953"/>
                  </a:lnTo>
                  <a:lnTo>
                    <a:pt x="1819" y="1987"/>
                  </a:lnTo>
                  <a:lnTo>
                    <a:pt x="1920" y="1953"/>
                  </a:lnTo>
                  <a:lnTo>
                    <a:pt x="1987" y="1886"/>
                  </a:lnTo>
                  <a:lnTo>
                    <a:pt x="1954" y="1819"/>
                  </a:lnTo>
                  <a:lnTo>
                    <a:pt x="1954" y="1785"/>
                  </a:lnTo>
                  <a:lnTo>
                    <a:pt x="1718" y="1583"/>
                  </a:lnTo>
                  <a:lnTo>
                    <a:pt x="1516" y="1381"/>
                  </a:lnTo>
                  <a:lnTo>
                    <a:pt x="1112" y="943"/>
                  </a:lnTo>
                  <a:lnTo>
                    <a:pt x="540" y="371"/>
                  </a:lnTo>
                  <a:lnTo>
                    <a:pt x="304" y="135"/>
                  </a:lnTo>
                  <a:lnTo>
                    <a:pt x="169" y="68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5120" bIns="15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hape 972"/>
            <p:cNvSpPr/>
            <p:nvPr/>
          </p:nvSpPr>
          <p:spPr>
            <a:xfrm>
              <a:off x="8707680" y="4824360"/>
              <a:ext cx="452160" cy="11174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6801" h="16835">
                  <a:moveTo>
                    <a:pt x="6195" y="472"/>
                  </a:moveTo>
                  <a:lnTo>
                    <a:pt x="5892" y="943"/>
                  </a:lnTo>
                  <a:lnTo>
                    <a:pt x="5825" y="910"/>
                  </a:lnTo>
                  <a:lnTo>
                    <a:pt x="5791" y="842"/>
                  </a:lnTo>
                  <a:lnTo>
                    <a:pt x="5757" y="809"/>
                  </a:lnTo>
                  <a:lnTo>
                    <a:pt x="6195" y="472"/>
                  </a:lnTo>
                  <a:close/>
                  <a:moveTo>
                    <a:pt x="5589" y="977"/>
                  </a:moveTo>
                  <a:lnTo>
                    <a:pt x="5656" y="1078"/>
                  </a:lnTo>
                  <a:lnTo>
                    <a:pt x="5724" y="1145"/>
                  </a:lnTo>
                  <a:lnTo>
                    <a:pt x="5589" y="1381"/>
                  </a:lnTo>
                  <a:lnTo>
                    <a:pt x="5387" y="1246"/>
                  </a:lnTo>
                  <a:lnTo>
                    <a:pt x="5488" y="1112"/>
                  </a:lnTo>
                  <a:lnTo>
                    <a:pt x="5589" y="977"/>
                  </a:lnTo>
                  <a:close/>
                  <a:moveTo>
                    <a:pt x="5252" y="1381"/>
                  </a:moveTo>
                  <a:lnTo>
                    <a:pt x="5353" y="1482"/>
                  </a:lnTo>
                  <a:lnTo>
                    <a:pt x="5454" y="1549"/>
                  </a:lnTo>
                  <a:lnTo>
                    <a:pt x="5320" y="1819"/>
                  </a:lnTo>
                  <a:lnTo>
                    <a:pt x="5286" y="1785"/>
                  </a:lnTo>
                  <a:lnTo>
                    <a:pt x="5084" y="1684"/>
                  </a:lnTo>
                  <a:lnTo>
                    <a:pt x="5050" y="1684"/>
                  </a:lnTo>
                  <a:lnTo>
                    <a:pt x="5252" y="1381"/>
                  </a:lnTo>
                  <a:close/>
                  <a:moveTo>
                    <a:pt x="4949" y="1886"/>
                  </a:moveTo>
                  <a:lnTo>
                    <a:pt x="5084" y="1920"/>
                  </a:lnTo>
                  <a:lnTo>
                    <a:pt x="5219" y="1987"/>
                  </a:lnTo>
                  <a:lnTo>
                    <a:pt x="5084" y="2223"/>
                  </a:lnTo>
                  <a:lnTo>
                    <a:pt x="4815" y="1987"/>
                  </a:lnTo>
                  <a:lnTo>
                    <a:pt x="4882" y="1886"/>
                  </a:lnTo>
                  <a:close/>
                  <a:moveTo>
                    <a:pt x="4411" y="1920"/>
                  </a:moveTo>
                  <a:lnTo>
                    <a:pt x="4680" y="2189"/>
                  </a:lnTo>
                  <a:lnTo>
                    <a:pt x="4815" y="2324"/>
                  </a:lnTo>
                  <a:lnTo>
                    <a:pt x="4983" y="2459"/>
                  </a:lnTo>
                  <a:lnTo>
                    <a:pt x="4949" y="2459"/>
                  </a:lnTo>
                  <a:lnTo>
                    <a:pt x="4949" y="2526"/>
                  </a:lnTo>
                  <a:lnTo>
                    <a:pt x="4983" y="2593"/>
                  </a:lnTo>
                  <a:lnTo>
                    <a:pt x="5050" y="2593"/>
                  </a:lnTo>
                  <a:lnTo>
                    <a:pt x="5084" y="2560"/>
                  </a:lnTo>
                  <a:lnTo>
                    <a:pt x="5118" y="2526"/>
                  </a:lnTo>
                  <a:lnTo>
                    <a:pt x="4040" y="3704"/>
                  </a:lnTo>
                  <a:lnTo>
                    <a:pt x="3973" y="3839"/>
                  </a:lnTo>
                  <a:lnTo>
                    <a:pt x="3872" y="4041"/>
                  </a:lnTo>
                  <a:lnTo>
                    <a:pt x="3737" y="4176"/>
                  </a:lnTo>
                  <a:lnTo>
                    <a:pt x="3670" y="4209"/>
                  </a:lnTo>
                  <a:lnTo>
                    <a:pt x="3603" y="4209"/>
                  </a:lnTo>
                  <a:lnTo>
                    <a:pt x="3266" y="3940"/>
                  </a:lnTo>
                  <a:lnTo>
                    <a:pt x="2862" y="3570"/>
                  </a:lnTo>
                  <a:lnTo>
                    <a:pt x="3098" y="3401"/>
                  </a:lnTo>
                  <a:lnTo>
                    <a:pt x="3300" y="3199"/>
                  </a:lnTo>
                  <a:lnTo>
                    <a:pt x="3704" y="2762"/>
                  </a:lnTo>
                  <a:lnTo>
                    <a:pt x="4074" y="2357"/>
                  </a:lnTo>
                  <a:lnTo>
                    <a:pt x="4242" y="2155"/>
                  </a:lnTo>
                  <a:lnTo>
                    <a:pt x="4411" y="1920"/>
                  </a:lnTo>
                  <a:close/>
                  <a:moveTo>
                    <a:pt x="2963" y="4041"/>
                  </a:moveTo>
                  <a:lnTo>
                    <a:pt x="3030" y="4108"/>
                  </a:lnTo>
                  <a:lnTo>
                    <a:pt x="2997" y="4142"/>
                  </a:lnTo>
                  <a:lnTo>
                    <a:pt x="2862" y="4277"/>
                  </a:lnTo>
                  <a:lnTo>
                    <a:pt x="2694" y="4479"/>
                  </a:lnTo>
                  <a:lnTo>
                    <a:pt x="2593" y="4647"/>
                  </a:lnTo>
                  <a:lnTo>
                    <a:pt x="2559" y="4782"/>
                  </a:lnTo>
                  <a:lnTo>
                    <a:pt x="2525" y="4883"/>
                  </a:lnTo>
                  <a:lnTo>
                    <a:pt x="2391" y="4748"/>
                  </a:lnTo>
                  <a:lnTo>
                    <a:pt x="2256" y="4647"/>
                  </a:lnTo>
                  <a:lnTo>
                    <a:pt x="2424" y="4512"/>
                  </a:lnTo>
                  <a:lnTo>
                    <a:pt x="2559" y="4344"/>
                  </a:lnTo>
                  <a:lnTo>
                    <a:pt x="2761" y="4176"/>
                  </a:lnTo>
                  <a:lnTo>
                    <a:pt x="2963" y="4041"/>
                  </a:lnTo>
                  <a:close/>
                  <a:moveTo>
                    <a:pt x="6565" y="1"/>
                  </a:moveTo>
                  <a:lnTo>
                    <a:pt x="6498" y="34"/>
                  </a:lnTo>
                  <a:lnTo>
                    <a:pt x="5959" y="371"/>
                  </a:lnTo>
                  <a:lnTo>
                    <a:pt x="5690" y="573"/>
                  </a:lnTo>
                  <a:lnTo>
                    <a:pt x="5454" y="809"/>
                  </a:lnTo>
                  <a:lnTo>
                    <a:pt x="5219" y="1078"/>
                  </a:lnTo>
                  <a:lnTo>
                    <a:pt x="5017" y="1347"/>
                  </a:lnTo>
                  <a:lnTo>
                    <a:pt x="4848" y="1650"/>
                  </a:lnTo>
                  <a:lnTo>
                    <a:pt x="4747" y="1953"/>
                  </a:lnTo>
                  <a:lnTo>
                    <a:pt x="4613" y="1785"/>
                  </a:lnTo>
                  <a:lnTo>
                    <a:pt x="4444" y="1650"/>
                  </a:lnTo>
                  <a:lnTo>
                    <a:pt x="4377" y="1617"/>
                  </a:lnTo>
                  <a:lnTo>
                    <a:pt x="4343" y="1650"/>
                  </a:lnTo>
                  <a:lnTo>
                    <a:pt x="4276" y="1684"/>
                  </a:lnTo>
                  <a:lnTo>
                    <a:pt x="4108" y="1953"/>
                  </a:lnTo>
                  <a:lnTo>
                    <a:pt x="3939" y="2189"/>
                  </a:lnTo>
                  <a:lnTo>
                    <a:pt x="3535" y="2627"/>
                  </a:lnTo>
                  <a:lnTo>
                    <a:pt x="3131" y="3031"/>
                  </a:lnTo>
                  <a:lnTo>
                    <a:pt x="2929" y="3267"/>
                  </a:lnTo>
                  <a:lnTo>
                    <a:pt x="2795" y="3536"/>
                  </a:lnTo>
                  <a:lnTo>
                    <a:pt x="2761" y="3536"/>
                  </a:lnTo>
                  <a:lnTo>
                    <a:pt x="2761" y="3570"/>
                  </a:lnTo>
                  <a:lnTo>
                    <a:pt x="2795" y="3704"/>
                  </a:lnTo>
                  <a:lnTo>
                    <a:pt x="2862" y="3839"/>
                  </a:lnTo>
                  <a:lnTo>
                    <a:pt x="2626" y="3974"/>
                  </a:lnTo>
                  <a:lnTo>
                    <a:pt x="2458" y="4142"/>
                  </a:lnTo>
                  <a:lnTo>
                    <a:pt x="2222" y="4378"/>
                  </a:lnTo>
                  <a:lnTo>
                    <a:pt x="2155" y="4479"/>
                  </a:lnTo>
                  <a:lnTo>
                    <a:pt x="2087" y="4613"/>
                  </a:lnTo>
                  <a:lnTo>
                    <a:pt x="2087" y="4681"/>
                  </a:lnTo>
                  <a:lnTo>
                    <a:pt x="2121" y="4714"/>
                  </a:lnTo>
                  <a:lnTo>
                    <a:pt x="2188" y="4849"/>
                  </a:lnTo>
                  <a:lnTo>
                    <a:pt x="2256" y="4984"/>
                  </a:lnTo>
                  <a:lnTo>
                    <a:pt x="2188" y="5017"/>
                  </a:lnTo>
                  <a:lnTo>
                    <a:pt x="1953" y="5186"/>
                  </a:lnTo>
                  <a:lnTo>
                    <a:pt x="1717" y="5388"/>
                  </a:lnTo>
                  <a:lnTo>
                    <a:pt x="1515" y="5590"/>
                  </a:lnTo>
                  <a:lnTo>
                    <a:pt x="1313" y="5792"/>
                  </a:lnTo>
                  <a:lnTo>
                    <a:pt x="976" y="6263"/>
                  </a:lnTo>
                  <a:lnTo>
                    <a:pt x="707" y="6768"/>
                  </a:lnTo>
                  <a:lnTo>
                    <a:pt x="505" y="7307"/>
                  </a:lnTo>
                  <a:lnTo>
                    <a:pt x="337" y="7879"/>
                  </a:lnTo>
                  <a:lnTo>
                    <a:pt x="202" y="8451"/>
                  </a:lnTo>
                  <a:lnTo>
                    <a:pt x="101" y="9024"/>
                  </a:lnTo>
                  <a:lnTo>
                    <a:pt x="34" y="9663"/>
                  </a:lnTo>
                  <a:lnTo>
                    <a:pt x="0" y="10303"/>
                  </a:lnTo>
                  <a:lnTo>
                    <a:pt x="0" y="10943"/>
                  </a:lnTo>
                  <a:lnTo>
                    <a:pt x="34" y="11583"/>
                  </a:lnTo>
                  <a:lnTo>
                    <a:pt x="135" y="12189"/>
                  </a:lnTo>
                  <a:lnTo>
                    <a:pt x="202" y="12492"/>
                  </a:lnTo>
                  <a:lnTo>
                    <a:pt x="303" y="12795"/>
                  </a:lnTo>
                  <a:lnTo>
                    <a:pt x="404" y="13064"/>
                  </a:lnTo>
                  <a:lnTo>
                    <a:pt x="572" y="13367"/>
                  </a:lnTo>
                  <a:lnTo>
                    <a:pt x="741" y="13636"/>
                  </a:lnTo>
                  <a:lnTo>
                    <a:pt x="909" y="13906"/>
                  </a:lnTo>
                  <a:lnTo>
                    <a:pt x="1347" y="14377"/>
                  </a:lnTo>
                  <a:lnTo>
                    <a:pt x="1784" y="14848"/>
                  </a:lnTo>
                  <a:lnTo>
                    <a:pt x="2289" y="15286"/>
                  </a:lnTo>
                  <a:lnTo>
                    <a:pt x="2761" y="15690"/>
                  </a:lnTo>
                  <a:lnTo>
                    <a:pt x="3266" y="16027"/>
                  </a:lnTo>
                  <a:lnTo>
                    <a:pt x="3535" y="16161"/>
                  </a:lnTo>
                  <a:lnTo>
                    <a:pt x="3805" y="16296"/>
                  </a:lnTo>
                  <a:lnTo>
                    <a:pt x="4108" y="16363"/>
                  </a:lnTo>
                  <a:lnTo>
                    <a:pt x="4377" y="16431"/>
                  </a:lnTo>
                  <a:lnTo>
                    <a:pt x="4680" y="16397"/>
                  </a:lnTo>
                  <a:lnTo>
                    <a:pt x="4983" y="16330"/>
                  </a:lnTo>
                  <a:lnTo>
                    <a:pt x="5151" y="16262"/>
                  </a:lnTo>
                  <a:lnTo>
                    <a:pt x="5320" y="16195"/>
                  </a:lnTo>
                  <a:lnTo>
                    <a:pt x="5623" y="15926"/>
                  </a:lnTo>
                  <a:lnTo>
                    <a:pt x="5858" y="16161"/>
                  </a:lnTo>
                  <a:lnTo>
                    <a:pt x="6094" y="16397"/>
                  </a:lnTo>
                  <a:lnTo>
                    <a:pt x="6229" y="16532"/>
                  </a:lnTo>
                  <a:lnTo>
                    <a:pt x="6431" y="16633"/>
                  </a:lnTo>
                  <a:lnTo>
                    <a:pt x="6801" y="16835"/>
                  </a:lnTo>
                  <a:lnTo>
                    <a:pt x="6801" y="16532"/>
                  </a:lnTo>
                  <a:lnTo>
                    <a:pt x="6532" y="16330"/>
                  </a:lnTo>
                  <a:lnTo>
                    <a:pt x="6296" y="16128"/>
                  </a:lnTo>
                  <a:lnTo>
                    <a:pt x="6060" y="15926"/>
                  </a:lnTo>
                  <a:lnTo>
                    <a:pt x="5858" y="15690"/>
                  </a:lnTo>
                  <a:lnTo>
                    <a:pt x="6262" y="15151"/>
                  </a:lnTo>
                  <a:lnTo>
                    <a:pt x="6599" y="14714"/>
                  </a:lnTo>
                  <a:lnTo>
                    <a:pt x="6801" y="14411"/>
                  </a:lnTo>
                  <a:lnTo>
                    <a:pt x="6801" y="13906"/>
                  </a:lnTo>
                  <a:lnTo>
                    <a:pt x="6229" y="14680"/>
                  </a:lnTo>
                  <a:lnTo>
                    <a:pt x="5623" y="15387"/>
                  </a:lnTo>
                  <a:lnTo>
                    <a:pt x="5252" y="14815"/>
                  </a:lnTo>
                  <a:lnTo>
                    <a:pt x="4882" y="14175"/>
                  </a:lnTo>
                  <a:lnTo>
                    <a:pt x="4613" y="13636"/>
                  </a:lnTo>
                  <a:lnTo>
                    <a:pt x="4343" y="13064"/>
                  </a:lnTo>
                  <a:lnTo>
                    <a:pt x="4141" y="12525"/>
                  </a:lnTo>
                  <a:lnTo>
                    <a:pt x="3973" y="11987"/>
                  </a:lnTo>
                  <a:lnTo>
                    <a:pt x="3838" y="11414"/>
                  </a:lnTo>
                  <a:lnTo>
                    <a:pt x="3771" y="10842"/>
                  </a:lnTo>
                  <a:lnTo>
                    <a:pt x="3771" y="10236"/>
                  </a:lnTo>
                  <a:lnTo>
                    <a:pt x="3838" y="9630"/>
                  </a:lnTo>
                  <a:lnTo>
                    <a:pt x="3939" y="9057"/>
                  </a:lnTo>
                  <a:lnTo>
                    <a:pt x="4007" y="8754"/>
                  </a:lnTo>
                  <a:lnTo>
                    <a:pt x="4108" y="8519"/>
                  </a:lnTo>
                  <a:lnTo>
                    <a:pt x="4242" y="8249"/>
                  </a:lnTo>
                  <a:lnTo>
                    <a:pt x="4411" y="8047"/>
                  </a:lnTo>
                  <a:lnTo>
                    <a:pt x="4613" y="7845"/>
                  </a:lnTo>
                  <a:lnTo>
                    <a:pt x="4882" y="7677"/>
                  </a:lnTo>
                  <a:lnTo>
                    <a:pt x="5084" y="7576"/>
                  </a:lnTo>
                  <a:lnTo>
                    <a:pt x="5320" y="7509"/>
                  </a:lnTo>
                  <a:lnTo>
                    <a:pt x="5555" y="7441"/>
                  </a:lnTo>
                  <a:lnTo>
                    <a:pt x="5791" y="7408"/>
                  </a:lnTo>
                  <a:lnTo>
                    <a:pt x="6262" y="7374"/>
                  </a:lnTo>
                  <a:lnTo>
                    <a:pt x="6734" y="7374"/>
                  </a:lnTo>
                  <a:lnTo>
                    <a:pt x="6801" y="7408"/>
                  </a:lnTo>
                  <a:lnTo>
                    <a:pt x="6801" y="7004"/>
                  </a:lnTo>
                  <a:lnTo>
                    <a:pt x="6128" y="7004"/>
                  </a:lnTo>
                  <a:lnTo>
                    <a:pt x="5791" y="7037"/>
                  </a:lnTo>
                  <a:lnTo>
                    <a:pt x="5454" y="7105"/>
                  </a:lnTo>
                  <a:lnTo>
                    <a:pt x="5151" y="7206"/>
                  </a:lnTo>
                  <a:lnTo>
                    <a:pt x="4848" y="7340"/>
                  </a:lnTo>
                  <a:lnTo>
                    <a:pt x="4579" y="7475"/>
                  </a:lnTo>
                  <a:lnTo>
                    <a:pt x="4377" y="7610"/>
                  </a:lnTo>
                  <a:lnTo>
                    <a:pt x="4175" y="7812"/>
                  </a:lnTo>
                  <a:lnTo>
                    <a:pt x="4007" y="8014"/>
                  </a:lnTo>
                  <a:lnTo>
                    <a:pt x="3872" y="8249"/>
                  </a:lnTo>
                  <a:lnTo>
                    <a:pt x="3771" y="8485"/>
                  </a:lnTo>
                  <a:lnTo>
                    <a:pt x="3704" y="8721"/>
                  </a:lnTo>
                  <a:lnTo>
                    <a:pt x="3636" y="8990"/>
                  </a:lnTo>
                  <a:lnTo>
                    <a:pt x="3502" y="9529"/>
                  </a:lnTo>
                  <a:lnTo>
                    <a:pt x="3434" y="10202"/>
                  </a:lnTo>
                  <a:lnTo>
                    <a:pt x="3434" y="10876"/>
                  </a:lnTo>
                  <a:lnTo>
                    <a:pt x="3434" y="11212"/>
                  </a:lnTo>
                  <a:lnTo>
                    <a:pt x="3502" y="11549"/>
                  </a:lnTo>
                  <a:lnTo>
                    <a:pt x="3569" y="11886"/>
                  </a:lnTo>
                  <a:lnTo>
                    <a:pt x="3636" y="12222"/>
                  </a:lnTo>
                  <a:lnTo>
                    <a:pt x="3872" y="12795"/>
                  </a:lnTo>
                  <a:lnTo>
                    <a:pt x="4108" y="13401"/>
                  </a:lnTo>
                  <a:lnTo>
                    <a:pt x="4714" y="14512"/>
                  </a:lnTo>
                  <a:lnTo>
                    <a:pt x="5017" y="15084"/>
                  </a:lnTo>
                  <a:lnTo>
                    <a:pt x="5387" y="15623"/>
                  </a:lnTo>
                  <a:lnTo>
                    <a:pt x="5320" y="15690"/>
                  </a:lnTo>
                  <a:lnTo>
                    <a:pt x="5084" y="15926"/>
                  </a:lnTo>
                  <a:lnTo>
                    <a:pt x="4815" y="16027"/>
                  </a:lnTo>
                  <a:lnTo>
                    <a:pt x="4545" y="16094"/>
                  </a:lnTo>
                  <a:lnTo>
                    <a:pt x="4276" y="16094"/>
                  </a:lnTo>
                  <a:lnTo>
                    <a:pt x="3973" y="16027"/>
                  </a:lnTo>
                  <a:lnTo>
                    <a:pt x="3670" y="15892"/>
                  </a:lnTo>
                  <a:lnTo>
                    <a:pt x="3367" y="15724"/>
                  </a:lnTo>
                  <a:lnTo>
                    <a:pt x="3098" y="15522"/>
                  </a:lnTo>
                  <a:lnTo>
                    <a:pt x="2795" y="15286"/>
                  </a:lnTo>
                  <a:lnTo>
                    <a:pt x="2525" y="15050"/>
                  </a:lnTo>
                  <a:lnTo>
                    <a:pt x="1986" y="14545"/>
                  </a:lnTo>
                  <a:lnTo>
                    <a:pt x="1549" y="14040"/>
                  </a:lnTo>
                  <a:lnTo>
                    <a:pt x="1178" y="13636"/>
                  </a:lnTo>
                  <a:lnTo>
                    <a:pt x="1010" y="13401"/>
                  </a:lnTo>
                  <a:lnTo>
                    <a:pt x="842" y="13165"/>
                  </a:lnTo>
                  <a:lnTo>
                    <a:pt x="741" y="12929"/>
                  </a:lnTo>
                  <a:lnTo>
                    <a:pt x="606" y="12660"/>
                  </a:lnTo>
                  <a:lnTo>
                    <a:pt x="539" y="12391"/>
                  </a:lnTo>
                  <a:lnTo>
                    <a:pt x="471" y="12121"/>
                  </a:lnTo>
                  <a:lnTo>
                    <a:pt x="370" y="11549"/>
                  </a:lnTo>
                  <a:lnTo>
                    <a:pt x="337" y="10977"/>
                  </a:lnTo>
                  <a:lnTo>
                    <a:pt x="370" y="10404"/>
                  </a:lnTo>
                  <a:lnTo>
                    <a:pt x="471" y="9259"/>
                  </a:lnTo>
                  <a:lnTo>
                    <a:pt x="539" y="8687"/>
                  </a:lnTo>
                  <a:lnTo>
                    <a:pt x="640" y="8148"/>
                  </a:lnTo>
                  <a:lnTo>
                    <a:pt x="808" y="7610"/>
                  </a:lnTo>
                  <a:lnTo>
                    <a:pt x="976" y="7071"/>
                  </a:lnTo>
                  <a:lnTo>
                    <a:pt x="1246" y="6566"/>
                  </a:lnTo>
                  <a:lnTo>
                    <a:pt x="1549" y="6095"/>
                  </a:lnTo>
                  <a:lnTo>
                    <a:pt x="1717" y="5893"/>
                  </a:lnTo>
                  <a:lnTo>
                    <a:pt x="1919" y="5691"/>
                  </a:lnTo>
                  <a:lnTo>
                    <a:pt x="2155" y="5489"/>
                  </a:lnTo>
                  <a:lnTo>
                    <a:pt x="2391" y="5320"/>
                  </a:lnTo>
                  <a:lnTo>
                    <a:pt x="2458" y="5253"/>
                  </a:lnTo>
                  <a:lnTo>
                    <a:pt x="2458" y="5186"/>
                  </a:lnTo>
                  <a:lnTo>
                    <a:pt x="2593" y="5287"/>
                  </a:lnTo>
                  <a:lnTo>
                    <a:pt x="2626" y="5320"/>
                  </a:lnTo>
                  <a:lnTo>
                    <a:pt x="2660" y="5320"/>
                  </a:lnTo>
                  <a:lnTo>
                    <a:pt x="2727" y="5287"/>
                  </a:lnTo>
                  <a:lnTo>
                    <a:pt x="3199" y="4883"/>
                  </a:lnTo>
                  <a:lnTo>
                    <a:pt x="3333" y="4748"/>
                  </a:lnTo>
                  <a:lnTo>
                    <a:pt x="3401" y="4681"/>
                  </a:lnTo>
                  <a:lnTo>
                    <a:pt x="3434" y="4580"/>
                  </a:lnTo>
                  <a:lnTo>
                    <a:pt x="3401" y="4512"/>
                  </a:lnTo>
                  <a:lnTo>
                    <a:pt x="3266" y="4512"/>
                  </a:lnTo>
                  <a:lnTo>
                    <a:pt x="3165" y="4580"/>
                  </a:lnTo>
                  <a:lnTo>
                    <a:pt x="3030" y="4714"/>
                  </a:lnTo>
                  <a:lnTo>
                    <a:pt x="2660" y="5051"/>
                  </a:lnTo>
                  <a:lnTo>
                    <a:pt x="2559" y="4916"/>
                  </a:lnTo>
                  <a:lnTo>
                    <a:pt x="2727" y="4782"/>
                  </a:lnTo>
                  <a:lnTo>
                    <a:pt x="2828" y="4613"/>
                  </a:lnTo>
                  <a:lnTo>
                    <a:pt x="2997" y="4445"/>
                  </a:lnTo>
                  <a:lnTo>
                    <a:pt x="3131" y="4277"/>
                  </a:lnTo>
                  <a:lnTo>
                    <a:pt x="3165" y="4243"/>
                  </a:lnTo>
                  <a:lnTo>
                    <a:pt x="3333" y="4411"/>
                  </a:lnTo>
                  <a:lnTo>
                    <a:pt x="3502" y="4512"/>
                  </a:lnTo>
                  <a:lnTo>
                    <a:pt x="3670" y="4546"/>
                  </a:lnTo>
                  <a:lnTo>
                    <a:pt x="3838" y="4546"/>
                  </a:lnTo>
                  <a:lnTo>
                    <a:pt x="3939" y="4479"/>
                  </a:lnTo>
                  <a:lnTo>
                    <a:pt x="3973" y="4445"/>
                  </a:lnTo>
                  <a:lnTo>
                    <a:pt x="4007" y="4411"/>
                  </a:lnTo>
                  <a:lnTo>
                    <a:pt x="4108" y="4176"/>
                  </a:lnTo>
                  <a:lnTo>
                    <a:pt x="4242" y="3974"/>
                  </a:lnTo>
                  <a:lnTo>
                    <a:pt x="4411" y="3772"/>
                  </a:lnTo>
                  <a:lnTo>
                    <a:pt x="4613" y="3603"/>
                  </a:lnTo>
                  <a:lnTo>
                    <a:pt x="4882" y="3334"/>
                  </a:lnTo>
                  <a:lnTo>
                    <a:pt x="5118" y="3031"/>
                  </a:lnTo>
                  <a:lnTo>
                    <a:pt x="5353" y="2762"/>
                  </a:lnTo>
                  <a:lnTo>
                    <a:pt x="5555" y="2425"/>
                  </a:lnTo>
                  <a:lnTo>
                    <a:pt x="5589" y="2324"/>
                  </a:lnTo>
                  <a:lnTo>
                    <a:pt x="5522" y="2256"/>
                  </a:lnTo>
                  <a:lnTo>
                    <a:pt x="5454" y="2256"/>
                  </a:lnTo>
                  <a:lnTo>
                    <a:pt x="5387" y="2290"/>
                  </a:lnTo>
                  <a:lnTo>
                    <a:pt x="5286" y="2391"/>
                  </a:lnTo>
                  <a:lnTo>
                    <a:pt x="5252" y="2357"/>
                  </a:lnTo>
                  <a:lnTo>
                    <a:pt x="5623" y="1852"/>
                  </a:lnTo>
                  <a:lnTo>
                    <a:pt x="5993" y="1280"/>
                  </a:lnTo>
                  <a:lnTo>
                    <a:pt x="6666" y="169"/>
                  </a:lnTo>
                  <a:lnTo>
                    <a:pt x="6666" y="102"/>
                  </a:lnTo>
                  <a:lnTo>
                    <a:pt x="6633" y="34"/>
                  </a:lnTo>
                  <a:lnTo>
                    <a:pt x="656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hape 973"/>
            <p:cNvSpPr/>
            <p:nvPr/>
          </p:nvSpPr>
          <p:spPr>
            <a:xfrm>
              <a:off x="487080" y="27288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44" h="674">
                  <a:moveTo>
                    <a:pt x="876" y="0"/>
                  </a:moveTo>
                  <a:lnTo>
                    <a:pt x="808" y="34"/>
                  </a:lnTo>
                  <a:lnTo>
                    <a:pt x="741" y="135"/>
                  </a:lnTo>
                  <a:lnTo>
                    <a:pt x="707" y="236"/>
                  </a:lnTo>
                  <a:lnTo>
                    <a:pt x="640" y="505"/>
                  </a:lnTo>
                  <a:lnTo>
                    <a:pt x="539" y="371"/>
                  </a:lnTo>
                  <a:lnTo>
                    <a:pt x="472" y="270"/>
                  </a:lnTo>
                  <a:lnTo>
                    <a:pt x="539" y="169"/>
                  </a:lnTo>
                  <a:lnTo>
                    <a:pt x="539" y="101"/>
                  </a:lnTo>
                  <a:lnTo>
                    <a:pt x="505" y="68"/>
                  </a:lnTo>
                  <a:lnTo>
                    <a:pt x="438" y="68"/>
                  </a:lnTo>
                  <a:lnTo>
                    <a:pt x="371" y="101"/>
                  </a:lnTo>
                  <a:lnTo>
                    <a:pt x="202" y="404"/>
                  </a:lnTo>
                  <a:lnTo>
                    <a:pt x="202" y="371"/>
                  </a:lnTo>
                  <a:lnTo>
                    <a:pt x="169" y="236"/>
                  </a:lnTo>
                  <a:lnTo>
                    <a:pt x="135" y="202"/>
                  </a:lnTo>
                  <a:lnTo>
                    <a:pt x="101" y="169"/>
                  </a:lnTo>
                  <a:lnTo>
                    <a:pt x="68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0" y="270"/>
                  </a:lnTo>
                  <a:lnTo>
                    <a:pt x="34" y="371"/>
                  </a:lnTo>
                  <a:lnTo>
                    <a:pt x="101" y="606"/>
                  </a:lnTo>
                  <a:lnTo>
                    <a:pt x="135" y="674"/>
                  </a:lnTo>
                  <a:lnTo>
                    <a:pt x="202" y="674"/>
                  </a:lnTo>
                  <a:lnTo>
                    <a:pt x="270" y="640"/>
                  </a:lnTo>
                  <a:lnTo>
                    <a:pt x="404" y="404"/>
                  </a:lnTo>
                  <a:lnTo>
                    <a:pt x="438" y="472"/>
                  </a:lnTo>
                  <a:lnTo>
                    <a:pt x="505" y="606"/>
                  </a:lnTo>
                  <a:lnTo>
                    <a:pt x="640" y="674"/>
                  </a:lnTo>
                  <a:lnTo>
                    <a:pt x="707" y="674"/>
                  </a:lnTo>
                  <a:lnTo>
                    <a:pt x="741" y="640"/>
                  </a:lnTo>
                  <a:lnTo>
                    <a:pt x="842" y="371"/>
                  </a:lnTo>
                  <a:lnTo>
                    <a:pt x="943" y="101"/>
                  </a:lnTo>
                  <a:lnTo>
                    <a:pt x="943" y="34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hape 974"/>
            <p:cNvSpPr/>
            <p:nvPr/>
          </p:nvSpPr>
          <p:spPr>
            <a:xfrm>
              <a:off x="428400" y="209520"/>
              <a:ext cx="168120" cy="15840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7" h="2391">
                  <a:moveTo>
                    <a:pt x="2257" y="236"/>
                  </a:moveTo>
                  <a:lnTo>
                    <a:pt x="2257" y="674"/>
                  </a:lnTo>
                  <a:lnTo>
                    <a:pt x="2257" y="1078"/>
                  </a:lnTo>
                  <a:lnTo>
                    <a:pt x="2290" y="1617"/>
                  </a:lnTo>
                  <a:lnTo>
                    <a:pt x="2324" y="2122"/>
                  </a:lnTo>
                  <a:lnTo>
                    <a:pt x="2088" y="2088"/>
                  </a:lnTo>
                  <a:lnTo>
                    <a:pt x="1886" y="2088"/>
                  </a:lnTo>
                  <a:lnTo>
                    <a:pt x="1449" y="2122"/>
                  </a:lnTo>
                  <a:lnTo>
                    <a:pt x="910" y="2122"/>
                  </a:lnTo>
                  <a:lnTo>
                    <a:pt x="641" y="2155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7" y="1145"/>
                  </a:lnTo>
                  <a:lnTo>
                    <a:pt x="203" y="708"/>
                  </a:lnTo>
                  <a:lnTo>
                    <a:pt x="136" y="270"/>
                  </a:lnTo>
                  <a:lnTo>
                    <a:pt x="1179" y="270"/>
                  </a:lnTo>
                  <a:lnTo>
                    <a:pt x="2257" y="236"/>
                  </a:lnTo>
                  <a:close/>
                  <a:moveTo>
                    <a:pt x="2223" y="1"/>
                  </a:moveTo>
                  <a:lnTo>
                    <a:pt x="1179" y="34"/>
                  </a:lnTo>
                  <a:lnTo>
                    <a:pt x="641" y="34"/>
                  </a:lnTo>
                  <a:lnTo>
                    <a:pt x="136" y="102"/>
                  </a:lnTo>
                  <a:lnTo>
                    <a:pt x="68" y="135"/>
                  </a:lnTo>
                  <a:lnTo>
                    <a:pt x="35" y="203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5" y="1145"/>
                  </a:lnTo>
                  <a:lnTo>
                    <a:pt x="68" y="1751"/>
                  </a:lnTo>
                  <a:lnTo>
                    <a:pt x="136" y="2021"/>
                  </a:lnTo>
                  <a:lnTo>
                    <a:pt x="203" y="2324"/>
                  </a:lnTo>
                  <a:lnTo>
                    <a:pt x="237" y="2357"/>
                  </a:lnTo>
                  <a:lnTo>
                    <a:pt x="338" y="2357"/>
                  </a:lnTo>
                  <a:lnTo>
                    <a:pt x="573" y="2391"/>
                  </a:lnTo>
                  <a:lnTo>
                    <a:pt x="809" y="2391"/>
                  </a:lnTo>
                  <a:lnTo>
                    <a:pt x="1280" y="2357"/>
                  </a:lnTo>
                  <a:lnTo>
                    <a:pt x="2088" y="2357"/>
                  </a:lnTo>
                  <a:lnTo>
                    <a:pt x="2358" y="2290"/>
                  </a:lnTo>
                  <a:lnTo>
                    <a:pt x="2391" y="2324"/>
                  </a:lnTo>
                  <a:lnTo>
                    <a:pt x="2459" y="2324"/>
                  </a:lnTo>
                  <a:lnTo>
                    <a:pt x="2492" y="2256"/>
                  </a:lnTo>
                  <a:lnTo>
                    <a:pt x="2526" y="2021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9" y="640"/>
                  </a:lnTo>
                  <a:lnTo>
                    <a:pt x="2425" y="371"/>
                  </a:lnTo>
                  <a:lnTo>
                    <a:pt x="2358" y="68"/>
                  </a:lnTo>
                  <a:lnTo>
                    <a:pt x="2324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hape 975"/>
            <p:cNvSpPr/>
            <p:nvPr/>
          </p:nvSpPr>
          <p:spPr>
            <a:xfrm>
              <a:off x="2989080" y="282240"/>
              <a:ext cx="45720" cy="25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75" h="405">
                  <a:moveTo>
                    <a:pt x="68" y="1"/>
                  </a:moveTo>
                  <a:lnTo>
                    <a:pt x="35" y="35"/>
                  </a:lnTo>
                  <a:lnTo>
                    <a:pt x="1" y="68"/>
                  </a:lnTo>
                  <a:lnTo>
                    <a:pt x="1" y="102"/>
                  </a:lnTo>
                  <a:lnTo>
                    <a:pt x="35" y="136"/>
                  </a:lnTo>
                  <a:lnTo>
                    <a:pt x="102" y="237"/>
                  </a:lnTo>
                  <a:lnTo>
                    <a:pt x="237" y="304"/>
                  </a:lnTo>
                  <a:lnTo>
                    <a:pt x="371" y="371"/>
                  </a:lnTo>
                  <a:lnTo>
                    <a:pt x="506" y="405"/>
                  </a:lnTo>
                  <a:lnTo>
                    <a:pt x="607" y="405"/>
                  </a:lnTo>
                  <a:lnTo>
                    <a:pt x="674" y="338"/>
                  </a:lnTo>
                  <a:lnTo>
                    <a:pt x="674" y="237"/>
                  </a:lnTo>
                  <a:lnTo>
                    <a:pt x="607" y="136"/>
                  </a:lnTo>
                  <a:lnTo>
                    <a:pt x="472" y="68"/>
                  </a:lnTo>
                  <a:lnTo>
                    <a:pt x="338" y="35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1440" bIns="-914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hape 976"/>
            <p:cNvSpPr/>
            <p:nvPr/>
          </p:nvSpPr>
          <p:spPr>
            <a:xfrm>
              <a:off x="360360" y="447480"/>
              <a:ext cx="39600" cy="56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7" h="876">
                  <a:moveTo>
                    <a:pt x="303" y="0"/>
                  </a:moveTo>
                  <a:lnTo>
                    <a:pt x="236" y="34"/>
                  </a:lnTo>
                  <a:lnTo>
                    <a:pt x="202" y="68"/>
                  </a:lnTo>
                  <a:lnTo>
                    <a:pt x="101" y="472"/>
                  </a:lnTo>
                  <a:lnTo>
                    <a:pt x="34" y="640"/>
                  </a:lnTo>
                  <a:lnTo>
                    <a:pt x="0" y="741"/>
                  </a:lnTo>
                  <a:lnTo>
                    <a:pt x="0" y="808"/>
                  </a:lnTo>
                  <a:lnTo>
                    <a:pt x="34" y="842"/>
                  </a:lnTo>
                  <a:lnTo>
                    <a:pt x="68" y="842"/>
                  </a:lnTo>
                  <a:lnTo>
                    <a:pt x="169" y="775"/>
                  </a:lnTo>
                  <a:lnTo>
                    <a:pt x="202" y="707"/>
                  </a:lnTo>
                  <a:lnTo>
                    <a:pt x="371" y="707"/>
                  </a:lnTo>
                  <a:lnTo>
                    <a:pt x="438" y="842"/>
                  </a:lnTo>
                  <a:lnTo>
                    <a:pt x="472" y="876"/>
                  </a:lnTo>
                  <a:lnTo>
                    <a:pt x="505" y="876"/>
                  </a:lnTo>
                  <a:lnTo>
                    <a:pt x="573" y="842"/>
                  </a:lnTo>
                  <a:lnTo>
                    <a:pt x="573" y="808"/>
                  </a:lnTo>
                  <a:lnTo>
                    <a:pt x="573" y="674"/>
                  </a:lnTo>
                  <a:lnTo>
                    <a:pt x="573" y="640"/>
                  </a:lnTo>
                  <a:lnTo>
                    <a:pt x="606" y="606"/>
                  </a:lnTo>
                  <a:lnTo>
                    <a:pt x="573" y="573"/>
                  </a:lnTo>
                  <a:lnTo>
                    <a:pt x="539" y="573"/>
                  </a:lnTo>
                  <a:lnTo>
                    <a:pt x="505" y="438"/>
                  </a:lnTo>
                  <a:lnTo>
                    <a:pt x="371" y="68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hape 977"/>
            <p:cNvSpPr/>
            <p:nvPr/>
          </p:nvSpPr>
          <p:spPr>
            <a:xfrm>
              <a:off x="244440" y="212400"/>
              <a:ext cx="161640" cy="179280"/>
            </a:xfrm>
            <a:custGeom>
              <a:avLst/>
              <a:gdLst>
                <a:gd name="textAreaLeft" fmla="*/ 0 w 161640"/>
                <a:gd name="textAreaRight" fmla="*/ 161640 w 161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459" h="2694">
                  <a:moveTo>
                    <a:pt x="2290" y="236"/>
                  </a:moveTo>
                  <a:lnTo>
                    <a:pt x="2223" y="741"/>
                  </a:lnTo>
                  <a:lnTo>
                    <a:pt x="2189" y="1280"/>
                  </a:lnTo>
                  <a:lnTo>
                    <a:pt x="2223" y="1818"/>
                  </a:lnTo>
                  <a:lnTo>
                    <a:pt x="2290" y="2323"/>
                  </a:lnTo>
                  <a:lnTo>
                    <a:pt x="2290" y="2357"/>
                  </a:lnTo>
                  <a:lnTo>
                    <a:pt x="1819" y="2357"/>
                  </a:lnTo>
                  <a:lnTo>
                    <a:pt x="1347" y="2391"/>
                  </a:lnTo>
                  <a:lnTo>
                    <a:pt x="371" y="2391"/>
                  </a:lnTo>
                  <a:lnTo>
                    <a:pt x="270" y="1313"/>
                  </a:lnTo>
                  <a:lnTo>
                    <a:pt x="169" y="270"/>
                  </a:lnTo>
                  <a:lnTo>
                    <a:pt x="708" y="303"/>
                  </a:lnTo>
                  <a:lnTo>
                    <a:pt x="1213" y="303"/>
                  </a:lnTo>
                  <a:lnTo>
                    <a:pt x="2290" y="236"/>
                  </a:lnTo>
                  <a:close/>
                  <a:moveTo>
                    <a:pt x="2290" y="0"/>
                  </a:moveTo>
                  <a:lnTo>
                    <a:pt x="1751" y="34"/>
                  </a:lnTo>
                  <a:lnTo>
                    <a:pt x="1213" y="68"/>
                  </a:lnTo>
                  <a:lnTo>
                    <a:pt x="674" y="68"/>
                  </a:lnTo>
                  <a:lnTo>
                    <a:pt x="135" y="101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4" y="202"/>
                  </a:lnTo>
                  <a:lnTo>
                    <a:pt x="1" y="236"/>
                  </a:lnTo>
                  <a:lnTo>
                    <a:pt x="1" y="842"/>
                  </a:lnTo>
                  <a:lnTo>
                    <a:pt x="1" y="1448"/>
                  </a:lnTo>
                  <a:lnTo>
                    <a:pt x="68" y="2054"/>
                  </a:lnTo>
                  <a:lnTo>
                    <a:pt x="169" y="2626"/>
                  </a:lnTo>
                  <a:lnTo>
                    <a:pt x="236" y="2694"/>
                  </a:lnTo>
                  <a:lnTo>
                    <a:pt x="304" y="2694"/>
                  </a:lnTo>
                  <a:lnTo>
                    <a:pt x="371" y="2660"/>
                  </a:lnTo>
                  <a:lnTo>
                    <a:pt x="405" y="2593"/>
                  </a:lnTo>
                  <a:lnTo>
                    <a:pt x="371" y="2525"/>
                  </a:lnTo>
                  <a:lnTo>
                    <a:pt x="842" y="2593"/>
                  </a:lnTo>
                  <a:lnTo>
                    <a:pt x="1347" y="2626"/>
                  </a:lnTo>
                  <a:lnTo>
                    <a:pt x="1819" y="2593"/>
                  </a:lnTo>
                  <a:lnTo>
                    <a:pt x="2054" y="2559"/>
                  </a:lnTo>
                  <a:lnTo>
                    <a:pt x="2290" y="2525"/>
                  </a:lnTo>
                  <a:lnTo>
                    <a:pt x="2324" y="2458"/>
                  </a:lnTo>
                  <a:lnTo>
                    <a:pt x="2324" y="2391"/>
                  </a:lnTo>
                  <a:lnTo>
                    <a:pt x="2357" y="2424"/>
                  </a:lnTo>
                  <a:lnTo>
                    <a:pt x="2391" y="2424"/>
                  </a:lnTo>
                  <a:lnTo>
                    <a:pt x="2425" y="2391"/>
                  </a:lnTo>
                  <a:lnTo>
                    <a:pt x="2458" y="2323"/>
                  </a:lnTo>
                  <a:lnTo>
                    <a:pt x="2458" y="1818"/>
                  </a:lnTo>
                  <a:lnTo>
                    <a:pt x="2458" y="1246"/>
                  </a:lnTo>
                  <a:lnTo>
                    <a:pt x="2425" y="707"/>
                  </a:lnTo>
                  <a:lnTo>
                    <a:pt x="2357" y="202"/>
                  </a:lnTo>
                  <a:lnTo>
                    <a:pt x="2391" y="135"/>
                  </a:lnTo>
                  <a:lnTo>
                    <a:pt x="2391" y="68"/>
                  </a:lnTo>
                  <a:lnTo>
                    <a:pt x="2357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62640" bIns="62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hape 978"/>
            <p:cNvSpPr/>
            <p:nvPr/>
          </p:nvSpPr>
          <p:spPr>
            <a:xfrm>
              <a:off x="641160" y="622080"/>
              <a:ext cx="52200" cy="50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75" h="775">
                  <a:moveTo>
                    <a:pt x="674" y="0"/>
                  </a:moveTo>
                  <a:lnTo>
                    <a:pt x="505" y="135"/>
                  </a:lnTo>
                  <a:lnTo>
                    <a:pt x="371" y="236"/>
                  </a:lnTo>
                  <a:lnTo>
                    <a:pt x="169" y="135"/>
                  </a:lnTo>
                  <a:lnTo>
                    <a:pt x="135" y="101"/>
                  </a:lnTo>
                  <a:lnTo>
                    <a:pt x="101" y="135"/>
                  </a:lnTo>
                  <a:lnTo>
                    <a:pt x="68" y="169"/>
                  </a:lnTo>
                  <a:lnTo>
                    <a:pt x="101" y="236"/>
                  </a:lnTo>
                  <a:lnTo>
                    <a:pt x="236" y="371"/>
                  </a:lnTo>
                  <a:lnTo>
                    <a:pt x="135" y="472"/>
                  </a:lnTo>
                  <a:lnTo>
                    <a:pt x="68" y="573"/>
                  </a:lnTo>
                  <a:lnTo>
                    <a:pt x="34" y="606"/>
                  </a:lnTo>
                  <a:lnTo>
                    <a:pt x="0" y="674"/>
                  </a:lnTo>
                  <a:lnTo>
                    <a:pt x="34" y="741"/>
                  </a:lnTo>
                  <a:lnTo>
                    <a:pt x="101" y="775"/>
                  </a:lnTo>
                  <a:lnTo>
                    <a:pt x="202" y="707"/>
                  </a:lnTo>
                  <a:lnTo>
                    <a:pt x="270" y="640"/>
                  </a:lnTo>
                  <a:lnTo>
                    <a:pt x="404" y="472"/>
                  </a:lnTo>
                  <a:lnTo>
                    <a:pt x="640" y="573"/>
                  </a:lnTo>
                  <a:lnTo>
                    <a:pt x="741" y="539"/>
                  </a:lnTo>
                  <a:lnTo>
                    <a:pt x="775" y="472"/>
                  </a:lnTo>
                  <a:lnTo>
                    <a:pt x="775" y="404"/>
                  </a:lnTo>
                  <a:lnTo>
                    <a:pt x="707" y="371"/>
                  </a:lnTo>
                  <a:lnTo>
                    <a:pt x="539" y="337"/>
                  </a:lnTo>
                  <a:lnTo>
                    <a:pt x="606" y="270"/>
                  </a:lnTo>
                  <a:lnTo>
                    <a:pt x="707" y="34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hape 979"/>
            <p:cNvSpPr/>
            <p:nvPr/>
          </p:nvSpPr>
          <p:spPr>
            <a:xfrm>
              <a:off x="617400" y="201600"/>
              <a:ext cx="169560" cy="160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559" h="2425">
                  <a:moveTo>
                    <a:pt x="168" y="169"/>
                  </a:moveTo>
                  <a:lnTo>
                    <a:pt x="370" y="270"/>
                  </a:lnTo>
                  <a:lnTo>
                    <a:pt x="572" y="304"/>
                  </a:lnTo>
                  <a:lnTo>
                    <a:pt x="1010" y="270"/>
                  </a:lnTo>
                  <a:lnTo>
                    <a:pt x="1650" y="304"/>
                  </a:lnTo>
                  <a:lnTo>
                    <a:pt x="2290" y="338"/>
                  </a:lnTo>
                  <a:lnTo>
                    <a:pt x="2290" y="708"/>
                  </a:lnTo>
                  <a:lnTo>
                    <a:pt x="2323" y="1078"/>
                  </a:lnTo>
                  <a:lnTo>
                    <a:pt x="2323" y="1583"/>
                  </a:lnTo>
                  <a:lnTo>
                    <a:pt x="2323" y="1853"/>
                  </a:lnTo>
                  <a:lnTo>
                    <a:pt x="2391" y="2088"/>
                  </a:lnTo>
                  <a:lnTo>
                    <a:pt x="2357" y="2088"/>
                  </a:lnTo>
                  <a:lnTo>
                    <a:pt x="1313" y="2122"/>
                  </a:lnTo>
                  <a:lnTo>
                    <a:pt x="808" y="2156"/>
                  </a:lnTo>
                  <a:lnTo>
                    <a:pt x="539" y="2189"/>
                  </a:lnTo>
                  <a:lnTo>
                    <a:pt x="303" y="2223"/>
                  </a:lnTo>
                  <a:lnTo>
                    <a:pt x="236" y="1718"/>
                  </a:lnTo>
                  <a:lnTo>
                    <a:pt x="236" y="1213"/>
                  </a:lnTo>
                  <a:lnTo>
                    <a:pt x="269" y="708"/>
                  </a:lnTo>
                  <a:lnTo>
                    <a:pt x="236" y="439"/>
                  </a:lnTo>
                  <a:lnTo>
                    <a:pt x="202" y="304"/>
                  </a:lnTo>
                  <a:lnTo>
                    <a:pt x="168" y="169"/>
                  </a:lnTo>
                  <a:close/>
                  <a:moveTo>
                    <a:pt x="2357" y="1"/>
                  </a:moveTo>
                  <a:lnTo>
                    <a:pt x="2357" y="35"/>
                  </a:lnTo>
                  <a:lnTo>
                    <a:pt x="2323" y="136"/>
                  </a:lnTo>
                  <a:lnTo>
                    <a:pt x="1751" y="68"/>
                  </a:lnTo>
                  <a:lnTo>
                    <a:pt x="1178" y="68"/>
                  </a:lnTo>
                  <a:lnTo>
                    <a:pt x="640" y="35"/>
                  </a:lnTo>
                  <a:lnTo>
                    <a:pt x="404" y="68"/>
                  </a:lnTo>
                  <a:lnTo>
                    <a:pt x="269" y="102"/>
                  </a:lnTo>
                  <a:lnTo>
                    <a:pt x="168" y="169"/>
                  </a:lnTo>
                  <a:lnTo>
                    <a:pt x="135" y="169"/>
                  </a:lnTo>
                  <a:lnTo>
                    <a:pt x="67" y="338"/>
                  </a:lnTo>
                  <a:lnTo>
                    <a:pt x="34" y="506"/>
                  </a:lnTo>
                  <a:lnTo>
                    <a:pt x="0" y="876"/>
                  </a:lnTo>
                  <a:lnTo>
                    <a:pt x="34" y="1583"/>
                  </a:lnTo>
                  <a:lnTo>
                    <a:pt x="34" y="1819"/>
                  </a:lnTo>
                  <a:lnTo>
                    <a:pt x="34" y="2055"/>
                  </a:lnTo>
                  <a:lnTo>
                    <a:pt x="34" y="2189"/>
                  </a:lnTo>
                  <a:lnTo>
                    <a:pt x="67" y="2290"/>
                  </a:lnTo>
                  <a:lnTo>
                    <a:pt x="135" y="2358"/>
                  </a:lnTo>
                  <a:lnTo>
                    <a:pt x="236" y="2425"/>
                  </a:lnTo>
                  <a:lnTo>
                    <a:pt x="303" y="2425"/>
                  </a:lnTo>
                  <a:lnTo>
                    <a:pt x="303" y="2358"/>
                  </a:lnTo>
                  <a:lnTo>
                    <a:pt x="572" y="2391"/>
                  </a:lnTo>
                  <a:lnTo>
                    <a:pt x="808" y="2425"/>
                  </a:lnTo>
                  <a:lnTo>
                    <a:pt x="1347" y="2391"/>
                  </a:lnTo>
                  <a:lnTo>
                    <a:pt x="2357" y="2324"/>
                  </a:lnTo>
                  <a:lnTo>
                    <a:pt x="2424" y="2290"/>
                  </a:lnTo>
                  <a:lnTo>
                    <a:pt x="2492" y="2324"/>
                  </a:lnTo>
                  <a:lnTo>
                    <a:pt x="2525" y="2324"/>
                  </a:lnTo>
                  <a:lnTo>
                    <a:pt x="2525" y="2290"/>
                  </a:lnTo>
                  <a:lnTo>
                    <a:pt x="2559" y="2021"/>
                  </a:lnTo>
                  <a:lnTo>
                    <a:pt x="2559" y="1752"/>
                  </a:lnTo>
                  <a:lnTo>
                    <a:pt x="2525" y="1247"/>
                  </a:lnTo>
                  <a:lnTo>
                    <a:pt x="2492" y="641"/>
                  </a:lnTo>
                  <a:lnTo>
                    <a:pt x="2492" y="338"/>
                  </a:lnTo>
                  <a:lnTo>
                    <a:pt x="2458" y="35"/>
                  </a:lnTo>
                  <a:lnTo>
                    <a:pt x="242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3560" bIns="435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hape 980"/>
            <p:cNvSpPr/>
            <p:nvPr/>
          </p:nvSpPr>
          <p:spPr>
            <a:xfrm>
              <a:off x="684000" y="26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40" h="775">
                  <a:moveTo>
                    <a:pt x="101" y="0"/>
                  </a:moveTo>
                  <a:lnTo>
                    <a:pt x="67" y="34"/>
                  </a:lnTo>
                  <a:lnTo>
                    <a:pt x="34" y="337"/>
                  </a:lnTo>
                  <a:lnTo>
                    <a:pt x="34" y="606"/>
                  </a:lnTo>
                  <a:lnTo>
                    <a:pt x="67" y="640"/>
                  </a:lnTo>
                  <a:lnTo>
                    <a:pt x="67" y="674"/>
                  </a:lnTo>
                  <a:lnTo>
                    <a:pt x="0" y="674"/>
                  </a:lnTo>
                  <a:lnTo>
                    <a:pt x="0" y="707"/>
                  </a:lnTo>
                  <a:lnTo>
                    <a:pt x="168" y="775"/>
                  </a:lnTo>
                  <a:lnTo>
                    <a:pt x="370" y="775"/>
                  </a:lnTo>
                  <a:lnTo>
                    <a:pt x="505" y="741"/>
                  </a:lnTo>
                  <a:lnTo>
                    <a:pt x="573" y="707"/>
                  </a:lnTo>
                  <a:lnTo>
                    <a:pt x="640" y="674"/>
                  </a:lnTo>
                  <a:lnTo>
                    <a:pt x="640" y="640"/>
                  </a:lnTo>
                  <a:lnTo>
                    <a:pt x="606" y="606"/>
                  </a:lnTo>
                  <a:lnTo>
                    <a:pt x="539" y="573"/>
                  </a:lnTo>
                  <a:lnTo>
                    <a:pt x="472" y="606"/>
                  </a:lnTo>
                  <a:lnTo>
                    <a:pt x="337" y="640"/>
                  </a:lnTo>
                  <a:lnTo>
                    <a:pt x="168" y="674"/>
                  </a:lnTo>
                  <a:lnTo>
                    <a:pt x="168" y="606"/>
                  </a:lnTo>
                  <a:lnTo>
                    <a:pt x="168" y="371"/>
                  </a:lnTo>
                  <a:lnTo>
                    <a:pt x="236" y="404"/>
                  </a:lnTo>
                  <a:lnTo>
                    <a:pt x="472" y="404"/>
                  </a:lnTo>
                  <a:lnTo>
                    <a:pt x="505" y="337"/>
                  </a:lnTo>
                  <a:lnTo>
                    <a:pt x="505" y="303"/>
                  </a:lnTo>
                  <a:lnTo>
                    <a:pt x="472" y="236"/>
                  </a:lnTo>
                  <a:lnTo>
                    <a:pt x="202" y="236"/>
                  </a:lnTo>
                  <a:lnTo>
                    <a:pt x="168" y="270"/>
                  </a:lnTo>
                  <a:lnTo>
                    <a:pt x="135" y="34"/>
                  </a:lnTo>
                  <a:lnTo>
                    <a:pt x="101" y="3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hape 981"/>
            <p:cNvSpPr/>
            <p:nvPr/>
          </p:nvSpPr>
          <p:spPr>
            <a:xfrm>
              <a:off x="537840" y="44928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7" h="876">
                  <a:moveTo>
                    <a:pt x="371" y="0"/>
                  </a:moveTo>
                  <a:lnTo>
                    <a:pt x="304" y="34"/>
                  </a:lnTo>
                  <a:lnTo>
                    <a:pt x="169" y="67"/>
                  </a:lnTo>
                  <a:lnTo>
                    <a:pt x="102" y="135"/>
                  </a:lnTo>
                  <a:lnTo>
                    <a:pt x="102" y="168"/>
                  </a:lnTo>
                  <a:lnTo>
                    <a:pt x="68" y="269"/>
                  </a:lnTo>
                  <a:lnTo>
                    <a:pt x="68" y="337"/>
                  </a:lnTo>
                  <a:lnTo>
                    <a:pt x="135" y="438"/>
                  </a:lnTo>
                  <a:lnTo>
                    <a:pt x="270" y="505"/>
                  </a:lnTo>
                  <a:lnTo>
                    <a:pt x="405" y="539"/>
                  </a:lnTo>
                  <a:lnTo>
                    <a:pt x="405" y="606"/>
                  </a:lnTo>
                  <a:lnTo>
                    <a:pt x="337" y="673"/>
                  </a:lnTo>
                  <a:lnTo>
                    <a:pt x="304" y="707"/>
                  </a:lnTo>
                  <a:lnTo>
                    <a:pt x="236" y="673"/>
                  </a:lnTo>
                  <a:lnTo>
                    <a:pt x="135" y="640"/>
                  </a:lnTo>
                  <a:lnTo>
                    <a:pt x="34" y="640"/>
                  </a:lnTo>
                  <a:lnTo>
                    <a:pt x="1" y="673"/>
                  </a:lnTo>
                  <a:lnTo>
                    <a:pt x="1" y="741"/>
                  </a:lnTo>
                  <a:lnTo>
                    <a:pt x="34" y="774"/>
                  </a:lnTo>
                  <a:lnTo>
                    <a:pt x="135" y="842"/>
                  </a:lnTo>
                  <a:lnTo>
                    <a:pt x="236" y="875"/>
                  </a:lnTo>
                  <a:lnTo>
                    <a:pt x="337" y="875"/>
                  </a:lnTo>
                  <a:lnTo>
                    <a:pt x="438" y="808"/>
                  </a:lnTo>
                  <a:lnTo>
                    <a:pt x="539" y="741"/>
                  </a:lnTo>
                  <a:lnTo>
                    <a:pt x="573" y="640"/>
                  </a:lnTo>
                  <a:lnTo>
                    <a:pt x="607" y="539"/>
                  </a:lnTo>
                  <a:lnTo>
                    <a:pt x="573" y="438"/>
                  </a:lnTo>
                  <a:lnTo>
                    <a:pt x="539" y="404"/>
                  </a:lnTo>
                  <a:lnTo>
                    <a:pt x="472" y="370"/>
                  </a:lnTo>
                  <a:lnTo>
                    <a:pt x="337" y="337"/>
                  </a:lnTo>
                  <a:lnTo>
                    <a:pt x="304" y="303"/>
                  </a:lnTo>
                  <a:lnTo>
                    <a:pt x="270" y="269"/>
                  </a:lnTo>
                  <a:lnTo>
                    <a:pt x="270" y="202"/>
                  </a:lnTo>
                  <a:lnTo>
                    <a:pt x="337" y="168"/>
                  </a:lnTo>
                  <a:lnTo>
                    <a:pt x="506" y="168"/>
                  </a:lnTo>
                  <a:lnTo>
                    <a:pt x="506" y="135"/>
                  </a:lnTo>
                  <a:lnTo>
                    <a:pt x="472" y="67"/>
                  </a:lnTo>
                  <a:lnTo>
                    <a:pt x="438" y="3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7960" bIns="-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Shape 982"/>
            <p:cNvSpPr/>
            <p:nvPr/>
          </p:nvSpPr>
          <p:spPr>
            <a:xfrm>
              <a:off x="474480" y="38880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2459" h="2426">
                  <a:moveTo>
                    <a:pt x="2290" y="203"/>
                  </a:moveTo>
                  <a:lnTo>
                    <a:pt x="2256" y="641"/>
                  </a:lnTo>
                  <a:lnTo>
                    <a:pt x="2256" y="1078"/>
                  </a:lnTo>
                  <a:lnTo>
                    <a:pt x="2222" y="1617"/>
                  </a:lnTo>
                  <a:lnTo>
                    <a:pt x="2222" y="2156"/>
                  </a:lnTo>
                  <a:lnTo>
                    <a:pt x="1953" y="2122"/>
                  </a:lnTo>
                  <a:lnTo>
                    <a:pt x="1684" y="2088"/>
                  </a:lnTo>
                  <a:lnTo>
                    <a:pt x="1145" y="2122"/>
                  </a:lnTo>
                  <a:lnTo>
                    <a:pt x="707" y="2156"/>
                  </a:lnTo>
                  <a:lnTo>
                    <a:pt x="472" y="2156"/>
                  </a:lnTo>
                  <a:lnTo>
                    <a:pt x="270" y="2223"/>
                  </a:lnTo>
                  <a:lnTo>
                    <a:pt x="270" y="1684"/>
                  </a:lnTo>
                  <a:lnTo>
                    <a:pt x="236" y="1179"/>
                  </a:lnTo>
                  <a:lnTo>
                    <a:pt x="202" y="742"/>
                  </a:lnTo>
                  <a:lnTo>
                    <a:pt x="202" y="304"/>
                  </a:lnTo>
                  <a:lnTo>
                    <a:pt x="1246" y="270"/>
                  </a:lnTo>
                  <a:lnTo>
                    <a:pt x="1751" y="237"/>
                  </a:lnTo>
                  <a:lnTo>
                    <a:pt x="2290" y="203"/>
                  </a:lnTo>
                  <a:close/>
                  <a:moveTo>
                    <a:pt x="1751" y="1"/>
                  </a:moveTo>
                  <a:lnTo>
                    <a:pt x="1212" y="35"/>
                  </a:lnTo>
                  <a:lnTo>
                    <a:pt x="169" y="102"/>
                  </a:lnTo>
                  <a:lnTo>
                    <a:pt x="135" y="102"/>
                  </a:lnTo>
                  <a:lnTo>
                    <a:pt x="101" y="136"/>
                  </a:lnTo>
                  <a:lnTo>
                    <a:pt x="68" y="169"/>
                  </a:lnTo>
                  <a:lnTo>
                    <a:pt x="0" y="439"/>
                  </a:lnTo>
                  <a:lnTo>
                    <a:pt x="0" y="742"/>
                  </a:lnTo>
                  <a:lnTo>
                    <a:pt x="34" y="1348"/>
                  </a:lnTo>
                  <a:lnTo>
                    <a:pt x="34" y="1853"/>
                  </a:lnTo>
                  <a:lnTo>
                    <a:pt x="68" y="2122"/>
                  </a:lnTo>
                  <a:lnTo>
                    <a:pt x="101" y="2358"/>
                  </a:lnTo>
                  <a:lnTo>
                    <a:pt x="135" y="2391"/>
                  </a:lnTo>
                  <a:lnTo>
                    <a:pt x="169" y="2425"/>
                  </a:lnTo>
                  <a:lnTo>
                    <a:pt x="202" y="2425"/>
                  </a:lnTo>
                  <a:lnTo>
                    <a:pt x="236" y="2391"/>
                  </a:lnTo>
                  <a:lnTo>
                    <a:pt x="775" y="2391"/>
                  </a:lnTo>
                  <a:lnTo>
                    <a:pt x="1313" y="2358"/>
                  </a:lnTo>
                  <a:lnTo>
                    <a:pt x="1785" y="2358"/>
                  </a:lnTo>
                  <a:lnTo>
                    <a:pt x="2020" y="2324"/>
                  </a:lnTo>
                  <a:lnTo>
                    <a:pt x="2256" y="2290"/>
                  </a:lnTo>
                  <a:lnTo>
                    <a:pt x="2256" y="2257"/>
                  </a:lnTo>
                  <a:lnTo>
                    <a:pt x="2323" y="2290"/>
                  </a:lnTo>
                  <a:lnTo>
                    <a:pt x="2357" y="2257"/>
                  </a:lnTo>
                  <a:lnTo>
                    <a:pt x="2391" y="2223"/>
                  </a:lnTo>
                  <a:lnTo>
                    <a:pt x="2424" y="1954"/>
                  </a:lnTo>
                  <a:lnTo>
                    <a:pt x="2458" y="1651"/>
                  </a:lnTo>
                  <a:lnTo>
                    <a:pt x="2458" y="1045"/>
                  </a:lnTo>
                  <a:lnTo>
                    <a:pt x="2458" y="573"/>
                  </a:lnTo>
                  <a:lnTo>
                    <a:pt x="2424" y="338"/>
                  </a:lnTo>
                  <a:lnTo>
                    <a:pt x="2357" y="102"/>
                  </a:lnTo>
                  <a:lnTo>
                    <a:pt x="2357" y="35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4640" bIns="446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hape 983"/>
            <p:cNvSpPr/>
            <p:nvPr/>
          </p:nvSpPr>
          <p:spPr>
            <a:xfrm>
              <a:off x="2998800" y="234720"/>
              <a:ext cx="47520" cy="23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08" h="372">
                  <a:moveTo>
                    <a:pt x="169" y="1"/>
                  </a:moveTo>
                  <a:lnTo>
                    <a:pt x="34" y="35"/>
                  </a:lnTo>
                  <a:lnTo>
                    <a:pt x="1" y="68"/>
                  </a:lnTo>
                  <a:lnTo>
                    <a:pt x="1" y="102"/>
                  </a:lnTo>
                  <a:lnTo>
                    <a:pt x="34" y="203"/>
                  </a:lnTo>
                  <a:lnTo>
                    <a:pt x="135" y="270"/>
                  </a:lnTo>
                  <a:lnTo>
                    <a:pt x="236" y="304"/>
                  </a:lnTo>
                  <a:lnTo>
                    <a:pt x="506" y="371"/>
                  </a:lnTo>
                  <a:lnTo>
                    <a:pt x="640" y="371"/>
                  </a:lnTo>
                  <a:lnTo>
                    <a:pt x="674" y="338"/>
                  </a:lnTo>
                  <a:lnTo>
                    <a:pt x="708" y="270"/>
                  </a:lnTo>
                  <a:lnTo>
                    <a:pt x="708" y="203"/>
                  </a:lnTo>
                  <a:lnTo>
                    <a:pt x="674" y="169"/>
                  </a:lnTo>
                  <a:lnTo>
                    <a:pt x="640" y="102"/>
                  </a:lnTo>
                  <a:lnTo>
                    <a:pt x="573" y="68"/>
                  </a:lnTo>
                  <a:lnTo>
                    <a:pt x="30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2880" bIns="-92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hape 984"/>
            <p:cNvSpPr/>
            <p:nvPr/>
          </p:nvSpPr>
          <p:spPr>
            <a:xfrm>
              <a:off x="2938320" y="141120"/>
              <a:ext cx="728640" cy="31428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0977" h="4749">
                  <a:moveTo>
                    <a:pt x="438" y="843"/>
                  </a:moveTo>
                  <a:lnTo>
                    <a:pt x="674" y="910"/>
                  </a:lnTo>
                  <a:lnTo>
                    <a:pt x="876" y="977"/>
                  </a:lnTo>
                  <a:lnTo>
                    <a:pt x="1145" y="944"/>
                  </a:lnTo>
                  <a:lnTo>
                    <a:pt x="1415" y="944"/>
                  </a:lnTo>
                  <a:lnTo>
                    <a:pt x="1684" y="977"/>
                  </a:lnTo>
                  <a:lnTo>
                    <a:pt x="1920" y="1078"/>
                  </a:lnTo>
                  <a:lnTo>
                    <a:pt x="1852" y="1651"/>
                  </a:lnTo>
                  <a:lnTo>
                    <a:pt x="1718" y="2829"/>
                  </a:lnTo>
                  <a:lnTo>
                    <a:pt x="1482" y="2762"/>
                  </a:lnTo>
                  <a:lnTo>
                    <a:pt x="1280" y="2694"/>
                  </a:lnTo>
                  <a:lnTo>
                    <a:pt x="1044" y="2627"/>
                  </a:lnTo>
                  <a:lnTo>
                    <a:pt x="809" y="2560"/>
                  </a:lnTo>
                  <a:lnTo>
                    <a:pt x="573" y="2560"/>
                  </a:lnTo>
                  <a:lnTo>
                    <a:pt x="304" y="2526"/>
                  </a:lnTo>
                  <a:lnTo>
                    <a:pt x="236" y="2526"/>
                  </a:lnTo>
                  <a:lnTo>
                    <a:pt x="270" y="2257"/>
                  </a:lnTo>
                  <a:lnTo>
                    <a:pt x="304" y="1987"/>
                  </a:lnTo>
                  <a:lnTo>
                    <a:pt x="371" y="1449"/>
                  </a:lnTo>
                  <a:lnTo>
                    <a:pt x="438" y="1146"/>
                  </a:lnTo>
                  <a:lnTo>
                    <a:pt x="438" y="977"/>
                  </a:lnTo>
                  <a:lnTo>
                    <a:pt x="438" y="843"/>
                  </a:lnTo>
                  <a:close/>
                  <a:moveTo>
                    <a:pt x="3031" y="236"/>
                  </a:moveTo>
                  <a:lnTo>
                    <a:pt x="3367" y="337"/>
                  </a:lnTo>
                  <a:lnTo>
                    <a:pt x="3704" y="405"/>
                  </a:lnTo>
                  <a:lnTo>
                    <a:pt x="4377" y="438"/>
                  </a:lnTo>
                  <a:lnTo>
                    <a:pt x="6229" y="607"/>
                  </a:lnTo>
                  <a:lnTo>
                    <a:pt x="7980" y="775"/>
                  </a:lnTo>
                  <a:lnTo>
                    <a:pt x="9697" y="977"/>
                  </a:lnTo>
                  <a:lnTo>
                    <a:pt x="9764" y="977"/>
                  </a:lnTo>
                  <a:lnTo>
                    <a:pt x="9933" y="1045"/>
                  </a:lnTo>
                  <a:lnTo>
                    <a:pt x="10067" y="1146"/>
                  </a:lnTo>
                  <a:lnTo>
                    <a:pt x="10303" y="1381"/>
                  </a:lnTo>
                  <a:lnTo>
                    <a:pt x="10471" y="1583"/>
                  </a:lnTo>
                  <a:lnTo>
                    <a:pt x="10572" y="1752"/>
                  </a:lnTo>
                  <a:lnTo>
                    <a:pt x="10640" y="1920"/>
                  </a:lnTo>
                  <a:lnTo>
                    <a:pt x="10707" y="2088"/>
                  </a:lnTo>
                  <a:lnTo>
                    <a:pt x="10741" y="2290"/>
                  </a:lnTo>
                  <a:lnTo>
                    <a:pt x="10741" y="2492"/>
                  </a:lnTo>
                  <a:lnTo>
                    <a:pt x="10673" y="2964"/>
                  </a:lnTo>
                  <a:lnTo>
                    <a:pt x="10640" y="3199"/>
                  </a:lnTo>
                  <a:lnTo>
                    <a:pt x="10572" y="3435"/>
                  </a:lnTo>
                  <a:lnTo>
                    <a:pt x="10471" y="3671"/>
                  </a:lnTo>
                  <a:lnTo>
                    <a:pt x="10337" y="3873"/>
                  </a:lnTo>
                  <a:lnTo>
                    <a:pt x="10202" y="4041"/>
                  </a:lnTo>
                  <a:lnTo>
                    <a:pt x="10067" y="4209"/>
                  </a:lnTo>
                  <a:lnTo>
                    <a:pt x="9865" y="4344"/>
                  </a:lnTo>
                  <a:lnTo>
                    <a:pt x="9663" y="4445"/>
                  </a:lnTo>
                  <a:lnTo>
                    <a:pt x="8687" y="4445"/>
                  </a:lnTo>
                  <a:lnTo>
                    <a:pt x="8249" y="4378"/>
                  </a:lnTo>
                  <a:lnTo>
                    <a:pt x="7778" y="4310"/>
                  </a:lnTo>
                  <a:lnTo>
                    <a:pt x="6902" y="4176"/>
                  </a:lnTo>
                  <a:lnTo>
                    <a:pt x="5993" y="4041"/>
                  </a:lnTo>
                  <a:lnTo>
                    <a:pt x="5118" y="3940"/>
                  </a:lnTo>
                  <a:lnTo>
                    <a:pt x="4243" y="3839"/>
                  </a:lnTo>
                  <a:lnTo>
                    <a:pt x="2896" y="3839"/>
                  </a:lnTo>
                  <a:lnTo>
                    <a:pt x="2492" y="3873"/>
                  </a:lnTo>
                  <a:lnTo>
                    <a:pt x="2458" y="3805"/>
                  </a:lnTo>
                  <a:lnTo>
                    <a:pt x="2391" y="3704"/>
                  </a:lnTo>
                  <a:lnTo>
                    <a:pt x="2256" y="3570"/>
                  </a:lnTo>
                  <a:lnTo>
                    <a:pt x="2088" y="3368"/>
                  </a:lnTo>
                  <a:lnTo>
                    <a:pt x="1987" y="3267"/>
                  </a:lnTo>
                  <a:lnTo>
                    <a:pt x="1920" y="3132"/>
                  </a:lnTo>
                  <a:lnTo>
                    <a:pt x="1886" y="3132"/>
                  </a:lnTo>
                  <a:lnTo>
                    <a:pt x="2021" y="1853"/>
                  </a:lnTo>
                  <a:lnTo>
                    <a:pt x="2054" y="1482"/>
                  </a:lnTo>
                  <a:lnTo>
                    <a:pt x="2122" y="1078"/>
                  </a:lnTo>
                  <a:lnTo>
                    <a:pt x="2122" y="1011"/>
                  </a:lnTo>
                  <a:lnTo>
                    <a:pt x="2122" y="910"/>
                  </a:lnTo>
                  <a:lnTo>
                    <a:pt x="2088" y="843"/>
                  </a:lnTo>
                  <a:lnTo>
                    <a:pt x="2256" y="775"/>
                  </a:lnTo>
                  <a:lnTo>
                    <a:pt x="2391" y="708"/>
                  </a:lnTo>
                  <a:lnTo>
                    <a:pt x="2660" y="506"/>
                  </a:lnTo>
                  <a:lnTo>
                    <a:pt x="3031" y="270"/>
                  </a:lnTo>
                  <a:lnTo>
                    <a:pt x="3031" y="236"/>
                  </a:lnTo>
                  <a:close/>
                  <a:moveTo>
                    <a:pt x="2930" y="1"/>
                  </a:moveTo>
                  <a:lnTo>
                    <a:pt x="2862" y="34"/>
                  </a:lnTo>
                  <a:lnTo>
                    <a:pt x="2324" y="405"/>
                  </a:lnTo>
                  <a:lnTo>
                    <a:pt x="2088" y="573"/>
                  </a:lnTo>
                  <a:lnTo>
                    <a:pt x="2021" y="641"/>
                  </a:lnTo>
                  <a:lnTo>
                    <a:pt x="1953" y="775"/>
                  </a:lnTo>
                  <a:lnTo>
                    <a:pt x="1987" y="809"/>
                  </a:lnTo>
                  <a:lnTo>
                    <a:pt x="1987" y="843"/>
                  </a:lnTo>
                  <a:lnTo>
                    <a:pt x="1785" y="742"/>
                  </a:lnTo>
                  <a:lnTo>
                    <a:pt x="1549" y="708"/>
                  </a:lnTo>
                  <a:lnTo>
                    <a:pt x="910" y="708"/>
                  </a:lnTo>
                  <a:lnTo>
                    <a:pt x="741" y="674"/>
                  </a:lnTo>
                  <a:lnTo>
                    <a:pt x="573" y="641"/>
                  </a:lnTo>
                  <a:lnTo>
                    <a:pt x="405" y="674"/>
                  </a:lnTo>
                  <a:lnTo>
                    <a:pt x="405" y="641"/>
                  </a:lnTo>
                  <a:lnTo>
                    <a:pt x="371" y="607"/>
                  </a:lnTo>
                  <a:lnTo>
                    <a:pt x="371" y="641"/>
                  </a:lnTo>
                  <a:lnTo>
                    <a:pt x="270" y="843"/>
                  </a:lnTo>
                  <a:lnTo>
                    <a:pt x="203" y="1078"/>
                  </a:lnTo>
                  <a:lnTo>
                    <a:pt x="102" y="1516"/>
                  </a:lnTo>
                  <a:lnTo>
                    <a:pt x="34" y="2021"/>
                  </a:lnTo>
                  <a:lnTo>
                    <a:pt x="1" y="2290"/>
                  </a:lnTo>
                  <a:lnTo>
                    <a:pt x="1" y="2560"/>
                  </a:lnTo>
                  <a:lnTo>
                    <a:pt x="68" y="2627"/>
                  </a:lnTo>
                  <a:lnTo>
                    <a:pt x="135" y="2661"/>
                  </a:lnTo>
                  <a:lnTo>
                    <a:pt x="203" y="2728"/>
                  </a:lnTo>
                  <a:lnTo>
                    <a:pt x="337" y="2762"/>
                  </a:lnTo>
                  <a:lnTo>
                    <a:pt x="607" y="2795"/>
                  </a:lnTo>
                  <a:lnTo>
                    <a:pt x="876" y="2829"/>
                  </a:lnTo>
                  <a:lnTo>
                    <a:pt x="1145" y="2930"/>
                  </a:lnTo>
                  <a:lnTo>
                    <a:pt x="1415" y="2997"/>
                  </a:lnTo>
                  <a:lnTo>
                    <a:pt x="1718" y="3065"/>
                  </a:lnTo>
                  <a:lnTo>
                    <a:pt x="1684" y="3267"/>
                  </a:lnTo>
                  <a:lnTo>
                    <a:pt x="1684" y="3334"/>
                  </a:lnTo>
                  <a:lnTo>
                    <a:pt x="1718" y="3334"/>
                  </a:lnTo>
                  <a:lnTo>
                    <a:pt x="1785" y="3368"/>
                  </a:lnTo>
                  <a:lnTo>
                    <a:pt x="1920" y="3536"/>
                  </a:lnTo>
                  <a:lnTo>
                    <a:pt x="2155" y="3839"/>
                  </a:lnTo>
                  <a:lnTo>
                    <a:pt x="2256" y="3974"/>
                  </a:lnTo>
                  <a:lnTo>
                    <a:pt x="2324" y="4007"/>
                  </a:lnTo>
                  <a:lnTo>
                    <a:pt x="2458" y="4007"/>
                  </a:lnTo>
                  <a:lnTo>
                    <a:pt x="2930" y="4075"/>
                  </a:lnTo>
                  <a:lnTo>
                    <a:pt x="3401" y="4142"/>
                  </a:lnTo>
                  <a:lnTo>
                    <a:pt x="4344" y="4176"/>
                  </a:lnTo>
                  <a:lnTo>
                    <a:pt x="5253" y="4209"/>
                  </a:lnTo>
                  <a:lnTo>
                    <a:pt x="5724" y="4243"/>
                  </a:lnTo>
                  <a:lnTo>
                    <a:pt x="6195" y="4277"/>
                  </a:lnTo>
                  <a:lnTo>
                    <a:pt x="7711" y="4546"/>
                  </a:lnTo>
                  <a:lnTo>
                    <a:pt x="8451" y="4647"/>
                  </a:lnTo>
                  <a:lnTo>
                    <a:pt x="9192" y="4681"/>
                  </a:lnTo>
                  <a:lnTo>
                    <a:pt x="9226" y="4748"/>
                  </a:lnTo>
                  <a:lnTo>
                    <a:pt x="9495" y="4748"/>
                  </a:lnTo>
                  <a:lnTo>
                    <a:pt x="9697" y="4714"/>
                  </a:lnTo>
                  <a:lnTo>
                    <a:pt x="9865" y="4647"/>
                  </a:lnTo>
                  <a:lnTo>
                    <a:pt x="10034" y="4580"/>
                  </a:lnTo>
                  <a:lnTo>
                    <a:pt x="10168" y="4445"/>
                  </a:lnTo>
                  <a:lnTo>
                    <a:pt x="10303" y="4344"/>
                  </a:lnTo>
                  <a:lnTo>
                    <a:pt x="10505" y="4007"/>
                  </a:lnTo>
                  <a:lnTo>
                    <a:pt x="10707" y="3671"/>
                  </a:lnTo>
                  <a:lnTo>
                    <a:pt x="10808" y="3267"/>
                  </a:lnTo>
                  <a:lnTo>
                    <a:pt x="10909" y="2896"/>
                  </a:lnTo>
                  <a:lnTo>
                    <a:pt x="10976" y="2560"/>
                  </a:lnTo>
                  <a:lnTo>
                    <a:pt x="10976" y="2290"/>
                  </a:lnTo>
                  <a:lnTo>
                    <a:pt x="10943" y="2021"/>
                  </a:lnTo>
                  <a:lnTo>
                    <a:pt x="10842" y="1752"/>
                  </a:lnTo>
                  <a:lnTo>
                    <a:pt x="10673" y="1482"/>
                  </a:lnTo>
                  <a:lnTo>
                    <a:pt x="10505" y="1213"/>
                  </a:lnTo>
                  <a:lnTo>
                    <a:pt x="10303" y="1045"/>
                  </a:lnTo>
                  <a:lnTo>
                    <a:pt x="10168" y="944"/>
                  </a:lnTo>
                  <a:lnTo>
                    <a:pt x="10067" y="910"/>
                  </a:lnTo>
                  <a:lnTo>
                    <a:pt x="9933" y="876"/>
                  </a:lnTo>
                  <a:lnTo>
                    <a:pt x="9798" y="876"/>
                  </a:lnTo>
                  <a:lnTo>
                    <a:pt x="9798" y="775"/>
                  </a:lnTo>
                  <a:lnTo>
                    <a:pt x="9697" y="742"/>
                  </a:lnTo>
                  <a:lnTo>
                    <a:pt x="6229" y="405"/>
                  </a:lnTo>
                  <a:lnTo>
                    <a:pt x="5455" y="304"/>
                  </a:lnTo>
                  <a:lnTo>
                    <a:pt x="4647" y="203"/>
                  </a:lnTo>
                  <a:lnTo>
                    <a:pt x="4243" y="169"/>
                  </a:lnTo>
                  <a:lnTo>
                    <a:pt x="3839" y="135"/>
                  </a:lnTo>
                  <a:lnTo>
                    <a:pt x="3468" y="169"/>
                  </a:lnTo>
                  <a:lnTo>
                    <a:pt x="3098" y="203"/>
                  </a:lnTo>
                  <a:lnTo>
                    <a:pt x="3098" y="102"/>
                  </a:lnTo>
                  <a:lnTo>
                    <a:pt x="3098" y="34"/>
                  </a:lnTo>
                  <a:lnTo>
                    <a:pt x="303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hape 985"/>
            <p:cNvSpPr/>
            <p:nvPr/>
          </p:nvSpPr>
          <p:spPr>
            <a:xfrm>
              <a:off x="333360" y="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3" h="338">
                  <a:moveTo>
                    <a:pt x="0" y="1"/>
                  </a:moveTo>
                  <a:lnTo>
                    <a:pt x="68" y="270"/>
                  </a:lnTo>
                  <a:lnTo>
                    <a:pt x="101" y="304"/>
                  </a:lnTo>
                  <a:lnTo>
                    <a:pt x="135" y="337"/>
                  </a:lnTo>
                  <a:lnTo>
                    <a:pt x="202" y="304"/>
                  </a:lnTo>
                  <a:lnTo>
                    <a:pt x="202" y="236"/>
                  </a:lnTo>
                  <a:lnTo>
                    <a:pt x="202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4680" bIns="-946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hape 986"/>
            <p:cNvSpPr/>
            <p:nvPr/>
          </p:nvSpPr>
          <p:spPr>
            <a:xfrm>
              <a:off x="0" y="44280"/>
              <a:ext cx="112680" cy="174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85" h="2627">
                  <a:moveTo>
                    <a:pt x="1516" y="0"/>
                  </a:moveTo>
                  <a:lnTo>
                    <a:pt x="775" y="34"/>
                  </a:lnTo>
                  <a:lnTo>
                    <a:pt x="1" y="67"/>
                  </a:lnTo>
                  <a:lnTo>
                    <a:pt x="1" y="269"/>
                  </a:lnTo>
                  <a:lnTo>
                    <a:pt x="741" y="269"/>
                  </a:lnTo>
                  <a:lnTo>
                    <a:pt x="1516" y="202"/>
                  </a:lnTo>
                  <a:lnTo>
                    <a:pt x="1448" y="741"/>
                  </a:lnTo>
                  <a:lnTo>
                    <a:pt x="1415" y="1279"/>
                  </a:lnTo>
                  <a:lnTo>
                    <a:pt x="1448" y="1818"/>
                  </a:lnTo>
                  <a:lnTo>
                    <a:pt x="1516" y="2323"/>
                  </a:lnTo>
                  <a:lnTo>
                    <a:pt x="1516" y="2357"/>
                  </a:lnTo>
                  <a:lnTo>
                    <a:pt x="1482" y="2357"/>
                  </a:lnTo>
                  <a:lnTo>
                    <a:pt x="1280" y="2323"/>
                  </a:lnTo>
                  <a:lnTo>
                    <a:pt x="1044" y="2357"/>
                  </a:lnTo>
                  <a:lnTo>
                    <a:pt x="1" y="2357"/>
                  </a:lnTo>
                  <a:lnTo>
                    <a:pt x="1" y="2593"/>
                  </a:lnTo>
                  <a:lnTo>
                    <a:pt x="371" y="2626"/>
                  </a:lnTo>
                  <a:lnTo>
                    <a:pt x="775" y="2626"/>
                  </a:lnTo>
                  <a:lnTo>
                    <a:pt x="1145" y="2593"/>
                  </a:lnTo>
                  <a:lnTo>
                    <a:pt x="1516" y="2492"/>
                  </a:lnTo>
                  <a:lnTo>
                    <a:pt x="1549" y="2458"/>
                  </a:lnTo>
                  <a:lnTo>
                    <a:pt x="1549" y="2391"/>
                  </a:lnTo>
                  <a:lnTo>
                    <a:pt x="1650" y="2391"/>
                  </a:lnTo>
                  <a:lnTo>
                    <a:pt x="1684" y="2357"/>
                  </a:lnTo>
                  <a:lnTo>
                    <a:pt x="1684" y="2323"/>
                  </a:lnTo>
                  <a:lnTo>
                    <a:pt x="1684" y="1784"/>
                  </a:lnTo>
                  <a:lnTo>
                    <a:pt x="1684" y="1246"/>
                  </a:lnTo>
                  <a:lnTo>
                    <a:pt x="1650" y="707"/>
                  </a:lnTo>
                  <a:lnTo>
                    <a:pt x="1583" y="168"/>
                  </a:lnTo>
                  <a:lnTo>
                    <a:pt x="1617" y="135"/>
                  </a:lnTo>
                  <a:lnTo>
                    <a:pt x="1617" y="67"/>
                  </a:lnTo>
                  <a:lnTo>
                    <a:pt x="1583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7960" bIns="579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hape 987"/>
            <p:cNvSpPr/>
            <p:nvPr/>
          </p:nvSpPr>
          <p:spPr>
            <a:xfrm>
              <a:off x="0" y="311040"/>
              <a:ext cx="71280" cy="568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79" h="876">
                  <a:moveTo>
                    <a:pt x="943" y="1"/>
                  </a:moveTo>
                  <a:lnTo>
                    <a:pt x="910" y="34"/>
                  </a:lnTo>
                  <a:lnTo>
                    <a:pt x="910" y="203"/>
                  </a:lnTo>
                  <a:lnTo>
                    <a:pt x="910" y="405"/>
                  </a:lnTo>
                  <a:lnTo>
                    <a:pt x="910" y="472"/>
                  </a:lnTo>
                  <a:lnTo>
                    <a:pt x="876" y="438"/>
                  </a:lnTo>
                  <a:lnTo>
                    <a:pt x="708" y="337"/>
                  </a:lnTo>
                  <a:lnTo>
                    <a:pt x="573" y="169"/>
                  </a:lnTo>
                  <a:lnTo>
                    <a:pt x="438" y="169"/>
                  </a:lnTo>
                  <a:lnTo>
                    <a:pt x="405" y="236"/>
                  </a:lnTo>
                  <a:lnTo>
                    <a:pt x="405" y="304"/>
                  </a:lnTo>
                  <a:lnTo>
                    <a:pt x="438" y="337"/>
                  </a:lnTo>
                  <a:lnTo>
                    <a:pt x="539" y="472"/>
                  </a:lnTo>
                  <a:lnTo>
                    <a:pt x="337" y="438"/>
                  </a:lnTo>
                  <a:lnTo>
                    <a:pt x="68" y="438"/>
                  </a:lnTo>
                  <a:lnTo>
                    <a:pt x="1" y="472"/>
                  </a:lnTo>
                  <a:lnTo>
                    <a:pt x="1" y="539"/>
                  </a:lnTo>
                  <a:lnTo>
                    <a:pt x="135" y="607"/>
                  </a:lnTo>
                  <a:lnTo>
                    <a:pt x="270" y="607"/>
                  </a:lnTo>
                  <a:lnTo>
                    <a:pt x="573" y="640"/>
                  </a:lnTo>
                  <a:lnTo>
                    <a:pt x="438" y="708"/>
                  </a:lnTo>
                  <a:lnTo>
                    <a:pt x="371" y="741"/>
                  </a:lnTo>
                  <a:lnTo>
                    <a:pt x="405" y="809"/>
                  </a:lnTo>
                  <a:lnTo>
                    <a:pt x="438" y="876"/>
                  </a:lnTo>
                  <a:lnTo>
                    <a:pt x="506" y="876"/>
                  </a:lnTo>
                  <a:lnTo>
                    <a:pt x="708" y="775"/>
                  </a:lnTo>
                  <a:lnTo>
                    <a:pt x="910" y="607"/>
                  </a:lnTo>
                  <a:lnTo>
                    <a:pt x="910" y="809"/>
                  </a:lnTo>
                  <a:lnTo>
                    <a:pt x="943" y="842"/>
                  </a:lnTo>
                  <a:lnTo>
                    <a:pt x="1011" y="876"/>
                  </a:lnTo>
                  <a:lnTo>
                    <a:pt x="1078" y="842"/>
                  </a:lnTo>
                  <a:lnTo>
                    <a:pt x="1078" y="775"/>
                  </a:lnTo>
                  <a:lnTo>
                    <a:pt x="1078" y="371"/>
                  </a:lnTo>
                  <a:lnTo>
                    <a:pt x="1044" y="203"/>
                  </a:lnTo>
                  <a:lnTo>
                    <a:pt x="1011" y="34"/>
                  </a:lnTo>
                  <a:lnTo>
                    <a:pt x="101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hape 988"/>
            <p:cNvSpPr/>
            <p:nvPr/>
          </p:nvSpPr>
          <p:spPr>
            <a:xfrm>
              <a:off x="392040" y="107640"/>
              <a:ext cx="50760" cy="60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75" h="910">
                  <a:moveTo>
                    <a:pt x="371" y="1"/>
                  </a:moveTo>
                  <a:lnTo>
                    <a:pt x="270" y="34"/>
                  </a:lnTo>
                  <a:lnTo>
                    <a:pt x="135" y="102"/>
                  </a:lnTo>
                  <a:lnTo>
                    <a:pt x="102" y="135"/>
                  </a:lnTo>
                  <a:lnTo>
                    <a:pt x="102" y="203"/>
                  </a:lnTo>
                  <a:lnTo>
                    <a:pt x="102" y="270"/>
                  </a:lnTo>
                  <a:lnTo>
                    <a:pt x="169" y="270"/>
                  </a:lnTo>
                  <a:lnTo>
                    <a:pt x="371" y="203"/>
                  </a:lnTo>
                  <a:lnTo>
                    <a:pt x="203" y="472"/>
                  </a:lnTo>
                  <a:lnTo>
                    <a:pt x="34" y="741"/>
                  </a:lnTo>
                  <a:lnTo>
                    <a:pt x="1" y="775"/>
                  </a:lnTo>
                  <a:lnTo>
                    <a:pt x="34" y="842"/>
                  </a:lnTo>
                  <a:lnTo>
                    <a:pt x="68" y="876"/>
                  </a:lnTo>
                  <a:lnTo>
                    <a:pt x="102" y="910"/>
                  </a:lnTo>
                  <a:lnTo>
                    <a:pt x="438" y="842"/>
                  </a:lnTo>
                  <a:lnTo>
                    <a:pt x="573" y="842"/>
                  </a:lnTo>
                  <a:lnTo>
                    <a:pt x="741" y="775"/>
                  </a:lnTo>
                  <a:lnTo>
                    <a:pt x="775" y="741"/>
                  </a:lnTo>
                  <a:lnTo>
                    <a:pt x="775" y="708"/>
                  </a:lnTo>
                  <a:lnTo>
                    <a:pt x="741" y="674"/>
                  </a:lnTo>
                  <a:lnTo>
                    <a:pt x="708" y="640"/>
                  </a:lnTo>
                  <a:lnTo>
                    <a:pt x="573" y="640"/>
                  </a:lnTo>
                  <a:lnTo>
                    <a:pt x="405" y="674"/>
                  </a:lnTo>
                  <a:lnTo>
                    <a:pt x="304" y="674"/>
                  </a:lnTo>
                  <a:lnTo>
                    <a:pt x="472" y="405"/>
                  </a:lnTo>
                  <a:lnTo>
                    <a:pt x="573" y="135"/>
                  </a:lnTo>
                  <a:lnTo>
                    <a:pt x="573" y="68"/>
                  </a:lnTo>
                  <a:lnTo>
                    <a:pt x="506" y="34"/>
                  </a:lnTo>
                  <a:lnTo>
                    <a:pt x="37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hape 989"/>
            <p:cNvSpPr/>
            <p:nvPr/>
          </p:nvSpPr>
          <p:spPr>
            <a:xfrm>
              <a:off x="322200" y="3312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169" y="169"/>
                  </a:moveTo>
                  <a:lnTo>
                    <a:pt x="371" y="236"/>
                  </a:lnTo>
                  <a:lnTo>
                    <a:pt x="573" y="270"/>
                  </a:lnTo>
                  <a:lnTo>
                    <a:pt x="1011" y="270"/>
                  </a:lnTo>
                  <a:lnTo>
                    <a:pt x="1651" y="304"/>
                  </a:lnTo>
                  <a:lnTo>
                    <a:pt x="2290" y="304"/>
                  </a:lnTo>
                  <a:lnTo>
                    <a:pt x="2290" y="674"/>
                  </a:lnTo>
                  <a:lnTo>
                    <a:pt x="2324" y="1078"/>
                  </a:lnTo>
                  <a:lnTo>
                    <a:pt x="2324" y="1583"/>
                  </a:lnTo>
                  <a:lnTo>
                    <a:pt x="2358" y="1819"/>
                  </a:lnTo>
                  <a:lnTo>
                    <a:pt x="2391" y="2088"/>
                  </a:lnTo>
                  <a:lnTo>
                    <a:pt x="1314" y="2088"/>
                  </a:lnTo>
                  <a:lnTo>
                    <a:pt x="809" y="2122"/>
                  </a:lnTo>
                  <a:lnTo>
                    <a:pt x="540" y="2156"/>
                  </a:lnTo>
                  <a:lnTo>
                    <a:pt x="304" y="2223"/>
                  </a:lnTo>
                  <a:lnTo>
                    <a:pt x="270" y="1718"/>
                  </a:lnTo>
                  <a:lnTo>
                    <a:pt x="237" y="1213"/>
                  </a:lnTo>
                  <a:lnTo>
                    <a:pt x="270" y="674"/>
                  </a:lnTo>
                  <a:lnTo>
                    <a:pt x="237" y="405"/>
                  </a:lnTo>
                  <a:lnTo>
                    <a:pt x="203" y="304"/>
                  </a:lnTo>
                  <a:lnTo>
                    <a:pt x="169" y="169"/>
                  </a:lnTo>
                  <a:close/>
                  <a:moveTo>
                    <a:pt x="2358" y="1"/>
                  </a:moveTo>
                  <a:lnTo>
                    <a:pt x="2358" y="34"/>
                  </a:lnTo>
                  <a:lnTo>
                    <a:pt x="2324" y="102"/>
                  </a:lnTo>
                  <a:lnTo>
                    <a:pt x="1752" y="68"/>
                  </a:lnTo>
                  <a:lnTo>
                    <a:pt x="1179" y="34"/>
                  </a:lnTo>
                  <a:lnTo>
                    <a:pt x="641" y="34"/>
                  </a:lnTo>
                  <a:lnTo>
                    <a:pt x="405" y="68"/>
                  </a:lnTo>
                  <a:lnTo>
                    <a:pt x="270" y="102"/>
                  </a:lnTo>
                  <a:lnTo>
                    <a:pt x="169" y="169"/>
                  </a:lnTo>
                  <a:lnTo>
                    <a:pt x="136" y="169"/>
                  </a:lnTo>
                  <a:lnTo>
                    <a:pt x="68" y="304"/>
                  </a:lnTo>
                  <a:lnTo>
                    <a:pt x="35" y="472"/>
                  </a:lnTo>
                  <a:lnTo>
                    <a:pt x="1" y="842"/>
                  </a:lnTo>
                  <a:lnTo>
                    <a:pt x="35" y="1583"/>
                  </a:lnTo>
                  <a:lnTo>
                    <a:pt x="35" y="1785"/>
                  </a:lnTo>
                  <a:lnTo>
                    <a:pt x="35" y="2054"/>
                  </a:lnTo>
                  <a:lnTo>
                    <a:pt x="35" y="2156"/>
                  </a:lnTo>
                  <a:lnTo>
                    <a:pt x="68" y="2290"/>
                  </a:lnTo>
                  <a:lnTo>
                    <a:pt x="136" y="2358"/>
                  </a:lnTo>
                  <a:lnTo>
                    <a:pt x="237" y="2425"/>
                  </a:lnTo>
                  <a:lnTo>
                    <a:pt x="304" y="2391"/>
                  </a:lnTo>
                  <a:lnTo>
                    <a:pt x="304" y="2358"/>
                  </a:lnTo>
                  <a:lnTo>
                    <a:pt x="573" y="2391"/>
                  </a:lnTo>
                  <a:lnTo>
                    <a:pt x="1348" y="2391"/>
                  </a:lnTo>
                  <a:lnTo>
                    <a:pt x="2391" y="2290"/>
                  </a:lnTo>
                  <a:lnTo>
                    <a:pt x="2526" y="2290"/>
                  </a:lnTo>
                  <a:lnTo>
                    <a:pt x="2526" y="2257"/>
                  </a:lnTo>
                  <a:lnTo>
                    <a:pt x="2560" y="2021"/>
                  </a:lnTo>
                  <a:lnTo>
                    <a:pt x="2560" y="1751"/>
                  </a:lnTo>
                  <a:lnTo>
                    <a:pt x="2526" y="1213"/>
                  </a:lnTo>
                  <a:lnTo>
                    <a:pt x="2492" y="607"/>
                  </a:lnTo>
                  <a:lnTo>
                    <a:pt x="2492" y="304"/>
                  </a:lnTo>
                  <a:lnTo>
                    <a:pt x="2459" y="34"/>
                  </a:lnTo>
                  <a:lnTo>
                    <a:pt x="242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hape 990"/>
            <p:cNvSpPr/>
            <p:nvPr/>
          </p:nvSpPr>
          <p:spPr>
            <a:xfrm>
              <a:off x="693720" y="261720"/>
              <a:ext cx="34920" cy="1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40" h="203">
                  <a:moveTo>
                    <a:pt x="405" y="1"/>
                  </a:moveTo>
                  <a:lnTo>
                    <a:pt x="338" y="35"/>
                  </a:lnTo>
                  <a:lnTo>
                    <a:pt x="68" y="35"/>
                  </a:lnTo>
                  <a:lnTo>
                    <a:pt x="34" y="68"/>
                  </a:lnTo>
                  <a:lnTo>
                    <a:pt x="1" y="102"/>
                  </a:lnTo>
                  <a:lnTo>
                    <a:pt x="34" y="136"/>
                  </a:lnTo>
                  <a:lnTo>
                    <a:pt x="68" y="169"/>
                  </a:lnTo>
                  <a:lnTo>
                    <a:pt x="169" y="203"/>
                  </a:lnTo>
                  <a:lnTo>
                    <a:pt x="371" y="203"/>
                  </a:lnTo>
                  <a:lnTo>
                    <a:pt x="439" y="169"/>
                  </a:lnTo>
                  <a:lnTo>
                    <a:pt x="506" y="136"/>
                  </a:lnTo>
                  <a:lnTo>
                    <a:pt x="540" y="102"/>
                  </a:lnTo>
                  <a:lnTo>
                    <a:pt x="540" y="68"/>
                  </a:lnTo>
                  <a:lnTo>
                    <a:pt x="540" y="35"/>
                  </a:lnTo>
                  <a:lnTo>
                    <a:pt x="506" y="35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104040" bIns="-104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hape 991"/>
            <p:cNvSpPr/>
            <p:nvPr/>
          </p:nvSpPr>
          <p:spPr>
            <a:xfrm>
              <a:off x="0" y="0"/>
              <a:ext cx="123480" cy="36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53" h="540">
                  <a:moveTo>
                    <a:pt x="1583" y="1"/>
                  </a:moveTo>
                  <a:lnTo>
                    <a:pt x="1617" y="236"/>
                  </a:lnTo>
                  <a:lnTo>
                    <a:pt x="809" y="270"/>
                  </a:lnTo>
                  <a:lnTo>
                    <a:pt x="1" y="304"/>
                  </a:lnTo>
                  <a:lnTo>
                    <a:pt x="1" y="539"/>
                  </a:lnTo>
                  <a:lnTo>
                    <a:pt x="842" y="472"/>
                  </a:lnTo>
                  <a:lnTo>
                    <a:pt x="1684" y="405"/>
                  </a:lnTo>
                  <a:lnTo>
                    <a:pt x="1718" y="438"/>
                  </a:lnTo>
                  <a:lnTo>
                    <a:pt x="1751" y="405"/>
                  </a:lnTo>
                  <a:lnTo>
                    <a:pt x="1819" y="371"/>
                  </a:lnTo>
                  <a:lnTo>
                    <a:pt x="1852" y="337"/>
                  </a:lnTo>
                  <a:lnTo>
                    <a:pt x="1819" y="270"/>
                  </a:lnTo>
                  <a:lnTo>
                    <a:pt x="1785" y="236"/>
                  </a:lnTo>
                  <a:lnTo>
                    <a:pt x="178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0280" bIns="-802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hape 992"/>
            <p:cNvSpPr/>
            <p:nvPr/>
          </p:nvSpPr>
          <p:spPr>
            <a:xfrm>
              <a:off x="0" y="406080"/>
              <a:ext cx="269640" cy="1616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075" h="2425">
                  <a:moveTo>
                    <a:pt x="2694" y="0"/>
                  </a:moveTo>
                  <a:lnTo>
                    <a:pt x="1448" y="34"/>
                  </a:lnTo>
                  <a:lnTo>
                    <a:pt x="371" y="34"/>
                  </a:lnTo>
                  <a:lnTo>
                    <a:pt x="1" y="101"/>
                  </a:lnTo>
                  <a:lnTo>
                    <a:pt x="1" y="303"/>
                  </a:lnTo>
                  <a:lnTo>
                    <a:pt x="943" y="270"/>
                  </a:lnTo>
                  <a:lnTo>
                    <a:pt x="1920" y="270"/>
                  </a:lnTo>
                  <a:lnTo>
                    <a:pt x="3805" y="236"/>
                  </a:lnTo>
                  <a:lnTo>
                    <a:pt x="3772" y="404"/>
                  </a:lnTo>
                  <a:lnTo>
                    <a:pt x="3772" y="606"/>
                  </a:lnTo>
                  <a:lnTo>
                    <a:pt x="3805" y="977"/>
                  </a:lnTo>
                  <a:lnTo>
                    <a:pt x="3805" y="1515"/>
                  </a:lnTo>
                  <a:lnTo>
                    <a:pt x="3839" y="2088"/>
                  </a:lnTo>
                  <a:lnTo>
                    <a:pt x="1852" y="2088"/>
                  </a:lnTo>
                  <a:lnTo>
                    <a:pt x="910" y="2155"/>
                  </a:lnTo>
                  <a:lnTo>
                    <a:pt x="438" y="2189"/>
                  </a:lnTo>
                  <a:lnTo>
                    <a:pt x="1" y="2290"/>
                  </a:lnTo>
                  <a:lnTo>
                    <a:pt x="1" y="2391"/>
                  </a:lnTo>
                  <a:lnTo>
                    <a:pt x="405" y="2424"/>
                  </a:lnTo>
                  <a:lnTo>
                    <a:pt x="809" y="2391"/>
                  </a:lnTo>
                  <a:lnTo>
                    <a:pt x="1617" y="2323"/>
                  </a:lnTo>
                  <a:lnTo>
                    <a:pt x="2728" y="2290"/>
                  </a:lnTo>
                  <a:lnTo>
                    <a:pt x="3873" y="2290"/>
                  </a:lnTo>
                  <a:lnTo>
                    <a:pt x="3873" y="2357"/>
                  </a:lnTo>
                  <a:lnTo>
                    <a:pt x="3906" y="2424"/>
                  </a:lnTo>
                  <a:lnTo>
                    <a:pt x="4041" y="2424"/>
                  </a:lnTo>
                  <a:lnTo>
                    <a:pt x="4075" y="2323"/>
                  </a:lnTo>
                  <a:lnTo>
                    <a:pt x="4075" y="1751"/>
                  </a:lnTo>
                  <a:lnTo>
                    <a:pt x="4041" y="1145"/>
                  </a:lnTo>
                  <a:lnTo>
                    <a:pt x="4041" y="674"/>
                  </a:lnTo>
                  <a:lnTo>
                    <a:pt x="4007" y="438"/>
                  </a:lnTo>
                  <a:lnTo>
                    <a:pt x="3974" y="236"/>
                  </a:lnTo>
                  <a:lnTo>
                    <a:pt x="4007" y="202"/>
                  </a:lnTo>
                  <a:lnTo>
                    <a:pt x="4007" y="135"/>
                  </a:lnTo>
                  <a:lnTo>
                    <a:pt x="3974" y="68"/>
                  </a:lnTo>
                  <a:lnTo>
                    <a:pt x="3906" y="34"/>
                  </a:lnTo>
                  <a:lnTo>
                    <a:pt x="330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hape 993"/>
            <p:cNvSpPr/>
            <p:nvPr/>
          </p:nvSpPr>
          <p:spPr>
            <a:xfrm>
              <a:off x="134640" y="4284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26" h="2358">
                  <a:moveTo>
                    <a:pt x="2257" y="202"/>
                  </a:moveTo>
                  <a:lnTo>
                    <a:pt x="2257" y="640"/>
                  </a:lnTo>
                  <a:lnTo>
                    <a:pt x="2290" y="1078"/>
                  </a:lnTo>
                  <a:lnTo>
                    <a:pt x="2290" y="1616"/>
                  </a:lnTo>
                  <a:lnTo>
                    <a:pt x="2324" y="2155"/>
                  </a:lnTo>
                  <a:lnTo>
                    <a:pt x="2088" y="2122"/>
                  </a:lnTo>
                  <a:lnTo>
                    <a:pt x="1886" y="2155"/>
                  </a:lnTo>
                  <a:lnTo>
                    <a:pt x="1449" y="2189"/>
                  </a:lnTo>
                  <a:lnTo>
                    <a:pt x="1449" y="2122"/>
                  </a:lnTo>
                  <a:lnTo>
                    <a:pt x="1449" y="1919"/>
                  </a:lnTo>
                  <a:lnTo>
                    <a:pt x="1449" y="1717"/>
                  </a:lnTo>
                  <a:lnTo>
                    <a:pt x="1415" y="1313"/>
                  </a:lnTo>
                  <a:lnTo>
                    <a:pt x="1381" y="1246"/>
                  </a:lnTo>
                  <a:lnTo>
                    <a:pt x="1348" y="1212"/>
                  </a:lnTo>
                  <a:lnTo>
                    <a:pt x="1280" y="1246"/>
                  </a:lnTo>
                  <a:lnTo>
                    <a:pt x="1247" y="1313"/>
                  </a:lnTo>
                  <a:lnTo>
                    <a:pt x="1247" y="1717"/>
                  </a:lnTo>
                  <a:lnTo>
                    <a:pt x="1247" y="1919"/>
                  </a:lnTo>
                  <a:lnTo>
                    <a:pt x="1314" y="2088"/>
                  </a:lnTo>
                  <a:lnTo>
                    <a:pt x="1348" y="2122"/>
                  </a:lnTo>
                  <a:lnTo>
                    <a:pt x="843" y="2122"/>
                  </a:lnTo>
                  <a:lnTo>
                    <a:pt x="607" y="2155"/>
                  </a:lnTo>
                  <a:lnTo>
                    <a:pt x="371" y="2223"/>
                  </a:lnTo>
                  <a:lnTo>
                    <a:pt x="304" y="1684"/>
                  </a:lnTo>
                  <a:lnTo>
                    <a:pt x="236" y="1145"/>
                  </a:lnTo>
                  <a:lnTo>
                    <a:pt x="203" y="707"/>
                  </a:lnTo>
                  <a:lnTo>
                    <a:pt x="135" y="270"/>
                  </a:lnTo>
                  <a:lnTo>
                    <a:pt x="1179" y="270"/>
                  </a:lnTo>
                  <a:lnTo>
                    <a:pt x="2257" y="202"/>
                  </a:lnTo>
                  <a:close/>
                  <a:moveTo>
                    <a:pt x="1179" y="0"/>
                  </a:moveTo>
                  <a:lnTo>
                    <a:pt x="641" y="34"/>
                  </a:lnTo>
                  <a:lnTo>
                    <a:pt x="135" y="68"/>
                  </a:lnTo>
                  <a:lnTo>
                    <a:pt x="68" y="101"/>
                  </a:lnTo>
                  <a:lnTo>
                    <a:pt x="34" y="169"/>
                  </a:lnTo>
                  <a:lnTo>
                    <a:pt x="1" y="438"/>
                  </a:lnTo>
                  <a:lnTo>
                    <a:pt x="1" y="674"/>
                  </a:lnTo>
                  <a:lnTo>
                    <a:pt x="34" y="1145"/>
                  </a:lnTo>
                  <a:lnTo>
                    <a:pt x="102" y="1717"/>
                  </a:lnTo>
                  <a:lnTo>
                    <a:pt x="135" y="2021"/>
                  </a:lnTo>
                  <a:lnTo>
                    <a:pt x="203" y="2290"/>
                  </a:lnTo>
                  <a:lnTo>
                    <a:pt x="236" y="2324"/>
                  </a:lnTo>
                  <a:lnTo>
                    <a:pt x="270" y="2357"/>
                  </a:lnTo>
                  <a:lnTo>
                    <a:pt x="337" y="2324"/>
                  </a:lnTo>
                  <a:lnTo>
                    <a:pt x="337" y="2357"/>
                  </a:lnTo>
                  <a:lnTo>
                    <a:pt x="1314" y="2357"/>
                  </a:lnTo>
                  <a:lnTo>
                    <a:pt x="1819" y="2324"/>
                  </a:lnTo>
                  <a:lnTo>
                    <a:pt x="2088" y="2324"/>
                  </a:lnTo>
                  <a:lnTo>
                    <a:pt x="2358" y="2290"/>
                  </a:lnTo>
                  <a:lnTo>
                    <a:pt x="2391" y="2324"/>
                  </a:lnTo>
                  <a:lnTo>
                    <a:pt x="2425" y="2324"/>
                  </a:lnTo>
                  <a:lnTo>
                    <a:pt x="2459" y="2290"/>
                  </a:lnTo>
                  <a:lnTo>
                    <a:pt x="2492" y="2256"/>
                  </a:lnTo>
                  <a:lnTo>
                    <a:pt x="2526" y="1987"/>
                  </a:lnTo>
                  <a:lnTo>
                    <a:pt x="2526" y="1751"/>
                  </a:lnTo>
                  <a:lnTo>
                    <a:pt x="2492" y="1246"/>
                  </a:lnTo>
                  <a:lnTo>
                    <a:pt x="2459" y="640"/>
                  </a:lnTo>
                  <a:lnTo>
                    <a:pt x="2425" y="337"/>
                  </a:lnTo>
                  <a:lnTo>
                    <a:pt x="2358" y="68"/>
                  </a:lnTo>
                  <a:lnTo>
                    <a:pt x="2324" y="34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hape 994"/>
            <p:cNvSpPr/>
            <p:nvPr/>
          </p:nvSpPr>
          <p:spPr>
            <a:xfrm>
              <a:off x="301320" y="268200"/>
              <a:ext cx="53640" cy="66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9" h="1011">
                  <a:moveTo>
                    <a:pt x="439" y="237"/>
                  </a:moveTo>
                  <a:lnTo>
                    <a:pt x="472" y="270"/>
                  </a:lnTo>
                  <a:lnTo>
                    <a:pt x="472" y="338"/>
                  </a:lnTo>
                  <a:lnTo>
                    <a:pt x="439" y="439"/>
                  </a:lnTo>
                  <a:lnTo>
                    <a:pt x="338" y="540"/>
                  </a:lnTo>
                  <a:lnTo>
                    <a:pt x="203" y="573"/>
                  </a:lnTo>
                  <a:lnTo>
                    <a:pt x="237" y="439"/>
                  </a:lnTo>
                  <a:lnTo>
                    <a:pt x="270" y="338"/>
                  </a:lnTo>
                  <a:lnTo>
                    <a:pt x="338" y="270"/>
                  </a:lnTo>
                  <a:lnTo>
                    <a:pt x="371" y="270"/>
                  </a:lnTo>
                  <a:lnTo>
                    <a:pt x="439" y="237"/>
                  </a:lnTo>
                  <a:close/>
                  <a:moveTo>
                    <a:pt x="405" y="1"/>
                  </a:moveTo>
                  <a:lnTo>
                    <a:pt x="304" y="35"/>
                  </a:lnTo>
                  <a:lnTo>
                    <a:pt x="237" y="102"/>
                  </a:lnTo>
                  <a:lnTo>
                    <a:pt x="136" y="169"/>
                  </a:lnTo>
                  <a:lnTo>
                    <a:pt x="35" y="338"/>
                  </a:lnTo>
                  <a:lnTo>
                    <a:pt x="1" y="506"/>
                  </a:lnTo>
                  <a:lnTo>
                    <a:pt x="1" y="674"/>
                  </a:lnTo>
                  <a:lnTo>
                    <a:pt x="68" y="742"/>
                  </a:lnTo>
                  <a:lnTo>
                    <a:pt x="136" y="775"/>
                  </a:lnTo>
                  <a:lnTo>
                    <a:pt x="304" y="775"/>
                  </a:lnTo>
                  <a:lnTo>
                    <a:pt x="439" y="742"/>
                  </a:lnTo>
                  <a:lnTo>
                    <a:pt x="439" y="775"/>
                  </a:lnTo>
                  <a:lnTo>
                    <a:pt x="506" y="843"/>
                  </a:lnTo>
                  <a:lnTo>
                    <a:pt x="540" y="910"/>
                  </a:lnTo>
                  <a:lnTo>
                    <a:pt x="708" y="1011"/>
                  </a:lnTo>
                  <a:lnTo>
                    <a:pt x="742" y="1011"/>
                  </a:lnTo>
                  <a:lnTo>
                    <a:pt x="775" y="977"/>
                  </a:lnTo>
                  <a:lnTo>
                    <a:pt x="809" y="944"/>
                  </a:lnTo>
                  <a:lnTo>
                    <a:pt x="775" y="876"/>
                  </a:lnTo>
                  <a:lnTo>
                    <a:pt x="641" y="809"/>
                  </a:lnTo>
                  <a:lnTo>
                    <a:pt x="607" y="742"/>
                  </a:lnTo>
                  <a:lnTo>
                    <a:pt x="540" y="674"/>
                  </a:lnTo>
                  <a:lnTo>
                    <a:pt x="607" y="573"/>
                  </a:lnTo>
                  <a:lnTo>
                    <a:pt x="674" y="472"/>
                  </a:lnTo>
                  <a:lnTo>
                    <a:pt x="708" y="371"/>
                  </a:lnTo>
                  <a:lnTo>
                    <a:pt x="708" y="270"/>
                  </a:lnTo>
                  <a:lnTo>
                    <a:pt x="708" y="203"/>
                  </a:lnTo>
                  <a:lnTo>
                    <a:pt x="641" y="102"/>
                  </a:lnTo>
                  <a:lnTo>
                    <a:pt x="607" y="35"/>
                  </a:lnTo>
                  <a:lnTo>
                    <a:pt x="506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0040" bIns="-5004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hape 995"/>
            <p:cNvSpPr/>
            <p:nvPr/>
          </p:nvSpPr>
          <p:spPr>
            <a:xfrm>
              <a:off x="0" y="218880"/>
              <a:ext cx="218880" cy="169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301" h="2559">
                  <a:moveTo>
                    <a:pt x="3098" y="0"/>
                  </a:moveTo>
                  <a:lnTo>
                    <a:pt x="3031" y="34"/>
                  </a:lnTo>
                  <a:lnTo>
                    <a:pt x="2997" y="101"/>
                  </a:lnTo>
                  <a:lnTo>
                    <a:pt x="2997" y="169"/>
                  </a:lnTo>
                  <a:lnTo>
                    <a:pt x="2189" y="101"/>
                  </a:lnTo>
                  <a:lnTo>
                    <a:pt x="337" y="101"/>
                  </a:lnTo>
                  <a:lnTo>
                    <a:pt x="1" y="135"/>
                  </a:lnTo>
                  <a:lnTo>
                    <a:pt x="1" y="337"/>
                  </a:lnTo>
                  <a:lnTo>
                    <a:pt x="573" y="303"/>
                  </a:lnTo>
                  <a:lnTo>
                    <a:pt x="2088" y="303"/>
                  </a:lnTo>
                  <a:lnTo>
                    <a:pt x="2997" y="371"/>
                  </a:lnTo>
                  <a:lnTo>
                    <a:pt x="3065" y="1381"/>
                  </a:lnTo>
                  <a:lnTo>
                    <a:pt x="3031" y="1818"/>
                  </a:lnTo>
                  <a:lnTo>
                    <a:pt x="3031" y="2256"/>
                  </a:lnTo>
                  <a:lnTo>
                    <a:pt x="2930" y="2222"/>
                  </a:lnTo>
                  <a:lnTo>
                    <a:pt x="2795" y="2155"/>
                  </a:lnTo>
                  <a:lnTo>
                    <a:pt x="2155" y="2155"/>
                  </a:lnTo>
                  <a:lnTo>
                    <a:pt x="1920" y="2189"/>
                  </a:lnTo>
                  <a:lnTo>
                    <a:pt x="1381" y="2256"/>
                  </a:lnTo>
                  <a:lnTo>
                    <a:pt x="842" y="2357"/>
                  </a:lnTo>
                  <a:lnTo>
                    <a:pt x="1" y="2357"/>
                  </a:lnTo>
                  <a:lnTo>
                    <a:pt x="1" y="2525"/>
                  </a:lnTo>
                  <a:lnTo>
                    <a:pt x="304" y="2559"/>
                  </a:lnTo>
                  <a:lnTo>
                    <a:pt x="640" y="2559"/>
                  </a:lnTo>
                  <a:lnTo>
                    <a:pt x="1280" y="2492"/>
                  </a:lnTo>
                  <a:lnTo>
                    <a:pt x="1718" y="2458"/>
                  </a:lnTo>
                  <a:lnTo>
                    <a:pt x="2155" y="2424"/>
                  </a:lnTo>
                  <a:lnTo>
                    <a:pt x="2593" y="2458"/>
                  </a:lnTo>
                  <a:lnTo>
                    <a:pt x="3065" y="2458"/>
                  </a:lnTo>
                  <a:lnTo>
                    <a:pt x="3065" y="2492"/>
                  </a:lnTo>
                  <a:lnTo>
                    <a:pt x="3098" y="2525"/>
                  </a:lnTo>
                  <a:lnTo>
                    <a:pt x="3132" y="2559"/>
                  </a:lnTo>
                  <a:lnTo>
                    <a:pt x="3199" y="2525"/>
                  </a:lnTo>
                  <a:lnTo>
                    <a:pt x="3233" y="2492"/>
                  </a:lnTo>
                  <a:lnTo>
                    <a:pt x="3300" y="2222"/>
                  </a:lnTo>
                  <a:lnTo>
                    <a:pt x="3300" y="1919"/>
                  </a:lnTo>
                  <a:lnTo>
                    <a:pt x="3300" y="1381"/>
                  </a:lnTo>
                  <a:lnTo>
                    <a:pt x="3300" y="707"/>
                  </a:lnTo>
                  <a:lnTo>
                    <a:pt x="3267" y="404"/>
                  </a:lnTo>
                  <a:lnTo>
                    <a:pt x="3233" y="68"/>
                  </a:lnTo>
                  <a:lnTo>
                    <a:pt x="316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2920" bIns="52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hape 996"/>
            <p:cNvSpPr/>
            <p:nvPr/>
          </p:nvSpPr>
          <p:spPr>
            <a:xfrm>
              <a:off x="1465200" y="409320"/>
              <a:ext cx="37800" cy="50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776">
                  <a:moveTo>
                    <a:pt x="404" y="1"/>
                  </a:moveTo>
                  <a:lnTo>
                    <a:pt x="438" y="203"/>
                  </a:lnTo>
                  <a:lnTo>
                    <a:pt x="438" y="405"/>
                  </a:lnTo>
                  <a:lnTo>
                    <a:pt x="438" y="472"/>
                  </a:lnTo>
                  <a:lnTo>
                    <a:pt x="371" y="540"/>
                  </a:lnTo>
                  <a:lnTo>
                    <a:pt x="303" y="607"/>
                  </a:lnTo>
                  <a:lnTo>
                    <a:pt x="236" y="607"/>
                  </a:lnTo>
                  <a:lnTo>
                    <a:pt x="236" y="506"/>
                  </a:lnTo>
                  <a:lnTo>
                    <a:pt x="169" y="439"/>
                  </a:lnTo>
                  <a:lnTo>
                    <a:pt x="101" y="405"/>
                  </a:lnTo>
                  <a:lnTo>
                    <a:pt x="68" y="405"/>
                  </a:lnTo>
                  <a:lnTo>
                    <a:pt x="0" y="472"/>
                  </a:lnTo>
                  <a:lnTo>
                    <a:pt x="34" y="540"/>
                  </a:lnTo>
                  <a:lnTo>
                    <a:pt x="68" y="573"/>
                  </a:lnTo>
                  <a:lnTo>
                    <a:pt x="68" y="641"/>
                  </a:lnTo>
                  <a:lnTo>
                    <a:pt x="68" y="708"/>
                  </a:lnTo>
                  <a:lnTo>
                    <a:pt x="135" y="742"/>
                  </a:lnTo>
                  <a:lnTo>
                    <a:pt x="236" y="775"/>
                  </a:lnTo>
                  <a:lnTo>
                    <a:pt x="337" y="742"/>
                  </a:lnTo>
                  <a:lnTo>
                    <a:pt x="438" y="674"/>
                  </a:lnTo>
                  <a:lnTo>
                    <a:pt x="505" y="573"/>
                  </a:lnTo>
                  <a:lnTo>
                    <a:pt x="573" y="439"/>
                  </a:lnTo>
                  <a:lnTo>
                    <a:pt x="573" y="270"/>
                  </a:lnTo>
                  <a:lnTo>
                    <a:pt x="539" y="136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5880" bIns="-65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hape 997"/>
            <p:cNvSpPr/>
            <p:nvPr/>
          </p:nvSpPr>
          <p:spPr>
            <a:xfrm>
              <a:off x="1647720" y="0"/>
              <a:ext cx="147600" cy="141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223" h="2122">
                  <a:moveTo>
                    <a:pt x="1986" y="1"/>
                  </a:moveTo>
                  <a:lnTo>
                    <a:pt x="1986" y="304"/>
                  </a:lnTo>
                  <a:lnTo>
                    <a:pt x="1986" y="640"/>
                  </a:lnTo>
                  <a:lnTo>
                    <a:pt x="2020" y="1819"/>
                  </a:lnTo>
                  <a:lnTo>
                    <a:pt x="1784" y="1785"/>
                  </a:lnTo>
                  <a:lnTo>
                    <a:pt x="1549" y="1785"/>
                  </a:lnTo>
                  <a:lnTo>
                    <a:pt x="1077" y="1819"/>
                  </a:lnTo>
                  <a:lnTo>
                    <a:pt x="505" y="1819"/>
                  </a:lnTo>
                  <a:lnTo>
                    <a:pt x="337" y="1852"/>
                  </a:lnTo>
                  <a:lnTo>
                    <a:pt x="202" y="1852"/>
                  </a:lnTo>
                  <a:lnTo>
                    <a:pt x="101" y="1920"/>
                  </a:lnTo>
                  <a:lnTo>
                    <a:pt x="0" y="1987"/>
                  </a:lnTo>
                  <a:lnTo>
                    <a:pt x="0" y="2021"/>
                  </a:lnTo>
                  <a:lnTo>
                    <a:pt x="101" y="2088"/>
                  </a:lnTo>
                  <a:lnTo>
                    <a:pt x="202" y="2122"/>
                  </a:lnTo>
                  <a:lnTo>
                    <a:pt x="438" y="2122"/>
                  </a:lnTo>
                  <a:lnTo>
                    <a:pt x="943" y="2088"/>
                  </a:lnTo>
                  <a:lnTo>
                    <a:pt x="1784" y="2088"/>
                  </a:lnTo>
                  <a:lnTo>
                    <a:pt x="2054" y="2021"/>
                  </a:lnTo>
                  <a:lnTo>
                    <a:pt x="2087" y="2054"/>
                  </a:lnTo>
                  <a:lnTo>
                    <a:pt x="2155" y="2054"/>
                  </a:lnTo>
                  <a:lnTo>
                    <a:pt x="2222" y="2021"/>
                  </a:lnTo>
                  <a:lnTo>
                    <a:pt x="2222" y="1953"/>
                  </a:lnTo>
                  <a:lnTo>
                    <a:pt x="2188" y="775"/>
                  </a:lnTo>
                  <a:lnTo>
                    <a:pt x="2188" y="405"/>
                  </a:lnTo>
                  <a:lnTo>
                    <a:pt x="2188" y="203"/>
                  </a:lnTo>
                  <a:lnTo>
                    <a:pt x="2155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24480" bIns="244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hape 998"/>
            <p:cNvSpPr/>
            <p:nvPr/>
          </p:nvSpPr>
          <p:spPr>
            <a:xfrm>
              <a:off x="1616040" y="225360"/>
              <a:ext cx="15840" cy="47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37" h="708">
                  <a:moveTo>
                    <a:pt x="102" y="0"/>
                  </a:moveTo>
                  <a:lnTo>
                    <a:pt x="68" y="34"/>
                  </a:lnTo>
                  <a:lnTo>
                    <a:pt x="1" y="202"/>
                  </a:lnTo>
                  <a:lnTo>
                    <a:pt x="1" y="337"/>
                  </a:lnTo>
                  <a:lnTo>
                    <a:pt x="1" y="505"/>
                  </a:lnTo>
                  <a:lnTo>
                    <a:pt x="1" y="640"/>
                  </a:lnTo>
                  <a:lnTo>
                    <a:pt x="34" y="674"/>
                  </a:lnTo>
                  <a:lnTo>
                    <a:pt x="102" y="707"/>
                  </a:lnTo>
                  <a:lnTo>
                    <a:pt x="169" y="707"/>
                  </a:lnTo>
                  <a:lnTo>
                    <a:pt x="203" y="640"/>
                  </a:lnTo>
                  <a:lnTo>
                    <a:pt x="203" y="606"/>
                  </a:lnTo>
                  <a:lnTo>
                    <a:pt x="203" y="337"/>
                  </a:lnTo>
                  <a:lnTo>
                    <a:pt x="236" y="68"/>
                  </a:lnTo>
                  <a:lnTo>
                    <a:pt x="203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69120" bIns="-69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hape 999"/>
            <p:cNvSpPr/>
            <p:nvPr/>
          </p:nvSpPr>
          <p:spPr>
            <a:xfrm>
              <a:off x="1406520" y="350640"/>
              <a:ext cx="163440" cy="1616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59" h="2425">
                  <a:moveTo>
                    <a:pt x="2290" y="203"/>
                  </a:moveTo>
                  <a:lnTo>
                    <a:pt x="2257" y="640"/>
                  </a:lnTo>
                  <a:lnTo>
                    <a:pt x="2257" y="1078"/>
                  </a:lnTo>
                  <a:lnTo>
                    <a:pt x="2223" y="1617"/>
                  </a:lnTo>
                  <a:lnTo>
                    <a:pt x="2223" y="2155"/>
                  </a:lnTo>
                  <a:lnTo>
                    <a:pt x="1954" y="2122"/>
                  </a:lnTo>
                  <a:lnTo>
                    <a:pt x="1684" y="2088"/>
                  </a:lnTo>
                  <a:lnTo>
                    <a:pt x="1146" y="2122"/>
                  </a:lnTo>
                  <a:lnTo>
                    <a:pt x="708" y="2155"/>
                  </a:lnTo>
                  <a:lnTo>
                    <a:pt x="506" y="2155"/>
                  </a:lnTo>
                  <a:lnTo>
                    <a:pt x="270" y="2223"/>
                  </a:lnTo>
                  <a:lnTo>
                    <a:pt x="270" y="1684"/>
                  </a:lnTo>
                  <a:lnTo>
                    <a:pt x="237" y="1179"/>
                  </a:lnTo>
                  <a:lnTo>
                    <a:pt x="237" y="741"/>
                  </a:lnTo>
                  <a:lnTo>
                    <a:pt x="203" y="304"/>
                  </a:lnTo>
                  <a:lnTo>
                    <a:pt x="1247" y="270"/>
                  </a:lnTo>
                  <a:lnTo>
                    <a:pt x="1752" y="236"/>
                  </a:lnTo>
                  <a:lnTo>
                    <a:pt x="2290" y="203"/>
                  </a:lnTo>
                  <a:close/>
                  <a:moveTo>
                    <a:pt x="1752" y="1"/>
                  </a:moveTo>
                  <a:lnTo>
                    <a:pt x="1247" y="34"/>
                  </a:lnTo>
                  <a:lnTo>
                    <a:pt x="169" y="102"/>
                  </a:lnTo>
                  <a:lnTo>
                    <a:pt x="136" y="102"/>
                  </a:lnTo>
                  <a:lnTo>
                    <a:pt x="102" y="135"/>
                  </a:lnTo>
                  <a:lnTo>
                    <a:pt x="68" y="169"/>
                  </a:lnTo>
                  <a:lnTo>
                    <a:pt x="35" y="472"/>
                  </a:lnTo>
                  <a:lnTo>
                    <a:pt x="1" y="741"/>
                  </a:lnTo>
                  <a:lnTo>
                    <a:pt x="35" y="1347"/>
                  </a:lnTo>
                  <a:lnTo>
                    <a:pt x="35" y="1852"/>
                  </a:lnTo>
                  <a:lnTo>
                    <a:pt x="68" y="2122"/>
                  </a:lnTo>
                  <a:lnTo>
                    <a:pt x="136" y="2357"/>
                  </a:lnTo>
                  <a:lnTo>
                    <a:pt x="136" y="2391"/>
                  </a:lnTo>
                  <a:lnTo>
                    <a:pt x="169" y="2425"/>
                  </a:lnTo>
                  <a:lnTo>
                    <a:pt x="237" y="2425"/>
                  </a:lnTo>
                  <a:lnTo>
                    <a:pt x="270" y="2391"/>
                  </a:lnTo>
                  <a:lnTo>
                    <a:pt x="775" y="2391"/>
                  </a:lnTo>
                  <a:lnTo>
                    <a:pt x="1314" y="2357"/>
                  </a:lnTo>
                  <a:lnTo>
                    <a:pt x="1785" y="2357"/>
                  </a:lnTo>
                  <a:lnTo>
                    <a:pt x="2021" y="2324"/>
                  </a:lnTo>
                  <a:lnTo>
                    <a:pt x="2257" y="2290"/>
                  </a:lnTo>
                  <a:lnTo>
                    <a:pt x="2324" y="2290"/>
                  </a:lnTo>
                  <a:lnTo>
                    <a:pt x="2358" y="2256"/>
                  </a:lnTo>
                  <a:lnTo>
                    <a:pt x="2391" y="2223"/>
                  </a:lnTo>
                  <a:lnTo>
                    <a:pt x="2459" y="1953"/>
                  </a:lnTo>
                  <a:lnTo>
                    <a:pt x="2459" y="1650"/>
                  </a:lnTo>
                  <a:lnTo>
                    <a:pt x="2459" y="1044"/>
                  </a:lnTo>
                  <a:lnTo>
                    <a:pt x="2459" y="573"/>
                  </a:lnTo>
                  <a:lnTo>
                    <a:pt x="2425" y="337"/>
                  </a:lnTo>
                  <a:lnTo>
                    <a:pt x="2391" y="102"/>
                  </a:lnTo>
                  <a:lnTo>
                    <a:pt x="2358" y="34"/>
                  </a:lnTo>
                  <a:lnTo>
                    <a:pt x="229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hape 1000"/>
            <p:cNvSpPr/>
            <p:nvPr/>
          </p:nvSpPr>
          <p:spPr>
            <a:xfrm>
              <a:off x="8564760" y="4611600"/>
              <a:ext cx="158400" cy="6379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391" h="9596">
                  <a:moveTo>
                    <a:pt x="2323" y="0"/>
                  </a:moveTo>
                  <a:lnTo>
                    <a:pt x="2323" y="34"/>
                  </a:lnTo>
                  <a:lnTo>
                    <a:pt x="2155" y="606"/>
                  </a:lnTo>
                  <a:lnTo>
                    <a:pt x="1987" y="1179"/>
                  </a:lnTo>
                  <a:lnTo>
                    <a:pt x="1751" y="2323"/>
                  </a:lnTo>
                  <a:lnTo>
                    <a:pt x="1515" y="3502"/>
                  </a:lnTo>
                  <a:lnTo>
                    <a:pt x="1246" y="4646"/>
                  </a:lnTo>
                  <a:lnTo>
                    <a:pt x="640" y="7071"/>
                  </a:lnTo>
                  <a:lnTo>
                    <a:pt x="0" y="9495"/>
                  </a:lnTo>
                  <a:lnTo>
                    <a:pt x="0" y="9562"/>
                  </a:lnTo>
                  <a:lnTo>
                    <a:pt x="68" y="9596"/>
                  </a:lnTo>
                  <a:lnTo>
                    <a:pt x="135" y="9596"/>
                  </a:lnTo>
                  <a:lnTo>
                    <a:pt x="169" y="9528"/>
                  </a:lnTo>
                  <a:lnTo>
                    <a:pt x="842" y="7138"/>
                  </a:lnTo>
                  <a:lnTo>
                    <a:pt x="1414" y="4680"/>
                  </a:lnTo>
                  <a:lnTo>
                    <a:pt x="1987" y="2391"/>
                  </a:lnTo>
                  <a:lnTo>
                    <a:pt x="2256" y="1212"/>
                  </a:lnTo>
                  <a:lnTo>
                    <a:pt x="2323" y="640"/>
                  </a:lnTo>
                  <a:lnTo>
                    <a:pt x="2391" y="34"/>
                  </a:lnTo>
                  <a:lnTo>
                    <a:pt x="239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117000" bIns="117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hape 1001"/>
            <p:cNvSpPr/>
            <p:nvPr/>
          </p:nvSpPr>
          <p:spPr>
            <a:xfrm>
              <a:off x="1738080" y="16488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24">
                  <a:moveTo>
                    <a:pt x="68" y="0"/>
                  </a:moveTo>
                  <a:lnTo>
                    <a:pt x="34" y="34"/>
                  </a:lnTo>
                  <a:lnTo>
                    <a:pt x="1" y="303"/>
                  </a:lnTo>
                  <a:lnTo>
                    <a:pt x="1" y="539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2" y="1987"/>
                  </a:lnTo>
                  <a:lnTo>
                    <a:pt x="169" y="2290"/>
                  </a:lnTo>
                  <a:lnTo>
                    <a:pt x="203" y="2323"/>
                  </a:lnTo>
                  <a:lnTo>
                    <a:pt x="304" y="2323"/>
                  </a:lnTo>
                  <a:lnTo>
                    <a:pt x="304" y="2256"/>
                  </a:lnTo>
                  <a:lnTo>
                    <a:pt x="337" y="1953"/>
                  </a:lnTo>
                  <a:lnTo>
                    <a:pt x="304" y="1650"/>
                  </a:lnTo>
                  <a:lnTo>
                    <a:pt x="236" y="1078"/>
                  </a:lnTo>
                  <a:lnTo>
                    <a:pt x="203" y="539"/>
                  </a:lnTo>
                  <a:lnTo>
                    <a:pt x="169" y="303"/>
                  </a:lnTo>
                  <a:lnTo>
                    <a:pt x="135" y="3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hape 1002"/>
            <p:cNvSpPr/>
            <p:nvPr/>
          </p:nvSpPr>
          <p:spPr>
            <a:xfrm>
              <a:off x="1711080" y="701640"/>
              <a:ext cx="180720" cy="205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728" h="304">
                  <a:moveTo>
                    <a:pt x="708" y="0"/>
                  </a:moveTo>
                  <a:lnTo>
                    <a:pt x="337" y="34"/>
                  </a:lnTo>
                  <a:lnTo>
                    <a:pt x="169" y="68"/>
                  </a:lnTo>
                  <a:lnTo>
                    <a:pt x="1" y="135"/>
                  </a:lnTo>
                  <a:lnTo>
                    <a:pt x="1" y="169"/>
                  </a:lnTo>
                  <a:lnTo>
                    <a:pt x="135" y="236"/>
                  </a:lnTo>
                  <a:lnTo>
                    <a:pt x="304" y="270"/>
                  </a:lnTo>
                  <a:lnTo>
                    <a:pt x="607" y="304"/>
                  </a:lnTo>
                  <a:lnTo>
                    <a:pt x="1246" y="270"/>
                  </a:lnTo>
                  <a:lnTo>
                    <a:pt x="2358" y="270"/>
                  </a:lnTo>
                  <a:lnTo>
                    <a:pt x="2694" y="169"/>
                  </a:lnTo>
                  <a:lnTo>
                    <a:pt x="2728" y="135"/>
                  </a:lnTo>
                  <a:lnTo>
                    <a:pt x="2694" y="102"/>
                  </a:lnTo>
                  <a:lnTo>
                    <a:pt x="2391" y="34"/>
                  </a:lnTo>
                  <a:lnTo>
                    <a:pt x="1415" y="34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96120" bIns="-96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hape 1003"/>
            <p:cNvSpPr/>
            <p:nvPr/>
          </p:nvSpPr>
          <p:spPr>
            <a:xfrm>
              <a:off x="1711080" y="520560"/>
              <a:ext cx="153720" cy="1616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24" h="2425">
                  <a:moveTo>
                    <a:pt x="2122" y="0"/>
                  </a:moveTo>
                  <a:lnTo>
                    <a:pt x="1516" y="34"/>
                  </a:lnTo>
                  <a:lnTo>
                    <a:pt x="203" y="34"/>
                  </a:lnTo>
                  <a:lnTo>
                    <a:pt x="1" y="135"/>
                  </a:lnTo>
                  <a:lnTo>
                    <a:pt x="68" y="202"/>
                  </a:lnTo>
                  <a:lnTo>
                    <a:pt x="169" y="236"/>
                  </a:lnTo>
                  <a:lnTo>
                    <a:pt x="371" y="270"/>
                  </a:lnTo>
                  <a:lnTo>
                    <a:pt x="1415" y="270"/>
                  </a:lnTo>
                  <a:lnTo>
                    <a:pt x="2021" y="236"/>
                  </a:lnTo>
                  <a:lnTo>
                    <a:pt x="2021" y="438"/>
                  </a:lnTo>
                  <a:lnTo>
                    <a:pt x="2021" y="640"/>
                  </a:lnTo>
                  <a:lnTo>
                    <a:pt x="2055" y="1078"/>
                  </a:lnTo>
                  <a:lnTo>
                    <a:pt x="2055" y="1616"/>
                  </a:lnTo>
                  <a:lnTo>
                    <a:pt x="2088" y="1852"/>
                  </a:lnTo>
                  <a:lnTo>
                    <a:pt x="2122" y="2121"/>
                  </a:lnTo>
                  <a:lnTo>
                    <a:pt x="977" y="2155"/>
                  </a:lnTo>
                  <a:lnTo>
                    <a:pt x="573" y="2155"/>
                  </a:lnTo>
                  <a:lnTo>
                    <a:pt x="371" y="2189"/>
                  </a:lnTo>
                  <a:lnTo>
                    <a:pt x="270" y="2222"/>
                  </a:lnTo>
                  <a:lnTo>
                    <a:pt x="203" y="2290"/>
                  </a:lnTo>
                  <a:lnTo>
                    <a:pt x="270" y="2357"/>
                  </a:lnTo>
                  <a:lnTo>
                    <a:pt x="371" y="2391"/>
                  </a:lnTo>
                  <a:lnTo>
                    <a:pt x="573" y="2424"/>
                  </a:lnTo>
                  <a:lnTo>
                    <a:pt x="977" y="2391"/>
                  </a:lnTo>
                  <a:lnTo>
                    <a:pt x="1617" y="2391"/>
                  </a:lnTo>
                  <a:lnTo>
                    <a:pt x="2223" y="2357"/>
                  </a:lnTo>
                  <a:lnTo>
                    <a:pt x="2290" y="2357"/>
                  </a:lnTo>
                  <a:lnTo>
                    <a:pt x="2324" y="2290"/>
                  </a:lnTo>
                  <a:lnTo>
                    <a:pt x="2324" y="2222"/>
                  </a:lnTo>
                  <a:lnTo>
                    <a:pt x="2290" y="2155"/>
                  </a:lnTo>
                  <a:lnTo>
                    <a:pt x="2324" y="1886"/>
                  </a:lnTo>
                  <a:lnTo>
                    <a:pt x="2290" y="1616"/>
                  </a:lnTo>
                  <a:lnTo>
                    <a:pt x="2257" y="1078"/>
                  </a:lnTo>
                  <a:lnTo>
                    <a:pt x="2257" y="640"/>
                  </a:lnTo>
                  <a:lnTo>
                    <a:pt x="2223" y="404"/>
                  </a:lnTo>
                  <a:lnTo>
                    <a:pt x="2189" y="202"/>
                  </a:lnTo>
                  <a:lnTo>
                    <a:pt x="2223" y="135"/>
                  </a:lnTo>
                  <a:lnTo>
                    <a:pt x="2223" y="68"/>
                  </a:lnTo>
                  <a:lnTo>
                    <a:pt x="2189" y="34"/>
                  </a:lnTo>
                  <a:lnTo>
                    <a:pt x="2122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hape 1004"/>
            <p:cNvSpPr/>
            <p:nvPr/>
          </p:nvSpPr>
          <p:spPr>
            <a:xfrm>
              <a:off x="1323720" y="534960"/>
              <a:ext cx="168120" cy="15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26" h="2391">
                  <a:moveTo>
                    <a:pt x="2256" y="236"/>
                  </a:moveTo>
                  <a:lnTo>
                    <a:pt x="2256" y="674"/>
                  </a:lnTo>
                  <a:lnTo>
                    <a:pt x="2290" y="1111"/>
                  </a:lnTo>
                  <a:lnTo>
                    <a:pt x="2290" y="1616"/>
                  </a:lnTo>
                  <a:lnTo>
                    <a:pt x="2323" y="2121"/>
                  </a:lnTo>
                  <a:lnTo>
                    <a:pt x="1448" y="2121"/>
                  </a:lnTo>
                  <a:lnTo>
                    <a:pt x="909" y="2155"/>
                  </a:lnTo>
                  <a:lnTo>
                    <a:pt x="640" y="2189"/>
                  </a:lnTo>
                  <a:lnTo>
                    <a:pt x="371" y="2222"/>
                  </a:lnTo>
                  <a:lnTo>
                    <a:pt x="337" y="1684"/>
                  </a:lnTo>
                  <a:lnTo>
                    <a:pt x="270" y="1145"/>
                  </a:lnTo>
                  <a:lnTo>
                    <a:pt x="202" y="707"/>
                  </a:lnTo>
                  <a:lnTo>
                    <a:pt x="169" y="303"/>
                  </a:lnTo>
                  <a:lnTo>
                    <a:pt x="674" y="303"/>
                  </a:lnTo>
                  <a:lnTo>
                    <a:pt x="1212" y="270"/>
                  </a:lnTo>
                  <a:lnTo>
                    <a:pt x="2256" y="236"/>
                  </a:lnTo>
                  <a:close/>
                  <a:moveTo>
                    <a:pt x="2256" y="0"/>
                  </a:moveTo>
                  <a:lnTo>
                    <a:pt x="1179" y="34"/>
                  </a:lnTo>
                  <a:lnTo>
                    <a:pt x="674" y="68"/>
                  </a:lnTo>
                  <a:lnTo>
                    <a:pt x="135" y="101"/>
                  </a:lnTo>
                  <a:lnTo>
                    <a:pt x="68" y="135"/>
                  </a:lnTo>
                  <a:lnTo>
                    <a:pt x="68" y="202"/>
                  </a:lnTo>
                  <a:lnTo>
                    <a:pt x="34" y="438"/>
                  </a:lnTo>
                  <a:lnTo>
                    <a:pt x="0" y="674"/>
                  </a:lnTo>
                  <a:lnTo>
                    <a:pt x="34" y="1179"/>
                  </a:lnTo>
                  <a:lnTo>
                    <a:pt x="101" y="1751"/>
                  </a:lnTo>
                  <a:lnTo>
                    <a:pt x="135" y="2054"/>
                  </a:lnTo>
                  <a:lnTo>
                    <a:pt x="236" y="2323"/>
                  </a:lnTo>
                  <a:lnTo>
                    <a:pt x="236" y="2357"/>
                  </a:lnTo>
                  <a:lnTo>
                    <a:pt x="371" y="2357"/>
                  </a:lnTo>
                  <a:lnTo>
                    <a:pt x="606" y="2391"/>
                  </a:lnTo>
                  <a:lnTo>
                    <a:pt x="842" y="2391"/>
                  </a:lnTo>
                  <a:lnTo>
                    <a:pt x="1313" y="2357"/>
                  </a:lnTo>
                  <a:lnTo>
                    <a:pt x="2088" y="2357"/>
                  </a:lnTo>
                  <a:lnTo>
                    <a:pt x="2357" y="2323"/>
                  </a:lnTo>
                  <a:lnTo>
                    <a:pt x="2458" y="2323"/>
                  </a:lnTo>
                  <a:lnTo>
                    <a:pt x="2492" y="2290"/>
                  </a:lnTo>
                  <a:lnTo>
                    <a:pt x="2525" y="2020"/>
                  </a:lnTo>
                  <a:lnTo>
                    <a:pt x="2525" y="1785"/>
                  </a:lnTo>
                  <a:lnTo>
                    <a:pt x="2492" y="1246"/>
                  </a:lnTo>
                  <a:lnTo>
                    <a:pt x="2458" y="674"/>
                  </a:lnTo>
                  <a:lnTo>
                    <a:pt x="2424" y="371"/>
                  </a:lnTo>
                  <a:lnTo>
                    <a:pt x="2357" y="68"/>
                  </a:lnTo>
                  <a:lnTo>
                    <a:pt x="2323" y="34"/>
                  </a:lnTo>
                  <a:lnTo>
                    <a:pt x="2290" y="34"/>
                  </a:lnTo>
                  <a:lnTo>
                    <a:pt x="2256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hape 1005"/>
            <p:cNvSpPr/>
            <p:nvPr/>
          </p:nvSpPr>
          <p:spPr>
            <a:xfrm>
              <a:off x="1920600" y="149040"/>
              <a:ext cx="169560" cy="161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60" h="2425">
                  <a:moveTo>
                    <a:pt x="2021" y="0"/>
                  </a:moveTo>
                  <a:lnTo>
                    <a:pt x="1617" y="68"/>
                  </a:lnTo>
                  <a:lnTo>
                    <a:pt x="910" y="68"/>
                  </a:lnTo>
                  <a:lnTo>
                    <a:pt x="539" y="101"/>
                  </a:lnTo>
                  <a:lnTo>
                    <a:pt x="203" y="135"/>
                  </a:lnTo>
                  <a:lnTo>
                    <a:pt x="169" y="68"/>
                  </a:lnTo>
                  <a:lnTo>
                    <a:pt x="169" y="34"/>
                  </a:lnTo>
                  <a:lnTo>
                    <a:pt x="102" y="34"/>
                  </a:lnTo>
                  <a:lnTo>
                    <a:pt x="68" y="68"/>
                  </a:lnTo>
                  <a:lnTo>
                    <a:pt x="34" y="303"/>
                  </a:lnTo>
                  <a:lnTo>
                    <a:pt x="1" y="573"/>
                  </a:lnTo>
                  <a:lnTo>
                    <a:pt x="1" y="1112"/>
                  </a:lnTo>
                  <a:lnTo>
                    <a:pt x="34" y="1718"/>
                  </a:lnTo>
                  <a:lnTo>
                    <a:pt x="102" y="2021"/>
                  </a:lnTo>
                  <a:lnTo>
                    <a:pt x="169" y="2324"/>
                  </a:lnTo>
                  <a:lnTo>
                    <a:pt x="203" y="2357"/>
                  </a:lnTo>
                  <a:lnTo>
                    <a:pt x="304" y="2357"/>
                  </a:lnTo>
                  <a:lnTo>
                    <a:pt x="337" y="2290"/>
                  </a:lnTo>
                  <a:lnTo>
                    <a:pt x="337" y="1987"/>
                  </a:lnTo>
                  <a:lnTo>
                    <a:pt x="304" y="1684"/>
                  </a:lnTo>
                  <a:lnTo>
                    <a:pt x="236" y="1078"/>
                  </a:lnTo>
                  <a:lnTo>
                    <a:pt x="236" y="674"/>
                  </a:lnTo>
                  <a:lnTo>
                    <a:pt x="203" y="236"/>
                  </a:lnTo>
                  <a:lnTo>
                    <a:pt x="438" y="270"/>
                  </a:lnTo>
                  <a:lnTo>
                    <a:pt x="1145" y="270"/>
                  </a:lnTo>
                  <a:lnTo>
                    <a:pt x="2223" y="202"/>
                  </a:lnTo>
                  <a:lnTo>
                    <a:pt x="2256" y="236"/>
                  </a:lnTo>
                  <a:lnTo>
                    <a:pt x="2290" y="270"/>
                  </a:lnTo>
                  <a:lnTo>
                    <a:pt x="2357" y="270"/>
                  </a:lnTo>
                  <a:lnTo>
                    <a:pt x="2324" y="573"/>
                  </a:lnTo>
                  <a:lnTo>
                    <a:pt x="2324" y="910"/>
                  </a:lnTo>
                  <a:lnTo>
                    <a:pt x="2357" y="2088"/>
                  </a:lnTo>
                  <a:lnTo>
                    <a:pt x="2122" y="2054"/>
                  </a:lnTo>
                  <a:lnTo>
                    <a:pt x="1886" y="2088"/>
                  </a:lnTo>
                  <a:lnTo>
                    <a:pt x="1415" y="2122"/>
                  </a:lnTo>
                  <a:lnTo>
                    <a:pt x="674" y="2122"/>
                  </a:lnTo>
                  <a:lnTo>
                    <a:pt x="539" y="2155"/>
                  </a:lnTo>
                  <a:lnTo>
                    <a:pt x="438" y="2189"/>
                  </a:lnTo>
                  <a:lnTo>
                    <a:pt x="337" y="2290"/>
                  </a:lnTo>
                  <a:lnTo>
                    <a:pt x="438" y="2357"/>
                  </a:lnTo>
                  <a:lnTo>
                    <a:pt x="539" y="2391"/>
                  </a:lnTo>
                  <a:lnTo>
                    <a:pt x="775" y="2425"/>
                  </a:lnTo>
                  <a:lnTo>
                    <a:pt x="1280" y="2357"/>
                  </a:lnTo>
                  <a:lnTo>
                    <a:pt x="2122" y="2357"/>
                  </a:lnTo>
                  <a:lnTo>
                    <a:pt x="2391" y="2290"/>
                  </a:lnTo>
                  <a:lnTo>
                    <a:pt x="2425" y="2324"/>
                  </a:lnTo>
                  <a:lnTo>
                    <a:pt x="2492" y="2357"/>
                  </a:lnTo>
                  <a:lnTo>
                    <a:pt x="2559" y="2324"/>
                  </a:lnTo>
                  <a:lnTo>
                    <a:pt x="2559" y="2256"/>
                  </a:lnTo>
                  <a:lnTo>
                    <a:pt x="2526" y="1078"/>
                  </a:lnTo>
                  <a:lnTo>
                    <a:pt x="2526" y="573"/>
                  </a:lnTo>
                  <a:lnTo>
                    <a:pt x="2492" y="303"/>
                  </a:lnTo>
                  <a:lnTo>
                    <a:pt x="2425" y="68"/>
                  </a:lnTo>
                  <a:lnTo>
                    <a:pt x="2391" y="68"/>
                  </a:lnTo>
                  <a:lnTo>
                    <a:pt x="2391" y="101"/>
                  </a:lnTo>
                  <a:lnTo>
                    <a:pt x="2324" y="34"/>
                  </a:lnTo>
                  <a:lnTo>
                    <a:pt x="2223" y="34"/>
                  </a:lnTo>
                  <a:lnTo>
                    <a:pt x="2021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hape 1006"/>
            <p:cNvSpPr/>
            <p:nvPr/>
          </p:nvSpPr>
          <p:spPr>
            <a:xfrm>
              <a:off x="1699920" y="528480"/>
              <a:ext cx="21960" cy="155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8" h="2358">
                  <a:moveTo>
                    <a:pt x="68" y="0"/>
                  </a:moveTo>
                  <a:lnTo>
                    <a:pt x="34" y="34"/>
                  </a:lnTo>
                  <a:lnTo>
                    <a:pt x="0" y="303"/>
                  </a:lnTo>
                  <a:lnTo>
                    <a:pt x="0" y="573"/>
                  </a:lnTo>
                  <a:lnTo>
                    <a:pt x="34" y="1078"/>
                  </a:lnTo>
                  <a:lnTo>
                    <a:pt x="68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3"/>
                  </a:lnTo>
                  <a:lnTo>
                    <a:pt x="270" y="2357"/>
                  </a:lnTo>
                  <a:lnTo>
                    <a:pt x="303" y="2323"/>
                  </a:lnTo>
                  <a:lnTo>
                    <a:pt x="337" y="2256"/>
                  </a:lnTo>
                  <a:lnTo>
                    <a:pt x="337" y="1987"/>
                  </a:lnTo>
                  <a:lnTo>
                    <a:pt x="303" y="1684"/>
                  </a:lnTo>
                  <a:lnTo>
                    <a:pt x="236" y="1078"/>
                  </a:lnTo>
                  <a:lnTo>
                    <a:pt x="202" y="539"/>
                  </a:lnTo>
                  <a:lnTo>
                    <a:pt x="202" y="303"/>
                  </a:lnTo>
                  <a:lnTo>
                    <a:pt x="135" y="3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8880" bIns="388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hape 1007"/>
            <p:cNvSpPr/>
            <p:nvPr/>
          </p:nvSpPr>
          <p:spPr>
            <a:xfrm>
              <a:off x="693720" y="20520"/>
              <a:ext cx="169560" cy="158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60" h="2392">
                  <a:moveTo>
                    <a:pt x="135" y="1"/>
                  </a:moveTo>
                  <a:lnTo>
                    <a:pt x="102" y="34"/>
                  </a:lnTo>
                  <a:lnTo>
                    <a:pt x="68" y="34"/>
                  </a:lnTo>
                  <a:lnTo>
                    <a:pt x="34" y="304"/>
                  </a:lnTo>
                  <a:lnTo>
                    <a:pt x="1" y="573"/>
                  </a:lnTo>
                  <a:lnTo>
                    <a:pt x="1" y="1078"/>
                  </a:lnTo>
                  <a:lnTo>
                    <a:pt x="34" y="1684"/>
                  </a:lnTo>
                  <a:lnTo>
                    <a:pt x="68" y="2021"/>
                  </a:lnTo>
                  <a:lnTo>
                    <a:pt x="169" y="2290"/>
                  </a:lnTo>
                  <a:lnTo>
                    <a:pt x="203" y="2358"/>
                  </a:lnTo>
                  <a:lnTo>
                    <a:pt x="236" y="2358"/>
                  </a:lnTo>
                  <a:lnTo>
                    <a:pt x="304" y="2324"/>
                  </a:lnTo>
                  <a:lnTo>
                    <a:pt x="338" y="2256"/>
                  </a:lnTo>
                  <a:lnTo>
                    <a:pt x="304" y="1987"/>
                  </a:lnTo>
                  <a:lnTo>
                    <a:pt x="304" y="1684"/>
                  </a:lnTo>
                  <a:lnTo>
                    <a:pt x="236" y="1078"/>
                  </a:lnTo>
                  <a:lnTo>
                    <a:pt x="236" y="640"/>
                  </a:lnTo>
                  <a:lnTo>
                    <a:pt x="203" y="236"/>
                  </a:lnTo>
                  <a:lnTo>
                    <a:pt x="439" y="236"/>
                  </a:lnTo>
                  <a:lnTo>
                    <a:pt x="674" y="270"/>
                  </a:lnTo>
                  <a:lnTo>
                    <a:pt x="1146" y="236"/>
                  </a:lnTo>
                  <a:lnTo>
                    <a:pt x="2223" y="203"/>
                  </a:lnTo>
                  <a:lnTo>
                    <a:pt x="2257" y="236"/>
                  </a:lnTo>
                  <a:lnTo>
                    <a:pt x="2324" y="236"/>
                  </a:lnTo>
                  <a:lnTo>
                    <a:pt x="2290" y="573"/>
                  </a:lnTo>
                  <a:lnTo>
                    <a:pt x="2324" y="910"/>
                  </a:lnTo>
                  <a:lnTo>
                    <a:pt x="2358" y="2088"/>
                  </a:lnTo>
                  <a:lnTo>
                    <a:pt x="2122" y="2054"/>
                  </a:lnTo>
                  <a:lnTo>
                    <a:pt x="1886" y="2054"/>
                  </a:lnTo>
                  <a:lnTo>
                    <a:pt x="1415" y="2088"/>
                  </a:lnTo>
                  <a:lnTo>
                    <a:pt x="843" y="2088"/>
                  </a:lnTo>
                  <a:lnTo>
                    <a:pt x="674" y="2122"/>
                  </a:lnTo>
                  <a:lnTo>
                    <a:pt x="540" y="2122"/>
                  </a:lnTo>
                  <a:lnTo>
                    <a:pt x="405" y="2189"/>
                  </a:lnTo>
                  <a:lnTo>
                    <a:pt x="338" y="2256"/>
                  </a:lnTo>
                  <a:lnTo>
                    <a:pt x="338" y="2290"/>
                  </a:lnTo>
                  <a:lnTo>
                    <a:pt x="405" y="2358"/>
                  </a:lnTo>
                  <a:lnTo>
                    <a:pt x="540" y="2391"/>
                  </a:lnTo>
                  <a:lnTo>
                    <a:pt x="775" y="2391"/>
                  </a:lnTo>
                  <a:lnTo>
                    <a:pt x="1280" y="2358"/>
                  </a:lnTo>
                  <a:lnTo>
                    <a:pt x="2088" y="2358"/>
                  </a:lnTo>
                  <a:lnTo>
                    <a:pt x="2358" y="2290"/>
                  </a:lnTo>
                  <a:lnTo>
                    <a:pt x="2425" y="2324"/>
                  </a:lnTo>
                  <a:lnTo>
                    <a:pt x="2492" y="2324"/>
                  </a:lnTo>
                  <a:lnTo>
                    <a:pt x="2526" y="2290"/>
                  </a:lnTo>
                  <a:lnTo>
                    <a:pt x="2560" y="2223"/>
                  </a:lnTo>
                  <a:lnTo>
                    <a:pt x="2526" y="1044"/>
                  </a:lnTo>
                  <a:lnTo>
                    <a:pt x="2526" y="539"/>
                  </a:lnTo>
                  <a:lnTo>
                    <a:pt x="2492" y="304"/>
                  </a:lnTo>
                  <a:lnTo>
                    <a:pt x="2425" y="68"/>
                  </a:lnTo>
                  <a:lnTo>
                    <a:pt x="2425" y="34"/>
                  </a:lnTo>
                  <a:lnTo>
                    <a:pt x="2391" y="34"/>
                  </a:lnTo>
                  <a:lnTo>
                    <a:pt x="2391" y="102"/>
                  </a:lnTo>
                  <a:lnTo>
                    <a:pt x="2358" y="68"/>
                  </a:lnTo>
                  <a:lnTo>
                    <a:pt x="2290" y="34"/>
                  </a:lnTo>
                  <a:lnTo>
                    <a:pt x="2223" y="1"/>
                  </a:lnTo>
                  <a:lnTo>
                    <a:pt x="1987" y="1"/>
                  </a:lnTo>
                  <a:lnTo>
                    <a:pt x="1617" y="34"/>
                  </a:lnTo>
                  <a:lnTo>
                    <a:pt x="910" y="34"/>
                  </a:lnTo>
                  <a:lnTo>
                    <a:pt x="540" y="68"/>
                  </a:lnTo>
                  <a:lnTo>
                    <a:pt x="203" y="135"/>
                  </a:lnTo>
                  <a:lnTo>
                    <a:pt x="169" y="34"/>
                  </a:lnTo>
                  <a:lnTo>
                    <a:pt x="169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1760" bIns="41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hape 1008"/>
            <p:cNvSpPr/>
            <p:nvPr/>
          </p:nvSpPr>
          <p:spPr>
            <a:xfrm>
              <a:off x="1749240" y="554040"/>
              <a:ext cx="60120" cy="34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10" h="506">
                  <a:moveTo>
                    <a:pt x="572" y="0"/>
                  </a:moveTo>
                  <a:lnTo>
                    <a:pt x="404" y="68"/>
                  </a:lnTo>
                  <a:lnTo>
                    <a:pt x="101" y="236"/>
                  </a:lnTo>
                  <a:lnTo>
                    <a:pt x="34" y="270"/>
                  </a:lnTo>
                  <a:lnTo>
                    <a:pt x="0" y="337"/>
                  </a:lnTo>
                  <a:lnTo>
                    <a:pt x="34" y="371"/>
                  </a:lnTo>
                  <a:lnTo>
                    <a:pt x="101" y="404"/>
                  </a:lnTo>
                  <a:lnTo>
                    <a:pt x="774" y="505"/>
                  </a:lnTo>
                  <a:lnTo>
                    <a:pt x="842" y="472"/>
                  </a:lnTo>
                  <a:lnTo>
                    <a:pt x="909" y="404"/>
                  </a:lnTo>
                  <a:lnTo>
                    <a:pt x="876" y="337"/>
                  </a:lnTo>
                  <a:lnTo>
                    <a:pt x="808" y="303"/>
                  </a:lnTo>
                  <a:lnTo>
                    <a:pt x="505" y="270"/>
                  </a:lnTo>
                  <a:lnTo>
                    <a:pt x="640" y="169"/>
                  </a:lnTo>
                  <a:lnTo>
                    <a:pt x="774" y="68"/>
                  </a:lnTo>
                  <a:lnTo>
                    <a:pt x="774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81720" bIns="-81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hape 1009"/>
            <p:cNvSpPr/>
            <p:nvPr/>
          </p:nvSpPr>
          <p:spPr>
            <a:xfrm>
              <a:off x="3457440" y="233280"/>
              <a:ext cx="149040" cy="149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257" h="2256">
                  <a:moveTo>
                    <a:pt x="1213" y="169"/>
                  </a:moveTo>
                  <a:lnTo>
                    <a:pt x="1179" y="202"/>
                  </a:lnTo>
                  <a:lnTo>
                    <a:pt x="1179" y="270"/>
                  </a:lnTo>
                  <a:lnTo>
                    <a:pt x="1213" y="337"/>
                  </a:lnTo>
                  <a:lnTo>
                    <a:pt x="1516" y="337"/>
                  </a:lnTo>
                  <a:lnTo>
                    <a:pt x="1684" y="371"/>
                  </a:lnTo>
                  <a:lnTo>
                    <a:pt x="1819" y="505"/>
                  </a:lnTo>
                  <a:lnTo>
                    <a:pt x="1920" y="640"/>
                  </a:lnTo>
                  <a:lnTo>
                    <a:pt x="1987" y="842"/>
                  </a:lnTo>
                  <a:lnTo>
                    <a:pt x="2021" y="1044"/>
                  </a:lnTo>
                  <a:lnTo>
                    <a:pt x="2021" y="1212"/>
                  </a:lnTo>
                  <a:lnTo>
                    <a:pt x="1987" y="1414"/>
                  </a:lnTo>
                  <a:lnTo>
                    <a:pt x="1920" y="1616"/>
                  </a:lnTo>
                  <a:lnTo>
                    <a:pt x="1819" y="1785"/>
                  </a:lnTo>
                  <a:lnTo>
                    <a:pt x="1650" y="1886"/>
                  </a:lnTo>
                  <a:lnTo>
                    <a:pt x="1482" y="1987"/>
                  </a:lnTo>
                  <a:lnTo>
                    <a:pt x="1314" y="2020"/>
                  </a:lnTo>
                  <a:lnTo>
                    <a:pt x="1112" y="2020"/>
                  </a:lnTo>
                  <a:lnTo>
                    <a:pt x="943" y="1987"/>
                  </a:lnTo>
                  <a:lnTo>
                    <a:pt x="741" y="1886"/>
                  </a:lnTo>
                  <a:lnTo>
                    <a:pt x="573" y="1751"/>
                  </a:lnTo>
                  <a:lnTo>
                    <a:pt x="438" y="1616"/>
                  </a:lnTo>
                  <a:lnTo>
                    <a:pt x="337" y="1448"/>
                  </a:lnTo>
                  <a:lnTo>
                    <a:pt x="270" y="1280"/>
                  </a:lnTo>
                  <a:lnTo>
                    <a:pt x="236" y="1111"/>
                  </a:lnTo>
                  <a:lnTo>
                    <a:pt x="270" y="909"/>
                  </a:lnTo>
                  <a:lnTo>
                    <a:pt x="337" y="741"/>
                  </a:lnTo>
                  <a:lnTo>
                    <a:pt x="472" y="539"/>
                  </a:lnTo>
                  <a:lnTo>
                    <a:pt x="640" y="371"/>
                  </a:lnTo>
                  <a:lnTo>
                    <a:pt x="809" y="270"/>
                  </a:lnTo>
                  <a:lnTo>
                    <a:pt x="1011" y="202"/>
                  </a:lnTo>
                  <a:lnTo>
                    <a:pt x="1213" y="169"/>
                  </a:lnTo>
                  <a:close/>
                  <a:moveTo>
                    <a:pt x="1179" y="0"/>
                  </a:moveTo>
                  <a:lnTo>
                    <a:pt x="1011" y="34"/>
                  </a:lnTo>
                  <a:lnTo>
                    <a:pt x="842" y="101"/>
                  </a:lnTo>
                  <a:lnTo>
                    <a:pt x="674" y="169"/>
                  </a:lnTo>
                  <a:lnTo>
                    <a:pt x="506" y="270"/>
                  </a:lnTo>
                  <a:lnTo>
                    <a:pt x="371" y="404"/>
                  </a:lnTo>
                  <a:lnTo>
                    <a:pt x="270" y="539"/>
                  </a:lnTo>
                  <a:lnTo>
                    <a:pt x="135" y="741"/>
                  </a:lnTo>
                  <a:lnTo>
                    <a:pt x="34" y="943"/>
                  </a:lnTo>
                  <a:lnTo>
                    <a:pt x="1" y="1179"/>
                  </a:lnTo>
                  <a:lnTo>
                    <a:pt x="1" y="1313"/>
                  </a:lnTo>
                  <a:lnTo>
                    <a:pt x="68" y="1414"/>
                  </a:lnTo>
                  <a:lnTo>
                    <a:pt x="203" y="1650"/>
                  </a:lnTo>
                  <a:lnTo>
                    <a:pt x="371" y="1886"/>
                  </a:lnTo>
                  <a:lnTo>
                    <a:pt x="607" y="2088"/>
                  </a:lnTo>
                  <a:lnTo>
                    <a:pt x="876" y="2222"/>
                  </a:lnTo>
                  <a:lnTo>
                    <a:pt x="1112" y="2256"/>
                  </a:lnTo>
                  <a:lnTo>
                    <a:pt x="1347" y="2256"/>
                  </a:lnTo>
                  <a:lnTo>
                    <a:pt x="1549" y="2222"/>
                  </a:lnTo>
                  <a:lnTo>
                    <a:pt x="1785" y="2121"/>
                  </a:lnTo>
                  <a:lnTo>
                    <a:pt x="1953" y="1953"/>
                  </a:lnTo>
                  <a:lnTo>
                    <a:pt x="2088" y="1785"/>
                  </a:lnTo>
                  <a:lnTo>
                    <a:pt x="2189" y="1583"/>
                  </a:lnTo>
                  <a:lnTo>
                    <a:pt x="2256" y="1313"/>
                  </a:lnTo>
                  <a:lnTo>
                    <a:pt x="2256" y="1145"/>
                  </a:lnTo>
                  <a:lnTo>
                    <a:pt x="2223" y="943"/>
                  </a:lnTo>
                  <a:lnTo>
                    <a:pt x="2189" y="707"/>
                  </a:lnTo>
                  <a:lnTo>
                    <a:pt x="2088" y="505"/>
                  </a:lnTo>
                  <a:lnTo>
                    <a:pt x="1987" y="303"/>
                  </a:lnTo>
                  <a:lnTo>
                    <a:pt x="1852" y="169"/>
                  </a:lnTo>
                  <a:lnTo>
                    <a:pt x="1684" y="68"/>
                  </a:lnTo>
                  <a:lnTo>
                    <a:pt x="1516" y="68"/>
                  </a:lnTo>
                  <a:lnTo>
                    <a:pt x="1347" y="34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2400" bIns="324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hape 1010"/>
            <p:cNvSpPr/>
            <p:nvPr/>
          </p:nvSpPr>
          <p:spPr>
            <a:xfrm>
              <a:off x="909360" y="43164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8" h="1045">
                  <a:moveTo>
                    <a:pt x="506" y="1"/>
                  </a:moveTo>
                  <a:lnTo>
                    <a:pt x="371" y="34"/>
                  </a:lnTo>
                  <a:lnTo>
                    <a:pt x="135" y="34"/>
                  </a:lnTo>
                  <a:lnTo>
                    <a:pt x="102" y="68"/>
                  </a:lnTo>
                  <a:lnTo>
                    <a:pt x="34" y="68"/>
                  </a:lnTo>
                  <a:lnTo>
                    <a:pt x="1" y="135"/>
                  </a:lnTo>
                  <a:lnTo>
                    <a:pt x="1" y="169"/>
                  </a:lnTo>
                  <a:lnTo>
                    <a:pt x="34" y="203"/>
                  </a:lnTo>
                  <a:lnTo>
                    <a:pt x="68" y="203"/>
                  </a:lnTo>
                  <a:lnTo>
                    <a:pt x="68" y="607"/>
                  </a:lnTo>
                  <a:lnTo>
                    <a:pt x="169" y="977"/>
                  </a:lnTo>
                  <a:lnTo>
                    <a:pt x="203" y="1044"/>
                  </a:lnTo>
                  <a:lnTo>
                    <a:pt x="270" y="1044"/>
                  </a:lnTo>
                  <a:lnTo>
                    <a:pt x="337" y="1011"/>
                  </a:lnTo>
                  <a:lnTo>
                    <a:pt x="337" y="943"/>
                  </a:lnTo>
                  <a:lnTo>
                    <a:pt x="304" y="573"/>
                  </a:lnTo>
                  <a:lnTo>
                    <a:pt x="371" y="607"/>
                  </a:lnTo>
                  <a:lnTo>
                    <a:pt x="472" y="573"/>
                  </a:lnTo>
                  <a:lnTo>
                    <a:pt x="573" y="539"/>
                  </a:lnTo>
                  <a:lnTo>
                    <a:pt x="607" y="506"/>
                  </a:lnTo>
                  <a:lnTo>
                    <a:pt x="607" y="472"/>
                  </a:lnTo>
                  <a:lnTo>
                    <a:pt x="573" y="405"/>
                  </a:lnTo>
                  <a:lnTo>
                    <a:pt x="506" y="405"/>
                  </a:lnTo>
                  <a:lnTo>
                    <a:pt x="337" y="438"/>
                  </a:lnTo>
                  <a:lnTo>
                    <a:pt x="270" y="472"/>
                  </a:lnTo>
                  <a:lnTo>
                    <a:pt x="236" y="236"/>
                  </a:lnTo>
                  <a:lnTo>
                    <a:pt x="371" y="236"/>
                  </a:lnTo>
                  <a:lnTo>
                    <a:pt x="539" y="203"/>
                  </a:lnTo>
                  <a:lnTo>
                    <a:pt x="607" y="169"/>
                  </a:lnTo>
                  <a:lnTo>
                    <a:pt x="674" y="135"/>
                  </a:lnTo>
                  <a:lnTo>
                    <a:pt x="708" y="102"/>
                  </a:lnTo>
                  <a:lnTo>
                    <a:pt x="708" y="68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hape 1011"/>
            <p:cNvSpPr/>
            <p:nvPr/>
          </p:nvSpPr>
          <p:spPr>
            <a:xfrm>
              <a:off x="753840" y="9684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76" h="876">
                  <a:moveTo>
                    <a:pt x="405" y="0"/>
                  </a:moveTo>
                  <a:lnTo>
                    <a:pt x="270" y="135"/>
                  </a:lnTo>
                  <a:lnTo>
                    <a:pt x="169" y="270"/>
                  </a:lnTo>
                  <a:lnTo>
                    <a:pt x="1" y="606"/>
                  </a:lnTo>
                  <a:lnTo>
                    <a:pt x="1" y="640"/>
                  </a:lnTo>
                  <a:lnTo>
                    <a:pt x="1" y="674"/>
                  </a:lnTo>
                  <a:lnTo>
                    <a:pt x="35" y="707"/>
                  </a:lnTo>
                  <a:lnTo>
                    <a:pt x="102" y="741"/>
                  </a:lnTo>
                  <a:lnTo>
                    <a:pt x="338" y="741"/>
                  </a:lnTo>
                  <a:lnTo>
                    <a:pt x="573" y="707"/>
                  </a:lnTo>
                  <a:lnTo>
                    <a:pt x="573" y="808"/>
                  </a:lnTo>
                  <a:lnTo>
                    <a:pt x="607" y="876"/>
                  </a:lnTo>
                  <a:lnTo>
                    <a:pt x="708" y="876"/>
                  </a:lnTo>
                  <a:lnTo>
                    <a:pt x="708" y="775"/>
                  </a:lnTo>
                  <a:lnTo>
                    <a:pt x="708" y="674"/>
                  </a:lnTo>
                  <a:lnTo>
                    <a:pt x="775" y="674"/>
                  </a:lnTo>
                  <a:lnTo>
                    <a:pt x="775" y="606"/>
                  </a:lnTo>
                  <a:lnTo>
                    <a:pt x="775" y="539"/>
                  </a:lnTo>
                  <a:lnTo>
                    <a:pt x="708" y="505"/>
                  </a:lnTo>
                  <a:lnTo>
                    <a:pt x="742" y="337"/>
                  </a:lnTo>
                  <a:lnTo>
                    <a:pt x="742" y="270"/>
                  </a:lnTo>
                  <a:lnTo>
                    <a:pt x="708" y="303"/>
                  </a:lnTo>
                  <a:lnTo>
                    <a:pt x="607" y="505"/>
                  </a:lnTo>
                  <a:lnTo>
                    <a:pt x="237" y="539"/>
                  </a:lnTo>
                  <a:lnTo>
                    <a:pt x="371" y="303"/>
                  </a:lnTo>
                  <a:lnTo>
                    <a:pt x="472" y="68"/>
                  </a:lnTo>
                  <a:lnTo>
                    <a:pt x="472" y="34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9760" bIns="-597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hape 1012"/>
            <p:cNvSpPr/>
            <p:nvPr/>
          </p:nvSpPr>
          <p:spPr>
            <a:xfrm>
              <a:off x="1033200" y="36648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23" h="2459">
                  <a:moveTo>
                    <a:pt x="1785" y="0"/>
                  </a:moveTo>
                  <a:lnTo>
                    <a:pt x="1313" y="68"/>
                  </a:lnTo>
                  <a:lnTo>
                    <a:pt x="707" y="68"/>
                  </a:lnTo>
                  <a:lnTo>
                    <a:pt x="101" y="101"/>
                  </a:lnTo>
                  <a:lnTo>
                    <a:pt x="34" y="135"/>
                  </a:lnTo>
                  <a:lnTo>
                    <a:pt x="0" y="202"/>
                  </a:lnTo>
                  <a:lnTo>
                    <a:pt x="34" y="236"/>
                  </a:lnTo>
                  <a:lnTo>
                    <a:pt x="68" y="303"/>
                  </a:lnTo>
                  <a:lnTo>
                    <a:pt x="34" y="505"/>
                  </a:lnTo>
                  <a:lnTo>
                    <a:pt x="34" y="741"/>
                  </a:lnTo>
                  <a:lnTo>
                    <a:pt x="68" y="1179"/>
                  </a:lnTo>
                  <a:lnTo>
                    <a:pt x="68" y="1717"/>
                  </a:lnTo>
                  <a:lnTo>
                    <a:pt x="68" y="2020"/>
                  </a:lnTo>
                  <a:lnTo>
                    <a:pt x="101" y="2290"/>
                  </a:lnTo>
                  <a:lnTo>
                    <a:pt x="68" y="2323"/>
                  </a:lnTo>
                  <a:lnTo>
                    <a:pt x="101" y="2391"/>
                  </a:lnTo>
                  <a:lnTo>
                    <a:pt x="135" y="2458"/>
                  </a:lnTo>
                  <a:lnTo>
                    <a:pt x="202" y="2458"/>
                  </a:lnTo>
                  <a:lnTo>
                    <a:pt x="808" y="2424"/>
                  </a:lnTo>
                  <a:lnTo>
                    <a:pt x="1448" y="2391"/>
                  </a:lnTo>
                  <a:lnTo>
                    <a:pt x="1852" y="2391"/>
                  </a:lnTo>
                  <a:lnTo>
                    <a:pt x="2054" y="2323"/>
                  </a:lnTo>
                  <a:lnTo>
                    <a:pt x="2121" y="2290"/>
                  </a:lnTo>
                  <a:lnTo>
                    <a:pt x="2222" y="2222"/>
                  </a:lnTo>
                  <a:lnTo>
                    <a:pt x="2121" y="2155"/>
                  </a:lnTo>
                  <a:lnTo>
                    <a:pt x="2020" y="2121"/>
                  </a:lnTo>
                  <a:lnTo>
                    <a:pt x="1852" y="2121"/>
                  </a:lnTo>
                  <a:lnTo>
                    <a:pt x="1414" y="2155"/>
                  </a:lnTo>
                  <a:lnTo>
                    <a:pt x="303" y="2222"/>
                  </a:lnTo>
                  <a:lnTo>
                    <a:pt x="303" y="1953"/>
                  </a:lnTo>
                  <a:lnTo>
                    <a:pt x="303" y="1684"/>
                  </a:lnTo>
                  <a:lnTo>
                    <a:pt x="270" y="1179"/>
                  </a:lnTo>
                  <a:lnTo>
                    <a:pt x="270" y="741"/>
                  </a:lnTo>
                  <a:lnTo>
                    <a:pt x="270" y="505"/>
                  </a:lnTo>
                  <a:lnTo>
                    <a:pt x="202" y="303"/>
                  </a:lnTo>
                  <a:lnTo>
                    <a:pt x="842" y="303"/>
                  </a:lnTo>
                  <a:lnTo>
                    <a:pt x="1482" y="270"/>
                  </a:lnTo>
                  <a:lnTo>
                    <a:pt x="1886" y="236"/>
                  </a:lnTo>
                  <a:lnTo>
                    <a:pt x="2088" y="169"/>
                  </a:lnTo>
                  <a:lnTo>
                    <a:pt x="2155" y="135"/>
                  </a:lnTo>
                  <a:lnTo>
                    <a:pt x="2222" y="68"/>
                  </a:lnTo>
                  <a:lnTo>
                    <a:pt x="2222" y="34"/>
                  </a:lnTo>
                  <a:lnTo>
                    <a:pt x="2020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hape 1013"/>
            <p:cNvSpPr/>
            <p:nvPr/>
          </p:nvSpPr>
          <p:spPr>
            <a:xfrm>
              <a:off x="804600" y="203040"/>
              <a:ext cx="20520" cy="153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04" h="2324">
                  <a:moveTo>
                    <a:pt x="34" y="1"/>
                  </a:moveTo>
                  <a:lnTo>
                    <a:pt x="34" y="34"/>
                  </a:lnTo>
                  <a:lnTo>
                    <a:pt x="0" y="304"/>
                  </a:lnTo>
                  <a:lnTo>
                    <a:pt x="0" y="539"/>
                  </a:lnTo>
                  <a:lnTo>
                    <a:pt x="0" y="1078"/>
                  </a:lnTo>
                  <a:lnTo>
                    <a:pt x="34" y="1684"/>
                  </a:lnTo>
                  <a:lnTo>
                    <a:pt x="101" y="1987"/>
                  </a:lnTo>
                  <a:lnTo>
                    <a:pt x="169" y="2290"/>
                  </a:lnTo>
                  <a:lnTo>
                    <a:pt x="202" y="2324"/>
                  </a:lnTo>
                  <a:lnTo>
                    <a:pt x="303" y="2324"/>
                  </a:lnTo>
                  <a:lnTo>
                    <a:pt x="303" y="2256"/>
                  </a:lnTo>
                  <a:lnTo>
                    <a:pt x="303" y="1953"/>
                  </a:lnTo>
                  <a:lnTo>
                    <a:pt x="303" y="1650"/>
                  </a:lnTo>
                  <a:lnTo>
                    <a:pt x="236" y="1078"/>
                  </a:lnTo>
                  <a:lnTo>
                    <a:pt x="202" y="539"/>
                  </a:lnTo>
                  <a:lnTo>
                    <a:pt x="169" y="270"/>
                  </a:lnTo>
                  <a:lnTo>
                    <a:pt x="135" y="34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37080" bIns="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hape 1014"/>
            <p:cNvSpPr/>
            <p:nvPr/>
          </p:nvSpPr>
          <p:spPr>
            <a:xfrm>
              <a:off x="842760" y="368280"/>
              <a:ext cx="172800" cy="168120"/>
            </a:xfrm>
            <a:custGeom>
              <a:avLst/>
              <a:gdLst/>
              <a:ahLst/>
              <a:rect l="l" t="t" r="r" b="b"/>
              <a:pathLst>
                <a:path w="2594" h="2527">
                  <a:moveTo>
                    <a:pt x="2290" y="237"/>
                  </a:moveTo>
                  <a:lnTo>
                    <a:pt x="2324" y="674"/>
                  </a:lnTo>
                  <a:lnTo>
                    <a:pt x="2324" y="1078"/>
                  </a:lnTo>
                  <a:lnTo>
                    <a:pt x="2324" y="1684"/>
                  </a:lnTo>
                  <a:lnTo>
                    <a:pt x="2324" y="1987"/>
                  </a:lnTo>
                  <a:lnTo>
                    <a:pt x="2357" y="2290"/>
                  </a:lnTo>
                  <a:lnTo>
                    <a:pt x="2223" y="2223"/>
                  </a:lnTo>
                  <a:lnTo>
                    <a:pt x="2122" y="2156"/>
                  </a:lnTo>
                  <a:lnTo>
                    <a:pt x="1819" y="2156"/>
                  </a:lnTo>
                  <a:lnTo>
                    <a:pt x="1246" y="2189"/>
                  </a:lnTo>
                  <a:lnTo>
                    <a:pt x="775" y="2189"/>
                  </a:lnTo>
                  <a:lnTo>
                    <a:pt x="539" y="2223"/>
                  </a:lnTo>
                  <a:lnTo>
                    <a:pt x="304" y="2257"/>
                  </a:lnTo>
                  <a:lnTo>
                    <a:pt x="236" y="1078"/>
                  </a:lnTo>
                  <a:lnTo>
                    <a:pt x="236" y="742"/>
                  </a:lnTo>
                  <a:lnTo>
                    <a:pt x="169" y="439"/>
                  </a:lnTo>
                  <a:lnTo>
                    <a:pt x="236" y="439"/>
                  </a:lnTo>
                  <a:lnTo>
                    <a:pt x="270" y="405"/>
                  </a:lnTo>
                  <a:lnTo>
                    <a:pt x="304" y="371"/>
                  </a:lnTo>
                  <a:lnTo>
                    <a:pt x="1347" y="338"/>
                  </a:lnTo>
                  <a:lnTo>
                    <a:pt x="1819" y="304"/>
                  </a:lnTo>
                  <a:lnTo>
                    <a:pt x="2054" y="270"/>
                  </a:lnTo>
                  <a:lnTo>
                    <a:pt x="2290" y="237"/>
                  </a:lnTo>
                  <a:close/>
                  <a:moveTo>
                    <a:pt x="2357" y="1"/>
                  </a:moveTo>
                  <a:lnTo>
                    <a:pt x="2324" y="35"/>
                  </a:lnTo>
                  <a:lnTo>
                    <a:pt x="2290" y="35"/>
                  </a:lnTo>
                  <a:lnTo>
                    <a:pt x="2290" y="136"/>
                  </a:lnTo>
                  <a:lnTo>
                    <a:pt x="1953" y="102"/>
                  </a:lnTo>
                  <a:lnTo>
                    <a:pt x="1583" y="102"/>
                  </a:lnTo>
                  <a:lnTo>
                    <a:pt x="876" y="169"/>
                  </a:lnTo>
                  <a:lnTo>
                    <a:pt x="270" y="169"/>
                  </a:lnTo>
                  <a:lnTo>
                    <a:pt x="203" y="203"/>
                  </a:lnTo>
                  <a:lnTo>
                    <a:pt x="135" y="270"/>
                  </a:lnTo>
                  <a:lnTo>
                    <a:pt x="102" y="270"/>
                  </a:lnTo>
                  <a:lnTo>
                    <a:pt x="102" y="237"/>
                  </a:lnTo>
                  <a:lnTo>
                    <a:pt x="68" y="237"/>
                  </a:lnTo>
                  <a:lnTo>
                    <a:pt x="1" y="506"/>
                  </a:lnTo>
                  <a:lnTo>
                    <a:pt x="1" y="742"/>
                  </a:lnTo>
                  <a:lnTo>
                    <a:pt x="68" y="1247"/>
                  </a:lnTo>
                  <a:lnTo>
                    <a:pt x="102" y="2425"/>
                  </a:lnTo>
                  <a:lnTo>
                    <a:pt x="135" y="2492"/>
                  </a:lnTo>
                  <a:lnTo>
                    <a:pt x="203" y="2526"/>
                  </a:lnTo>
                  <a:lnTo>
                    <a:pt x="270" y="2492"/>
                  </a:lnTo>
                  <a:lnTo>
                    <a:pt x="304" y="2459"/>
                  </a:lnTo>
                  <a:lnTo>
                    <a:pt x="573" y="2492"/>
                  </a:lnTo>
                  <a:lnTo>
                    <a:pt x="842" y="2492"/>
                  </a:lnTo>
                  <a:lnTo>
                    <a:pt x="1415" y="2459"/>
                  </a:lnTo>
                  <a:lnTo>
                    <a:pt x="1920" y="2459"/>
                  </a:lnTo>
                  <a:lnTo>
                    <a:pt x="2155" y="2425"/>
                  </a:lnTo>
                  <a:lnTo>
                    <a:pt x="2256" y="2358"/>
                  </a:lnTo>
                  <a:lnTo>
                    <a:pt x="2357" y="2290"/>
                  </a:lnTo>
                  <a:lnTo>
                    <a:pt x="2357" y="2324"/>
                  </a:lnTo>
                  <a:lnTo>
                    <a:pt x="2425" y="2358"/>
                  </a:lnTo>
                  <a:lnTo>
                    <a:pt x="2492" y="2358"/>
                  </a:lnTo>
                  <a:lnTo>
                    <a:pt x="2526" y="2290"/>
                  </a:lnTo>
                  <a:lnTo>
                    <a:pt x="2559" y="1987"/>
                  </a:lnTo>
                  <a:lnTo>
                    <a:pt x="2593" y="1684"/>
                  </a:lnTo>
                  <a:lnTo>
                    <a:pt x="2559" y="1078"/>
                  </a:lnTo>
                  <a:lnTo>
                    <a:pt x="2526" y="540"/>
                  </a:lnTo>
                  <a:lnTo>
                    <a:pt x="2492" y="304"/>
                  </a:lnTo>
                  <a:lnTo>
                    <a:pt x="2425" y="35"/>
                  </a:lnTo>
                  <a:lnTo>
                    <a:pt x="2391" y="35"/>
                  </a:lnTo>
                  <a:lnTo>
                    <a:pt x="235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51120" bIns="511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hape 1015"/>
            <p:cNvSpPr/>
            <p:nvPr/>
          </p:nvSpPr>
          <p:spPr>
            <a:xfrm>
              <a:off x="1287360" y="425160"/>
              <a:ext cx="52200" cy="45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75" h="708">
                  <a:moveTo>
                    <a:pt x="573" y="1"/>
                  </a:moveTo>
                  <a:lnTo>
                    <a:pt x="506" y="34"/>
                  </a:lnTo>
                  <a:lnTo>
                    <a:pt x="472" y="102"/>
                  </a:lnTo>
                  <a:lnTo>
                    <a:pt x="438" y="236"/>
                  </a:lnTo>
                  <a:lnTo>
                    <a:pt x="438" y="270"/>
                  </a:lnTo>
                  <a:lnTo>
                    <a:pt x="203" y="304"/>
                  </a:lnTo>
                  <a:lnTo>
                    <a:pt x="169" y="135"/>
                  </a:lnTo>
                  <a:lnTo>
                    <a:pt x="135" y="102"/>
                  </a:lnTo>
                  <a:lnTo>
                    <a:pt x="68" y="102"/>
                  </a:lnTo>
                  <a:lnTo>
                    <a:pt x="68" y="135"/>
                  </a:lnTo>
                  <a:lnTo>
                    <a:pt x="34" y="337"/>
                  </a:lnTo>
                  <a:lnTo>
                    <a:pt x="1" y="371"/>
                  </a:lnTo>
                  <a:lnTo>
                    <a:pt x="34" y="438"/>
                  </a:lnTo>
                  <a:lnTo>
                    <a:pt x="68" y="640"/>
                  </a:lnTo>
                  <a:lnTo>
                    <a:pt x="102" y="674"/>
                  </a:lnTo>
                  <a:lnTo>
                    <a:pt x="169" y="674"/>
                  </a:lnTo>
                  <a:lnTo>
                    <a:pt x="203" y="640"/>
                  </a:lnTo>
                  <a:lnTo>
                    <a:pt x="236" y="573"/>
                  </a:lnTo>
                  <a:lnTo>
                    <a:pt x="203" y="472"/>
                  </a:lnTo>
                  <a:lnTo>
                    <a:pt x="472" y="472"/>
                  </a:lnTo>
                  <a:lnTo>
                    <a:pt x="506" y="607"/>
                  </a:lnTo>
                  <a:lnTo>
                    <a:pt x="506" y="640"/>
                  </a:lnTo>
                  <a:lnTo>
                    <a:pt x="573" y="708"/>
                  </a:lnTo>
                  <a:lnTo>
                    <a:pt x="607" y="708"/>
                  </a:lnTo>
                  <a:lnTo>
                    <a:pt x="640" y="674"/>
                  </a:lnTo>
                  <a:lnTo>
                    <a:pt x="640" y="640"/>
                  </a:lnTo>
                  <a:lnTo>
                    <a:pt x="674" y="573"/>
                  </a:lnTo>
                  <a:lnTo>
                    <a:pt x="640" y="438"/>
                  </a:lnTo>
                  <a:lnTo>
                    <a:pt x="741" y="371"/>
                  </a:lnTo>
                  <a:lnTo>
                    <a:pt x="775" y="304"/>
                  </a:lnTo>
                  <a:lnTo>
                    <a:pt x="775" y="270"/>
                  </a:lnTo>
                  <a:lnTo>
                    <a:pt x="741" y="236"/>
                  </a:lnTo>
                  <a:lnTo>
                    <a:pt x="674" y="203"/>
                  </a:lnTo>
                  <a:lnTo>
                    <a:pt x="607" y="236"/>
                  </a:lnTo>
                  <a:lnTo>
                    <a:pt x="607" y="135"/>
                  </a:lnTo>
                  <a:lnTo>
                    <a:pt x="640" y="68"/>
                  </a:lnTo>
                  <a:lnTo>
                    <a:pt x="640" y="34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0920" bIns="-709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hape 1016"/>
            <p:cNvSpPr/>
            <p:nvPr/>
          </p:nvSpPr>
          <p:spPr>
            <a:xfrm>
              <a:off x="1090440" y="42516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1" h="910">
                  <a:moveTo>
                    <a:pt x="371" y="1"/>
                  </a:moveTo>
                  <a:lnTo>
                    <a:pt x="270" y="34"/>
                  </a:lnTo>
                  <a:lnTo>
                    <a:pt x="169" y="135"/>
                  </a:lnTo>
                  <a:lnTo>
                    <a:pt x="68" y="203"/>
                  </a:lnTo>
                  <a:lnTo>
                    <a:pt x="34" y="337"/>
                  </a:lnTo>
                  <a:lnTo>
                    <a:pt x="1" y="472"/>
                  </a:lnTo>
                  <a:lnTo>
                    <a:pt x="34" y="573"/>
                  </a:lnTo>
                  <a:lnTo>
                    <a:pt x="68" y="674"/>
                  </a:lnTo>
                  <a:lnTo>
                    <a:pt x="135" y="741"/>
                  </a:lnTo>
                  <a:lnTo>
                    <a:pt x="203" y="809"/>
                  </a:lnTo>
                  <a:lnTo>
                    <a:pt x="304" y="842"/>
                  </a:lnTo>
                  <a:lnTo>
                    <a:pt x="405" y="876"/>
                  </a:lnTo>
                  <a:lnTo>
                    <a:pt x="506" y="876"/>
                  </a:lnTo>
                  <a:lnTo>
                    <a:pt x="607" y="809"/>
                  </a:lnTo>
                  <a:lnTo>
                    <a:pt x="607" y="876"/>
                  </a:lnTo>
                  <a:lnTo>
                    <a:pt x="640" y="910"/>
                  </a:lnTo>
                  <a:lnTo>
                    <a:pt x="674" y="910"/>
                  </a:lnTo>
                  <a:lnTo>
                    <a:pt x="708" y="876"/>
                  </a:lnTo>
                  <a:lnTo>
                    <a:pt x="708" y="842"/>
                  </a:lnTo>
                  <a:lnTo>
                    <a:pt x="708" y="741"/>
                  </a:lnTo>
                  <a:lnTo>
                    <a:pt x="708" y="607"/>
                  </a:lnTo>
                  <a:lnTo>
                    <a:pt x="708" y="573"/>
                  </a:lnTo>
                  <a:lnTo>
                    <a:pt x="943" y="539"/>
                  </a:lnTo>
                  <a:lnTo>
                    <a:pt x="977" y="506"/>
                  </a:lnTo>
                  <a:lnTo>
                    <a:pt x="1011" y="438"/>
                  </a:lnTo>
                  <a:lnTo>
                    <a:pt x="977" y="371"/>
                  </a:lnTo>
                  <a:lnTo>
                    <a:pt x="910" y="337"/>
                  </a:lnTo>
                  <a:lnTo>
                    <a:pt x="674" y="337"/>
                  </a:lnTo>
                  <a:lnTo>
                    <a:pt x="539" y="371"/>
                  </a:lnTo>
                  <a:lnTo>
                    <a:pt x="438" y="438"/>
                  </a:lnTo>
                  <a:lnTo>
                    <a:pt x="405" y="472"/>
                  </a:lnTo>
                  <a:lnTo>
                    <a:pt x="438" y="506"/>
                  </a:lnTo>
                  <a:lnTo>
                    <a:pt x="607" y="539"/>
                  </a:lnTo>
                  <a:lnTo>
                    <a:pt x="607" y="573"/>
                  </a:lnTo>
                  <a:lnTo>
                    <a:pt x="607" y="640"/>
                  </a:lnTo>
                  <a:lnTo>
                    <a:pt x="506" y="674"/>
                  </a:lnTo>
                  <a:lnTo>
                    <a:pt x="405" y="674"/>
                  </a:lnTo>
                  <a:lnTo>
                    <a:pt x="304" y="640"/>
                  </a:lnTo>
                  <a:lnTo>
                    <a:pt x="236" y="607"/>
                  </a:lnTo>
                  <a:lnTo>
                    <a:pt x="203" y="539"/>
                  </a:lnTo>
                  <a:lnTo>
                    <a:pt x="203" y="438"/>
                  </a:lnTo>
                  <a:lnTo>
                    <a:pt x="203" y="337"/>
                  </a:lnTo>
                  <a:lnTo>
                    <a:pt x="270" y="270"/>
                  </a:lnTo>
                  <a:lnTo>
                    <a:pt x="337" y="203"/>
                  </a:lnTo>
                  <a:lnTo>
                    <a:pt x="539" y="135"/>
                  </a:lnTo>
                  <a:lnTo>
                    <a:pt x="741" y="102"/>
                  </a:lnTo>
                  <a:lnTo>
                    <a:pt x="741" y="68"/>
                  </a:lnTo>
                  <a:lnTo>
                    <a:pt x="607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56520" bIns="-565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hape 1017"/>
            <p:cNvSpPr/>
            <p:nvPr/>
          </p:nvSpPr>
          <p:spPr>
            <a:xfrm>
              <a:off x="1385640" y="59508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76" h="674">
                  <a:moveTo>
                    <a:pt x="102" y="0"/>
                  </a:moveTo>
                  <a:lnTo>
                    <a:pt x="35" y="34"/>
                  </a:lnTo>
                  <a:lnTo>
                    <a:pt x="35" y="101"/>
                  </a:lnTo>
                  <a:lnTo>
                    <a:pt x="35" y="135"/>
                  </a:lnTo>
                  <a:lnTo>
                    <a:pt x="1" y="270"/>
                  </a:lnTo>
                  <a:lnTo>
                    <a:pt x="1" y="573"/>
                  </a:lnTo>
                  <a:lnTo>
                    <a:pt x="35" y="640"/>
                  </a:lnTo>
                  <a:lnTo>
                    <a:pt x="102" y="674"/>
                  </a:lnTo>
                  <a:lnTo>
                    <a:pt x="136" y="640"/>
                  </a:lnTo>
                  <a:lnTo>
                    <a:pt x="203" y="606"/>
                  </a:lnTo>
                  <a:lnTo>
                    <a:pt x="203" y="371"/>
                  </a:lnTo>
                  <a:lnTo>
                    <a:pt x="405" y="573"/>
                  </a:lnTo>
                  <a:lnTo>
                    <a:pt x="472" y="606"/>
                  </a:lnTo>
                  <a:lnTo>
                    <a:pt x="573" y="640"/>
                  </a:lnTo>
                  <a:lnTo>
                    <a:pt x="674" y="640"/>
                  </a:lnTo>
                  <a:lnTo>
                    <a:pt x="742" y="573"/>
                  </a:lnTo>
                  <a:lnTo>
                    <a:pt x="775" y="505"/>
                  </a:lnTo>
                  <a:lnTo>
                    <a:pt x="775" y="438"/>
                  </a:lnTo>
                  <a:lnTo>
                    <a:pt x="742" y="270"/>
                  </a:lnTo>
                  <a:lnTo>
                    <a:pt x="708" y="135"/>
                  </a:lnTo>
                  <a:lnTo>
                    <a:pt x="708" y="68"/>
                  </a:lnTo>
                  <a:lnTo>
                    <a:pt x="641" y="34"/>
                  </a:lnTo>
                  <a:lnTo>
                    <a:pt x="607" y="34"/>
                  </a:lnTo>
                  <a:lnTo>
                    <a:pt x="540" y="68"/>
                  </a:lnTo>
                  <a:lnTo>
                    <a:pt x="506" y="169"/>
                  </a:lnTo>
                  <a:lnTo>
                    <a:pt x="506" y="236"/>
                  </a:lnTo>
                  <a:lnTo>
                    <a:pt x="573" y="438"/>
                  </a:lnTo>
                  <a:lnTo>
                    <a:pt x="506" y="404"/>
                  </a:lnTo>
                  <a:lnTo>
                    <a:pt x="439" y="337"/>
                  </a:lnTo>
                  <a:lnTo>
                    <a:pt x="203" y="34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-72360" bIns="-72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hape 1018"/>
            <p:cNvSpPr/>
            <p:nvPr/>
          </p:nvSpPr>
          <p:spPr>
            <a:xfrm>
              <a:off x="1215720" y="357120"/>
              <a:ext cx="172800" cy="161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593" h="2425">
                  <a:moveTo>
                    <a:pt x="1785" y="1"/>
                  </a:moveTo>
                  <a:lnTo>
                    <a:pt x="1280" y="68"/>
                  </a:lnTo>
                  <a:lnTo>
                    <a:pt x="707" y="102"/>
                  </a:lnTo>
                  <a:lnTo>
                    <a:pt x="135" y="203"/>
                  </a:lnTo>
                  <a:lnTo>
                    <a:pt x="101" y="135"/>
                  </a:lnTo>
                  <a:lnTo>
                    <a:pt x="101" y="102"/>
                  </a:lnTo>
                  <a:lnTo>
                    <a:pt x="34" y="102"/>
                  </a:lnTo>
                  <a:lnTo>
                    <a:pt x="0" y="135"/>
                  </a:lnTo>
                  <a:lnTo>
                    <a:pt x="0" y="438"/>
                  </a:lnTo>
                  <a:lnTo>
                    <a:pt x="0" y="741"/>
                  </a:lnTo>
                  <a:lnTo>
                    <a:pt x="34" y="1347"/>
                  </a:lnTo>
                  <a:lnTo>
                    <a:pt x="34" y="1852"/>
                  </a:lnTo>
                  <a:lnTo>
                    <a:pt x="67" y="2122"/>
                  </a:lnTo>
                  <a:lnTo>
                    <a:pt x="101" y="2391"/>
                  </a:lnTo>
                  <a:lnTo>
                    <a:pt x="135" y="2391"/>
                  </a:lnTo>
                  <a:lnTo>
                    <a:pt x="135" y="2425"/>
                  </a:lnTo>
                  <a:lnTo>
                    <a:pt x="202" y="2391"/>
                  </a:lnTo>
                  <a:lnTo>
                    <a:pt x="1313" y="2391"/>
                  </a:lnTo>
                  <a:lnTo>
                    <a:pt x="1818" y="2357"/>
                  </a:lnTo>
                  <a:lnTo>
                    <a:pt x="2088" y="2324"/>
                  </a:lnTo>
                  <a:lnTo>
                    <a:pt x="2323" y="2290"/>
                  </a:lnTo>
                  <a:lnTo>
                    <a:pt x="2357" y="2324"/>
                  </a:lnTo>
                  <a:lnTo>
                    <a:pt x="2391" y="2324"/>
                  </a:lnTo>
                  <a:lnTo>
                    <a:pt x="2492" y="2290"/>
                  </a:lnTo>
                  <a:lnTo>
                    <a:pt x="2559" y="2189"/>
                  </a:lnTo>
                  <a:lnTo>
                    <a:pt x="2559" y="2088"/>
                  </a:lnTo>
                  <a:lnTo>
                    <a:pt x="2593" y="1953"/>
                  </a:lnTo>
                  <a:lnTo>
                    <a:pt x="2559" y="1718"/>
                  </a:lnTo>
                  <a:lnTo>
                    <a:pt x="2525" y="1482"/>
                  </a:lnTo>
                  <a:lnTo>
                    <a:pt x="2525" y="741"/>
                  </a:lnTo>
                  <a:lnTo>
                    <a:pt x="2458" y="405"/>
                  </a:lnTo>
                  <a:lnTo>
                    <a:pt x="2391" y="236"/>
                  </a:lnTo>
                  <a:lnTo>
                    <a:pt x="2323" y="102"/>
                  </a:lnTo>
                  <a:lnTo>
                    <a:pt x="2290" y="102"/>
                  </a:lnTo>
                  <a:lnTo>
                    <a:pt x="2256" y="203"/>
                  </a:lnTo>
                  <a:lnTo>
                    <a:pt x="2256" y="337"/>
                  </a:lnTo>
                  <a:lnTo>
                    <a:pt x="2256" y="607"/>
                  </a:lnTo>
                  <a:lnTo>
                    <a:pt x="2290" y="1145"/>
                  </a:lnTo>
                  <a:lnTo>
                    <a:pt x="2323" y="1650"/>
                  </a:lnTo>
                  <a:lnTo>
                    <a:pt x="2323" y="2155"/>
                  </a:lnTo>
                  <a:lnTo>
                    <a:pt x="2088" y="2122"/>
                  </a:lnTo>
                  <a:lnTo>
                    <a:pt x="1818" y="2088"/>
                  </a:lnTo>
                  <a:lnTo>
                    <a:pt x="1280" y="2088"/>
                  </a:lnTo>
                  <a:lnTo>
                    <a:pt x="269" y="2189"/>
                  </a:lnTo>
                  <a:lnTo>
                    <a:pt x="236" y="2189"/>
                  </a:lnTo>
                  <a:lnTo>
                    <a:pt x="269" y="1920"/>
                  </a:lnTo>
                  <a:lnTo>
                    <a:pt x="269" y="1684"/>
                  </a:lnTo>
                  <a:lnTo>
                    <a:pt x="236" y="1145"/>
                  </a:lnTo>
                  <a:lnTo>
                    <a:pt x="202" y="775"/>
                  </a:lnTo>
                  <a:lnTo>
                    <a:pt x="168" y="405"/>
                  </a:lnTo>
                  <a:lnTo>
                    <a:pt x="808" y="337"/>
                  </a:lnTo>
                  <a:lnTo>
                    <a:pt x="1448" y="270"/>
                  </a:lnTo>
                  <a:lnTo>
                    <a:pt x="1886" y="236"/>
                  </a:lnTo>
                  <a:lnTo>
                    <a:pt x="2088" y="203"/>
                  </a:lnTo>
                  <a:lnTo>
                    <a:pt x="2290" y="102"/>
                  </a:lnTo>
                  <a:lnTo>
                    <a:pt x="2290" y="68"/>
                  </a:lnTo>
                  <a:lnTo>
                    <a:pt x="2155" y="34"/>
                  </a:lnTo>
                  <a:lnTo>
                    <a:pt x="2054" y="1"/>
                  </a:lnTo>
                  <a:close/>
                </a:path>
              </a:pathLst>
            </a:custGeom>
            <a:solidFill>
              <a:srgbClr val="bd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000" rIns="117000" tIns="45000" bIns="45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31840" y="982800"/>
            <a:ext cx="6880320" cy="777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131840" y="1903320"/>
            <a:ext cx="6880320" cy="4664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C:\Users\Юлия\Desktop\7klass\Barbara_Krafft_-_Porträt_Wolfgang_Amadeus_Mozart_(1819).jp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3241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C:\Users\Юлия\Desktop\7klass\bcd72ac00b9a.jpg"/>
          <p:cNvPicPr/>
          <p:nvPr/>
        </p:nvPicPr>
        <p:blipFill>
          <a:blip r:embed="rId2"/>
          <a:stretch/>
        </p:blipFill>
        <p:spPr>
          <a:xfrm>
            <a:off x="5106960" y="2637000"/>
            <a:ext cx="4037040" cy="2560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C:\Users\Юлия\Desktop\7klass\arnold00_91446.jpg"/>
          <p:cNvPicPr/>
          <p:nvPr/>
        </p:nvPicPr>
        <p:blipFill>
          <a:blip r:embed="rId3"/>
          <a:stretch/>
        </p:blipFill>
        <p:spPr>
          <a:xfrm>
            <a:off x="1403280" y="907920"/>
            <a:ext cx="4537080" cy="302436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879960" cy="77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776"/>
                </a:solidFill>
                <a:latin typeface="Amatic SC"/>
                <a:ea typeface="Amatic SC"/>
              </a:rPr>
              <a:t>berühmte Persönlichkei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76720" y="5229360"/>
            <a:ext cx="4470480" cy="162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Heidi K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Angela Mer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Wolfgang Amadeus Moz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Arnold Schwarzene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0" y="4879440"/>
            <a:ext cx="5076720" cy="1978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Politikerin, erste Bundeskanzlerin Deutsc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Komponist, musikalisches Wunderk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deutsche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c3e50"/>
                </a:solidFill>
                <a:latin typeface="Merriweather"/>
              </a:rPr>
              <a:t>Schauspieler, Politi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C:\Users\Юлия\Desktop\7klass\AM_Juli_2010_-_3zu4.jpg"/>
          <p:cNvPicPr/>
          <p:nvPr/>
        </p:nvPicPr>
        <p:blipFill>
          <a:blip r:embed="rId4"/>
          <a:stretch/>
        </p:blipFill>
        <p:spPr>
          <a:xfrm>
            <a:off x="0" y="907920"/>
            <a:ext cx="2781360" cy="3708360"/>
          </a:xfrm>
          <a:prstGeom prst="rect">
            <a:avLst/>
          </a:prstGeom>
          <a:ln w="0">
            <a:noFill/>
          </a:ln>
        </p:spPr>
      </p:pic>
      <p:sp>
        <p:nvSpPr>
          <p:cNvPr id="705" name="Прямоугольник 8"/>
          <p:cNvSpPr/>
          <p:nvPr/>
        </p:nvSpPr>
        <p:spPr>
          <a:xfrm>
            <a:off x="6916680" y="660384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Ю.И.Петрина/Северодвинск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31840" y="829800"/>
            <a:ext cx="6880320" cy="77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776"/>
                </a:solidFill>
                <a:latin typeface="Amatic SC"/>
                <a:ea typeface="Amatic SC"/>
              </a:rPr>
              <a:t>Deklination der Adjek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459640" cy="5600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c3e50"/>
                </a:solidFill>
                <a:latin typeface="Merriweather"/>
              </a:rPr>
              <a:t>Смешан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c3e50"/>
                </a:solidFill>
                <a:latin typeface="Merriweather"/>
              </a:rPr>
              <a:t>Слаб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324000" y="2060640"/>
          <a:ext cx="8424720" cy="1189080"/>
        </p:xfrm>
        <a:graphic>
          <a:graphicData uri="http://schemas.openxmlformats.org/drawingml/2006/table">
            <a:tbl>
              <a:tblPr/>
              <a:tblGrid>
                <a:gridCol w="1439640"/>
                <a:gridCol w="2305080"/>
                <a:gridCol w="2158920"/>
                <a:gridCol w="25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 alt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   neu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e    eng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   neu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e    eng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324000" y="4149720"/>
          <a:ext cx="8424720" cy="1798560"/>
        </p:xfrm>
        <a:graphic>
          <a:graphicData uri="http://schemas.openxmlformats.org/drawingml/2006/table">
            <a:tbl>
              <a:tblPr/>
              <a:tblGrid>
                <a:gridCol w="1439640"/>
                <a:gridCol w="1930320"/>
                <a:gridCol w="1684440"/>
                <a:gridCol w="1685880"/>
                <a:gridCol w="168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lt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neu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g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e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warm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ndschu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alt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neu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g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e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warm</a:t>
                      </a: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schu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Прямоугольник 6"/>
          <p:cNvSpPr/>
          <p:nvPr/>
        </p:nvSpPr>
        <p:spPr>
          <a:xfrm>
            <a:off x="6916680" y="660384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Ю.И.Петрина/Северодвинск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880320" cy="77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776"/>
                </a:solidFill>
                <a:latin typeface="Amatic SC"/>
                <a:ea typeface="Amatic SC"/>
              </a:rPr>
              <a:t>Was tragen die Sta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59280" y="3860280"/>
            <a:ext cx="3340080" cy="2737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Merriweather"/>
              </a:rPr>
              <a:t>David Beckham trä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blau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J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brau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Jac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 weiß</a:t>
            </a:r>
            <a:r>
              <a:rPr b="1" lang="de-DE" sz="2000" spc="-1" strike="noStrike">
                <a:solidFill>
                  <a:srgbClr val="ff66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T-Shi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braun</a:t>
            </a:r>
            <a:r>
              <a:rPr b="1" lang="de-DE" sz="2000" spc="-1" strike="noStrike">
                <a:solidFill>
                  <a:srgbClr val="0099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17bbfd"/>
                </a:solidFill>
                <a:latin typeface="Merriweather"/>
              </a:rPr>
              <a:t>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chuhe (P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brau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onnenbrill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59280" y="1267920"/>
            <a:ext cx="3340080" cy="25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b050"/>
                </a:solidFill>
                <a:latin typeface="Merriweather"/>
              </a:rPr>
              <a:t>Tom Cruise träg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schwarz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Anzug 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00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schwarz</a:t>
            </a:r>
            <a:r>
              <a:rPr b="1" lang="de-DE" sz="2000" spc="-1" strike="noStrike">
                <a:solidFill>
                  <a:srgbClr val="ff00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Krawatt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2c3e50"/>
                </a:solidFill>
                <a:latin typeface="Merriweather"/>
              </a:rPr>
              <a:t>e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in weiß</a:t>
            </a:r>
            <a:r>
              <a:rPr b="1" lang="de-DE" sz="2000" spc="-1" strike="noStrike">
                <a:solidFill>
                  <a:srgbClr val="ff66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Hem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legant</a:t>
            </a:r>
            <a:r>
              <a:rPr b="1" lang="de-DE" sz="2000" spc="-1" strike="noStrike">
                <a:solidFill>
                  <a:srgbClr val="0099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chuhe (P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5" descr="Tom%20Cruise"/>
          <p:cNvPicPr/>
          <p:nvPr/>
        </p:nvPicPr>
        <p:blipFill>
          <a:blip r:embed="rId1"/>
          <a:stretch/>
        </p:blipFill>
        <p:spPr>
          <a:xfrm>
            <a:off x="179280" y="907920"/>
            <a:ext cx="2808360" cy="5629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david-beckham-father-hospital"/>
          <p:cNvPicPr/>
          <p:nvPr/>
        </p:nvPicPr>
        <p:blipFill>
          <a:blip r:embed="rId2"/>
          <a:stretch/>
        </p:blipFill>
        <p:spPr>
          <a:xfrm>
            <a:off x="6443640" y="907920"/>
            <a:ext cx="2484360" cy="579132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6"/>
          <p:cNvSpPr/>
          <p:nvPr/>
        </p:nvSpPr>
        <p:spPr>
          <a:xfrm>
            <a:off x="6916680" y="660384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Ю.И.Петрина/Северодвинск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880320" cy="77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776"/>
                </a:solidFill>
                <a:latin typeface="Amatic SC"/>
                <a:ea typeface="Amatic SC"/>
              </a:rPr>
              <a:t>Was tragen die Sta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916000" y="5013000"/>
            <a:ext cx="3168360" cy="1584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Merriweather"/>
              </a:rPr>
              <a:t>Jennifer Lopez trä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schwarz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H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kariert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Ja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weiß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Bl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2916000" y="1052640"/>
            <a:ext cx="3168360" cy="3528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b050"/>
                </a:solidFill>
                <a:latin typeface="Merriweather"/>
              </a:rPr>
              <a:t>Claudia Schiffer träg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chwarz-weiß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Pul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… schwarz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R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geblümt</a:t>
            </a:r>
            <a:r>
              <a:rPr b="1" lang="de-DE" sz="2000" spc="-1" strike="noStrike">
                <a:solidFill>
                  <a:srgbClr val="e40059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chal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schwarz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Tasch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c3e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ein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 schwarz</a:t>
            </a:r>
            <a:r>
              <a:rPr b="1" lang="de-DE" sz="2000" spc="-1" strike="noStrike">
                <a:solidFill>
                  <a:srgbClr val="ff3300"/>
                </a:solidFill>
                <a:latin typeface="Merriweather"/>
              </a:rPr>
              <a:t>… </a:t>
            </a:r>
            <a:r>
              <a:rPr b="1" lang="de-DE" sz="2000" spc="-1" strike="noStrike">
                <a:solidFill>
                  <a:srgbClr val="2c3e50"/>
                </a:solidFill>
                <a:latin typeface="Merriweather"/>
              </a:rPr>
              <a:t>Sonnenbrill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7" descr="Claudia Schiffer The ever-stylish Claudia Schiffer rocks a floral scarf and striped sweater as she does the school run in London."/>
          <p:cNvPicPr/>
          <p:nvPr/>
        </p:nvPicPr>
        <p:blipFill>
          <a:blip r:embed="rId1"/>
          <a:stretch/>
        </p:blipFill>
        <p:spPr>
          <a:xfrm>
            <a:off x="0" y="1484280"/>
            <a:ext cx="2955960" cy="44337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7" descr="Jennifer-Lopez-2011-1"/>
          <p:cNvPicPr/>
          <p:nvPr/>
        </p:nvPicPr>
        <p:blipFill>
          <a:blip r:embed="rId2"/>
          <a:stretch/>
        </p:blipFill>
        <p:spPr>
          <a:xfrm>
            <a:off x="6084720" y="1557360"/>
            <a:ext cx="3059280" cy="458928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6"/>
          <p:cNvSpPr/>
          <p:nvPr/>
        </p:nvSpPr>
        <p:spPr>
          <a:xfrm>
            <a:off x="6916680" y="660384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Ю.И.Петрина/Северодвинск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 Петрина</dc:creator>
  <dc:description/>
  <dc:language>en-US</dc:language>
  <cp:lastModifiedBy>Юлия</cp:lastModifiedBy>
  <dcterms:modified xsi:type="dcterms:W3CDTF">2019-04-29T19:29:04Z</dcterms:modified>
  <cp:revision>26</cp:revision>
  <dc:subject/>
  <dc:title>Слайд 1</dc:title>
</cp:coreProperties>
</file>