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E8A-6C2F-4318-9233-2A5FC2BA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8A8B-52ED-45FA-9286-B822D3E9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578-40BA-4BD1-A91B-E239EDF8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414-2376-424B-B304-71C480CB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8A1-552C-4083-8B42-A0B89FA6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FF8-8762-42B2-9233-251FFAE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433-BCAA-421A-9FFC-D8ACB5BE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FD5-2B7B-46CA-B21C-04316338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C8D-D031-4CEB-84A4-7B9C816B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219-4E36-4063-95F1-9C1E416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CA2-D117-4C73-885D-C4944F1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5BB-6A43-4C4C-BBB8-60FDCBBD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BEB-40F7-40D8-B4D1-4B79F256B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6360" y="1268280"/>
            <a:ext cx="83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Алгорит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учебного исслед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4211640" y="4797360"/>
            <a:ext cx="4176720" cy="13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ОУ «Турунтаевская СОШ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рнышева В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. Выбор темы, нахождение проблемы в общем виде, обозначение объекта интереса. Можно определить как фиксацию интереса, любопытства к какой-либо проблеме или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2. Ориентировочная работа с литературой (бегло, просмотр «по диагонали»), общение на интересующую тему с людьми, имеющими к ней отно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3. Предварительная формулировка цели, задач, обозначение предмета иссле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4. Составление плана поисковой (исследовательской) деятельности (которые затем составят основу сформулированных в работе задач). Очерчивание методологических гра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5. Параллельный поиск теоретической информации (по литературе) и составление схемы возможного экспери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6. Постоянное уточнение целей, задач, плана работы, возможно смена рабочей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парадиг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7.   Уточнение схемы эксперимента (опы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8.   Проведение опыта. Статистическая обрабо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9.   Первичная интерпретация результатов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эксперимента (опыта, наблюд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0. Дополнительное привлеч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теоретического материала для боле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точной и подробной интерпретаци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(глубокая работа с литератур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Алгоритм учебного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1.</a:t>
            </a:r>
            <a:r>
              <a:rPr b="1" lang="ru-RU" sz="24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Вторичная интерпретация, снова работа 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литературой, привлечение необходимо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нформации для подкрепления свое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нтерпре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2. Вычленение наиболее важ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3. Обобщение полученных результатов,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соотнесение их с результатами других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14. Наметка перспективы дальнейших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исследо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7480" y="981000"/>
            <a:ext cx="873036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Между первичной и вторич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формулировкой результато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возможна вторич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статистическая обрабо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и даже дополнительный эксперимент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- получение недостающих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на основе предварительного анали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ambria"/>
              </a:rPr>
              <a:t>результатов экспери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500040"/>
            <a:ext cx="806472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авыки, получаемые учащимися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в результате научно-исследовательск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наблюд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анализир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систематизиро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обобщать знания об объекте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проводить несложные опыты, эксперимен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mbria"/>
              </a:rPr>
              <a:t>оформлять итоговую работу (в виде реферата, доклада 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9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28520"/>
            <a:ext cx="82296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изме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син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абстрагирование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04:32:22Z</dcterms:created>
  <dc:creator>Владелец</dc:creator>
  <dc:description/>
  <dc:language>en-US</dc:language>
  <cp:lastModifiedBy>админ</cp:lastModifiedBy>
  <dcterms:modified xsi:type="dcterms:W3CDTF">2019-04-29T02:01:34Z</dcterms:modified>
  <cp:revision>10</cp:revision>
  <dc:subject/>
  <dc:title>Алгоритм научного исследования</dc:title>
</cp:coreProperties>
</file>