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37D29-146E-476D-99B9-CCFDCFF2F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E350E-AA94-4809-A6BF-DB8FA13FF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EDA7B-5466-481C-A5DB-D5F159250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6C003-26BA-4F76-A084-992124549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9E31A-EC78-4827-8A86-B28DC73CF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B6CE9-4A2B-4B6B-AF73-108DD907D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C58E5-9372-46B4-B5F7-7B12278D3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917EC-E845-449E-A099-A653019BF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2AC5F-2583-4309-967D-0BE41DE65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D336D-E6D7-4FBF-871B-AB441F5E4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A9DB2-5AD1-4474-8AE6-5B29F41A3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E8675-EE1F-4248-8524-8215285EA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964EC-DF8F-4E60-82E0-33863F04E60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396360" y="1268280"/>
            <a:ext cx="8389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333399"/>
                </a:solidFill>
                <a:latin typeface="Arial"/>
              </a:rPr>
              <a:t>Алгоритм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333399"/>
                </a:solidFill>
                <a:latin typeface="Arial"/>
              </a:rPr>
              <a:t>учебного исследовани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Прямоугольник 5"/>
          <p:cNvSpPr/>
          <p:nvPr/>
        </p:nvSpPr>
        <p:spPr>
          <a:xfrm>
            <a:off x="4211640" y="4797360"/>
            <a:ext cx="4176720" cy="136836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МОУ «Турунтаевская СОШ №1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Урнышева В.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Алгоритм учебного исследова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Cambria"/>
              </a:rPr>
              <a:t>1. Выбор темы, нахождение проблемы в общем виде, обозначение объекта интереса. Можно определить как фиксацию интереса, любопытства к какой-либо проблеме или информац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Cambria"/>
              </a:rPr>
              <a:t>2. Ориентировочная работа с литературой (бегло, просмотр «по диагонали»), общение на интересующую тему с людьми, имеющими к ней отноше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Cambria"/>
              </a:rPr>
              <a:t>3. Предварительная формулировка цели, задач, обозначение предмета исследова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Алгоритм учебного исследова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Cambria"/>
              </a:rPr>
              <a:t>4. Составление плана поисковой (исследовательской) деятельности (которые затем составят основу сформулированных в работе задач). Очерчивание методологических границ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Cambria"/>
              </a:rPr>
              <a:t>5. Параллельный поиск теоретической информации (по литературе) и составление схемы возможного эксперимен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Cambria"/>
              </a:rPr>
              <a:t>6. Постоянное уточнение целей, задач, плана работы, возможно смена рабочей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333399"/>
                </a:solidFill>
                <a:latin typeface="Cambria"/>
              </a:rPr>
              <a:t>парадигм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Алгоритм учебного исследова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79280" y="1628640"/>
            <a:ext cx="896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Cambria"/>
              </a:rPr>
              <a:t>7.   Уточнение схемы эксперимента (опыта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Cambria"/>
              </a:rPr>
              <a:t>8.   Проведение опыта. Статистическая обработ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Cambria"/>
              </a:rPr>
              <a:t>9.   Первичная интерпретация результатов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Cambria"/>
              </a:rPr>
              <a:t>       </a:t>
            </a:r>
            <a:r>
              <a:rPr b="1" lang="ru-RU" sz="2800" spc="-1" strike="noStrike">
                <a:solidFill>
                  <a:srgbClr val="333399"/>
                </a:solidFill>
                <a:latin typeface="Cambria"/>
              </a:rPr>
              <a:t>эксперимента (опыта, наблюдения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Cambria"/>
              </a:rPr>
              <a:t>10. Дополнительное привлечение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Cambria"/>
              </a:rPr>
              <a:t>       </a:t>
            </a:r>
            <a:r>
              <a:rPr b="1" lang="ru-RU" sz="2800" spc="-1" strike="noStrike">
                <a:solidFill>
                  <a:srgbClr val="333399"/>
                </a:solidFill>
                <a:latin typeface="Cambria"/>
              </a:rPr>
              <a:t>теоретического материала для более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Cambria"/>
              </a:rPr>
              <a:t>       </a:t>
            </a:r>
            <a:r>
              <a:rPr b="1" lang="ru-RU" sz="2800" spc="-1" strike="noStrike">
                <a:solidFill>
                  <a:srgbClr val="333399"/>
                </a:solidFill>
                <a:latin typeface="Cambria"/>
              </a:rPr>
              <a:t>точной и подробной интерпретации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Cambria"/>
              </a:rPr>
              <a:t>      </a:t>
            </a:r>
            <a:r>
              <a:rPr b="1" lang="ru-RU" sz="2800" spc="-1" strike="noStrike">
                <a:solidFill>
                  <a:srgbClr val="333399"/>
                </a:solidFill>
                <a:latin typeface="Cambria"/>
              </a:rPr>
              <a:t>(глубокая работа с литературой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Алгоритм учебного исследова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24000" y="1413000"/>
            <a:ext cx="88200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Cambria"/>
              </a:rPr>
              <a:t>11.</a:t>
            </a:r>
            <a:r>
              <a:rPr b="1" lang="ru-RU" sz="2400" spc="-1" strike="noStrike">
                <a:solidFill>
                  <a:srgbClr val="333399"/>
                </a:solidFill>
                <a:latin typeface="Cambria"/>
              </a:rPr>
              <a:t> </a:t>
            </a:r>
            <a:r>
              <a:rPr b="1" lang="ru-RU" sz="2800" spc="-1" strike="noStrike">
                <a:solidFill>
                  <a:srgbClr val="333399"/>
                </a:solidFill>
                <a:latin typeface="Cambria"/>
              </a:rPr>
              <a:t>Вторичная интерпретация, снова работа с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Cambria"/>
              </a:rPr>
              <a:t>       </a:t>
            </a:r>
            <a:r>
              <a:rPr b="1" lang="ru-RU" sz="2800" spc="-1" strike="noStrike">
                <a:solidFill>
                  <a:srgbClr val="333399"/>
                </a:solidFill>
                <a:latin typeface="Cambria"/>
              </a:rPr>
              <a:t>литературой, привлечение необходимой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Cambria"/>
              </a:rPr>
              <a:t>       </a:t>
            </a:r>
            <a:r>
              <a:rPr b="1" lang="ru-RU" sz="2800" spc="-1" strike="noStrike">
                <a:solidFill>
                  <a:srgbClr val="333399"/>
                </a:solidFill>
                <a:latin typeface="Cambria"/>
              </a:rPr>
              <a:t>информации для подкрепления своей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Cambria"/>
              </a:rPr>
              <a:t>       </a:t>
            </a:r>
            <a:r>
              <a:rPr b="1" lang="ru-RU" sz="2800" spc="-1" strike="noStrike">
                <a:solidFill>
                  <a:srgbClr val="333399"/>
                </a:solidFill>
                <a:latin typeface="Cambria"/>
              </a:rPr>
              <a:t>интерпретац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Cambria"/>
              </a:rPr>
              <a:t>12. Вычленение наиболее важных результат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Cambria"/>
              </a:rPr>
              <a:t>13. Обобщение полученных результатов,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Cambria"/>
              </a:rPr>
              <a:t>       </a:t>
            </a:r>
            <a:r>
              <a:rPr b="1" lang="ru-RU" sz="2800" spc="-1" strike="noStrike">
                <a:solidFill>
                  <a:srgbClr val="333399"/>
                </a:solidFill>
                <a:latin typeface="Cambria"/>
              </a:rPr>
              <a:t>соотнесение их с результатами других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Cambria"/>
              </a:rPr>
              <a:t>       </a:t>
            </a:r>
            <a:r>
              <a:rPr b="1" lang="ru-RU" sz="2800" spc="-1" strike="noStrike">
                <a:solidFill>
                  <a:srgbClr val="333399"/>
                </a:solidFill>
                <a:latin typeface="Cambria"/>
              </a:rPr>
              <a:t>исследован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Cambria"/>
              </a:rPr>
              <a:t>14. Наметка перспективы дальнейших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Cambria"/>
              </a:rPr>
              <a:t>       </a:t>
            </a:r>
            <a:r>
              <a:rPr b="1" lang="ru-RU" sz="2800" spc="-1" strike="noStrike">
                <a:solidFill>
                  <a:srgbClr val="333399"/>
                </a:solidFill>
                <a:latin typeface="Cambria"/>
              </a:rPr>
              <a:t>исследован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4"/>
          <p:cNvSpPr/>
          <p:nvPr/>
        </p:nvSpPr>
        <p:spPr>
          <a:xfrm>
            <a:off x="177480" y="981000"/>
            <a:ext cx="8730360" cy="47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Cambria"/>
              </a:rPr>
              <a:t>Между первичной и вторично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Cambria"/>
              </a:rPr>
              <a:t>формулировкой результатов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Cambria"/>
              </a:rPr>
              <a:t>возможна вторична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Cambria"/>
              </a:rPr>
              <a:t>статистическая обработк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Cambria"/>
              </a:rPr>
              <a:t>и даже дополнительный эксперимент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Cambria"/>
              </a:rPr>
              <a:t>- получение недостающих данны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Cambria"/>
              </a:rPr>
              <a:t>на основе предварительного анализ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Cambria"/>
              </a:rPr>
              <a:t>результатов эксперимен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9280" y="500040"/>
            <a:ext cx="8064720" cy="148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99"/>
                </a:solidFill>
                <a:latin typeface="Arial"/>
              </a:rPr>
              <a:t>Навыки, получаемые учащимися</a:t>
            </a:r>
            <a:br>
              <a:rPr sz="3200"/>
            </a:br>
            <a:r>
              <a:rPr b="1" lang="ru-RU" sz="3200" spc="-1" strike="noStrike">
                <a:solidFill>
                  <a:srgbClr val="003399"/>
                </a:solidFill>
                <a:latin typeface="Arial"/>
              </a:rPr>
              <a:t>в результате научно-исследовательской деятельност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24000" y="2349360"/>
            <a:ext cx="82296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Cambria"/>
              </a:rPr>
              <a:t>наблюдать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Cambria"/>
              </a:rPr>
              <a:t>анализировать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Cambria"/>
              </a:rPr>
              <a:t>систематизировать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Cambria"/>
              </a:rPr>
              <a:t>обобщать знания об объекте исследован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Cambria"/>
              </a:rPr>
              <a:t>проводить несложные опыты, эксперименты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Cambria"/>
              </a:rPr>
              <a:t>оформлять итоговую работу (в виде реферата, доклада и др.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28760" y="499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99"/>
                </a:solidFill>
                <a:latin typeface="Arial"/>
              </a:rPr>
              <a:t>Методы исследов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28520"/>
            <a:ext cx="8229600" cy="39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99"/>
                </a:solidFill>
                <a:latin typeface="Arial"/>
              </a:rPr>
              <a:t>наблюд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99"/>
                </a:solidFill>
                <a:latin typeface="Arial"/>
              </a:rPr>
              <a:t>сравн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99"/>
                </a:solidFill>
                <a:latin typeface="Arial"/>
              </a:rPr>
              <a:t>измер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99"/>
                </a:solidFill>
                <a:latin typeface="Arial"/>
              </a:rPr>
              <a:t>моделиров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99"/>
                </a:solidFill>
                <a:latin typeface="Arial"/>
              </a:rPr>
              <a:t>анали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99"/>
                </a:solidFill>
                <a:latin typeface="Arial"/>
              </a:rPr>
              <a:t>синте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99"/>
                </a:solidFill>
                <a:latin typeface="Arial"/>
              </a:rPr>
              <a:t>абстрагирование</a:t>
            </a:r>
            <a:r>
              <a:rPr b="0" lang="ru-RU" sz="3200" spc="-1" strike="noStrike">
                <a:solidFill>
                  <a:srgbClr val="003399"/>
                </a:solidFill>
                <a:latin typeface="Arial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27T04:32:22Z</dcterms:created>
  <dc:creator>Владелец</dc:creator>
  <dc:description/>
  <dc:language>en-US</dc:language>
  <cp:lastModifiedBy>админ</cp:lastModifiedBy>
  <dcterms:modified xsi:type="dcterms:W3CDTF">2019-04-29T02:01:34Z</dcterms:modified>
  <cp:revision>10</cp:revision>
  <dc:subject/>
  <dc:title>Алгоритм научного исследования</dc:title>
</cp:coreProperties>
</file>