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114-A4B6-450D-B4A4-24412546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18C-6496-48DA-90CD-298E0855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3B1-F1B1-4442-A9D3-25255C8B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577-9170-456B-BC2D-FB4AB40B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87A-95D8-4C34-95E1-9879C5B5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318-EFB1-4868-8E4B-4EA62A0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7C6-8984-4331-93FF-F92EEDA8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D36-C18F-47E3-8AD1-73D1B47E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0D7-1EB6-47A8-8293-D57DF24D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3954-2E21-4DF1-A7D5-3231E08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9EE-536B-4733-8C4A-D3CF68C2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7BB-88D1-4A13-8D16-50808AE5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5E13-2E5D-4B8F-A8BF-4FBD50B0E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285840"/>
            <a:ext cx="6757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29040" y="1428840"/>
            <a:ext cx="4757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ный знак увидел я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лся я, друзья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и вилка, в нём и нож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мимо не пройдёшь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жите поскорёй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знак представлен здесь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28960" indent="-2289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4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1071720" y="5929200"/>
            <a:ext cx="642960" cy="68580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3038">
                <a:moveTo>
                  <a:pt x="0" y="0"/>
                </a:moveTo>
                <a:lnTo>
                  <a:pt x="21600" y="0"/>
                </a:lnTo>
                <a:lnTo>
                  <a:pt x="21600" y="23038"/>
                </a:lnTo>
                <a:lnTo>
                  <a:pt x="0" y="23038"/>
                </a:lnTo>
                <a:close/>
              </a:path>
              <a:path fill="lightenLess" w="21600" h="230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8">
                <a:moveTo>
                  <a:pt x="21600" y="0"/>
                </a:moveTo>
                <a:lnTo>
                  <a:pt x="21600" y="23038"/>
                </a:lnTo>
                <a:lnTo>
                  <a:pt x="20200" y="21638"/>
                </a:lnTo>
                <a:lnTo>
                  <a:pt x="20200" y="1400"/>
                </a:lnTo>
                <a:close/>
              </a:path>
              <a:path fill="darkenLess" w="21600" h="23038">
                <a:moveTo>
                  <a:pt x="21600" y="23038"/>
                </a:moveTo>
                <a:lnTo>
                  <a:pt x="0" y="23038"/>
                </a:lnTo>
                <a:lnTo>
                  <a:pt x="1400" y="21638"/>
                </a:lnTo>
                <a:lnTo>
                  <a:pt x="20200" y="21638"/>
                </a:lnTo>
                <a:close/>
              </a:path>
              <a:path fill="lighten" w="21600" h="23038">
                <a:moveTo>
                  <a:pt x="0" y="230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8"/>
                </a:lnTo>
                <a:close/>
              </a:path>
              <a:path fill="darken" w="21600" h="23038">
                <a:moveTo>
                  <a:pt x="3794" y="4513"/>
                </a:moveTo>
                <a:lnTo>
                  <a:pt x="17806" y="11519"/>
                </a:lnTo>
                <a:lnTo>
                  <a:pt x="3794" y="1852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P1010008.JPG"/>
          <p:cNvPicPr/>
          <p:nvPr/>
        </p:nvPicPr>
        <p:blipFill>
          <a:blip r:embed="rId2"/>
          <a:stretch/>
        </p:blipFill>
        <p:spPr>
          <a:xfrm>
            <a:off x="981000" y="1768320"/>
            <a:ext cx="30304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4600" spc="-1" strike="noStrike">
                <a:solidFill>
                  <a:srgbClr val="c00000"/>
                </a:solidFill>
                <a:latin typeface="Arial"/>
              </a:rPr>
              <a:t>«Азбука дороги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14480" y="2477880"/>
            <a:ext cx="497196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нкт питания,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а Знаков сервис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683100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омой 6"/>
          <p:cNvSpPr/>
          <p:nvPr/>
        </p:nvSpPr>
        <p:spPr>
          <a:xfrm>
            <a:off x="8215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11306" y="3837"/>
                </a:moveTo>
                <a:lnTo>
                  <a:pt x="13882" y="6448"/>
                </a:lnTo>
                <a:lnTo>
                  <a:pt x="13882" y="4707"/>
                </a:lnTo>
                <a:lnTo>
                  <a:pt x="15658" y="4707"/>
                </a:lnTo>
                <a:lnTo>
                  <a:pt x="15658" y="8224"/>
                </a:lnTo>
                <a:lnTo>
                  <a:pt x="18269" y="10800"/>
                </a:lnTo>
                <a:lnTo>
                  <a:pt x="16615" y="10800"/>
                </a:lnTo>
                <a:lnTo>
                  <a:pt x="16615" y="17989"/>
                </a:lnTo>
                <a:lnTo>
                  <a:pt x="5997" y="17989"/>
                </a:lnTo>
                <a:lnTo>
                  <a:pt x="5997" y="10800"/>
                </a:lnTo>
                <a:lnTo>
                  <a:pt x="4343" y="10800"/>
                </a:lnTo>
                <a:close/>
              </a:path>
              <a:path fill="darkenLess" w="22612" h="21600">
                <a:moveTo>
                  <a:pt x="13882" y="6448"/>
                </a:moveTo>
                <a:lnTo>
                  <a:pt x="13882" y="4707"/>
                </a:lnTo>
                <a:lnTo>
                  <a:pt x="15658" y="4707"/>
                </a:lnTo>
                <a:lnTo>
                  <a:pt x="15658" y="8224"/>
                </a:lnTo>
                <a:close/>
              </a:path>
              <a:path fill="darkenLess" w="22612" h="21600">
                <a:moveTo>
                  <a:pt x="10384" y="14299"/>
                </a:moveTo>
                <a:lnTo>
                  <a:pt x="12229" y="14299"/>
                </a:lnTo>
                <a:lnTo>
                  <a:pt x="12229" y="17989"/>
                </a:lnTo>
                <a:lnTo>
                  <a:pt x="16615" y="17989"/>
                </a:lnTo>
                <a:lnTo>
                  <a:pt x="16615" y="10800"/>
                </a:lnTo>
                <a:lnTo>
                  <a:pt x="5997" y="10800"/>
                </a:lnTo>
                <a:lnTo>
                  <a:pt x="5997" y="17989"/>
                </a:lnTo>
                <a:lnTo>
                  <a:pt x="1038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P1010008.JPG"/>
          <p:cNvPicPr/>
          <p:nvPr/>
        </p:nvPicPr>
        <p:blipFill>
          <a:blip r:embed="rId2"/>
          <a:stretch/>
        </p:blipFill>
        <p:spPr>
          <a:xfrm>
            <a:off x="1054080" y="1914480"/>
            <a:ext cx="3024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2109600"/>
            <a:ext cx="81439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часть дороги, расположена  по обе стороны проезжей части. Она может служить для остановки автомобилей, а также для движения пешеходов, особенно в загородной зоне. Как называется эта часть дороги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>
            <a:hlinkClick r:id="" action="ppaction://hlinkshowjump?jump=nextslide"/>
          </p:cNvPr>
          <p:cNvSpPr/>
          <p:nvPr/>
        </p:nvSpPr>
        <p:spPr>
          <a:xfrm>
            <a:off x="611280" y="5929200"/>
            <a:ext cx="603000" cy="668520"/>
          </a:xfrm>
          <a:custGeom>
            <a:avLst/>
            <a:gdLst>
              <a:gd name="textAreaLeft" fmla="*/ 38880 w 603000"/>
              <a:gd name="textAreaRight" fmla="*/ 564120 w 603000"/>
              <a:gd name="textAreaTop" fmla="*/ 38880 h 668520"/>
              <a:gd name="textAreaBottom" fmla="*/ 629640 h 668520"/>
            </a:gdLst>
            <a:ahLst/>
            <a:rect l="textAreaLeft" t="textAreaTop" r="textAreaRight" b="textAreaBottom"/>
            <a:pathLst>
              <a:path w="21600" h="23946">
                <a:moveTo>
                  <a:pt x="0" y="0"/>
                </a:moveTo>
                <a:lnTo>
                  <a:pt x="21600" y="0"/>
                </a:lnTo>
                <a:lnTo>
                  <a:pt x="21600" y="23946"/>
                </a:lnTo>
                <a:lnTo>
                  <a:pt x="0" y="23946"/>
                </a:lnTo>
                <a:close/>
              </a:path>
              <a:path fill="lightenLess" w="21600" h="239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46">
                <a:moveTo>
                  <a:pt x="21600" y="0"/>
                </a:moveTo>
                <a:lnTo>
                  <a:pt x="21600" y="23946"/>
                </a:lnTo>
                <a:lnTo>
                  <a:pt x="20200" y="22546"/>
                </a:lnTo>
                <a:lnTo>
                  <a:pt x="20200" y="1400"/>
                </a:lnTo>
                <a:close/>
              </a:path>
              <a:path fill="darkenLess" w="21600" h="23946">
                <a:moveTo>
                  <a:pt x="21600" y="23946"/>
                </a:moveTo>
                <a:lnTo>
                  <a:pt x="0" y="23946"/>
                </a:lnTo>
                <a:lnTo>
                  <a:pt x="1400" y="22546"/>
                </a:lnTo>
                <a:lnTo>
                  <a:pt x="20200" y="22546"/>
                </a:lnTo>
                <a:close/>
              </a:path>
              <a:path fill="lighten" w="21600" h="23946">
                <a:moveTo>
                  <a:pt x="0" y="239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46"/>
                </a:lnTo>
                <a:close/>
              </a:path>
              <a:path fill="darken" w="21600" h="23946">
                <a:moveTo>
                  <a:pt x="3794" y="4966"/>
                </a:moveTo>
                <a:lnTo>
                  <a:pt x="17806" y="11973"/>
                </a:lnTo>
                <a:lnTo>
                  <a:pt x="3794" y="1897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85960" y="1600200"/>
            <a:ext cx="428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чина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8028000" y="5929200"/>
            <a:ext cx="687240" cy="739800"/>
          </a:xfrm>
          <a:custGeom>
            <a:avLst/>
            <a:gdLst>
              <a:gd name="textAreaLeft" fmla="*/ 44280 w 687240"/>
              <a:gd name="textAreaRight" fmla="*/ 642960 w 687240"/>
              <a:gd name="textAreaTop" fmla="*/ 44280 h 739800"/>
              <a:gd name="textAreaBottom" fmla="*/ 695520 h 739800"/>
            </a:gdLst>
            <a:ahLst/>
            <a:rect l="textAreaLeft" t="textAreaTop" r="textAreaRight" b="textAreaBottom"/>
            <a:pathLst>
              <a:path w="21600" h="23251">
                <a:moveTo>
                  <a:pt x="0" y="0"/>
                </a:moveTo>
                <a:lnTo>
                  <a:pt x="21600" y="0"/>
                </a:lnTo>
                <a:lnTo>
                  <a:pt x="21600" y="23251"/>
                </a:lnTo>
                <a:lnTo>
                  <a:pt x="0" y="23251"/>
                </a:lnTo>
                <a:close/>
              </a:path>
              <a:path fill="lightenLess" w="21600" h="232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1">
                <a:moveTo>
                  <a:pt x="21600" y="0"/>
                </a:moveTo>
                <a:lnTo>
                  <a:pt x="21600" y="23251"/>
                </a:lnTo>
                <a:lnTo>
                  <a:pt x="20200" y="21851"/>
                </a:lnTo>
                <a:lnTo>
                  <a:pt x="20200" y="1400"/>
                </a:lnTo>
                <a:close/>
              </a:path>
              <a:path fill="darkenLess" w="21600" h="23251">
                <a:moveTo>
                  <a:pt x="21600" y="23251"/>
                </a:moveTo>
                <a:lnTo>
                  <a:pt x="0" y="23251"/>
                </a:lnTo>
                <a:lnTo>
                  <a:pt x="1400" y="21851"/>
                </a:lnTo>
                <a:lnTo>
                  <a:pt x="20200" y="21851"/>
                </a:lnTo>
                <a:close/>
              </a:path>
              <a:path fill="lighten" w="21600" h="23251">
                <a:moveTo>
                  <a:pt x="0" y="232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1"/>
                </a:lnTo>
                <a:close/>
              </a:path>
              <a:path fill="darken" w="21600" h="23251">
                <a:moveTo>
                  <a:pt x="10800" y="4663"/>
                </a:moveTo>
                <a:lnTo>
                  <a:pt x="13376" y="7274"/>
                </a:lnTo>
                <a:lnTo>
                  <a:pt x="13376" y="5533"/>
                </a:lnTo>
                <a:lnTo>
                  <a:pt x="15152" y="5533"/>
                </a:lnTo>
                <a:lnTo>
                  <a:pt x="15152" y="9049"/>
                </a:lnTo>
                <a:lnTo>
                  <a:pt x="17763" y="11626"/>
                </a:lnTo>
                <a:lnTo>
                  <a:pt x="16109" y="11626"/>
                </a:lnTo>
                <a:lnTo>
                  <a:pt x="16109" y="18815"/>
                </a:lnTo>
                <a:lnTo>
                  <a:pt x="5491" y="18815"/>
                </a:lnTo>
                <a:lnTo>
                  <a:pt x="5491" y="11626"/>
                </a:lnTo>
                <a:lnTo>
                  <a:pt x="3837" y="11626"/>
                </a:lnTo>
                <a:close/>
              </a:path>
              <a:path fill="darkenLess" w="21600" h="23251">
                <a:moveTo>
                  <a:pt x="13376" y="7274"/>
                </a:moveTo>
                <a:lnTo>
                  <a:pt x="13376" y="5533"/>
                </a:lnTo>
                <a:lnTo>
                  <a:pt x="15152" y="5533"/>
                </a:lnTo>
                <a:lnTo>
                  <a:pt x="15152" y="9049"/>
                </a:lnTo>
                <a:close/>
              </a:path>
              <a:path fill="darkenLess" w="21600" h="23251">
                <a:moveTo>
                  <a:pt x="9877" y="15124"/>
                </a:moveTo>
                <a:lnTo>
                  <a:pt x="11723" y="15124"/>
                </a:lnTo>
                <a:lnTo>
                  <a:pt x="11723" y="18815"/>
                </a:lnTo>
                <a:lnTo>
                  <a:pt x="16109" y="18815"/>
                </a:lnTo>
                <a:lnTo>
                  <a:pt x="16109" y="11626"/>
                </a:lnTo>
                <a:lnTo>
                  <a:pt x="5491" y="11626"/>
                </a:lnTo>
                <a:lnTo>
                  <a:pt x="5491" y="18815"/>
                </a:lnTo>
                <a:lnTo>
                  <a:pt x="9877" y="188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полоса земли с поверхностью искусственного сооружения, обустроенная или приспособленная и используемая для движения транспортных средств, включающая в себя проезжие части, трамвайные пути, тротуары, обочины и разделительные полосы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85840" y="5857920"/>
            <a:ext cx="571320" cy="7570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57080"/>
              <a:gd name="textAreaBottom" fmla="*/ 720360 h 757080"/>
            </a:gdLst>
            <a:ahLst/>
            <a:rect l="textAreaLeft" t="textAreaTop" r="textAreaRight" b="textAreaBottom"/>
            <a:pathLst>
              <a:path w="21600" h="28619">
                <a:moveTo>
                  <a:pt x="0" y="0"/>
                </a:moveTo>
                <a:lnTo>
                  <a:pt x="21600" y="0"/>
                </a:lnTo>
                <a:lnTo>
                  <a:pt x="21600" y="28619"/>
                </a:lnTo>
                <a:lnTo>
                  <a:pt x="0" y="28619"/>
                </a:lnTo>
                <a:close/>
              </a:path>
              <a:path fill="lightenLess" w="21600" h="286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19">
                <a:moveTo>
                  <a:pt x="21600" y="0"/>
                </a:moveTo>
                <a:lnTo>
                  <a:pt x="21600" y="28619"/>
                </a:lnTo>
                <a:lnTo>
                  <a:pt x="20200" y="27219"/>
                </a:lnTo>
                <a:lnTo>
                  <a:pt x="20200" y="1400"/>
                </a:lnTo>
                <a:close/>
              </a:path>
              <a:path fill="darkenLess" w="21600" h="28619">
                <a:moveTo>
                  <a:pt x="21600" y="28619"/>
                </a:moveTo>
                <a:lnTo>
                  <a:pt x="0" y="28619"/>
                </a:lnTo>
                <a:lnTo>
                  <a:pt x="1400" y="27219"/>
                </a:lnTo>
                <a:lnTo>
                  <a:pt x="20200" y="27219"/>
                </a:lnTo>
                <a:close/>
              </a:path>
              <a:path fill="lighten" w="21600" h="28619">
                <a:moveTo>
                  <a:pt x="0" y="286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19"/>
                </a:lnTo>
                <a:close/>
              </a:path>
              <a:path fill="darken" w="21600" h="28619">
                <a:moveTo>
                  <a:pt x="3794" y="7303"/>
                </a:moveTo>
                <a:lnTo>
                  <a:pt x="17806" y="14309"/>
                </a:lnTo>
                <a:lnTo>
                  <a:pt x="3794" y="2131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14800" y="160020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6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рога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3867120" cy="2641320"/>
          </a:xfrm>
          <a:prstGeom prst="rect">
            <a:avLst/>
          </a:prstGeom>
          <a:ln w="0">
            <a:noFill/>
          </a:ln>
        </p:spPr>
      </p:pic>
      <p:sp>
        <p:nvSpPr>
          <p:cNvPr id="67" name="Управляющая кнопка: домой 5"/>
          <p:cNvSpPr/>
          <p:nvPr/>
        </p:nvSpPr>
        <p:spPr>
          <a:xfrm>
            <a:off x="8072280" y="6072120"/>
            <a:ext cx="714600" cy="61452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5116" h="21600">
                <a:moveTo>
                  <a:pt x="0" y="0"/>
                </a:moveTo>
                <a:lnTo>
                  <a:pt x="25116" y="0"/>
                </a:lnTo>
                <a:lnTo>
                  <a:pt x="25116" y="21600"/>
                </a:lnTo>
                <a:lnTo>
                  <a:pt x="0" y="21600"/>
                </a:lnTo>
                <a:close/>
              </a:path>
              <a:path fill="lightenLess" w="25116" h="21600">
                <a:moveTo>
                  <a:pt x="0" y="0"/>
                </a:moveTo>
                <a:lnTo>
                  <a:pt x="25116" y="0"/>
                </a:lnTo>
                <a:lnTo>
                  <a:pt x="23716" y="1400"/>
                </a:lnTo>
                <a:lnTo>
                  <a:pt x="1400" y="1400"/>
                </a:lnTo>
                <a:close/>
              </a:path>
              <a:path fill="darken" w="25116" h="21600">
                <a:moveTo>
                  <a:pt x="25116" y="0"/>
                </a:moveTo>
                <a:lnTo>
                  <a:pt x="25116" y="21600"/>
                </a:lnTo>
                <a:lnTo>
                  <a:pt x="23716" y="20200"/>
                </a:lnTo>
                <a:lnTo>
                  <a:pt x="23716" y="1400"/>
                </a:lnTo>
                <a:close/>
              </a:path>
              <a:path fill="darkenLess" w="25116" h="21600">
                <a:moveTo>
                  <a:pt x="25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16" y="20200"/>
                </a:lnTo>
                <a:close/>
              </a:path>
              <a:path fill="lighten" w="25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16" h="21600">
                <a:moveTo>
                  <a:pt x="12558" y="3837"/>
                </a:moveTo>
                <a:lnTo>
                  <a:pt x="15134" y="6448"/>
                </a:lnTo>
                <a:lnTo>
                  <a:pt x="15134" y="4707"/>
                </a:lnTo>
                <a:lnTo>
                  <a:pt x="16910" y="4707"/>
                </a:lnTo>
                <a:lnTo>
                  <a:pt x="16910" y="8224"/>
                </a:lnTo>
                <a:lnTo>
                  <a:pt x="19521" y="10800"/>
                </a:lnTo>
                <a:lnTo>
                  <a:pt x="17867" y="10800"/>
                </a:lnTo>
                <a:lnTo>
                  <a:pt x="17867" y="17989"/>
                </a:lnTo>
                <a:lnTo>
                  <a:pt x="7249" y="17989"/>
                </a:lnTo>
                <a:lnTo>
                  <a:pt x="7249" y="10800"/>
                </a:lnTo>
                <a:lnTo>
                  <a:pt x="5595" y="10800"/>
                </a:lnTo>
                <a:close/>
              </a:path>
              <a:path fill="darkenLess" w="25116" h="21600">
                <a:moveTo>
                  <a:pt x="15134" y="6448"/>
                </a:moveTo>
                <a:lnTo>
                  <a:pt x="15134" y="4707"/>
                </a:lnTo>
                <a:lnTo>
                  <a:pt x="16910" y="4707"/>
                </a:lnTo>
                <a:lnTo>
                  <a:pt x="16910" y="8224"/>
                </a:lnTo>
                <a:close/>
              </a:path>
              <a:path fill="darkenLess" w="25116" h="21600">
                <a:moveTo>
                  <a:pt x="11635" y="14299"/>
                </a:moveTo>
                <a:lnTo>
                  <a:pt x="13480" y="14299"/>
                </a:lnTo>
                <a:lnTo>
                  <a:pt x="13480" y="17989"/>
                </a:lnTo>
                <a:lnTo>
                  <a:pt x="17867" y="17989"/>
                </a:lnTo>
                <a:lnTo>
                  <a:pt x="17867" y="10800"/>
                </a:lnTo>
                <a:lnTo>
                  <a:pt x="7249" y="10800"/>
                </a:lnTo>
                <a:lnTo>
                  <a:pt x="7249" y="17989"/>
                </a:lnTo>
                <a:lnTo>
                  <a:pt x="11635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5540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ересечения, примыкания или разветвления дорог на одном уровне, ограниченное воображаемыми линиями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85840" y="5929200"/>
            <a:ext cx="571320" cy="6145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614520"/>
              <a:gd name="textAreaBottom" fmla="*/ 577800 h 614520"/>
            </a:gdLst>
            <a:ahLst/>
            <a:rect l="textAreaLeft" t="textAreaTop" r="textAreaRight" b="textAreaBottom"/>
            <a:pathLst>
              <a:path w="21600" h="23232">
                <a:moveTo>
                  <a:pt x="0" y="0"/>
                </a:moveTo>
                <a:lnTo>
                  <a:pt x="21600" y="0"/>
                </a:lnTo>
                <a:lnTo>
                  <a:pt x="21600" y="23232"/>
                </a:lnTo>
                <a:lnTo>
                  <a:pt x="0" y="23232"/>
                </a:lnTo>
                <a:close/>
              </a:path>
              <a:path fill="lightenLess" w="21600" h="232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32">
                <a:moveTo>
                  <a:pt x="21600" y="0"/>
                </a:moveTo>
                <a:lnTo>
                  <a:pt x="21600" y="23232"/>
                </a:lnTo>
                <a:lnTo>
                  <a:pt x="20200" y="21832"/>
                </a:lnTo>
                <a:lnTo>
                  <a:pt x="20200" y="1400"/>
                </a:lnTo>
                <a:close/>
              </a:path>
              <a:path fill="darkenLess" w="21600" h="23232">
                <a:moveTo>
                  <a:pt x="21600" y="23232"/>
                </a:moveTo>
                <a:lnTo>
                  <a:pt x="0" y="23232"/>
                </a:lnTo>
                <a:lnTo>
                  <a:pt x="1400" y="21832"/>
                </a:lnTo>
                <a:lnTo>
                  <a:pt x="20200" y="21832"/>
                </a:lnTo>
                <a:close/>
              </a:path>
              <a:path fill="lighten" w="21600" h="23232">
                <a:moveTo>
                  <a:pt x="0" y="232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32"/>
                </a:lnTo>
                <a:close/>
              </a:path>
              <a:path fill="darken" w="21600" h="23232">
                <a:moveTo>
                  <a:pt x="3794" y="4610"/>
                </a:moveTo>
                <a:lnTo>
                  <a:pt x="17806" y="11616"/>
                </a:lnTo>
                <a:lnTo>
                  <a:pt x="3794" y="1862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28920" y="1928520"/>
            <a:ext cx="4572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крёсток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33240" y="3925800"/>
            <a:ext cx="4078440" cy="2584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76" name="Управляющая кнопка: домой 5"/>
          <p:cNvSpPr/>
          <p:nvPr/>
        </p:nvSpPr>
        <p:spPr>
          <a:xfrm>
            <a:off x="8215200" y="6000840"/>
            <a:ext cx="642960" cy="614160"/>
          </a:xfrm>
          <a:custGeom>
            <a:avLst/>
            <a:gdLst>
              <a:gd name="textAreaLeft" fmla="*/ 39600 w 642960"/>
              <a:gd name="textAreaRight" fmla="*/ 603360 w 64296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11306" y="3837"/>
                </a:moveTo>
                <a:lnTo>
                  <a:pt x="13882" y="6448"/>
                </a:lnTo>
                <a:lnTo>
                  <a:pt x="13882" y="4707"/>
                </a:lnTo>
                <a:lnTo>
                  <a:pt x="15658" y="4707"/>
                </a:lnTo>
                <a:lnTo>
                  <a:pt x="15658" y="8224"/>
                </a:lnTo>
                <a:lnTo>
                  <a:pt x="18269" y="10800"/>
                </a:lnTo>
                <a:lnTo>
                  <a:pt x="16615" y="10800"/>
                </a:lnTo>
                <a:lnTo>
                  <a:pt x="16615" y="17989"/>
                </a:lnTo>
                <a:lnTo>
                  <a:pt x="5997" y="17989"/>
                </a:lnTo>
                <a:lnTo>
                  <a:pt x="5997" y="10800"/>
                </a:lnTo>
                <a:lnTo>
                  <a:pt x="4343" y="10800"/>
                </a:lnTo>
                <a:close/>
              </a:path>
              <a:path fill="darkenLess" w="22612" h="21600">
                <a:moveTo>
                  <a:pt x="13882" y="6448"/>
                </a:moveTo>
                <a:lnTo>
                  <a:pt x="13882" y="4707"/>
                </a:lnTo>
                <a:lnTo>
                  <a:pt x="15658" y="4707"/>
                </a:lnTo>
                <a:lnTo>
                  <a:pt x="15658" y="8224"/>
                </a:lnTo>
                <a:close/>
              </a:path>
              <a:path fill="darkenLess" w="22612" h="21600">
                <a:moveTo>
                  <a:pt x="10384" y="14299"/>
                </a:moveTo>
                <a:lnTo>
                  <a:pt x="12229" y="14299"/>
                </a:lnTo>
                <a:lnTo>
                  <a:pt x="12229" y="17989"/>
                </a:lnTo>
                <a:lnTo>
                  <a:pt x="16615" y="17989"/>
                </a:lnTo>
                <a:lnTo>
                  <a:pt x="16615" y="10800"/>
                </a:lnTo>
                <a:lnTo>
                  <a:pt x="5997" y="10800"/>
                </a:lnTo>
                <a:lnTo>
                  <a:pt x="5997" y="17989"/>
                </a:lnTo>
                <a:lnTo>
                  <a:pt x="10384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b050"/>
                </a:solidFill>
                <a:latin typeface="Arial"/>
              </a:rPr>
              <a:t>«Дорожная терминология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1427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ших улицах и дорогах за соблюдением знаков, а точнее ПДД следит служба ГИБДД. Но, к большому сожалению, на наших улицах и дорогах случаются неприятные ситуации из-за нарушений ПДД. В эту ситуацию попадают люди и транспортные средства. Как называется эта дорожная ситуация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18160" indent="-21816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18160" indent="-2181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18160" indent="-2181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218160" indent="-21816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711840" y="281160"/>
            <a:ext cx="221292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214200" y="6000840"/>
            <a:ext cx="714600" cy="614160"/>
          </a:xfrm>
          <a:custGeom>
            <a:avLst/>
            <a:gdLst>
              <a:gd name="textAreaLeft" fmla="*/ 39600 w 714600"/>
              <a:gd name="textAreaRight" fmla="*/ 675000 w 714600"/>
              <a:gd name="textAreaTop" fmla="*/ 39600 h 614160"/>
              <a:gd name="textAreaBottom" fmla="*/ 574560 h 614160"/>
            </a:gdLst>
            <a:ahLst/>
            <a:rect l="textAreaLeft" t="textAreaTop" r="textAreaRight" b="textAreaBottom"/>
            <a:pathLst>
              <a:path w="25130" h="21600">
                <a:moveTo>
                  <a:pt x="0" y="0"/>
                </a:moveTo>
                <a:lnTo>
                  <a:pt x="25130" y="0"/>
                </a:lnTo>
                <a:lnTo>
                  <a:pt x="25130" y="21600"/>
                </a:lnTo>
                <a:lnTo>
                  <a:pt x="0" y="21600"/>
                </a:lnTo>
                <a:close/>
              </a:path>
              <a:path fill="lightenLess" w="25130" h="21600">
                <a:moveTo>
                  <a:pt x="0" y="0"/>
                </a:moveTo>
                <a:lnTo>
                  <a:pt x="25130" y="0"/>
                </a:lnTo>
                <a:lnTo>
                  <a:pt x="23730" y="1400"/>
                </a:lnTo>
                <a:lnTo>
                  <a:pt x="1400" y="1400"/>
                </a:lnTo>
                <a:close/>
              </a:path>
              <a:path fill="darken" w="25130" h="21600">
                <a:moveTo>
                  <a:pt x="25130" y="0"/>
                </a:moveTo>
                <a:lnTo>
                  <a:pt x="25130" y="21600"/>
                </a:lnTo>
                <a:lnTo>
                  <a:pt x="23730" y="20200"/>
                </a:lnTo>
                <a:lnTo>
                  <a:pt x="23730" y="1400"/>
                </a:lnTo>
                <a:close/>
              </a:path>
              <a:path fill="darkenLess" w="25130" h="21600">
                <a:moveTo>
                  <a:pt x="25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30" y="20200"/>
                </a:lnTo>
                <a:close/>
              </a:path>
              <a:path fill="lighten" w="25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30" h="21600">
                <a:moveTo>
                  <a:pt x="5559" y="3794"/>
                </a:moveTo>
                <a:lnTo>
                  <a:pt x="19572" y="10800"/>
                </a:lnTo>
                <a:lnTo>
                  <a:pt x="5559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30T13:31:27Z</dcterms:created>
  <dc:creator>Админ</dc:creator>
  <dc:description/>
  <dc:language>en-US</dc:language>
  <cp:lastModifiedBy>HP</cp:lastModifiedBy>
  <dcterms:modified xsi:type="dcterms:W3CDTF">2016-11-30T13:44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