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970-42F8-48AC-A73A-42E5FDE5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9AD-1845-42E7-96E9-E77A5A6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332-DF7D-4663-954B-06F36B3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4B8-181E-4AE4-BF3F-A7D38C3B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3F1-BD09-4DCA-9B1F-B2CA800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7F2-851B-46F2-B1E6-89369DA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05B-F034-446D-80D1-D50DF71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A66-29D7-418F-A612-47AB437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803-E7C8-4542-9C95-B0E688CC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AF6-1BAF-42E8-BE65-316E561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829-AC63-42A0-893C-F764156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0F6-E4FA-4502-A32C-B0C8625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B3B-E6FC-4128-98A6-2B2319E4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675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9040" y="1428840"/>
            <a:ext cx="4757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ный знак увидел я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лся я, друзья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и вилка, в нём и нож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мимо не пройдёшь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жите поскорёй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знак представлен здесь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4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071720" y="592920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3794" y="4513"/>
                </a:moveTo>
                <a:lnTo>
                  <a:pt x="17806" y="11519"/>
                </a:lnTo>
                <a:lnTo>
                  <a:pt x="3794" y="1852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P1010008.JPG"/>
          <p:cNvPicPr/>
          <p:nvPr/>
        </p:nvPicPr>
        <p:blipFill>
          <a:blip r:embed="rId2"/>
          <a:stretch/>
        </p:blipFill>
        <p:spPr>
          <a:xfrm>
            <a:off x="981000" y="1768320"/>
            <a:ext cx="30304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14480" y="2477880"/>
            <a:ext cx="497196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питания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Знаков серви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омой 6"/>
          <p:cNvSpPr/>
          <p:nvPr/>
        </p:nvSpPr>
        <p:spPr>
          <a:xfrm>
            <a:off x="8215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11306" y="3837"/>
                </a:moveTo>
                <a:lnTo>
                  <a:pt x="13882" y="6448"/>
                </a:ln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lnTo>
                  <a:pt x="18269" y="10800"/>
                </a:lnTo>
                <a:lnTo>
                  <a:pt x="16615" y="10800"/>
                </a:lnTo>
                <a:lnTo>
                  <a:pt x="16615" y="17989"/>
                </a:lnTo>
                <a:lnTo>
                  <a:pt x="5997" y="17989"/>
                </a:lnTo>
                <a:lnTo>
                  <a:pt x="5997" y="10800"/>
                </a:lnTo>
                <a:lnTo>
                  <a:pt x="4343" y="10800"/>
                </a:lnTo>
                <a:close/>
              </a:path>
              <a:path fill="darkenLess" w="22612" h="21600">
                <a:moveTo>
                  <a:pt x="13882" y="6448"/>
                </a:move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close/>
              </a:path>
              <a:path fill="darkenLess" w="22612" h="21600">
                <a:moveTo>
                  <a:pt x="10384" y="14299"/>
                </a:moveTo>
                <a:lnTo>
                  <a:pt x="12229" y="14299"/>
                </a:lnTo>
                <a:lnTo>
                  <a:pt x="12229" y="17989"/>
                </a:lnTo>
                <a:lnTo>
                  <a:pt x="16615" y="17989"/>
                </a:lnTo>
                <a:lnTo>
                  <a:pt x="16615" y="10800"/>
                </a:lnTo>
                <a:lnTo>
                  <a:pt x="5997" y="10800"/>
                </a:lnTo>
                <a:lnTo>
                  <a:pt x="5997" y="17989"/>
                </a:lnTo>
                <a:lnTo>
                  <a:pt x="1038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P1010008.JPG"/>
          <p:cNvPicPr/>
          <p:nvPr/>
        </p:nvPicPr>
        <p:blipFill>
          <a:blip r:embed="rId2"/>
          <a:stretch/>
        </p:blipFill>
        <p:spPr>
          <a:xfrm>
            <a:off x="1054080" y="1914480"/>
            <a:ext cx="3024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2109600"/>
            <a:ext cx="81439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часть дороги, расположена  по обе стороны проезжей части. Она может служить для остановки автомобилей, а также для движения пешеходов, особенно в загородной зоне. Как называется эта часть дорог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>
            <a:hlinkClick r:id="" action="ppaction://hlinkshowjump?jump=nextslide"/>
          </p:cNvPr>
          <p:cNvSpPr/>
          <p:nvPr/>
        </p:nvSpPr>
        <p:spPr>
          <a:xfrm>
            <a:off x="611280" y="5929200"/>
            <a:ext cx="603000" cy="668520"/>
          </a:xfrm>
          <a:custGeom>
            <a:avLst/>
            <a:gdLst>
              <a:gd name="textAreaLeft" fmla="*/ 38880 w 603000"/>
              <a:gd name="textAreaRight" fmla="*/ 564120 w 603000"/>
              <a:gd name="textAreaTop" fmla="*/ 38880 h 668520"/>
              <a:gd name="textAreaBottom" fmla="*/ 629640 h 668520"/>
            </a:gdLst>
            <a:ahLst/>
            <a:rect l="textAreaLeft" t="textAreaTop" r="textAreaRight" b="textAreaBottom"/>
            <a:pathLst>
              <a:path w="21600" h="23946">
                <a:moveTo>
                  <a:pt x="0" y="0"/>
                </a:moveTo>
                <a:lnTo>
                  <a:pt x="21600" y="0"/>
                </a:lnTo>
                <a:lnTo>
                  <a:pt x="21600" y="23946"/>
                </a:lnTo>
                <a:lnTo>
                  <a:pt x="0" y="23946"/>
                </a:lnTo>
                <a:close/>
              </a:path>
              <a:path fill="lightenLess" w="21600" h="23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46">
                <a:moveTo>
                  <a:pt x="21600" y="0"/>
                </a:moveTo>
                <a:lnTo>
                  <a:pt x="21600" y="23946"/>
                </a:lnTo>
                <a:lnTo>
                  <a:pt x="20200" y="22546"/>
                </a:lnTo>
                <a:lnTo>
                  <a:pt x="20200" y="1400"/>
                </a:lnTo>
                <a:close/>
              </a:path>
              <a:path fill="darkenLess" w="21600" h="23946">
                <a:moveTo>
                  <a:pt x="21600" y="23946"/>
                </a:moveTo>
                <a:lnTo>
                  <a:pt x="0" y="23946"/>
                </a:lnTo>
                <a:lnTo>
                  <a:pt x="1400" y="22546"/>
                </a:lnTo>
                <a:lnTo>
                  <a:pt x="20200" y="22546"/>
                </a:lnTo>
                <a:close/>
              </a:path>
              <a:path fill="lighten" w="21600" h="23946">
                <a:moveTo>
                  <a:pt x="0" y="23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46"/>
                </a:lnTo>
                <a:close/>
              </a:path>
              <a:path fill="darken" w="21600" h="23946">
                <a:moveTo>
                  <a:pt x="3794" y="4966"/>
                </a:moveTo>
                <a:lnTo>
                  <a:pt x="17806" y="11973"/>
                </a:lnTo>
                <a:lnTo>
                  <a:pt x="3794" y="1897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85960" y="160020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чина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8028000" y="5929200"/>
            <a:ext cx="687240" cy="739800"/>
          </a:xfrm>
          <a:custGeom>
            <a:avLst/>
            <a:gdLst>
              <a:gd name="textAreaLeft" fmla="*/ 44280 w 687240"/>
              <a:gd name="textAreaRight" fmla="*/ 642960 w 687240"/>
              <a:gd name="textAreaTop" fmla="*/ 44280 h 739800"/>
              <a:gd name="textAreaBottom" fmla="*/ 695520 h 739800"/>
            </a:gdLst>
            <a:ahLst/>
            <a:rect l="textAreaLeft" t="textAreaTop" r="textAreaRight" b="textAreaBottom"/>
            <a:pathLst>
              <a:path w="21600" h="23251">
                <a:moveTo>
                  <a:pt x="0" y="0"/>
                </a:moveTo>
                <a:lnTo>
                  <a:pt x="21600" y="0"/>
                </a:lnTo>
                <a:lnTo>
                  <a:pt x="21600" y="23251"/>
                </a:lnTo>
                <a:lnTo>
                  <a:pt x="0" y="23251"/>
                </a:lnTo>
                <a:close/>
              </a:path>
              <a:path fill="lightenLess" w="21600" h="23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1">
                <a:moveTo>
                  <a:pt x="21600" y="0"/>
                </a:moveTo>
                <a:lnTo>
                  <a:pt x="21600" y="23251"/>
                </a:lnTo>
                <a:lnTo>
                  <a:pt x="20200" y="21851"/>
                </a:lnTo>
                <a:lnTo>
                  <a:pt x="20200" y="1400"/>
                </a:lnTo>
                <a:close/>
              </a:path>
              <a:path fill="darkenLess" w="21600" h="23251">
                <a:moveTo>
                  <a:pt x="21600" y="23251"/>
                </a:moveTo>
                <a:lnTo>
                  <a:pt x="0" y="23251"/>
                </a:lnTo>
                <a:lnTo>
                  <a:pt x="1400" y="21851"/>
                </a:lnTo>
                <a:lnTo>
                  <a:pt x="20200" y="21851"/>
                </a:lnTo>
                <a:close/>
              </a:path>
              <a:path fill="lighten" w="21600" h="23251">
                <a:moveTo>
                  <a:pt x="0" y="23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1"/>
                </a:lnTo>
                <a:close/>
              </a:path>
              <a:path fill="darken" w="21600" h="23251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49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1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49"/>
                </a:lnTo>
                <a:close/>
              </a:path>
              <a:path fill="darkenLess" w="21600" h="23251">
                <a:moveTo>
                  <a:pt x="9877" y="15124"/>
                </a:moveTo>
                <a:lnTo>
                  <a:pt x="11723" y="15124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полоса земли с поверхностью искусственного сооружения, обустроенная или приспособленная и используемая для движения транспортных средств, включающая в себя проезжие части, трамвайные пути, тротуары, обочины и разделительные полосы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85840" y="5857920"/>
            <a:ext cx="571320" cy="7570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080"/>
              <a:gd name="textAreaBottom" fmla="*/ 720360 h 757080"/>
            </a:gdLst>
            <a:ahLst/>
            <a:rect l="textAreaLeft" t="textAreaTop" r="textAreaRight" b="textAreaBottom"/>
            <a:pathLst>
              <a:path w="21600" h="28619">
                <a:moveTo>
                  <a:pt x="0" y="0"/>
                </a:moveTo>
                <a:lnTo>
                  <a:pt x="21600" y="0"/>
                </a:lnTo>
                <a:lnTo>
                  <a:pt x="21600" y="28619"/>
                </a:lnTo>
                <a:lnTo>
                  <a:pt x="0" y="28619"/>
                </a:lnTo>
                <a:close/>
              </a:path>
              <a:path fill="lightenLess" w="21600" h="286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9">
                <a:moveTo>
                  <a:pt x="21600" y="0"/>
                </a:moveTo>
                <a:lnTo>
                  <a:pt x="21600" y="28619"/>
                </a:lnTo>
                <a:lnTo>
                  <a:pt x="20200" y="27219"/>
                </a:lnTo>
                <a:lnTo>
                  <a:pt x="20200" y="1400"/>
                </a:lnTo>
                <a:close/>
              </a:path>
              <a:path fill="darkenLess" w="21600" h="28619">
                <a:moveTo>
                  <a:pt x="21600" y="28619"/>
                </a:moveTo>
                <a:lnTo>
                  <a:pt x="0" y="28619"/>
                </a:lnTo>
                <a:lnTo>
                  <a:pt x="1400" y="27219"/>
                </a:lnTo>
                <a:lnTo>
                  <a:pt x="20200" y="27219"/>
                </a:lnTo>
                <a:close/>
              </a:path>
              <a:path fill="lighten" w="21600" h="28619">
                <a:moveTo>
                  <a:pt x="0" y="286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9"/>
                </a:lnTo>
                <a:close/>
              </a:path>
              <a:path fill="darken" w="21600" h="28619">
                <a:moveTo>
                  <a:pt x="3794" y="7303"/>
                </a:moveTo>
                <a:lnTo>
                  <a:pt x="17806" y="14309"/>
                </a:lnTo>
                <a:lnTo>
                  <a:pt x="3794" y="2131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1480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6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га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3867120" cy="264132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омой 5"/>
          <p:cNvSpPr/>
          <p:nvPr/>
        </p:nvSpPr>
        <p:spPr>
          <a:xfrm>
            <a:off x="8072280" y="6072120"/>
            <a:ext cx="714600" cy="61452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16" h="21600">
                <a:moveTo>
                  <a:pt x="0" y="0"/>
                </a:moveTo>
                <a:lnTo>
                  <a:pt x="25116" y="0"/>
                </a:lnTo>
                <a:lnTo>
                  <a:pt x="25116" y="21600"/>
                </a:lnTo>
                <a:lnTo>
                  <a:pt x="0" y="21600"/>
                </a:lnTo>
                <a:close/>
              </a:path>
              <a:path fill="lightenLess" w="25116" h="21600">
                <a:moveTo>
                  <a:pt x="0" y="0"/>
                </a:moveTo>
                <a:lnTo>
                  <a:pt x="25116" y="0"/>
                </a:lnTo>
                <a:lnTo>
                  <a:pt x="23716" y="1400"/>
                </a:lnTo>
                <a:lnTo>
                  <a:pt x="1400" y="1400"/>
                </a:lnTo>
                <a:close/>
              </a:path>
              <a:path fill="darken" w="25116" h="21600">
                <a:moveTo>
                  <a:pt x="25116" y="0"/>
                </a:moveTo>
                <a:lnTo>
                  <a:pt x="25116" y="21600"/>
                </a:lnTo>
                <a:lnTo>
                  <a:pt x="23716" y="20200"/>
                </a:lnTo>
                <a:lnTo>
                  <a:pt x="23716" y="1400"/>
                </a:lnTo>
                <a:close/>
              </a:path>
              <a:path fill="darkenLess" w="25116" h="21600">
                <a:moveTo>
                  <a:pt x="2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16" y="20200"/>
                </a:lnTo>
                <a:close/>
              </a:path>
              <a:path fill="lighten" w="2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16" h="21600">
                <a:moveTo>
                  <a:pt x="12558" y="3837"/>
                </a:moveTo>
                <a:lnTo>
                  <a:pt x="15134" y="6448"/>
                </a:lnTo>
                <a:lnTo>
                  <a:pt x="15134" y="4707"/>
                </a:lnTo>
                <a:lnTo>
                  <a:pt x="16910" y="4707"/>
                </a:lnTo>
                <a:lnTo>
                  <a:pt x="16910" y="8224"/>
                </a:lnTo>
                <a:lnTo>
                  <a:pt x="19521" y="10800"/>
                </a:lnTo>
                <a:lnTo>
                  <a:pt x="17867" y="10800"/>
                </a:lnTo>
                <a:lnTo>
                  <a:pt x="17867" y="17989"/>
                </a:lnTo>
                <a:lnTo>
                  <a:pt x="7249" y="17989"/>
                </a:lnTo>
                <a:lnTo>
                  <a:pt x="7249" y="10800"/>
                </a:lnTo>
                <a:lnTo>
                  <a:pt x="5595" y="10800"/>
                </a:lnTo>
                <a:close/>
              </a:path>
              <a:path fill="darkenLess" w="25116" h="21600">
                <a:moveTo>
                  <a:pt x="15134" y="6448"/>
                </a:moveTo>
                <a:lnTo>
                  <a:pt x="15134" y="4707"/>
                </a:lnTo>
                <a:lnTo>
                  <a:pt x="16910" y="4707"/>
                </a:lnTo>
                <a:lnTo>
                  <a:pt x="16910" y="8224"/>
                </a:lnTo>
                <a:close/>
              </a:path>
              <a:path fill="darkenLess" w="25116" h="21600">
                <a:moveTo>
                  <a:pt x="11635" y="14299"/>
                </a:moveTo>
                <a:lnTo>
                  <a:pt x="13480" y="14299"/>
                </a:lnTo>
                <a:lnTo>
                  <a:pt x="13480" y="17989"/>
                </a:lnTo>
                <a:lnTo>
                  <a:pt x="17867" y="17989"/>
                </a:lnTo>
                <a:lnTo>
                  <a:pt x="17867" y="10800"/>
                </a:lnTo>
                <a:lnTo>
                  <a:pt x="7249" y="10800"/>
                </a:lnTo>
                <a:lnTo>
                  <a:pt x="7249" y="17989"/>
                </a:lnTo>
                <a:lnTo>
                  <a:pt x="11635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5540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ересечения, примыкания или разветвления дорог на одном уровне, ограниченное воображаемыми линиями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85840" y="5929200"/>
            <a:ext cx="571320" cy="6145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614520"/>
              <a:gd name="textAreaBottom" fmla="*/ 577800 h 614520"/>
            </a:gdLst>
            <a:ahLst/>
            <a:rect l="textAreaLeft" t="textAreaTop" r="textAreaRight" b="textAreaBottom"/>
            <a:pathLst>
              <a:path w="21600" h="23232">
                <a:moveTo>
                  <a:pt x="0" y="0"/>
                </a:moveTo>
                <a:lnTo>
                  <a:pt x="21600" y="0"/>
                </a:lnTo>
                <a:lnTo>
                  <a:pt x="21600" y="23232"/>
                </a:lnTo>
                <a:lnTo>
                  <a:pt x="0" y="23232"/>
                </a:lnTo>
                <a:close/>
              </a:path>
              <a:path fill="lightenLess" w="21600" h="23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32">
                <a:moveTo>
                  <a:pt x="21600" y="0"/>
                </a:moveTo>
                <a:lnTo>
                  <a:pt x="21600" y="23232"/>
                </a:lnTo>
                <a:lnTo>
                  <a:pt x="20200" y="21832"/>
                </a:lnTo>
                <a:lnTo>
                  <a:pt x="20200" y="1400"/>
                </a:lnTo>
                <a:close/>
              </a:path>
              <a:path fill="darkenLess" w="21600" h="23232">
                <a:moveTo>
                  <a:pt x="21600" y="23232"/>
                </a:moveTo>
                <a:lnTo>
                  <a:pt x="0" y="23232"/>
                </a:lnTo>
                <a:lnTo>
                  <a:pt x="1400" y="21832"/>
                </a:lnTo>
                <a:lnTo>
                  <a:pt x="20200" y="21832"/>
                </a:lnTo>
                <a:close/>
              </a:path>
              <a:path fill="lighten" w="21600" h="23232">
                <a:moveTo>
                  <a:pt x="0" y="23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32"/>
                </a:lnTo>
                <a:close/>
              </a:path>
              <a:path fill="darken" w="21600" h="23232">
                <a:moveTo>
                  <a:pt x="3794" y="4610"/>
                </a:moveTo>
                <a:lnTo>
                  <a:pt x="17806" y="11616"/>
                </a:lnTo>
                <a:lnTo>
                  <a:pt x="3794" y="186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28920" y="1928520"/>
            <a:ext cx="4572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крёсто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33240" y="3925800"/>
            <a:ext cx="4078440" cy="25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омой 5"/>
          <p:cNvSpPr/>
          <p:nvPr/>
        </p:nvSpPr>
        <p:spPr>
          <a:xfrm>
            <a:off x="8215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11306" y="3837"/>
                </a:moveTo>
                <a:lnTo>
                  <a:pt x="13882" y="6448"/>
                </a:ln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lnTo>
                  <a:pt x="18269" y="10800"/>
                </a:lnTo>
                <a:lnTo>
                  <a:pt x="16615" y="10800"/>
                </a:lnTo>
                <a:lnTo>
                  <a:pt x="16615" y="17989"/>
                </a:lnTo>
                <a:lnTo>
                  <a:pt x="5997" y="17989"/>
                </a:lnTo>
                <a:lnTo>
                  <a:pt x="5997" y="10800"/>
                </a:lnTo>
                <a:lnTo>
                  <a:pt x="4343" y="10800"/>
                </a:lnTo>
                <a:close/>
              </a:path>
              <a:path fill="darkenLess" w="22612" h="21600">
                <a:moveTo>
                  <a:pt x="13882" y="6448"/>
                </a:move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close/>
              </a:path>
              <a:path fill="darkenLess" w="22612" h="21600">
                <a:moveTo>
                  <a:pt x="10384" y="14299"/>
                </a:moveTo>
                <a:lnTo>
                  <a:pt x="12229" y="14299"/>
                </a:lnTo>
                <a:lnTo>
                  <a:pt x="12229" y="17989"/>
                </a:lnTo>
                <a:lnTo>
                  <a:pt x="16615" y="17989"/>
                </a:lnTo>
                <a:lnTo>
                  <a:pt x="16615" y="10800"/>
                </a:lnTo>
                <a:lnTo>
                  <a:pt x="5997" y="10800"/>
                </a:lnTo>
                <a:lnTo>
                  <a:pt x="5997" y="17989"/>
                </a:lnTo>
                <a:lnTo>
                  <a:pt x="1038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1427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ших улицах и дорогах за соблюдением знаков, а точнее ПДД следит служба ГИБДД. Но, к большому сожалению, на наших улицах и дорогах случаются неприятные ситуации из-за нарушений ПДД. В эту ситуацию попадают люди и транспортные средства. Как называется эта дорожная ситуация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711840" y="281160"/>
            <a:ext cx="221292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14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5559" y="3794"/>
                </a:moveTo>
                <a:lnTo>
                  <a:pt x="19572" y="10800"/>
                </a:lnTo>
                <a:lnTo>
                  <a:pt x="555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1:27Z</dcterms:created>
  <dc:creator>Админ</dc:creator>
  <dc:description/>
  <dc:language>en-US</dc:language>
  <cp:lastModifiedBy>HP</cp:lastModifiedBy>
  <dcterms:modified xsi:type="dcterms:W3CDTF">2016-11-30T13:4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