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C3AB-0311-4042-A8CF-BD715A21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FCD-7B36-4BDB-825A-CDBA1111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7AD-B17C-4117-817D-1877DB22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4A3-2FC5-4FF2-9790-2AB5C014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C53-DE4F-43E4-BE92-48C43842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123-72BA-413C-A651-16CB287B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C25-DB32-482C-AC69-A4F5FFBB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635-E7AC-4BDA-8E0C-60A46C0C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399-E9C6-47FA-9B97-A002D65D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B25-5497-4B53-A316-9AF26CE4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C318-0590-4D77-A31B-A08760B9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9F4-1F75-412B-89E1-811A577D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7897-110F-4502-8565-6D2A7429D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56800" y="2035080"/>
            <a:ext cx="692964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рожно – транспортно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исшествие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obz028i.bmp"/>
          <p:cNvPicPr/>
          <p:nvPr/>
        </p:nvPicPr>
        <p:blipFill>
          <a:blip r:embed="rId1"/>
          <a:stretch/>
        </p:blipFill>
        <p:spPr>
          <a:xfrm>
            <a:off x="2639880" y="3638520"/>
            <a:ext cx="3834000" cy="2865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45" name="Управляющая кнопка: домой 5">
            <a:hlinkClick r:id="rId3" action="ppaction://hlinksldjump"/>
          </p:cNvPr>
          <p:cNvSpPr/>
          <p:nvPr/>
        </p:nvSpPr>
        <p:spPr>
          <a:xfrm>
            <a:off x="8215200" y="6000840"/>
            <a:ext cx="714600" cy="614160"/>
          </a:xfrm>
          <a:custGeom>
            <a:avLst/>
            <a:gdLst>
              <a:gd name="textAreaLeft" fmla="*/ 39600 w 714600"/>
              <a:gd name="textAreaRight" fmla="*/ 675000 w 71460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5130" h="21600">
                <a:moveTo>
                  <a:pt x="0" y="0"/>
                </a:moveTo>
                <a:lnTo>
                  <a:pt x="25130" y="0"/>
                </a:lnTo>
                <a:lnTo>
                  <a:pt x="25130" y="21600"/>
                </a:lnTo>
                <a:lnTo>
                  <a:pt x="0" y="21600"/>
                </a:lnTo>
                <a:close/>
              </a:path>
              <a:path fill="lightenLess" w="25130" h="21600">
                <a:moveTo>
                  <a:pt x="0" y="0"/>
                </a:moveTo>
                <a:lnTo>
                  <a:pt x="25130" y="0"/>
                </a:lnTo>
                <a:lnTo>
                  <a:pt x="23730" y="1400"/>
                </a:lnTo>
                <a:lnTo>
                  <a:pt x="1400" y="1400"/>
                </a:lnTo>
                <a:close/>
              </a:path>
              <a:path fill="darken" w="25130" h="21600">
                <a:moveTo>
                  <a:pt x="25130" y="0"/>
                </a:moveTo>
                <a:lnTo>
                  <a:pt x="25130" y="21600"/>
                </a:lnTo>
                <a:lnTo>
                  <a:pt x="23730" y="20200"/>
                </a:lnTo>
                <a:lnTo>
                  <a:pt x="23730" y="1400"/>
                </a:lnTo>
                <a:close/>
              </a:path>
              <a:path fill="darkenLess" w="25130" h="21600">
                <a:moveTo>
                  <a:pt x="25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30" y="20200"/>
                </a:lnTo>
                <a:close/>
              </a:path>
              <a:path fill="lighten" w="25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30" h="21600">
                <a:moveTo>
                  <a:pt x="12565" y="3837"/>
                </a:moveTo>
                <a:lnTo>
                  <a:pt x="15141" y="6448"/>
                </a:lnTo>
                <a:lnTo>
                  <a:pt x="15141" y="4707"/>
                </a:lnTo>
                <a:lnTo>
                  <a:pt x="16917" y="4707"/>
                </a:lnTo>
                <a:lnTo>
                  <a:pt x="16917" y="8224"/>
                </a:lnTo>
                <a:lnTo>
                  <a:pt x="19528" y="10800"/>
                </a:lnTo>
                <a:lnTo>
                  <a:pt x="17874" y="10800"/>
                </a:lnTo>
                <a:lnTo>
                  <a:pt x="17874" y="17989"/>
                </a:lnTo>
                <a:lnTo>
                  <a:pt x="7256" y="17989"/>
                </a:lnTo>
                <a:lnTo>
                  <a:pt x="7256" y="10800"/>
                </a:lnTo>
                <a:lnTo>
                  <a:pt x="5602" y="10800"/>
                </a:lnTo>
                <a:close/>
              </a:path>
              <a:path fill="darkenLess" w="25130" h="21600">
                <a:moveTo>
                  <a:pt x="15141" y="6448"/>
                </a:moveTo>
                <a:lnTo>
                  <a:pt x="15141" y="4707"/>
                </a:lnTo>
                <a:lnTo>
                  <a:pt x="16917" y="4707"/>
                </a:lnTo>
                <a:lnTo>
                  <a:pt x="16917" y="8224"/>
                </a:lnTo>
                <a:close/>
              </a:path>
              <a:path fill="darkenLess" w="25130" h="21600">
                <a:moveTo>
                  <a:pt x="11643" y="14299"/>
                </a:moveTo>
                <a:lnTo>
                  <a:pt x="13488" y="14299"/>
                </a:lnTo>
                <a:lnTo>
                  <a:pt x="13488" y="17989"/>
                </a:lnTo>
                <a:lnTo>
                  <a:pt x="17874" y="17989"/>
                </a:lnTo>
                <a:lnTo>
                  <a:pt x="17874" y="10800"/>
                </a:lnTo>
                <a:lnTo>
                  <a:pt x="7256" y="10800"/>
                </a:lnTo>
                <a:lnTo>
                  <a:pt x="7256" y="17989"/>
                </a:lnTo>
                <a:lnTo>
                  <a:pt x="11643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13920" y="1599840"/>
            <a:ext cx="700092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специальная часть дороги вдоль проезжей части, предназначенная для движения пешеходов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14200" y="4600440"/>
            <a:ext cx="2000520" cy="2000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7">
            <a:hlinkClick r:id="" action="ppaction://hlinkshowjump?jump=nextslide"/>
          </p:cNvPr>
          <p:cNvSpPr/>
          <p:nvPr/>
        </p:nvSpPr>
        <p:spPr>
          <a:xfrm>
            <a:off x="7286760" y="5929200"/>
            <a:ext cx="642960" cy="7905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90560"/>
              <a:gd name="textAreaBottom" fmla="*/ 749160 h 790560"/>
            </a:gdLst>
            <a:ahLst/>
            <a:rect l="textAreaLeft" t="textAreaTop" r="textAreaRight" b="textAreaBottom"/>
            <a:pathLst>
              <a:path w="21600" h="26556">
                <a:moveTo>
                  <a:pt x="0" y="0"/>
                </a:moveTo>
                <a:lnTo>
                  <a:pt x="21600" y="0"/>
                </a:lnTo>
                <a:lnTo>
                  <a:pt x="21600" y="26556"/>
                </a:lnTo>
                <a:lnTo>
                  <a:pt x="0" y="26556"/>
                </a:lnTo>
                <a:close/>
              </a:path>
              <a:path fill="lightenLess" w="21600" h="26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56">
                <a:moveTo>
                  <a:pt x="21600" y="0"/>
                </a:moveTo>
                <a:lnTo>
                  <a:pt x="21600" y="26556"/>
                </a:lnTo>
                <a:lnTo>
                  <a:pt x="20200" y="25156"/>
                </a:lnTo>
                <a:lnTo>
                  <a:pt x="20200" y="1400"/>
                </a:lnTo>
                <a:close/>
              </a:path>
              <a:path fill="darkenLess" w="21600" h="26556">
                <a:moveTo>
                  <a:pt x="21600" y="26556"/>
                </a:moveTo>
                <a:lnTo>
                  <a:pt x="0" y="26556"/>
                </a:lnTo>
                <a:lnTo>
                  <a:pt x="1400" y="25156"/>
                </a:lnTo>
                <a:lnTo>
                  <a:pt x="20200" y="25156"/>
                </a:lnTo>
                <a:close/>
              </a:path>
              <a:path fill="lighten" w="21600" h="26556">
                <a:moveTo>
                  <a:pt x="0" y="26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56"/>
                </a:lnTo>
                <a:close/>
              </a:path>
              <a:path fill="darken" w="21600" h="26556">
                <a:moveTo>
                  <a:pt x="3794" y="6271"/>
                </a:moveTo>
                <a:lnTo>
                  <a:pt x="17806" y="13278"/>
                </a:lnTo>
                <a:lnTo>
                  <a:pt x="3794" y="202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961640"/>
            <a:ext cx="392904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5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туа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20840" y="3925800"/>
            <a:ext cx="3297240" cy="2511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7"/>
          <p:cNvSpPr/>
          <p:nvPr/>
        </p:nvSpPr>
        <p:spPr>
          <a:xfrm>
            <a:off x="7308720" y="6072120"/>
            <a:ext cx="763560" cy="596880"/>
          </a:xfrm>
          <a:custGeom>
            <a:avLst/>
            <a:gdLst>
              <a:gd name="textAreaLeft" fmla="*/ 38520 w 763560"/>
              <a:gd name="textAreaRight" fmla="*/ 725040 w 763560"/>
              <a:gd name="textAreaTop" fmla="*/ 38520 h 596880"/>
              <a:gd name="textAreaBottom" fmla="*/ 558360 h 596880"/>
            </a:gdLst>
            <a:ahLst/>
            <a:rect l="textAreaLeft" t="textAreaTop" r="textAreaRight" b="textAreaBottom"/>
            <a:pathLst>
              <a:path w="27628" h="21600">
                <a:moveTo>
                  <a:pt x="0" y="0"/>
                </a:moveTo>
                <a:lnTo>
                  <a:pt x="27628" y="0"/>
                </a:lnTo>
                <a:lnTo>
                  <a:pt x="27628" y="21600"/>
                </a:lnTo>
                <a:lnTo>
                  <a:pt x="0" y="21600"/>
                </a:lnTo>
                <a:close/>
              </a:path>
              <a:path fill="lightenLess" w="27628" h="21600">
                <a:moveTo>
                  <a:pt x="0" y="0"/>
                </a:moveTo>
                <a:lnTo>
                  <a:pt x="27628" y="0"/>
                </a:lnTo>
                <a:lnTo>
                  <a:pt x="26228" y="1400"/>
                </a:lnTo>
                <a:lnTo>
                  <a:pt x="1400" y="1400"/>
                </a:lnTo>
                <a:close/>
              </a:path>
              <a:path fill="darken" w="27628" h="21600">
                <a:moveTo>
                  <a:pt x="27628" y="0"/>
                </a:moveTo>
                <a:lnTo>
                  <a:pt x="27628" y="21600"/>
                </a:lnTo>
                <a:lnTo>
                  <a:pt x="26228" y="20200"/>
                </a:lnTo>
                <a:lnTo>
                  <a:pt x="26228" y="1400"/>
                </a:lnTo>
                <a:close/>
              </a:path>
              <a:path fill="darkenLess" w="27628" h="21600">
                <a:moveTo>
                  <a:pt x="27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28" y="20200"/>
                </a:lnTo>
                <a:close/>
              </a:path>
              <a:path fill="lighten" w="27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28" h="21600">
                <a:moveTo>
                  <a:pt x="13814" y="3837"/>
                </a:moveTo>
                <a:lnTo>
                  <a:pt x="16390" y="6448"/>
                </a:lnTo>
                <a:lnTo>
                  <a:pt x="16390" y="4707"/>
                </a:lnTo>
                <a:lnTo>
                  <a:pt x="18166" y="4707"/>
                </a:lnTo>
                <a:lnTo>
                  <a:pt x="18166" y="8224"/>
                </a:lnTo>
                <a:lnTo>
                  <a:pt x="20777" y="10800"/>
                </a:lnTo>
                <a:lnTo>
                  <a:pt x="19123" y="10800"/>
                </a:lnTo>
                <a:lnTo>
                  <a:pt x="19123" y="17989"/>
                </a:lnTo>
                <a:lnTo>
                  <a:pt x="8505" y="17989"/>
                </a:lnTo>
                <a:lnTo>
                  <a:pt x="8505" y="10800"/>
                </a:lnTo>
                <a:lnTo>
                  <a:pt x="6851" y="10800"/>
                </a:lnTo>
                <a:close/>
              </a:path>
              <a:path fill="darkenLess" w="27628" h="21600">
                <a:moveTo>
                  <a:pt x="16390" y="6448"/>
                </a:moveTo>
                <a:lnTo>
                  <a:pt x="16390" y="4707"/>
                </a:lnTo>
                <a:lnTo>
                  <a:pt x="18166" y="4707"/>
                </a:lnTo>
                <a:lnTo>
                  <a:pt x="18166" y="8224"/>
                </a:lnTo>
                <a:close/>
              </a:path>
              <a:path fill="darkenLess" w="27628" h="21600">
                <a:moveTo>
                  <a:pt x="12892" y="14299"/>
                </a:moveTo>
                <a:lnTo>
                  <a:pt x="14737" y="14299"/>
                </a:lnTo>
                <a:lnTo>
                  <a:pt x="14737" y="17989"/>
                </a:lnTo>
                <a:lnTo>
                  <a:pt x="19123" y="17989"/>
                </a:lnTo>
                <a:lnTo>
                  <a:pt x="19123" y="10800"/>
                </a:lnTo>
                <a:lnTo>
                  <a:pt x="8505" y="10800"/>
                </a:lnTo>
                <a:lnTo>
                  <a:pt x="8505" y="17989"/>
                </a:lnTo>
                <a:lnTo>
                  <a:pt x="1289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330280"/>
            <a:ext cx="804384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должны ходить пешеходы при отсутствии тротуа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485784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6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071800" y="5929200"/>
            <a:ext cx="571320" cy="75744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57440"/>
              <a:gd name="textAreaBottom" fmla="*/ 720720 h 757440"/>
            </a:gdLst>
            <a:ahLst/>
            <a:rect l="textAreaLeft" t="textAreaTop" r="textAreaRight" b="textAreaBottom"/>
            <a:pathLst>
              <a:path w="21600" h="28632">
                <a:moveTo>
                  <a:pt x="0" y="0"/>
                </a:moveTo>
                <a:lnTo>
                  <a:pt x="21600" y="0"/>
                </a:lnTo>
                <a:lnTo>
                  <a:pt x="21600" y="28632"/>
                </a:lnTo>
                <a:lnTo>
                  <a:pt x="0" y="28632"/>
                </a:lnTo>
                <a:close/>
              </a:path>
              <a:path fill="lightenLess" w="21600" h="28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32">
                <a:moveTo>
                  <a:pt x="21600" y="0"/>
                </a:moveTo>
                <a:lnTo>
                  <a:pt x="21600" y="28632"/>
                </a:lnTo>
                <a:lnTo>
                  <a:pt x="20200" y="27232"/>
                </a:lnTo>
                <a:lnTo>
                  <a:pt x="20200" y="1400"/>
                </a:lnTo>
                <a:close/>
              </a:path>
              <a:path fill="darkenLess" w="21600" h="28632">
                <a:moveTo>
                  <a:pt x="21600" y="28632"/>
                </a:moveTo>
                <a:lnTo>
                  <a:pt x="0" y="28632"/>
                </a:lnTo>
                <a:lnTo>
                  <a:pt x="1400" y="27232"/>
                </a:lnTo>
                <a:lnTo>
                  <a:pt x="20200" y="27232"/>
                </a:lnTo>
                <a:close/>
              </a:path>
              <a:path fill="lighten" w="21600" h="28632">
                <a:moveTo>
                  <a:pt x="0" y="28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32"/>
                </a:lnTo>
                <a:close/>
              </a:path>
              <a:path fill="darken" w="21600" h="28632">
                <a:moveTo>
                  <a:pt x="3794" y="7310"/>
                </a:moveTo>
                <a:lnTo>
                  <a:pt x="17806" y="14316"/>
                </a:lnTo>
                <a:lnTo>
                  <a:pt x="3794" y="2132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 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6164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левой стороне обочины, навстречу движения транспортных средств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64" name="Управляющая кнопка: домой 4"/>
          <p:cNvSpPr/>
          <p:nvPr/>
        </p:nvSpPr>
        <p:spPr>
          <a:xfrm>
            <a:off x="7358040" y="6000840"/>
            <a:ext cx="642960" cy="68580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85800"/>
              <a:gd name="textAreaBottom" fmla="*/ 644400 h 685800"/>
            </a:gdLst>
            <a:ahLst/>
            <a:rect l="textAreaLeft" t="textAreaTop" r="textAreaRight" b="textAreaBottom"/>
            <a:pathLst>
              <a:path w="21600" h="23038">
                <a:moveTo>
                  <a:pt x="0" y="0"/>
                </a:moveTo>
                <a:lnTo>
                  <a:pt x="21600" y="0"/>
                </a:lnTo>
                <a:lnTo>
                  <a:pt x="21600" y="23038"/>
                </a:lnTo>
                <a:lnTo>
                  <a:pt x="0" y="23038"/>
                </a:lnTo>
                <a:close/>
              </a:path>
              <a:path fill="lightenLess" w="21600" h="230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8">
                <a:moveTo>
                  <a:pt x="21600" y="0"/>
                </a:moveTo>
                <a:lnTo>
                  <a:pt x="21600" y="23038"/>
                </a:lnTo>
                <a:lnTo>
                  <a:pt x="20200" y="21638"/>
                </a:lnTo>
                <a:lnTo>
                  <a:pt x="20200" y="1400"/>
                </a:lnTo>
                <a:close/>
              </a:path>
              <a:path fill="darkenLess" w="21600" h="23038">
                <a:moveTo>
                  <a:pt x="21600" y="23038"/>
                </a:moveTo>
                <a:lnTo>
                  <a:pt x="0" y="23038"/>
                </a:lnTo>
                <a:lnTo>
                  <a:pt x="1400" y="21638"/>
                </a:lnTo>
                <a:lnTo>
                  <a:pt x="20200" y="21638"/>
                </a:lnTo>
                <a:close/>
              </a:path>
              <a:path fill="lighten" w="21600" h="23038">
                <a:moveTo>
                  <a:pt x="0" y="230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8"/>
                </a:lnTo>
                <a:close/>
              </a:path>
              <a:path fill="darken" w="21600" h="23038">
                <a:moveTo>
                  <a:pt x="10800" y="4556"/>
                </a:moveTo>
                <a:lnTo>
                  <a:pt x="13376" y="7167"/>
                </a:lnTo>
                <a:lnTo>
                  <a:pt x="13376" y="5427"/>
                </a:lnTo>
                <a:lnTo>
                  <a:pt x="15152" y="5427"/>
                </a:lnTo>
                <a:lnTo>
                  <a:pt x="15152" y="8943"/>
                </a:lnTo>
                <a:lnTo>
                  <a:pt x="17763" y="11519"/>
                </a:lnTo>
                <a:lnTo>
                  <a:pt x="16109" y="11519"/>
                </a:lnTo>
                <a:lnTo>
                  <a:pt x="16109" y="18708"/>
                </a:lnTo>
                <a:lnTo>
                  <a:pt x="5491" y="18708"/>
                </a:lnTo>
                <a:lnTo>
                  <a:pt x="5491" y="11519"/>
                </a:lnTo>
                <a:lnTo>
                  <a:pt x="3837" y="11519"/>
                </a:lnTo>
                <a:close/>
              </a:path>
              <a:path fill="darkenLess" w="21600" h="23038">
                <a:moveTo>
                  <a:pt x="13376" y="7167"/>
                </a:moveTo>
                <a:lnTo>
                  <a:pt x="13376" y="5427"/>
                </a:lnTo>
                <a:lnTo>
                  <a:pt x="15152" y="5427"/>
                </a:lnTo>
                <a:lnTo>
                  <a:pt x="15152" y="8943"/>
                </a:lnTo>
                <a:close/>
              </a:path>
              <a:path fill="darkenLess" w="21600" h="23038">
                <a:moveTo>
                  <a:pt x="9877" y="15018"/>
                </a:moveTo>
                <a:lnTo>
                  <a:pt x="11723" y="15018"/>
                </a:lnTo>
                <a:lnTo>
                  <a:pt x="11723" y="18708"/>
                </a:lnTo>
                <a:lnTo>
                  <a:pt x="16109" y="18708"/>
                </a:lnTo>
                <a:lnTo>
                  <a:pt x="16109" y="11519"/>
                </a:lnTo>
                <a:lnTo>
                  <a:pt x="5491" y="11519"/>
                </a:lnTo>
                <a:lnTo>
                  <a:pt x="5491" y="18708"/>
                </a:lnTo>
                <a:lnTo>
                  <a:pt x="9877" y="1870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600200"/>
            <a:ext cx="78296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 остановился на остановке, вы вышли из него. Как правильно переходить дорогу при выходе из транспорт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obz043i.bmp"/>
          <p:cNvPicPr/>
          <p:nvPr/>
        </p:nvPicPr>
        <p:blipFill>
          <a:blip r:embed="rId1"/>
          <a:stretch/>
        </p:blipFill>
        <p:spPr>
          <a:xfrm>
            <a:off x="3067200" y="3992400"/>
            <a:ext cx="3509640" cy="262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69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85840" y="5929200"/>
            <a:ext cx="714240" cy="685800"/>
          </a:xfrm>
          <a:custGeom>
            <a:avLst/>
            <a:gdLst>
              <a:gd name="textAreaLeft" fmla="*/ 44280 w 714240"/>
              <a:gd name="textAreaRight" fmla="*/ 669960 w 714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2495" h="21600">
                <a:moveTo>
                  <a:pt x="0" y="0"/>
                </a:moveTo>
                <a:lnTo>
                  <a:pt x="22495" y="0"/>
                </a:lnTo>
                <a:lnTo>
                  <a:pt x="22495" y="21600"/>
                </a:lnTo>
                <a:lnTo>
                  <a:pt x="0" y="21600"/>
                </a:lnTo>
                <a:close/>
              </a:path>
              <a:path fill="lightenLess" w="22495" h="21600">
                <a:moveTo>
                  <a:pt x="0" y="0"/>
                </a:moveTo>
                <a:lnTo>
                  <a:pt x="22495" y="0"/>
                </a:lnTo>
                <a:lnTo>
                  <a:pt x="21095" y="1400"/>
                </a:lnTo>
                <a:lnTo>
                  <a:pt x="1400" y="1400"/>
                </a:lnTo>
                <a:close/>
              </a:path>
              <a:path fill="darken" w="22495" h="21600">
                <a:moveTo>
                  <a:pt x="22495" y="0"/>
                </a:moveTo>
                <a:lnTo>
                  <a:pt x="22495" y="21600"/>
                </a:lnTo>
                <a:lnTo>
                  <a:pt x="21095" y="20200"/>
                </a:lnTo>
                <a:lnTo>
                  <a:pt x="21095" y="1400"/>
                </a:lnTo>
                <a:close/>
              </a:path>
              <a:path fill="darkenLess" w="22495" h="21600">
                <a:moveTo>
                  <a:pt x="2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95" y="20200"/>
                </a:lnTo>
                <a:close/>
              </a:path>
              <a:path fill="lighten" w="2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95" h="21600">
                <a:moveTo>
                  <a:pt x="4241" y="3794"/>
                </a:moveTo>
                <a:lnTo>
                  <a:pt x="18254" y="10800"/>
                </a:lnTo>
                <a:lnTo>
                  <a:pt x="424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814040"/>
            <a:ext cx="761508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лько после того, как автобус отъехал, дойти до ближайшего пешеходного перехода или перекрёстка и начать пере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440" indent="-22644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User\Рабочий стол\для презентации\пдд картинки 2\DSC01104.JPG"/>
          <p:cNvPicPr/>
          <p:nvPr/>
        </p:nvPicPr>
        <p:blipFill>
          <a:blip r:embed="rId1"/>
          <a:stretch/>
        </p:blipFill>
        <p:spPr>
          <a:xfrm>
            <a:off x="3067200" y="4065480"/>
            <a:ext cx="3504960" cy="2584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домой 5"/>
          <p:cNvSpPr/>
          <p:nvPr/>
        </p:nvSpPr>
        <p:spPr>
          <a:xfrm>
            <a:off x="7429680" y="6143760"/>
            <a:ext cx="642600" cy="571320"/>
          </a:xfrm>
          <a:custGeom>
            <a:avLst/>
            <a:gdLst>
              <a:gd name="textAreaLeft" fmla="*/ 36720 w 642600"/>
              <a:gd name="textAreaRight" fmla="*/ 605880 w 6426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293" h="21600">
                <a:moveTo>
                  <a:pt x="0" y="0"/>
                </a:moveTo>
                <a:lnTo>
                  <a:pt x="24293" y="0"/>
                </a:lnTo>
                <a:lnTo>
                  <a:pt x="24293" y="21600"/>
                </a:lnTo>
                <a:lnTo>
                  <a:pt x="0" y="21600"/>
                </a:lnTo>
                <a:close/>
              </a:path>
              <a:path fill="lightenLess" w="24293" h="21600">
                <a:moveTo>
                  <a:pt x="0" y="0"/>
                </a:moveTo>
                <a:lnTo>
                  <a:pt x="24293" y="0"/>
                </a:lnTo>
                <a:lnTo>
                  <a:pt x="22893" y="1400"/>
                </a:lnTo>
                <a:lnTo>
                  <a:pt x="1400" y="1400"/>
                </a:lnTo>
                <a:close/>
              </a:path>
              <a:path fill="darken" w="24293" h="21600">
                <a:moveTo>
                  <a:pt x="24293" y="0"/>
                </a:moveTo>
                <a:lnTo>
                  <a:pt x="24293" y="21600"/>
                </a:lnTo>
                <a:lnTo>
                  <a:pt x="22893" y="20200"/>
                </a:lnTo>
                <a:lnTo>
                  <a:pt x="22893" y="1400"/>
                </a:lnTo>
                <a:close/>
              </a:path>
              <a:path fill="darkenLess" w="24293" h="21600">
                <a:moveTo>
                  <a:pt x="24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3" y="20200"/>
                </a:lnTo>
                <a:close/>
              </a:path>
              <a:path fill="lighten" w="24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3" h="21600">
                <a:moveTo>
                  <a:pt x="12147" y="3837"/>
                </a:moveTo>
                <a:lnTo>
                  <a:pt x="14723" y="6448"/>
                </a:lnTo>
                <a:lnTo>
                  <a:pt x="14723" y="4707"/>
                </a:lnTo>
                <a:lnTo>
                  <a:pt x="16498" y="4707"/>
                </a:lnTo>
                <a:lnTo>
                  <a:pt x="16498" y="8224"/>
                </a:lnTo>
                <a:lnTo>
                  <a:pt x="19110" y="10800"/>
                </a:lnTo>
                <a:lnTo>
                  <a:pt x="17456" y="10800"/>
                </a:lnTo>
                <a:lnTo>
                  <a:pt x="17456" y="17989"/>
                </a:lnTo>
                <a:lnTo>
                  <a:pt x="6837" y="17989"/>
                </a:lnTo>
                <a:lnTo>
                  <a:pt x="6837" y="10800"/>
                </a:lnTo>
                <a:lnTo>
                  <a:pt x="5184" y="10800"/>
                </a:lnTo>
                <a:close/>
              </a:path>
              <a:path fill="darkenLess" w="24293" h="21600">
                <a:moveTo>
                  <a:pt x="14723" y="6448"/>
                </a:moveTo>
                <a:lnTo>
                  <a:pt x="14723" y="4707"/>
                </a:lnTo>
                <a:lnTo>
                  <a:pt x="16498" y="4707"/>
                </a:lnTo>
                <a:lnTo>
                  <a:pt x="16498" y="8224"/>
                </a:lnTo>
                <a:close/>
              </a:path>
              <a:path fill="darkenLess" w="24293" h="21600">
                <a:moveTo>
                  <a:pt x="11224" y="14299"/>
                </a:moveTo>
                <a:lnTo>
                  <a:pt x="13069" y="14299"/>
                </a:lnTo>
                <a:lnTo>
                  <a:pt x="13069" y="17989"/>
                </a:lnTo>
                <a:lnTo>
                  <a:pt x="17456" y="17989"/>
                </a:lnTo>
                <a:lnTo>
                  <a:pt x="17456" y="10800"/>
                </a:lnTo>
                <a:lnTo>
                  <a:pt x="6837" y="10800"/>
                </a:lnTo>
                <a:lnTo>
                  <a:pt x="6837" y="17989"/>
                </a:lnTo>
                <a:lnTo>
                  <a:pt x="1122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12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разрешается переходить проезжую часть, если в зоне видимости нет перехода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852560" y="3852720"/>
            <a:ext cx="5700600" cy="2840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214200" y="6000840"/>
            <a:ext cx="642960" cy="61416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2612" h="21600">
                <a:moveTo>
                  <a:pt x="0" y="0"/>
                </a:moveTo>
                <a:lnTo>
                  <a:pt x="22612" y="0"/>
                </a:lnTo>
                <a:lnTo>
                  <a:pt x="22612" y="21600"/>
                </a:lnTo>
                <a:lnTo>
                  <a:pt x="0" y="21600"/>
                </a:lnTo>
                <a:close/>
              </a:path>
              <a:path fill="lightenLess" w="22612" h="21600">
                <a:moveTo>
                  <a:pt x="0" y="0"/>
                </a:moveTo>
                <a:lnTo>
                  <a:pt x="22612" y="0"/>
                </a:lnTo>
                <a:lnTo>
                  <a:pt x="21212" y="1400"/>
                </a:lnTo>
                <a:lnTo>
                  <a:pt x="1400" y="1400"/>
                </a:lnTo>
                <a:close/>
              </a:path>
              <a:path fill="darken" w="22612" h="21600">
                <a:moveTo>
                  <a:pt x="22612" y="0"/>
                </a:moveTo>
                <a:lnTo>
                  <a:pt x="22612" y="21600"/>
                </a:lnTo>
                <a:lnTo>
                  <a:pt x="21212" y="20200"/>
                </a:lnTo>
                <a:lnTo>
                  <a:pt x="21212" y="1400"/>
                </a:lnTo>
                <a:close/>
              </a:path>
              <a:path fill="darkenLess" w="22612" h="21600">
                <a:moveTo>
                  <a:pt x="22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12" y="20200"/>
                </a:lnTo>
                <a:close/>
              </a:path>
              <a:path fill="lighten" w="22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12" h="21600">
                <a:moveTo>
                  <a:pt x="4300" y="3794"/>
                </a:moveTo>
                <a:lnTo>
                  <a:pt x="18313" y="10800"/>
                </a:lnTo>
                <a:lnTo>
                  <a:pt x="430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000"/>
                </a:solidFill>
                <a:latin typeface="Arial"/>
              </a:rPr>
              <a:t>«Мы – пешеходы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9720" y="2109960"/>
            <a:ext cx="7286760" cy="19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хорошо просматриваемом участке дороги, если нет ограждений, под прямым углом к проезжей части дороги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 algn="ctr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828684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83" name="Управляющая кнопка: домой 4"/>
          <p:cNvSpPr/>
          <p:nvPr/>
        </p:nvSpPr>
        <p:spPr>
          <a:xfrm>
            <a:off x="7286760" y="6072120"/>
            <a:ext cx="714240" cy="614520"/>
          </a:xfrm>
          <a:custGeom>
            <a:avLst/>
            <a:gdLst>
              <a:gd name="textAreaLeft" fmla="*/ 39600 w 714240"/>
              <a:gd name="textAreaRight" fmla="*/ 674640 w 71424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5103" h="21600">
                <a:moveTo>
                  <a:pt x="0" y="0"/>
                </a:moveTo>
                <a:lnTo>
                  <a:pt x="25103" y="0"/>
                </a:lnTo>
                <a:lnTo>
                  <a:pt x="25103" y="21600"/>
                </a:lnTo>
                <a:lnTo>
                  <a:pt x="0" y="21600"/>
                </a:lnTo>
                <a:close/>
              </a:path>
              <a:path fill="lightenLess" w="25103" h="21600">
                <a:moveTo>
                  <a:pt x="0" y="0"/>
                </a:moveTo>
                <a:lnTo>
                  <a:pt x="25103" y="0"/>
                </a:lnTo>
                <a:lnTo>
                  <a:pt x="23703" y="1400"/>
                </a:lnTo>
                <a:lnTo>
                  <a:pt x="1400" y="1400"/>
                </a:lnTo>
                <a:close/>
              </a:path>
              <a:path fill="darken" w="25103" h="21600">
                <a:moveTo>
                  <a:pt x="25103" y="0"/>
                </a:moveTo>
                <a:lnTo>
                  <a:pt x="25103" y="21600"/>
                </a:lnTo>
                <a:lnTo>
                  <a:pt x="23703" y="20200"/>
                </a:lnTo>
                <a:lnTo>
                  <a:pt x="23703" y="1400"/>
                </a:lnTo>
                <a:close/>
              </a:path>
              <a:path fill="darkenLess" w="25103" h="21600">
                <a:moveTo>
                  <a:pt x="2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03" y="20200"/>
                </a:lnTo>
                <a:close/>
              </a:path>
              <a:path fill="lighten" w="2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03" h="21600">
                <a:moveTo>
                  <a:pt x="12552" y="3837"/>
                </a:moveTo>
                <a:lnTo>
                  <a:pt x="15128" y="6448"/>
                </a:lnTo>
                <a:lnTo>
                  <a:pt x="15128" y="4707"/>
                </a:lnTo>
                <a:lnTo>
                  <a:pt x="16903" y="4707"/>
                </a:lnTo>
                <a:lnTo>
                  <a:pt x="16903" y="8224"/>
                </a:lnTo>
                <a:lnTo>
                  <a:pt x="19514" y="10800"/>
                </a:lnTo>
                <a:lnTo>
                  <a:pt x="17861" y="10800"/>
                </a:lnTo>
                <a:lnTo>
                  <a:pt x="17861" y="17989"/>
                </a:lnTo>
                <a:lnTo>
                  <a:pt x="7242" y="17989"/>
                </a:lnTo>
                <a:lnTo>
                  <a:pt x="7242" y="10800"/>
                </a:lnTo>
                <a:lnTo>
                  <a:pt x="5589" y="10800"/>
                </a:lnTo>
                <a:close/>
              </a:path>
              <a:path fill="darkenLess" w="25103" h="21600">
                <a:moveTo>
                  <a:pt x="15128" y="6448"/>
                </a:moveTo>
                <a:lnTo>
                  <a:pt x="15128" y="4707"/>
                </a:lnTo>
                <a:lnTo>
                  <a:pt x="16903" y="4707"/>
                </a:lnTo>
                <a:lnTo>
                  <a:pt x="16903" y="8224"/>
                </a:lnTo>
                <a:close/>
              </a:path>
              <a:path fill="darkenLess" w="25103" h="21600">
                <a:moveTo>
                  <a:pt x="11629" y="14299"/>
                </a:moveTo>
                <a:lnTo>
                  <a:pt x="13474" y="14299"/>
                </a:lnTo>
                <a:lnTo>
                  <a:pt x="13474" y="17989"/>
                </a:lnTo>
                <a:lnTo>
                  <a:pt x="17861" y="17989"/>
                </a:lnTo>
                <a:lnTo>
                  <a:pt x="17861" y="10800"/>
                </a:lnTo>
                <a:lnTo>
                  <a:pt x="7242" y="10800"/>
                </a:lnTo>
                <a:lnTo>
                  <a:pt x="7242" y="17989"/>
                </a:lnTo>
                <a:lnTo>
                  <a:pt x="11629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30T13:33:05Z</dcterms:created>
  <dc:creator>Админ</dc:creator>
  <dc:description/>
  <dc:language>en-US</dc:language>
  <cp:lastModifiedBy>HP</cp:lastModifiedBy>
  <dcterms:modified xsi:type="dcterms:W3CDTF">2016-11-30T13:49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