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4BAA-5205-4FF8-92BD-F059B95F9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68B-95FB-48CA-AEC6-A0C1806249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3B4-13DC-4FD3-BF67-78544E02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276-2F03-4EB4-8137-76CECBE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01B-AF9C-4AA7-A6BD-E796172B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F80-538F-47D7-80FB-2230D682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0A9-6820-4C23-ADE5-1F23A2BC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0FC-248E-431A-8F6F-C21B780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D7B-40F1-47FB-A81E-F1E86B2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18E-9AB8-4F5D-B613-C9A3AE4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FFE-A1E6-455D-8A60-87557735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F0C-CB22-4A8D-AD40-9856A3E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D5A-F8BA-44F7-9552-EF278E3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345-5F82-446B-AE5F-831ED57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714-7DBA-4150-B206-80E9D7CD6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71400" y="1928880"/>
            <a:ext cx="60721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го возраста разрешается выезд на проезжую часть на велосипеде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928960" y="607212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57240" y="1814040"/>
            <a:ext cx="542952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жать на проезжую часть на велосипеде разрешается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4 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омой 5"/>
          <p:cNvSpPr/>
          <p:nvPr/>
        </p:nvSpPr>
        <p:spPr>
          <a:xfrm>
            <a:off x="7858080" y="5857920"/>
            <a:ext cx="857160" cy="757080"/>
          </a:xfrm>
          <a:custGeom>
            <a:avLst/>
            <a:gdLst>
              <a:gd name="textAreaLeft" fmla="*/ 48960 w 857160"/>
              <a:gd name="textAreaRight" fmla="*/ 808200 w 857160"/>
              <a:gd name="textAreaTop" fmla="*/ 48960 h 757080"/>
              <a:gd name="textAreaBottom" fmla="*/ 708120 h 757080"/>
            </a:gdLst>
            <a:ahLst/>
            <a:rect l="textAreaLeft" t="textAreaTop" r="textAreaRight" b="textAreaBottom"/>
            <a:pathLst>
              <a:path w="24454" h="21600">
                <a:moveTo>
                  <a:pt x="0" y="0"/>
                </a:moveTo>
                <a:lnTo>
                  <a:pt x="24454" y="0"/>
                </a:lnTo>
                <a:lnTo>
                  <a:pt x="24454" y="21600"/>
                </a:lnTo>
                <a:lnTo>
                  <a:pt x="0" y="21600"/>
                </a:lnTo>
                <a:close/>
              </a:path>
              <a:path fill="lightenLess" w="24454" h="21600">
                <a:moveTo>
                  <a:pt x="0" y="0"/>
                </a:moveTo>
                <a:lnTo>
                  <a:pt x="24454" y="0"/>
                </a:lnTo>
                <a:lnTo>
                  <a:pt x="23054" y="1400"/>
                </a:lnTo>
                <a:lnTo>
                  <a:pt x="1400" y="1400"/>
                </a:lnTo>
                <a:close/>
              </a:path>
              <a:path fill="darken" w="24454" h="21600">
                <a:moveTo>
                  <a:pt x="24454" y="0"/>
                </a:moveTo>
                <a:lnTo>
                  <a:pt x="24454" y="21600"/>
                </a:lnTo>
                <a:lnTo>
                  <a:pt x="23054" y="20200"/>
                </a:lnTo>
                <a:lnTo>
                  <a:pt x="23054" y="1400"/>
                </a:lnTo>
                <a:close/>
              </a:path>
              <a:path fill="darkenLess" w="24454" h="21600">
                <a:moveTo>
                  <a:pt x="24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4" y="20200"/>
                </a:lnTo>
                <a:close/>
              </a:path>
              <a:path fill="lighten" w="24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4" h="21600">
                <a:moveTo>
                  <a:pt x="12227" y="3837"/>
                </a:moveTo>
                <a:lnTo>
                  <a:pt x="14803" y="6448"/>
                </a:ln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lnTo>
                  <a:pt x="19190" y="10800"/>
                </a:lnTo>
                <a:lnTo>
                  <a:pt x="17536" y="10800"/>
                </a:lnTo>
                <a:lnTo>
                  <a:pt x="17536" y="17989"/>
                </a:lnTo>
                <a:lnTo>
                  <a:pt x="6918" y="17989"/>
                </a:lnTo>
                <a:lnTo>
                  <a:pt x="6918" y="10800"/>
                </a:lnTo>
                <a:lnTo>
                  <a:pt x="5264" y="10800"/>
                </a:lnTo>
                <a:close/>
              </a:path>
              <a:path fill="darkenLess" w="24454" h="21600">
                <a:moveTo>
                  <a:pt x="14803" y="6448"/>
                </a:moveTo>
                <a:lnTo>
                  <a:pt x="14803" y="4707"/>
                </a:lnTo>
                <a:lnTo>
                  <a:pt x="16579" y="4707"/>
                </a:lnTo>
                <a:lnTo>
                  <a:pt x="16579" y="8224"/>
                </a:lnTo>
                <a:close/>
              </a:path>
              <a:path fill="darkenLess" w="24454" h="21600">
                <a:moveTo>
                  <a:pt x="11304" y="14299"/>
                </a:moveTo>
                <a:lnTo>
                  <a:pt x="13150" y="14299"/>
                </a:lnTo>
                <a:lnTo>
                  <a:pt x="13150" y="17989"/>
                </a:lnTo>
                <a:lnTo>
                  <a:pt x="17536" y="17989"/>
                </a:lnTo>
                <a:lnTo>
                  <a:pt x="17536" y="10800"/>
                </a:lnTo>
                <a:lnTo>
                  <a:pt x="6918" y="10800"/>
                </a:lnTo>
                <a:lnTo>
                  <a:pt x="6918" y="17989"/>
                </a:lnTo>
                <a:lnTo>
                  <a:pt x="1130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28640" y="1887120"/>
            <a:ext cx="37148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этот сигнал велосипедис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7715160" y="5715000"/>
            <a:ext cx="857520" cy="828720"/>
          </a:xfrm>
          <a:custGeom>
            <a:avLst/>
            <a:gdLst>
              <a:gd name="textAreaLeft" fmla="*/ 53640 w 857520"/>
              <a:gd name="textAreaRight" fmla="*/ 803880 w 8575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2350" h="21600">
                <a:moveTo>
                  <a:pt x="0" y="0"/>
                </a:moveTo>
                <a:lnTo>
                  <a:pt x="22350" y="0"/>
                </a:lnTo>
                <a:lnTo>
                  <a:pt x="22350" y="21600"/>
                </a:lnTo>
                <a:lnTo>
                  <a:pt x="0" y="21600"/>
                </a:lnTo>
                <a:close/>
              </a:path>
              <a:path fill="lightenLess" w="22350" h="21600">
                <a:moveTo>
                  <a:pt x="0" y="0"/>
                </a:moveTo>
                <a:lnTo>
                  <a:pt x="22350" y="0"/>
                </a:lnTo>
                <a:lnTo>
                  <a:pt x="20950" y="1400"/>
                </a:lnTo>
                <a:lnTo>
                  <a:pt x="1400" y="1400"/>
                </a:lnTo>
                <a:close/>
              </a:path>
              <a:path fill="darken" w="22350" h="21600">
                <a:moveTo>
                  <a:pt x="22350" y="0"/>
                </a:moveTo>
                <a:lnTo>
                  <a:pt x="22350" y="21600"/>
                </a:lnTo>
                <a:lnTo>
                  <a:pt x="20950" y="20200"/>
                </a:lnTo>
                <a:lnTo>
                  <a:pt x="20950" y="1400"/>
                </a:lnTo>
                <a:close/>
              </a:path>
              <a:path fill="darkenLess" w="22350" h="21600">
                <a:moveTo>
                  <a:pt x="223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50" y="20200"/>
                </a:lnTo>
                <a:close/>
              </a:path>
              <a:path fill="lighten" w="223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50" h="21600">
                <a:moveTo>
                  <a:pt x="4169" y="3794"/>
                </a:moveTo>
                <a:lnTo>
                  <a:pt x="18182" y="10800"/>
                </a:lnTo>
                <a:lnTo>
                  <a:pt x="416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663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– велосипедисты 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85720" y="1856880"/>
            <a:ext cx="50720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 велосипедиста означае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орот налев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омой 3"/>
          <p:cNvSpPr/>
          <p:nvPr/>
        </p:nvSpPr>
        <p:spPr>
          <a:xfrm>
            <a:off x="8001000" y="5786280"/>
            <a:ext cx="857160" cy="785880"/>
          </a:xfrm>
          <a:custGeom>
            <a:avLst/>
            <a:gdLst>
              <a:gd name="textAreaLeft" fmla="*/ 50760 w 857160"/>
              <a:gd name="textAreaRight" fmla="*/ 806400 w 85716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3558" h="21600">
                <a:moveTo>
                  <a:pt x="0" y="0"/>
                </a:moveTo>
                <a:lnTo>
                  <a:pt x="23558" y="0"/>
                </a:lnTo>
                <a:lnTo>
                  <a:pt x="23558" y="21600"/>
                </a:lnTo>
                <a:lnTo>
                  <a:pt x="0" y="21600"/>
                </a:lnTo>
                <a:close/>
              </a:path>
              <a:path fill="lightenLess" w="23558" h="21600">
                <a:moveTo>
                  <a:pt x="0" y="0"/>
                </a:moveTo>
                <a:lnTo>
                  <a:pt x="23558" y="0"/>
                </a:lnTo>
                <a:lnTo>
                  <a:pt x="22158" y="1400"/>
                </a:lnTo>
                <a:lnTo>
                  <a:pt x="1400" y="1400"/>
                </a:lnTo>
                <a:close/>
              </a:path>
              <a:path fill="darken" w="23558" h="21600">
                <a:moveTo>
                  <a:pt x="23558" y="0"/>
                </a:moveTo>
                <a:lnTo>
                  <a:pt x="23558" y="21600"/>
                </a:lnTo>
                <a:lnTo>
                  <a:pt x="22158" y="20200"/>
                </a:lnTo>
                <a:lnTo>
                  <a:pt x="22158" y="1400"/>
                </a:lnTo>
                <a:close/>
              </a:path>
              <a:path fill="darkenLess" w="23558" h="21600">
                <a:moveTo>
                  <a:pt x="23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8" y="20200"/>
                </a:lnTo>
                <a:close/>
              </a:path>
              <a:path fill="lighten" w="23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8" h="21600">
                <a:moveTo>
                  <a:pt x="11779" y="3837"/>
                </a:moveTo>
                <a:lnTo>
                  <a:pt x="14355" y="6448"/>
                </a:ln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lnTo>
                  <a:pt x="18742" y="10800"/>
                </a:lnTo>
                <a:lnTo>
                  <a:pt x="17088" y="10800"/>
                </a:lnTo>
                <a:lnTo>
                  <a:pt x="17088" y="17989"/>
                </a:lnTo>
                <a:lnTo>
                  <a:pt x="6470" y="17989"/>
                </a:lnTo>
                <a:lnTo>
                  <a:pt x="6470" y="10800"/>
                </a:lnTo>
                <a:lnTo>
                  <a:pt x="4816" y="10800"/>
                </a:lnTo>
                <a:close/>
              </a:path>
              <a:path fill="darkenLess" w="23558" h="21600">
                <a:moveTo>
                  <a:pt x="14355" y="6448"/>
                </a:moveTo>
                <a:lnTo>
                  <a:pt x="14355" y="4707"/>
                </a:lnTo>
                <a:lnTo>
                  <a:pt x="16131" y="4707"/>
                </a:lnTo>
                <a:lnTo>
                  <a:pt x="16131" y="8224"/>
                </a:lnTo>
                <a:close/>
              </a:path>
              <a:path fill="darkenLess" w="23558" h="21600">
                <a:moveTo>
                  <a:pt x="10857" y="14299"/>
                </a:moveTo>
                <a:lnTo>
                  <a:pt x="12702" y="14299"/>
                </a:lnTo>
                <a:lnTo>
                  <a:pt x="12702" y="17989"/>
                </a:lnTo>
                <a:lnTo>
                  <a:pt x="17088" y="17989"/>
                </a:lnTo>
                <a:lnTo>
                  <a:pt x="17088" y="10800"/>
                </a:lnTo>
                <a:lnTo>
                  <a:pt x="6470" y="10800"/>
                </a:lnTo>
                <a:lnTo>
                  <a:pt x="6470" y="17989"/>
                </a:lnTo>
                <a:lnTo>
                  <a:pt x="10857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Documents and Settings\User\Рабочий стол\DSC06178.JPG"/>
          <p:cNvPicPr/>
          <p:nvPr/>
        </p:nvPicPr>
        <p:blipFill>
          <a:blip r:embed="rId1"/>
          <a:stretch/>
        </p:blipFill>
        <p:spPr>
          <a:xfrm>
            <a:off x="420840" y="1920960"/>
            <a:ext cx="23716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9720" y="3507840"/>
            <a:ext cx="728676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37240" indent="-23724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ли право водитель велосипеда проезжать под этот знак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28760" y="585792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3794" y="4990"/>
                </a:moveTo>
                <a:lnTo>
                  <a:pt x="17806" y="11997"/>
                </a:lnTo>
                <a:lnTo>
                  <a:pt x="3794" y="1900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2987640" y="1627200"/>
            <a:ext cx="2955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1716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этот знак велосипедист проезжать </a:t>
            </a:r>
            <a:r>
              <a:rPr b="1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имеет прав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Управляющая кнопка: домой 6"/>
          <p:cNvSpPr/>
          <p:nvPr/>
        </p:nvSpPr>
        <p:spPr>
          <a:xfrm>
            <a:off x="7858080" y="592920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C:\Documents and Settings\User\Рабочий стол\DSC01098.JPG"/>
          <p:cNvPicPr/>
          <p:nvPr/>
        </p:nvPicPr>
        <p:blipFill>
          <a:blip r:embed="rId1"/>
          <a:stretch/>
        </p:blipFill>
        <p:spPr>
          <a:xfrm>
            <a:off x="3127320" y="1768320"/>
            <a:ext cx="281628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f0"/>
                </a:solidFill>
                <a:latin typeface="Arial"/>
              </a:rPr>
              <a:t>«Мы - велосипедист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714320" y="1600200"/>
            <a:ext cx="614340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лжны двигаться лица, ведущие велосипед, за пределами населённого пунк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428760" y="5929200"/>
            <a:ext cx="642960" cy="61452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2599" h="21600">
                <a:moveTo>
                  <a:pt x="0" y="0"/>
                </a:moveTo>
                <a:lnTo>
                  <a:pt x="22599" y="0"/>
                </a:lnTo>
                <a:lnTo>
                  <a:pt x="22599" y="21600"/>
                </a:lnTo>
                <a:lnTo>
                  <a:pt x="0" y="21600"/>
                </a:lnTo>
                <a:close/>
              </a:path>
              <a:path fill="lightenLess" w="22599" h="21600">
                <a:moveTo>
                  <a:pt x="0" y="0"/>
                </a:moveTo>
                <a:lnTo>
                  <a:pt x="22599" y="0"/>
                </a:lnTo>
                <a:lnTo>
                  <a:pt x="21199" y="1400"/>
                </a:lnTo>
                <a:lnTo>
                  <a:pt x="1400" y="1400"/>
                </a:lnTo>
                <a:close/>
              </a:path>
              <a:path fill="darken" w="22599" h="21600">
                <a:moveTo>
                  <a:pt x="22599" y="0"/>
                </a:moveTo>
                <a:lnTo>
                  <a:pt x="22599" y="21600"/>
                </a:lnTo>
                <a:lnTo>
                  <a:pt x="21199" y="20200"/>
                </a:lnTo>
                <a:lnTo>
                  <a:pt x="21199" y="1400"/>
                </a:lnTo>
                <a:close/>
              </a:path>
              <a:path fill="darkenLess" w="22599" h="21600">
                <a:moveTo>
                  <a:pt x="22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99" y="20200"/>
                </a:lnTo>
                <a:close/>
              </a:path>
              <a:path fill="lighten" w="22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99" h="21600">
                <a:moveTo>
                  <a:pt x="4293" y="3794"/>
                </a:moveTo>
                <a:lnTo>
                  <a:pt x="18306" y="10800"/>
                </a:lnTo>
                <a:lnTo>
                  <a:pt x="42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42924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7" descr=""/>
          <p:cNvPicPr/>
          <p:nvPr/>
        </p:nvPicPr>
        <p:blipFill>
          <a:blip r:embed="rId1"/>
          <a:stretch/>
        </p:blipFill>
        <p:spPr>
          <a:xfrm>
            <a:off x="530280" y="262080"/>
            <a:ext cx="8253360" cy="1017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33160" y="1643040"/>
            <a:ext cx="78548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раю проезжей част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ходу движения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ных средст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домой 4"/>
          <p:cNvSpPr/>
          <p:nvPr/>
        </p:nvSpPr>
        <p:spPr>
          <a:xfrm>
            <a:off x="8072280" y="6000840"/>
            <a:ext cx="714600" cy="685800"/>
          </a:xfrm>
          <a:custGeom>
            <a:avLst/>
            <a:gdLst>
              <a:gd name="textAreaLeft" fmla="*/ 44280 w 714600"/>
              <a:gd name="textAreaRight" fmla="*/ 670320 w 7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507" h="21600">
                <a:moveTo>
                  <a:pt x="0" y="0"/>
                </a:moveTo>
                <a:lnTo>
                  <a:pt x="22507" y="0"/>
                </a:lnTo>
                <a:lnTo>
                  <a:pt x="22507" y="21600"/>
                </a:lnTo>
                <a:lnTo>
                  <a:pt x="0" y="21600"/>
                </a:lnTo>
                <a:close/>
              </a:path>
              <a:path fill="lightenLess" w="22507" h="21600">
                <a:moveTo>
                  <a:pt x="0" y="0"/>
                </a:moveTo>
                <a:lnTo>
                  <a:pt x="22507" y="0"/>
                </a:lnTo>
                <a:lnTo>
                  <a:pt x="21107" y="1400"/>
                </a:lnTo>
                <a:lnTo>
                  <a:pt x="1400" y="1400"/>
                </a:lnTo>
                <a:close/>
              </a:path>
              <a:path fill="darken" w="22507" h="21600">
                <a:moveTo>
                  <a:pt x="22507" y="0"/>
                </a:moveTo>
                <a:lnTo>
                  <a:pt x="22507" y="21600"/>
                </a:lnTo>
                <a:lnTo>
                  <a:pt x="21107" y="20200"/>
                </a:lnTo>
                <a:lnTo>
                  <a:pt x="21107" y="1400"/>
                </a:lnTo>
                <a:close/>
              </a:path>
              <a:path fill="darkenLess" w="22507" h="21600">
                <a:moveTo>
                  <a:pt x="22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07" y="20200"/>
                </a:lnTo>
                <a:close/>
              </a:path>
              <a:path fill="lighten" w="22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07" h="21600">
                <a:moveTo>
                  <a:pt x="11253" y="3837"/>
                </a:moveTo>
                <a:lnTo>
                  <a:pt x="13830" y="6448"/>
                </a:ln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lnTo>
                  <a:pt x="18216" y="10800"/>
                </a:lnTo>
                <a:lnTo>
                  <a:pt x="16563" y="10800"/>
                </a:lnTo>
                <a:lnTo>
                  <a:pt x="16563" y="17989"/>
                </a:lnTo>
                <a:lnTo>
                  <a:pt x="5944" y="17989"/>
                </a:lnTo>
                <a:lnTo>
                  <a:pt x="5944" y="10800"/>
                </a:lnTo>
                <a:lnTo>
                  <a:pt x="4290" y="10800"/>
                </a:lnTo>
                <a:close/>
              </a:path>
              <a:path fill="darkenLess" w="22507" h="21600">
                <a:moveTo>
                  <a:pt x="13830" y="6448"/>
                </a:moveTo>
                <a:lnTo>
                  <a:pt x="13830" y="4707"/>
                </a:lnTo>
                <a:lnTo>
                  <a:pt x="15605" y="4707"/>
                </a:lnTo>
                <a:lnTo>
                  <a:pt x="15605" y="8224"/>
                </a:lnTo>
                <a:close/>
              </a:path>
              <a:path fill="darkenLess" w="22507" h="21600">
                <a:moveTo>
                  <a:pt x="10331" y="14299"/>
                </a:moveTo>
                <a:lnTo>
                  <a:pt x="12176" y="14299"/>
                </a:lnTo>
                <a:lnTo>
                  <a:pt x="12176" y="17989"/>
                </a:lnTo>
                <a:lnTo>
                  <a:pt x="16563" y="17989"/>
                </a:lnTo>
                <a:lnTo>
                  <a:pt x="16563" y="10800"/>
                </a:lnTo>
                <a:lnTo>
                  <a:pt x="5944" y="10800"/>
                </a:lnTo>
                <a:lnTo>
                  <a:pt x="5944" y="17989"/>
                </a:lnTo>
                <a:lnTo>
                  <a:pt x="10331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2714760" cy="233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30280" y="365040"/>
            <a:ext cx="786456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160" y="1428840"/>
            <a:ext cx="7854840" cy="4929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из этих мест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прещё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на проезжую часть пешехода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библиотека\Desktop\IMG_0001 - копия (2) - копия.jpg"/>
          <p:cNvPicPr/>
          <p:nvPr/>
        </p:nvPicPr>
        <p:blipFill>
          <a:blip r:embed="rId2"/>
          <a:stretch/>
        </p:blipFill>
        <p:spPr>
          <a:xfrm>
            <a:off x="142920" y="1857240"/>
            <a:ext cx="286524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библиотека\Desktop\IMG_0001 - копия (6) - копия.jpg"/>
          <p:cNvPicPr/>
          <p:nvPr/>
        </p:nvPicPr>
        <p:blipFill>
          <a:blip r:embed="rId3"/>
          <a:stretch/>
        </p:blipFill>
        <p:spPr>
          <a:xfrm>
            <a:off x="3071880" y="2286000"/>
            <a:ext cx="2944800" cy="192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библиотека\Desktop\IMG_0001 - копия (2).jpg"/>
          <p:cNvPicPr/>
          <p:nvPr/>
        </p:nvPicPr>
        <p:blipFill>
          <a:blip r:embed="rId4"/>
          <a:stretch/>
        </p:blipFill>
        <p:spPr>
          <a:xfrm>
            <a:off x="6143760" y="1928880"/>
            <a:ext cx="2857320" cy="193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Users\библиотека\Desktop\IMG_0001 - копия (4) - копия.jpg"/>
          <p:cNvPicPr/>
          <p:nvPr/>
        </p:nvPicPr>
        <p:blipFill>
          <a:blip r:embed="rId5"/>
          <a:stretch/>
        </p:blipFill>
        <p:spPr>
          <a:xfrm>
            <a:off x="142920" y="3929040"/>
            <a:ext cx="2813040" cy="205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библиотека\Desktop\IMG_0001 - копия (5) - копия.jpg"/>
          <p:cNvPicPr/>
          <p:nvPr/>
        </p:nvPicPr>
        <p:blipFill>
          <a:blip r:embed="rId6"/>
          <a:stretch/>
        </p:blipFill>
        <p:spPr>
          <a:xfrm>
            <a:off x="3071880" y="4572000"/>
            <a:ext cx="3008160" cy="20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Users\библиотека\Desktop\IMG_0001 - копия (7) - копия.jpg"/>
          <p:cNvPicPr/>
          <p:nvPr/>
        </p:nvPicPr>
        <p:blipFill>
          <a:blip r:embed="rId7"/>
          <a:stretch/>
        </p:blipFill>
        <p:spPr>
          <a:xfrm>
            <a:off x="6215040" y="4071960"/>
            <a:ext cx="2800440" cy="20448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00100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>
            <a:hlinkClick r:id="rId3" action="ppaction://hlinksldjump"/>
          </p:cNvPr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омой 4">
            <a:hlinkClick r:id="rId2" action="ppaction://hlinksldjump"/>
          </p:cNvPr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1" name="Управляющая кнопка: домой 5">
            <a:hlinkClick r:id="rId3" action="ppaction://hlinksldjump"/>
          </p:cNvPr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49:50Z</dcterms:created>
  <dc:creator>Админ</dc:creator>
  <dc:description/>
  <dc:language>en-US</dc:language>
  <cp:lastModifiedBy>HP</cp:lastModifiedBy>
  <dcterms:modified xsi:type="dcterms:W3CDTF">2016-11-30T13:50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