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01A6-DFE2-4654-B89D-C98D08957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098-4DCF-412C-9BEF-BE157C6A4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4AA-A14B-4375-95DF-D053C3AB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53F-35FD-4792-9048-D56D425A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885-E58D-4F25-811C-DB67D9B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B1D-38FB-44CA-ADC6-C931CF24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123-4B6A-4A68-B263-9674257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C0B-08D8-4E61-9142-363D1202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963-397C-44C7-B7C0-834EA94B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0DD-38ED-4602-AFB6-6B3A453A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EA6-38BB-4506-A47D-2EA4918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297-8973-4DD3-8D83-CD070EC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30F-2DAD-496F-9A00-B652D4C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970-DA7C-4B68-BE2B-B52C78F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1CB0-09AF-4404-A7EF-E31352A6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71400" y="1928880"/>
            <a:ext cx="6072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возраста разрешается выезд на проезжую часть на велосипед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928960" y="607212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57240" y="1814040"/>
            <a:ext cx="542952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жать на проезжую часть на велосипеде разрешаетс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5"/>
          <p:cNvSpPr/>
          <p:nvPr/>
        </p:nvSpPr>
        <p:spPr>
          <a:xfrm>
            <a:off x="7858080" y="5857920"/>
            <a:ext cx="857160" cy="757080"/>
          </a:xfrm>
          <a:custGeom>
            <a:avLst/>
            <a:gdLst>
              <a:gd name="textAreaLeft" fmla="*/ 48960 w 857160"/>
              <a:gd name="textAreaRight" fmla="*/ 808200 w 85716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4454" h="21600">
                <a:moveTo>
                  <a:pt x="0" y="0"/>
                </a:moveTo>
                <a:lnTo>
                  <a:pt x="24454" y="0"/>
                </a:lnTo>
                <a:lnTo>
                  <a:pt x="24454" y="21600"/>
                </a:lnTo>
                <a:lnTo>
                  <a:pt x="0" y="21600"/>
                </a:lnTo>
                <a:close/>
              </a:path>
              <a:path fill="lightenLess" w="24454" h="21600">
                <a:moveTo>
                  <a:pt x="0" y="0"/>
                </a:moveTo>
                <a:lnTo>
                  <a:pt x="24454" y="0"/>
                </a:lnTo>
                <a:lnTo>
                  <a:pt x="23054" y="1400"/>
                </a:lnTo>
                <a:lnTo>
                  <a:pt x="1400" y="1400"/>
                </a:lnTo>
                <a:close/>
              </a:path>
              <a:path fill="darken" w="24454" h="21600">
                <a:moveTo>
                  <a:pt x="24454" y="0"/>
                </a:moveTo>
                <a:lnTo>
                  <a:pt x="24454" y="21600"/>
                </a:lnTo>
                <a:lnTo>
                  <a:pt x="23054" y="20200"/>
                </a:lnTo>
                <a:lnTo>
                  <a:pt x="23054" y="1400"/>
                </a:lnTo>
                <a:close/>
              </a:path>
              <a:path fill="darkenLess" w="24454" h="21600">
                <a:moveTo>
                  <a:pt x="2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4" y="20200"/>
                </a:lnTo>
                <a:close/>
              </a:path>
              <a:path fill="lighten" w="2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4" h="21600">
                <a:moveTo>
                  <a:pt x="12227" y="3837"/>
                </a:moveTo>
                <a:lnTo>
                  <a:pt x="14803" y="6448"/>
                </a:ln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lnTo>
                  <a:pt x="19190" y="10800"/>
                </a:lnTo>
                <a:lnTo>
                  <a:pt x="17536" y="10800"/>
                </a:lnTo>
                <a:lnTo>
                  <a:pt x="17536" y="17989"/>
                </a:lnTo>
                <a:lnTo>
                  <a:pt x="6918" y="17989"/>
                </a:lnTo>
                <a:lnTo>
                  <a:pt x="6918" y="10800"/>
                </a:lnTo>
                <a:lnTo>
                  <a:pt x="5264" y="10800"/>
                </a:lnTo>
                <a:close/>
              </a:path>
              <a:path fill="darkenLess" w="24454" h="21600">
                <a:moveTo>
                  <a:pt x="14803" y="6448"/>
                </a:move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close/>
              </a:path>
              <a:path fill="darkenLess" w="24454" h="21600">
                <a:moveTo>
                  <a:pt x="11304" y="14299"/>
                </a:moveTo>
                <a:lnTo>
                  <a:pt x="13150" y="14299"/>
                </a:lnTo>
                <a:lnTo>
                  <a:pt x="13150" y="17989"/>
                </a:lnTo>
                <a:lnTo>
                  <a:pt x="17536" y="17989"/>
                </a:lnTo>
                <a:lnTo>
                  <a:pt x="17536" y="10800"/>
                </a:lnTo>
                <a:lnTo>
                  <a:pt x="6918" y="10800"/>
                </a:lnTo>
                <a:lnTo>
                  <a:pt x="6918" y="17989"/>
                </a:lnTo>
                <a:lnTo>
                  <a:pt x="1130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8640" y="1887120"/>
            <a:ext cx="37148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этот сигнал велосипедис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15160" y="5715000"/>
            <a:ext cx="857520" cy="828720"/>
          </a:xfrm>
          <a:custGeom>
            <a:avLst/>
            <a:gdLst>
              <a:gd name="textAreaLeft" fmla="*/ 53640 w 857520"/>
              <a:gd name="textAreaRight" fmla="*/ 803880 w 8575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2350" h="21600">
                <a:moveTo>
                  <a:pt x="0" y="0"/>
                </a:moveTo>
                <a:lnTo>
                  <a:pt x="22350" y="0"/>
                </a:lnTo>
                <a:lnTo>
                  <a:pt x="22350" y="21600"/>
                </a:lnTo>
                <a:lnTo>
                  <a:pt x="0" y="21600"/>
                </a:lnTo>
                <a:close/>
              </a:path>
              <a:path fill="lightenLess" w="22350" h="21600">
                <a:moveTo>
                  <a:pt x="0" y="0"/>
                </a:moveTo>
                <a:lnTo>
                  <a:pt x="22350" y="0"/>
                </a:lnTo>
                <a:lnTo>
                  <a:pt x="20950" y="1400"/>
                </a:lnTo>
                <a:lnTo>
                  <a:pt x="1400" y="1400"/>
                </a:lnTo>
                <a:close/>
              </a:path>
              <a:path fill="darken" w="22350" h="21600">
                <a:moveTo>
                  <a:pt x="22350" y="0"/>
                </a:moveTo>
                <a:lnTo>
                  <a:pt x="22350" y="21600"/>
                </a:lnTo>
                <a:lnTo>
                  <a:pt x="20950" y="20200"/>
                </a:lnTo>
                <a:lnTo>
                  <a:pt x="20950" y="1400"/>
                </a:lnTo>
                <a:close/>
              </a:path>
              <a:path fill="darkenLess" w="22350" h="21600">
                <a:moveTo>
                  <a:pt x="22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0" y="20200"/>
                </a:lnTo>
                <a:close/>
              </a:path>
              <a:path fill="lighten" w="22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0" h="21600">
                <a:moveTo>
                  <a:pt x="4169" y="3794"/>
                </a:moveTo>
                <a:lnTo>
                  <a:pt x="18182" y="10800"/>
                </a:lnTo>
                <a:lnTo>
                  <a:pt x="41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663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– велосипедисты 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5720" y="18568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велосипедиста означае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орот налев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8001000" y="578628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11779" y="3837"/>
                </a:moveTo>
                <a:lnTo>
                  <a:pt x="14355" y="6448"/>
                </a:ln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lnTo>
                  <a:pt x="18742" y="10800"/>
                </a:lnTo>
                <a:lnTo>
                  <a:pt x="17088" y="10800"/>
                </a:lnTo>
                <a:lnTo>
                  <a:pt x="17088" y="17989"/>
                </a:lnTo>
                <a:lnTo>
                  <a:pt x="6470" y="17989"/>
                </a:lnTo>
                <a:lnTo>
                  <a:pt x="6470" y="10800"/>
                </a:lnTo>
                <a:lnTo>
                  <a:pt x="4816" y="10800"/>
                </a:lnTo>
                <a:close/>
              </a:path>
              <a:path fill="darkenLess" w="23558" h="21600">
                <a:moveTo>
                  <a:pt x="14355" y="6448"/>
                </a:move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close/>
              </a:path>
              <a:path fill="darkenLess" w="23558" h="21600">
                <a:moveTo>
                  <a:pt x="10857" y="14299"/>
                </a:moveTo>
                <a:lnTo>
                  <a:pt x="12702" y="14299"/>
                </a:lnTo>
                <a:lnTo>
                  <a:pt x="12702" y="17989"/>
                </a:lnTo>
                <a:lnTo>
                  <a:pt x="17088" y="17989"/>
                </a:lnTo>
                <a:lnTo>
                  <a:pt x="17088" y="10800"/>
                </a:lnTo>
                <a:lnTo>
                  <a:pt x="6470" y="10800"/>
                </a:lnTo>
                <a:lnTo>
                  <a:pt x="6470" y="17989"/>
                </a:lnTo>
                <a:lnTo>
                  <a:pt x="108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3716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9720" y="3507840"/>
            <a:ext cx="728676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и право водитель велосипеда проезжать под этот знак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28760" y="585792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3794" y="4990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2987640" y="1627200"/>
            <a:ext cx="2955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1716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этот знак велосипедист проезжать </a:t>
            </a:r>
            <a:r>
              <a:rPr b="1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ет пра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омой 6"/>
          <p:cNvSpPr/>
          <p:nvPr/>
        </p:nvSpPr>
        <p:spPr>
          <a:xfrm>
            <a:off x="7858080" y="592920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3127320" y="1768320"/>
            <a:ext cx="281628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14320" y="1600200"/>
            <a:ext cx="614340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ы двигаться лица, ведущие велосипед, за пределами населённого пунк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28760" y="592920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42924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7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253360" cy="101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аю проезжей част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оду движения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х средст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омой 4"/>
          <p:cNvSpPr/>
          <p:nvPr/>
        </p:nvSpPr>
        <p:spPr>
          <a:xfrm>
            <a:off x="8072280" y="600084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30280" y="365040"/>
            <a:ext cx="786456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142884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из этих мест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рещё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на проезжую часть пешехода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библиотека\Desktop\IMG_0001 - копия (2) - копия.jpg"/>
          <p:cNvPicPr/>
          <p:nvPr/>
        </p:nvPicPr>
        <p:blipFill>
          <a:blip r:embed="rId2"/>
          <a:stretch/>
        </p:blipFill>
        <p:spPr>
          <a:xfrm>
            <a:off x="142920" y="1857240"/>
            <a:ext cx="286524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библиотека\Desktop\IMG_0001 - копия (6) - копия.jpg"/>
          <p:cNvPicPr/>
          <p:nvPr/>
        </p:nvPicPr>
        <p:blipFill>
          <a:blip r:embed="rId3"/>
          <a:stretch/>
        </p:blipFill>
        <p:spPr>
          <a:xfrm>
            <a:off x="3071880" y="2286000"/>
            <a:ext cx="2944800" cy="192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библиотека\Desktop\IMG_0001 - копия (2).jpg"/>
          <p:cNvPicPr/>
          <p:nvPr/>
        </p:nvPicPr>
        <p:blipFill>
          <a:blip r:embed="rId4"/>
          <a:stretch/>
        </p:blipFill>
        <p:spPr>
          <a:xfrm>
            <a:off x="6143760" y="1928880"/>
            <a:ext cx="285732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Users\библиотека\Desktop\IMG_0001 - копия (4) - копия.jpg"/>
          <p:cNvPicPr/>
          <p:nvPr/>
        </p:nvPicPr>
        <p:blipFill>
          <a:blip r:embed="rId5"/>
          <a:stretch/>
        </p:blipFill>
        <p:spPr>
          <a:xfrm>
            <a:off x="142920" y="3929040"/>
            <a:ext cx="28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библиотека\Desktop\IMG_0001 - копия (5) - копия.jpg"/>
          <p:cNvPicPr/>
          <p:nvPr/>
        </p:nvPicPr>
        <p:blipFill>
          <a:blip r:embed="rId6"/>
          <a:stretch/>
        </p:blipFill>
        <p:spPr>
          <a:xfrm>
            <a:off x="3071880" y="4572000"/>
            <a:ext cx="300816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Users\библиотека\Desktop\IMG_0001 - копия (7) - копия.jpg"/>
          <p:cNvPicPr/>
          <p:nvPr/>
        </p:nvPicPr>
        <p:blipFill>
          <a:blip r:embed="rId7"/>
          <a:stretch/>
        </p:blipFill>
        <p:spPr>
          <a:xfrm>
            <a:off x="6215040" y="4071960"/>
            <a:ext cx="2800440" cy="20448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00100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>
            <a:hlinkClick r:id="rId3" action="ppaction://hlinksldjump"/>
          </p:cNvPr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омой 4">
            <a:hlinkClick r:id="rId2" action="ppaction://hlinksldjump"/>
          </p:cNvPr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5">
            <a:hlinkClick r:id="rId3" action="ppaction://hlinksldjump"/>
          </p:cNvPr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49:50Z</dcterms:created>
  <dc:creator>Админ</dc:creator>
  <dc:description/>
  <dc:language>en-US</dc:language>
  <cp:lastModifiedBy>HP</cp:lastModifiedBy>
  <dcterms:modified xsi:type="dcterms:W3CDTF">2016-11-30T13:50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