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C8A0-26BF-43B8-8395-4E091240CF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8148-7815-4F78-AC4D-D08BE4735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3D6-0666-472D-8DB7-BB0EACF0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B87-9F8C-40E3-A96E-E4D69142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222-3AF4-4619-9C38-11F4D69F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4FA-774D-4385-8828-CB00A84C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C8B-0C1E-4A4B-8249-0ACAC8B8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4FA-6148-41D1-8F1F-D2847D5A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6E4-F90B-4584-B1B7-8F6FA248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DA4-8C05-4658-8A34-FD1EB136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2A7-83B0-4C78-8260-B81023CB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2C8-9EB6-428B-8F20-E50BA7F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2AF-0D59-4756-9418-D53D6232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954-2688-408D-82DC-3245BA5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3849-BD86-465C-ADE2-ABF7659D3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56800" y="2035080"/>
            <a:ext cx="6929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о – транспортно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сшествие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obz028i.bmp"/>
          <p:cNvPicPr/>
          <p:nvPr/>
        </p:nvPicPr>
        <p:blipFill>
          <a:blip r:embed="rId1"/>
          <a:stretch/>
        </p:blipFill>
        <p:spPr>
          <a:xfrm>
            <a:off x="2639880" y="3638520"/>
            <a:ext cx="3834000" cy="28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омой 5">
            <a:hlinkClick r:id="rId3" action="ppaction://hlinksldjump"/>
          </p:cNvPr>
          <p:cNvSpPr/>
          <p:nvPr/>
        </p:nvSpPr>
        <p:spPr>
          <a:xfrm>
            <a:off x="8215200" y="6000840"/>
            <a:ext cx="714600" cy="61416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5130" h="21600">
                <a:moveTo>
                  <a:pt x="0" y="0"/>
                </a:moveTo>
                <a:lnTo>
                  <a:pt x="25130" y="0"/>
                </a:lnTo>
                <a:lnTo>
                  <a:pt x="25130" y="21600"/>
                </a:lnTo>
                <a:lnTo>
                  <a:pt x="0" y="21600"/>
                </a:lnTo>
                <a:close/>
              </a:path>
              <a:path fill="lightenLess" w="25130" h="21600">
                <a:moveTo>
                  <a:pt x="0" y="0"/>
                </a:moveTo>
                <a:lnTo>
                  <a:pt x="25130" y="0"/>
                </a:lnTo>
                <a:lnTo>
                  <a:pt x="23730" y="1400"/>
                </a:lnTo>
                <a:lnTo>
                  <a:pt x="1400" y="1400"/>
                </a:lnTo>
                <a:close/>
              </a:path>
              <a:path fill="darken" w="25130" h="21600">
                <a:moveTo>
                  <a:pt x="25130" y="0"/>
                </a:moveTo>
                <a:lnTo>
                  <a:pt x="25130" y="21600"/>
                </a:lnTo>
                <a:lnTo>
                  <a:pt x="23730" y="20200"/>
                </a:lnTo>
                <a:lnTo>
                  <a:pt x="23730" y="1400"/>
                </a:lnTo>
                <a:close/>
              </a:path>
              <a:path fill="darkenLess" w="25130" h="21600">
                <a:moveTo>
                  <a:pt x="2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30" y="20200"/>
                </a:lnTo>
                <a:close/>
              </a:path>
              <a:path fill="lighten" w="2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30" h="21600">
                <a:moveTo>
                  <a:pt x="12565" y="3837"/>
                </a:moveTo>
                <a:lnTo>
                  <a:pt x="15141" y="6448"/>
                </a:ln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lnTo>
                  <a:pt x="19528" y="10800"/>
                </a:lnTo>
                <a:lnTo>
                  <a:pt x="17874" y="10800"/>
                </a:lnTo>
                <a:lnTo>
                  <a:pt x="17874" y="17989"/>
                </a:lnTo>
                <a:lnTo>
                  <a:pt x="7256" y="17989"/>
                </a:lnTo>
                <a:lnTo>
                  <a:pt x="7256" y="10800"/>
                </a:lnTo>
                <a:lnTo>
                  <a:pt x="5602" y="10800"/>
                </a:lnTo>
                <a:close/>
              </a:path>
              <a:path fill="darkenLess" w="25130" h="21600">
                <a:moveTo>
                  <a:pt x="15141" y="6448"/>
                </a:move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close/>
              </a:path>
              <a:path fill="darkenLess" w="25130" h="21600">
                <a:moveTo>
                  <a:pt x="11643" y="14299"/>
                </a:moveTo>
                <a:lnTo>
                  <a:pt x="13488" y="14299"/>
                </a:lnTo>
                <a:lnTo>
                  <a:pt x="13488" y="17989"/>
                </a:lnTo>
                <a:lnTo>
                  <a:pt x="17874" y="17989"/>
                </a:lnTo>
                <a:lnTo>
                  <a:pt x="17874" y="10800"/>
                </a:lnTo>
                <a:lnTo>
                  <a:pt x="7256" y="10800"/>
                </a:lnTo>
                <a:lnTo>
                  <a:pt x="7256" y="17989"/>
                </a:lnTo>
                <a:lnTo>
                  <a:pt x="11643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71400" y="1928880"/>
            <a:ext cx="60721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го возраста разрешается выезд на проезжую часть на велосипеде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928960" y="6072120"/>
            <a:ext cx="642960" cy="61452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2599" h="21600">
                <a:moveTo>
                  <a:pt x="0" y="0"/>
                </a:moveTo>
                <a:lnTo>
                  <a:pt x="22599" y="0"/>
                </a:lnTo>
                <a:lnTo>
                  <a:pt x="22599" y="21600"/>
                </a:lnTo>
                <a:lnTo>
                  <a:pt x="0" y="21600"/>
                </a:lnTo>
                <a:close/>
              </a:path>
              <a:path fill="lightenLess" w="22599" h="21600">
                <a:moveTo>
                  <a:pt x="0" y="0"/>
                </a:moveTo>
                <a:lnTo>
                  <a:pt x="22599" y="0"/>
                </a:lnTo>
                <a:lnTo>
                  <a:pt x="21199" y="1400"/>
                </a:lnTo>
                <a:lnTo>
                  <a:pt x="1400" y="1400"/>
                </a:lnTo>
                <a:close/>
              </a:path>
              <a:path fill="darken" w="22599" h="21600">
                <a:moveTo>
                  <a:pt x="22599" y="0"/>
                </a:moveTo>
                <a:lnTo>
                  <a:pt x="22599" y="21600"/>
                </a:lnTo>
                <a:lnTo>
                  <a:pt x="21199" y="20200"/>
                </a:lnTo>
                <a:lnTo>
                  <a:pt x="21199" y="1400"/>
                </a:lnTo>
                <a:close/>
              </a:path>
              <a:path fill="darkenLess" w="22599" h="21600">
                <a:moveTo>
                  <a:pt x="22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9" y="20200"/>
                </a:lnTo>
                <a:close/>
              </a:path>
              <a:path fill="lighten" w="22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9" h="21600">
                <a:moveTo>
                  <a:pt x="4293" y="3794"/>
                </a:moveTo>
                <a:lnTo>
                  <a:pt x="18306" y="10800"/>
                </a:lnTo>
                <a:lnTo>
                  <a:pt x="42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57240" y="1814040"/>
            <a:ext cx="542952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жать на проезжую часть на велосипеде разрешается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14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омой 5"/>
          <p:cNvSpPr/>
          <p:nvPr/>
        </p:nvSpPr>
        <p:spPr>
          <a:xfrm>
            <a:off x="7858080" y="5857920"/>
            <a:ext cx="857160" cy="757080"/>
          </a:xfrm>
          <a:custGeom>
            <a:avLst/>
            <a:gdLst>
              <a:gd name="textAreaLeft" fmla="*/ 48960 w 857160"/>
              <a:gd name="textAreaRight" fmla="*/ 808200 w 85716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4454" h="21600">
                <a:moveTo>
                  <a:pt x="0" y="0"/>
                </a:moveTo>
                <a:lnTo>
                  <a:pt x="24454" y="0"/>
                </a:lnTo>
                <a:lnTo>
                  <a:pt x="24454" y="21600"/>
                </a:lnTo>
                <a:lnTo>
                  <a:pt x="0" y="21600"/>
                </a:lnTo>
                <a:close/>
              </a:path>
              <a:path fill="lightenLess" w="24454" h="21600">
                <a:moveTo>
                  <a:pt x="0" y="0"/>
                </a:moveTo>
                <a:lnTo>
                  <a:pt x="24454" y="0"/>
                </a:lnTo>
                <a:lnTo>
                  <a:pt x="23054" y="1400"/>
                </a:lnTo>
                <a:lnTo>
                  <a:pt x="1400" y="1400"/>
                </a:lnTo>
                <a:close/>
              </a:path>
              <a:path fill="darken" w="24454" h="21600">
                <a:moveTo>
                  <a:pt x="24454" y="0"/>
                </a:moveTo>
                <a:lnTo>
                  <a:pt x="24454" y="21600"/>
                </a:lnTo>
                <a:lnTo>
                  <a:pt x="23054" y="20200"/>
                </a:lnTo>
                <a:lnTo>
                  <a:pt x="23054" y="1400"/>
                </a:lnTo>
                <a:close/>
              </a:path>
              <a:path fill="darkenLess" w="24454" h="21600">
                <a:moveTo>
                  <a:pt x="24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4" y="20200"/>
                </a:lnTo>
                <a:close/>
              </a:path>
              <a:path fill="lighten" w="24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4" h="21600">
                <a:moveTo>
                  <a:pt x="12227" y="3837"/>
                </a:moveTo>
                <a:lnTo>
                  <a:pt x="14803" y="6448"/>
                </a:lnTo>
                <a:lnTo>
                  <a:pt x="14803" y="4707"/>
                </a:lnTo>
                <a:lnTo>
                  <a:pt x="16579" y="4707"/>
                </a:lnTo>
                <a:lnTo>
                  <a:pt x="16579" y="8224"/>
                </a:lnTo>
                <a:lnTo>
                  <a:pt x="19190" y="10800"/>
                </a:lnTo>
                <a:lnTo>
                  <a:pt x="17536" y="10800"/>
                </a:lnTo>
                <a:lnTo>
                  <a:pt x="17536" y="17989"/>
                </a:lnTo>
                <a:lnTo>
                  <a:pt x="6918" y="17989"/>
                </a:lnTo>
                <a:lnTo>
                  <a:pt x="6918" y="10800"/>
                </a:lnTo>
                <a:lnTo>
                  <a:pt x="5264" y="10800"/>
                </a:lnTo>
                <a:close/>
              </a:path>
              <a:path fill="darkenLess" w="24454" h="21600">
                <a:moveTo>
                  <a:pt x="14803" y="6448"/>
                </a:moveTo>
                <a:lnTo>
                  <a:pt x="14803" y="4707"/>
                </a:lnTo>
                <a:lnTo>
                  <a:pt x="16579" y="4707"/>
                </a:lnTo>
                <a:lnTo>
                  <a:pt x="16579" y="8224"/>
                </a:lnTo>
                <a:close/>
              </a:path>
              <a:path fill="darkenLess" w="24454" h="21600">
                <a:moveTo>
                  <a:pt x="11304" y="14299"/>
                </a:moveTo>
                <a:lnTo>
                  <a:pt x="13150" y="14299"/>
                </a:lnTo>
                <a:lnTo>
                  <a:pt x="13150" y="17989"/>
                </a:lnTo>
                <a:lnTo>
                  <a:pt x="17536" y="17989"/>
                </a:lnTo>
                <a:lnTo>
                  <a:pt x="17536" y="10800"/>
                </a:lnTo>
                <a:lnTo>
                  <a:pt x="6918" y="10800"/>
                </a:lnTo>
                <a:lnTo>
                  <a:pt x="6918" y="17989"/>
                </a:lnTo>
                <a:lnTo>
                  <a:pt x="1130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8640" y="1887120"/>
            <a:ext cx="37148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значает этот сигнал велосипедис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715160" y="5715000"/>
            <a:ext cx="857520" cy="828720"/>
          </a:xfrm>
          <a:custGeom>
            <a:avLst/>
            <a:gdLst>
              <a:gd name="textAreaLeft" fmla="*/ 53640 w 857520"/>
              <a:gd name="textAreaRight" fmla="*/ 803880 w 8575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2350" h="21600">
                <a:moveTo>
                  <a:pt x="0" y="0"/>
                </a:moveTo>
                <a:lnTo>
                  <a:pt x="22350" y="0"/>
                </a:lnTo>
                <a:lnTo>
                  <a:pt x="22350" y="21600"/>
                </a:lnTo>
                <a:lnTo>
                  <a:pt x="0" y="21600"/>
                </a:lnTo>
                <a:close/>
              </a:path>
              <a:path fill="lightenLess" w="22350" h="21600">
                <a:moveTo>
                  <a:pt x="0" y="0"/>
                </a:moveTo>
                <a:lnTo>
                  <a:pt x="22350" y="0"/>
                </a:lnTo>
                <a:lnTo>
                  <a:pt x="20950" y="1400"/>
                </a:lnTo>
                <a:lnTo>
                  <a:pt x="1400" y="1400"/>
                </a:lnTo>
                <a:close/>
              </a:path>
              <a:path fill="darken" w="22350" h="21600">
                <a:moveTo>
                  <a:pt x="22350" y="0"/>
                </a:moveTo>
                <a:lnTo>
                  <a:pt x="22350" y="21600"/>
                </a:lnTo>
                <a:lnTo>
                  <a:pt x="20950" y="20200"/>
                </a:lnTo>
                <a:lnTo>
                  <a:pt x="20950" y="1400"/>
                </a:lnTo>
                <a:close/>
              </a:path>
              <a:path fill="darkenLess" w="22350" h="21600">
                <a:moveTo>
                  <a:pt x="22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50" y="20200"/>
                </a:lnTo>
                <a:close/>
              </a:path>
              <a:path fill="lighten" w="22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50" h="21600">
                <a:moveTo>
                  <a:pt x="4169" y="3794"/>
                </a:moveTo>
                <a:lnTo>
                  <a:pt x="18182" y="10800"/>
                </a:lnTo>
                <a:lnTo>
                  <a:pt x="416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:\Documents and Settings\User\Рабочий стол\DSC06178.JPG"/>
          <p:cNvPicPr/>
          <p:nvPr/>
        </p:nvPicPr>
        <p:blipFill>
          <a:blip r:embed="rId1"/>
          <a:stretch/>
        </p:blipFill>
        <p:spPr>
          <a:xfrm>
            <a:off x="420840" y="1920960"/>
            <a:ext cx="26636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– велосипедисты 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5720" y="1856880"/>
            <a:ext cx="50720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 велосипедиста означает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орот налев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омой 3"/>
          <p:cNvSpPr/>
          <p:nvPr/>
        </p:nvSpPr>
        <p:spPr>
          <a:xfrm>
            <a:off x="8001000" y="5786280"/>
            <a:ext cx="857160" cy="785880"/>
          </a:xfrm>
          <a:custGeom>
            <a:avLst/>
            <a:gdLst>
              <a:gd name="textAreaLeft" fmla="*/ 50760 w 857160"/>
              <a:gd name="textAreaRight" fmla="*/ 806400 w 85716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58" h="21600">
                <a:moveTo>
                  <a:pt x="0" y="0"/>
                </a:moveTo>
                <a:lnTo>
                  <a:pt x="23558" y="0"/>
                </a:lnTo>
                <a:lnTo>
                  <a:pt x="23558" y="21600"/>
                </a:lnTo>
                <a:lnTo>
                  <a:pt x="0" y="21600"/>
                </a:lnTo>
                <a:close/>
              </a:path>
              <a:path fill="lightenLess" w="23558" h="21600">
                <a:moveTo>
                  <a:pt x="0" y="0"/>
                </a:moveTo>
                <a:lnTo>
                  <a:pt x="23558" y="0"/>
                </a:lnTo>
                <a:lnTo>
                  <a:pt x="22158" y="1400"/>
                </a:lnTo>
                <a:lnTo>
                  <a:pt x="1400" y="1400"/>
                </a:lnTo>
                <a:close/>
              </a:path>
              <a:path fill="darken" w="23558" h="21600">
                <a:moveTo>
                  <a:pt x="23558" y="0"/>
                </a:moveTo>
                <a:lnTo>
                  <a:pt x="23558" y="21600"/>
                </a:lnTo>
                <a:lnTo>
                  <a:pt x="22158" y="20200"/>
                </a:lnTo>
                <a:lnTo>
                  <a:pt x="22158" y="1400"/>
                </a:lnTo>
                <a:close/>
              </a:path>
              <a:path fill="darkenLess" w="23558" h="21600">
                <a:moveTo>
                  <a:pt x="2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8" y="20200"/>
                </a:lnTo>
                <a:close/>
              </a:path>
              <a:path fill="lighten" w="2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8" h="21600">
                <a:moveTo>
                  <a:pt x="11779" y="3837"/>
                </a:moveTo>
                <a:lnTo>
                  <a:pt x="14355" y="6448"/>
                </a:lnTo>
                <a:lnTo>
                  <a:pt x="14355" y="4707"/>
                </a:lnTo>
                <a:lnTo>
                  <a:pt x="16131" y="4707"/>
                </a:lnTo>
                <a:lnTo>
                  <a:pt x="16131" y="8224"/>
                </a:lnTo>
                <a:lnTo>
                  <a:pt x="18742" y="10800"/>
                </a:lnTo>
                <a:lnTo>
                  <a:pt x="17088" y="10800"/>
                </a:lnTo>
                <a:lnTo>
                  <a:pt x="17088" y="17989"/>
                </a:lnTo>
                <a:lnTo>
                  <a:pt x="6470" y="17989"/>
                </a:lnTo>
                <a:lnTo>
                  <a:pt x="6470" y="10800"/>
                </a:lnTo>
                <a:lnTo>
                  <a:pt x="4816" y="10800"/>
                </a:lnTo>
                <a:close/>
              </a:path>
              <a:path fill="darkenLess" w="23558" h="21600">
                <a:moveTo>
                  <a:pt x="14355" y="6448"/>
                </a:moveTo>
                <a:lnTo>
                  <a:pt x="14355" y="4707"/>
                </a:lnTo>
                <a:lnTo>
                  <a:pt x="16131" y="4707"/>
                </a:lnTo>
                <a:lnTo>
                  <a:pt x="16131" y="8224"/>
                </a:lnTo>
                <a:close/>
              </a:path>
              <a:path fill="darkenLess" w="23558" h="21600">
                <a:moveTo>
                  <a:pt x="10857" y="14299"/>
                </a:moveTo>
                <a:lnTo>
                  <a:pt x="12702" y="14299"/>
                </a:lnTo>
                <a:lnTo>
                  <a:pt x="12702" y="17989"/>
                </a:lnTo>
                <a:lnTo>
                  <a:pt x="17088" y="17989"/>
                </a:lnTo>
                <a:lnTo>
                  <a:pt x="17088" y="10800"/>
                </a:lnTo>
                <a:lnTo>
                  <a:pt x="6470" y="10800"/>
                </a:lnTo>
                <a:lnTo>
                  <a:pt x="6470" y="17989"/>
                </a:lnTo>
                <a:lnTo>
                  <a:pt x="108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Documents and Settings\User\Рабочий стол\DSC06178.JPG"/>
          <p:cNvPicPr/>
          <p:nvPr/>
        </p:nvPicPr>
        <p:blipFill>
          <a:blip r:embed="rId1"/>
          <a:stretch/>
        </p:blipFill>
        <p:spPr>
          <a:xfrm>
            <a:off x="420840" y="1920960"/>
            <a:ext cx="23716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9720" y="3507840"/>
            <a:ext cx="728676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ли право водитель велосипеда проезжать под этот знак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428760" y="585792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3794" y="4990"/>
                </a:moveTo>
                <a:lnTo>
                  <a:pt x="17806" y="11997"/>
                </a:lnTo>
                <a:lnTo>
                  <a:pt x="3794" y="1900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Documents and Settings\User\Рабочий стол\DSC01098.JPG"/>
          <p:cNvPicPr/>
          <p:nvPr/>
        </p:nvPicPr>
        <p:blipFill>
          <a:blip r:embed="rId1"/>
          <a:stretch/>
        </p:blipFill>
        <p:spPr>
          <a:xfrm>
            <a:off x="2987640" y="1627200"/>
            <a:ext cx="2955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41716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этот знак велосипедист проезжать </a:t>
            </a:r>
            <a:r>
              <a:rPr b="1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имеет пра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домой 6"/>
          <p:cNvSpPr/>
          <p:nvPr/>
        </p:nvSpPr>
        <p:spPr>
          <a:xfrm>
            <a:off x="7858080" y="5929200"/>
            <a:ext cx="714600" cy="685800"/>
          </a:xfrm>
          <a:custGeom>
            <a:avLst/>
            <a:gdLst>
              <a:gd name="textAreaLeft" fmla="*/ 44280 w 714600"/>
              <a:gd name="textAreaRight" fmla="*/ 670320 w 7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507" h="21600">
                <a:moveTo>
                  <a:pt x="0" y="0"/>
                </a:moveTo>
                <a:lnTo>
                  <a:pt x="22507" y="0"/>
                </a:lnTo>
                <a:lnTo>
                  <a:pt x="22507" y="21600"/>
                </a:lnTo>
                <a:lnTo>
                  <a:pt x="0" y="21600"/>
                </a:lnTo>
                <a:close/>
              </a:path>
              <a:path fill="lightenLess" w="22507" h="21600">
                <a:moveTo>
                  <a:pt x="0" y="0"/>
                </a:moveTo>
                <a:lnTo>
                  <a:pt x="22507" y="0"/>
                </a:lnTo>
                <a:lnTo>
                  <a:pt x="21107" y="1400"/>
                </a:lnTo>
                <a:lnTo>
                  <a:pt x="1400" y="1400"/>
                </a:lnTo>
                <a:close/>
              </a:path>
              <a:path fill="darken" w="22507" h="21600">
                <a:moveTo>
                  <a:pt x="22507" y="0"/>
                </a:moveTo>
                <a:lnTo>
                  <a:pt x="22507" y="21600"/>
                </a:lnTo>
                <a:lnTo>
                  <a:pt x="21107" y="20200"/>
                </a:lnTo>
                <a:lnTo>
                  <a:pt x="21107" y="1400"/>
                </a:lnTo>
                <a:close/>
              </a:path>
              <a:path fill="darkenLess" w="22507" h="21600">
                <a:moveTo>
                  <a:pt x="22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7" y="20200"/>
                </a:lnTo>
                <a:close/>
              </a:path>
              <a:path fill="lighten" w="22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07" h="21600">
                <a:moveTo>
                  <a:pt x="11253" y="3837"/>
                </a:moveTo>
                <a:lnTo>
                  <a:pt x="13830" y="6448"/>
                </a:ln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lnTo>
                  <a:pt x="18216" y="10800"/>
                </a:lnTo>
                <a:lnTo>
                  <a:pt x="16563" y="10800"/>
                </a:lnTo>
                <a:lnTo>
                  <a:pt x="16563" y="17989"/>
                </a:lnTo>
                <a:lnTo>
                  <a:pt x="5944" y="17989"/>
                </a:lnTo>
                <a:lnTo>
                  <a:pt x="5944" y="10800"/>
                </a:lnTo>
                <a:lnTo>
                  <a:pt x="4290" y="10800"/>
                </a:lnTo>
                <a:close/>
              </a:path>
              <a:path fill="darkenLess" w="22507" h="21600">
                <a:moveTo>
                  <a:pt x="13830" y="6448"/>
                </a:move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close/>
              </a:path>
              <a:path fill="darkenLess" w="22507" h="21600">
                <a:moveTo>
                  <a:pt x="10331" y="14299"/>
                </a:moveTo>
                <a:lnTo>
                  <a:pt x="12176" y="14299"/>
                </a:lnTo>
                <a:lnTo>
                  <a:pt x="12176" y="17989"/>
                </a:lnTo>
                <a:lnTo>
                  <a:pt x="16563" y="17989"/>
                </a:lnTo>
                <a:lnTo>
                  <a:pt x="16563" y="10800"/>
                </a:lnTo>
                <a:lnTo>
                  <a:pt x="5944" y="10800"/>
                </a:lnTo>
                <a:lnTo>
                  <a:pt x="5944" y="17989"/>
                </a:lnTo>
                <a:lnTo>
                  <a:pt x="103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Documents and Settings\User\Рабочий стол\DSC01098.JPG"/>
          <p:cNvPicPr/>
          <p:nvPr/>
        </p:nvPicPr>
        <p:blipFill>
          <a:blip r:embed="rId1"/>
          <a:stretch/>
        </p:blipFill>
        <p:spPr>
          <a:xfrm>
            <a:off x="3127320" y="1768320"/>
            <a:ext cx="281628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14320" y="1600200"/>
            <a:ext cx="6143400" cy="24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жны двигаться лица, ведущие велосипед, за пределами населённого пунк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28760" y="5929200"/>
            <a:ext cx="642960" cy="61452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2599" h="21600">
                <a:moveTo>
                  <a:pt x="0" y="0"/>
                </a:moveTo>
                <a:lnTo>
                  <a:pt x="22599" y="0"/>
                </a:lnTo>
                <a:lnTo>
                  <a:pt x="22599" y="21600"/>
                </a:lnTo>
                <a:lnTo>
                  <a:pt x="0" y="21600"/>
                </a:lnTo>
                <a:close/>
              </a:path>
              <a:path fill="lightenLess" w="22599" h="21600">
                <a:moveTo>
                  <a:pt x="0" y="0"/>
                </a:moveTo>
                <a:lnTo>
                  <a:pt x="22599" y="0"/>
                </a:lnTo>
                <a:lnTo>
                  <a:pt x="21199" y="1400"/>
                </a:lnTo>
                <a:lnTo>
                  <a:pt x="1400" y="1400"/>
                </a:lnTo>
                <a:close/>
              </a:path>
              <a:path fill="darken" w="22599" h="21600">
                <a:moveTo>
                  <a:pt x="22599" y="0"/>
                </a:moveTo>
                <a:lnTo>
                  <a:pt x="22599" y="21600"/>
                </a:lnTo>
                <a:lnTo>
                  <a:pt x="21199" y="20200"/>
                </a:lnTo>
                <a:lnTo>
                  <a:pt x="21199" y="1400"/>
                </a:lnTo>
                <a:close/>
              </a:path>
              <a:path fill="darkenLess" w="22599" h="21600">
                <a:moveTo>
                  <a:pt x="22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9" y="20200"/>
                </a:lnTo>
                <a:close/>
              </a:path>
              <a:path fill="lighten" w="22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9" h="21600">
                <a:moveTo>
                  <a:pt x="4293" y="3794"/>
                </a:moveTo>
                <a:lnTo>
                  <a:pt x="18306" y="10800"/>
                </a:lnTo>
                <a:lnTo>
                  <a:pt x="42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42924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7" descr=""/>
          <p:cNvPicPr/>
          <p:nvPr/>
        </p:nvPicPr>
        <p:blipFill>
          <a:blip r:embed="rId1"/>
          <a:stretch/>
        </p:blipFill>
        <p:spPr>
          <a:xfrm>
            <a:off x="530280" y="262080"/>
            <a:ext cx="8253360" cy="1017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1643040"/>
            <a:ext cx="7854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раю проезжей части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ходу движения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ых средст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омой 4"/>
          <p:cNvSpPr/>
          <p:nvPr/>
        </p:nvSpPr>
        <p:spPr>
          <a:xfrm>
            <a:off x="8072280" y="6000840"/>
            <a:ext cx="714600" cy="685800"/>
          </a:xfrm>
          <a:custGeom>
            <a:avLst/>
            <a:gdLst>
              <a:gd name="textAreaLeft" fmla="*/ 44280 w 714600"/>
              <a:gd name="textAreaRight" fmla="*/ 670320 w 7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507" h="21600">
                <a:moveTo>
                  <a:pt x="0" y="0"/>
                </a:moveTo>
                <a:lnTo>
                  <a:pt x="22507" y="0"/>
                </a:lnTo>
                <a:lnTo>
                  <a:pt x="22507" y="21600"/>
                </a:lnTo>
                <a:lnTo>
                  <a:pt x="0" y="21600"/>
                </a:lnTo>
                <a:close/>
              </a:path>
              <a:path fill="lightenLess" w="22507" h="21600">
                <a:moveTo>
                  <a:pt x="0" y="0"/>
                </a:moveTo>
                <a:lnTo>
                  <a:pt x="22507" y="0"/>
                </a:lnTo>
                <a:lnTo>
                  <a:pt x="21107" y="1400"/>
                </a:lnTo>
                <a:lnTo>
                  <a:pt x="1400" y="1400"/>
                </a:lnTo>
                <a:close/>
              </a:path>
              <a:path fill="darken" w="22507" h="21600">
                <a:moveTo>
                  <a:pt x="22507" y="0"/>
                </a:moveTo>
                <a:lnTo>
                  <a:pt x="22507" y="21600"/>
                </a:lnTo>
                <a:lnTo>
                  <a:pt x="21107" y="20200"/>
                </a:lnTo>
                <a:lnTo>
                  <a:pt x="21107" y="1400"/>
                </a:lnTo>
                <a:close/>
              </a:path>
              <a:path fill="darkenLess" w="22507" h="21600">
                <a:moveTo>
                  <a:pt x="22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7" y="20200"/>
                </a:lnTo>
                <a:close/>
              </a:path>
              <a:path fill="lighten" w="22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07" h="21600">
                <a:moveTo>
                  <a:pt x="11253" y="3837"/>
                </a:moveTo>
                <a:lnTo>
                  <a:pt x="13830" y="6448"/>
                </a:ln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lnTo>
                  <a:pt x="18216" y="10800"/>
                </a:lnTo>
                <a:lnTo>
                  <a:pt x="16563" y="10800"/>
                </a:lnTo>
                <a:lnTo>
                  <a:pt x="16563" y="17989"/>
                </a:lnTo>
                <a:lnTo>
                  <a:pt x="5944" y="17989"/>
                </a:lnTo>
                <a:lnTo>
                  <a:pt x="5944" y="10800"/>
                </a:lnTo>
                <a:lnTo>
                  <a:pt x="4290" y="10800"/>
                </a:lnTo>
                <a:close/>
              </a:path>
              <a:path fill="darkenLess" w="22507" h="21600">
                <a:moveTo>
                  <a:pt x="13830" y="6448"/>
                </a:move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close/>
              </a:path>
              <a:path fill="darkenLess" w="22507" h="21600">
                <a:moveTo>
                  <a:pt x="10331" y="14299"/>
                </a:moveTo>
                <a:lnTo>
                  <a:pt x="12176" y="14299"/>
                </a:lnTo>
                <a:lnTo>
                  <a:pt x="12176" y="17989"/>
                </a:lnTo>
                <a:lnTo>
                  <a:pt x="16563" y="17989"/>
                </a:lnTo>
                <a:lnTo>
                  <a:pt x="16563" y="10800"/>
                </a:lnTo>
                <a:lnTo>
                  <a:pt x="5944" y="10800"/>
                </a:lnTo>
                <a:lnTo>
                  <a:pt x="5944" y="17989"/>
                </a:lnTo>
                <a:lnTo>
                  <a:pt x="103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530280" y="365040"/>
            <a:ext cx="7864560" cy="1128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160" y="1428840"/>
            <a:ext cx="7854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из этих мест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рещё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на проезжую часть пешехода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Users\библиотека\Desktop\IMG_0001 - копия (2) - копия.jpg"/>
          <p:cNvPicPr/>
          <p:nvPr/>
        </p:nvPicPr>
        <p:blipFill>
          <a:blip r:embed="rId2"/>
          <a:stretch/>
        </p:blipFill>
        <p:spPr>
          <a:xfrm>
            <a:off x="142920" y="1857240"/>
            <a:ext cx="286524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библиотека\Desktop\IMG_0001 - копия (6) - копия.jpg"/>
          <p:cNvPicPr/>
          <p:nvPr/>
        </p:nvPicPr>
        <p:blipFill>
          <a:blip r:embed="rId3"/>
          <a:stretch/>
        </p:blipFill>
        <p:spPr>
          <a:xfrm>
            <a:off x="3071880" y="2286000"/>
            <a:ext cx="2944800" cy="192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библиотека\Desktop\IMG_0001 - копия (2).jpg"/>
          <p:cNvPicPr/>
          <p:nvPr/>
        </p:nvPicPr>
        <p:blipFill>
          <a:blip r:embed="rId4"/>
          <a:stretch/>
        </p:blipFill>
        <p:spPr>
          <a:xfrm>
            <a:off x="6143760" y="1928880"/>
            <a:ext cx="2857320" cy="193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Users\библиотека\Desktop\IMG_0001 - копия (4) - копия.jpg"/>
          <p:cNvPicPr/>
          <p:nvPr/>
        </p:nvPicPr>
        <p:blipFill>
          <a:blip r:embed="rId5"/>
          <a:stretch/>
        </p:blipFill>
        <p:spPr>
          <a:xfrm>
            <a:off x="142920" y="3929040"/>
            <a:ext cx="2813040" cy="205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Users\библиотека\Desktop\IMG_0001 - копия (5) - копия.jpg"/>
          <p:cNvPicPr/>
          <p:nvPr/>
        </p:nvPicPr>
        <p:blipFill>
          <a:blip r:embed="rId6"/>
          <a:stretch/>
        </p:blipFill>
        <p:spPr>
          <a:xfrm>
            <a:off x="3071880" y="4572000"/>
            <a:ext cx="3008160" cy="207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Users\библиотека\Desktop\IMG_0001 - копия (7) - копия.jpg"/>
          <p:cNvPicPr/>
          <p:nvPr/>
        </p:nvPicPr>
        <p:blipFill>
          <a:blip r:embed="rId7"/>
          <a:stretch/>
        </p:blipFill>
        <p:spPr>
          <a:xfrm>
            <a:off x="6215040" y="4071960"/>
            <a:ext cx="2800440" cy="204480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00100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3920" y="1599840"/>
            <a:ext cx="70009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специальная часть дороги вдоль проезжей части, предназначенная для движения пешеходов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4200" y="4600440"/>
            <a:ext cx="200052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7286760" y="5929200"/>
            <a:ext cx="642960" cy="7905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90560"/>
              <a:gd name="textAreaBottom" fmla="*/ 749160 h 790560"/>
            </a:gdLst>
            <a:ahLst/>
            <a:rect l="textAreaLeft" t="textAreaTop" r="textAreaRight" b="textAreaBottom"/>
            <a:pathLst>
              <a:path w="21600" h="26556">
                <a:moveTo>
                  <a:pt x="0" y="0"/>
                </a:moveTo>
                <a:lnTo>
                  <a:pt x="21600" y="0"/>
                </a:lnTo>
                <a:lnTo>
                  <a:pt x="21600" y="26556"/>
                </a:lnTo>
                <a:lnTo>
                  <a:pt x="0" y="26556"/>
                </a:lnTo>
                <a:close/>
              </a:path>
              <a:path fill="lightenLess" w="21600" h="26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6">
                <a:moveTo>
                  <a:pt x="21600" y="0"/>
                </a:moveTo>
                <a:lnTo>
                  <a:pt x="21600" y="26556"/>
                </a:lnTo>
                <a:lnTo>
                  <a:pt x="20200" y="25156"/>
                </a:lnTo>
                <a:lnTo>
                  <a:pt x="20200" y="1400"/>
                </a:lnTo>
                <a:close/>
              </a:path>
              <a:path fill="darkenLess" w="21600" h="26556">
                <a:moveTo>
                  <a:pt x="21600" y="26556"/>
                </a:moveTo>
                <a:lnTo>
                  <a:pt x="0" y="26556"/>
                </a:lnTo>
                <a:lnTo>
                  <a:pt x="1400" y="25156"/>
                </a:lnTo>
                <a:lnTo>
                  <a:pt x="20200" y="25156"/>
                </a:lnTo>
                <a:close/>
              </a:path>
              <a:path fill="lighten" w="21600" h="26556">
                <a:moveTo>
                  <a:pt x="0" y="26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6"/>
                </a:lnTo>
                <a:close/>
              </a:path>
              <a:path fill="darken" w="21600" h="26556">
                <a:moveTo>
                  <a:pt x="3794" y="6271"/>
                </a:moveTo>
                <a:lnTo>
                  <a:pt x="17806" y="13278"/>
                </a:lnTo>
                <a:lnTo>
                  <a:pt x="3794" y="202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43080" y="1961640"/>
            <a:ext cx="392904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туа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0840" y="3925800"/>
            <a:ext cx="3297240" cy="2511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7">
            <a:hlinkClick r:id="rId3" action="ppaction://hlinksldjump"/>
          </p:cNvPr>
          <p:cNvSpPr/>
          <p:nvPr/>
        </p:nvSpPr>
        <p:spPr>
          <a:xfrm>
            <a:off x="7308720" y="6072120"/>
            <a:ext cx="763560" cy="596880"/>
          </a:xfrm>
          <a:custGeom>
            <a:avLst/>
            <a:gdLst>
              <a:gd name="textAreaLeft" fmla="*/ 38520 w 763560"/>
              <a:gd name="textAreaRight" fmla="*/ 725040 w 763560"/>
              <a:gd name="textAreaTop" fmla="*/ 38520 h 596880"/>
              <a:gd name="textAreaBottom" fmla="*/ 558360 h 596880"/>
            </a:gdLst>
            <a:ahLst/>
            <a:rect l="textAreaLeft" t="textAreaTop" r="textAreaRight" b="textAreaBottom"/>
            <a:pathLst>
              <a:path w="27628" h="21600">
                <a:moveTo>
                  <a:pt x="0" y="0"/>
                </a:moveTo>
                <a:lnTo>
                  <a:pt x="27628" y="0"/>
                </a:lnTo>
                <a:lnTo>
                  <a:pt x="27628" y="21600"/>
                </a:lnTo>
                <a:lnTo>
                  <a:pt x="0" y="21600"/>
                </a:lnTo>
                <a:close/>
              </a:path>
              <a:path fill="lightenLess" w="27628" h="21600">
                <a:moveTo>
                  <a:pt x="0" y="0"/>
                </a:moveTo>
                <a:lnTo>
                  <a:pt x="27628" y="0"/>
                </a:lnTo>
                <a:lnTo>
                  <a:pt x="26228" y="1400"/>
                </a:lnTo>
                <a:lnTo>
                  <a:pt x="1400" y="1400"/>
                </a:lnTo>
                <a:close/>
              </a:path>
              <a:path fill="darken" w="27628" h="21600">
                <a:moveTo>
                  <a:pt x="27628" y="0"/>
                </a:moveTo>
                <a:lnTo>
                  <a:pt x="27628" y="21600"/>
                </a:lnTo>
                <a:lnTo>
                  <a:pt x="26228" y="20200"/>
                </a:lnTo>
                <a:lnTo>
                  <a:pt x="26228" y="1400"/>
                </a:lnTo>
                <a:close/>
              </a:path>
              <a:path fill="darkenLess" w="27628" h="21600">
                <a:moveTo>
                  <a:pt x="27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28" y="20200"/>
                </a:lnTo>
                <a:close/>
              </a:path>
              <a:path fill="lighten" w="27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28" h="21600">
                <a:moveTo>
                  <a:pt x="13814" y="3837"/>
                </a:moveTo>
                <a:lnTo>
                  <a:pt x="16390" y="6448"/>
                </a:ln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lnTo>
                  <a:pt x="20777" y="10800"/>
                </a:lnTo>
                <a:lnTo>
                  <a:pt x="19123" y="10800"/>
                </a:lnTo>
                <a:lnTo>
                  <a:pt x="19123" y="17989"/>
                </a:lnTo>
                <a:lnTo>
                  <a:pt x="8505" y="17989"/>
                </a:lnTo>
                <a:lnTo>
                  <a:pt x="8505" y="10800"/>
                </a:lnTo>
                <a:lnTo>
                  <a:pt x="6851" y="10800"/>
                </a:lnTo>
                <a:close/>
              </a:path>
              <a:path fill="darkenLess" w="27628" h="21600">
                <a:moveTo>
                  <a:pt x="16390" y="6448"/>
                </a:move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close/>
              </a:path>
              <a:path fill="darkenLess" w="27628" h="21600">
                <a:moveTo>
                  <a:pt x="12892" y="14299"/>
                </a:moveTo>
                <a:lnTo>
                  <a:pt x="14737" y="14299"/>
                </a:lnTo>
                <a:lnTo>
                  <a:pt x="14737" y="17989"/>
                </a:lnTo>
                <a:lnTo>
                  <a:pt x="19123" y="17989"/>
                </a:lnTo>
                <a:lnTo>
                  <a:pt x="19123" y="10800"/>
                </a:lnTo>
                <a:lnTo>
                  <a:pt x="8505" y="10800"/>
                </a:lnTo>
                <a:lnTo>
                  <a:pt x="8505" y="17989"/>
                </a:lnTo>
                <a:lnTo>
                  <a:pt x="1289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330280"/>
            <a:ext cx="80438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должны ходить пешеходы при отсутствии троту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48578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071800" y="5929200"/>
            <a:ext cx="571320" cy="7574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57440"/>
              <a:gd name="textAreaBottom" fmla="*/ 720720 h 757440"/>
            </a:gdLst>
            <a:ahLst/>
            <a:rect l="textAreaLeft" t="textAreaTop" r="textAreaRight" b="textAreaBottom"/>
            <a:pathLst>
              <a:path w="21600" h="28632">
                <a:moveTo>
                  <a:pt x="0" y="0"/>
                </a:moveTo>
                <a:lnTo>
                  <a:pt x="21600" y="0"/>
                </a:lnTo>
                <a:lnTo>
                  <a:pt x="21600" y="28632"/>
                </a:lnTo>
                <a:lnTo>
                  <a:pt x="0" y="28632"/>
                </a:lnTo>
                <a:close/>
              </a:path>
              <a:path fill="lightenLess" w="21600" h="28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32">
                <a:moveTo>
                  <a:pt x="21600" y="0"/>
                </a:moveTo>
                <a:lnTo>
                  <a:pt x="21600" y="28632"/>
                </a:lnTo>
                <a:lnTo>
                  <a:pt x="20200" y="27232"/>
                </a:lnTo>
                <a:lnTo>
                  <a:pt x="20200" y="1400"/>
                </a:lnTo>
                <a:close/>
              </a:path>
              <a:path fill="darkenLess" w="21600" h="28632">
                <a:moveTo>
                  <a:pt x="21600" y="28632"/>
                </a:moveTo>
                <a:lnTo>
                  <a:pt x="0" y="28632"/>
                </a:lnTo>
                <a:lnTo>
                  <a:pt x="1400" y="27232"/>
                </a:lnTo>
                <a:lnTo>
                  <a:pt x="20200" y="27232"/>
                </a:lnTo>
                <a:close/>
              </a:path>
              <a:path fill="lighten" w="21600" h="28632">
                <a:moveTo>
                  <a:pt x="0" y="28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32"/>
                </a:lnTo>
                <a:close/>
              </a:path>
              <a:path fill="darken" w="21600" h="28632">
                <a:moveTo>
                  <a:pt x="3794" y="7310"/>
                </a:moveTo>
                <a:lnTo>
                  <a:pt x="17806" y="14316"/>
                </a:lnTo>
                <a:lnTo>
                  <a:pt x="3794" y="2132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6164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левой стороне обочины, навстречу движения транспортных средств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омой 4">
            <a:hlinkClick r:id="rId2" action="ppaction://hlinksldjump"/>
          </p:cNvPr>
          <p:cNvSpPr/>
          <p:nvPr/>
        </p:nvSpPr>
        <p:spPr>
          <a:xfrm>
            <a:off x="7358040" y="600084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10800" y="4556"/>
                </a:moveTo>
                <a:lnTo>
                  <a:pt x="13376" y="7167"/>
                </a:ln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lnTo>
                  <a:pt x="17763" y="11519"/>
                </a:lnTo>
                <a:lnTo>
                  <a:pt x="16109" y="11519"/>
                </a:lnTo>
                <a:lnTo>
                  <a:pt x="16109" y="18708"/>
                </a:lnTo>
                <a:lnTo>
                  <a:pt x="5491" y="18708"/>
                </a:lnTo>
                <a:lnTo>
                  <a:pt x="5491" y="11519"/>
                </a:lnTo>
                <a:lnTo>
                  <a:pt x="3837" y="11519"/>
                </a:lnTo>
                <a:close/>
              </a:path>
              <a:path fill="darkenLess" w="21600" h="23038">
                <a:moveTo>
                  <a:pt x="13376" y="7167"/>
                </a:move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close/>
              </a:path>
              <a:path fill="darkenLess" w="21600" h="23038">
                <a:moveTo>
                  <a:pt x="9877" y="15018"/>
                </a:moveTo>
                <a:lnTo>
                  <a:pt x="11723" y="15018"/>
                </a:lnTo>
                <a:lnTo>
                  <a:pt x="11723" y="18708"/>
                </a:lnTo>
                <a:lnTo>
                  <a:pt x="16109" y="18708"/>
                </a:lnTo>
                <a:lnTo>
                  <a:pt x="16109" y="11519"/>
                </a:lnTo>
                <a:lnTo>
                  <a:pt x="5491" y="11519"/>
                </a:lnTo>
                <a:lnTo>
                  <a:pt x="5491" y="18708"/>
                </a:lnTo>
                <a:lnTo>
                  <a:pt x="9877" y="1870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78296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остановился на остановке, вы вышли из него. Как правильно переходить дорогу при выходе из транспор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obz043i.bmp"/>
          <p:cNvPicPr/>
          <p:nvPr/>
        </p:nvPicPr>
        <p:blipFill>
          <a:blip r:embed="rId1"/>
          <a:stretch/>
        </p:blipFill>
        <p:spPr>
          <a:xfrm>
            <a:off x="3067200" y="3992400"/>
            <a:ext cx="3509640" cy="262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85840" y="5929200"/>
            <a:ext cx="714240" cy="685800"/>
          </a:xfrm>
          <a:custGeom>
            <a:avLst/>
            <a:gdLst>
              <a:gd name="textAreaLeft" fmla="*/ 44280 w 714240"/>
              <a:gd name="textAreaRight" fmla="*/ 669960 w 71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5" h="21600">
                <a:moveTo>
                  <a:pt x="4241" y="3794"/>
                </a:moveTo>
                <a:lnTo>
                  <a:pt x="18254" y="10800"/>
                </a:lnTo>
                <a:lnTo>
                  <a:pt x="424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814040"/>
            <a:ext cx="761508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лько после того, как автобус отъехал, дойти до ближайшего пешеходного перехода или перекрёстка и начать 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User\Рабочий стол\для презентации\пдд картинки 2\DSC01104.JPG"/>
          <p:cNvPicPr/>
          <p:nvPr/>
        </p:nvPicPr>
        <p:blipFill>
          <a:blip r:embed="rId1"/>
          <a:stretch/>
        </p:blipFill>
        <p:spPr>
          <a:xfrm>
            <a:off x="3067200" y="4065480"/>
            <a:ext cx="3504960" cy="2584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5">
            <a:hlinkClick r:id="rId3" action="ppaction://hlinksldjump"/>
          </p:cNvPr>
          <p:cNvSpPr/>
          <p:nvPr/>
        </p:nvSpPr>
        <p:spPr>
          <a:xfrm>
            <a:off x="7429680" y="6143760"/>
            <a:ext cx="642600" cy="571320"/>
          </a:xfrm>
          <a:custGeom>
            <a:avLst/>
            <a:gdLst>
              <a:gd name="textAreaLeft" fmla="*/ 36720 w 642600"/>
              <a:gd name="textAreaRight" fmla="*/ 605880 w 642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293" h="21600">
                <a:moveTo>
                  <a:pt x="0" y="0"/>
                </a:moveTo>
                <a:lnTo>
                  <a:pt x="24293" y="0"/>
                </a:lnTo>
                <a:lnTo>
                  <a:pt x="24293" y="21600"/>
                </a:lnTo>
                <a:lnTo>
                  <a:pt x="0" y="21600"/>
                </a:lnTo>
                <a:close/>
              </a:path>
              <a:path fill="lightenLess" w="24293" h="21600">
                <a:moveTo>
                  <a:pt x="0" y="0"/>
                </a:moveTo>
                <a:lnTo>
                  <a:pt x="24293" y="0"/>
                </a:lnTo>
                <a:lnTo>
                  <a:pt x="22893" y="1400"/>
                </a:lnTo>
                <a:lnTo>
                  <a:pt x="1400" y="1400"/>
                </a:lnTo>
                <a:close/>
              </a:path>
              <a:path fill="darken" w="24293" h="21600">
                <a:moveTo>
                  <a:pt x="24293" y="0"/>
                </a:moveTo>
                <a:lnTo>
                  <a:pt x="24293" y="21600"/>
                </a:lnTo>
                <a:lnTo>
                  <a:pt x="22893" y="20200"/>
                </a:lnTo>
                <a:lnTo>
                  <a:pt x="22893" y="1400"/>
                </a:lnTo>
                <a:close/>
              </a:path>
              <a:path fill="darkenLess" w="24293" h="21600">
                <a:moveTo>
                  <a:pt x="24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3" y="20200"/>
                </a:lnTo>
                <a:close/>
              </a:path>
              <a:path fill="lighten" w="24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3" h="21600">
                <a:moveTo>
                  <a:pt x="12147" y="3837"/>
                </a:moveTo>
                <a:lnTo>
                  <a:pt x="14723" y="6448"/>
                </a:ln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10" y="10800"/>
                </a:lnTo>
                <a:lnTo>
                  <a:pt x="17456" y="10800"/>
                </a:lnTo>
                <a:lnTo>
                  <a:pt x="17456" y="17989"/>
                </a:lnTo>
                <a:lnTo>
                  <a:pt x="6837" y="17989"/>
                </a:lnTo>
                <a:lnTo>
                  <a:pt x="6837" y="10800"/>
                </a:lnTo>
                <a:lnTo>
                  <a:pt x="5184" y="10800"/>
                </a:lnTo>
                <a:close/>
              </a:path>
              <a:path fill="darkenLess" w="24293" h="21600">
                <a:moveTo>
                  <a:pt x="14723" y="6448"/>
                </a:move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3" h="21600">
                <a:moveTo>
                  <a:pt x="11224" y="14299"/>
                </a:moveTo>
                <a:lnTo>
                  <a:pt x="13069" y="14299"/>
                </a:lnTo>
                <a:lnTo>
                  <a:pt x="13069" y="17989"/>
                </a:lnTo>
                <a:lnTo>
                  <a:pt x="17456" y="17989"/>
                </a:lnTo>
                <a:lnTo>
                  <a:pt x="17456" y="10800"/>
                </a:lnTo>
                <a:lnTo>
                  <a:pt x="6837" y="10800"/>
                </a:lnTo>
                <a:lnTo>
                  <a:pt x="6837" y="17989"/>
                </a:lnTo>
                <a:lnTo>
                  <a:pt x="1122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12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разрешается переходить проезжую часть, если в зоне видимости нет переход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2560" y="3852720"/>
            <a:ext cx="5700600" cy="2840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14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300" y="3794"/>
                </a:moveTo>
                <a:lnTo>
                  <a:pt x="18313" y="10800"/>
                </a:lnTo>
                <a:lnTo>
                  <a:pt x="43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2109960"/>
            <a:ext cx="7286760" cy="19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хорошо просматриваемом участке дороги, если нет ограждений, под прямым углом к проезжей части дорог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4"/>
          <p:cNvSpPr/>
          <p:nvPr/>
        </p:nvSpPr>
        <p:spPr>
          <a:xfrm>
            <a:off x="7286760" y="6072120"/>
            <a:ext cx="714240" cy="614520"/>
          </a:xfrm>
          <a:custGeom>
            <a:avLst/>
            <a:gdLst>
              <a:gd name="textAreaLeft" fmla="*/ 39600 w 714240"/>
              <a:gd name="textAreaRight" fmla="*/ 674640 w 71424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5103" h="21600">
                <a:moveTo>
                  <a:pt x="0" y="0"/>
                </a:moveTo>
                <a:lnTo>
                  <a:pt x="25103" y="0"/>
                </a:lnTo>
                <a:lnTo>
                  <a:pt x="25103" y="21600"/>
                </a:lnTo>
                <a:lnTo>
                  <a:pt x="0" y="21600"/>
                </a:lnTo>
                <a:close/>
              </a:path>
              <a:path fill="lightenLess" w="25103" h="21600">
                <a:moveTo>
                  <a:pt x="0" y="0"/>
                </a:moveTo>
                <a:lnTo>
                  <a:pt x="25103" y="0"/>
                </a:lnTo>
                <a:lnTo>
                  <a:pt x="23703" y="1400"/>
                </a:lnTo>
                <a:lnTo>
                  <a:pt x="1400" y="1400"/>
                </a:lnTo>
                <a:close/>
              </a:path>
              <a:path fill="darken" w="25103" h="21600">
                <a:moveTo>
                  <a:pt x="25103" y="0"/>
                </a:moveTo>
                <a:lnTo>
                  <a:pt x="25103" y="21600"/>
                </a:lnTo>
                <a:lnTo>
                  <a:pt x="23703" y="20200"/>
                </a:lnTo>
                <a:lnTo>
                  <a:pt x="23703" y="1400"/>
                </a:lnTo>
                <a:close/>
              </a:path>
              <a:path fill="darkenLess" w="25103" h="21600">
                <a:moveTo>
                  <a:pt x="2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03" y="20200"/>
                </a:lnTo>
                <a:close/>
              </a:path>
              <a:path fill="lighten" w="2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03" h="21600">
                <a:moveTo>
                  <a:pt x="12552" y="3837"/>
                </a:moveTo>
                <a:lnTo>
                  <a:pt x="15128" y="6448"/>
                </a:ln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lnTo>
                  <a:pt x="19514" y="10800"/>
                </a:lnTo>
                <a:lnTo>
                  <a:pt x="17861" y="10800"/>
                </a:lnTo>
                <a:lnTo>
                  <a:pt x="17861" y="17989"/>
                </a:lnTo>
                <a:lnTo>
                  <a:pt x="7242" y="17989"/>
                </a:lnTo>
                <a:lnTo>
                  <a:pt x="7242" y="10800"/>
                </a:lnTo>
                <a:lnTo>
                  <a:pt x="5589" y="10800"/>
                </a:lnTo>
                <a:close/>
              </a:path>
              <a:path fill="darkenLess" w="25103" h="21600">
                <a:moveTo>
                  <a:pt x="15128" y="6448"/>
                </a:move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close/>
              </a:path>
              <a:path fill="darkenLess" w="25103" h="21600">
                <a:moveTo>
                  <a:pt x="11629" y="14299"/>
                </a:moveTo>
                <a:lnTo>
                  <a:pt x="13474" y="14299"/>
                </a:lnTo>
                <a:lnTo>
                  <a:pt x="13474" y="17989"/>
                </a:lnTo>
                <a:lnTo>
                  <a:pt x="17861" y="17989"/>
                </a:lnTo>
                <a:lnTo>
                  <a:pt x="17861" y="10800"/>
                </a:lnTo>
                <a:lnTo>
                  <a:pt x="7242" y="10800"/>
                </a:lnTo>
                <a:lnTo>
                  <a:pt x="7242" y="17989"/>
                </a:lnTo>
                <a:lnTo>
                  <a:pt x="11629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49:50Z</dcterms:created>
  <dc:creator>Админ</dc:creator>
  <dc:description/>
  <dc:language>en-US</dc:language>
  <cp:lastModifiedBy>HP</cp:lastModifiedBy>
  <dcterms:modified xsi:type="dcterms:W3CDTF">2016-11-30T13:50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