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3.jpeg" ContentType="image/jpe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4.jpeg" ContentType="image/jpeg"/>
  <Override PartName="/ppt/media/image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C0C5-D701-4494-B476-953E36254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A76D-CBF5-420F-AF58-A7FDD585B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018B90-925C-4686-B9C1-D129D49D1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BDF0B9-A04C-47DE-BF5C-BEE14B506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6E9163-BE68-4218-843E-431122E89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2162EA-185A-484D-91C4-CDC090423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688569-A201-447A-B0EA-0F169F3F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8BE1AD-4645-4142-A822-58837EBB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DBDC6F-874D-4E69-A9BF-3B98D7100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D5A10A-77FD-4002-9BEE-5A0580B96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EE820A-8806-4B98-8D63-1388E0D7B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8D12-79DE-4150-8FB7-478DB8FBA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BC3B-5F9D-40F3-8516-9333FAABD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03FFA-31B2-4F09-AD3B-722C9EC7B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CB730-D794-4103-A821-CA84E95ED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85C8E-1C2D-4660-B996-6FBFF57B6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8D131-95F3-4490-B50B-46E93E845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9A34D-5F4A-4390-8ADC-780AB50F7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3BDE0-9BC4-421B-9ADC-80A8765F1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9A101-9D7E-4C17-AAD3-EEC0C941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14F1-F7EC-4A02-8E11-C6485ACE5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07131-A998-4C24-9CFE-750FCC2E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8D2D0-F310-46D2-9291-181CAE07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41E22-04AC-4E1B-B269-5D5F79CB5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88661-652D-4BF6-AA77-6D44F4969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2AEC0-C399-48EE-A525-D740566F6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40A79-5DFE-41A2-867D-DE3E3F5D8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AEEB6-2130-477C-8ACE-073101A24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D11CF-50C6-4BC6-91A1-F91AE0927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A2182-681C-4312-BC5A-49531F8C5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05A06-CDBB-46A8-BA83-36A4533D7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8546-F6F2-4B53-BDB3-6360038E2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2E8AD-C538-443F-B09A-EC1B114B1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216E6-9032-4AE5-A88E-7128FDC1C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B7057-140A-4B01-B5AA-4AF99DF3E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F5C42-FEFA-4B1B-8292-F7259999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49098-B14E-4833-A36D-25C290189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C6DD8-6BE7-421A-830B-2904FDA54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14FE9-AF66-482A-9F45-1C3FAAF02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92C17-EC87-4483-91B2-5B483D809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F6DBF-F044-4E7F-90EA-61C95B74C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3EA30-1748-4E71-BA5C-41718D4F8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DC35-A102-456B-AC1A-C4B8E14EF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FB39B-CE39-48DB-9F3C-2B812A9BE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B5254-BE97-45F7-ABE9-C17275CAB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E7525-40EE-49A6-A572-8AE5E4B3B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0796A-983D-41B6-B33B-9FCED1289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8BAE4-3ACC-4066-82F8-AB01B734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D0069-FC6A-4593-8B95-5B75225F9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ADB6C-BA7E-4634-BE35-834CB0720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F844E-0E70-4644-81D4-6FA192E91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B278D-D2EE-4EB7-95CF-B2785BD25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2DEAD8-CDDA-4672-AFA9-A5C6D59DE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70B7-6D59-4FE4-BDB6-6B3DCF165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2BFDDE-3DD4-438C-B5C6-8366ECD07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D707E-44A6-4D51-A641-CBC3245D8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D2E9F3-5CC7-465C-A6E8-371F136EB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3829C-77CE-4106-B760-DD202F3E0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4568A3-FE8C-4E92-92A6-723EADC58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2CC597-73EC-46BE-ADC5-29299B2C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11EA89-7E0B-4941-B896-30C7DAFCA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84D3CD-47E3-4511-BEE2-43973E93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DC9C27-4425-4583-B44B-09CD47B08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7E89BF-6656-4337-A872-25A4AEAA1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1C32-C0EB-41BD-B0A3-9DB08F36F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7C82C-7E42-4520-AB93-BE095A61B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37D0E5-764A-4763-B450-99682C145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419264-E631-45FF-B4F0-3B0D3032F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4112B6-13A0-4087-9AA4-21891A0EA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6C0F26-3CB1-4194-AF03-B2DBFA96D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B1E226-3AEF-4852-9EEE-ED523249C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17E3D3-85E6-4F65-942B-6E7661391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CB9B60-CE37-4F38-A11C-CBC94B4E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9193CB-9894-4DD6-9A73-104B6673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5BB5DE-BB89-43D6-A29A-913D9BD9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26A4-305F-43F0-A0D1-13152D9BB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9DD7FC-F09C-4626-ABB4-D6026AF86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42A933-C6CA-431C-8DCC-ED1143475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B8D03-0ED6-4303-A6D1-DB84577AB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192C7B-B345-4740-ABBD-64091C064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02B300-58B2-4144-98C9-C7CE51E1E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ADA4FF-9C50-4851-B26D-F8C955C34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1488E2-11B4-4BDA-8D68-B7E017888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FBC5B4-EE03-4606-9810-7C9CABCC5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A71B31-3959-465C-8792-2FE6CDEE3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B68E37-D334-4486-8777-42C99CEC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368A-B296-4416-8EFF-EF699E57D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B64593-D738-40D3-B71F-C569044E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3BE2D9-D800-48C6-B136-B7483478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426579-C7DB-4947-B0FA-62D2BA6DA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EC3F7F-69E4-4270-BBC1-50D80AEC8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F88B91-C9EE-4150-A043-F8E68D987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A29CC6-4591-4F80-9A3D-883C1CA99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DA729C-965B-48D0-917D-49849EDC8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7EA82C-0698-4F02-A435-4AC5CBD72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15C3EC-6230-4F99-AE68-597575DEC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36CB23-F958-4CE1-AE8D-933A7F3C6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8EE4-AB05-483C-8CF4-FCC6DA6D8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559A88-9EB5-4922-8574-33753411B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F50AA4-2213-462A-87D7-B658D7AB0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A02EFA-09B1-4111-B5D1-E9255326C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0CC88E-EF15-43DA-AC95-9BDC2834F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BB19A6-CF0A-4941-A8E9-CF9F28833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51C7A7-7E09-4B69-88EE-56151440C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CAC37E-75DD-4CA3-B9C9-6E4134421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93B041-D7D7-4E12-87E6-60A82ECF3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248071-BDCD-4F69-8CA4-18B42C91D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686C63-C474-4640-B299-0DFDA2FB4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DB91F-D1FD-41FF-B2ED-40BB6BE9384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F5F01-C4AD-4DDC-A378-3CFA90879D3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FBAF7-2103-4C58-9003-2C2A0502B5B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771F9-2BEF-4536-AA5B-B7BAE659C05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66062-0F6F-4FF8-B579-D02A788532F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88A81-7CD8-45AA-978F-954AB0796BF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0DAB7-1346-44F3-A691-E38FF523871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E7773-D3E1-4A10-9423-8AFCEC03F5B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28053-B03B-48A9-AEBB-CC4BD0E60DC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182520" y="4761000"/>
            <a:ext cx="8663040" cy="132228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3329"/>
                </a:solidFill>
                <a:latin typeface="Franklin Gothic Book"/>
              </a:rPr>
              <a:t>Учитель английского языка: Жамьянова Юлия Владимировна</a:t>
            </a:r>
            <a:r>
              <a:rPr b="0" lang="en-US" sz="2400" spc="-1" strike="noStrike">
                <a:solidFill>
                  <a:srgbClr val="443329"/>
                </a:solidFill>
                <a:latin typeface="Franklin Gothic Book"/>
              </a:rPr>
              <a:t> </a:t>
            </a:r>
            <a:r>
              <a:rPr b="0" lang="ru-RU" sz="2400" spc="-1" strike="noStrike">
                <a:solidFill>
                  <a:srgbClr val="443329"/>
                </a:solidFill>
                <a:latin typeface="Franklin Gothic Book"/>
              </a:rPr>
              <a:t>ГБОУ «РМШИ»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 txBox="1"/>
          <p:nvPr/>
        </p:nvSpPr>
        <p:spPr>
          <a:xfrm>
            <a:off x="571320" y="1554120"/>
            <a:ext cx="8420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Next, pleas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91600" indent="-291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wo tickets for King Kong at 6 pm, pleas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91600" indent="-291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I’m afraid it’s sold ou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91600" indent="-291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wo tickets for 9 pm then, please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91600" indent="-291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Is that for the 7 pm or the 10 pm showing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91600" indent="-291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at’s £12  altogether, then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91600" indent="-291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Is there a discount for students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91600" indent="-291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Here are your tickets and your change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91600" indent="-291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Enjoy the movie!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7" name="TextBox 3"/>
          <p:cNvSpPr/>
          <p:nvPr/>
        </p:nvSpPr>
        <p:spPr>
          <a:xfrm>
            <a:off x="272880" y="15717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Franklin Gothic Book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4"/>
          <p:cNvSpPr/>
          <p:nvPr/>
        </p:nvSpPr>
        <p:spPr>
          <a:xfrm>
            <a:off x="277920" y="214308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Franklin Gothic Book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Box 5"/>
          <p:cNvSpPr/>
          <p:nvPr/>
        </p:nvSpPr>
        <p:spPr>
          <a:xfrm>
            <a:off x="272880" y="26431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Franklin Gothic Book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6"/>
          <p:cNvSpPr/>
          <p:nvPr/>
        </p:nvSpPr>
        <p:spPr>
          <a:xfrm>
            <a:off x="277920" y="328608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Franklin Gothic Book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7"/>
          <p:cNvSpPr/>
          <p:nvPr/>
        </p:nvSpPr>
        <p:spPr>
          <a:xfrm>
            <a:off x="277920" y="507204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Franklin Gothic Book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8"/>
          <p:cNvSpPr/>
          <p:nvPr/>
        </p:nvSpPr>
        <p:spPr>
          <a:xfrm>
            <a:off x="272880" y="44290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Franklin Gothic Book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9"/>
          <p:cNvSpPr/>
          <p:nvPr/>
        </p:nvSpPr>
        <p:spPr>
          <a:xfrm>
            <a:off x="272880" y="56437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Franklin Gothic Book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10"/>
          <p:cNvSpPr/>
          <p:nvPr/>
        </p:nvSpPr>
        <p:spPr>
          <a:xfrm>
            <a:off x="272880" y="62118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Franklin Gothic Book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11"/>
          <p:cNvSpPr/>
          <p:nvPr/>
        </p:nvSpPr>
        <p:spPr>
          <a:xfrm>
            <a:off x="272880" y="38577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Franklin Gothic Book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Ex. 1a, p. 72.mp3" descr=""/>
          <p:cNvPicPr/>
          <p:nvPr/>
        </p:nvPicPr>
        <p:blipFill>
          <a:blip r:embed="rId2"/>
          <a:stretch/>
        </p:blipFill>
        <p:spPr>
          <a:xfrm>
            <a:off x="7715160" y="5716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57" name="Ex. 1b, p. 72.mp3" descr=""/>
          <p:cNvPicPr/>
          <p:nvPr/>
        </p:nvPicPr>
        <p:blipFill>
          <a:blip r:embed="rId3"/>
          <a:stretch/>
        </p:blipFill>
        <p:spPr>
          <a:xfrm>
            <a:off x="8215200" y="5857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456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456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51261" fill="hold"/>
                                        <p:tgtEl>
                                          <p:spTgt spid="4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457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457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61683" fill="hold"/>
                                        <p:tgtEl>
                                          <p:spTgt spid="4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5486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609120"/>
            <a:ext cx="3008160" cy="20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4e3b30"/>
              </a:solidFill>
              <a:latin typeface="Franklin Gothic Book"/>
            </a:endParaRPr>
          </a:p>
        </p:txBody>
      </p:sp>
      <p:graphicFrame>
        <p:nvGraphicFramePr>
          <p:cNvPr id="460" name=""/>
          <p:cNvGraphicFramePr/>
          <p:nvPr/>
        </p:nvGraphicFramePr>
        <p:xfrm>
          <a:off x="357120" y="2500200"/>
          <a:ext cx="8558280" cy="4043520"/>
        </p:xfrm>
        <a:graphic>
          <a:graphicData uri="http://schemas.openxmlformats.org/drawingml/2006/table">
            <a:tbl>
              <a:tblPr/>
              <a:tblGrid>
                <a:gridCol w="2139840"/>
                <a:gridCol w="2140200"/>
                <a:gridCol w="2138400"/>
                <a:gridCol w="21398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Now showing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Screen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Franklin Gothic Book"/>
                        </a:rPr>
                        <a:t>Shazam 3 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f802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2.30 p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f802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5 p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f802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8.30 p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f8022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Screen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Franklin Gothic Book"/>
                        </a:rPr>
                        <a:t>Dambo 3 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10 a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6 p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a22e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Screen  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2060"/>
                          </a:solidFill>
                          <a:latin typeface="Franklin Gothic Book"/>
                        </a:rPr>
                        <a:t>Captain Marv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802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3 p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802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7 p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802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10 p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8022"/>
                    </a:solidFill>
                  </a:tcPr>
                </a:tc>
              </a:tr>
              <a:tr h="9471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Tickets: Adults £7, Children/Students £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a22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a22e"/>
                    </a:solidFill>
                  </a:tcPr>
                </a:tc>
              </a:tr>
            </a:tbl>
          </a:graphicData>
        </a:graphic>
      </p:graphicFrame>
      <p:pic>
        <p:nvPicPr>
          <p:cNvPr id="461" name="Picture 2" descr="D:\Жаргал\Рабочий стол\45009428.jpg"/>
          <p:cNvPicPr/>
          <p:nvPr/>
        </p:nvPicPr>
        <p:blipFill>
          <a:blip r:embed="rId1"/>
          <a:stretch/>
        </p:blipFill>
        <p:spPr>
          <a:xfrm>
            <a:off x="433440" y="0"/>
            <a:ext cx="84247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103320" y="5407200"/>
            <a:ext cx="8821440" cy="116964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280800" y="666360"/>
            <a:ext cx="429084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0761f"/>
                </a:solidFill>
                <a:latin typeface="Franklin Gothic Medium"/>
              </a:rPr>
              <a:t>[3:]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645080" y="666360"/>
            <a:ext cx="429264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0761f"/>
                </a:solidFill>
                <a:latin typeface="Franklin Gothic Medium"/>
              </a:rPr>
              <a:t>[OU]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280800" y="1315800"/>
            <a:ext cx="429084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Book"/>
              </a:rPr>
              <a:t>ir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Book"/>
              </a:rPr>
              <a:t>            </a:t>
            </a:r>
            <a:r>
              <a:rPr b="0" lang="en-US" sz="4000" spc="-1" strike="noStrike">
                <a:solidFill>
                  <a:srgbClr val="4e3b30"/>
                </a:solidFill>
                <a:latin typeface="Franklin Gothic Book"/>
              </a:rPr>
              <a:t>[3:]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Book"/>
              </a:rPr>
              <a:t>ur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Book"/>
              </a:rPr>
              <a:t>girl, bird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Book"/>
              </a:rPr>
              <a:t>Curl, fur, purse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4647960" y="1315800"/>
            <a:ext cx="428940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Book"/>
              </a:rPr>
              <a:t>O – </a:t>
            </a: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в открытом слоге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Book"/>
              </a:rPr>
              <a:t>oa - [ou]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Book"/>
              </a:rPr>
              <a:t>Pole, Rome, tone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Book"/>
              </a:rPr>
              <a:t>Boat, coal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6" name="Правая фигурная скобка 6"/>
          <p:cNvSpPr/>
          <p:nvPr/>
        </p:nvSpPr>
        <p:spPr>
          <a:xfrm>
            <a:off x="1428840" y="1571760"/>
            <a:ext cx="285840" cy="1643040"/>
          </a:xfrm>
          <a:custGeom>
            <a:avLst/>
            <a:gdLst>
              <a:gd name="textAreaLeft" fmla="*/ 0 w 285840"/>
              <a:gd name="textAreaRight" fmla="*/ 103320 w 285840"/>
              <a:gd name="textAreaTop" fmla="*/ 7200 h 1643040"/>
              <a:gd name="textAreaBottom" fmla="*/ 1635840 h 16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7"/>
                  <a:pt x="10800" y="313"/>
                </a:cubicBezTo>
                <a:lnTo>
                  <a:pt x="10800" y="10487"/>
                </a:lnTo>
                <a:cubicBezTo>
                  <a:pt x="10800" y="10644"/>
                  <a:pt x="16200" y="10800"/>
                  <a:pt x="21600" y="10800"/>
                </a:cubicBezTo>
                <a:cubicBezTo>
                  <a:pt x="16200" y="10800"/>
                  <a:pt x="10800" y="10957"/>
                  <a:pt x="10800" y="11113"/>
                </a:cubicBezTo>
                <a:lnTo>
                  <a:pt x="10800" y="21287"/>
                </a:lnTo>
                <a:cubicBezTo>
                  <a:pt x="10800" y="21444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4920" y="5410080"/>
            <a:ext cx="86104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280800" y="666360"/>
            <a:ext cx="42908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b0761f"/>
              </a:solidFill>
              <a:latin typeface="Franklin Gothic Medium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45080" y="666360"/>
            <a:ext cx="42926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b0761f"/>
              </a:solidFill>
              <a:latin typeface="Franklin Gothic Medium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281160" y="1316160"/>
          <a:ext cx="4290840" cy="2530440"/>
        </p:xfrm>
        <a:graphic>
          <a:graphicData uri="http://schemas.openxmlformats.org/drawingml/2006/table">
            <a:tbl>
              <a:tblPr/>
              <a:tblGrid>
                <a:gridCol w="1430280"/>
                <a:gridCol w="1430280"/>
                <a:gridCol w="143028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[3: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[ou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bur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bon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11" name=""/>
          <p:cNvGraphicFramePr/>
          <p:nvPr/>
        </p:nvGraphicFramePr>
        <p:xfrm>
          <a:off x="4648320" y="1316160"/>
          <a:ext cx="4289400" cy="2468520"/>
        </p:xfrm>
        <a:graphic>
          <a:graphicData uri="http://schemas.openxmlformats.org/drawingml/2006/table">
            <a:tbl>
              <a:tblPr/>
              <a:tblGrid>
                <a:gridCol w="1430280"/>
                <a:gridCol w="1428840"/>
                <a:gridCol w="143028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[3: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[ou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fi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foa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</a:tbl>
          </a:graphicData>
        </a:graphic>
      </p:graphicFrame>
      <p:sp>
        <p:nvSpPr>
          <p:cNvPr id="412" name="TextBox 10"/>
          <p:cNvSpPr/>
          <p:nvPr/>
        </p:nvSpPr>
        <p:spPr>
          <a:xfrm>
            <a:off x="2071800" y="2071800"/>
            <a:ext cx="714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b0f0"/>
                </a:solidFill>
                <a:latin typeface="Franklin Gothic Book"/>
              </a:rPr>
              <a:t>•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11"/>
          <p:cNvSpPr/>
          <p:nvPr/>
        </p:nvSpPr>
        <p:spPr>
          <a:xfrm>
            <a:off x="3500280" y="2928960"/>
            <a:ext cx="714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b0f0"/>
                </a:solidFill>
                <a:latin typeface="Franklin Gothic Book"/>
              </a:rPr>
              <a:t>•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12"/>
          <p:cNvSpPr/>
          <p:nvPr/>
        </p:nvSpPr>
        <p:spPr>
          <a:xfrm>
            <a:off x="6357960" y="2143080"/>
            <a:ext cx="714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b0f0"/>
                </a:solidFill>
                <a:latin typeface="Franklin Gothic Book"/>
              </a:rPr>
              <a:t>•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13"/>
          <p:cNvSpPr/>
          <p:nvPr/>
        </p:nvSpPr>
        <p:spPr>
          <a:xfrm>
            <a:off x="7858080" y="2857680"/>
            <a:ext cx="714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b0f0"/>
                </a:solidFill>
                <a:latin typeface="Franklin Gothic Book"/>
              </a:rPr>
              <a:t>•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Ex. 4, p. 72.mp3" descr=""/>
          <p:cNvPicPr/>
          <p:nvPr/>
        </p:nvPicPr>
        <p:blipFill>
          <a:blip r:embed="rId1"/>
          <a:stretch/>
        </p:blipFill>
        <p:spPr>
          <a:xfrm>
            <a:off x="4429080" y="43578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16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16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30258" fill="hold"/>
                                        <p:tgtEl>
                                          <p:spTgt spid="4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5486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609120"/>
            <a:ext cx="300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9" name="Содержимое 4" descr="кино.jpg"/>
          <p:cNvPicPr/>
          <p:nvPr/>
        </p:nvPicPr>
        <p:blipFill>
          <a:blip r:embed="rId1"/>
          <a:stretch/>
        </p:blipFill>
        <p:spPr>
          <a:xfrm>
            <a:off x="642960" y="642960"/>
            <a:ext cx="805824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Овал 2"/>
          <p:cNvSpPr/>
          <p:nvPr/>
        </p:nvSpPr>
        <p:spPr>
          <a:xfrm>
            <a:off x="2500200" y="1785960"/>
            <a:ext cx="3929040" cy="1500120"/>
          </a:xfrm>
          <a:prstGeom prst="ellips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Franklin Gothic Book"/>
              </a:rPr>
              <a:t>CINEM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Прямая со стрелкой 10" descr=""/>
          <p:cNvPicPr/>
          <p:nvPr/>
        </p:nvPicPr>
        <p:blipFill>
          <a:blip r:embed="rId1"/>
          <a:stretch/>
        </p:blipFill>
        <p:spPr>
          <a:xfrm>
            <a:off x="1878120" y="3011400"/>
            <a:ext cx="1298520" cy="1262160"/>
          </a:xfrm>
          <a:prstGeom prst="rect">
            <a:avLst/>
          </a:prstGeom>
          <a:ln w="0">
            <a:noFill/>
          </a:ln>
        </p:spPr>
      </p:pic>
      <p:pic>
        <p:nvPicPr>
          <p:cNvPr id="422" name="Прямая со стрелкой 12" descr=""/>
          <p:cNvPicPr/>
          <p:nvPr/>
        </p:nvPicPr>
        <p:blipFill>
          <a:blip r:embed="rId2"/>
          <a:stretch/>
        </p:blipFill>
        <p:spPr>
          <a:xfrm>
            <a:off x="5742000" y="3011400"/>
            <a:ext cx="1158840" cy="1225800"/>
          </a:xfrm>
          <a:prstGeom prst="rect">
            <a:avLst/>
          </a:prstGeom>
          <a:ln w="0">
            <a:noFill/>
          </a:ln>
        </p:spPr>
      </p:pic>
      <p:pic>
        <p:nvPicPr>
          <p:cNvPr id="423" name="Прямая со стрелкой 14" descr=""/>
          <p:cNvPicPr/>
          <p:nvPr/>
        </p:nvPicPr>
        <p:blipFill>
          <a:blip r:embed="rId3"/>
          <a:stretch/>
        </p:blipFill>
        <p:spPr>
          <a:xfrm>
            <a:off x="4164120" y="3316320"/>
            <a:ext cx="517320" cy="1395360"/>
          </a:xfrm>
          <a:prstGeom prst="rect">
            <a:avLst/>
          </a:prstGeom>
          <a:ln w="0">
            <a:noFill/>
          </a:ln>
        </p:spPr>
      </p:pic>
      <p:pic>
        <p:nvPicPr>
          <p:cNvPr id="424" name="Прямая со стрелкой 16" descr=""/>
          <p:cNvPicPr/>
          <p:nvPr/>
        </p:nvPicPr>
        <p:blipFill>
          <a:blip r:embed="rId4"/>
          <a:stretch/>
        </p:blipFill>
        <p:spPr>
          <a:xfrm>
            <a:off x="5742000" y="858960"/>
            <a:ext cx="1158840" cy="1298520"/>
          </a:xfrm>
          <a:prstGeom prst="rect">
            <a:avLst/>
          </a:prstGeom>
          <a:ln w="0">
            <a:noFill/>
          </a:ln>
        </p:spPr>
      </p:pic>
      <p:pic>
        <p:nvPicPr>
          <p:cNvPr id="425" name="Прямая со стрелкой 18" descr=""/>
          <p:cNvPicPr/>
          <p:nvPr/>
        </p:nvPicPr>
        <p:blipFill>
          <a:blip r:embed="rId5"/>
          <a:stretch/>
        </p:blipFill>
        <p:spPr>
          <a:xfrm>
            <a:off x="1736640" y="858960"/>
            <a:ext cx="1440000" cy="1298520"/>
          </a:xfrm>
          <a:prstGeom prst="rect">
            <a:avLst/>
          </a:prstGeom>
          <a:ln w="0">
            <a:noFill/>
          </a:ln>
        </p:spPr>
      </p:pic>
      <p:sp>
        <p:nvSpPr>
          <p:cNvPr id="426" name="TextBox 19"/>
          <p:cNvSpPr/>
          <p:nvPr/>
        </p:nvSpPr>
        <p:spPr>
          <a:xfrm>
            <a:off x="1325880" y="4214880"/>
            <a:ext cx="2588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anklin Gothic Book"/>
              </a:rPr>
              <a:t>Film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anklin Gothic Book"/>
              </a:rPr>
              <a:t>(movie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21"/>
          <p:cNvSpPr/>
          <p:nvPr/>
        </p:nvSpPr>
        <p:spPr>
          <a:xfrm>
            <a:off x="2612160" y="142920"/>
            <a:ext cx="379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Franklin Gothic Book"/>
              </a:rPr>
              <a:t>Mind Ma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pic>
        <p:nvPicPr>
          <p:cNvPr id="429" name="Содержимое 3" descr="0013-013-Past-Simple.jpg"/>
          <p:cNvPicPr/>
          <p:nvPr/>
        </p:nvPicPr>
        <p:blipFill>
          <a:blip r:embed="rId2"/>
          <a:stretch/>
        </p:blipFill>
        <p:spPr>
          <a:xfrm>
            <a:off x="1143000" y="1214280"/>
            <a:ext cx="715500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Заголовок 1" descr=""/>
          <p:cNvPicPr/>
          <p:nvPr/>
        </p:nvPicPr>
        <p:blipFill>
          <a:blip r:embed="rId1"/>
          <a:stretch/>
        </p:blipFill>
        <p:spPr>
          <a:xfrm>
            <a:off x="133200" y="304920"/>
            <a:ext cx="9107640" cy="256068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 txBox="1"/>
          <p:nvPr/>
        </p:nvSpPr>
        <p:spPr>
          <a:xfrm>
            <a:off x="304920" y="2714760"/>
            <a:ext cx="8686800" cy="336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I (to see)   </a:t>
            </a:r>
            <a:r>
              <a:rPr b="0" i="1" lang="en-US" sz="3600" spc="-1" strike="noStrike">
                <a:solidFill>
                  <a:srgbClr val="4e3b30"/>
                </a:solidFill>
                <a:latin typeface="Franklin Gothic Book"/>
              </a:rPr>
              <a:t>“How to train a dragon 3” </a:t>
            </a: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film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I (to buy)    on- line movie tickets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I (to read)    “</a:t>
            </a:r>
            <a:r>
              <a:rPr b="0" i="1" lang="en-US" sz="3600" spc="-1" strike="noStrike">
                <a:solidFill>
                  <a:srgbClr val="4e3b30"/>
                </a:solidFill>
                <a:latin typeface="Franklin Gothic Book"/>
              </a:rPr>
              <a:t>Lord of the Rings”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I (to shake)   hands with a famous actor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I (to be)     the fan of Jackie Chan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33" name="Содержимое 3" descr="maxresdefault.jpg"/>
          <p:cNvPicPr/>
          <p:nvPr/>
        </p:nvPicPr>
        <p:blipFill>
          <a:blip r:embed="rId1"/>
          <a:stretch/>
        </p:blipFill>
        <p:spPr>
          <a:xfrm>
            <a:off x="0" y="907920"/>
            <a:ext cx="947268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e3b30"/>
                </a:solidFill>
                <a:latin typeface="Franklin Gothic Book"/>
              </a:rPr>
              <a:t>It’s sold out 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1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e3b30"/>
                </a:solidFill>
                <a:latin typeface="Franklin Gothic Book"/>
              </a:rPr>
              <a:t>Is that for the 7 pm or the 10 pm showing? 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1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1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e3b30"/>
                </a:solidFill>
                <a:latin typeface="Franklin Gothic Book"/>
              </a:rPr>
              <a:t>Discount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</p:txBody>
      </p:sp>
      <p:grpSp>
        <p:nvGrpSpPr>
          <p:cNvPr id="436" name="TextBox 3"/>
          <p:cNvGrpSpPr/>
          <p:nvPr/>
        </p:nvGrpSpPr>
        <p:grpSpPr>
          <a:xfrm>
            <a:off x="4121280" y="1262160"/>
            <a:ext cx="4400280" cy="1672560"/>
            <a:chOff x="4121280" y="1262160"/>
            <a:chExt cx="4400280" cy="1672560"/>
          </a:xfrm>
        </p:grpSpPr>
        <p:pic>
          <p:nvPicPr>
            <p:cNvPr id="437" name="TextBox 3" descr=""/>
            <p:cNvPicPr/>
            <p:nvPr/>
          </p:nvPicPr>
          <p:blipFill>
            <a:blip r:embed="rId2"/>
            <a:stretch/>
          </p:blipFill>
          <p:spPr>
            <a:xfrm>
              <a:off x="4121280" y="1262160"/>
              <a:ext cx="4400280" cy="12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"/>
            <p:cNvSpPr/>
            <p:nvPr/>
          </p:nvSpPr>
          <p:spPr>
            <a:xfrm>
              <a:off x="4357800" y="1500120"/>
              <a:ext cx="39290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b0f0"/>
                  </a:solidFill>
                  <a:latin typeface="Franklin Gothic Book"/>
                </a:rPr>
                <a:t>– </a:t>
              </a:r>
              <a:r>
                <a:rPr b="0" lang="ru-RU" sz="4400" spc="-1" strike="noStrike">
                  <a:solidFill>
                    <a:srgbClr val="00b0f0"/>
                  </a:solidFill>
                  <a:latin typeface="Franklin Gothic Book"/>
                </a:rPr>
                <a:t>все продано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TextBox 4"/>
          <p:cNvGrpSpPr/>
          <p:nvPr/>
        </p:nvGrpSpPr>
        <p:grpSpPr>
          <a:xfrm>
            <a:off x="2992320" y="2992320"/>
            <a:ext cx="5591160" cy="2255760"/>
            <a:chOff x="2992320" y="2992320"/>
            <a:chExt cx="5591160" cy="2255760"/>
          </a:xfrm>
        </p:grpSpPr>
        <p:pic>
          <p:nvPicPr>
            <p:cNvPr id="440" name="TextBox 4" descr=""/>
            <p:cNvPicPr/>
            <p:nvPr/>
          </p:nvPicPr>
          <p:blipFill>
            <a:blip r:embed="rId3"/>
            <a:stretch/>
          </p:blipFill>
          <p:spPr>
            <a:xfrm>
              <a:off x="2992320" y="2992320"/>
              <a:ext cx="5591160" cy="175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"/>
            <p:cNvSpPr/>
            <p:nvPr/>
          </p:nvSpPr>
          <p:spPr>
            <a:xfrm>
              <a:off x="3143160" y="3143160"/>
              <a:ext cx="528660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b0f0"/>
                  </a:solidFill>
                  <a:latin typeface="Franklin Gothic Book"/>
                </a:rPr>
                <a:t>– </a:t>
              </a:r>
              <a:r>
                <a:rPr b="0" lang="ru-RU" sz="4400" spc="-1" strike="noStrike">
                  <a:solidFill>
                    <a:srgbClr val="00b0f0"/>
                  </a:solidFill>
                  <a:latin typeface="Franklin Gothic Book"/>
                </a:rPr>
                <a:t>Это</a:t>
              </a:r>
              <a:r>
                <a:rPr b="0" lang="en-US" sz="4400" spc="-1" strike="noStrike">
                  <a:solidFill>
                    <a:srgbClr val="00b0f0"/>
                  </a:solidFill>
                  <a:latin typeface="Franklin Gothic Book"/>
                </a:rPr>
                <a:t> на </a:t>
              </a:r>
              <a:r>
                <a:rPr b="0" lang="ru-RU" sz="4400" spc="-1" strike="noStrike">
                  <a:solidFill>
                    <a:srgbClr val="00b0f0"/>
                  </a:solidFill>
                  <a:latin typeface="Franklin Gothic Book"/>
                </a:rPr>
                <a:t>сеанс</a:t>
              </a:r>
              <a:r>
                <a:rPr b="0" lang="en-US" sz="4400" spc="-1" strike="noStrike">
                  <a:solidFill>
                    <a:srgbClr val="00b0f0"/>
                  </a:solidFill>
                  <a:latin typeface="Franklin Gothic Book"/>
                </a:rPr>
                <a:t> 7 </a:t>
              </a:r>
              <a:r>
                <a:rPr b="0" lang="ru-RU" sz="4400" spc="-1" strike="noStrike">
                  <a:solidFill>
                    <a:srgbClr val="00b0f0"/>
                  </a:solidFill>
                  <a:latin typeface="Franklin Gothic Book"/>
                </a:rPr>
                <a:t>или</a:t>
              </a:r>
              <a:r>
                <a:rPr b="0" lang="en-US" sz="4400" spc="-1" strike="noStrike">
                  <a:solidFill>
                    <a:srgbClr val="00b0f0"/>
                  </a:solidFill>
                  <a:latin typeface="Franklin Gothic Book"/>
                </a:rPr>
                <a:t> 10 </a:t>
              </a:r>
              <a:r>
                <a:rPr b="0" lang="ru-RU" sz="4400" spc="-1" strike="noStrike">
                  <a:solidFill>
                    <a:srgbClr val="00b0f0"/>
                  </a:solidFill>
                  <a:latin typeface="Franklin Gothic Book"/>
                </a:rPr>
                <a:t>часов</a:t>
              </a:r>
              <a:r>
                <a:rPr b="0" lang="en-US" sz="4400" spc="-1" strike="noStrike">
                  <a:solidFill>
                    <a:srgbClr val="00b0f0"/>
                  </a:solidFill>
                  <a:latin typeface="Franklin Gothic Book"/>
                </a:rPr>
                <a:t> </a:t>
              </a:r>
              <a:r>
                <a:rPr b="0" lang="ru-RU" sz="4400" spc="-1" strike="noStrike">
                  <a:solidFill>
                    <a:srgbClr val="00b0f0"/>
                  </a:solidFill>
                  <a:latin typeface="Franklin Gothic Book"/>
                </a:rPr>
                <a:t>вечера</a:t>
              </a:r>
              <a:r>
                <a:rPr b="0" lang="en-US" sz="4400" spc="-1" strike="noStrike">
                  <a:solidFill>
                    <a:srgbClr val="00b0f0"/>
                  </a:solidFill>
                  <a:latin typeface="Franklin Gothic Boo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TextBox 5"/>
          <p:cNvGrpSpPr/>
          <p:nvPr/>
        </p:nvGrpSpPr>
        <p:grpSpPr>
          <a:xfrm>
            <a:off x="3560760" y="4559400"/>
            <a:ext cx="3809880" cy="1079280"/>
            <a:chOff x="3560760" y="4559400"/>
            <a:chExt cx="3809880" cy="1079280"/>
          </a:xfrm>
        </p:grpSpPr>
        <p:pic>
          <p:nvPicPr>
            <p:cNvPr id="443" name="TextBox 5" descr=""/>
            <p:cNvPicPr/>
            <p:nvPr/>
          </p:nvPicPr>
          <p:blipFill>
            <a:blip r:embed="rId4"/>
            <a:stretch/>
          </p:blipFill>
          <p:spPr>
            <a:xfrm>
              <a:off x="3560760" y="4559400"/>
              <a:ext cx="380988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3714840" y="4714920"/>
              <a:ext cx="3500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00b0f0"/>
                  </a:solidFill>
                  <a:latin typeface="Franklin Gothic Book"/>
                </a:rPr>
                <a:t>–</a:t>
              </a:r>
              <a:r>
                <a:rPr b="0" lang="ru-RU" sz="4400" spc="-1" strike="noStrike">
                  <a:solidFill>
                    <a:srgbClr val="00b0f0"/>
                  </a:solidFill>
                  <a:latin typeface="Franklin Gothic Book"/>
                </a:rPr>
                <a:t>скидка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08T09:38:53Z</dcterms:created>
  <dc:creator>user</dc:creator>
  <dc:description/>
  <dc:language>en-US</dc:language>
  <cp:lastModifiedBy>Учитель</cp:lastModifiedBy>
  <dcterms:modified xsi:type="dcterms:W3CDTF">2019-04-29T13:57:15Z</dcterms:modified>
  <cp:revision>30</cp:revision>
  <dc:subject/>
  <dc:title>Открытый урок 7 А класс</dc:title>
</cp:coreProperties>
</file>