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EBA-A35C-45C2-826C-2901E71A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034-0C59-4EA3-931A-6B0886B3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D6F56-F671-4340-84D4-5CB427A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AD2A5-1051-4972-BC71-823B4B7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AF3D6-FB0A-4449-916E-9F8E0263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0BC5-C6C9-44F5-A493-9412E71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E614E-ADB7-4691-9E79-EDD03E5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D7096-D3F8-45AE-A080-3865615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E1943-610A-4B08-B670-2FDF707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DCF73-B133-4E6A-82DC-C3378104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3769B-323A-4B77-B35B-2A047E58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506-4D6D-4D9F-BEEA-451E9DB3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768-C1ED-49F7-88A2-9FF586D5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CF9-3296-44D2-934B-73EA03C5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28A7-E168-4504-8511-D862DA7D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A97-EC4D-40CF-8327-FAEEC98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E0E-A9B8-4862-BC5C-A3E82194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A664-FDA1-4252-8676-71F786A4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E0A-0F1A-496E-B903-6C4740E6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E0C3-316C-43E1-A077-4E9C63CA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5C8-A426-49B1-B272-48CB0EB7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5A53-5F9F-4348-B8BE-272D2A7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999C-62F8-434E-AE2F-9EDE7F10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D522-E399-4609-92FD-B2CC8CB4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8092-E75A-4310-94F9-784DE48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45B1-4D8A-459B-AC45-A80C0D36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86A7-D2C3-46C8-9068-A6E32643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D345-8A71-4315-9735-6813D65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0B85-7D9D-4BA0-81BB-37278B5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399E-4114-4807-A655-BFCA788A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E5BD-D86C-4F9F-8FB8-8524F5D8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35A-132F-4516-8C8F-2B4D0F0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4F41-CA4F-4A6D-B042-12E4BF42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3BFA-03CB-41E5-A21A-26F3996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7E21-3BDA-4897-ABBB-6443217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9009-C019-4D57-932A-3C6BE1C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106B-1BB5-45C8-9581-E95A160A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B16D-C35A-4ADD-BC39-5E0DD112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8928-6D1B-491F-92C0-5151F140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56D8-DE64-47DF-897D-3A46CC12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AF7D-731C-402B-BD9E-5FA50D8B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8A4A-9515-4B47-8301-7880D7FA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43A-E79E-4065-B708-E9641C9F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18A4B-C3E6-4C73-AE70-F775864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F1DE-1FA6-4238-A41B-A36012C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2924-1133-4CD4-8954-46DD1BF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B9FD-1AA3-4597-847A-C08B6BA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6A0E-006B-41BB-BB9C-D1077B1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6846-F90F-41E0-BFF5-24A83C4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1DBA-E376-4C9D-B92F-7727E6FC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0368-0270-4643-9A04-8B12A574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A748-ADA6-4C7C-9E08-E348347C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19FA-2654-4B09-8A2E-8F8EA516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E96-8240-4757-B850-BF7141D6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3482-DCB4-47EE-80B3-D04C2F28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1928-74FE-41C3-A11F-270635D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3513-80BA-47D0-A045-CEEC388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279F5-E26A-4EA3-952A-44581710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0649-1CAD-4346-9D1A-4D8E8D2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EDA6-0936-450F-B686-B75503D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43C9B-CE41-4FD2-8376-9660296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985C-0266-40C8-9073-35625F9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2CC5-A796-437E-948A-36A80A23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41D5E-5D08-49D4-A404-390F1A95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F32-9CFF-474C-9B32-E169248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066D-5358-4341-8590-14D9FBB2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F22D-E53D-411B-B2EC-E07D1985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7911-E913-4F30-AB32-B3453E8C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D5EFA-BFB1-4C9B-B1A3-50100C0A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B53A-D25A-4FF8-BBA6-CD20552E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8E8DA-4A68-457D-845E-68F3B052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D12E-380D-46FF-8957-29A5461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B124-08D8-476D-8CAF-C274892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71FE-FFF2-413F-B5A1-668C71F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48E21-82A6-48BA-85D7-247263B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1A6-6F2F-4103-B4C8-D1512BBC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DF2F-5D16-40F1-9FC6-698F801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B5A9F-DC2C-476D-AC20-7BB14D72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1C83F-A7F9-486A-A690-BCE86D03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E5EA-0E0C-4BA9-8E65-1CAAC635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1771-3FE4-410A-BC4F-6BE626A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EB4F-56D1-48BE-8A82-B8ED775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9B753-DD43-4FC1-92D3-6DB611BC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633F5-F48D-4C3D-AC86-4CEFF9E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E8127-5C52-44BC-B515-0B63A334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3456E-B6F2-4689-A2FA-4C71824E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AFE-D821-4412-892B-C32883F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8474-D4DD-4B5E-ACB1-28AEAD6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D8FA-CBF7-46F7-84CD-9F7B438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69DA2-CAB8-42D9-A7D8-11412E28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2AE82-D23F-4F16-B216-79E78BA1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8FEB0-A4F2-46F6-9D82-920FC7A5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A868-32CB-41FE-A4AB-EBF76AB7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D2EE0-A054-424C-901C-ACFCD9A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DD20E-4CAB-4FEF-83F3-CA90E03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D5F8-D372-4168-8C84-505C2B3B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8E25-9924-4784-B840-964DBC9F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959-9FB0-48DC-9128-AC69077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20A1-D3B2-46E0-BD30-03A7009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E15A3-9EC6-44D4-9E9F-D55C65D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2AF82-72FF-4590-AA7C-7F0CC3F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6D863-5A40-4AB4-91D3-EE310F6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2A7B-1337-40EC-A2E7-94A6AC5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A6F43-5893-42FC-8EF8-C8A05D2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63A3-1B06-41A6-BCC8-4CB891D2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F1DCF-B07C-4525-ACD6-0FE27936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BF40-888B-48BB-B618-2BF6025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1CBA1-6A50-4711-9E12-C6F52EE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F352-0E30-4189-B41F-126AECDCBC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0F24-DA9B-43FC-AC6D-A37899F51C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2509-AB66-4753-905D-9F0AF7D421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E7F2-9333-45BE-BEF5-51314F1849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1346-FC8E-4C75-BE82-5F2B04B75C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19EC-FA3F-4E3D-BD6F-565A9338A1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B3D-34DC-4EE2-80F6-BE309F2B08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C05B-4F23-4E01-9637-F877BF75E2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E37-1BCE-4035-A215-75132F6AE4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английского языка: Жамьянова Юлия Владимировна</a:t>
            </a: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ГБОУ «РМШИ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571320" y="1554120"/>
            <a:ext cx="842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xt, ple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wo tickets for King Kong at 6 pm, ple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’m afraid it’s sold o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wo tickets for 9 pm then, ple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s that for the 7 pm or the 10 pm showing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t’s £12  altogether, the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s there a discount for student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ere are your tickets and your chang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joy the movie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TextBox 3"/>
          <p:cNvSpPr/>
          <p:nvPr/>
        </p:nvSpPr>
        <p:spPr>
          <a:xfrm>
            <a:off x="272880" y="1571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277920" y="21430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272880" y="2643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277920" y="32860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277920" y="50720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272880" y="4429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272880" y="564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0"/>
          <p:cNvSpPr/>
          <p:nvPr/>
        </p:nvSpPr>
        <p:spPr>
          <a:xfrm>
            <a:off x="272880" y="621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1"/>
          <p:cNvSpPr/>
          <p:nvPr/>
        </p:nvSpPr>
        <p:spPr>
          <a:xfrm>
            <a:off x="272880" y="3857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Ex. 1a, p. 72.mp3" descr=""/>
          <p:cNvPicPr/>
          <p:nvPr/>
        </p:nvPicPr>
        <p:blipFill>
          <a:blip r:embed="rId2"/>
          <a:stretch/>
        </p:blipFill>
        <p:spPr>
          <a:xfrm>
            <a:off x="771516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Ex. 1b, p. 72.mp3" descr=""/>
          <p:cNvPicPr/>
          <p:nvPr/>
        </p:nvPicPr>
        <p:blipFill>
          <a:blip r:embed="rId3"/>
          <a:stretch/>
        </p:blipFill>
        <p:spPr>
          <a:xfrm>
            <a:off x="821520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1261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1683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357120" y="2500200"/>
          <a:ext cx="8558280" cy="404352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8400"/>
                <a:gridCol w="2139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ow show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cree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Shazam 3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.30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8.30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creen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Dambo 3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0 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creen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Captain Mar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7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0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</a:tr>
              <a:tr h="94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ickets: Adults £7, Children/Students £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pic>
        <p:nvPicPr>
          <p:cNvPr id="461" name="Picture 2" descr="D:\Жаргал\Рабочий стол\45009428.jpg"/>
          <p:cNvPicPr/>
          <p:nvPr/>
        </p:nvPicPr>
        <p:blipFill>
          <a:blip r:embed="rId1"/>
          <a:stretch/>
        </p:blipFill>
        <p:spPr>
          <a:xfrm>
            <a:off x="433440" y="0"/>
            <a:ext cx="8424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5407200"/>
            <a:ext cx="8821440" cy="116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761f"/>
                </a:solidFill>
                <a:latin typeface="Franklin Gothic Medium"/>
              </a:rPr>
              <a:t>[3:]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761f"/>
                </a:solidFill>
                <a:latin typeface="Franklin Gothic Medium"/>
              </a:rPr>
              <a:t>[OU]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ir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           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[3:]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ur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girl, bird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url, fur, purs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O –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 открытом слоге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oa - [ou]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ole, Rome, ton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Boat, coal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Правая фигурная скобка 6"/>
          <p:cNvSpPr/>
          <p:nvPr/>
        </p:nvSpPr>
        <p:spPr>
          <a:xfrm>
            <a:off x="1428840" y="1571760"/>
            <a:ext cx="285840" cy="16430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643040"/>
              <a:gd name="textAreaBottom" fmla="*/ 16358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81160" y="1316160"/>
          <a:ext cx="4290840" cy="2530440"/>
        </p:xfrm>
        <a:graphic>
          <a:graphicData uri="http://schemas.openxmlformats.org/drawingml/2006/table">
            <a:tbl>
              <a:tblPr/>
              <a:tblGrid>
                <a:gridCol w="1430280"/>
                <a:gridCol w="1430280"/>
                <a:gridCol w="1430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3: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ou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ur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4648320" y="1316160"/>
          <a:ext cx="4289400" cy="2468520"/>
        </p:xfrm>
        <a:graphic>
          <a:graphicData uri="http://schemas.openxmlformats.org/drawingml/2006/table">
            <a:tbl>
              <a:tblPr/>
              <a:tblGrid>
                <a:gridCol w="1430280"/>
                <a:gridCol w="1428840"/>
                <a:gridCol w="1430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3: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ou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12" name="TextBox 10"/>
          <p:cNvSpPr/>
          <p:nvPr/>
        </p:nvSpPr>
        <p:spPr>
          <a:xfrm>
            <a:off x="2071800" y="207180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1"/>
          <p:cNvSpPr/>
          <p:nvPr/>
        </p:nvSpPr>
        <p:spPr>
          <a:xfrm>
            <a:off x="3500280" y="292896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"/>
          <p:cNvSpPr/>
          <p:nvPr/>
        </p:nvSpPr>
        <p:spPr>
          <a:xfrm>
            <a:off x="6357960" y="214308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7858080" y="285768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Ex. 4, p. 72.mp3" descr=""/>
          <p:cNvPicPr/>
          <p:nvPr/>
        </p:nvPicPr>
        <p:blipFill>
          <a:blip r:embed="rId1"/>
          <a:stretch/>
        </p:blipFill>
        <p:spPr>
          <a:xfrm>
            <a:off x="4429080" y="4357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258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4" descr="кино.jpg"/>
          <p:cNvPicPr/>
          <p:nvPr/>
        </p:nvPicPr>
        <p:blipFill>
          <a:blip r:embed="rId1"/>
          <a:stretch/>
        </p:blipFill>
        <p:spPr>
          <a:xfrm>
            <a:off x="642960" y="642960"/>
            <a:ext cx="80582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Овал 2"/>
          <p:cNvSpPr/>
          <p:nvPr/>
        </p:nvSpPr>
        <p:spPr>
          <a:xfrm>
            <a:off x="2500200" y="1785960"/>
            <a:ext cx="3929040" cy="1500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CINE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Прямая со стрелкой 10" descr=""/>
          <p:cNvPicPr/>
          <p:nvPr/>
        </p:nvPicPr>
        <p:blipFill>
          <a:blip r:embed="rId1"/>
          <a:stretch/>
        </p:blipFill>
        <p:spPr>
          <a:xfrm>
            <a:off x="1878120" y="3011400"/>
            <a:ext cx="1298520" cy="126216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5742000" y="3011400"/>
            <a:ext cx="1158840" cy="122580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4164120" y="3316320"/>
            <a:ext cx="517320" cy="139536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5742000" y="858960"/>
            <a:ext cx="1158840" cy="12985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 стрелкой 18" descr=""/>
          <p:cNvPicPr/>
          <p:nvPr/>
        </p:nvPicPr>
        <p:blipFill>
          <a:blip r:embed="rId5"/>
          <a:stretch/>
        </p:blipFill>
        <p:spPr>
          <a:xfrm>
            <a:off x="1736640" y="858960"/>
            <a:ext cx="1440000" cy="12985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9"/>
          <p:cNvSpPr/>
          <p:nvPr/>
        </p:nvSpPr>
        <p:spPr>
          <a:xfrm>
            <a:off x="1325880" y="4214880"/>
            <a:ext cx="258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Fil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(movi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1"/>
          <p:cNvSpPr/>
          <p:nvPr/>
        </p:nvSpPr>
        <p:spPr>
          <a:xfrm>
            <a:off x="2612160" y="142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Book"/>
              </a:rPr>
              <a:t>Mind M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0013-013-Past-Simple.jpg"/>
          <p:cNvPicPr/>
          <p:nvPr/>
        </p:nvPicPr>
        <p:blipFill>
          <a:blip r:embed="rId2"/>
          <a:stretch/>
        </p:blipFill>
        <p:spPr>
          <a:xfrm>
            <a:off x="1143000" y="1214280"/>
            <a:ext cx="7155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33200" y="304920"/>
            <a:ext cx="9107640" cy="2560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2714760"/>
            <a:ext cx="868680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see)   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“How to train a dragon 3”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il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buy)    on- line movie ticke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read)    “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Lord of the Rings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shake)   hands with a famous acto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be)     the fan of Jackie Cha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3" name="Содержимое 3" descr="maxresdefault.jpg"/>
          <p:cNvPicPr/>
          <p:nvPr/>
        </p:nvPicPr>
        <p:blipFill>
          <a:blip r:embed="rId1"/>
          <a:stretch/>
        </p:blipFill>
        <p:spPr>
          <a:xfrm>
            <a:off x="0" y="907920"/>
            <a:ext cx="94726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t’s sold out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s that for the 7 pm or the 10 pm showing?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Discount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6" name="TextBox 3"/>
          <p:cNvGrpSpPr/>
          <p:nvPr/>
        </p:nvGrpSpPr>
        <p:grpSpPr>
          <a:xfrm>
            <a:off x="4121280" y="1262160"/>
            <a:ext cx="4400280" cy="1672560"/>
            <a:chOff x="4121280" y="1262160"/>
            <a:chExt cx="4400280" cy="1672560"/>
          </a:xfrm>
        </p:grpSpPr>
        <p:pic>
          <p:nvPicPr>
            <p:cNvPr id="437" name="TextBox 3" descr=""/>
            <p:cNvPicPr/>
            <p:nvPr/>
          </p:nvPicPr>
          <p:blipFill>
            <a:blip r:embed="rId2"/>
            <a:stretch/>
          </p:blipFill>
          <p:spPr>
            <a:xfrm>
              <a:off x="4121280" y="1262160"/>
              <a:ext cx="440028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357800" y="1500120"/>
              <a:ext cx="3929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–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все прода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TextBox 4"/>
          <p:cNvGrpSpPr/>
          <p:nvPr/>
        </p:nvGrpSpPr>
        <p:grpSpPr>
          <a:xfrm>
            <a:off x="2992320" y="2992320"/>
            <a:ext cx="5591160" cy="2255760"/>
            <a:chOff x="2992320" y="2992320"/>
            <a:chExt cx="5591160" cy="2255760"/>
          </a:xfrm>
        </p:grpSpPr>
        <p:pic>
          <p:nvPicPr>
            <p:cNvPr id="440" name="TextBox 4" descr=""/>
            <p:cNvPicPr/>
            <p:nvPr/>
          </p:nvPicPr>
          <p:blipFill>
            <a:blip r:embed="rId3"/>
            <a:stretch/>
          </p:blipFill>
          <p:spPr>
            <a:xfrm>
              <a:off x="2992320" y="2992320"/>
              <a:ext cx="5591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3143160" y="3143160"/>
              <a:ext cx="5286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–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Это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на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сеанс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7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или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10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часов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вечера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Box 5"/>
          <p:cNvGrpSpPr/>
          <p:nvPr/>
        </p:nvGrpSpPr>
        <p:grpSpPr>
          <a:xfrm>
            <a:off x="3560760" y="4559400"/>
            <a:ext cx="3809880" cy="1079280"/>
            <a:chOff x="3560760" y="4559400"/>
            <a:chExt cx="3809880" cy="1079280"/>
          </a:xfrm>
        </p:grpSpPr>
        <p:pic>
          <p:nvPicPr>
            <p:cNvPr id="443" name="TextBox 5" descr=""/>
            <p:cNvPicPr/>
            <p:nvPr/>
          </p:nvPicPr>
          <p:blipFill>
            <a:blip r:embed="rId4"/>
            <a:stretch/>
          </p:blipFill>
          <p:spPr>
            <a:xfrm>
              <a:off x="3560760" y="4559400"/>
              <a:ext cx="38098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714840" y="4714920"/>
              <a:ext cx="3500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–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скидк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8T09:38:53Z</dcterms:created>
  <dc:creator>user</dc:creator>
  <dc:description/>
  <dc:language>en-US</dc:language>
  <cp:lastModifiedBy>Учитель</cp:lastModifiedBy>
  <dcterms:modified xsi:type="dcterms:W3CDTF">2019-04-29T13:57:15Z</dcterms:modified>
  <cp:revision>30</cp:revision>
  <dc:subject/>
  <dc:title>Открытый урок 7 А класс</dc:title>
</cp:coreProperties>
</file>