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7.jpeg" ContentType="image/jpeg"/>
  <Override PartName="/ppt/media/image9.gif" ContentType="image/gif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2E8-79EA-44B3-9DD9-6A82F3FE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243-932C-42E9-A42F-C67219AF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B65-E750-48D8-8BE4-FBDFFB9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967-9C53-45CA-A1CA-B989AB09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34D9-A609-46A5-8DA8-489983D7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DB43-E45A-47A0-B5B0-82905344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645E-9428-4A43-9C90-BB1D2536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28C1-19E4-4080-B4F0-91E230B5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466E-B7EE-442F-9406-C982E0DB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DD8E-32CF-43EB-A183-643F7DC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21D4-079A-46D6-88D6-0F0E062A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01A-0B5C-466C-A62A-244B016F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CFB1-AA48-434F-A9FE-8618ECFF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B75D-696E-42BF-B84B-EC11C2A1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9FD8-EDD0-4F4D-B470-1BEFD0A2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7896-7300-44AD-A354-0228567E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5530-2E5D-40FC-AD5E-80CF534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763-C097-4297-BF4C-54A158B3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BB3-A7F9-4EEE-A4E8-10CABE9A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2A5-0FFF-424F-9420-060DE764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F9B-15D9-477D-AC63-A0A782C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A40-1491-42D3-A8BA-C8F06D3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5D3-5CCB-4980-BF10-6FF446F6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2C1-ED74-45FF-B0A2-94C941C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810-1189-469B-AD4A-9799947F00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A6C6-A898-441F-BDA4-0A86A8BE3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Picture 2" descr="C:\Users\User\Downloads\1.jpg"/>
          <p:cNvPicPr/>
          <p:nvPr/>
        </p:nvPicPr>
        <p:blipFill>
          <a:blip r:embed="rId1"/>
          <a:stretch/>
        </p:blipFill>
        <p:spPr>
          <a:xfrm>
            <a:off x="0" y="88920"/>
            <a:ext cx="8929800" cy="66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Евген\Desktop\5-DgcOghX9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Home\Desktop\для занятия восп\skripichnyy-klyuch-noty-svet-9fa11bb.jpg"/>
          <p:cNvPicPr/>
          <p:nvPr/>
        </p:nvPicPr>
        <p:blipFill>
          <a:blip r:embed="rId1"/>
          <a:stretch/>
        </p:blipFill>
        <p:spPr>
          <a:xfrm>
            <a:off x="-3071880" y="-92880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Home\Desktop\для занятия восп\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Home\Desktop\для занятия восп\img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User\Download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Home\Desktop\для занятия восп\music-04.jpg"/>
          <p:cNvPicPr/>
          <p:nvPr/>
        </p:nvPicPr>
        <p:blipFill>
          <a:blip r:embed="rId1"/>
          <a:stretch/>
        </p:blipFill>
        <p:spPr>
          <a:xfrm>
            <a:off x="0" y="714240"/>
            <a:ext cx="913464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Евген\Desktop\746101174.jpg"/>
          <p:cNvPicPr/>
          <p:nvPr/>
        </p:nvPicPr>
        <p:blipFill>
          <a:blip r:embed="rId2"/>
          <a:stretch/>
        </p:blipFill>
        <p:spPr>
          <a:xfrm rot="18349200">
            <a:off x="-833040" y="3191760"/>
            <a:ext cx="5000760" cy="432108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C:\Users\Евген\Desktop\c6d7720d5255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2"/>
          <a:stretch/>
        </p:blipFill>
        <p:spPr>
          <a:xfrm>
            <a:off x="2986200" y="3573360"/>
            <a:ext cx="3456000" cy="3457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1547640" y="2214720"/>
            <a:ext cx="7056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cc0000"/>
                </a:solidFill>
                <a:latin typeface="Calibri"/>
              </a:rPr>
              <a:t>Спасибо за помощь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5:57:09Z</dcterms:created>
  <dc:creator>МЭЛТ</dc:creator>
  <dc:description/>
  <dc:language>en-US</dc:language>
  <cp:lastModifiedBy>User</cp:lastModifiedBy>
  <dcterms:modified xsi:type="dcterms:W3CDTF">2019-04-29T04:25:28Z</dcterms:modified>
  <cp:revision>345</cp:revision>
  <dc:subject/>
  <dc:title>Презентация PowerPoint</dc:title>
</cp:coreProperties>
</file>