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7.jpeg" ContentType="image/jpeg"/>
  <Override PartName="/ppt/media/image9.gif" ContentType="image/gif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A70-14B6-4C46-BAF5-A4909E0B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E43-D983-4C8A-A07F-65FC1E7B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551-5C20-43C0-8FC8-3C0A75E3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0B4-CC08-4CB2-860B-C96A99E0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BD47-3255-4420-986D-E6BDE429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08BB-0F76-4D8F-BFE0-986D860D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EAB4-C860-41B8-AEFA-80347816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1901-1463-4D88-83A7-6C917A0C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2809-CC87-4966-8008-B20C4BEB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EB25-F48C-422E-8E7B-63178CE6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3EA2-3DA1-4349-B02E-DB3AAE5F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25D-31A2-4A72-98A8-E00FFBB7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2C1C-D91F-4396-BF05-484E4C8C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EA70-5670-4EF7-954D-D73F1786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60D9-2DDF-4B50-8727-76CAA60A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7AE3-1096-4375-BC8C-EEF47AC8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E02A-3ACD-498B-86D0-82A3001A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CBD-FCF1-46BD-8E61-F5375CD7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C0A-5409-498C-A45B-C866ED73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51A-B5B9-433C-A16F-8F6DF72C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ACA-CE6C-4456-A812-05CD5187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27C-C5C3-4818-BB33-1F3B9A3E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67D-7034-47D1-9142-4071747B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C38-C59A-4680-A1D2-68291E41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02BE-3F85-4CB0-8C3B-2DE9E54C8D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B67C-6D9B-4313-B178-20C1B310D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Picture 2" descr="C:\Users\User\Downloads\1.jpg"/>
          <p:cNvPicPr/>
          <p:nvPr/>
        </p:nvPicPr>
        <p:blipFill>
          <a:blip r:embed="rId1"/>
          <a:stretch/>
        </p:blipFill>
        <p:spPr>
          <a:xfrm>
            <a:off x="0" y="88920"/>
            <a:ext cx="8929800" cy="66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Евген\Desktop\5-DgcOghX9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Home\Desktop\для занятия восп\skripichnyy-klyuch-noty-svet-9fa11bb.jpg"/>
          <p:cNvPicPr/>
          <p:nvPr/>
        </p:nvPicPr>
        <p:blipFill>
          <a:blip r:embed="rId1"/>
          <a:stretch/>
        </p:blipFill>
        <p:spPr>
          <a:xfrm>
            <a:off x="-3071880" y="-928800"/>
            <a:ext cx="18288000" cy="1028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Home\Desktop\для занятия восп\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Home\Desktop\для занятия восп\img4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User\Download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Home\Desktop\для занятия восп\music-04.jpg"/>
          <p:cNvPicPr/>
          <p:nvPr/>
        </p:nvPicPr>
        <p:blipFill>
          <a:blip r:embed="rId1"/>
          <a:stretch/>
        </p:blipFill>
        <p:spPr>
          <a:xfrm>
            <a:off x="0" y="714240"/>
            <a:ext cx="91346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Евген\Desktop\746101174.jpg"/>
          <p:cNvPicPr/>
          <p:nvPr/>
        </p:nvPicPr>
        <p:blipFill>
          <a:blip r:embed="rId2"/>
          <a:stretch/>
        </p:blipFill>
        <p:spPr>
          <a:xfrm rot="18349200">
            <a:off x="-833040" y="3191760"/>
            <a:ext cx="5000760" cy="432108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C:\Users\Евген\Desktop\c6d7720d5255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2"/>
          <a:stretch/>
        </p:blipFill>
        <p:spPr>
          <a:xfrm>
            <a:off x="2986200" y="3573360"/>
            <a:ext cx="3456000" cy="34578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1547640" y="2214720"/>
            <a:ext cx="7056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cc0000"/>
                </a:solidFill>
                <a:latin typeface="Calibri"/>
              </a:rPr>
              <a:t>Спасибо за помощь!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5:57:09Z</dcterms:created>
  <dc:creator>МЭЛТ</dc:creator>
  <dc:description/>
  <dc:language>en-US</dc:language>
  <cp:lastModifiedBy>User</cp:lastModifiedBy>
  <dcterms:modified xsi:type="dcterms:W3CDTF">2019-04-29T04:25:28Z</dcterms:modified>
  <cp:revision>345</cp:revision>
  <dc:subject/>
  <dc:title>Презентация PowerPoint</dc:title>
</cp:coreProperties>
</file>