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A90-A9E0-4519-9E89-6B82107F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02E-7933-4E68-8039-50789391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DE3-EA86-4848-9E6C-FDFB5B5B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417-48C4-4B31-88F9-049A4F6B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2897-7BB1-4DD2-B008-986AE133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FC1D-6E90-47EA-8229-2BBCEA32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C477-4365-403D-AD87-AEA8745B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B69E-7DA3-4F1A-B526-15A50D10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188B-ABB7-4203-8FE2-71F3FEA6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57EA-EFA7-4ADE-B3C4-63386B93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5A10-0E78-449A-83CF-D79888A5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11F-33A4-471B-BFE5-A4B32EC4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3864-6640-4E95-BFEF-9FE78DCA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A988-25DA-4B42-BD4D-05FBFB58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3DF5-5288-461E-9FFD-F7661D94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2000-AFB4-44F0-BCDE-FA63E851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06B7-7442-424A-BEC4-977B220C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BD42-9B46-409C-A4B0-8D140805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3E5E4-6D82-4080-BF51-8F919891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6D55D-52D3-45B2-B481-401FD8FA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57126-A511-4C88-85A0-001889FD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43E6-6946-4F46-A445-F71F9D7F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66A-F0F7-45BF-B7A5-2EED291C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C85E-17E6-4A88-BDB8-4F6C416F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C61EE-54DC-44AD-AFF9-33E3722C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A44D-5800-4779-A03B-24094284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D2AB-762B-44A7-890D-715FF8D1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F1FD-1F95-4ABF-A722-AFA12179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36E1-A258-415B-93A8-82768831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FD82-45EF-4DA8-9D24-01AD6B1E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25F-2BDE-4B99-9902-8E6A1D4D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0B03-9071-4A20-BA0F-C563B89B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E92-07D2-4D0D-9254-83B95C20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46B-2F4D-4A43-82D4-62A32DB4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4EC-C2EF-4E64-B763-CC5370CB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170-7ED3-4CA4-BA50-17273BE4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C152-76A8-466E-9016-22014C4958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11E9-64C7-41E1-ABB6-68B95DF89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55E5-65F3-4107-9B2B-B0B7568615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482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готовила: воспита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БДОУ детский с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09 «Воробуше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удникова Ю.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Прямоугольник 3" descr=""/>
          <p:cNvPicPr/>
          <p:nvPr/>
        </p:nvPicPr>
        <p:blipFill>
          <a:blip r:embed="rId1"/>
          <a:stretch/>
        </p:blipFill>
        <p:spPr>
          <a:xfrm>
            <a:off x="1011240" y="901800"/>
            <a:ext cx="68277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499680"/>
            <a:ext cx="6929280" cy="580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важение к Правилам дорожного движения, привычку неукоснительно их соблюдать, должны прививать своим детям родители. Достаточно хотя бы раз в неделю в течение 10-15 минут со своим ребенком провести беседу-игру по Правилам дорожного движения, чтобы он другими глазами посмотрел на ситуацию. Такой ребенок в дальнейшем самостоятельно сумеет ориентироваться в сложной обстановке на загруженных городских улицах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Формирование родителями 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детей навыков поведения на улицах: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. Подходя к дороге, остановитесь, осмотрите улицу в обоих направлениях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2. Уходя из дома, не опаздывайте, выходите заблаговременно, чтобы при спокойной ходьбе с ребенком иметь запас времени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  Показывайте пример умения ежедневно следить за своим поведением на дороге для формирования его у вашего ребёнка.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4.  Ребёнок должен научиться видеть своими глазами, что за разными предметами на улице часто скрывается опас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и движении по тротуару. 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. Придерживайтесь правой стороны. 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2. Взрослый должен находиться со стороны проезжей части. 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 Если тротуар находится рядом с дорогой, родители должны держать ребенка за руку. 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4. Приучите ребенка, идя по тротуару, внимательно наблюдать за выездом машин со двора. 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5. Не приучайте детей выходить на проезжую часть, коляски и санки везите только по тротуа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1484280"/>
            <a:ext cx="7848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Готовясь перейти дорог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1. Остановитесь, осмотрите проезжую ча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2. Развивайте у ребенка наблюдательность за дорог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3. Подчеркивайте свои движения: поворот головы для осмотра дороги, остановку для осмотра дороги, остановку для пропуска автомоби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4. Учите ребенка всматриваться вдаль, различать приближающиеся маш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5. Не стойте с ребенком на краю троту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6. Обратите внимание ребенка на транспортное средство, готовящееся к повороту, расскажите о сигналах указателей поворота у ма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и переходе дор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1. Переходите дорогу только по пешеходному переходу или на перекрест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2. Идите только на зеленый сигнал светофора, даже если нет машин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3. Выходя на проезжую часть, прекращайте разговоры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4. Не спешите, не бегите, переходите дорогу размеренно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5. Не переходите улицу под углом, объясните ребенку, что так хуже видно дорогу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6. Не торопитесь перейти дорогу, если на другой стороне вы увидели друзей, нужный автобус, приучите ребенка, что это опасно. 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7. При переходе по нерегулируемому перекрестку учите ребенка внимательно следить за  началом движения транспорта.</a:t>
            </a:r>
            <a:br>
              <a:rPr sz="1800"/>
            </a:b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8. Объясните ребенку, что даже на дороге, где мало машин, переходить надо осторожно, так как машина может выехать со двора, из переул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9. Привлекайте ребёнка к участию в ваших наблюдениях за обстановкой на дороге: показывайте ему те машины, которые готовятся поворачивать и едут с большой скоро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05816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мните!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Ребёнок учится законам дорог, беря пример с членов семьи и других взрослых. Не жалейте времени на обучение детей поведению на доро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Евлюх</cp:lastModifiedBy>
  <dcterms:modified xsi:type="dcterms:W3CDTF">2019-04-29T18:37:33Z</dcterms:modified>
  <cp:revision>8</cp:revision>
  <dc:subject/>
  <dc:title>Слайд 1</dc:title>
</cp:coreProperties>
</file>