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DC8-8F4D-4A2D-A96F-45E23E2C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FA0-07EF-4037-A66E-B9F893A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DDE-48CB-4C7C-A969-13402528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10D-5C9C-4BFA-B340-3076E3CD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D3EB-B3E6-438D-8D50-FA157A28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D8E4-B8DF-4B83-A7F4-2C6A813F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68AA-ABFD-413A-86FE-D2FE5317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E11B-22EB-42BE-8733-D00EDE5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FC2B-A21A-4EDB-8FB9-D2105836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1FC9-38A2-4992-8102-0238AFFE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C46D-0F4C-4DDB-9088-315C6852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2C9-C172-48AB-809B-A5A22C91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ED9C-02D2-4C91-82BB-0F88011C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ECDC-5CE8-4C1F-B4DD-D9F64314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5EC-19E5-49E5-AA0E-0167A5BB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7B08-78B6-4110-99AA-B96D4D9A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020-B29C-4D2A-9C82-7263D90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4813-F42E-4FE6-B6C0-969675AC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5D75-0C92-457C-8980-327F7F94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7996-A105-4F06-B191-56BE6C0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50F1-9782-45B3-BF38-E131738F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D153-7D73-421E-8E3A-9BD6613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606-2C53-4FB4-A483-5424A04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9D59-F6C3-42B2-A519-944921F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B5E6-78B3-49DD-8788-AB67B06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5241-6363-463B-8066-0A1B4B65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DF3E-10D3-452F-AAB5-CA61941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6B79-A9CB-4926-94BE-A9CA282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D284-A2D0-42EC-A96B-43A15D0F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D015-D66D-4FAB-8C60-66056D57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74C-507A-488D-A08D-4211247A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E93-A234-4DDB-BFDE-110FE36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3F4-B020-419B-8BE9-C94D99C9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A37-D406-4A04-85AB-3EEF0D6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179-252B-431B-86D4-55B6F65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D7D-2689-412A-B447-A4C2AF9B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2435-3316-42D5-B990-8269015F8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16A2-46AC-405C-AC4A-6ACDE6AE5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84E5-93CD-4497-AE56-31747521D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482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готовила: 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БДОУ детский с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09 «Воробуше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удникова Ю.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901800"/>
            <a:ext cx="68277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6929280" cy="58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важение к Правилам дорожного движения, привычку неукоснительно их соблюдать, должны прививать своим детям родители. Достаточно хотя бы раз в неделю в течение 10-15 минут со своим ребенком провести беседу-игру по Правилам дорожного движения, чтобы он другими глазами посмотрел на ситуацию. Такой ребенок в дальнейшем самостоятельно сумеет ориентироваться в сложной обстановке на загруженных городских улицах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Формирование родителями 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етей навыков поведения на улицах: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Подходя к дороге, остановитесь, осмотрите улицу в обоих направлениях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Уходя из дома, не опаздывайте, выходите заблаговременно, чтобы при спокойной ходьбе с ребенком иметь запас времени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  Показывайте пример умения ежедневно следить за своим поведением на дороге для формирования его у вашего ребёнка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  Ребёнок должен научиться видеть своими глазами, что за разными предметами на улице часто скрывается опас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и движении по тротуару. 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Придерживайтесь правой стороны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Взрослый должен находиться со стороны проезжей части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 Если тротуар находится рядом с дорогой, родители должны держать ребенка за руку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 Приучите ребенка, идя по тротуару, внимательно наблюдать за выездом машин со двора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5. Не приучайте детей выходить на проезжую часть, коляски и санки везите только по тротуа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1484280"/>
            <a:ext cx="7848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Готовясь перейти доро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Остановитесь, осмотрите проезжую ч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Развивайте у ребенка наблюдательность за дорог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 Подчеркивайте свои движения: поворот головы для осмотра дороги, остановку для осмотра дороги, остановку для пропуска автомоби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 Учите ребенка всматриваться вдаль, различать приближающиеся маш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5. Не стойте с ребенком на краю троту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6. Обратите внимание ребенка на транспортное средство, готовящееся к повороту, расскажите о сигналах указателей поворота у ма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и переходе дор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. Переходите дорогу только по пешеходному переходу или на перекрес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2. Идите только на зеленый сигнал светофора, даже если нет машин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3. Выходя на проезжую часть, прекращайте разговоры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4. Не спешите, не бегите, переходите дорогу размеренно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5. Не переходите улицу под углом, объясните ребенку, что так хуже видно дорогу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. Не торопитесь перейти дорогу, если на другой стороне вы увидели друзей, нужный автобус, приучите ребенка, что это опасно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7. При переходе по нерегулируемому перекрестку учите ребенка внимательно следить за  началом движения транспорта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8. Объясните ребенку, что даже на дороге, где мало машин, переходить надо осторожно, так как машина может выехать со двора, из переул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9. Привлекайте ребёнка к участию в ваших наблюдениях за обстановкой на дороге: показывайте ему те машины, которые готовятся поворачивать и едут с большой скор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058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мните!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Ребёнок учится законам дорог, беря пример с членов семьи и других взрослых. Не жалейте времени на обучение детей поведению на доро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Евлюх</cp:lastModifiedBy>
  <dcterms:modified xsi:type="dcterms:W3CDTF">2019-04-29T18:37:33Z</dcterms:modified>
  <cp:revision>8</cp:revision>
  <dc:subject/>
  <dc:title>Слайд 1</dc:title>
</cp:coreProperties>
</file>