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A6F9-7A83-4ACF-8423-9F532E7BD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7EA6-B3EF-46D6-9902-EC626AE9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E6E3-AC0D-43A3-B86E-E2829C1CD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680B-4AF9-441B-B5B1-4ACB8D4D9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A674-0124-4F0C-9923-AB81F2F5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2E1D-4362-417D-8C48-34F9A981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FA1C-20D0-4628-BBAE-63E68B0D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D2EF-CA8C-41A5-ACCF-39A32962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AAE7-D86A-45E2-9311-0784CE66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D1D2-ABAC-4795-BBE0-1684E80D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55C3-9A27-4FBB-80DC-592A8C3D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F332-16FC-4D0B-8BB1-9C73CEB2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>
            <a:alpha val="7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4FA5-D85F-4AC2-952B-FE99F794AE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картина.jpg"/>
          <p:cNvPicPr/>
          <p:nvPr/>
        </p:nvPicPr>
        <p:blipFill>
          <a:blip r:embed="rId1">
            <a:lum bright="22000"/>
          </a:blip>
          <a:srcRect l="9658" t="10126" r="8823" b="10126"/>
          <a:stretch/>
        </p:blipFill>
        <p:spPr>
          <a:xfrm>
            <a:off x="0" y="0"/>
            <a:ext cx="9144000" cy="6939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1" descr="шурале45.jpg"/>
          <p:cNvPicPr/>
          <p:nvPr/>
        </p:nvPicPr>
        <p:blipFill>
          <a:blip r:embed="rId2"/>
          <a:stretch/>
        </p:blipFill>
        <p:spPr>
          <a:xfrm>
            <a:off x="4356000" y="1859040"/>
            <a:ext cx="4437000" cy="499896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379800" y="404640"/>
            <a:ext cx="845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үрәле белән зарядка ясагы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7450200" y="648828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Calibri"/>
              </a:rPr>
              <a:t>Богапова З.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11.wma" descr=""/>
          <p:cNvPicPr/>
          <p:nvPr/>
        </p:nvPicPr>
        <p:blipFill>
          <a:blip r:embed="rId3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шурале бабай5.gif"/>
          <p:cNvPicPr/>
          <p:nvPr/>
        </p:nvPicPr>
        <p:blipFill>
          <a:blip r:embed="rId1"/>
          <a:stretch/>
        </p:blipFill>
        <p:spPr>
          <a:xfrm>
            <a:off x="-49320" y="-27000"/>
            <a:ext cx="9193320" cy="612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шурале бабай8.gif"/>
          <p:cNvPicPr/>
          <p:nvPr/>
        </p:nvPicPr>
        <p:blipFill>
          <a:blip r:embed="rId1"/>
          <a:stretch/>
        </p:blipFill>
        <p:spPr>
          <a:xfrm>
            <a:off x="-57240" y="-27000"/>
            <a:ext cx="9247320" cy="616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шурале бабай9.gif"/>
          <p:cNvPicPr/>
          <p:nvPr/>
        </p:nvPicPr>
        <p:blipFill>
          <a:blip r:embed="rId1"/>
          <a:stretch/>
        </p:blipFill>
        <p:spPr>
          <a:xfrm>
            <a:off x="-23760" y="-27000"/>
            <a:ext cx="9167760" cy="61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шурале бабай6.gif"/>
          <p:cNvPicPr/>
          <p:nvPr/>
        </p:nvPicPr>
        <p:blipFill>
          <a:blip r:embed="rId1"/>
          <a:stretch/>
        </p:blipFill>
        <p:spPr>
          <a:xfrm>
            <a:off x="-15840" y="-27000"/>
            <a:ext cx="9159840" cy="610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шурале бабай2.gif"/>
          <p:cNvPicPr/>
          <p:nvPr/>
        </p:nvPicPr>
        <p:blipFill>
          <a:blip r:embed="rId1"/>
          <a:stretch/>
        </p:blipFill>
        <p:spPr>
          <a:xfrm>
            <a:off x="-39600" y="-27000"/>
            <a:ext cx="9183600" cy="61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шурале бабай3.gif"/>
          <p:cNvPicPr/>
          <p:nvPr/>
        </p:nvPicPr>
        <p:blipFill>
          <a:blip r:embed="rId1"/>
          <a:stretch/>
        </p:blipFill>
        <p:spPr>
          <a:xfrm>
            <a:off x="-6480" y="-27000"/>
            <a:ext cx="9150480" cy="60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шурале бабай4.gif"/>
          <p:cNvPicPr/>
          <p:nvPr/>
        </p:nvPicPr>
        <p:blipFill>
          <a:blip r:embed="rId1"/>
          <a:stretch/>
        </p:blipFill>
        <p:spPr>
          <a:xfrm>
            <a:off x="27000" y="-27000"/>
            <a:ext cx="9117000" cy="607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шурале бабай7.gif"/>
          <p:cNvPicPr/>
          <p:nvPr/>
        </p:nvPicPr>
        <p:blipFill>
          <a:blip r:embed="rId1"/>
          <a:stretch/>
        </p:blipFill>
        <p:spPr>
          <a:xfrm>
            <a:off x="17640" y="-27000"/>
            <a:ext cx="9126360" cy="608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3" descr="шурале бабай1.gif"/>
          <p:cNvPicPr/>
          <p:nvPr/>
        </p:nvPicPr>
        <p:blipFill>
          <a:blip r:embed="rId1"/>
          <a:stretch/>
        </p:blipFill>
        <p:spPr>
          <a:xfrm>
            <a:off x="-108000" y="-27000"/>
            <a:ext cx="9252000" cy="6143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5T17:59:48Z</dcterms:created>
  <dc:creator>Зухра</dc:creator>
  <dc:description/>
  <dc:language>en-US</dc:language>
  <cp:lastModifiedBy>Gulnaz</cp:lastModifiedBy>
  <dcterms:modified xsi:type="dcterms:W3CDTF">2012-01-29T12:57:21Z</dcterms:modified>
  <cp:revision>5</cp:revision>
  <dc:subject/>
  <dc:title>Слайд 1</dc:title>
</cp:coreProperties>
</file>