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9.png" ContentType="image/png"/>
  <Override PartName="/ppt/media/image22.jpeg" ContentType="image/jpeg"/>
  <Override PartName="/ppt/media/image6.png" ContentType="image/png"/>
  <Override PartName="/ppt/media/image36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38.jpeg" ContentType="image/jpe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96F9-3BE5-455E-AED6-BB71C1D75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8B51-8EBC-4216-99DE-18B98941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22B6F9-60EF-40A5-91CA-8D38E541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1C290-8076-4846-9C5F-77FF0C2F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CCD2B3-A27E-4FE7-8CD6-02A791AC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32ED07-BA35-4C04-A2AF-5D029205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5163B0-14C6-47F0-851D-55BB626D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0F5C87-E3D1-47BD-A408-7001E410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05E4F7-7AFC-4204-83BF-BEC07871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D8B3ED-D3D5-4754-885B-22198109B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9FE3EA-4E11-45F8-A246-DF8D32043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828021-47F2-4EA4-B683-B334B03A5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A1E4-33AA-47D3-9A0E-54B59574F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BE4BA2-3DB2-44C5-8BF0-DA503F25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40C826-13ED-492A-BDFB-400109C5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6D1502-00A5-4692-8A3D-B610DA89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5543E4-BCC5-4047-BF3F-A8F9E933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299C13-8DBE-49B8-A7E7-D9A53DF4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70C02C-EBAA-4F22-A9AC-1EE027B5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AE75E6-8D43-4135-AA34-F928F006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8C8525-8E9D-4C4E-B66C-C1C9D240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FC6128-B85E-4541-8150-5B11FCAA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0DFDA4-3C1A-4213-911B-E9DAA7CC8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36FE-C280-448F-989E-48732CE9B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E4C319-6A32-460E-970F-3B6EAFEA6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7A5B8-4217-48DD-9F08-F1FF00DDF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A99E5-4566-46BD-8EED-18B36864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E86B9A-5C30-4E54-BFB8-8A25A089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BF691-3678-460A-8F1C-85783AA6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F6924B-5937-47A6-917B-5A3A1CEA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CE8979-6B0F-4FF4-8DE0-C2326632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0F929A-BCBF-4F54-BCEB-E60E960C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D68EA6-F449-43A1-AFD8-5961DCA4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B1C31-CF0B-440B-806B-E5B81FA8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365C3-6E3E-4927-A8AE-CC62D1F02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9688D-526B-4219-908B-371D195A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B452D1-8278-498F-9989-0DEBE3D51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63397-CED5-46A4-B565-0FE853D84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D89FA1-BE10-4AE6-B879-91BB35467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5D66CE-1A22-4191-BDB9-473001F0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E4545E-D516-4C40-B2DF-CA500DCC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0CC173-E8DF-44E9-A883-E458F289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C1D635-2E63-4327-BCDF-BF750F66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23D70D-4971-4A19-BD0A-C5543181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F84895-7797-443C-99C9-36A5406D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FB90-4945-42B6-A925-FA6B9C56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AD8EA4-DB7D-4C6D-8661-ED9B95D9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9E4AC4-9430-4258-AE43-7175B52A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CAB686-8BA2-4EF3-931D-C03D9AD0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468BCA-5CE8-462B-99A5-C39B1EB34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D00F95-3C2B-41E6-9DC9-F7020D142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59ADB5-C5CC-4DA3-984E-EE712C3A1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A6BADA-A4F4-44C3-979D-A550071A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3C89C7-8A55-4061-AF12-4A8177AA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360001-0D0D-471F-8DD9-BFB9FF7E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1C4FDB-1542-49C2-A618-FD34C311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B8AF-9FB6-41C8-B4CA-9F8E4ECD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C19175-51FA-4A6A-8E6B-BE021DBE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A7DD7B-F621-4393-A83C-E581CB60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721CB9-5ABB-45C8-AC10-039BF435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B98878-4F7D-4020-8281-623306EE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9B9DBF-D16D-4E86-B984-D33AA634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88054B-7727-4189-8017-45D0A1019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83DE9D-4F31-4B38-9DBA-BDD0F49A2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7AB33E-4C78-451A-9D4E-9F92CC721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846A3A-8CE1-4132-8678-C11C59DE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E3FC85-279A-40C9-9F85-FC4150FE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0C81-81D3-45E0-8E96-A153B384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5A4150-8592-4559-8E1B-D0EB251B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745CAE-194F-4AD3-8D0C-BA2CDB4E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AB6679-51B0-46A8-BF3F-774D6849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13120E-DA45-4D96-99D2-9C973EDA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ABA301-208D-4CE7-AD1F-3B2B85D4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AA00D6-6C6F-4E9F-8069-248BFB18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931BD0-2512-4207-A140-E836FB64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7F846C-93EE-4C82-B3B2-26E4780B7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9ED763-64B9-4423-A981-DACC5B76C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912352-F285-4C7E-A193-D385F08CE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9AA6E-E717-4A73-AA69-FC10FD6C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AD6903-D303-4204-8FEA-F41260D9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86D71C-3108-4C9B-8344-28462150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D2B96E-9FB3-430A-867D-0E679711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663203-8A6B-4A24-8F3F-3882E853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A7B14C-2418-4248-BDAE-5C660A29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455CAA-29ED-427B-895C-7170CEC9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50247D-237A-41D6-B99E-BD494586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711A1A-3D4A-4906-96C0-4868CAAE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1F6494-FA0D-47E1-BA81-F0067C87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0B5A40-0A2C-4CF8-832A-7EA19DC21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0615-C0A0-47F2-9C05-F7E662A5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C905A2-0202-4BAC-B459-B18DE6177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46D42A-733C-4F7A-9EB2-5B163811A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198AD8-CF6C-4A8A-8F5E-9007933A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8F21AE-02C8-40C5-BBD4-AEEF3F3C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D7E9CA-3A9B-4DD3-B5C5-92CAF723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019D7A-9A40-46E1-9A50-2870031B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BA647E-06EC-4B13-9DD0-232CFDF7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A3B7F8-2BE4-4B21-92E7-FBA5339F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03D069-2F32-4E2A-A586-2B5FB77B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22C36F-FB45-4A54-BF40-9A66BE5E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D267-29A1-40DA-B0BE-E7C84C7A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EC43DF-246D-4317-B306-6FB87731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741A15-176E-42C8-B04A-FEE830B4F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4D3A94-4A43-4968-BEC9-65F1274EF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733953-5ADD-4C36-8F5A-966FB30B4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47CB15-D1A3-4B5B-8168-1E3DC9CA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4F339B-BABC-4807-9EA7-D01407FD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8B47CE-4217-499D-8BBF-B59D642C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F3BD2F-1AC2-4B32-86B1-B8CABBD2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73FEFC-9668-4E07-932D-61BBE398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D14081-9301-4C6A-A6DB-C10B17FC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415F-A055-4A8B-ADAF-AC1A9ADF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77AF9-D288-445A-89C7-62A23ED3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1F0A51-BC6C-4D72-A48E-F0712F12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45AB9A-3827-4611-888A-BD01D4C1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4B15BD-22D8-4CD1-B224-831B9BA7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C14C62-4566-47B6-82D0-8C33D9E46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7F5158-23A7-47FF-8007-1068E7CE3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EC9A7-6BCC-494B-8EA6-1E03B0CC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42EC-F09F-4E34-A678-55DFDFFA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EAD4-696F-4CE7-BD83-8654D1FF9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9764-583A-4C7A-BB2E-DB2EDD793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21D74-7387-431E-9981-9AE19B851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B3972-4E4F-4ACB-8F28-79CA81EA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78391-4F51-4423-B7CF-7DF81B7A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6FC02-46C2-4712-B139-A2ADA6F4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B3BBA-D1AF-491A-A4B4-E3BE8AF8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1C43-C02D-4869-AFFD-52C21C02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0853F-5409-4C80-B20D-12E91051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01246-F82E-45F3-914E-8554EA8F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7F1D2-7E0A-48FB-BB96-D83E5C41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F3687-4BB8-4058-8AF9-2DCDE030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521E9-45CF-4A47-96D8-705BFC69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6564A-EE88-4C77-B9B4-0C916B8D1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66209-FEDD-4962-8476-913D5C228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4F883-0E3E-4968-A172-44BC6A229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2ABD1-56DC-4976-9A0E-A48A9EFDB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2F904-424D-4BC9-B75C-5D80E0D8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032C-6348-4155-9EA0-7C9654ED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277CC-F513-49AC-BDC6-7457FC7D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54EE6-A384-4895-B471-5FD7B2C3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1082B-336C-4044-B5F6-B160ECB2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54CA0-351B-4F77-A7A8-CC5285CC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7F92A-5007-4BE0-971E-EDFD2EE1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8A475-0292-4EB6-88AA-03982A1B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B966B-83AE-48BB-88B2-921386E4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8F027-895D-452A-81C4-66F483E20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CF98F-2F2C-4376-AD07-A7089A330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83A54-0E08-4B8F-B9A2-CAF88B97C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E75A-4491-4058-A049-0884233C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AFD61-4EF0-4FFF-BDA5-8E9E4569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FFA52-E27B-41A6-996A-38226628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F0551-CF1C-4A19-B2E1-F8587FD8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8ABE8-4F5B-4794-AB6F-0FC0DC33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2838F-7B30-4136-97A0-F6CDACB4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17C79-83EA-4699-AFD2-8FF62689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9D34E-55F6-4042-B48E-FF9DCE65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E5A69-F77D-472F-8CA3-585A43AC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2C79E-F168-40CE-B626-9E843D20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725CE-C213-4886-8A62-8AB76BA34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F475-5F3D-4F8E-9C22-F1DF386E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97227-77BA-4DC7-BF83-BC59FEBCB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9D256-78C4-4C30-B30E-B3A44891B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FF653-9C6F-4C98-B4B1-D7864164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E6B05-F733-47B4-8156-06EADDED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89EEB-FFFA-4E8C-8BF9-89B31741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11B07-0089-484E-B0E0-96DDA254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E6C46-7321-44E4-AC39-A135B48C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52A68-EE78-4D2B-9BB3-33F64322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5FAAB-FE14-4AC2-B5AC-BBF520F6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58CEF-5602-4485-A61E-AE769145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1BDC-0B62-4A85-B99B-03E26784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469DA-E3D6-44EB-9456-80A72915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2D21A-32DD-4F63-A34D-0C039FBB5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B1AC3-4D8E-4DBD-9F3E-756F48347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D3CA0-909E-4A46-A3E6-82E7945CF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B9202-E1E5-432D-89ED-DE53D882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7A300-7A24-4DF8-B2BB-6F51C6D3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1E5A0-576F-49AF-B847-B47A87C9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17BA2-FAC8-456F-882B-2EDB2835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A1505-D839-4F17-A7CC-6824D01B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579BA-49E3-41BA-B1CC-67AC9480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C1FD-1B4A-4103-A6AC-89474490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3AF68-6F22-4ABC-B216-7AA3DFBA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E5D99-47FF-4C13-BC7E-FD3283FF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042DF-8F50-46DD-9D35-8F3FFEFB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09998-A864-44E9-9AD3-E6A895E46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084D9-4558-4584-915B-6CEBA58BC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704EC-A409-4BA7-8DBD-37742D615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4A9DC-642C-4F56-9151-44BAEC9E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AF9D7-481D-417E-A68D-C5942953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95085-7112-440F-B18B-BF7FA103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D29AE-2566-4FC3-BABD-02A2B73C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BAA9-351C-441B-8EB2-D13DAA07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7AFF2-A76D-4813-9E89-820DA964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D0B4A-49EA-4057-968D-3B642E68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2DC80-53E3-4E86-9C34-E8B8953C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A9D67-4F1A-4310-AB1E-A01023B7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CED73-035D-4760-907E-3AF9AEFA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1B592-3461-4BCA-9252-22CD8592D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2447D-635A-486A-8AA0-F1B63489A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508A6-7730-4EE2-9AAB-52BD6C8B0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822DC3-92A2-4E8F-81FA-3F4779EB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8D7B78-765D-4AED-94DE-868E914E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adec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6eadec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629dd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629dd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108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1086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19f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d95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d95b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d95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D1ED-D6D2-46D4-A210-5E2C545C1DFF}" type="slidenum">
              <a:rPr b="0" lang="ru-RU" sz="1000" spc="-1" strike="noStrike">
                <a:solidFill>
                  <a:srgbClr val="7d95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5361-75AC-44CF-BEA3-CA60A8892F3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CF6B-AA0A-42BB-AF93-3152AB0CE5D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79C2-831C-4362-A6F2-6CD287616ED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1045-225D-49B4-95CE-6011E78BC97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D137-3E5D-4125-9F74-758E7C0EA75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CAFB-4E2D-42FE-82FD-E12A6FD0861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1266-AF9F-4673-B803-83D98B1B1E7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C9D4-7347-450A-BAC8-0B781F48E2C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21AB-A018-492E-969D-572729CF54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88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adec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6eadec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629dd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629dd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108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1086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19f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d95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d95b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d95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6635-5456-4B77-B337-1064932E686F}" type="slidenum">
              <a:rPr b="0" lang="ru-RU" sz="1000" spc="-1" strike="noStrike">
                <a:solidFill>
                  <a:srgbClr val="7d95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2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133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adec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6eadec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629dd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629dd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108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1086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19f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d95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d95b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d95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7E44-513D-4E1B-AAFA-9ECCA3ED4B6E}" type="slidenum">
              <a:rPr b="0" lang="ru-RU" sz="1000" spc="-1" strike="noStrike">
                <a:solidFill>
                  <a:srgbClr val="7d95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adec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6eadec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629dd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629dd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108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1086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19f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d95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d95b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d95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FDA7-2A1D-43C0-AA29-4693C8DF5A56}" type="slidenum">
              <a:rPr b="0" lang="ru-RU" sz="1000" spc="-1" strike="noStrike">
                <a:solidFill>
                  <a:srgbClr val="7d95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adec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6eadec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629dd1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629dd1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108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1086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19f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d95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d95b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d95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68F3-2760-4BE1-AA50-8DE5380635B9}" type="slidenum">
              <a:rPr b="0" lang="ru-RU" sz="1000" spc="-1" strike="noStrike">
                <a:solidFill>
                  <a:srgbClr val="7d95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0C45-CE00-4C67-9E77-22BF1F93795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3D87-205A-4000-8FC2-38C61F79481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1651-EB37-4A2D-88FE-91B422AC6BE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jpe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jpeg"/><Relationship Id="rId15" Type="http://schemas.openxmlformats.org/officeDocument/2006/relationships/image" Target="../media/image21.png"/><Relationship Id="rId16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jpe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jpeg"/><Relationship Id="rId15" Type="http://schemas.openxmlformats.org/officeDocument/2006/relationships/image" Target="../media/image21.png"/><Relationship Id="rId16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jpeg"/><Relationship Id="rId12" Type="http://schemas.openxmlformats.org/officeDocument/2006/relationships/image" Target="../media/image22.jpeg"/><Relationship Id="rId13" Type="http://schemas.openxmlformats.org/officeDocument/2006/relationships/image" Target="../media/image19.png"/><Relationship Id="rId14" Type="http://schemas.openxmlformats.org/officeDocument/2006/relationships/image" Target="../media/image20.jpeg"/><Relationship Id="rId15" Type="http://schemas.openxmlformats.org/officeDocument/2006/relationships/image" Target="../media/image21.png"/><Relationship Id="rId16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23.jpeg"/><Relationship Id="rId11" Type="http://schemas.openxmlformats.org/officeDocument/2006/relationships/image" Target="../media/image17.jpe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jpeg"/><Relationship Id="rId15" Type="http://schemas.openxmlformats.org/officeDocument/2006/relationships/image" Target="../media/image21.png"/><Relationship Id="rId16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jpe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jpeg"/><Relationship Id="rId15" Type="http://schemas.openxmlformats.org/officeDocument/2006/relationships/image" Target="../media/image21.png"/><Relationship Id="rId16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jpe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jpeg"/><Relationship Id="rId15" Type="http://schemas.openxmlformats.org/officeDocument/2006/relationships/image" Target="../media/image24.jpeg"/><Relationship Id="rId16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image" Target="../media/image30.png"/><Relationship Id="rId13" Type="http://schemas.openxmlformats.org/officeDocument/2006/relationships/image" Target="../media/image30.png"/><Relationship Id="rId14" Type="http://schemas.openxmlformats.org/officeDocument/2006/relationships/image" Target="../media/image30.png"/><Relationship Id="rId15" Type="http://schemas.openxmlformats.org/officeDocument/2006/relationships/image" Target="../media/image32.png"/><Relationship Id="rId16" Type="http://schemas.openxmlformats.org/officeDocument/2006/relationships/image" Target="../media/image30.png"/><Relationship Id="rId17" Type="http://schemas.openxmlformats.org/officeDocument/2006/relationships/image" Target="../media/image33.png"/><Relationship Id="rId18" Type="http://schemas.openxmlformats.org/officeDocument/2006/relationships/image" Target="../media/image34.png"/><Relationship Id="rId19" Type="http://schemas.openxmlformats.org/officeDocument/2006/relationships/image" Target="../media/image34.png"/><Relationship Id="rId20" Type="http://schemas.openxmlformats.org/officeDocument/2006/relationships/image" Target="../media/image34.png"/><Relationship Id="rId21" Type="http://schemas.openxmlformats.org/officeDocument/2006/relationships/image" Target="../media/image30.png"/><Relationship Id="rId22" Type="http://schemas.openxmlformats.org/officeDocument/2006/relationships/image" Target="../media/image34.png"/><Relationship Id="rId23" Type="http://schemas.openxmlformats.org/officeDocument/2006/relationships/image" Target="../media/image34.png"/><Relationship Id="rId24" Type="http://schemas.openxmlformats.org/officeDocument/2006/relationships/image" Target="../media/image34.png"/><Relationship Id="rId25" Type="http://schemas.openxmlformats.org/officeDocument/2006/relationships/image" Target="../media/image34.png"/><Relationship Id="rId26" Type="http://schemas.openxmlformats.org/officeDocument/2006/relationships/image" Target="../media/image35.png"/><Relationship Id="rId27" Type="http://schemas.openxmlformats.org/officeDocument/2006/relationships/image" Target="../media/image36.png"/><Relationship Id="rId28" Type="http://schemas.openxmlformats.org/officeDocument/2006/relationships/image" Target="../media/image36.png"/><Relationship Id="rId29" Type="http://schemas.openxmlformats.org/officeDocument/2006/relationships/image" Target="../media/image36.png"/><Relationship Id="rId30" Type="http://schemas.openxmlformats.org/officeDocument/2006/relationships/image" Target="../media/image37.png"/><Relationship Id="rId31" Type="http://schemas.openxmlformats.org/officeDocument/2006/relationships/image" Target="../media/image36.png"/><Relationship Id="rId32" Type="http://schemas.openxmlformats.org/officeDocument/2006/relationships/image" Target="../media/image36.png"/><Relationship Id="rId33" Type="http://schemas.openxmlformats.org/officeDocument/2006/relationships/image" Target="../media/image36.png"/><Relationship Id="rId34" Type="http://schemas.openxmlformats.org/officeDocument/2006/relationships/image" Target="../media/image36.png"/><Relationship Id="rId35" Type="http://schemas.openxmlformats.org/officeDocument/2006/relationships/image" Target="../media/image36.png"/><Relationship Id="rId36" Type="http://schemas.openxmlformats.org/officeDocument/2006/relationships/image" Target="../media/image36.png"/><Relationship Id="rId37" Type="http://schemas.openxmlformats.org/officeDocument/2006/relationships/image" Target="../media/image36.png"/><Relationship Id="rId38" Type="http://schemas.openxmlformats.org/officeDocument/2006/relationships/image" Target="../media/image36.png"/><Relationship Id="rId39" Type="http://schemas.openxmlformats.org/officeDocument/2006/relationships/image" Target="../media/image36.png"/><Relationship Id="rId40" Type="http://schemas.openxmlformats.org/officeDocument/2006/relationships/image" Target="../media/image36.png"/><Relationship Id="rId41" Type="http://schemas.openxmlformats.org/officeDocument/2006/relationships/image" Target="../media/image36.png"/><Relationship Id="rId42" Type="http://schemas.openxmlformats.org/officeDocument/2006/relationships/image" Target="../media/image36.png"/><Relationship Id="rId43" Type="http://schemas.openxmlformats.org/officeDocument/2006/relationships/image" Target="../media/image36.png"/><Relationship Id="rId44" Type="http://schemas.openxmlformats.org/officeDocument/2006/relationships/image" Target="../media/image36.png"/><Relationship Id="rId45" Type="http://schemas.openxmlformats.org/officeDocument/2006/relationships/image" Target="../media/image36.png"/><Relationship Id="rId46" Type="http://schemas.openxmlformats.org/officeDocument/2006/relationships/image" Target="../media/image36.png"/><Relationship Id="rId47" Type="http://schemas.openxmlformats.org/officeDocument/2006/relationships/image" Target="../media/image36.png"/><Relationship Id="rId48" Type="http://schemas.openxmlformats.org/officeDocument/2006/relationships/image" Target="../media/image36.png"/><Relationship Id="rId49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Заголовок 3" descr=""/>
          <p:cNvPicPr/>
          <p:nvPr/>
        </p:nvPicPr>
        <p:blipFill>
          <a:blip r:embed="rId1"/>
          <a:stretch/>
        </p:blipFill>
        <p:spPr>
          <a:xfrm>
            <a:off x="311040" y="2189160"/>
            <a:ext cx="8521920" cy="276696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2" descr=""/>
          <p:cNvPicPr/>
          <p:nvPr/>
        </p:nvPicPr>
        <p:blipFill>
          <a:blip r:embed="rId2"/>
          <a:stretch/>
        </p:blipFill>
        <p:spPr>
          <a:xfrm>
            <a:off x="457200" y="536400"/>
            <a:ext cx="37800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Скругленный прямоугольник 2"/>
          <p:cNvGrpSpPr/>
          <p:nvPr/>
        </p:nvGrpSpPr>
        <p:grpSpPr>
          <a:xfrm>
            <a:off x="334800" y="4900680"/>
            <a:ext cx="2195640" cy="1407960"/>
            <a:chOff x="334800" y="4900680"/>
            <a:chExt cx="2195640" cy="1407960"/>
          </a:xfrm>
        </p:grpSpPr>
        <p:pic>
          <p:nvPicPr>
            <p:cNvPr id="715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334800" y="4900680"/>
              <a:ext cx="219564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" name=""/>
            <p:cNvSpPr/>
            <p:nvPr/>
          </p:nvSpPr>
          <p:spPr>
            <a:xfrm>
              <a:off x="458640" y="5003640"/>
              <a:ext cx="194796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Увы, неверно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17" name="Скругленный прямоугольник 1"/>
          <p:cNvGrpSpPr/>
          <p:nvPr/>
        </p:nvGrpSpPr>
        <p:grpSpPr>
          <a:xfrm>
            <a:off x="334800" y="4919760"/>
            <a:ext cx="2200320" cy="1414440"/>
            <a:chOff x="334800" y="4919760"/>
            <a:chExt cx="2200320" cy="1414440"/>
          </a:xfrm>
        </p:grpSpPr>
        <p:pic>
          <p:nvPicPr>
            <p:cNvPr id="718" name="Скругленный 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334800" y="4919760"/>
              <a:ext cx="220032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"/>
            <p:cNvSpPr/>
            <p:nvPr/>
          </p:nvSpPr>
          <p:spPr>
            <a:xfrm>
              <a:off x="461880" y="5024520"/>
              <a:ext cx="194796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има</a:t>
              </a:r>
              <a:r>
                <a:rPr b="0" lang="ru-RU" sz="3000" spc="-1" strike="noStrike">
                  <a:solidFill>
                    <a:srgbClr val="ffffff"/>
                  </a:solidFill>
                  <a:latin typeface="Bookman Old Style"/>
                </a:rPr>
                <a:t>  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20" name="Скругленный прямоугольник 3"/>
          <p:cNvSpPr/>
          <p:nvPr/>
        </p:nvSpPr>
        <p:spPr>
          <a:xfrm>
            <a:off x="404640" y="4960800"/>
            <a:ext cx="2073600" cy="1285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21" name="Скругленный прямоугольник 4"/>
          <p:cNvGrpSpPr/>
          <p:nvPr/>
        </p:nvGrpSpPr>
        <p:grpSpPr>
          <a:xfrm>
            <a:off x="2438280" y="4906800"/>
            <a:ext cx="2206800" cy="1414800"/>
            <a:chOff x="2438280" y="4906800"/>
            <a:chExt cx="2206800" cy="1414800"/>
          </a:xfrm>
        </p:grpSpPr>
        <p:pic>
          <p:nvPicPr>
            <p:cNvPr id="722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2438280" y="4906800"/>
              <a:ext cx="2206800" cy="14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2560680" y="5011560"/>
              <a:ext cx="194796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Правильно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24" name="Скругленный прямоугольник 5"/>
          <p:cNvGrpSpPr/>
          <p:nvPr/>
        </p:nvGrpSpPr>
        <p:grpSpPr>
          <a:xfrm>
            <a:off x="2419200" y="4906800"/>
            <a:ext cx="2202120" cy="1414800"/>
            <a:chOff x="2419200" y="4906800"/>
            <a:chExt cx="2202120" cy="1414800"/>
          </a:xfrm>
        </p:grpSpPr>
        <p:pic>
          <p:nvPicPr>
            <p:cNvPr id="725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2419200" y="4906800"/>
              <a:ext cx="2202120" cy="14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"/>
            <p:cNvSpPr/>
            <p:nvPr/>
          </p:nvSpPr>
          <p:spPr>
            <a:xfrm>
              <a:off x="2546280" y="5011560"/>
              <a:ext cx="194796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есна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27" name="Скругленный прямоугольник 6"/>
          <p:cNvSpPr/>
          <p:nvPr/>
        </p:nvSpPr>
        <p:spPr>
          <a:xfrm>
            <a:off x="2513160" y="4965840"/>
            <a:ext cx="2058840" cy="1285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28" name="Скругленный прямоугольник 8"/>
          <p:cNvGrpSpPr/>
          <p:nvPr/>
        </p:nvGrpSpPr>
        <p:grpSpPr>
          <a:xfrm>
            <a:off x="4541760" y="4900680"/>
            <a:ext cx="2219400" cy="1407960"/>
            <a:chOff x="4541760" y="4900680"/>
            <a:chExt cx="2219400" cy="1407960"/>
          </a:xfrm>
        </p:grpSpPr>
        <p:pic>
          <p:nvPicPr>
            <p:cNvPr id="729" name="Скругленный прямоугольник 8" descr=""/>
            <p:cNvPicPr/>
            <p:nvPr/>
          </p:nvPicPr>
          <p:blipFill>
            <a:blip r:embed="rId5"/>
            <a:stretch/>
          </p:blipFill>
          <p:spPr>
            <a:xfrm>
              <a:off x="4541760" y="4900680"/>
              <a:ext cx="221940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"/>
            <p:cNvSpPr/>
            <p:nvPr/>
          </p:nvSpPr>
          <p:spPr>
            <a:xfrm>
              <a:off x="4667400" y="5003640"/>
              <a:ext cx="196668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Подумай хорошо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31" name="Скругленный прямоугольник 9"/>
          <p:cNvGrpSpPr/>
          <p:nvPr/>
        </p:nvGrpSpPr>
        <p:grpSpPr>
          <a:xfrm>
            <a:off x="4559400" y="4919760"/>
            <a:ext cx="2182680" cy="1414440"/>
            <a:chOff x="4559400" y="4919760"/>
            <a:chExt cx="2182680" cy="1414440"/>
          </a:xfrm>
        </p:grpSpPr>
        <p:pic>
          <p:nvPicPr>
            <p:cNvPr id="732" name="Скругленный прямоугольник 9" descr=""/>
            <p:cNvPicPr/>
            <p:nvPr/>
          </p:nvPicPr>
          <p:blipFill>
            <a:blip r:embed="rId6"/>
            <a:stretch/>
          </p:blipFill>
          <p:spPr>
            <a:xfrm>
              <a:off x="4559400" y="4919760"/>
              <a:ext cx="21826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>
              <a:off x="4681440" y="5024520"/>
              <a:ext cx="193356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ето</a:t>
              </a:r>
              <a:r>
                <a:rPr b="0" lang="ru-RU" sz="3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34" name="Скругленный прямоугольник 10"/>
          <p:cNvSpPr/>
          <p:nvPr/>
        </p:nvSpPr>
        <p:spPr>
          <a:xfrm>
            <a:off x="4629240" y="4941720"/>
            <a:ext cx="2058840" cy="1285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35" name="Скругленный прямоугольник 11"/>
          <p:cNvGrpSpPr/>
          <p:nvPr/>
        </p:nvGrpSpPr>
        <p:grpSpPr>
          <a:xfrm>
            <a:off x="6649920" y="4906800"/>
            <a:ext cx="2189160" cy="1414800"/>
            <a:chOff x="6649920" y="4906800"/>
            <a:chExt cx="2189160" cy="1414800"/>
          </a:xfrm>
        </p:grpSpPr>
        <p:pic>
          <p:nvPicPr>
            <p:cNvPr id="736" name="Скругленный прямоугольник 11" descr=""/>
            <p:cNvPicPr/>
            <p:nvPr/>
          </p:nvPicPr>
          <p:blipFill>
            <a:blip r:embed="rId7"/>
            <a:stretch/>
          </p:blipFill>
          <p:spPr>
            <a:xfrm>
              <a:off x="6649920" y="4906800"/>
              <a:ext cx="2189160" cy="14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"/>
            <p:cNvSpPr/>
            <p:nvPr/>
          </p:nvSpPr>
          <p:spPr>
            <a:xfrm>
              <a:off x="6777000" y="5013360"/>
              <a:ext cx="19368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Подумай ещё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38" name="Скругленный прямоугольник 12"/>
          <p:cNvGrpSpPr/>
          <p:nvPr/>
        </p:nvGrpSpPr>
        <p:grpSpPr>
          <a:xfrm>
            <a:off x="6669000" y="4906800"/>
            <a:ext cx="2170080" cy="1414800"/>
            <a:chOff x="6669000" y="4906800"/>
            <a:chExt cx="2170080" cy="1414800"/>
          </a:xfrm>
        </p:grpSpPr>
        <p:pic>
          <p:nvPicPr>
            <p:cNvPr id="739" name="Скругленный прямоугольник 12" descr=""/>
            <p:cNvPicPr/>
            <p:nvPr/>
          </p:nvPicPr>
          <p:blipFill>
            <a:blip r:embed="rId8"/>
            <a:stretch/>
          </p:blipFill>
          <p:spPr>
            <a:xfrm>
              <a:off x="6669000" y="4906800"/>
              <a:ext cx="2170080" cy="14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"/>
            <p:cNvSpPr/>
            <p:nvPr/>
          </p:nvSpPr>
          <p:spPr>
            <a:xfrm>
              <a:off x="6791400" y="5013360"/>
              <a:ext cx="19224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ень</a:t>
              </a:r>
              <a:r>
                <a:rPr b="0" lang="ru-RU" sz="3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41" name="Скругленный прямоугольник 16"/>
          <p:cNvSpPr/>
          <p:nvPr/>
        </p:nvSpPr>
        <p:spPr>
          <a:xfrm>
            <a:off x="6691320" y="4954680"/>
            <a:ext cx="2076480" cy="1285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2" name="Picture 4" descr=""/>
          <p:cNvPicPr/>
          <p:nvPr/>
        </p:nvPicPr>
        <p:blipFill>
          <a:blip r:embed="rId9"/>
          <a:stretch/>
        </p:blipFill>
        <p:spPr>
          <a:xfrm>
            <a:off x="414360" y="2124000"/>
            <a:ext cx="2043000" cy="261000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4" descr=""/>
          <p:cNvPicPr/>
          <p:nvPr/>
        </p:nvPicPr>
        <p:blipFill>
          <a:blip r:embed="rId10"/>
          <a:stretch/>
        </p:blipFill>
        <p:spPr>
          <a:xfrm>
            <a:off x="2513160" y="2108160"/>
            <a:ext cx="2044440" cy="261144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6" descr="Картинка 1 из 197551"/>
          <p:cNvPicPr/>
          <p:nvPr/>
        </p:nvPicPr>
        <p:blipFill>
          <a:blip r:embed="rId11"/>
          <a:stretch/>
        </p:blipFill>
        <p:spPr>
          <a:xfrm>
            <a:off x="4618080" y="2100240"/>
            <a:ext cx="2062080" cy="261936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2" descr=""/>
          <p:cNvPicPr/>
          <p:nvPr/>
        </p:nvPicPr>
        <p:blipFill>
          <a:blip r:embed="rId12"/>
          <a:stretch/>
        </p:blipFill>
        <p:spPr>
          <a:xfrm>
            <a:off x="6727680" y="2100240"/>
            <a:ext cx="2049480" cy="261936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13" descr=""/>
          <p:cNvPicPr/>
          <p:nvPr/>
        </p:nvPicPr>
        <p:blipFill>
          <a:blip r:embed="rId13"/>
          <a:stretch/>
        </p:blipFill>
        <p:spPr>
          <a:xfrm>
            <a:off x="6721560" y="2104920"/>
            <a:ext cx="2047680" cy="261000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15" descr="Картинка 262 из 139476"/>
          <p:cNvPicPr/>
          <p:nvPr/>
        </p:nvPicPr>
        <p:blipFill>
          <a:blip r:embed="rId14"/>
          <a:stretch/>
        </p:blipFill>
        <p:spPr>
          <a:xfrm>
            <a:off x="4603680" y="2116080"/>
            <a:ext cx="2048040" cy="261000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17" descr=""/>
          <p:cNvPicPr/>
          <p:nvPr/>
        </p:nvPicPr>
        <p:blipFill>
          <a:blip r:embed="rId15"/>
          <a:stretch/>
        </p:blipFill>
        <p:spPr>
          <a:xfrm>
            <a:off x="407880" y="2108160"/>
            <a:ext cx="2048040" cy="2610000"/>
          </a:xfrm>
          <a:prstGeom prst="rect">
            <a:avLst/>
          </a:prstGeom>
          <a:ln w="0">
            <a:noFill/>
          </a:ln>
        </p:spPr>
      </p:pic>
      <p:sp>
        <p:nvSpPr>
          <p:cNvPr id="749" name="TextBox 23"/>
          <p:cNvSpPr/>
          <p:nvPr/>
        </p:nvSpPr>
        <p:spPr>
          <a:xfrm>
            <a:off x="868320" y="530280"/>
            <a:ext cx="732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ерелётные птицы вернулись домой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тёплых стран, хлопочут на гнёздах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ни распеваю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Управляющая кнопка: далее 24">
            <a:hlinkClick r:id="" action="ppaction://hlinkshowjump?jump=nextslide"/>
          </p:cNvPr>
          <p:cNvSpPr/>
          <p:nvPr/>
        </p:nvSpPr>
        <p:spPr>
          <a:xfrm>
            <a:off x="8820000" y="6562800"/>
            <a:ext cx="289080" cy="260280"/>
          </a:xfrm>
          <a:custGeom>
            <a:avLst/>
            <a:gdLst>
              <a:gd name="textAreaLeft" fmla="*/ 16560 w 289080"/>
              <a:gd name="textAreaRight" fmla="*/ 272520 w 2890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3987" h="21600">
                <a:moveTo>
                  <a:pt x="0" y="0"/>
                </a:moveTo>
                <a:lnTo>
                  <a:pt x="23987" y="0"/>
                </a:lnTo>
                <a:lnTo>
                  <a:pt x="23987" y="21600"/>
                </a:lnTo>
                <a:lnTo>
                  <a:pt x="0" y="21600"/>
                </a:lnTo>
                <a:close/>
              </a:path>
              <a:path fill="lightenLess" w="23987" h="21600">
                <a:moveTo>
                  <a:pt x="0" y="0"/>
                </a:moveTo>
                <a:lnTo>
                  <a:pt x="23987" y="0"/>
                </a:lnTo>
                <a:lnTo>
                  <a:pt x="22587" y="1400"/>
                </a:lnTo>
                <a:lnTo>
                  <a:pt x="1400" y="1400"/>
                </a:lnTo>
                <a:close/>
              </a:path>
              <a:path fill="darken" w="23987" h="21600">
                <a:moveTo>
                  <a:pt x="23987" y="0"/>
                </a:moveTo>
                <a:lnTo>
                  <a:pt x="23987" y="21600"/>
                </a:lnTo>
                <a:lnTo>
                  <a:pt x="22587" y="20200"/>
                </a:lnTo>
                <a:lnTo>
                  <a:pt x="22587" y="1400"/>
                </a:lnTo>
                <a:close/>
              </a:path>
              <a:path fill="darkenLess" w="23987" h="21600">
                <a:moveTo>
                  <a:pt x="2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7" y="20200"/>
                </a:lnTo>
                <a:close/>
              </a:path>
              <a:path fill="lighten" w="2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7" h="21600">
                <a:moveTo>
                  <a:pt x="4987" y="3794"/>
                </a:moveTo>
                <a:lnTo>
                  <a:pt x="19000" y="10800"/>
                </a:lnTo>
                <a:lnTo>
                  <a:pt x="4987" y="17806"/>
                </a:lnTo>
                <a:close/>
              </a:path>
            </a:pathLst>
          </a:custGeom>
          <a:gradFill rotWithShape="0">
            <a:gsLst>
              <a:gs pos="0">
                <a:srgbClr val="83c3ff"/>
              </a:gs>
              <a:gs pos="100000">
                <a:srgbClr val="c4e4ff"/>
              </a:gs>
            </a:gsLst>
            <a:lin ang="16200000"/>
          </a:gradFill>
          <a:ln w="9360">
            <a:solidFill>
              <a:srgbClr val="469fed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2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2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evt="onClick">
                          <p:tgtEl>
                            <p:spTgt spid="720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727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727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35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38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4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evt="onClick">
                          <p:tgtEl>
                            <p:spTgt spid="727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734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734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evt="onClick">
                          <p:tgtEl>
                            <p:spTgt spid="734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500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741"/>
                    </p:tgtEl>
                  </p:cond>
                </p:stCondLst>
                <p:childTnLst>
                  <p:par>
                    <p:cTn id="84" nodeType="clickEffect" fill="hold">
                      <p:stCondLst>
                        <p:cond evt="onClick">
                          <p:tgtEl>
                            <p:spTgt spid="741"/>
                          </p:tgtEl>
                        </p:cond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evt="onClick">
                          <p:tgtEl>
                            <p:spTgt spid="741"/>
                          </p:tgtEl>
                        </p:cond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500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Скругленный прямоугольник 2"/>
          <p:cNvGrpSpPr/>
          <p:nvPr/>
        </p:nvGrpSpPr>
        <p:grpSpPr>
          <a:xfrm>
            <a:off x="334800" y="4900680"/>
            <a:ext cx="2195640" cy="1407960"/>
            <a:chOff x="334800" y="4900680"/>
            <a:chExt cx="2195640" cy="1407960"/>
          </a:xfrm>
        </p:grpSpPr>
        <p:pic>
          <p:nvPicPr>
            <p:cNvPr id="752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334800" y="4900680"/>
              <a:ext cx="219564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" name=""/>
            <p:cNvSpPr/>
            <p:nvPr/>
          </p:nvSpPr>
          <p:spPr>
            <a:xfrm>
              <a:off x="458640" y="5003640"/>
              <a:ext cx="194796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Увы, неверно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54" name="Скругленный прямоугольник 1"/>
          <p:cNvGrpSpPr/>
          <p:nvPr/>
        </p:nvGrpSpPr>
        <p:grpSpPr>
          <a:xfrm>
            <a:off x="334800" y="4919760"/>
            <a:ext cx="2200320" cy="1414440"/>
            <a:chOff x="334800" y="4919760"/>
            <a:chExt cx="2200320" cy="1414440"/>
          </a:xfrm>
        </p:grpSpPr>
        <p:pic>
          <p:nvPicPr>
            <p:cNvPr id="755" name="Скругленный 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334800" y="4919760"/>
              <a:ext cx="220032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"/>
            <p:cNvSpPr/>
            <p:nvPr/>
          </p:nvSpPr>
          <p:spPr>
            <a:xfrm>
              <a:off x="461880" y="5024520"/>
              <a:ext cx="194796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има</a:t>
              </a:r>
              <a:r>
                <a:rPr b="0" lang="ru-RU" sz="3000" spc="-1" strike="noStrike">
                  <a:solidFill>
                    <a:srgbClr val="ffffff"/>
                  </a:solidFill>
                  <a:latin typeface="Bookman Old Style"/>
                </a:rPr>
                <a:t>  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57" name="Скругленный прямоугольник 3"/>
          <p:cNvSpPr/>
          <p:nvPr/>
        </p:nvSpPr>
        <p:spPr>
          <a:xfrm>
            <a:off x="404640" y="4960800"/>
            <a:ext cx="2073600" cy="1285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8" name="Скругленный прямоугольник 4"/>
          <p:cNvGrpSpPr/>
          <p:nvPr/>
        </p:nvGrpSpPr>
        <p:grpSpPr>
          <a:xfrm>
            <a:off x="2438280" y="4906800"/>
            <a:ext cx="2206800" cy="1414800"/>
            <a:chOff x="2438280" y="4906800"/>
            <a:chExt cx="2206800" cy="1414800"/>
          </a:xfrm>
        </p:grpSpPr>
        <p:pic>
          <p:nvPicPr>
            <p:cNvPr id="759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2438280" y="4906800"/>
              <a:ext cx="2206800" cy="14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"/>
            <p:cNvSpPr/>
            <p:nvPr/>
          </p:nvSpPr>
          <p:spPr>
            <a:xfrm>
              <a:off x="2560680" y="5011560"/>
              <a:ext cx="194796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Правильно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61" name="Скругленный прямоугольник 5"/>
          <p:cNvGrpSpPr/>
          <p:nvPr/>
        </p:nvGrpSpPr>
        <p:grpSpPr>
          <a:xfrm>
            <a:off x="2419200" y="4906800"/>
            <a:ext cx="2202120" cy="1414800"/>
            <a:chOff x="2419200" y="4906800"/>
            <a:chExt cx="2202120" cy="1414800"/>
          </a:xfrm>
        </p:grpSpPr>
        <p:pic>
          <p:nvPicPr>
            <p:cNvPr id="762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2419200" y="4906800"/>
              <a:ext cx="2202120" cy="14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>
              <a:off x="2546280" y="5011560"/>
              <a:ext cx="194796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есна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64" name="Скругленный прямоугольник 6"/>
          <p:cNvSpPr/>
          <p:nvPr/>
        </p:nvSpPr>
        <p:spPr>
          <a:xfrm>
            <a:off x="2513160" y="4965840"/>
            <a:ext cx="2058840" cy="1285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65" name="Скругленный прямоугольник 8"/>
          <p:cNvGrpSpPr/>
          <p:nvPr/>
        </p:nvGrpSpPr>
        <p:grpSpPr>
          <a:xfrm>
            <a:off x="4541760" y="4900680"/>
            <a:ext cx="2219400" cy="1407960"/>
            <a:chOff x="4541760" y="4900680"/>
            <a:chExt cx="2219400" cy="1407960"/>
          </a:xfrm>
        </p:grpSpPr>
        <p:pic>
          <p:nvPicPr>
            <p:cNvPr id="766" name="Скругленный прямоугольник 8" descr=""/>
            <p:cNvPicPr/>
            <p:nvPr/>
          </p:nvPicPr>
          <p:blipFill>
            <a:blip r:embed="rId5"/>
            <a:stretch/>
          </p:blipFill>
          <p:spPr>
            <a:xfrm>
              <a:off x="4541760" y="4900680"/>
              <a:ext cx="221940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7" name=""/>
            <p:cNvSpPr/>
            <p:nvPr/>
          </p:nvSpPr>
          <p:spPr>
            <a:xfrm>
              <a:off x="4667400" y="5003640"/>
              <a:ext cx="196668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Подумай хорошо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68" name="Скругленный прямоугольник 9"/>
          <p:cNvGrpSpPr/>
          <p:nvPr/>
        </p:nvGrpSpPr>
        <p:grpSpPr>
          <a:xfrm>
            <a:off x="4559400" y="4919760"/>
            <a:ext cx="2182680" cy="1414440"/>
            <a:chOff x="4559400" y="4919760"/>
            <a:chExt cx="2182680" cy="1414440"/>
          </a:xfrm>
        </p:grpSpPr>
        <p:pic>
          <p:nvPicPr>
            <p:cNvPr id="769" name="Скругленный прямоугольник 9" descr=""/>
            <p:cNvPicPr/>
            <p:nvPr/>
          </p:nvPicPr>
          <p:blipFill>
            <a:blip r:embed="rId6"/>
            <a:stretch/>
          </p:blipFill>
          <p:spPr>
            <a:xfrm>
              <a:off x="4559400" y="4919760"/>
              <a:ext cx="21826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>
              <a:off x="4681440" y="5024520"/>
              <a:ext cx="193356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ето</a:t>
              </a:r>
              <a:r>
                <a:rPr b="0" lang="ru-RU" sz="3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71" name="Скругленный прямоугольник 10"/>
          <p:cNvSpPr/>
          <p:nvPr/>
        </p:nvSpPr>
        <p:spPr>
          <a:xfrm>
            <a:off x="4629240" y="4941720"/>
            <a:ext cx="2058840" cy="1285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72" name="Скругленный прямоугольник 11"/>
          <p:cNvGrpSpPr/>
          <p:nvPr/>
        </p:nvGrpSpPr>
        <p:grpSpPr>
          <a:xfrm>
            <a:off x="6649920" y="4906800"/>
            <a:ext cx="2189160" cy="1414800"/>
            <a:chOff x="6649920" y="4906800"/>
            <a:chExt cx="2189160" cy="1414800"/>
          </a:xfrm>
        </p:grpSpPr>
        <p:pic>
          <p:nvPicPr>
            <p:cNvPr id="773" name="Скругленный прямоугольник 11" descr=""/>
            <p:cNvPicPr/>
            <p:nvPr/>
          </p:nvPicPr>
          <p:blipFill>
            <a:blip r:embed="rId7"/>
            <a:stretch/>
          </p:blipFill>
          <p:spPr>
            <a:xfrm>
              <a:off x="6649920" y="4906800"/>
              <a:ext cx="2189160" cy="14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"/>
            <p:cNvSpPr/>
            <p:nvPr/>
          </p:nvSpPr>
          <p:spPr>
            <a:xfrm>
              <a:off x="6777000" y="5013360"/>
              <a:ext cx="19368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Подумай ещё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75" name="Скругленный прямоугольник 12"/>
          <p:cNvGrpSpPr/>
          <p:nvPr/>
        </p:nvGrpSpPr>
        <p:grpSpPr>
          <a:xfrm>
            <a:off x="6669000" y="4906800"/>
            <a:ext cx="2170080" cy="1414800"/>
            <a:chOff x="6669000" y="4906800"/>
            <a:chExt cx="2170080" cy="1414800"/>
          </a:xfrm>
        </p:grpSpPr>
        <p:pic>
          <p:nvPicPr>
            <p:cNvPr id="776" name="Скругленный прямоугольник 12" descr=""/>
            <p:cNvPicPr/>
            <p:nvPr/>
          </p:nvPicPr>
          <p:blipFill>
            <a:blip r:embed="rId8"/>
            <a:stretch/>
          </p:blipFill>
          <p:spPr>
            <a:xfrm>
              <a:off x="6669000" y="4906800"/>
              <a:ext cx="2170080" cy="14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"/>
            <p:cNvSpPr/>
            <p:nvPr/>
          </p:nvSpPr>
          <p:spPr>
            <a:xfrm>
              <a:off x="6791400" y="5013360"/>
              <a:ext cx="19224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ень</a:t>
              </a:r>
              <a:r>
                <a:rPr b="0" lang="ru-RU" sz="3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78" name="Скругленный прямоугольник 16"/>
          <p:cNvSpPr/>
          <p:nvPr/>
        </p:nvSpPr>
        <p:spPr>
          <a:xfrm>
            <a:off x="6691320" y="4954680"/>
            <a:ext cx="2076480" cy="1285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9" name="Picture 4" descr=""/>
          <p:cNvPicPr/>
          <p:nvPr/>
        </p:nvPicPr>
        <p:blipFill>
          <a:blip r:embed="rId9"/>
          <a:stretch/>
        </p:blipFill>
        <p:spPr>
          <a:xfrm>
            <a:off x="414360" y="2124000"/>
            <a:ext cx="2043000" cy="261000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4" descr=""/>
          <p:cNvPicPr/>
          <p:nvPr/>
        </p:nvPicPr>
        <p:blipFill>
          <a:blip r:embed="rId10"/>
          <a:stretch/>
        </p:blipFill>
        <p:spPr>
          <a:xfrm>
            <a:off x="2513160" y="2108160"/>
            <a:ext cx="2044440" cy="261144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6" descr="Картинка 1 из 197551"/>
          <p:cNvPicPr/>
          <p:nvPr/>
        </p:nvPicPr>
        <p:blipFill>
          <a:blip r:embed="rId11"/>
          <a:stretch/>
        </p:blipFill>
        <p:spPr>
          <a:xfrm>
            <a:off x="4618080" y="2100240"/>
            <a:ext cx="2062080" cy="261936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2" descr=""/>
          <p:cNvPicPr/>
          <p:nvPr/>
        </p:nvPicPr>
        <p:blipFill>
          <a:blip r:embed="rId12"/>
          <a:stretch/>
        </p:blipFill>
        <p:spPr>
          <a:xfrm>
            <a:off x="6727680" y="2100240"/>
            <a:ext cx="2049480" cy="261936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13" descr=""/>
          <p:cNvPicPr/>
          <p:nvPr/>
        </p:nvPicPr>
        <p:blipFill>
          <a:blip r:embed="rId13"/>
          <a:stretch/>
        </p:blipFill>
        <p:spPr>
          <a:xfrm>
            <a:off x="6721560" y="2104920"/>
            <a:ext cx="2047680" cy="261000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15" descr="Картинка 262 из 139476"/>
          <p:cNvPicPr/>
          <p:nvPr/>
        </p:nvPicPr>
        <p:blipFill>
          <a:blip r:embed="rId14"/>
          <a:stretch/>
        </p:blipFill>
        <p:spPr>
          <a:xfrm>
            <a:off x="4618080" y="2100240"/>
            <a:ext cx="2047680" cy="261000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17" descr=""/>
          <p:cNvPicPr/>
          <p:nvPr/>
        </p:nvPicPr>
        <p:blipFill>
          <a:blip r:embed="rId15"/>
          <a:stretch/>
        </p:blipFill>
        <p:spPr>
          <a:xfrm>
            <a:off x="407880" y="2108160"/>
            <a:ext cx="2048040" cy="2610000"/>
          </a:xfrm>
          <a:prstGeom prst="rect">
            <a:avLst/>
          </a:prstGeom>
          <a:ln w="0">
            <a:noFill/>
          </a:ln>
        </p:spPr>
      </p:pic>
      <p:sp>
        <p:nvSpPr>
          <p:cNvPr id="786" name="TextBox 23"/>
          <p:cNvSpPr/>
          <p:nvPr/>
        </p:nvSpPr>
        <p:spPr>
          <a:xfrm>
            <a:off x="632880" y="404640"/>
            <a:ext cx="777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оённая талой водой, тёплыми дождям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евает зелёное платье, с пестринам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жных подснеж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Управляющая кнопка: далее 24">
            <a:hlinkClick r:id="" action="ppaction://hlinkshowjump?jump=nextslide"/>
          </p:cNvPr>
          <p:cNvSpPr/>
          <p:nvPr/>
        </p:nvSpPr>
        <p:spPr>
          <a:xfrm>
            <a:off x="8820000" y="6562800"/>
            <a:ext cx="289080" cy="260280"/>
          </a:xfrm>
          <a:custGeom>
            <a:avLst/>
            <a:gdLst>
              <a:gd name="textAreaLeft" fmla="*/ 16560 w 289080"/>
              <a:gd name="textAreaRight" fmla="*/ 272520 w 2890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3987" h="21600">
                <a:moveTo>
                  <a:pt x="0" y="0"/>
                </a:moveTo>
                <a:lnTo>
                  <a:pt x="23987" y="0"/>
                </a:lnTo>
                <a:lnTo>
                  <a:pt x="23987" y="21600"/>
                </a:lnTo>
                <a:lnTo>
                  <a:pt x="0" y="21600"/>
                </a:lnTo>
                <a:close/>
              </a:path>
              <a:path fill="lightenLess" w="23987" h="21600">
                <a:moveTo>
                  <a:pt x="0" y="0"/>
                </a:moveTo>
                <a:lnTo>
                  <a:pt x="23987" y="0"/>
                </a:lnTo>
                <a:lnTo>
                  <a:pt x="22587" y="1400"/>
                </a:lnTo>
                <a:lnTo>
                  <a:pt x="1400" y="1400"/>
                </a:lnTo>
                <a:close/>
              </a:path>
              <a:path fill="darken" w="23987" h="21600">
                <a:moveTo>
                  <a:pt x="23987" y="0"/>
                </a:moveTo>
                <a:lnTo>
                  <a:pt x="23987" y="21600"/>
                </a:lnTo>
                <a:lnTo>
                  <a:pt x="22587" y="20200"/>
                </a:lnTo>
                <a:lnTo>
                  <a:pt x="22587" y="1400"/>
                </a:lnTo>
                <a:close/>
              </a:path>
              <a:path fill="darkenLess" w="23987" h="21600">
                <a:moveTo>
                  <a:pt x="2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7" y="20200"/>
                </a:lnTo>
                <a:close/>
              </a:path>
              <a:path fill="lighten" w="2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7" h="21600">
                <a:moveTo>
                  <a:pt x="4987" y="3794"/>
                </a:moveTo>
                <a:lnTo>
                  <a:pt x="19000" y="10800"/>
                </a:lnTo>
                <a:lnTo>
                  <a:pt x="4987" y="17806"/>
                </a:lnTo>
                <a:close/>
              </a:path>
            </a:pathLst>
          </a:custGeom>
          <a:gradFill rotWithShape="0">
            <a:gsLst>
              <a:gs pos="0">
                <a:srgbClr val="83c3ff"/>
              </a:gs>
              <a:gs pos="100000">
                <a:srgbClr val="c4e4ff"/>
              </a:gs>
            </a:gsLst>
            <a:lin ang="16200000"/>
          </a:gradFill>
          <a:ln w="9360">
            <a:solidFill>
              <a:srgbClr val="469fed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restart="whenNotActive" nodeType="interactiveSeq" fill="hold">
                <p:stCondLst>
                  <p:cond evt="onClick">
                    <p:tgtEl>
                      <p:spTgt spid="757"/>
                    </p:tgtEl>
                  </p:cond>
                </p:stCondLst>
                <p:childTnLst>
                  <p:par>
                    <p:cTn id="106" nodeType="clickEffect" fill="hold">
                      <p:stCondLst>
                        <p:cond evt="onClick">
                          <p:tgtEl>
                            <p:spTgt spid="757"/>
                          </p:tgtEl>
                        </p:cond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" dur="500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evt="onClick">
                          <p:tgtEl>
                            <p:spTgt spid="757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764"/>
                    </p:tgtEl>
                  </p:cond>
                </p:stCondLst>
                <p:childTnLst>
                  <p:par>
                    <p:cTn id="127" nodeType="clickEffect" fill="hold">
                      <p:stCondLst>
                        <p:cond evt="onClick">
                          <p:tgtEl>
                            <p:spTgt spid="764"/>
                          </p:tgtEl>
                        </p:cond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38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41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44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8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1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evt="onClick">
                          <p:tgtEl>
                            <p:spTgt spid="764"/>
                          </p:tgtEl>
                        </p:cond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771"/>
                    </p:tgtEl>
                  </p:cond>
                </p:stCondLst>
                <p:childTnLst>
                  <p:par>
                    <p:cTn id="166" nodeType="clickEffect" fill="hold">
                      <p:stCondLst>
                        <p:cond evt="onClick">
                          <p:tgtEl>
                            <p:spTgt spid="771"/>
                          </p:tgtEl>
                        </p:cond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evt="onClick">
                          <p:tgtEl>
                            <p:spTgt spid="771"/>
                          </p:tgtEl>
                        </p:cond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" dur="500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778"/>
                    </p:tgtEl>
                  </p:cond>
                </p:stCondLst>
                <p:childTnLst>
                  <p:par>
                    <p:cTn id="187" nodeType="clickEffect" fill="hold">
                      <p:stCondLst>
                        <p:cond evt="onClick">
                          <p:tgtEl>
                            <p:spTgt spid="778"/>
                          </p:tgtEl>
                        </p:cond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" dur="500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evt="onClick">
                          <p:tgtEl>
                            <p:spTgt spid="778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" dur="500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8" name="Скругленный прямоугольник 2"/>
          <p:cNvGrpSpPr/>
          <p:nvPr/>
        </p:nvGrpSpPr>
        <p:grpSpPr>
          <a:xfrm>
            <a:off x="334800" y="4900680"/>
            <a:ext cx="2195640" cy="1407960"/>
            <a:chOff x="334800" y="4900680"/>
            <a:chExt cx="2195640" cy="1407960"/>
          </a:xfrm>
        </p:grpSpPr>
        <p:pic>
          <p:nvPicPr>
            <p:cNvPr id="789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334800" y="4900680"/>
              <a:ext cx="219564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0" name=""/>
            <p:cNvSpPr/>
            <p:nvPr/>
          </p:nvSpPr>
          <p:spPr>
            <a:xfrm>
              <a:off x="458640" y="5003640"/>
              <a:ext cx="194796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Увы, неверно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91" name="Скругленный прямоугольник 1"/>
          <p:cNvGrpSpPr/>
          <p:nvPr/>
        </p:nvGrpSpPr>
        <p:grpSpPr>
          <a:xfrm>
            <a:off x="334800" y="4919760"/>
            <a:ext cx="2200320" cy="1414440"/>
            <a:chOff x="334800" y="4919760"/>
            <a:chExt cx="2200320" cy="1414440"/>
          </a:xfrm>
        </p:grpSpPr>
        <p:pic>
          <p:nvPicPr>
            <p:cNvPr id="792" name="Скругленный 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334800" y="4919760"/>
              <a:ext cx="220032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"/>
            <p:cNvSpPr/>
            <p:nvPr/>
          </p:nvSpPr>
          <p:spPr>
            <a:xfrm>
              <a:off x="461880" y="5024520"/>
              <a:ext cx="194796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има</a:t>
              </a:r>
              <a:r>
                <a:rPr b="0" lang="ru-RU" sz="3000" spc="-1" strike="noStrike">
                  <a:solidFill>
                    <a:srgbClr val="ffffff"/>
                  </a:solidFill>
                  <a:latin typeface="Bookman Old Style"/>
                </a:rPr>
                <a:t>  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94" name="Скругленный прямоугольник 3"/>
          <p:cNvSpPr/>
          <p:nvPr/>
        </p:nvSpPr>
        <p:spPr>
          <a:xfrm>
            <a:off x="404640" y="4960800"/>
            <a:ext cx="2073600" cy="1285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95" name="Скругленный прямоугольник 4"/>
          <p:cNvGrpSpPr/>
          <p:nvPr/>
        </p:nvGrpSpPr>
        <p:grpSpPr>
          <a:xfrm>
            <a:off x="2438280" y="4906800"/>
            <a:ext cx="2206800" cy="1414800"/>
            <a:chOff x="2438280" y="4906800"/>
            <a:chExt cx="2206800" cy="1414800"/>
          </a:xfrm>
        </p:grpSpPr>
        <p:pic>
          <p:nvPicPr>
            <p:cNvPr id="796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2438280" y="4906800"/>
              <a:ext cx="2206800" cy="14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7" name=""/>
            <p:cNvSpPr/>
            <p:nvPr/>
          </p:nvSpPr>
          <p:spPr>
            <a:xfrm>
              <a:off x="2560680" y="5011560"/>
              <a:ext cx="194796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Правильно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98" name="Скругленный прямоугольник 5"/>
          <p:cNvGrpSpPr/>
          <p:nvPr/>
        </p:nvGrpSpPr>
        <p:grpSpPr>
          <a:xfrm>
            <a:off x="2419200" y="4906800"/>
            <a:ext cx="2202120" cy="1414800"/>
            <a:chOff x="2419200" y="4906800"/>
            <a:chExt cx="2202120" cy="1414800"/>
          </a:xfrm>
        </p:grpSpPr>
        <p:pic>
          <p:nvPicPr>
            <p:cNvPr id="799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2419200" y="4906800"/>
              <a:ext cx="2202120" cy="14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"/>
            <p:cNvSpPr/>
            <p:nvPr/>
          </p:nvSpPr>
          <p:spPr>
            <a:xfrm>
              <a:off x="2546280" y="5011560"/>
              <a:ext cx="194796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есна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01" name="Скругленный прямоугольник 6"/>
          <p:cNvSpPr/>
          <p:nvPr/>
        </p:nvSpPr>
        <p:spPr>
          <a:xfrm>
            <a:off x="2513160" y="4965840"/>
            <a:ext cx="2058840" cy="1285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02" name="Скругленный прямоугольник 8"/>
          <p:cNvGrpSpPr/>
          <p:nvPr/>
        </p:nvGrpSpPr>
        <p:grpSpPr>
          <a:xfrm>
            <a:off x="4541760" y="4900680"/>
            <a:ext cx="2219400" cy="1407960"/>
            <a:chOff x="4541760" y="4900680"/>
            <a:chExt cx="2219400" cy="1407960"/>
          </a:xfrm>
        </p:grpSpPr>
        <p:pic>
          <p:nvPicPr>
            <p:cNvPr id="803" name="Скругленный прямоугольник 8" descr=""/>
            <p:cNvPicPr/>
            <p:nvPr/>
          </p:nvPicPr>
          <p:blipFill>
            <a:blip r:embed="rId5"/>
            <a:stretch/>
          </p:blipFill>
          <p:spPr>
            <a:xfrm>
              <a:off x="4541760" y="4900680"/>
              <a:ext cx="221940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4" name=""/>
            <p:cNvSpPr/>
            <p:nvPr/>
          </p:nvSpPr>
          <p:spPr>
            <a:xfrm>
              <a:off x="4667400" y="5003640"/>
              <a:ext cx="196668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Подумай хорошо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05" name="Скругленный прямоугольник 9"/>
          <p:cNvGrpSpPr/>
          <p:nvPr/>
        </p:nvGrpSpPr>
        <p:grpSpPr>
          <a:xfrm>
            <a:off x="4559400" y="4919760"/>
            <a:ext cx="2182680" cy="1414440"/>
            <a:chOff x="4559400" y="4919760"/>
            <a:chExt cx="2182680" cy="1414440"/>
          </a:xfrm>
        </p:grpSpPr>
        <p:pic>
          <p:nvPicPr>
            <p:cNvPr id="806" name="Скругленный прямоугольник 9" descr=""/>
            <p:cNvPicPr/>
            <p:nvPr/>
          </p:nvPicPr>
          <p:blipFill>
            <a:blip r:embed="rId6"/>
            <a:stretch/>
          </p:blipFill>
          <p:spPr>
            <a:xfrm>
              <a:off x="4559400" y="4919760"/>
              <a:ext cx="21826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>
              <a:off x="4681440" y="5024520"/>
              <a:ext cx="193356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ето</a:t>
              </a:r>
              <a:r>
                <a:rPr b="0" lang="ru-RU" sz="3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08" name="Скругленный прямоугольник 10"/>
          <p:cNvSpPr/>
          <p:nvPr/>
        </p:nvSpPr>
        <p:spPr>
          <a:xfrm>
            <a:off x="4629240" y="4941720"/>
            <a:ext cx="2058840" cy="1285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09" name="Скругленный прямоугольник 11"/>
          <p:cNvGrpSpPr/>
          <p:nvPr/>
        </p:nvGrpSpPr>
        <p:grpSpPr>
          <a:xfrm>
            <a:off x="6649920" y="4906800"/>
            <a:ext cx="2189160" cy="1414800"/>
            <a:chOff x="6649920" y="4906800"/>
            <a:chExt cx="2189160" cy="1414800"/>
          </a:xfrm>
        </p:grpSpPr>
        <p:pic>
          <p:nvPicPr>
            <p:cNvPr id="810" name="Скругленный прямоугольник 11" descr=""/>
            <p:cNvPicPr/>
            <p:nvPr/>
          </p:nvPicPr>
          <p:blipFill>
            <a:blip r:embed="rId7"/>
            <a:stretch/>
          </p:blipFill>
          <p:spPr>
            <a:xfrm>
              <a:off x="6649920" y="4906800"/>
              <a:ext cx="2189160" cy="14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"/>
            <p:cNvSpPr/>
            <p:nvPr/>
          </p:nvSpPr>
          <p:spPr>
            <a:xfrm>
              <a:off x="6777000" y="5013360"/>
              <a:ext cx="19368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Подумай ещё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12" name="Скругленный прямоугольник 12"/>
          <p:cNvGrpSpPr/>
          <p:nvPr/>
        </p:nvGrpSpPr>
        <p:grpSpPr>
          <a:xfrm>
            <a:off x="6669000" y="4906800"/>
            <a:ext cx="2170080" cy="1414800"/>
            <a:chOff x="6669000" y="4906800"/>
            <a:chExt cx="2170080" cy="1414800"/>
          </a:xfrm>
        </p:grpSpPr>
        <p:pic>
          <p:nvPicPr>
            <p:cNvPr id="813" name="Скругленный прямоугольник 12" descr=""/>
            <p:cNvPicPr/>
            <p:nvPr/>
          </p:nvPicPr>
          <p:blipFill>
            <a:blip r:embed="rId8"/>
            <a:stretch/>
          </p:blipFill>
          <p:spPr>
            <a:xfrm>
              <a:off x="6669000" y="4906800"/>
              <a:ext cx="2170080" cy="14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4" name=""/>
            <p:cNvSpPr/>
            <p:nvPr/>
          </p:nvSpPr>
          <p:spPr>
            <a:xfrm>
              <a:off x="6791400" y="5013360"/>
              <a:ext cx="19224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ень</a:t>
              </a:r>
              <a:r>
                <a:rPr b="0" lang="ru-RU" sz="3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15" name="Скругленный прямоугольник 16"/>
          <p:cNvSpPr/>
          <p:nvPr/>
        </p:nvSpPr>
        <p:spPr>
          <a:xfrm>
            <a:off x="6691320" y="4954680"/>
            <a:ext cx="2076480" cy="1285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6" name="Picture 4" descr=""/>
          <p:cNvPicPr/>
          <p:nvPr/>
        </p:nvPicPr>
        <p:blipFill>
          <a:blip r:embed="rId9"/>
          <a:stretch/>
        </p:blipFill>
        <p:spPr>
          <a:xfrm>
            <a:off x="414360" y="2124000"/>
            <a:ext cx="2043000" cy="261000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4" descr=""/>
          <p:cNvPicPr/>
          <p:nvPr/>
        </p:nvPicPr>
        <p:blipFill>
          <a:blip r:embed="rId10"/>
          <a:stretch/>
        </p:blipFill>
        <p:spPr>
          <a:xfrm>
            <a:off x="2513160" y="2108160"/>
            <a:ext cx="2044440" cy="261144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6" descr="Картинка 1 из 197551"/>
          <p:cNvPicPr/>
          <p:nvPr/>
        </p:nvPicPr>
        <p:blipFill>
          <a:blip r:embed="rId11"/>
          <a:stretch/>
        </p:blipFill>
        <p:spPr>
          <a:xfrm>
            <a:off x="4618080" y="2100240"/>
            <a:ext cx="2062080" cy="261936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2" descr=""/>
          <p:cNvPicPr/>
          <p:nvPr/>
        </p:nvPicPr>
        <p:blipFill>
          <a:blip r:embed="rId12"/>
          <a:stretch/>
        </p:blipFill>
        <p:spPr>
          <a:xfrm>
            <a:off x="6727680" y="2100240"/>
            <a:ext cx="2049480" cy="261936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13" descr=""/>
          <p:cNvPicPr/>
          <p:nvPr/>
        </p:nvPicPr>
        <p:blipFill>
          <a:blip r:embed="rId13"/>
          <a:stretch/>
        </p:blipFill>
        <p:spPr>
          <a:xfrm>
            <a:off x="6721560" y="2104920"/>
            <a:ext cx="2047680" cy="261000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15" descr="Картинка 262 из 139476"/>
          <p:cNvPicPr/>
          <p:nvPr/>
        </p:nvPicPr>
        <p:blipFill>
          <a:blip r:embed="rId14"/>
          <a:stretch/>
        </p:blipFill>
        <p:spPr>
          <a:xfrm>
            <a:off x="4618080" y="2100240"/>
            <a:ext cx="2047680" cy="261000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17" descr=""/>
          <p:cNvPicPr/>
          <p:nvPr/>
        </p:nvPicPr>
        <p:blipFill>
          <a:blip r:embed="rId15"/>
          <a:stretch/>
        </p:blipFill>
        <p:spPr>
          <a:xfrm>
            <a:off x="407880" y="2108160"/>
            <a:ext cx="2048040" cy="2610000"/>
          </a:xfrm>
          <a:prstGeom prst="rect">
            <a:avLst/>
          </a:prstGeom>
          <a:ln w="0">
            <a:noFill/>
          </a:ln>
        </p:spPr>
      </p:pic>
      <p:sp>
        <p:nvSpPr>
          <p:cNvPr id="823" name="TextBox 23"/>
          <p:cNvSpPr/>
          <p:nvPr/>
        </p:nvSpPr>
        <p:spPr>
          <a:xfrm>
            <a:off x="2455920" y="620640"/>
            <a:ext cx="415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хлеет, ноздрится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вится серым снег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Управляющая кнопка: далее 24">
            <a:hlinkClick r:id="" action="ppaction://hlinkshowjump?jump=nextslide"/>
          </p:cNvPr>
          <p:cNvSpPr/>
          <p:nvPr/>
        </p:nvSpPr>
        <p:spPr>
          <a:xfrm>
            <a:off x="8820000" y="6562800"/>
            <a:ext cx="289080" cy="260280"/>
          </a:xfrm>
          <a:custGeom>
            <a:avLst/>
            <a:gdLst>
              <a:gd name="textAreaLeft" fmla="*/ 16560 w 289080"/>
              <a:gd name="textAreaRight" fmla="*/ 272520 w 2890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3987" h="21600">
                <a:moveTo>
                  <a:pt x="0" y="0"/>
                </a:moveTo>
                <a:lnTo>
                  <a:pt x="23987" y="0"/>
                </a:lnTo>
                <a:lnTo>
                  <a:pt x="23987" y="21600"/>
                </a:lnTo>
                <a:lnTo>
                  <a:pt x="0" y="21600"/>
                </a:lnTo>
                <a:close/>
              </a:path>
              <a:path fill="lightenLess" w="23987" h="21600">
                <a:moveTo>
                  <a:pt x="0" y="0"/>
                </a:moveTo>
                <a:lnTo>
                  <a:pt x="23987" y="0"/>
                </a:lnTo>
                <a:lnTo>
                  <a:pt x="22587" y="1400"/>
                </a:lnTo>
                <a:lnTo>
                  <a:pt x="1400" y="1400"/>
                </a:lnTo>
                <a:close/>
              </a:path>
              <a:path fill="darken" w="23987" h="21600">
                <a:moveTo>
                  <a:pt x="23987" y="0"/>
                </a:moveTo>
                <a:lnTo>
                  <a:pt x="23987" y="21600"/>
                </a:lnTo>
                <a:lnTo>
                  <a:pt x="22587" y="20200"/>
                </a:lnTo>
                <a:lnTo>
                  <a:pt x="22587" y="1400"/>
                </a:lnTo>
                <a:close/>
              </a:path>
              <a:path fill="darkenLess" w="23987" h="21600">
                <a:moveTo>
                  <a:pt x="2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7" y="20200"/>
                </a:lnTo>
                <a:close/>
              </a:path>
              <a:path fill="lighten" w="2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7" h="21600">
                <a:moveTo>
                  <a:pt x="4987" y="3794"/>
                </a:moveTo>
                <a:lnTo>
                  <a:pt x="19000" y="10800"/>
                </a:lnTo>
                <a:lnTo>
                  <a:pt x="4987" y="17806"/>
                </a:lnTo>
                <a:close/>
              </a:path>
            </a:pathLst>
          </a:custGeom>
          <a:gradFill rotWithShape="0">
            <a:gsLst>
              <a:gs pos="0">
                <a:srgbClr val="83c3ff"/>
              </a:gs>
              <a:gs pos="100000">
                <a:srgbClr val="c4e4ff"/>
              </a:gs>
            </a:gsLst>
            <a:lin ang="16200000"/>
          </a:gradFill>
          <a:ln w="9360">
            <a:solidFill>
              <a:srgbClr val="469fed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restart="whenNotActive" nodeType="interactiveSeq" fill="hold">
                <p:stCondLst>
                  <p:cond evt="onClick">
                    <p:tgtEl>
                      <p:spTgt spid="794"/>
                    </p:tgtEl>
                  </p:cond>
                </p:stCondLst>
                <p:childTnLst>
                  <p:par>
                    <p:cTn id="209" nodeType="clickEffect" fill="hold">
                      <p:stCondLst>
                        <p:cond evt="onClick">
                          <p:tgtEl>
                            <p:spTgt spid="794"/>
                          </p:tgtEl>
                        </p:cond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" dur="500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evt="onClick">
                          <p:tgtEl>
                            <p:spTgt spid="794"/>
                          </p:tgtEl>
                        </p:cond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" dur="500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801"/>
                    </p:tgtEl>
                  </p:cond>
                </p:stCondLst>
                <p:childTnLst>
                  <p:par>
                    <p:cTn id="230" nodeType="clickEffect" fill="hold">
                      <p:stCondLst>
                        <p:cond evt="onClick">
                          <p:tgtEl>
                            <p:spTgt spid="801"/>
                          </p:tgtEl>
                        </p:cond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3" dur="500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41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44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47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1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4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7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evt="onClick">
                          <p:tgtEl>
                            <p:spTgt spid="801"/>
                          </p:tgtEl>
                        </p:cond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1" dur="50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808"/>
                    </p:tgtEl>
                  </p:cond>
                </p:stCondLst>
                <p:childTnLst>
                  <p:par>
                    <p:cTn id="269" nodeType="clickEffect" fill="hold">
                      <p:stCondLst>
                        <p:cond evt="onClick">
                          <p:tgtEl>
                            <p:spTgt spid="808"/>
                          </p:tgtEl>
                        </p:cond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evt="onClick">
                          <p:tgtEl>
                            <p:spTgt spid="808"/>
                          </p:tgtEl>
                        </p:cond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500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815"/>
                    </p:tgtEl>
                  </p:cond>
                </p:stCondLst>
                <p:childTnLst>
                  <p:par>
                    <p:cTn id="290" nodeType="clickEffect" fill="hold">
                      <p:stCondLst>
                        <p:cond evt="onClick">
                          <p:tgtEl>
                            <p:spTgt spid="815"/>
                          </p:tgtEl>
                        </p:cond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evt="onClick">
                          <p:tgtEl>
                            <p:spTgt spid="815"/>
                          </p:tgtEl>
                        </p:cond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3" dur="500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5" name="Скругленный прямоугольник 2"/>
          <p:cNvGrpSpPr/>
          <p:nvPr/>
        </p:nvGrpSpPr>
        <p:grpSpPr>
          <a:xfrm>
            <a:off x="334800" y="4900680"/>
            <a:ext cx="2195640" cy="1407960"/>
            <a:chOff x="334800" y="4900680"/>
            <a:chExt cx="2195640" cy="1407960"/>
          </a:xfrm>
        </p:grpSpPr>
        <p:pic>
          <p:nvPicPr>
            <p:cNvPr id="826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334800" y="4900680"/>
              <a:ext cx="219564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7" name=""/>
            <p:cNvSpPr/>
            <p:nvPr/>
          </p:nvSpPr>
          <p:spPr>
            <a:xfrm>
              <a:off x="458640" y="5003640"/>
              <a:ext cx="194796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Увы, неверно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28" name="Скругленный прямоугольник 1"/>
          <p:cNvGrpSpPr/>
          <p:nvPr/>
        </p:nvGrpSpPr>
        <p:grpSpPr>
          <a:xfrm>
            <a:off x="334800" y="4919760"/>
            <a:ext cx="2200320" cy="1414440"/>
            <a:chOff x="334800" y="4919760"/>
            <a:chExt cx="2200320" cy="1414440"/>
          </a:xfrm>
        </p:grpSpPr>
        <p:pic>
          <p:nvPicPr>
            <p:cNvPr id="829" name="Скругленный 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334800" y="4919760"/>
              <a:ext cx="220032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0" name=""/>
            <p:cNvSpPr/>
            <p:nvPr/>
          </p:nvSpPr>
          <p:spPr>
            <a:xfrm>
              <a:off x="461880" y="5024520"/>
              <a:ext cx="194796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има</a:t>
              </a:r>
              <a:r>
                <a:rPr b="0" lang="ru-RU" sz="3000" spc="-1" strike="noStrike">
                  <a:solidFill>
                    <a:srgbClr val="ffffff"/>
                  </a:solidFill>
                  <a:latin typeface="Bookman Old Style"/>
                </a:rPr>
                <a:t>  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31" name="Скругленный прямоугольник 3"/>
          <p:cNvSpPr/>
          <p:nvPr/>
        </p:nvSpPr>
        <p:spPr>
          <a:xfrm>
            <a:off x="404640" y="4960800"/>
            <a:ext cx="2073600" cy="1285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32" name="Скругленный прямоугольник 4"/>
          <p:cNvGrpSpPr/>
          <p:nvPr/>
        </p:nvGrpSpPr>
        <p:grpSpPr>
          <a:xfrm>
            <a:off x="2438280" y="4906800"/>
            <a:ext cx="2206800" cy="1414800"/>
            <a:chOff x="2438280" y="4906800"/>
            <a:chExt cx="2206800" cy="1414800"/>
          </a:xfrm>
        </p:grpSpPr>
        <p:pic>
          <p:nvPicPr>
            <p:cNvPr id="833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2438280" y="4906800"/>
              <a:ext cx="2206800" cy="14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4" name=""/>
            <p:cNvSpPr/>
            <p:nvPr/>
          </p:nvSpPr>
          <p:spPr>
            <a:xfrm>
              <a:off x="2560680" y="5011560"/>
              <a:ext cx="194796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Правильно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35" name="Скругленный прямоугольник 5"/>
          <p:cNvGrpSpPr/>
          <p:nvPr/>
        </p:nvGrpSpPr>
        <p:grpSpPr>
          <a:xfrm>
            <a:off x="2419200" y="4906800"/>
            <a:ext cx="2202120" cy="1414800"/>
            <a:chOff x="2419200" y="4906800"/>
            <a:chExt cx="2202120" cy="1414800"/>
          </a:xfrm>
        </p:grpSpPr>
        <p:pic>
          <p:nvPicPr>
            <p:cNvPr id="836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2419200" y="4906800"/>
              <a:ext cx="2202120" cy="14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>
              <a:off x="2546280" y="5011560"/>
              <a:ext cx="194796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есна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38" name="Скругленный прямоугольник 6"/>
          <p:cNvSpPr/>
          <p:nvPr/>
        </p:nvSpPr>
        <p:spPr>
          <a:xfrm>
            <a:off x="2513160" y="4965840"/>
            <a:ext cx="2058840" cy="1285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39" name="Скругленный прямоугольник 8"/>
          <p:cNvGrpSpPr/>
          <p:nvPr/>
        </p:nvGrpSpPr>
        <p:grpSpPr>
          <a:xfrm>
            <a:off x="4541760" y="4900680"/>
            <a:ext cx="2219400" cy="1407960"/>
            <a:chOff x="4541760" y="4900680"/>
            <a:chExt cx="2219400" cy="1407960"/>
          </a:xfrm>
        </p:grpSpPr>
        <p:pic>
          <p:nvPicPr>
            <p:cNvPr id="840" name="Скругленный прямоугольник 8" descr=""/>
            <p:cNvPicPr/>
            <p:nvPr/>
          </p:nvPicPr>
          <p:blipFill>
            <a:blip r:embed="rId5"/>
            <a:stretch/>
          </p:blipFill>
          <p:spPr>
            <a:xfrm>
              <a:off x="4541760" y="4900680"/>
              <a:ext cx="221940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>
              <a:off x="4667400" y="5003640"/>
              <a:ext cx="196668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Подумай хорошо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42" name="Скругленный прямоугольник 9"/>
          <p:cNvGrpSpPr/>
          <p:nvPr/>
        </p:nvGrpSpPr>
        <p:grpSpPr>
          <a:xfrm>
            <a:off x="4559400" y="4919760"/>
            <a:ext cx="2182680" cy="1414440"/>
            <a:chOff x="4559400" y="4919760"/>
            <a:chExt cx="2182680" cy="1414440"/>
          </a:xfrm>
        </p:grpSpPr>
        <p:pic>
          <p:nvPicPr>
            <p:cNvPr id="843" name="Скругленный прямоугольник 9" descr=""/>
            <p:cNvPicPr/>
            <p:nvPr/>
          </p:nvPicPr>
          <p:blipFill>
            <a:blip r:embed="rId6"/>
            <a:stretch/>
          </p:blipFill>
          <p:spPr>
            <a:xfrm>
              <a:off x="4559400" y="4919760"/>
              <a:ext cx="21826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4" name=""/>
            <p:cNvSpPr/>
            <p:nvPr/>
          </p:nvSpPr>
          <p:spPr>
            <a:xfrm>
              <a:off x="4681440" y="5024520"/>
              <a:ext cx="193356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ето</a:t>
              </a:r>
              <a:r>
                <a:rPr b="0" lang="ru-RU" sz="3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45" name="Скругленный прямоугольник 10"/>
          <p:cNvSpPr/>
          <p:nvPr/>
        </p:nvSpPr>
        <p:spPr>
          <a:xfrm>
            <a:off x="4629240" y="4941720"/>
            <a:ext cx="2058840" cy="1285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46" name="Скругленный прямоугольник 11"/>
          <p:cNvGrpSpPr/>
          <p:nvPr/>
        </p:nvGrpSpPr>
        <p:grpSpPr>
          <a:xfrm>
            <a:off x="6649920" y="4906800"/>
            <a:ext cx="2189160" cy="1414800"/>
            <a:chOff x="6649920" y="4906800"/>
            <a:chExt cx="2189160" cy="1414800"/>
          </a:xfrm>
        </p:grpSpPr>
        <p:pic>
          <p:nvPicPr>
            <p:cNvPr id="847" name="Скругленный прямоугольник 11" descr=""/>
            <p:cNvPicPr/>
            <p:nvPr/>
          </p:nvPicPr>
          <p:blipFill>
            <a:blip r:embed="rId7"/>
            <a:stretch/>
          </p:blipFill>
          <p:spPr>
            <a:xfrm>
              <a:off x="6649920" y="4906800"/>
              <a:ext cx="2189160" cy="14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8" name=""/>
            <p:cNvSpPr/>
            <p:nvPr/>
          </p:nvSpPr>
          <p:spPr>
            <a:xfrm>
              <a:off x="6777000" y="5013360"/>
              <a:ext cx="19368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Подумай ещё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49" name="Скругленный прямоугольник 12"/>
          <p:cNvGrpSpPr/>
          <p:nvPr/>
        </p:nvGrpSpPr>
        <p:grpSpPr>
          <a:xfrm>
            <a:off x="6669000" y="4906800"/>
            <a:ext cx="2170080" cy="1414800"/>
            <a:chOff x="6669000" y="4906800"/>
            <a:chExt cx="2170080" cy="1414800"/>
          </a:xfrm>
        </p:grpSpPr>
        <p:pic>
          <p:nvPicPr>
            <p:cNvPr id="850" name="Скругленный прямоугольник 12" descr=""/>
            <p:cNvPicPr/>
            <p:nvPr/>
          </p:nvPicPr>
          <p:blipFill>
            <a:blip r:embed="rId8"/>
            <a:stretch/>
          </p:blipFill>
          <p:spPr>
            <a:xfrm>
              <a:off x="6669000" y="4906800"/>
              <a:ext cx="2170080" cy="14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1" name=""/>
            <p:cNvSpPr/>
            <p:nvPr/>
          </p:nvSpPr>
          <p:spPr>
            <a:xfrm>
              <a:off x="6791400" y="5013360"/>
              <a:ext cx="19224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ень</a:t>
              </a:r>
              <a:r>
                <a:rPr b="0" lang="ru-RU" sz="3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52" name="Скругленный прямоугольник 16"/>
          <p:cNvSpPr/>
          <p:nvPr/>
        </p:nvSpPr>
        <p:spPr>
          <a:xfrm>
            <a:off x="6691320" y="4954680"/>
            <a:ext cx="2076480" cy="1285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3" name="Picture 4" descr=""/>
          <p:cNvPicPr/>
          <p:nvPr/>
        </p:nvPicPr>
        <p:blipFill>
          <a:blip r:embed="rId9"/>
          <a:stretch/>
        </p:blipFill>
        <p:spPr>
          <a:xfrm>
            <a:off x="414360" y="2124000"/>
            <a:ext cx="2043000" cy="261000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4" descr=""/>
          <p:cNvPicPr/>
          <p:nvPr/>
        </p:nvPicPr>
        <p:blipFill>
          <a:blip r:embed="rId10"/>
          <a:stretch/>
        </p:blipFill>
        <p:spPr>
          <a:xfrm>
            <a:off x="2513160" y="2108160"/>
            <a:ext cx="2044440" cy="261144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6" descr="Картинка 1 из 197551"/>
          <p:cNvPicPr/>
          <p:nvPr/>
        </p:nvPicPr>
        <p:blipFill>
          <a:blip r:embed="rId11"/>
          <a:stretch/>
        </p:blipFill>
        <p:spPr>
          <a:xfrm>
            <a:off x="4618080" y="2100240"/>
            <a:ext cx="2062080" cy="261936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2" descr=""/>
          <p:cNvPicPr/>
          <p:nvPr/>
        </p:nvPicPr>
        <p:blipFill>
          <a:blip r:embed="rId12"/>
          <a:stretch/>
        </p:blipFill>
        <p:spPr>
          <a:xfrm>
            <a:off x="6727680" y="2100240"/>
            <a:ext cx="2049480" cy="2619360"/>
          </a:xfrm>
          <a:prstGeom prst="rect">
            <a:avLst/>
          </a:prstGeom>
          <a:ln w="0">
            <a:noFill/>
          </a:ln>
        </p:spPr>
      </p:pic>
      <p:pic>
        <p:nvPicPr>
          <p:cNvPr id="857" name="Picture 13" descr=""/>
          <p:cNvPicPr/>
          <p:nvPr/>
        </p:nvPicPr>
        <p:blipFill>
          <a:blip r:embed="rId13"/>
          <a:stretch/>
        </p:blipFill>
        <p:spPr>
          <a:xfrm>
            <a:off x="6721560" y="2104920"/>
            <a:ext cx="2047680" cy="261000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15" descr="Картинка 262 из 139476"/>
          <p:cNvPicPr/>
          <p:nvPr/>
        </p:nvPicPr>
        <p:blipFill>
          <a:blip r:embed="rId14"/>
          <a:stretch/>
        </p:blipFill>
        <p:spPr>
          <a:xfrm>
            <a:off x="4603680" y="2100240"/>
            <a:ext cx="2048040" cy="2610000"/>
          </a:xfrm>
          <a:prstGeom prst="rect">
            <a:avLst/>
          </a:prstGeom>
          <a:ln w="0">
            <a:noFill/>
          </a:ln>
        </p:spPr>
      </p:pic>
      <p:pic>
        <p:nvPicPr>
          <p:cNvPr id="859" name="Picture 17" descr=""/>
          <p:cNvPicPr/>
          <p:nvPr/>
        </p:nvPicPr>
        <p:blipFill>
          <a:blip r:embed="rId15"/>
          <a:stretch/>
        </p:blipFill>
        <p:spPr>
          <a:xfrm>
            <a:off x="407880" y="2108160"/>
            <a:ext cx="2048040" cy="2610000"/>
          </a:xfrm>
          <a:prstGeom prst="rect">
            <a:avLst/>
          </a:prstGeom>
          <a:ln w="0">
            <a:noFill/>
          </a:ln>
        </p:spPr>
      </p:pic>
      <p:sp>
        <p:nvSpPr>
          <p:cNvPr id="860" name="TextBox 23"/>
          <p:cNvSpPr/>
          <p:nvPr/>
        </p:nvSpPr>
        <p:spPr>
          <a:xfrm>
            <a:off x="577800" y="620640"/>
            <a:ext cx="790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ось тайное движение сока в деревьях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ваются поч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Управляющая кнопка: далее 24">
            <a:hlinkClick r:id="" action="ppaction://hlinkshowjump?jump=nextslide"/>
          </p:cNvPr>
          <p:cNvSpPr/>
          <p:nvPr/>
        </p:nvSpPr>
        <p:spPr>
          <a:xfrm>
            <a:off x="8820000" y="6562800"/>
            <a:ext cx="289080" cy="260280"/>
          </a:xfrm>
          <a:custGeom>
            <a:avLst/>
            <a:gdLst>
              <a:gd name="textAreaLeft" fmla="*/ 16560 w 289080"/>
              <a:gd name="textAreaRight" fmla="*/ 272520 w 2890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3987" h="21600">
                <a:moveTo>
                  <a:pt x="0" y="0"/>
                </a:moveTo>
                <a:lnTo>
                  <a:pt x="23987" y="0"/>
                </a:lnTo>
                <a:lnTo>
                  <a:pt x="23987" y="21600"/>
                </a:lnTo>
                <a:lnTo>
                  <a:pt x="0" y="21600"/>
                </a:lnTo>
                <a:close/>
              </a:path>
              <a:path fill="lightenLess" w="23987" h="21600">
                <a:moveTo>
                  <a:pt x="0" y="0"/>
                </a:moveTo>
                <a:lnTo>
                  <a:pt x="23987" y="0"/>
                </a:lnTo>
                <a:lnTo>
                  <a:pt x="22587" y="1400"/>
                </a:lnTo>
                <a:lnTo>
                  <a:pt x="1400" y="1400"/>
                </a:lnTo>
                <a:close/>
              </a:path>
              <a:path fill="darken" w="23987" h="21600">
                <a:moveTo>
                  <a:pt x="23987" y="0"/>
                </a:moveTo>
                <a:lnTo>
                  <a:pt x="23987" y="21600"/>
                </a:lnTo>
                <a:lnTo>
                  <a:pt x="22587" y="20200"/>
                </a:lnTo>
                <a:lnTo>
                  <a:pt x="22587" y="1400"/>
                </a:lnTo>
                <a:close/>
              </a:path>
              <a:path fill="darkenLess" w="23987" h="21600">
                <a:moveTo>
                  <a:pt x="2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7" y="20200"/>
                </a:lnTo>
                <a:close/>
              </a:path>
              <a:path fill="lighten" w="2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7" h="21600">
                <a:moveTo>
                  <a:pt x="4987" y="3794"/>
                </a:moveTo>
                <a:lnTo>
                  <a:pt x="19000" y="10800"/>
                </a:lnTo>
                <a:lnTo>
                  <a:pt x="4987" y="17806"/>
                </a:lnTo>
                <a:close/>
              </a:path>
            </a:pathLst>
          </a:custGeom>
          <a:gradFill rotWithShape="0">
            <a:gsLst>
              <a:gs pos="0">
                <a:srgbClr val="83c3ff"/>
              </a:gs>
              <a:gs pos="100000">
                <a:srgbClr val="c4e4ff"/>
              </a:gs>
            </a:gsLst>
            <a:lin ang="16200000"/>
          </a:gradFill>
          <a:ln w="9360">
            <a:solidFill>
              <a:srgbClr val="469fed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restart="whenNotActive" nodeType="interactiveSeq" fill="hold">
                <p:stCondLst>
                  <p:cond evt="onClick">
                    <p:tgtEl>
                      <p:spTgt spid="831"/>
                    </p:tgtEl>
                  </p:cond>
                </p:stCondLst>
                <p:childTnLst>
                  <p:par>
                    <p:cTn id="312" nodeType="clickEffect" fill="hold">
                      <p:stCondLst>
                        <p:cond evt="onClick">
                          <p:tgtEl>
                            <p:spTgt spid="831"/>
                          </p:tgtEl>
                        </p:cond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" dur="500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evt="onClick">
                          <p:tgtEl>
                            <p:spTgt spid="831"/>
                          </p:tgtEl>
                        </p:cond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5" dur="500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838"/>
                    </p:tgtEl>
                  </p:cond>
                </p:stCondLst>
                <p:childTnLst>
                  <p:par>
                    <p:cTn id="333" nodeType="clickEffect" fill="hold">
                      <p:stCondLst>
                        <p:cond evt="onClick">
                          <p:tgtEl>
                            <p:spTgt spid="838"/>
                          </p:tgtEl>
                        </p:cond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6" dur="500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344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347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350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4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7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0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evt="onClick">
                          <p:tgtEl>
                            <p:spTgt spid="838"/>
                          </p:tgtEl>
                        </p:cond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500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1" restart="whenNotActive" nodeType="interactiveSeq" fill="hold">
                <p:stCondLst>
                  <p:cond evt="onClick">
                    <p:tgtEl>
                      <p:spTgt spid="845"/>
                    </p:tgtEl>
                  </p:cond>
                </p:stCondLst>
                <p:childTnLst>
                  <p:par>
                    <p:cTn id="372" nodeType="clickEffect" fill="hold">
                      <p:stCondLst>
                        <p:cond evt="onClick">
                          <p:tgtEl>
                            <p:spTgt spid="845"/>
                          </p:tgtEl>
                        </p:cond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50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evt="onClick">
                          <p:tgtEl>
                            <p:spTgt spid="845"/>
                          </p:tgtEl>
                        </p:cond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2" restart="whenNotActive" nodeType="interactiveSeq" fill="hold">
                <p:stCondLst>
                  <p:cond evt="onClick">
                    <p:tgtEl>
                      <p:spTgt spid="852"/>
                    </p:tgtEl>
                  </p:cond>
                </p:stCondLst>
                <p:childTnLst>
                  <p:par>
                    <p:cTn id="393" nodeType="clickEffect" fill="hold">
                      <p:stCondLst>
                        <p:cond evt="onClick">
                          <p:tgtEl>
                            <p:spTgt spid="852"/>
                          </p:tgtEl>
                        </p:cond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500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evt="onClick">
                          <p:tgtEl>
                            <p:spTgt spid="852"/>
                          </p:tgtEl>
                        </p:cond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500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Скругленный прямоугольник 2"/>
          <p:cNvGrpSpPr/>
          <p:nvPr/>
        </p:nvGrpSpPr>
        <p:grpSpPr>
          <a:xfrm>
            <a:off x="334800" y="4900680"/>
            <a:ext cx="2195640" cy="1407960"/>
            <a:chOff x="334800" y="4900680"/>
            <a:chExt cx="2195640" cy="1407960"/>
          </a:xfrm>
        </p:grpSpPr>
        <p:pic>
          <p:nvPicPr>
            <p:cNvPr id="863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334800" y="4900680"/>
              <a:ext cx="219564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4" name=""/>
            <p:cNvSpPr/>
            <p:nvPr/>
          </p:nvSpPr>
          <p:spPr>
            <a:xfrm>
              <a:off x="458640" y="5003640"/>
              <a:ext cx="194796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Увы, неверно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65" name="Скругленный прямоугольник 1"/>
          <p:cNvGrpSpPr/>
          <p:nvPr/>
        </p:nvGrpSpPr>
        <p:grpSpPr>
          <a:xfrm>
            <a:off x="334800" y="4919760"/>
            <a:ext cx="2200320" cy="1414440"/>
            <a:chOff x="334800" y="4919760"/>
            <a:chExt cx="2200320" cy="1414440"/>
          </a:xfrm>
        </p:grpSpPr>
        <p:pic>
          <p:nvPicPr>
            <p:cNvPr id="866" name="Скругленный 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334800" y="4919760"/>
              <a:ext cx="220032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>
              <a:off x="461880" y="5024520"/>
              <a:ext cx="194796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има</a:t>
              </a:r>
              <a:r>
                <a:rPr b="0" lang="ru-RU" sz="3000" spc="-1" strike="noStrike">
                  <a:solidFill>
                    <a:srgbClr val="ffffff"/>
                  </a:solidFill>
                  <a:latin typeface="Bookman Old Style"/>
                </a:rPr>
                <a:t>  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68" name="Скругленный прямоугольник 3"/>
          <p:cNvSpPr/>
          <p:nvPr/>
        </p:nvSpPr>
        <p:spPr>
          <a:xfrm>
            <a:off x="404640" y="4960800"/>
            <a:ext cx="2073600" cy="1285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69" name="Скругленный прямоугольник 4"/>
          <p:cNvGrpSpPr/>
          <p:nvPr/>
        </p:nvGrpSpPr>
        <p:grpSpPr>
          <a:xfrm>
            <a:off x="2438280" y="4906800"/>
            <a:ext cx="2206800" cy="1414800"/>
            <a:chOff x="2438280" y="4906800"/>
            <a:chExt cx="2206800" cy="1414800"/>
          </a:xfrm>
        </p:grpSpPr>
        <p:pic>
          <p:nvPicPr>
            <p:cNvPr id="870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2438280" y="4906800"/>
              <a:ext cx="2206800" cy="14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>
              <a:off x="2560680" y="5011560"/>
              <a:ext cx="194796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Правильно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72" name="Скругленный прямоугольник 5"/>
          <p:cNvGrpSpPr/>
          <p:nvPr/>
        </p:nvGrpSpPr>
        <p:grpSpPr>
          <a:xfrm>
            <a:off x="2419200" y="4906800"/>
            <a:ext cx="2202120" cy="1414800"/>
            <a:chOff x="2419200" y="4906800"/>
            <a:chExt cx="2202120" cy="1414800"/>
          </a:xfrm>
        </p:grpSpPr>
        <p:pic>
          <p:nvPicPr>
            <p:cNvPr id="873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2419200" y="4906800"/>
              <a:ext cx="2202120" cy="14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2546280" y="5011560"/>
              <a:ext cx="194796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есна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75" name="Скругленный прямоугольник 6"/>
          <p:cNvSpPr/>
          <p:nvPr/>
        </p:nvSpPr>
        <p:spPr>
          <a:xfrm>
            <a:off x="2513160" y="4965840"/>
            <a:ext cx="2058840" cy="1285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6" name="Скругленный прямоугольник 8"/>
          <p:cNvGrpSpPr/>
          <p:nvPr/>
        </p:nvGrpSpPr>
        <p:grpSpPr>
          <a:xfrm>
            <a:off x="4541760" y="4900680"/>
            <a:ext cx="2219400" cy="1407960"/>
            <a:chOff x="4541760" y="4900680"/>
            <a:chExt cx="2219400" cy="1407960"/>
          </a:xfrm>
        </p:grpSpPr>
        <p:pic>
          <p:nvPicPr>
            <p:cNvPr id="877" name="Скругленный прямоугольник 8" descr=""/>
            <p:cNvPicPr/>
            <p:nvPr/>
          </p:nvPicPr>
          <p:blipFill>
            <a:blip r:embed="rId5"/>
            <a:stretch/>
          </p:blipFill>
          <p:spPr>
            <a:xfrm>
              <a:off x="4541760" y="4900680"/>
              <a:ext cx="221940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8" name=""/>
            <p:cNvSpPr/>
            <p:nvPr/>
          </p:nvSpPr>
          <p:spPr>
            <a:xfrm>
              <a:off x="4667400" y="5003640"/>
              <a:ext cx="196668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Подумай хорошо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79" name="Скругленный прямоугольник 9"/>
          <p:cNvGrpSpPr/>
          <p:nvPr/>
        </p:nvGrpSpPr>
        <p:grpSpPr>
          <a:xfrm>
            <a:off x="4559400" y="4919760"/>
            <a:ext cx="2182680" cy="1414440"/>
            <a:chOff x="4559400" y="4919760"/>
            <a:chExt cx="2182680" cy="1414440"/>
          </a:xfrm>
        </p:grpSpPr>
        <p:pic>
          <p:nvPicPr>
            <p:cNvPr id="880" name="Скругленный прямоугольник 9" descr=""/>
            <p:cNvPicPr/>
            <p:nvPr/>
          </p:nvPicPr>
          <p:blipFill>
            <a:blip r:embed="rId6"/>
            <a:stretch/>
          </p:blipFill>
          <p:spPr>
            <a:xfrm>
              <a:off x="4559400" y="4919760"/>
              <a:ext cx="21826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1" name=""/>
            <p:cNvSpPr/>
            <p:nvPr/>
          </p:nvSpPr>
          <p:spPr>
            <a:xfrm>
              <a:off x="4681440" y="5024520"/>
              <a:ext cx="193356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ето</a:t>
              </a:r>
              <a:r>
                <a:rPr b="0" lang="ru-RU" sz="3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82" name="Скругленный прямоугольник 10"/>
          <p:cNvSpPr/>
          <p:nvPr/>
        </p:nvSpPr>
        <p:spPr>
          <a:xfrm>
            <a:off x="4629240" y="4941720"/>
            <a:ext cx="2058840" cy="1285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83" name="Скругленный прямоугольник 11"/>
          <p:cNvGrpSpPr/>
          <p:nvPr/>
        </p:nvGrpSpPr>
        <p:grpSpPr>
          <a:xfrm>
            <a:off x="6649920" y="4906800"/>
            <a:ext cx="2189160" cy="1414800"/>
            <a:chOff x="6649920" y="4906800"/>
            <a:chExt cx="2189160" cy="1414800"/>
          </a:xfrm>
        </p:grpSpPr>
        <p:pic>
          <p:nvPicPr>
            <p:cNvPr id="884" name="Скругленный прямоугольник 11" descr=""/>
            <p:cNvPicPr/>
            <p:nvPr/>
          </p:nvPicPr>
          <p:blipFill>
            <a:blip r:embed="rId7"/>
            <a:stretch/>
          </p:blipFill>
          <p:spPr>
            <a:xfrm>
              <a:off x="6649920" y="4906800"/>
              <a:ext cx="2189160" cy="14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"/>
            <p:cNvSpPr/>
            <p:nvPr/>
          </p:nvSpPr>
          <p:spPr>
            <a:xfrm>
              <a:off x="6777000" y="5013360"/>
              <a:ext cx="19368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Подумай ещё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86" name="Скругленный прямоугольник 12"/>
          <p:cNvGrpSpPr/>
          <p:nvPr/>
        </p:nvGrpSpPr>
        <p:grpSpPr>
          <a:xfrm>
            <a:off x="6669000" y="4906800"/>
            <a:ext cx="2170080" cy="1414800"/>
            <a:chOff x="6669000" y="4906800"/>
            <a:chExt cx="2170080" cy="1414800"/>
          </a:xfrm>
        </p:grpSpPr>
        <p:pic>
          <p:nvPicPr>
            <p:cNvPr id="887" name="Скругленный прямоугольник 12" descr=""/>
            <p:cNvPicPr/>
            <p:nvPr/>
          </p:nvPicPr>
          <p:blipFill>
            <a:blip r:embed="rId8"/>
            <a:stretch/>
          </p:blipFill>
          <p:spPr>
            <a:xfrm>
              <a:off x="6669000" y="4906800"/>
              <a:ext cx="2170080" cy="14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8" name=""/>
            <p:cNvSpPr/>
            <p:nvPr/>
          </p:nvSpPr>
          <p:spPr>
            <a:xfrm>
              <a:off x="6791400" y="5013360"/>
              <a:ext cx="19224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ень</a:t>
              </a:r>
              <a:r>
                <a:rPr b="0" lang="ru-RU" sz="3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89" name="Скругленный прямоугольник 16"/>
          <p:cNvSpPr/>
          <p:nvPr/>
        </p:nvSpPr>
        <p:spPr>
          <a:xfrm>
            <a:off x="6691320" y="4954680"/>
            <a:ext cx="2076480" cy="1285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0" name="Picture 4" descr=""/>
          <p:cNvPicPr/>
          <p:nvPr/>
        </p:nvPicPr>
        <p:blipFill>
          <a:blip r:embed="rId9"/>
          <a:stretch/>
        </p:blipFill>
        <p:spPr>
          <a:xfrm>
            <a:off x="414360" y="2124000"/>
            <a:ext cx="2043000" cy="2610000"/>
          </a:xfrm>
          <a:prstGeom prst="rect">
            <a:avLst/>
          </a:prstGeom>
          <a:ln w="0">
            <a:noFill/>
          </a:ln>
        </p:spPr>
      </p:pic>
      <p:pic>
        <p:nvPicPr>
          <p:cNvPr id="891" name="Picture 4" descr=""/>
          <p:cNvPicPr/>
          <p:nvPr/>
        </p:nvPicPr>
        <p:blipFill>
          <a:blip r:embed="rId10"/>
          <a:stretch/>
        </p:blipFill>
        <p:spPr>
          <a:xfrm>
            <a:off x="2513160" y="2108160"/>
            <a:ext cx="2044440" cy="2611440"/>
          </a:xfrm>
          <a:prstGeom prst="rect">
            <a:avLst/>
          </a:prstGeom>
          <a:ln w="0">
            <a:noFill/>
          </a:ln>
        </p:spPr>
      </p:pic>
      <p:pic>
        <p:nvPicPr>
          <p:cNvPr id="892" name="Picture 6" descr="Картинка 1 из 197551"/>
          <p:cNvPicPr/>
          <p:nvPr/>
        </p:nvPicPr>
        <p:blipFill>
          <a:blip r:embed="rId11"/>
          <a:stretch/>
        </p:blipFill>
        <p:spPr>
          <a:xfrm>
            <a:off x="4618080" y="2100240"/>
            <a:ext cx="2062080" cy="2619360"/>
          </a:xfrm>
          <a:prstGeom prst="rect">
            <a:avLst/>
          </a:prstGeom>
          <a:ln w="0">
            <a:noFill/>
          </a:ln>
        </p:spPr>
      </p:pic>
      <p:pic>
        <p:nvPicPr>
          <p:cNvPr id="893" name="Picture 2" descr=""/>
          <p:cNvPicPr/>
          <p:nvPr/>
        </p:nvPicPr>
        <p:blipFill>
          <a:blip r:embed="rId12"/>
          <a:stretch/>
        </p:blipFill>
        <p:spPr>
          <a:xfrm>
            <a:off x="6727680" y="2100240"/>
            <a:ext cx="2049480" cy="2619360"/>
          </a:xfrm>
          <a:prstGeom prst="rect">
            <a:avLst/>
          </a:prstGeom>
          <a:ln w="0">
            <a:noFill/>
          </a:ln>
        </p:spPr>
      </p:pic>
      <p:pic>
        <p:nvPicPr>
          <p:cNvPr id="894" name="Picture 13" descr=""/>
          <p:cNvPicPr/>
          <p:nvPr/>
        </p:nvPicPr>
        <p:blipFill>
          <a:blip r:embed="rId13"/>
          <a:stretch/>
        </p:blipFill>
        <p:spPr>
          <a:xfrm>
            <a:off x="6721560" y="2104920"/>
            <a:ext cx="2047680" cy="2610000"/>
          </a:xfrm>
          <a:prstGeom prst="rect">
            <a:avLst/>
          </a:prstGeom>
          <a:ln w="0">
            <a:noFill/>
          </a:ln>
        </p:spPr>
      </p:pic>
      <p:pic>
        <p:nvPicPr>
          <p:cNvPr id="895" name="Picture 15" descr="Картинка 262 из 139476"/>
          <p:cNvPicPr/>
          <p:nvPr/>
        </p:nvPicPr>
        <p:blipFill>
          <a:blip r:embed="rId14"/>
          <a:stretch/>
        </p:blipFill>
        <p:spPr>
          <a:xfrm>
            <a:off x="4603680" y="2104920"/>
            <a:ext cx="2048040" cy="2610000"/>
          </a:xfrm>
          <a:prstGeom prst="rect">
            <a:avLst/>
          </a:prstGeom>
          <a:ln w="0">
            <a:noFill/>
          </a:ln>
        </p:spPr>
      </p:pic>
      <p:pic>
        <p:nvPicPr>
          <p:cNvPr id="896" name="Picture 17" descr=""/>
          <p:cNvPicPr/>
          <p:nvPr/>
        </p:nvPicPr>
        <p:blipFill>
          <a:blip r:embed="rId15"/>
          <a:stretch/>
        </p:blipFill>
        <p:spPr>
          <a:xfrm>
            <a:off x="407880" y="2108160"/>
            <a:ext cx="2048040" cy="2610000"/>
          </a:xfrm>
          <a:prstGeom prst="rect">
            <a:avLst/>
          </a:prstGeom>
          <a:ln w="0">
            <a:noFill/>
          </a:ln>
        </p:spPr>
      </p:pic>
      <p:sp>
        <p:nvSpPr>
          <p:cNvPr id="897" name="TextBox 23"/>
          <p:cNvSpPr/>
          <p:nvPr/>
        </p:nvSpPr>
        <p:spPr>
          <a:xfrm>
            <a:off x="1333800" y="530280"/>
            <a:ext cx="639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ая примета наступления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го времени года – прилёт граче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8" name="Управляющая кнопка: далее 24">
            <a:hlinkClick r:id="" action="ppaction://hlinkshowjump?jump=nextslide"/>
          </p:cNvPr>
          <p:cNvSpPr/>
          <p:nvPr/>
        </p:nvSpPr>
        <p:spPr>
          <a:xfrm>
            <a:off x="8820000" y="6562800"/>
            <a:ext cx="289080" cy="260280"/>
          </a:xfrm>
          <a:custGeom>
            <a:avLst/>
            <a:gdLst>
              <a:gd name="textAreaLeft" fmla="*/ 16560 w 289080"/>
              <a:gd name="textAreaRight" fmla="*/ 272520 w 2890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3987" h="21600">
                <a:moveTo>
                  <a:pt x="0" y="0"/>
                </a:moveTo>
                <a:lnTo>
                  <a:pt x="23987" y="0"/>
                </a:lnTo>
                <a:lnTo>
                  <a:pt x="23987" y="21600"/>
                </a:lnTo>
                <a:lnTo>
                  <a:pt x="0" y="21600"/>
                </a:lnTo>
                <a:close/>
              </a:path>
              <a:path fill="lightenLess" w="23987" h="21600">
                <a:moveTo>
                  <a:pt x="0" y="0"/>
                </a:moveTo>
                <a:lnTo>
                  <a:pt x="23987" y="0"/>
                </a:lnTo>
                <a:lnTo>
                  <a:pt x="22587" y="1400"/>
                </a:lnTo>
                <a:lnTo>
                  <a:pt x="1400" y="1400"/>
                </a:lnTo>
                <a:close/>
              </a:path>
              <a:path fill="darken" w="23987" h="21600">
                <a:moveTo>
                  <a:pt x="23987" y="0"/>
                </a:moveTo>
                <a:lnTo>
                  <a:pt x="23987" y="21600"/>
                </a:lnTo>
                <a:lnTo>
                  <a:pt x="22587" y="20200"/>
                </a:lnTo>
                <a:lnTo>
                  <a:pt x="22587" y="1400"/>
                </a:lnTo>
                <a:close/>
              </a:path>
              <a:path fill="darkenLess" w="23987" h="21600">
                <a:moveTo>
                  <a:pt x="2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7" y="20200"/>
                </a:lnTo>
                <a:close/>
              </a:path>
              <a:path fill="lighten" w="2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7" h="21600">
                <a:moveTo>
                  <a:pt x="4987" y="3794"/>
                </a:moveTo>
                <a:lnTo>
                  <a:pt x="19000" y="10800"/>
                </a:lnTo>
                <a:lnTo>
                  <a:pt x="4987" y="17806"/>
                </a:lnTo>
                <a:close/>
              </a:path>
            </a:pathLst>
          </a:custGeom>
          <a:gradFill rotWithShape="0">
            <a:gsLst>
              <a:gs pos="0">
                <a:srgbClr val="83c3ff"/>
              </a:gs>
              <a:gs pos="100000">
                <a:srgbClr val="c4e4ff"/>
              </a:gs>
            </a:gsLst>
            <a:lin ang="16200000"/>
          </a:gradFill>
          <a:ln w="9360">
            <a:solidFill>
              <a:srgbClr val="469fed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restart="whenNotActive" nodeType="interactiveSeq" fill="hold">
                <p:stCondLst>
                  <p:cond evt="onClick">
                    <p:tgtEl>
                      <p:spTgt spid="868"/>
                    </p:tgtEl>
                  </p:cond>
                </p:stCondLst>
                <p:childTnLst>
                  <p:par>
                    <p:cTn id="415" nodeType="clickEffect" fill="hold">
                      <p:stCondLst>
                        <p:cond evt="onClick">
                          <p:tgtEl>
                            <p:spTgt spid="868"/>
                          </p:tgtEl>
                        </p:cond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500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evt="onClick">
                          <p:tgtEl>
                            <p:spTgt spid="868"/>
                          </p:tgtEl>
                        </p:cond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500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5" restart="whenNotActive" nodeType="interactiveSeq" fill="hold">
                <p:stCondLst>
                  <p:cond evt="onClick">
                    <p:tgtEl>
                      <p:spTgt spid="875"/>
                    </p:tgtEl>
                  </p:cond>
                </p:stCondLst>
                <p:childTnLst>
                  <p:par>
                    <p:cTn id="436" nodeType="clickEffect" fill="hold">
                      <p:stCondLst>
                        <p:cond evt="onClick">
                          <p:tgtEl>
                            <p:spTgt spid="875"/>
                          </p:tgtEl>
                        </p:cond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9" dur="500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447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450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453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7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0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3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evt="onClick">
                          <p:tgtEl>
                            <p:spTgt spid="875"/>
                          </p:tgtEl>
                        </p:cond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7" dur="500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4" restart="whenNotActive" nodeType="interactiveSeq" fill="hold">
                <p:stCondLst>
                  <p:cond evt="onClick">
                    <p:tgtEl>
                      <p:spTgt spid="882"/>
                    </p:tgtEl>
                  </p:cond>
                </p:stCondLst>
                <p:childTnLst>
                  <p:par>
                    <p:cTn id="475" nodeType="clickEffect" fill="hold">
                      <p:stCondLst>
                        <p:cond evt="onClick">
                          <p:tgtEl>
                            <p:spTgt spid="882"/>
                          </p:tgtEl>
                        </p:cond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8" dur="500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evt="onClick">
                          <p:tgtEl>
                            <p:spTgt spid="882"/>
                          </p:tgtEl>
                        </p:cond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8" dur="500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889"/>
                    </p:tgtEl>
                  </p:cond>
                </p:stCondLst>
                <p:childTnLst>
                  <p:par>
                    <p:cTn id="496" nodeType="clickEffect" fill="hold">
                      <p:stCondLst>
                        <p:cond evt="onClick">
                          <p:tgtEl>
                            <p:spTgt spid="889"/>
                          </p:tgtEl>
                        </p:cond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9" dur="500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evt="onClick">
                          <p:tgtEl>
                            <p:spTgt spid="889"/>
                          </p:tgtEl>
                        </p:cond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9" dur="500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9" name="Скругленный прямоугольник 2"/>
          <p:cNvGrpSpPr/>
          <p:nvPr/>
        </p:nvGrpSpPr>
        <p:grpSpPr>
          <a:xfrm>
            <a:off x="334800" y="4900680"/>
            <a:ext cx="2195640" cy="1407960"/>
            <a:chOff x="334800" y="4900680"/>
            <a:chExt cx="2195640" cy="1407960"/>
          </a:xfrm>
        </p:grpSpPr>
        <p:pic>
          <p:nvPicPr>
            <p:cNvPr id="900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334800" y="4900680"/>
              <a:ext cx="219564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1" name=""/>
            <p:cNvSpPr/>
            <p:nvPr/>
          </p:nvSpPr>
          <p:spPr>
            <a:xfrm>
              <a:off x="458640" y="5003640"/>
              <a:ext cx="194796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Увы, неверно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02" name="Скругленный прямоугольник 1"/>
          <p:cNvGrpSpPr/>
          <p:nvPr/>
        </p:nvGrpSpPr>
        <p:grpSpPr>
          <a:xfrm>
            <a:off x="334800" y="4919760"/>
            <a:ext cx="2200320" cy="1414440"/>
            <a:chOff x="334800" y="4919760"/>
            <a:chExt cx="2200320" cy="1414440"/>
          </a:xfrm>
        </p:grpSpPr>
        <p:pic>
          <p:nvPicPr>
            <p:cNvPr id="903" name="Скругленный 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334800" y="4919760"/>
              <a:ext cx="220032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4" name=""/>
            <p:cNvSpPr/>
            <p:nvPr/>
          </p:nvSpPr>
          <p:spPr>
            <a:xfrm>
              <a:off x="461880" y="5024520"/>
              <a:ext cx="194796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има</a:t>
              </a:r>
              <a:r>
                <a:rPr b="0" lang="ru-RU" sz="3000" spc="-1" strike="noStrike">
                  <a:solidFill>
                    <a:srgbClr val="ffffff"/>
                  </a:solidFill>
                  <a:latin typeface="Bookman Old Style"/>
                </a:rPr>
                <a:t>  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05" name="Скругленный прямоугольник 3"/>
          <p:cNvSpPr/>
          <p:nvPr/>
        </p:nvSpPr>
        <p:spPr>
          <a:xfrm>
            <a:off x="404640" y="4960800"/>
            <a:ext cx="2073600" cy="1285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06" name="Скругленный прямоугольник 4"/>
          <p:cNvGrpSpPr/>
          <p:nvPr/>
        </p:nvGrpSpPr>
        <p:grpSpPr>
          <a:xfrm>
            <a:off x="2438280" y="4906800"/>
            <a:ext cx="2206800" cy="1414800"/>
            <a:chOff x="2438280" y="4906800"/>
            <a:chExt cx="2206800" cy="1414800"/>
          </a:xfrm>
        </p:grpSpPr>
        <p:pic>
          <p:nvPicPr>
            <p:cNvPr id="907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2438280" y="4906800"/>
              <a:ext cx="2206800" cy="14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8" name=""/>
            <p:cNvSpPr/>
            <p:nvPr/>
          </p:nvSpPr>
          <p:spPr>
            <a:xfrm>
              <a:off x="2560680" y="5011560"/>
              <a:ext cx="194796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Правильно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09" name="Скругленный прямоугольник 5"/>
          <p:cNvGrpSpPr/>
          <p:nvPr/>
        </p:nvGrpSpPr>
        <p:grpSpPr>
          <a:xfrm>
            <a:off x="2419200" y="4906800"/>
            <a:ext cx="2202120" cy="1414800"/>
            <a:chOff x="2419200" y="4906800"/>
            <a:chExt cx="2202120" cy="1414800"/>
          </a:xfrm>
        </p:grpSpPr>
        <p:pic>
          <p:nvPicPr>
            <p:cNvPr id="910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2419200" y="4906800"/>
              <a:ext cx="2202120" cy="14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1" name=""/>
            <p:cNvSpPr/>
            <p:nvPr/>
          </p:nvSpPr>
          <p:spPr>
            <a:xfrm>
              <a:off x="2546280" y="5011560"/>
              <a:ext cx="194796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есна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12" name="Скругленный прямоугольник 6"/>
          <p:cNvSpPr/>
          <p:nvPr/>
        </p:nvSpPr>
        <p:spPr>
          <a:xfrm>
            <a:off x="2513160" y="4965840"/>
            <a:ext cx="2058840" cy="1285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3" name="Скругленный прямоугольник 8"/>
          <p:cNvGrpSpPr/>
          <p:nvPr/>
        </p:nvGrpSpPr>
        <p:grpSpPr>
          <a:xfrm>
            <a:off x="4541760" y="4900680"/>
            <a:ext cx="2219400" cy="1407960"/>
            <a:chOff x="4541760" y="4900680"/>
            <a:chExt cx="2219400" cy="1407960"/>
          </a:xfrm>
        </p:grpSpPr>
        <p:pic>
          <p:nvPicPr>
            <p:cNvPr id="914" name="Скругленный прямоугольник 8" descr=""/>
            <p:cNvPicPr/>
            <p:nvPr/>
          </p:nvPicPr>
          <p:blipFill>
            <a:blip r:embed="rId5"/>
            <a:stretch/>
          </p:blipFill>
          <p:spPr>
            <a:xfrm>
              <a:off x="4541760" y="4900680"/>
              <a:ext cx="221940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5" name=""/>
            <p:cNvSpPr/>
            <p:nvPr/>
          </p:nvSpPr>
          <p:spPr>
            <a:xfrm>
              <a:off x="4667400" y="5003640"/>
              <a:ext cx="196668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Подумай хорошо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16" name="Скругленный прямоугольник 9"/>
          <p:cNvGrpSpPr/>
          <p:nvPr/>
        </p:nvGrpSpPr>
        <p:grpSpPr>
          <a:xfrm>
            <a:off x="4559400" y="4919760"/>
            <a:ext cx="2182680" cy="1414440"/>
            <a:chOff x="4559400" y="4919760"/>
            <a:chExt cx="2182680" cy="1414440"/>
          </a:xfrm>
        </p:grpSpPr>
        <p:pic>
          <p:nvPicPr>
            <p:cNvPr id="917" name="Скругленный прямоугольник 9" descr=""/>
            <p:cNvPicPr/>
            <p:nvPr/>
          </p:nvPicPr>
          <p:blipFill>
            <a:blip r:embed="rId6"/>
            <a:stretch/>
          </p:blipFill>
          <p:spPr>
            <a:xfrm>
              <a:off x="4559400" y="4919760"/>
              <a:ext cx="21826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>
              <a:off x="4681440" y="5024520"/>
              <a:ext cx="193356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ето</a:t>
              </a:r>
              <a:r>
                <a:rPr b="0" lang="ru-RU" sz="3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19" name="Скругленный прямоугольник 10"/>
          <p:cNvSpPr/>
          <p:nvPr/>
        </p:nvSpPr>
        <p:spPr>
          <a:xfrm>
            <a:off x="4629240" y="4941720"/>
            <a:ext cx="2058840" cy="1285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20" name="Скругленный прямоугольник 11"/>
          <p:cNvGrpSpPr/>
          <p:nvPr/>
        </p:nvGrpSpPr>
        <p:grpSpPr>
          <a:xfrm>
            <a:off x="6649920" y="4906800"/>
            <a:ext cx="2189160" cy="1414800"/>
            <a:chOff x="6649920" y="4906800"/>
            <a:chExt cx="2189160" cy="1414800"/>
          </a:xfrm>
        </p:grpSpPr>
        <p:pic>
          <p:nvPicPr>
            <p:cNvPr id="921" name="Скругленный прямоугольник 11" descr=""/>
            <p:cNvPicPr/>
            <p:nvPr/>
          </p:nvPicPr>
          <p:blipFill>
            <a:blip r:embed="rId7"/>
            <a:stretch/>
          </p:blipFill>
          <p:spPr>
            <a:xfrm>
              <a:off x="6649920" y="4906800"/>
              <a:ext cx="2189160" cy="14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2" name=""/>
            <p:cNvSpPr/>
            <p:nvPr/>
          </p:nvSpPr>
          <p:spPr>
            <a:xfrm>
              <a:off x="6777000" y="5013360"/>
              <a:ext cx="19368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okman Old Style"/>
                </a:rPr>
                <a:t>Подумай ещё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3" name="Скругленный прямоугольник 12"/>
          <p:cNvGrpSpPr/>
          <p:nvPr/>
        </p:nvGrpSpPr>
        <p:grpSpPr>
          <a:xfrm>
            <a:off x="6669000" y="4906800"/>
            <a:ext cx="2170080" cy="1414800"/>
            <a:chOff x="6669000" y="4906800"/>
            <a:chExt cx="2170080" cy="1414800"/>
          </a:xfrm>
        </p:grpSpPr>
        <p:pic>
          <p:nvPicPr>
            <p:cNvPr id="924" name="Скругленный прямоугольник 12" descr=""/>
            <p:cNvPicPr/>
            <p:nvPr/>
          </p:nvPicPr>
          <p:blipFill>
            <a:blip r:embed="rId8"/>
            <a:stretch/>
          </p:blipFill>
          <p:spPr>
            <a:xfrm>
              <a:off x="6669000" y="4906800"/>
              <a:ext cx="2170080" cy="14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5" name=""/>
            <p:cNvSpPr/>
            <p:nvPr/>
          </p:nvSpPr>
          <p:spPr>
            <a:xfrm>
              <a:off x="6791400" y="5013360"/>
              <a:ext cx="19224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ень</a:t>
              </a:r>
              <a:r>
                <a:rPr b="0" lang="ru-RU" sz="3000" spc="-1" strike="noStrike">
                  <a:solidFill>
                    <a:srgbClr val="ffffff"/>
                  </a:solidFill>
                  <a:latin typeface="Bookman Old Style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26" name="Скругленный прямоугольник 16"/>
          <p:cNvSpPr/>
          <p:nvPr/>
        </p:nvSpPr>
        <p:spPr>
          <a:xfrm>
            <a:off x="6691320" y="4954680"/>
            <a:ext cx="2076480" cy="1285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7" name="Picture 4" descr=""/>
          <p:cNvPicPr/>
          <p:nvPr/>
        </p:nvPicPr>
        <p:blipFill>
          <a:blip r:embed="rId9"/>
          <a:stretch/>
        </p:blipFill>
        <p:spPr>
          <a:xfrm>
            <a:off x="414360" y="2124000"/>
            <a:ext cx="2043000" cy="261000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4" descr=""/>
          <p:cNvPicPr/>
          <p:nvPr/>
        </p:nvPicPr>
        <p:blipFill>
          <a:blip r:embed="rId10"/>
          <a:stretch/>
        </p:blipFill>
        <p:spPr>
          <a:xfrm>
            <a:off x="2513160" y="2108160"/>
            <a:ext cx="2044440" cy="26114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6" descr="Картинка 1 из 197551"/>
          <p:cNvPicPr/>
          <p:nvPr/>
        </p:nvPicPr>
        <p:blipFill>
          <a:blip r:embed="rId11"/>
          <a:stretch/>
        </p:blipFill>
        <p:spPr>
          <a:xfrm>
            <a:off x="4618080" y="2100240"/>
            <a:ext cx="2062080" cy="26193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2" descr=""/>
          <p:cNvPicPr/>
          <p:nvPr/>
        </p:nvPicPr>
        <p:blipFill>
          <a:blip r:embed="rId12"/>
          <a:stretch/>
        </p:blipFill>
        <p:spPr>
          <a:xfrm>
            <a:off x="6727680" y="2100240"/>
            <a:ext cx="2049480" cy="26193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3" descr=""/>
          <p:cNvPicPr/>
          <p:nvPr/>
        </p:nvPicPr>
        <p:blipFill>
          <a:blip r:embed="rId13"/>
          <a:stretch/>
        </p:blipFill>
        <p:spPr>
          <a:xfrm>
            <a:off x="6721560" y="2104920"/>
            <a:ext cx="2047680" cy="26100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5" descr="Картинка 262 из 139476"/>
          <p:cNvPicPr/>
          <p:nvPr/>
        </p:nvPicPr>
        <p:blipFill>
          <a:blip r:embed="rId14"/>
          <a:stretch/>
        </p:blipFill>
        <p:spPr>
          <a:xfrm>
            <a:off x="4632480" y="2108160"/>
            <a:ext cx="2047680" cy="261000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7" descr=""/>
          <p:cNvPicPr/>
          <p:nvPr/>
        </p:nvPicPr>
        <p:blipFill>
          <a:blip r:embed="rId15"/>
          <a:stretch/>
        </p:blipFill>
        <p:spPr>
          <a:xfrm>
            <a:off x="407880" y="2108160"/>
            <a:ext cx="2048040" cy="2610000"/>
          </a:xfrm>
          <a:prstGeom prst="rect">
            <a:avLst/>
          </a:prstGeom>
          <a:ln w="0">
            <a:noFill/>
          </a:ln>
        </p:spPr>
      </p:pic>
      <p:sp>
        <p:nvSpPr>
          <p:cNvPr id="934" name="TextBox 23"/>
          <p:cNvSpPr/>
          <p:nvPr/>
        </p:nvSpPr>
        <p:spPr>
          <a:xfrm>
            <a:off x="1287000" y="266760"/>
            <a:ext cx="6488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ова теплые ветры подули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г сползает в глубокий овраг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ак будто на белых ходуля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лужи бежит березняк. (Л. Андреев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Управляющая кнопка: далее 24">
            <a:hlinkClick r:id="" action="ppaction://hlinkshowjump?jump=nextslide"/>
          </p:cNvPr>
          <p:cNvSpPr/>
          <p:nvPr/>
        </p:nvSpPr>
        <p:spPr>
          <a:xfrm>
            <a:off x="8820000" y="6562800"/>
            <a:ext cx="289080" cy="260280"/>
          </a:xfrm>
          <a:custGeom>
            <a:avLst/>
            <a:gdLst>
              <a:gd name="textAreaLeft" fmla="*/ 16560 w 289080"/>
              <a:gd name="textAreaRight" fmla="*/ 272520 w 2890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3987" h="21600">
                <a:moveTo>
                  <a:pt x="0" y="0"/>
                </a:moveTo>
                <a:lnTo>
                  <a:pt x="23987" y="0"/>
                </a:lnTo>
                <a:lnTo>
                  <a:pt x="23987" y="21600"/>
                </a:lnTo>
                <a:lnTo>
                  <a:pt x="0" y="21600"/>
                </a:lnTo>
                <a:close/>
              </a:path>
              <a:path fill="lightenLess" w="23987" h="21600">
                <a:moveTo>
                  <a:pt x="0" y="0"/>
                </a:moveTo>
                <a:lnTo>
                  <a:pt x="23987" y="0"/>
                </a:lnTo>
                <a:lnTo>
                  <a:pt x="22587" y="1400"/>
                </a:lnTo>
                <a:lnTo>
                  <a:pt x="1400" y="1400"/>
                </a:lnTo>
                <a:close/>
              </a:path>
              <a:path fill="darken" w="23987" h="21600">
                <a:moveTo>
                  <a:pt x="23987" y="0"/>
                </a:moveTo>
                <a:lnTo>
                  <a:pt x="23987" y="21600"/>
                </a:lnTo>
                <a:lnTo>
                  <a:pt x="22587" y="20200"/>
                </a:lnTo>
                <a:lnTo>
                  <a:pt x="22587" y="1400"/>
                </a:lnTo>
                <a:close/>
              </a:path>
              <a:path fill="darkenLess" w="23987" h="21600">
                <a:moveTo>
                  <a:pt x="2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7" y="20200"/>
                </a:lnTo>
                <a:close/>
              </a:path>
              <a:path fill="lighten" w="2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7" h="21600">
                <a:moveTo>
                  <a:pt x="4987" y="3794"/>
                </a:moveTo>
                <a:lnTo>
                  <a:pt x="19000" y="10800"/>
                </a:lnTo>
                <a:lnTo>
                  <a:pt x="4987" y="17806"/>
                </a:lnTo>
                <a:close/>
              </a:path>
            </a:pathLst>
          </a:custGeom>
          <a:gradFill rotWithShape="0">
            <a:gsLst>
              <a:gs pos="0">
                <a:srgbClr val="83c3ff"/>
              </a:gs>
              <a:gs pos="100000">
                <a:srgbClr val="c4e4ff"/>
              </a:gs>
            </a:gsLst>
            <a:lin ang="16200000"/>
          </a:gradFill>
          <a:ln w="9360">
            <a:solidFill>
              <a:srgbClr val="469fed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16" dur="indefinite" restart="never" nodeType="tmRoot">
          <p:childTnLst>
            <p:seq>
              <p:cTn id="517" restart="whenNotActive" nodeType="interactiveSeq" fill="hold">
                <p:stCondLst>
                  <p:cond evt="onClick">
                    <p:tgtEl>
                      <p:spTgt spid="905"/>
                    </p:tgtEl>
                  </p:cond>
                </p:stCondLst>
                <p:childTnLst>
                  <p:par>
                    <p:cTn id="518" nodeType="clickEffect" fill="hold">
                      <p:stCondLst>
                        <p:cond evt="onClick">
                          <p:tgtEl>
                            <p:spTgt spid="905"/>
                          </p:tgtEl>
                        </p:cond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1" dur="500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evt="onClick">
                          <p:tgtEl>
                            <p:spTgt spid="905"/>
                          </p:tgtEl>
                        </p:cond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8" restart="whenNotActive" nodeType="interactiveSeq" fill="hold">
                <p:stCondLst>
                  <p:cond evt="onClick">
                    <p:tgtEl>
                      <p:spTgt spid="912"/>
                    </p:tgtEl>
                  </p:cond>
                </p:stCondLst>
                <p:childTnLst>
                  <p:par>
                    <p:cTn id="539" nodeType="clickEffect" fill="hold">
                      <p:stCondLst>
                        <p:cond evt="onClick">
                          <p:tgtEl>
                            <p:spTgt spid="912"/>
                          </p:tgtEl>
                        </p:cond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2" dur="500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550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55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55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0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evt="onClick">
                          <p:tgtEl>
                            <p:spTgt spid="912"/>
                          </p:tgtEl>
                        </p:cond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0" dur="500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7" restart="whenNotActive" nodeType="interactiveSeq" fill="hold">
                <p:stCondLst>
                  <p:cond evt="onClick">
                    <p:tgtEl>
                      <p:spTgt spid="919"/>
                    </p:tgtEl>
                  </p:cond>
                </p:stCondLst>
                <p:childTnLst>
                  <p:par>
                    <p:cTn id="578" nodeType="clickEffect" fill="hold">
                      <p:stCondLst>
                        <p:cond evt="onClick">
                          <p:tgtEl>
                            <p:spTgt spid="919"/>
                          </p:tgtEl>
                        </p:cond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1" dur="500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evt="onClick">
                          <p:tgtEl>
                            <p:spTgt spid="919"/>
                          </p:tgtEl>
                        </p:cond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1" dur="50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8" restart="whenNotActive" nodeType="interactiveSeq" fill="hold">
                <p:stCondLst>
                  <p:cond evt="onClick">
                    <p:tgtEl>
                      <p:spTgt spid="926"/>
                    </p:tgtEl>
                  </p:cond>
                </p:stCondLst>
                <p:childTnLst>
                  <p:par>
                    <p:cTn id="599" nodeType="clickEffect" fill="hold">
                      <p:stCondLst>
                        <p:cond evt="onClick">
                          <p:tgtEl>
                            <p:spTgt spid="926"/>
                          </p:tgtEl>
                        </p:cond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2" dur="500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evt="onClick">
                          <p:tgtEl>
                            <p:spTgt spid="926"/>
                          </p:tgtEl>
                        </p:cond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2" dur="500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Рисунок 5" descr=""/>
          <p:cNvPicPr/>
          <p:nvPr/>
        </p:nvPicPr>
        <p:blipFill>
          <a:blip r:embed="rId1"/>
          <a:stretch/>
        </p:blipFill>
        <p:spPr>
          <a:xfrm>
            <a:off x="431640" y="-52560"/>
            <a:ext cx="8641080" cy="6858000"/>
          </a:xfrm>
          <a:prstGeom prst="rect">
            <a:avLst/>
          </a:prstGeom>
          <a:ln w="0">
            <a:noFill/>
          </a:ln>
        </p:spPr>
      </p:pic>
      <p:pic>
        <p:nvPicPr>
          <p:cNvPr id="937" name="Рисунок 15" descr=""/>
          <p:cNvPicPr/>
          <p:nvPr/>
        </p:nvPicPr>
        <p:blipFill>
          <a:blip r:embed="rId2"/>
          <a:stretch/>
        </p:blipFill>
        <p:spPr>
          <a:xfrm rot="4826400">
            <a:off x="3168720" y="1881000"/>
            <a:ext cx="487080" cy="487440"/>
          </a:xfrm>
          <a:prstGeom prst="rect">
            <a:avLst/>
          </a:prstGeom>
          <a:ln w="0">
            <a:noFill/>
          </a:ln>
        </p:spPr>
      </p:pic>
      <p:pic>
        <p:nvPicPr>
          <p:cNvPr id="938" name="Рисунок 16" descr=""/>
          <p:cNvPicPr/>
          <p:nvPr/>
        </p:nvPicPr>
        <p:blipFill>
          <a:blip r:embed="rId3"/>
          <a:stretch/>
        </p:blipFill>
        <p:spPr>
          <a:xfrm>
            <a:off x="1403280" y="3205080"/>
            <a:ext cx="447840" cy="447840"/>
          </a:xfrm>
          <a:prstGeom prst="rect">
            <a:avLst/>
          </a:prstGeom>
          <a:ln w="0">
            <a:noFill/>
          </a:ln>
        </p:spPr>
      </p:pic>
      <p:pic>
        <p:nvPicPr>
          <p:cNvPr id="939" name="Рисунок 17" descr=""/>
          <p:cNvPicPr/>
          <p:nvPr/>
        </p:nvPicPr>
        <p:blipFill>
          <a:blip r:embed="rId4"/>
          <a:stretch/>
        </p:blipFill>
        <p:spPr>
          <a:xfrm rot="11284800">
            <a:off x="6361200" y="1801440"/>
            <a:ext cx="490320" cy="490680"/>
          </a:xfrm>
          <a:prstGeom prst="rect">
            <a:avLst/>
          </a:prstGeom>
          <a:ln w="0">
            <a:noFill/>
          </a:ln>
        </p:spPr>
      </p:pic>
      <p:pic>
        <p:nvPicPr>
          <p:cNvPr id="940" name="Рисунок 18" descr=""/>
          <p:cNvPicPr/>
          <p:nvPr/>
        </p:nvPicPr>
        <p:blipFill>
          <a:blip r:embed="rId5"/>
          <a:stretch/>
        </p:blipFill>
        <p:spPr>
          <a:xfrm rot="11167800">
            <a:off x="4534920" y="509760"/>
            <a:ext cx="484200" cy="483840"/>
          </a:xfrm>
          <a:prstGeom prst="rect">
            <a:avLst/>
          </a:prstGeom>
          <a:ln w="0">
            <a:noFill/>
          </a:ln>
        </p:spPr>
      </p:pic>
      <p:pic>
        <p:nvPicPr>
          <p:cNvPr id="941" name="Рисунок 19" descr=""/>
          <p:cNvPicPr/>
          <p:nvPr/>
        </p:nvPicPr>
        <p:blipFill>
          <a:blip r:embed="rId6"/>
          <a:stretch/>
        </p:blipFill>
        <p:spPr>
          <a:xfrm rot="7150800">
            <a:off x="2065320" y="1819440"/>
            <a:ext cx="496800" cy="496800"/>
          </a:xfrm>
          <a:prstGeom prst="rect">
            <a:avLst/>
          </a:prstGeom>
          <a:ln w="0">
            <a:noFill/>
          </a:ln>
        </p:spPr>
      </p:pic>
      <p:pic>
        <p:nvPicPr>
          <p:cNvPr id="942" name="Рисунок 20" descr=""/>
          <p:cNvPicPr/>
          <p:nvPr/>
        </p:nvPicPr>
        <p:blipFill>
          <a:blip r:embed="rId7"/>
          <a:stretch/>
        </p:blipFill>
        <p:spPr>
          <a:xfrm rot="10141800">
            <a:off x="7133400" y="2890440"/>
            <a:ext cx="497160" cy="495360"/>
          </a:xfrm>
          <a:prstGeom prst="rect">
            <a:avLst/>
          </a:prstGeom>
          <a:ln w="0">
            <a:noFill/>
          </a:ln>
        </p:spPr>
      </p:pic>
      <p:pic>
        <p:nvPicPr>
          <p:cNvPr id="943" name="Рисунок 21" descr=""/>
          <p:cNvPicPr/>
          <p:nvPr/>
        </p:nvPicPr>
        <p:blipFill>
          <a:blip r:embed="rId8"/>
          <a:stretch/>
        </p:blipFill>
        <p:spPr>
          <a:xfrm>
            <a:off x="2195640" y="3652920"/>
            <a:ext cx="455400" cy="455400"/>
          </a:xfrm>
          <a:prstGeom prst="rect">
            <a:avLst/>
          </a:prstGeom>
          <a:ln w="0">
            <a:noFill/>
          </a:ln>
        </p:spPr>
      </p:pic>
      <p:pic>
        <p:nvPicPr>
          <p:cNvPr id="944" name="Рисунок 22" descr=""/>
          <p:cNvPicPr/>
          <p:nvPr/>
        </p:nvPicPr>
        <p:blipFill>
          <a:blip r:embed="rId9"/>
          <a:stretch/>
        </p:blipFill>
        <p:spPr>
          <a:xfrm rot="4562400">
            <a:off x="5559840" y="3123000"/>
            <a:ext cx="496800" cy="495360"/>
          </a:xfrm>
          <a:prstGeom prst="rect">
            <a:avLst/>
          </a:prstGeom>
          <a:ln w="0">
            <a:noFill/>
          </a:ln>
        </p:spPr>
      </p:pic>
      <p:pic>
        <p:nvPicPr>
          <p:cNvPr id="945" name="Рисунок 23" descr=""/>
          <p:cNvPicPr/>
          <p:nvPr/>
        </p:nvPicPr>
        <p:blipFill>
          <a:blip r:embed="rId10"/>
          <a:stretch/>
        </p:blipFill>
        <p:spPr>
          <a:xfrm rot="5587200">
            <a:off x="5508360" y="2157120"/>
            <a:ext cx="495360" cy="495360"/>
          </a:xfrm>
          <a:prstGeom prst="rect">
            <a:avLst/>
          </a:prstGeom>
          <a:ln w="0">
            <a:noFill/>
          </a:ln>
        </p:spPr>
      </p:pic>
      <p:pic>
        <p:nvPicPr>
          <p:cNvPr id="946" name="Рисунок 24" descr=""/>
          <p:cNvPicPr/>
          <p:nvPr/>
        </p:nvPicPr>
        <p:blipFill>
          <a:blip r:embed="rId11"/>
          <a:stretch/>
        </p:blipFill>
        <p:spPr>
          <a:xfrm rot="10459800">
            <a:off x="7893000" y="3472920"/>
            <a:ext cx="496800" cy="495360"/>
          </a:xfrm>
          <a:prstGeom prst="rect">
            <a:avLst/>
          </a:prstGeom>
          <a:ln w="0">
            <a:noFill/>
          </a:ln>
        </p:spPr>
      </p:pic>
      <p:pic>
        <p:nvPicPr>
          <p:cNvPr id="947" name="Рисунок 25" descr=""/>
          <p:cNvPicPr/>
          <p:nvPr/>
        </p:nvPicPr>
        <p:blipFill>
          <a:blip r:embed="rId12"/>
          <a:stretch/>
        </p:blipFill>
        <p:spPr>
          <a:xfrm rot="1557600">
            <a:off x="1047600" y="3963960"/>
            <a:ext cx="497160" cy="496800"/>
          </a:xfrm>
          <a:prstGeom prst="rect">
            <a:avLst/>
          </a:prstGeom>
          <a:ln w="0">
            <a:noFill/>
          </a:ln>
        </p:spPr>
      </p:pic>
      <p:pic>
        <p:nvPicPr>
          <p:cNvPr id="948" name="Рисунок 26" descr=""/>
          <p:cNvPicPr/>
          <p:nvPr/>
        </p:nvPicPr>
        <p:blipFill>
          <a:blip r:embed="rId13"/>
          <a:stretch/>
        </p:blipFill>
        <p:spPr>
          <a:xfrm rot="10411200">
            <a:off x="2609280" y="1044000"/>
            <a:ext cx="495000" cy="495000"/>
          </a:xfrm>
          <a:prstGeom prst="rect">
            <a:avLst/>
          </a:prstGeom>
          <a:ln w="0">
            <a:noFill/>
          </a:ln>
        </p:spPr>
      </p:pic>
      <p:pic>
        <p:nvPicPr>
          <p:cNvPr id="949" name="Рисунок 27" descr=""/>
          <p:cNvPicPr/>
          <p:nvPr/>
        </p:nvPicPr>
        <p:blipFill>
          <a:blip r:embed="rId14"/>
          <a:stretch/>
        </p:blipFill>
        <p:spPr>
          <a:xfrm rot="6698400">
            <a:off x="1728000" y="2321280"/>
            <a:ext cx="496800" cy="495360"/>
          </a:xfrm>
          <a:prstGeom prst="rect">
            <a:avLst/>
          </a:prstGeom>
          <a:ln w="0">
            <a:noFill/>
          </a:ln>
        </p:spPr>
      </p:pic>
      <p:pic>
        <p:nvPicPr>
          <p:cNvPr id="950" name="Рисунок 28" descr=""/>
          <p:cNvPicPr/>
          <p:nvPr/>
        </p:nvPicPr>
        <p:blipFill>
          <a:blip r:embed="rId15"/>
          <a:stretch/>
        </p:blipFill>
        <p:spPr>
          <a:xfrm rot="5689200">
            <a:off x="6388920" y="2683440"/>
            <a:ext cx="425520" cy="424080"/>
          </a:xfrm>
          <a:prstGeom prst="rect">
            <a:avLst/>
          </a:prstGeom>
          <a:ln w="0">
            <a:noFill/>
          </a:ln>
        </p:spPr>
      </p:pic>
      <p:pic>
        <p:nvPicPr>
          <p:cNvPr id="951" name="Рисунок 29" descr=""/>
          <p:cNvPicPr/>
          <p:nvPr/>
        </p:nvPicPr>
        <p:blipFill>
          <a:blip r:embed="rId16"/>
          <a:stretch/>
        </p:blipFill>
        <p:spPr>
          <a:xfrm rot="9952200">
            <a:off x="2476440" y="2521080"/>
            <a:ext cx="496800" cy="496800"/>
          </a:xfrm>
          <a:prstGeom prst="rect">
            <a:avLst/>
          </a:prstGeom>
          <a:ln w="0">
            <a:noFill/>
          </a:ln>
        </p:spPr>
      </p:pic>
      <p:pic>
        <p:nvPicPr>
          <p:cNvPr id="952" name="Рисунок 30" descr=""/>
          <p:cNvPicPr/>
          <p:nvPr/>
        </p:nvPicPr>
        <p:blipFill>
          <a:blip r:embed="rId17"/>
          <a:stretch/>
        </p:blipFill>
        <p:spPr>
          <a:xfrm rot="9951000">
            <a:off x="4503240" y="1317600"/>
            <a:ext cx="547920" cy="549360"/>
          </a:xfrm>
          <a:prstGeom prst="rect">
            <a:avLst/>
          </a:prstGeom>
          <a:ln w="0">
            <a:noFill/>
          </a:ln>
        </p:spPr>
      </p:pic>
      <p:pic>
        <p:nvPicPr>
          <p:cNvPr id="953" name="Рисунок 31" descr=""/>
          <p:cNvPicPr/>
          <p:nvPr/>
        </p:nvPicPr>
        <p:blipFill>
          <a:blip r:embed="rId18"/>
          <a:stretch/>
        </p:blipFill>
        <p:spPr>
          <a:xfrm rot="8814000">
            <a:off x="3576600" y="446040"/>
            <a:ext cx="511200" cy="512640"/>
          </a:xfrm>
          <a:prstGeom prst="rect">
            <a:avLst/>
          </a:prstGeom>
          <a:ln w="0">
            <a:noFill/>
          </a:ln>
        </p:spPr>
      </p:pic>
      <p:pic>
        <p:nvPicPr>
          <p:cNvPr id="954" name="Рисунок 32" descr=""/>
          <p:cNvPicPr/>
          <p:nvPr/>
        </p:nvPicPr>
        <p:blipFill>
          <a:blip r:embed="rId19"/>
          <a:stretch/>
        </p:blipFill>
        <p:spPr>
          <a:xfrm rot="8718000">
            <a:off x="5761080" y="750600"/>
            <a:ext cx="512640" cy="512640"/>
          </a:xfrm>
          <a:prstGeom prst="rect">
            <a:avLst/>
          </a:prstGeom>
          <a:ln w="0">
            <a:noFill/>
          </a:ln>
        </p:spPr>
      </p:pic>
      <p:pic>
        <p:nvPicPr>
          <p:cNvPr id="955" name="Рисунок 33" descr=""/>
          <p:cNvPicPr/>
          <p:nvPr/>
        </p:nvPicPr>
        <p:blipFill>
          <a:blip r:embed="rId20"/>
          <a:stretch/>
        </p:blipFill>
        <p:spPr>
          <a:xfrm rot="11994600">
            <a:off x="6627960" y="980640"/>
            <a:ext cx="512640" cy="513000"/>
          </a:xfrm>
          <a:prstGeom prst="rect">
            <a:avLst/>
          </a:prstGeom>
          <a:ln w="0">
            <a:noFill/>
          </a:ln>
        </p:spPr>
      </p:pic>
      <p:pic>
        <p:nvPicPr>
          <p:cNvPr id="956" name="Рисунок 34" descr=""/>
          <p:cNvPicPr/>
          <p:nvPr/>
        </p:nvPicPr>
        <p:blipFill>
          <a:blip r:embed="rId21"/>
          <a:stretch/>
        </p:blipFill>
        <p:spPr>
          <a:xfrm rot="10386000">
            <a:off x="3557520" y="2433240"/>
            <a:ext cx="495360" cy="495360"/>
          </a:xfrm>
          <a:prstGeom prst="rect">
            <a:avLst/>
          </a:prstGeom>
          <a:ln w="0">
            <a:noFill/>
          </a:ln>
        </p:spPr>
      </p:pic>
      <p:pic>
        <p:nvPicPr>
          <p:cNvPr id="957" name="Рисунок 35" descr=""/>
          <p:cNvPicPr/>
          <p:nvPr/>
        </p:nvPicPr>
        <p:blipFill>
          <a:blip r:embed="rId22"/>
          <a:stretch/>
        </p:blipFill>
        <p:spPr>
          <a:xfrm rot="3215400">
            <a:off x="3435120" y="1230120"/>
            <a:ext cx="512640" cy="512640"/>
          </a:xfrm>
          <a:prstGeom prst="rect">
            <a:avLst/>
          </a:prstGeom>
          <a:ln w="0">
            <a:noFill/>
          </a:ln>
        </p:spPr>
      </p:pic>
      <p:pic>
        <p:nvPicPr>
          <p:cNvPr id="958" name="Рисунок 36" descr=""/>
          <p:cNvPicPr/>
          <p:nvPr/>
        </p:nvPicPr>
        <p:blipFill>
          <a:blip r:embed="rId23"/>
          <a:stretch/>
        </p:blipFill>
        <p:spPr>
          <a:xfrm rot="11091600">
            <a:off x="5403600" y="266760"/>
            <a:ext cx="512640" cy="512640"/>
          </a:xfrm>
          <a:prstGeom prst="rect">
            <a:avLst/>
          </a:prstGeom>
          <a:ln w="0">
            <a:noFill/>
          </a:ln>
        </p:spPr>
      </p:pic>
      <p:pic>
        <p:nvPicPr>
          <p:cNvPr id="959" name="Рисунок 37" descr=""/>
          <p:cNvPicPr/>
          <p:nvPr/>
        </p:nvPicPr>
        <p:blipFill>
          <a:blip r:embed="rId24"/>
          <a:stretch/>
        </p:blipFill>
        <p:spPr>
          <a:xfrm rot="4583400">
            <a:off x="802800" y="2665080"/>
            <a:ext cx="512640" cy="513000"/>
          </a:xfrm>
          <a:prstGeom prst="rect">
            <a:avLst/>
          </a:prstGeom>
          <a:ln w="0">
            <a:noFill/>
          </a:ln>
        </p:spPr>
      </p:pic>
      <p:pic>
        <p:nvPicPr>
          <p:cNvPr id="960" name="Рисунок 38" descr=""/>
          <p:cNvPicPr/>
          <p:nvPr/>
        </p:nvPicPr>
        <p:blipFill>
          <a:blip r:embed="rId25"/>
          <a:stretch/>
        </p:blipFill>
        <p:spPr>
          <a:xfrm rot="5145000">
            <a:off x="527760" y="3395160"/>
            <a:ext cx="513000" cy="513000"/>
          </a:xfrm>
          <a:prstGeom prst="rect">
            <a:avLst/>
          </a:prstGeom>
          <a:ln w="0">
            <a:noFill/>
          </a:ln>
        </p:spPr>
      </p:pic>
      <p:pic>
        <p:nvPicPr>
          <p:cNvPr id="961" name="Рисунок 39" descr=""/>
          <p:cNvPicPr/>
          <p:nvPr/>
        </p:nvPicPr>
        <p:blipFill>
          <a:blip r:embed="rId26"/>
          <a:stretch/>
        </p:blipFill>
        <p:spPr>
          <a:xfrm>
            <a:off x="4753080" y="1868400"/>
            <a:ext cx="512640" cy="5130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8" descr=""/>
          <p:cNvPicPr/>
          <p:nvPr/>
        </p:nvPicPr>
        <p:blipFill>
          <a:blip r:embed="rId27"/>
          <a:stretch/>
        </p:blipFill>
        <p:spPr>
          <a:xfrm rot="2552400">
            <a:off x="3627000" y="1701720"/>
            <a:ext cx="669960" cy="66996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29" descr=""/>
          <p:cNvPicPr/>
          <p:nvPr/>
        </p:nvPicPr>
        <p:blipFill>
          <a:blip r:embed="rId28"/>
          <a:stretch/>
        </p:blipFill>
        <p:spPr>
          <a:xfrm rot="8178600">
            <a:off x="6573240" y="2120400"/>
            <a:ext cx="669960" cy="66996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30" descr=""/>
          <p:cNvPicPr/>
          <p:nvPr/>
        </p:nvPicPr>
        <p:blipFill>
          <a:blip r:embed="rId29"/>
          <a:stretch/>
        </p:blipFill>
        <p:spPr>
          <a:xfrm>
            <a:off x="1851120" y="2762280"/>
            <a:ext cx="669960" cy="6699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31" descr=""/>
          <p:cNvPicPr/>
          <p:nvPr/>
        </p:nvPicPr>
        <p:blipFill>
          <a:blip r:embed="rId30"/>
          <a:stretch/>
        </p:blipFill>
        <p:spPr>
          <a:xfrm>
            <a:off x="3092400" y="133200"/>
            <a:ext cx="669960" cy="6699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32" descr=""/>
          <p:cNvPicPr/>
          <p:nvPr/>
        </p:nvPicPr>
        <p:blipFill>
          <a:blip r:embed="rId31"/>
          <a:stretch/>
        </p:blipFill>
        <p:spPr>
          <a:xfrm>
            <a:off x="6496200" y="3386160"/>
            <a:ext cx="669600" cy="66996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33" descr=""/>
          <p:cNvPicPr/>
          <p:nvPr/>
        </p:nvPicPr>
        <p:blipFill>
          <a:blip r:embed="rId32"/>
          <a:stretch/>
        </p:blipFill>
        <p:spPr>
          <a:xfrm rot="6759600">
            <a:off x="6205320" y="518760"/>
            <a:ext cx="669960" cy="6699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34" descr=""/>
          <p:cNvPicPr/>
          <p:nvPr/>
        </p:nvPicPr>
        <p:blipFill>
          <a:blip r:embed="rId33"/>
          <a:stretch/>
        </p:blipFill>
        <p:spPr>
          <a:xfrm>
            <a:off x="1668600" y="1312920"/>
            <a:ext cx="669960" cy="66996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35" descr=""/>
          <p:cNvPicPr/>
          <p:nvPr/>
        </p:nvPicPr>
        <p:blipFill>
          <a:blip r:embed="rId34"/>
          <a:stretch/>
        </p:blipFill>
        <p:spPr>
          <a:xfrm rot="4683000">
            <a:off x="5117400" y="1103400"/>
            <a:ext cx="669960" cy="66996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36" descr=""/>
          <p:cNvPicPr/>
          <p:nvPr/>
        </p:nvPicPr>
        <p:blipFill>
          <a:blip r:embed="rId35"/>
          <a:stretch/>
        </p:blipFill>
        <p:spPr>
          <a:xfrm>
            <a:off x="2355840" y="3002040"/>
            <a:ext cx="669960" cy="66996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37" descr=""/>
          <p:cNvPicPr/>
          <p:nvPr/>
        </p:nvPicPr>
        <p:blipFill>
          <a:blip r:embed="rId36"/>
          <a:stretch/>
        </p:blipFill>
        <p:spPr>
          <a:xfrm rot="4725000">
            <a:off x="2441160" y="1449000"/>
            <a:ext cx="669960" cy="6699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38" descr=""/>
          <p:cNvPicPr/>
          <p:nvPr/>
        </p:nvPicPr>
        <p:blipFill>
          <a:blip r:embed="rId37"/>
          <a:stretch/>
        </p:blipFill>
        <p:spPr>
          <a:xfrm rot="6286800">
            <a:off x="3906000" y="61560"/>
            <a:ext cx="669960" cy="66996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39" descr=""/>
          <p:cNvPicPr/>
          <p:nvPr/>
        </p:nvPicPr>
        <p:blipFill>
          <a:blip r:embed="rId38"/>
          <a:stretch/>
        </p:blipFill>
        <p:spPr>
          <a:xfrm rot="20190000">
            <a:off x="1509480" y="3958920"/>
            <a:ext cx="669960" cy="66996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40" descr=""/>
          <p:cNvPicPr/>
          <p:nvPr/>
        </p:nvPicPr>
        <p:blipFill>
          <a:blip r:embed="rId39"/>
          <a:stretch/>
        </p:blipFill>
        <p:spPr>
          <a:xfrm rot="12556200">
            <a:off x="6928920" y="3671280"/>
            <a:ext cx="669960" cy="66996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41" descr=""/>
          <p:cNvPicPr/>
          <p:nvPr/>
        </p:nvPicPr>
        <p:blipFill>
          <a:blip r:embed="rId40"/>
          <a:stretch/>
        </p:blipFill>
        <p:spPr>
          <a:xfrm rot="3718800">
            <a:off x="3962160" y="2246400"/>
            <a:ext cx="669960" cy="66996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42" descr=""/>
          <p:cNvPicPr/>
          <p:nvPr/>
        </p:nvPicPr>
        <p:blipFill>
          <a:blip r:embed="rId41"/>
          <a:stretch/>
        </p:blipFill>
        <p:spPr>
          <a:xfrm rot="2782200">
            <a:off x="2835000" y="471600"/>
            <a:ext cx="669960" cy="66996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43" descr=""/>
          <p:cNvPicPr/>
          <p:nvPr/>
        </p:nvPicPr>
        <p:blipFill>
          <a:blip r:embed="rId42"/>
          <a:stretch/>
        </p:blipFill>
        <p:spPr>
          <a:xfrm rot="11838000">
            <a:off x="7085880" y="2285280"/>
            <a:ext cx="669960" cy="6699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44" descr=""/>
          <p:cNvPicPr/>
          <p:nvPr/>
        </p:nvPicPr>
        <p:blipFill>
          <a:blip r:embed="rId43"/>
          <a:stretch/>
        </p:blipFill>
        <p:spPr>
          <a:xfrm>
            <a:off x="2298600" y="3938760"/>
            <a:ext cx="669960" cy="66960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45" descr=""/>
          <p:cNvPicPr/>
          <p:nvPr/>
        </p:nvPicPr>
        <p:blipFill>
          <a:blip r:embed="rId44"/>
          <a:stretch/>
        </p:blipFill>
        <p:spPr>
          <a:xfrm rot="2828400">
            <a:off x="1068120" y="3519360"/>
            <a:ext cx="669960" cy="66996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46" descr=""/>
          <p:cNvPicPr/>
          <p:nvPr/>
        </p:nvPicPr>
        <p:blipFill>
          <a:blip r:embed="rId45"/>
          <a:stretch/>
        </p:blipFill>
        <p:spPr>
          <a:xfrm rot="11100600">
            <a:off x="7216200" y="3317400"/>
            <a:ext cx="669960" cy="66996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47" descr=""/>
          <p:cNvPicPr/>
          <p:nvPr/>
        </p:nvPicPr>
        <p:blipFill>
          <a:blip r:embed="rId46"/>
          <a:stretch/>
        </p:blipFill>
        <p:spPr>
          <a:xfrm rot="7336800">
            <a:off x="5742720" y="1269720"/>
            <a:ext cx="669960" cy="66996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48" descr=""/>
          <p:cNvPicPr/>
          <p:nvPr/>
        </p:nvPicPr>
        <p:blipFill>
          <a:blip r:embed="rId47"/>
          <a:stretch/>
        </p:blipFill>
        <p:spPr>
          <a:xfrm rot="6558000">
            <a:off x="1204560" y="2442960"/>
            <a:ext cx="669600" cy="66996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49" descr=""/>
          <p:cNvPicPr/>
          <p:nvPr/>
        </p:nvPicPr>
        <p:blipFill>
          <a:blip r:embed="rId48"/>
          <a:stretch/>
        </p:blipFill>
        <p:spPr>
          <a:xfrm rot="12444000">
            <a:off x="7592760" y="3742920"/>
            <a:ext cx="669960" cy="66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5" dur="2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0" dur="2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5" dur="2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8" dur="2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3" dur="2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8" dur="2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3" dur="2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8" dur="2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3" dur="2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8" dur="2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3" dur="2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6" dur="2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1" dur="2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4" dur="2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9" dur="2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4" dur="2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9" dur="2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4" dur="2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9" dur="2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4" dur="2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9" dur="2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4" dur="2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9" dur="2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4" dur="2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9" dur="2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4" dur="2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9" dur="2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4" dur="2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9" dur="2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4" dur="2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9" dur="2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4" dur="2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9" dur="2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4" dur="2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9" dur="2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4" dur="2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9" dur="2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4" dur="2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9" dur="2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4" dur="2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9" dur="2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4" dur="2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9" dur="2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4" dur="2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Picture 2" descr=""/>
          <p:cNvPicPr/>
          <p:nvPr/>
        </p:nvPicPr>
        <p:blipFill>
          <a:blip r:embed="rId1"/>
          <a:stretch/>
        </p:blipFill>
        <p:spPr>
          <a:xfrm>
            <a:off x="6804000" y="260280"/>
            <a:ext cx="185112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17 0.0511 C -0.125 0.06497 -0.12257 0.05642 -0.1309 0.07492 C -0.13333 0.08 -0.14028 0.08809 -0.14028 0.08833 C -0.14375 0.10335 -0.13941 0.08948 -0.14757 0.10127 C -0.1526 0.10821 -0.15434 0.11376 -0.16059 0.11977 C -0.16736 0.13457 -0.16041 0.12278 -0.16979 0.13041 C -0.17812 0.13711 -0.18333 0.14474 -0.19201 0.1489 C -0.19392 0.15075 -0.19548 0.15283 -0.19757 0.15422 C -0.19913 0.15538 -0.20139 0.15538 -0.20295 0.15677 C -0.22239 0.17249 -0.20746 0.16139 -0.21962 0.17526 C -0.22621 0.18289 -0.23385 0.18821 -0.23993 0.19653 C -0.24409 0.20231 -0.24653 0.21018 -0.25104 0.21526 C -0.25451 0.21919 -0.2592 0.22127 -0.26232 0.22567 C -0.27465 0.2437 -0.26823 0.23931 -0.27899 0.24416 C -0.2868 0.25549 -0.29948 0.26544 -0.31024 0.27075 C -0.31545 0.27792 -0.3217 0.27977 -0.32864 0.2837 C -0.33177 0.28809 -0.33385 0.29179 -0.33802 0.29457 C -0.34323 0.29781 -0.34965 0.29757 -0.35468 0.30243 C -0.36632 0.3133 -0.37812 0.32231 -0.39166 0.32625 C -0.3934 0.32879 -0.39479 0.33249 -0.39705 0.33411 C -0.40052 0.33619 -0.40451 0.33526 -0.40816 0.33665 C -0.41389 0.33873 -0.41944 0.3422 -0.42482 0.34474 C -0.43298 0.34867 -0.43958 0.35538 -0.44705 0.36046 C -0.45364 0.36463 -0.46059 0.36717 -0.46736 0.3711 C -0.47413 0.38035 -0.48455 0.38497 -0.49323 0.38983 C -0.49566 0.39422 -0.49774 0.39931 -0.50069 0.40278 C -0.50208 0.40463 -0.50451 0.4044 -0.50625 0.40555 C -0.51458 0.41041 -0.52413 0.41549 -0.53212 0.42151 C -0.55 0.43561 -0.53628 0.42937 -0.55052 0.43445 C -0.55243 0.4363 -0.55399 0.43885 -0.55607 0.44 C -0.5585 0.44162 -0.56128 0.44093 -0.56354 0.44278 C -0.56892 0.44694 -0.57309 0.45665 -0.5783 0.46104 C -0.58576 0.46705 -0.5934 0.47006 -0.60052 0.477 C -0.60764 0.49249 -0.59982 0.47792 -0.61163 0.49041 C -0.61371 0.49249 -0.61493 0.49619 -0.61718 0.49827 C -0.62378 0.50497 -0.63229 0.50867 -0.63923 0.51422 C -0.64982 0.52255 -0.65903 0.53226 -0.67066 0.53781 C -0.68246 0.55075 -0.68489 0.55538 -0.70034 0.55885 C -0.70868 0.56532 -0.71475 0.57272 -0.72257 0.58012 C -0.7276 0.59122 -0.72916 0.60231 -0.73159 0.6148 C -0.73281 0.61989 -0.73333 0.62567 -0.73541 0.63052 C -0.7368 0.63307 -0.73906 0.63838 -0.73906 0.63861 E">
                                      <p:cBhvr>
                                        <p:cTn id="900" dur="7000" fill="hold"/>
                                        <p:tgtEl>
                                          <p:spTgt spid="9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Юлия Гороховская</dc:creator>
  <dc:description/>
  <dc:language>en-US</dc:language>
  <cp:lastModifiedBy>Юлия Гороховская</cp:lastModifiedBy>
  <dcterms:modified xsi:type="dcterms:W3CDTF">2019-04-29T12:48:45Z</dcterms:modified>
  <cp:revision>38</cp:revision>
  <dc:subject/>
  <dc:title>Презентация PowerPoint</dc:title>
</cp:coreProperties>
</file>