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B5F-9940-4480-A882-558F4FE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7AC-6EBF-4442-B953-5F410CCB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1A7F-7931-4636-820D-15CE0703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12C6-9C40-46ED-ACEF-415DC151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8336-2F41-4F5A-BE0A-EFA52A03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60C41-B315-4E69-B41A-739FB40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5ED6F-305E-4BEB-9383-6676BF5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E7735-5E18-46F8-97C6-7D498AA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0650A-F931-4154-ADBA-292B9BBE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471C-6A0F-4239-9E28-86D90934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2FA29-FA76-4A88-BA51-E6243387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C0EB7-3A58-4AF4-8E84-E4C7CCCC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C10-DB8E-4CCE-B83D-89287B5E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C41E8-713D-4653-9CED-81AA59DD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74664-3F8A-4A68-8752-1CD3C4EE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FE982-4EB3-4092-B0B2-785C1E7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7B20F-B89B-49A1-8A58-D100BFA6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B04C-38ED-403F-95F5-2E79044B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7C031-6812-44E1-AC25-9335445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AA5DE-3137-453F-8A7A-C566C4E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6DF7F-2ACA-4E38-9671-78A0D44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A07C-AADF-4F25-A690-4B3D6A83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962B-3BD0-4104-AFD2-5A653B12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3A5-509F-487C-A531-3667A85E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730CF-2650-4DC7-90BB-F966ABFC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B5F9B-2284-4B7D-974F-0837306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126FE-AC03-45B3-B451-DAFD7096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AB563-A672-4EEF-A8AA-F7BA6DF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57D12-CA94-4279-99B1-88B8BAF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E7E1-ADFB-493C-BD25-FDCF388F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AA1F-93C5-4C22-B631-8D3BF26F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F79C1-0329-4154-8C15-B07ECC3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B9AEE-4AB2-42C6-BF16-A10DC61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EF89E-451C-49A2-B09B-EA8F2B9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B73-D218-4D42-9593-B8F41D7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3885-08FE-4D38-BE6A-EFA3150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C847-CACE-4DA2-8BE8-45BD523F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C46E6-FB16-4429-8E26-0EC6C7D4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AFF3E-773E-4A04-99F1-748F3BD9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A4E14-6103-41CA-A472-808932A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7757-D1AA-4C6F-AFC0-4046837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68D79-D28D-44D1-ABC5-E1A7F01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E165-D97E-46FE-AEF8-A2EE4D9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4C27F-7F22-4C72-AECF-59A50BB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34AC1-32AF-4CFB-9C1B-DE321E2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D927-E736-4044-9D6F-E478DEB0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B12F7-6DE3-4DFC-912E-E9B13D4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593CC-B144-4AA5-875D-702B8AB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E639B-313C-4253-B0D9-2D9FFC5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81564-9E5B-4F28-BCEA-4C47B5E7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6E1C1-2CF5-435C-9A6D-4956C944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39305-6BCE-427F-A319-3D2246D1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9CBF9-78DE-4FB6-8A1B-9B32BA7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EA5C0-ED50-45DE-BF2B-7EBA8AD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2BAAB-8F50-495B-A2E8-D4DA911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6DEC0-35DC-4580-A977-9FE2800B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F9B-F613-483E-A341-D43650A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7F028-CFD3-4E36-B854-5DF8F6AE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ED6DB-0147-47C1-B0CC-EE9AF91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A55EE-0CCF-40BB-B430-6682AC1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30DDE-6180-467A-90A7-BA8C568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62540-756A-47CD-9DC5-BDEF4F8C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86EE9-A01D-4491-BD2B-68E323FA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CD655-8A96-4AC8-B48E-E2FB63F2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B61E6-8ACA-47D2-926A-DAAE416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16DAC-5E79-4B47-94ED-8338E67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58537-7B31-4871-B6CE-334AF16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D2D-3584-4F4C-95A2-3F7BFCF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47F03-E0BF-4F45-B371-FEB340F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F60D4-DA14-4980-9010-443FD536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FFC42-C895-49A9-BC93-CED2997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FEF9A-A713-47B7-9C14-2FA6392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D9781-0A68-4911-BFC7-B334F23D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A1A3B-0A0B-47A6-B4EE-7398642E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D89B8-73E9-4541-90DD-18F45FB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1AEF7-09AA-4A5A-9D9B-5DE991CC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47CE7-02C4-4C47-821D-243C7EA8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6B272-B399-4AEB-B192-C62753B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15D-9A65-473A-9B10-912B737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2B36C-B740-475E-B0BD-0042D78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468AA-8360-4085-B6A6-8AA08129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524FF-E902-4FCA-99B4-80D7EAF9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D93C0-933A-4F1A-9AFC-93C91D83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09C85-B95E-4A9B-88E4-FD63D4C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5D1CA-7B82-46E3-821E-787897F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DDDFA-2DAF-4328-B08C-8437798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AEED5-F985-47DC-BFE9-11DF59F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41273-DF46-4180-A649-6CF1E65F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B2C63-3A9D-4F78-AA7F-A0BB37AC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E83B-3EDD-4C50-81F2-F7F72B5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FE78C-E4E4-4605-AF50-6A5D211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FE8DB-917B-496A-8E80-EF3048AF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4F682-A460-4D0C-98A2-D59959E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4F9F2-CC0D-4D38-8A99-D5B26F9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71BB8-B662-4700-870F-564B7F94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33929-04D6-424E-825D-4D4FD882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CCA65-42E4-47E7-A589-99425AB9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CBE18-5B79-46D9-95E2-7DE6CBF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9C3BA-16F5-40C3-A391-FA7D83D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337CE-405D-42DD-88A3-65C6724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E32-F076-40A9-9311-0649DFB8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438E7-055F-4A72-A8B2-E6D2E71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AC76-A3BE-4979-8F33-229AEBF3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0E36E-CE4A-4331-8067-AD511634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0D052-793E-4FE8-90BB-B5FCCE63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CF981-A473-4ACE-84A5-07ED505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FBF17-025F-436E-9251-4F16CDF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F9926-FB19-40E8-8987-908D796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3C220-3A99-41ED-BAF4-1BEFB36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BEFBB-10D7-4A47-B922-288E2B4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25A95-8B55-475E-AA6F-EE4CE65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59B-FA79-4AFA-BD63-4D143B7C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5680-A09D-4FA6-8D1F-138920BF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550F5-6931-4232-B7DA-3F791C35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082FF-28C9-4F11-B13C-FDD0DFD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F1B54A-7CB6-428A-AE2C-C416008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B63DC-E619-4DF9-A5FD-86D75A9F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64701-7D1C-4F6C-8A6A-2DAAB69B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DC07-B659-426E-8F4C-681EB38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C25-2DF5-4783-8359-4DDE7EC2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406D-B00A-4C13-9981-FB9280AA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6AE3-B001-4B96-B8E9-847F8BDE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0A3E-9C99-4E94-8D97-9B36B2E3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EA18-5768-4E38-9014-DCC55AC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6D86-E721-43AE-A967-337BC9B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92FE-4113-4ABE-8434-27C7524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86A4-88CC-4208-AD52-363302E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A3E-49EF-42AE-8857-F7D2752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3067-2B79-4436-AABA-F72FB723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4FF7-12A7-41FA-A905-B10A53E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60B1-8EA7-4E49-9702-68A7818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7596-387F-41A7-8979-AEA6381F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10D6-421D-4216-837B-C24811A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39E9-55A4-431A-A6DE-0289B8E2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60A1-3DDC-47BB-9894-70915B08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7539-B9CE-4FC8-A75E-8A61A8AE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41E1-9931-4636-976D-F4536CFC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1712-70D2-4AEC-A147-93431185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7F6-432B-4F92-9993-D927696C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65FF-4D89-40AE-AA98-9EBB859E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5842-894D-4002-8D01-1039CB12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3709-8BD8-4FFC-8881-77B2D5B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960A-76CD-4FAC-87CB-446F5B0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F7BD-4EB1-4BAC-8198-D07DAD8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F53B-A6EC-4894-9A77-55EFEF55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B35A-0E4A-427D-883C-4CF688DD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2D6D-A4BD-43DA-ADDD-1BCAD8C3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F4AA-18D6-465C-8A0D-4E635B89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C973-9CBC-48F8-B3B6-9FC69E91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ACD-8377-4519-BB8D-03715A1E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C747-8F05-4439-B52B-70A290FD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CB855-3E97-4F10-BBDB-95EFE447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CEB9-2AD2-4FE7-B8B0-46B3287C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0FFB2-ECCC-4BEA-B439-A2E0DF8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018A-4EBA-4562-896E-3492F563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E50F-44BE-4717-8D48-D2F20C3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87C8-81E4-4B56-83D1-1B97733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743C-A6F9-4FC2-964E-056E51B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9D50-F2BF-4953-9758-2E40DE98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52FA-251B-4F43-BDB2-BA3F8DC3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B4B-C4D0-463A-8F4A-CC998A2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1864-FACF-466B-95E0-37D273F0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CCBB-D6D9-4D91-B4D8-F17250FF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771A-0142-4F67-9A02-D1E38833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9FDA-770B-4431-AB48-A780B25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0879-6F11-4DE7-B263-302FBFB5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B9D9-CDCD-4090-B67E-5C297BAE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B3F97-4A7C-4FF0-B095-758A3CA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812F-ECB8-4BEA-8620-1B975AF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63AA-7EB8-4397-9EC4-59E77B3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DA9B-1590-4F7E-8776-10F78D0B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C74-6498-4B68-8EA4-3693727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B24A-13A9-493A-92C8-1518B5CF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1E7E4-352A-405A-AFFC-45414AB8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B785-A527-4FED-86FE-DB3E7DAA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A948-2C77-4080-8D25-02C48E71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1551-0072-4D7D-8615-E58D38D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C3233-0678-420D-9FA5-8F9AE61F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2F21-1BC8-4753-B002-63D4701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2FE5-147D-4181-99AB-DB30A7F7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B3F2-7644-4F42-8379-234DA29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2BCD-24F6-4F7B-BC01-4A6A417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FE0-23EB-4DA6-85E0-273B94A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368E-6111-40CD-9C12-0E93827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A335-93E6-4E86-ABF7-53513FB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60CA8-8AC6-4C92-8289-15AA9970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AEAC-B7A7-482F-B5D9-81B9AC92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2483-5E54-46A9-8D12-72171F0F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AD9D-D9D9-487B-BCC2-2FCC1BE8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A526-DE0F-4A30-B065-1E9BD22F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4563-268F-40F7-8123-0C001B3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932C8-4A11-4B5E-94C3-A0437AB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FC54-87F7-4C8A-B39B-409AB65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B22-FBF3-4C19-9043-9D1CF4A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DA55F-9068-4BFA-9A21-14C44C73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1BD9-8DDD-4725-BD46-FB35F1C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3BCFF-DBB5-4473-8EBF-B507805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63F3-FAE9-4398-AD28-3A331DD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D171-ABE3-4213-AFF2-8ADE150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CEF9-720C-45EF-A063-DF7207C7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BEE2-67A6-44C0-A80B-C92C53A9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D24DD-FE7F-4130-B465-EA57ACC3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059A2-FDB1-461B-AF18-1E8F8408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6272F-6DF5-472E-8929-D6AB216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91AA-CB45-47A5-8115-602AB9DE2E61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BE32-5E40-4ED9-A186-528877D5F9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615-42D4-4B6E-8F0D-3FBB3CB5EB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B2D-AAF5-4A87-B5CB-F15AC3DE28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15F-80B6-459E-8174-2616E6851D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412-910B-4575-B7D7-1E6DA6967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36FF-EC9F-40AF-B314-0AD5CCDE4C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684-CF1D-436B-96EB-F32D5A35A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30CE-A0D5-4300-93BC-2A1679EF86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3EE8-BD87-411B-A17D-376B24B54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0525-7224-4A77-8FE6-192162D746D0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ABD6-C29A-4544-B08F-6AA861DB306F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05F-ADD0-4B81-8EE5-6A56438C8C86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693-930C-4C7F-8281-74D2D877589B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6D80-EE68-481E-9F3E-197B865409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36B-053B-4079-B217-D147820BC7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971D-E345-4D7F-A6CC-824CD32C1E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22.jpe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23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2.png"/><Relationship Id="rId16" Type="http://schemas.openxmlformats.org/officeDocument/2006/relationships/image" Target="../media/image30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0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6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6.png"/><Relationship Id="rId39" Type="http://schemas.openxmlformats.org/officeDocument/2006/relationships/image" Target="../media/image36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6.png"/><Relationship Id="rId47" Type="http://schemas.openxmlformats.org/officeDocument/2006/relationships/image" Target="../media/image36.png"/><Relationship Id="rId48" Type="http://schemas.openxmlformats.org/officeDocument/2006/relationships/image" Target="../media/image36.png"/><Relationship Id="rId4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Заголовок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8521920" cy="27669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457200" y="536400"/>
            <a:ext cx="3780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1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1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0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1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2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4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2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7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8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729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1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732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5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736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8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739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1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1608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749" name="TextBox 23"/>
          <p:cNvSpPr/>
          <p:nvPr/>
        </p:nvSpPr>
        <p:spPr>
          <a:xfrm>
            <a:off x="868320" y="530280"/>
            <a:ext cx="732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ерелётные птицы вернулись домо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ёплых стран, хлопочут на гнёзда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распе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5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4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55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7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4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5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766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8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769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1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2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773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776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8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18080" y="210024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786" name="TextBox 23"/>
          <p:cNvSpPr/>
          <p:nvPr/>
        </p:nvSpPr>
        <p:spPr>
          <a:xfrm>
            <a:off x="632880" y="404640"/>
            <a:ext cx="777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ённая талой водой, тёплыми дождя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ет зелёное платье, с пестрин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х подснеж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1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92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4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5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9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8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9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1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2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03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5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06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8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9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10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2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13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18080" y="210024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23"/>
          <p:cNvSpPr/>
          <p:nvPr/>
        </p:nvSpPr>
        <p:spPr>
          <a:xfrm>
            <a:off x="2455920" y="620640"/>
            <a:ext cx="415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хлеет, ноздритс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серым сне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82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8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829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1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2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83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5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83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8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9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40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43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5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6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47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9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50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2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0024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60" name="TextBox 23"/>
          <p:cNvSpPr/>
          <p:nvPr/>
        </p:nvSpPr>
        <p:spPr>
          <a:xfrm>
            <a:off x="577800" y="620640"/>
            <a:ext cx="79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сь тайное движение сока в деревья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ются поч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4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4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5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86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5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86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8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9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8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2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8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5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77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9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80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2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3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84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6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87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9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0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0492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23"/>
          <p:cNvSpPr/>
          <p:nvPr/>
        </p:nvSpPr>
        <p:spPr>
          <a:xfrm>
            <a:off x="1333800" y="5302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римета наступл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времени года – прилёт грач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900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2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903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5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6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90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9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91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2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3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914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6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917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9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0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921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3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924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6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32480" y="210816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23"/>
          <p:cNvSpPr/>
          <p:nvPr/>
        </p:nvSpPr>
        <p:spPr>
          <a:xfrm>
            <a:off x="1287000" y="266760"/>
            <a:ext cx="648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теплые ветры подул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сползает в глубокий овра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будто на белых ходул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ужи бежит березняк. (Л. Андрее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Рисунок 5" descr=""/>
          <p:cNvPicPr/>
          <p:nvPr/>
        </p:nvPicPr>
        <p:blipFill>
          <a:blip r:embed="rId1"/>
          <a:stretch/>
        </p:blipFill>
        <p:spPr>
          <a:xfrm>
            <a:off x="431640" y="-52560"/>
            <a:ext cx="8641080" cy="685800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15" descr=""/>
          <p:cNvPicPr/>
          <p:nvPr/>
        </p:nvPicPr>
        <p:blipFill>
          <a:blip r:embed="rId2"/>
          <a:stretch/>
        </p:blipFill>
        <p:spPr>
          <a:xfrm rot="4826400">
            <a:off x="3168720" y="1881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938" name="Рисунок 16" descr=""/>
          <p:cNvPicPr/>
          <p:nvPr/>
        </p:nvPicPr>
        <p:blipFill>
          <a:blip r:embed="rId3"/>
          <a:stretch/>
        </p:blipFill>
        <p:spPr>
          <a:xfrm>
            <a:off x="1403280" y="32050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Рисунок 17" descr=""/>
          <p:cNvPicPr/>
          <p:nvPr/>
        </p:nvPicPr>
        <p:blipFill>
          <a:blip r:embed="rId4"/>
          <a:stretch/>
        </p:blipFill>
        <p:spPr>
          <a:xfrm rot="11284800">
            <a:off x="6361200" y="1801440"/>
            <a:ext cx="490320" cy="490680"/>
          </a:xfrm>
          <a:prstGeom prst="rect">
            <a:avLst/>
          </a:prstGeom>
          <a:ln w="0">
            <a:noFill/>
          </a:ln>
        </p:spPr>
      </p:pic>
      <p:pic>
        <p:nvPicPr>
          <p:cNvPr id="940" name="Рисунок 18" descr=""/>
          <p:cNvPicPr/>
          <p:nvPr/>
        </p:nvPicPr>
        <p:blipFill>
          <a:blip r:embed="rId5"/>
          <a:stretch/>
        </p:blipFill>
        <p:spPr>
          <a:xfrm rot="11167800">
            <a:off x="4534920" y="509760"/>
            <a:ext cx="484200" cy="483840"/>
          </a:xfrm>
          <a:prstGeom prst="rect">
            <a:avLst/>
          </a:prstGeom>
          <a:ln w="0">
            <a:noFill/>
          </a:ln>
        </p:spPr>
      </p:pic>
      <p:pic>
        <p:nvPicPr>
          <p:cNvPr id="941" name="Рисунок 19" descr=""/>
          <p:cNvPicPr/>
          <p:nvPr/>
        </p:nvPicPr>
        <p:blipFill>
          <a:blip r:embed="rId6"/>
          <a:stretch/>
        </p:blipFill>
        <p:spPr>
          <a:xfrm rot="7150800">
            <a:off x="2065320" y="18194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942" name="Рисунок 20" descr=""/>
          <p:cNvPicPr/>
          <p:nvPr/>
        </p:nvPicPr>
        <p:blipFill>
          <a:blip r:embed="rId7"/>
          <a:stretch/>
        </p:blipFill>
        <p:spPr>
          <a:xfrm rot="10141800">
            <a:off x="7133400" y="2890440"/>
            <a:ext cx="497160" cy="495360"/>
          </a:xfrm>
          <a:prstGeom prst="rect">
            <a:avLst/>
          </a:prstGeom>
          <a:ln w="0">
            <a:noFill/>
          </a:ln>
        </p:spPr>
      </p:pic>
      <p:pic>
        <p:nvPicPr>
          <p:cNvPr id="943" name="Рисунок 21" descr=""/>
          <p:cNvPicPr/>
          <p:nvPr/>
        </p:nvPicPr>
        <p:blipFill>
          <a:blip r:embed="rId8"/>
          <a:stretch/>
        </p:blipFill>
        <p:spPr>
          <a:xfrm>
            <a:off x="2195640" y="3652920"/>
            <a:ext cx="455400" cy="455400"/>
          </a:xfrm>
          <a:prstGeom prst="rect">
            <a:avLst/>
          </a:prstGeom>
          <a:ln w="0">
            <a:noFill/>
          </a:ln>
        </p:spPr>
      </p:pic>
      <p:pic>
        <p:nvPicPr>
          <p:cNvPr id="944" name="Рисунок 22" descr=""/>
          <p:cNvPicPr/>
          <p:nvPr/>
        </p:nvPicPr>
        <p:blipFill>
          <a:blip r:embed="rId9"/>
          <a:stretch/>
        </p:blipFill>
        <p:spPr>
          <a:xfrm rot="4562400">
            <a:off x="5559840" y="312300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45" name="Рисунок 23" descr=""/>
          <p:cNvPicPr/>
          <p:nvPr/>
        </p:nvPicPr>
        <p:blipFill>
          <a:blip r:embed="rId10"/>
          <a:stretch/>
        </p:blipFill>
        <p:spPr>
          <a:xfrm rot="5587200">
            <a:off x="5508360" y="215712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946" name="Рисунок 24" descr=""/>
          <p:cNvPicPr/>
          <p:nvPr/>
        </p:nvPicPr>
        <p:blipFill>
          <a:blip r:embed="rId11"/>
          <a:stretch/>
        </p:blipFill>
        <p:spPr>
          <a:xfrm rot="10459800">
            <a:off x="7893000" y="347292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47" name="Рисунок 25" descr=""/>
          <p:cNvPicPr/>
          <p:nvPr/>
        </p:nvPicPr>
        <p:blipFill>
          <a:blip r:embed="rId12"/>
          <a:stretch/>
        </p:blipFill>
        <p:spPr>
          <a:xfrm rot="1557600">
            <a:off x="1047600" y="39639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26" descr=""/>
          <p:cNvPicPr/>
          <p:nvPr/>
        </p:nvPicPr>
        <p:blipFill>
          <a:blip r:embed="rId13"/>
          <a:stretch/>
        </p:blipFill>
        <p:spPr>
          <a:xfrm rot="10411200">
            <a:off x="2609280" y="1044000"/>
            <a:ext cx="495000" cy="49500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27" descr=""/>
          <p:cNvPicPr/>
          <p:nvPr/>
        </p:nvPicPr>
        <p:blipFill>
          <a:blip r:embed="rId14"/>
          <a:stretch/>
        </p:blipFill>
        <p:spPr>
          <a:xfrm rot="6698400">
            <a:off x="1728000" y="232128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28" descr=""/>
          <p:cNvPicPr/>
          <p:nvPr/>
        </p:nvPicPr>
        <p:blipFill>
          <a:blip r:embed="rId15"/>
          <a:stretch/>
        </p:blipFill>
        <p:spPr>
          <a:xfrm rot="5689200">
            <a:off x="6388920" y="2683440"/>
            <a:ext cx="425520" cy="42408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29" descr=""/>
          <p:cNvPicPr/>
          <p:nvPr/>
        </p:nvPicPr>
        <p:blipFill>
          <a:blip r:embed="rId16"/>
          <a:stretch/>
        </p:blipFill>
        <p:spPr>
          <a:xfrm rot="9952200">
            <a:off x="2476440" y="252108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30" descr=""/>
          <p:cNvPicPr/>
          <p:nvPr/>
        </p:nvPicPr>
        <p:blipFill>
          <a:blip r:embed="rId17"/>
          <a:stretch/>
        </p:blipFill>
        <p:spPr>
          <a:xfrm rot="9951000">
            <a:off x="4503240" y="1317600"/>
            <a:ext cx="547920" cy="54936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31" descr=""/>
          <p:cNvPicPr/>
          <p:nvPr/>
        </p:nvPicPr>
        <p:blipFill>
          <a:blip r:embed="rId18"/>
          <a:stretch/>
        </p:blipFill>
        <p:spPr>
          <a:xfrm rot="8814000">
            <a:off x="3576600" y="44604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954" name="Рисунок 32" descr=""/>
          <p:cNvPicPr/>
          <p:nvPr/>
        </p:nvPicPr>
        <p:blipFill>
          <a:blip r:embed="rId19"/>
          <a:stretch/>
        </p:blipFill>
        <p:spPr>
          <a:xfrm rot="8718000">
            <a:off x="5761080" y="75060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33" descr=""/>
          <p:cNvPicPr/>
          <p:nvPr/>
        </p:nvPicPr>
        <p:blipFill>
          <a:blip r:embed="rId20"/>
          <a:stretch/>
        </p:blipFill>
        <p:spPr>
          <a:xfrm rot="11994600">
            <a:off x="6627960" y="98064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56" name="Рисунок 34" descr=""/>
          <p:cNvPicPr/>
          <p:nvPr/>
        </p:nvPicPr>
        <p:blipFill>
          <a:blip r:embed="rId21"/>
          <a:stretch/>
        </p:blipFill>
        <p:spPr>
          <a:xfrm rot="10386000">
            <a:off x="3557520" y="24332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957" name="Рисунок 35" descr=""/>
          <p:cNvPicPr/>
          <p:nvPr/>
        </p:nvPicPr>
        <p:blipFill>
          <a:blip r:embed="rId22"/>
          <a:stretch/>
        </p:blipFill>
        <p:spPr>
          <a:xfrm rot="3215400">
            <a:off x="3435120" y="123012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36" descr=""/>
          <p:cNvPicPr/>
          <p:nvPr/>
        </p:nvPicPr>
        <p:blipFill>
          <a:blip r:embed="rId23"/>
          <a:stretch/>
        </p:blipFill>
        <p:spPr>
          <a:xfrm rot="11091600">
            <a:off x="5403600" y="26676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37" descr=""/>
          <p:cNvPicPr/>
          <p:nvPr/>
        </p:nvPicPr>
        <p:blipFill>
          <a:blip r:embed="rId24"/>
          <a:stretch/>
        </p:blipFill>
        <p:spPr>
          <a:xfrm rot="4583400">
            <a:off x="802800" y="266508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60" name="Рисунок 38" descr=""/>
          <p:cNvPicPr/>
          <p:nvPr/>
        </p:nvPicPr>
        <p:blipFill>
          <a:blip r:embed="rId25"/>
          <a:stretch/>
        </p:blipFill>
        <p:spPr>
          <a:xfrm rot="5145000">
            <a:off x="527760" y="3395160"/>
            <a:ext cx="513000" cy="513000"/>
          </a:xfrm>
          <a:prstGeom prst="rect">
            <a:avLst/>
          </a:prstGeom>
          <a:ln w="0">
            <a:noFill/>
          </a:ln>
        </p:spPr>
      </p:pic>
      <p:pic>
        <p:nvPicPr>
          <p:cNvPr id="961" name="Рисунок 39" descr=""/>
          <p:cNvPicPr/>
          <p:nvPr/>
        </p:nvPicPr>
        <p:blipFill>
          <a:blip r:embed="rId26"/>
          <a:stretch/>
        </p:blipFill>
        <p:spPr>
          <a:xfrm>
            <a:off x="4753080" y="186840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8" descr=""/>
          <p:cNvPicPr/>
          <p:nvPr/>
        </p:nvPicPr>
        <p:blipFill>
          <a:blip r:embed="rId27"/>
          <a:stretch/>
        </p:blipFill>
        <p:spPr>
          <a:xfrm rot="2552400">
            <a:off x="3627000" y="17017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9" descr=""/>
          <p:cNvPicPr/>
          <p:nvPr/>
        </p:nvPicPr>
        <p:blipFill>
          <a:blip r:embed="rId28"/>
          <a:stretch/>
        </p:blipFill>
        <p:spPr>
          <a:xfrm rot="8178600">
            <a:off x="6573240" y="2120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0" descr=""/>
          <p:cNvPicPr/>
          <p:nvPr/>
        </p:nvPicPr>
        <p:blipFill>
          <a:blip r:embed="rId29"/>
          <a:stretch/>
        </p:blipFill>
        <p:spPr>
          <a:xfrm>
            <a:off x="1851120" y="2762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31" descr=""/>
          <p:cNvPicPr/>
          <p:nvPr/>
        </p:nvPicPr>
        <p:blipFill>
          <a:blip r:embed="rId30"/>
          <a:stretch/>
        </p:blipFill>
        <p:spPr>
          <a:xfrm>
            <a:off x="3092400" y="1332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32" descr=""/>
          <p:cNvPicPr/>
          <p:nvPr/>
        </p:nvPicPr>
        <p:blipFill>
          <a:blip r:embed="rId31"/>
          <a:stretch/>
        </p:blipFill>
        <p:spPr>
          <a:xfrm>
            <a:off x="6496200" y="3386160"/>
            <a:ext cx="669600" cy="669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3" descr=""/>
          <p:cNvPicPr/>
          <p:nvPr/>
        </p:nvPicPr>
        <p:blipFill>
          <a:blip r:embed="rId32"/>
          <a:stretch/>
        </p:blipFill>
        <p:spPr>
          <a:xfrm rot="6759600">
            <a:off x="6205320" y="5187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4" descr=""/>
          <p:cNvPicPr/>
          <p:nvPr/>
        </p:nvPicPr>
        <p:blipFill>
          <a:blip r:embed="rId33"/>
          <a:stretch/>
        </p:blipFill>
        <p:spPr>
          <a:xfrm>
            <a:off x="1668600" y="1312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5" descr=""/>
          <p:cNvPicPr/>
          <p:nvPr/>
        </p:nvPicPr>
        <p:blipFill>
          <a:blip r:embed="rId34"/>
          <a:stretch/>
        </p:blipFill>
        <p:spPr>
          <a:xfrm rot="4683000">
            <a:off x="5117400" y="1103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6" descr=""/>
          <p:cNvPicPr/>
          <p:nvPr/>
        </p:nvPicPr>
        <p:blipFill>
          <a:blip r:embed="rId35"/>
          <a:stretch/>
        </p:blipFill>
        <p:spPr>
          <a:xfrm>
            <a:off x="2355840" y="3002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7" descr=""/>
          <p:cNvPicPr/>
          <p:nvPr/>
        </p:nvPicPr>
        <p:blipFill>
          <a:blip r:embed="rId36"/>
          <a:stretch/>
        </p:blipFill>
        <p:spPr>
          <a:xfrm rot="4725000">
            <a:off x="2441160" y="14490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38" descr=""/>
          <p:cNvPicPr/>
          <p:nvPr/>
        </p:nvPicPr>
        <p:blipFill>
          <a:blip r:embed="rId37"/>
          <a:stretch/>
        </p:blipFill>
        <p:spPr>
          <a:xfrm rot="6286800">
            <a:off x="3906000" y="615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39" descr=""/>
          <p:cNvPicPr/>
          <p:nvPr/>
        </p:nvPicPr>
        <p:blipFill>
          <a:blip r:embed="rId38"/>
          <a:stretch/>
        </p:blipFill>
        <p:spPr>
          <a:xfrm rot="20190000">
            <a:off x="1509480" y="3958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0" descr=""/>
          <p:cNvPicPr/>
          <p:nvPr/>
        </p:nvPicPr>
        <p:blipFill>
          <a:blip r:embed="rId39"/>
          <a:stretch/>
        </p:blipFill>
        <p:spPr>
          <a:xfrm rot="12556200">
            <a:off x="6928920" y="3671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1" descr=""/>
          <p:cNvPicPr/>
          <p:nvPr/>
        </p:nvPicPr>
        <p:blipFill>
          <a:blip r:embed="rId40"/>
          <a:stretch/>
        </p:blipFill>
        <p:spPr>
          <a:xfrm rot="3718800">
            <a:off x="3962160" y="2246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2" descr=""/>
          <p:cNvPicPr/>
          <p:nvPr/>
        </p:nvPicPr>
        <p:blipFill>
          <a:blip r:embed="rId41"/>
          <a:stretch/>
        </p:blipFill>
        <p:spPr>
          <a:xfrm rot="2782200">
            <a:off x="2835000" y="4716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3" descr=""/>
          <p:cNvPicPr/>
          <p:nvPr/>
        </p:nvPicPr>
        <p:blipFill>
          <a:blip r:embed="rId42"/>
          <a:stretch/>
        </p:blipFill>
        <p:spPr>
          <a:xfrm rot="11838000">
            <a:off x="7085880" y="2285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4" descr=""/>
          <p:cNvPicPr/>
          <p:nvPr/>
        </p:nvPicPr>
        <p:blipFill>
          <a:blip r:embed="rId43"/>
          <a:stretch/>
        </p:blipFill>
        <p:spPr>
          <a:xfrm>
            <a:off x="2298600" y="3938760"/>
            <a:ext cx="669960" cy="669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5" descr=""/>
          <p:cNvPicPr/>
          <p:nvPr/>
        </p:nvPicPr>
        <p:blipFill>
          <a:blip r:embed="rId44"/>
          <a:stretch/>
        </p:blipFill>
        <p:spPr>
          <a:xfrm rot="2828400">
            <a:off x="1068120" y="35193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6" descr=""/>
          <p:cNvPicPr/>
          <p:nvPr/>
        </p:nvPicPr>
        <p:blipFill>
          <a:blip r:embed="rId45"/>
          <a:stretch/>
        </p:blipFill>
        <p:spPr>
          <a:xfrm rot="11100600">
            <a:off x="7216200" y="3317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7" descr=""/>
          <p:cNvPicPr/>
          <p:nvPr/>
        </p:nvPicPr>
        <p:blipFill>
          <a:blip r:embed="rId46"/>
          <a:stretch/>
        </p:blipFill>
        <p:spPr>
          <a:xfrm rot="7336800">
            <a:off x="5742720" y="12697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8" descr=""/>
          <p:cNvPicPr/>
          <p:nvPr/>
        </p:nvPicPr>
        <p:blipFill>
          <a:blip r:embed="rId47"/>
          <a:stretch/>
        </p:blipFill>
        <p:spPr>
          <a:xfrm rot="6558000">
            <a:off x="1204560" y="2442960"/>
            <a:ext cx="669600" cy="669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9" descr=""/>
          <p:cNvPicPr/>
          <p:nvPr/>
        </p:nvPicPr>
        <p:blipFill>
          <a:blip r:embed="rId48"/>
          <a:stretch/>
        </p:blipFill>
        <p:spPr>
          <a:xfrm rot="12444000">
            <a:off x="7592760" y="3742920"/>
            <a:ext cx="6699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5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8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3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6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9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9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4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9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9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4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9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4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8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7 0.0511 C -0.125 0.06497 -0.12257 0.05642 -0.1309 0.07492 C -0.13333 0.08 -0.14028 0.08809 -0.14028 0.08833 C -0.14375 0.10335 -0.13941 0.08948 -0.14757 0.10127 C -0.1526 0.10821 -0.15434 0.11376 -0.16059 0.11977 C -0.16736 0.13457 -0.16041 0.12278 -0.16979 0.13041 C -0.17812 0.13711 -0.18333 0.14474 -0.19201 0.1489 C -0.19392 0.15075 -0.19548 0.15283 -0.19757 0.15422 C -0.19913 0.15538 -0.20139 0.15538 -0.20295 0.15677 C -0.22239 0.17249 -0.20746 0.16139 -0.21962 0.17526 C -0.22621 0.18289 -0.23385 0.18821 -0.23993 0.19653 C -0.24409 0.20231 -0.24653 0.21018 -0.25104 0.21526 C -0.25451 0.21919 -0.2592 0.22127 -0.26232 0.22567 C -0.27465 0.2437 -0.26823 0.23931 -0.27899 0.24416 C -0.2868 0.25549 -0.29948 0.26544 -0.31024 0.27075 C -0.31545 0.27792 -0.3217 0.27977 -0.32864 0.2837 C -0.33177 0.28809 -0.33385 0.29179 -0.33802 0.29457 C -0.34323 0.29781 -0.34965 0.29757 -0.35468 0.30243 C -0.36632 0.3133 -0.37812 0.32231 -0.39166 0.32625 C -0.3934 0.32879 -0.39479 0.33249 -0.39705 0.33411 C -0.40052 0.33619 -0.40451 0.33526 -0.40816 0.33665 C -0.41389 0.33873 -0.41944 0.3422 -0.42482 0.34474 C -0.43298 0.34867 -0.43958 0.35538 -0.44705 0.36046 C -0.45364 0.36463 -0.46059 0.36717 -0.46736 0.3711 C -0.47413 0.38035 -0.48455 0.38497 -0.49323 0.38983 C -0.49566 0.39422 -0.49774 0.39931 -0.50069 0.40278 C -0.50208 0.40463 -0.50451 0.4044 -0.50625 0.40555 C -0.51458 0.41041 -0.52413 0.41549 -0.53212 0.42151 C -0.55 0.43561 -0.53628 0.42937 -0.55052 0.43445 C -0.55243 0.4363 -0.55399 0.43885 -0.55607 0.44 C -0.5585 0.44162 -0.56128 0.44093 -0.56354 0.44278 C -0.56892 0.44694 -0.57309 0.45665 -0.5783 0.46104 C -0.58576 0.46705 -0.5934 0.47006 -0.60052 0.477 C -0.60764 0.49249 -0.59982 0.47792 -0.61163 0.49041 C -0.61371 0.49249 -0.61493 0.49619 -0.61718 0.49827 C -0.62378 0.50497 -0.63229 0.50867 -0.63923 0.51422 C -0.64982 0.52255 -0.65903 0.53226 -0.67066 0.53781 C -0.68246 0.55075 -0.68489 0.55538 -0.70034 0.55885 C -0.70868 0.56532 -0.71475 0.57272 -0.72257 0.58012 C -0.7276 0.59122 -0.72916 0.60231 -0.73159 0.6148 C -0.73281 0.61989 -0.73333 0.62567 -0.73541 0.63052 C -0.7368 0.63307 -0.73906 0.63838 -0.73906 0.63861 E">
                                      <p:cBhvr>
                                        <p:cTn id="900" dur="7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 Гороховская</dc:creator>
  <dc:description/>
  <dc:language>en-US</dc:language>
  <cp:lastModifiedBy>Юлия Гороховская</cp:lastModifiedBy>
  <dcterms:modified xsi:type="dcterms:W3CDTF">2019-04-29T12:48:45Z</dcterms:modified>
  <cp:revision>38</cp:revision>
  <dc:subject/>
  <dc:title>Презентация PowerPoint</dc:title>
</cp:coreProperties>
</file>