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F14-9431-4022-846D-F17E81DD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30A-B88C-4D34-A6AE-3770AD3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B92-19B8-4197-B540-A3DC4FBF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F0F-FB8A-4A06-98F0-55AB304F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A33-CF48-48FF-97DE-9529A23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680-2D41-4143-9C45-34C8BB4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398-ED63-4308-8C50-8BDB19D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0E5-9319-4678-B1D8-80CF1F6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610-6E8D-41B2-8685-7C33ED8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37F-E2B6-4B29-82A7-1825A34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720-7FFB-4386-B9D3-EF2C34D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DB0-6EE3-4619-BEA5-18D073E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5CE0-5FF4-4C8E-A174-826CAB2C3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 ВВОДА  И ВЫВОДА 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4"/>
          <p:cNvSpPr/>
          <p:nvPr/>
        </p:nvSpPr>
        <p:spPr>
          <a:xfrm>
            <a:off x="250920" y="1125360"/>
            <a:ext cx="8642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используются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используются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исходных данных и вывод результатов должны быть организова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но и удоб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это обеспечивает дружественность пользователь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1"/>
          <p:cNvSpPr/>
          <p:nvPr/>
        </p:nvSpPr>
        <p:spPr>
          <a:xfrm>
            <a:off x="539640" y="18334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о врем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ввод значения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4"/>
          <p:cNvSpPr/>
          <p:nvPr/>
        </p:nvSpPr>
        <p:spPr>
          <a:xfrm>
            <a:off x="539640" y="183348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м переменн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,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присв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 значения 10, 20 и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 ввода, соответствующий вх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0 10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0 2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 30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5"/>
          <p:cNvSpPr/>
          <p:nvPr/>
        </p:nvSpPr>
        <p:spPr>
          <a:xfrm>
            <a:off x="539640" y="18334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переменные, необходимые для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 треугольника по его трём сторонам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66"/>
          <p:cNvSpPr/>
          <p:nvPr/>
        </p:nvSpPr>
        <p:spPr>
          <a:xfrm>
            <a:off x="539640" y="1833480"/>
            <a:ext cx="8353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выполнения о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=',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67"/>
          <p:cNvSpPr/>
          <p:nvPr/>
        </p:nvSpPr>
        <p:spPr>
          <a:xfrm>
            <a:off x="611280" y="141300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тип имее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осле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ран было выведено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.25Е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8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ожно вывести на экран веще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формате с фиксированной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9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ы ввода двух чисел и вывода и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0"/>
          <p:cNvSpPr/>
          <p:nvPr/>
        </p:nvSpPr>
        <p:spPr>
          <a:xfrm>
            <a:off x="539640" y="1833480"/>
            <a:ext cx="83534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ad (a); read (b); c:=a+b; write (a, b); write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его, сократив число операторов ввод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71"/>
          <p:cNvSpPr/>
          <p:nvPr/>
        </p:nvSpPr>
        <p:spPr>
          <a:xfrm>
            <a:off x="539640" y="1773360"/>
            <a:ext cx="83534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:=10; b:=a+1: a:=b–a; write 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2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площад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прямоугольника по двум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ы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3286080"/>
            <a:ext cx="820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ая прямоугольная выноска 11"/>
          <p:cNvSpPr/>
          <p:nvPr/>
        </p:nvSpPr>
        <p:spPr>
          <a:xfrm>
            <a:off x="3000240" y="5715000"/>
            <a:ext cx="6072480" cy="714240"/>
          </a:xfrm>
          <a:prstGeom prst="wedgeRoundRectCallout">
            <a:avLst>
              <a:gd name="adj1" fmla="val -48972"/>
              <a:gd name="adj2" fmla="val -23032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worddreams.files.wordpress.com/2010/05/tips-for-article-writers2.jpg?w=500"/>
          <p:cNvPicPr/>
          <p:nvPr/>
        </p:nvPicPr>
        <p:blipFill>
          <a:blip r:embed="rId2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33440" y="1714680"/>
          <a:ext cx="8639280" cy="2963520"/>
        </p:xfrm>
        <a:graphic>
          <a:graphicData uri="http://schemas.openxmlformats.org/drawingml/2006/table">
            <a:tbl>
              <a:tblPr/>
              <a:tblGrid>
                <a:gridCol w="3209760"/>
                <a:gridCol w="3567240"/>
                <a:gridCol w="1862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00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в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9640" y="2060640"/>
            <a:ext cx="742968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, c, s: 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5.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c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5" name="Picture 15" descr="http://le-savchen.ucoz.ru/Caalla/P6210865.jpg"/>
          <p:cNvPicPr/>
          <p:nvPr/>
        </p:nvPicPr>
        <p:blipFill>
          <a:blip r:embed="rId2"/>
          <a:stretch/>
        </p:blipFill>
        <p:spPr>
          <a:xfrm>
            <a:off x="6500880" y="285840"/>
            <a:ext cx="2316240" cy="164448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3968640" y="2581200"/>
            <a:ext cx="5175360" cy="427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Reading Icon"/>
          <p:cNvPicPr/>
          <p:nvPr/>
        </p:nvPicPr>
        <p:blipFill>
          <a:blip r:embed="rId2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68360" y="5877000"/>
            <a:ext cx="770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7308720" y="5877000"/>
          <a:ext cx="91440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5877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 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 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выполнения оператора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4360" y="2786040"/>
            <a:ext cx="7387920" cy="19094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лучшен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68360" y="836640"/>
            <a:ext cx="86756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, c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Вычисление длины окружности и площади круг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('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', с:6:4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s=', s:7:4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4334040" y="3370320"/>
            <a:ext cx="4809960" cy="348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Саида Салманова</cp:lastModifiedBy>
  <dcterms:modified xsi:type="dcterms:W3CDTF">2019-04-06T16:44:34Z</dcterms:modified>
  <cp:revision>113</cp:revision>
  <dc:subject/>
  <dc:title>Презентация PowerPoint</dc:title>
</cp:coreProperties>
</file>