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wmf" ContentType="image/x-wmf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6D11-F196-4774-B52A-3191B61FD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E7C6-9052-45C3-8963-52AD789D2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4AEC-DF48-4E58-AB70-D97DDA0D7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778A-9EDF-4F4E-8060-839D441F1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8448-C2EF-47DA-983B-94504E88B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9EF2-7932-4D9D-98B8-81B9A9F53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CD48-0519-4B77-A29F-9E9FD0F38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EFF7-43CD-42AD-A13C-A48E15629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D0C4-41C4-4878-81E6-E04144FFD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F2EB-B905-417D-98C7-22361D12E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AE1F-67EC-47E2-9EC0-57C45594A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E7F9-56DA-459A-ABDE-0A4D8B8E8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D19D8-F96C-4BF0-B7D9-CF80E42325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Заголовок 1"/>
          <p:cNvSpPr/>
          <p:nvPr/>
        </p:nvSpPr>
        <p:spPr>
          <a:xfrm>
            <a:off x="2124000" y="2781360"/>
            <a:ext cx="6696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РГАНИЗАЦИЯ  ВВОДА  И ВЫВОДА 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одзаголовок 2"/>
          <p:cNvSpPr/>
          <p:nvPr/>
        </p:nvSpPr>
        <p:spPr>
          <a:xfrm>
            <a:off x="2050920" y="4076640"/>
            <a:ext cx="6842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ЧАЛА ПРОГРАММИР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Заголовок 2"/>
          <p:cNvSpPr/>
          <p:nvPr/>
        </p:nvSpPr>
        <p:spPr>
          <a:xfrm>
            <a:off x="1547640" y="189000"/>
            <a:ext cx="7210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амое глав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24"/>
          <p:cNvSpPr/>
          <p:nvPr/>
        </p:nvSpPr>
        <p:spPr>
          <a:xfrm>
            <a:off x="250920" y="1125360"/>
            <a:ext cx="8642160" cy="35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во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оперативную память значений переменных используются операторы ввода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readl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ывода данны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з оперативной памяти на экран монитора используются операторы вывода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writ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writel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од исходных данных и вывод результатов должны быть организованы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нятно и удобн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это обеспечивает дружественность пользовательского интерфей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61"/>
          <p:cNvSpPr/>
          <p:nvPr/>
        </p:nvSpPr>
        <p:spPr>
          <a:xfrm>
            <a:off x="539640" y="1833480"/>
            <a:ext cx="8353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шите оператор, обеспечивающий во время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ы ввод значения переменной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summ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64"/>
          <p:cNvSpPr/>
          <p:nvPr/>
        </p:nvSpPr>
        <p:spPr>
          <a:xfrm>
            <a:off x="539640" y="1833480"/>
            <a:ext cx="835344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очисленным переменным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, j, k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ужно присво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тветственно значения 10, 20 и 3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шите оператор ввода, соответствующий входно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ток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20 10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30 20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10 30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65"/>
          <p:cNvSpPr/>
          <p:nvPr/>
        </p:nvSpPr>
        <p:spPr>
          <a:xfrm>
            <a:off x="539640" y="1833480"/>
            <a:ext cx="835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ишите переменные, необходимые для вычис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ощади  треугольника по его трём сторонам,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шите оператор, обеспечивающий в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обходимых исходных дан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66"/>
          <p:cNvSpPr/>
          <p:nvPr/>
        </p:nvSpPr>
        <p:spPr>
          <a:xfrm>
            <a:off x="539640" y="1833480"/>
            <a:ext cx="8353440" cy="24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является результатом выполнения оператор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write 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write ('a'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write ('a=', 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67"/>
          <p:cNvSpPr/>
          <p:nvPr/>
        </p:nvSpPr>
        <p:spPr>
          <a:xfrm>
            <a:off x="611280" y="1413000"/>
            <a:ext cx="83534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й тип имеет переменная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если после выпол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ератор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f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 экран было выведено следующ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1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1.25Е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68"/>
          <p:cNvSpPr/>
          <p:nvPr/>
        </p:nvSpPr>
        <p:spPr>
          <a:xfrm>
            <a:off x="539640" y="183348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м образом можно вывести на экран веществен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 в формате с фиксированной запято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69"/>
          <p:cNvSpPr/>
          <p:nvPr/>
        </p:nvSpPr>
        <p:spPr>
          <a:xfrm>
            <a:off x="539640" y="183348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шите операторы ввода двух чисел и вывода их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тном поряд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70"/>
          <p:cNvSpPr/>
          <p:nvPr/>
        </p:nvSpPr>
        <p:spPr>
          <a:xfrm>
            <a:off x="539640" y="1833480"/>
            <a:ext cx="8353440" cy="19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 фрагмент программ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read (a); read (b); c:=a+b; write (a, b); write (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остите его, сократив число операторов ввода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в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71"/>
          <p:cNvSpPr/>
          <p:nvPr/>
        </p:nvSpPr>
        <p:spPr>
          <a:xfrm>
            <a:off x="539640" y="1773360"/>
            <a:ext cx="8353440" cy="15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 фрагмент программ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a:=10; b:=a+1: a:=b–a; write (a, 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числа будут выведены на экран компьютер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72"/>
          <p:cNvSpPr/>
          <p:nvPr/>
        </p:nvSpPr>
        <p:spPr>
          <a:xfrm>
            <a:off x="539640" y="183348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программу, которая вычисляет площадь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иметр прямоугольника по двум его сторон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00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10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10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00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1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30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1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3000"/>
                            </p:stCondLst>
                            <p:childTnLst>
                              <p:par>
                                <p:cTn id="2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порный консп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501480" y="907920"/>
            <a:ext cx="86425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во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оперативную память значений переменных выполняют операторы ввода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readl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501480" y="3645000"/>
            <a:ext cx="86425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ывод данны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з оперативной памяти на экран монитора выполняют операторы вывода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writ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writel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6"/>
          <p:cNvSpPr/>
          <p:nvPr/>
        </p:nvSpPr>
        <p:spPr>
          <a:xfrm>
            <a:off x="539640" y="2060640"/>
            <a:ext cx="8353440" cy="459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angSong"/>
              </a:rPr>
              <a:t>r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ea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&l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мя переменной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мя переменной 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7"/>
          <p:cNvSpPr/>
          <p:nvPr/>
        </p:nvSpPr>
        <p:spPr>
          <a:xfrm>
            <a:off x="395280" y="2709720"/>
            <a:ext cx="835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писок вво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8"/>
          <p:cNvSpPr/>
          <p:nvPr/>
        </p:nvSpPr>
        <p:spPr>
          <a:xfrm rot="16200000">
            <a:off x="4679640" y="-351000"/>
            <a:ext cx="360360" cy="5904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153720 h 5904000"/>
              <a:gd name="textAreaBottom" fmla="*/ 5750280 h 590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9"/>
          <p:cNvSpPr/>
          <p:nvPr/>
        </p:nvSpPr>
        <p:spPr>
          <a:xfrm rot="16200000">
            <a:off x="5003640" y="1774800"/>
            <a:ext cx="216000" cy="7128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185760 h 7128000"/>
              <a:gd name="textAreaBottom" fmla="*/ 6942240 h 712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0"/>
          <p:cNvSpPr/>
          <p:nvPr/>
        </p:nvSpPr>
        <p:spPr>
          <a:xfrm>
            <a:off x="468360" y="4797360"/>
            <a:ext cx="8424720" cy="459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angSong"/>
              </a:rPr>
              <a:t>w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rite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ражение 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выражение 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, ...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выражение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1"/>
          <p:cNvSpPr/>
          <p:nvPr/>
        </p:nvSpPr>
        <p:spPr>
          <a:xfrm>
            <a:off x="2050920" y="5589720"/>
            <a:ext cx="619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писок выво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Заголовок 3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Ключевые 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Объект 4"/>
          <p:cNvSpPr/>
          <p:nvPr/>
        </p:nvSpPr>
        <p:spPr>
          <a:xfrm>
            <a:off x="468360" y="1413000"/>
            <a:ext cx="836280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ератор вывода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ri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ормат выв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ератор ввода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8"/>
          <p:cNvSpPr/>
          <p:nvPr/>
        </p:nvSpPr>
        <p:spPr>
          <a:xfrm>
            <a:off x="500040" y="1571760"/>
            <a:ext cx="8286840" cy="14284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Заголовок 2"/>
          <p:cNvSpPr/>
          <p:nvPr/>
        </p:nvSpPr>
        <p:spPr>
          <a:xfrm>
            <a:off x="539640" y="189000"/>
            <a:ext cx="8147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Вывод данн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468360" y="907920"/>
            <a:ext cx="8675640" cy="8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вод данных из оперативной памяти на экран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онитор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 rot="16200000">
            <a:off x="5003640" y="-1322640"/>
            <a:ext cx="215640" cy="7128000"/>
          </a:xfrm>
          <a:custGeom>
            <a:avLst/>
            <a:gdLst>
              <a:gd name="textAreaLeft" fmla="*/ 137880 w 215640"/>
              <a:gd name="textAreaRight" fmla="*/ 216000 w 215640"/>
              <a:gd name="textAreaTop" fmla="*/ 185760 h 7128000"/>
              <a:gd name="textAreaBottom" fmla="*/ 6942240 h 712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468360" y="1700280"/>
            <a:ext cx="8424720" cy="16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FangSong"/>
              </a:rPr>
              <a:t>w</a:t>
            </a: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rite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ражение 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выражение 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, ...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выражение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2050920" y="2492280"/>
            <a:ext cx="619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писок выво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500040" y="3286080"/>
            <a:ext cx="820908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00360" indent="-180036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ыражени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- символьные, числовые, логические,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том числе переменные и констант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00360" indent="-180036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write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's=', s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Скругленная прямоугольная выноска 11"/>
          <p:cNvSpPr/>
          <p:nvPr/>
        </p:nvSpPr>
        <p:spPr>
          <a:xfrm>
            <a:off x="3000240" y="5715000"/>
            <a:ext cx="6072480" cy="714240"/>
          </a:xfrm>
          <a:prstGeom prst="wedgeRoundRectCallout">
            <a:avLst>
              <a:gd name="adj1" fmla="val -48972"/>
              <a:gd name="adj2" fmla="val -230324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Информация в кавычках выводится на экран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без измен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3" descr="http://worddreams.files.wordpress.com/2010/05/tips-for-article-writers2.jpg?w=500"/>
          <p:cNvPicPr/>
          <p:nvPr/>
        </p:nvPicPr>
        <p:blipFill>
          <a:blip r:embed="rId2"/>
          <a:srcRect l="19564" t="2730" r="17952" b="6965"/>
          <a:stretch/>
        </p:blipFill>
        <p:spPr>
          <a:xfrm>
            <a:off x="7500960" y="3143160"/>
            <a:ext cx="1239840" cy="1785960"/>
          </a:xfrm>
          <a:prstGeom prst="rect">
            <a:avLst/>
          </a:prstGeom>
          <a:ln w="9360">
            <a:solidFill>
              <a:srgbClr val="005ab4"/>
            </a:solidFill>
            <a:miter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Заголовок 2"/>
          <p:cNvSpPr/>
          <p:nvPr/>
        </p:nvSpPr>
        <p:spPr>
          <a:xfrm>
            <a:off x="539640" y="189000"/>
            <a:ext cx="8147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Варианты организации выв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33440" y="1714680"/>
          <a:ext cx="8639280" cy="2963520"/>
        </p:xfrm>
        <a:graphic>
          <a:graphicData uri="http://schemas.openxmlformats.org/drawingml/2006/table">
            <a:tbl>
              <a:tblPr/>
              <a:tblGrid>
                <a:gridCol w="3209760"/>
                <a:gridCol w="3567240"/>
                <a:gridCol w="186228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риант организации вывод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ератор вывод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з разделител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write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1,  20,  300)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71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делители – запят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write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 (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’,’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20,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’,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’,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300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 20, 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71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делители – пробел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write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(1,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‘  ‘, 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‘  ‘, 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20 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8"/>
          <p:cNvSpPr/>
          <p:nvPr/>
        </p:nvSpPr>
        <p:spPr>
          <a:xfrm>
            <a:off x="1214280" y="2714760"/>
            <a:ext cx="7358400" cy="11430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Заголовок 2"/>
          <p:cNvSpPr/>
          <p:nvPr/>
        </p:nvSpPr>
        <p:spPr>
          <a:xfrm>
            <a:off x="539640" y="189000"/>
            <a:ext cx="8147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Формат выв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571680" y="1428840"/>
            <a:ext cx="83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Формат вывод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позволяет установить количество позиций на экране, занимаемых выводимой величино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28760" y="4071960"/>
          <a:ext cx="8280360" cy="2050920"/>
        </p:xfrm>
        <a:graphic>
          <a:graphicData uri="http://schemas.openxmlformats.org/drawingml/2006/table">
            <a:tbl>
              <a:tblPr/>
              <a:tblGrid>
                <a:gridCol w="4140000"/>
                <a:gridCol w="41403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ератор выв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 выполнения операто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280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44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write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(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‘s=‘, s:2:0)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s=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5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write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(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‘s=‘, s:3:1)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s=15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13680">
                      <a:solidFill>
                        <a:srgbClr val="0180ff"/>
                      </a:solidFill>
                    </a:lnB>
                    <a:noFill/>
                  </a:tcPr>
                </a:tc>
              </a:tr>
              <a:tr h="44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write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‘s=‘, s:5:1)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180ff"/>
                      </a:solidFill>
                    </a:lnL>
                    <a:lnR w="136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s=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angSong"/>
                        </a:rPr>
                        <a:t>15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180ff"/>
                      </a:solidFill>
                    </a:lnL>
                    <a:lnR w="28080">
                      <a:solidFill>
                        <a:srgbClr val="0180ff"/>
                      </a:solidFill>
                    </a:lnR>
                    <a:lnT w="13680">
                      <a:solidFill>
                        <a:srgbClr val="0180ff"/>
                      </a:solidFill>
                    </a:lnT>
                    <a:lnB w="28080">
                      <a:solidFill>
                        <a:srgbClr val="018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Прямоугольник 12"/>
          <p:cNvSpPr/>
          <p:nvPr/>
        </p:nvSpPr>
        <p:spPr>
          <a:xfrm>
            <a:off x="500040" y="2714760"/>
            <a:ext cx="86439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angSong"/>
              </a:rPr>
              <a:t>write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FangSong"/>
              </a:rPr>
              <a:t>s:x: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ее количество позиций, отводимых под число;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оличество позиций в дробной части чис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13"/>
          <p:cNvSpPr/>
          <p:nvPr/>
        </p:nvSpPr>
        <p:spPr>
          <a:xfrm>
            <a:off x="2143080" y="625788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angSong"/>
              </a:rPr>
              <a:t>write</a:t>
            </a:r>
            <a:r>
              <a:rPr b="1" lang="en-US" sz="2000" spc="-1" strike="noStrike">
                <a:solidFill>
                  <a:srgbClr val="000000"/>
                </a:solidFill>
                <a:latin typeface="FangSong"/>
              </a:rPr>
              <a:t>ln 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ывод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овой строк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Заголовок 2"/>
          <p:cNvSpPr/>
          <p:nvPr/>
        </p:nvSpPr>
        <p:spPr>
          <a:xfrm>
            <a:off x="539640" y="189000"/>
            <a:ext cx="81471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Первая програм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539640" y="2060640"/>
            <a:ext cx="7429680" cy="36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progra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n_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cons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pi=3.1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va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FangSong"/>
              </a:rPr>
              <a:t>r, c, s: rea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r:=5.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:=2*pi*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s:=pi*r*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writeln ('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=', c:6:4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writeln ('s=', s:6: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10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65" name="Picture 15" descr="http://le-savchen.ucoz.ru/Caalla/P6210865.jpg"/>
          <p:cNvPicPr/>
          <p:nvPr/>
        </p:nvPicPr>
        <p:blipFill>
          <a:blip r:embed="rId2"/>
          <a:stretch/>
        </p:blipFill>
        <p:spPr>
          <a:xfrm>
            <a:off x="6500880" y="285840"/>
            <a:ext cx="2316240" cy="1644480"/>
          </a:xfrm>
          <a:prstGeom prst="rect">
            <a:avLst/>
          </a:prstGeom>
          <a:ln w="28440">
            <a:solidFill>
              <a:srgbClr val="005ab4"/>
            </a:solidFill>
            <a:miter/>
          </a:ln>
        </p:spPr>
      </p:pic>
      <p:pic>
        <p:nvPicPr>
          <p:cNvPr id="66" name="Picture 11" descr=""/>
          <p:cNvPicPr/>
          <p:nvPr/>
        </p:nvPicPr>
        <p:blipFill>
          <a:blip r:embed="rId3"/>
          <a:stretch/>
        </p:blipFill>
        <p:spPr>
          <a:xfrm>
            <a:off x="3968640" y="2581200"/>
            <a:ext cx="5175360" cy="4276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13"/>
          <p:cNvSpPr/>
          <p:nvPr/>
        </p:nvSpPr>
        <p:spPr>
          <a:xfrm>
            <a:off x="857160" y="4143240"/>
            <a:ext cx="5929560" cy="16430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10"/>
          <p:cNvSpPr/>
          <p:nvPr/>
        </p:nvSpPr>
        <p:spPr>
          <a:xfrm>
            <a:off x="642960" y="1428840"/>
            <a:ext cx="8286840" cy="14288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Заголовок 2"/>
          <p:cNvSpPr/>
          <p:nvPr/>
        </p:nvSpPr>
        <p:spPr>
          <a:xfrm>
            <a:off x="755640" y="189000"/>
            <a:ext cx="79311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Ввод данных с клавиатур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539640" y="170028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FangSong"/>
              </a:rPr>
              <a:t>r</a:t>
            </a:r>
            <a:r>
              <a:rPr b="1" lang="ru-RU" sz="2800" spc="-1" strike="noStrike">
                <a:solidFill>
                  <a:srgbClr val="ff0000"/>
                </a:solidFill>
                <a:latin typeface="FangSong"/>
              </a:rPr>
              <a:t>ea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&l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мя переменной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мя переменной 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611280" y="836640"/>
            <a:ext cx="835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вод в оперативную память значений переменных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428760" y="2928960"/>
            <a:ext cx="8353440" cy="33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полнение оператора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re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spcBef>
                <a:spcPts val="5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мпьютер переходит в режим ожидания данных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spcBef>
                <a:spcPts val="5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льзователь вводит данные с клавиатуры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449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есколько значений переменных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исловых типов могут вводиться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ерез пробел или через запяту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449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и вводе символьных переменных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обел и запятую ставить нельз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61800" algn="just">
              <a:spcBef>
                <a:spcPts val="5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льзователь нажимает клавишу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Enter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395280" y="2349360"/>
            <a:ext cx="835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писок вво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4"/>
          <p:cNvSpPr/>
          <p:nvPr/>
        </p:nvSpPr>
        <p:spPr>
          <a:xfrm rot="16200000">
            <a:off x="4679640" y="-711360"/>
            <a:ext cx="360360" cy="5904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153720 h 5904000"/>
              <a:gd name="textAreaBottom" fmla="*/ 5750280 h 590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6" descr="Reading Icon"/>
          <p:cNvPicPr/>
          <p:nvPr/>
        </p:nvPicPr>
        <p:blipFill>
          <a:blip r:embed="rId2"/>
          <a:stretch/>
        </p:blipFill>
        <p:spPr>
          <a:xfrm>
            <a:off x="7143840" y="4214880"/>
            <a:ext cx="1631880" cy="1643040"/>
          </a:xfrm>
          <a:prstGeom prst="rect">
            <a:avLst/>
          </a:prstGeom>
          <a:ln w="9360">
            <a:solidFill>
              <a:srgbClr val="005ab4"/>
            </a:solidFill>
            <a:miter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Заголовок 2"/>
          <p:cNvSpPr/>
          <p:nvPr/>
        </p:nvSpPr>
        <p:spPr>
          <a:xfrm>
            <a:off x="755640" y="189000"/>
            <a:ext cx="79311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Ввод данных с клавиатур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468360" y="5877000"/>
            <a:ext cx="7704000" cy="431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манда ввода-выв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Object 7"/>
          <p:cNvGraphicFramePr/>
          <p:nvPr/>
        </p:nvGraphicFramePr>
        <p:xfrm>
          <a:off x="7308720" y="5877000"/>
          <a:ext cx="914400" cy="714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9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08720" y="5877000"/>
                    <a:ext cx="9144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Text Box 10"/>
          <p:cNvSpPr/>
          <p:nvPr/>
        </p:nvSpPr>
        <p:spPr>
          <a:xfrm>
            <a:off x="539640" y="1844640"/>
            <a:ext cx="8353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var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i, j: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integer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; x: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real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; a: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char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read (i, j, x, a)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1"/>
          <p:cNvSpPr/>
          <p:nvPr/>
        </p:nvSpPr>
        <p:spPr>
          <a:xfrm>
            <a:off x="500040" y="4929120"/>
            <a:ext cx="8353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сле выполнения оператора 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readln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курсор переходит на новую строк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684360" y="2786040"/>
            <a:ext cx="7387920" cy="1909440"/>
          </a:xfrm>
          <a:prstGeom prst="rect">
            <a:avLst/>
          </a:prstGeom>
          <a:noFill/>
          <a:ln w="93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арианты организации входного поток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  0  2.5  А&lt;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Enter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&gt;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,0   &lt;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Enter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&gt;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&lt;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Enter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.5, А&lt;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Enter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&gt;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0&lt;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Ente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r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.5&lt;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Enter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&lt;Enter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719280" y="714240"/>
            <a:ext cx="8353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Тип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вводимых значений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олжны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соответствовать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типам переменных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указанных в разделе описания переменны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9"/>
          <p:cNvSpPr/>
          <p:nvPr/>
        </p:nvSpPr>
        <p:spPr>
          <a:xfrm>
            <a:off x="357120" y="714240"/>
            <a:ext cx="357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Заголовок 2"/>
          <p:cNvSpPr/>
          <p:nvPr/>
        </p:nvSpPr>
        <p:spPr>
          <a:xfrm>
            <a:off x="755640" y="189000"/>
            <a:ext cx="79311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Улучшенная програм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468360" y="836640"/>
            <a:ext cx="8675640" cy="52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program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n_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const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pi=3.1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var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r, c, s: re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writeln(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'Вычисление длины окружности и площади круга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write('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ведите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r&gt;&gt;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readln(r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c:=2*pi*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s:=pi*r*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writeln (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'c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=', с:6:4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writeln (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's=', s:7:4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angSong"/>
              </a:rPr>
              <a:t>end</a:t>
            </a:r>
            <a:r>
              <a:rPr b="0" lang="ru-RU" sz="2400" spc="-1" strike="noStrike">
                <a:solidFill>
                  <a:srgbClr val="000000"/>
                </a:solidFill>
                <a:latin typeface="FangSong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9" descr=""/>
          <p:cNvPicPr/>
          <p:nvPr/>
        </p:nvPicPr>
        <p:blipFill>
          <a:blip r:embed="rId2"/>
          <a:stretch/>
        </p:blipFill>
        <p:spPr>
          <a:xfrm>
            <a:off x="4334040" y="3370320"/>
            <a:ext cx="4809960" cy="3487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Саида Салманова</cp:lastModifiedBy>
  <dcterms:modified xsi:type="dcterms:W3CDTF">2019-04-06T16:44:34Z</dcterms:modified>
  <cp:revision>113</cp:revision>
  <dc:subject/>
  <dc:title>Презентация PowerPoint</dc:title>
</cp:coreProperties>
</file>