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4.wmf" ContentType="image/x-wmf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0508D-6479-4CDA-989A-BCA491CF767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34A4A-8AB9-4343-8046-0B5C4C0E7CD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B5490-5671-4AA8-B3E3-40282C10D9B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2574B-818C-45B0-BDC5-B1C60FB4910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F578-21EF-4687-A2A5-CE3F1CA4A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E8AD-182F-4F77-ACF7-DB17538F2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D5E4-E60A-4D96-B61C-09BFE5268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7D19-FF85-47FE-9825-4B34C1C0E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0ADF-BE9E-4548-82E1-CC83BAA6D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F004-586F-43A6-ACFF-EDEF3CC0E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AA05-F8CE-4F8F-8F52-679F9FE56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73B5-B343-4C2D-BC25-A05B9B415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CBC6-6155-49D6-B1AA-9D31E2F60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AC0F-361F-485C-8A3C-6237EAB0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205C-9E3E-4214-949F-281BE9316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EA8C-B3DF-46B0-A52E-79146A60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9E1E5-142F-4169-855F-9A91156153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358120" cy="607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ff"/>
                </a:solidFill>
                <a:latin typeface="Arial"/>
              </a:rPr>
              <a:t>Проект</a:t>
            </a:r>
            <a:br>
              <a:rPr sz="6600"/>
            </a:b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«</a:t>
            </a:r>
            <a:r>
              <a:rPr b="1" lang="ru-RU" sz="6600" spc="-1" strike="noStrike">
                <a:solidFill>
                  <a:srgbClr val="ff0000"/>
                </a:solidFill>
                <a:latin typeface="Calibri"/>
              </a:rPr>
              <a:t>Азбука вежливости»</a:t>
            </a:r>
            <a:br>
              <a:rPr sz="6600"/>
            </a:br>
            <a:br>
              <a:rPr sz="2000"/>
            </a:b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4786200" y="5214960"/>
            <a:ext cx="400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Автор Гомбоева М.Г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ГБОУ «Кижингинская школа-интернат среднего  общего образован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Результа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99680" y="1142640"/>
            <a:ext cx="79297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3333ff"/>
                </a:solidFill>
                <a:latin typeface="Calibri"/>
              </a:rPr>
              <a:t>В конце работы над проект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1" i="1" lang="ru-RU" sz="2000" spc="-1" strike="noStrike">
                <a:solidFill>
                  <a:srgbClr val="3333ff"/>
                </a:solidFill>
                <a:latin typeface="Calibri"/>
              </a:rPr>
              <a:t>создали </a:t>
            </a:r>
            <a:r>
              <a:rPr b="0" i="1" lang="ru-RU" sz="2000" spc="-1" strike="noStrike">
                <a:solidFill>
                  <a:srgbClr val="3333ff"/>
                </a:solidFill>
                <a:latin typeface="Calibri"/>
              </a:rPr>
              <a:t>рукописную коллективную работу «Азбука вежливости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1" i="1" lang="ru-RU" sz="2000" spc="-1" strike="noStrike">
                <a:solidFill>
                  <a:srgbClr val="3333ff"/>
                </a:solidFill>
                <a:latin typeface="Calibri"/>
              </a:rPr>
              <a:t>выпустили</a:t>
            </a:r>
            <a:r>
              <a:rPr b="0" i="1" lang="ru-RU" sz="2000" spc="-1" strike="noStrike">
                <a:solidFill>
                  <a:srgbClr val="3333ff"/>
                </a:solidFill>
                <a:latin typeface="Calibri"/>
              </a:rPr>
              <a:t> буклет «Волшебные слова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ff"/>
                </a:solidFill>
                <a:latin typeface="Calibri"/>
              </a:rPr>
              <a:t>  </a:t>
            </a:r>
            <a:r>
              <a:rPr b="0" i="1" lang="ru-RU" sz="2000" spc="-1" strike="noStrike">
                <a:solidFill>
                  <a:srgbClr val="3333ff"/>
                </a:solidFill>
                <a:latin typeface="Calibri"/>
              </a:rPr>
              <a:t>создали слайдовую презентацию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ff"/>
                </a:solidFill>
                <a:latin typeface="Calibri"/>
              </a:rPr>
              <a:t>  </a:t>
            </a:r>
            <a:r>
              <a:rPr b="1" i="1" lang="ru-RU" sz="2000" spc="-1" strike="noStrike">
                <a:solidFill>
                  <a:srgbClr val="3333ff"/>
                </a:solidFill>
                <a:latin typeface="Calibri"/>
              </a:rPr>
              <a:t>провели</a:t>
            </a:r>
            <a:r>
              <a:rPr b="0" i="1" lang="ru-RU" sz="2000" spc="-1" strike="noStrike">
                <a:solidFill>
                  <a:srgbClr val="3333ff"/>
                </a:solidFill>
                <a:latin typeface="Calibri"/>
              </a:rPr>
              <a:t> праздник  «Прощание с Азбукой» (выставка работ, защита проектов, награждение лучших работ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3333ff"/>
                </a:solidFill>
                <a:latin typeface="Calibri"/>
              </a:rPr>
              <a:t>В конце работы над проектом у дет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ff"/>
                </a:solidFill>
                <a:latin typeface="Calibri"/>
              </a:rPr>
              <a:t>расширился тематический  словарный запас на русском и бурятском язык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3333ff"/>
                </a:solidFill>
                <a:latin typeface="Calibri"/>
              </a:rPr>
              <a:t>активизировалась внутренняя и внешняя речь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ff"/>
                </a:solidFill>
                <a:latin typeface="Calibri"/>
              </a:rPr>
              <a:t>развивались творческие, литературные способно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ff"/>
                </a:solidFill>
                <a:latin typeface="Calibri"/>
              </a:rPr>
              <a:t>шло развитие в интеллектуально-нравственном план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3333ff"/>
                </a:solidFill>
                <a:latin typeface="Calibri"/>
              </a:rPr>
              <a:t>появился интерес к самостоятельному чтени</a:t>
            </a:r>
            <a:r>
              <a:rPr b="0" lang="ru-RU" sz="2000" spc="-1" strike="noStrike">
                <a:solidFill>
                  <a:srgbClr val="3333ff"/>
                </a:solidFill>
                <a:latin typeface="Calibri"/>
              </a:rPr>
              <a:t>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1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1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10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10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100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1000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1000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D:\Documents and Settings\Admin\Мои документы\Район семинар\SS850201.JPG"/>
          <p:cNvPicPr/>
          <p:nvPr/>
        </p:nvPicPr>
        <p:blipFill>
          <a:blip r:embed="rId1"/>
          <a:stretch/>
        </p:blipFill>
        <p:spPr>
          <a:xfrm>
            <a:off x="285840" y="1071720"/>
            <a:ext cx="3500280" cy="2788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D:\Documents and Settings\Admin\Мои документы\Район семинар\SS850202.JPG"/>
          <p:cNvPicPr/>
          <p:nvPr/>
        </p:nvPicPr>
        <p:blipFill>
          <a:blip r:embed="rId2"/>
          <a:stretch/>
        </p:blipFill>
        <p:spPr>
          <a:xfrm>
            <a:off x="3071880" y="2286000"/>
            <a:ext cx="3560760" cy="2936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D:\Documents and Settings\Admin\Мои документы\Район семинар\SS850198.JPG"/>
          <p:cNvPicPr/>
          <p:nvPr/>
        </p:nvPicPr>
        <p:blipFill>
          <a:blip r:embed="rId3"/>
          <a:stretch/>
        </p:blipFill>
        <p:spPr>
          <a:xfrm>
            <a:off x="5143680" y="3425760"/>
            <a:ext cx="3714480" cy="29322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57240" y="285840"/>
            <a:ext cx="55008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Презентация проек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2"/>
          <p:cNvGraphicFramePr/>
          <p:nvPr/>
        </p:nvGraphicFramePr>
        <p:xfrm>
          <a:off x="428760" y="374760"/>
          <a:ext cx="8178840" cy="6097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374760"/>
                    <a:ext cx="8178840" cy="60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00080" y="357120"/>
            <a:ext cx="721512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Творческий продукт дет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11" descr="G:\МГ\10.jpg"/>
          <p:cNvPicPr/>
          <p:nvPr/>
        </p:nvPicPr>
        <p:blipFill>
          <a:blip r:embed="rId1"/>
          <a:stretch/>
        </p:blipFill>
        <p:spPr>
          <a:xfrm rot="20131200">
            <a:off x="2203560" y="3990600"/>
            <a:ext cx="2786040" cy="1928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G:\МГ\9.jpg"/>
          <p:cNvPicPr/>
          <p:nvPr/>
        </p:nvPicPr>
        <p:blipFill>
          <a:blip r:embed="rId2"/>
          <a:stretch/>
        </p:blipFill>
        <p:spPr>
          <a:xfrm>
            <a:off x="357120" y="928800"/>
            <a:ext cx="2071800" cy="27860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G:\МГ\8.jpg"/>
          <p:cNvPicPr/>
          <p:nvPr/>
        </p:nvPicPr>
        <p:blipFill>
          <a:blip r:embed="rId3"/>
          <a:stretch/>
        </p:blipFill>
        <p:spPr>
          <a:xfrm>
            <a:off x="4357800" y="1000080"/>
            <a:ext cx="2165400" cy="2786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3" descr="G:\МГ\2.jpg"/>
          <p:cNvPicPr/>
          <p:nvPr/>
        </p:nvPicPr>
        <p:blipFill>
          <a:blip r:embed="rId4"/>
          <a:stretch/>
        </p:blipFill>
        <p:spPr>
          <a:xfrm>
            <a:off x="2357280" y="1000080"/>
            <a:ext cx="2143440" cy="27511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4" descr="G:\МГ\3.jpg"/>
          <p:cNvPicPr/>
          <p:nvPr/>
        </p:nvPicPr>
        <p:blipFill>
          <a:blip r:embed="rId5"/>
          <a:stretch/>
        </p:blipFill>
        <p:spPr>
          <a:xfrm>
            <a:off x="6429240" y="1000080"/>
            <a:ext cx="2143440" cy="27860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G:\МГ\4.jpg"/>
          <p:cNvPicPr/>
          <p:nvPr/>
        </p:nvPicPr>
        <p:blipFill>
          <a:blip r:embed="rId6"/>
          <a:stretch/>
        </p:blipFill>
        <p:spPr>
          <a:xfrm rot="6019800">
            <a:off x="6234480" y="3145320"/>
            <a:ext cx="1960560" cy="26924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G:\МГ\6.jpg"/>
          <p:cNvPicPr/>
          <p:nvPr/>
        </p:nvPicPr>
        <p:blipFill>
          <a:blip r:embed="rId7"/>
          <a:stretch/>
        </p:blipFill>
        <p:spPr>
          <a:xfrm rot="4349400">
            <a:off x="634320" y="2879640"/>
            <a:ext cx="1886040" cy="27147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5" descr="G:\МГ\7.jpg"/>
          <p:cNvPicPr/>
          <p:nvPr/>
        </p:nvPicPr>
        <p:blipFill>
          <a:blip r:embed="rId8"/>
          <a:stretch/>
        </p:blipFill>
        <p:spPr>
          <a:xfrm>
            <a:off x="4214880" y="4714920"/>
            <a:ext cx="257184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Вежливые сл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42600" y="1214280"/>
            <a:ext cx="807228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А  -  аккуратны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Б  -  благодарный, бравый, благородный, будьте добры, будь здор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В  -  вежливый, воспитанный, внимательный, всего хорошег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Г  -  гордый, грамотный, гостеприимный,  галантны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Д -  добрый, дисциплинированный, деликатный, дружны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Е  -  единодушие, естественный, если вас не затрудни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Ж  -  желанный, жизнерадостный, жалостливы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З  -  заботливый, здравствуй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И  -  искренний, интересный, идеальный, извините, изобретательны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К  -  красота, красивый, культурны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Л  -  любимый, ласковый, любезный, любознательны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М  -  милый, миролюбивый, мудрый, милосердие, можно вой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Н  -  нежный, находчивый, надёжный, на здоровь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9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2" dur="2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5" dur="2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8" dur="20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1" dur="20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4" dur="20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7" dur="20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0" dur="20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3" dur="200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6" dur="2000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9" dur="2000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2" dur="2000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5" dur="2000"/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285840" y="285480"/>
            <a:ext cx="850104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О  --  очень ласковый, общительный, опрятный, отзывчивый, очарование, обаяние, откровенны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П -  пожалуйста,  приличный, примерный, приятный, прилежный, порядочность, привет, простите, приятного сна, правильны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Р  -  радость, разговорчивый, работящий, рыцарство, радушие, рад вас видеть, родно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С  -  спасибо, спокойной ночи, скромный, сердечность, сове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Т  -  торжественный, трудолюбивый, терпение, талантливый, так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Ф  -  фантазия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Х  -  хорошо, храбрость, характе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Ц  -  ценный, целеустремленность, целомудр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Ч  -   честь, честный, человечный, чем вы беспокоитесь, чувств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Ш  -  шик, шикарный, шалость, шут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Щ  --щедрость, щадящ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Э  -  этикет, элегантный, экономный, эруди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Ю  -  юмо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Я  -  ясный, яркий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2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5" dur="2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8" dur="2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1" dur="2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4" dur="2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7" dur="20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0" dur="20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3" dur="20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6" dur="20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9" dur="2000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2" dur="2000"/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5" dur="2000"/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8" dur="2000"/>
                                        <p:tgtEl>
                                          <p:spTgt spid="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1" dur="2000"/>
                                        <p:tgtEl>
                                          <p:spTgt spid="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Шэдитэ </a:t>
            </a:r>
            <a:r>
              <a:rPr b="1" lang="el-GR" sz="5400" spc="-1" strike="noStrike">
                <a:solidFill>
                  <a:srgbClr val="ff0000"/>
                </a:solidFill>
                <a:latin typeface="Calibri"/>
              </a:rPr>
              <a:t>γ</a:t>
            </a: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гэн</a:t>
            </a:r>
            <a:r>
              <a:rPr b="1" lang="el-GR" sz="5400" spc="-1" strike="noStrike">
                <a:solidFill>
                  <a:srgbClr val="ff0000"/>
                </a:solidFill>
                <a:latin typeface="Calibri"/>
              </a:rPr>
              <a:t>γγ</a:t>
            </a: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д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99680" y="1428840"/>
            <a:ext cx="80010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А  -  аятай зохид, амар мэндэ, амаршалга, амар сайн, абын </a:t>
            </a:r>
            <a:r>
              <a:rPr b="1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h</a:t>
            </a: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ургаал, аха зах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Б  -  бэрхэ, баярлаа, бая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Г  -  гоё, гоёнсуу, гайхамша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Д  -  дэмбэрэлтэй, д</a:t>
            </a:r>
            <a:r>
              <a:rPr b="1" lang="el-GR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γ</a:t>
            </a: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ршэлтэ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Ж  -  жэгтэй, жаргалта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З  -  зоригтой, з</a:t>
            </a:r>
            <a:r>
              <a:rPr b="1" lang="el-GR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γ</a:t>
            </a: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рхэтэй, зохидхон, зан </a:t>
            </a:r>
            <a:r>
              <a:rPr b="1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h</a:t>
            </a: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айта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И  -  илдам, инаг, ирагуу дуута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М  -  мэндэ, мэндэшэлгэ, мэндэш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5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8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1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4" dur="1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7" dur="1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0" dur="10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3" dur="10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6" dur="10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357120" y="428400"/>
            <a:ext cx="842976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Н  -  намдуухан, найдамтай, наран шэнг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О  -  омогтой, оншотой, ойлгосот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С  -  сэбэрхэн, сэнтэй, сэбэр, сэгнэшэг</a:t>
            </a:r>
            <a:r>
              <a:rPr b="1" lang="el-GR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γ</a:t>
            </a: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й, сайн, сэсэн </a:t>
            </a:r>
            <a:r>
              <a:rPr b="1" lang="el-GR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γ</a:t>
            </a: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г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Т  -  тэгшэ, танилтай, талата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У  -  ухаатай, уян, урид </a:t>
            </a:r>
            <a:r>
              <a:rPr b="1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h</a:t>
            </a: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анаата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Х  -  хайратай, хани, х</a:t>
            </a:r>
            <a:r>
              <a:rPr b="1" lang="el-GR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γ</a:t>
            </a: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ндэм</a:t>
            </a:r>
            <a:r>
              <a:rPr b="1" lang="el-GR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γγ</a:t>
            </a: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ш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h</a:t>
            </a: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 -  </a:t>
            </a:r>
            <a:r>
              <a:rPr b="1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h</a:t>
            </a: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айн, </a:t>
            </a:r>
            <a:r>
              <a:rPr b="1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h</a:t>
            </a: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айхан, </a:t>
            </a:r>
            <a:r>
              <a:rPr b="1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h</a:t>
            </a: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анаагаа зободог, </a:t>
            </a:r>
            <a:r>
              <a:rPr b="1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h</a:t>
            </a: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айн  </a:t>
            </a:r>
            <a:r>
              <a:rPr b="1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h</a:t>
            </a: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анаата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Ш -  шадама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Э  -  этигэл, энэрхы, эбтэй, энхэргэн, эгээл зохи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3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6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9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2" dur="1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5" dur="1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8" dur="1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1" dur="10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4" dur="100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7" dur="1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100_3519"/>
          <p:cNvPicPr/>
          <p:nvPr/>
        </p:nvPicPr>
        <p:blipFill>
          <a:blip r:embed="rId1"/>
          <a:stretch/>
        </p:blipFill>
        <p:spPr>
          <a:xfrm>
            <a:off x="2357280" y="285840"/>
            <a:ext cx="4000680" cy="25002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571320" y="4214880"/>
            <a:ext cx="80010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школьный конкурс «Юный Гэсэр»  (</a:t>
            </a:r>
            <a:r>
              <a:rPr b="0" lang="ru-RU" sz="2000" spc="-1" strike="noStrike">
                <a:solidFill>
                  <a:srgbClr val="1f497d"/>
                </a:solidFill>
                <a:latin typeface="Calibri"/>
              </a:rPr>
              <a:t>2место, Дашинимаев А</a:t>
            </a: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.) и «Юная Дангина» (</a:t>
            </a:r>
            <a:r>
              <a:rPr b="0" lang="ru-RU" sz="2000" spc="-1" strike="noStrike">
                <a:solidFill>
                  <a:srgbClr val="1f497d"/>
                </a:solidFill>
                <a:latin typeface="Calibri"/>
              </a:rPr>
              <a:t>2 место, Батуева Д.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районный конкурс «Юный Гэсэр» (</a:t>
            </a:r>
            <a:r>
              <a:rPr b="0" lang="ru-RU" sz="2000" spc="-1" strike="noStrike">
                <a:solidFill>
                  <a:srgbClr val="1f497d"/>
                </a:solidFill>
                <a:latin typeface="Calibri"/>
              </a:rPr>
              <a:t>участие)и «Юная Дангина» (участие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школьный конкурс чтецов в рамках недели родного языка (</a:t>
            </a:r>
            <a:r>
              <a:rPr b="0" lang="ru-RU" sz="2000" spc="-1" strike="noStrike">
                <a:solidFill>
                  <a:srgbClr val="1f497d"/>
                </a:solidFill>
                <a:latin typeface="Calibri"/>
              </a:rPr>
              <a:t>2место, Андрёнов Б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100_3355"/>
          <p:cNvPicPr/>
          <p:nvPr/>
        </p:nvPicPr>
        <p:blipFill>
          <a:blip r:embed="rId2"/>
          <a:stretch/>
        </p:blipFill>
        <p:spPr>
          <a:xfrm rot="21409200">
            <a:off x="414360" y="1800000"/>
            <a:ext cx="3137040" cy="2143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100_3388"/>
          <p:cNvPicPr/>
          <p:nvPr/>
        </p:nvPicPr>
        <p:blipFill>
          <a:blip r:embed="rId3"/>
          <a:stretch/>
        </p:blipFill>
        <p:spPr>
          <a:xfrm rot="607200">
            <a:off x="5380200" y="1961640"/>
            <a:ext cx="3000240" cy="21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4"/>
          <p:cNvGrpSpPr/>
          <p:nvPr/>
        </p:nvGrpSpPr>
        <p:grpSpPr>
          <a:xfrm>
            <a:off x="214200" y="0"/>
            <a:ext cx="8929800" cy="6858000"/>
            <a:chOff x="214200" y="0"/>
            <a:chExt cx="8929800" cy="6858000"/>
          </a:xfrm>
        </p:grpSpPr>
        <p:pic>
          <p:nvPicPr>
            <p:cNvPr id="91" name="Picture 5" descr="skf5685"/>
            <p:cNvPicPr/>
            <p:nvPr/>
          </p:nvPicPr>
          <p:blipFill>
            <a:blip r:embed="rId1"/>
            <a:stretch/>
          </p:blipFill>
          <p:spPr>
            <a:xfrm>
              <a:off x="4162320" y="0"/>
              <a:ext cx="49816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6" descr="skf4E51"/>
            <p:cNvPicPr/>
            <p:nvPr/>
          </p:nvPicPr>
          <p:blipFill>
            <a:blip r:embed="rId2"/>
            <a:stretch/>
          </p:blipFill>
          <p:spPr>
            <a:xfrm>
              <a:off x="214200" y="0"/>
              <a:ext cx="3853080" cy="6858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57120" y="428400"/>
            <a:ext cx="842976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Актуальность проект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3333ff"/>
                </a:solidFill>
                <a:latin typeface="Calibri"/>
              </a:rPr>
              <a:t>ограниченный словарный запас  у дете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3333ff"/>
                </a:solidFill>
                <a:latin typeface="Calibri"/>
              </a:rPr>
              <a:t>несформированность внутренней и внешней речи у первоклассников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Calibri"/>
              </a:rPr>
              <a:t>неумение применять некоторые вежливые слова в общен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Проблема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ff"/>
                </a:solidFill>
                <a:latin typeface="Calibri"/>
              </a:rPr>
              <a:t>Слабое развитие речи у учащихся 1 класс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4"/>
          <p:cNvGrpSpPr/>
          <p:nvPr/>
        </p:nvGrpSpPr>
        <p:grpSpPr>
          <a:xfrm>
            <a:off x="142920" y="0"/>
            <a:ext cx="9001080" cy="6858000"/>
            <a:chOff x="142920" y="0"/>
            <a:chExt cx="9001080" cy="6858000"/>
          </a:xfrm>
        </p:grpSpPr>
        <p:pic>
          <p:nvPicPr>
            <p:cNvPr id="94" name="Picture 5" descr="skf5DBA"/>
            <p:cNvPicPr/>
            <p:nvPr/>
          </p:nvPicPr>
          <p:blipFill>
            <a:blip r:embed="rId1"/>
            <a:stretch/>
          </p:blipFill>
          <p:spPr>
            <a:xfrm>
              <a:off x="142920" y="0"/>
              <a:ext cx="392904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6" descr="skfDB8A"/>
            <p:cNvPicPr/>
            <p:nvPr/>
          </p:nvPicPr>
          <p:blipFill>
            <a:blip r:embed="rId2"/>
            <a:stretch/>
          </p:blipFill>
          <p:spPr>
            <a:xfrm>
              <a:off x="4162320" y="0"/>
              <a:ext cx="4981680" cy="6858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4"/>
          <p:cNvGrpSpPr/>
          <p:nvPr/>
        </p:nvGrpSpPr>
        <p:grpSpPr>
          <a:xfrm>
            <a:off x="285840" y="0"/>
            <a:ext cx="8572320" cy="6595920"/>
            <a:chOff x="285840" y="0"/>
            <a:chExt cx="8572320" cy="6595920"/>
          </a:xfrm>
        </p:grpSpPr>
        <p:pic>
          <p:nvPicPr>
            <p:cNvPr id="97" name="Picture 5" descr="skf5278"/>
            <p:cNvPicPr/>
            <p:nvPr/>
          </p:nvPicPr>
          <p:blipFill>
            <a:blip r:embed="rId1"/>
            <a:stretch/>
          </p:blipFill>
          <p:spPr>
            <a:xfrm>
              <a:off x="4357800" y="142920"/>
              <a:ext cx="4500360" cy="645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6" descr="skfCA6F"/>
            <p:cNvPicPr/>
            <p:nvPr/>
          </p:nvPicPr>
          <p:blipFill>
            <a:blip r:embed="rId2"/>
            <a:stretch/>
          </p:blipFill>
          <p:spPr>
            <a:xfrm>
              <a:off x="285840" y="0"/>
              <a:ext cx="3929040" cy="6453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57120" y="285840"/>
            <a:ext cx="850104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Цель прое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3333ff"/>
                </a:solidFill>
                <a:latin typeface="Calibri"/>
              </a:rPr>
              <a:t>создание условий для развития речи учащих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Задач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3333ff"/>
                </a:solidFill>
                <a:latin typeface="Calibri"/>
              </a:rPr>
              <a:t>провести стартовую диагностику обследования дете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3333ff"/>
                </a:solidFill>
                <a:latin typeface="Calibri"/>
              </a:rPr>
              <a:t>выявить уровень развития речи дете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3333ff"/>
                </a:solidFill>
                <a:latin typeface="Calibri"/>
              </a:rPr>
              <a:t>работа над созданием проекта: сбор информаций, материалов, самостоятельная работа детей, презентац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42960" y="2857680"/>
            <a:ext cx="82152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3333ff"/>
                </a:solidFill>
                <a:latin typeface="Calibri"/>
              </a:rPr>
              <a:t>Я организую этот проект совместно с родителями первоклассников, старшеклассниками. учителями начальных классов. Начну работу с первых уроков. На родительском собрании с детьми предложу на каждую букву русского алфавита придумать вежливое слово. Каждый ребенок вместе с родителем будет  реализовывать свой проект самостоятельно, а также оформлять его. В изготовлении изделия (проекта) родители будут поддерживать детей советом, помогать оформлять работы. После этого организую выставку детских проектов на две недели, затем презентация на празднике «Прощания с азбукой», выпуск брошюры и рукописного альбома «Азбука вежливости» и «Шэдитэ угэнууд».  </a:t>
            </a:r>
            <a:br>
              <a:rPr sz="6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4"/>
          <p:cNvSpPr/>
          <p:nvPr/>
        </p:nvSpPr>
        <p:spPr>
          <a:xfrm>
            <a:off x="2786040" y="142920"/>
            <a:ext cx="321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Концеп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85840" y="285840"/>
            <a:ext cx="857232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жидаемые результат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3333ff"/>
                </a:solidFill>
                <a:latin typeface="Calibri"/>
              </a:rPr>
              <a:t>Работа над данным проектом создаст условия для развития речи учащихся на русском, бурятском язык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3333ff"/>
                </a:solidFill>
                <a:latin typeface="Calibri"/>
              </a:rPr>
              <a:t>поможет соблюдать правила общения в школе, классе, со взрослыми, с детьми и научит использовать необходимые правила речевого общен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3333ff"/>
                </a:solidFill>
                <a:latin typeface="Calibri"/>
              </a:rPr>
              <a:t>будут развиваться коммуникативные, творческие способност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3333ff"/>
                </a:solidFill>
                <a:latin typeface="Calibri"/>
              </a:rPr>
              <a:t>повысится уровень культуры общения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Механизм реализа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42960" y="999720"/>
            <a:ext cx="7786800" cy="46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Calibri"/>
              </a:rPr>
              <a:t>Этапы реализации програм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3333ff"/>
                </a:solidFill>
                <a:latin typeface="Calibri"/>
              </a:rPr>
              <a:t>Первый этап (</a:t>
            </a:r>
            <a:r>
              <a:rPr b="0" i="1" lang="ru-RU" sz="3200" spc="-1" strike="noStrike">
                <a:solidFill>
                  <a:srgbClr val="3333ff"/>
                </a:solidFill>
                <a:latin typeface="Calibri"/>
              </a:rPr>
              <a:t>подготовительный</a:t>
            </a:r>
            <a:r>
              <a:rPr b="0" lang="ru-RU" sz="3200" spc="-1" strike="noStrike">
                <a:solidFill>
                  <a:srgbClr val="3333ff"/>
                </a:solidFill>
                <a:latin typeface="Calibri"/>
              </a:rPr>
              <a:t>) -  сентябр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3333ff"/>
                </a:solidFill>
                <a:latin typeface="Calibri"/>
              </a:rPr>
              <a:t>Второй этап (</a:t>
            </a:r>
            <a:r>
              <a:rPr b="0" i="1" lang="ru-RU" sz="3200" spc="-1" strike="noStrike">
                <a:solidFill>
                  <a:srgbClr val="3333ff"/>
                </a:solidFill>
                <a:latin typeface="Calibri"/>
              </a:rPr>
              <a:t>основной -активных действий по реализации проекта</a:t>
            </a:r>
            <a:r>
              <a:rPr b="0" lang="ru-RU" sz="3200" spc="-1" strike="noStrike">
                <a:solidFill>
                  <a:srgbClr val="3333ff"/>
                </a:solidFill>
                <a:latin typeface="Calibri"/>
              </a:rPr>
              <a:t>) -  сентябрь- мар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3333ff"/>
                </a:solidFill>
                <a:latin typeface="Calibri"/>
              </a:rPr>
              <a:t>Третий этап (</a:t>
            </a:r>
            <a:r>
              <a:rPr b="0" i="1" lang="ru-RU" sz="3200" spc="-1" strike="noStrike">
                <a:solidFill>
                  <a:srgbClr val="3333ff"/>
                </a:solidFill>
                <a:latin typeface="Calibri"/>
              </a:rPr>
              <a:t>заключительный</a:t>
            </a:r>
            <a:r>
              <a:rPr b="0" lang="ru-RU" sz="3200" spc="-1" strike="noStrike">
                <a:solidFill>
                  <a:srgbClr val="3333ff"/>
                </a:solidFill>
                <a:latin typeface="Calibri"/>
              </a:rPr>
              <a:t>) - мар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1090440"/>
          <a:ext cx="8229600" cy="5124600"/>
        </p:xfrm>
        <a:graphic>
          <a:graphicData uri="http://schemas.openxmlformats.org/drawingml/2006/table">
            <a:tbl>
              <a:tblPr/>
              <a:tblGrid>
                <a:gridCol w="542880"/>
                <a:gridCol w="3643200"/>
                <a:gridCol w="1000440"/>
                <a:gridCol w="1928520"/>
                <a:gridCol w="11145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№</a:t>
                      </a:r>
                      <a:r>
                        <a:rPr b="1" lang="ru-RU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/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Название меропри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Срок провед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Ответстве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Примеч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Sylfaen"/>
                        </a:rPr>
                        <a:t>I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Sylfaen"/>
                        </a:rPr>
                        <a:t> этап.   с 2-15 сентябр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Диагностика учащихся 1 клас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Диагностика уровня межпредметного общ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Подбор литерату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Родительское собр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2.09-15.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психол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завуч по УВ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классный руководи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3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Sylfaen"/>
                        </a:rPr>
                        <a:t>II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Sylfaen"/>
                        </a:rPr>
                        <a:t> этап. Основн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Sylfaen"/>
                        </a:rPr>
                        <a:t>Проведение занятий по вежлив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Sylfaen"/>
                        </a:rPr>
                        <a:t>Изучение бук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Sylfaen"/>
                        </a:rPr>
                        <a:t>Игры, тренинг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Sylfaen"/>
                        </a:rPr>
                        <a:t>Разработка проектов с родителями, старшеклассник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Sylfaen"/>
                        </a:rPr>
                        <a:t>Создание «Азбуки вежливости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16.09.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мар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учи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МО начальных клас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родит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старшеклассн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воспитат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59" name="Прямоугольник 4"/>
          <p:cNvSpPr/>
          <p:nvPr/>
        </p:nvSpPr>
        <p:spPr>
          <a:xfrm>
            <a:off x="571680" y="285840"/>
            <a:ext cx="807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лан мероприятий по реализации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500040" y="428760"/>
          <a:ext cx="8186760" cy="4054320"/>
        </p:xfrm>
        <a:graphic>
          <a:graphicData uri="http://schemas.openxmlformats.org/drawingml/2006/table">
            <a:tbl>
              <a:tblPr/>
              <a:tblGrid>
                <a:gridCol w="428760"/>
                <a:gridCol w="4214880"/>
                <a:gridCol w="1071360"/>
                <a:gridCol w="1500120"/>
                <a:gridCol w="971640"/>
              </a:tblGrid>
              <a:tr h="405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Sylfaen"/>
                        </a:rPr>
                        <a:t>III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Sylfaen"/>
                        </a:rPr>
                        <a:t> этап. Коррекционно-аналитический эта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Анализ проделанной рабо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Организация презент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1f497d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выставка проек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1f497d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выпуск брошюры «Азбука вежливости» на русском и бурятском языке и распространение среди учащихся начальных классов школ райо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Создание рукописного альбома «Азбука вежливости»  учащихся 1 клас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мар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Учи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Родит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воспитат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Сроки реализации проек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571320" y="1499760"/>
            <a:ext cx="80010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Calibri"/>
              </a:rPr>
              <a:t>Данный проект рассчитан на весь период обучения грамоте -</a:t>
            </a:r>
            <a:r>
              <a:rPr b="1" lang="ru-RU" sz="3200" spc="-1" strike="noStrike">
                <a:solidFill>
                  <a:srgbClr val="3333ff"/>
                </a:solidFill>
                <a:latin typeface="Calibri"/>
              </a:rPr>
              <a:t>  с сентября  по март. </a:t>
            </a:r>
            <a:r>
              <a:rPr b="0" lang="ru-RU" sz="3200" spc="-1" strike="noStrike">
                <a:solidFill>
                  <a:srgbClr val="3333ff"/>
                </a:solidFill>
                <a:latin typeface="Calibri"/>
              </a:rPr>
              <a:t>Специальных часов на создание данного проекта не предусматривается. Работа проводится во время уроков обучения грамоте и во внеурочное врем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3T00:13:35Z</dcterms:created>
  <dc:creator>Admin</dc:creator>
  <dc:description/>
  <dc:language>en-US</dc:language>
  <cp:lastModifiedBy>Uzer</cp:lastModifiedBy>
  <dcterms:modified xsi:type="dcterms:W3CDTF">2019-04-30T08:57:02Z</dcterms:modified>
  <cp:revision>95</cp:revision>
  <dc:subject/>
  <dc:title>Азбука вежливости или  Волшебные слова</dc:title>
</cp:coreProperties>
</file>