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1F0-E1E3-43A2-AD45-B6BC133A73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251B-D40F-4457-869D-0243448E3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9B6-F327-4AB7-BB40-DEC70649FB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5292-41FA-4A26-A675-C6ECF0B96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1C9-7057-4F53-833B-562FD139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202-07E2-43F8-A1C6-98F9156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825-6E83-4AE0-8CCB-C3A65CD9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5AD-AACA-403C-8B86-08131086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BD3-DB70-4DA2-9496-1E38088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A49-20BF-4FD0-A5F4-7FCFA19E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A27-27A7-4603-A189-9078803A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18E-1756-48CF-B9CC-D9A450B3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BFB-1315-451C-8742-B40CFCE5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DB6-7CDB-4D31-BAF6-A20DD8D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91C-30FC-4CE3-B657-57397A32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34B8-5575-41E3-BB9E-261D0D35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25E-BDBC-4852-9AFF-B0DE0E1B2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5812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Arial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Азбука вежливости»</a:t>
            </a:r>
            <a:br>
              <a:rPr sz="6600"/>
            </a:br>
            <a:br>
              <a:rPr sz="2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786200" y="521496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Автор Гомбоева М.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ГБОУ «Кижингинская школа-интернат среднего  общего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В конце работы над проек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создали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укописную коллективную работу «Азбука вежливости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выпустили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буклет «Волшебные слова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создали слайдовую презентац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3333ff"/>
                </a:solidFill>
                <a:latin typeface="Calibri"/>
              </a:rPr>
              <a:t>провели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праздник  «Прощание с Азбукой» (выставка работ, защита проектов, награждение лучших раб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Calibri"/>
              </a:rPr>
              <a:t>В конце работы над проектом у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асширился тематический  словарный запас на русском и бурятском язык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активизировалась внутренняя и внешняя реч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развивались творческие, литературные способ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шло развитие в интеллектуально-нравственном пл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3333ff"/>
                </a:solidFill>
                <a:latin typeface="Calibri"/>
              </a:rPr>
              <a:t>появился интерес к самостоятельному чтени</a:t>
            </a: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D:\Documents and Settings\Admin\Мои документы\Район семинар\SS8502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500280" cy="2788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D:\Documents and Settings\Admin\Мои документы\Район семинар\SS850202.JPG"/>
          <p:cNvPicPr/>
          <p:nvPr/>
        </p:nvPicPr>
        <p:blipFill>
          <a:blip r:embed="rId2"/>
          <a:stretch/>
        </p:blipFill>
        <p:spPr>
          <a:xfrm>
            <a:off x="3071880" y="2286000"/>
            <a:ext cx="3560760" cy="2936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ocuments and Settings\Admin\Мои документы\Район семинар\SS850198.JPG"/>
          <p:cNvPicPr/>
          <p:nvPr/>
        </p:nvPicPr>
        <p:blipFill>
          <a:blip r:embed="rId3"/>
          <a:stretch/>
        </p:blipFill>
        <p:spPr>
          <a:xfrm>
            <a:off x="5143680" y="3425760"/>
            <a:ext cx="3714480" cy="2932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7240" y="285840"/>
            <a:ext cx="5500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езентация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428760" y="374760"/>
          <a:ext cx="8178840" cy="6097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374760"/>
                    <a:ext cx="8178840" cy="60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15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ворческий продукт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1" descr="G:\МГ\10.jpg"/>
          <p:cNvPicPr/>
          <p:nvPr/>
        </p:nvPicPr>
        <p:blipFill>
          <a:blip r:embed="rId1"/>
          <a:stretch/>
        </p:blipFill>
        <p:spPr>
          <a:xfrm rot="20131200">
            <a:off x="2203560" y="399060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G:\МГ\9.jpg"/>
          <p:cNvPicPr/>
          <p:nvPr/>
        </p:nvPicPr>
        <p:blipFill>
          <a:blip r:embed="rId2"/>
          <a:stretch/>
        </p:blipFill>
        <p:spPr>
          <a:xfrm>
            <a:off x="357120" y="92880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G:\МГ\8.jpg"/>
          <p:cNvPicPr/>
          <p:nvPr/>
        </p:nvPicPr>
        <p:blipFill>
          <a:blip r:embed="rId3"/>
          <a:stretch/>
        </p:blipFill>
        <p:spPr>
          <a:xfrm>
            <a:off x="4357800" y="1000080"/>
            <a:ext cx="2165400" cy="278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G:\МГ\2.jpg"/>
          <p:cNvPicPr/>
          <p:nvPr/>
        </p:nvPicPr>
        <p:blipFill>
          <a:blip r:embed="rId4"/>
          <a:stretch/>
        </p:blipFill>
        <p:spPr>
          <a:xfrm>
            <a:off x="2357280" y="1000080"/>
            <a:ext cx="2143440" cy="2751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G:\МГ\3.jpg"/>
          <p:cNvPicPr/>
          <p:nvPr/>
        </p:nvPicPr>
        <p:blipFill>
          <a:blip r:embed="rId5"/>
          <a:stretch/>
        </p:blipFill>
        <p:spPr>
          <a:xfrm>
            <a:off x="6429240" y="1000080"/>
            <a:ext cx="2143440" cy="2786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G:\МГ\4.jpg"/>
          <p:cNvPicPr/>
          <p:nvPr/>
        </p:nvPicPr>
        <p:blipFill>
          <a:blip r:embed="rId6"/>
          <a:stretch/>
        </p:blipFill>
        <p:spPr>
          <a:xfrm rot="6019800">
            <a:off x="6234480" y="3145320"/>
            <a:ext cx="1960560" cy="26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G:\МГ\6.jpg"/>
          <p:cNvPicPr/>
          <p:nvPr/>
        </p:nvPicPr>
        <p:blipFill>
          <a:blip r:embed="rId7"/>
          <a:stretch/>
        </p:blipFill>
        <p:spPr>
          <a:xfrm rot="4349400">
            <a:off x="634320" y="2879640"/>
            <a:ext cx="1886040" cy="271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G:\МГ\7.jpg"/>
          <p:cNvPicPr/>
          <p:nvPr/>
        </p:nvPicPr>
        <p:blipFill>
          <a:blip r:embed="rId8"/>
          <a:stretch/>
        </p:blipFill>
        <p:spPr>
          <a:xfrm>
            <a:off x="4214880" y="4714920"/>
            <a:ext cx="25718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ежливые с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2600" y="1214280"/>
            <a:ext cx="80722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  -  аккурат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Б  -  благодарный, бравый, благородный, будьте добры, будь зд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 -  вежливый, воспитанный, внимательный, всего хорош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Г  -  гордый, грамотный, гостеприимный,  галант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Д -  добрый, дисциплинированный, деликатный, друж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Е  -  единодушие, естественный, если вас не затрудн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Ж  -  желанный, жизнерадостный, жалостлив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З  -  заботливый, здравствуй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И  -  искренний, интересный, идеальный, извините, изобретат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  -  красота, красивый, культур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Л  -  любимый, ласковый, любезный, любознате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М  -  милый, миролюбивый, мудрый, милосердие, можно вой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Н  -  нежный, находчивый, надёжный, на здоровь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28548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О  --  очень ласковый, общительный, опрятный, отзывчивый, очарование, обаяние, откровен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 -  пожалуйста,  приличный, примерный, приятный, прилежный, порядочность, привет, простите, приятного сна, правиль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Р  -  радость, разговорчивый, работящий, рыцарство, радушие, рад вас видеть, род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  -  спасибо, спокойной ночи, скромный, сердечность, сове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Т  -  торжественный, трудолюбивый, терпение, талантливый, та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Ф  -  фантаз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Х  -  хорошо, храбрость, харак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Ц  -  ценный, целеустремленность, целомудр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Ч  -   честь, честный, человечный, чем вы беспокоитесь, чув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  -  шик, шикарный, шалость, шу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Щ  --щедрость, щадящ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Э  -  этикет, элегантный, экономный, эруди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Ю  -  юм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Я  -  ясный, ярки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Шэдитэ 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гэн</a:t>
            </a:r>
            <a:r>
              <a:rPr b="1" lang="el-GR" sz="5400" spc="-1" strike="noStrike">
                <a:solidFill>
                  <a:srgbClr val="ff0000"/>
                </a:solidFill>
                <a:latin typeface="Calibri"/>
              </a:rPr>
              <a:t>γγ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 -  аятай зохид, амар мэндэ, амаршалга, амар сайн, абын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ргаал, аха за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  -  бэрхэ, баярлаа, бая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  -  гоё, гоёнсуу, гайхамша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  -  дэмбэрэлтэй, д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шэлтэ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Ж  -  жэгтэй, жаргал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  -  зоригтой, з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хэтэй, зохидхон, зан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  -  илдам, инаг, ирагуу дуу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  -  мэндэ, мэндэшэлгэ, мэндэш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7120" y="42840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  -  намдуухан, найдамтай, наран шэ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  -  омогтой, оншотой, ойлгос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  -  сэбэрхэн, сэнтэй, сэбэр, сэгнэшэг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й, сайн, сэсэн 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Т  -  тэгшэ, танилтай, тал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  -  ухаатай, уян, урид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Х  -  хайратай, хани, х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дэм</a:t>
            </a:r>
            <a:r>
              <a:rPr b="1" lang="el-GR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γγ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-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н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хан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гаа зободог,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йн 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аат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Ш -  шадам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  -  этигэл, энэрхы, эбтэй, энхэргэн, эгээл зох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00_3519"/>
          <p:cNvPicPr/>
          <p:nvPr/>
        </p:nvPicPr>
        <p:blipFill>
          <a:blip r:embed="rId1"/>
          <a:stretch/>
        </p:blipFill>
        <p:spPr>
          <a:xfrm>
            <a:off x="2357280" y="285840"/>
            <a:ext cx="4000680" cy="2500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320" y="4214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конкурс «Юный Гэсэр» 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место, Дашинимаев А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) и «Юная Дангина»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 место, Батуева Д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районный конкурс «Юный Гэсэр»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участие)и «Юная Дангина» (участ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школьный конкурс чтецов в рамках недели родного языка (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2место, Андрёнов Б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100_3355"/>
          <p:cNvPicPr/>
          <p:nvPr/>
        </p:nvPicPr>
        <p:blipFill>
          <a:blip r:embed="rId2"/>
          <a:stretch/>
        </p:blipFill>
        <p:spPr>
          <a:xfrm rot="21409200">
            <a:off x="414360" y="1800000"/>
            <a:ext cx="313704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100_3388"/>
          <p:cNvPicPr/>
          <p:nvPr/>
        </p:nvPicPr>
        <p:blipFill>
          <a:blip r:embed="rId3"/>
          <a:stretch/>
        </p:blipFill>
        <p:spPr>
          <a:xfrm rot="607200">
            <a:off x="5380200" y="1961640"/>
            <a:ext cx="300024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214200" y="0"/>
            <a:ext cx="8929800" cy="6858000"/>
            <a:chOff x="214200" y="0"/>
            <a:chExt cx="8929800" cy="6858000"/>
          </a:xfrm>
        </p:grpSpPr>
        <p:pic>
          <p:nvPicPr>
            <p:cNvPr id="91" name="Picture 5" descr="skf5685"/>
            <p:cNvPicPr/>
            <p:nvPr/>
          </p:nvPicPr>
          <p:blipFill>
            <a:blip r:embed="rId1"/>
            <a:stretch/>
          </p:blipFill>
          <p:spPr>
            <a:xfrm>
              <a:off x="4162320" y="0"/>
              <a:ext cx="49816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skf4E51"/>
            <p:cNvPicPr/>
            <p:nvPr/>
          </p:nvPicPr>
          <p:blipFill>
            <a:blip r:embed="rId2"/>
            <a:stretch/>
          </p:blipFill>
          <p:spPr>
            <a:xfrm>
              <a:off x="214200" y="0"/>
              <a:ext cx="38530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7120" y="42840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ктуальность проект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ограниченный словарный запас  у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несформированность внутренней и внешней речи у первоклассник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неумение применять некоторые вежливые слова в общ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блем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Calibri"/>
              </a:rPr>
              <a:t>Слабое развитие речи у учащихся 1 кла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42920" y="0"/>
            <a:ext cx="9001080" cy="6858000"/>
            <a:chOff x="142920" y="0"/>
            <a:chExt cx="9001080" cy="6858000"/>
          </a:xfrm>
        </p:grpSpPr>
        <p:pic>
          <p:nvPicPr>
            <p:cNvPr id="94" name="Picture 5" descr="skf5DBA"/>
            <p:cNvPicPr/>
            <p:nvPr/>
          </p:nvPicPr>
          <p:blipFill>
            <a:blip r:embed="rId1"/>
            <a:stretch/>
          </p:blipFill>
          <p:spPr>
            <a:xfrm>
              <a:off x="142920" y="0"/>
              <a:ext cx="3929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skfDB8A"/>
            <p:cNvPicPr/>
            <p:nvPr/>
          </p:nvPicPr>
          <p:blipFill>
            <a:blip r:embed="rId2"/>
            <a:stretch/>
          </p:blipFill>
          <p:spPr>
            <a:xfrm>
              <a:off x="4162320" y="0"/>
              <a:ext cx="49816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"/>
          <p:cNvGrpSpPr/>
          <p:nvPr/>
        </p:nvGrpSpPr>
        <p:grpSpPr>
          <a:xfrm>
            <a:off x="285840" y="0"/>
            <a:ext cx="8572320" cy="6595920"/>
            <a:chOff x="285840" y="0"/>
            <a:chExt cx="8572320" cy="6595920"/>
          </a:xfrm>
        </p:grpSpPr>
        <p:pic>
          <p:nvPicPr>
            <p:cNvPr id="97" name="Picture 5" descr="skf5278"/>
            <p:cNvPicPr/>
            <p:nvPr/>
          </p:nvPicPr>
          <p:blipFill>
            <a:blip r:embed="rId1"/>
            <a:stretch/>
          </p:blipFill>
          <p:spPr>
            <a:xfrm>
              <a:off x="4357800" y="142920"/>
              <a:ext cx="4500360" cy="64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skfCA6F"/>
            <p:cNvPicPr/>
            <p:nvPr/>
          </p:nvPicPr>
          <p:blipFill>
            <a:blip r:embed="rId2"/>
            <a:stretch/>
          </p:blipFill>
          <p:spPr>
            <a:xfrm>
              <a:off x="285840" y="0"/>
              <a:ext cx="3929040" cy="645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7120" y="28584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создание условий для развития речи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ровести стартовую диагностику обследования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ыявить уровень развития речи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работа над созданием проекта: сбор информаций, материалов, самостоятельная работа детей, презент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960" y="2857680"/>
            <a:ext cx="8215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3333ff"/>
                </a:solidFill>
                <a:latin typeface="Calibri"/>
              </a:rPr>
              <a:t>Я организую этот проект совместно с родителями первоклассников, старшеклассниками. учителями начальных классов. Начну работу с первых уроков. На родительском собрании с детьми предложу на каждую букву русского алфавита придумать вежливое слово. Каждый ребенок вместе с родителем будет  реализовывать свой проект самостоятельно, а также оформлять его. В изготовлении изделия (проекта) родители будут поддерживать детей советом, помогать оформлять работы. После этого организую выставку детских проектов на две недели, затем презентация на празднике «Прощания с азбукой», выпуск брошюры и рукописного альбома «Азбука вежливости» и «Шэдитэ угэнууд».  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786040" y="142920"/>
            <a:ext cx="32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Концеп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28584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жида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Работа над данным проектом создаст условия для развития речи учащихся на русском, бурятском язы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оможет соблюдать правила общения в школе, классе, со взрослыми, с детьми и научит использовать необходимые правила речевого общ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будут развиваться коммуникативные, творческие способ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овысится уровень культуры общени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еханизм реал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999720"/>
            <a:ext cx="778680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Этапы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Первы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подготовительный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 сентябр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торо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основной -активных действий по реализации проекта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 сентябрь- м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Третий этап (</a:t>
            </a:r>
            <a:r>
              <a:rPr b="0" i="1" lang="ru-RU" sz="3200" spc="-1" strike="noStrike">
                <a:solidFill>
                  <a:srgbClr val="3333ff"/>
                </a:solidFill>
                <a:latin typeface="Calibri"/>
              </a:rPr>
              <a:t>заключительный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) - м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090440"/>
          <a:ext cx="8229600" cy="5124600"/>
        </p:xfrm>
        <a:graphic>
          <a:graphicData uri="http://schemas.openxmlformats.org/drawingml/2006/table">
            <a:tbl>
              <a:tblPr/>
              <a:tblGrid>
                <a:gridCol w="542880"/>
                <a:gridCol w="3643200"/>
                <a:gridCol w="1000440"/>
                <a:gridCol w="1928520"/>
                <a:gridCol w="1114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/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аз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рок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тветств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риме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  с 2-15 сентя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Диагностика учащихся 1 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Диагностика уровня межпредметного об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одбор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ьск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02.09-1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завуч по У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Основ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Проведение занятий по вежлив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Изучение 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Игры, тренин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Разработка проектов с родителями, старшеклассни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Sylfaen"/>
                        </a:rPr>
                        <a:t>Создание «Азбуки вежливост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6.09.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О начальных клас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таршеклассн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Прямоугольник 4"/>
          <p:cNvSpPr/>
          <p:nvPr/>
        </p:nvSpPr>
        <p:spPr>
          <a:xfrm>
            <a:off x="571680" y="285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лан мероприятий по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0040" y="428760"/>
          <a:ext cx="8186760" cy="4054320"/>
        </p:xfrm>
        <a:graphic>
          <a:graphicData uri="http://schemas.openxmlformats.org/drawingml/2006/table">
            <a:tbl>
              <a:tblPr/>
              <a:tblGrid>
                <a:gridCol w="428760"/>
                <a:gridCol w="4214880"/>
                <a:gridCol w="1071360"/>
                <a:gridCol w="1500120"/>
                <a:gridCol w="971640"/>
              </a:tblGrid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 этап. Коррекционно-аналитически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Анализ проделанной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Организация презент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ставка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ыпуск брошюры «Азбука вежливости» на русском и бурятском языке и распространение среди учащихся начальных классов школ рай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Создание рукописного альбома «Азбука вежливости»  учащихся 1 кл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роки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Данный проект рассчитан на весь период обучения грамоте -</a:t>
            </a:r>
            <a:r>
              <a:rPr b="1" lang="ru-RU" sz="3200" spc="-1" strike="noStrike">
                <a:solidFill>
                  <a:srgbClr val="3333ff"/>
                </a:solidFill>
                <a:latin typeface="Calibri"/>
              </a:rPr>
              <a:t>  с сентября  по март.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Специальных часов на создание данного проекта не предусматривается. Работа проводится во время уроков обучения грамоте и во внеурочное врем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0:13:35Z</dcterms:created>
  <dc:creator>Admin</dc:creator>
  <dc:description/>
  <dc:language>en-US</dc:language>
  <cp:lastModifiedBy>Uzer</cp:lastModifiedBy>
  <dcterms:modified xsi:type="dcterms:W3CDTF">2019-04-30T08:57:02Z</dcterms:modified>
  <cp:revision>95</cp:revision>
  <dc:subject/>
  <dc:title>Азбука вежливости или  Волшебные слова</dc:title>
</cp:coreProperties>
</file>