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406-DAD4-4E47-A8CC-4BC20C78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FDD-22BF-472B-A329-D0C043B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AA1-CF33-4892-BBE3-2D583FA3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29B-F367-43D8-9270-95F33D3E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CB8-18B7-4F18-9F75-E9EB9E2B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1DE-BBAF-4587-A9A6-011F459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5C4-AF4F-413E-A531-A9E370CF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B748-4D60-411F-A616-78CC3BA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28F-64BA-482A-90E8-B82F7471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EFB-0865-4A41-BE2E-1770BB8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486-164E-4867-B79D-9D410FC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47B-0D95-41A9-9FBA-8B26215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C809-6065-4722-8B45-F5505D25B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8" descr=""/>
          <p:cNvPicPr/>
          <p:nvPr/>
        </p:nvPicPr>
        <p:blipFill>
          <a:blip r:embed="rId1"/>
          <a:stretch/>
        </p:blipFill>
        <p:spPr>
          <a:xfrm>
            <a:off x="-471600" y="4970520"/>
            <a:ext cx="3895920" cy="2921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69" descr=""/>
          <p:cNvPicPr/>
          <p:nvPr/>
        </p:nvPicPr>
        <p:blipFill>
          <a:blip r:embed="rId2"/>
          <a:stretch/>
        </p:blipFill>
        <p:spPr>
          <a:xfrm>
            <a:off x="3951360" y="3408480"/>
            <a:ext cx="3895560" cy="29210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7" descr=""/>
          <p:cNvPicPr/>
          <p:nvPr/>
        </p:nvPicPr>
        <p:blipFill>
          <a:blip r:embed="rId3"/>
          <a:stretch/>
        </p:blipFill>
        <p:spPr>
          <a:xfrm>
            <a:off x="871560" y="1967040"/>
            <a:ext cx="3895560" cy="29224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1" descr=""/>
          <p:cNvPicPr/>
          <p:nvPr/>
        </p:nvPicPr>
        <p:blipFill>
          <a:blip r:embed="rId4"/>
          <a:stretch/>
        </p:blipFill>
        <p:spPr>
          <a:xfrm>
            <a:off x="6118200" y="463680"/>
            <a:ext cx="294660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2 часы"/>
          <p:cNvPicPr/>
          <p:nvPr/>
        </p:nvPicPr>
        <p:blipFill>
          <a:blip r:embed="rId5"/>
          <a:stretch/>
        </p:blipFill>
        <p:spPr>
          <a:xfrm>
            <a:off x="-119160" y="2619360"/>
            <a:ext cx="21542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46" name="Группа 8"/>
          <p:cNvGrpSpPr/>
          <p:nvPr/>
        </p:nvGrpSpPr>
        <p:grpSpPr>
          <a:xfrm>
            <a:off x="493560" y="1285920"/>
            <a:ext cx="928800" cy="541440"/>
            <a:chOff x="493560" y="1285920"/>
            <a:chExt cx="928800" cy="541440"/>
          </a:xfrm>
        </p:grpSpPr>
        <p:sp>
          <p:nvSpPr>
            <p:cNvPr id="47" name="Cloud"/>
            <p:cNvSpPr/>
            <p:nvPr/>
          </p:nvSpPr>
          <p:spPr>
            <a:xfrm>
              <a:off x="493560" y="1285920"/>
              <a:ext cx="928800" cy="397080"/>
            </a:xfrm>
            <a:custGeom>
              <a:avLst/>
              <a:gdLst>
                <a:gd name="textAreaLeft" fmla="*/ 127800 w 928800"/>
                <a:gd name="textAreaRight" fmla="*/ 734760 w 92880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 flipH="1">
              <a:off x="582120" y="1610280"/>
              <a:ext cx="176400" cy="217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 flipH="1">
              <a:off x="758520" y="1610280"/>
              <a:ext cx="221040" cy="217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H="1">
              <a:off x="979920" y="1610280"/>
              <a:ext cx="176400" cy="217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Рисунок 30" descr=""/>
          <p:cNvPicPr/>
          <p:nvPr/>
        </p:nvPicPr>
        <p:blipFill>
          <a:blip r:embed="rId6"/>
          <a:stretch/>
        </p:blipFill>
        <p:spPr>
          <a:xfrm>
            <a:off x="3841920" y="709560"/>
            <a:ext cx="2371680" cy="1695600"/>
          </a:xfrm>
          <a:prstGeom prst="rect">
            <a:avLst/>
          </a:prstGeom>
          <a:ln w="0">
            <a:noFill/>
          </a:ln>
        </p:spPr>
      </p:pic>
      <p:grpSp>
        <p:nvGrpSpPr>
          <p:cNvPr id="52" name="Группа 32"/>
          <p:cNvGrpSpPr/>
          <p:nvPr/>
        </p:nvGrpSpPr>
        <p:grpSpPr>
          <a:xfrm>
            <a:off x="5940000" y="2797200"/>
            <a:ext cx="676800" cy="792000"/>
            <a:chOff x="5940000" y="2797200"/>
            <a:chExt cx="676800" cy="792000"/>
          </a:xfrm>
        </p:grpSpPr>
        <p:sp>
          <p:nvSpPr>
            <p:cNvPr id="53" name="Line 16"/>
            <p:cNvSpPr/>
            <p:nvPr/>
          </p:nvSpPr>
          <p:spPr>
            <a:xfrm flipH="1">
              <a:off x="5940000" y="2797200"/>
              <a:ext cx="307800" cy="792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7"/>
            <p:cNvSpPr/>
            <p:nvPr/>
          </p:nvSpPr>
          <p:spPr>
            <a:xfrm>
              <a:off x="6248160" y="2797200"/>
              <a:ext cx="368640" cy="792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8"/>
            <p:cNvSpPr/>
            <p:nvPr/>
          </p:nvSpPr>
          <p:spPr>
            <a:xfrm flipH="1" flipV="1" rot="21466200">
              <a:off x="6063480" y="2869920"/>
              <a:ext cx="447480" cy="423720"/>
            </a:xfrm>
            <a:custGeom>
              <a:avLst/>
              <a:gdLst>
                <a:gd name="textAreaLeft" fmla="*/ -360 w 447480"/>
                <a:gd name="textAreaRight" fmla="*/ 447480 w 447480"/>
                <a:gd name="textAreaTop" fmla="*/ -360 h 423720"/>
                <a:gd name="textAreaBottom" fmla="*/ 423720 h 423720"/>
              </a:gdLst>
              <a:ahLst/>
              <a:rect l="textAreaLeft" t="textAreaTop" r="textAreaRight" b="textAreaBottom"/>
              <a:pathLst>
                <a:path fill="none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</a:path>
                <a:path stroke="0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  <a:lnTo>
                    <a:pt x="17561" y="21600"/>
                  </a:lnTo>
                  <a:lnTo>
                    <a:pt x="-1" y="9023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3"/>
          <p:cNvSpPr/>
          <p:nvPr/>
        </p:nvSpPr>
        <p:spPr>
          <a:xfrm>
            <a:off x="2272680" y="10206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9"/>
          <p:cNvGrpSpPr/>
          <p:nvPr/>
        </p:nvGrpSpPr>
        <p:grpSpPr>
          <a:xfrm>
            <a:off x="4462560" y="2919240"/>
            <a:ext cx="565200" cy="677880"/>
            <a:chOff x="4462560" y="2919240"/>
            <a:chExt cx="565200" cy="677880"/>
          </a:xfrm>
        </p:grpSpPr>
        <p:sp>
          <p:nvSpPr>
            <p:cNvPr id="58" name="Line 12"/>
            <p:cNvSpPr/>
            <p:nvPr/>
          </p:nvSpPr>
          <p:spPr>
            <a:xfrm>
              <a:off x="4462560" y="2919240"/>
              <a:ext cx="0" cy="67788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3"/>
            <p:cNvSpPr/>
            <p:nvPr/>
          </p:nvSpPr>
          <p:spPr>
            <a:xfrm>
              <a:off x="4462560" y="2919240"/>
              <a:ext cx="565200" cy="4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4592880" y="3037320"/>
              <a:ext cx="3477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4592880" y="3125520"/>
              <a:ext cx="3477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4592880" y="3214080"/>
              <a:ext cx="34776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43"/>
          <p:cNvGrpSpPr/>
          <p:nvPr/>
        </p:nvGrpSpPr>
        <p:grpSpPr>
          <a:xfrm>
            <a:off x="7451640" y="2689200"/>
            <a:ext cx="647640" cy="1008000"/>
            <a:chOff x="7451640" y="2689200"/>
            <a:chExt cx="647640" cy="1008000"/>
          </a:xfrm>
        </p:grpSpPr>
        <p:sp>
          <p:nvSpPr>
            <p:cNvPr id="64" name="AutoShape 38"/>
            <p:cNvSpPr/>
            <p:nvPr/>
          </p:nvSpPr>
          <p:spPr>
            <a:xfrm>
              <a:off x="7451640" y="2689200"/>
              <a:ext cx="647640" cy="1008000"/>
            </a:xfrm>
            <a:custGeom>
              <a:avLst/>
              <a:gdLst>
                <a:gd name="textAreaLeft" fmla="*/ 31320 w 647640"/>
                <a:gd name="textAreaRight" fmla="*/ 616320 w 647640"/>
                <a:gd name="textAreaTop" fmla="*/ 31320 h 1008000"/>
                <a:gd name="textAreaBottom" fmla="*/ 976680 h 1008000"/>
              </a:gdLst>
              <a:ahLst/>
              <a:rect l="textAreaLeft" t="textAreaTop" r="textAreaRight" b="textAreaBottom"/>
              <a:pathLst>
                <a:path w="21600" h="33612">
                  <a:moveTo>
                    <a:pt x="3600" y="0"/>
                  </a:moveTo>
                  <a:arcTo wR="3600" hR="3600" stAng="16200000" swAng="-5400000"/>
                  <a:lnTo>
                    <a:pt x="0" y="30012"/>
                  </a:lnTo>
                  <a:arcTo wR="3600" hR="3600" stAng="10800000" swAng="-5400000"/>
                  <a:lnTo>
                    <a:pt x="18000" y="3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door"/>
            <p:cNvSpPr/>
            <p:nvPr/>
          </p:nvSpPr>
          <p:spPr>
            <a:xfrm>
              <a:off x="7589880" y="2806920"/>
              <a:ext cx="288720" cy="215640"/>
            </a:xfrm>
            <a:custGeom>
              <a:avLst/>
              <a:gdLst>
                <a:gd name="textAreaLeft" fmla="*/ 35640 w 288720"/>
                <a:gd name="textAreaRight" fmla="*/ 179280 w 288720"/>
                <a:gd name="textAreaTop" fmla="*/ 111600 h 215640"/>
                <a:gd name="textAreaBottom" fmla="*/ 2012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door"/>
            <p:cNvSpPr/>
            <p:nvPr/>
          </p:nvSpPr>
          <p:spPr>
            <a:xfrm>
              <a:off x="7878960" y="2846160"/>
              <a:ext cx="215640" cy="144360"/>
            </a:xfrm>
            <a:custGeom>
              <a:avLst/>
              <a:gdLst>
                <a:gd name="textAreaLeft" fmla="*/ 26640 w 215640"/>
                <a:gd name="textAreaRight" fmla="*/ 133920 w 215640"/>
                <a:gd name="textAreaTop" fmla="*/ 74880 h 144360"/>
                <a:gd name="textAreaBottom" fmla="*/ 13464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21600"/>
                  </a:moveTo>
                  <a:lnTo>
                    <a:pt x="6007" y="127"/>
                  </a:lnTo>
                  <a:lnTo>
                    <a:pt x="4665" y="2541"/>
                  </a:lnTo>
                  <a:lnTo>
                    <a:pt x="3579" y="5209"/>
                  </a:lnTo>
                  <a:lnTo>
                    <a:pt x="2492" y="8259"/>
                  </a:lnTo>
                  <a:lnTo>
                    <a:pt x="1598" y="11308"/>
                  </a:lnTo>
                  <a:lnTo>
                    <a:pt x="959" y="14739"/>
                  </a:lnTo>
                  <a:lnTo>
                    <a:pt x="383" y="18169"/>
                  </a:lnTo>
                  <a:lnTo>
                    <a:pt x="0" y="216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Группа 52"/>
          <p:cNvGrpSpPr/>
          <p:nvPr/>
        </p:nvGrpSpPr>
        <p:grpSpPr>
          <a:xfrm>
            <a:off x="179280" y="4173480"/>
            <a:ext cx="3240360" cy="936360"/>
            <a:chOff x="179280" y="4173480"/>
            <a:chExt cx="3240360" cy="936360"/>
          </a:xfrm>
        </p:grpSpPr>
        <p:sp>
          <p:nvSpPr>
            <p:cNvPr id="68" name="Freeform 18"/>
            <p:cNvSpPr/>
            <p:nvPr/>
          </p:nvSpPr>
          <p:spPr>
            <a:xfrm>
              <a:off x="2217240" y="4173480"/>
              <a:ext cx="1202400" cy="839880"/>
            </a:xfrm>
            <a:custGeom>
              <a:avLst/>
              <a:gdLst>
                <a:gd name="textAreaLeft" fmla="*/ 0 w 1202400"/>
                <a:gd name="textAreaRight" fmla="*/ 1202400 w 120240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w="1633" h="1180">
                  <a:moveTo>
                    <a:pt x="0" y="1089"/>
                  </a:moveTo>
                  <a:lnTo>
                    <a:pt x="680" y="0"/>
                  </a:lnTo>
                  <a:lnTo>
                    <a:pt x="1089" y="1180"/>
                  </a:lnTo>
                  <a:lnTo>
                    <a:pt x="816" y="363"/>
                  </a:lnTo>
                  <a:lnTo>
                    <a:pt x="1134" y="46"/>
                  </a:lnTo>
                  <a:lnTo>
                    <a:pt x="1633" y="1134"/>
                  </a:lnTo>
                </a:path>
              </a:pathLst>
            </a:custGeom>
            <a:solidFill>
              <a:srgbClr val="cc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1347840" y="4657680"/>
              <a:ext cx="6015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 flipV="1">
              <a:off x="179280" y="430200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 flipV="1">
              <a:off x="345600" y="423756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 flipV="1">
              <a:off x="479520" y="420516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5"/>
            <p:cNvSpPr/>
            <p:nvPr/>
          </p:nvSpPr>
          <p:spPr>
            <a:xfrm flipV="1">
              <a:off x="445680" y="436680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6"/>
            <p:cNvSpPr/>
            <p:nvPr/>
          </p:nvSpPr>
          <p:spPr>
            <a:xfrm flipV="1">
              <a:off x="479520" y="4463640"/>
              <a:ext cx="533880" cy="646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Группа 66"/>
          <p:cNvGrpSpPr/>
          <p:nvPr/>
        </p:nvGrpSpPr>
        <p:grpSpPr>
          <a:xfrm>
            <a:off x="3951360" y="4430880"/>
            <a:ext cx="997200" cy="504720"/>
            <a:chOff x="3951360" y="4430880"/>
            <a:chExt cx="997200" cy="504720"/>
          </a:xfrm>
        </p:grpSpPr>
        <p:grpSp>
          <p:nvGrpSpPr>
            <p:cNvPr id="76" name="Группа 62"/>
            <p:cNvGrpSpPr/>
            <p:nvPr/>
          </p:nvGrpSpPr>
          <p:grpSpPr>
            <a:xfrm>
              <a:off x="3951360" y="4430880"/>
              <a:ext cx="792000" cy="504720"/>
              <a:chOff x="3951360" y="4430880"/>
              <a:chExt cx="792000" cy="504720"/>
            </a:xfrm>
          </p:grpSpPr>
          <p:sp>
            <p:nvSpPr>
              <p:cNvPr id="77" name="Line 94"/>
              <p:cNvSpPr/>
              <p:nvPr/>
            </p:nvSpPr>
            <p:spPr>
              <a:xfrm>
                <a:off x="4527720" y="4503600"/>
                <a:ext cx="215640" cy="4320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97"/>
              <p:cNvSpPr/>
              <p:nvPr/>
            </p:nvSpPr>
            <p:spPr>
              <a:xfrm flipH="1">
                <a:off x="3951360" y="4503600"/>
                <a:ext cx="288720" cy="43200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98"/>
              <p:cNvSpPr/>
              <p:nvPr/>
            </p:nvSpPr>
            <p:spPr>
              <a:xfrm>
                <a:off x="4240080" y="4430880"/>
                <a:ext cx="287280" cy="1443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Блок-схема: перфолента 61"/>
            <p:cNvSpPr/>
            <p:nvPr/>
          </p:nvSpPr>
          <p:spPr>
            <a:xfrm rot="2513400">
              <a:off x="4458960" y="4635720"/>
              <a:ext cx="512640" cy="126720"/>
            </a:xfrm>
            <a:prstGeom prst="flowChartPunchedTap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Рисунок 68" descr=""/>
          <p:cNvPicPr/>
          <p:nvPr/>
        </p:nvPicPr>
        <p:blipFill>
          <a:blip r:embed="rId7"/>
          <a:stretch/>
        </p:blipFill>
        <p:spPr>
          <a:xfrm>
            <a:off x="7105680" y="3909960"/>
            <a:ext cx="16351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70"/>
          <p:cNvGrpSpPr/>
          <p:nvPr/>
        </p:nvGrpSpPr>
        <p:grpSpPr>
          <a:xfrm>
            <a:off x="2455920" y="5727600"/>
            <a:ext cx="2571840" cy="804960"/>
            <a:chOff x="2455920" y="5727600"/>
            <a:chExt cx="2571840" cy="804960"/>
          </a:xfrm>
        </p:grpSpPr>
        <p:sp>
          <p:nvSpPr>
            <p:cNvPr id="83" name="AutoShape 4"/>
            <p:cNvSpPr/>
            <p:nvPr/>
          </p:nvSpPr>
          <p:spPr>
            <a:xfrm>
              <a:off x="2455920" y="5800680"/>
              <a:ext cx="603000" cy="731880"/>
            </a:xfrm>
            <a:custGeom>
              <a:avLst/>
              <a:gdLst>
                <a:gd name="textAreaLeft" fmla="*/ 29160 w 603000"/>
                <a:gd name="textAreaRight" fmla="*/ 573840 w 603000"/>
                <a:gd name="textAreaTop" fmla="*/ 29160 h 731880"/>
                <a:gd name="textAreaBottom" fmla="*/ 702720 h 731880"/>
              </a:gdLst>
              <a:ahLst/>
              <a:rect l="textAreaLeft" t="textAreaTop" r="textAreaRight" b="textAreaBottom"/>
              <a:pathLst>
                <a:path w="21600" h="26214">
                  <a:moveTo>
                    <a:pt x="3600" y="0"/>
                  </a:moveTo>
                  <a:arcTo wR="3600" hR="3600" stAng="16200000" swAng="-5400000"/>
                  <a:lnTo>
                    <a:pt x="0" y="22614"/>
                  </a:lnTo>
                  <a:arcTo wR="3600" hR="3600" stAng="10800000" swAng="-5400000"/>
                  <a:lnTo>
                    <a:pt x="18000" y="262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5"/>
            <p:cNvSpPr/>
            <p:nvPr/>
          </p:nvSpPr>
          <p:spPr>
            <a:xfrm>
              <a:off x="3249360" y="6142320"/>
              <a:ext cx="762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4424760" y="5776200"/>
              <a:ext cx="0" cy="75636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7"/>
            <p:cNvSpPr/>
            <p:nvPr/>
          </p:nvSpPr>
          <p:spPr>
            <a:xfrm>
              <a:off x="4424760" y="5727600"/>
              <a:ext cx="603000" cy="56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"/>
            <p:cNvSpPr/>
            <p:nvPr/>
          </p:nvSpPr>
          <p:spPr>
            <a:xfrm>
              <a:off x="4519800" y="5873760"/>
              <a:ext cx="412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4519800" y="5995800"/>
              <a:ext cx="412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4551120" y="6117840"/>
              <a:ext cx="41220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79"/>
          <p:cNvGrpSpPr/>
          <p:nvPr/>
        </p:nvGrpSpPr>
        <p:grpSpPr>
          <a:xfrm>
            <a:off x="5773680" y="5800680"/>
            <a:ext cx="1008000" cy="576360"/>
            <a:chOff x="5773680" y="5800680"/>
            <a:chExt cx="1008000" cy="576360"/>
          </a:xfrm>
        </p:grpSpPr>
        <p:sp>
          <p:nvSpPr>
            <p:cNvPr id="91" name="Rectangle 19"/>
            <p:cNvSpPr/>
            <p:nvPr/>
          </p:nvSpPr>
          <p:spPr>
            <a:xfrm>
              <a:off x="5773680" y="5800680"/>
              <a:ext cx="1008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0"/>
            <p:cNvSpPr/>
            <p:nvPr/>
          </p:nvSpPr>
          <p:spPr>
            <a:xfrm>
              <a:off x="5918040" y="5945040"/>
              <a:ext cx="72072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1"/>
            <p:cNvSpPr/>
            <p:nvPr/>
          </p:nvSpPr>
          <p:spPr>
            <a:xfrm>
              <a:off x="6062400" y="6016680"/>
              <a:ext cx="360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38"/>
          <p:cNvSpPr/>
          <p:nvPr/>
        </p:nvSpPr>
        <p:spPr>
          <a:xfrm>
            <a:off x="7385040" y="5584680"/>
            <a:ext cx="647640" cy="100836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1008360"/>
              <a:gd name="textAreaBottom" fmla="*/ 977040 h 1008360"/>
            </a:gdLst>
            <a:ahLst/>
            <a:rect l="textAreaLeft" t="textAreaTop" r="textAreaRight" b="textAreaBottom"/>
            <a:pathLst>
              <a:path w="21600" h="33624">
                <a:moveTo>
                  <a:pt x="3600" y="0"/>
                </a:moveTo>
                <a:arcTo wR="3600" hR="3600" stAng="16200000" swAng="-5400000"/>
                <a:lnTo>
                  <a:pt x="0" y="30024"/>
                </a:lnTo>
                <a:arcTo wR="3600" hR="3600" stAng="10800000" swAng="-5400000"/>
                <a:lnTo>
                  <a:pt x="18000" y="33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501120" y="284040"/>
            <a:ext cx="79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Роль климатообразующих факторов (КФ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в формировании климата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4427640" y="2349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H="1">
            <a:off x="3276720" y="3213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>
            <a:off x="4788000" y="3716280"/>
            <a:ext cx="288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3708000" y="3716280"/>
            <a:ext cx="35892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5076720" y="321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53080" y="1557360"/>
            <a:ext cx="13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725800" y="27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702160" y="27813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Группа 1"/>
          <p:cNvGrpSpPr/>
          <p:nvPr/>
        </p:nvGrpSpPr>
        <p:grpSpPr>
          <a:xfrm>
            <a:off x="5219280" y="4076640"/>
            <a:ext cx="792720" cy="792360"/>
            <a:chOff x="5219280" y="4076640"/>
            <a:chExt cx="792720" cy="792360"/>
          </a:xfrm>
        </p:grpSpPr>
        <p:sp>
          <p:nvSpPr>
            <p:cNvPr id="105" name="Line 16"/>
            <p:cNvSpPr/>
            <p:nvPr/>
          </p:nvSpPr>
          <p:spPr>
            <a:xfrm flipH="1">
              <a:off x="5219280" y="4076640"/>
              <a:ext cx="360360" cy="792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7"/>
            <p:cNvSpPr/>
            <p:nvPr/>
          </p:nvSpPr>
          <p:spPr>
            <a:xfrm>
              <a:off x="5580000" y="4076640"/>
              <a:ext cx="432000" cy="792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18"/>
            <p:cNvSpPr/>
            <p:nvPr/>
          </p:nvSpPr>
          <p:spPr>
            <a:xfrm flipH="1" flipV="1" rot="21466200">
              <a:off x="5363280" y="4149360"/>
              <a:ext cx="524160" cy="424080"/>
            </a:xfrm>
            <a:custGeom>
              <a:avLst/>
              <a:gdLst>
                <a:gd name="textAreaLeft" fmla="*/ 0 w 524160"/>
                <a:gd name="textAreaRight" fmla="*/ 524160 w 524160"/>
                <a:gd name="textAreaTop" fmla="*/ 360 h 424080"/>
                <a:gd name="textAreaBottom" fmla="*/ 424800 h 424080"/>
              </a:gdLst>
              <a:ahLst/>
              <a:rect l="textAreaLeft" t="textAreaTop" r="textAreaRight" b="textAreaBottom"/>
              <a:pathLst>
                <a:path fill="none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</a:path>
                <a:path stroke="0" w="39161" h="42393">
                  <a:moveTo>
                    <a:pt x="-1" y="9023"/>
                  </a:moveTo>
                  <a:cubicBezTo>
                    <a:pt x="4055" y="3359"/>
                    <a:pt x="10594" y="-1"/>
                    <a:pt x="17561" y="0"/>
                  </a:cubicBezTo>
                  <a:cubicBezTo>
                    <a:pt x="29490" y="0"/>
                    <a:pt x="39161" y="9670"/>
                    <a:pt x="39161" y="21600"/>
                  </a:cubicBezTo>
                  <a:cubicBezTo>
                    <a:pt x="39161" y="31277"/>
                    <a:pt x="32724" y="39773"/>
                    <a:pt x="23409" y="42393"/>
                  </a:cubicBezTo>
                  <a:lnTo>
                    <a:pt x="17561" y="21600"/>
                  </a:lnTo>
                  <a:lnTo>
                    <a:pt x="-1" y="9023"/>
                  </a:lnTo>
                  <a:close/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2"/>
          <p:cNvGrpSpPr/>
          <p:nvPr/>
        </p:nvGrpSpPr>
        <p:grpSpPr>
          <a:xfrm>
            <a:off x="2627280" y="4292640"/>
            <a:ext cx="1008000" cy="576360"/>
            <a:chOff x="2627280" y="4292640"/>
            <a:chExt cx="1008000" cy="576360"/>
          </a:xfrm>
        </p:grpSpPr>
        <p:sp>
          <p:nvSpPr>
            <p:cNvPr id="109" name="Rectangle 19"/>
            <p:cNvSpPr/>
            <p:nvPr/>
          </p:nvSpPr>
          <p:spPr>
            <a:xfrm>
              <a:off x="2627280" y="4292640"/>
              <a:ext cx="1008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2771640" y="4437000"/>
              <a:ext cx="72072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1"/>
            <p:cNvSpPr/>
            <p:nvPr/>
          </p:nvSpPr>
          <p:spPr>
            <a:xfrm>
              <a:off x="2916000" y="4508640"/>
              <a:ext cx="360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23"/>
          <p:cNvSpPr/>
          <p:nvPr/>
        </p:nvSpPr>
        <p:spPr>
          <a:xfrm>
            <a:off x="2195640" y="3141720"/>
            <a:ext cx="576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 flipH="1">
            <a:off x="2195640" y="3357720"/>
            <a:ext cx="576000" cy="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3924360" y="2997360"/>
            <a:ext cx="10792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4120920" y="298764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>
            <a:off x="1547640" y="1341360"/>
            <a:ext cx="6337440" cy="5327640"/>
          </a:xfrm>
          <a:prstGeom prst="flowChartMerg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3789360"/>
            <a:ext cx="3671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589440" y="3619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835280" y="1916280"/>
            <a:ext cx="5689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140360" y="5589720"/>
            <a:ext cx="115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496320" y="3141720"/>
            <a:ext cx="284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→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787640" y="3357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4716360" y="1700280"/>
            <a:ext cx="0" cy="1081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4716360" y="1628640"/>
            <a:ext cx="86544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4859280" y="1989000"/>
            <a:ext cx="6476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4788000" y="220500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4788000" y="1773360"/>
            <a:ext cx="576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4"/>
          <p:cNvGrpSpPr/>
          <p:nvPr/>
        </p:nvGrpSpPr>
        <p:grpSpPr>
          <a:xfrm>
            <a:off x="6443640" y="189000"/>
            <a:ext cx="1513080" cy="792000"/>
            <a:chOff x="6443640" y="189000"/>
            <a:chExt cx="1513080" cy="792000"/>
          </a:xfrm>
        </p:grpSpPr>
        <p:sp>
          <p:nvSpPr>
            <p:cNvPr id="129" name="Cloud"/>
            <p:cNvSpPr/>
            <p:nvPr/>
          </p:nvSpPr>
          <p:spPr>
            <a:xfrm>
              <a:off x="6443640" y="189000"/>
              <a:ext cx="1513080" cy="792000"/>
            </a:xfrm>
            <a:custGeom>
              <a:avLst/>
              <a:gdLst>
                <a:gd name="textAreaLeft" fmla="*/ 208440 w 1513080"/>
                <a:gd name="textAreaRight" fmla="*/ 1197000 w 1513080"/>
                <a:gd name="textAreaTop" fmla="*/ 119520 h 792000"/>
                <a:gd name="textAreaBottom" fmla="*/ 63576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1"/>
            <p:cNvSpPr/>
            <p:nvPr/>
          </p:nvSpPr>
          <p:spPr>
            <a:xfrm>
              <a:off x="6735240" y="33336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В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Line 22"/>
          <p:cNvSpPr/>
          <p:nvPr/>
        </p:nvSpPr>
        <p:spPr>
          <a:xfrm>
            <a:off x="665964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4284720" y="76500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 flipH="1">
            <a:off x="4572000" y="981000"/>
            <a:ext cx="1944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 flipH="1">
            <a:off x="5076720" y="1125360"/>
            <a:ext cx="1944720" cy="1729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5902200" y="1531800"/>
            <a:ext cx="124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-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loud"/>
          <p:cNvSpPr/>
          <p:nvPr/>
        </p:nvSpPr>
        <p:spPr>
          <a:xfrm>
            <a:off x="5470560" y="240984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9"/>
          <p:cNvSpPr/>
          <p:nvPr/>
        </p:nvSpPr>
        <p:spPr>
          <a:xfrm>
            <a:off x="5484960" y="238752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0"/>
          <p:cNvSpPr/>
          <p:nvPr/>
        </p:nvSpPr>
        <p:spPr>
          <a:xfrm flipV="1">
            <a:off x="5473800" y="237168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1"/>
          <p:cNvSpPr/>
          <p:nvPr/>
        </p:nvSpPr>
        <p:spPr>
          <a:xfrm flipH="1">
            <a:off x="6154200" y="2120760"/>
            <a:ext cx="289080" cy="1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4627440" y="43909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-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с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3"/>
          <p:cNvSpPr/>
          <p:nvPr/>
        </p:nvSpPr>
        <p:spPr>
          <a:xfrm flipH="1" flipV="1">
            <a:off x="5435640" y="5516280"/>
            <a:ext cx="50328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4"/>
          <p:cNvSpPr/>
          <p:nvPr/>
        </p:nvSpPr>
        <p:spPr>
          <a:xfrm flipH="1" flipV="1">
            <a:off x="5580000" y="5229360"/>
            <a:ext cx="50328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H="1" flipV="1">
            <a:off x="5651280" y="4941360"/>
            <a:ext cx="50292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loud"/>
          <p:cNvSpPr/>
          <p:nvPr/>
        </p:nvSpPr>
        <p:spPr>
          <a:xfrm>
            <a:off x="4932360" y="5229360"/>
            <a:ext cx="579600" cy="215640"/>
          </a:xfrm>
          <a:custGeom>
            <a:avLst/>
            <a:gdLst>
              <a:gd name="textAreaLeft" fmla="*/ 79920 w 579600"/>
              <a:gd name="textAreaRight" fmla="*/ 458640 w 57960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521964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8"/>
          <p:cNvSpPr/>
          <p:nvPr/>
        </p:nvSpPr>
        <p:spPr>
          <a:xfrm flipH="1">
            <a:off x="5003640" y="5300640"/>
            <a:ext cx="14472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9"/>
          <p:cNvSpPr/>
          <p:nvPr/>
        </p:nvSpPr>
        <p:spPr>
          <a:xfrm flipH="1">
            <a:off x="514800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0"/>
          <p:cNvSpPr/>
          <p:nvPr/>
        </p:nvSpPr>
        <p:spPr>
          <a:xfrm flipH="1">
            <a:off x="5292360" y="5300640"/>
            <a:ext cx="144360" cy="28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5292720" y="2852640"/>
            <a:ext cx="57456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5364000" y="2924280"/>
            <a:ext cx="432000" cy="21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3"/>
          <p:cNvSpPr/>
          <p:nvPr/>
        </p:nvSpPr>
        <p:spPr>
          <a:xfrm>
            <a:off x="5435640" y="2997360"/>
            <a:ext cx="21600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3855960" y="278136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5"/>
          <p:cNvSpPr/>
          <p:nvPr/>
        </p:nvSpPr>
        <p:spPr>
          <a:xfrm flipH="1" flipV="1">
            <a:off x="3850920" y="5589720"/>
            <a:ext cx="360360" cy="5745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 flipH="1" flipV="1">
            <a:off x="3348000" y="4581000"/>
            <a:ext cx="503280" cy="86364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8"/>
          <p:cNvSpPr/>
          <p:nvPr/>
        </p:nvSpPr>
        <p:spPr>
          <a:xfrm flipV="1">
            <a:off x="4140360" y="6308280"/>
            <a:ext cx="21564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9"/>
          <p:cNvSpPr/>
          <p:nvPr/>
        </p:nvSpPr>
        <p:spPr>
          <a:xfrm flipH="1">
            <a:off x="1331640" y="1413000"/>
            <a:ext cx="21564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0"/>
          <p:cNvSpPr/>
          <p:nvPr/>
        </p:nvSpPr>
        <p:spPr>
          <a:xfrm flipH="1">
            <a:off x="1655640" y="1757520"/>
            <a:ext cx="106560" cy="7207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 rot="20978400">
            <a:off x="1281240" y="333540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2"/>
          <p:cNvSpPr/>
          <p:nvPr/>
        </p:nvSpPr>
        <p:spPr>
          <a:xfrm rot="17063400">
            <a:off x="675720" y="15274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ана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3"/>
          <p:cNvSpPr/>
          <p:nvPr/>
        </p:nvSpPr>
        <p:spPr>
          <a:xfrm rot="3736800">
            <a:off x="2640240" y="493092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енг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т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loud"/>
          <p:cNvSpPr/>
          <p:nvPr/>
        </p:nvSpPr>
        <p:spPr>
          <a:xfrm>
            <a:off x="2165400" y="1924200"/>
            <a:ext cx="579240" cy="388800"/>
          </a:xfrm>
          <a:custGeom>
            <a:avLst/>
            <a:gdLst>
              <a:gd name="textAreaLeft" fmla="*/ 79560 w 579240"/>
              <a:gd name="textAreaRight" fmla="*/ 458280 w 579240"/>
              <a:gd name="textAreaTop" fmla="*/ 58680 h 388800"/>
              <a:gd name="textAreaBottom" fmla="*/ 312120 h 3888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3"/>
          <p:cNvSpPr/>
          <p:nvPr/>
        </p:nvSpPr>
        <p:spPr>
          <a:xfrm>
            <a:off x="2201760" y="1940040"/>
            <a:ext cx="5763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64"/>
          <p:cNvSpPr/>
          <p:nvPr/>
        </p:nvSpPr>
        <p:spPr>
          <a:xfrm flipV="1">
            <a:off x="2141640" y="1882800"/>
            <a:ext cx="57600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 rot="3670200">
            <a:off x="3292920" y="463356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Нами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66"/>
          <p:cNvSpPr/>
          <p:nvPr/>
        </p:nvSpPr>
        <p:spPr>
          <a:xfrm rot="18223800">
            <a:off x="274536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lnTo>
                  <a:pt x="13484" y="0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7"/>
          <p:cNvSpPr/>
          <p:nvPr/>
        </p:nvSpPr>
        <p:spPr>
          <a:xfrm rot="18223800">
            <a:off x="3105720" y="2878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lnTo>
                  <a:pt x="13484" y="0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68"/>
          <p:cNvSpPr/>
          <p:nvPr/>
        </p:nvSpPr>
        <p:spPr>
          <a:xfrm rot="18223800">
            <a:off x="3464280" y="2662920"/>
            <a:ext cx="790560" cy="449280"/>
          </a:xfrm>
          <a:custGeom>
            <a:avLst/>
            <a:gdLst>
              <a:gd name="textAreaLeft" fmla="*/ 0 w 790560"/>
              <a:gd name="textAreaRight" fmla="*/ 790920 w 790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fill="none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</a:path>
              <a:path stroke="0" w="21600" h="16874">
                <a:moveTo>
                  <a:pt x="13484" y="0"/>
                </a:moveTo>
                <a:cubicBezTo>
                  <a:pt x="18581" y="4073"/>
                  <a:pt x="21564" y="10232"/>
                  <a:pt x="21599" y="16757"/>
                </a:cubicBezTo>
                <a:lnTo>
                  <a:pt x="0" y="16874"/>
                </a:lnTo>
                <a:lnTo>
                  <a:pt x="13484" y="0"/>
                </a:lnTo>
                <a:close/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2"/>
          <p:cNvSpPr/>
          <p:nvPr/>
        </p:nvSpPr>
        <p:spPr>
          <a:xfrm flipV="1" rot="16200000">
            <a:off x="4138920" y="465300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3"/>
          <p:cNvSpPr/>
          <p:nvPr/>
        </p:nvSpPr>
        <p:spPr>
          <a:xfrm flipV="1" rot="16200000">
            <a:off x="4499280" y="479736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4"/>
          <p:cNvSpPr/>
          <p:nvPr/>
        </p:nvSpPr>
        <p:spPr>
          <a:xfrm flipV="1" rot="16200000">
            <a:off x="4354920" y="4940280"/>
            <a:ext cx="71640" cy="358920"/>
          </a:xfrm>
          <a:custGeom>
            <a:avLst/>
            <a:gdLst>
              <a:gd name="textAreaLeft" fmla="*/ 0 w 71640"/>
              <a:gd name="textAreaRight" fmla="*/ 50400 w 7164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5"/>
          <p:cNvSpPr/>
          <p:nvPr/>
        </p:nvSpPr>
        <p:spPr>
          <a:xfrm>
            <a:off x="0" y="4508640"/>
            <a:ext cx="2771640" cy="2349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7"/>
          <p:cNvSpPr/>
          <p:nvPr/>
        </p:nvSpPr>
        <p:spPr>
          <a:xfrm>
            <a:off x="1025280" y="539280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78"/>
          <p:cNvSpPr/>
          <p:nvPr/>
        </p:nvSpPr>
        <p:spPr>
          <a:xfrm flipV="1">
            <a:off x="1258920" y="51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9"/>
          <p:cNvSpPr/>
          <p:nvPr/>
        </p:nvSpPr>
        <p:spPr>
          <a:xfrm flipH="1">
            <a:off x="755640" y="558792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0"/>
          <p:cNvSpPr/>
          <p:nvPr/>
        </p:nvSpPr>
        <p:spPr>
          <a:xfrm flipH="1">
            <a:off x="971280" y="5734080"/>
            <a:ext cx="21420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1"/>
          <p:cNvSpPr/>
          <p:nvPr/>
        </p:nvSpPr>
        <p:spPr>
          <a:xfrm>
            <a:off x="1547640" y="55897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2"/>
          <p:cNvSpPr/>
          <p:nvPr/>
        </p:nvSpPr>
        <p:spPr>
          <a:xfrm>
            <a:off x="1332000" y="5734080"/>
            <a:ext cx="215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4"/>
          <p:cNvSpPr/>
          <p:nvPr/>
        </p:nvSpPr>
        <p:spPr>
          <a:xfrm>
            <a:off x="900720" y="48434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5"/>
          <p:cNvSpPr/>
          <p:nvPr/>
        </p:nvSpPr>
        <p:spPr>
          <a:xfrm>
            <a:off x="1818000" y="529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6"/>
          <p:cNvSpPr/>
          <p:nvPr/>
        </p:nvSpPr>
        <p:spPr>
          <a:xfrm>
            <a:off x="470160" y="53737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7"/>
          <p:cNvSpPr/>
          <p:nvPr/>
        </p:nvSpPr>
        <p:spPr>
          <a:xfrm>
            <a:off x="539640" y="6165720"/>
            <a:ext cx="576360" cy="3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9"/>
          <p:cNvSpPr/>
          <p:nvPr/>
        </p:nvSpPr>
        <p:spPr>
          <a:xfrm>
            <a:off x="684360" y="6237360"/>
            <a:ext cx="287280" cy="21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0"/>
          <p:cNvSpPr/>
          <p:nvPr/>
        </p:nvSpPr>
        <p:spPr>
          <a:xfrm>
            <a:off x="755640" y="6308640"/>
            <a:ext cx="14436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1"/>
          <p:cNvSpPr/>
          <p:nvPr/>
        </p:nvSpPr>
        <p:spPr>
          <a:xfrm flipH="1">
            <a:off x="1547640" y="6021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2"/>
          <p:cNvSpPr/>
          <p:nvPr/>
        </p:nvSpPr>
        <p:spPr>
          <a:xfrm>
            <a:off x="1763640" y="6021360"/>
            <a:ext cx="2872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93"/>
          <p:cNvSpPr/>
          <p:nvPr/>
        </p:nvSpPr>
        <p:spPr>
          <a:xfrm rot="9480000">
            <a:off x="1692000" y="602136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2"/>
          <p:cNvCxnSpPr/>
          <p:nvPr/>
        </p:nvCxnSpPr>
        <p:spPr>
          <a:xfrm flipV="1">
            <a:off x="3906360" y="3103200"/>
            <a:ext cx="1080" cy="254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-0.29514 0.2993 E">
                                      <p:cBhvr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204840" y="500040"/>
            <a:ext cx="89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Африка самый жаркий матери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26520" y="1357200"/>
            <a:ext cx="70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влияет особенность рельеф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лимат Афр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245160" y="2643120"/>
            <a:ext cx="79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чему с-в пассаты несут сухие В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ю-в пассаты влажные В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92240" y="4000680"/>
            <a:ext cx="89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чему на юго-западном побереж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и сформировалась пустыня НАМИБ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171000" y="5429160"/>
            <a:ext cx="85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акие КФ способствовали образова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ейшей пустыни мира - Сах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41:39Z</dcterms:created>
  <dc:creator>й</dc:creator>
  <dc:description/>
  <dc:language>en-US</dc:language>
  <cp:lastModifiedBy>Света</cp:lastModifiedBy>
  <dcterms:modified xsi:type="dcterms:W3CDTF">2011-11-25T13:33:13Z</dcterms:modified>
  <cp:revision>28</cp:revision>
  <dc:subject/>
  <dc:title>Слайд 1</dc:title>
</cp:coreProperties>
</file>