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E2F0-D63B-4488-A076-C10AC304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1AE4-2685-4071-B667-E81418E8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B2A-8B47-47D0-90DE-75EB9D69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518-A472-4D38-8D9D-BA3250A3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D9E3-FD4A-4214-862C-6A1B3B02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1D0F-F726-402F-90CA-E0AC1102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7EC2-1DB4-42EA-B851-F4099701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27A9-CBAA-4CE6-8DA3-AC7C8D6A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7E6E-E9FF-43EE-9B48-B9DBAAA1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3B6E-216B-4C8A-868E-5C709E10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EE72-73AA-4F4C-9B66-6EFA6B17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281-6C58-4DA1-A297-D7508A06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349E-D679-45A6-B7AF-3ECD76EA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308A-CE5F-4C54-8386-1CA47FD2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5CE4-A5CD-473C-843B-28ADA7BC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829B-025B-4F40-9E70-21E66AAA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150D-1275-43E7-944C-BA593464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201F4-21E6-45DE-862A-9E2B0EF2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EB518-7FC6-4F04-8B2F-2B9F1BAE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3F03A-72EA-449D-A27B-5FFC4493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D8AEE-453B-4211-ABFE-6EDFCCFD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65E41-533F-4231-993E-741DC6A4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4BA-90ED-42D3-8769-4D999266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EB251-09AC-4D9B-8020-9EB79D74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6D682-6158-4E6C-A6DE-01C6640A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75F93-7ECF-4B26-A106-03B38EE5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88F32-A607-4C12-B20A-823FC6E7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CA4EE-6B47-4919-B7BE-52B17633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D868B-DA0F-4067-A7CC-B462B15D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C60E9-7E2F-4B87-AA95-4639E3E5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281A8-EB5D-499A-BF82-F5793ECC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CB48A-04C0-4754-B638-9AA01602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5789B-26B6-4053-AC15-3B293415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23B-5F4B-45F3-8BAE-710E9A98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51544-C49C-4A2C-8DBC-FE45C181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74529-755E-4EF2-89C5-CC54B53D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DB57C-BD5A-4E18-8C7B-E7617BF7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B3D57-2DBE-4AE2-B305-86967C99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A4F93-6922-40FF-95A5-2D7824A6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DE698-68CC-464D-8579-1FCD744A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62E32-64F6-4983-B0EA-BC6F6B54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15544-A156-4783-A1AF-C3C0910B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B97FB-D284-424E-BAAB-2107BC6E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2E60-A82A-41FD-BC78-6CD7379D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8BC0-8210-4771-B113-F4FDE7E8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76AD-0BF9-4D21-A840-9CA24F64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8E0B-1D66-442E-8197-4098A171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A03-FD1B-46FE-8FD2-A35C4748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5357-A4D9-4A82-9F59-07E3656DC334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292E-55D2-4229-A591-872419283976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8B5A-FDEF-4023-B1C0-A6AC5D625533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83E4-A5D6-4C57-9A16-42CB23688C21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827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b3d9f"/>
                </a:solidFill>
                <a:latin typeface="Times New Roman"/>
                <a:ea typeface="Calibri"/>
              </a:rPr>
              <a:t>Использование логопедического электромассажёра </a:t>
            </a:r>
            <a:r>
              <a:rPr b="1" lang="en-US" sz="4000" spc="-1" strike="noStrike">
                <a:solidFill>
                  <a:srgbClr val="eb3d9f"/>
                </a:solidFill>
                <a:latin typeface="Times New Roman"/>
                <a:ea typeface="Calibri"/>
              </a:rPr>
              <a:t>Z</a:t>
            </a:r>
            <a:r>
              <a:rPr b="1" lang="ru-RU" sz="4000" spc="-1" strike="noStrike">
                <a:solidFill>
                  <a:srgbClr val="eb3d9f"/>
                </a:solidFill>
                <a:latin typeface="Times New Roman"/>
                <a:ea typeface="Calibri"/>
              </a:rPr>
              <a:t> –</a:t>
            </a:r>
            <a:r>
              <a:rPr b="1" lang="en-US" sz="4000" spc="-1" strike="noStrike">
                <a:solidFill>
                  <a:srgbClr val="eb3d9f"/>
                </a:solidFill>
                <a:latin typeface="Times New Roman"/>
                <a:ea typeface="Calibri"/>
              </a:rPr>
              <a:t>Vibe </a:t>
            </a:r>
            <a:r>
              <a:rPr b="1" lang="ru-RU" sz="4000" spc="-1" strike="noStrike">
                <a:solidFill>
                  <a:srgbClr val="eb3d9f"/>
                </a:solidFill>
                <a:latin typeface="Times New Roman"/>
                <a:ea typeface="Calibri"/>
              </a:rPr>
              <a:t>в работе учителя-логопеда при коррекции дизартрии</a:t>
            </a:r>
            <a:endParaRPr b="0" lang="en-US" sz="4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23640" y="4508280"/>
            <a:ext cx="90010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                                       </a:t>
            </a:r>
            <a:r>
              <a:rPr b="0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учитель-логопед: Днепровская С.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г. Ртищево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2018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1619280" y="54936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2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590580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0360" y="260280"/>
            <a:ext cx="6912000" cy="632304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b36d95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Электромассажё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Z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Vib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15" name="Рисунок 1" descr=""/>
          <p:cNvPicPr/>
          <p:nvPr/>
        </p:nvPicPr>
        <p:blipFill>
          <a:blip r:embed="rId1"/>
          <a:stretch/>
        </p:blipFill>
        <p:spPr>
          <a:xfrm>
            <a:off x="3132000" y="1373040"/>
            <a:ext cx="3672000" cy="352908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10" descr=""/>
          <p:cNvPicPr/>
          <p:nvPr/>
        </p:nvPicPr>
        <p:blipFill>
          <a:blip r:embed="rId2"/>
          <a:stretch/>
        </p:blipFill>
        <p:spPr>
          <a:xfrm>
            <a:off x="396720" y="4040280"/>
            <a:ext cx="3165480" cy="2378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"/>
          <p:cNvPicPr/>
          <p:nvPr/>
        </p:nvPicPr>
        <p:blipFill>
          <a:blip r:embed="rId1"/>
          <a:stretch/>
        </p:blipFill>
        <p:spPr>
          <a:xfrm>
            <a:off x="826920" y="0"/>
            <a:ext cx="7059960" cy="6578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4720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работы электромассажёр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-Viber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8360" y="112500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онизирующий массаж мимической мускулатуры  по основным линиям включает в себя приемы:  «вибрация», «вибрация штрихами»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82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слабляющий массаж мимической мускулатуры выполняется по основным линиям с использованием приема «легкая вибрация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82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 При гипотонусе поперечных мышц языка,  движения осуществляются в направлении от краев к средней линии языка; при гипертонусе от центра к боковому краю (легкая вибрация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82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 При гипотонусе продольных мышц языка движения осуществляются в направлении  от корня языка к кончику; при гипертонусе от кончика языка к корню (легкая вибрация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5" descr=""/>
          <p:cNvPicPr/>
          <p:nvPr/>
        </p:nvPicPr>
        <p:blipFill>
          <a:blip r:embed="rId1"/>
          <a:stretch/>
        </p:blipFill>
        <p:spPr>
          <a:xfrm>
            <a:off x="1031760" y="981000"/>
            <a:ext cx="3370320" cy="3024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4257720" y="15001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анная насадка используется как при наружном логопедическом массаже губ, щек и т.д. так и при массаже артикуляционного аппарата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7" descr=""/>
          <p:cNvPicPr/>
          <p:nvPr/>
        </p:nvPicPr>
        <p:blipFill>
          <a:blip r:embed="rId2"/>
          <a:stretch/>
        </p:blipFill>
        <p:spPr>
          <a:xfrm>
            <a:off x="3130560" y="3960720"/>
            <a:ext cx="2543040" cy="24386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8" descr=""/>
          <p:cNvPicPr/>
          <p:nvPr/>
        </p:nvPicPr>
        <p:blipFill>
          <a:blip r:embed="rId3"/>
          <a:stretch/>
        </p:blipFill>
        <p:spPr>
          <a:xfrm>
            <a:off x="379440" y="3881520"/>
            <a:ext cx="2533680" cy="25146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9" descr=""/>
          <p:cNvPicPr/>
          <p:nvPr/>
        </p:nvPicPr>
        <p:blipFill>
          <a:blip r:embed="rId4"/>
          <a:stretch/>
        </p:blipFill>
        <p:spPr>
          <a:xfrm>
            <a:off x="6000840" y="3927600"/>
            <a:ext cx="2352600" cy="226692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0"/>
          <p:cNvSpPr/>
          <p:nvPr/>
        </p:nvSpPr>
        <p:spPr>
          <a:xfrm>
            <a:off x="1077840" y="57240"/>
            <a:ext cx="776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адка Жевательная трубочка короткая для логопедического вибромассажера Z-Vibe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25280" y="9000"/>
            <a:ext cx="793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адка Иголочка для логопедического вибромассажера Z-Vibe</a:t>
            </a:r>
            <a:endParaRPr b="0" lang="en-US" sz="25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27" name="Рисунок 2" descr=""/>
          <p:cNvPicPr/>
          <p:nvPr/>
        </p:nvPicPr>
        <p:blipFill>
          <a:blip r:embed="rId1"/>
          <a:stretch/>
        </p:blipFill>
        <p:spPr>
          <a:xfrm>
            <a:off x="4964040" y="1076400"/>
            <a:ext cx="4000680" cy="327816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3"/>
          <p:cNvSpPr/>
          <p:nvPr/>
        </p:nvSpPr>
        <p:spPr>
          <a:xfrm>
            <a:off x="1025640" y="923760"/>
            <a:ext cx="45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насадка позволяет быстро создать и подготовить на языке ребенка "желобок", для последующей постановки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же применяется для логопедического массажа, в местах, где важна тонкость инструмента логоп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4" descr=""/>
          <p:cNvPicPr/>
          <p:nvPr/>
        </p:nvPicPr>
        <p:blipFill>
          <a:blip r:embed="rId2"/>
          <a:stretch/>
        </p:blipFill>
        <p:spPr>
          <a:xfrm>
            <a:off x="4314960" y="4340160"/>
            <a:ext cx="2808000" cy="21970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" descr=""/>
          <p:cNvPicPr/>
          <p:nvPr/>
        </p:nvPicPr>
        <p:blipFill>
          <a:blip r:embed="rId3"/>
          <a:stretch/>
        </p:blipFill>
        <p:spPr>
          <a:xfrm>
            <a:off x="539640" y="4340160"/>
            <a:ext cx="3189240" cy="2462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"/>
          <p:cNvSpPr/>
          <p:nvPr/>
        </p:nvSpPr>
        <p:spPr>
          <a:xfrm>
            <a:off x="-11160" y="21600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ся и в режиме "вибрация", и без нее. Можно использовать для логопедического массажа и гимнастики с целью укрепления жевательных мышц. В этом случае следует использовать преимущественно поперечное положение насадки при введении в ротовую пол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ие наконечники очень универсальны. Они хороши и для массажа, и для звукопостановки, идля точечного массажа. За счет своей миниатюрности они могут быть использованы в работе с малыш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3" descr=""/>
          <p:cNvPicPr/>
          <p:nvPr/>
        </p:nvPicPr>
        <p:blipFill>
          <a:blip r:embed="rId1"/>
          <a:stretch/>
        </p:blipFill>
        <p:spPr>
          <a:xfrm>
            <a:off x="468360" y="3316320"/>
            <a:ext cx="5832360" cy="3541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2"/>
          <p:cNvSpPr/>
          <p:nvPr/>
        </p:nvSpPr>
        <p:spPr>
          <a:xfrm>
            <a:off x="324000" y="3475080"/>
            <a:ext cx="809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Насадка Ложечка может быть использована для кормления и массажа. В логопедическом массаже - для поглаживания и растирания языка, для выполнения упражнений с сопротивлением (вытолкни ложечку языком!), для подъема языка к альвеолам для вызывания шипящих звуков и Р. Она хороша и для укрепления круговой мышцы рта при формировании губных согласных (ф-в, п-б). Насадкой Ложечка можно отодвигать язык вглубь полости рта, чтобы стимулировать появление заднеязычных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3" descr=""/>
          <p:cNvPicPr/>
          <p:nvPr/>
        </p:nvPicPr>
        <p:blipFill>
          <a:blip r:embed="rId1"/>
          <a:stretch/>
        </p:blipFill>
        <p:spPr>
          <a:xfrm>
            <a:off x="3780000" y="403200"/>
            <a:ext cx="3714480" cy="306540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4"/>
          <p:cNvSpPr/>
          <p:nvPr/>
        </p:nvSpPr>
        <p:spPr>
          <a:xfrm>
            <a:off x="324000" y="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адка Ложечка для логопедического вибромассажера Z-V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админ\Desktop\Днепровская\8abbe08b31b2e2f211e38a0f7dda2483.jpg"/>
          <p:cNvPicPr/>
          <p:nvPr/>
        </p:nvPicPr>
        <p:blipFill>
          <a:blip r:embed="rId1"/>
          <a:stretch/>
        </p:blipFill>
        <p:spPr>
          <a:xfrm>
            <a:off x="4067280" y="826920"/>
            <a:ext cx="3852720" cy="326880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7"/>
          <p:cNvSpPr/>
          <p:nvPr/>
        </p:nvSpPr>
        <p:spPr>
          <a:xfrm>
            <a:off x="611280" y="40892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а для логопедического массажа внутри полости рта, на поверхности и боковых краях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8"/>
          <p:cNvSpPr/>
          <p:nvPr/>
        </p:nvSpPr>
        <p:spPr>
          <a:xfrm>
            <a:off x="0" y="333360"/>
            <a:ext cx="813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адка Щеточка для логопедического вибромассажера Z-Vibe</a:t>
            </a:r>
            <a:r>
              <a:rPr b="0" lang="ru-RU" sz="1800" spc="-1" strike="noStrike">
                <a:solidFill>
                  <a:srgbClr val="ef7f1a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05:46:14Z</dcterms:created>
  <dc:creator>user</dc:creator>
  <dc:description/>
  <dc:language>en-US</dc:language>
  <cp:lastModifiedBy>София Днепровская</cp:lastModifiedBy>
  <dcterms:modified xsi:type="dcterms:W3CDTF">2019-04-30T16:51:06Z</dcterms:modified>
  <cp:revision>61</cp:revision>
  <dc:subject/>
  <dc:title>Слайд 1</dc:title>
</cp:coreProperties>
</file>