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05E-A788-41C7-98B9-94D8BAD1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467-6532-4774-AAF0-D4D8EE5D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F05-6EBE-4C00-8419-51FF14E7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6D6-4A70-4839-9F2A-6BAADDFD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B292-0092-469D-A1B4-0B5D0B12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85D2-5B4B-4F12-8DD6-843A3067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8B1C-8817-44EB-9133-9B9C4D0D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BE94-7F10-436E-A2F4-1A5CF5BB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79DC-175A-4C8F-9162-CD92C670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D983-C8F1-4BA1-8369-405A936F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A817-28F4-4947-B745-754444C0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F20-E8D1-462B-A65D-EC8B7219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1B45-511F-4F6F-B7CE-CAFDE562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DF81-926F-4B1B-B904-40F12D22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929D-BEC1-489B-9882-BF844003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A328-7CE0-490E-A578-747479E2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E838-2EE1-48D2-80F4-45C22F06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1EE3-CBD5-4145-9995-8D8682AD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3C9EE-2D02-4707-93E0-8995E2D5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77AC-ABB3-436F-AA41-50C78B6D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CF45-5635-436A-A0D1-3023ECB0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00BF-CA94-4A0F-AAFE-C70076C0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F45-E6E6-4856-A7F8-02CCBCE8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E1CE-6179-459C-A4B4-C89CDA8F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9E75-B8A4-4ECB-A7C4-208D5187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1800-54F4-4651-B19B-2FA39716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326E-AC64-43F2-B636-E427C3E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E3943-15D8-4D62-8171-7D7899E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0CE8-BBB4-4B8C-972A-838EB2F0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5495A-9485-496D-B62C-982A58C3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7A83-773C-4547-B604-4DD8ACE0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6D76-7B9A-4D64-8447-134793CA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5E673-5D85-4ABD-8DBA-1C1C251B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C5A-6F1C-4AAB-97BC-4E17CAC2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5C06-85EC-4D58-A3EE-173F8B07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340C9-BC2D-4D93-A024-A2CE14A7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1AEE-CE57-4B2F-99EB-9CA6763C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557DD-9F53-48D4-BBD8-FF86A56A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CD6E4-1B2E-46FD-B248-57D4B7E1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B65D3-613D-44AB-8A53-04915D17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97D1F-E011-474B-8637-82827132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F732-966B-4199-ABD2-7DBDC021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98B4-D5B5-44B7-A00B-11251F44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D88-4074-4B0F-864C-ACD85EA3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E6F-9E3A-496E-BC1B-9E86ADCC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D8C-B6D5-4632-944A-CF41B5A1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F66-E889-48C3-B258-53E143C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F16-79CD-49B9-9A67-052BCAB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E67E-1C6B-4CEA-801E-612291D6C2C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2014-9E26-418B-979D-000647DC7ADC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1649-A4B9-4083-B5B6-B69C538D7275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618A-F6F5-47E9-A9D1-3BEAE32AB50D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827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3d9f"/>
                </a:solidFill>
                <a:latin typeface="Times New Roman"/>
                <a:ea typeface="Calibri"/>
              </a:rPr>
              <a:t>Использование логопедического электромассажёра </a:t>
            </a:r>
            <a:r>
              <a:rPr b="1" lang="en-US" sz="4000" spc="-1" strike="noStrike">
                <a:solidFill>
                  <a:srgbClr val="eb3d9f"/>
                </a:solidFill>
                <a:latin typeface="Times New Roman"/>
                <a:ea typeface="Calibri"/>
              </a:rPr>
              <a:t>Z</a:t>
            </a:r>
            <a:r>
              <a:rPr b="1" lang="ru-RU" sz="4000" spc="-1" strike="noStrike">
                <a:solidFill>
                  <a:srgbClr val="eb3d9f"/>
                </a:solidFill>
                <a:latin typeface="Times New Roman"/>
                <a:ea typeface="Calibri"/>
              </a:rPr>
              <a:t> –</a:t>
            </a:r>
            <a:r>
              <a:rPr b="1" lang="en-US" sz="4000" spc="-1" strike="noStrike">
                <a:solidFill>
                  <a:srgbClr val="eb3d9f"/>
                </a:solidFill>
                <a:latin typeface="Times New Roman"/>
                <a:ea typeface="Calibri"/>
              </a:rPr>
              <a:t>Vibe </a:t>
            </a:r>
            <a:r>
              <a:rPr b="1" lang="ru-RU" sz="4000" spc="-1" strike="noStrike">
                <a:solidFill>
                  <a:srgbClr val="eb3d9f"/>
                </a:solidFill>
                <a:latin typeface="Times New Roman"/>
                <a:ea typeface="Calibri"/>
              </a:rPr>
              <a:t>в работе учителя-логопеда при коррекции дизартрии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23640" y="4508280"/>
            <a:ext cx="90010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учитель-логопед: Днепровская С.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г. Ртищево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018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619280" y="5493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590580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260280"/>
            <a:ext cx="6912000" cy="63230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b36d95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массажё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Z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Vib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3132000" y="1373040"/>
            <a:ext cx="3672000" cy="35290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0" descr=""/>
          <p:cNvPicPr/>
          <p:nvPr/>
        </p:nvPicPr>
        <p:blipFill>
          <a:blip r:embed="rId2"/>
          <a:stretch/>
        </p:blipFill>
        <p:spPr>
          <a:xfrm>
            <a:off x="396720" y="4040280"/>
            <a:ext cx="3165480" cy="2378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826920" y="0"/>
            <a:ext cx="705996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472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работы электромассажёр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-Viber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360" y="112500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низирующий массаж мимической мускулатуры  по основным линиям включает в себя приемы:  «вибрация», «вибрация штрихами»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2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лабляющий массаж мимической мускулатуры выполняется по основным линиям с использованием приема «легкая вибрация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2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 При гипотонусе поперечных мышц языка,  движения осуществляются в направлении от краев к средней линии языка; при гипертонусе от центра к боковому краю (легкая вибрация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2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 При гипотонусе продольных мышц языка движения осуществляются в направлении  от корня языка к кончику; при гипертонусе от кончика языка к корню (легкая вибрация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5" descr=""/>
          <p:cNvPicPr/>
          <p:nvPr/>
        </p:nvPicPr>
        <p:blipFill>
          <a:blip r:embed="rId1"/>
          <a:stretch/>
        </p:blipFill>
        <p:spPr>
          <a:xfrm>
            <a:off x="1031760" y="981000"/>
            <a:ext cx="3370320" cy="3024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4257720" y="15001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анная насадка используется как при наружном логопедическом массаже губ, щек и т.д. так и при массаже артикуляционного аппарата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7" descr=""/>
          <p:cNvPicPr/>
          <p:nvPr/>
        </p:nvPicPr>
        <p:blipFill>
          <a:blip r:embed="rId2"/>
          <a:stretch/>
        </p:blipFill>
        <p:spPr>
          <a:xfrm>
            <a:off x="3130560" y="3960720"/>
            <a:ext cx="2543040" cy="24386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8" descr=""/>
          <p:cNvPicPr/>
          <p:nvPr/>
        </p:nvPicPr>
        <p:blipFill>
          <a:blip r:embed="rId3"/>
          <a:stretch/>
        </p:blipFill>
        <p:spPr>
          <a:xfrm>
            <a:off x="379440" y="388152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"/>
          <p:cNvPicPr/>
          <p:nvPr/>
        </p:nvPicPr>
        <p:blipFill>
          <a:blip r:embed="rId4"/>
          <a:stretch/>
        </p:blipFill>
        <p:spPr>
          <a:xfrm>
            <a:off x="6000840" y="3927600"/>
            <a:ext cx="2352600" cy="22669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0"/>
          <p:cNvSpPr/>
          <p:nvPr/>
        </p:nvSpPr>
        <p:spPr>
          <a:xfrm>
            <a:off x="1077840" y="57240"/>
            <a:ext cx="776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адка Жевательная трубочка короткая для логопедического вибромассажера Z-Vib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5280" y="9000"/>
            <a:ext cx="793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адка Иголочка для логопедического вибромассажера Z-Vibe</a:t>
            </a:r>
            <a:endParaRPr b="0" lang="en-US" sz="25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4964040" y="1076400"/>
            <a:ext cx="4000680" cy="32781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1025640" y="92376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насадка позволяет быстро создать и подготовить на языке ребенка "желобок", для последующей постановки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применяется для логопедического массажа, в местах, где важна тонкость инструмента логоп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4" descr=""/>
          <p:cNvPicPr/>
          <p:nvPr/>
        </p:nvPicPr>
        <p:blipFill>
          <a:blip r:embed="rId2"/>
          <a:stretch/>
        </p:blipFill>
        <p:spPr>
          <a:xfrm>
            <a:off x="4314960" y="4340160"/>
            <a:ext cx="2808000" cy="2197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"/>
          <p:cNvPicPr/>
          <p:nvPr/>
        </p:nvPicPr>
        <p:blipFill>
          <a:blip r:embed="rId3"/>
          <a:stretch/>
        </p:blipFill>
        <p:spPr>
          <a:xfrm>
            <a:off x="539640" y="4340160"/>
            <a:ext cx="3189240" cy="246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"/>
          <p:cNvSpPr/>
          <p:nvPr/>
        </p:nvSpPr>
        <p:spPr>
          <a:xfrm>
            <a:off x="-11160" y="21600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и в режиме "вибрация", и без нее. Можно использовать для логопедического массажа и гимнастики с целью укрепления жевательных мышц. В этом случае следует использовать преимущественно поперечное положение насадки при введении в ротовую пол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ие наконечники очень универсальны. Они хороши и для массажа, и для звукопостановки, идля точечного массажа. За счет своей миниатюрности они могут быть использованы в работе с малыш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tretch/>
        </p:blipFill>
        <p:spPr>
          <a:xfrm>
            <a:off x="468360" y="3316320"/>
            <a:ext cx="5832360" cy="354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2"/>
          <p:cNvSpPr/>
          <p:nvPr/>
        </p:nvSpPr>
        <p:spPr>
          <a:xfrm>
            <a:off x="324000" y="3475080"/>
            <a:ext cx="809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Насадка Ложечка может быть использована для кормления и массажа. В логопедическом массаже - для поглаживания и растирания языка, для выполнения упражнений с сопротивлением (вытолкни ложечку языком!), для подъема языка к альвеолам для вызывания шипящих звуков и Р. Она хороша и для укрепления круговой мышцы рта при формировании губных согласных (ф-в, п-б). Насадкой Ложечка можно отодвигать язык вглубь полости рта, чтобы стимулировать появление заднеязычных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1"/>
          <a:stretch/>
        </p:blipFill>
        <p:spPr>
          <a:xfrm>
            <a:off x="3780000" y="403200"/>
            <a:ext cx="3714480" cy="306540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4"/>
          <p:cNvSpPr/>
          <p:nvPr/>
        </p:nvSpPr>
        <p:spPr>
          <a:xfrm>
            <a:off x="32400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адка Ложечка для логопедического вибромассажера Z-V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админ\Desktop\Днепровская\8abbe08b31b2e2f211e38a0f7dda2483.jpg"/>
          <p:cNvPicPr/>
          <p:nvPr/>
        </p:nvPicPr>
        <p:blipFill>
          <a:blip r:embed="rId1"/>
          <a:stretch/>
        </p:blipFill>
        <p:spPr>
          <a:xfrm>
            <a:off x="4067280" y="826920"/>
            <a:ext cx="3852720" cy="32688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7"/>
          <p:cNvSpPr/>
          <p:nvPr/>
        </p:nvSpPr>
        <p:spPr>
          <a:xfrm>
            <a:off x="611280" y="4089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а для логопедического массажа внутри полости рта, на поверхности и боковых краях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8"/>
          <p:cNvSpPr/>
          <p:nvPr/>
        </p:nvSpPr>
        <p:spPr>
          <a:xfrm>
            <a:off x="0" y="333360"/>
            <a:ext cx="813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адка Щеточка для логопедического вибромассажера Z-Vibe</a:t>
            </a:r>
            <a:r>
              <a:rPr b="0" lang="ru-RU" sz="1800" spc="-1" strike="noStrike">
                <a:solidFill>
                  <a:srgbClr val="ef7f1a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5:46:14Z</dcterms:created>
  <dc:creator>user</dc:creator>
  <dc:description/>
  <dc:language>en-US</dc:language>
  <cp:lastModifiedBy>София Днепровская</cp:lastModifiedBy>
  <dcterms:modified xsi:type="dcterms:W3CDTF">2019-04-30T16:51:06Z</dcterms:modified>
  <cp:revision>61</cp:revision>
  <dc:subject/>
  <dc:title>Слайд 1</dc:title>
</cp:coreProperties>
</file>