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214200" y="36432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649C-7FF8-4BA1-A62A-C1D581AA1D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браз слайда 3"/>
          <p:cNvSpPr/>
          <p:nvPr/>
        </p:nvSpPr>
        <p:spPr>
          <a:xfrm>
            <a:off x="1295280" y="86688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браз слайда 3"/>
          <p:cNvSpPr/>
          <p:nvPr/>
        </p:nvSpPr>
        <p:spPr>
          <a:xfrm>
            <a:off x="1295280" y="86688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браз слайда 3"/>
          <p:cNvSpPr/>
          <p:nvPr/>
        </p:nvSpPr>
        <p:spPr>
          <a:xfrm>
            <a:off x="1285920" y="57168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браз слайда 3"/>
          <p:cNvSpPr/>
          <p:nvPr/>
        </p:nvSpPr>
        <p:spPr>
          <a:xfrm>
            <a:off x="1857240" y="42876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браз слайда 3"/>
          <p:cNvSpPr/>
          <p:nvPr/>
        </p:nvSpPr>
        <p:spPr>
          <a:xfrm>
            <a:off x="1428840" y="5000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14200" y="36432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00B0-ED96-4772-B4F0-8316B9E238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F69-E3CC-4155-8CBE-7DF1FEB6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39B-6056-4000-97B1-A48329F8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88C-7C3B-463B-B76F-91912B62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1E1-C92E-4915-99B5-AE8B2506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8EA0-C094-403B-B458-8E9F3B45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A188-6188-4E8F-B226-B89B75AD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450B-E105-468B-BAE0-13597ADC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9395-2C8E-4B1D-B244-160DA3C2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A80E-E4B5-4946-926D-164513D2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3CED-EC0C-42B0-A999-22F30565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7F34-703F-42F7-A0E1-5CB20A6F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182-784C-49E4-B5A5-0CBF6219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A67E-AF1D-4DCC-9CE2-7C19DAB3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5E23-43A0-400F-891C-3D0BFEC7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A5CB-8633-4EAB-9ED7-9112A473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152A-C573-4A7E-B79A-805E508D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0AE1-B4CB-4726-9D8C-C656894C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F502-E878-45F2-8219-053C034E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5F093-34D6-44BD-84F3-61C248A3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D102-8C8D-4E43-A2DC-8E097554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1BAC-2174-46D3-A7A5-3A2A123F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7E6B-6539-4088-88D7-AF4E2C54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229-47F6-45FF-948A-02B84643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F1BC-E33C-4FED-AF73-61C4BF2F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3230-FD97-43D7-89ED-51327573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81E3-42B9-41AC-BB13-4B19109A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CACA0-53C2-4857-96F8-5A8BD929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4BB6-C830-4C05-A338-7CA1FC11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768A-65C3-4190-A5A9-58C37382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53E1-C88E-4A68-9667-E889AA66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A2F-1C02-49BA-A3A5-9C205CD7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0F5-2677-4D5F-9C29-F8AA7137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513-9C66-473F-9484-FC25ADA9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034-A273-417B-A684-1C544CE2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D52-3286-409B-93A3-8F41FAB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257-83D4-4A70-BE52-300139EF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94DA-1C39-461F-B970-7E02A7A6A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5564-F60C-4EC7-BDF8-02240763E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5A27-939D-49A5-B5E7-C9A5530BCFAB}" type="slidenum">
              <a:rPr b="0" lang="ru-RU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08160" y="260280"/>
            <a:ext cx="5235480" cy="21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«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овладения грамотой, то есть первоначальными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навыками чтения и письма, прежде всего необходимо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достаточное развитие фонематического слуха и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произносительной стороны речи, что служит основой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овладения навыками звукобуквенного анализа.»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А.Р.Лурия</a:t>
            </a:r>
            <a:br>
              <a:rPr sz="1400"/>
            </a:br>
            <a:br>
              <a:rPr sz="1800"/>
            </a:b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10920" y="2421000"/>
            <a:ext cx="806436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ая общеразвивающая программа социально-педагогической направленност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рамотейка»            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детей 5-7 л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Кориневская Р.Г., 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ДОУ ЦРР Детский сад № 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.Кропот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1"/>
          <p:cNvSpPr/>
          <p:nvPr/>
        </p:nvSpPr>
        <p:spPr>
          <a:xfrm>
            <a:off x="324000" y="189000"/>
            <a:ext cx="864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5638"/>
                </a:solidFill>
                <a:latin typeface="Arial"/>
              </a:rPr>
              <a:t>Дополнительная общеразвивающая программа социально-педагогической направленности  </a:t>
            </a:r>
            <a:r>
              <a:rPr b="0" lang="ru-RU" sz="2400" spc="-1" strike="noStrike">
                <a:solidFill>
                  <a:srgbClr val="105638"/>
                </a:solidFill>
                <a:latin typeface="Arial"/>
              </a:rPr>
              <a:t>«Грамотейка» </a:t>
            </a:r>
            <a:r>
              <a:rPr b="0" lang="ru-RU" sz="2000" spc="-1" strike="noStrike">
                <a:solidFill>
                  <a:srgbClr val="105638"/>
                </a:solidFill>
                <a:latin typeface="Arial"/>
              </a:rPr>
              <a:t>для детей 5-7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57120" y="3714840"/>
            <a:ext cx="3500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843280" y="8344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 Целевой раз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 rot="16200000">
            <a:off x="3960" y="2958120"/>
            <a:ext cx="2087640" cy="58068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14"/>
          <p:cNvSpPr/>
          <p:nvPr/>
        </p:nvSpPr>
        <p:spPr>
          <a:xfrm>
            <a:off x="179280" y="1413000"/>
            <a:ext cx="2592360" cy="626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1 Пояснительная                       зап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2987640" y="1413000"/>
            <a:ext cx="2592360" cy="626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1.1  Цели и зада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16"/>
          <p:cNvSpPr/>
          <p:nvPr/>
        </p:nvSpPr>
        <p:spPr>
          <a:xfrm>
            <a:off x="5796000" y="1413000"/>
            <a:ext cx="3168720" cy="626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1.2  Принципы и подходы к формированию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 rot="16200000">
            <a:off x="940680" y="2958120"/>
            <a:ext cx="2087640" cy="58068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уа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новиз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 rot="16200000">
            <a:off x="2579400" y="3117960"/>
            <a:ext cx="216396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 rot="16200000">
            <a:off x="3300120" y="3116520"/>
            <a:ext cx="216072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 rot="16200000">
            <a:off x="4020840" y="3116520"/>
            <a:ext cx="216072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 rot="16200000">
            <a:off x="5281560" y="3079800"/>
            <a:ext cx="208764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ляд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 rot="16200000">
            <a:off x="6003720" y="3079800"/>
            <a:ext cx="208764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блем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 rot="16200000">
            <a:off x="6696000" y="3079800"/>
            <a:ext cx="208764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уп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 rot="16200000">
            <a:off x="7317360" y="3079800"/>
            <a:ext cx="208764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г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27"/>
          <p:cNvSpPr/>
          <p:nvPr/>
        </p:nvSpPr>
        <p:spPr>
          <a:xfrm>
            <a:off x="250920" y="5013360"/>
            <a:ext cx="2305080" cy="1152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2 Планируемые результаты осво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132000" y="4799160"/>
            <a:ext cx="2016360" cy="64260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«Грамотейка» - </a:t>
            </a:r>
            <a:r>
              <a:rPr b="1" lang="en-US" sz="1800" spc="-1" strike="noStrike">
                <a:solidFill>
                  <a:srgbClr val="0622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62216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 мод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132000" y="5814720"/>
            <a:ext cx="2016360" cy="9169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«Грамотейка» - </a:t>
            </a:r>
            <a:r>
              <a:rPr b="1" lang="en-US" sz="1800" spc="-1" strike="noStrike">
                <a:solidFill>
                  <a:srgbClr val="0622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62216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 мод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31"/>
          <p:cNvSpPr/>
          <p:nvPr/>
        </p:nvSpPr>
        <p:spPr>
          <a:xfrm>
            <a:off x="5867280" y="4941720"/>
            <a:ext cx="2808360" cy="1366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1.3  Характеристика развития познавате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Прямая со стрелкой 33"/>
          <p:cNvCxnSpPr/>
          <p:nvPr/>
        </p:nvCxnSpPr>
        <p:spPr>
          <a:xfrm flipV="1">
            <a:off x="2556000" y="5084280"/>
            <a:ext cx="504000" cy="289440"/>
          </a:xfrm>
          <a:prstGeom prst="straightConnector1">
            <a:avLst/>
          </a:prstGeom>
          <a:ln w="12600">
            <a:solidFill>
              <a:srgbClr val="062216"/>
            </a:solidFill>
            <a:miter/>
            <a:tailEnd len="med" type="arrow" w="med"/>
          </a:ln>
        </p:spPr>
      </p:cxnSp>
      <p:cxnSp>
        <p:nvCxnSpPr>
          <p:cNvPr id="173" name="Прямая со стрелкой 38"/>
          <p:cNvCxnSpPr/>
          <p:nvPr/>
        </p:nvCxnSpPr>
        <p:spPr>
          <a:xfrm>
            <a:off x="2556000" y="5949720"/>
            <a:ext cx="576360" cy="216360"/>
          </a:xfrm>
          <a:prstGeom prst="straightConnector1">
            <a:avLst/>
          </a:prstGeom>
          <a:ln w="12600">
            <a:solidFill>
              <a:srgbClr val="06221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6"/>
          <p:cNvSpPr/>
          <p:nvPr/>
        </p:nvSpPr>
        <p:spPr>
          <a:xfrm>
            <a:off x="2433240" y="1890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Содержательный раз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611280" y="69228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9"/>
          <p:cNvSpPr/>
          <p:nvPr/>
        </p:nvSpPr>
        <p:spPr>
          <a:xfrm>
            <a:off x="3059280" y="3141720"/>
            <a:ext cx="2952720" cy="100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611280" y="622440"/>
            <a:ext cx="259236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796000" y="622440"/>
            <a:ext cx="266364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ы и формы работы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771640" y="1414440"/>
            <a:ext cx="367200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ы и направления поддержки детской иници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55640" y="4006440"/>
            <a:ext cx="2016000" cy="611640"/>
          </a:xfrm>
          <a:prstGeom prst="rect">
            <a:avLst/>
          </a:prstGeom>
          <a:noFill/>
          <a:ln w="1260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1e20"/>
                </a:solidFill>
                <a:latin typeface="Arial"/>
              </a:rPr>
              <a:t>Учебный пл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I-II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 модуль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132000" y="4511160"/>
            <a:ext cx="2808360" cy="642600"/>
          </a:xfrm>
          <a:prstGeom prst="rect">
            <a:avLst/>
          </a:prstGeom>
          <a:noFill/>
          <a:ln w="1260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1e20"/>
                </a:solidFill>
                <a:latin typeface="Arial"/>
              </a:rPr>
              <a:t>Содержание программы 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I-II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 моду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227640" y="4006800"/>
            <a:ext cx="2016360" cy="642600"/>
          </a:xfrm>
          <a:prstGeom prst="rect">
            <a:avLst/>
          </a:prstGeom>
          <a:noFill/>
          <a:ln w="1260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1e20"/>
                </a:solidFill>
                <a:latin typeface="Arial"/>
              </a:rPr>
              <a:t>Перспективныйплан 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 модуль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18"/>
          <p:cNvCxnSpPr/>
          <p:nvPr/>
        </p:nvCxnSpPr>
        <p:spPr>
          <a:xfrm>
            <a:off x="4356000" y="278136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84" name="Прямая со стрелкой 25"/>
          <p:cNvCxnSpPr/>
          <p:nvPr/>
        </p:nvCxnSpPr>
        <p:spPr>
          <a:xfrm>
            <a:off x="1692360" y="213372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85" name="Прямая со стрелкой 29"/>
          <p:cNvCxnSpPr/>
          <p:nvPr/>
        </p:nvCxnSpPr>
        <p:spPr>
          <a:xfrm flipH="1">
            <a:off x="2626920" y="2060640"/>
            <a:ext cx="289440" cy="21672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186" name="Прямая со стрелкой 31"/>
          <p:cNvCxnSpPr/>
          <p:nvPr/>
        </p:nvCxnSpPr>
        <p:spPr>
          <a:xfrm>
            <a:off x="6156360" y="2060640"/>
            <a:ext cx="289440" cy="21672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187" name="Прямая со стрелкой 43"/>
          <p:cNvCxnSpPr/>
          <p:nvPr/>
        </p:nvCxnSpPr>
        <p:spPr>
          <a:xfrm flipH="1">
            <a:off x="2483640" y="3573000"/>
            <a:ext cx="505800" cy="36108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188" name="Прямая со стрелкой 44"/>
          <p:cNvCxnSpPr/>
          <p:nvPr/>
        </p:nvCxnSpPr>
        <p:spPr>
          <a:xfrm>
            <a:off x="4500360" y="4149360"/>
            <a:ext cx="1080" cy="35964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189" name="Прямая со стрелкой 45"/>
          <p:cNvCxnSpPr/>
          <p:nvPr/>
        </p:nvCxnSpPr>
        <p:spPr>
          <a:xfrm>
            <a:off x="6012000" y="3499920"/>
            <a:ext cx="504000" cy="28944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sp>
        <p:nvSpPr>
          <p:cNvPr id="190" name="Rectangle 8"/>
          <p:cNvSpPr/>
          <p:nvPr/>
        </p:nvSpPr>
        <p:spPr>
          <a:xfrm>
            <a:off x="755640" y="2351880"/>
            <a:ext cx="2808360" cy="642600"/>
          </a:xfrm>
          <a:prstGeom prst="rect">
            <a:avLst/>
          </a:prstGeom>
          <a:noFill/>
          <a:ln w="1260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1e20"/>
                </a:solidFill>
                <a:latin typeface="Arial"/>
              </a:rPr>
              <a:t>Технология                       пр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4284720" y="2351160"/>
            <a:ext cx="4535280" cy="642600"/>
          </a:xfrm>
          <a:prstGeom prst="rect">
            <a:avLst/>
          </a:prstGeom>
          <a:noFill/>
          <a:ln w="1260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1e20"/>
                </a:solidFill>
                <a:latin typeface="Arial"/>
              </a:rPr>
              <a:t>Структура организованной образовательной деятельност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5"/>
          <p:cNvSpPr/>
          <p:nvPr/>
        </p:nvSpPr>
        <p:spPr>
          <a:xfrm>
            <a:off x="262800" y="5445000"/>
            <a:ext cx="38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 реализации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освоения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7"/>
          <p:cNvSpPr/>
          <p:nvPr/>
        </p:nvSpPr>
        <p:spPr>
          <a:xfrm>
            <a:off x="4296960" y="5373720"/>
            <a:ext cx="465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рудничество с родител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школь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разовательная моде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одель чувствительной коммуник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6"/>
          <p:cNvSpPr/>
          <p:nvPr/>
        </p:nvSpPr>
        <p:spPr>
          <a:xfrm>
            <a:off x="2576880" y="18900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 Организационный раз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84360" y="90792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9"/>
          <p:cNvSpPr/>
          <p:nvPr/>
        </p:nvSpPr>
        <p:spPr>
          <a:xfrm>
            <a:off x="468360" y="4365720"/>
            <a:ext cx="2016000" cy="1036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гров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24000" y="769320"/>
            <a:ext cx="3816360" cy="1313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.    Материально-техническое обеспечени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5076720" y="769320"/>
            <a:ext cx="3743280" cy="1313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2.  Обеспеченность материалами и средствами обучения и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2484360" y="2352240"/>
            <a:ext cx="3600360" cy="100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3.    Особенности организации предметно-пространстве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Прямая со стрелкой 18"/>
          <p:cNvCxnSpPr/>
          <p:nvPr/>
        </p:nvCxnSpPr>
        <p:spPr>
          <a:xfrm>
            <a:off x="4356000" y="278136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01" name="Прямая со стрелкой 25"/>
          <p:cNvCxnSpPr/>
          <p:nvPr/>
        </p:nvCxnSpPr>
        <p:spPr>
          <a:xfrm>
            <a:off x="1692360" y="213372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02" name="Прямая со стрелкой 43"/>
          <p:cNvCxnSpPr/>
          <p:nvPr/>
        </p:nvCxnSpPr>
        <p:spPr>
          <a:xfrm flipH="1">
            <a:off x="2268000" y="3500280"/>
            <a:ext cx="720000" cy="65016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203" name="Прямая со стрелкой 44"/>
          <p:cNvCxnSpPr/>
          <p:nvPr/>
        </p:nvCxnSpPr>
        <p:spPr>
          <a:xfrm>
            <a:off x="4500360" y="3429000"/>
            <a:ext cx="1080" cy="100872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204" name="Прямая со стрелкой 45"/>
          <p:cNvCxnSpPr/>
          <p:nvPr/>
        </p:nvCxnSpPr>
        <p:spPr>
          <a:xfrm>
            <a:off x="5867280" y="3573360"/>
            <a:ext cx="866160" cy="50400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sp>
        <p:nvSpPr>
          <p:cNvPr id="205" name="Скругленный прямоугольник 20"/>
          <p:cNvSpPr/>
          <p:nvPr/>
        </p:nvSpPr>
        <p:spPr>
          <a:xfrm>
            <a:off x="3132000" y="4941720"/>
            <a:ext cx="2159280" cy="1052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нтр изобрази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21"/>
          <p:cNvSpPr/>
          <p:nvPr/>
        </p:nvSpPr>
        <p:spPr>
          <a:xfrm>
            <a:off x="6156360" y="4292640"/>
            <a:ext cx="2628720" cy="1224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нтр «Словесная играл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 «Приобщение                        к худ. литератур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1:18:37Z</dcterms:created>
  <dc:creator>user2</dc:creator>
  <dc:description/>
  <dc:language>en-US</dc:language>
  <cp:lastModifiedBy>Пользователь Windows</cp:lastModifiedBy>
  <dcterms:modified xsi:type="dcterms:W3CDTF">2019-04-22T21:22:34Z</dcterms:modified>
  <cp:revision>165</cp:revision>
  <dc:subject/>
  <dc:title>СОВМЕСТНАЯ РАБОТА ПЕДАГОГА-ПСИХОЛОГА И УЧИТЕЛЯ-ЛОГОПЕДА В НАЧАЛЬНОЙ ШКОЛЕ</dc:title>
</cp:coreProperties>
</file>