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7CE4-172E-4E1C-9C91-17746132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2568-FB3F-4D3E-989B-098CCBD8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B36E-D5F2-4BAE-A139-F61A0D67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6C2B-2363-4D53-B30D-0126ED1D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6DC2-7D99-4F5F-ABD8-1CD83C59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6E10-8361-4A66-9DE3-A8343A79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6BAD-6B58-46FE-BB83-2EAF7AF5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842C-2A0C-467B-BEEC-A3B5C98D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3202-9E62-4B93-B70F-C04151E8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751E-37DC-464E-B0CC-6669C06A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E83D-B8D8-4562-8507-6D2A40B9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528DA-0440-47B6-8F16-304257B4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13D4-CC47-4E85-AE86-54170A7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514F-CDE5-45DF-BAB2-CD848F4B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E7E5-0D24-460E-AFEB-94AC7793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942B-03B0-4B5E-A2B9-B63929B1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EAD2-4D85-40B4-A64A-4B03E811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8BFE2-2253-4678-9326-6B2DDCF1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F041-3799-4676-9214-084D6AC0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ED99-B721-4561-969D-DE5748AC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B661-5F0E-44B9-B13B-A109518C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F6176-CA9D-408F-A96C-0AA6718A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E854-A46D-4B70-B6FD-7FB89999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73F2-8217-41B9-8589-97F8B36E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F53B-97AB-4DA7-817A-12A31B6D3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4EE4-2EB7-4B62-9FEB-AA79208A5D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0" y="1557360"/>
            <a:ext cx="914400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лассный час по правилам дорожного движ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Garamond"/>
              </a:rPr>
              <a:t>«Азбука безопасности на дороге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20" descr="рисунок1"/>
          <p:cNvPicPr/>
          <p:nvPr/>
        </p:nvPicPr>
        <p:blipFill>
          <a:blip r:embed="rId1"/>
          <a:stretch/>
        </p:blipFill>
        <p:spPr>
          <a:xfrm>
            <a:off x="6086520" y="2852640"/>
            <a:ext cx="305748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perehod(1)"/>
          <p:cNvPicPr/>
          <p:nvPr/>
        </p:nvPicPr>
        <p:blipFill>
          <a:blip r:embed="rId1"/>
          <a:stretch/>
        </p:blipFill>
        <p:spPr>
          <a:xfrm>
            <a:off x="3132000" y="549360"/>
            <a:ext cx="5715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7_6"/>
          <p:cNvPicPr/>
          <p:nvPr/>
        </p:nvPicPr>
        <p:blipFill>
          <a:blip r:embed="rId1"/>
          <a:stretch/>
        </p:blipFill>
        <p:spPr>
          <a:xfrm>
            <a:off x="4932360" y="620640"/>
            <a:ext cx="38894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6144198-znak_pesehodnaj_doroska"/>
          <p:cNvPicPr/>
          <p:nvPr/>
        </p:nvPicPr>
        <p:blipFill>
          <a:blip r:embed="rId1"/>
          <a:stretch/>
        </p:blipFill>
        <p:spPr>
          <a:xfrm>
            <a:off x="3203640" y="6922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7"/>
          <p:cNvPicPr/>
          <p:nvPr/>
        </p:nvPicPr>
        <p:blipFill>
          <a:blip r:embed="rId1"/>
          <a:stretch/>
        </p:blipFill>
        <p:spPr>
          <a:xfrm>
            <a:off x="3132000" y="62064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26028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Garamond"/>
              </a:rPr>
              <a:t>«Это я, это я, это все мои друзья!»</a:t>
            </a:r>
            <a:r>
              <a:rPr b="1" i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6" descr="d14b7f9815a421491b65a8b9417aed95110527ba"/>
          <p:cNvPicPr/>
          <p:nvPr/>
        </p:nvPicPr>
        <p:blipFill>
          <a:blip r:embed="rId1"/>
          <a:stretch/>
        </p:blipFill>
        <p:spPr>
          <a:xfrm>
            <a:off x="755640" y="1125360"/>
            <a:ext cx="77040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0" y="189000"/>
            <a:ext cx="9144000" cy="70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Garamond"/>
              </a:rPr>
              <a:t>Ребята!</a:t>
            </a:r>
            <a:br>
              <a:rPr sz="6500"/>
            </a:br>
            <a:r>
              <a:rPr b="0" lang="ru-RU" sz="6500" spc="-1" strike="noStrike">
                <a:solidFill>
                  <a:srgbClr val="000000"/>
                </a:solidFill>
                <a:latin typeface="Garamond"/>
              </a:rPr>
              <a:t>Будьте всегда внимательны и осторожны!</a:t>
            </a:r>
            <a:br>
              <a:rPr sz="6500"/>
            </a:br>
            <a:r>
              <a:rPr b="0" lang="ru-RU" sz="6500" spc="-1" strike="noStrike">
                <a:solidFill>
                  <a:srgbClr val="ff0000"/>
                </a:solidFill>
                <a:latin typeface="Garamond"/>
              </a:rPr>
              <a:t>Соблюдайте правила дорожного движения!</a:t>
            </a:r>
            <a:endParaRPr b="0" lang="en-US" sz="6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189000"/>
            <a:ext cx="9144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Город, в котором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С тобой мы живем,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Можно по праву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сравнить с Букварем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Азбукой улиц,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Проспектов, дорог,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Город дает нам все время урок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Вот она, азбука,-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Над головой: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Знаки развешаны вдоль мостовой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s86204992"/>
          <p:cNvPicPr/>
          <p:nvPr/>
        </p:nvPicPr>
        <p:blipFill>
          <a:blip r:embed="rId1"/>
          <a:stretch/>
        </p:blipFill>
        <p:spPr>
          <a:xfrm>
            <a:off x="207504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179280" y="189000"/>
            <a:ext cx="8785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о дороге нужно идти по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лево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сторон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Для транспорта –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мостовая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для пешеходов –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тротуар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ри переходе улицы сначала посмотри –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налево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а потом –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направо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Играть можно только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во дворе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ешеходам можно переходить дорогу только на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зелёны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свет светофо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0"/>
            <a:ext cx="57607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Он имеет по три глаз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о три с каждой сторо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 хотя еще ни раз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Не смотрел он всеми сразу 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се глаза ему нуж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Он висит тут с давних по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 на всех глядит в упо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Что же это? …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Он и вежливый, и старый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 известен на весь мир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Он на улице широк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Самый главный команди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се его, конечно, знают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Да и как его не знать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се отлично понимаю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се, что  хочет он сказа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5435640" y="0"/>
            <a:ext cx="4635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5348e25dd170a1711984ec8851ee73db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Дети"/>
          <p:cNvPicPr/>
          <p:nvPr/>
        </p:nvPicPr>
        <p:blipFill>
          <a:blip r:embed="rId1"/>
          <a:stretch/>
        </p:blipFill>
        <p:spPr>
          <a:xfrm>
            <a:off x="3780000" y="333360"/>
            <a:ext cx="4698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708360" y="549360"/>
            <a:ext cx="517212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09:50:15Z</dcterms:created>
  <dc:creator>samsung</dc:creator>
  <dc:description/>
  <dc:language>en-US</dc:language>
  <cp:lastModifiedBy>teacher</cp:lastModifiedBy>
  <dcterms:modified xsi:type="dcterms:W3CDTF">2019-04-22T05:23:42Z</dcterms:modified>
  <cp:revision>24</cp:revision>
  <dc:subject/>
  <dc:title>Слайд 1</dc:title>
</cp:coreProperties>
</file>