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85BEB-8A2F-4CBF-91C9-7AD4B22B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B4323-7E5B-4F04-89F6-F6FE5A6F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9EDFA-C94A-4130-A3EF-4D124B47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B6A0B-19E9-4030-A877-B5F21163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B8A6-BB3B-412E-98E2-B38458BC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3421-1037-4C47-BB05-DFB31A54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2784-DD03-49E1-B8B5-0E5355BC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8B76-4EA7-43BD-A240-475804B7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EF9C-0EB9-488B-B9A3-41C008EC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1B7C-E74F-448F-8021-D5E68ECE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B772-A851-4F03-AABA-2B49ED28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4A69F-C385-4049-A371-5AA4F25A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4951-F484-484A-A2A0-3906585C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8A57-0F97-4203-B25A-BD3CAB63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1888-F574-4700-9A16-09ACD4A9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B8E4-B4A4-41AD-BC55-086B1207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07C8-AADA-42A2-9D24-2BB65D2A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8F375-2BA5-431C-A6EC-9D49DA41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05805-3645-43BC-9D40-212C083A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2A73-DCC7-4B4B-86CE-C5C80B19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F4D4D-4C36-465E-B7A4-A1601D56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7E403-F395-4349-B146-228BB781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2F606-2980-4F5D-ABD1-FD9F7C74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B77C2-1CE8-4AE3-A696-E6B599AD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0EAE-5582-4526-A47C-4E34242994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FFDB-006F-4A42-B0A5-4FBD0C80E8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0" y="1557360"/>
            <a:ext cx="914400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Классный час по правилам дорожного движ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Garamond"/>
              </a:rPr>
              <a:t>«Азбука безопасности на дороге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20" descr="рисунок1"/>
          <p:cNvPicPr/>
          <p:nvPr/>
        </p:nvPicPr>
        <p:blipFill>
          <a:blip r:embed="rId1"/>
          <a:stretch/>
        </p:blipFill>
        <p:spPr>
          <a:xfrm>
            <a:off x="6086520" y="2852640"/>
            <a:ext cx="305748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perehod(1)"/>
          <p:cNvPicPr/>
          <p:nvPr/>
        </p:nvPicPr>
        <p:blipFill>
          <a:blip r:embed="rId1"/>
          <a:stretch/>
        </p:blipFill>
        <p:spPr>
          <a:xfrm>
            <a:off x="3132000" y="549360"/>
            <a:ext cx="57150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7_6"/>
          <p:cNvPicPr/>
          <p:nvPr/>
        </p:nvPicPr>
        <p:blipFill>
          <a:blip r:embed="rId1"/>
          <a:stretch/>
        </p:blipFill>
        <p:spPr>
          <a:xfrm>
            <a:off x="4932360" y="620640"/>
            <a:ext cx="38894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6144198-znak_pesehodnaj_doroska"/>
          <p:cNvPicPr/>
          <p:nvPr/>
        </p:nvPicPr>
        <p:blipFill>
          <a:blip r:embed="rId1"/>
          <a:stretch/>
        </p:blipFill>
        <p:spPr>
          <a:xfrm>
            <a:off x="3203640" y="6922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7"/>
          <p:cNvPicPr/>
          <p:nvPr/>
        </p:nvPicPr>
        <p:blipFill>
          <a:blip r:embed="rId1"/>
          <a:stretch/>
        </p:blipFill>
        <p:spPr>
          <a:xfrm>
            <a:off x="3132000" y="62064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26028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Garamond"/>
              </a:rPr>
              <a:t>«Это я, это я, это все мои друзья!»</a:t>
            </a:r>
            <a:r>
              <a:rPr b="1" i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6" descr="d14b7f9815a421491b65a8b9417aed95110527ba"/>
          <p:cNvPicPr/>
          <p:nvPr/>
        </p:nvPicPr>
        <p:blipFill>
          <a:blip r:embed="rId1"/>
          <a:stretch/>
        </p:blipFill>
        <p:spPr>
          <a:xfrm>
            <a:off x="755640" y="1125360"/>
            <a:ext cx="77040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0" y="189000"/>
            <a:ext cx="9144000" cy="70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ff0000"/>
                </a:solidFill>
                <a:latin typeface="Garamond"/>
              </a:rPr>
              <a:t>Ребята!</a:t>
            </a:r>
            <a:br>
              <a:rPr sz="6500"/>
            </a:br>
            <a:r>
              <a:rPr b="0" lang="ru-RU" sz="6500" spc="-1" strike="noStrike">
                <a:solidFill>
                  <a:srgbClr val="000000"/>
                </a:solidFill>
                <a:latin typeface="Garamond"/>
              </a:rPr>
              <a:t>Будьте всегда внимательны и осторожны!</a:t>
            </a:r>
            <a:br>
              <a:rPr sz="6500"/>
            </a:br>
            <a:r>
              <a:rPr b="0" lang="ru-RU" sz="6500" spc="-1" strike="noStrike">
                <a:solidFill>
                  <a:srgbClr val="ff0000"/>
                </a:solidFill>
                <a:latin typeface="Garamond"/>
              </a:rPr>
              <a:t>Соблюдайте правила дорожного движения!</a:t>
            </a:r>
            <a:endParaRPr b="0" lang="en-US" sz="6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189000"/>
            <a:ext cx="91440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aramond"/>
              </a:rPr>
              <a:t>Город, в котором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aramond"/>
              </a:rPr>
              <a:t>С тобой мы живем,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aramond"/>
              </a:rPr>
              <a:t>Можно по праву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aramond"/>
              </a:rPr>
              <a:t>сравнить с Букварем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aramond"/>
              </a:rPr>
              <a:t>Азбукой улиц,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aramond"/>
              </a:rPr>
              <a:t>Проспектов, дорог,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aramond"/>
              </a:rPr>
              <a:t>Город дает нам все время урок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aramond"/>
              </a:rPr>
              <a:t>Вот она, азбука,-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aramond"/>
              </a:rPr>
              <a:t>Над головой: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Garamond"/>
              </a:rPr>
              <a:t>Знаки развешаны вдоль мостовой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s86204992"/>
          <p:cNvPicPr/>
          <p:nvPr/>
        </p:nvPicPr>
        <p:blipFill>
          <a:blip r:embed="rId1"/>
          <a:stretch/>
        </p:blipFill>
        <p:spPr>
          <a:xfrm>
            <a:off x="2075040" y="0"/>
            <a:ext cx="500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6"/>
          <p:cNvSpPr/>
          <p:nvPr/>
        </p:nvSpPr>
        <p:spPr>
          <a:xfrm>
            <a:off x="179280" y="189000"/>
            <a:ext cx="8785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о дороге нужно идти по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левой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сторон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Для транспорта –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мостовая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для пешеходов –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тротуар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ри переходе улицы сначала посмотри –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налево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а потом –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направо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Играть можно только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во дворе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Пешеходам можно переходить дорогу только на </a:t>
            </a: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зелёный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свет светофо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24000" y="0"/>
            <a:ext cx="57607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Он имеет по три глаз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По три с каждой сторо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И хотя еще ни раз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Не смотрел он всеми сразу –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се глаза ему нуж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Он висит тут с давних по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И на всех глядит в упо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Что же это? …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Он и вежливый, и старый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И известен на весь мир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Он на улице широк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Самый главный команди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се его, конечно, знают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Да и как его не знать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се отлично понимаю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aramond"/>
              </a:rPr>
              <a:t>Все, что  хочет он сказа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5435640" y="0"/>
            <a:ext cx="4635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5348e25dd170a1711984ec8851ee73db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Дети"/>
          <p:cNvPicPr/>
          <p:nvPr/>
        </p:nvPicPr>
        <p:blipFill>
          <a:blip r:embed="rId1"/>
          <a:stretch/>
        </p:blipFill>
        <p:spPr>
          <a:xfrm>
            <a:off x="3780000" y="333360"/>
            <a:ext cx="4698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492360" y="76500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708360" y="549360"/>
            <a:ext cx="517212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09:50:15Z</dcterms:created>
  <dc:creator>samsung</dc:creator>
  <dc:description/>
  <dc:language>en-US</dc:language>
  <cp:lastModifiedBy>teacher</cp:lastModifiedBy>
  <dcterms:modified xsi:type="dcterms:W3CDTF">2019-04-22T05:23:42Z</dcterms:modified>
  <cp:revision>24</cp:revision>
  <dc:subject/>
  <dc:title>Слайд 1</dc:title>
</cp:coreProperties>
</file>