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8BB-5ED5-4786-B412-789A7804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25F-58A9-4F83-BB25-5C3E59E8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F6F-2EB4-4AFB-8159-6CCF5F1A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335-2B0B-4667-96CD-0EB08D87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25B4-15B0-4751-A9D0-18E5D6F0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69C2-1C2F-48BC-954F-E3E2CE1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6498-009E-4025-AA3A-ADA8CD20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7CF4-1586-44C9-837E-22F99003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00A-BEA5-4CC4-A568-C4A023B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962B-3613-40AA-BFF3-09696DE8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4866-0EAE-498B-AFDC-734B4FBE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460-E5ED-4C07-AA3A-B050D26B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DDD8-3D72-42B5-A3E5-90CCFF67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7C18-A2CB-4F59-A263-5F6CD16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1926-7DC9-4D8E-B6A8-A6A1D803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63A-17A9-4CF1-9241-D2AAAA26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0291-CD3D-41BC-8A04-35F8638F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98E-A4B2-4292-9E1C-5B1FDF6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CB2-E874-4F3C-9456-293AF7C4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C04-F0FC-4C67-9E46-A55458DD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980-D0F0-435E-B67E-119ACAA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2CB-B8D7-4BB8-A7D9-090258C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CDB-FEDE-4504-BB54-CB0B51EA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0B7-074D-4BDA-8F7B-7A9BD31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C29-3679-4D7A-ADA8-F865FBD41865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4FF0-0632-4464-BE27-D336430E8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9182-A75C-4BEB-B739-09FAE015B752}" type="datetime3">
              <a:rPr b="0" lang="en-US" sz="1200" spc="-1" strike="noStrike">
                <a:solidFill>
                  <a:srgbClr val="898989"/>
                </a:solidFill>
                <a:latin typeface="Calibri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F25-1766-488D-83C2-4CE62FDB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2438280" y="5545080"/>
            <a:ext cx="6553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733920" y="14479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5040" y="1552680"/>
            <a:ext cx="47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 проек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800600" y="6324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2666880" y="4419720"/>
            <a:ext cx="563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>
            <a:hlinkClick r:id="" action="ppaction://hlinkshowjump?jump=nextslide"/>
          </p:cNvPr>
          <p:cNvSpPr/>
          <p:nvPr/>
        </p:nvSpPr>
        <p:spPr>
          <a:xfrm>
            <a:off x="845964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Прямоугольник 12" descr=""/>
          <p:cNvPicPr/>
          <p:nvPr/>
        </p:nvPicPr>
        <p:blipFill>
          <a:blip r:embed="rId1"/>
          <a:stretch/>
        </p:blipFill>
        <p:spPr>
          <a:xfrm>
            <a:off x="2792520" y="2346480"/>
            <a:ext cx="478476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9">
            <a:hlinkClick r:id="" action="ppaction://hlinkshowjump?jump=nextslide"/>
          </p:cNvPr>
          <p:cNvSpPr/>
          <p:nvPr/>
        </p:nvSpPr>
        <p:spPr>
          <a:xfrm>
            <a:off x="723600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25042" y="10800"/>
                </a:lnTo>
                <a:lnTo>
                  <a:pt x="11030" y="17806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403280" y="692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700360" y="1413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пределить роль и место словарей в жизни школь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20087400">
            <a:off x="1042920" y="1379160"/>
            <a:ext cx="1365480" cy="79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1403280" y="270828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332000" y="342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 жизни современного человека словарь необязателен. Любой текст можно написать, а затем и проверить без словар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3311640" cy="447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РОЕКТ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ели русск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ведут знато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Век живи - век учис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900000" y="476280"/>
          <a:ext cx="7920000" cy="5251320"/>
        </p:xfrm>
        <a:graphic>
          <a:graphicData uri="http://schemas.openxmlformats.org/drawingml/2006/table">
            <a:tbl>
              <a:tblPr/>
              <a:tblGrid>
                <a:gridCol w="2303640"/>
                <a:gridCol w="504720"/>
                <a:gridCol w="5111640"/>
              </a:tblGrid>
              <a:tr h="84132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фографический словарь  русского язы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ет  правильное написание слова, с ударением, часто с указанием «трудных» окончаний паде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 синонимов русского язы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помогает выбрать наиболее удачное слово или словосочетание из близких по значению для более точного выражения мысл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 антонимов русского язы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каждому слову приводятся слова, противоположные по значению и синонимы к этим противоположным слов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итно или раздель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вящен одному из самых трудных вопросов – слитному, раздельному или дефисному написанию сл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ковый словарь русского язык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этом словаре дается краткое толкование слов и примеры их употреб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19800" rIns="19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ческий словарь русского язы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800" rIns="19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 отражает национальную специфику языка, его самобытность, служит повышению речевой 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800" marR="19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1" name="Прямая со стрелкой 2"/>
          <p:cNvCxnSpPr/>
          <p:nvPr/>
        </p:nvCxnSpPr>
        <p:spPr>
          <a:xfrm>
            <a:off x="3203640" y="83628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9"/>
          <p:cNvCxnSpPr/>
          <p:nvPr/>
        </p:nvCxnSpPr>
        <p:spPr>
          <a:xfrm>
            <a:off x="3193560" y="1773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Прямая со стрелкой 20"/>
          <p:cNvCxnSpPr/>
          <p:nvPr/>
        </p:nvCxnSpPr>
        <p:spPr>
          <a:xfrm>
            <a:off x="3203640" y="278892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Прямая со стрелкой 21"/>
          <p:cNvCxnSpPr/>
          <p:nvPr/>
        </p:nvCxnSpPr>
        <p:spPr>
          <a:xfrm>
            <a:off x="3203640" y="349992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Прямая со стрелкой 22"/>
          <p:cNvCxnSpPr/>
          <p:nvPr/>
        </p:nvCxnSpPr>
        <p:spPr>
          <a:xfrm>
            <a:off x="3192480" y="422064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31"/>
          <p:cNvCxnSpPr/>
          <p:nvPr/>
        </p:nvCxnSpPr>
        <p:spPr>
          <a:xfrm>
            <a:off x="3203640" y="501300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E:\для внеурочки\frazeologizmy_v_kartinkah.jpg"/>
          <p:cNvPicPr/>
          <p:nvPr/>
        </p:nvPicPr>
        <p:blipFill>
          <a:blip r:embed="rId1"/>
          <a:stretch/>
        </p:blipFill>
        <p:spPr>
          <a:xfrm>
            <a:off x="755640" y="476280"/>
            <a:ext cx="79502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опровергнута гипотеза о том, что можно обойтись без словарей. Мы доказали, что на современном этапе люди не могут обойтись без словарей. В современной жизни появилось множество слов, написание которых требует проверки и объяснения зна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этому, словарь необходим как для грамотного письма, так и для расширения кругоз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0:22:28Z</dcterms:created>
  <dc:creator>Никитенко Н.А</dc:creator>
  <dc:description/>
  <dc:language>en-US</dc:language>
  <cp:lastModifiedBy>1</cp:lastModifiedBy>
  <dcterms:modified xsi:type="dcterms:W3CDTF">2019-04-28T04:43:15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