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946-9694-4BB9-9014-F383066E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71E-48C9-494A-AAE6-968DDEE1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264-06B8-4042-A739-9AD5E529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81B-7335-4130-9F52-63F0D9B9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F39E-DD04-4BA6-A71B-55612DFD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2898-0057-4198-BD6B-DF92E8E5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D19F-40DF-4778-8EB5-4D0C2A0C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EDF4-15F6-4825-9636-6D79289F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7B6F-3C52-4CF7-859B-441E4121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F40F-556F-48F2-B265-1369FE76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99BD-08A4-406A-B9DE-6A88F4C1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473-024C-4A9A-8307-B9D34926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5935-5516-4EAE-B8FB-E9B4DEA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A7FD-3226-40DF-804E-DBD3C09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98F2-688B-4E47-807F-AB269B6D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5BDF-A840-485B-B9FE-06F3E65C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DC52-ABB4-4AE8-8209-F1321C07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886-D1AD-4275-8D38-F3F210BA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667-16CC-4F65-A5F0-6B1DBC03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C86-6894-46E7-A832-CF84492F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CA8-C0C4-4624-8313-B730E966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96E-F06F-44E1-B7A9-EA663C0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DFA-8638-4DCF-9F6B-060CCABC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EFD-B930-40E3-A2B4-250760AB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FAE9-0AEB-44D8-9372-65B9FB971844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7C81-D2C4-49BE-8401-7C0752CA6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0881-8A2C-482C-B9A5-7D88C2A3EAC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03E-7670-4251-89CF-2F2D4A6B0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2438280" y="5545080"/>
            <a:ext cx="6553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733920" y="14479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975040" y="1552680"/>
            <a:ext cx="47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 проек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800600" y="6324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666880" y="4419720"/>
            <a:ext cx="563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>
            <a:hlinkClick r:id="" action="ppaction://hlinkshowjump?jump=nextslide"/>
          </p:cNvPr>
          <p:cNvSpPr/>
          <p:nvPr/>
        </p:nvSpPr>
        <p:spPr>
          <a:xfrm>
            <a:off x="845964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Прямоугольник 12" descr=""/>
          <p:cNvPicPr/>
          <p:nvPr/>
        </p:nvPicPr>
        <p:blipFill>
          <a:blip r:embed="rId1"/>
          <a:stretch/>
        </p:blipFill>
        <p:spPr>
          <a:xfrm>
            <a:off x="2792520" y="2346480"/>
            <a:ext cx="4784760" cy="176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9">
            <a:hlinkClick r:id="" action="ppaction://hlinkshowjump?jump=nextslide"/>
          </p:cNvPr>
          <p:cNvSpPr/>
          <p:nvPr/>
        </p:nvSpPr>
        <p:spPr>
          <a:xfrm>
            <a:off x="723600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403280" y="692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700360" y="1413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пределить роль и место словарей в жизни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 rot="20087400">
            <a:off x="1042920" y="1379160"/>
            <a:ext cx="1365480" cy="792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1403280" y="2708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332000" y="3429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 жизни современного человека словарь необязателен. Любой текст можно написать, а затем и проверить без слова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3311640" cy="447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ели русск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ведут знато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Век живи - век учис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900000" y="476280"/>
          <a:ext cx="7920000" cy="5251320"/>
        </p:xfrm>
        <a:graphic>
          <a:graphicData uri="http://schemas.openxmlformats.org/drawingml/2006/table">
            <a:tbl>
              <a:tblPr/>
              <a:tblGrid>
                <a:gridCol w="2303640"/>
                <a:gridCol w="504720"/>
                <a:gridCol w="5111640"/>
              </a:tblGrid>
              <a:tr h="84132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фографический словарь  русского язы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ет  правильное написание слова, с ударением, часто с указанием «трудных» окончаний падеж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 синонимов русского язык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 помогает выбрать наиболее удачное слово или словосочетание из близких по значению для более точного выражения мысл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 антонимов русского язы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ждому слову приводятся слова, противоположные по значению и синонимы к этим противоположным сло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тно или раздельн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вящен одному из самых трудных вопросов – слитному, раздельному или дефисному написанию сл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ковый словарь русского язык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этом словаре дается краткое толкование слов и примеры их употреб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еологический словарь русского я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отражает национальную специфику языка, его самобытность, служит повышению речевой куль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1" name="Прямая со стрелкой 2"/>
          <p:cNvCxnSpPr/>
          <p:nvPr/>
        </p:nvCxnSpPr>
        <p:spPr>
          <a:xfrm>
            <a:off x="3203640" y="83628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9"/>
          <p:cNvCxnSpPr/>
          <p:nvPr/>
        </p:nvCxnSpPr>
        <p:spPr>
          <a:xfrm>
            <a:off x="3193560" y="1773000"/>
            <a:ext cx="515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Прямая со стрелкой 20"/>
          <p:cNvCxnSpPr/>
          <p:nvPr/>
        </p:nvCxnSpPr>
        <p:spPr>
          <a:xfrm>
            <a:off x="3203640" y="278892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Прямая со стрелкой 21"/>
          <p:cNvCxnSpPr/>
          <p:nvPr/>
        </p:nvCxnSpPr>
        <p:spPr>
          <a:xfrm>
            <a:off x="3203640" y="349992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22"/>
          <p:cNvCxnSpPr/>
          <p:nvPr/>
        </p:nvCxnSpPr>
        <p:spPr>
          <a:xfrm>
            <a:off x="3192480" y="422064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31"/>
          <p:cNvCxnSpPr/>
          <p:nvPr/>
        </p:nvCxnSpPr>
        <p:spPr>
          <a:xfrm>
            <a:off x="3203640" y="501300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E:\для внеурочки\frazeologizmy_v_kartinkah.jpg"/>
          <p:cNvPicPr/>
          <p:nvPr/>
        </p:nvPicPr>
        <p:blipFill>
          <a:blip r:embed="rId1"/>
          <a:stretch/>
        </p:blipFill>
        <p:spPr>
          <a:xfrm>
            <a:off x="755640" y="476280"/>
            <a:ext cx="7950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опровергнута гипотеза о том, что можно обойтись без словарей. Мы доказали, что на современном этапе люди не могут обойтись без словарей. В современной жизни появилось множество слов, написание которых требует проверки и объяснения зна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поэтому, словарь необходим как для грамотного письма, так и для расширения кругоз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20:22:28Z</dcterms:created>
  <dc:creator>Никитенко Н.А</dc:creator>
  <dc:description/>
  <dc:language>en-US</dc:language>
  <cp:lastModifiedBy>1</cp:lastModifiedBy>
  <dcterms:modified xsi:type="dcterms:W3CDTF">2019-04-28T04:43:15Z</dcterms:modified>
  <cp:revision>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