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F64-2E63-4463-818C-FB631597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79B-B52C-453B-8BE7-9607E9B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FB9-0C09-47E1-B4D3-B1813290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BFA-990A-499A-B9A9-F8937BFA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2D8-D22D-4A3E-B4D1-9F183CC2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DA2-17F9-4E75-AA7B-51FE65C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FCC-5E5B-482D-A9CF-D8889C72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C5C-7936-4FFC-BF86-715CBD6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73B-FBEB-4539-8747-A863F113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BB5-BD1E-4F17-AD41-D9EEA749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3B9-E3FC-491B-98F5-70C44C3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7D0-5069-4E6E-99BD-D922272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B355-03F1-4A90-9C1C-091CE3C9E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4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16.png"/><Relationship Id="rId7" Type="http://schemas.openxmlformats.org/officeDocument/2006/relationships/image" Target="../media/image26.jpe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16000" y="5373360"/>
            <a:ext cx="38480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Окружающ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900000" y="1916280"/>
            <a:ext cx="7267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икий круговорот жизни</a:t>
            </a:r>
            <a:endParaRPr b="0" lang="en-US" sz="4800" spc="1" strike="noStrike">
              <a:ln w="936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5" descr="default"/>
          <p:cNvPicPr/>
          <p:nvPr/>
        </p:nvPicPr>
        <p:blipFill>
          <a:blip r:embed="rId1"/>
          <a:stretch/>
        </p:blipFill>
        <p:spPr>
          <a:xfrm>
            <a:off x="3851280" y="404640"/>
            <a:ext cx="1550880" cy="142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uuu"/>
          <p:cNvPicPr/>
          <p:nvPr/>
        </p:nvPicPr>
        <p:blipFill>
          <a:blip r:embed="rId2"/>
          <a:stretch/>
        </p:blipFill>
        <p:spPr>
          <a:xfrm>
            <a:off x="3564000" y="2781360"/>
            <a:ext cx="2448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uu"/>
          <p:cNvPicPr/>
          <p:nvPr/>
        </p:nvPicPr>
        <p:blipFill>
          <a:blip r:embed="rId3"/>
          <a:stretch/>
        </p:blipFill>
        <p:spPr>
          <a:xfrm>
            <a:off x="6581880" y="3645000"/>
            <a:ext cx="2022480" cy="273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6"/>
          <p:cNvPicPr/>
          <p:nvPr/>
        </p:nvPicPr>
        <p:blipFill>
          <a:blip r:embed="rId4"/>
          <a:stretch/>
        </p:blipFill>
        <p:spPr>
          <a:xfrm>
            <a:off x="1116000" y="452772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Огромную роль в круговороте жизни играет поч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60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 растения и животные умирают, их остатки попадают в почву и под действием организмов – разруши-телей превращаются в перегной. Из перегноя под действием бакте-рий образуются соли. А соли используют растения для роста и развития. Растениями питаются жив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Рисунок1"/>
          <p:cNvPicPr/>
          <p:nvPr/>
        </p:nvPicPr>
        <p:blipFill>
          <a:blip r:embed="rId1"/>
          <a:stretch/>
        </p:blipFill>
        <p:spPr>
          <a:xfrm>
            <a:off x="755640" y="1484280"/>
            <a:ext cx="3240000" cy="23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Рисунок2"/>
          <p:cNvPicPr/>
          <p:nvPr/>
        </p:nvPicPr>
        <p:blipFill>
          <a:blip r:embed="rId2"/>
          <a:stretch/>
        </p:blipFill>
        <p:spPr>
          <a:xfrm>
            <a:off x="755640" y="4005360"/>
            <a:ext cx="3240000" cy="22971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1280" y="3284640"/>
            <a:ext cx="2520720" cy="6476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635280" y="1484280"/>
            <a:ext cx="2376720" cy="64764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6229440" y="3286080"/>
            <a:ext cx="2303280" cy="64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564000" y="5013360"/>
            <a:ext cx="2520720" cy="1224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ит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еществ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default"/>
          <p:cNvPicPr/>
          <p:nvPr/>
        </p:nvPicPr>
        <p:blipFill>
          <a:blip r:embed="rId2"/>
          <a:stretch/>
        </p:blipFill>
        <p:spPr>
          <a:xfrm>
            <a:off x="684360" y="549360"/>
            <a:ext cx="1261800" cy="1160280"/>
          </a:xfrm>
          <a:prstGeom prst="rect">
            <a:avLst/>
          </a:prstGeom>
          <a:ln w="0">
            <a:noFill/>
          </a:ln>
        </p:spPr>
      </p:pic>
      <p:sp>
        <p:nvSpPr>
          <p:cNvPr id="107" name="Oval 10"/>
          <p:cNvSpPr/>
          <p:nvPr/>
        </p:nvSpPr>
        <p:spPr>
          <a:xfrm>
            <a:off x="395280" y="1843200"/>
            <a:ext cx="1044720" cy="64908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95280" y="2565360"/>
            <a:ext cx="1042920" cy="647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13"/>
          <p:cNvPicPr/>
          <p:nvPr/>
        </p:nvPicPr>
        <p:blipFill>
          <a:blip r:embed="rId4"/>
          <a:stretch/>
        </p:blipFill>
        <p:spPr>
          <a:xfrm>
            <a:off x="1547640" y="1773360"/>
            <a:ext cx="1001880" cy="13683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6"/>
          <p:cNvSpPr/>
          <p:nvPr/>
        </p:nvSpPr>
        <p:spPr>
          <a:xfrm rot="18304200">
            <a:off x="2188800" y="201924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259488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17"/>
          <p:cNvPicPr/>
          <p:nvPr/>
        </p:nvPicPr>
        <p:blipFill>
          <a:blip r:embed="rId5"/>
          <a:stretch/>
        </p:blipFill>
        <p:spPr>
          <a:xfrm>
            <a:off x="3564000" y="476280"/>
            <a:ext cx="1236600" cy="99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55"/>
          <p:cNvPicPr/>
          <p:nvPr/>
        </p:nvPicPr>
        <p:blipFill>
          <a:blip r:embed="rId6"/>
          <a:stretch/>
        </p:blipFill>
        <p:spPr>
          <a:xfrm>
            <a:off x="4716360" y="343080"/>
            <a:ext cx="1800360" cy="11109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 rot="6616800">
            <a:off x="5491080" y="4011120"/>
            <a:ext cx="1897200" cy="130680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800"/>
              <a:gd name="textAreaBottom" fmla="*/ 1115640 h 130680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 rot="3312600">
            <a:off x="5418000" y="1898640"/>
            <a:ext cx="1896840" cy="1306440"/>
          </a:xfrm>
          <a:custGeom>
            <a:avLst/>
            <a:gdLst>
              <a:gd name="textAreaLeft" fmla="*/ 277560 w 1896840"/>
              <a:gd name="textAreaRight" fmla="*/ 1619280 w 189684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/>
          <p:cNvSpPr/>
          <p:nvPr/>
        </p:nvSpPr>
        <p:spPr>
          <a:xfrm rot="13628400">
            <a:off x="2249280" y="4011120"/>
            <a:ext cx="1897200" cy="1306440"/>
          </a:xfrm>
          <a:custGeom>
            <a:avLst/>
            <a:gdLst>
              <a:gd name="textAreaLeft" fmla="*/ 277560 w 1897200"/>
              <a:gd name="textAreaRight" fmla="*/ 1619640 w 1897200"/>
              <a:gd name="textAreaTop" fmla="*/ 191160 h 1306440"/>
              <a:gd name="textAreaBottom" fmla="*/ 1115280 h 1306440"/>
            </a:gdLst>
            <a:ahLst/>
            <a:rect l="textAreaLeft" t="textAreaTop" r="textAreaRight" b="textAreaBottom"/>
            <a:pathLst>
              <a:path w="21600" h="21600">
                <a:moveTo>
                  <a:pt x="18386" y="6801"/>
                </a:moveTo>
                <a:cubicBezTo>
                  <a:pt x="16902" y="3986"/>
                  <a:pt x="13982" y="2224"/>
                  <a:pt x="10800" y="2224"/>
                </a:cubicBezTo>
                <a:cubicBezTo>
                  <a:pt x="7348" y="2223"/>
                  <a:pt x="4232" y="4293"/>
                  <a:pt x="2894" y="7475"/>
                </a:cubicBezTo>
                <a:lnTo>
                  <a:pt x="844" y="6612"/>
                </a:lnTo>
                <a:cubicBezTo>
                  <a:pt x="2529" y="2606"/>
                  <a:pt x="6453" y="-1"/>
                  <a:pt x="10800" y="0"/>
                </a:cubicBezTo>
                <a:cubicBezTo>
                  <a:pt x="14807" y="0"/>
                  <a:pt x="18485" y="2219"/>
                  <a:pt x="20354" y="5764"/>
                </a:cubicBezTo>
                <a:lnTo>
                  <a:pt x="22742" y="4505"/>
                </a:lnTo>
                <a:lnTo>
                  <a:pt x="21148" y="9654"/>
                </a:lnTo>
                <a:lnTo>
                  <a:pt x="15998" y="8060"/>
                </a:lnTo>
                <a:lnTo>
                  <a:pt x="18386" y="6801"/>
                </a:lnTo>
                <a:close/>
              </a:path>
            </a:pathLst>
          </a:cu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006160" y="227664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9021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5" descr="16"/>
          <p:cNvPicPr/>
          <p:nvPr/>
        </p:nvPicPr>
        <p:blipFill>
          <a:blip r:embed="rId7"/>
          <a:stretch/>
        </p:blipFill>
        <p:spPr>
          <a:xfrm>
            <a:off x="7451640" y="2382840"/>
            <a:ext cx="1119240" cy="83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Рисунок2jmm"/>
          <p:cNvPicPr/>
          <p:nvPr/>
        </p:nvPicPr>
        <p:blipFill>
          <a:blip r:embed="rId8"/>
          <a:stretch/>
        </p:blipFill>
        <p:spPr>
          <a:xfrm>
            <a:off x="7451640" y="3933720"/>
            <a:ext cx="1224000" cy="855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7"/>
          <p:cNvSpPr/>
          <p:nvPr/>
        </p:nvSpPr>
        <p:spPr>
          <a:xfrm>
            <a:off x="2520720" y="4365720"/>
            <a:ext cx="226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/>
          <p:cNvSpPr/>
          <p:nvPr/>
        </p:nvSpPr>
        <p:spPr>
          <a:xfrm>
            <a:off x="3348000" y="3500280"/>
            <a:ext cx="2808360" cy="289080"/>
          </a:xfrm>
          <a:prstGeom prst="rightArrow">
            <a:avLst>
              <a:gd name="adj1" fmla="val 49454"/>
              <a:gd name="adj2" fmla="val 177385"/>
            </a:avLst>
          </a:prstGeom>
          <a:solidFill>
            <a:srgbClr val="ff6600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Comic Sans MS"/>
              </a:rPr>
              <a:t>Подведём ит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Рисунок7"/>
          <p:cNvPicPr/>
          <p:nvPr/>
        </p:nvPicPr>
        <p:blipFill>
          <a:blip r:embed="rId1"/>
          <a:stretch/>
        </p:blipFill>
        <p:spPr>
          <a:xfrm>
            <a:off x="755640" y="2276640"/>
            <a:ext cx="280188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625920" y="1197000"/>
            <a:ext cx="5122800" cy="5400720"/>
          </a:xfrm>
          <a:prstGeom prst="rect">
            <a:avLst/>
          </a:prstGeom>
          <a:solidFill>
            <a:srgbClr val="ffffcc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Comic Sans MS"/>
              </a:rPr>
              <a:t>Назовите основные звенья круговорота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Почему растения назва-ны организмами- произ-водителями, а животные - потреб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Что ты знаешь об орга-низмах-разрушител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Какова роль почвы в круговороте жиз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393372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нажды мудрый Лев Муфаса сказал своему сыну Сим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Всё, что ты видишь вокруг, находится в очень хрупком равновесии, сынок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Надо уважать все живые существа - от ползающих муравьёв до несущихся антило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1"/>
          <p:cNvPicPr/>
          <p:nvPr/>
        </p:nvPicPr>
        <p:blipFill>
          <a:blip r:embed="rId1"/>
          <a:stretch/>
        </p:blipFill>
        <p:spPr>
          <a:xfrm>
            <a:off x="1547640" y="476280"/>
            <a:ext cx="5832720" cy="3479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12"/>
          <p:cNvPicPr/>
          <p:nvPr/>
        </p:nvPicPr>
        <p:blipFill>
          <a:blip r:embed="rId1"/>
          <a:stretch/>
        </p:blipFill>
        <p:spPr>
          <a:xfrm>
            <a:off x="1042920" y="620640"/>
            <a:ext cx="2443320" cy="2454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755640" y="765000"/>
            <a:ext cx="3240000" cy="2517840"/>
          </a:xfrm>
          <a:prstGeom prst="cloudCallout">
            <a:avLst>
              <a:gd name="adj1" fmla="val 76750"/>
              <a:gd name="adj2" fmla="val 22069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22900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- Но ведь мы едим антилоп! – воскликну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и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10"/>
          <p:cNvPicPr/>
          <p:nvPr/>
        </p:nvPicPr>
        <p:blipFill>
          <a:blip r:embed="rId2"/>
          <a:stretch/>
        </p:blipFill>
        <p:spPr>
          <a:xfrm>
            <a:off x="5003640" y="1916280"/>
            <a:ext cx="30672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Как вы понимаете слова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мудрого Льв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640" y="1773000"/>
            <a:ext cx="4402080" cy="43196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ерно. Но дай мне объяснить.  Когда мы умираем, наши тела превращаются в траву. Антилопы потом едят её. Таким образом, все мы являемся частицей большого круговорота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"/>
          <p:cNvPicPr/>
          <p:nvPr/>
        </p:nvPicPr>
        <p:blipFill>
          <a:blip r:embed="rId1"/>
          <a:stretch/>
        </p:blipFill>
        <p:spPr>
          <a:xfrm>
            <a:off x="611280" y="1846440"/>
            <a:ext cx="3243240" cy="41036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Король Лев был совершенно прав. Кругово-рот жизни действительно существует, и каждый живой организм является его частицей! Сегодня на уроке мы рассмотрим, как происходит круговорот жизн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2484360" y="549360"/>
            <a:ext cx="38800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684360" y="198900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роиз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979640" y="494172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разруш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1258920" y="3500280"/>
            <a:ext cx="4248000" cy="64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рганизмы-потреб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14"/>
          <p:cNvPicPr/>
          <p:nvPr/>
        </p:nvPicPr>
        <p:blipFill>
          <a:blip r:embed="rId1"/>
          <a:stretch/>
        </p:blipFill>
        <p:spPr>
          <a:xfrm>
            <a:off x="6516720" y="1125360"/>
            <a:ext cx="1584360" cy="1729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Основу круговорота составляют три группы организм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15"/>
          <p:cNvPicPr/>
          <p:nvPr/>
        </p:nvPicPr>
        <p:blipFill>
          <a:blip r:embed="rId2"/>
          <a:stretch/>
        </p:blipFill>
        <p:spPr>
          <a:xfrm>
            <a:off x="6732720" y="2852640"/>
            <a:ext cx="1458720" cy="1728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16"/>
          <p:cNvPicPr/>
          <p:nvPr/>
        </p:nvPicPr>
        <p:blipFill>
          <a:blip r:embed="rId3"/>
          <a:stretch/>
        </p:blipFill>
        <p:spPr>
          <a:xfrm>
            <a:off x="6588000" y="4797360"/>
            <a:ext cx="1729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4"/>
          <p:cNvPicPr/>
          <p:nvPr/>
        </p:nvPicPr>
        <p:blipFill>
          <a:blip r:embed="rId1"/>
          <a:stretch/>
        </p:blipFill>
        <p:spPr>
          <a:xfrm>
            <a:off x="3132000" y="1052640"/>
            <a:ext cx="2986200" cy="325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роизвод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4292280"/>
            <a:ext cx="8064720" cy="208764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этой группе учёные-экологи относят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раст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лько растения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способн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спользовать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нца, создавать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одить пит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еще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(сахар, крахмал) из  углекислого га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ы и неорганических соединений (со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default"/>
          <p:cNvPicPr/>
          <p:nvPr/>
        </p:nvPicPr>
        <p:blipFill>
          <a:blip r:embed="rId2"/>
          <a:stretch/>
        </p:blipFill>
        <p:spPr>
          <a:xfrm>
            <a:off x="6659640" y="1197000"/>
            <a:ext cx="1224000" cy="11253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"/>
          <p:cNvGrpSpPr/>
          <p:nvPr/>
        </p:nvGrpSpPr>
        <p:grpSpPr>
          <a:xfrm>
            <a:off x="611280" y="1413000"/>
            <a:ext cx="3168360" cy="720720"/>
            <a:chOff x="611280" y="1413000"/>
            <a:chExt cx="3168360" cy="720720"/>
          </a:xfrm>
        </p:grpSpPr>
        <p:sp>
          <p:nvSpPr>
            <p:cNvPr id="75" name="Oval 7"/>
            <p:cNvSpPr/>
            <p:nvPr/>
          </p:nvSpPr>
          <p:spPr>
            <a:xfrm>
              <a:off x="611280" y="1413000"/>
              <a:ext cx="2342160" cy="720720"/>
            </a:xfrm>
            <a:prstGeom prst="ellipse">
              <a:avLst/>
            </a:prstGeom>
            <a:solidFill>
              <a:srgbClr val="eaeaea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Углекисл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га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953440" y="1746720"/>
              <a:ext cx="826200" cy="0"/>
            </a:xfrm>
            <a:prstGeom prst="line">
              <a:avLst/>
            </a:prstGeom>
            <a:ln w="5724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Oval 9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3203640" y="364500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3995640" y="1557360"/>
            <a:ext cx="1584360" cy="7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Сах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Comic Sans MS"/>
              </a:rPr>
              <a:t>Крахм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H="1">
            <a:off x="5579640" y="1700280"/>
            <a:ext cx="1079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3"/>
          <p:cNvSpPr/>
          <p:nvPr/>
        </p:nvSpPr>
        <p:spPr>
          <a:xfrm>
            <a:off x="539640" y="3213000"/>
            <a:ext cx="2664000" cy="863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+ растворё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потреб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5014440"/>
            <a:ext cx="7859520" cy="136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этой группе относятс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omic Sans MS"/>
              </a:rPr>
              <a:t>животны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.к. они потребляют вещества производимые расте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4"/>
          <p:cNvPicPr/>
          <p:nvPr/>
        </p:nvPicPr>
        <p:blipFill>
          <a:blip r:embed="rId1"/>
          <a:stretch/>
        </p:blipFill>
        <p:spPr>
          <a:xfrm>
            <a:off x="684360" y="1557360"/>
            <a:ext cx="2639880" cy="2881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17"/>
          <p:cNvPicPr/>
          <p:nvPr/>
        </p:nvPicPr>
        <p:blipFill>
          <a:blip r:embed="rId2"/>
          <a:stretch/>
        </p:blipFill>
        <p:spPr>
          <a:xfrm>
            <a:off x="5003640" y="1341360"/>
            <a:ext cx="1656000" cy="133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uu"/>
          <p:cNvPicPr/>
          <p:nvPr/>
        </p:nvPicPr>
        <p:blipFill>
          <a:blip r:embed="rId3"/>
          <a:stretch/>
        </p:blipFill>
        <p:spPr>
          <a:xfrm>
            <a:off x="6659640" y="1773360"/>
            <a:ext cx="1861920" cy="25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55"/>
          <p:cNvPicPr/>
          <p:nvPr/>
        </p:nvPicPr>
        <p:blipFill>
          <a:blip r:embed="rId4"/>
          <a:stretch/>
        </p:blipFill>
        <p:spPr>
          <a:xfrm>
            <a:off x="5148360" y="3213000"/>
            <a:ext cx="2085840" cy="12877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3203640" y="2781360"/>
            <a:ext cx="1800000" cy="64764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026880" y="2133720"/>
            <a:ext cx="197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га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Организмы – разрушите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4292280"/>
            <a:ext cx="8075880" cy="2089080"/>
          </a:xfrm>
          <a:prstGeom prst="rect">
            <a:avLst/>
          </a:prstGeom>
          <a:solidFill>
            <a:srgbClr val="ffff66"/>
          </a:solidFill>
          <a:ln w="28440">
            <a:solidFill>
              <a:srgbClr val="cc99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бактерии, грибы и черв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ни разрушают остатки мёртвых животных и растений. Благодаря им эти остатки перегнивают, а затем перегной разлагается и образует необходимые растениям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6"/>
          <p:cNvPicPr/>
          <p:nvPr/>
        </p:nvPicPr>
        <p:blipFill>
          <a:blip r:embed="rId1"/>
          <a:stretch/>
        </p:blipFill>
        <p:spPr>
          <a:xfrm>
            <a:off x="6334200" y="1978200"/>
            <a:ext cx="2125440" cy="1595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8"/>
          <p:cNvPicPr/>
          <p:nvPr/>
        </p:nvPicPr>
        <p:blipFill>
          <a:blip r:embed="rId2"/>
          <a:stretch/>
        </p:blipFill>
        <p:spPr>
          <a:xfrm>
            <a:off x="755640" y="1812960"/>
            <a:ext cx="1760400" cy="1760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19"/>
          <p:cNvPicPr/>
          <p:nvPr/>
        </p:nvPicPr>
        <p:blipFill>
          <a:blip r:embed="rId3"/>
          <a:stretch/>
        </p:blipFill>
        <p:spPr>
          <a:xfrm>
            <a:off x="2700360" y="1839960"/>
            <a:ext cx="1716120" cy="173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Рисунок2jmm"/>
          <p:cNvPicPr/>
          <p:nvPr/>
        </p:nvPicPr>
        <p:blipFill>
          <a:blip r:embed="rId4"/>
          <a:stretch/>
        </p:blipFill>
        <p:spPr>
          <a:xfrm>
            <a:off x="4500720" y="2276640"/>
            <a:ext cx="1800000" cy="1258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6"/>
          <p:cNvPicPr/>
          <p:nvPr/>
        </p:nvPicPr>
        <p:blipFill>
          <a:blip r:embed="rId5"/>
          <a:stretch/>
        </p:blipFill>
        <p:spPr>
          <a:xfrm>
            <a:off x="6300720" y="1989000"/>
            <a:ext cx="212580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54:23Z</dcterms:created>
  <dc:creator>Admin</dc:creator>
  <dc:description/>
  <dc:language>en-US</dc:language>
  <cp:lastModifiedBy>EA</cp:lastModifiedBy>
  <dcterms:modified xsi:type="dcterms:W3CDTF">2012-01-18T13:55:55Z</dcterms:modified>
  <cp:revision>9</cp:revision>
  <dc:subject/>
  <dc:title>Слайд 1</dc:title>
</cp:coreProperties>
</file>