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D5B-C9A9-4AFF-BCAB-1D67D742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82A-BD1F-48B6-BD16-8F7A004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B20-A1E4-400D-AEFF-CFC866A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18B-B3DB-4926-8C99-3D46436C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016-14E5-4F87-A8D5-3F252F1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F1A-CE06-40A2-827F-84DFF58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B28-D3C4-4469-8801-CBB91FD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45C-6E35-46D7-AE78-330B445E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9DA-7A7A-48C8-9FF4-D9F85679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15D-6F31-400C-A39A-D1BECB1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7A1-DCC0-49AA-A0F4-03F05FD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084-B779-49E0-85B8-6BC563DA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7E1-AF6A-44F3-BC08-514897076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я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ленко 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3-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990720" y="457200"/>
            <a:ext cx="7543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4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рый 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8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ещенский соч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9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ещение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25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тьянин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7-18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вя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 – прекрасное время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нравится з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можно интересно проводить врем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кататься на коньк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мне нравится ездить в лес зи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у очень тихо и краси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сё вокруг сп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ый снег переливается на сол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х свежий и чист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это время г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Декабрь. Календарь праздников"/>
          <p:cNvPicPr/>
          <p:nvPr/>
        </p:nvPicPr>
        <p:blipFill>
          <a:blip r:embed="rId1"/>
          <a:stretch/>
        </p:blipFill>
        <p:spPr>
          <a:xfrm>
            <a:off x="2666880" y="251928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685800" y="1219320"/>
            <a:ext cx="78487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15000" y="52578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900436387[1]"/>
          <p:cNvPicPr/>
          <p:nvPr/>
        </p:nvPicPr>
        <p:blipFill>
          <a:blip r:embed="rId1"/>
          <a:stretch/>
        </p:blipFill>
        <p:spPr>
          <a:xfrm>
            <a:off x="1219320" y="380880"/>
            <a:ext cx="6411960" cy="53485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3998880" y="39830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су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152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286000" y="3244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005360" y="3244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30481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5562720" y="26668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151160" y="1752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978640" y="19051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е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3341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4083120" y="2438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5486400" y="3244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5800" y="30492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начение некоторых с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лопья сне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жинки, слипшиеся на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рош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первый, чистый, пушистый, свежий, легки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уп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ючие белые шарики, похожие на п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зем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ящаяся по земле низовая ме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6040" y="685800"/>
            <a:ext cx="81147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ьюг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, кружащийся в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ран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ган, сильная снежная вью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упкая корочка, похожая на черствую паст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угр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етенная ветром большая куча сне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685800" y="1219320"/>
            <a:ext cx="78487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15000" y="52578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843170009a6240118a5fa4b3ed5428e64556c192"/>
          <p:cNvPicPr/>
          <p:nvPr/>
        </p:nvPicPr>
        <p:blipFill>
          <a:blip r:embed="rId1"/>
          <a:stretch/>
        </p:blipFill>
        <p:spPr>
          <a:xfrm>
            <a:off x="1447920" y="88920"/>
            <a:ext cx="5715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роворные сестрицы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бегать мастер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ждь лежим, в снег бежи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ж такой у нас р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838080" y="8380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1295280" y="8380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 на речке – мы беж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 растаял – мы б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у нету, и следу н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нос в большо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ы хвостами вертят — к ме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имний холод всякий мо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 декаб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нь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 День Святителя Николая Чудо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5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толическое Р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следний день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6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ждественский соч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7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21:11Z</dcterms:created>
  <dc:creator>юзаверь</dc:creator>
  <dc:description/>
  <dc:language>en-US</dc:language>
  <cp:lastModifiedBy>Горшкова Е.В.</cp:lastModifiedBy>
  <dcterms:modified xsi:type="dcterms:W3CDTF">2019-04-25T03:45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