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A6B-B0D4-4CEB-94D6-8733455E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D01-40C2-4B66-8A06-AE8266C6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832-E159-491D-923D-E9071963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912-E95A-4D1B-94D3-63648DEF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C320-7A78-45C6-AA51-29C683F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663-42AA-4EB1-BBCA-8FF0095D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FF5-5B0E-402C-B002-4F6C4D93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585-F329-46C5-A762-EDFDD491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5F3-A4AA-447F-94E1-00AEA902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C66-F329-49BB-9B7F-E3823E3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598-F019-44B5-B298-6328E59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004-6553-4CBD-80E0-E963786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9551-CEE6-4137-A259-5FA946B001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яя стра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иленко Ел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3-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990720" y="457200"/>
            <a:ext cx="75438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4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рый 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8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ещенский соч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9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ещение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25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атьянин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7-18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вя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 – прекрасное время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нравится з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мой можно интересно проводить врем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кататься на коньк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ё мне нравится ездить в лес зим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есу очень тихо и красив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сё вокруг спи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ый снег переливается на сол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х свежий и чист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это время г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Декабрь. Календарь праздников"/>
          <p:cNvPicPr/>
          <p:nvPr/>
        </p:nvPicPr>
        <p:blipFill>
          <a:blip r:embed="rId1"/>
          <a:stretch/>
        </p:blipFill>
        <p:spPr>
          <a:xfrm>
            <a:off x="2666880" y="2519280"/>
            <a:ext cx="38102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5"/>
          <p:cNvSpPr txBox="1"/>
          <p:nvPr/>
        </p:nvSpPr>
        <p:spPr>
          <a:xfrm>
            <a:off x="685800" y="1219320"/>
            <a:ext cx="78487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15000" y="52578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900436387[1]"/>
          <p:cNvPicPr/>
          <p:nvPr/>
        </p:nvPicPr>
        <p:blipFill>
          <a:blip r:embed="rId1"/>
          <a:stretch/>
        </p:blipFill>
        <p:spPr>
          <a:xfrm>
            <a:off x="1219320" y="380880"/>
            <a:ext cx="6411960" cy="53485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3998880" y="39830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сул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15296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2286000" y="3244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005360" y="3244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3048120" y="2819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5562720" y="26668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4151160" y="1752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978640" y="190512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е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3341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4083120" y="2438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5486400" y="3244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5800" y="304920"/>
            <a:ext cx="784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Значение некоторых сл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лопья сне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жинки, слипшиеся на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рош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первый, чистый, пушистый, свежий, легкий с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уп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ючие белые шарики, похожие на пш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зем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ящаяся по земле низовая ме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36040" y="685800"/>
            <a:ext cx="81147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ьюг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, кружащийся в воздух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ран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ган, сильная снежная вью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упкая корочка, похожая на черствую паст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угр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етенная ветром большая куча сне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685800" y="1219320"/>
            <a:ext cx="784872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15000" y="52578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0843170009a6240118a5fa4b3ed5428e64556c192"/>
          <p:cNvPicPr/>
          <p:nvPr/>
        </p:nvPicPr>
        <p:blipFill>
          <a:blip r:embed="rId1"/>
          <a:stretch/>
        </p:blipFill>
        <p:spPr>
          <a:xfrm>
            <a:off x="1447920" y="88920"/>
            <a:ext cx="5715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проворные сестрицы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 бегать мастер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ождь лежим, в снег бежи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ж такой у нас р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838080" y="838080"/>
            <a:ext cx="7620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1295280" y="83808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 на речке – мы беж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д растаял – мы б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егу нету, и следу н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и нос в большой мор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ы хвостами вертят — к ме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имний холод всякий мо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ие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 декаб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нь Конститу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 День Святителя Николая Чудотво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5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толическое Р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 декабря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следний день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1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в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6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ждественский соче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7 январ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 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жд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21:11Z</dcterms:created>
  <dc:creator>юзаверь</dc:creator>
  <dc:description/>
  <dc:language>en-US</dc:language>
  <cp:lastModifiedBy>Горшкова Е.В.</cp:lastModifiedBy>
  <dcterms:modified xsi:type="dcterms:W3CDTF">2019-04-25T03:45:0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