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1CD1-F776-454F-AA22-0A4FDB17D8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6658-0DB9-499F-98E5-91BB50DCA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0483-AD8C-4F30-9811-BF379F86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96F-BBCE-4230-8AD1-7E74A151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534-4731-4BD0-BAB0-84802F45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0D0-301C-46A7-9F12-9F2F16B8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CD98-694A-4A1B-9486-D9B26D13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F05E-F03A-48F6-9167-048FCFAE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3ADD-E3C8-48E1-BE07-5240DBB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D555-7233-4979-9B40-616B88CE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C0B8-8EAB-4835-BDE3-8914FD90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E2DE-B612-4647-A0DE-9C349DC0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EB5B-6694-4985-B2AD-D1D1CD1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977-28C2-4EBC-A374-E184DDC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1C8A-6DFE-4E5D-85B7-25ADA62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59B-883A-4956-BF67-CF0660C2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5844-C660-4A39-87E3-0F6CF823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09B0-679A-4865-852D-273FBEF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B926-0041-4E49-AB09-4AA8A78F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5DC0-8183-4A0D-8E7C-748F78C7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A5FB1-6468-4ACD-9498-E3E95B34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FF52C-6021-4135-9CC1-813E87CE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E634-C7CF-4ED9-A9E3-106CAF51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F538-4408-4B88-9B5D-84FF4E2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2ED-64B0-415B-A350-76F8FA95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5918-6689-495B-B902-03EC379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0D4A-BEE8-40A6-B788-6C4058C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D022D-F38C-418F-8046-E173888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8D0B-168C-48E0-8102-E60C77EE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232C-9A3F-4625-8A5B-FEF427AB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048F1-61E5-414E-9990-020B07E0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AB20-85EE-4536-9CD5-4F461BB0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6997D-46C6-44F5-BE71-A6BBC901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550D-0EE6-4FE1-980A-1AEC6032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AB687-B48A-47F4-A25B-15AF3D50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E69-7FFC-4E54-A333-68CC82B1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ACE9-90E3-41DD-BC79-3C33511D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FE3D-3635-4390-927A-1400B29B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2B752-9B4B-4679-8BA3-E0A09787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3A00-302F-4BD5-884D-8F4C100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82AF-9340-4E0D-AE06-C31AE96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B5D7-E278-4275-B144-ED07DD6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30910-DBAF-480E-8592-DC502DA3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8EA2-8F58-4CD5-8687-72E05737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10CD-8B9A-4409-9719-DA78EBF9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0B12-F2B0-487F-B93A-1241A98C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272-ED7B-451E-ADA2-6EA4E158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B8153-2C4F-48C5-B827-162BFFF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C3D03-24CA-471C-9980-10C8213B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4B96-00B8-4ADE-BEB7-A7C14729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AB1E-3193-4B63-9678-10396C4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E1DC-3FCD-4A68-9951-3014CE3E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B13A-D544-4FC6-A274-BC42AF1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C6C8-0805-40B4-A094-2847BD4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7B1D0-352D-4FA8-90C4-5BB66B9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7493-8D12-4638-B4F9-707A686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EBB12-2328-4215-9A64-6C16FF33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603-A4B1-4E66-B042-88BE8AED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92027-8919-4983-978F-05FB95F5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019F9-3905-4FB2-A8AE-7766A512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2C94A-3976-446D-8279-D7F864B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99E2-7D28-433F-AFA1-1F235C65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8608-4D82-4399-9242-B868E5C5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2CCBC-1916-4EDE-A5BB-CE6ADE3A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13ED-922A-4F71-90D2-FFCB7079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1E31C-730F-45CD-AE46-5EEE9D0B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526E7-500D-405F-87F0-7FB582F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A7A8-59F3-4541-8D21-4405994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197-F509-4E2F-BC17-A1E5A74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80BE-A578-4C1A-924C-3D72DD8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519E-06E5-4041-8264-A89310CD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D12C-B1BA-4F6D-8EFA-AB0D8F89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4CF3E-1B59-4943-8909-2E78CA9A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B71EF-6A91-45FE-96A4-DF0EEA2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4CF5-67D9-40BB-9671-1CEA4CB5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D2B1-002A-4C04-A11C-88E975A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B097-799E-4406-AE0A-B7940CF1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0484-C61D-4EEF-89CD-35C67E07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BFDE-7AFC-4688-9CFB-7AB572B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6F7-97B9-4053-906E-6DDCE13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15C57-3617-472D-8B32-B6BAE72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5FE43-19A5-4AF1-B409-DFAC5FC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EE9AF-7C05-4D9E-BE27-E085AF8E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BA5E-2834-46A8-9115-7347BDF4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74281-D35A-4203-BBAB-0B904478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91AE4-6610-4D43-AA8B-C96C9DB4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597C-ED7B-4B13-BBEE-B861B4B4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42D28-B340-461A-9AB8-990EC24E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ABC37-A115-48DA-BB4D-6E4699F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D42BE-BA3E-4923-A9FD-E9AB989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266-2C41-46E0-B872-AB894CE9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BF880-A2F7-48E0-9399-A966139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6DB33-E45B-4B8E-B2B2-F0BA256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000FC-6161-451A-88A7-57BD789B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C3AB-385F-494A-9151-BB8C8F7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8432-46E8-4623-AB1E-82E6EB4D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285B-0B27-400F-A141-4B93643D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0D03D-BF25-42FA-A589-F9BCE732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6B63-5813-457B-B44E-417E128CEC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843-8109-4765-AF1C-64D6E4C634D3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800-7E75-4CCB-B67D-B3D8197C55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f6e4d"/>
              </a:gs>
              <a:gs pos="100000">
                <a:srgbClr val="c6d9b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94A9-1CBA-4FF9-B7C7-5FFD17E76C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efac9">
                  <a:alpha val="1176"/>
                </a:srgbClr>
              </a:gs>
              <a:gs pos="100000">
                <a:srgbClr val="fefa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b2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b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B1C-846D-4448-824E-2C72228B0D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8F0-D30C-4B90-A4AC-51F2203FBB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4806"/>
            </a:gs>
            <a:gs pos="100000">
              <a:srgbClr val="8494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597-E271-4477-BF0F-682DE18FEF0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9caa5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b9caa5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a5b592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c1cbb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3299-2388-44A5-9132-B908181CB23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442360" cy="4595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201600" y="122400"/>
            <a:ext cx="8485200" cy="1541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дравствуйте! Надеюсь ,что у вас серьезный настрой  на урок. Желаю вам высоких результатов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ходе дискуссии нам необходимо поразмышлять и сформулировать свои  мысли, чтобы найти ответ на поставленный вопрос. В споре  недопустимы  оскорбления, упреки, недоброжелательность в отношении к  своим одноклассника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Уравнения, в которых переменная содержится под знаком корня, называются иррациональным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ru-RU" sz="2400" spc="-1" strike="noStrike">
                <a:solidFill>
                  <a:srgbClr val="ffffff"/>
                </a:solidFill>
                <a:latin typeface="Century Gothic"/>
              </a:rPr>
              <a:t>Устно: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какие из следующих уравнений являются иррациональным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а) </a:t>
            </a:r>
            <a:r>
              <a:rPr b="1" i="1" lang="ru-RU" sz="2400" spc="-1" strike="noStrike">
                <a:solidFill>
                  <a:srgbClr val="ffffff"/>
                </a:solidFill>
                <a:latin typeface="Century Gothic"/>
              </a:rPr>
              <a:t>х +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√ х   = 2                д) х 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+ √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</a:rPr>
              <a:t>х = 0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б) х √7 = 11+х                 е) 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3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√ 2 = 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w Cen MT"/>
              </a:rPr>
              <a:t>в)у + √ у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9 = 2          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√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х – 1</a:t>
            </a: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 =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w Cen MT"/>
                <a:ea typeface="Times New Roman"/>
              </a:rPr>
              <a:t>Какое уравнение не имеет корней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2050920" y="342900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58" name="Line 5"/>
          <p:cNvSpPr/>
          <p:nvPr/>
        </p:nvSpPr>
        <p:spPr>
          <a:xfrm>
            <a:off x="1403280" y="4508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1908000" y="472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1692360" y="3789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1908000" y="414972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2" name="Line 10"/>
          <p:cNvSpPr/>
          <p:nvPr/>
        </p:nvSpPr>
        <p:spPr>
          <a:xfrm>
            <a:off x="1908000" y="4149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5364000" y="3429000"/>
            <a:ext cx="2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5580000" y="3789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1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шение иррациональных уравнений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сводится</a:t>
            </a:r>
            <a:r>
              <a:rPr b="0" lang="ru-RU" sz="1800" spc="-1" strike="noStrike">
                <a:solidFill>
                  <a:srgbClr val="fefac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к переходу от иррационального к рациональному уравнению путем возведения в степень обеих частей уравнения или замены переменно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При возведении обеих частей в четную степень возможно появление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посторонних корней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. Поэтому при использовании указанного метода следует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проверить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все найденные корни подстановкой в исходное уравнение. 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Иногда удобнее решать иррациональные уравнения, область допустимых </a:t>
            </a:r>
            <a:r>
              <a:rPr b="0" lang="ru-RU" sz="1800" spc="-1" strike="noStrike">
                <a:solidFill>
                  <a:srgbClr val="6600ff"/>
                </a:solidFill>
                <a:latin typeface="Century Gothic"/>
              </a:rPr>
              <a:t>значений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неизвестного и используя  равносильные переходы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        </a:t>
            </a:r>
            <a:r>
              <a:rPr b="0" lang="ru-RU" sz="1800" spc="-1" strike="noStrike">
                <a:solidFill>
                  <a:srgbClr val="f3a447"/>
                </a:solidFill>
                <a:latin typeface="Century Gothic"/>
              </a:rPr>
              <a:t>ⁿ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√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( х 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444d26"/>
                </a:solidFill>
                <a:latin typeface="Times New Roman"/>
                <a:ea typeface="Times New Roman"/>
              </a:rPr>
              <a:t>{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ƒ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ⁿ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x)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g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 х ) </a:t>
            </a:r>
            <a:r>
              <a:rPr b="0" lang="ru-RU" sz="1800" spc="-1" strike="noStrike">
                <a:solidFill>
                  <a:srgbClr val="f3a447"/>
                </a:solidFill>
                <a:latin typeface="OCR A Extended"/>
                <a:ea typeface="Times New Roman"/>
              </a:rPr>
              <a:t>≥ </a:t>
            </a:r>
            <a:r>
              <a:rPr b="0" lang="en-US" sz="1800" spc="-1" strike="noStrike">
                <a:solidFill>
                  <a:srgbClr val="f3a447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Line 14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147636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69" name="Line 20"/>
          <p:cNvSpPr/>
          <p:nvPr/>
        </p:nvSpPr>
        <p:spPr>
          <a:xfrm>
            <a:off x="1547640" y="4437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358120" cy="1809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Является ли число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рнем уравнения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– 2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 – х 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б)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 – х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х – 2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– 5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2х – 13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г)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1 – х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 + х, х</a:t>
            </a:r>
            <a:r>
              <a:rPr b="0" lang="ru-RU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= 0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1692360" y="2997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3" name="Line 5"/>
          <p:cNvSpPr/>
          <p:nvPr/>
        </p:nvSpPr>
        <p:spPr>
          <a:xfrm>
            <a:off x="3419640" y="2997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4" name="Line 7"/>
          <p:cNvSpPr/>
          <p:nvPr/>
        </p:nvSpPr>
        <p:spPr>
          <a:xfrm>
            <a:off x="1835280" y="3573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5" name="Line 8"/>
          <p:cNvSpPr/>
          <p:nvPr/>
        </p:nvSpPr>
        <p:spPr>
          <a:xfrm>
            <a:off x="3419640" y="3573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6" name="Line 9"/>
          <p:cNvSpPr/>
          <p:nvPr/>
        </p:nvSpPr>
        <p:spPr>
          <a:xfrm>
            <a:off x="1692360" y="414972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7" name="Line 10"/>
          <p:cNvSpPr/>
          <p:nvPr/>
        </p:nvSpPr>
        <p:spPr>
          <a:xfrm>
            <a:off x="3419640" y="414972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8" name="Line 11"/>
          <p:cNvSpPr/>
          <p:nvPr/>
        </p:nvSpPr>
        <p:spPr>
          <a:xfrm>
            <a:off x="1692360" y="47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79" name="Line 12"/>
          <p:cNvSpPr/>
          <p:nvPr/>
        </p:nvSpPr>
        <p:spPr>
          <a:xfrm>
            <a:off x="3348000" y="4724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858960" y="3359160"/>
            <a:ext cx="6870600" cy="1596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685800" y="499680"/>
            <a:ext cx="769608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 + 2 = 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 + 2 = 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</a:t>
            </a:r>
            <a:r>
              <a:rPr b="0" lang="ru-RU" sz="2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– х – 2 = 0   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=       и х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оверка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х = 2,     2=2, верн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 х = -1,     1= -1, ложно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твет:    х = 2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1428840" y="1714680"/>
            <a:ext cx="431640" cy="358560"/>
          </a:xfrm>
          <a:prstGeom prst="ellipse">
            <a:avLst/>
          </a:prstGeom>
          <a:solidFill>
            <a:srgbClr val="ff66cc"/>
          </a:solidFill>
          <a:ln w="93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2714760" y="1714680"/>
            <a:ext cx="431640" cy="36036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4" name="Line 11"/>
          <p:cNvSpPr/>
          <p:nvPr/>
        </p:nvSpPr>
        <p:spPr>
          <a:xfrm>
            <a:off x="1000080" y="5000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5" name="Line 13"/>
          <p:cNvSpPr/>
          <p:nvPr/>
        </p:nvSpPr>
        <p:spPr>
          <a:xfrm flipH="1" flipV="1">
            <a:off x="1213920" y="713880"/>
            <a:ext cx="1581480" cy="108756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86" name="Line 15"/>
          <p:cNvSpPr/>
          <p:nvPr/>
        </p:nvSpPr>
        <p:spPr>
          <a:xfrm flipH="1" flipV="1">
            <a:off x="1142640" y="713880"/>
            <a:ext cx="500040" cy="1071720"/>
          </a:xfrm>
          <a:prstGeom prst="line">
            <a:avLst/>
          </a:prstGeom>
          <a:ln w="936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6869160" cy="1603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х – 3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х -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Line 4"/>
          <p:cNvSpPr/>
          <p:nvPr/>
        </p:nvSpPr>
        <p:spPr>
          <a:xfrm>
            <a:off x="1332000" y="1916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3203640" y="191628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озведем  обе  части уравнения в квадрат, получим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х -3 = х -2 ,   х =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роверка:           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2•1 – 3 =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1 – 2,обе части  уравнения не имеют смысл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твет: корней  нет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332000" y="3789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4" name="Line 6"/>
          <p:cNvSpPr/>
          <p:nvPr/>
        </p:nvSpPr>
        <p:spPr>
          <a:xfrm flipV="1">
            <a:off x="3708360" y="4005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3348000" y="37893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7f6f6f"/>
              </a:solidFill>
              <a:latin typeface="Rage Italic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8348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стория иррациональных чисел относится к удивительному открытию пифагорийцев. А началось это с простого вопроса, связанного с вычислением диагонали квадрата, сторона которого равна 1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ыполняем самостоятельно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 б ) проверяем по решению на доске.*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10:11:56Z</dcterms:created>
  <dc:creator>Ольга Юрьевна</dc:creator>
  <dc:description/>
  <dc:language>en-US</dc:language>
  <cp:lastModifiedBy>user</cp:lastModifiedBy>
  <dcterms:modified xsi:type="dcterms:W3CDTF">2019-01-04T09:58:56Z</dcterms:modified>
  <cp:revision>31</cp:revision>
  <dc:subject/>
  <dc:title>Иррациональные уравнения</dc:title>
</cp:coreProperties>
</file>