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8D50-2571-45D1-8D63-346CCB5DE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1C3E-2690-4C30-BE10-01C1F7383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0F7-9EA3-40C0-8F24-28C96B13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8FC-30DA-4BCC-9939-E92480F2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A25-DCBB-4EFC-B22D-219B437B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FA7-9CAF-460B-95CD-B952F1B5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F291-2CFB-4557-8A15-0055B2A6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FC39-15CD-4222-ADBE-3B79762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E460-86BD-495A-9733-5D63295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52CA-32F8-42EB-A6FA-6DC6CD8F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D26C-39AD-4A47-B5C3-E50F960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7C39-FD15-4F42-8D77-A4468AE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A661-B902-4B80-8A77-19D010C3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E11-5970-4263-9C2B-576B5FE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0E6B-DCEB-40DA-9EC4-7A2E4DA1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03A0-AA94-46D7-9DF4-D59716B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9FFD-DC1D-4927-A274-F7DAE4C7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7806-DA71-4028-AE71-32186D29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C349-4077-4448-ABE6-89F40E73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8623-A795-45A7-9F8F-E6A20254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117E-1FC7-40D0-8304-2B4955F9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8C98-218D-4A4A-8F8F-CA98F40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575A-8AA4-46D6-AFBA-EBF9491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A42E-D131-43D3-B23B-D6EE5C7B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262-2DDF-4E15-AA1C-50258AB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2904-DE92-4FB1-9492-D2AFCD13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DF28-32C1-435F-8F80-11C3259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21FF5-03B3-4377-9040-90F5A7C5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7547-ABAF-4C8C-8F02-F5D245B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62AE-D1B3-4E1A-B907-4830E83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0CEE-F10F-4609-84F4-B48D1664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B474-360E-4353-8BDC-BE66803D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0DE5-6455-404E-83EC-DD1ABE0A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53AD-8C39-48E2-A2E8-C8AD5EC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E59CB-C667-4665-A29E-95C86DD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971-4FAB-4317-A30A-76DD349F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8484-6558-45B9-BAB7-56270DB7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57C6-749F-43FE-A7FF-81332A32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7150-5193-4BD6-9DE7-BDB466B3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0F8C-D44F-49E0-A224-E8960B3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C510-FA8A-4889-AAA5-9EA4B07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88B4-69C5-4413-8953-0D8EB9D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A040-711A-4B85-9DE7-482BC46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44BB-EA84-4B04-A9ED-6EF22202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DCB2-D275-4B69-9125-7A1B40D9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7584-B644-4E99-A83A-B895810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499-308F-4269-AFAB-1D0B0A24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04E02-B657-4459-8E91-9B485AE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21FF-0D7C-482C-B59C-23EBD9F0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5F27-D6A4-450D-92B1-4B1E296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69D91-30BF-4895-BF3C-AD0D685D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2977-0436-4852-9733-13EBAD5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7F12-318A-4FD7-BA0E-7966ADD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EF42-98F8-491E-93EE-1DF473C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C96D-E5DC-4BDA-AFDA-0E843C5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20037-F258-4CE3-8D7E-D796094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C416-A360-4BB0-83CE-025743F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8F8-FE0F-4A72-A616-7941D388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534F-07DC-4583-8D22-4DF1261E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0086D-C258-4836-B83A-CD04ADBB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AE91-B91A-4F6F-AAFC-3B3E04E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EA04-13CD-4CD1-9BD6-FF9BF37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FCBD-8181-4CAD-8F77-9400BEA2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EB278-E8E6-4388-BB15-58C941EF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AB7A-6770-40D1-B0D3-81007E8F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E711-883F-4219-85FC-94BE4B1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40AE-5C76-4412-94FA-67BE194F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56D9-794C-4E82-9237-D58CB19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D91-7CC7-4E36-B647-E287A48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F4592-56B9-44CF-8EF0-B523A9E9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9D3B2-A150-4B0D-8ADB-7FDF42BD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ABEE-7C00-49E2-BF90-62059CDF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4196-0F5E-49AD-8663-8E380639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30F86-CF90-4466-A73B-E1DCDD4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C52D-9C62-45C0-AE43-2679BF9B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01BE-7919-4049-8B3F-903493E5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AA2B-1FF7-426E-ADB4-0E16AF6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6C541-CFBF-4601-8B6C-5BCBFC1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5CA1-2C03-4B2D-9E46-187C7578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6EF-A11D-463C-BE5F-B2B7BE9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107CD-48DA-4B73-83DB-8D8A9A6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E774A-31D3-4BAB-A41C-3D93AF3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4393-77CA-41DD-B910-F85D711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9920-B713-4245-8CD6-A6400804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D284-50AF-484E-BAD4-1C1DFC37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26971-0999-46C6-AB2B-A39146C0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63F61-BC7E-4D03-805C-376ACF87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0458-26E9-417D-9635-D7212632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84BE-CA8D-44C1-8D16-56C8E02C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5C597-0788-4D5C-858F-174C95C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24F-04F7-4483-BB6C-D7E61F7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857E-6501-4824-9714-35DA39AA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C7B04-CD19-425F-AFA2-C77745C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4A42-9FB4-440F-8679-DC58416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7E37-6FF0-499C-9D24-CAB972F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7CC9-759F-4BA9-A1BC-EC599910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FDFC-276F-4671-85E6-2E1BF375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9F609-218C-4844-8D5B-1B31F014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DA8-8C87-465A-A1A8-27C02E3D49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C662-CB6D-4849-AE21-4414EDA00E4C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4259-B458-4B69-B8F5-CB184E1EFE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D77-D694-44CA-A582-E9FA262E8A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AA2D-65C3-4C67-9EBB-8BB3947D98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CC90-12B4-42C0-B846-8E4529E57A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A04-B9DD-4CF8-B81D-F220B33F750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457-4020-4CEB-B698-EB57A2ED37A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442360" cy="459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201600" y="122400"/>
            <a:ext cx="8485200" cy="1541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дравствуйте! Надеюсь ,что у вас серьезный настрой  на урок. Желаю вам высоких результато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ходе дискуссии нам необходимо поразмышлять и сформулировать свои  мысли, чтобы найти ответ на поставленный вопрос. В споре  недопустимы  оскорбления, упреки, недоброжелательность в отношении к  своим одноклассника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равнения, в которых переменная содержится под знаком корня, называются иррациональным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Устно: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акие из следующих уравнений являются иррациональными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а)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х +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√ х   = 2                д) х 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+ √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</a:rPr>
              <a:t>х = 0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б) х √7 = 11+х                 е) 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3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√ 2 = 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в)у + √ 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9 = 2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√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х – 1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Какое уравнение не имеет корней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2050920" y="3429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1403280" y="4508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1908000" y="472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169236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1908000" y="4149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2" name="Line 10"/>
          <p:cNvSpPr/>
          <p:nvPr/>
        </p:nvSpPr>
        <p:spPr>
          <a:xfrm>
            <a:off x="1908000" y="4149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5364000" y="34290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5580000" y="378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1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ешение иррациональных уравнений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сводится</a:t>
            </a:r>
            <a:r>
              <a:rPr b="0" lang="ru-RU" sz="1800" spc="-1" strike="noStrike">
                <a:solidFill>
                  <a:srgbClr val="fefac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к переходу от иррационального к рациональному уравнению путем возведения в степень обеих частей уравнения или замены переменно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При возведении обеих частей в четную степень возможно появление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посторонних корней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. Поэтому при использовании указанного метода следует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проверить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все найденные корни подстановкой в исходное уравнение.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Иногда удобнее решать иррациональные уравнения, область допустимых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значений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неизвестного и используя  равносильные переход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      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ⁿ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√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( х 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{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gⁿ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х ) </a:t>
            </a:r>
            <a:r>
              <a:rPr b="0" lang="ru-RU" sz="1800" spc="-1" strike="noStrike">
                <a:solidFill>
                  <a:srgbClr val="f3a447"/>
                </a:solidFill>
                <a:latin typeface="OCR A Extended"/>
                <a:ea typeface="Times New Roman"/>
              </a:rPr>
              <a:t>≥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Line 14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1547640" y="443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358120" cy="1809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Является ли число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рнем уравнения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)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х – 2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 – х 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б)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 – х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х – 2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)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х – 5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2х – 13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г)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1 – х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 + х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0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1692360" y="2997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3" name="Line 5"/>
          <p:cNvSpPr/>
          <p:nvPr/>
        </p:nvSpPr>
        <p:spPr>
          <a:xfrm>
            <a:off x="3419640" y="2997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1835280" y="3573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1692360" y="414972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419640" y="414972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1692360" y="47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3348000" y="47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858960" y="3359160"/>
            <a:ext cx="6870600" cy="1596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685800" y="499680"/>
            <a:ext cx="76960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 + 2 = 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 + 2 =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– х – 2 = 0   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=       и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верка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 х = 2,     2=2, верн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 х = -1,     1= -1, ложно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вет:    х = 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1428840" y="1714680"/>
            <a:ext cx="431640" cy="358560"/>
          </a:xfrm>
          <a:prstGeom prst="ellipse">
            <a:avLst/>
          </a:prstGeom>
          <a:solidFill>
            <a:srgbClr val="ff66cc"/>
          </a:solidFill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3" name="Oval 7"/>
          <p:cNvSpPr/>
          <p:nvPr/>
        </p:nvSpPr>
        <p:spPr>
          <a:xfrm>
            <a:off x="2714760" y="1714680"/>
            <a:ext cx="431640" cy="360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4" name="Line 11"/>
          <p:cNvSpPr/>
          <p:nvPr/>
        </p:nvSpPr>
        <p:spPr>
          <a:xfrm>
            <a:off x="1000080" y="5000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5" name="Line 13"/>
          <p:cNvSpPr/>
          <p:nvPr/>
        </p:nvSpPr>
        <p:spPr>
          <a:xfrm flipH="1" flipV="1">
            <a:off x="1213920" y="713880"/>
            <a:ext cx="1581480" cy="10875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6" name="Line 15"/>
          <p:cNvSpPr/>
          <p:nvPr/>
        </p:nvSpPr>
        <p:spPr>
          <a:xfrm flipH="1" flipV="1">
            <a:off x="1142640" y="713880"/>
            <a:ext cx="500040" cy="107172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6869160" cy="1603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х – 3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х -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Line 4"/>
          <p:cNvSpPr/>
          <p:nvPr/>
        </p:nvSpPr>
        <p:spPr>
          <a:xfrm>
            <a:off x="1332000" y="1916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3203640" y="191628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зведем  обе  части уравнения в квадрат, получим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х -3 = х -2 ,   х =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верка: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•1 – 3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1 – 2,обе части  уравнения не имеют смысл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вет: корней  не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332000" y="3789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4" name="Line 6"/>
          <p:cNvSpPr/>
          <p:nvPr/>
        </p:nvSpPr>
        <p:spPr>
          <a:xfrm flipV="1">
            <a:off x="3708360" y="4005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5" name="Line 8"/>
          <p:cNvSpPr/>
          <p:nvPr/>
        </p:nvSpPr>
        <p:spPr>
          <a:xfrm>
            <a:off x="3348000" y="3789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58348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стория иррациональных чисел относится к удивительному открытию пифагорийцев. А началось это с простого вопроса, связанного с вычислением диагонали квадрата, сторона которого равна 1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ыполняем самостоятельно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 б ) проверяем по решению на доске.*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11:56Z</dcterms:created>
  <dc:creator>Ольга Юрьевна</dc:creator>
  <dc:description/>
  <dc:language>en-US</dc:language>
  <cp:lastModifiedBy>user</cp:lastModifiedBy>
  <dcterms:modified xsi:type="dcterms:W3CDTF">2019-01-04T09:58:56Z</dcterms:modified>
  <cp:revision>31</cp:revision>
  <dc:subject/>
  <dc:title>Иррациональные уравнения</dc:title>
</cp:coreProperties>
</file>