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31.gif" ContentType="image/gif"/>
  <Override PartName="/ppt/media/image22.png" ContentType="image/png"/>
  <Override PartName="/ppt/media/image21.png" ContentType="image/png"/>
  <Override PartName="/ppt/media/image2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9.png" ContentType="image/png"/>
  <Override PartName="/ppt/media/image11.png" ContentType="image/png"/>
  <Override PartName="/ppt/media/image4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baby.wav" ContentType="audio/x-wav"/>
  <Override PartName="/ppt/media/image20.png" ContentType="image/png"/>
  <Override PartName="/ppt/media/image2.jpeg" ContentType="image/jpeg"/>
  <Override PartName="/ppt/media/applause.wav" ContentType="audio/x-wav"/>
  <Override PartName="/ppt/media/image6.jpeg" ContentType="image/jpeg"/>
  <Override PartName="/ppt/media/image27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6.gif" ContentType="image/gif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EEF-B69F-44B5-B80D-C14B27A1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532-645C-4523-8BB2-02197F4C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88C-D575-46DB-BE4F-D34787CD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9ED-DA60-4447-883E-90517CDF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F1F-1F9A-41F7-89DA-5265EC86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8D5-A6F3-4855-8A37-F8309DAD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C33-9528-4134-A5E5-1CFC8415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56D-F762-4795-8165-683D86C4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A07-CA1C-4F95-A84E-D66B400A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559-2125-4A71-B062-D3384A8F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1B7-E30F-46C5-A5FF-FA714E5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F79-042A-439A-8D40-9D85A6CF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BF5F-E972-4797-A7AB-927D93F7F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7.jpe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2.png"/><Relationship Id="rId3" Type="http://schemas.openxmlformats.org/officeDocument/2006/relationships/audio" Target="../media/baby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00000" y="2349360"/>
            <a:ext cx="7775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ем работает наш нос ?</a:t>
            </a:r>
            <a:endParaRPr b="1" lang="en-US" sz="4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372b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443640" y="2133720"/>
            <a:ext cx="1506600" cy="3166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1979640" y="2276640"/>
            <a:ext cx="54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Нос охлаждает горяч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воздух, чтобы не обжеч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наши нежные лег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619280" y="14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с как </a:t>
            </a:r>
            <a:r>
              <a:rPr b="1" lang="ru-RU" sz="3600" spc="-1" strike="noStrike">
                <a:solidFill>
                  <a:srgbClr val="9900ff"/>
                </a:solidFill>
                <a:latin typeface="Times New Roman"/>
              </a:rPr>
              <a:t>ХОЛОДИЛЬНИ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846418_1146922492_3764654iis"/>
          <p:cNvPicPr/>
          <p:nvPr/>
        </p:nvPicPr>
        <p:blipFill>
          <a:blip r:embed="rId3"/>
          <a:stretch/>
        </p:blipFill>
        <p:spPr>
          <a:xfrm>
            <a:off x="0" y="342900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r7"/>
          <p:cNvPicPr/>
          <p:nvPr/>
        </p:nvPicPr>
        <p:blipFill>
          <a:blip r:embed="rId4"/>
          <a:stretch/>
        </p:blipFill>
        <p:spPr>
          <a:xfrm rot="16200000">
            <a:off x="505440" y="78480"/>
            <a:ext cx="57168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1979640" y="2276640"/>
            <a:ext cx="54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носу постоянно  вла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бы увлажнять сухой 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619280" y="14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с как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ВЛАЖНИТ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846418_1146922492_3764654iis"/>
          <p:cNvPicPr/>
          <p:nvPr/>
        </p:nvPicPr>
        <p:blipFill>
          <a:blip r:embed="rId2"/>
          <a:stretch/>
        </p:blipFill>
        <p:spPr>
          <a:xfrm>
            <a:off x="0" y="342900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ages"/>
          <p:cNvPicPr/>
          <p:nvPr/>
        </p:nvPicPr>
        <p:blipFill>
          <a:blip r:embed="rId3"/>
          <a:stretch/>
        </p:blipFill>
        <p:spPr>
          <a:xfrm>
            <a:off x="6084720" y="3933720"/>
            <a:ext cx="1943280" cy="2054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tr7"/>
          <p:cNvPicPr/>
          <p:nvPr/>
        </p:nvPicPr>
        <p:blipFill>
          <a:blip r:embed="rId4"/>
          <a:stretch/>
        </p:blipFill>
        <p:spPr>
          <a:xfrm rot="16200000">
            <a:off x="505440" y="78480"/>
            <a:ext cx="57168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908000" y="333360"/>
            <a:ext cx="5185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Дыхательная гимнастик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448080" y="1109160"/>
            <a:ext cx="205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Упражнение 1.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116000" y="2060640"/>
            <a:ext cx="712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Подняться на носки  - вдох носом,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опуститься – выдох ртом.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3049560" y="16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042920" y="4107600"/>
            <a:ext cx="7272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Это упражнение использовали ещё в Древнем Китае. Настрой такой: вдохнём все хорошее – радость, здоровье, хорошее настро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охнем все плохое – злость, зависть, гнев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очечный масса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точки"/>
          <p:cNvPicPr/>
          <p:nvPr/>
        </p:nvPicPr>
        <p:blipFill>
          <a:blip r:embed="rId1"/>
          <a:stretch/>
        </p:blipFill>
        <p:spPr>
          <a:xfrm>
            <a:off x="2987640" y="2276640"/>
            <a:ext cx="2928960" cy="4392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3303720" y="578880"/>
            <a:ext cx="205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Упражнение 2.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14"/>
          <p:cNvPicPr/>
          <p:nvPr/>
        </p:nvPicPr>
        <p:blipFill>
          <a:blip r:embed="rId1"/>
          <a:srcRect l="1942" t="2449" r="2607" b="6097"/>
          <a:stretch/>
        </p:blipFill>
        <p:spPr>
          <a:xfrm>
            <a:off x="4788000" y="1052640"/>
            <a:ext cx="3673440" cy="27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img"/>
          <p:cNvPicPr/>
          <p:nvPr/>
        </p:nvPicPr>
        <p:blipFill>
          <a:blip r:embed="rId2"/>
          <a:stretch/>
        </p:blipFill>
        <p:spPr>
          <a:xfrm>
            <a:off x="250920" y="106992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1144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195640" y="4088160"/>
            <a:ext cx="468144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 врач тот горло, нос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задает вопро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де вы были? Что вы п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, ноги промоч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, что нужно, он уз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шительно сказ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рло надо полоск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и в нос и полеж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1187280" y="333360"/>
            <a:ext cx="66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777777">
                      <a:alpha val="80000"/>
                    </a:srgbClr>
                  </a:outerShdw>
                </a:effectLst>
                <a:latin typeface="Times New Roman"/>
              </a:rPr>
              <a:t>ОТОЛАРИНГОЛОГ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777777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971640" y="189000"/>
            <a:ext cx="6697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Фразеологизмы о носе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972000" y="105192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с не дор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75240" y="14122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с воротить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2720" y="1843920"/>
            <a:ext cx="14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с к нос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975960" y="22759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ысовывать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974160" y="27075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ирать н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972360" y="321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и к нос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973440" y="3644280"/>
            <a:ext cx="18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гулькин нос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972720" y="407592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здник на но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974520" y="458064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евать н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972720" y="501264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-под самого но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973080" y="573336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уби себе на но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2702880" y="105192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щё молод, недостаточно опы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2630520" y="1412280"/>
            <a:ext cx="39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енебрежением отказы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411640" y="18439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плотную, друг возле др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3278520" y="2275920"/>
            <a:ext cx="36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ыходить, не показы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2702160" y="270756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ичать, зада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2341080" y="3212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й 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2772360" y="3644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н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3061440" y="407592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мое ближайше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2774520" y="458064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ремать на мгнов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3206160" y="5012640"/>
            <a:ext cx="31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, воспользовавш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ьей-либо рассеян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3494160" y="573336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5" descr="KIDS01"/>
          <p:cNvPicPr/>
          <p:nvPr/>
        </p:nvPicPr>
        <p:blipFill>
          <a:blip r:embed="rId1"/>
          <a:stretch/>
        </p:blipFill>
        <p:spPr>
          <a:xfrm>
            <a:off x="6300720" y="4724280"/>
            <a:ext cx="185760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329480" y="2419920"/>
            <a:ext cx="709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расный нос в землю вро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419640" y="24199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0000"/>
                </a:solidFill>
                <a:latin typeface="Times New Roman"/>
              </a:rPr>
              <a:t>Морков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87280" y="333360"/>
            <a:ext cx="66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760400" y="2132280"/>
            <a:ext cx="52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жду двух свети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середине я оди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419640" y="24199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0000"/>
                </a:solidFill>
                <a:latin typeface="Times New Roman"/>
              </a:rPr>
              <a:t>НО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187280" y="333360"/>
            <a:ext cx="66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117160" y="1781640"/>
            <a:ext cx="571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 marL="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некультур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 к тому же – ду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выпачкать костю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ковырять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419640" y="24199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0000"/>
                </a:solidFill>
                <a:latin typeface="Times New Roman"/>
              </a:rPr>
              <a:t>в  НОС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187280" y="333360"/>
            <a:ext cx="66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547640" y="1799280"/>
            <a:ext cx="614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903240" indent="-3650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г в карман и кара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ёву, Плаксу и Гряз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 утру поток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забуду и про нос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908000" y="241992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0000"/>
                </a:solidFill>
                <a:latin typeface="Times New Roman"/>
              </a:rPr>
              <a:t>НОСОВОЙ   ПЛАТ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нутка отды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1413000"/>
          <a:ext cx="4752720" cy="439560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2284"/>
          <p:cNvSpPr/>
          <p:nvPr/>
        </p:nvSpPr>
        <p:spPr>
          <a:xfrm>
            <a:off x="5580000" y="12196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жа – орган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285"/>
          <p:cNvSpPr/>
          <p:nvPr/>
        </p:nvSpPr>
        <p:spPr>
          <a:xfrm>
            <a:off x="5659200" y="191520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рган зрени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286"/>
          <p:cNvSpPr/>
          <p:nvPr/>
        </p:nvSpPr>
        <p:spPr>
          <a:xfrm>
            <a:off x="5667120" y="244692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рган слух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87"/>
          <p:cNvSpPr/>
          <p:nvPr/>
        </p:nvSpPr>
        <p:spPr>
          <a:xfrm>
            <a:off x="5676120" y="302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Нос – орган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288"/>
          <p:cNvSpPr/>
          <p:nvPr/>
        </p:nvSpPr>
        <p:spPr>
          <a:xfrm>
            <a:off x="5562720" y="3498480"/>
            <a:ext cx="33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«Правительство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торое упра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шими органа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89"/>
          <p:cNvSpPr/>
          <p:nvPr/>
        </p:nvSpPr>
        <p:spPr>
          <a:xfrm>
            <a:off x="5822640" y="479628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Язык – орга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413000"/>
          <a:ext cx="4752720" cy="452412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4000" y="1413000"/>
          <a:ext cx="4752720" cy="459900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50920" y="1413000"/>
          <a:ext cx="4752720" cy="448920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504720"/>
                <a:gridCol w="45576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0920" y="1413000"/>
          <a:ext cx="4752720" cy="451152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79280" y="1413000"/>
          <a:ext cx="4753080" cy="4527360"/>
        </p:xfrm>
        <a:graphic>
          <a:graphicData uri="http://schemas.openxmlformats.org/drawingml/2006/table">
            <a:tbl>
              <a:tblPr/>
              <a:tblGrid>
                <a:gridCol w="473040"/>
                <a:gridCol w="470160"/>
                <a:gridCol w="498240"/>
                <a:gridCol w="441360"/>
                <a:gridCol w="493920"/>
                <a:gridCol w="490320"/>
                <a:gridCol w="47016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50920" y="1413000"/>
          <a:ext cx="4752720" cy="454176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WordArt 4662"/>
          <p:cNvSpPr txBox="1"/>
          <p:nvPr/>
        </p:nvSpPr>
        <p:spPr>
          <a:xfrm>
            <a:off x="2700360" y="16286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20000"/>
                </a:solidFill>
                <a:latin typeface="Times New Roman"/>
              </a:rPr>
              <a:t>Н</a:t>
            </a:r>
            <a:endParaRPr b="1" lang="en-US" sz="1800" spc="1" strike="noStrike">
              <a:ln w="0">
                <a:noFill/>
              </a:ln>
              <a:solidFill>
                <a:srgbClr val="f20000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4663"/>
          <p:cNvSpPr txBox="1"/>
          <p:nvPr/>
        </p:nvSpPr>
        <p:spPr>
          <a:xfrm>
            <a:off x="2700360" y="472428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WordArt 4664"/>
          <p:cNvSpPr txBox="1"/>
          <p:nvPr/>
        </p:nvSpPr>
        <p:spPr>
          <a:xfrm>
            <a:off x="2700360" y="537372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latin typeface="Times New Roman"/>
              </a:rPr>
              <a:t>С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59" name="WordArt 4665"/>
          <p:cNvSpPr txBox="1"/>
          <p:nvPr/>
        </p:nvSpPr>
        <p:spPr>
          <a:xfrm>
            <a:off x="2700360" y="292428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9966"/>
                </a:solidFill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60" name="WordArt 4666"/>
          <p:cNvSpPr txBox="1"/>
          <p:nvPr/>
        </p:nvSpPr>
        <p:spPr>
          <a:xfrm>
            <a:off x="2700360" y="227664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1" name="WordArt 4667"/>
          <p:cNvSpPr txBox="1"/>
          <p:nvPr/>
        </p:nvSpPr>
        <p:spPr>
          <a:xfrm>
            <a:off x="2700360" y="40766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Н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484360" y="333360"/>
            <a:ext cx="4392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Наш нос..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916360" y="1484280"/>
            <a:ext cx="32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ли себе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работает наш но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простой вопрос тот ,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ё ж мы на него ответ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044720" y="2781360"/>
            <a:ext cx="33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 на вдохе – пылесо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на выдохе – нас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льтром служит от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ту органа п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043640" y="4149720"/>
            <a:ext cx="28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бит чистый он пла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утрам – воды п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бит нюхать он цв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бит он тебя, а т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221440" y="2781360"/>
            <a:ext cx="30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льцем в нём не ковыря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по лужам не гуля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не то любимый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ыхтит как паров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221080" y="4076640"/>
            <a:ext cx="29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так, то мчи скор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иносола» не жа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ги парь, лекарство п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здоравливай скор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900000" y="544500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Будьте здоровы!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Берегите свой нос!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81" name="Picture 12" descr="55e572d672615094b60ab50605582c23_full"/>
          <p:cNvPicPr/>
          <p:nvPr/>
        </p:nvPicPr>
        <p:blipFill>
          <a:blip r:embed="rId2"/>
          <a:stretch/>
        </p:blipFill>
        <p:spPr>
          <a:xfrm>
            <a:off x="0" y="260280"/>
            <a:ext cx="2556000" cy="249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60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9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000" y="3141360"/>
            <a:ext cx="806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с способен воспринимать и различать запахи. Эту работу выполняет крошечная часть   слизистой оболочки площадью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квадратный сантиметр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choise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WordArt 24"/>
          <p:cNvSpPr txBox="1"/>
          <p:nvPr/>
        </p:nvSpPr>
        <p:spPr>
          <a:xfrm>
            <a:off x="1692360" y="836640"/>
            <a:ext cx="4392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Мы узнали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5" name="Picture 25" descr="031a"/>
          <p:cNvPicPr/>
          <p:nvPr/>
        </p:nvPicPr>
        <p:blipFill>
          <a:blip r:embed="rId2"/>
          <a:stretch/>
        </p:blipFill>
        <p:spPr>
          <a:xfrm>
            <a:off x="971640" y="260280"/>
            <a:ext cx="84780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12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ИПОТЕ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71640" y="1197000"/>
            <a:ext cx="5997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 нужен, чтобы ды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 нужен, чтобы чувствовать зап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 украшает наше ли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508480" cy="2592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2484360" y="3645000"/>
            <a:ext cx="40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евиз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826920" y="4508640"/>
            <a:ext cx="7848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Я здоровье берегу -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ам себе я помогу!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255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692360" y="404640"/>
            <a:ext cx="561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иятные запах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11"/>
          <p:cNvPicPr/>
          <p:nvPr/>
        </p:nvPicPr>
        <p:blipFill>
          <a:blip r:embed="rId1"/>
          <a:stretch/>
        </p:blipFill>
        <p:spPr>
          <a:xfrm>
            <a:off x="3276720" y="3645000"/>
            <a:ext cx="116496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260775000_rLBhN-M"/>
          <p:cNvPicPr/>
          <p:nvPr/>
        </p:nvPicPr>
        <p:blipFill>
          <a:blip r:embed="rId2"/>
          <a:stretch/>
        </p:blipFill>
        <p:spPr>
          <a:xfrm>
            <a:off x="6732720" y="508464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File0611"/>
          <p:cNvPicPr/>
          <p:nvPr/>
        </p:nvPicPr>
        <p:blipFill>
          <a:blip r:embed="rId3"/>
          <a:stretch/>
        </p:blipFill>
        <p:spPr>
          <a:xfrm>
            <a:off x="250920" y="1052640"/>
            <a:ext cx="1638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12343"/>
          <p:cNvPicPr/>
          <p:nvPr/>
        </p:nvPicPr>
        <p:blipFill>
          <a:blip r:embed="rId4"/>
          <a:stretch/>
        </p:blipFill>
        <p:spPr>
          <a:xfrm>
            <a:off x="6659640" y="765000"/>
            <a:ext cx="2484360" cy="201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тоорт-с-бл"/>
          <p:cNvPicPr/>
          <p:nvPr/>
        </p:nvPicPr>
        <p:blipFill>
          <a:blip r:embed="rId5"/>
          <a:stretch/>
        </p:blipFill>
        <p:spPr>
          <a:xfrm>
            <a:off x="324000" y="4611600"/>
            <a:ext cx="2520720" cy="2246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485-1024"/>
          <p:cNvPicPr/>
          <p:nvPr/>
        </p:nvPicPr>
        <p:blipFill>
          <a:blip r:embed="rId6"/>
          <a:stretch/>
        </p:blipFill>
        <p:spPr>
          <a:xfrm>
            <a:off x="2556000" y="1844640"/>
            <a:ext cx="2520720" cy="1893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eda47"/>
          <p:cNvPicPr/>
          <p:nvPr/>
        </p:nvPicPr>
        <p:blipFill>
          <a:blip r:embed="rId7"/>
          <a:stretch/>
        </p:blipFill>
        <p:spPr>
          <a:xfrm>
            <a:off x="3276720" y="5313240"/>
            <a:ext cx="2376360" cy="154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2" descr="eda48"/>
          <p:cNvPicPr/>
          <p:nvPr/>
        </p:nvPicPr>
        <p:blipFill>
          <a:blip r:embed="rId8"/>
          <a:stretch/>
        </p:blipFill>
        <p:spPr>
          <a:xfrm>
            <a:off x="4643280" y="429264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095"/>
          <p:cNvPicPr/>
          <p:nvPr/>
        </p:nvPicPr>
        <p:blipFill>
          <a:blip r:embed="rId9"/>
          <a:stretch/>
        </p:blipFill>
        <p:spPr>
          <a:xfrm>
            <a:off x="5724360" y="2565360"/>
            <a:ext cx="2067120" cy="164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5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124"/>
          <p:cNvPicPr/>
          <p:nvPr/>
        </p:nvPicPr>
        <p:blipFill>
          <a:blip r:embed="rId2"/>
          <a:stretch/>
        </p:blipFill>
        <p:spPr>
          <a:xfrm>
            <a:off x="5796000" y="1700280"/>
            <a:ext cx="2859120" cy="338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6 (2)"/>
          <p:cNvPicPr/>
          <p:nvPr/>
        </p:nvPicPr>
        <p:blipFill>
          <a:blip r:embed="rId3"/>
          <a:stretch/>
        </p:blipFill>
        <p:spPr>
          <a:xfrm>
            <a:off x="3419640" y="3500280"/>
            <a:ext cx="2509560" cy="3168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042920" y="549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приятные, опасные запах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0" y="2492280"/>
            <a:ext cx="389088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ЫХЛОП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2627280" y="5157720"/>
            <a:ext cx="396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ТЕЧКА ГА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4822920" y="2276640"/>
            <a:ext cx="432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ЫМ. ПОЖА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87" name="Picture 8" descr="article_l20080405133453"/>
          <p:cNvPicPr/>
          <p:nvPr/>
        </p:nvPicPr>
        <p:blipFill>
          <a:blip r:embed="rId4"/>
          <a:stretch/>
        </p:blipFill>
        <p:spPr>
          <a:xfrm>
            <a:off x="250920" y="1557360"/>
            <a:ext cx="3313080" cy="284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500"/>
                            </p:stCondLst>
                            <p:childTnLst>
                              <p:par>
                                <p:cTn id="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1"/>
          <p:cNvSpPr/>
          <p:nvPr/>
        </p:nvSpPr>
        <p:spPr>
          <a:xfrm>
            <a:off x="5651640" y="5373720"/>
            <a:ext cx="18396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5" descr="943"/>
          <p:cNvPicPr/>
          <p:nvPr/>
        </p:nvPicPr>
        <p:blipFill>
          <a:blip r:embed="rId2"/>
          <a:stretch/>
        </p:blipFill>
        <p:spPr>
          <a:xfrm>
            <a:off x="324000" y="4724280"/>
            <a:ext cx="1242720" cy="1584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104292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осу работает несколько «маши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64360" y="4581360"/>
            <a:ext cx="1430280" cy="1511640"/>
          </a:xfrm>
          <a:prstGeom prst="rect">
            <a:avLst/>
          </a:prstGeom>
          <a:ln w="0">
            <a:noFill/>
          </a:ln>
        </p:spPr>
      </p:pic>
      <p:grpSp>
        <p:nvGrpSpPr>
          <p:cNvPr id="92" name="Organization Chart 36"/>
          <p:cNvGrpSpPr/>
          <p:nvPr/>
        </p:nvGrpSpPr>
        <p:grpSpPr>
          <a:xfrm>
            <a:off x="179280" y="1773360"/>
            <a:ext cx="8785080" cy="2302560"/>
            <a:chOff x="179280" y="1773360"/>
            <a:chExt cx="8785080" cy="2302560"/>
          </a:xfrm>
        </p:grpSpPr>
        <p:cxnSp>
          <p:nvCxnSpPr>
            <p:cNvPr id="93" name="_s1028"/>
            <p:cNvCxnSpPr>
              <a:stCxn id="94" idx="0"/>
              <a:endCxn id="95" idx="2"/>
            </p:cNvCxnSpPr>
            <p:nvPr/>
          </p:nvCxnSpPr>
          <p:spPr>
            <a:xfrm flipV="1" rot="16200000">
              <a:off x="6049080" y="1215360"/>
              <a:ext cx="461160" cy="3417120"/>
            </a:xfrm>
            <a:prstGeom prst="bentConnector3">
              <a:avLst>
                <a:gd name="adj1" fmla="val 109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9"/>
            <p:cNvCxnSpPr>
              <a:stCxn id="97" idx="0"/>
              <a:endCxn id="95" idx="2"/>
            </p:cNvCxnSpPr>
            <p:nvPr/>
          </p:nvCxnSpPr>
          <p:spPr>
            <a:xfrm flipV="1" rot="16200000">
              <a:off x="4910400" y="2354040"/>
              <a:ext cx="461160" cy="1139760"/>
            </a:xfrm>
            <a:prstGeom prst="bentConnector3">
              <a:avLst>
                <a:gd name="adj1" fmla="val 109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30"/>
            <p:cNvCxnSpPr>
              <a:stCxn id="99" idx="0"/>
              <a:endCxn id="95" idx="2"/>
            </p:cNvCxnSpPr>
            <p:nvPr/>
          </p:nvCxnSpPr>
          <p:spPr>
            <a:xfrm flipH="1" flipV="1" rot="5400000">
              <a:off x="3771720" y="2354760"/>
              <a:ext cx="461160" cy="1139040"/>
            </a:xfrm>
            <a:prstGeom prst="bentConnector3">
              <a:avLst>
                <a:gd name="adj1" fmla="val 109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31"/>
            <p:cNvCxnSpPr>
              <a:stCxn id="101" idx="0"/>
              <a:endCxn id="95" idx="2"/>
            </p:cNvCxnSpPr>
            <p:nvPr/>
          </p:nvCxnSpPr>
          <p:spPr>
            <a:xfrm flipH="1" flipV="1" rot="5400000">
              <a:off x="2632680" y="1215720"/>
              <a:ext cx="461160" cy="3416760"/>
            </a:xfrm>
            <a:prstGeom prst="bentConnector3">
              <a:avLst>
                <a:gd name="adj1" fmla="val 109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1032"/>
            <p:cNvSpPr/>
            <p:nvPr/>
          </p:nvSpPr>
          <p:spPr>
            <a:xfrm>
              <a:off x="3595320" y="177336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НОС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179280" y="315504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f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66"/>
                  </a:solidFill>
                  <a:uFillTx/>
                  <a:latin typeface="Times New Roman"/>
                  <a:hlinkClick r:id="rId4" action="ppaction://hlinksldjump"/>
                </a:rPr>
                <a:t>ОБОГРЕВ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4"/>
            <p:cNvSpPr/>
            <p:nvPr/>
          </p:nvSpPr>
          <p:spPr>
            <a:xfrm>
              <a:off x="2456640" y="315504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66"/>
                  </a:solidFill>
                  <a:uFillTx/>
                  <a:latin typeface="Times New Roman"/>
                  <a:hlinkClick r:id="rId5" action="ppaction://hlinksldjump"/>
                </a:rPr>
                <a:t>ПЫЛЕС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5"/>
            <p:cNvSpPr/>
            <p:nvPr/>
          </p:nvSpPr>
          <p:spPr>
            <a:xfrm>
              <a:off x="4734360" y="315504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66"/>
                  </a:solidFill>
                  <a:uFillTx/>
                  <a:latin typeface="Times New Roman"/>
                  <a:hlinkClick r:id="rId6" action="ppaction://hlinksldjump"/>
                </a:rPr>
                <a:t>ХОЛОДИ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6"/>
            <p:cNvSpPr/>
            <p:nvPr/>
          </p:nvSpPr>
          <p:spPr>
            <a:xfrm>
              <a:off x="7012080" y="315504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66"/>
                  </a:solidFill>
                  <a:uFillTx/>
                  <a:latin typeface="Times New Roman"/>
                  <a:hlinkClick r:id="rId7" action="ppaction://hlinksldjump"/>
                </a:rPr>
                <a:t>УВЛАЖНИ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16" descr="372b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5219640" y="4292640"/>
            <a:ext cx="960480" cy="201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FC9164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2268360" y="4365720"/>
            <a:ext cx="1775160" cy="1942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9"/>
          <p:cNvSpPr txBox="1"/>
          <p:nvPr/>
        </p:nvSpPr>
        <p:spPr>
          <a:xfrm>
            <a:off x="2411280" y="189000"/>
            <a:ext cx="4392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Мы проверили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050920" y="2565360"/>
            <a:ext cx="54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Холодный воздух согре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кровяным «отоплен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19280" y="14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с как </a:t>
            </a:r>
            <a:r>
              <a:rPr b="1" lang="ru-RU" sz="3600" spc="-1" strike="noStrike">
                <a:solidFill>
                  <a:srgbClr val="f20000"/>
                </a:solidFill>
                <a:latin typeface="Times New Roman"/>
              </a:rPr>
              <a:t>ОБОГРЕВАТ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2846418_1146922492_3764654iis"/>
          <p:cNvPicPr/>
          <p:nvPr/>
        </p:nvPicPr>
        <p:blipFill>
          <a:blip r:embed="rId2"/>
          <a:stretch/>
        </p:blipFill>
        <p:spPr>
          <a:xfrm>
            <a:off x="0" y="342900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943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str7"/>
          <p:cNvPicPr/>
          <p:nvPr/>
        </p:nvPicPr>
        <p:blipFill>
          <a:blip r:embed="rId4"/>
          <a:stretch/>
        </p:blipFill>
        <p:spPr>
          <a:xfrm rot="16200000">
            <a:off x="505440" y="78480"/>
            <a:ext cx="57168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979640" y="2276640"/>
            <a:ext cx="547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В ноздрях есть реснички, на которых застревает пыль с вредными «пассажирами» – микро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619280" y="14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с как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ПЫЛЕС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846418_1146922492_3764654iis"/>
          <p:cNvPicPr/>
          <p:nvPr/>
        </p:nvPicPr>
        <p:blipFill>
          <a:blip r:embed="rId2"/>
          <a:stretch/>
        </p:blipFill>
        <p:spPr>
          <a:xfrm>
            <a:off x="0" y="342900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FC9164"/>
          <p:cNvPicPr/>
          <p:nvPr/>
        </p:nvPicPr>
        <p:blipFill>
          <a:blip r:embed="rId3"/>
          <a:stretch/>
        </p:blipFill>
        <p:spPr>
          <a:xfrm>
            <a:off x="6156360" y="2997360"/>
            <a:ext cx="2560680" cy="280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tr7"/>
          <p:cNvPicPr/>
          <p:nvPr/>
        </p:nvPicPr>
        <p:blipFill>
          <a:blip r:embed="rId4"/>
          <a:stretch/>
        </p:blipFill>
        <p:spPr>
          <a:xfrm rot="16200000">
            <a:off x="505440" y="78480"/>
            <a:ext cx="57168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8:24:49Z</dcterms:created>
  <dc:creator>ната</dc:creator>
  <dc:description/>
  <dc:language>en-US</dc:language>
  <cp:lastModifiedBy>А</cp:lastModifiedBy>
  <dcterms:modified xsi:type="dcterms:W3CDTF">2013-02-06T08:51:06Z</dcterms:modified>
  <cp:revision>47</cp:revision>
  <dc:subject/>
  <dc:title>Слайд 1</dc:title>
</cp:coreProperties>
</file>