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png" ContentType="image/png"/>
  <Override PartName="/ppt/media/image31.gif" ContentType="image/gif"/>
  <Override PartName="/ppt/media/image22.png" ContentType="image/png"/>
  <Override PartName="/ppt/media/image21.png" ContentType="image/png"/>
  <Override PartName="/ppt/media/image28.jpeg" ContentType="image/jpeg"/>
  <Override PartName="/ppt/media/image3.gif" ContentType="image/gif"/>
  <Override PartName="/ppt/media/image7.jpeg" ContentType="image/jpeg"/>
  <Override PartName="/ppt/media/image5.gif" ContentType="image/gif"/>
  <Override PartName="/ppt/media/image14.jpeg" ContentType="image/jpeg"/>
  <Override PartName="/ppt/media/image9.png" ContentType="image/png"/>
  <Override PartName="/ppt/media/image11.png" ContentType="image/png"/>
  <Override PartName="/ppt/media/image4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baby.wav" ContentType="audio/x-wav"/>
  <Override PartName="/ppt/media/image20.png" ContentType="image/png"/>
  <Override PartName="/ppt/media/image2.jpeg" ContentType="image/jpeg"/>
  <Override PartName="/ppt/media/applause.wav" ContentType="audio/x-wav"/>
  <Override PartName="/ppt/media/image6.jpeg" ContentType="image/jpeg"/>
  <Override PartName="/ppt/media/image27.jpeg" ContentType="image/jpeg"/>
  <Override PartName="/ppt/media/image29.png" ContentType="image/png"/>
  <Override PartName="/ppt/media/chimes.wav" ContentType="audio/x-wav"/>
  <Override PartName="/ppt/media/image13.gif" ContentType="image/gif"/>
  <Override PartName="/ppt/media/image16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15.jpeg" ContentType="image/jpeg"/>
  <Override PartName="/ppt/media/image17.jpeg" ContentType="image/jpeg"/>
  <Override PartName="/ppt/media/image18.jpeg" ContentType="image/jpeg"/>
  <Override PartName="/ppt/media/image26.gif" ContentType="image/gif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BCB-3D46-46A1-8DEB-A1796CEF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8D3-13DF-4E8E-8094-4165DBE9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64A-E19A-4CAC-A229-37C441F5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F63-3F88-4BC3-BDF3-F1B078F7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97BA-0828-4F25-A135-CE21294C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D61-8550-401D-AB7F-44A46766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471-107A-406B-929E-0EA07A5E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BCBA-56A4-405F-8743-33E04218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12C1-9B6C-45EA-BC66-01E20D35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FF4-7398-44EB-9E1E-B6914537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25D-86E6-44A0-9DFA-ED37987D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C91-0C9B-4681-BD6A-1D8A6B02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7288-C227-475F-B9C8-1C053AC5CC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png"/><Relationship Id="rId3" Type="http://schemas.openxmlformats.org/officeDocument/2006/relationships/image" Target="../media/image24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7.jpe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2.png"/><Relationship Id="rId3" Type="http://schemas.openxmlformats.org/officeDocument/2006/relationships/audio" Target="../media/baby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2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00000" y="2349360"/>
            <a:ext cx="77756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Кем работает наш нос ?</a:t>
            </a:r>
            <a:endParaRPr b="1" lang="en-US" sz="44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372b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443640" y="2133720"/>
            <a:ext cx="1506600" cy="3166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1979640" y="2276640"/>
            <a:ext cx="547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Нос охлаждает горяч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воздух, чтобы не обжеч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наши нежные лег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619280" y="1413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с как </a:t>
            </a:r>
            <a:r>
              <a:rPr b="1" lang="ru-RU" sz="3600" spc="-1" strike="noStrike">
                <a:solidFill>
                  <a:srgbClr val="9900ff"/>
                </a:solidFill>
                <a:latin typeface="Times New Roman"/>
              </a:rPr>
              <a:t>ХОЛОДИЛЬНИ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846418_1146922492_3764654iis"/>
          <p:cNvPicPr/>
          <p:nvPr/>
        </p:nvPicPr>
        <p:blipFill>
          <a:blip r:embed="rId3"/>
          <a:stretch/>
        </p:blipFill>
        <p:spPr>
          <a:xfrm>
            <a:off x="0" y="3429000"/>
            <a:ext cx="2462040" cy="342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str7"/>
          <p:cNvPicPr/>
          <p:nvPr/>
        </p:nvPicPr>
        <p:blipFill>
          <a:blip r:embed="rId4"/>
          <a:stretch/>
        </p:blipFill>
        <p:spPr>
          <a:xfrm rot="16200000">
            <a:off x="505440" y="78480"/>
            <a:ext cx="571680" cy="93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1979640" y="2276640"/>
            <a:ext cx="54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носу постоянно  влаж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чтобы увлажнять сухой 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619280" y="1413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с как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УВЛАЖНИТ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2846418_1146922492_3764654iis"/>
          <p:cNvPicPr/>
          <p:nvPr/>
        </p:nvPicPr>
        <p:blipFill>
          <a:blip r:embed="rId2"/>
          <a:stretch/>
        </p:blipFill>
        <p:spPr>
          <a:xfrm>
            <a:off x="0" y="3429000"/>
            <a:ext cx="246204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images"/>
          <p:cNvPicPr/>
          <p:nvPr/>
        </p:nvPicPr>
        <p:blipFill>
          <a:blip r:embed="rId3"/>
          <a:stretch/>
        </p:blipFill>
        <p:spPr>
          <a:xfrm>
            <a:off x="6084720" y="3933720"/>
            <a:ext cx="1943280" cy="2054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str7"/>
          <p:cNvPicPr/>
          <p:nvPr/>
        </p:nvPicPr>
        <p:blipFill>
          <a:blip r:embed="rId4"/>
          <a:stretch/>
        </p:blipFill>
        <p:spPr>
          <a:xfrm rot="16200000">
            <a:off x="505440" y="78480"/>
            <a:ext cx="571680" cy="93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1908000" y="333360"/>
            <a:ext cx="51850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00ffff"/>
                  </a:outerShdw>
                </a:effectLst>
                <a:latin typeface="Times New Roman"/>
              </a:rPr>
              <a:t>Дыхательная гимнастик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00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448080" y="1109160"/>
            <a:ext cx="205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Упражнение 1.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1116000" y="2060640"/>
            <a:ext cx="712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Подняться на носки  - вдох носом,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опуститься – выдох ртом.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-3049560" y="16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1042920" y="4107600"/>
            <a:ext cx="7272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Это упражнение использовали ещё в Древнем Китае. Настрой такой: вдохнём все хорошее – радость, здоровье, хорошее настро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охнем все плохое – злость, зависть, гнев и т.д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очечный масса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точки"/>
          <p:cNvPicPr/>
          <p:nvPr/>
        </p:nvPicPr>
        <p:blipFill>
          <a:blip r:embed="rId1"/>
          <a:stretch/>
        </p:blipFill>
        <p:spPr>
          <a:xfrm>
            <a:off x="2987640" y="2276640"/>
            <a:ext cx="2928960" cy="4392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3303720" y="578880"/>
            <a:ext cx="2050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Упражнение 2.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14"/>
          <p:cNvPicPr/>
          <p:nvPr/>
        </p:nvPicPr>
        <p:blipFill>
          <a:blip r:embed="rId1"/>
          <a:srcRect l="1942" t="2449" r="2607" b="6097"/>
          <a:stretch/>
        </p:blipFill>
        <p:spPr>
          <a:xfrm>
            <a:off x="4788000" y="1052640"/>
            <a:ext cx="3673440" cy="279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img"/>
          <p:cNvPicPr/>
          <p:nvPr/>
        </p:nvPicPr>
        <p:blipFill>
          <a:blip r:embed="rId2"/>
          <a:stretch/>
        </p:blipFill>
        <p:spPr>
          <a:xfrm>
            <a:off x="250920" y="1069920"/>
            <a:ext cx="3744720" cy="2809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11448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195640" y="4088160"/>
            <a:ext cx="468144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т врач тот горло, нос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ям задает вопро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де вы были? Что вы пи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, ноги промочи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, что нужно, он узн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ешительно сказ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рло надо полоск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и в нос и полеж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1187280" y="333360"/>
            <a:ext cx="662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777777">
                      <a:alpha val="80000"/>
                    </a:srgbClr>
                  </a:outerShdw>
                </a:effectLst>
                <a:latin typeface="Times New Roman"/>
              </a:rPr>
              <a:t>ОТОЛАРИНГОЛОГ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777777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971640" y="189000"/>
            <a:ext cx="6697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00ffff"/>
                  </a:outerShdw>
                </a:effectLst>
                <a:latin typeface="Times New Roman"/>
              </a:rPr>
              <a:t>Фразеологизмы о носе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00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972000" y="105192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с не дор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975240" y="14122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с воротить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972720" y="1843920"/>
            <a:ext cx="145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с к носу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975960" y="227592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ысовывать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974160" y="270756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ирать но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972360" y="3212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и к носу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973440" y="3644280"/>
            <a:ext cx="18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гулькин нос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972720" y="4075920"/>
            <a:ext cx="22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здник на но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974520" y="458064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евать нос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972720" y="501264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-под самого но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973080" y="573336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руби себе на но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2702880" y="105192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ещё молод, недостаточно опы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2630520" y="1412280"/>
            <a:ext cx="39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енебрежением отказы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411640" y="184392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плотную, друг возле дру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3278520" y="2275920"/>
            <a:ext cx="36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ыходить, не показы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2702160" y="2707560"/>
            <a:ext cx="28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ичать, зада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2341080" y="3212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й вы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2772360" y="3644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ень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3061440" y="407592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амое ближайше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2"/>
          <p:cNvSpPr/>
          <p:nvPr/>
        </p:nvSpPr>
        <p:spPr>
          <a:xfrm>
            <a:off x="2774520" y="4580640"/>
            <a:ext cx="30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ремать на мгнов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3206160" y="5012640"/>
            <a:ext cx="31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ь, воспользовавш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ьей-либо рассеян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3494160" y="573336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5" descr="KIDS01"/>
          <p:cNvPicPr/>
          <p:nvPr/>
        </p:nvPicPr>
        <p:blipFill>
          <a:blip r:embed="rId1"/>
          <a:stretch/>
        </p:blipFill>
        <p:spPr>
          <a:xfrm>
            <a:off x="6300720" y="4724280"/>
            <a:ext cx="1857600" cy="128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9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ffff"/>
                  </a:outerShdw>
                </a:effectLst>
                <a:latin typeface="Times New Roman"/>
              </a:rPr>
              <a:t>ЗАГАДКИ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00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329480" y="2419920"/>
            <a:ext cx="709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расный нос в землю вро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419640" y="241992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0000"/>
                </a:solidFill>
                <a:latin typeface="Times New Roman"/>
              </a:rPr>
              <a:t>Морков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75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187280" y="333360"/>
            <a:ext cx="669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ffff"/>
                  </a:outerShdw>
                </a:effectLst>
                <a:latin typeface="Times New Roman"/>
              </a:rPr>
              <a:t>ЗАГАДКИ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00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760400" y="2132280"/>
            <a:ext cx="520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ежду двух свети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середине я оди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419640" y="241992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0000"/>
                </a:solidFill>
                <a:latin typeface="Times New Roman"/>
              </a:rPr>
              <a:t>НО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97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187280" y="333360"/>
            <a:ext cx="669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ffff"/>
                  </a:outerShdw>
                </a:effectLst>
                <a:latin typeface="Times New Roman"/>
              </a:rPr>
              <a:t>ЗАГАДКИ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00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117160" y="1781640"/>
            <a:ext cx="5711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3" marL="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чень некультур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53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 к тому же – ду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но выпачкать костю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ковырять 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419640" y="241992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0000"/>
                </a:solidFill>
                <a:latin typeface="Times New Roman"/>
              </a:rPr>
              <a:t>в  НОС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19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187280" y="333360"/>
            <a:ext cx="6697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ffff"/>
                  </a:outerShdw>
                </a:effectLst>
                <a:latin typeface="Times New Roman"/>
              </a:rPr>
              <a:t>ЗАГАДКИ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00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547640" y="1799280"/>
            <a:ext cx="6140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marL="903240" indent="-365040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г в карман и карау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ёву, Плаксу и Грязну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 утру потоки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забуду и про нос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908000" y="2419920"/>
            <a:ext cx="60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0000"/>
                </a:solidFill>
                <a:latin typeface="Times New Roman"/>
              </a:rPr>
              <a:t>НОСОВОЙ   ПЛАТО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41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инутка отды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0920" y="1413000"/>
          <a:ext cx="4752720" cy="4395600"/>
        </p:xfrm>
        <a:graphic>
          <a:graphicData uri="http://schemas.openxmlformats.org/drawingml/2006/table">
            <a:tbl>
              <a:tblPr/>
              <a:tblGrid>
                <a:gridCol w="473040"/>
                <a:gridCol w="469800"/>
                <a:gridCol w="498600"/>
                <a:gridCol w="441360"/>
                <a:gridCol w="493560"/>
                <a:gridCol w="490680"/>
                <a:gridCol w="469800"/>
                <a:gridCol w="473040"/>
                <a:gridCol w="511200"/>
                <a:gridCol w="43164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2284"/>
          <p:cNvSpPr/>
          <p:nvPr/>
        </p:nvSpPr>
        <p:spPr>
          <a:xfrm>
            <a:off x="5580000" y="12196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ожа – орган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285"/>
          <p:cNvSpPr/>
          <p:nvPr/>
        </p:nvSpPr>
        <p:spPr>
          <a:xfrm>
            <a:off x="5659200" y="1915200"/>
            <a:ext cx="28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рган зрени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286"/>
          <p:cNvSpPr/>
          <p:nvPr/>
        </p:nvSpPr>
        <p:spPr>
          <a:xfrm>
            <a:off x="5667120" y="2446920"/>
            <a:ext cx="25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рган слух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87"/>
          <p:cNvSpPr/>
          <p:nvPr/>
        </p:nvSpPr>
        <p:spPr>
          <a:xfrm>
            <a:off x="5676120" y="3023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Нос – орган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288"/>
          <p:cNvSpPr/>
          <p:nvPr/>
        </p:nvSpPr>
        <p:spPr>
          <a:xfrm>
            <a:off x="5562720" y="3498480"/>
            <a:ext cx="33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«Правительство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оторое управ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ашими органам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289"/>
          <p:cNvSpPr/>
          <p:nvPr/>
        </p:nvSpPr>
        <p:spPr>
          <a:xfrm>
            <a:off x="5822640" y="479628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ookman Old Style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Язык – орган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413000"/>
          <a:ext cx="4752720" cy="4524120"/>
        </p:xfrm>
        <a:graphic>
          <a:graphicData uri="http://schemas.openxmlformats.org/drawingml/2006/table">
            <a:tbl>
              <a:tblPr/>
              <a:tblGrid>
                <a:gridCol w="473040"/>
                <a:gridCol w="469800"/>
                <a:gridCol w="498600"/>
                <a:gridCol w="441360"/>
                <a:gridCol w="493560"/>
                <a:gridCol w="490680"/>
                <a:gridCol w="469800"/>
                <a:gridCol w="473040"/>
                <a:gridCol w="511200"/>
                <a:gridCol w="431640"/>
              </a:tblGrid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24000" y="1413000"/>
          <a:ext cx="4752720" cy="4599000"/>
        </p:xfrm>
        <a:graphic>
          <a:graphicData uri="http://schemas.openxmlformats.org/drawingml/2006/table">
            <a:tbl>
              <a:tblPr/>
              <a:tblGrid>
                <a:gridCol w="473040"/>
                <a:gridCol w="469800"/>
                <a:gridCol w="498600"/>
                <a:gridCol w="441360"/>
                <a:gridCol w="493560"/>
                <a:gridCol w="490680"/>
                <a:gridCol w="469800"/>
                <a:gridCol w="473040"/>
                <a:gridCol w="511200"/>
                <a:gridCol w="43164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50920" y="1413000"/>
          <a:ext cx="4752720" cy="4489200"/>
        </p:xfrm>
        <a:graphic>
          <a:graphicData uri="http://schemas.openxmlformats.org/drawingml/2006/table">
            <a:tbl>
              <a:tblPr/>
              <a:tblGrid>
                <a:gridCol w="473040"/>
                <a:gridCol w="469800"/>
                <a:gridCol w="498600"/>
                <a:gridCol w="441360"/>
                <a:gridCol w="493560"/>
                <a:gridCol w="504720"/>
                <a:gridCol w="455760"/>
                <a:gridCol w="473040"/>
                <a:gridCol w="511200"/>
                <a:gridCol w="43164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50920" y="1413000"/>
          <a:ext cx="4752720" cy="4511520"/>
        </p:xfrm>
        <a:graphic>
          <a:graphicData uri="http://schemas.openxmlformats.org/drawingml/2006/table">
            <a:tbl>
              <a:tblPr/>
              <a:tblGrid>
                <a:gridCol w="473040"/>
                <a:gridCol w="469800"/>
                <a:gridCol w="498600"/>
                <a:gridCol w="441360"/>
                <a:gridCol w="493560"/>
                <a:gridCol w="490680"/>
                <a:gridCol w="469800"/>
                <a:gridCol w="473040"/>
                <a:gridCol w="511200"/>
                <a:gridCol w="43164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79280" y="1413000"/>
          <a:ext cx="4753080" cy="4527360"/>
        </p:xfrm>
        <a:graphic>
          <a:graphicData uri="http://schemas.openxmlformats.org/drawingml/2006/table">
            <a:tbl>
              <a:tblPr/>
              <a:tblGrid>
                <a:gridCol w="473040"/>
                <a:gridCol w="470160"/>
                <a:gridCol w="498240"/>
                <a:gridCol w="441360"/>
                <a:gridCol w="493920"/>
                <a:gridCol w="490320"/>
                <a:gridCol w="470160"/>
                <a:gridCol w="473040"/>
                <a:gridCol w="511200"/>
                <a:gridCol w="43164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50920" y="1413000"/>
          <a:ext cx="4752720" cy="4541760"/>
        </p:xfrm>
        <a:graphic>
          <a:graphicData uri="http://schemas.openxmlformats.org/drawingml/2006/table">
            <a:tbl>
              <a:tblPr/>
              <a:tblGrid>
                <a:gridCol w="473040"/>
                <a:gridCol w="469800"/>
                <a:gridCol w="498600"/>
                <a:gridCol w="441360"/>
                <a:gridCol w="493560"/>
                <a:gridCol w="490680"/>
                <a:gridCol w="469800"/>
                <a:gridCol w="473040"/>
                <a:gridCol w="511200"/>
                <a:gridCol w="43164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WordArt 4662"/>
          <p:cNvSpPr txBox="1"/>
          <p:nvPr/>
        </p:nvSpPr>
        <p:spPr>
          <a:xfrm>
            <a:off x="2700360" y="162864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20000"/>
                </a:solidFill>
                <a:latin typeface="Times New Roman"/>
              </a:rPr>
              <a:t>Н</a:t>
            </a:r>
            <a:endParaRPr b="1" lang="en-US" sz="1800" spc="1" strike="noStrike">
              <a:ln w="0">
                <a:noFill/>
              </a:ln>
              <a:solidFill>
                <a:srgbClr val="f20000"/>
              </a:solidFill>
              <a:latin typeface="Times New Roman"/>
              <a:ea typeface="Times New Roman"/>
            </a:endParaRPr>
          </a:p>
        </p:txBody>
      </p:sp>
      <p:sp>
        <p:nvSpPr>
          <p:cNvPr id="57" name="WordArt 4663"/>
          <p:cNvSpPr txBox="1"/>
          <p:nvPr/>
        </p:nvSpPr>
        <p:spPr>
          <a:xfrm>
            <a:off x="2700360" y="472428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ff"/>
                </a:solidFill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WordArt 4664"/>
          <p:cNvSpPr txBox="1"/>
          <p:nvPr/>
        </p:nvSpPr>
        <p:spPr>
          <a:xfrm>
            <a:off x="2700360" y="537372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latin typeface="Times New Roman"/>
              </a:rPr>
              <a:t>С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sp>
        <p:nvSpPr>
          <p:cNvPr id="59" name="WordArt 4665"/>
          <p:cNvSpPr txBox="1"/>
          <p:nvPr/>
        </p:nvSpPr>
        <p:spPr>
          <a:xfrm>
            <a:off x="2700360" y="292428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9966"/>
                </a:solidFill>
                <a:latin typeface="Times New Roman"/>
              </a:rPr>
              <a:t>Ш</a:t>
            </a:r>
            <a:endParaRPr b="1" lang="en-US" sz="1800" spc="1" strike="noStrike">
              <a:ln w="0">
                <a:noFill/>
              </a:ln>
              <a:solidFill>
                <a:srgbClr val="339966"/>
              </a:solidFill>
              <a:latin typeface="Times New Roman"/>
              <a:ea typeface="Times New Roman"/>
            </a:endParaRPr>
          </a:p>
        </p:txBody>
      </p:sp>
      <p:sp>
        <p:nvSpPr>
          <p:cNvPr id="60" name="WordArt 4666"/>
          <p:cNvSpPr txBox="1"/>
          <p:nvPr/>
        </p:nvSpPr>
        <p:spPr>
          <a:xfrm>
            <a:off x="2700360" y="227664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61" name="WordArt 4667"/>
          <p:cNvSpPr txBox="1"/>
          <p:nvPr/>
        </p:nvSpPr>
        <p:spPr>
          <a:xfrm>
            <a:off x="2700360" y="407664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Н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2484360" y="333360"/>
            <a:ext cx="43927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00ffff"/>
                  </a:outerShdw>
                </a:effectLst>
                <a:latin typeface="Times New Roman"/>
              </a:rPr>
              <a:t>Наш нос..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00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916360" y="1484280"/>
            <a:ext cx="32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ли себе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работает наш но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простой вопрос тот , д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ё ж мы на него ответ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044720" y="2781360"/>
            <a:ext cx="33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н на вдохе – пылесо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на выдохе – нас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льтром служит от болез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ту органа полез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1043640" y="4149720"/>
            <a:ext cx="28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юбит чистый он плат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утрам – воды п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юбит нюхать он цве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юбит он тебя, а т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5221440" y="2781360"/>
            <a:ext cx="301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льцем в нём не ковыря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по лужам не гуля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не то любимый 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пыхтит как паров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221080" y="4076640"/>
            <a:ext cx="290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так, то мчи скор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Пиносола» не жал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ги парь, лекарство п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здоравливай скор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11"/>
          <p:cNvSpPr txBox="1"/>
          <p:nvPr/>
        </p:nvSpPr>
        <p:spPr>
          <a:xfrm>
            <a:off x="900000" y="5445000"/>
            <a:ext cx="784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Будьте здоровы!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Берегите свой нос!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pic>
        <p:nvPicPr>
          <p:cNvPr id="181" name="Picture 12" descr="55e572d672615094b60ab50605582c23_full"/>
          <p:cNvPicPr/>
          <p:nvPr/>
        </p:nvPicPr>
        <p:blipFill>
          <a:blip r:embed="rId2"/>
          <a:stretch/>
        </p:blipFill>
        <p:spPr>
          <a:xfrm>
            <a:off x="0" y="260280"/>
            <a:ext cx="2556000" cy="2495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000"/>
                            </p:stCondLst>
                            <p:childTnLst>
                              <p:par>
                                <p:cTn id="7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0"/>
                            </p:stCondLst>
                            <p:childTnLst>
                              <p:par>
                                <p:cTn id="7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6000"/>
                            </p:stCondLst>
                            <p:childTnLst>
                              <p:par>
                                <p:cTn id="7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9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000" y="3141360"/>
            <a:ext cx="8064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с способен воспринимать и различать запахи. Эту работу выполняет крошечная часть   слизистой оболочки площадью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 квадратный сантиметр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5" descr="choise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WordArt 24"/>
          <p:cNvSpPr txBox="1"/>
          <p:nvPr/>
        </p:nvSpPr>
        <p:spPr>
          <a:xfrm>
            <a:off x="1692360" y="836640"/>
            <a:ext cx="43923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00ffff"/>
                  </a:outerShdw>
                </a:effectLst>
                <a:latin typeface="Times New Roman"/>
              </a:rPr>
              <a:t>Мы узнали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00ff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5" name="Picture 25" descr="031a"/>
          <p:cNvPicPr/>
          <p:nvPr/>
        </p:nvPicPr>
        <p:blipFill>
          <a:blip r:embed="rId2"/>
          <a:stretch/>
        </p:blipFill>
        <p:spPr>
          <a:xfrm>
            <a:off x="971640" y="260280"/>
            <a:ext cx="84780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12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76360" y="-36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ИПОТЕЗ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71640" y="1197000"/>
            <a:ext cx="5997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 нужен, чтобы ды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 нужен, чтобы чувствовать запа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 украшает наше лиц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2508480" cy="2592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2484360" y="3645000"/>
            <a:ext cx="40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евиз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826920" y="4508640"/>
            <a:ext cx="78487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Я здоровье берегу -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ам себе я помогу!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2550"/>
                            </p:stCondLst>
                            <p:childTnLst>
                              <p:par>
                                <p:cTn id="2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692360" y="404640"/>
            <a:ext cx="5616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Приятные запах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11"/>
          <p:cNvPicPr/>
          <p:nvPr/>
        </p:nvPicPr>
        <p:blipFill>
          <a:blip r:embed="rId1"/>
          <a:stretch/>
        </p:blipFill>
        <p:spPr>
          <a:xfrm>
            <a:off x="3276720" y="3645000"/>
            <a:ext cx="1164960" cy="1511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260775000_rLBhN-M"/>
          <p:cNvPicPr/>
          <p:nvPr/>
        </p:nvPicPr>
        <p:blipFill>
          <a:blip r:embed="rId2"/>
          <a:stretch/>
        </p:blipFill>
        <p:spPr>
          <a:xfrm>
            <a:off x="6732720" y="5084640"/>
            <a:ext cx="2160360" cy="1441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File0611"/>
          <p:cNvPicPr/>
          <p:nvPr/>
        </p:nvPicPr>
        <p:blipFill>
          <a:blip r:embed="rId3"/>
          <a:stretch/>
        </p:blipFill>
        <p:spPr>
          <a:xfrm>
            <a:off x="250920" y="1052640"/>
            <a:ext cx="163836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12343"/>
          <p:cNvPicPr/>
          <p:nvPr/>
        </p:nvPicPr>
        <p:blipFill>
          <a:blip r:embed="rId4"/>
          <a:stretch/>
        </p:blipFill>
        <p:spPr>
          <a:xfrm>
            <a:off x="6659640" y="765000"/>
            <a:ext cx="2484360" cy="2017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тоорт-с-бл"/>
          <p:cNvPicPr/>
          <p:nvPr/>
        </p:nvPicPr>
        <p:blipFill>
          <a:blip r:embed="rId5"/>
          <a:stretch/>
        </p:blipFill>
        <p:spPr>
          <a:xfrm>
            <a:off x="324000" y="4611600"/>
            <a:ext cx="2520720" cy="2246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485-1024"/>
          <p:cNvPicPr/>
          <p:nvPr/>
        </p:nvPicPr>
        <p:blipFill>
          <a:blip r:embed="rId6"/>
          <a:stretch/>
        </p:blipFill>
        <p:spPr>
          <a:xfrm>
            <a:off x="2556000" y="1844640"/>
            <a:ext cx="2520720" cy="1893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1" descr="eda47"/>
          <p:cNvPicPr/>
          <p:nvPr/>
        </p:nvPicPr>
        <p:blipFill>
          <a:blip r:embed="rId7"/>
          <a:stretch/>
        </p:blipFill>
        <p:spPr>
          <a:xfrm>
            <a:off x="3276720" y="5313240"/>
            <a:ext cx="2376360" cy="1544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2" descr="eda48"/>
          <p:cNvPicPr/>
          <p:nvPr/>
        </p:nvPicPr>
        <p:blipFill>
          <a:blip r:embed="rId8"/>
          <a:stretch/>
        </p:blipFill>
        <p:spPr>
          <a:xfrm>
            <a:off x="4643280" y="429264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3" descr="095"/>
          <p:cNvPicPr/>
          <p:nvPr/>
        </p:nvPicPr>
        <p:blipFill>
          <a:blip r:embed="rId9"/>
          <a:stretch/>
        </p:blipFill>
        <p:spPr>
          <a:xfrm>
            <a:off x="5724360" y="2565360"/>
            <a:ext cx="2067120" cy="164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70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500"/>
                            </p:stCondLst>
                            <p:childTnLst>
                              <p:par>
                                <p:cTn id="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500"/>
                            </p:stCondLst>
                            <p:childTnLst>
                              <p:par>
                                <p:cTn id="2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124"/>
          <p:cNvPicPr/>
          <p:nvPr/>
        </p:nvPicPr>
        <p:blipFill>
          <a:blip r:embed="rId2"/>
          <a:stretch/>
        </p:blipFill>
        <p:spPr>
          <a:xfrm>
            <a:off x="5796000" y="1700280"/>
            <a:ext cx="2859120" cy="3384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6 (2)"/>
          <p:cNvPicPr/>
          <p:nvPr/>
        </p:nvPicPr>
        <p:blipFill>
          <a:blip r:embed="rId3"/>
          <a:stretch/>
        </p:blipFill>
        <p:spPr>
          <a:xfrm>
            <a:off x="3419640" y="3500280"/>
            <a:ext cx="2509560" cy="31687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042920" y="5493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приятные, опасные запах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0" y="2492280"/>
            <a:ext cx="3890880" cy="20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ЫХЛОП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ГАЗ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2627280" y="5157720"/>
            <a:ext cx="396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УТЕЧКА ГА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4822920" y="2276640"/>
            <a:ext cx="4321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ЫМ. ПОЖА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87" name="Picture 8" descr="article_l20080405133453"/>
          <p:cNvPicPr/>
          <p:nvPr/>
        </p:nvPicPr>
        <p:blipFill>
          <a:blip r:embed="rId4"/>
          <a:stretch/>
        </p:blipFill>
        <p:spPr>
          <a:xfrm>
            <a:off x="250920" y="1557360"/>
            <a:ext cx="3313080" cy="284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5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8500"/>
                            </p:stCondLst>
                            <p:childTnLst>
                              <p:par>
                                <p:cTn id="3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1"/>
          <p:cNvSpPr/>
          <p:nvPr/>
        </p:nvSpPr>
        <p:spPr>
          <a:xfrm>
            <a:off x="5651640" y="5373720"/>
            <a:ext cx="18396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5" descr="943"/>
          <p:cNvPicPr/>
          <p:nvPr/>
        </p:nvPicPr>
        <p:blipFill>
          <a:blip r:embed="rId2"/>
          <a:stretch/>
        </p:blipFill>
        <p:spPr>
          <a:xfrm>
            <a:off x="324000" y="4724280"/>
            <a:ext cx="1242720" cy="1584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1"/>
          <p:cNvSpPr/>
          <p:nvPr/>
        </p:nvSpPr>
        <p:spPr>
          <a:xfrm>
            <a:off x="104292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носу работает несколько «маши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2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64360" y="4581360"/>
            <a:ext cx="1430280" cy="1511640"/>
          </a:xfrm>
          <a:prstGeom prst="rect">
            <a:avLst/>
          </a:prstGeom>
          <a:ln w="0">
            <a:noFill/>
          </a:ln>
        </p:spPr>
      </p:pic>
      <p:grpSp>
        <p:nvGrpSpPr>
          <p:cNvPr id="92" name="Organization Chart 36"/>
          <p:cNvGrpSpPr/>
          <p:nvPr/>
        </p:nvGrpSpPr>
        <p:grpSpPr>
          <a:xfrm>
            <a:off x="179280" y="1773360"/>
            <a:ext cx="8785080" cy="2302560"/>
            <a:chOff x="179280" y="1773360"/>
            <a:chExt cx="8785080" cy="2302560"/>
          </a:xfrm>
        </p:grpSpPr>
        <p:cxnSp>
          <p:nvCxnSpPr>
            <p:cNvPr id="93" name="_s1028"/>
            <p:cNvCxnSpPr>
              <a:stCxn id="94" idx="0"/>
              <a:endCxn id="95" idx="2"/>
            </p:cNvCxnSpPr>
            <p:nvPr/>
          </p:nvCxnSpPr>
          <p:spPr>
            <a:xfrm flipV="1" rot="16200000">
              <a:off x="6049080" y="1215360"/>
              <a:ext cx="461160" cy="3417120"/>
            </a:xfrm>
            <a:prstGeom prst="bentConnector3">
              <a:avLst>
                <a:gd name="adj1" fmla="val 109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1029"/>
            <p:cNvCxnSpPr>
              <a:stCxn id="97" idx="0"/>
              <a:endCxn id="95" idx="2"/>
            </p:cNvCxnSpPr>
            <p:nvPr/>
          </p:nvCxnSpPr>
          <p:spPr>
            <a:xfrm flipV="1" rot="16200000">
              <a:off x="4910400" y="2354040"/>
              <a:ext cx="461160" cy="1139760"/>
            </a:xfrm>
            <a:prstGeom prst="bentConnector3">
              <a:avLst>
                <a:gd name="adj1" fmla="val 109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030"/>
            <p:cNvCxnSpPr>
              <a:stCxn id="99" idx="0"/>
              <a:endCxn id="95" idx="2"/>
            </p:cNvCxnSpPr>
            <p:nvPr/>
          </p:nvCxnSpPr>
          <p:spPr>
            <a:xfrm flipH="1" flipV="1" rot="5400000">
              <a:off x="3771720" y="2354760"/>
              <a:ext cx="461160" cy="1139040"/>
            </a:xfrm>
            <a:prstGeom prst="bentConnector3">
              <a:avLst>
                <a:gd name="adj1" fmla="val 109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1031"/>
            <p:cNvCxnSpPr>
              <a:stCxn id="101" idx="0"/>
              <a:endCxn id="95" idx="2"/>
            </p:cNvCxnSpPr>
            <p:nvPr/>
          </p:nvCxnSpPr>
          <p:spPr>
            <a:xfrm flipH="1" flipV="1" rot="5400000">
              <a:off x="2632680" y="1215720"/>
              <a:ext cx="461160" cy="3416760"/>
            </a:xfrm>
            <a:prstGeom prst="bentConnector3">
              <a:avLst>
                <a:gd name="adj1" fmla="val 109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5" name="_s1032"/>
            <p:cNvSpPr/>
            <p:nvPr/>
          </p:nvSpPr>
          <p:spPr>
            <a:xfrm>
              <a:off x="3595320" y="1773360"/>
              <a:ext cx="1952280" cy="920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imes New Roman"/>
                </a:rPr>
                <a:t>НОС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179280" y="3155040"/>
              <a:ext cx="1952280" cy="920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f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66"/>
                  </a:solidFill>
                  <a:uFillTx/>
                  <a:latin typeface="Times New Roman"/>
                  <a:hlinkClick r:id="rId4" action="ppaction://hlinksldjump"/>
                </a:rPr>
                <a:t>ОБОГРЕВА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4"/>
            <p:cNvSpPr/>
            <p:nvPr/>
          </p:nvSpPr>
          <p:spPr>
            <a:xfrm>
              <a:off x="2456640" y="3155040"/>
              <a:ext cx="1952280" cy="920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66"/>
                  </a:solidFill>
                  <a:uFillTx/>
                  <a:latin typeface="Times New Roman"/>
                  <a:hlinkClick r:id="rId5" action="ppaction://hlinksldjump"/>
                </a:rPr>
                <a:t>ПЫЛЕС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5"/>
            <p:cNvSpPr/>
            <p:nvPr/>
          </p:nvSpPr>
          <p:spPr>
            <a:xfrm>
              <a:off x="4734360" y="3155040"/>
              <a:ext cx="1952280" cy="920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66"/>
                  </a:solidFill>
                  <a:uFillTx/>
                  <a:latin typeface="Times New Roman"/>
                  <a:hlinkClick r:id="rId6" action="ppaction://hlinksldjump"/>
                </a:rPr>
                <a:t>ХОЛОДИЛЬ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6"/>
            <p:cNvSpPr/>
            <p:nvPr/>
          </p:nvSpPr>
          <p:spPr>
            <a:xfrm>
              <a:off x="7012080" y="3155040"/>
              <a:ext cx="1952280" cy="920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66"/>
                  </a:solidFill>
                  <a:uFillTx/>
                  <a:latin typeface="Times New Roman"/>
                  <a:hlinkClick r:id="rId7" action="ppaction://hlinksldjump"/>
                </a:rPr>
                <a:t>УВЛАЖНИ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16" descr="372b"/>
          <p:cNvPicPr/>
          <p:nvPr/>
        </p:nvPicPr>
        <p:blipFill>
          <a:blip r:embed="rId8">
            <a:lum bright="18000"/>
          </a:blip>
          <a:stretch/>
        </p:blipFill>
        <p:spPr>
          <a:xfrm>
            <a:off x="5219640" y="4292640"/>
            <a:ext cx="960480" cy="201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FC9164"/>
          <p:cNvPicPr/>
          <p:nvPr/>
        </p:nvPicPr>
        <p:blipFill>
          <a:blip r:embed="rId9">
            <a:lum bright="6000"/>
          </a:blip>
          <a:stretch/>
        </p:blipFill>
        <p:spPr>
          <a:xfrm>
            <a:off x="2268360" y="4365720"/>
            <a:ext cx="1775160" cy="19429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9"/>
          <p:cNvSpPr txBox="1"/>
          <p:nvPr/>
        </p:nvSpPr>
        <p:spPr>
          <a:xfrm>
            <a:off x="2411280" y="189000"/>
            <a:ext cx="43927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00ffff"/>
                  </a:outerShdw>
                </a:effectLst>
                <a:latin typeface="Times New Roman"/>
              </a:rPr>
              <a:t>Мы проверили: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00ffff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050920" y="2565360"/>
            <a:ext cx="54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0000"/>
                </a:solidFill>
                <a:latin typeface="Times New Roman"/>
              </a:rPr>
              <a:t>Холодный воздух согре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0000"/>
                </a:solidFill>
                <a:latin typeface="Times New Roman"/>
              </a:rPr>
              <a:t>кровяным «отоплени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619280" y="1413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с как </a:t>
            </a:r>
            <a:r>
              <a:rPr b="1" lang="ru-RU" sz="3600" spc="-1" strike="noStrike">
                <a:solidFill>
                  <a:srgbClr val="f20000"/>
                </a:solidFill>
                <a:latin typeface="Times New Roman"/>
              </a:rPr>
              <a:t>ОБОГРЕВАТЕ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2846418_1146922492_3764654iis"/>
          <p:cNvPicPr/>
          <p:nvPr/>
        </p:nvPicPr>
        <p:blipFill>
          <a:blip r:embed="rId2"/>
          <a:stretch/>
        </p:blipFill>
        <p:spPr>
          <a:xfrm>
            <a:off x="0" y="3429000"/>
            <a:ext cx="2462040" cy="3429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943"/>
          <p:cNvPicPr/>
          <p:nvPr/>
        </p:nvPicPr>
        <p:blipFill>
          <a:blip r:embed="rId3"/>
          <a:stretch/>
        </p:blipFill>
        <p:spPr>
          <a:xfrm>
            <a:off x="5508720" y="364500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str7"/>
          <p:cNvPicPr/>
          <p:nvPr/>
        </p:nvPicPr>
        <p:blipFill>
          <a:blip r:embed="rId4"/>
          <a:stretch/>
        </p:blipFill>
        <p:spPr>
          <a:xfrm rot="16200000">
            <a:off x="505440" y="78480"/>
            <a:ext cx="571680" cy="93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979640" y="2276640"/>
            <a:ext cx="547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В ноздрях есть реснички, на которых застревает пыль с вредными «пассажирами» – микроб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619280" y="1413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ос как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ПЫЛЕС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2846418_1146922492_3764654iis"/>
          <p:cNvPicPr/>
          <p:nvPr/>
        </p:nvPicPr>
        <p:blipFill>
          <a:blip r:embed="rId2"/>
          <a:stretch/>
        </p:blipFill>
        <p:spPr>
          <a:xfrm>
            <a:off x="0" y="3429000"/>
            <a:ext cx="2462040" cy="3429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FC9164"/>
          <p:cNvPicPr/>
          <p:nvPr/>
        </p:nvPicPr>
        <p:blipFill>
          <a:blip r:embed="rId3"/>
          <a:stretch/>
        </p:blipFill>
        <p:spPr>
          <a:xfrm>
            <a:off x="6156360" y="2997360"/>
            <a:ext cx="2560680" cy="280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str7"/>
          <p:cNvPicPr/>
          <p:nvPr/>
        </p:nvPicPr>
        <p:blipFill>
          <a:blip r:embed="rId4"/>
          <a:stretch/>
        </p:blipFill>
        <p:spPr>
          <a:xfrm rot="16200000">
            <a:off x="505440" y="78480"/>
            <a:ext cx="571680" cy="93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8:24:49Z</dcterms:created>
  <dc:creator>ната</dc:creator>
  <dc:description/>
  <dc:language>en-US</dc:language>
  <cp:lastModifiedBy>А</cp:lastModifiedBy>
  <dcterms:modified xsi:type="dcterms:W3CDTF">2013-02-06T08:51:06Z</dcterms:modified>
  <cp:revision>47</cp:revision>
  <dc:subject/>
  <dc:title>Слайд 1</dc:title>
</cp:coreProperties>
</file>