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8384-2E9E-4AC9-A21C-50925EC1B4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CD73-09BF-43A8-B390-E8CB59A9784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7ACC-40FE-4DE8-A336-82DAEECC2A1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иррациональные урав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FD1C-22DA-465B-A94B-6DE1169822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C222-5234-4239-BA7A-40C8B9B3F2F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D904-D0B9-4B62-85F5-6EBD6ED9C80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FFA-7424-42EA-B912-3916614C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795-CA90-4AD6-AF70-60BC646F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480-F22A-4FD9-8C32-71C29673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E2B-ED3C-45C2-A5C2-ECB4BDF9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9ADD2-D4F5-4A86-94AD-F82E9EE5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E85B2-0C1C-4BE7-B582-5809A62C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5F8E8-04AA-4777-8C81-70DD0F9F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845B9-D03F-41B6-AD9C-AA4F1027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1931F-1DC0-45F7-B284-610A5CC4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2EF10-66F4-4596-9DEE-B585ACC1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F6913-452B-4C74-8276-0960D2DD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B65-1EAC-49F5-8C79-CABA39A1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FF9CC-D756-46B5-93FF-712E5F60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A0CAC-46D1-476E-9CE6-4455F26A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B2C2B-9C45-4FF0-965D-C3A770D6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9395A-77AA-465D-A60C-BD89A12D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A8819-B184-4026-A9CC-8CD396F7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D9D32-BE54-462D-8B4D-C98251DE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ED41F-E99A-403E-A3AB-54E1C4C7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63D75-3986-4E8D-817E-35382612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35F76-908D-4914-BE56-EE5523E9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38BF2-728A-4390-A98A-6C7CF132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6458-324A-422A-98E8-02CE893B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32C6F-7791-40E7-8B04-FC730F5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2ABCB-F495-405C-BE12-9D43195F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F4CE2-3773-4723-9B02-FE3AB2CD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BC93E-5246-4B2D-8AD3-E67156C4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6DC37-7E99-4C28-BF5A-67835CB4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56CF1-9EE1-4D84-9FBF-09E20A17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14279-6C4F-4222-B11F-97134C94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9A348-6FA5-4BA9-810F-704C5D0E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18070-DC50-41C9-861D-A20A562F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46BA6-E336-4D63-880D-3C2297E4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B3B-B019-4C35-BDC3-2C994CAE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A1F61-6514-48BD-B6D7-EB566D95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6053B5-9CDB-43DB-87CC-F640F241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605F1-4620-4AB6-86CC-B30E7923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E8E7C-154D-49BC-923E-F2A07C12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D27A1A-957F-4ED0-9FE9-0808C407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6C7E5-6401-4F78-9875-26B6FDA0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EB1B3-FD07-410D-90E2-E3229D1D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678E3-A11E-4306-873D-9409B014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D8B3FD-8462-4FED-AA38-27FBB0CA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3C87F-7262-4B64-9516-68885275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DA7-4EA8-46E8-B4C7-37B69416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729B6-7B1E-4F73-9197-5C132626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ECD55-1E97-4D4A-8DBA-D9146AA9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7E1DD-3FC4-457B-A1C8-F4516966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79860-6E03-4840-88BB-2F611C1E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6DABC-6641-4298-BDF7-3C6EFD5E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B3087-7519-4144-AEF3-0AEB0EFA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D3ACF-6885-45A3-B129-D4126669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C0DE9-0168-44DE-B689-C8EEF19F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19CAC-2709-46CE-835B-D09F4B12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C75BD-AD4F-4408-82BF-B4049BAB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010-FCD1-443C-A156-57199FEE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4CC2E-0A6B-4897-8F56-00723ED7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DDE98-E9F9-487F-9D9C-1CF25934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A803E-A5DB-482C-9EDA-98B5D5AB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6754E-DC53-442E-B360-961DC792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4E705-5A8C-4075-9685-E8A3B8E7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91A4A-C0E3-485C-8F88-BE923A80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8B978-A9DB-443D-BB24-54F01806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AB52F-AFE7-4403-9F26-807D80E6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27F37-5DAB-4DD4-9750-B2F7AFDC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5DB4B-74DF-402E-BB52-B59B9094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634-97BD-43F8-A941-ECFCA511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36A799-D56F-45D2-8BAE-7D584C2C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9821B-5917-4441-B176-88F26DD7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08FFB-474F-4D76-B03E-5D3FBE83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338-39BE-4EB8-9CC7-C4CD44BB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98A-9BD4-4D65-91EA-72E92EEB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44e6d">
                  <a:alpha val="36078"/>
                </a:srgbClr>
              </a:gs>
              <a:gs pos="100000">
                <a:srgbClr val="444d2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EE92-BC4E-4B9C-A4FE-5264240175D8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44e6d">
                  <a:alpha val="36078"/>
                </a:srgbClr>
              </a:gs>
              <a:gs pos="100000">
                <a:srgbClr val="444d2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3891-360A-4DF0-A216-7DB5D7EFE813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44e6d">
                  <a:alpha val="36078"/>
                </a:srgbClr>
              </a:gs>
              <a:gs pos="100000">
                <a:srgbClr val="444d2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A0BA-9C62-4BEF-A8A4-83E3D13FCEEB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44e6d">
                  <a:alpha val="36078"/>
                </a:srgbClr>
              </a:gs>
              <a:gs pos="100000">
                <a:srgbClr val="444d2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5C23-C4C9-424F-A3BC-DDD7067D19D1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44e6d">
                  <a:alpha val="36078"/>
                </a:srgbClr>
              </a:gs>
              <a:gs pos="100000">
                <a:srgbClr val="444d2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010C-2166-490E-85B7-F258BD74B7AB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44e6d">
                  <a:alpha val="36078"/>
                </a:srgbClr>
              </a:gs>
              <a:gs pos="100000">
                <a:srgbClr val="444d2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87EC-2E30-4739-8928-0B3E80A0DBA6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Прямоугольник 1" descr=""/>
          <p:cNvPicPr/>
          <p:nvPr/>
        </p:nvPicPr>
        <p:blipFill>
          <a:blip r:embed="rId1"/>
          <a:stretch/>
        </p:blipFill>
        <p:spPr>
          <a:xfrm>
            <a:off x="-500040" y="1158840"/>
            <a:ext cx="7388280" cy="598032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3" descr="1147598.jpg"/>
          <p:cNvPicPr/>
          <p:nvPr/>
        </p:nvPicPr>
        <p:blipFill>
          <a:blip r:embed="rId2"/>
          <a:stretch/>
        </p:blipFill>
        <p:spPr>
          <a:xfrm>
            <a:off x="6324480" y="304920"/>
            <a:ext cx="2373480" cy="171432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4"/>
          <p:cNvSpPr/>
          <p:nvPr/>
        </p:nvSpPr>
        <p:spPr>
          <a:xfrm>
            <a:off x="380880" y="1789200"/>
            <a:ext cx="2286000" cy="947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1981080"/>
          <a:ext cx="9144000" cy="2316240"/>
        </p:xfrm>
        <a:graphic>
          <a:graphicData uri="http://schemas.openxmlformats.org/drawingml/2006/table">
            <a:tbl>
              <a:tblPr/>
              <a:tblGrid>
                <a:gridCol w="2819520"/>
                <a:gridCol w="6324480"/>
              </a:tblGrid>
              <a:tr h="252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ррациональными называются уравнения, в которых переменная содержится под знаком корня( радикала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23" name="Объект 6"/>
              <p:cNvSpPr txBox="1"/>
              <p:nvPr/>
            </p:nvSpPr>
            <p:spPr>
              <a:xfrm>
                <a:off x="1447920" y="4216320"/>
                <a:ext cx="61308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396720"/>
            <a:ext cx="4718160" cy="154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5" name="Объект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limUpp>
                      <m:e/>
                      <m:lim/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Объект 4"/>
              <p:cNvSpPr txBox="1"/>
              <p:nvPr/>
            </p:nvSpPr>
            <p:spPr>
              <a:xfrm>
                <a:off x="0" y="2286000"/>
                <a:ext cx="9144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limUpp>
                      <m:e/>
                      <m:lim/>
                    </m:limUpp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Upp>
                      <m:e/>
                      <m:lim/>
                    </m:limUpp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  <m:limUpp>
                      <m:e/>
                      <m:lim/>
                    </m:limUpp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Upp>
                      <m:e/>
                      <m:lim/>
                    </m:limUpp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3"/>
          <p:cNvSpPr/>
          <p:nvPr/>
        </p:nvSpPr>
        <p:spPr>
          <a:xfrm>
            <a:off x="0" y="763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Иррациональные уравнения содержат радикалы. Чтобы избавиться от радикалов, необходимо возвести обе части уравнения в одну и ту же степень с натуральным показателем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1371600" y="3354480"/>
            <a:ext cx="7772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Если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озводим в нечетную степень, то получаем равносильное уравнение;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озводим в четную степень, то можем получить посторонние корни. В этом случае делаем проверку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0" y="752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единим радикал 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TextBox 15"/>
          <p:cNvSpPr/>
          <p:nvPr/>
        </p:nvSpPr>
        <p:spPr>
          <a:xfrm>
            <a:off x="0" y="2438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ведем обе части уравнения в квадрат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0" y="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TextBox 19"/>
          <p:cNvSpPr/>
          <p:nvPr/>
        </p:nvSpPr>
        <p:spPr>
          <a:xfrm>
            <a:off x="0" y="3048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м полученное уравнение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Rectangle 17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Прямоугольник 25"/>
          <p:cNvSpPr/>
          <p:nvPr/>
        </p:nvSpPr>
        <p:spPr>
          <a:xfrm>
            <a:off x="4969080" y="3429000"/>
            <a:ext cx="39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да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49,  х = -3,  х = 4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Rectangle 20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TextBox 31"/>
          <p:cNvSpPr/>
          <p:nvPr/>
        </p:nvSpPr>
        <p:spPr>
          <a:xfrm>
            <a:off x="0" y="4114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Rectangle 24"/>
          <p:cNvSpPr/>
          <p:nvPr/>
        </p:nvSpPr>
        <p:spPr>
          <a:xfrm>
            <a:off x="0" y="723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2438280" y="450252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+3= 0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=0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  верно, т.е.   -3 посторонний корень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152280" y="609480"/>
            <a:ext cx="2514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Rectangle 34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Rectangle 35"/>
          <p:cNvSpPr/>
          <p:nvPr/>
        </p:nvSpPr>
        <p:spPr>
          <a:xfrm>
            <a:off x="5791320" y="51073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4 – 4 = 0;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0 = 0 -  верно,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TextBox 47"/>
          <p:cNvSpPr/>
          <p:nvPr/>
        </p:nvSpPr>
        <p:spPr>
          <a:xfrm>
            <a:off x="152280" y="6019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   4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6" name="Прямоугольник 48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9"/>
          <p:cNvSpPr/>
          <p:nvPr/>
        </p:nvSpPr>
        <p:spPr>
          <a:xfrm>
            <a:off x="152280" y="8380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м совместными усилиями иррациональное уравнен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TextBox 52"/>
          <p:cNvSpPr/>
          <p:nvPr/>
        </p:nvSpPr>
        <p:spPr>
          <a:xfrm>
            <a:off x="2286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9ec2"/>
                </a:solidFill>
                <a:latin typeface="Times New Roman"/>
                <a:ea typeface="Times New Roman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Объект 38"/>
              <p:cNvSpPr txBox="1"/>
              <p:nvPr/>
            </p:nvSpPr>
            <p:spPr>
              <a:xfrm>
                <a:off x="6553080" y="762120"/>
                <a:ext cx="2370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666880" y="1905120"/>
                <a:ext cx="1836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5562720" y="2286000"/>
                <a:ext cx="27432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Объект 41"/>
              <p:cNvSpPr txBox="1"/>
              <p:nvPr/>
            </p:nvSpPr>
            <p:spPr>
              <a:xfrm>
                <a:off x="2209680" y="3429000"/>
                <a:ext cx="20574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Объект 42"/>
              <p:cNvSpPr txBox="1"/>
              <p:nvPr/>
            </p:nvSpPr>
            <p:spPr>
              <a:xfrm>
                <a:off x="1600200" y="4038480"/>
                <a:ext cx="2743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:</m:t>
                    </m:r>
                    <m:limUpp>
                      <m:e/>
                      <m:lim/>
                    </m:limUp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Объект 43"/>
              <p:cNvSpPr txBox="1"/>
              <p:nvPr/>
            </p:nvSpPr>
            <p:spPr>
              <a:xfrm>
                <a:off x="5410080" y="4038480"/>
                <a:ext cx="2743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:</m:t>
                        </m:r>
                        <m:limUpp>
                          <m:e/>
                          <m:lim/>
                        </m:limUp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heel spokes="3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Прямоугольник 2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3"/>
          <p:cNvSpPr/>
          <p:nvPr/>
        </p:nvSpPr>
        <p:spPr>
          <a:xfrm>
            <a:off x="152280" y="8380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м совместными усилиями иррациональное уравнен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Объект 4"/>
              <p:cNvSpPr txBox="1"/>
              <p:nvPr/>
            </p:nvSpPr>
            <p:spPr>
              <a:xfrm>
                <a:off x="1752480" y="1219320"/>
                <a:ext cx="2036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7</m:t>
                        </m:r>
                      </m:deg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TextBox 5"/>
          <p:cNvSpPr/>
          <p:nvPr/>
        </p:nvSpPr>
        <p:spPr>
          <a:xfrm>
            <a:off x="22860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9ec2"/>
                </a:solidFill>
                <a:latin typeface="Times New Roman"/>
                <a:ea typeface="Times New Roman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0" y="2438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единим радикал 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2590920" y="2438280"/>
                <a:ext cx="1761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7</m:t>
                        </m:r>
                      </m:deg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TextBox 8"/>
          <p:cNvSpPr/>
          <p:nvPr/>
        </p:nvSpPr>
        <p:spPr>
          <a:xfrm>
            <a:off x="0" y="3119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ведем обе части уравнения в 7 степень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Объект 9"/>
              <p:cNvSpPr txBox="1"/>
              <p:nvPr/>
            </p:nvSpPr>
            <p:spPr>
              <a:xfrm>
                <a:off x="5791320" y="3124080"/>
                <a:ext cx="2187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TextBox 10"/>
          <p:cNvSpPr/>
          <p:nvPr/>
        </p:nvSpPr>
        <p:spPr>
          <a:xfrm>
            <a:off x="0" y="4033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м полученное уравнение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5"/>
              <p:cNvSpPr txBox="1"/>
              <p:nvPr/>
            </p:nvSpPr>
            <p:spPr>
              <a:xfrm>
                <a:off x="4191120" y="4060800"/>
                <a:ext cx="21873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5" name="TextBox 12"/>
          <p:cNvSpPr/>
          <p:nvPr/>
        </p:nvSpPr>
        <p:spPr>
          <a:xfrm>
            <a:off x="152280" y="6019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   -133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2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2"/>
          <p:cNvSpPr/>
          <p:nvPr/>
        </p:nvSpPr>
        <p:spPr>
          <a:xfrm>
            <a:off x="0" y="30492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Сегодня мы познакомились с решением иррациональных уравнений и убедились в необходимости делать проверку, если возводили обе части уравнения в четную степень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4038480" y="57913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Book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29:04Z</dcterms:created>
  <dc:creator>Екатерина Ивановна</dc:creator>
  <dc:description/>
  <dc:language>en-US</dc:language>
  <cp:lastModifiedBy>user</cp:lastModifiedBy>
  <dcterms:modified xsi:type="dcterms:W3CDTF">2019-01-04T09:38:44Z</dcterms:modified>
  <cp:revision>20</cp:revision>
  <dc:subject/>
  <dc:title>Иррациональные уравнения</dc:title>
</cp:coreProperties>
</file>