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move the slide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1F84-2476-4FC5-BDF3-FD50793E7D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3132-0D87-4BD5-B34B-EE550BD12F4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DA83-8916-4E3C-8F77-4E477BFEC16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ерите иррациональные урав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81E2-3B6D-46D7-B229-690B94A28A8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4574-C669-4D21-A79A-1E830B05EA4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8430-DB53-465E-9056-5E0088FC8E2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E028-4382-4B6B-9C57-4BD47858F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8241-F772-4BFD-A4DA-70DFC94A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DFD4-FC4F-40B2-974C-C7C800E0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1221-AFB4-4217-A93C-D912B9516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0F757-0390-4871-A9B9-F7B1A9C07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A76C7-C483-479B-9D3B-662D109F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331D7-9086-42F2-9A64-2264AE4D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D5967-24A8-4D2E-ABC9-75B57228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99CBE-EA19-4998-B40A-00EBB32B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2C180-BB13-457E-953F-DCC60214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12F94-9BBB-46AD-9E5A-04AAFE0B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626F-B2B7-4899-A6AD-FE12F63E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E634D-9009-48F1-81C1-757E8A95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AA60B-7DC8-48E9-A360-E8388E52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1C2B4-3614-4A9C-AEDC-4A5929D0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85E42-EDA7-442E-97CF-FDEAF6E28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5698D-A3E4-4EF0-A4A9-62A730864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D3F0DE-0EA1-47B7-8DDB-22584DB9B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2D051B-EF3B-4F91-BCD5-AFB84113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B8D771-64CB-4937-8C66-16E2262F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871184-40B7-4582-937B-AC7AF23E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1958F8-B574-4674-AFDB-2B4158CF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A6AF-1F46-4650-A5F3-A16F24E6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848AE8-B5A9-40FE-8F54-B91C4421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F0EB66-639F-408C-8E90-50304347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A6E2B6-BD0D-4878-AB0D-811D0023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043B06-D97A-4CDC-8AF6-58E14679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8715F6-DC01-4059-80CC-39FC3C5F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DF91DC-A895-4421-9DE5-D98370E71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AA5F62-7F45-4342-99DE-FFBA25E66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0085B3-6D41-4137-A9AB-447118097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919295-BCD1-4FDE-8598-74E79544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62A97E-A940-4878-B4B9-D1C64BF2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6852-DD76-495F-BA7B-59159DEA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C62CCE-0F6B-4FD3-AAC3-7E4FFA4F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CBB9FF-EA73-41D8-BAA7-BAA7B261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01D68C-9A47-4A41-9331-E47A74A3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4C64C3-5746-4B61-B5CA-662FF0C5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6F55C9-6DEA-48E3-8519-C469318A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6325C4-CD4B-4866-8EBE-4C8CB583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DC0195-24FF-446F-9A9F-66C4CAC5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44CA38-B86A-498A-B9A9-4924EAF17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28C7CC-2E85-4311-B315-33022ED8B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0D9C96-CEC4-4733-945D-77D8D8152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1636-2073-45C2-B0FD-1D11C96C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7CE955-BD7C-4574-8455-7CA52012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67F69F-4F31-4318-9F69-49601D5E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9CF6F4-E53F-47E1-8063-F064C4D7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02A8A9-42C0-4182-B4F8-E8489EB6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485D12-FF69-4A06-A3A4-141025E5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EBDD02-09C9-4874-A259-2A197CE9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7D4807-6FD8-4C55-8D28-0CC2A068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089A6E-8243-471D-87E9-96400CFE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656B7C-2CEE-4CD0-971B-8FF0D1FE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46F69A-1429-49A8-BD5B-C8591868F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1B10-A06A-4B88-98FD-C2E7837D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B10CC1-D5CC-4440-843D-B3B6D30E3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AE64CE-35E3-49AA-B1BE-D524DBD96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14A62C-BEBA-46F3-B350-3BE7D2F2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0A1356-65FB-4178-BAAD-25DA5BD3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3B556A-9308-4A88-8668-6DBDE2C9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3C6E86-EE82-4FAE-A807-DD717BF6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91567D-5BCD-4823-9264-A2466B9A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5F2DEC-A1D8-44AD-A931-55E631F3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A3DD27-016D-452D-B5E7-D33C54F6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58E22A-165F-431C-84F4-B8B6D96B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1063-0199-48BF-8A87-6C307C65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23AD38-E823-4351-8FBC-35E550E0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6E2BB3-3FC1-471B-80D6-AB1AF999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CA50A0-B020-4F59-81B3-5A3954383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346A-11A3-46D3-ABB6-5E31CB49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33DE-58AA-4F9A-BB12-C0C28DBE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44e6d">
                  <a:alpha val="36078"/>
                </a:srgbClr>
              </a:gs>
              <a:gs pos="100000">
                <a:srgbClr val="444d2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72A6-2A0D-4C7E-A001-3723BB208D68}" type="slidenum"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44e6d">
                  <a:alpha val="36078"/>
                </a:srgbClr>
              </a:gs>
              <a:gs pos="100000">
                <a:srgbClr val="444d2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61" name="TextBox 10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6039-4B22-4F8C-A216-F67D4662A53C}" type="slidenum"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44e6d">
                  <a:alpha val="36078"/>
                </a:srgbClr>
              </a:gs>
              <a:gs pos="100000">
                <a:srgbClr val="444d2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113" name="TextBox 10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2F76-A33D-4777-9555-4968EFE3914C}" type="slidenum"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44e6d">
                  <a:alpha val="36078"/>
                </a:srgbClr>
              </a:gs>
              <a:gs pos="100000">
                <a:srgbClr val="444d2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165" name="TextBox 10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DC31-7CAC-4D9D-A312-CE6505694DF4}" type="slidenum"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44e6d">
                  <a:alpha val="36078"/>
                </a:srgbClr>
              </a:gs>
              <a:gs pos="100000">
                <a:srgbClr val="444d2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218" name="TextBox 10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C3A8-C22F-425E-86A9-2FA169D9CBD5}" type="slidenum"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44e6d">
                  <a:alpha val="36078"/>
                </a:srgbClr>
              </a:gs>
              <a:gs pos="100000">
                <a:srgbClr val="444d26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270" name="TextBox 10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3C97-2D07-4DD8-BA23-EFF19AE4B722}" type="slidenum"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Прямоугольник 1" descr=""/>
          <p:cNvPicPr/>
          <p:nvPr/>
        </p:nvPicPr>
        <p:blipFill>
          <a:blip r:embed="rId1"/>
          <a:stretch/>
        </p:blipFill>
        <p:spPr>
          <a:xfrm>
            <a:off x="-500040" y="1158840"/>
            <a:ext cx="7388280" cy="5980320"/>
          </a:xfrm>
          <a:prstGeom prst="rect">
            <a:avLst/>
          </a:prstGeom>
          <a:ln w="0">
            <a:noFill/>
          </a:ln>
        </p:spPr>
      </p:pic>
      <p:pic>
        <p:nvPicPr>
          <p:cNvPr id="320" name="Рисунок 3" descr="1147598.jpg"/>
          <p:cNvPicPr/>
          <p:nvPr/>
        </p:nvPicPr>
        <p:blipFill>
          <a:blip r:embed="rId2"/>
          <a:stretch/>
        </p:blipFill>
        <p:spPr>
          <a:xfrm>
            <a:off x="6324480" y="304920"/>
            <a:ext cx="2373480" cy="1714320"/>
          </a:xfrm>
          <a:prstGeom prst="rect">
            <a:avLst/>
          </a:prstGeom>
          <a:ln w="0">
            <a:noFill/>
          </a:ln>
          <a:effectLst>
            <a:outerShdw dist="12600" dir="5400000" blurRad="0" rotWithShape="0">
              <a:srgbClr val="000000">
                <a:alpha val="32000"/>
              </a:srgbClr>
            </a:outerShdw>
          </a:effectLst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Box 4"/>
          <p:cNvSpPr/>
          <p:nvPr/>
        </p:nvSpPr>
        <p:spPr>
          <a:xfrm>
            <a:off x="380880" y="1789200"/>
            <a:ext cx="2286000" cy="947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0" y="1981080"/>
          <a:ext cx="9144000" cy="2316240"/>
        </p:xfrm>
        <a:graphic>
          <a:graphicData uri="http://schemas.openxmlformats.org/drawingml/2006/table">
            <a:tbl>
              <a:tblPr/>
              <a:tblGrid>
                <a:gridCol w="2819520"/>
                <a:gridCol w="6324480"/>
              </a:tblGrid>
              <a:tr h="2529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ределение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ррациональными называются уравнения, в которых переменная содержится под знаком корня( радикала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23" name="Объект 6"/>
              <p:cNvSpPr txBox="1"/>
              <p:nvPr/>
            </p:nvSpPr>
            <p:spPr>
              <a:xfrm>
                <a:off x="1447920" y="4216320"/>
                <a:ext cx="613080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wheel spokes="2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Прямоугольник 1" descr=""/>
          <p:cNvPicPr/>
          <p:nvPr/>
        </p:nvPicPr>
        <p:blipFill>
          <a:blip r:embed="rId1"/>
          <a:stretch/>
        </p:blipFill>
        <p:spPr>
          <a:xfrm>
            <a:off x="152280" y="396720"/>
            <a:ext cx="4718160" cy="1541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25" name="Объект 3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limUpp>
                      <m:e/>
                      <m:lim/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Объект 4"/>
              <p:cNvSpPr txBox="1"/>
              <p:nvPr/>
            </p:nvSpPr>
            <p:spPr>
              <a:xfrm>
                <a:off x="0" y="2286000"/>
                <a:ext cx="91440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limUpp>
                      <m:e/>
                      <m:lim/>
                    </m:limUpp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limUpp>
                      <m:e/>
                      <m:lim/>
                    </m:limUpp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,</m:t>
                    </m:r>
                    <m:limUpp>
                      <m:e/>
                      <m:lim/>
                    </m:limUpp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limUpp>
                      <m:e/>
                      <m:lim/>
                    </m:limUpp>
                    <m:r>
                      <m:t xml:space="preserve">x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Box 3"/>
          <p:cNvSpPr/>
          <p:nvPr/>
        </p:nvSpPr>
        <p:spPr>
          <a:xfrm>
            <a:off x="0" y="7632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Иррациональные уравнения содержат радикалы. Чтобы избавиться от радикалов, необходимо возвести обе части уравнения в одну и ту же степень с натуральным показателем.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8" name="TextBox 4"/>
          <p:cNvSpPr/>
          <p:nvPr/>
        </p:nvSpPr>
        <p:spPr>
          <a:xfrm>
            <a:off x="1371600" y="3354480"/>
            <a:ext cx="7772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Если: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Возводим в нечетную степень, то получаем равносильное уравнение;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Возводим в четную степень, то можем получить посторонние корни. В этом случае делаем проверку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0" y="752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3" name="TextBox 11"/>
          <p:cNvSpPr/>
          <p:nvPr/>
        </p:nvSpPr>
        <p:spPr>
          <a:xfrm>
            <a:off x="0" y="1905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единим радикал :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5" name="Rectangle 9"/>
          <p:cNvSpPr/>
          <p:nvPr/>
        </p:nvSpPr>
        <p:spPr>
          <a:xfrm>
            <a:off x="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6" name="TextBox 15"/>
          <p:cNvSpPr/>
          <p:nvPr/>
        </p:nvSpPr>
        <p:spPr>
          <a:xfrm>
            <a:off x="0" y="2438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ведем обе части уравнения в квадрат: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8" name="Rectangle 12"/>
          <p:cNvSpPr/>
          <p:nvPr/>
        </p:nvSpPr>
        <p:spPr>
          <a:xfrm>
            <a:off x="0" y="7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9" name="TextBox 19"/>
          <p:cNvSpPr/>
          <p:nvPr/>
        </p:nvSpPr>
        <p:spPr>
          <a:xfrm>
            <a:off x="0" y="30481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шим полученное уравнение: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0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1" name="Rectangle 16"/>
          <p:cNvSpPr/>
          <p:nvPr/>
        </p:nvSpPr>
        <p:spPr>
          <a:xfrm>
            <a:off x="0" y="71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2" name="Rectangle 17"/>
          <p:cNvSpPr/>
          <p:nvPr/>
        </p:nvSpPr>
        <p:spPr>
          <a:xfrm>
            <a:off x="0" y="9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3" name="Прямоугольник 25"/>
          <p:cNvSpPr/>
          <p:nvPr/>
        </p:nvSpPr>
        <p:spPr>
          <a:xfrm>
            <a:off x="4969080" y="3429000"/>
            <a:ext cx="396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гда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49,  х = -3,  х = 4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5" name="Rectangle 20"/>
          <p:cNvSpPr/>
          <p:nvPr/>
        </p:nvSpPr>
        <p:spPr>
          <a:xfrm>
            <a:off x="0" y="71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6" name="TextBox 31"/>
          <p:cNvSpPr/>
          <p:nvPr/>
        </p:nvSpPr>
        <p:spPr>
          <a:xfrm>
            <a:off x="0" y="4114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рка: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7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8" name="Rectangle 24"/>
          <p:cNvSpPr/>
          <p:nvPr/>
        </p:nvSpPr>
        <p:spPr>
          <a:xfrm>
            <a:off x="0" y="723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9" name="Rectangle 25"/>
          <p:cNvSpPr/>
          <p:nvPr/>
        </p:nvSpPr>
        <p:spPr>
          <a:xfrm>
            <a:off x="2438280" y="4502520"/>
            <a:ext cx="205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√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+3= 0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=0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е  верно, т.е.   -3 посторонний корень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0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1" name="Rectangle 31"/>
          <p:cNvSpPr/>
          <p:nvPr/>
        </p:nvSpPr>
        <p:spPr>
          <a:xfrm>
            <a:off x="152280" y="609480"/>
            <a:ext cx="25146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2" name="Rectangle 3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3" name="Rectangle 34"/>
          <p:cNvSpPr/>
          <p:nvPr/>
        </p:nvSpPr>
        <p:spPr>
          <a:xfrm>
            <a:off x="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4" name="Rectangle 35"/>
          <p:cNvSpPr/>
          <p:nvPr/>
        </p:nvSpPr>
        <p:spPr>
          <a:xfrm>
            <a:off x="5791320" y="51073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4 – 4 = 0;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0 = 0 -  верно, 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5" name="TextBox 47"/>
          <p:cNvSpPr/>
          <p:nvPr/>
        </p:nvSpPr>
        <p:spPr>
          <a:xfrm>
            <a:off x="152280" y="6019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    4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56" name="Прямоугольник 48" descr=""/>
          <p:cNvPicPr/>
          <p:nvPr/>
        </p:nvPicPr>
        <p:blipFill>
          <a:blip r:embed="rId1"/>
          <a:stretch/>
        </p:blipFill>
        <p:spPr>
          <a:xfrm>
            <a:off x="0" y="-6048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357" name="TextBox 49"/>
          <p:cNvSpPr/>
          <p:nvPr/>
        </p:nvSpPr>
        <p:spPr>
          <a:xfrm>
            <a:off x="152280" y="8380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шим совместными усилиями иррациональное уравнени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TextBox 52"/>
          <p:cNvSpPr/>
          <p:nvPr/>
        </p:nvSpPr>
        <p:spPr>
          <a:xfrm>
            <a:off x="228600" y="1600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9ec2"/>
                </a:solidFill>
                <a:latin typeface="Times New Roman"/>
                <a:ea typeface="Times New Roman"/>
              </a:rPr>
              <a:t>Решение: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Объект 38"/>
              <p:cNvSpPr txBox="1"/>
              <p:nvPr/>
            </p:nvSpPr>
            <p:spPr>
              <a:xfrm>
                <a:off x="6553080" y="762120"/>
                <a:ext cx="2370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3"/>
              <p:cNvSpPr txBox="1"/>
              <p:nvPr/>
            </p:nvSpPr>
            <p:spPr>
              <a:xfrm>
                <a:off x="2666880" y="1905120"/>
                <a:ext cx="18367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4"/>
              <p:cNvSpPr txBox="1"/>
              <p:nvPr/>
            </p:nvSpPr>
            <p:spPr>
              <a:xfrm>
                <a:off x="5562720" y="2286000"/>
                <a:ext cx="274320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Объект 41"/>
              <p:cNvSpPr txBox="1"/>
              <p:nvPr/>
            </p:nvSpPr>
            <p:spPr>
              <a:xfrm>
                <a:off x="2209680" y="3429000"/>
                <a:ext cx="20574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Объект 42"/>
              <p:cNvSpPr txBox="1"/>
              <p:nvPr/>
            </p:nvSpPr>
            <p:spPr>
              <a:xfrm>
                <a:off x="1600200" y="4038480"/>
                <a:ext cx="2743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:</m:t>
                    </m:r>
                    <m:limUpp>
                      <m:e/>
                      <m:lim/>
                    </m:limUpp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Объект 43"/>
              <p:cNvSpPr txBox="1"/>
              <p:nvPr/>
            </p:nvSpPr>
            <p:spPr>
              <a:xfrm>
                <a:off x="5410080" y="4038480"/>
                <a:ext cx="27432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:</m:t>
                        </m:r>
                        <m:limUpp>
                          <m:e/>
                          <m:lim/>
                        </m:limUp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wheel spokes="3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77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770" fill="hold"/>
                                        <p:tgtEl>
                                          <p:spTgt spid="3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Прямоугольник 2" descr=""/>
          <p:cNvPicPr/>
          <p:nvPr/>
        </p:nvPicPr>
        <p:blipFill>
          <a:blip r:embed="rId1"/>
          <a:stretch/>
        </p:blipFill>
        <p:spPr>
          <a:xfrm>
            <a:off x="0" y="-6048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366" name="TextBox 3"/>
          <p:cNvSpPr/>
          <p:nvPr/>
        </p:nvSpPr>
        <p:spPr>
          <a:xfrm>
            <a:off x="152280" y="8380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шим совместными усилиями иррациональное уравнени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Объект 4"/>
              <p:cNvSpPr txBox="1"/>
              <p:nvPr/>
            </p:nvSpPr>
            <p:spPr>
              <a:xfrm>
                <a:off x="1752480" y="1219320"/>
                <a:ext cx="2036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7</m:t>
                        </m:r>
                      </m:deg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8" name="TextBox 5"/>
          <p:cNvSpPr/>
          <p:nvPr/>
        </p:nvSpPr>
        <p:spPr>
          <a:xfrm>
            <a:off x="228600" y="19051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9ec2"/>
                </a:solidFill>
                <a:latin typeface="Times New Roman"/>
                <a:ea typeface="Times New Roman"/>
              </a:rPr>
              <a:t>Решение: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9" name="TextBox 6"/>
          <p:cNvSpPr/>
          <p:nvPr/>
        </p:nvSpPr>
        <p:spPr>
          <a:xfrm>
            <a:off x="0" y="2438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единим радикал :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3"/>
              <p:cNvSpPr txBox="1"/>
              <p:nvPr/>
            </p:nvSpPr>
            <p:spPr>
              <a:xfrm>
                <a:off x="2590920" y="2438280"/>
                <a:ext cx="17618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7</m:t>
                        </m:r>
                      </m:deg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1" name="TextBox 8"/>
          <p:cNvSpPr/>
          <p:nvPr/>
        </p:nvSpPr>
        <p:spPr>
          <a:xfrm>
            <a:off x="0" y="31194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ведем обе части уравнения в 7 степень: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Объект 9"/>
              <p:cNvSpPr txBox="1"/>
              <p:nvPr/>
            </p:nvSpPr>
            <p:spPr>
              <a:xfrm>
                <a:off x="5791320" y="3124080"/>
                <a:ext cx="2187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3" name="TextBox 10"/>
          <p:cNvSpPr/>
          <p:nvPr/>
        </p:nvSpPr>
        <p:spPr>
          <a:xfrm>
            <a:off x="0" y="4033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шим полученное уравнение: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5"/>
              <p:cNvSpPr txBox="1"/>
              <p:nvPr/>
            </p:nvSpPr>
            <p:spPr>
              <a:xfrm>
                <a:off x="4191120" y="4060800"/>
                <a:ext cx="21873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5" name="TextBox 12"/>
          <p:cNvSpPr/>
          <p:nvPr/>
        </p:nvSpPr>
        <p:spPr>
          <a:xfrm>
            <a:off x="152280" y="6019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:     -133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dissolv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1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8800"/>
                            </p:stCondLst>
                            <p:childTnLst>
                              <p:par>
                                <p:cTn id="20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2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77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770" fill="hold"/>
                                        <p:tgtEl>
                                          <p:spTgt spid="3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Box 2"/>
          <p:cNvSpPr/>
          <p:nvPr/>
        </p:nvSpPr>
        <p:spPr>
          <a:xfrm>
            <a:off x="0" y="304920"/>
            <a:ext cx="8229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Сегодня мы познакомились с решением иррациональных уравнений и убедились в необходимости делать проверку, если возводили обе части уравнения в четную степень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7" name="TextBox 3"/>
          <p:cNvSpPr/>
          <p:nvPr/>
        </p:nvSpPr>
        <p:spPr>
          <a:xfrm>
            <a:off x="4038480" y="57913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Franklin Gothic Book"/>
              </a:rPr>
              <a:t>Спасибо за внимание!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dissolv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2:29:04Z</dcterms:created>
  <dc:creator>Екатерина Ивановна</dc:creator>
  <dc:description/>
  <dc:language>en-US</dc:language>
  <cp:lastModifiedBy>user</cp:lastModifiedBy>
  <dcterms:modified xsi:type="dcterms:W3CDTF">2019-01-04T09:38:44Z</dcterms:modified>
  <cp:revision>20</cp:revision>
  <dc:subject/>
  <dc:title>Иррациональные уравнения</dc:title>
</cp:coreProperties>
</file>